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16.png" ContentType="image/png"/>
  <Override PartName="/ppt/media/hdphoto1.wdp" ContentType="image/vnd.ms-photo"/>
  <Override PartName="/ppt/media/image6.jpeg" ContentType="image/jpe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57610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5B5F0D-1EFE-4D80-AAD0-76AD9167E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430200" y="685800"/>
            <a:ext cx="5997240" cy="34286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快餐厅，核心的东西应该就是快餐，只有把这样东西做到要作到极致，才会有竞争力，盲目地把产线扩大，只会分散自己有限的精力，从而削弱自己的竞争力。除去核心的必须自己做以外，将附属的东西交给专业的公司来完成，更能有效地保证质量及降低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让别人赚去并不重要，关键是自己能否更快地发展。所以麦当劳成功了。我们公司将众多业务外包也正是基于此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8D983-CEB5-494F-8819-CBCCA3D5D7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008-59DF-41AF-9396-6CE444C1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33036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03D-A484-4C44-AC6B-AF1C38F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4EF-DD2E-4B35-B70A-70E7DB8C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90B-40F7-4914-8E5A-9554AD2E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1A3-12B3-48EC-8342-246DD0C3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000" y="1344240"/>
            <a:ext cx="907236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5920-19E0-4227-A3E3-B1C2BB6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907236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C52-9D52-44E2-9728-1717545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9C79-7DE1-476B-8886-2416435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DB9-2BB5-46C9-BBC2-FFFE0CB7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000" y="230760"/>
            <a:ext cx="9072360" cy="44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03BF-935B-4E39-8770-0D9336F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1E4-3FCC-4568-A5A4-FDDD924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44240"/>
            <a:ext cx="907236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257-E7CE-4E2F-B698-532826A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F96-8B37-4896-AD57-EA082EB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9D9-0A68-445D-8BF0-89A959F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000" y="333036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159-F29C-4DA1-ADE9-289DC476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5AF6-43D8-43B9-A186-D812F928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34424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00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330360"/>
            <a:ext cx="292104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AB8-B9C8-44E1-AA12-A7F9DEB3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907236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8DE-3083-4F77-90D9-8CBF7F6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E1B-4B7C-4206-9FA9-F19FF067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3D2-F0EA-4EAF-9FF1-94AC069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30760"/>
            <a:ext cx="9072360" cy="44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11C-8778-4989-AF05-2DF01096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001-904A-4DC5-B8CC-812386B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38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333036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0DF-D958-4508-B9DE-578444B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728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330360"/>
            <a:ext cx="9072360" cy="18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945-FEC6-4A45-8523-6FC4877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1789560"/>
            <a:ext cx="8568000" cy="123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04000" y="5339520"/>
            <a:ext cx="23518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44120" y="5339520"/>
            <a:ext cx="319176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24480" y="5339520"/>
            <a:ext cx="23518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47840"/>
            <a:ext cx="9072000" cy="334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30760"/>
            <a:ext cx="9072360" cy="95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000" y="1344240"/>
            <a:ext cx="9072360" cy="38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000" y="5339520"/>
            <a:ext cx="23518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120" y="5339520"/>
            <a:ext cx="319176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5339520"/>
            <a:ext cx="23518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3ADEA4-FA00-42D4-97AF-B9B1ADFCBE8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360" y="72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60" y="144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360" y="216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60" y="288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60" y="360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-360" y="432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-4320" y="504072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6" name="Picture 2" descr="c:\users\ADMINI~1\appdata\roaming\360se6\USERDA~1\Temp\200852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stelsSmooth/>
                    </a14:imgEffect>
                  </a14:imgLayer>
                </a14:imgProps>
              </a:ext>
            </a:extLst>
          </a:blip>
          <a:srcRect l="16108" t="5574" r="64040" b="30394"/>
          <a:stretch/>
        </p:blipFill>
        <p:spPr>
          <a:xfrm>
            <a:off x="3472200" y="740520"/>
            <a:ext cx="995760" cy="273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~1\appdata\roaming\360se6\USERDA~1\Temp\200852~1.JP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stelsSmooth/>
                    </a14:imgEffect>
                  </a14:imgLayer>
                </a14:imgProps>
              </a:ext>
            </a:extLst>
          </a:blip>
          <a:srcRect l="0" t="57737" r="0" b="0"/>
          <a:stretch/>
        </p:blipFill>
        <p:spPr>
          <a:xfrm>
            <a:off x="2692080" y="3018600"/>
            <a:ext cx="5017680" cy="180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~1\appdata\roaming\360se6\USERDA~1\Temp\200852~1.JPG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stelsSmooth/>
                    </a14:imgEffect>
                  </a14:imgLayer>
                </a14:imgProps>
              </a:ext>
            </a:extLst>
          </a:blip>
          <a:srcRect l="35960" t="0" r="52557" b="30173"/>
          <a:stretch/>
        </p:blipFill>
        <p:spPr>
          <a:xfrm>
            <a:off x="4468680" y="492840"/>
            <a:ext cx="576000" cy="298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ADMINI~1\appdata\roaming\360se6\USERDA~1\Temp\200852~1.JPG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stelsSmooth/>
                    </a14:imgEffect>
                  </a14:imgLayer>
                </a14:imgProps>
              </a:ext>
            </a:extLst>
          </a:blip>
          <a:srcRect l="47274" t="5574" r="41279" b="33027"/>
          <a:stretch/>
        </p:blipFill>
        <p:spPr>
          <a:xfrm>
            <a:off x="5044680" y="740520"/>
            <a:ext cx="574200" cy="2623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DMINI~1\appdata\roaming\360se6\USERDA~1\Temp\200852~1.JPG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stelsSmooth/>
                    </a14:imgEffect>
                  </a14:imgLayer>
                </a14:imgProps>
              </a:ext>
            </a:extLst>
          </a:blip>
          <a:srcRect l="57796" t="5574" r="22335" b="30394"/>
          <a:stretch/>
        </p:blipFill>
        <p:spPr>
          <a:xfrm>
            <a:off x="5616360" y="740520"/>
            <a:ext cx="996480" cy="2736000"/>
          </a:xfrm>
          <a:prstGeom prst="rect">
            <a:avLst/>
          </a:prstGeom>
          <a:ln w="0">
            <a:noFill/>
          </a:ln>
        </p:spPr>
      </p:pic>
      <p:sp>
        <p:nvSpPr>
          <p:cNvPr id="101" name="任意多边形 19"/>
          <p:cNvSpPr/>
          <p:nvPr/>
        </p:nvSpPr>
        <p:spPr>
          <a:xfrm>
            <a:off x="3539880" y="1008360"/>
            <a:ext cx="3156120" cy="2492280"/>
          </a:xfrm>
          <a:custGeom>
            <a:avLst/>
            <a:gdLst>
              <a:gd name="textAreaLeft" fmla="*/ 0 w 3156120"/>
              <a:gd name="textAreaRight" fmla="*/ 3156480 w 31561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3156559" h="2492680">
                <a:moveTo>
                  <a:pt x="551145" y="2467628"/>
                </a:moveTo>
                <a:lnTo>
                  <a:pt x="0" y="2480154"/>
                </a:lnTo>
                <a:lnTo>
                  <a:pt x="363254" y="638828"/>
                </a:lnTo>
                <a:lnTo>
                  <a:pt x="726509" y="62630"/>
                </a:lnTo>
                <a:lnTo>
                  <a:pt x="1077238" y="0"/>
                </a:lnTo>
                <a:lnTo>
                  <a:pt x="1277654" y="187891"/>
                </a:lnTo>
                <a:lnTo>
                  <a:pt x="1540701" y="688932"/>
                </a:lnTo>
                <a:lnTo>
                  <a:pt x="1941534" y="62630"/>
                </a:lnTo>
                <a:lnTo>
                  <a:pt x="2179528" y="25052"/>
                </a:lnTo>
                <a:lnTo>
                  <a:pt x="2392471" y="150313"/>
                </a:lnTo>
                <a:lnTo>
                  <a:pt x="2555309" y="263047"/>
                </a:lnTo>
                <a:lnTo>
                  <a:pt x="2893512" y="1127343"/>
                </a:lnTo>
                <a:lnTo>
                  <a:pt x="3018772" y="1741118"/>
                </a:lnTo>
                <a:lnTo>
                  <a:pt x="3156559" y="2492680"/>
                </a:lnTo>
                <a:lnTo>
                  <a:pt x="2555309" y="2492680"/>
                </a:lnTo>
                <a:lnTo>
                  <a:pt x="2455101" y="1102291"/>
                </a:lnTo>
                <a:lnTo>
                  <a:pt x="2192054" y="425885"/>
                </a:lnTo>
                <a:lnTo>
                  <a:pt x="2029216" y="438411"/>
                </a:lnTo>
                <a:lnTo>
                  <a:pt x="1891430" y="1127343"/>
                </a:lnTo>
                <a:lnTo>
                  <a:pt x="1828800" y="1791222"/>
                </a:lnTo>
                <a:lnTo>
                  <a:pt x="1816274" y="2367419"/>
                </a:lnTo>
                <a:lnTo>
                  <a:pt x="1240076" y="2329841"/>
                </a:lnTo>
                <a:lnTo>
                  <a:pt x="1252602" y="1979113"/>
                </a:lnTo>
                <a:lnTo>
                  <a:pt x="1215024" y="1039660"/>
                </a:lnTo>
                <a:lnTo>
                  <a:pt x="1039660" y="438411"/>
                </a:lnTo>
                <a:lnTo>
                  <a:pt x="964504" y="388307"/>
                </a:lnTo>
                <a:lnTo>
                  <a:pt x="764087" y="951978"/>
                </a:lnTo>
                <a:lnTo>
                  <a:pt x="613775" y="1478071"/>
                </a:lnTo>
                <a:lnTo>
                  <a:pt x="601249" y="1929008"/>
                </a:lnTo>
                <a:lnTo>
                  <a:pt x="563671" y="2367419"/>
                </a:lnTo>
              </a:path>
            </a:pathLst>
          </a:cu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3">
            <a:schemeClr val="dk1"/>
          </a:lnRef>
          <a:fillRef idx="0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26"/>
          <p:cNvSpPr/>
          <p:nvPr/>
        </p:nvSpPr>
        <p:spPr>
          <a:xfrm>
            <a:off x="3281760" y="3018600"/>
            <a:ext cx="3619800" cy="1427760"/>
          </a:xfrm>
          <a:custGeom>
            <a:avLst/>
            <a:gdLst>
              <a:gd name="textAreaLeft" fmla="*/ 0 w 3619800"/>
              <a:gd name="textAreaRight" fmla="*/ 3620160 w 3619800"/>
              <a:gd name="textAreaTop" fmla="*/ 0 h 1427760"/>
              <a:gd name="textAreaBottom" fmla="*/ 1428120 h 1427760"/>
            </a:gdLst>
            <a:ahLst/>
            <a:rect l="textAreaLeft" t="textAreaTop" r="textAreaRight" b="textAreaBottom"/>
            <a:pathLst>
              <a:path w="3620022" h="1427967">
                <a:moveTo>
                  <a:pt x="325677" y="0"/>
                </a:moveTo>
                <a:lnTo>
                  <a:pt x="0" y="37578"/>
                </a:lnTo>
                <a:lnTo>
                  <a:pt x="237995" y="1427967"/>
                </a:lnTo>
                <a:lnTo>
                  <a:pt x="3432132" y="1402915"/>
                </a:lnTo>
                <a:lnTo>
                  <a:pt x="3620022" y="50104"/>
                </a:lnTo>
                <a:lnTo>
                  <a:pt x="3319397" y="0"/>
                </a:lnTo>
                <a:lnTo>
                  <a:pt x="3407080" y="513567"/>
                </a:lnTo>
                <a:lnTo>
                  <a:pt x="2768252" y="513567"/>
                </a:lnTo>
                <a:lnTo>
                  <a:pt x="2780778" y="75156"/>
                </a:lnTo>
                <a:lnTo>
                  <a:pt x="2116899" y="37578"/>
                </a:lnTo>
                <a:lnTo>
                  <a:pt x="2116899" y="413359"/>
                </a:lnTo>
                <a:lnTo>
                  <a:pt x="1528176" y="350728"/>
                </a:lnTo>
                <a:lnTo>
                  <a:pt x="1465545" y="75156"/>
                </a:lnTo>
                <a:lnTo>
                  <a:pt x="939452" y="75156"/>
                </a:lnTo>
              </a:path>
            </a:pathLst>
          </a:cu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3">
            <a:schemeClr val="dk1"/>
          </a:lnRef>
          <a:fillRef idx="0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c:\users\ADMINI~1\appdata\roaming\360se6\USERDA~1\Temp\HQX760~1.JPG"/>
          <p:cNvPicPr/>
          <p:nvPr/>
        </p:nvPicPr>
        <p:blipFill>
          <a:blip r:embed="rId7"/>
          <a:stretch/>
        </p:blipFill>
        <p:spPr>
          <a:xfrm>
            <a:off x="2491560" y="679680"/>
            <a:ext cx="1828440" cy="2857320"/>
          </a:xfrm>
          <a:prstGeom prst="rect">
            <a:avLst/>
          </a:prstGeom>
          <a:ln w="0">
            <a:noFill/>
          </a:ln>
        </p:spPr>
      </p:pic>
      <p:sp>
        <p:nvSpPr>
          <p:cNvPr id="104" name="矩形 1"/>
          <p:cNvSpPr/>
          <p:nvPr/>
        </p:nvSpPr>
        <p:spPr>
          <a:xfrm>
            <a:off x="2012760" y="95760"/>
            <a:ext cx="6375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麦当劳企业发展史与物流案例分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76480" y="52981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3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5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矩形 15"/>
          <p:cNvSpPr/>
          <p:nvPr/>
        </p:nvSpPr>
        <p:spPr>
          <a:xfrm rot="5400000">
            <a:off x="314244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47" name="Picture 4" descr="c:\users\ADMINI~1\appdata\roaming\360se6\USERDA~1\Temp\201205~2.JPE"/>
          <p:cNvPicPr/>
          <p:nvPr/>
        </p:nvPicPr>
        <p:blipFill>
          <a:blip r:embed="rId1"/>
          <a:stretch/>
        </p:blipFill>
        <p:spPr>
          <a:xfrm>
            <a:off x="102960" y="2818800"/>
            <a:ext cx="2903400" cy="2705040"/>
          </a:xfrm>
          <a:prstGeom prst="rect">
            <a:avLst/>
          </a:prstGeom>
          <a:ln w="0">
            <a:noFill/>
          </a:ln>
        </p:spPr>
      </p:pic>
      <p:sp>
        <p:nvSpPr>
          <p:cNvPr id="348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9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梯形 52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TextBox 55"/>
          <p:cNvSpPr/>
          <p:nvPr/>
        </p:nvSpPr>
        <p:spPr>
          <a:xfrm rot="19108200">
            <a:off x="507960" y="52164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临风险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"/>
          <p:cNvSpPr/>
          <p:nvPr/>
        </p:nvSpPr>
        <p:spPr>
          <a:xfrm rot="19131600">
            <a:off x="4318560" y="423360"/>
            <a:ext cx="452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仅外包给夏晖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"/>
          <p:cNvSpPr/>
          <p:nvPr/>
        </p:nvSpPr>
        <p:spPr>
          <a:xfrm rot="20417400">
            <a:off x="4831200" y="1117080"/>
            <a:ext cx="6536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信息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（生产流程、技术工艺、新产品上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8"/>
          <p:cNvSpPr/>
          <p:nvPr/>
        </p:nvSpPr>
        <p:spPr>
          <a:xfrm rot="2241600">
            <a:off x="4032720" y="4842720"/>
            <a:ext cx="473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产品原料单一难以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9"/>
          <p:cNvSpPr/>
          <p:nvPr/>
        </p:nvSpPr>
        <p:spPr>
          <a:xfrm rot="1336800">
            <a:off x="4534920" y="3756240"/>
            <a:ext cx="559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企业利益受损同时影响自身物流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（抬高价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七边形 25"/>
          <p:cNvSpPr/>
          <p:nvPr/>
        </p:nvSpPr>
        <p:spPr>
          <a:xfrm>
            <a:off x="1909440" y="-260280"/>
            <a:ext cx="635760" cy="476640"/>
          </a:xfrm>
          <a:prstGeom prst="heptagon">
            <a:avLst>
              <a:gd name="hf" fmla="val 102572"/>
              <a:gd name="vf" fmla="val 10521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8514E-006 -4.29752E-006 L 0.06723 0.00359 E">
                                      <p:cBhvr>
                                        <p:cTn id="774" dur="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28988E-008 1.26722E-006 L 0.17194 0.46584 E">
                                      <p:cBhvr>
                                        <p:cTn id="78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7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8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755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8050"/>
                            </p:stCondLst>
                            <p:childTnLst>
                              <p:par>
                                <p:cTn id="8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6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7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流程图: 顺序访问存储器 2"/>
          <p:cNvSpPr/>
          <p:nvPr/>
        </p:nvSpPr>
        <p:spPr>
          <a:xfrm>
            <a:off x="6840360" y="1800360"/>
            <a:ext cx="3240000" cy="3240000"/>
          </a:xfrm>
          <a:prstGeom prst="flowChartMagneticTape">
            <a:avLst/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7659000" y="1843200"/>
            <a:ext cx="16023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2060"/>
                </a:solidFill>
                <a:latin typeface="华文琥珀"/>
                <a:ea typeface="华文琥珀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21"/>
          <p:cNvGrpSpPr/>
          <p:nvPr/>
        </p:nvGrpSpPr>
        <p:grpSpPr>
          <a:xfrm>
            <a:off x="-72360" y="240480"/>
            <a:ext cx="9636840" cy="5119920"/>
            <a:chOff x="-72360" y="240480"/>
            <a:chExt cx="9636840" cy="5119920"/>
          </a:xfrm>
        </p:grpSpPr>
        <p:sp>
          <p:nvSpPr>
            <p:cNvPr id="374" name="任意多边形 19"/>
            <p:cNvSpPr/>
            <p:nvPr/>
          </p:nvSpPr>
          <p:spPr>
            <a:xfrm>
              <a:off x="950400" y="240480"/>
              <a:ext cx="8614080" cy="3825720"/>
            </a:xfrm>
            <a:custGeom>
              <a:avLst/>
              <a:gdLst>
                <a:gd name="textAreaLeft" fmla="*/ 0 w 8614080"/>
                <a:gd name="textAreaRight" fmla="*/ 8614440 w 861408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w="8614610" h="3826042">
                  <a:moveTo>
                    <a:pt x="0" y="0"/>
                  </a:moveTo>
                  <a:lnTo>
                    <a:pt x="8614610" y="0"/>
                  </a:lnTo>
                  <a:lnTo>
                    <a:pt x="8614610" y="1215189"/>
                  </a:lnTo>
                  <a:lnTo>
                    <a:pt x="7844589" y="1528010"/>
                  </a:lnTo>
                  <a:lnTo>
                    <a:pt x="7134726" y="1515979"/>
                  </a:lnTo>
                  <a:lnTo>
                    <a:pt x="6460958" y="1780673"/>
                  </a:lnTo>
                  <a:lnTo>
                    <a:pt x="6112042" y="2286000"/>
                  </a:lnTo>
                  <a:lnTo>
                    <a:pt x="5823284" y="2719136"/>
                  </a:lnTo>
                  <a:lnTo>
                    <a:pt x="5823284" y="3344779"/>
                  </a:lnTo>
                  <a:lnTo>
                    <a:pt x="5823284" y="3525252"/>
                  </a:lnTo>
                  <a:lnTo>
                    <a:pt x="5823284" y="3826042"/>
                  </a:lnTo>
                  <a:lnTo>
                    <a:pt x="0" y="38260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75" name="Picture 2" descr="c:\users\ADMINI~1\appdata\roaming\360se6\USERDA~1\Temp\101008~1.JPG"/>
            <p:cNvPicPr/>
            <p:nvPr/>
          </p:nvPicPr>
          <p:blipFill>
            <a:blip r:embed="rId1"/>
            <a:stretch/>
          </p:blipFill>
          <p:spPr>
            <a:xfrm>
              <a:off x="-72360" y="3600720"/>
              <a:ext cx="2900880" cy="175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TextBox 18"/>
          <p:cNvSpPr/>
          <p:nvPr/>
        </p:nvSpPr>
        <p:spPr>
          <a:xfrm>
            <a:off x="1636200" y="288360"/>
            <a:ext cx="79401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麦当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增加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原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供应商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加大对物流外包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合做和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监督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，不断发展与物流供应商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作关系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制造着多元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满足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顾客的需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降低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了企业风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让物流供应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衷心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提供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直接连接符 30"/>
          <p:cNvCxnSpPr/>
          <p:nvPr/>
        </p:nvCxnSpPr>
        <p:spPr>
          <a:xfrm flipH="1">
            <a:off x="2494800" y="4680360"/>
            <a:ext cx="4849920" cy="360"/>
          </a:xfrm>
          <a:prstGeom prst="straightConnector1">
            <a:avLst/>
          </a:prstGeom>
          <a:ln w="38100">
            <a:solidFill>
              <a:srgbClr val="000000"/>
            </a:solidFill>
            <a:prstDash val="sysDot"/>
            <a:round/>
          </a:ln>
        </p:spPr>
      </p:cxnSp>
      <p:grpSp>
        <p:nvGrpSpPr>
          <p:cNvPr id="378" name="组合 31"/>
          <p:cNvGrpSpPr/>
          <p:nvPr/>
        </p:nvGrpSpPr>
        <p:grpSpPr>
          <a:xfrm>
            <a:off x="287640" y="1081440"/>
            <a:ext cx="920880" cy="2446560"/>
            <a:chOff x="287640" y="1081440"/>
            <a:chExt cx="920880" cy="2446560"/>
          </a:xfrm>
        </p:grpSpPr>
        <p:sp>
          <p:nvSpPr>
            <p:cNvPr id="379" name="TextBox 23"/>
            <p:cNvSpPr/>
            <p:nvPr/>
          </p:nvSpPr>
          <p:spPr>
            <a:xfrm>
              <a:off x="287640" y="1081440"/>
              <a:ext cx="861480" cy="244656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80" name="矩形 29"/>
            <p:cNvSpPr/>
            <p:nvPr/>
          </p:nvSpPr>
          <p:spPr>
            <a:xfrm>
              <a:off x="347040" y="1107360"/>
              <a:ext cx="86148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解决措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矩形 42"/>
          <p:cNvSpPr/>
          <p:nvPr/>
        </p:nvSpPr>
        <p:spPr>
          <a:xfrm>
            <a:off x="2696400" y="4496040"/>
            <a:ext cx="496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双赢合作”理念，物流供应商竞争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6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6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100"/>
                            </p:stCondLst>
                            <p:childTnLst>
                              <p:par>
                                <p:cTn id="8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100"/>
                            </p:stCondLst>
                            <p:childTnLst>
                              <p:par>
                                <p:cTn id="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1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100"/>
                            </p:stCondLst>
                            <p:childTnLst>
                              <p:par>
                                <p:cTn id="8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1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100"/>
                            </p:stCondLst>
                            <p:childTnLst>
                              <p:par>
                                <p:cTn id="8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10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810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100"/>
                            </p:stCondLst>
                            <p:childTnLst>
                              <p:par>
                                <p:cTn id="8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100"/>
                            </p:stCondLst>
                            <p:childTnLst>
                              <p:par>
                                <p:cTn id="9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11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21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1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矩形 20"/>
          <p:cNvSpPr/>
          <p:nvPr/>
        </p:nvSpPr>
        <p:spPr>
          <a:xfrm>
            <a:off x="2545560" y="2592360"/>
            <a:ext cx="5374800" cy="57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3502440" y="2634840"/>
            <a:ext cx="4777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物流配送分析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c:\users\ADMINI~1\appdata\roaming\360se6\USERDA~1\Temp\200811~1.JPG"/>
          <p:cNvPicPr/>
          <p:nvPr/>
        </p:nvPicPr>
        <p:blipFill>
          <a:blip r:embed="rId1"/>
          <a:stretch/>
        </p:blipFill>
        <p:spPr>
          <a:xfrm>
            <a:off x="1289520" y="2160360"/>
            <a:ext cx="1539000" cy="1169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users\ADMINI~1\appdata\roaming\360se6\USERDA~1\Temp\485553~1.JPG"/>
          <p:cNvPicPr/>
          <p:nvPr/>
        </p:nvPicPr>
        <p:blipFill>
          <a:blip r:embed="rId2"/>
          <a:stretch/>
        </p:blipFill>
        <p:spPr>
          <a:xfrm>
            <a:off x="6512400" y="1128240"/>
            <a:ext cx="3536640" cy="4960800"/>
          </a:xfrm>
          <a:prstGeom prst="rect">
            <a:avLst/>
          </a:prstGeom>
          <a:ln w="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1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流程图: 顺序访问存储器 2"/>
          <p:cNvSpPr/>
          <p:nvPr/>
        </p:nvSpPr>
        <p:spPr>
          <a:xfrm>
            <a:off x="6840360" y="1800360"/>
            <a:ext cx="3240000" cy="3240000"/>
          </a:xfrm>
          <a:prstGeom prst="flowChartMagneticTape">
            <a:avLst/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7659000" y="1843200"/>
            <a:ext cx="16023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2060"/>
                </a:solidFill>
                <a:latin typeface="华文琥珀"/>
                <a:ea typeface="华文琥珀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385200" y="240480"/>
            <a:ext cx="9179280" cy="5492880"/>
            <a:chOff x="385200" y="240480"/>
            <a:chExt cx="9179280" cy="5492880"/>
          </a:xfrm>
        </p:grpSpPr>
        <p:sp>
          <p:nvSpPr>
            <p:cNvPr id="417" name="任意多边形 19"/>
            <p:cNvSpPr/>
            <p:nvPr/>
          </p:nvSpPr>
          <p:spPr>
            <a:xfrm>
              <a:off x="950400" y="240480"/>
              <a:ext cx="8614080" cy="3825720"/>
            </a:xfrm>
            <a:custGeom>
              <a:avLst/>
              <a:gdLst>
                <a:gd name="textAreaLeft" fmla="*/ 0 w 8614080"/>
                <a:gd name="textAreaRight" fmla="*/ 8614440 w 861408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w="8614610" h="3826042">
                  <a:moveTo>
                    <a:pt x="0" y="0"/>
                  </a:moveTo>
                  <a:lnTo>
                    <a:pt x="8614610" y="0"/>
                  </a:lnTo>
                  <a:lnTo>
                    <a:pt x="8614610" y="1215189"/>
                  </a:lnTo>
                  <a:lnTo>
                    <a:pt x="7844589" y="1528010"/>
                  </a:lnTo>
                  <a:lnTo>
                    <a:pt x="7134726" y="1515979"/>
                  </a:lnTo>
                  <a:lnTo>
                    <a:pt x="6460958" y="1780673"/>
                  </a:lnTo>
                  <a:lnTo>
                    <a:pt x="6112042" y="2286000"/>
                  </a:lnTo>
                  <a:lnTo>
                    <a:pt x="5823284" y="2719136"/>
                  </a:lnTo>
                  <a:lnTo>
                    <a:pt x="5823284" y="3344779"/>
                  </a:lnTo>
                  <a:lnTo>
                    <a:pt x="5823284" y="3525252"/>
                  </a:lnTo>
                  <a:lnTo>
                    <a:pt x="5823284" y="3826042"/>
                  </a:lnTo>
                  <a:lnTo>
                    <a:pt x="0" y="38260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8" name="Picture 2" descr="c:\users\ADMINI~1\appdata\roaming\360se6\USERDA~1\Temp\202287~1.JPG"/>
            <p:cNvPicPr/>
            <p:nvPr/>
          </p:nvPicPr>
          <p:blipFill>
            <a:blip r:embed="rId1"/>
            <a:stretch/>
          </p:blipFill>
          <p:spPr>
            <a:xfrm>
              <a:off x="385200" y="3238200"/>
              <a:ext cx="4762080" cy="24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TextBox 18"/>
          <p:cNvSpPr/>
          <p:nvPr/>
        </p:nvSpPr>
        <p:spPr>
          <a:xfrm>
            <a:off x="1082160" y="216360"/>
            <a:ext cx="8494200" cy="35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巨无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套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常常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吸引很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食客的胃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松软的面包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喷香的牛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松脆爽口的生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令食者开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但是很少有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知道他们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在它一生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经历过几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浇水、施肥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31"/>
          <p:cNvGrpSpPr/>
          <p:nvPr/>
        </p:nvGrpSpPr>
        <p:grpSpPr>
          <a:xfrm>
            <a:off x="287640" y="1081440"/>
            <a:ext cx="920880" cy="2446560"/>
            <a:chOff x="287640" y="1081440"/>
            <a:chExt cx="920880" cy="2446560"/>
          </a:xfrm>
        </p:grpSpPr>
        <p:sp>
          <p:nvSpPr>
            <p:cNvPr id="421" name="TextBox 23"/>
            <p:cNvSpPr/>
            <p:nvPr/>
          </p:nvSpPr>
          <p:spPr>
            <a:xfrm>
              <a:off x="287640" y="1081440"/>
              <a:ext cx="861480" cy="244656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2" name="矩形 29"/>
            <p:cNvSpPr/>
            <p:nvPr/>
          </p:nvSpPr>
          <p:spPr>
            <a:xfrm>
              <a:off x="347040" y="1107360"/>
              <a:ext cx="86148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案例引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9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"/>
                            </p:stCondLst>
                            <p:childTnLst>
                              <p:par>
                                <p:cTn id="9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6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1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6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1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6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100"/>
                            </p:stCondLst>
                            <p:childTnLst>
                              <p:par>
                                <p:cTn id="9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6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100"/>
                            </p:stCondLst>
                            <p:childTnLst>
                              <p:par>
                                <p:cTn id="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600"/>
                            </p:stCondLst>
                            <p:childTnLst>
                              <p:par>
                                <p:cTn id="9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61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66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71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76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81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86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5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6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流程图: 顺序访问存储器 2"/>
          <p:cNvSpPr/>
          <p:nvPr/>
        </p:nvSpPr>
        <p:spPr>
          <a:xfrm>
            <a:off x="6840360" y="1800360"/>
            <a:ext cx="3240000" cy="3240000"/>
          </a:xfrm>
          <a:prstGeom prst="flowChartMagneticTape">
            <a:avLst/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7659000" y="1843200"/>
            <a:ext cx="16023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2060"/>
                </a:solidFill>
                <a:latin typeface="华文琥珀"/>
                <a:ea typeface="华文琥珀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22"/>
          <p:cNvGrpSpPr/>
          <p:nvPr/>
        </p:nvGrpSpPr>
        <p:grpSpPr>
          <a:xfrm>
            <a:off x="385200" y="240480"/>
            <a:ext cx="9179280" cy="5492880"/>
            <a:chOff x="385200" y="240480"/>
            <a:chExt cx="9179280" cy="5492880"/>
          </a:xfrm>
        </p:grpSpPr>
        <p:sp>
          <p:nvSpPr>
            <p:cNvPr id="440" name="任意多边形 19"/>
            <p:cNvSpPr/>
            <p:nvPr/>
          </p:nvSpPr>
          <p:spPr>
            <a:xfrm>
              <a:off x="950400" y="240480"/>
              <a:ext cx="8614080" cy="3825720"/>
            </a:xfrm>
            <a:custGeom>
              <a:avLst/>
              <a:gdLst>
                <a:gd name="textAreaLeft" fmla="*/ 0 w 8614080"/>
                <a:gd name="textAreaRight" fmla="*/ 8614440 w 861408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w="8614610" h="3826042">
                  <a:moveTo>
                    <a:pt x="0" y="0"/>
                  </a:moveTo>
                  <a:lnTo>
                    <a:pt x="8614610" y="0"/>
                  </a:lnTo>
                  <a:lnTo>
                    <a:pt x="8614610" y="1215189"/>
                  </a:lnTo>
                  <a:lnTo>
                    <a:pt x="7844589" y="1528010"/>
                  </a:lnTo>
                  <a:lnTo>
                    <a:pt x="7134726" y="1515979"/>
                  </a:lnTo>
                  <a:lnTo>
                    <a:pt x="6460958" y="1780673"/>
                  </a:lnTo>
                  <a:lnTo>
                    <a:pt x="6112042" y="2286000"/>
                  </a:lnTo>
                  <a:lnTo>
                    <a:pt x="5823284" y="2719136"/>
                  </a:lnTo>
                  <a:lnTo>
                    <a:pt x="5823284" y="3344779"/>
                  </a:lnTo>
                  <a:lnTo>
                    <a:pt x="5823284" y="3525252"/>
                  </a:lnTo>
                  <a:lnTo>
                    <a:pt x="5823284" y="3826042"/>
                  </a:lnTo>
                  <a:lnTo>
                    <a:pt x="0" y="38260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41" name="Picture 2" descr="c:\users\ADMINI~1\appdata\roaming\360se6\USERDA~1\Temp\202287~1.JPG"/>
            <p:cNvPicPr/>
            <p:nvPr/>
          </p:nvPicPr>
          <p:blipFill>
            <a:blip r:embed="rId1"/>
            <a:stretch/>
          </p:blipFill>
          <p:spPr>
            <a:xfrm>
              <a:off x="385200" y="3238200"/>
              <a:ext cx="4762080" cy="24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TextBox 18"/>
          <p:cNvSpPr/>
          <p:nvPr/>
        </p:nvSpPr>
        <p:spPr>
          <a:xfrm>
            <a:off x="1082160" y="216360"/>
            <a:ext cx="849420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克洛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意识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这一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汉堡的生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为例，种植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全程监控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种植、选址、农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均有严格的规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生菜的加工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上海莱迪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食品公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负责原料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粗加工，麦当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仅仅是个“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餐厅</a:t>
            </a: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组合 31"/>
          <p:cNvGrpSpPr/>
          <p:nvPr/>
        </p:nvGrpSpPr>
        <p:grpSpPr>
          <a:xfrm>
            <a:off x="287640" y="1081440"/>
            <a:ext cx="920880" cy="2446560"/>
            <a:chOff x="287640" y="1081440"/>
            <a:chExt cx="920880" cy="2446560"/>
          </a:xfrm>
        </p:grpSpPr>
        <p:sp>
          <p:nvSpPr>
            <p:cNvPr id="444" name="TextBox 23"/>
            <p:cNvSpPr/>
            <p:nvPr/>
          </p:nvSpPr>
          <p:spPr>
            <a:xfrm>
              <a:off x="287640" y="1081440"/>
              <a:ext cx="861480" cy="244656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45" name="矩形 29"/>
            <p:cNvSpPr/>
            <p:nvPr/>
          </p:nvSpPr>
          <p:spPr>
            <a:xfrm>
              <a:off x="347040" y="1107360"/>
              <a:ext cx="86148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现状分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6" dur="1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600"/>
                            </p:stCondLst>
                            <p:childTnLst>
                              <p:par>
                                <p:cTn id="1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6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6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1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46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6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100"/>
                            </p:stCondLst>
                            <p:childTnLst>
                              <p:par>
                                <p:cTn id="10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6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100"/>
                            </p:stCondLst>
                            <p:childTnLst>
                              <p:par>
                                <p:cTn id="1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7600"/>
                            </p:stCondLst>
                            <p:childTnLst>
                              <p:par>
                                <p:cTn id="1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810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7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8" name="矩形 6"/>
          <p:cNvSpPr/>
          <p:nvPr/>
        </p:nvSpPr>
        <p:spPr>
          <a:xfrm rot="5400000">
            <a:off x="107208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矩形 7"/>
          <p:cNvSpPr/>
          <p:nvPr/>
        </p:nvSpPr>
        <p:spPr>
          <a:xfrm rot="5400000">
            <a:off x="2524680" y="24840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3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矩形 13"/>
          <p:cNvSpPr/>
          <p:nvPr/>
        </p:nvSpPr>
        <p:spPr>
          <a:xfrm rot="5400000">
            <a:off x="334080" y="2522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6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梯形 52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55"/>
          <p:cNvSpPr/>
          <p:nvPr/>
        </p:nvSpPr>
        <p:spPr>
          <a:xfrm rot="19108200">
            <a:off x="350640" y="62388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解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单圆角矩形 56"/>
          <p:cNvSpPr/>
          <p:nvPr/>
        </p:nvSpPr>
        <p:spPr>
          <a:xfrm>
            <a:off x="1519920" y="2536200"/>
            <a:ext cx="6328440" cy="68076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七边形 1"/>
          <p:cNvSpPr/>
          <p:nvPr/>
        </p:nvSpPr>
        <p:spPr>
          <a:xfrm>
            <a:off x="1055880" y="2274840"/>
            <a:ext cx="1439640" cy="1079640"/>
          </a:xfrm>
          <a:prstGeom prst="heptagon">
            <a:avLst>
              <a:gd name="hf" fmla="val 102572"/>
              <a:gd name="vf" fmla="val 10521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TextBox 57"/>
          <p:cNvSpPr/>
          <p:nvPr/>
        </p:nvSpPr>
        <p:spPr>
          <a:xfrm>
            <a:off x="2666520" y="2646000"/>
            <a:ext cx="518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麦当劳都要外包出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60"/>
          <p:cNvSpPr/>
          <p:nvPr/>
        </p:nvSpPr>
        <p:spPr>
          <a:xfrm>
            <a:off x="1872000" y="3384720"/>
            <a:ext cx="6048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鸡翅炸</a:t>
            </a:r>
            <a:r>
              <a:rPr b="1" lang="en-US" sz="2800" spc="-1" strike="noStrike">
                <a:solidFill>
                  <a:srgbClr val="10243e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牛肉饼煎制</a:t>
            </a:r>
            <a:r>
              <a:rPr b="1" lang="en-US" sz="2800" spc="-1" strike="noStrike">
                <a:solidFill>
                  <a:srgbClr val="10243e"/>
                </a:solidFill>
                <a:latin typeface="微软雅黑"/>
                <a:ea typeface="微软雅黑"/>
              </a:rPr>
              <a:t>38</a:t>
            </a: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秒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洗手整个过程要求</a:t>
            </a:r>
            <a:r>
              <a:rPr b="1" lang="en-US" sz="2800" spc="-1" strike="noStrike">
                <a:solidFill>
                  <a:srgbClr val="10243e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996E-006 2.47934E-007 L 0.58809 0.01129 E">
                                      <p:cBhvr>
                                        <p:cTn id="109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2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8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5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矩形 17"/>
          <p:cNvSpPr/>
          <p:nvPr/>
        </p:nvSpPr>
        <p:spPr>
          <a:xfrm rot="5400000">
            <a:off x="608688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0" name="梯形 52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TextBox 55"/>
          <p:cNvSpPr/>
          <p:nvPr/>
        </p:nvSpPr>
        <p:spPr>
          <a:xfrm rot="19108200">
            <a:off x="147960" y="80964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环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单圆角矩形 56"/>
          <p:cNvSpPr/>
          <p:nvPr/>
        </p:nvSpPr>
        <p:spPr>
          <a:xfrm>
            <a:off x="1519920" y="2536200"/>
            <a:ext cx="6400440" cy="68076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七边形 1"/>
          <p:cNvSpPr/>
          <p:nvPr/>
        </p:nvSpPr>
        <p:spPr>
          <a:xfrm>
            <a:off x="1055880" y="2274840"/>
            <a:ext cx="1439640" cy="1079640"/>
          </a:xfrm>
          <a:prstGeom prst="heptagon">
            <a:avLst>
              <a:gd name="hf" fmla="val 102572"/>
              <a:gd name="vf" fmla="val 10521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TextBox 57"/>
          <p:cNvSpPr/>
          <p:nvPr/>
        </p:nvSpPr>
        <p:spPr>
          <a:xfrm>
            <a:off x="2620080" y="2646000"/>
            <a:ext cx="5516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仔细思考前面所讲内容进行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996E-006 2.47934E-007 L 0.60242 0.01129 E">
                                      <p:cBhvr>
                                        <p:cTn id="111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21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4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3"/>
          <p:cNvSpPr/>
          <p:nvPr/>
        </p:nvSpPr>
        <p:spPr>
          <a:xfrm>
            <a:off x="0" y="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6" name="矩形 4"/>
          <p:cNvSpPr/>
          <p:nvPr/>
        </p:nvSpPr>
        <p:spPr>
          <a:xfrm>
            <a:off x="360" y="72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7" name="矩形 5"/>
          <p:cNvSpPr/>
          <p:nvPr/>
        </p:nvSpPr>
        <p:spPr>
          <a:xfrm>
            <a:off x="360" y="144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8" name="矩形 6"/>
          <p:cNvSpPr/>
          <p:nvPr/>
        </p:nvSpPr>
        <p:spPr>
          <a:xfrm>
            <a:off x="360" y="216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9" name="矩形 7"/>
          <p:cNvSpPr/>
          <p:nvPr/>
        </p:nvSpPr>
        <p:spPr>
          <a:xfrm>
            <a:off x="360" y="288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0" name="矩形 8"/>
          <p:cNvSpPr/>
          <p:nvPr/>
        </p:nvSpPr>
        <p:spPr>
          <a:xfrm>
            <a:off x="360" y="360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矩形 9"/>
          <p:cNvSpPr/>
          <p:nvPr/>
        </p:nvSpPr>
        <p:spPr>
          <a:xfrm>
            <a:off x="-360" y="432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2" name="矩形 10"/>
          <p:cNvSpPr/>
          <p:nvPr/>
        </p:nvSpPr>
        <p:spPr>
          <a:xfrm>
            <a:off x="-4320" y="504072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单圆角矩形 11"/>
          <p:cNvSpPr/>
          <p:nvPr/>
        </p:nvSpPr>
        <p:spPr>
          <a:xfrm>
            <a:off x="1519920" y="2536200"/>
            <a:ext cx="6112440" cy="68076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七边形 12"/>
          <p:cNvSpPr/>
          <p:nvPr/>
        </p:nvSpPr>
        <p:spPr>
          <a:xfrm>
            <a:off x="1055880" y="2274840"/>
            <a:ext cx="1439640" cy="1079640"/>
          </a:xfrm>
          <a:prstGeom prst="heptagon">
            <a:avLst>
              <a:gd name="hf" fmla="val 102572"/>
              <a:gd name="vf" fmla="val 10521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2018520" y="2646000"/>
            <a:ext cx="719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nk you for your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"/>
          <p:cNvSpPr/>
          <p:nvPr/>
        </p:nvSpPr>
        <p:spPr>
          <a:xfrm>
            <a:off x="8262720" y="5360760"/>
            <a:ext cx="1908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BY:Undre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996E-006 2.47934E-007 L 0.53818 0.01129 E">
                                      <p:cBhvr>
                                        <p:cTn id="112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1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4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3"/>
          <p:cNvSpPr/>
          <p:nvPr/>
        </p:nvSpPr>
        <p:spPr>
          <a:xfrm>
            <a:off x="0" y="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360" y="72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60" y="144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360" y="216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360" y="288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360" y="360036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-360" y="4320360"/>
            <a:ext cx="10080360" cy="72000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-4320" y="5040720"/>
            <a:ext cx="10080360" cy="720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折角形 12"/>
          <p:cNvSpPr/>
          <p:nvPr/>
        </p:nvSpPr>
        <p:spPr>
          <a:xfrm>
            <a:off x="2736000" y="720360"/>
            <a:ext cx="4680000" cy="432000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折角形 18"/>
          <p:cNvSpPr/>
          <p:nvPr/>
        </p:nvSpPr>
        <p:spPr>
          <a:xfrm>
            <a:off x="2880000" y="835200"/>
            <a:ext cx="4392000" cy="3989160"/>
          </a:xfrm>
          <a:prstGeom prst="foldedCorner">
            <a:avLst>
              <a:gd name="adj" fmla="val 16667"/>
            </a:avLst>
          </a:prstGeom>
          <a:solidFill>
            <a:srgbClr val="ff000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4248360" y="83520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餐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3096000" y="1801800"/>
            <a:ext cx="403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McDonald ‘s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3130200" y="2736360"/>
            <a:ext cx="428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企业发展史       </a:t>
            </a: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3112200" y="3602520"/>
            <a:ext cx="4159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物流案例分析   </a:t>
            </a: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6-10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ADMINI~1\appdata\roaming\360se6\USERDA~1\Temp\142404~1.JPG"/>
          <p:cNvPicPr/>
          <p:nvPr/>
        </p:nvPicPr>
        <p:blipFill>
          <a:blip r:embed="rId1"/>
          <a:srcRect l="0" t="0" r="59867" b="0"/>
          <a:stretch/>
        </p:blipFill>
        <p:spPr>
          <a:xfrm rot="4329000">
            <a:off x="6939720" y="2347560"/>
            <a:ext cx="27158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729 -0.62727 C -0.21587 -0.6179 -0.21445 -0.60991 -0.21367 -0.60027 C -0.21319 -0.60523 -0.21398 -0.61074 -0.21241 -0.61487 C -0.21178 -0.61653 -0.208 -0.61432 -0.20894 -0.61267 C -0.21036 -0.61019 -0.21288 -0.61129 -0.21477 -0.61074 C -0.21871 -0.59118 -0.21493 -0.59807 -0.23036 -0.59394 C -0.2324 -0.59338 -0.22642 -0.59531 -0.22437 -0.59614 C -0.22311 -0.59669 -0.22201 -0.59752 -0.22075 -0.59807 C -0.2176 -0.59917 -0.20737 -0.60137 -0.20406 -0.6022 C -0.20249 -0.60165 -0.19981 -0.60303 -0.19934 -0.60027 C -0.19824 -0.59504 -0.19729 -0.58484 -0.20044 -0.58347 C -0.21398 -0.57686 -0.22831 -0.58071 -0.24232 -0.57933 C -0.24374 -0.57162 -0.24469 -0.56418 -0.24579 -0.55647 C -0.2461 -0.55482 -0.24941 -0.53967 -0.24831 -0.53967 C -0.24547 -0.53967 -0.24421 -0.54655 -0.24232 -0.55013 C -0.23713 -0.56033 -0.23477 -0.57162 -0.228 -0.57933 C -0.22595 -0.56832 -0.22406 -0.55702 -0.22201 -0.546 C -0.21792 -0.56033 -0.21666 -0.56942 -0.21005 -0.58154 C -0.20674 -0.5752 -0.20438 -0.56887 -0.20296 -0.5606 C -0.20044 -0.56694 -0.19934 -0.573 -0.19698 -0.57933 C -0.19399 -0.57052 -0.19052 -0.56281 -0.18737 -0.55427 C -0.18627 -0.57823 -0.18643 -0.59752 -0.18265 -0.619 C -0.18186 -0.6168 -0.18076 -0.61515 -0.18029 -0.61267 C -0.17777 -0.60055 -0.18155 -0.60055 -0.17541 -0.6044 C -0.1784 -0.59614 -0.1806 -0.58732 -0.18375 -0.57933 C -0.1847 -0.57686 -0.18643 -0.57548 -0.18737 -0.573 C -0.18847 -0.57052 -0.18847 -0.56694 -0.18973 -0.56473 C -0.19068 -0.56308 -0.1921 -0.56336 -0.19336 -0.56253 C -0.19288 -0.5708 -0.19383 -0.57989 -0.1921 -0.5876 C -0.19036 -0.59531 -0.18218 -0.58484 -0.18029 -0.58347 C -0.17446 -0.59311 -0.17241 -0.60385 -0.16832 -0.61487 C -0.16438 -0.61405 -0.15982 -0.61597 -0.15635 -0.61267 C -0.15494 -0.61129 -0.15667 -0.60661 -0.15761 -0.6044 C -0.15997 -0.59834 -0.16249 -0.59807 -0.16596 -0.59614 C -0.17273 -0.58347 -0.16486 -0.6011 -0.16596 -0.58567 C -0.16627 -0.58209 -0.16832 -0.58016 -0.16942 -0.57713 C -0.17226 -0.56887 -0.1732 -0.56391 -0.17777 -0.5584 C -0.17399 -0.57135 -0.16863 -0.58126 -0.16108 -0.5876 C -0.15761 -0.58567 -0.15336 -0.57851 -0.15761 -0.57107 C -0.16045 -0.56611 -0.16486 -0.56556 -0.16832 -0.56253 C -0.16958 -0.56336 -0.17178 -0.56694 -0.17194 -0.56473 C -0.17257 -0.55812 -0.16958 -0.55234 -0.16832 -0.546 C -0.16785 -0.5438 -0.16706 -0.53967 -0.16706 -0.53939 C -0.16423 -0.54462 -0.15982 -0.54765 -0.15872 -0.55427 C -0.1584 -0.55647 -0.1584 -0.55895 -0.15761 -0.5606 C -0.15667 -0.56253 -0.15525 -0.56336 -0.15399 -0.56473 C -0.15352 -0.56749 -0.15415 -0.57162 -0.15273 -0.573 C -0.14974 -0.57548 -0.14832 -0.56391 -0.14801 -0.56253 C -0.14187 -0.56969 -0.1414 -0.58154 -0.1373 -0.59173 C -0.13494 -0.61184 -0.13604 -0.60936 -0.12407 -0.61267 C -0.12722 -0.60743 -0.1288 -0.60248 -0.13242 -0.59807 C -0.13289 -0.59531 -0.13541 -0.58429 -0.13242 -0.58154 C -0.13132 -0.58044 -0.13163 -0.5854 -0.13132 -0.5876 C -0.12943 -0.60248 -0.13258 -0.59889 -0.12659 -0.6022 C -0.12124 -0.59945 -0.11683 -0.59504 -0.12061 -0.58347 C -0.12203 -0.57933 -0.12691 -0.57796 -0.12896 -0.57713 C -0.12738 -0.58484 -0.12801 -0.60137 -0.12533 -0.58347 C -0.12282 -0.53526 -0.12596 -0.55206 -0.12171 -0.5314 C -0.1214 -0.52011 -0.11982 -0.50881 -0.12061 -0.49779 C -0.12108 -0.49201 -0.12203 -0.50909 -0.12297 -0.5146 C -0.1236 -0.51818 -0.12455 -0.52148 -0.12533 -0.52507 C -0.12848 -0.54022 -0.131 -0.55124 -0.13604 -0.56473 C -0.12691 -0.57272 -0.1162 -0.57107 -0.10628 -0.573 C -0.11872 -0.55867 -0.13258 -0.54986 -0.14565 -0.53746 C -0.18391 -0.5011 -0.225 -0.48044 -0.2661 -0.45619 C -0.28783 -0.44352 -0.30956 -0.43113 -0.33176 -0.42066 C -0.34042 -0.42396 -0.33774 -0.42396 -0.34136 -0.43746 C -0.34294 -0.42865 -0.34373 -0.42066 -0.34609 -0.41239 C -0.34876 -0.3865 -0.3516 -0.38347 -0.34499 -0.39559 C -0.34278 -0.40964 -0.34184 -0.40137 -0.33648 -0.41019 C -0.33617 -0.41239 -0.33617 -0.41487 -0.33538 -0.41653 C -0.33097 -0.42617 -0.32908 -0.41377 -0.32578 -0.40799 C -0.32578 -0.40771 -0.32515 -0.39256 -0.32105 -0.39779 C -0.31979 -0.39945 -0.32074 -0.40358 -0.31979 -0.40606 C -0.31853 -0.40964 -0.30909 -0.42341 -0.30798 -0.42479 C -0.30499 -0.42865 -0.29838 -0.43526 -0.29838 -0.43498 C -0.29523 -0.43443 -0.29177 -0.43498 -0.28877 -0.43305 C -0.28484 -0.43057 -0.28547 -0.42562 -0.28405 -0.42066 C -0.28169 -0.41267 -0.28027 -0.41239 -0.2757 -0.40606 C -0.27256 -0.41735 -0.26925 -0.43471 -0.27807 -0.43939 C -0.27948 -0.42231 -0.27996 -0.40606 -0.27696 -0.38925 C -0.27382 -0.40027 -0.27177 -0.40551 -0.26972 -0.41653 C -0.26862 -0.42259 -0.26878 -0.42947 -0.26736 -0.43526 C -0.26563 -0.44214 -0.26216 -0.44545 -0.25901 -0.44986 C -0.25051 -0.44738 -0.24831 -0.4438 -0.24232 -0.43305 C -0.24059 -0.42479 -0.23823 -0.42093 -0.23996 -0.41239 C -0.24327 -0.42396 -0.24358 -0.42589 -0.24232 -0.43939 C -0.2354 -0.43664 -0.23634 -0.4336 -0.23162 -0.42479 C -0.23036 -0.42699 -0.2291 -0.42892 -0.228 -0.43113 C -0.22705 -0.43305 -0.22705 -0.43746 -0.22563 -0.43746 C -0.22437 -0.43746 -0.22469 -0.43333 -0.22437 -0.43113 C -0.2239 -0.42837 -0.2239 -0.42534 -0.22311 -0.42286 C -0.22185 -0.41845 -0.21839 -0.41019 -0.21839 -0.40991 C -0.21477 -0.42286 -0.21225 -0.4336 -0.20642 -0.44352 C -0.20312 -0.43168 -0.20107 -0.419 -0.19934 -0.40606 C -0.19682 -0.4146 -0.19666 -0.41956 -0.1921 -0.42479 C -0.18438 -0.41818 -0.18249 -0.40495 -0.1743 -0.39972 C -0.16753 -0.40385 -0.16092 -0.40909 -0.15509 -0.41653 C -0.15163 -0.42589 -0.15068 -0.43113 -0.15761 -0.43526 C -0.15667 -0.40936 -0.15887 -0.38181 -0.15037 -0.41239 C -0.15006 -0.41653 -0.1499 -0.42066 -0.14927 -0.42479 C -0.14864 -0.4292 -0.14675 -0.43746 -0.14675 -0.43719 C -0.14517 -0.43664 -0.14328 -0.43719 -0.14202 -0.43526 C -0.14108 -0.43388 -0.14155 -0.43085 -0.14092 -0.42892 C -0.13809 -0.42093 -0.13258 -0.41515 -0.1277 -0.41239 C -0.12045 -0.41625 -0.12045 -0.43305 -0.11337 -0.43526 C -0.10471 -0.43801 -0.10864 -0.43664 -0.1014 -0.43939 C -0.09983 -0.44077 -0.09825 -0.44242 -0.09668 -0.44352 C -0.09432 -0.44518 -0.08959 -0.44765 -0.08959 -0.44738 C -0.0888 -0.44986 -0.0877 -0.45179 -0.08707 -0.45399 C -0.08644 -0.45592 -0.08723 -0.46088 -0.08597 -0.46033 C -0.08424 -0.4595 -0.08424 -0.45482 -0.08361 -0.45206 C -0.08172 -0.44462 -0.08156 -0.43664 -0.07999 -0.42892 C -0.07542 -0.43168 -0.07211 -0.43691 -0.06802 -0.44159 C -0.06629 -0.43719 -0.06613 -0.4314 -0.0644 -0.42699 C -0.06298 -0.42341 -0.06031 -0.42176 -0.05857 -0.41845 C -0.0518 -0.42451 -0.05338 -0.42947 -0.04661 -0.43526 C -0.0444 -0.44132 -0.04173 -0.44628 -0.03936 -0.45206 C -0.03322 -0.46666 -0.03763 -0.46253 -0.03102 -0.46666 C -0.02441 -0.45041 -0.0274 -0.45647 -0.02267 -0.44765 C -0.02063 -0.43636 -0.01889 -0.43746 -0.01197 -0.43526 C -0.01244 -0.4325 -0.01228 -0.4292 -0.01323 -0.42699 C -0.01401 -0.42534 -0.01559 -0.42534 -0.01669 -0.42479 C -0.01795 -0.42396 -0.01921 -0.42369 -0.02031 -0.42286 C -0.02236 -0.42148 -0.02425 -0.41983 -0.0263 -0.41845 C -0.02976 -0.41625 -0.037 -0.41239 -0.037 -0.41212 C -0.04125 -0.4044 -0.04645 -0.4033 -0.05259 -0.40192 C -0.08219 -0.39559 -0.07385 -0.39779 -0.11101 -0.39559 C -0.13525 -0.36997 -0.16281 -0.36143 -0.18973 -0.34765 C -0.21886 -0.33278 -0.24736 -0.3146 -0.27696 -0.30165 C -0.29177 -0.2854 -0.30294 -0.27768 -0.31979 -0.27024 C -0.33758 -0.25124 -0.33003 -0.25867 -0.34247 -0.24738 C -0.34294 -0.25013 -0.3442 -0.25289 -0.34373 -0.25564 C -0.34325 -0.2584 -0.34121 -0.2595 -0.3401 -0.26198 C -0.33522 -0.273 -0.3357 -0.27658 -0.32814 -0.28071 C -0.32546 -0.26556 -0.3094 -0.26914 -0.3031 -0.26832 C -0.30452 -0.24297 -0.30184 -0.24049 -0.31507 -0.23278 C -0.31963 -0.22479 -0.3231 -0.22314 -0.3294 -0.22644 C -0.32735 -0.24683 -0.32877 -0.23801 -0.31979 -0.23057 C -0.31743 -0.2179 -0.31302 -0.22259 -0.30672 -0.22451 C -0.30027 -0.23581 -0.29617 -0.24462 -0.29114 -0.25785 C -0.2883 -0.27245 -0.28562 -0.28705 -0.28279 -0.30165 C -0.28043 -0.29091 -0.27901 -0.28154 -0.27807 -0.27024 C -0.27759 -0.26473 -0.27822 -0.25867 -0.27696 -0.25372 C -0.27649 -0.25179 -0.2746 -0.25234 -0.27334 -0.25151 C -0.27271 -0.25482 -0.27035 -0.26694 -0.26972 -0.26832 C -0.26421 -0.28126 -0.25901 -0.28292 -0.25303 -0.29338 C -0.24909 -0.2887 -0.24768 -0.28815 -0.24579 -0.27878 C -0.24358 -0.26776 -0.24673 -0.2617 -0.23996 -0.25785 C -0.23571 -0.26694 -0.2313 -0.27272 -0.22674 -0.28071 C -0.22516 -0.27135 -0.22689 -0.26033 -0.22437 -0.25151 C -0.2239 -0.25013 -0.21382 -0.26997 -0.21367 -0.27024 C -0.2091 -0.27823 -0.20438 -0.28099 -0.19808 -0.28292 C -0.19635 -0.28402 -0.18989 -0.29091 -0.18737 -0.28484 C -0.18517 -0.27933 -0.18375 -0.26611 -0.18375 -0.26584 C -0.17887 -0.28374 -0.18123 -0.28484 -0.17068 -0.27878 C -0.16706 -0.2606 -0.1658 -0.24462 -0.17777 -0.23691 C -0.18092 -0.23829 -0.18454 -0.23801 -0.18737 -0.24104 C -0.18879 -0.2427 -0.18832 -0.24655 -0.18863 -0.24931 C -0.1891 -0.25344 -0.18926 -0.25785 -0.18973 -0.26198 C -0.19005 -0.26556 -0.19052 -0.26887 -0.19099 -0.27245 C -0.19052 -0.27603 -0.19162 -0.28126 -0.18973 -0.28292 C -0.18832 -0.28429 -0.18643 -0.27961 -0.18627 -0.27658 C -0.18564 -0.26914 -0.18658 -0.26115 -0.18737 -0.25372 C -0.18847 -0.24407 -0.19414 -0.24022 -0.19808 -0.23471 C -0.21319 -0.23994 -0.21713 -0.23636 -0.22311 -0.25785 C -0.22406 -0.25151 -0.22674 -0.23774 -0.22311 -0.23278 C -0.22138 -0.2303 -0.22012 -0.23856 -0.21839 -0.24104 C -0.2165 -0.24407 -0.2143 -0.24628 -0.21241 -0.24931 C -0.19304 -0.28071 -0.21131 -0.25179 -0.20044 -0.27245 C -0.19776 -0.27741 -0.1921 -0.28705 -0.1921 -0.28677 C -0.19021 -0.28484 -0.18784 -0.28347 -0.18627 -0.28071 C -0.18533 -0.27906 -0.1858 -0.27603 -0.18501 -0.27438 C -0.18407 -0.27245 -0.18265 -0.27162 -0.18139 -0.27024 C -0.17808 -0.2617 -0.17399 -0.25041 -0.16832 -0.24738 C -0.16596 -0.24793 -0.16312 -0.24683 -0.16108 -0.24931 C -0.15872 -0.25206 -0.1584 -0.2584 -0.15635 -0.26198 C -0.15509 -0.26418 -0.15383 -0.26611 -0.15273 -0.26832 C -0.15021 -0.27355 -0.14565 -0.28484 -0.14565 -0.28457 C -0.13856 -0.27989 -0.13825 -0.2752 -0.13242 -0.27024 C -0.1288 -0.26721 -0.12439 -0.26639 -0.12061 -0.26418 C -0.11541 -0.26473 -0.11022 -0.26446 -0.10502 -0.26611 C -0.0951 -0.26914 -0.10723 -0.27135 -0.09794 -0.27245 C -0.08833 -0.27355 -0.07889 -0.27383 -0.06928 -0.27438 C -0.05794 -0.28457 -0.06314 -0.28181 -0.05369 -0.28484 C -0.05542 -0.26308 -0.05322 -0.25564 -0.06204 -0.24518 C -0.05007 -0.23856 -0.05416 -0.26418 -0.05259 -0.27878 C -0.05054 -0.27658 -0.04818 -0.2752 -0.04661 -0.27245 C -0.04629 -0.2719 -0.0444 -0.26033 -0.04425 -0.25978 C -0.04267 -0.25013 -0.04078 -0.24049 -0.03936 -0.23057 C -0.03118 -0.24049 -0.02425 -0.25316 -0.01433 -0.25785 C -0.0063 -0.26721 -0.01039 -0.28622 -0.00835 -0.24104 C -0.01023 -0.2314 -0.01149 -0.23388 -0.01669 -0.23057 C -0.02771 -0.21184 -0.04913 -0.20716 -0.0633 -0.19724 C -0.08109 -0.18484 -0.09888 -0.17135 -0.11699 -0.15978 C -0.12407 -0.15537 -0.13022 -0.14738 -0.1373 -0.14297 C -0.1858 -0.11267 -0.16706 -0.12837 -0.20406 -0.10964 C -0.26279 -0.07989 -0.23209 -0.0887 -0.26972 -0.08044 C -0.282 -0.07052 -0.29365 -0.06556 -0.30672 -0.06143 C -0.30909 -0.06226 -0.31176 -0.06143 -0.31381 -0.06363 C -0.31601 -0.06611 -0.31649 -0.07438 -0.31743 -0.07823 C -0.3242 -0.10358 -0.32215 -0.09779 -0.3294 -0.11377 C -0.33018 -0.1179 -0.3305 -0.12231 -0.33176 -0.12617 C -0.33255 -0.12865 -0.33459 -0.12975 -0.33538 -0.1325 C -0.3368 -0.13774 -0.33664 -0.1438 -0.33774 -0.14931 C -0.33491 -0.16308 -0.33349 -0.1471 -0.33176 -0.14077 C -0.33223 -0.12699 -0.33648 -0.11157 -0.33302 -0.09917 C -0.33113 -0.09228 -0.32326 -0.10192 -0.31979 -0.09697 C -0.31712 -0.09283 -0.319 -0.08457 -0.31869 -0.07823 C -0.31334 -0.08512 -0.31239 -0.09008 -0.31034 -0.1011 C -0.30924 -0.11377 -0.30861 -0.12644 -0.30672 -0.13884 C -0.30625 -0.1292 -0.30751 -0.11873 -0.30546 -0.10964 C -0.30452 -0.10551 -0.30389 -0.1179 -0.3031 -0.12203 C -0.30074 -0.13443 -0.29775 -0.14903 -0.29365 -0.15978 C -0.29003 -0.15344 -0.29003 -0.1449 -0.28767 -0.13664 C -0.2872 -0.13305 -0.28767 -0.1292 -0.28641 -0.12617 C -0.28531 -0.12369 -0.28263 -0.12451 -0.28169 -0.12203 C -0.28043 -0.11845 -0.2809 -0.11377 -0.28043 -0.10964 C -0.2809 -0.10137 -0.27996 -0.09228 -0.28169 -0.08457 C -0.28232 -0.08181 -0.28389 -0.0898 -0.28405 -0.09283 C -0.28436 -0.09834 -0.28326 -0.10413 -0.28279 -0.10964 C -0.27334 -0.10661 -0.27507 -0.10771 -0.27208 -0.09283 C -0.27082 -0.11405 -0.27067 -0.12672 -0.26012 -0.13884 C -0.25728 -0.1314 -0.25681 -0.12644 -0.25303 -0.12011 C -0.25256 -0.1179 -0.25303 -0.11377 -0.25177 -0.11377 C -0.25051 -0.11377 -0.25114 -0.11818 -0.25067 -0.12011 C -0.24579 -0.14242 -0.24909 -0.13664 -0.24232 -0.14518 C -0.23524 -0.13884 -0.23744 -0.13829 -0.23508 -0.12617 C -0.23477 -0.11928 -0.23445 -0.11239 -0.23398 -0.10551 C -0.23366 -0.10192 -0.23461 -0.09394 -0.23272 -0.09504 C -0.23036 -0.09641 -0.23114 -0.1033 -0.23036 -0.10743 C -0.22815 -0.119 -0.22579 -0.12396 -0.22075 -0.1325 C -0.22028 -0.13443 -0.21792 -0.14931 -0.21477 -0.14931 C -0.21272 -0.14931 -0.21162 -0.14518 -0.21005 -0.14297 C -0.20816 -0.13195 -0.20642 -0.12562 -0.20532 -0.11377 C -0.20453 -0.10606 -0.20296 -0.09063 -0.20296 -0.09035 C -0.20202 -0.10909 -0.2028 -0.11653 -0.19698 -0.1303 C -0.19162 -0.12562 -0.19036 -0.12369 -0.18863 -0.11377 C -0.18375 -0.12203 -0.18076 -0.12534 -0.1743 -0.12837 C -0.16092 -0.12479 -0.16926 -0.12865 -0.16234 -0.1157 C -0.16186 -0.11377 -0.16139 -0.11184 -0.16108 -0.10964 C -0.15746 -0.0876 -0.16108 -0.11432 -0.15509 -0.12424 C -0.14643 -0.12203 -0.14565 -0.12286 -0.14328 -0.10964 C -0.14202 -0.12176 -0.14092 -0.13443 -0.13368 -0.13884 C -0.12801 -0.12672 -0.12565 -0.1168 -0.12171 -0.1033 C -0.11935 -0.0763 -0.12187 -0.09834 -0.11935 -0.1157 C -0.11841 -0.12203 -0.11494 -0.12507 -0.11227 -0.12837 C -0.10801 -0.1179 -0.10392 -0.10716 -0.1014 -0.09504 C -0.10061 -0.09917 -0.10046 -0.10385 -0.09904 -0.10743 C -0.09746 -0.11157 -0.09432 -0.12011 -0.09432 -0.11983 C -0.08802 -0.1179 -0.08503 -0.11322 -0.07873 -0.1157 C -0.06975 -0.12727 -0.07337 -0.1044 -0.07164 -0.09283 C -0.06424 -0.09724 -0.05952 -0.10743 -0.05495 -0.1179 C -0.05353 -0.12754 -0.05039 -0.13113 -0.04897 -0.14077 C -0.04755 -0.13195 -0.04613 -0.12424 -0.04425 -0.1157 C -0.04204 -0.10523 -0.04188 -0.09394 -0.03826 -0.08457 C -0.03212 -0.10055 -0.03968 -0.07933 -0.03464 -0.09917 C -0.03275 -0.10661 -0.0296 -0.11405 -0.0263 -0.12011 C -0.02078 -0.1168 -0.0222 -0.1146 -0.02031 -0.10551 C -0.00882 -0.12038 -0.00803 -0.13994 0.00472 -0.15344 C 0.0052 -0.15564 0.00472 -0.15978 0.00598 -0.15978 C 0.0074 -0.15978 0.00756 -0.15564 0.00835 -0.15344 C 0.00929 -0.15068 0.01008 -0.14793 0.01071 -0.14518 C 0.01338 -0.13443 0.01716 -0.12424 0.02031 -0.11377 E">
                                      <p:cBhvr>
                                        <p:cTn id="71" dur="10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4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矩形 5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矩形 6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7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8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9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10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矩形 11"/>
          <p:cNvSpPr/>
          <p:nvPr/>
        </p:nvSpPr>
        <p:spPr>
          <a:xfrm rot="5400000">
            <a:off x="-102672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2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13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14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15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单圆角矩形 17"/>
          <p:cNvSpPr/>
          <p:nvPr/>
        </p:nvSpPr>
        <p:spPr>
          <a:xfrm>
            <a:off x="770760" y="720360"/>
            <a:ext cx="7149240" cy="360000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梯形 19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20"/>
          <p:cNvSpPr/>
          <p:nvPr/>
        </p:nvSpPr>
        <p:spPr>
          <a:xfrm rot="19108200">
            <a:off x="134640" y="76788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McDonald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1793520" y="2880360"/>
            <a:ext cx="5622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40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创立于美国，在世界上大约拥有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间分店。主要售卖汉堡包，以及薯条、炸鸡、汽水、冰品、沙拉、水果等快餐食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1823400" y="1347840"/>
            <a:ext cx="5325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was established in 1940,American. around the world with 30000 branches.it main product is hamburgers, French fries, fried chicken, and soda, ice cream, salad, fruit and other fast foo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5"/>
          <p:cNvGrpSpPr/>
          <p:nvPr/>
        </p:nvGrpSpPr>
        <p:grpSpPr>
          <a:xfrm>
            <a:off x="5832360" y="864360"/>
            <a:ext cx="1583640" cy="455400"/>
            <a:chOff x="5832360" y="864360"/>
            <a:chExt cx="1583640" cy="455400"/>
          </a:xfrm>
        </p:grpSpPr>
        <p:sp>
          <p:nvSpPr>
            <p:cNvPr id="141" name="圆角矩形 24"/>
            <p:cNvSpPr/>
            <p:nvPr/>
          </p:nvSpPr>
          <p:spPr>
            <a:xfrm>
              <a:off x="5832360" y="942480"/>
              <a:ext cx="1583640" cy="353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TextBox 23"/>
            <p:cNvSpPr/>
            <p:nvPr/>
          </p:nvSpPr>
          <p:spPr>
            <a:xfrm>
              <a:off x="5832360" y="86436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方正舒体"/>
                </a:rPr>
                <a:t>I'm lovin 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4" descr="c:\users\ADMINI~1\appdata\roaming\360se6\USERDA~1\Temp\131339~1.JPG"/>
          <p:cNvPicPr/>
          <p:nvPr/>
        </p:nvPicPr>
        <p:blipFill>
          <a:blip r:embed="rId1"/>
          <a:stretch/>
        </p:blipFill>
        <p:spPr>
          <a:xfrm>
            <a:off x="7416720" y="1926360"/>
            <a:ext cx="2370600" cy="127584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44" name="Picture 6" descr="c:\users\ADMINI~1\appdata\roaming\360se6\USERDA~1\Temp\3ABB33~1.JPG"/>
          <p:cNvPicPr/>
          <p:nvPr/>
        </p:nvPicPr>
        <p:blipFill>
          <a:blip r:embed="rId2"/>
          <a:stretch/>
        </p:blipFill>
        <p:spPr>
          <a:xfrm rot="19272600">
            <a:off x="6480720" y="3677400"/>
            <a:ext cx="2370600" cy="128592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cxnSp>
        <p:nvCxnSpPr>
          <p:cNvPr id="145" name="直接连接符 27"/>
          <p:cNvCxnSpPr/>
          <p:nvPr/>
        </p:nvCxnSpPr>
        <p:spPr>
          <a:xfrm flipH="1">
            <a:off x="0" y="5112720"/>
            <a:ext cx="6624720" cy="360"/>
          </a:xfrm>
          <a:prstGeom prst="straightConnector1">
            <a:avLst/>
          </a:prstGeom>
          <a:ln w="38100">
            <a:solidFill>
              <a:srgbClr val="000000"/>
            </a:solidFill>
            <a:prstDash val="sysDot"/>
            <a:round/>
          </a:ln>
        </p:spPr>
      </p:cxnSp>
      <p:sp>
        <p:nvSpPr>
          <p:cNvPr id="146" name="矩形 28"/>
          <p:cNvSpPr/>
          <p:nvPr/>
        </p:nvSpPr>
        <p:spPr>
          <a:xfrm>
            <a:off x="238680" y="5195520"/>
            <a:ext cx="619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其他餐饮品牌</a:t>
            </a:r>
            <a:r>
              <a:rPr b="1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:</a:t>
            </a: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例如午后浓香咖啡、墨西哥大玉米饼快餐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3"/>
          <p:cNvSpPr/>
          <p:nvPr/>
        </p:nvSpPr>
        <p:spPr>
          <a:xfrm>
            <a:off x="143640" y="4922640"/>
            <a:ext cx="79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Aroma Café</a:t>
            </a: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Boston Market</a:t>
            </a: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Chipotle</a:t>
            </a: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Donatos,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6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8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300"/>
                            </p:stCondLst>
                            <p:childTnLst>
                              <p:par>
                                <p:cTn id="1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8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3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8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3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8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6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7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8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10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 rot="5400000">
            <a:off x="-102672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12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矩形 13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矩形 14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16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梯形 19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20"/>
          <p:cNvSpPr/>
          <p:nvPr/>
        </p:nvSpPr>
        <p:spPr>
          <a:xfrm rot="19108200">
            <a:off x="-969120" y="737280"/>
            <a:ext cx="57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发展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24"/>
          <p:cNvSpPr/>
          <p:nvPr/>
        </p:nvSpPr>
        <p:spPr>
          <a:xfrm rot="5400000">
            <a:off x="1492200" y="424404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圆角矩形 29"/>
          <p:cNvSpPr/>
          <p:nvPr/>
        </p:nvSpPr>
        <p:spPr>
          <a:xfrm rot="5400000">
            <a:off x="4906440" y="157140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圆角矩形 30"/>
          <p:cNvSpPr/>
          <p:nvPr/>
        </p:nvSpPr>
        <p:spPr>
          <a:xfrm rot="5400000">
            <a:off x="6480720" y="431640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圆角矩形 31"/>
          <p:cNvSpPr/>
          <p:nvPr/>
        </p:nvSpPr>
        <p:spPr>
          <a:xfrm rot="16200000">
            <a:off x="7638840" y="157176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椭圆 1"/>
          <p:cNvSpPr/>
          <p:nvPr/>
        </p:nvSpPr>
        <p:spPr>
          <a:xfrm>
            <a:off x="2191680" y="309672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9" name="直接连接符 18"/>
          <p:cNvCxnSpPr>
            <a:stCxn id="168" idx="6"/>
            <a:endCxn id="170" idx="2"/>
          </p:cNvCxnSpPr>
          <p:nvPr/>
        </p:nvCxnSpPr>
        <p:spPr>
          <a:xfrm>
            <a:off x="2409480" y="3205440"/>
            <a:ext cx="157428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171" name="矩形 26"/>
          <p:cNvSpPr/>
          <p:nvPr/>
        </p:nvSpPr>
        <p:spPr>
          <a:xfrm>
            <a:off x="1393200" y="3253680"/>
            <a:ext cx="2031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02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6"/>
          <p:cNvSpPr/>
          <p:nvPr/>
        </p:nvSpPr>
        <p:spPr>
          <a:xfrm>
            <a:off x="403560" y="4021200"/>
            <a:ext cx="1697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Ray Cro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48"/>
          <p:cNvSpPr/>
          <p:nvPr/>
        </p:nvSpPr>
        <p:spPr>
          <a:xfrm>
            <a:off x="2073240" y="390132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c:\users\ADMINI~1\appdata\roaming\360se6\USERDA~1\Temp\621169.jpg"/>
          <p:cNvPicPr/>
          <p:nvPr/>
        </p:nvPicPr>
        <p:blipFill>
          <a:blip r:embed="rId1"/>
          <a:stretch/>
        </p:blipFill>
        <p:spPr>
          <a:xfrm>
            <a:off x="2229120" y="1530000"/>
            <a:ext cx="1602000" cy="1346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70" name="椭圆 39"/>
          <p:cNvSpPr/>
          <p:nvPr/>
        </p:nvSpPr>
        <p:spPr>
          <a:xfrm>
            <a:off x="3983760" y="309672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5" name="直接连接符 41"/>
          <p:cNvCxnSpPr/>
          <p:nvPr/>
        </p:nvCxnSpPr>
        <p:spPr>
          <a:xfrm>
            <a:off x="4201200" y="3182400"/>
            <a:ext cx="157464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176" name="矩形 42"/>
          <p:cNvSpPr/>
          <p:nvPr/>
        </p:nvSpPr>
        <p:spPr>
          <a:xfrm>
            <a:off x="4438080" y="2724480"/>
            <a:ext cx="979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40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44"/>
          <p:cNvSpPr/>
          <p:nvPr/>
        </p:nvSpPr>
        <p:spPr>
          <a:xfrm>
            <a:off x="5698440" y="309780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45"/>
          <p:cNvSpPr/>
          <p:nvPr/>
        </p:nvSpPr>
        <p:spPr>
          <a:xfrm>
            <a:off x="4088880" y="463680"/>
            <a:ext cx="321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ck and Mac McDon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6"/>
          <p:cNvSpPr/>
          <p:nvPr/>
        </p:nvSpPr>
        <p:spPr>
          <a:xfrm>
            <a:off x="5529600" y="123696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c:\users\ADMINI~1\appdata\roaming\360se6\USERDA~1\Temp\730.jpg"/>
          <p:cNvPicPr/>
          <p:nvPr/>
        </p:nvPicPr>
        <p:blipFill>
          <a:blip r:embed="rId2"/>
          <a:stretch/>
        </p:blipFill>
        <p:spPr>
          <a:xfrm>
            <a:off x="3804480" y="3629160"/>
            <a:ext cx="2462400" cy="1728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cxnSp>
        <p:nvCxnSpPr>
          <p:cNvPr id="181" name="直接连接符 49"/>
          <p:cNvCxnSpPr/>
          <p:nvPr/>
        </p:nvCxnSpPr>
        <p:spPr>
          <a:xfrm>
            <a:off x="5875200" y="3206520"/>
            <a:ext cx="157428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182" name="矩形 50"/>
          <p:cNvSpPr/>
          <p:nvPr/>
        </p:nvSpPr>
        <p:spPr>
          <a:xfrm>
            <a:off x="6357240" y="3277080"/>
            <a:ext cx="979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48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51"/>
          <p:cNvSpPr/>
          <p:nvPr/>
        </p:nvSpPr>
        <p:spPr>
          <a:xfrm>
            <a:off x="7385400" y="312444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TextBox 52"/>
          <p:cNvSpPr/>
          <p:nvPr/>
        </p:nvSpPr>
        <p:spPr>
          <a:xfrm>
            <a:off x="7104240" y="399672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3"/>
          <p:cNvSpPr/>
          <p:nvPr/>
        </p:nvSpPr>
        <p:spPr>
          <a:xfrm>
            <a:off x="7815240" y="4190760"/>
            <a:ext cx="12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快速度服务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接连接符 54"/>
          <p:cNvCxnSpPr>
            <a:endCxn id="187" idx="2"/>
          </p:cNvCxnSpPr>
          <p:nvPr/>
        </p:nvCxnSpPr>
        <p:spPr>
          <a:xfrm>
            <a:off x="7601760" y="3233160"/>
            <a:ext cx="143172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187" name="椭圆 56"/>
          <p:cNvSpPr/>
          <p:nvPr/>
        </p:nvSpPr>
        <p:spPr>
          <a:xfrm>
            <a:off x="9033120" y="312444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58"/>
          <p:cNvSpPr/>
          <p:nvPr/>
        </p:nvSpPr>
        <p:spPr>
          <a:xfrm>
            <a:off x="7579800" y="2733120"/>
            <a:ext cx="979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62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0"/>
          <p:cNvSpPr/>
          <p:nvPr/>
        </p:nvSpPr>
        <p:spPr>
          <a:xfrm>
            <a:off x="8328960" y="119124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1"/>
          <p:cNvSpPr/>
          <p:nvPr/>
        </p:nvSpPr>
        <p:spPr>
          <a:xfrm>
            <a:off x="8043120" y="371880"/>
            <a:ext cx="1296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亿个汉堡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:\users\ADMINI~1\appdata\roaming\360se6\USERDA~1\Temp\156929~1.JPG"/>
          <p:cNvPicPr/>
          <p:nvPr/>
        </p:nvPicPr>
        <p:blipFill>
          <a:blip r:embed="rId3"/>
          <a:stretch/>
        </p:blipFill>
        <p:spPr>
          <a:xfrm>
            <a:off x="9265320" y="2695680"/>
            <a:ext cx="1630440" cy="111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4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6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"/>
                            </p:stCondLst>
                            <p:childTnLst>
                              <p:par>
                                <p:cTn id="2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3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8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3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3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4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900"/>
                            </p:stCondLst>
                            <p:childTnLst>
                              <p:par>
                                <p:cTn id="3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4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9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4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4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9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4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9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3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4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9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400"/>
                            </p:stCondLst>
                            <p:childTnLst>
                              <p:par>
                                <p:cTn id="3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9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44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9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4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9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64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900"/>
                            </p:stCondLst>
                            <p:childTnLst>
                              <p:par>
                                <p:cTn id="4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74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6" descr="c:\users\ADMINI~1\appdata\roaming\360se6\USERDA~1\Temp\156929~1.JPG"/>
          <p:cNvPicPr/>
          <p:nvPr/>
        </p:nvPicPr>
        <p:blipFill>
          <a:blip r:embed="rId1"/>
          <a:stretch/>
        </p:blipFill>
        <p:spPr>
          <a:xfrm>
            <a:off x="-815400" y="2592360"/>
            <a:ext cx="1630440" cy="1115640"/>
          </a:xfrm>
          <a:prstGeom prst="rect">
            <a:avLst/>
          </a:prstGeom>
          <a:ln w="0">
            <a:noFill/>
          </a:ln>
        </p:spPr>
      </p:pic>
      <p:cxnSp>
        <p:nvCxnSpPr>
          <p:cNvPr id="207" name="直接连接符 18"/>
          <p:cNvCxnSpPr/>
          <p:nvPr/>
        </p:nvCxnSpPr>
        <p:spPr>
          <a:xfrm>
            <a:off x="800280" y="3168360"/>
            <a:ext cx="143208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08" name="椭圆 19"/>
          <p:cNvSpPr/>
          <p:nvPr/>
        </p:nvSpPr>
        <p:spPr>
          <a:xfrm>
            <a:off x="2191680" y="309672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矩形 20"/>
          <p:cNvSpPr/>
          <p:nvPr/>
        </p:nvSpPr>
        <p:spPr>
          <a:xfrm>
            <a:off x="1392120" y="3253680"/>
            <a:ext cx="104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67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21"/>
          <p:cNvSpPr/>
          <p:nvPr/>
        </p:nvSpPr>
        <p:spPr>
          <a:xfrm rot="5400000">
            <a:off x="1492200" y="424404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2073240" y="390132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3"/>
          <p:cNvSpPr/>
          <p:nvPr/>
        </p:nvSpPr>
        <p:spPr>
          <a:xfrm>
            <a:off x="412560" y="4021200"/>
            <a:ext cx="943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一家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（加拿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ADMINI~1\appdata\roaming\360se6\USERDA~1\Temp\200881~1.JPG"/>
          <p:cNvPicPr/>
          <p:nvPr/>
        </p:nvPicPr>
        <p:blipFill>
          <a:blip r:embed="rId2"/>
          <a:stretch/>
        </p:blipFill>
        <p:spPr>
          <a:xfrm>
            <a:off x="1189080" y="1026720"/>
            <a:ext cx="2244240" cy="1849680"/>
          </a:xfrm>
          <a:prstGeom prst="rect">
            <a:avLst/>
          </a:prstGeom>
          <a:ln w="0">
            <a:noFill/>
          </a:ln>
        </p:spPr>
      </p:pic>
      <p:cxnSp>
        <p:nvCxnSpPr>
          <p:cNvPr id="214" name="直接连接符 25"/>
          <p:cNvCxnSpPr/>
          <p:nvPr/>
        </p:nvCxnSpPr>
        <p:spPr>
          <a:xfrm>
            <a:off x="2409480" y="3205440"/>
            <a:ext cx="143172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15" name="椭圆 26"/>
          <p:cNvSpPr/>
          <p:nvPr/>
        </p:nvSpPr>
        <p:spPr>
          <a:xfrm>
            <a:off x="3732120" y="309672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矩形 27"/>
          <p:cNvSpPr/>
          <p:nvPr/>
        </p:nvSpPr>
        <p:spPr>
          <a:xfrm>
            <a:off x="3653640" y="2676600"/>
            <a:ext cx="104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68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28"/>
          <p:cNvSpPr/>
          <p:nvPr/>
        </p:nvSpPr>
        <p:spPr>
          <a:xfrm rot="5400000">
            <a:off x="3477240" y="170748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4092120" y="142308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0"/>
          <p:cNvSpPr/>
          <p:nvPr/>
        </p:nvSpPr>
        <p:spPr>
          <a:xfrm>
            <a:off x="4857840" y="1073520"/>
            <a:ext cx="943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巨无霸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国际业务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连接符 31"/>
          <p:cNvCxnSpPr/>
          <p:nvPr/>
        </p:nvCxnSpPr>
        <p:spPr>
          <a:xfrm>
            <a:off x="3949560" y="3205440"/>
            <a:ext cx="143208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21" name="椭圆 32"/>
          <p:cNvSpPr/>
          <p:nvPr/>
        </p:nvSpPr>
        <p:spPr>
          <a:xfrm>
            <a:off x="5316480" y="309672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矩形 33"/>
          <p:cNvSpPr/>
          <p:nvPr/>
        </p:nvSpPr>
        <p:spPr>
          <a:xfrm>
            <a:off x="4518000" y="3240720"/>
            <a:ext cx="104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72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34"/>
          <p:cNvSpPr/>
          <p:nvPr/>
        </p:nvSpPr>
        <p:spPr>
          <a:xfrm rot="5400000">
            <a:off x="4317120" y="425556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4896360" y="390132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6"/>
          <p:cNvSpPr/>
          <p:nvPr/>
        </p:nvSpPr>
        <p:spPr>
          <a:xfrm>
            <a:off x="3237840" y="4002480"/>
            <a:ext cx="991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亿美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37"/>
          <p:cNvCxnSpPr/>
          <p:nvPr/>
        </p:nvCxnSpPr>
        <p:spPr>
          <a:xfrm>
            <a:off x="5533560" y="3216240"/>
            <a:ext cx="143172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27" name="椭圆 38"/>
          <p:cNvSpPr/>
          <p:nvPr/>
        </p:nvSpPr>
        <p:spPr>
          <a:xfrm>
            <a:off x="6931800" y="311364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矩形 39"/>
          <p:cNvSpPr/>
          <p:nvPr/>
        </p:nvSpPr>
        <p:spPr>
          <a:xfrm>
            <a:off x="6435720" y="2664360"/>
            <a:ext cx="104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4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40"/>
          <p:cNvSpPr/>
          <p:nvPr/>
        </p:nvSpPr>
        <p:spPr>
          <a:xfrm rot="5400000">
            <a:off x="6248880" y="170748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TextBox 41"/>
          <p:cNvSpPr/>
          <p:nvPr/>
        </p:nvSpPr>
        <p:spPr>
          <a:xfrm>
            <a:off x="6863400" y="141984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2"/>
          <p:cNvSpPr/>
          <p:nvPr/>
        </p:nvSpPr>
        <p:spPr>
          <a:xfrm>
            <a:off x="7585560" y="1220040"/>
            <a:ext cx="1442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500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亿个汉堡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c:\users\ADMINI~1\appdata\roaming\360se6\USERDA~1\Temp\668573~1.JPG"/>
          <p:cNvPicPr/>
          <p:nvPr/>
        </p:nvPicPr>
        <p:blipFill>
          <a:blip r:embed="rId3"/>
          <a:stretch/>
        </p:blipFill>
        <p:spPr>
          <a:xfrm>
            <a:off x="6160680" y="3629160"/>
            <a:ext cx="2113560" cy="1320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cxnSp>
        <p:nvCxnSpPr>
          <p:cNvPr id="233" name="直接连接符 44"/>
          <p:cNvCxnSpPr/>
          <p:nvPr/>
        </p:nvCxnSpPr>
        <p:spPr>
          <a:xfrm>
            <a:off x="7176240" y="3227760"/>
            <a:ext cx="143208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34" name="矩形 45"/>
          <p:cNvSpPr/>
          <p:nvPr/>
        </p:nvSpPr>
        <p:spPr>
          <a:xfrm>
            <a:off x="6109920" y="4950360"/>
            <a:ext cx="2386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Ray. Crock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死于</a:t>
            </a: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84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46"/>
          <p:cNvSpPr/>
          <p:nvPr/>
        </p:nvSpPr>
        <p:spPr>
          <a:xfrm>
            <a:off x="8499600" y="311364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47"/>
          <p:cNvSpPr/>
          <p:nvPr/>
        </p:nvSpPr>
        <p:spPr>
          <a:xfrm>
            <a:off x="8085960" y="3253680"/>
            <a:ext cx="104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90 </a:t>
            </a: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48"/>
          <p:cNvSpPr/>
          <p:nvPr/>
        </p:nvSpPr>
        <p:spPr>
          <a:xfrm rot="5400000">
            <a:off x="7925760" y="4268880"/>
            <a:ext cx="1583640" cy="35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TextBox 49"/>
          <p:cNvSpPr/>
          <p:nvPr/>
        </p:nvSpPr>
        <p:spPr>
          <a:xfrm>
            <a:off x="8540640" y="3894840"/>
            <a:ext cx="87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0"/>
          <p:cNvSpPr/>
          <p:nvPr/>
        </p:nvSpPr>
        <p:spPr>
          <a:xfrm>
            <a:off x="9239760" y="400320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深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51"/>
          <p:cNvCxnSpPr/>
          <p:nvPr/>
        </p:nvCxnSpPr>
        <p:spPr>
          <a:xfrm>
            <a:off x="8607600" y="3227760"/>
            <a:ext cx="1431720" cy="360"/>
          </a:xfrm>
          <a:prstGeom prst="straightConnector1">
            <a:avLst/>
          </a:prstGeom>
          <a:ln w="34925">
            <a:solidFill>
              <a:srgbClr val="ffffff"/>
            </a:solidFill>
            <a:round/>
          </a:ln>
        </p:spPr>
      </p:cxnSp>
      <p:sp>
        <p:nvSpPr>
          <p:cNvPr id="241" name="椭圆 53"/>
          <p:cNvSpPr/>
          <p:nvPr/>
        </p:nvSpPr>
        <p:spPr>
          <a:xfrm>
            <a:off x="9893160" y="3117600"/>
            <a:ext cx="217440" cy="217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矩形 54"/>
          <p:cNvSpPr/>
          <p:nvPr/>
        </p:nvSpPr>
        <p:spPr>
          <a:xfrm>
            <a:off x="9488520" y="262440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等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98360" y="53744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1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600"/>
                            </p:stCondLst>
                            <p:childTnLst>
                              <p:par>
                                <p:cTn id="4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1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6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1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6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1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600"/>
                            </p:stCondLst>
                            <p:childTnLst>
                              <p:par>
                                <p:cTn id="4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1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6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1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6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77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200"/>
                            </p:stCondLst>
                            <p:childTnLst>
                              <p:par>
                                <p:cTn id="4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7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2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7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200"/>
                            </p:stCondLst>
                            <p:childTnLst>
                              <p:par>
                                <p:cTn id="5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7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1200"/>
                            </p:stCondLst>
                            <p:childTnLst>
                              <p:par>
                                <p:cTn id="5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7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32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37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2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480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3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8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3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2545560" y="2592360"/>
            <a:ext cx="5374800" cy="57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3502440" y="2634840"/>
            <a:ext cx="4777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物流配送分析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:\users\ADMINI~1\appdata\roaming\360se6\USERDA~1\Temp\200811~1.JPG"/>
          <p:cNvPicPr/>
          <p:nvPr/>
        </p:nvPicPr>
        <p:blipFill>
          <a:blip r:embed="rId1"/>
          <a:stretch/>
        </p:blipFill>
        <p:spPr>
          <a:xfrm>
            <a:off x="1289520" y="2160360"/>
            <a:ext cx="1539000" cy="116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c:\users\ADMINI~1\appdata\roaming\360se6\USERDA~1\Temp\485553~2.JPG"/>
          <p:cNvPicPr/>
          <p:nvPr/>
        </p:nvPicPr>
        <p:blipFill>
          <a:blip r:embed="rId2"/>
          <a:stretch/>
        </p:blipFill>
        <p:spPr>
          <a:xfrm>
            <a:off x="6793920" y="1224360"/>
            <a:ext cx="2900160" cy="471420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矩形 14"/>
          <p:cNvSpPr/>
          <p:nvPr/>
        </p:nvSpPr>
        <p:spPr>
          <a:xfrm rot="5400000">
            <a:off x="177012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流程图: 顺序访问存储器 2"/>
          <p:cNvSpPr/>
          <p:nvPr/>
        </p:nvSpPr>
        <p:spPr>
          <a:xfrm>
            <a:off x="6840360" y="1800360"/>
            <a:ext cx="3240000" cy="3240000"/>
          </a:xfrm>
          <a:prstGeom prst="flowChartMagneticTape">
            <a:avLst/>
          </a:prstGeom>
          <a:solidFill>
            <a:srgbClr val="ffff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7659000" y="1843200"/>
            <a:ext cx="16023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2060"/>
                </a:solidFill>
                <a:latin typeface="华文琥珀"/>
                <a:ea typeface="华文琥珀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21"/>
          <p:cNvGrpSpPr/>
          <p:nvPr/>
        </p:nvGrpSpPr>
        <p:grpSpPr>
          <a:xfrm>
            <a:off x="-72360" y="240480"/>
            <a:ext cx="9636840" cy="5119920"/>
            <a:chOff x="-72360" y="240480"/>
            <a:chExt cx="9636840" cy="5119920"/>
          </a:xfrm>
        </p:grpSpPr>
        <p:sp>
          <p:nvSpPr>
            <p:cNvPr id="279" name="任意多边形 19"/>
            <p:cNvSpPr/>
            <p:nvPr/>
          </p:nvSpPr>
          <p:spPr>
            <a:xfrm>
              <a:off x="950400" y="240480"/>
              <a:ext cx="8614080" cy="3825720"/>
            </a:xfrm>
            <a:custGeom>
              <a:avLst/>
              <a:gdLst>
                <a:gd name="textAreaLeft" fmla="*/ 0 w 8614080"/>
                <a:gd name="textAreaRight" fmla="*/ 8614440 w 861408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w="8614610" h="3826042">
                  <a:moveTo>
                    <a:pt x="0" y="0"/>
                  </a:moveTo>
                  <a:lnTo>
                    <a:pt x="8614610" y="0"/>
                  </a:lnTo>
                  <a:lnTo>
                    <a:pt x="8614610" y="1215189"/>
                  </a:lnTo>
                  <a:lnTo>
                    <a:pt x="7844589" y="1528010"/>
                  </a:lnTo>
                  <a:lnTo>
                    <a:pt x="7134726" y="1515979"/>
                  </a:lnTo>
                  <a:lnTo>
                    <a:pt x="6460958" y="1780673"/>
                  </a:lnTo>
                  <a:lnTo>
                    <a:pt x="6112042" y="2286000"/>
                  </a:lnTo>
                  <a:lnTo>
                    <a:pt x="5823284" y="2719136"/>
                  </a:lnTo>
                  <a:lnTo>
                    <a:pt x="5823284" y="3344779"/>
                  </a:lnTo>
                  <a:lnTo>
                    <a:pt x="5823284" y="3525252"/>
                  </a:lnTo>
                  <a:lnTo>
                    <a:pt x="5823284" y="3826042"/>
                  </a:lnTo>
                  <a:lnTo>
                    <a:pt x="0" y="38260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80" name="Picture 2" descr="c:\users\ADMINI~1\appdata\roaming\360se6\USERDA~1\Temp\101008~1.JPG"/>
            <p:cNvPicPr/>
            <p:nvPr/>
          </p:nvPicPr>
          <p:blipFill>
            <a:blip r:embed="rId1"/>
            <a:stretch/>
          </p:blipFill>
          <p:spPr>
            <a:xfrm>
              <a:off x="-72360" y="3600720"/>
              <a:ext cx="2900880" cy="175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Box 18"/>
          <p:cNvSpPr/>
          <p:nvPr/>
        </p:nvSpPr>
        <p:spPr>
          <a:xfrm>
            <a:off x="1082160" y="288360"/>
            <a:ext cx="849420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自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餐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连锁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不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增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麦当劳的物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服务也不断地出现许多新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比如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要如何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准时、定量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为顾客服务，这是我们的一大难题，同时在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食品供应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方面也很困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直接连接符 30"/>
          <p:cNvCxnSpPr/>
          <p:nvPr/>
        </p:nvCxnSpPr>
        <p:spPr>
          <a:xfrm flipH="1">
            <a:off x="2494800" y="4680360"/>
            <a:ext cx="4849920" cy="360"/>
          </a:xfrm>
          <a:prstGeom prst="straightConnector1">
            <a:avLst/>
          </a:prstGeom>
          <a:ln w="38100">
            <a:solidFill>
              <a:srgbClr val="000000"/>
            </a:solidFill>
            <a:prstDash val="sysDot"/>
            <a:round/>
          </a:ln>
        </p:spPr>
      </p:cxnSp>
      <p:grpSp>
        <p:nvGrpSpPr>
          <p:cNvPr id="283" name="组合 31"/>
          <p:cNvGrpSpPr/>
          <p:nvPr/>
        </p:nvGrpSpPr>
        <p:grpSpPr>
          <a:xfrm>
            <a:off x="287640" y="1081440"/>
            <a:ext cx="920880" cy="2446560"/>
            <a:chOff x="287640" y="1081440"/>
            <a:chExt cx="920880" cy="2446560"/>
          </a:xfrm>
        </p:grpSpPr>
        <p:sp>
          <p:nvSpPr>
            <p:cNvPr id="284" name="TextBox 23"/>
            <p:cNvSpPr/>
            <p:nvPr/>
          </p:nvSpPr>
          <p:spPr>
            <a:xfrm>
              <a:off x="287640" y="1081440"/>
              <a:ext cx="861480" cy="244656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5" name="矩形 29"/>
            <p:cNvSpPr/>
            <p:nvPr/>
          </p:nvSpPr>
          <p:spPr>
            <a:xfrm>
              <a:off x="347040" y="1107360"/>
              <a:ext cx="86148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现状分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矩形 42"/>
          <p:cNvSpPr/>
          <p:nvPr/>
        </p:nvSpPr>
        <p:spPr>
          <a:xfrm>
            <a:off x="2696400" y="4496040"/>
            <a:ext cx="496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通过业务外包让夏晖公司负责物流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1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1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1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1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1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1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81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91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矩形 6"/>
          <p:cNvSpPr/>
          <p:nvPr/>
        </p:nvSpPr>
        <p:spPr>
          <a:xfrm rot="5400000">
            <a:off x="107208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矩形 7"/>
          <p:cNvSpPr/>
          <p:nvPr/>
        </p:nvSpPr>
        <p:spPr>
          <a:xfrm rot="5400000">
            <a:off x="2524680" y="24840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矩形 12"/>
          <p:cNvSpPr/>
          <p:nvPr/>
        </p:nvSpPr>
        <p:spPr>
          <a:xfrm rot="5400000">
            <a:off x="-103788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13"/>
          <p:cNvSpPr/>
          <p:nvPr/>
        </p:nvSpPr>
        <p:spPr>
          <a:xfrm rot="5400000">
            <a:off x="334080" y="2522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15"/>
          <p:cNvSpPr/>
          <p:nvPr/>
        </p:nvSpPr>
        <p:spPr>
          <a:xfrm rot="5400000">
            <a:off x="3142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梯形 52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TextBox 55"/>
          <p:cNvSpPr/>
          <p:nvPr/>
        </p:nvSpPr>
        <p:spPr>
          <a:xfrm rot="19108200">
            <a:off x="350640" y="62388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单圆角矩形 56"/>
          <p:cNvSpPr/>
          <p:nvPr/>
        </p:nvSpPr>
        <p:spPr>
          <a:xfrm>
            <a:off x="1519920" y="2536200"/>
            <a:ext cx="6328440" cy="68076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七边形 1"/>
          <p:cNvSpPr/>
          <p:nvPr/>
        </p:nvSpPr>
        <p:spPr>
          <a:xfrm>
            <a:off x="1055880" y="2274840"/>
            <a:ext cx="1439640" cy="1079640"/>
          </a:xfrm>
          <a:prstGeom prst="heptagon">
            <a:avLst>
              <a:gd name="hf" fmla="val 102572"/>
              <a:gd name="vf" fmla="val 10521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57"/>
          <p:cNvSpPr/>
          <p:nvPr/>
        </p:nvSpPr>
        <p:spPr>
          <a:xfrm>
            <a:off x="2666520" y="2646000"/>
            <a:ext cx="518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晖公司充当了什么样的角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0"/>
          <p:cNvSpPr/>
          <p:nvPr/>
        </p:nvSpPr>
        <p:spPr>
          <a:xfrm>
            <a:off x="1872000" y="3540960"/>
            <a:ext cx="60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10243e"/>
              </a:buClr>
              <a:buFont typeface="Wingdings" charset="2"/>
              <a:buChar char=""/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供应商</a:t>
            </a:r>
            <a:r>
              <a:rPr b="1" lang="en-US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10243e"/>
              </a:buClr>
              <a:buFont typeface="Wingdings" charset="2"/>
              <a:buChar char=""/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第三方物流公司</a:t>
            </a:r>
            <a:r>
              <a:rPr b="1" lang="en-US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Third Party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996E-006 2.47934E-007 L 0.58809 0.01129 E">
                                      <p:cBhvr>
                                        <p:cTn id="65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2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800"/>
                            </p:stCondLst>
                            <p:childTnLst>
                              <p:par>
                                <p:cTn id="6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4"/>
          <p:cNvSpPr/>
          <p:nvPr/>
        </p:nvSpPr>
        <p:spPr>
          <a:xfrm rot="5400000">
            <a:off x="-1753560" y="2494800"/>
            <a:ext cx="576036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矩形 5"/>
          <p:cNvSpPr/>
          <p:nvPr/>
        </p:nvSpPr>
        <p:spPr>
          <a:xfrm rot="5400000">
            <a:off x="-334440" y="249480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矩形 6"/>
          <p:cNvSpPr/>
          <p:nvPr/>
        </p:nvSpPr>
        <p:spPr>
          <a:xfrm rot="5400000">
            <a:off x="110556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矩形 7"/>
          <p:cNvSpPr/>
          <p:nvPr/>
        </p:nvSpPr>
        <p:spPr>
          <a:xfrm rot="5400000">
            <a:off x="2541240" y="249444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矩形 8"/>
          <p:cNvSpPr/>
          <p:nvPr/>
        </p:nvSpPr>
        <p:spPr>
          <a:xfrm rot="5400000">
            <a:off x="39135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矩形 9"/>
          <p:cNvSpPr/>
          <p:nvPr/>
        </p:nvSpPr>
        <p:spPr>
          <a:xfrm rot="5400000">
            <a:off x="542592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矩形 10"/>
          <p:cNvSpPr/>
          <p:nvPr/>
        </p:nvSpPr>
        <p:spPr>
          <a:xfrm rot="5400000">
            <a:off x="6833160" y="2495160"/>
            <a:ext cx="5760720" cy="770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矩形 11"/>
          <p:cNvSpPr/>
          <p:nvPr/>
        </p:nvSpPr>
        <p:spPr>
          <a:xfrm rot="5400000">
            <a:off x="-2494800" y="24951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矩形 12"/>
          <p:cNvSpPr/>
          <p:nvPr/>
        </p:nvSpPr>
        <p:spPr>
          <a:xfrm rot="5400000">
            <a:off x="-103356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矩形 13"/>
          <p:cNvSpPr/>
          <p:nvPr/>
        </p:nvSpPr>
        <p:spPr>
          <a:xfrm rot="5400000">
            <a:off x="334080" y="251208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矩形 14"/>
          <p:cNvSpPr/>
          <p:nvPr/>
        </p:nvSpPr>
        <p:spPr>
          <a:xfrm rot="5400000">
            <a:off x="177444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矩形 15"/>
          <p:cNvSpPr/>
          <p:nvPr/>
        </p:nvSpPr>
        <p:spPr>
          <a:xfrm rot="5400000">
            <a:off x="314244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矩形 16"/>
          <p:cNvSpPr/>
          <p:nvPr/>
        </p:nvSpPr>
        <p:spPr>
          <a:xfrm rot="5400000">
            <a:off x="4654800" y="249336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矩形 17"/>
          <p:cNvSpPr/>
          <p:nvPr/>
        </p:nvSpPr>
        <p:spPr>
          <a:xfrm rot="5400000">
            <a:off x="6113520" y="2491200"/>
            <a:ext cx="5760360" cy="7707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单圆角矩形 22"/>
          <p:cNvSpPr/>
          <p:nvPr/>
        </p:nvSpPr>
        <p:spPr>
          <a:xfrm>
            <a:off x="1126440" y="720360"/>
            <a:ext cx="7179480" cy="3848760"/>
          </a:xfrm>
          <a:prstGeom prst="snipRoundRect">
            <a:avLst>
              <a:gd name="adj1" fmla="val 16667"/>
              <a:gd name="adj2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梯形 52"/>
          <p:cNvSpPr/>
          <p:nvPr/>
        </p:nvSpPr>
        <p:spPr>
          <a:xfrm rot="19131600">
            <a:off x="-929520" y="1100880"/>
            <a:ext cx="4968720" cy="493920"/>
          </a:xfrm>
          <a:prstGeom prst="trapezoid">
            <a:avLst>
              <a:gd name="adj" fmla="val 25000"/>
            </a:avLst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TextBox 33"/>
          <p:cNvSpPr/>
          <p:nvPr/>
        </p:nvSpPr>
        <p:spPr>
          <a:xfrm rot="19108200">
            <a:off x="350640" y="623880"/>
            <a:ext cx="331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2077560" y="1130760"/>
            <a:ext cx="60588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，在麦当劳的物流当中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是第一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保高品质的原料供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食品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冷链物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业务外包给夏晖公司进行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→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食品质量 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次，对物流服务的有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严格的要求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的食品运输，和其他特殊的物流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信息处理、存货控制、贴标签、生产和质量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高→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 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操作→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常运作 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直接连接符 35"/>
          <p:cNvCxnSpPr>
            <a:endCxn id="326" idx="1"/>
          </p:cNvCxnSpPr>
          <p:nvPr/>
        </p:nvCxnSpPr>
        <p:spPr>
          <a:xfrm flipH="1" flipV="1">
            <a:off x="1198080" y="4974840"/>
            <a:ext cx="7059600" cy="6120"/>
          </a:xfrm>
          <a:prstGeom prst="straightConnector1">
            <a:avLst/>
          </a:prstGeom>
          <a:ln w="38100">
            <a:solidFill>
              <a:srgbClr val="000000"/>
            </a:solidFill>
            <a:prstDash val="sysDot"/>
            <a:round/>
          </a:ln>
        </p:spPr>
      </p:cxnSp>
      <p:sp>
        <p:nvSpPr>
          <p:cNvPr id="326" name="矩形 34"/>
          <p:cNvSpPr/>
          <p:nvPr/>
        </p:nvSpPr>
        <p:spPr>
          <a:xfrm>
            <a:off x="1198440" y="4620960"/>
            <a:ext cx="7297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10243e"/>
                </a:solidFill>
                <a:latin typeface="微软雅黑"/>
                <a:ea typeface="微软雅黑"/>
              </a:rPr>
              <a:t>冷链物流指的是在生产、仓储、运输和销售的情况下保持最佳的低温的温度。（农产品、禽肉类、水产品、药品、冰淇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5"/>
          <p:cNvGrpSpPr/>
          <p:nvPr/>
        </p:nvGrpSpPr>
        <p:grpSpPr>
          <a:xfrm>
            <a:off x="7920720" y="1561320"/>
            <a:ext cx="1746360" cy="394560"/>
            <a:chOff x="7920720" y="1561320"/>
            <a:chExt cx="1746360" cy="394560"/>
          </a:xfrm>
        </p:grpSpPr>
        <p:sp>
          <p:nvSpPr>
            <p:cNvPr id="328" name="圆角矩形 30"/>
            <p:cNvSpPr/>
            <p:nvPr/>
          </p:nvSpPr>
          <p:spPr>
            <a:xfrm>
              <a:off x="7920720" y="1584360"/>
              <a:ext cx="1583640" cy="353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TextBox 36"/>
            <p:cNvSpPr/>
            <p:nvPr/>
          </p:nvSpPr>
          <p:spPr>
            <a:xfrm>
              <a:off x="8303760" y="1561320"/>
              <a:ext cx="1363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8"/>
          <p:cNvGrpSpPr/>
          <p:nvPr/>
        </p:nvGrpSpPr>
        <p:grpSpPr>
          <a:xfrm>
            <a:off x="7899840" y="3626640"/>
            <a:ext cx="1583640" cy="399600"/>
            <a:chOff x="7899840" y="3626640"/>
            <a:chExt cx="1583640" cy="399600"/>
          </a:xfrm>
        </p:grpSpPr>
        <p:sp>
          <p:nvSpPr>
            <p:cNvPr id="331" name="圆角矩形 32"/>
            <p:cNvSpPr/>
            <p:nvPr/>
          </p:nvSpPr>
          <p:spPr>
            <a:xfrm>
              <a:off x="7899840" y="3672720"/>
              <a:ext cx="1583640" cy="353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TextBox 37"/>
            <p:cNvSpPr/>
            <p:nvPr/>
          </p:nvSpPr>
          <p:spPr>
            <a:xfrm>
              <a:off x="8256240" y="3626640"/>
              <a:ext cx="969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空心弧 21"/>
          <p:cNvSpPr/>
          <p:nvPr/>
        </p:nvSpPr>
        <p:spPr>
          <a:xfrm>
            <a:off x="459720" y="4752720"/>
            <a:ext cx="619920" cy="707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206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上下箭头 24"/>
          <p:cNvSpPr/>
          <p:nvPr/>
        </p:nvSpPr>
        <p:spPr>
          <a:xfrm>
            <a:off x="8424720" y="2232360"/>
            <a:ext cx="534240" cy="115164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  <Words>806</Words>
  <Paragraphs>1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6:38:04Z</dcterms:created>
  <dc:creator>Administrator</dc:creator>
  <dc:description/>
  <dc:language>en-US</dc:language>
  <cp:lastModifiedBy>a</cp:lastModifiedBy>
  <dcterms:modified xsi:type="dcterms:W3CDTF">2015-07-25T01:00:17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17</vt:r8>
  </property>
</Properties>
</file>