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312-8558-48FB-AFBA-AC0BF7C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AE3-D9A2-4F26-9147-79E3973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CFCE9-EA85-4231-B3FC-C3DA1FE4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0C7D-E586-4101-AE5F-611E5CB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1498-D609-4EFD-A9A3-E8959B7B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E404E-589F-45EE-94C8-2435EC3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EAF84-27D3-4FF6-8BF5-73D5A06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A6CB-A0F8-4DE6-A106-F3A0A21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A2EE-600F-4F3C-88D1-4AE6161F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9ABC5-0259-416F-A893-E7F41E3B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5189B-E5F8-4AC3-854D-128F2A06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78E14-4647-4D29-9A1B-1BEBD749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17C-25B5-49B3-8286-B15224BC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889B1-6575-42AC-817B-FD3F592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DEB85-750F-4388-A370-55239F7B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0CD94-36AE-4584-9B23-6C6FD7F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ABE0-9E91-45FA-9C8B-2FF1F4E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819A2-BC2D-483F-ABDA-E1E589C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73DB4-45B7-443F-A9BA-A1A3B29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B8ADC-BE0E-4EBE-9127-45440622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C53A-D2B6-4924-8118-B1C2E1B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4A279-6B3F-43DB-A67B-E525E46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041AE-B4AB-4A8D-AB2E-5A50C501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AFC-C8A7-4C8A-AE1E-7448C954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B16D9-0BB0-4E4B-8956-2420BF86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2DE85-1852-4844-B007-416E171D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CBD50-50D3-4E85-8AB3-6FE98A5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955A-D816-42C6-B248-16DBDF00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5AD6-EC87-4A16-B1A1-F27020BA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C9DB-3FF0-4D8C-B219-8F39AE34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3C7C-3CD4-47C8-8F68-B5D98F7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8D110-14A6-4A8B-90A7-88F2675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738C-07A3-4436-96DA-DFBFBBE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3EBD0-B169-4088-B024-9F5ED44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06C6-D4FC-436C-82D6-1256484C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B49A-1300-4720-B565-64C6BCA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F91E1-FB57-4827-ADB4-AA9BDB91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0AB0-EDBA-404F-BC30-61B8DEF8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EA262-7827-487E-AE74-C11E9AE1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6AE68-327E-448B-89EC-726E8D9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55F20-D11D-4AC5-B1EE-36631CD7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EAC07-BB07-4EBC-9CA1-E62C2356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79883-81A6-463A-AA85-5B273D44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B394D-2601-43CE-A227-5E6953F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06CA4-22B3-4FEB-954A-93BB647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15E-2C01-4840-BDF2-2B9B4EE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3A30E-B419-4826-AEC7-E7A603F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A3B41-5219-4B16-8638-E4848C3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1B3B8-EA79-492A-A5FD-402F312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DADE1-2BF9-4F8A-BEF5-85F816BD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1D41B-C6C5-4A81-A2C1-A7AAF4E7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13E04-634D-493F-A65D-A632CEF3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D948-3CFE-477E-9AD9-D3795E0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CC3C9-7F50-4FC9-8DED-2E467E2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89009-7969-4E51-A5AE-D1C84BA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828CC-13E9-41E7-AC8B-20F4B8B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F0A-1F19-4EE1-AF25-E1036AE9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4FF00-835F-4CAA-A2C7-38C46C8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FB3D2-2224-4CD7-9393-0F73A17A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0391E-3A26-4ED1-B196-6CE2DDB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59347-3955-4F83-8158-68517E6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A466A-3CD7-4FDF-A479-6256122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512DC-F977-49AE-922C-C8ACF6F3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CF8EC-6519-4E49-8985-64709168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4B03-8F50-4CB2-836E-434C2E9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595-39F3-4425-8779-14F65FF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3B0C-3444-4E47-8B40-AE331F0E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64A-048D-4D12-B027-E2D58A1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55F-AE2A-4036-AEEB-FAC9FAD8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4F5-2E4A-4BA7-83D4-F400FA3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CB2-8C6C-4981-983D-96F351D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2BAA-B17A-4FDD-8BDB-AD2EA325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C771-5F0F-4BE3-99C1-F2F2703E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D50-6E42-4786-B9ED-42193BEC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0973-F529-4029-928B-8560B31A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B15E-36A9-4A35-BF2B-02DE711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1E27-DED3-4A69-9B43-AFD5697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FEBB-0752-437F-AE7A-5968C244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FB36-F295-4B2D-A72B-1085538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9E4-9FAF-41F2-ACEF-2CF074D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E3D1-4BDB-43B0-9095-26AF6E37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36F9-B234-4357-8AD0-C1604AC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C2A4-F6AF-4094-9DC3-167AEAB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4EF6-A248-4F80-8F69-6FB7460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5B9A-7835-45B4-B89A-5CE98998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9D2C-5997-4667-846D-D24AA116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3439-2443-4E9C-B7B5-08127EDD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EFB6-C721-49BE-8FAF-E2AAAC7A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99F4-46AE-4A5B-8DB4-DE33C56D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1B90-14F2-437F-84D1-ED50C778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FA6-4409-4499-8D05-6B7F047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F3B1-FBA0-4017-AA1B-ED85E562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FED9-57C7-440C-95C3-A08DD4F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D697-D791-4C40-A23A-256DF55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6763-4C16-4E69-B5DF-C201A78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AB0F-44FF-4401-A2BE-A924EC3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B40D-744D-4A5F-B659-608C36F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0F84-3050-478E-B070-6F62D77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058D-2326-41EB-B2EA-3C9E5A3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83DE-2760-4C83-B143-D964956F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9E8C-297F-44FF-9D5E-23B346D8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C04-5307-4E4E-8BAA-A180966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7BF2-894B-491E-B573-FE07B09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2DEE-40A8-4DF6-A2DE-CE67489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3DBCC-1AD8-4AFE-9FC6-63CDF52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169D-E6C5-497F-B15D-6AFAADA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0B49F-6BF5-482D-8341-072ED588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1F11-7CA0-4CCD-B35F-52D9DD7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FA4E-B138-4C43-A747-720F7D28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A3D0-4045-47CC-A44A-089C478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80DF-9293-4199-8930-56AAB24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B721-9BC5-4F30-9A3E-4EB07D8F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045-6E85-47F0-A74D-6367058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206A-5701-44DC-A5AD-ADCFB003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08C4-D3BE-4289-AD48-66198C50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C64B-5EED-45F7-88F1-2363CB9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E38D-2CA6-4C0B-BF34-839E04B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5CA1-1A14-4C42-8736-6BD92B7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1CB5-EF0E-4D5E-ADC9-4CD8CD7E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D93A3-F093-4739-8C11-916AB67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5031-75AB-4DA0-ADEA-22A2F6F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53CFA-C510-4047-A466-9198D0E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2A36-3E8F-45D0-A785-1269DBA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147-6BE8-4263-A7CB-71D20AF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41A3-A6C4-42A6-A25C-1A944C6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5C10-D7E0-4608-8415-FB361D0B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B0F2-3B6A-460F-A9DB-A884D003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1B2A-93E8-4931-87D1-D27B6993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FED2-FBB4-4255-BE77-5E268EF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886E5-6AF9-4982-AF36-D24F7AC7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EB6E-5DC6-4144-B3BC-CB2A9967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D4C0-C65D-4286-89E5-8B4CF7C3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2886B-4D47-4EC2-BD5F-127B261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2C5D-AE97-49B0-951D-F3ED389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3B1-632D-459E-9A8D-67612C4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C813-3E1B-4EE0-AF45-27C0719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545F-962D-4228-8907-F905FA1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02357-CFB8-4AD7-885A-2C58832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FB40-BAE4-41D4-BAEA-030B8213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D06B-F540-4539-8C96-5D7C6A3A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A7F3-8AA9-4267-B571-61AFCBFF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28F42-DD34-4B03-9E7D-20F3F0D5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52A89-0F45-4F21-A171-47ECEEC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E001-E674-481E-8EB4-B7B6F88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65ED1-E1AF-4F35-99A6-505C491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13A-CF08-41C5-B92C-1B1F182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8033-15A1-4D99-9576-B0862F61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5CA4-A0C2-45D4-82ED-52E4D978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33D6-19EF-4DFD-8E2D-14FB3F6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F234-29D4-4632-B111-32B04954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397F-7046-4DE8-A0E5-7BC2813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7956-55A1-43C6-AEBA-CA3E506A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FA195-A311-4670-8154-B5430E86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9D561-0E8B-452C-B52D-BEE1D2AB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4FCFA-C1DA-4E1D-8F66-B2C78E7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4CEB-3DCB-4B07-8B72-60D25E37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18D-14BD-474C-BFEE-CEC5E20784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989F-E849-46EE-82A7-F000CB43EA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9D4-9D79-4EB6-BE7C-4492628817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48C-E44F-4F42-901E-2D5114527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53B-D7B2-4D71-998D-B7D05EAA94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5549-ECF7-49F2-9907-7575A50965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0C3-815F-46A7-B94B-DFBAD50680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32B3-BBC5-49FB-AE0C-632012AF11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3572-EDA7-4838-BC6F-2B97FEBD7E1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6701-2C55-49C2-8198-722FB5B98A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95E5-D05A-454C-A79A-3EB030BD60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5EE-02BA-45CF-BFE7-AB7E7C08F6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57A8-D6CA-47C4-AB08-A7655BE116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876C-5076-41C7-9BBE-32AA03AF03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D1F-0B30-4105-B4B0-37005444086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51BA-93AD-4CDE-8194-84E2FF99CF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1B36-24B6-4D06-9DE7-E51B341325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EDA-F67D-4346-AAF5-94B31467F7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857A-6965-47F4-A54E-39230073AB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2C3F-119B-41CF-B4D0-0F518D74FD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C0B-0FF5-49E8-AC08-E7F76D4C9C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7A1-7732-41A1-8C8C-1AF80E7631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E16-E9D3-41AE-930B-485B99B826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604-0257-4FE0-8686-5363881D65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A88-ACF0-4022-B06F-868987371A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23EB-ED8C-4265-9142-18A6A8B57B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0" y="1633680"/>
            <a:ext cx="9144000" cy="21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90440" y="193680"/>
            <a:ext cx="1981440" cy="1368360"/>
          </a:xfrm>
          <a:prstGeom prst="rect">
            <a:avLst/>
          </a:prstGeom>
          <a:ln w="0">
            <a:noFill/>
          </a:ln>
        </p:spPr>
      </p:pic>
      <p:sp>
        <p:nvSpPr>
          <p:cNvPr id="536" name="直接连接符 11"/>
          <p:cNvSpPr/>
          <p:nvPr/>
        </p:nvSpPr>
        <p:spPr>
          <a:xfrm>
            <a:off x="0" y="163368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13"/>
          <p:cNvSpPr/>
          <p:nvPr/>
        </p:nvSpPr>
        <p:spPr>
          <a:xfrm>
            <a:off x="0" y="375912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 rot="718200">
            <a:off x="4951440" y="1267920"/>
            <a:ext cx="3462480" cy="34624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3794040"/>
            <a:ext cx="8174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美亚航空控股有限公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副标题 2"/>
          <p:cNvSpPr/>
          <p:nvPr/>
        </p:nvSpPr>
        <p:spPr>
          <a:xfrm>
            <a:off x="2556000" y="120168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Meiya Aviation Holdings Co.,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2"/>
          <p:cNvSpPr/>
          <p:nvPr/>
        </p:nvSpPr>
        <p:spPr>
          <a:xfrm>
            <a:off x="396720" y="5259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8"/>
          <p:cNvSpPr/>
          <p:nvPr/>
        </p:nvSpPr>
        <p:spPr>
          <a:xfrm>
            <a:off x="-12600" y="878040"/>
            <a:ext cx="9142200" cy="144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 rot="718200">
            <a:off x="7307280" y="4035240"/>
            <a:ext cx="1681200" cy="1680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7"/>
          <p:cNvGrpSpPr/>
          <p:nvPr/>
        </p:nvGrpSpPr>
        <p:grpSpPr>
          <a:xfrm>
            <a:off x="3060720" y="1994040"/>
            <a:ext cx="503280" cy="647640"/>
            <a:chOff x="3060720" y="1994040"/>
            <a:chExt cx="503280" cy="647640"/>
          </a:xfrm>
        </p:grpSpPr>
        <p:sp>
          <p:nvSpPr>
            <p:cNvPr id="548" name="圆角矩形 3"/>
            <p:cNvSpPr/>
            <p:nvPr/>
          </p:nvSpPr>
          <p:spPr>
            <a:xfrm>
              <a:off x="3060720" y="1994040"/>
              <a:ext cx="503280" cy="647640"/>
            </a:xfrm>
            <a:custGeom>
              <a:avLst/>
              <a:gdLst>
                <a:gd name="textAreaLeft" fmla="*/ 24480 w 503280"/>
                <a:gd name="textAreaRight" fmla="*/ 478800 w 503280"/>
                <a:gd name="textAreaTop" fmla="*/ 24480 h 647640"/>
                <a:gd name="textAreaBottom" fmla="*/ 623160 h 647640"/>
              </a:gdLst>
              <a:ahLst/>
              <a:rect l="textAreaLeft" t="textAreaTop" r="textAreaRight" b="textAreaBottom"/>
              <a:pathLst>
                <a:path w="21600" h="27791">
                  <a:moveTo>
                    <a:pt x="3600" y="0"/>
                  </a:moveTo>
                  <a:arcTo wR="3600" hR="3600" stAng="16200000" swAng="-5400000"/>
                  <a:lnTo>
                    <a:pt x="0" y="24191"/>
                  </a:lnTo>
                  <a:arcTo wR="3600" hR="3600" stAng="10800000" swAng="-5400000"/>
                  <a:lnTo>
                    <a:pt x="18000" y="27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圆角矩形 4"/>
            <p:cNvSpPr/>
            <p:nvPr/>
          </p:nvSpPr>
          <p:spPr>
            <a:xfrm>
              <a:off x="3060720" y="2065680"/>
              <a:ext cx="503280" cy="503640"/>
            </a:xfrm>
            <a:custGeom>
              <a:avLst/>
              <a:gdLst>
                <a:gd name="textAreaLeft" fmla="*/ 24480 w 503280"/>
                <a:gd name="textAreaRight" fmla="*/ 478800 w 503280"/>
                <a:gd name="textAreaTop" fmla="*/ 24480 h 503640"/>
                <a:gd name="textAreaBottom" fmla="*/ 479160 h 503640"/>
              </a:gdLst>
              <a:ahLst/>
              <a:rect l="textAreaLeft" t="textAreaTop" r="textAreaRight" b="textAreaBottom"/>
              <a:pathLst>
                <a:path w="21600" h="21615">
                  <a:moveTo>
                    <a:pt x="3600" y="0"/>
                  </a:moveTo>
                  <a:arcTo wR="3600" hR="3600" stAng="16200000" swAng="-5400000"/>
                  <a:lnTo>
                    <a:pt x="0" y="18015"/>
                  </a:lnTo>
                  <a:arcTo wR="3600" hR="3600" stAng="10800000" swAng="-5400000"/>
                  <a:lnTo>
                    <a:pt x="18000" y="21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c0c0c">
                <a:alpha val="78000"/>
              </a:srgbClr>
            </a:solidFill>
            <a:ln w="648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圆角矩形 7"/>
          <p:cNvSpPr/>
          <p:nvPr/>
        </p:nvSpPr>
        <p:spPr>
          <a:xfrm>
            <a:off x="3060720" y="2928960"/>
            <a:ext cx="503280" cy="6494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9440"/>
              <a:gd name="textAreaBottom" fmla="*/ 624960 h 649440"/>
            </a:gdLst>
            <a:ahLst/>
            <a:rect l="textAreaLeft" t="textAreaTop" r="textAreaRight" b="textAreaBottom"/>
            <a:pathLst>
              <a:path w="21600" h="27868">
                <a:moveTo>
                  <a:pt x="3600" y="0"/>
                </a:moveTo>
                <a:arcTo wR="3600" hR="3600" stAng="16200000" swAng="-5400000"/>
                <a:lnTo>
                  <a:pt x="0" y="24268"/>
                </a:lnTo>
                <a:arcTo wR="3600" hR="3600" stAng="10800000" swAng="-5400000"/>
                <a:lnTo>
                  <a:pt x="18000" y="27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圆角矩形 8"/>
          <p:cNvSpPr/>
          <p:nvPr/>
        </p:nvSpPr>
        <p:spPr>
          <a:xfrm>
            <a:off x="3060720" y="300204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0c0c0c">
              <a:alpha val="78000"/>
            </a:srgbClr>
          </a:solidFill>
          <a:ln w="648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圆角矩形 10"/>
          <p:cNvSpPr/>
          <p:nvPr/>
        </p:nvSpPr>
        <p:spPr>
          <a:xfrm>
            <a:off x="3060720" y="3865680"/>
            <a:ext cx="503280" cy="649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853">
                <a:moveTo>
                  <a:pt x="3600" y="0"/>
                </a:moveTo>
                <a:arcTo wR="3600" hR="3600" stAng="16200000" swAng="-5400000"/>
                <a:lnTo>
                  <a:pt x="0" y="24253"/>
                </a:lnTo>
                <a:arcTo wR="3600" hR="3600" stAng="10800000" swAng="-5400000"/>
                <a:lnTo>
                  <a:pt x="18000" y="27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圆角矩形 11"/>
          <p:cNvSpPr/>
          <p:nvPr/>
        </p:nvSpPr>
        <p:spPr>
          <a:xfrm>
            <a:off x="3060720" y="39369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c0c0c">
              <a:alpha val="78000"/>
            </a:srgbClr>
          </a:solidFill>
          <a:ln w="6480">
            <a:solidFill>
              <a:srgbClr val="c52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3851280" y="2133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3851280" y="306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4"/>
          <p:cNvSpPr/>
          <p:nvPr/>
        </p:nvSpPr>
        <p:spPr>
          <a:xfrm>
            <a:off x="3851280" y="400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8"/>
          <p:cNvSpPr/>
          <p:nvPr/>
        </p:nvSpPr>
        <p:spPr>
          <a:xfrm>
            <a:off x="-12600" y="878040"/>
            <a:ext cx="9142200" cy="144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 rot="718200">
            <a:off x="7307280" y="4035240"/>
            <a:ext cx="1681200" cy="1680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3048120" y="2862360"/>
            <a:ext cx="504720" cy="647640"/>
            <a:chOff x="3048120" y="2862360"/>
            <a:chExt cx="504720" cy="647640"/>
          </a:xfrm>
        </p:grpSpPr>
        <p:sp>
          <p:nvSpPr>
            <p:cNvPr id="563" name="圆角矩形 4"/>
            <p:cNvSpPr/>
            <p:nvPr/>
          </p:nvSpPr>
          <p:spPr>
            <a:xfrm>
              <a:off x="3048120" y="2862360"/>
              <a:ext cx="504720" cy="647640"/>
            </a:xfrm>
            <a:custGeom>
              <a:avLst/>
              <a:gdLst>
                <a:gd name="textAreaLeft" fmla="*/ 24480 w 504720"/>
                <a:gd name="textAreaRight" fmla="*/ 480240 w 504720"/>
                <a:gd name="textAreaTop" fmla="*/ 24480 h 647640"/>
                <a:gd name="textAreaBottom" fmla="*/ 623160 h 647640"/>
              </a:gdLst>
              <a:ahLst/>
              <a:rect l="textAreaLeft" t="textAreaTop" r="textAreaRight" b="textAreaBottom"/>
              <a:pathLst>
                <a:path w="21600" h="27712">
                  <a:moveTo>
                    <a:pt x="3600" y="0"/>
                  </a:moveTo>
                  <a:arcTo wR="3600" hR="3600" stAng="16200000" swAng="-5400000"/>
                  <a:lnTo>
                    <a:pt x="0" y="24112"/>
                  </a:lnTo>
                  <a:arcTo wR="3600" hR="3600" stAng="10800000" swAng="-5400000"/>
                  <a:lnTo>
                    <a:pt x="18000" y="277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5"/>
            <p:cNvSpPr/>
            <p:nvPr/>
          </p:nvSpPr>
          <p:spPr>
            <a:xfrm>
              <a:off x="3048120" y="2934000"/>
              <a:ext cx="504720" cy="503640"/>
            </a:xfrm>
            <a:prstGeom prst="roundRect">
              <a:avLst>
                <a:gd name="adj" fmla="val 16667"/>
              </a:avLst>
            </a:prstGeom>
            <a:solidFill>
              <a:srgbClr val="0c0c0c">
                <a:alpha val="78000"/>
              </a:srgbClr>
            </a:solidFill>
            <a:ln w="6480">
              <a:solidFill>
                <a:srgbClr val="c527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6"/>
          <p:cNvSpPr/>
          <p:nvPr/>
        </p:nvSpPr>
        <p:spPr>
          <a:xfrm>
            <a:off x="3840120" y="30020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"/>
          <p:cNvSpPr/>
          <p:nvPr/>
        </p:nvSpPr>
        <p:spPr>
          <a:xfrm>
            <a:off x="0" y="1633680"/>
            <a:ext cx="9144000" cy="21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90440" y="193680"/>
            <a:ext cx="1981440" cy="136836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11"/>
          <p:cNvSpPr/>
          <p:nvPr/>
        </p:nvSpPr>
        <p:spPr>
          <a:xfrm>
            <a:off x="0" y="163368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3"/>
          <p:cNvSpPr/>
          <p:nvPr/>
        </p:nvSpPr>
        <p:spPr>
          <a:xfrm>
            <a:off x="0" y="3759120"/>
            <a:ext cx="9144000" cy="0"/>
          </a:xfrm>
          <a:prstGeom prst="line">
            <a:avLst/>
          </a:prstGeom>
          <a:ln w="57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 rot="718200">
            <a:off x="4951440" y="1267920"/>
            <a:ext cx="3462480" cy="34624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37940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副标题 2"/>
          <p:cNvSpPr/>
          <p:nvPr/>
        </p:nvSpPr>
        <p:spPr>
          <a:xfrm>
            <a:off x="2556000" y="120168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Meiya Aviation Holdings Co.,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7:00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5T01:30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