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A9B3-04D5-4526-B246-B94506D7A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7FC1-013B-4BFC-811A-44CB5DCA3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184C-EF0E-4933-BCE6-2F1658295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221D-3376-473B-AD9F-F2B346F83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4E8A-478E-478E-8AC4-2392732D3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4FE1-D4C3-4B0E-9A8D-3494CC1AB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997D-84C7-4A4A-99E5-866C10A85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A948-DFBE-4CFE-85C0-97A944E25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3477-8A37-43B6-9A02-710F61070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EF4D-A324-48B4-A720-C68C3CBE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1FA9-158A-4516-B280-BC7271B0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03FD-D11C-4CF3-A068-C109ADEC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4C092-9BA5-4D5D-8287-C916A57C1CEC}" type="slidenum">
              <a:rPr b="0" lang="fr-CA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95959"/>
                </a:solidFill>
                <a:latin typeface="Calibri"/>
                <a:ea typeface="宋体"/>
              </a:rPr>
              <a:t>柠檬创意设计</a:t>
            </a:r>
            <a:r>
              <a:rPr b="0" lang="en-US" sz="4000" spc="-1" strike="noStrike">
                <a:solidFill>
                  <a:srgbClr val="595959"/>
                </a:solidFill>
                <a:latin typeface="Calibri"/>
                <a:ea typeface="宋体"/>
              </a:rPr>
              <a:t>PPT</a:t>
            </a:r>
            <a:r>
              <a:rPr b="0" lang="zh-CN" sz="4000" spc="-1" strike="noStrike">
                <a:solidFill>
                  <a:srgbClr val="595959"/>
                </a:solidFill>
                <a:latin typeface="Calibri"/>
                <a:ea typeface="宋体"/>
              </a:rPr>
              <a:t>免费在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0714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595959"/>
                </a:solidFill>
                <a:latin typeface="Calibri"/>
              </a:rPr>
              <a:t>Company N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595959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832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95959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95959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595959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28600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95959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95959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595959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832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95959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95959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8:34:26Z</dcterms:created>
  <dc:creator>幻灯片 http://www.eeppt.com</dc:creator>
  <dc:description/>
  <cp:keywords>幻灯片 http:/www.eeppt.com</cp:keywords>
  <dc:language>en-US</dc:language>
  <cp:lastModifiedBy/>
  <dcterms:modified xsi:type="dcterms:W3CDTF">2015-07-24T05:33:59Z</dcterms:modified>
  <cp:revision>0</cp:revision>
  <dc:subject/>
  <dc:title/>
</cp:coreProperties>
</file>