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5FE-3F8E-4C00-8538-550D611D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D8F-6923-49A6-AB7C-280D137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AC1-D72C-4EF9-85A2-BD2BEF86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6F8-BEB9-4073-A986-8755A5CD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824-3A03-4BA7-9064-6C3A999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7CE-75E3-49BE-87A3-A72086F8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EC1-DC98-40A9-BAE7-1398EB9A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E6B-BDE3-4717-B9BD-CACFE453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859-4C1C-4455-8388-CDED8171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7FE-2C1C-4CFC-B95D-0B0EA5C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1E5-118B-4B28-AC08-17F28FA9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AF-339D-44EF-8B57-0F1C3FE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87480-3B0E-4C65-A8B1-3B45E2F30B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/>
          <p:nvPr/>
        </p:nvSpPr>
        <p:spPr>
          <a:xfrm>
            <a:off x="2431800" y="548640"/>
            <a:ext cx="4547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风卡通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288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6764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28</Words>
  <Paragraphs>3</Paragraphs>
  <Company>p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8:32:45Z</dcterms:created>
  <dc:creator>www.pptbz.com</dc:creator>
  <dc:description/>
  <cp:keywords>ppt宝藏</cp:keywords>
  <dc:language>en-US</dc:language>
  <cp:lastModifiedBy>a</cp:lastModifiedBy>
  <dcterms:modified xsi:type="dcterms:W3CDTF">2015-07-24T07:10:39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3</vt:r8>
  </property>
</Properties>
</file>