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6.png" ContentType="image/png"/>
  <Override PartName="/ppt/media/hdphoto1.wdp" ContentType="image/vnd.ms-photo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BC764-49C6-4376-A20D-4495170C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9BD1DD-EF19-4227-B58A-41C81E225B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87D-8696-42CC-970D-5E5586DB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6EE-BDAB-453A-B9D7-32A8ED96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AFD-FB23-43BE-B5F0-502E9651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5A2-04A7-43BE-8C28-8E5CBBC1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F748-91F2-4ACF-AA9D-1E75BE08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DB0-DC02-4C65-9758-5A533EF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E80D-B99C-4F21-8C7F-571DDEF9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E06E-C6DE-49FF-8EA3-3B1144A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F69-FA5A-410B-8B20-9DCFE32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6D72-8393-40BD-88F8-F480F5F5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5060-DE78-4F84-993E-4CA1A0D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76-DE1B-418F-8C49-E1DC13A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177-E416-4ACA-9443-5592625F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6CF5-FEAF-4D86-B746-8AB94AAD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8A7-FA89-4A2C-8B92-3EBC6C5E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E57-97DB-418E-AEC2-D253F24E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000F-27EE-4FC0-BD8B-0388EB31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5F1-7BEB-46F1-9766-01D1383B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011-82C9-49E8-9A25-CB81C51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7A4-97B1-4077-863A-A7757BD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5A9-115D-45B8-889C-6A3B44FA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DC4-DA8F-4E24-9EEE-F8FC19E4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F6E-5AB7-40BF-B333-5DA008F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1F7-6EB6-4516-981E-B9AB0EE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71051-00DD-46C2-8EC8-3E0C5803BA5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38E39-C4FC-459F-9AF8-AD0A3D4D88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图片 5" descr=""/>
          <p:cNvPicPr/>
          <p:nvPr/>
        </p:nvPicPr>
        <p:blipFill>
          <a:blip r:embed="rId2"/>
          <a:srcRect l="0" t="0" r="173" b="0"/>
          <a:stretch/>
        </p:blipFill>
        <p:spPr>
          <a:xfrm>
            <a:off x="2445840" y="6138720"/>
            <a:ext cx="9745920" cy="732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"/>
          <p:cNvPicPr/>
          <p:nvPr/>
        </p:nvPicPr>
        <p:blipFill>
          <a:blip r:embed="rId3"/>
          <a:srcRect l="0" t="0" r="75456" b="0"/>
          <a:stretch/>
        </p:blipFill>
        <p:spPr>
          <a:xfrm>
            <a:off x="0" y="6120720"/>
            <a:ext cx="2454120" cy="75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专注健康科技 拷贝"/>
          <p:cNvPicPr/>
          <p:nvPr/>
        </p:nvPicPr>
        <p:blipFill>
          <a:blip r:embed="rId2"/>
          <a:srcRect l="0" t="13081" r="497" b="12278"/>
          <a:stretch/>
        </p:blipFill>
        <p:spPr>
          <a:xfrm>
            <a:off x="0" y="-14040"/>
            <a:ext cx="12196440" cy="6998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microsoft.com/office/2007/relationships/hdphoto" Target="../media/hdphoto1.wdp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hyperlink" Target="http://www.51pptmoban.com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31" name="标题 1"/>
          <p:cNvSpPr/>
          <p:nvPr/>
        </p:nvSpPr>
        <p:spPr>
          <a:xfrm>
            <a:off x="2699280" y="1123920"/>
            <a:ext cx="9007560" cy="13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在新媒体上的机会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6998040" y="2449800"/>
            <a:ext cx="234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杨孝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.10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http://bs.baidu.com/lego-mat-offline/a7c32bb4-bfda-4f8a-9b61-839afd7df6d6_214_214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40000" contrast="40000"/>
                    </a14:imgEffect>
                  </a14:imgLayer>
                </a14:imgProps>
              </a:ext>
            </a:extLst>
          </a:blip>
          <a:srcRect l="0" t="25255" r="0" b="28725"/>
          <a:stretch/>
        </p:blipFill>
        <p:spPr>
          <a:xfrm>
            <a:off x="298800" y="5864400"/>
            <a:ext cx="1746360" cy="8035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1935360" y="1231560"/>
            <a:ext cx="79243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新媒体（广义、狭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新媒体的本质特征（高效集合受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品牌与媒体的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传统品牌与互联网品牌对新媒体的认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新媒体对品牌的价值（显性价值和隐性价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更应该探讨品牌在“新媒体”时代的机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363960" y="313560"/>
            <a:ext cx="32418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en-US" sz="4400" spc="-1" strike="noStrike">
                <a:solidFill>
                  <a:srgbClr val="0070c0"/>
                </a:solidFill>
                <a:latin typeface="Calibri Light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801720" y="59724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200000"/>
              </a:lnSpc>
              <a:spcBef>
                <a:spcPts val="1199"/>
              </a:spcBef>
              <a:buClr>
                <a:srgbClr val="0070c0"/>
              </a:buClr>
              <a:buFont typeface="Calibri Light"/>
              <a:buAutoNum type="romanUcPeriod"/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什么是新媒体（广义、狭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2203560" y="2086200"/>
            <a:ext cx="8349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义上的新媒体指的新形式的媒体，具有相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2365560" y="3124440"/>
            <a:ext cx="8107200" cy="29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报   纸： 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66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威尼斯发行不定期《威尼斯小报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电   视： 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941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日晚间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点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9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分『美国以宝路华的时间运行！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互联网： 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994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月，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AT&amp;T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HotWired.com</a:t>
            </a: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发布了一条</a:t>
            </a:r>
            <a:r>
              <a:rPr b="0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b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2203560" y="4658760"/>
            <a:ext cx="9536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狭义上的新媒体指的是计算机信息技术时代的媒体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7"/>
          <p:cNvSpPr/>
          <p:nvPr/>
        </p:nvSpPr>
        <p:spPr>
          <a:xfrm>
            <a:off x="801720" y="4498920"/>
            <a:ext cx="1401840" cy="140184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狭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2"/>
          <p:cNvSpPr/>
          <p:nvPr/>
        </p:nvSpPr>
        <p:spPr>
          <a:xfrm>
            <a:off x="801720" y="1926360"/>
            <a:ext cx="1401840" cy="140184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广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4"/>
          <p:cNvGrpSpPr/>
          <p:nvPr/>
        </p:nvGrpSpPr>
        <p:grpSpPr>
          <a:xfrm>
            <a:off x="9086040" y="337680"/>
            <a:ext cx="2654640" cy="1704600"/>
            <a:chOff x="9086040" y="337680"/>
            <a:chExt cx="2654640" cy="1704600"/>
          </a:xfrm>
        </p:grpSpPr>
        <p:pic>
          <p:nvPicPr>
            <p:cNvPr id="144" name="Picture 3" descr="C:\Users\a\Desktop\美的比稿\电脑图标\1.png"/>
            <p:cNvPicPr/>
            <p:nvPr/>
          </p:nvPicPr>
          <p:blipFill>
            <a:blip r:embed="rId1"/>
            <a:stretch/>
          </p:blipFill>
          <p:spPr>
            <a:xfrm rot="16200000">
              <a:off x="10109880" y="1275840"/>
              <a:ext cx="784080" cy="7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4" descr="C:\Users\a\Desktop\美的比稿\电脑图标\2.png"/>
            <p:cNvPicPr/>
            <p:nvPr/>
          </p:nvPicPr>
          <p:blipFill>
            <a:blip r:embed="rId2"/>
            <a:stretch/>
          </p:blipFill>
          <p:spPr>
            <a:xfrm>
              <a:off x="10855440" y="731520"/>
              <a:ext cx="885240" cy="9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a\Desktop\美的比稿\电脑图标\4.png"/>
            <p:cNvPicPr/>
            <p:nvPr/>
          </p:nvPicPr>
          <p:blipFill>
            <a:blip r:embed="rId3"/>
            <a:stretch/>
          </p:blipFill>
          <p:spPr>
            <a:xfrm>
              <a:off x="9086040" y="624240"/>
              <a:ext cx="990000" cy="10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C:\Users\a\Desktop\美的比稿\电脑图标\3.png"/>
            <p:cNvPicPr/>
            <p:nvPr/>
          </p:nvPicPr>
          <p:blipFill>
            <a:blip r:embed="rId4"/>
            <a:stretch/>
          </p:blipFill>
          <p:spPr>
            <a:xfrm>
              <a:off x="10002600" y="337680"/>
              <a:ext cx="1005120" cy="105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"/>
          <p:cNvSpPr/>
          <p:nvPr/>
        </p:nvSpPr>
        <p:spPr>
          <a:xfrm>
            <a:off x="801720" y="34956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.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新媒体的本质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2309040" y="1384200"/>
            <a:ext cx="435600" cy="394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面是一次归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1359720" y="1714680"/>
            <a:ext cx="9865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人在哪里，媒体就在哪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时代在哪里，人就在哪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技术在哪里，时代就在哪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2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我们可以说：新媒体依托于新技术，有新技术就会催生新媒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1359720" y="4633920"/>
            <a:ext cx="9992520" cy="1459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技术的革新催生了新媒体，新媒体之所以新，在于它能够高效的集合受众，其实媒体的本质是“引流”工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4" descr=""/>
          <p:cNvPicPr/>
          <p:nvPr/>
        </p:nvPicPr>
        <p:blipFill>
          <a:blip r:embed="rId1"/>
          <a:stretch/>
        </p:blipFill>
        <p:spPr>
          <a:xfrm>
            <a:off x="7924320" y="826560"/>
            <a:ext cx="3301200" cy="295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801720" y="34956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.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品牌与媒体的关系（单向关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1443960" y="4765320"/>
            <a:ext cx="6796800" cy="77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不适应媒体的变化而消亡（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G</a:t>
            </a: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1443960" y="1601640"/>
            <a:ext cx="6796800" cy="77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因媒体而形成（邮购品牌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443960" y="2656080"/>
            <a:ext cx="6796800" cy="77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是品牌发展的助力（加多宝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1443960" y="3710520"/>
            <a:ext cx="6796800" cy="77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随媒体的变化而变化（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LV</a:t>
            </a:r>
            <a:r>
              <a:rPr b="0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海尔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8913240" y="840600"/>
            <a:ext cx="1853280" cy="15454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2"/>
          <a:stretch/>
        </p:blipFill>
        <p:spPr>
          <a:xfrm>
            <a:off x="9526320" y="2656080"/>
            <a:ext cx="972720" cy="1187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3"/>
          <a:srcRect l="13116" t="20103" r="41434" b="50973"/>
          <a:stretch/>
        </p:blipFill>
        <p:spPr>
          <a:xfrm>
            <a:off x="9042120" y="3998160"/>
            <a:ext cx="194112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9" descr=""/>
          <p:cNvPicPr/>
          <p:nvPr/>
        </p:nvPicPr>
        <p:blipFill>
          <a:blip r:embed="rId4"/>
          <a:srcRect l="28578" t="22238" r="29382" b="39444"/>
          <a:stretch/>
        </p:blipFill>
        <p:spPr>
          <a:xfrm>
            <a:off x="9558720" y="5057640"/>
            <a:ext cx="940320" cy="8575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4402080" y="8022960"/>
            <a:ext cx="308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51p 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"/>
          <p:cNvSpPr/>
          <p:nvPr/>
        </p:nvSpPr>
        <p:spPr>
          <a:xfrm>
            <a:off x="801720" y="34956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Ⅳ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.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传统品牌与互联网品牌对新媒体的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"/>
          <p:cNvSpPr/>
          <p:nvPr/>
        </p:nvSpPr>
        <p:spPr>
          <a:xfrm>
            <a:off x="801720" y="1926360"/>
            <a:ext cx="1401840" cy="140184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现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3"/>
          <p:cNvSpPr/>
          <p:nvPr/>
        </p:nvSpPr>
        <p:spPr>
          <a:xfrm>
            <a:off x="801720" y="4275720"/>
            <a:ext cx="1401840" cy="140184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未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2822760" y="1926360"/>
            <a:ext cx="75726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2400" spc="299" strike="noStrike">
                <a:solidFill>
                  <a:srgbClr val="0070c0"/>
                </a:solidFill>
                <a:latin typeface="微软雅黑"/>
                <a:ea typeface="微软雅黑"/>
              </a:rPr>
              <a:t>传统品牌看待新媒体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找刺激，“转型”、“学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互联网品牌看待新媒体</a:t>
            </a:r>
            <a:r>
              <a:rPr b="0" lang="zh-CN" sz="2400" spc="299" strike="noStrike">
                <a:solidFill>
                  <a:srgbClr val="0070c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找依靠，“开创”、“创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4994640" y="4398840"/>
            <a:ext cx="2314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野百合也有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0" descr=""/>
          <p:cNvPicPr/>
          <p:nvPr/>
        </p:nvPicPr>
        <p:blipFill>
          <a:blip r:embed="rId1"/>
          <a:srcRect l="0" t="0" r="0" b="23343"/>
          <a:stretch/>
        </p:blipFill>
        <p:spPr>
          <a:xfrm>
            <a:off x="9013320" y="3266640"/>
            <a:ext cx="3178080" cy="2877480"/>
          </a:xfrm>
          <a:prstGeom prst="rect">
            <a:avLst/>
          </a:prstGeom>
          <a:ln w="0">
            <a:noFil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69" name="Text Box 8"/>
          <p:cNvSpPr/>
          <p:nvPr/>
        </p:nvSpPr>
        <p:spPr>
          <a:xfrm>
            <a:off x="554400" y="62899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801720" y="349560"/>
            <a:ext cx="792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Ⅴ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.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新媒体对品牌的价值（显性价值和隐性价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350360" y="1644840"/>
            <a:ext cx="1032552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2400" spc="299" strike="noStrike">
                <a:solidFill>
                  <a:srgbClr val="0070c0"/>
                </a:solidFill>
                <a:latin typeface="微软雅黑"/>
                <a:ea typeface="微软雅黑"/>
              </a:rPr>
              <a:t>显性价值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广告、公关、传播</a:t>
            </a: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zh-CN" sz="2400" spc="299" strike="noStrike">
                <a:solidFill>
                  <a:srgbClr val="0070c0"/>
                </a:solidFill>
                <a:latin typeface="微软雅黑"/>
                <a:ea typeface="微软雅黑"/>
              </a:rPr>
              <a:t>隐性价值</a:t>
            </a: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：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缩短价值实现的链条、追求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实现最大化（转化率、粘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rcRect l="0" t="0" r="0" b="4520"/>
          <a:stretch/>
        </p:blipFill>
        <p:spPr>
          <a:xfrm>
            <a:off x="8609400" y="1732320"/>
            <a:ext cx="341784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801720" y="349560"/>
            <a:ext cx="8975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Ⅵ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.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更应该探讨品牌在“新媒体”时代的机会（关键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2175480" y="371160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管理和用户价值运营（创维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UVM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系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175480" y="300816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立体化的媒介整合（</a:t>
            </a:r>
            <a:r>
              <a:rPr b="0" lang="pt-BR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O2O 2.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2175480" y="230508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数据（供应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2175480" y="160164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2175480" y="441504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式与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2175480" y="5118480"/>
            <a:ext cx="6796800" cy="5468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1199"/>
              </a:spcBef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闭环的流量与高效的多次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8" descr=""/>
          <p:cNvPicPr/>
          <p:nvPr/>
        </p:nvPicPr>
        <p:blipFill>
          <a:blip r:embed="rId1"/>
          <a:srcRect l="7321" t="9050" r="6909" b="34280"/>
          <a:stretch/>
        </p:blipFill>
        <p:spPr>
          <a:xfrm flipH="1">
            <a:off x="9355320" y="3393000"/>
            <a:ext cx="2721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"/>
          <p:cNvSpPr/>
          <p:nvPr/>
        </p:nvSpPr>
        <p:spPr>
          <a:xfrm>
            <a:off x="4976640" y="67636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  <Words>465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1:35:36Z</dcterms:created>
  <dc:creator>acer1</dc:creator>
  <dc:description/>
  <dc:language>en-US</dc:language>
  <cp:lastModifiedBy>a</cp:lastModifiedBy>
  <dcterms:modified xsi:type="dcterms:W3CDTF">2015-07-25T01:07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9</vt:r8>
  </property>
</Properties>
</file>