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hdphoto3.wdp" ContentType="image/vnd.ms-photo"/>
  <Override PartName="/ppt/media/hdphoto6.wdp" ContentType="image/vnd.ms-photo"/>
  <Override PartName="/ppt/media/hdphoto4.wdp" ContentType="image/vnd.ms-photo"/>
  <Override PartName="/ppt/media/hdphoto5.wdp" ContentType="image/vnd.ms-photo"/>
  <Override PartName="/ppt/media/image4.jpeg" ContentType="image/jpeg"/>
  <Override PartName="/ppt/media/hdphoto8.wdp" ContentType="image/vnd.ms-photo"/>
  <Override PartName="/ppt/media/hdphoto9.wdp" ContentType="image/vnd.ms-photo"/>
  <Override PartName="/ppt/media/image2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hdphoto7.wdp" ContentType="image/vnd.ms-photo"/>
  <Override PartName="/ppt/media/image3.jpeg" ContentType="image/jpeg"/>
  <Override PartName="/ppt/media/image1.jpeg" ContentType="image/jpeg"/>
  <Override PartName="/ppt/media/hdphoto1.wdp" ContentType="image/vnd.ms-photo"/>
  <Override PartName="/ppt/media/hdphoto10.wdp" ContentType="image/vnd.ms-photo"/>
  <Override PartName="/ppt/media/image6.jpeg" ContentType="image/jpeg"/>
  <Override PartName="/ppt/media/hdphoto2.wdp" ContentType="image/vnd.ms-photo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78-D7CF-4FB4-8D41-79FE169F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2B7-5A1E-4999-B6D1-0702B584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1C8-1339-45CA-BE14-5BD7763B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4AF-C727-4ECE-A981-32C45168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B387-F90F-497B-91F4-3FBE5F34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EA5-2E21-4C41-9CC9-13F8E081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B5CD-09FF-4394-898C-6D7965AE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1BBF-D13E-4CC5-ADBC-4D0AE97E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07C9-F3B6-46D9-9B89-1981D11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D80D-FD01-4976-8E0E-F8D9C1C3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D62-BD1A-42F8-B486-415FF49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E75-85E4-4A38-8429-08F0E400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E41-A449-47C7-8AB8-5B10D5D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C1E1-A002-4F8C-8868-4487B606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0549-00B8-4DC9-8ACB-9ACD9EF2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E543-163F-4176-8F67-AC3138E8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600A-1B6C-4B0F-91AA-3963DE7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EB0-4C61-440A-93EA-ED7AEAE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635-3AAB-4A9F-98E8-BB6F4CD6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DF7-E348-43E3-AF64-A58AE06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CFD-4E76-45F7-B61F-7AC7B58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943-8F5E-4CD6-ABA4-6568C2F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754-B18D-45AF-BA71-1A47FE4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57A-367C-47AC-84EA-DB02C68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>
                  <a:alpha val="63137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7CA9C2-11EC-4F6A-8EFF-CB47EA9A59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bfbf">
                  <a:alpha val="63137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7B7451-937C-4017-8098-54F8CD6867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.jpeg"/><Relationship Id="rId3" Type="http://schemas.microsoft.com/office/2007/relationships/hdphoto" Target="../media/hdphoto1.wdp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microsoft.com/office/2007/relationships/hdphoto" Target="../media/hdphoto10.wdp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microsoft.com/office/2007/relationships/hdphoto" Target="../media/hdphoto4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microsoft.com/office/2007/relationships/hdphoto" Target="../media/hdphoto6.wdp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microsoft.com/office/2007/relationships/hdphoto" Target="../media/hdphoto7.wdp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microsoft.com/office/2007/relationships/hdphoto" Target="../media/hdphoto8.wdp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microsoft.com/office/2007/relationships/hdphoto" Target="../media/hdphoto9.wdp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3136320" y="2402640"/>
            <a:ext cx="2870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>
                <a:solidFill>
                  <a:srgbClr val="000040"/>
                </a:solidFill>
                <a:latin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2">
            <a:grayscl/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矩形 3"/>
          <p:cNvSpPr/>
          <p:nvPr/>
        </p:nvSpPr>
        <p:spPr>
          <a:xfrm>
            <a:off x="0" y="394848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142560" y="4000320"/>
            <a:ext cx="8552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策划公司培训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25280" y="4708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eeece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eece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pic24.nipic.com/20120925/5955207_093635342000_2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2644" r="0" b="7357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0" y="2009520"/>
            <a:ext cx="563580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3507840" y="2834640"/>
            <a:ext cx="563580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4712400" y="2886480"/>
            <a:ext cx="9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新</a:t>
            </a: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3166200" y="2061360"/>
            <a:ext cx="97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</a:t>
            </a: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5049" r="0" b="1058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91" name="矩形 9"/>
          <p:cNvSpPr/>
          <p:nvPr/>
        </p:nvSpPr>
        <p:spPr>
          <a:xfrm>
            <a:off x="0" y="54504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2726640" y="597240"/>
            <a:ext cx="6026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800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使我们成为行业之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巅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断 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攀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3557520"/>
          </a:xfrm>
          <a:prstGeom prst="rect">
            <a:avLst/>
          </a:prstGeom>
          <a:ln w="0">
            <a:noFill/>
          </a:ln>
        </p:spPr>
      </p:pic>
      <p:sp>
        <p:nvSpPr>
          <p:cNvPr id="95" name="矩形 2"/>
          <p:cNvSpPr/>
          <p:nvPr/>
        </p:nvSpPr>
        <p:spPr>
          <a:xfrm>
            <a:off x="0" y="3948480"/>
            <a:ext cx="9143640" cy="69804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6048360" y="4000320"/>
            <a:ext cx="275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优质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5669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6364800" y="0"/>
            <a:ext cx="2778840" cy="459576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精致</a:t>
            </a:r>
            <a:br>
              <a:rPr sz="2800"/>
            </a:b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14337" r="0" b="6434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5715000" y="3296520"/>
            <a:ext cx="3428640" cy="122688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12152" b="0"/>
          <a:stretch/>
        </p:blipFill>
        <p:spPr>
          <a:xfrm>
            <a:off x="0" y="0"/>
            <a:ext cx="6749280" cy="514332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6749640" y="0"/>
            <a:ext cx="2394000" cy="514332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完善</a:t>
            </a:r>
            <a:br>
              <a:rPr sz="2800"/>
            </a:b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客户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82960" y="4808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0" t="0" r="0" b="707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09" name="矩形 2"/>
          <p:cNvSpPr/>
          <p:nvPr/>
        </p:nvSpPr>
        <p:spPr>
          <a:xfrm>
            <a:off x="6063840" y="0"/>
            <a:ext cx="2369880" cy="345276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团队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19342" t="0" r="10313" b="0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12" name="矩形 2"/>
          <p:cNvSpPr/>
          <p:nvPr/>
        </p:nvSpPr>
        <p:spPr>
          <a:xfrm>
            <a:off x="0" y="3140280"/>
            <a:ext cx="4920480" cy="149148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具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的团队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合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3170" t="0" r="4182" b="0"/>
          <a:stretch/>
        </p:blipFill>
        <p:spPr>
          <a:xfrm>
            <a:off x="0" y="314640"/>
            <a:ext cx="9143640" cy="4173120"/>
          </a:xfrm>
          <a:prstGeom prst="rect">
            <a:avLst/>
          </a:prstGeom>
          <a:ln w="0">
            <a:noFill/>
          </a:ln>
        </p:spPr>
      </p:pic>
      <p:sp>
        <p:nvSpPr>
          <p:cNvPr id="115" name="矩形 2"/>
          <p:cNvSpPr/>
          <p:nvPr/>
        </p:nvSpPr>
        <p:spPr>
          <a:xfrm>
            <a:off x="0" y="2743200"/>
            <a:ext cx="9143640" cy="986400"/>
          </a:xfrm>
          <a:prstGeom prst="rect">
            <a:avLst/>
          </a:prstGeom>
          <a:solidFill>
            <a:srgbClr val="ff0000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76840" y="2924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432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完善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战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BainBulletsConfiguration" hidden="1"/>
          <p:cNvSpPr/>
          <p:nvPr/>
        </p:nvSpPr>
        <p:spPr>
          <a:xfrm>
            <a:off x="12600" y="12600"/>
            <a:ext cx="8889480" cy="1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  <Words>72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5:53:16Z</dcterms:created>
  <dc:creator>admin</dc:creator>
  <dc:description/>
  <dc:language>en-US</dc:language>
  <cp:lastModifiedBy>a</cp:lastModifiedBy>
  <dcterms:modified xsi:type="dcterms:W3CDTF">2015-07-24T12:42:03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0</vt:r8>
  </property>
</Properties>
</file>