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C84-164F-41D6-AFB2-6EC13437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199-FC91-4B85-8A38-B356DD4D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027-7465-4733-A89D-5A177DE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1F9-F0CE-41C2-A68D-CFEDAF39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B41-FDB5-45A1-B8EF-890682FA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DA6-7350-49FE-9DE7-43FB00A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B528-A1C9-463A-BDDD-4C37AA84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FC2-CA8F-4237-8F5A-0B89267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02D-1602-456E-9DF3-89D547D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A696-1BD6-4356-BD3C-D8B45129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CD4A-22D0-4BE4-9646-CCDDC04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FC9-5FAC-41BE-8040-5ECB5AE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37A-59CD-42E4-8390-C65CBFB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D8A-9C9F-41B2-ADCE-1587625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2840-8A9A-424C-9393-FF46EF8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585-F03B-444A-AC81-A8A7581E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494-D78B-46E1-8633-7508DD05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287-1003-4D49-AB26-45BB92D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426-3166-4F72-914E-44C9D92E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79E-9B37-4A09-91C6-AF7DA417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350-82E2-4360-8776-29E7FEE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FA1-7F11-4F6B-8CE2-E31EF32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0C0-9A01-49C9-BC3C-2CD05AD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128-E0ED-4C3A-AECC-F514DAB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73C-B920-43C6-8F33-C9627E1F4E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386-2946-4418-9E56-DB74D5979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2" descr="主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2138040" y="981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年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3" descr="新PPT背景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新PPT背景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谢谢大家"/>
          <p:cNvPicPr/>
          <p:nvPr/>
        </p:nvPicPr>
        <p:blipFill>
          <a:blip r:embed="rId3"/>
          <a:stretch/>
        </p:blipFill>
        <p:spPr>
          <a:xfrm>
            <a:off x="2556000" y="2643120"/>
            <a:ext cx="446400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1:35:09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5T01:30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