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68F-31E1-48FB-BEBA-80E3C983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9FD-A11A-49AB-99E9-314951E2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951-5020-44A1-8F58-FC31B07E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2A3-0194-42E5-8969-9A42202C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4C1-0E47-46BE-AD99-3302CAF2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7F3-8B0F-4936-BE96-7F897533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911-4E07-4B10-8BC8-BA14BE4F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C86-A2EE-4A63-A98B-CD082357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975-8A5F-4767-A002-7B0C25DE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31E-B64D-4365-BE12-3F52A2D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9C4-490B-4322-8F49-749B4887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9A2-435F-4054-A475-9FCC547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771E-CDF3-4BA7-B173-D42B0825CA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 http://www.eeppt.com</dc:creator>
  <dc:description/>
  <cp:keywords>幻灯片 http:/www.eeppt.com</cp:keywords>
  <dc:language>en-US</dc:language>
  <cp:lastModifiedBy/>
  <dcterms:modified xsi:type="dcterms:W3CDTF">2015-07-25T07:45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