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ACB0-483C-4ADA-9D94-E22A946C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30B-4222-4CEF-AC9F-6DE5C3A4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AFA-ABA0-4B45-8C18-EEE949E9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E2D-B800-4625-B516-916478C3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30A1-2451-43EA-B688-7AEA411C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3A21-BC95-4235-83AC-E7F46103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393B-1D40-45E7-BF32-55E549B2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79FF-EAD7-46E9-8918-EA63DD6C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62E5-19DE-4412-9223-A7503B04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5831-77CC-43D1-9FC5-EDBC7514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1A39-E746-4F3F-A09B-C579D356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C8D5-B4E8-4D4B-92FA-BD3DAD40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D760-89C8-4B61-9D8C-4AAFCE7F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D88B-F658-4A6C-937B-584F68BB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4A94-FFC1-4D75-897F-A0A33103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9D9F-234E-4AF4-83C5-1D477328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4BB1-C998-4BEA-A925-A27638E8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CDC-4AEB-408D-9B19-09FD06CA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1A6-1B99-43FB-ACB4-F1B08423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6E3-AC0B-404D-AA4D-A73AAA32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F2E-A9A5-420D-B00C-1744E2A2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FC83-37AE-4042-A18D-1BC0B3FF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4071-344E-4F65-B19A-82DF35B2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3325-E9A2-449D-A5E1-C99983CF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5CE86E0-3DC9-41A1-80E9-DA8A4AF077D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6423705-5751-418B-898B-33EC30266FF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"/>
          <p:cNvPicPr/>
          <p:nvPr/>
        </p:nvPicPr>
        <p:blipFill>
          <a:blip r:embed="rId1"/>
          <a:stretch/>
        </p:blipFill>
        <p:spPr>
          <a:xfrm>
            <a:off x="0" y="72000"/>
            <a:ext cx="9144360" cy="4947480"/>
          </a:xfrm>
          <a:prstGeom prst="rect">
            <a:avLst/>
          </a:prstGeom>
          <a:ln w="0">
            <a:noFill/>
          </a:ln>
        </p:spPr>
      </p:pic>
      <p:sp>
        <p:nvSpPr>
          <p:cNvPr id="83" name="矩形 1"/>
          <p:cNvSpPr/>
          <p:nvPr/>
        </p:nvSpPr>
        <p:spPr>
          <a:xfrm>
            <a:off x="2139480" y="771480"/>
            <a:ext cx="5773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个创意的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04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错误页面设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191880" y="468180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1160" y="84600"/>
            <a:ext cx="912132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827640" y="45158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404错误页面设计1"/>
          <p:cNvPicPr/>
          <p:nvPr/>
        </p:nvPicPr>
        <p:blipFill>
          <a:blip r:embed="rId1"/>
          <a:stretch/>
        </p:blipFill>
        <p:spPr>
          <a:xfrm>
            <a:off x="0" y="123480"/>
            <a:ext cx="9167040" cy="49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39640" y="46850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404错误页面设计2"/>
          <p:cNvPicPr/>
          <p:nvPr/>
        </p:nvPicPr>
        <p:blipFill>
          <a:blip r:embed="rId1"/>
          <a:stretch/>
        </p:blipFill>
        <p:spPr>
          <a:xfrm>
            <a:off x="-7920" y="123480"/>
            <a:ext cx="9167040" cy="4947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395640" y="473652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160" y="84600"/>
            <a:ext cx="913932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160" y="84600"/>
            <a:ext cx="913932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160" y="84600"/>
            <a:ext cx="913932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160" y="84600"/>
            <a:ext cx="913932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160" y="84600"/>
            <a:ext cx="913932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160" y="84600"/>
            <a:ext cx="913932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160" y="84600"/>
            <a:ext cx="913932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160" y="84600"/>
            <a:ext cx="913932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60" y="84600"/>
            <a:ext cx="913932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160" y="84600"/>
            <a:ext cx="913932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404错误页面设计3"/>
          <p:cNvPicPr/>
          <p:nvPr/>
        </p:nvPicPr>
        <p:blipFill>
          <a:blip r:embed="rId1"/>
          <a:stretch/>
        </p:blipFill>
        <p:spPr>
          <a:xfrm>
            <a:off x="-10080" y="0"/>
            <a:ext cx="9167040" cy="49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160" y="84600"/>
            <a:ext cx="913932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60" y="84600"/>
            <a:ext cx="913932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160" y="84600"/>
            <a:ext cx="913932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160" y="84600"/>
            <a:ext cx="913932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160" y="84600"/>
            <a:ext cx="913932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160" y="84600"/>
            <a:ext cx="913932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470520"/>
            <a:ext cx="9143640" cy="41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404错误页面设计4"/>
          <p:cNvPicPr/>
          <p:nvPr/>
        </p:nvPicPr>
        <p:blipFill>
          <a:blip r:embed="rId1"/>
          <a:stretch/>
        </p:blipFill>
        <p:spPr>
          <a:xfrm>
            <a:off x="3240" y="123480"/>
            <a:ext cx="9142920" cy="49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41040" y="84600"/>
            <a:ext cx="906156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160" y="84600"/>
            <a:ext cx="913932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404错误页面设计5"/>
          <p:cNvPicPr/>
          <p:nvPr/>
        </p:nvPicPr>
        <p:blipFill>
          <a:blip r:embed="rId1"/>
          <a:stretch/>
        </p:blipFill>
        <p:spPr>
          <a:xfrm>
            <a:off x="0" y="78120"/>
            <a:ext cx="915552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-23400"/>
            <a:ext cx="9171360" cy="516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433800"/>
            <a:ext cx="9143640" cy="42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578520" y="0"/>
            <a:ext cx="7953480" cy="51433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9"/>
          <p:cNvSpPr/>
          <p:nvPr/>
        </p:nvSpPr>
        <p:spPr>
          <a:xfrm>
            <a:off x="1043640" y="44438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1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94360" y="14184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607800" y="25020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404错误页面设计6"/>
          <p:cNvPicPr/>
          <p:nvPr/>
        </p:nvPicPr>
        <p:blipFill>
          <a:blip r:embed="rId1"/>
          <a:stretch/>
        </p:blipFill>
        <p:spPr>
          <a:xfrm>
            <a:off x="-3600" y="123480"/>
            <a:ext cx="9167040" cy="49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404错误页面设计7"/>
          <p:cNvPicPr/>
          <p:nvPr/>
        </p:nvPicPr>
        <p:blipFill>
          <a:blip r:embed="rId1"/>
          <a:stretch/>
        </p:blipFill>
        <p:spPr>
          <a:xfrm>
            <a:off x="0" y="84600"/>
            <a:ext cx="914364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160" y="84600"/>
            <a:ext cx="9139320" cy="49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  <Words>206</Words>
  <Paragraphs>3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02:56:32Z</dcterms:created>
  <dc:creator>陌上初薰</dc:creator>
  <dc:description/>
  <dc:language>en-US</dc:language>
  <cp:lastModifiedBy>yu wang</cp:lastModifiedBy>
  <dcterms:modified xsi:type="dcterms:W3CDTF">2015-08-14T12:49:01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66</vt:r8>
  </property>
</Properties>
</file>