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ABFC88-7F9F-4BD7-9420-120039F18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7263E2-1591-4D10-A319-A31AA3323C5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95745B-C078-4EEB-88FF-ACDB971CC03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5FF1F0-542C-4684-BC6D-E0140A9F710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A86FD8-C3ED-4DF9-8E84-BE75F29F1B4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695-1F8D-415E-AA8A-A8FB0CF5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A2B-95F3-496F-98CC-FD72855A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DE8-FC45-4132-893F-702EFA59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69E-1E89-4D39-B1D5-156D525D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2996-A10F-4F56-B801-C4C1D427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E46D-F387-4F51-BBEF-83DF8ADA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815C-D457-49FA-AF11-70DE3C79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DF09-EE59-4C4B-A6B3-3369FAF7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6B20-1A16-43AE-AF71-F3A4E44C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EFBE-20F6-408A-A366-00F2989F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D92A-1884-4A8D-8846-BC7A1F4A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B75-15B0-4CF3-9D34-06C90606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C4CA-CB39-4BA2-9DFE-822F0816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806C-CB15-4F1C-ADA1-133BB1B6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D59B-D9CF-46CC-A7AE-FB00F48A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90B0-A4B4-4DD0-88A3-5F1B8069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C587-CF37-41C0-A6CD-882553C3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B2A-48B4-4493-9F45-F1718378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0EE-AA18-4AE3-A8F7-535834CD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D97-462A-4C96-ABED-1254FE35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A77-C9F1-403B-9CA4-DD642E68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935-F485-4BCB-BEEB-10D55F79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E66-5BBE-4950-822E-1679B708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64A-4C04-45AA-ACA0-5965D0C2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281A5FA-DF44-4B6A-A014-9FA54801046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998F4B5-C637-42E9-B257-4A8F38512F1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hyperlink" Target="http://www.eeppt.com/moban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4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1247760" y="1568520"/>
            <a:ext cx="7916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bfbfbf"/>
                </a:solidFill>
                <a:latin typeface="微软雅黑"/>
                <a:ea typeface="微软雅黑"/>
              </a:rPr>
              <a:t>保持创意的</a:t>
            </a:r>
            <a:r>
              <a:rPr b="0" lang="en-US" sz="6000" spc="-1" strike="noStrike">
                <a:solidFill>
                  <a:srgbClr val="bfbfbf"/>
                </a:solidFill>
                <a:latin typeface="微软雅黑"/>
                <a:ea typeface="微软雅黑"/>
              </a:rPr>
              <a:t>29</a:t>
            </a:r>
            <a:r>
              <a:rPr b="0" lang="zh-CN" sz="60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个习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4951800" y="2463840"/>
            <a:ext cx="2431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c0000"/>
                </a:solidFill>
                <a:latin typeface="微软雅黑"/>
                <a:ea typeface="微软雅黑"/>
              </a:rPr>
              <a:t>优秀的</a:t>
            </a:r>
            <a:r>
              <a:rPr b="0" lang="en-US" sz="1800" spc="-1" strike="noStrike">
                <a:solidFill>
                  <a:srgbClr val="6c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6c0000"/>
                </a:solidFill>
                <a:latin typeface="微软雅黑"/>
                <a:ea typeface="微软雅黑"/>
              </a:rPr>
              <a:t>设计师</a:t>
            </a:r>
            <a:r>
              <a:rPr b="0" lang="zh-CN" sz="2000" spc="-1" strike="noStrike">
                <a:solidFill>
                  <a:srgbClr val="6c0000"/>
                </a:solidFill>
                <a:latin typeface="微软雅黑"/>
                <a:ea typeface="微软雅黑"/>
              </a:rPr>
              <a:t>是怎样炼成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32"/>
          <p:cNvSpPr/>
          <p:nvPr/>
        </p:nvSpPr>
        <p:spPr>
          <a:xfrm>
            <a:off x="4311720" y="2595600"/>
            <a:ext cx="72720" cy="139320"/>
          </a:xfrm>
          <a:prstGeom prst="chevron">
            <a:avLst>
              <a:gd name="adj" fmla="val 82694"/>
            </a:avLst>
          </a:prstGeom>
          <a:solidFill>
            <a:srgbClr val="6c0000"/>
          </a:solidFill>
          <a:ln w="3175">
            <a:solidFill>
              <a:srgbClr val="6c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1" name="燕尾形 33"/>
          <p:cNvSpPr/>
          <p:nvPr/>
        </p:nvSpPr>
        <p:spPr>
          <a:xfrm>
            <a:off x="4394160" y="2593800"/>
            <a:ext cx="72720" cy="137880"/>
          </a:xfrm>
          <a:prstGeom prst="chevron">
            <a:avLst>
              <a:gd name="adj" fmla="val 82694"/>
            </a:avLst>
          </a:prstGeom>
          <a:solidFill>
            <a:srgbClr val="6c0000"/>
          </a:solidFill>
          <a:ln w="3175">
            <a:solidFill>
              <a:srgbClr val="6c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2" name="燕尾形 30"/>
          <p:cNvSpPr/>
          <p:nvPr/>
        </p:nvSpPr>
        <p:spPr>
          <a:xfrm>
            <a:off x="4214880" y="2595600"/>
            <a:ext cx="70920" cy="139320"/>
          </a:xfrm>
          <a:prstGeom prst="chevron">
            <a:avLst>
              <a:gd name="adj" fmla="val 82694"/>
            </a:avLst>
          </a:prstGeom>
          <a:solidFill>
            <a:srgbClr val="6c0000"/>
          </a:solidFill>
          <a:ln w="3175">
            <a:solidFill>
              <a:srgbClr val="6c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45960" y="1217520"/>
            <a:ext cx="23792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师习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3"/>
          <p:cNvSpPr/>
          <p:nvPr/>
        </p:nvSpPr>
        <p:spPr>
          <a:xfrm>
            <a:off x="1247760" y="1522440"/>
            <a:ext cx="7916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持创意的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</a:t>
            </a: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习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1241280" y="1509840"/>
            <a:ext cx="7916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持创意的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</a:t>
            </a: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习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5"/>
          <p:cNvSpPr/>
          <p:nvPr/>
        </p:nvSpPr>
        <p:spPr>
          <a:xfrm rot="20691000">
            <a:off x="8258040" y="249084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c0000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6"/>
          <p:cNvSpPr/>
          <p:nvPr/>
        </p:nvSpPr>
        <p:spPr>
          <a:xfrm>
            <a:off x="8343360" y="248436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c0000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7"/>
          <p:cNvSpPr/>
          <p:nvPr/>
        </p:nvSpPr>
        <p:spPr>
          <a:xfrm rot="1412400">
            <a:off x="8417520" y="249696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c0000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8"/>
          <p:cNvSpPr/>
          <p:nvPr/>
        </p:nvSpPr>
        <p:spPr>
          <a:xfrm rot="20691000">
            <a:off x="8258040" y="248904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c0000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9"/>
          <p:cNvSpPr/>
          <p:nvPr/>
        </p:nvSpPr>
        <p:spPr>
          <a:xfrm>
            <a:off x="8343360" y="248436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c0000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0"/>
          <p:cNvSpPr/>
          <p:nvPr/>
        </p:nvSpPr>
        <p:spPr>
          <a:xfrm rot="1412400">
            <a:off x="8417520" y="249696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c0000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2"/>
          <p:cNvSpPr/>
          <p:nvPr/>
        </p:nvSpPr>
        <p:spPr>
          <a:xfrm>
            <a:off x="8325720" y="249084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c0000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4120" y="2820960"/>
            <a:ext cx="8364240" cy="112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221"/>
              </a:spcBef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卓越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flash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视频作品，是一条迅速成长的捷径。本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设计师在业余时间模仿日本设计团队“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-FU”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“ 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 Ways to Stay Creative”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保持创造力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方法）的练手之作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1"/>
              </a:spcBef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让我们看到了不同软件所展现出的同样的魅力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1"/>
              </a:spcBef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让我们看到了优秀设计师的成长轨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1"/>
              </a:spcBef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沿袭设计师的道路，相信你也可以成就卓越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209160" y="4805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.24994 L 0 -1.96532E-006 E">
                                      <p:cBhvr>
                                        <p:cTn id="13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3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3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3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Scale>
                                      <p:cBhvr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</p:cBhvr>
                                      <p:by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-0.24994 L 0 1.90751E-006 E">
                                      <p:cBhvr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2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4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6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8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3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15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400"/>
                            </p:stCondLst>
                            <p:childTnLst>
                              <p:par>
                                <p:cTn id="8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65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25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35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105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12"/>
          <p:cNvSpPr/>
          <p:nvPr/>
        </p:nvSpPr>
        <p:spPr>
          <a:xfrm>
            <a:off x="2585880" y="1243080"/>
            <a:ext cx="1696680" cy="22302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218" name="Picture 2" descr="D:\Betsy葛\1\咖啡.png"/>
          <p:cNvPicPr/>
          <p:nvPr/>
        </p:nvPicPr>
        <p:blipFill>
          <a:blip r:embed="rId1"/>
          <a:stretch/>
        </p:blipFill>
        <p:spPr>
          <a:xfrm>
            <a:off x="4759200" y="2214720"/>
            <a:ext cx="1744200" cy="1304640"/>
          </a:xfrm>
          <a:prstGeom prst="rect">
            <a:avLst/>
          </a:prstGeom>
          <a:ln w="9525">
            <a:noFill/>
          </a:ln>
        </p:spPr>
      </p:pic>
      <p:pic>
        <p:nvPicPr>
          <p:cNvPr id="219" name="Picture 16" descr="D:\Betsy葛\1\DF.png"/>
          <p:cNvPicPr/>
          <p:nvPr/>
        </p:nvPicPr>
        <p:blipFill>
          <a:blip r:embed="rId2"/>
          <a:stretch/>
        </p:blipFill>
        <p:spPr>
          <a:xfrm>
            <a:off x="4386240" y="3732120"/>
            <a:ext cx="1709280" cy="529920"/>
          </a:xfrm>
          <a:prstGeom prst="rect">
            <a:avLst/>
          </a:prstGeom>
          <a:ln w="9525">
            <a:noFill/>
          </a:ln>
        </p:spPr>
      </p:pic>
      <p:grpSp>
        <p:nvGrpSpPr>
          <p:cNvPr id="220" name="组合 4"/>
          <p:cNvGrpSpPr/>
          <p:nvPr/>
        </p:nvGrpSpPr>
        <p:grpSpPr>
          <a:xfrm>
            <a:off x="2418840" y="-203040"/>
            <a:ext cx="2112120" cy="4661280"/>
            <a:chOff x="2418840" y="-203040"/>
            <a:chExt cx="2112120" cy="4661280"/>
          </a:xfrm>
        </p:grpSpPr>
        <p:pic>
          <p:nvPicPr>
            <p:cNvPr id="221" name="Picture 18" descr="C:\Documents and Settings\Administrator\桌面\图片1.jpg"/>
            <p:cNvPicPr/>
            <p:nvPr/>
          </p:nvPicPr>
          <p:blipFill>
            <a:blip r:embed="rId3"/>
            <a:srcRect l="35582" t="23775" r="35742" b="35344"/>
            <a:stretch/>
          </p:blipFill>
          <p:spPr>
            <a:xfrm>
              <a:off x="2535480" y="603720"/>
              <a:ext cx="1866240" cy="32727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22" name="TextBox 33"/>
            <p:cNvSpPr/>
            <p:nvPr/>
          </p:nvSpPr>
          <p:spPr>
            <a:xfrm>
              <a:off x="2418840" y="-203040"/>
              <a:ext cx="2112120" cy="466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00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3"/>
          <p:cNvSpPr/>
          <p:nvPr/>
        </p:nvSpPr>
        <p:spPr>
          <a:xfrm>
            <a:off x="2626200" y="3564000"/>
            <a:ext cx="16214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D:\Betsy葛\1\RT.png"/>
          <p:cNvPicPr/>
          <p:nvPr/>
        </p:nvPicPr>
        <p:blipFill>
          <a:blip r:embed="rId4"/>
          <a:stretch/>
        </p:blipFill>
        <p:spPr>
          <a:xfrm>
            <a:off x="5310360" y="1258920"/>
            <a:ext cx="657000" cy="1123560"/>
          </a:xfrm>
          <a:prstGeom prst="rect">
            <a:avLst/>
          </a:prstGeom>
          <a:ln w="9525">
            <a:noFill/>
          </a:ln>
        </p:spPr>
      </p:pic>
      <p:pic>
        <p:nvPicPr>
          <p:cNvPr id="225" name="Picture 5" descr="D:\Betsy葛\1\JKL.png"/>
          <p:cNvPicPr/>
          <p:nvPr/>
        </p:nvPicPr>
        <p:blipFill>
          <a:blip r:embed="rId5"/>
          <a:stretch/>
        </p:blipFill>
        <p:spPr>
          <a:xfrm>
            <a:off x="5234040" y="1001880"/>
            <a:ext cx="691920" cy="277560"/>
          </a:xfrm>
          <a:prstGeom prst="rect">
            <a:avLst/>
          </a:prstGeom>
          <a:ln w="9525">
            <a:noFill/>
          </a:ln>
        </p:spPr>
      </p:pic>
      <p:pic>
        <p:nvPicPr>
          <p:cNvPr id="226" name="Picture 6" descr="D:\Betsy葛\1\SRT.png"/>
          <p:cNvPicPr/>
          <p:nvPr/>
        </p:nvPicPr>
        <p:blipFill>
          <a:blip r:embed="rId6"/>
          <a:stretch/>
        </p:blipFill>
        <p:spPr>
          <a:xfrm>
            <a:off x="4886280" y="1023840"/>
            <a:ext cx="352080" cy="493200"/>
          </a:xfrm>
          <a:prstGeom prst="rect">
            <a:avLst/>
          </a:prstGeom>
          <a:ln w="9525">
            <a:noFill/>
          </a:ln>
        </p:spPr>
      </p:pic>
      <p:pic>
        <p:nvPicPr>
          <p:cNvPr id="227" name="Picture 7" descr="D:\Betsy葛\1\RD.png"/>
          <p:cNvPicPr/>
          <p:nvPr/>
        </p:nvPicPr>
        <p:blipFill>
          <a:blip r:embed="rId7"/>
          <a:stretch/>
        </p:blipFill>
        <p:spPr>
          <a:xfrm>
            <a:off x="4896000" y="1405080"/>
            <a:ext cx="455400" cy="290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2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1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75" dur="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6" dur="90" fill="hold">
                                          <p:stCondLst>
                                            <p:cond delay="9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7" dur="9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8" dur="90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9" dur="9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2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D:\Betsy葛\1\省份.png"/>
          <p:cNvPicPr/>
          <p:nvPr/>
        </p:nvPicPr>
        <p:blipFill>
          <a:blip r:embed="rId1"/>
          <a:stretch/>
        </p:blipFill>
        <p:spPr>
          <a:xfrm>
            <a:off x="4019400" y="1279440"/>
            <a:ext cx="3862080" cy="3911400"/>
          </a:xfrm>
          <a:prstGeom prst="rect">
            <a:avLst/>
          </a:prstGeom>
          <a:ln w="9525">
            <a:noFill/>
          </a:ln>
        </p:spPr>
      </p:pic>
      <p:grpSp>
        <p:nvGrpSpPr>
          <p:cNvPr id="229" name="组合 15"/>
          <p:cNvGrpSpPr/>
          <p:nvPr/>
        </p:nvGrpSpPr>
        <p:grpSpPr>
          <a:xfrm>
            <a:off x="4932360" y="1301760"/>
            <a:ext cx="1944360" cy="3290400"/>
            <a:chOff x="4932360" y="1301760"/>
            <a:chExt cx="1944360" cy="3290400"/>
          </a:xfrm>
        </p:grpSpPr>
        <p:grpSp>
          <p:nvGrpSpPr>
            <p:cNvPr id="230" name="组合 3"/>
            <p:cNvGrpSpPr/>
            <p:nvPr/>
          </p:nvGrpSpPr>
          <p:grpSpPr>
            <a:xfrm>
              <a:off x="4932360" y="1301760"/>
              <a:ext cx="1944360" cy="3290400"/>
              <a:chOff x="4932360" y="1301760"/>
              <a:chExt cx="1944360" cy="3290400"/>
            </a:xfrm>
          </p:grpSpPr>
          <p:sp>
            <p:nvSpPr>
              <p:cNvPr id="231" name="圆角矩形 1"/>
              <p:cNvSpPr/>
              <p:nvPr/>
            </p:nvSpPr>
            <p:spPr>
              <a:xfrm>
                <a:off x="4932360" y="1495440"/>
                <a:ext cx="1944360" cy="3096720"/>
              </a:xfrm>
              <a:prstGeom prst="roundRect">
                <a:avLst>
                  <a:gd name="adj" fmla="val 16667"/>
                </a:avLst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2" name="圆角矩形 2"/>
              <p:cNvSpPr/>
              <p:nvPr/>
            </p:nvSpPr>
            <p:spPr>
              <a:xfrm>
                <a:off x="4932360" y="1301760"/>
                <a:ext cx="1944360" cy="1274400"/>
              </a:xfrm>
              <a:prstGeom prst="roundRect">
                <a:avLst>
                  <a:gd name="adj" fmla="val 16667"/>
                </a:avLst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33" name="椭圆 4"/>
            <p:cNvSpPr/>
            <p:nvPr/>
          </p:nvSpPr>
          <p:spPr>
            <a:xfrm>
              <a:off x="5256360" y="2792520"/>
              <a:ext cx="1296720" cy="129492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34" name="等腰三角形 5"/>
            <p:cNvSpPr/>
            <p:nvPr/>
          </p:nvSpPr>
          <p:spPr>
            <a:xfrm rot="5400000">
              <a:off x="5912280" y="2944800"/>
              <a:ext cx="109080" cy="163080"/>
            </a:xfrm>
            <a:prstGeom prst="triangle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grpSp>
          <p:nvGrpSpPr>
            <p:cNvPr id="235" name="组合 9"/>
            <p:cNvGrpSpPr/>
            <p:nvPr/>
          </p:nvGrpSpPr>
          <p:grpSpPr>
            <a:xfrm>
              <a:off x="6283440" y="3406680"/>
              <a:ext cx="177840" cy="109080"/>
              <a:chOff x="6283440" y="3406680"/>
              <a:chExt cx="177840" cy="109080"/>
            </a:xfrm>
          </p:grpSpPr>
          <p:sp>
            <p:nvSpPr>
              <p:cNvPr id="236" name="等腰三角形 6"/>
              <p:cNvSpPr/>
              <p:nvPr/>
            </p:nvSpPr>
            <p:spPr>
              <a:xfrm rot="5400000">
                <a:off x="6308640" y="3381120"/>
                <a:ext cx="102960" cy="153720"/>
              </a:xfrm>
              <a:prstGeom prst="triangle">
                <a:avLst>
                  <a:gd name="adj" fmla="val 50000"/>
                </a:avLst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7" name="等腰三角形 7"/>
              <p:cNvSpPr/>
              <p:nvPr/>
            </p:nvSpPr>
            <p:spPr>
              <a:xfrm rot="5400000">
                <a:off x="6359760" y="3412800"/>
                <a:ext cx="102960" cy="99720"/>
              </a:xfrm>
              <a:prstGeom prst="triangle">
                <a:avLst>
                  <a:gd name="adj" fmla="val 50000"/>
                </a:avLst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8" name="矩形 8"/>
              <p:cNvSpPr/>
              <p:nvPr/>
            </p:nvSpPr>
            <p:spPr>
              <a:xfrm>
                <a:off x="6427800" y="3411360"/>
                <a:ext cx="33120" cy="104400"/>
              </a:xfrm>
              <a:prstGeom prst="rect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239" name="组合 10"/>
            <p:cNvGrpSpPr/>
            <p:nvPr/>
          </p:nvGrpSpPr>
          <p:grpSpPr>
            <a:xfrm>
              <a:off x="5346720" y="3406680"/>
              <a:ext cx="177480" cy="109080"/>
              <a:chOff x="5346720" y="3406680"/>
              <a:chExt cx="177480" cy="109080"/>
            </a:xfrm>
          </p:grpSpPr>
          <p:sp>
            <p:nvSpPr>
              <p:cNvPr id="240" name="等腰三角形 11"/>
              <p:cNvSpPr/>
              <p:nvPr/>
            </p:nvSpPr>
            <p:spPr>
              <a:xfrm flipH="1" rot="16200000">
                <a:off x="5395320" y="3381120"/>
                <a:ext cx="102960" cy="153720"/>
              </a:xfrm>
              <a:prstGeom prst="triangle">
                <a:avLst>
                  <a:gd name="adj" fmla="val 50000"/>
                </a:avLst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1" name="等腰三角形 12"/>
              <p:cNvSpPr/>
              <p:nvPr/>
            </p:nvSpPr>
            <p:spPr>
              <a:xfrm flipH="1" rot="16200000">
                <a:off x="5344560" y="3412800"/>
                <a:ext cx="102960" cy="99720"/>
              </a:xfrm>
              <a:prstGeom prst="triangle">
                <a:avLst>
                  <a:gd name="adj" fmla="val 50000"/>
                </a:avLst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2" name="矩形 13"/>
              <p:cNvSpPr/>
              <p:nvPr/>
            </p:nvSpPr>
            <p:spPr>
              <a:xfrm flipH="1">
                <a:off x="5346720" y="3411360"/>
                <a:ext cx="33120" cy="104400"/>
              </a:xfrm>
              <a:prstGeom prst="rect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43" name="矩形 14"/>
            <p:cNvSpPr/>
            <p:nvPr/>
          </p:nvSpPr>
          <p:spPr>
            <a:xfrm>
              <a:off x="5859360" y="3871800"/>
              <a:ext cx="90000" cy="91800"/>
            </a:xfrm>
            <a:prstGeom prst="rect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44" name="椭圆 16"/>
            <p:cNvSpPr/>
            <p:nvPr/>
          </p:nvSpPr>
          <p:spPr>
            <a:xfrm>
              <a:off x="5653080" y="3211560"/>
              <a:ext cx="502920" cy="5043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45" name="矩形 17"/>
            <p:cNvSpPr/>
            <p:nvPr/>
          </p:nvSpPr>
          <p:spPr>
            <a:xfrm>
              <a:off x="5165640" y="1495440"/>
              <a:ext cx="1491840" cy="10807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46" name="TextBox 19"/>
          <p:cNvSpPr/>
          <p:nvPr/>
        </p:nvSpPr>
        <p:spPr>
          <a:xfrm>
            <a:off x="5471280" y="1279440"/>
            <a:ext cx="879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D:\Betsy葛\1\黑色的音乐符.png"/>
          <p:cNvPicPr/>
          <p:nvPr/>
        </p:nvPicPr>
        <p:blipFill>
          <a:blip r:embed="rId2"/>
          <a:stretch/>
        </p:blipFill>
        <p:spPr>
          <a:xfrm>
            <a:off x="6227640" y="1573200"/>
            <a:ext cx="247320" cy="364680"/>
          </a:xfrm>
          <a:prstGeom prst="rect">
            <a:avLst/>
          </a:prstGeom>
          <a:ln w="9525">
            <a:noFill/>
          </a:ln>
        </p:spPr>
      </p:pic>
      <p:sp>
        <p:nvSpPr>
          <p:cNvPr id="248" name="等腰三角形 21"/>
          <p:cNvSpPr/>
          <p:nvPr/>
        </p:nvSpPr>
        <p:spPr>
          <a:xfrm rot="5400000">
            <a:off x="5912280" y="2944800"/>
            <a:ext cx="107640" cy="161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249" name="Picture 2" descr="D:\Betsy葛\1\黑色的音乐符.png"/>
          <p:cNvPicPr/>
          <p:nvPr/>
        </p:nvPicPr>
        <p:blipFill>
          <a:blip r:embed="rId3"/>
          <a:stretch/>
        </p:blipFill>
        <p:spPr>
          <a:xfrm>
            <a:off x="6372360" y="1625760"/>
            <a:ext cx="247320" cy="364680"/>
          </a:xfrm>
          <a:prstGeom prst="rect">
            <a:avLst/>
          </a:prstGeom>
          <a:ln w="9525">
            <a:noFill/>
          </a:ln>
        </p:spPr>
      </p:pic>
      <p:pic>
        <p:nvPicPr>
          <p:cNvPr id="250" name="Picture 3" descr="D:\Betsy葛\1\oj.png"/>
          <p:cNvPicPr/>
          <p:nvPr/>
        </p:nvPicPr>
        <p:blipFill>
          <a:blip r:embed="rId4"/>
          <a:stretch/>
        </p:blipFill>
        <p:spPr>
          <a:xfrm>
            <a:off x="14022360" y="1665360"/>
            <a:ext cx="2788920" cy="3300120"/>
          </a:xfrm>
          <a:prstGeom prst="rect">
            <a:avLst/>
          </a:prstGeom>
          <a:ln w="9525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5"/>
          <a:stretch/>
        </p:blipFill>
        <p:spPr>
          <a:xfrm>
            <a:off x="6453360" y="3700440"/>
            <a:ext cx="2485800" cy="1706040"/>
          </a:xfrm>
          <a:prstGeom prst="rect">
            <a:avLst/>
          </a:prstGeom>
          <a:ln w="9525">
            <a:noFill/>
          </a:ln>
        </p:spPr>
      </p:pic>
      <p:pic>
        <p:nvPicPr>
          <p:cNvPr id="252" name="Picture 2" descr="D:\Betsy葛\1\fg.png"/>
          <p:cNvPicPr/>
          <p:nvPr/>
        </p:nvPicPr>
        <p:blipFill>
          <a:blip r:embed="rId6"/>
          <a:stretch/>
        </p:blipFill>
        <p:spPr>
          <a:xfrm>
            <a:off x="8931240" y="3973680"/>
            <a:ext cx="5109840" cy="1115640"/>
          </a:xfrm>
          <a:prstGeom prst="rect">
            <a:avLst/>
          </a:prstGeom>
          <a:ln w="9525">
            <a:noFill/>
          </a:ln>
        </p:spPr>
      </p:pic>
      <p:sp>
        <p:nvSpPr>
          <p:cNvPr id="253" name="TextBox 28"/>
          <p:cNvSpPr/>
          <p:nvPr/>
        </p:nvSpPr>
        <p:spPr>
          <a:xfrm>
            <a:off x="778680" y="669960"/>
            <a:ext cx="1034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9"/>
          <p:cNvSpPr/>
          <p:nvPr/>
        </p:nvSpPr>
        <p:spPr>
          <a:xfrm>
            <a:off x="1717920" y="669960"/>
            <a:ext cx="21121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O NEW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3" descr="D:\Betsy葛\1\YU.png"/>
          <p:cNvPicPr/>
          <p:nvPr/>
        </p:nvPicPr>
        <p:blipFill>
          <a:blip r:embed="rId7"/>
          <a:stretch/>
        </p:blipFill>
        <p:spPr>
          <a:xfrm>
            <a:off x="439560" y="619200"/>
            <a:ext cx="334440" cy="383760"/>
          </a:xfrm>
          <a:prstGeom prst="rect">
            <a:avLst/>
          </a:prstGeom>
          <a:ln w="9525">
            <a:noFill/>
          </a:ln>
        </p:spPr>
      </p:pic>
      <p:pic>
        <p:nvPicPr>
          <p:cNvPr id="256" name="Picture 13" descr="D:\Betsy葛\1\YU.png"/>
          <p:cNvPicPr/>
          <p:nvPr/>
        </p:nvPicPr>
        <p:blipFill>
          <a:blip r:embed="rId8"/>
          <a:stretch/>
        </p:blipFill>
        <p:spPr>
          <a:xfrm>
            <a:off x="439560" y="619200"/>
            <a:ext cx="334440" cy="383760"/>
          </a:xfrm>
          <a:prstGeom prst="rect">
            <a:avLst/>
          </a:prstGeom>
          <a:ln w="9525">
            <a:noFill/>
          </a:ln>
        </p:spPr>
      </p:pic>
      <p:pic>
        <p:nvPicPr>
          <p:cNvPr id="257" name="Picture 12" descr="D:\Betsy葛\1\DFT.png"/>
          <p:cNvPicPr/>
          <p:nvPr/>
        </p:nvPicPr>
        <p:blipFill>
          <a:blip r:embed="rId9"/>
          <a:stretch/>
        </p:blipFill>
        <p:spPr>
          <a:xfrm>
            <a:off x="439560" y="619200"/>
            <a:ext cx="334440" cy="383760"/>
          </a:xfrm>
          <a:prstGeom prst="rect">
            <a:avLst/>
          </a:prstGeom>
          <a:ln w="9525">
            <a:noFill/>
          </a:ln>
        </p:spPr>
      </p:pic>
      <p:pic>
        <p:nvPicPr>
          <p:cNvPr id="258" name="Picture 12" descr="D:\Betsy葛\1\DFT.png"/>
          <p:cNvPicPr/>
          <p:nvPr/>
        </p:nvPicPr>
        <p:blipFill>
          <a:blip r:embed="rId10"/>
          <a:stretch/>
        </p:blipFill>
        <p:spPr>
          <a:xfrm>
            <a:off x="439560" y="619200"/>
            <a:ext cx="334440" cy="383760"/>
          </a:xfrm>
          <a:prstGeom prst="rect">
            <a:avLst/>
          </a:prstGeom>
          <a:ln w="9525">
            <a:noFill/>
          </a:ln>
        </p:spPr>
      </p:pic>
      <p:sp>
        <p:nvSpPr>
          <p:cNvPr id="259" name="Text Box 3"/>
          <p:cNvSpPr/>
          <p:nvPr/>
        </p:nvSpPr>
        <p:spPr>
          <a:xfrm>
            <a:off x="527040" y="47109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00000"/>
                </a:solidFill>
                <a:uFillTx/>
                <a:latin typeface="Arial"/>
                <a:ea typeface="宋体"/>
                <a:hlinkClick r:id="rId1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8" dur="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1" dur="50" autoRev="1" fill="hold"/>
                                        <p:tgtEl>
                                          <p:spTgt spid="24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03" nodeType="after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3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4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4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4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4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60494E-006 L -1.05 1.60494E-006 E">
                                      <p:cBhvr>
                                        <p:cTn id="632" dur="1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60494E-006 L -1.05 1.60494E-006 E">
                                      <p:cBhvr>
                                        <p:cTn id="634" dur="1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7 L -1.05 3.7037E-007 E">
                                      <p:cBhvr>
                                        <p:cTn id="636" dur="1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1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4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6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1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6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1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44"/>
          <p:cNvSpPr/>
          <p:nvPr/>
        </p:nvSpPr>
        <p:spPr>
          <a:xfrm>
            <a:off x="2617920" y="988920"/>
            <a:ext cx="1953720" cy="316512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1" name="矩形 45"/>
          <p:cNvSpPr/>
          <p:nvPr/>
        </p:nvSpPr>
        <p:spPr>
          <a:xfrm>
            <a:off x="4572000" y="988920"/>
            <a:ext cx="1985760" cy="316512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262" name="直接连接符 2"/>
          <p:cNvCxnSpPr/>
          <p:nvPr/>
        </p:nvCxnSpPr>
        <p:spPr>
          <a:xfrm>
            <a:off x="2609640" y="988920"/>
            <a:ext cx="392472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263" name="直接连接符 5"/>
          <p:cNvCxnSpPr/>
          <p:nvPr/>
        </p:nvCxnSpPr>
        <p:spPr>
          <a:xfrm>
            <a:off x="6546600" y="988920"/>
            <a:ext cx="360" cy="31658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264" name="直接连接符 8"/>
          <p:cNvCxnSpPr/>
          <p:nvPr/>
        </p:nvCxnSpPr>
        <p:spPr>
          <a:xfrm>
            <a:off x="2609640" y="988920"/>
            <a:ext cx="360" cy="31658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265" name="直接连接符 10"/>
          <p:cNvCxnSpPr/>
          <p:nvPr/>
        </p:nvCxnSpPr>
        <p:spPr>
          <a:xfrm>
            <a:off x="2609640" y="4154400"/>
            <a:ext cx="392472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266" name="TextBox 17"/>
          <p:cNvSpPr/>
          <p:nvPr/>
        </p:nvSpPr>
        <p:spPr>
          <a:xfrm>
            <a:off x="3161880" y="1247760"/>
            <a:ext cx="2592000" cy="26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4"/>
          <p:cNvGrpSpPr/>
          <p:nvPr/>
        </p:nvGrpSpPr>
        <p:grpSpPr>
          <a:xfrm>
            <a:off x="866880" y="770400"/>
            <a:ext cx="3487320" cy="3534840"/>
            <a:chOff x="866880" y="770400"/>
            <a:chExt cx="3487320" cy="3534840"/>
          </a:xfrm>
        </p:grpSpPr>
        <p:sp>
          <p:nvSpPr>
            <p:cNvPr id="268" name="梯形 29"/>
            <p:cNvSpPr/>
            <p:nvPr/>
          </p:nvSpPr>
          <p:spPr>
            <a:xfrm rot="16200000">
              <a:off x="1715400" y="1666440"/>
              <a:ext cx="3534840" cy="1742760"/>
            </a:xfrm>
            <a:custGeom>
              <a:avLst/>
              <a:gdLst>
                <a:gd name="textAreaLeft" fmla="*/ 0 w 3534840"/>
                <a:gd name="textAreaRight" fmla="*/ 3535200 w 353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3536631" h="1743818">
                  <a:moveTo>
                    <a:pt x="0" y="1731115"/>
                  </a:moveTo>
                  <a:lnTo>
                    <a:pt x="153379" y="0"/>
                  </a:lnTo>
                  <a:lnTo>
                    <a:pt x="3345149" y="0"/>
                  </a:lnTo>
                  <a:lnTo>
                    <a:pt x="3536631" y="1743818"/>
                  </a:lnTo>
                  <a:lnTo>
                    <a:pt x="0" y="1731115"/>
                  </a:lnTo>
                  <a:close/>
                </a:path>
              </a:pathLst>
            </a:cu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69" name="矩形 3"/>
            <p:cNvSpPr/>
            <p:nvPr/>
          </p:nvSpPr>
          <p:spPr>
            <a:xfrm>
              <a:off x="866880" y="3124080"/>
              <a:ext cx="406080" cy="78084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70" name="组合 30"/>
          <p:cNvGrpSpPr/>
          <p:nvPr/>
        </p:nvGrpSpPr>
        <p:grpSpPr>
          <a:xfrm>
            <a:off x="4673520" y="759240"/>
            <a:ext cx="3725280" cy="3536640"/>
            <a:chOff x="4673520" y="759240"/>
            <a:chExt cx="3725280" cy="3536640"/>
          </a:xfrm>
        </p:grpSpPr>
        <p:sp>
          <p:nvSpPr>
            <p:cNvPr id="271" name="梯形 29"/>
            <p:cNvSpPr/>
            <p:nvPr/>
          </p:nvSpPr>
          <p:spPr>
            <a:xfrm flipH="1" rot="5400000">
              <a:off x="3836160" y="1596600"/>
              <a:ext cx="3536640" cy="1861920"/>
            </a:xfrm>
            <a:custGeom>
              <a:avLst/>
              <a:gdLst>
                <a:gd name="textAreaLeft" fmla="*/ 360 w 3536640"/>
                <a:gd name="textAreaRight" fmla="*/ 3537360 w 3536640"/>
                <a:gd name="textAreaTop" fmla="*/ 0 h 1861920"/>
                <a:gd name="textAreaBottom" fmla="*/ 1862280 h 1861920"/>
              </a:gdLst>
              <a:ahLst/>
              <a:rect l="textAreaLeft" t="textAreaTop" r="textAreaRight" b="textAreaBottom"/>
              <a:pathLst>
                <a:path w="3536631" h="1743818">
                  <a:moveTo>
                    <a:pt x="0" y="1731115"/>
                  </a:moveTo>
                  <a:lnTo>
                    <a:pt x="153379" y="0"/>
                  </a:lnTo>
                  <a:lnTo>
                    <a:pt x="3345149" y="0"/>
                  </a:lnTo>
                  <a:lnTo>
                    <a:pt x="3536631" y="1743818"/>
                  </a:lnTo>
                  <a:lnTo>
                    <a:pt x="0" y="1731115"/>
                  </a:lnTo>
                  <a:close/>
                </a:path>
              </a:pathLst>
            </a:cu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72" name="矩形 32"/>
            <p:cNvSpPr/>
            <p:nvPr/>
          </p:nvSpPr>
          <p:spPr>
            <a:xfrm flipH="1">
              <a:off x="7965360" y="3114720"/>
              <a:ext cx="433080" cy="78084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73" name="TextBox 18"/>
          <p:cNvSpPr/>
          <p:nvPr/>
        </p:nvSpPr>
        <p:spPr>
          <a:xfrm>
            <a:off x="4751280" y="2143080"/>
            <a:ext cx="17492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BE 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6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5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2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70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08" dur="1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1" dur="1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9" presetSubtype="10" repeatCount="2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75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75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9" presetSubtype="10" repeatCount="2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3" dur="75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75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1148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648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任意多边形 33"/>
          <p:cNvSpPr/>
          <p:nvPr/>
        </p:nvSpPr>
        <p:spPr>
          <a:xfrm rot="20811600">
            <a:off x="4336560" y="520560"/>
            <a:ext cx="1684080" cy="1453680"/>
          </a:xfrm>
          <a:custGeom>
            <a:avLst/>
            <a:gdLst>
              <a:gd name="textAreaLeft" fmla="*/ 0 w 1684080"/>
              <a:gd name="textAreaRight" fmla="*/ 1684440 w 1684080"/>
              <a:gd name="textAreaTop" fmla="*/ 0 h 1453680"/>
              <a:gd name="textAreaBottom" fmla="*/ 1454040 h 1453680"/>
            </a:gdLst>
            <a:ahLst/>
            <a:rect l="textAreaLeft" t="textAreaTop" r="textAreaRight" b="textAreaBottom"/>
            <a:pathLst>
              <a:path w="7251966" h="6258000">
                <a:moveTo>
                  <a:pt x="2679626" y="4457730"/>
                </a:moveTo>
                <a:cubicBezTo>
                  <a:pt x="3089201" y="4191030"/>
                  <a:pt x="2797101" y="3781455"/>
                  <a:pt x="2717726" y="3467130"/>
                </a:cubicBezTo>
                <a:cubicBezTo>
                  <a:pt x="2638351" y="3152805"/>
                  <a:pt x="2285926" y="3032155"/>
                  <a:pt x="2203376" y="2571780"/>
                </a:cubicBezTo>
                <a:cubicBezTo>
                  <a:pt x="2120826" y="2111405"/>
                  <a:pt x="2016051" y="1133505"/>
                  <a:pt x="2222426" y="704880"/>
                </a:cubicBezTo>
                <a:cubicBezTo>
                  <a:pt x="2428801" y="276255"/>
                  <a:pt x="2984426" y="3205"/>
                  <a:pt x="3441626" y="30"/>
                </a:cubicBezTo>
                <a:cubicBezTo>
                  <a:pt x="3898826" y="-3145"/>
                  <a:pt x="4708451" y="254030"/>
                  <a:pt x="4965626" y="685830"/>
                </a:cubicBezTo>
                <a:cubicBezTo>
                  <a:pt x="5222801" y="1117630"/>
                  <a:pt x="5073576" y="2111405"/>
                  <a:pt x="4984676" y="2590830"/>
                </a:cubicBezTo>
                <a:cubicBezTo>
                  <a:pt x="4895776" y="3070255"/>
                  <a:pt x="4594151" y="3289330"/>
                  <a:pt x="4432226" y="3562380"/>
                </a:cubicBezTo>
                <a:cubicBezTo>
                  <a:pt x="4270301" y="3835430"/>
                  <a:pt x="4060779" y="4192632"/>
                  <a:pt x="4470326" y="4457730"/>
                </a:cubicBezTo>
                <a:cubicBezTo>
                  <a:pt x="4879873" y="4722828"/>
                  <a:pt x="6472627" y="4854517"/>
                  <a:pt x="6889507" y="5152967"/>
                </a:cubicBezTo>
                <a:cubicBezTo>
                  <a:pt x="7306387" y="5451417"/>
                  <a:pt x="7402531" y="6243879"/>
                  <a:pt x="6971605" y="6248430"/>
                </a:cubicBezTo>
                <a:cubicBezTo>
                  <a:pt x="6540679" y="6252981"/>
                  <a:pt x="1647751" y="6267480"/>
                  <a:pt x="298376" y="6248430"/>
                </a:cubicBezTo>
                <a:cubicBezTo>
                  <a:pt x="-43876" y="6175430"/>
                  <a:pt x="-136599" y="5422930"/>
                  <a:pt x="260276" y="5067330"/>
                </a:cubicBezTo>
                <a:cubicBezTo>
                  <a:pt x="657151" y="4711730"/>
                  <a:pt x="2270051" y="4724430"/>
                  <a:pt x="2679626" y="4457730"/>
                </a:cubicBezTo>
                <a:close/>
              </a:path>
            </a:pathLst>
          </a:custGeom>
          <a:solidFill>
            <a:schemeClr val="bg1">
              <a:lumMod val="75000"/>
              <a:alpha val="8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5" name="TextBox 22"/>
          <p:cNvSpPr/>
          <p:nvPr/>
        </p:nvSpPr>
        <p:spPr>
          <a:xfrm>
            <a:off x="7200" y="3533760"/>
            <a:ext cx="157716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3"/>
          <p:cNvSpPr/>
          <p:nvPr/>
        </p:nvSpPr>
        <p:spPr>
          <a:xfrm>
            <a:off x="1529280" y="3895560"/>
            <a:ext cx="2903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ERROUND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4"/>
          <p:cNvSpPr/>
          <p:nvPr/>
        </p:nvSpPr>
        <p:spPr>
          <a:xfrm>
            <a:off x="1532880" y="4352760"/>
            <a:ext cx="3142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REAT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任意多边形 30"/>
          <p:cNvSpPr/>
          <p:nvPr/>
        </p:nvSpPr>
        <p:spPr>
          <a:xfrm rot="21205800">
            <a:off x="4452480" y="733320"/>
            <a:ext cx="1193400" cy="1029960"/>
          </a:xfrm>
          <a:custGeom>
            <a:avLst/>
            <a:gdLst>
              <a:gd name="textAreaLeft" fmla="*/ 0 w 1193400"/>
              <a:gd name="textAreaRight" fmla="*/ 1193760 w 1193400"/>
              <a:gd name="textAreaTop" fmla="*/ 0 h 1029960"/>
              <a:gd name="textAreaBottom" fmla="*/ 1030320 h 1029960"/>
            </a:gdLst>
            <a:ahLst/>
            <a:rect l="textAreaLeft" t="textAreaTop" r="textAreaRight" b="textAreaBottom"/>
            <a:pathLst>
              <a:path w="7251966" h="6258000">
                <a:moveTo>
                  <a:pt x="2679626" y="4457730"/>
                </a:moveTo>
                <a:cubicBezTo>
                  <a:pt x="3089201" y="4191030"/>
                  <a:pt x="2797101" y="3781455"/>
                  <a:pt x="2717726" y="3467130"/>
                </a:cubicBezTo>
                <a:cubicBezTo>
                  <a:pt x="2638351" y="3152805"/>
                  <a:pt x="2285926" y="3032155"/>
                  <a:pt x="2203376" y="2571780"/>
                </a:cubicBezTo>
                <a:cubicBezTo>
                  <a:pt x="2120826" y="2111405"/>
                  <a:pt x="2016051" y="1133505"/>
                  <a:pt x="2222426" y="704880"/>
                </a:cubicBezTo>
                <a:cubicBezTo>
                  <a:pt x="2428801" y="276255"/>
                  <a:pt x="2984426" y="3205"/>
                  <a:pt x="3441626" y="30"/>
                </a:cubicBezTo>
                <a:cubicBezTo>
                  <a:pt x="3898826" y="-3145"/>
                  <a:pt x="4708451" y="254030"/>
                  <a:pt x="4965626" y="685830"/>
                </a:cubicBezTo>
                <a:cubicBezTo>
                  <a:pt x="5222801" y="1117630"/>
                  <a:pt x="5073576" y="2111405"/>
                  <a:pt x="4984676" y="2590830"/>
                </a:cubicBezTo>
                <a:cubicBezTo>
                  <a:pt x="4895776" y="3070255"/>
                  <a:pt x="4594151" y="3289330"/>
                  <a:pt x="4432226" y="3562380"/>
                </a:cubicBezTo>
                <a:cubicBezTo>
                  <a:pt x="4270301" y="3835430"/>
                  <a:pt x="4060779" y="4192632"/>
                  <a:pt x="4470326" y="4457730"/>
                </a:cubicBezTo>
                <a:cubicBezTo>
                  <a:pt x="4879873" y="4722828"/>
                  <a:pt x="6472627" y="4854517"/>
                  <a:pt x="6889507" y="5152967"/>
                </a:cubicBezTo>
                <a:cubicBezTo>
                  <a:pt x="7306387" y="5451417"/>
                  <a:pt x="7402531" y="6243879"/>
                  <a:pt x="6971605" y="6248430"/>
                </a:cubicBezTo>
                <a:cubicBezTo>
                  <a:pt x="6540679" y="6252981"/>
                  <a:pt x="1647751" y="6267480"/>
                  <a:pt x="298376" y="6248430"/>
                </a:cubicBezTo>
                <a:cubicBezTo>
                  <a:pt x="-43876" y="6175430"/>
                  <a:pt x="-136599" y="5422930"/>
                  <a:pt x="260276" y="5067330"/>
                </a:cubicBezTo>
                <a:cubicBezTo>
                  <a:pt x="657151" y="4711730"/>
                  <a:pt x="2270051" y="4724430"/>
                  <a:pt x="2679626" y="4457730"/>
                </a:cubicBezTo>
                <a:close/>
              </a:path>
            </a:pathLst>
          </a:custGeom>
          <a:solidFill>
            <a:schemeClr val="accent4">
              <a:lumMod val="75000"/>
              <a:alpha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9" name="任意多边形 26"/>
          <p:cNvSpPr/>
          <p:nvPr/>
        </p:nvSpPr>
        <p:spPr>
          <a:xfrm rot="21127200">
            <a:off x="4277880" y="573120"/>
            <a:ext cx="1655280" cy="1347480"/>
          </a:xfrm>
          <a:custGeom>
            <a:avLst/>
            <a:gdLst>
              <a:gd name="textAreaLeft" fmla="*/ 0 w 1655280"/>
              <a:gd name="textAreaRight" fmla="*/ 1655640 w 1655280"/>
              <a:gd name="textAreaTop" fmla="*/ 0 h 1347480"/>
              <a:gd name="textAreaBottom" fmla="*/ 1347840 h 1347480"/>
            </a:gdLst>
            <a:ahLst/>
            <a:rect l="textAreaLeft" t="textAreaTop" r="textAreaRight" b="textAreaBottom"/>
            <a:pathLst>
              <a:path w="7737005" h="6299357">
                <a:moveTo>
                  <a:pt x="2679626" y="4457730"/>
                </a:moveTo>
                <a:cubicBezTo>
                  <a:pt x="3089201" y="4191030"/>
                  <a:pt x="2797101" y="3781455"/>
                  <a:pt x="2717726" y="3467130"/>
                </a:cubicBezTo>
                <a:cubicBezTo>
                  <a:pt x="2638351" y="3152805"/>
                  <a:pt x="2285926" y="3032155"/>
                  <a:pt x="2203376" y="2571780"/>
                </a:cubicBezTo>
                <a:cubicBezTo>
                  <a:pt x="2120826" y="2111405"/>
                  <a:pt x="2016051" y="1133505"/>
                  <a:pt x="2222426" y="704880"/>
                </a:cubicBezTo>
                <a:cubicBezTo>
                  <a:pt x="2428801" y="276255"/>
                  <a:pt x="2984426" y="3205"/>
                  <a:pt x="3441626" y="30"/>
                </a:cubicBezTo>
                <a:cubicBezTo>
                  <a:pt x="3898826" y="-3145"/>
                  <a:pt x="4708451" y="254030"/>
                  <a:pt x="4965626" y="685830"/>
                </a:cubicBezTo>
                <a:cubicBezTo>
                  <a:pt x="5222801" y="1117630"/>
                  <a:pt x="5073576" y="2111405"/>
                  <a:pt x="4984676" y="2590830"/>
                </a:cubicBezTo>
                <a:cubicBezTo>
                  <a:pt x="4895776" y="3070255"/>
                  <a:pt x="4594151" y="3289330"/>
                  <a:pt x="4432226" y="3562380"/>
                </a:cubicBezTo>
                <a:cubicBezTo>
                  <a:pt x="4270301" y="3835430"/>
                  <a:pt x="4060779" y="4192632"/>
                  <a:pt x="4470326" y="4457730"/>
                </a:cubicBezTo>
                <a:cubicBezTo>
                  <a:pt x="4879873" y="4722828"/>
                  <a:pt x="6369339" y="4846029"/>
                  <a:pt x="6889507" y="5152967"/>
                </a:cubicBezTo>
                <a:cubicBezTo>
                  <a:pt x="7409675" y="5459905"/>
                  <a:pt x="8022261" y="6294805"/>
                  <a:pt x="7591335" y="6299356"/>
                </a:cubicBezTo>
                <a:lnTo>
                  <a:pt x="298376" y="6248430"/>
                </a:lnTo>
                <a:cubicBezTo>
                  <a:pt x="-43876" y="6175430"/>
                  <a:pt x="-136599" y="5422930"/>
                  <a:pt x="260276" y="5067330"/>
                </a:cubicBezTo>
                <a:cubicBezTo>
                  <a:pt x="657151" y="4711730"/>
                  <a:pt x="2270051" y="4724430"/>
                  <a:pt x="2679626" y="4457730"/>
                </a:cubicBezTo>
                <a:close/>
              </a:path>
            </a:pathLst>
          </a:custGeom>
          <a:solidFill>
            <a:srgbClr val="8cbd13">
              <a:alpha val="6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0" name="任意多边形 27"/>
          <p:cNvSpPr/>
          <p:nvPr/>
        </p:nvSpPr>
        <p:spPr>
          <a:xfrm rot="20598000">
            <a:off x="4195440" y="465120"/>
            <a:ext cx="1810800" cy="1563480"/>
          </a:xfrm>
          <a:custGeom>
            <a:avLst/>
            <a:gdLst>
              <a:gd name="textAreaLeft" fmla="*/ 0 w 1810800"/>
              <a:gd name="textAreaRight" fmla="*/ 1811160 w 1810800"/>
              <a:gd name="textAreaTop" fmla="*/ 0 h 1563480"/>
              <a:gd name="textAreaBottom" fmla="*/ 1563840 h 1563480"/>
            </a:gdLst>
            <a:ahLst/>
            <a:rect l="textAreaLeft" t="textAreaTop" r="textAreaRight" b="textAreaBottom"/>
            <a:pathLst>
              <a:path w="7251966" h="6258000">
                <a:moveTo>
                  <a:pt x="2679626" y="4457730"/>
                </a:moveTo>
                <a:cubicBezTo>
                  <a:pt x="3089201" y="4191030"/>
                  <a:pt x="2797101" y="3781455"/>
                  <a:pt x="2717726" y="3467130"/>
                </a:cubicBezTo>
                <a:cubicBezTo>
                  <a:pt x="2638351" y="3152805"/>
                  <a:pt x="2285926" y="3032155"/>
                  <a:pt x="2203376" y="2571780"/>
                </a:cubicBezTo>
                <a:cubicBezTo>
                  <a:pt x="2120826" y="2111405"/>
                  <a:pt x="2016051" y="1133505"/>
                  <a:pt x="2222426" y="704880"/>
                </a:cubicBezTo>
                <a:cubicBezTo>
                  <a:pt x="2428801" y="276255"/>
                  <a:pt x="2984426" y="3205"/>
                  <a:pt x="3441626" y="30"/>
                </a:cubicBezTo>
                <a:cubicBezTo>
                  <a:pt x="3898826" y="-3145"/>
                  <a:pt x="4708451" y="254030"/>
                  <a:pt x="4965626" y="685830"/>
                </a:cubicBezTo>
                <a:cubicBezTo>
                  <a:pt x="5222801" y="1117630"/>
                  <a:pt x="5073576" y="2111405"/>
                  <a:pt x="4984676" y="2590830"/>
                </a:cubicBezTo>
                <a:cubicBezTo>
                  <a:pt x="4895776" y="3070255"/>
                  <a:pt x="4594151" y="3289330"/>
                  <a:pt x="4432226" y="3562380"/>
                </a:cubicBezTo>
                <a:cubicBezTo>
                  <a:pt x="4270301" y="3835430"/>
                  <a:pt x="4060779" y="4192632"/>
                  <a:pt x="4470326" y="4457730"/>
                </a:cubicBezTo>
                <a:cubicBezTo>
                  <a:pt x="4879873" y="4722828"/>
                  <a:pt x="6472627" y="4854517"/>
                  <a:pt x="6889507" y="5152967"/>
                </a:cubicBezTo>
                <a:cubicBezTo>
                  <a:pt x="7306387" y="5451417"/>
                  <a:pt x="7402531" y="6243879"/>
                  <a:pt x="6971605" y="6248430"/>
                </a:cubicBezTo>
                <a:cubicBezTo>
                  <a:pt x="6540679" y="6252981"/>
                  <a:pt x="1647751" y="6267480"/>
                  <a:pt x="298376" y="6248430"/>
                </a:cubicBezTo>
                <a:cubicBezTo>
                  <a:pt x="-43876" y="6175430"/>
                  <a:pt x="-136599" y="5422930"/>
                  <a:pt x="260276" y="5067330"/>
                </a:cubicBezTo>
                <a:cubicBezTo>
                  <a:pt x="657151" y="4711730"/>
                  <a:pt x="2270051" y="4724430"/>
                  <a:pt x="2679626" y="4457730"/>
                </a:cubicBezTo>
                <a:close/>
              </a:path>
            </a:pathLst>
          </a:custGeom>
          <a:solidFill>
            <a:srgbClr val="e4da1c">
              <a:alpha val="8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1" name="任意多边形 31"/>
          <p:cNvSpPr/>
          <p:nvPr/>
        </p:nvSpPr>
        <p:spPr>
          <a:xfrm rot="20923200">
            <a:off x="4028760" y="420840"/>
            <a:ext cx="2015640" cy="1612440"/>
          </a:xfrm>
          <a:custGeom>
            <a:avLst/>
            <a:gdLst>
              <a:gd name="textAreaLeft" fmla="*/ 0 w 2015640"/>
              <a:gd name="textAreaRight" fmla="*/ 2016000 w 2015640"/>
              <a:gd name="textAreaTop" fmla="*/ 0 h 1612440"/>
              <a:gd name="textAreaBottom" fmla="*/ 1612800 h 1612440"/>
            </a:gdLst>
            <a:ahLst/>
            <a:rect l="textAreaLeft" t="textAreaTop" r="textAreaRight" b="textAreaBottom"/>
            <a:pathLst>
              <a:path w="7837488" h="6265847">
                <a:moveTo>
                  <a:pt x="2931972" y="4457730"/>
                </a:moveTo>
                <a:cubicBezTo>
                  <a:pt x="3342995" y="4219208"/>
                  <a:pt x="3049447" y="3781455"/>
                  <a:pt x="2970072" y="3467130"/>
                </a:cubicBezTo>
                <a:cubicBezTo>
                  <a:pt x="2890697" y="3152805"/>
                  <a:pt x="2538272" y="3032155"/>
                  <a:pt x="2455722" y="2571780"/>
                </a:cubicBezTo>
                <a:cubicBezTo>
                  <a:pt x="2373172" y="2111405"/>
                  <a:pt x="2268397" y="1133505"/>
                  <a:pt x="2474772" y="704880"/>
                </a:cubicBezTo>
                <a:cubicBezTo>
                  <a:pt x="2681147" y="276255"/>
                  <a:pt x="3236772" y="3205"/>
                  <a:pt x="3693972" y="30"/>
                </a:cubicBezTo>
                <a:cubicBezTo>
                  <a:pt x="4151172" y="-3145"/>
                  <a:pt x="4960797" y="254030"/>
                  <a:pt x="5217972" y="685830"/>
                </a:cubicBezTo>
                <a:cubicBezTo>
                  <a:pt x="5475147" y="1117630"/>
                  <a:pt x="5325922" y="2111405"/>
                  <a:pt x="5237022" y="2590830"/>
                </a:cubicBezTo>
                <a:cubicBezTo>
                  <a:pt x="5148122" y="3070255"/>
                  <a:pt x="4846497" y="3289330"/>
                  <a:pt x="4684572" y="3562380"/>
                </a:cubicBezTo>
                <a:cubicBezTo>
                  <a:pt x="4522647" y="3835430"/>
                  <a:pt x="4313125" y="4192632"/>
                  <a:pt x="4722672" y="4457730"/>
                </a:cubicBezTo>
                <a:cubicBezTo>
                  <a:pt x="5132219" y="4722828"/>
                  <a:pt x="6724973" y="4854517"/>
                  <a:pt x="7141853" y="5152967"/>
                </a:cubicBezTo>
                <a:cubicBezTo>
                  <a:pt x="7558733" y="5451417"/>
                  <a:pt x="8429043" y="6405913"/>
                  <a:pt x="7223951" y="6248430"/>
                </a:cubicBezTo>
                <a:cubicBezTo>
                  <a:pt x="6018859" y="6090947"/>
                  <a:pt x="1953248" y="5906172"/>
                  <a:pt x="496647" y="5703561"/>
                </a:cubicBezTo>
                <a:cubicBezTo>
                  <a:pt x="154395" y="5630561"/>
                  <a:pt x="-428475" y="5263351"/>
                  <a:pt x="503933" y="4898265"/>
                </a:cubicBezTo>
                <a:cubicBezTo>
                  <a:pt x="1436341" y="4533179"/>
                  <a:pt x="2520949" y="4696253"/>
                  <a:pt x="2931972" y="4457730"/>
                </a:cubicBezTo>
                <a:close/>
              </a:path>
            </a:pathLst>
          </a:custGeom>
          <a:solidFill>
            <a:srgbClr val="ff0000">
              <a:alpha val="6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2" name="任意多边形 32"/>
          <p:cNvSpPr/>
          <p:nvPr/>
        </p:nvSpPr>
        <p:spPr>
          <a:xfrm rot="20811600">
            <a:off x="4079520" y="384120"/>
            <a:ext cx="1939680" cy="1672920"/>
          </a:xfrm>
          <a:custGeom>
            <a:avLst/>
            <a:gdLst>
              <a:gd name="textAreaLeft" fmla="*/ 0 w 1939680"/>
              <a:gd name="textAreaRight" fmla="*/ 1940040 w 1939680"/>
              <a:gd name="textAreaTop" fmla="*/ 0 h 1672920"/>
              <a:gd name="textAreaBottom" fmla="*/ 1673280 h 1672920"/>
            </a:gdLst>
            <a:ahLst/>
            <a:rect l="textAreaLeft" t="textAreaTop" r="textAreaRight" b="textAreaBottom"/>
            <a:pathLst>
              <a:path w="7251966" h="6258000">
                <a:moveTo>
                  <a:pt x="2679626" y="4457730"/>
                </a:moveTo>
                <a:cubicBezTo>
                  <a:pt x="3089201" y="4191030"/>
                  <a:pt x="2797101" y="3781455"/>
                  <a:pt x="2717726" y="3467130"/>
                </a:cubicBezTo>
                <a:cubicBezTo>
                  <a:pt x="2638351" y="3152805"/>
                  <a:pt x="2285926" y="3032155"/>
                  <a:pt x="2203376" y="2571780"/>
                </a:cubicBezTo>
                <a:cubicBezTo>
                  <a:pt x="2120826" y="2111405"/>
                  <a:pt x="2016051" y="1133505"/>
                  <a:pt x="2222426" y="704880"/>
                </a:cubicBezTo>
                <a:cubicBezTo>
                  <a:pt x="2428801" y="276255"/>
                  <a:pt x="2984426" y="3205"/>
                  <a:pt x="3441626" y="30"/>
                </a:cubicBezTo>
                <a:cubicBezTo>
                  <a:pt x="3898826" y="-3145"/>
                  <a:pt x="4708451" y="254030"/>
                  <a:pt x="4965626" y="685830"/>
                </a:cubicBezTo>
                <a:cubicBezTo>
                  <a:pt x="5222801" y="1117630"/>
                  <a:pt x="5073576" y="2111405"/>
                  <a:pt x="4984676" y="2590830"/>
                </a:cubicBezTo>
                <a:cubicBezTo>
                  <a:pt x="4895776" y="3070255"/>
                  <a:pt x="4594151" y="3289330"/>
                  <a:pt x="4432226" y="3562380"/>
                </a:cubicBezTo>
                <a:cubicBezTo>
                  <a:pt x="4270301" y="3835430"/>
                  <a:pt x="4060779" y="4192632"/>
                  <a:pt x="4470326" y="4457730"/>
                </a:cubicBezTo>
                <a:cubicBezTo>
                  <a:pt x="4879873" y="4722828"/>
                  <a:pt x="6472627" y="4854517"/>
                  <a:pt x="6889507" y="5152967"/>
                </a:cubicBezTo>
                <a:cubicBezTo>
                  <a:pt x="7306387" y="5451417"/>
                  <a:pt x="7402531" y="6243879"/>
                  <a:pt x="6971605" y="6248430"/>
                </a:cubicBezTo>
                <a:cubicBezTo>
                  <a:pt x="6540679" y="6252981"/>
                  <a:pt x="1647751" y="6267480"/>
                  <a:pt x="298376" y="6248430"/>
                </a:cubicBezTo>
                <a:cubicBezTo>
                  <a:pt x="-43876" y="6175430"/>
                  <a:pt x="-136599" y="5422930"/>
                  <a:pt x="260276" y="5067330"/>
                </a:cubicBezTo>
                <a:cubicBezTo>
                  <a:pt x="657151" y="4711730"/>
                  <a:pt x="2270051" y="4724430"/>
                  <a:pt x="2679626" y="4457730"/>
                </a:cubicBezTo>
                <a:close/>
              </a:path>
            </a:pathLst>
          </a:custGeom>
          <a:solidFill>
            <a:schemeClr val="tx2">
              <a:lumMod val="40000"/>
              <a:lumOff val="60000"/>
              <a:alpha val="8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3" name="任意多边形 29"/>
          <p:cNvSpPr/>
          <p:nvPr/>
        </p:nvSpPr>
        <p:spPr>
          <a:xfrm rot="20626800">
            <a:off x="3417840" y="1052280"/>
            <a:ext cx="1550520" cy="1337760"/>
          </a:xfrm>
          <a:custGeom>
            <a:avLst/>
            <a:gdLst>
              <a:gd name="textAreaLeft" fmla="*/ 0 w 1550520"/>
              <a:gd name="textAreaRight" fmla="*/ 1550880 w 1550520"/>
              <a:gd name="textAreaTop" fmla="*/ 0 h 1337760"/>
              <a:gd name="textAreaBottom" fmla="*/ 1338120 h 1337760"/>
            </a:gdLst>
            <a:ahLst/>
            <a:rect l="textAreaLeft" t="textAreaTop" r="textAreaRight" b="textAreaBottom"/>
            <a:pathLst>
              <a:path w="7251966" h="6258000">
                <a:moveTo>
                  <a:pt x="2679626" y="4457730"/>
                </a:moveTo>
                <a:cubicBezTo>
                  <a:pt x="3089201" y="4191030"/>
                  <a:pt x="2797101" y="3781455"/>
                  <a:pt x="2717726" y="3467130"/>
                </a:cubicBezTo>
                <a:cubicBezTo>
                  <a:pt x="2638351" y="3152805"/>
                  <a:pt x="2285926" y="3032155"/>
                  <a:pt x="2203376" y="2571780"/>
                </a:cubicBezTo>
                <a:cubicBezTo>
                  <a:pt x="2120826" y="2111405"/>
                  <a:pt x="2016051" y="1133505"/>
                  <a:pt x="2222426" y="704880"/>
                </a:cubicBezTo>
                <a:cubicBezTo>
                  <a:pt x="2428801" y="276255"/>
                  <a:pt x="2984426" y="3205"/>
                  <a:pt x="3441626" y="30"/>
                </a:cubicBezTo>
                <a:cubicBezTo>
                  <a:pt x="3898826" y="-3145"/>
                  <a:pt x="4708451" y="254030"/>
                  <a:pt x="4965626" y="685830"/>
                </a:cubicBezTo>
                <a:cubicBezTo>
                  <a:pt x="5222801" y="1117630"/>
                  <a:pt x="5073576" y="2111405"/>
                  <a:pt x="4984676" y="2590830"/>
                </a:cubicBezTo>
                <a:cubicBezTo>
                  <a:pt x="4895776" y="3070255"/>
                  <a:pt x="4594151" y="3289330"/>
                  <a:pt x="4432226" y="3562380"/>
                </a:cubicBezTo>
                <a:cubicBezTo>
                  <a:pt x="4270301" y="3835430"/>
                  <a:pt x="4060779" y="4192632"/>
                  <a:pt x="4470326" y="4457730"/>
                </a:cubicBezTo>
                <a:cubicBezTo>
                  <a:pt x="4879873" y="4722828"/>
                  <a:pt x="6472627" y="4854517"/>
                  <a:pt x="6889507" y="5152967"/>
                </a:cubicBezTo>
                <a:cubicBezTo>
                  <a:pt x="7306387" y="5451417"/>
                  <a:pt x="7402531" y="6243879"/>
                  <a:pt x="6971605" y="6248430"/>
                </a:cubicBezTo>
                <a:cubicBezTo>
                  <a:pt x="6540679" y="6252981"/>
                  <a:pt x="1647751" y="6267480"/>
                  <a:pt x="298376" y="6248430"/>
                </a:cubicBezTo>
                <a:cubicBezTo>
                  <a:pt x="-43876" y="6175430"/>
                  <a:pt x="-136599" y="5422930"/>
                  <a:pt x="260276" y="5067330"/>
                </a:cubicBezTo>
                <a:cubicBezTo>
                  <a:pt x="657151" y="4711730"/>
                  <a:pt x="2270051" y="4724430"/>
                  <a:pt x="2679626" y="4457730"/>
                </a:cubicBezTo>
                <a:close/>
              </a:path>
            </a:pathLst>
          </a:cu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p:transition spd="slow" advTm="0">
    <p:push dir="r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0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path" presetID="1" repeatCount="8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9 -0.09013 C 0.13264 -0.09013 0.28611 0.01697 0.28611 0.15123 C 0.28611 0.28426 0.13264 0.3929 -0.0559 0.3929 C -0.24444 0.3929 -0.39722 0.28426 -0.39722 0.15123 C -0.39722 0.01697 -0.24444 -0.09013 -0.0559 -0.09013 Z">
                                      <p:cBhvr>
                                        <p:cTn id="742" dur="3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path" presetID="1" repeatCount="7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198 -0.08982 C 0.12657 -0.08982 0.28004 0.01728 0.28004 0.15154 C 0.28004 0.28457 0.12657 0.39321 -0.06198 0.39321 C -0.25052 0.39321 -0.4033 0.28457 -0.4033 0.15154 C -0.4033 0.01728 -0.25052 -0.08982 -0.06198 -0.08982 Z">
                                      <p:cBhvr>
                                        <p:cTn id="747" dur="3571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 repeatCount="5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3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path" presetID="1" repeatCount="60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06146 -0.08982 C 0.12708 -0.08982 0.28056 0.01728 0.28056 0.15154 C 0.28056 0.28457 0.12708 0.39321 -0.06146 0.39321 C -0.25 0.39321 -0.40278 0.28457 -0.40278 0.15154 C -0.40278 0.01728 -0.25 -0.08982 -0.06146 -0.08982 Z">
                                      <p:cBhvr>
                                        <p:cTn id="752" dur="3917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0" repeatCount="5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path" presetID="1" repeatCount="50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559 -0.08487 C 0.13264 -0.08487 0.28611 0.02222 0.28611 0.15648 C 0.28611 0.28951 0.13264 0.39815 -0.0559 0.39815 C -0.24444 0.39815 -0.39722 0.28951 -0.39722 0.15648 C -0.39722 0.02222 -0.24444 -0.08487 -0.0559 -0.08487 Z">
                                      <p:cBhvr>
                                        <p:cTn id="757" dur="37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7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path" presetID="1" repeatCount="400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0.05451 -0.08611 C 0.13403 -0.08611 0.2875 0.02099 0.2875 0.15525 C 0.2875 0.28827 0.13403 0.39691 -0.05451 0.39691 C -0.24305 0.39691 -0.39583 0.28827 -0.39583 0.15525 C -0.39583 0.02099 -0.24305 -0.08611 -0.05451 -0.08611 Z">
                                      <p:cBhvr>
                                        <p:cTn id="768" dur="3125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1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-30960" y="3629160"/>
            <a:ext cx="157716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1616040" y="4346640"/>
            <a:ext cx="26683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ET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宋体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25"/>
          <p:cNvSpPr/>
          <p:nvPr/>
        </p:nvSpPr>
        <p:spPr>
          <a:xfrm>
            <a:off x="3238560" y="1944720"/>
            <a:ext cx="1172880" cy="1010880"/>
          </a:xfrm>
          <a:custGeom>
            <a:avLst/>
            <a:gdLst>
              <a:gd name="textAreaLeft" fmla="*/ 0 w 1172880"/>
              <a:gd name="textAreaRight" fmla="*/ 1173240 w 1172880"/>
              <a:gd name="textAreaTop" fmla="*/ 0 h 1010880"/>
              <a:gd name="textAreaBottom" fmla="*/ 1011240 h 1010880"/>
            </a:gdLst>
            <a:ahLst/>
            <a:rect l="textAreaLeft" t="textAreaTop" r="textAreaRight" b="textAreaBottom"/>
            <a:pathLst>
              <a:path w="7251966" h="6258000">
                <a:moveTo>
                  <a:pt x="2679626" y="4457730"/>
                </a:moveTo>
                <a:cubicBezTo>
                  <a:pt x="3089201" y="4191030"/>
                  <a:pt x="2797101" y="3781455"/>
                  <a:pt x="2717726" y="3467130"/>
                </a:cubicBezTo>
                <a:cubicBezTo>
                  <a:pt x="2638351" y="3152805"/>
                  <a:pt x="2285926" y="3032155"/>
                  <a:pt x="2203376" y="2571780"/>
                </a:cubicBezTo>
                <a:cubicBezTo>
                  <a:pt x="2120826" y="2111405"/>
                  <a:pt x="2016051" y="1133505"/>
                  <a:pt x="2222426" y="704880"/>
                </a:cubicBezTo>
                <a:cubicBezTo>
                  <a:pt x="2428801" y="276255"/>
                  <a:pt x="2984426" y="3205"/>
                  <a:pt x="3441626" y="30"/>
                </a:cubicBezTo>
                <a:cubicBezTo>
                  <a:pt x="3898826" y="-3145"/>
                  <a:pt x="4708451" y="254030"/>
                  <a:pt x="4965626" y="685830"/>
                </a:cubicBezTo>
                <a:cubicBezTo>
                  <a:pt x="5222801" y="1117630"/>
                  <a:pt x="5073576" y="2111405"/>
                  <a:pt x="4984676" y="2590830"/>
                </a:cubicBezTo>
                <a:cubicBezTo>
                  <a:pt x="4895776" y="3070255"/>
                  <a:pt x="4594151" y="3289330"/>
                  <a:pt x="4432226" y="3562380"/>
                </a:cubicBezTo>
                <a:cubicBezTo>
                  <a:pt x="4270301" y="3835430"/>
                  <a:pt x="4060779" y="4192632"/>
                  <a:pt x="4470326" y="4457730"/>
                </a:cubicBezTo>
                <a:cubicBezTo>
                  <a:pt x="4879873" y="4722828"/>
                  <a:pt x="6472627" y="4854517"/>
                  <a:pt x="6889507" y="5152967"/>
                </a:cubicBezTo>
                <a:cubicBezTo>
                  <a:pt x="7306387" y="5451417"/>
                  <a:pt x="7402531" y="6243879"/>
                  <a:pt x="6971605" y="6248430"/>
                </a:cubicBezTo>
                <a:cubicBezTo>
                  <a:pt x="6540679" y="6252981"/>
                  <a:pt x="1647751" y="6267480"/>
                  <a:pt x="298376" y="6248430"/>
                </a:cubicBezTo>
                <a:cubicBezTo>
                  <a:pt x="-43876" y="6175430"/>
                  <a:pt x="-136599" y="5422930"/>
                  <a:pt x="260276" y="5067330"/>
                </a:cubicBezTo>
                <a:cubicBezTo>
                  <a:pt x="657151" y="4711730"/>
                  <a:pt x="2270051" y="4724430"/>
                  <a:pt x="2679626" y="4457730"/>
                </a:cubicBezTo>
                <a:close/>
              </a:path>
            </a:pathLst>
          </a:cu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7" name="右箭头 3"/>
          <p:cNvSpPr/>
          <p:nvPr/>
        </p:nvSpPr>
        <p:spPr>
          <a:xfrm>
            <a:off x="2479680" y="2432160"/>
            <a:ext cx="369360" cy="277560"/>
          </a:xfrm>
          <a:custGeom>
            <a:avLst/>
            <a:gdLst>
              <a:gd name="textAreaLeft" fmla="*/ 0 w 369360"/>
              <a:gd name="textAreaRight" fmla="*/ 369720 w 3693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8" name="右箭头 3"/>
          <p:cNvSpPr/>
          <p:nvPr/>
        </p:nvSpPr>
        <p:spPr>
          <a:xfrm>
            <a:off x="2525760" y="2432160"/>
            <a:ext cx="371160" cy="277560"/>
          </a:xfrm>
          <a:custGeom>
            <a:avLst/>
            <a:gdLst>
              <a:gd name="textAreaLeft" fmla="*/ 0 w 371160"/>
              <a:gd name="textAreaRight" fmla="*/ 371520 w 3711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9" name="右箭头 3"/>
          <p:cNvSpPr/>
          <p:nvPr/>
        </p:nvSpPr>
        <p:spPr>
          <a:xfrm flipH="1" rot="16200000">
            <a:off x="4153320" y="1037160"/>
            <a:ext cx="423360" cy="253800"/>
          </a:xfrm>
          <a:custGeom>
            <a:avLst/>
            <a:gdLst>
              <a:gd name="textAreaLeft" fmla="*/ 360 w 423360"/>
              <a:gd name="textAreaRight" fmla="*/ 424080 w 4233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0" name="右箭头 3"/>
          <p:cNvSpPr/>
          <p:nvPr/>
        </p:nvSpPr>
        <p:spPr>
          <a:xfrm flipH="1" rot="16200000">
            <a:off x="4152600" y="1046160"/>
            <a:ext cx="425160" cy="253800"/>
          </a:xfrm>
          <a:custGeom>
            <a:avLst/>
            <a:gdLst>
              <a:gd name="textAreaLeft" fmla="*/ -360 w 425160"/>
              <a:gd name="textAreaRight" fmla="*/ 425160 w 4251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1" name="右箭头 3"/>
          <p:cNvSpPr/>
          <p:nvPr/>
        </p:nvSpPr>
        <p:spPr>
          <a:xfrm rot="10800000">
            <a:off x="5648760" y="2484720"/>
            <a:ext cx="369360" cy="279000"/>
          </a:xfrm>
          <a:custGeom>
            <a:avLst/>
            <a:gdLst>
              <a:gd name="textAreaLeft" fmla="*/ 0 w 369360"/>
              <a:gd name="textAreaRight" fmla="*/ 369720 w 369360"/>
              <a:gd name="textAreaTop" fmla="*/ 0 h 279000"/>
              <a:gd name="textAreaBottom" fmla="*/ 279360 h 27900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2" name="右箭头 3"/>
          <p:cNvSpPr/>
          <p:nvPr/>
        </p:nvSpPr>
        <p:spPr>
          <a:xfrm rot="10800000">
            <a:off x="5669280" y="2484720"/>
            <a:ext cx="371160" cy="279000"/>
          </a:xfrm>
          <a:custGeom>
            <a:avLst/>
            <a:gdLst>
              <a:gd name="textAreaLeft" fmla="*/ 0 w 371160"/>
              <a:gd name="textAreaRight" fmla="*/ 371520 w 371160"/>
              <a:gd name="textAreaTop" fmla="*/ 0 h 279000"/>
              <a:gd name="textAreaBottom" fmla="*/ 279360 h 27900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3" name="任意多边形 58"/>
          <p:cNvSpPr/>
          <p:nvPr/>
        </p:nvSpPr>
        <p:spPr>
          <a:xfrm>
            <a:off x="6638760" y="3611520"/>
            <a:ext cx="1601280" cy="1382400"/>
          </a:xfrm>
          <a:custGeom>
            <a:avLst/>
            <a:gdLst>
              <a:gd name="textAreaLeft" fmla="*/ 0 w 1601280"/>
              <a:gd name="textAreaRight" fmla="*/ 1601640 w 1601280"/>
              <a:gd name="textAreaTop" fmla="*/ 0 h 1382400"/>
              <a:gd name="textAreaBottom" fmla="*/ 1382760 h 1382400"/>
            </a:gdLst>
            <a:ahLst/>
            <a:rect l="textAreaLeft" t="textAreaTop" r="textAreaRight" b="textAreaBottom"/>
            <a:pathLst>
              <a:path w="7251966" h="6258000">
                <a:moveTo>
                  <a:pt x="2679626" y="4457730"/>
                </a:moveTo>
                <a:cubicBezTo>
                  <a:pt x="3089201" y="4191030"/>
                  <a:pt x="2797101" y="3781455"/>
                  <a:pt x="2717726" y="3467130"/>
                </a:cubicBezTo>
                <a:cubicBezTo>
                  <a:pt x="2638351" y="3152805"/>
                  <a:pt x="2285926" y="3032155"/>
                  <a:pt x="2203376" y="2571780"/>
                </a:cubicBezTo>
                <a:cubicBezTo>
                  <a:pt x="2120826" y="2111405"/>
                  <a:pt x="2016051" y="1133505"/>
                  <a:pt x="2222426" y="704880"/>
                </a:cubicBezTo>
                <a:cubicBezTo>
                  <a:pt x="2428801" y="276255"/>
                  <a:pt x="2984426" y="3205"/>
                  <a:pt x="3441626" y="30"/>
                </a:cubicBezTo>
                <a:cubicBezTo>
                  <a:pt x="3898826" y="-3145"/>
                  <a:pt x="4708451" y="254030"/>
                  <a:pt x="4965626" y="685830"/>
                </a:cubicBezTo>
                <a:cubicBezTo>
                  <a:pt x="5222801" y="1117630"/>
                  <a:pt x="5073576" y="2111405"/>
                  <a:pt x="4984676" y="2590830"/>
                </a:cubicBezTo>
                <a:cubicBezTo>
                  <a:pt x="4895776" y="3070255"/>
                  <a:pt x="4594151" y="3289330"/>
                  <a:pt x="4432226" y="3562380"/>
                </a:cubicBezTo>
                <a:cubicBezTo>
                  <a:pt x="4270301" y="3835430"/>
                  <a:pt x="4060779" y="4192632"/>
                  <a:pt x="4470326" y="4457730"/>
                </a:cubicBezTo>
                <a:cubicBezTo>
                  <a:pt x="4879873" y="4722828"/>
                  <a:pt x="6472627" y="4854517"/>
                  <a:pt x="6889507" y="5152967"/>
                </a:cubicBezTo>
                <a:cubicBezTo>
                  <a:pt x="7306387" y="5451417"/>
                  <a:pt x="7402531" y="6243879"/>
                  <a:pt x="6971605" y="6248430"/>
                </a:cubicBezTo>
                <a:cubicBezTo>
                  <a:pt x="6540679" y="6252981"/>
                  <a:pt x="1647751" y="6267480"/>
                  <a:pt x="298376" y="6248430"/>
                </a:cubicBezTo>
                <a:cubicBezTo>
                  <a:pt x="-43876" y="6175430"/>
                  <a:pt x="-136599" y="5422930"/>
                  <a:pt x="260276" y="5067330"/>
                </a:cubicBezTo>
                <a:cubicBezTo>
                  <a:pt x="657151" y="4711730"/>
                  <a:pt x="2270051" y="4724430"/>
                  <a:pt x="2679626" y="4457730"/>
                </a:cubicBezTo>
                <a:close/>
              </a:path>
            </a:pathLst>
          </a:custGeom>
          <a:solidFill>
            <a:schemeClr val="tx1">
              <a:alpha val="1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4" name="右箭头 3"/>
          <p:cNvSpPr/>
          <p:nvPr/>
        </p:nvSpPr>
        <p:spPr>
          <a:xfrm>
            <a:off x="5308560" y="4305240"/>
            <a:ext cx="560160" cy="421920"/>
          </a:xfrm>
          <a:custGeom>
            <a:avLst/>
            <a:gdLst>
              <a:gd name="textAreaLeft" fmla="*/ 0 w 560160"/>
              <a:gd name="textAreaRight" fmla="*/ 560520 w 560160"/>
              <a:gd name="textAreaTop" fmla="*/ 0 h 421920"/>
              <a:gd name="textAreaBottom" fmla="*/ 422280 h 42192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1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5" name="右箭头 3"/>
          <p:cNvSpPr/>
          <p:nvPr/>
        </p:nvSpPr>
        <p:spPr>
          <a:xfrm>
            <a:off x="5356080" y="4305240"/>
            <a:ext cx="560160" cy="421920"/>
          </a:xfrm>
          <a:custGeom>
            <a:avLst/>
            <a:gdLst>
              <a:gd name="textAreaLeft" fmla="*/ 0 w 560160"/>
              <a:gd name="textAreaRight" fmla="*/ 560520 w 560160"/>
              <a:gd name="textAreaTop" fmla="*/ 0 h 421920"/>
              <a:gd name="textAreaBottom" fmla="*/ 422280 h 42192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1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6" name="右箭头 3"/>
          <p:cNvSpPr/>
          <p:nvPr/>
        </p:nvSpPr>
        <p:spPr>
          <a:xfrm flipH="1" rot="16200000">
            <a:off x="7174800" y="2710440"/>
            <a:ext cx="641160" cy="382320"/>
          </a:xfrm>
          <a:custGeom>
            <a:avLst/>
            <a:gdLst>
              <a:gd name="textAreaLeft" fmla="*/ -360 w 641160"/>
              <a:gd name="textAreaRight" fmla="*/ 641160 w 64116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1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7" name="右箭头 3"/>
          <p:cNvSpPr/>
          <p:nvPr/>
        </p:nvSpPr>
        <p:spPr>
          <a:xfrm flipH="1" rot="16200000">
            <a:off x="7174800" y="2705760"/>
            <a:ext cx="641160" cy="382320"/>
          </a:xfrm>
          <a:custGeom>
            <a:avLst/>
            <a:gdLst>
              <a:gd name="textAreaLeft" fmla="*/ -360 w 641160"/>
              <a:gd name="textAreaRight" fmla="*/ 641160 w 64116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1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8" name="右箭头 3"/>
          <p:cNvSpPr/>
          <p:nvPr/>
        </p:nvSpPr>
        <p:spPr>
          <a:xfrm rot="10800000">
            <a:off x="8477640" y="4359600"/>
            <a:ext cx="560160" cy="420480"/>
          </a:xfrm>
          <a:custGeom>
            <a:avLst/>
            <a:gdLst>
              <a:gd name="textAreaLeft" fmla="*/ 0 w 560160"/>
              <a:gd name="textAreaRight" fmla="*/ 560520 w 56016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1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9" name="右箭头 3"/>
          <p:cNvSpPr/>
          <p:nvPr/>
        </p:nvSpPr>
        <p:spPr>
          <a:xfrm rot="10800000">
            <a:off x="8487360" y="4378680"/>
            <a:ext cx="558360" cy="420480"/>
          </a:xfrm>
          <a:custGeom>
            <a:avLst/>
            <a:gdLst>
              <a:gd name="textAreaLeft" fmla="*/ 0 w 558360"/>
              <a:gd name="textAreaRight" fmla="*/ 558720 w 55836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1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00" name="任意多边形 65"/>
          <p:cNvSpPr/>
          <p:nvPr/>
        </p:nvSpPr>
        <p:spPr>
          <a:xfrm>
            <a:off x="1292400" y="395280"/>
            <a:ext cx="775800" cy="667800"/>
          </a:xfrm>
          <a:custGeom>
            <a:avLst/>
            <a:gdLst>
              <a:gd name="textAreaLeft" fmla="*/ 0 w 775800"/>
              <a:gd name="textAreaRight" fmla="*/ 776160 w 775800"/>
              <a:gd name="textAreaTop" fmla="*/ 0 h 667800"/>
              <a:gd name="textAreaBottom" fmla="*/ 668160 h 667800"/>
            </a:gdLst>
            <a:ahLst/>
            <a:rect l="textAreaLeft" t="textAreaTop" r="textAreaRight" b="textAreaBottom"/>
            <a:pathLst>
              <a:path w="7251966" h="6258000">
                <a:moveTo>
                  <a:pt x="2679626" y="4457730"/>
                </a:moveTo>
                <a:cubicBezTo>
                  <a:pt x="3089201" y="4191030"/>
                  <a:pt x="2797101" y="3781455"/>
                  <a:pt x="2717726" y="3467130"/>
                </a:cubicBezTo>
                <a:cubicBezTo>
                  <a:pt x="2638351" y="3152805"/>
                  <a:pt x="2285926" y="3032155"/>
                  <a:pt x="2203376" y="2571780"/>
                </a:cubicBezTo>
                <a:cubicBezTo>
                  <a:pt x="2120826" y="2111405"/>
                  <a:pt x="2016051" y="1133505"/>
                  <a:pt x="2222426" y="704880"/>
                </a:cubicBezTo>
                <a:cubicBezTo>
                  <a:pt x="2428801" y="276255"/>
                  <a:pt x="2984426" y="3205"/>
                  <a:pt x="3441626" y="30"/>
                </a:cubicBezTo>
                <a:cubicBezTo>
                  <a:pt x="3898826" y="-3145"/>
                  <a:pt x="4708451" y="254030"/>
                  <a:pt x="4965626" y="685830"/>
                </a:cubicBezTo>
                <a:cubicBezTo>
                  <a:pt x="5222801" y="1117630"/>
                  <a:pt x="5073576" y="2111405"/>
                  <a:pt x="4984676" y="2590830"/>
                </a:cubicBezTo>
                <a:cubicBezTo>
                  <a:pt x="4895776" y="3070255"/>
                  <a:pt x="4594151" y="3289330"/>
                  <a:pt x="4432226" y="3562380"/>
                </a:cubicBezTo>
                <a:cubicBezTo>
                  <a:pt x="4270301" y="3835430"/>
                  <a:pt x="4060779" y="4192632"/>
                  <a:pt x="4470326" y="4457730"/>
                </a:cubicBezTo>
                <a:cubicBezTo>
                  <a:pt x="4879873" y="4722828"/>
                  <a:pt x="6472627" y="4854517"/>
                  <a:pt x="6889507" y="5152967"/>
                </a:cubicBezTo>
                <a:cubicBezTo>
                  <a:pt x="7306387" y="5451417"/>
                  <a:pt x="7402531" y="6243879"/>
                  <a:pt x="6971605" y="6248430"/>
                </a:cubicBezTo>
                <a:cubicBezTo>
                  <a:pt x="6540679" y="6252981"/>
                  <a:pt x="1647751" y="6267480"/>
                  <a:pt x="298376" y="6248430"/>
                </a:cubicBezTo>
                <a:cubicBezTo>
                  <a:pt x="-43876" y="6175430"/>
                  <a:pt x="-136599" y="5422930"/>
                  <a:pt x="260276" y="5067330"/>
                </a:cubicBezTo>
                <a:cubicBezTo>
                  <a:pt x="657151" y="4711730"/>
                  <a:pt x="2270051" y="4724430"/>
                  <a:pt x="2679626" y="4457730"/>
                </a:cubicBezTo>
                <a:close/>
              </a:path>
            </a:pathLst>
          </a:custGeom>
          <a:solidFill>
            <a:schemeClr val="tx1">
              <a:alpha val="1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01" name="右箭头 3"/>
          <p:cNvSpPr/>
          <p:nvPr/>
        </p:nvSpPr>
        <p:spPr>
          <a:xfrm>
            <a:off x="460440" y="658800"/>
            <a:ext cx="271080" cy="204480"/>
          </a:xfrm>
          <a:custGeom>
            <a:avLst/>
            <a:gdLst>
              <a:gd name="textAreaLeft" fmla="*/ 0 w 271080"/>
              <a:gd name="textAreaRight" fmla="*/ 271440 w 27108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1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02" name="右箭头 3"/>
          <p:cNvSpPr/>
          <p:nvPr/>
        </p:nvSpPr>
        <p:spPr>
          <a:xfrm>
            <a:off x="507960" y="658800"/>
            <a:ext cx="271080" cy="204480"/>
          </a:xfrm>
          <a:custGeom>
            <a:avLst/>
            <a:gdLst>
              <a:gd name="textAreaLeft" fmla="*/ 0 w 271080"/>
              <a:gd name="textAreaRight" fmla="*/ 271440 w 27108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1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03" name="右箭头 3"/>
          <p:cNvSpPr/>
          <p:nvPr/>
        </p:nvSpPr>
        <p:spPr>
          <a:xfrm flipH="1" rot="16200000">
            <a:off x="1534680" y="22320"/>
            <a:ext cx="309240" cy="185400"/>
          </a:xfrm>
          <a:custGeom>
            <a:avLst/>
            <a:gdLst>
              <a:gd name="textAreaLeft" fmla="*/ -360 w 309240"/>
              <a:gd name="textAreaRight" fmla="*/ 309240 w 30924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1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04" name="右箭头 3"/>
          <p:cNvSpPr/>
          <p:nvPr/>
        </p:nvSpPr>
        <p:spPr>
          <a:xfrm flipH="1" rot="16200000">
            <a:off x="1534680" y="17640"/>
            <a:ext cx="309240" cy="185400"/>
          </a:xfrm>
          <a:custGeom>
            <a:avLst/>
            <a:gdLst>
              <a:gd name="textAreaLeft" fmla="*/ -360 w 309240"/>
              <a:gd name="textAreaRight" fmla="*/ 309240 w 30924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1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05" name="右箭头 3"/>
          <p:cNvSpPr/>
          <p:nvPr/>
        </p:nvSpPr>
        <p:spPr>
          <a:xfrm rot="10800000">
            <a:off x="2341800" y="670320"/>
            <a:ext cx="269640" cy="204480"/>
          </a:xfrm>
          <a:custGeom>
            <a:avLst/>
            <a:gdLst>
              <a:gd name="textAreaLeft" fmla="*/ 0 w 269640"/>
              <a:gd name="textAreaRight" fmla="*/ 270000 w 26964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1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06" name="右箭头 3"/>
          <p:cNvSpPr/>
          <p:nvPr/>
        </p:nvSpPr>
        <p:spPr>
          <a:xfrm rot="10800000">
            <a:off x="2349720" y="670320"/>
            <a:ext cx="271080" cy="204480"/>
          </a:xfrm>
          <a:custGeom>
            <a:avLst/>
            <a:gdLst>
              <a:gd name="textAreaLeft" fmla="*/ 0 w 271080"/>
              <a:gd name="textAreaRight" fmla="*/ 271440 w 27108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1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07" name="任意多边形 72"/>
          <p:cNvSpPr/>
          <p:nvPr/>
        </p:nvSpPr>
        <p:spPr>
          <a:xfrm>
            <a:off x="228600" y="463680"/>
            <a:ext cx="2136240" cy="1842840"/>
          </a:xfrm>
          <a:custGeom>
            <a:avLst/>
            <a:gdLst>
              <a:gd name="textAreaLeft" fmla="*/ 0 w 2136240"/>
              <a:gd name="textAreaRight" fmla="*/ 2136600 w 2136240"/>
              <a:gd name="textAreaTop" fmla="*/ 0 h 1842840"/>
              <a:gd name="textAreaBottom" fmla="*/ 1843200 h 1842840"/>
            </a:gdLst>
            <a:ahLst/>
            <a:rect l="textAreaLeft" t="textAreaTop" r="textAreaRight" b="textAreaBottom"/>
            <a:pathLst>
              <a:path w="7251966" h="6258000">
                <a:moveTo>
                  <a:pt x="2679626" y="4457730"/>
                </a:moveTo>
                <a:cubicBezTo>
                  <a:pt x="3089201" y="4191030"/>
                  <a:pt x="2797101" y="3781455"/>
                  <a:pt x="2717726" y="3467130"/>
                </a:cubicBezTo>
                <a:cubicBezTo>
                  <a:pt x="2638351" y="3152805"/>
                  <a:pt x="2285926" y="3032155"/>
                  <a:pt x="2203376" y="2571780"/>
                </a:cubicBezTo>
                <a:cubicBezTo>
                  <a:pt x="2120826" y="2111405"/>
                  <a:pt x="2016051" y="1133505"/>
                  <a:pt x="2222426" y="704880"/>
                </a:cubicBezTo>
                <a:cubicBezTo>
                  <a:pt x="2428801" y="276255"/>
                  <a:pt x="2984426" y="3205"/>
                  <a:pt x="3441626" y="30"/>
                </a:cubicBezTo>
                <a:cubicBezTo>
                  <a:pt x="3898826" y="-3145"/>
                  <a:pt x="4708451" y="254030"/>
                  <a:pt x="4965626" y="685830"/>
                </a:cubicBezTo>
                <a:cubicBezTo>
                  <a:pt x="5222801" y="1117630"/>
                  <a:pt x="5073576" y="2111405"/>
                  <a:pt x="4984676" y="2590830"/>
                </a:cubicBezTo>
                <a:cubicBezTo>
                  <a:pt x="4895776" y="3070255"/>
                  <a:pt x="4594151" y="3289330"/>
                  <a:pt x="4432226" y="3562380"/>
                </a:cubicBezTo>
                <a:cubicBezTo>
                  <a:pt x="4270301" y="3835430"/>
                  <a:pt x="4060779" y="4192632"/>
                  <a:pt x="4470326" y="4457730"/>
                </a:cubicBezTo>
                <a:cubicBezTo>
                  <a:pt x="4879873" y="4722828"/>
                  <a:pt x="6472627" y="4854517"/>
                  <a:pt x="6889507" y="5152967"/>
                </a:cubicBezTo>
                <a:cubicBezTo>
                  <a:pt x="7306387" y="5451417"/>
                  <a:pt x="7402531" y="6243879"/>
                  <a:pt x="6971605" y="6248430"/>
                </a:cubicBezTo>
                <a:cubicBezTo>
                  <a:pt x="6540679" y="6252981"/>
                  <a:pt x="1647751" y="6267480"/>
                  <a:pt x="298376" y="6248430"/>
                </a:cubicBezTo>
                <a:cubicBezTo>
                  <a:pt x="-43876" y="6175430"/>
                  <a:pt x="-136599" y="5422930"/>
                  <a:pt x="260276" y="5067330"/>
                </a:cubicBezTo>
                <a:cubicBezTo>
                  <a:pt x="657151" y="4711730"/>
                  <a:pt x="2270051" y="4724430"/>
                  <a:pt x="2679626" y="4457730"/>
                </a:cubicBezTo>
                <a:close/>
              </a:path>
            </a:pathLst>
          </a:custGeom>
          <a:solidFill>
            <a:schemeClr val="tx1">
              <a:alpha val="1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08" name="任意多边形 73"/>
          <p:cNvSpPr/>
          <p:nvPr/>
        </p:nvSpPr>
        <p:spPr>
          <a:xfrm>
            <a:off x="6985080" y="1604880"/>
            <a:ext cx="391680" cy="339480"/>
          </a:xfrm>
          <a:custGeom>
            <a:avLst/>
            <a:gdLst>
              <a:gd name="textAreaLeft" fmla="*/ 0 w 391680"/>
              <a:gd name="textAreaRight" fmla="*/ 392040 w 3916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7251966" h="6258000">
                <a:moveTo>
                  <a:pt x="2679626" y="4457730"/>
                </a:moveTo>
                <a:cubicBezTo>
                  <a:pt x="3089201" y="4191030"/>
                  <a:pt x="2797101" y="3781455"/>
                  <a:pt x="2717726" y="3467130"/>
                </a:cubicBezTo>
                <a:cubicBezTo>
                  <a:pt x="2638351" y="3152805"/>
                  <a:pt x="2285926" y="3032155"/>
                  <a:pt x="2203376" y="2571780"/>
                </a:cubicBezTo>
                <a:cubicBezTo>
                  <a:pt x="2120826" y="2111405"/>
                  <a:pt x="2016051" y="1133505"/>
                  <a:pt x="2222426" y="704880"/>
                </a:cubicBezTo>
                <a:cubicBezTo>
                  <a:pt x="2428801" y="276255"/>
                  <a:pt x="2984426" y="3205"/>
                  <a:pt x="3441626" y="30"/>
                </a:cubicBezTo>
                <a:cubicBezTo>
                  <a:pt x="3898826" y="-3145"/>
                  <a:pt x="4708451" y="254030"/>
                  <a:pt x="4965626" y="685830"/>
                </a:cubicBezTo>
                <a:cubicBezTo>
                  <a:pt x="5222801" y="1117630"/>
                  <a:pt x="5073576" y="2111405"/>
                  <a:pt x="4984676" y="2590830"/>
                </a:cubicBezTo>
                <a:cubicBezTo>
                  <a:pt x="4895776" y="3070255"/>
                  <a:pt x="4594151" y="3289330"/>
                  <a:pt x="4432226" y="3562380"/>
                </a:cubicBezTo>
                <a:cubicBezTo>
                  <a:pt x="4270301" y="3835430"/>
                  <a:pt x="4060779" y="4192632"/>
                  <a:pt x="4470326" y="4457730"/>
                </a:cubicBezTo>
                <a:cubicBezTo>
                  <a:pt x="4879873" y="4722828"/>
                  <a:pt x="6472627" y="4854517"/>
                  <a:pt x="6889507" y="5152967"/>
                </a:cubicBezTo>
                <a:cubicBezTo>
                  <a:pt x="7306387" y="5451417"/>
                  <a:pt x="7402531" y="6243879"/>
                  <a:pt x="6971605" y="6248430"/>
                </a:cubicBezTo>
                <a:cubicBezTo>
                  <a:pt x="6540679" y="6252981"/>
                  <a:pt x="1647751" y="6267480"/>
                  <a:pt x="298376" y="6248430"/>
                </a:cubicBezTo>
                <a:cubicBezTo>
                  <a:pt x="-43876" y="6175430"/>
                  <a:pt x="-136599" y="5422930"/>
                  <a:pt x="260276" y="5067330"/>
                </a:cubicBezTo>
                <a:cubicBezTo>
                  <a:pt x="657151" y="4711730"/>
                  <a:pt x="2270051" y="4724430"/>
                  <a:pt x="2679626" y="4457730"/>
                </a:cubicBezTo>
                <a:close/>
              </a:path>
            </a:pathLst>
          </a:custGeom>
          <a:solidFill>
            <a:schemeClr val="tx1"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09" name="右箭头 3"/>
          <p:cNvSpPr/>
          <p:nvPr/>
        </p:nvSpPr>
        <p:spPr>
          <a:xfrm>
            <a:off x="6483240" y="1639800"/>
            <a:ext cx="136080" cy="102960"/>
          </a:xfrm>
          <a:custGeom>
            <a:avLst/>
            <a:gdLst>
              <a:gd name="textAreaLeft" fmla="*/ 0 w 136080"/>
              <a:gd name="textAreaRight" fmla="*/ 136440 w 1360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10" name="右箭头 3"/>
          <p:cNvSpPr/>
          <p:nvPr/>
        </p:nvSpPr>
        <p:spPr>
          <a:xfrm>
            <a:off x="6531120" y="1639800"/>
            <a:ext cx="136080" cy="102960"/>
          </a:xfrm>
          <a:custGeom>
            <a:avLst/>
            <a:gdLst>
              <a:gd name="textAreaLeft" fmla="*/ 0 w 136080"/>
              <a:gd name="textAreaRight" fmla="*/ 136440 w 1360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11" name="右箭头 3"/>
          <p:cNvSpPr/>
          <p:nvPr/>
        </p:nvSpPr>
        <p:spPr>
          <a:xfrm flipH="1" rot="16200000">
            <a:off x="7079760" y="1305000"/>
            <a:ext cx="156960" cy="93240"/>
          </a:xfrm>
          <a:custGeom>
            <a:avLst/>
            <a:gdLst>
              <a:gd name="textAreaLeft" fmla="*/ 360 w 156960"/>
              <a:gd name="textAreaRight" fmla="*/ 157680 w 156960"/>
              <a:gd name="textAreaTop" fmla="*/ 0 h 93240"/>
              <a:gd name="textAreaBottom" fmla="*/ 93600 h 9324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12" name="右箭头 3"/>
          <p:cNvSpPr/>
          <p:nvPr/>
        </p:nvSpPr>
        <p:spPr>
          <a:xfrm flipH="1" rot="16200000">
            <a:off x="7079760" y="1299960"/>
            <a:ext cx="156960" cy="93240"/>
          </a:xfrm>
          <a:custGeom>
            <a:avLst/>
            <a:gdLst>
              <a:gd name="textAreaLeft" fmla="*/ 360 w 156960"/>
              <a:gd name="textAreaRight" fmla="*/ 157680 w 156960"/>
              <a:gd name="textAreaTop" fmla="*/ 0 h 93240"/>
              <a:gd name="textAreaBottom" fmla="*/ 93600 h 9324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13" name="右箭头 3"/>
          <p:cNvSpPr/>
          <p:nvPr/>
        </p:nvSpPr>
        <p:spPr>
          <a:xfrm rot="10800000">
            <a:off x="7486920" y="1651320"/>
            <a:ext cx="137880" cy="102960"/>
          </a:xfrm>
          <a:custGeom>
            <a:avLst/>
            <a:gdLst>
              <a:gd name="textAreaLeft" fmla="*/ 0 w 137880"/>
              <a:gd name="textAreaRight" fmla="*/ 138240 w 1378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14" name="右箭头 3"/>
          <p:cNvSpPr/>
          <p:nvPr/>
        </p:nvSpPr>
        <p:spPr>
          <a:xfrm rot="10800000">
            <a:off x="7496640" y="1651320"/>
            <a:ext cx="136080" cy="102960"/>
          </a:xfrm>
          <a:custGeom>
            <a:avLst/>
            <a:gdLst>
              <a:gd name="textAreaLeft" fmla="*/ 0 w 136080"/>
              <a:gd name="textAreaRight" fmla="*/ 136440 w 1360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70681" h="278970">
                <a:moveTo>
                  <a:pt x="793" y="92075"/>
                </a:moveTo>
                <a:lnTo>
                  <a:pt x="241223" y="99354"/>
                </a:lnTo>
                <a:lnTo>
                  <a:pt x="131256" y="0"/>
                </a:lnTo>
                <a:cubicBezTo>
                  <a:pt x="177293" y="2166"/>
                  <a:pt x="199518" y="1948"/>
                  <a:pt x="233649" y="1732"/>
                </a:cubicBezTo>
                <a:lnTo>
                  <a:pt x="370681" y="128445"/>
                </a:lnTo>
                <a:lnTo>
                  <a:pt x="231268" y="278970"/>
                </a:lnTo>
                <a:lnTo>
                  <a:pt x="140781" y="274352"/>
                </a:lnTo>
                <a:lnTo>
                  <a:pt x="241223" y="162854"/>
                </a:lnTo>
                <a:lnTo>
                  <a:pt x="0" y="166401"/>
                </a:lnTo>
                <a:cubicBezTo>
                  <a:pt x="264" y="141626"/>
                  <a:pt x="529" y="116850"/>
                  <a:pt x="793" y="92075"/>
                </a:cubicBezTo>
                <a:close/>
              </a:path>
            </a:pathLst>
          </a:custGeom>
          <a:solidFill>
            <a:schemeClr val="tx1"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p:transition spd="med" advTm="0">
    <p:fade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3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5679E-006 L 0.06215 -4.5679E-006 E">
                                      <p:cBhvr>
                                        <p:cTn id="787" dur="3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path" presetID="63" repeatCount="8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5802E-006 L 0.02621 -1.35802E-006 E">
                                      <p:cBhvr>
                                        <p:cTn id="794" dur="1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0503 -1.35802E-006 L 0.02118 -1.35802E-006 E">
                                      <p:cBhvr>
                                        <p:cTn id="798" dur="1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42" repeatCount="8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5.55556E-007 -0.03519 L -5.55556E-007 4.07407E-006 E">
                                      <p:cBhvr>
                                        <p:cTn id="805" dur="142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path" presetID="63" repeatCount="6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94444E-006 4.81481E-006 L -0.02552 4.81481E-006 E">
                                      <p:cBhvr>
                                        <p:cTn id="811" dur="1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2795 4.81481E-006 L -0.02535 4.81481E-006 E">
                                      <p:cBhvr>
                                        <p:cTn id="815" dur="1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path" presetID="63" repeatCount="4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1.35802E-006 L 0.02621 -1.35802E-006 E">
                                      <p:cBhvr>
                                        <p:cTn id="822" dur="1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503 -1.35802E-006 L 0.02118 -1.35802E-006 E">
                                      <p:cBhvr>
                                        <p:cTn id="826" dur="1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path" presetID="42" repeatCount="6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.55556E-007 -0.03519 L -5.55556E-007 4.07407E-006 E">
                                      <p:cBhvr>
                                        <p:cTn id="833" dur="163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path" presetID="63" repeatCount="6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3177 0.00123 L 3.33333E-006 3.82716E-006 E">
                                      <p:cBhvr>
                                        <p:cTn id="839" dur="125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path" presetID="63" repeatCount="400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5.55556E-007 -1.35802E-006 L 0.02621 -1.35802E-006 E">
                                      <p:cBhvr>
                                        <p:cTn id="846" dur="1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path" presetID="63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0503 -1.35802E-006 L 0.02118 -1.35802E-006 E">
                                      <p:cBhvr>
                                        <p:cTn id="850" dur="1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path" presetID="42" repeatCount="600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5.55556E-007 -0.03519 L -5.55556E-007 4.07407E-006 E">
                                      <p:cBhvr>
                                        <p:cTn id="857" dur="163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63" repeatCount="600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0.03177 0.00123 L 3.33333E-006 3.82716E-006 E">
                                      <p:cBhvr>
                                        <p:cTn id="863" dur="125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72222E-006 -4.32099E-006 L -0.02847 0.04754 E">
                                      <p:cBhvr>
                                        <p:cTn id="87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path" presetID="63" repeatCount="4000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5.55556E-007 -1.35802E-006 L 0.02621 -1.35802E-006 E">
                                      <p:cBhvr>
                                        <p:cTn id="880" dur="1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path" presetID="63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0.00503 -1.35802E-006 L 0.02118 -1.35802E-006 E">
                                      <p:cBhvr>
                                        <p:cTn id="884" dur="1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path" presetID="42" repeatCount="6000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5.55556E-007 -0.03519 L -5.55556E-007 4.07407E-006 E">
                                      <p:cBhvr>
                                        <p:cTn id="891" dur="163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path" presetID="63" repeatCount="6000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0.03177 0.00123 L 3.33333E-006 3.82716E-006 E">
                                      <p:cBhvr>
                                        <p:cTn id="897" dur="125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15" name="直接连接符 172"/>
          <p:cNvCxnSpPr/>
          <p:nvPr/>
        </p:nvCxnSpPr>
        <p:spPr>
          <a:xfrm flipH="1" flipV="1">
            <a:off x="3300120" y="-177480"/>
            <a:ext cx="425880" cy="939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grpSp>
        <p:nvGrpSpPr>
          <p:cNvPr id="316" name="组合 144"/>
          <p:cNvGrpSpPr/>
          <p:nvPr/>
        </p:nvGrpSpPr>
        <p:grpSpPr>
          <a:xfrm>
            <a:off x="4319640" y="2246400"/>
            <a:ext cx="758520" cy="758520"/>
            <a:chOff x="4319640" y="2246400"/>
            <a:chExt cx="758520" cy="758520"/>
          </a:xfrm>
        </p:grpSpPr>
        <p:sp>
          <p:nvSpPr>
            <p:cNvPr id="317" name="椭圆 191"/>
            <p:cNvSpPr/>
            <p:nvPr/>
          </p:nvSpPr>
          <p:spPr>
            <a:xfrm>
              <a:off x="4546440" y="2473200"/>
              <a:ext cx="304560" cy="3045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18" name="椭圆 192"/>
            <p:cNvSpPr/>
            <p:nvPr/>
          </p:nvSpPr>
          <p:spPr>
            <a:xfrm>
              <a:off x="4319640" y="2246400"/>
              <a:ext cx="758520" cy="7585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19" name="组合 145"/>
          <p:cNvGrpSpPr/>
          <p:nvPr/>
        </p:nvGrpSpPr>
        <p:grpSpPr>
          <a:xfrm>
            <a:off x="6184800" y="2214720"/>
            <a:ext cx="758520" cy="758520"/>
            <a:chOff x="6184800" y="2214720"/>
            <a:chExt cx="758520" cy="758520"/>
          </a:xfrm>
        </p:grpSpPr>
        <p:sp>
          <p:nvSpPr>
            <p:cNvPr id="320" name="椭圆 189"/>
            <p:cNvSpPr/>
            <p:nvPr/>
          </p:nvSpPr>
          <p:spPr>
            <a:xfrm>
              <a:off x="6411960" y="2441520"/>
              <a:ext cx="304560" cy="3045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21" name="椭圆 190"/>
            <p:cNvSpPr/>
            <p:nvPr/>
          </p:nvSpPr>
          <p:spPr>
            <a:xfrm>
              <a:off x="6184800" y="2214720"/>
              <a:ext cx="758520" cy="7585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22" name="组合 146"/>
          <p:cNvGrpSpPr/>
          <p:nvPr/>
        </p:nvGrpSpPr>
        <p:grpSpPr>
          <a:xfrm>
            <a:off x="8370720" y="2125800"/>
            <a:ext cx="758520" cy="758520"/>
            <a:chOff x="8370720" y="2125800"/>
            <a:chExt cx="758520" cy="758520"/>
          </a:xfrm>
        </p:grpSpPr>
        <p:sp>
          <p:nvSpPr>
            <p:cNvPr id="323" name="椭圆 187"/>
            <p:cNvSpPr/>
            <p:nvPr/>
          </p:nvSpPr>
          <p:spPr>
            <a:xfrm>
              <a:off x="8597880" y="2352600"/>
              <a:ext cx="304560" cy="3045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24" name="椭圆 188"/>
            <p:cNvSpPr/>
            <p:nvPr/>
          </p:nvSpPr>
          <p:spPr>
            <a:xfrm>
              <a:off x="8370720" y="2125800"/>
              <a:ext cx="758520" cy="7585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25" name="组合 147"/>
          <p:cNvGrpSpPr/>
          <p:nvPr/>
        </p:nvGrpSpPr>
        <p:grpSpPr>
          <a:xfrm>
            <a:off x="5103720" y="3828960"/>
            <a:ext cx="758520" cy="758520"/>
            <a:chOff x="5103720" y="3828960"/>
            <a:chExt cx="758520" cy="758520"/>
          </a:xfrm>
        </p:grpSpPr>
        <p:sp>
          <p:nvSpPr>
            <p:cNvPr id="326" name="椭圆 185"/>
            <p:cNvSpPr/>
            <p:nvPr/>
          </p:nvSpPr>
          <p:spPr>
            <a:xfrm>
              <a:off x="5330880" y="4056120"/>
              <a:ext cx="304560" cy="3045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27" name="椭圆 186"/>
            <p:cNvSpPr/>
            <p:nvPr/>
          </p:nvSpPr>
          <p:spPr>
            <a:xfrm>
              <a:off x="5103720" y="3828960"/>
              <a:ext cx="758520" cy="7585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28" name="组合 148"/>
          <p:cNvGrpSpPr/>
          <p:nvPr/>
        </p:nvGrpSpPr>
        <p:grpSpPr>
          <a:xfrm>
            <a:off x="3424320" y="3824280"/>
            <a:ext cx="758520" cy="758520"/>
            <a:chOff x="3424320" y="3824280"/>
            <a:chExt cx="758520" cy="758520"/>
          </a:xfrm>
        </p:grpSpPr>
        <p:sp>
          <p:nvSpPr>
            <p:cNvPr id="329" name="椭圆 183"/>
            <p:cNvSpPr/>
            <p:nvPr/>
          </p:nvSpPr>
          <p:spPr>
            <a:xfrm>
              <a:off x="3651120" y="4051440"/>
              <a:ext cx="304560" cy="3045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30" name="椭圆 184"/>
            <p:cNvSpPr/>
            <p:nvPr/>
          </p:nvSpPr>
          <p:spPr>
            <a:xfrm>
              <a:off x="3424320" y="3824280"/>
              <a:ext cx="758520" cy="7585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31" name="组合 1026"/>
          <p:cNvGrpSpPr/>
          <p:nvPr/>
        </p:nvGrpSpPr>
        <p:grpSpPr>
          <a:xfrm>
            <a:off x="1424160" y="3881520"/>
            <a:ext cx="758520" cy="758520"/>
            <a:chOff x="1424160" y="3881520"/>
            <a:chExt cx="758520" cy="758520"/>
          </a:xfrm>
        </p:grpSpPr>
        <p:sp>
          <p:nvSpPr>
            <p:cNvPr id="332" name="椭圆 149"/>
            <p:cNvSpPr/>
            <p:nvPr/>
          </p:nvSpPr>
          <p:spPr>
            <a:xfrm>
              <a:off x="1650960" y="4108320"/>
              <a:ext cx="304560" cy="304560"/>
            </a:xfrm>
            <a:prstGeom prst="ellipse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33" name="椭圆 150"/>
            <p:cNvSpPr/>
            <p:nvPr/>
          </p:nvSpPr>
          <p:spPr>
            <a:xfrm>
              <a:off x="1424160" y="3881520"/>
              <a:ext cx="758520" cy="758520"/>
            </a:xfrm>
            <a:prstGeom prst="ellipse">
              <a:avLst/>
            </a:prstGeom>
            <a:noFill/>
            <a:ln w="9525">
              <a:solidFill>
                <a:srgbClr val="ff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34" name="组合 151"/>
          <p:cNvGrpSpPr/>
          <p:nvPr/>
        </p:nvGrpSpPr>
        <p:grpSpPr>
          <a:xfrm>
            <a:off x="2467080" y="2211480"/>
            <a:ext cx="758520" cy="758520"/>
            <a:chOff x="2467080" y="2211480"/>
            <a:chExt cx="758520" cy="758520"/>
          </a:xfrm>
        </p:grpSpPr>
        <p:sp>
          <p:nvSpPr>
            <p:cNvPr id="335" name="椭圆 181"/>
            <p:cNvSpPr/>
            <p:nvPr/>
          </p:nvSpPr>
          <p:spPr>
            <a:xfrm>
              <a:off x="2693880" y="2438280"/>
              <a:ext cx="304560" cy="3045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36" name="椭圆 182"/>
            <p:cNvSpPr/>
            <p:nvPr/>
          </p:nvSpPr>
          <p:spPr>
            <a:xfrm>
              <a:off x="2467080" y="2211480"/>
              <a:ext cx="758520" cy="7585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37" name="组合 152"/>
          <p:cNvGrpSpPr/>
          <p:nvPr/>
        </p:nvGrpSpPr>
        <p:grpSpPr>
          <a:xfrm>
            <a:off x="3513240" y="619200"/>
            <a:ext cx="758520" cy="758520"/>
            <a:chOff x="3513240" y="619200"/>
            <a:chExt cx="758520" cy="758520"/>
          </a:xfrm>
        </p:grpSpPr>
        <p:sp>
          <p:nvSpPr>
            <p:cNvPr id="338" name="椭圆 179"/>
            <p:cNvSpPr/>
            <p:nvPr/>
          </p:nvSpPr>
          <p:spPr>
            <a:xfrm>
              <a:off x="3740040" y="846000"/>
              <a:ext cx="304560" cy="3045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39" name="椭圆 180"/>
            <p:cNvSpPr/>
            <p:nvPr/>
          </p:nvSpPr>
          <p:spPr>
            <a:xfrm>
              <a:off x="3513240" y="619200"/>
              <a:ext cx="758520" cy="7585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40" name="组合 153"/>
          <p:cNvGrpSpPr/>
          <p:nvPr/>
        </p:nvGrpSpPr>
        <p:grpSpPr>
          <a:xfrm>
            <a:off x="1044720" y="619200"/>
            <a:ext cx="758520" cy="758520"/>
            <a:chOff x="1044720" y="619200"/>
            <a:chExt cx="758520" cy="758520"/>
          </a:xfrm>
        </p:grpSpPr>
        <p:sp>
          <p:nvSpPr>
            <p:cNvPr id="341" name="椭圆 177"/>
            <p:cNvSpPr/>
            <p:nvPr/>
          </p:nvSpPr>
          <p:spPr>
            <a:xfrm>
              <a:off x="1271520" y="846000"/>
              <a:ext cx="304560" cy="3045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42" name="椭圆 178"/>
            <p:cNvSpPr/>
            <p:nvPr/>
          </p:nvSpPr>
          <p:spPr>
            <a:xfrm>
              <a:off x="1044720" y="619200"/>
              <a:ext cx="758520" cy="7585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43" name="组合 154"/>
          <p:cNvGrpSpPr/>
          <p:nvPr/>
        </p:nvGrpSpPr>
        <p:grpSpPr>
          <a:xfrm>
            <a:off x="-401760" y="1487520"/>
            <a:ext cx="758520" cy="758520"/>
            <a:chOff x="-401760" y="1487520"/>
            <a:chExt cx="758520" cy="758520"/>
          </a:xfrm>
        </p:grpSpPr>
        <p:sp>
          <p:nvSpPr>
            <p:cNvPr id="344" name="椭圆 175"/>
            <p:cNvSpPr/>
            <p:nvPr/>
          </p:nvSpPr>
          <p:spPr>
            <a:xfrm>
              <a:off x="-174600" y="1714320"/>
              <a:ext cx="304560" cy="3045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45" name="椭圆 176"/>
            <p:cNvSpPr/>
            <p:nvPr/>
          </p:nvSpPr>
          <p:spPr>
            <a:xfrm>
              <a:off x="-401760" y="1487520"/>
              <a:ext cx="758520" cy="7585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46" name="组合 1027"/>
          <p:cNvGrpSpPr/>
          <p:nvPr/>
        </p:nvGrpSpPr>
        <p:grpSpPr>
          <a:xfrm>
            <a:off x="-662040" y="3478320"/>
            <a:ext cx="758520" cy="756720"/>
            <a:chOff x="-662040" y="3478320"/>
            <a:chExt cx="758520" cy="756720"/>
          </a:xfrm>
        </p:grpSpPr>
        <p:sp>
          <p:nvSpPr>
            <p:cNvPr id="347" name="椭圆 155"/>
            <p:cNvSpPr/>
            <p:nvPr/>
          </p:nvSpPr>
          <p:spPr>
            <a:xfrm>
              <a:off x="-434880" y="3705120"/>
              <a:ext cx="304560" cy="302760"/>
            </a:xfrm>
            <a:prstGeom prst="ellipse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48" name="椭圆 156"/>
            <p:cNvSpPr/>
            <p:nvPr/>
          </p:nvSpPr>
          <p:spPr>
            <a:xfrm>
              <a:off x="-662040" y="3478320"/>
              <a:ext cx="758520" cy="756720"/>
            </a:xfrm>
            <a:prstGeom prst="ellipse">
              <a:avLst/>
            </a:prstGeom>
            <a:noFill/>
            <a:ln w="9525">
              <a:solidFill>
                <a:srgbClr val="ff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cxnSp>
        <p:nvCxnSpPr>
          <p:cNvPr id="349" name="直接连接符 157"/>
          <p:cNvCxnSpPr>
            <a:endCxn id="339" idx="3"/>
          </p:cNvCxnSpPr>
          <p:nvPr/>
        </p:nvCxnSpPr>
        <p:spPr>
          <a:xfrm flipV="1">
            <a:off x="3047760" y="1266480"/>
            <a:ext cx="576720" cy="10134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50" name="直接连接符 158"/>
          <p:cNvCxnSpPr/>
          <p:nvPr/>
        </p:nvCxnSpPr>
        <p:spPr>
          <a:xfrm flipV="1">
            <a:off x="1989000" y="2884320"/>
            <a:ext cx="628920" cy="10260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51" name="直接连接符 159"/>
          <p:cNvCxnSpPr/>
          <p:nvPr/>
        </p:nvCxnSpPr>
        <p:spPr>
          <a:xfrm>
            <a:off x="3232080" y="2625480"/>
            <a:ext cx="109404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52" name="直接连接符 160"/>
          <p:cNvCxnSpPr>
            <a:stCxn id="318" idx="6"/>
          </p:cNvCxnSpPr>
          <p:nvPr/>
        </p:nvCxnSpPr>
        <p:spPr>
          <a:xfrm flipV="1">
            <a:off x="5078160" y="2593800"/>
            <a:ext cx="1094400" cy="320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53" name="直接连接符 161"/>
          <p:cNvCxnSpPr>
            <a:stCxn id="330" idx="6"/>
            <a:endCxn id="327" idx="2"/>
          </p:cNvCxnSpPr>
          <p:nvPr/>
        </p:nvCxnSpPr>
        <p:spPr>
          <a:xfrm>
            <a:off x="4182840" y="4203360"/>
            <a:ext cx="921240" cy="54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54" name="直接连接符 162"/>
          <p:cNvCxnSpPr/>
          <p:nvPr/>
        </p:nvCxnSpPr>
        <p:spPr>
          <a:xfrm>
            <a:off x="90360" y="3929040"/>
            <a:ext cx="1333800" cy="30168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cxnSp>
        <p:nvCxnSpPr>
          <p:cNvPr id="355" name="直接连接符 163"/>
          <p:cNvCxnSpPr/>
          <p:nvPr/>
        </p:nvCxnSpPr>
        <p:spPr>
          <a:xfrm flipV="1">
            <a:off x="2998440" y="4587840"/>
            <a:ext cx="676800" cy="16560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56" name="直接连接符 164"/>
          <p:cNvCxnSpPr/>
          <p:nvPr/>
        </p:nvCxnSpPr>
        <p:spPr>
          <a:xfrm>
            <a:off x="1922400" y="4640040"/>
            <a:ext cx="911520" cy="160380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cxnSp>
        <p:nvCxnSpPr>
          <p:cNvPr id="357" name="直接连接符 165"/>
          <p:cNvCxnSpPr>
            <a:stCxn id="345" idx="7"/>
          </p:cNvCxnSpPr>
          <p:nvPr/>
        </p:nvCxnSpPr>
        <p:spPr>
          <a:xfrm flipV="1">
            <a:off x="245880" y="1147680"/>
            <a:ext cx="798840" cy="4510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58" name="直接连接符 166"/>
          <p:cNvCxnSpPr>
            <a:stCxn id="336" idx="1"/>
            <a:endCxn id="342" idx="5"/>
          </p:cNvCxnSpPr>
          <p:nvPr/>
        </p:nvCxnSpPr>
        <p:spPr>
          <a:xfrm flipH="1" flipV="1">
            <a:off x="1692000" y="1266480"/>
            <a:ext cx="886320" cy="10562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59" name="直接连接符 167"/>
          <p:cNvCxnSpPr/>
          <p:nvPr/>
        </p:nvCxnSpPr>
        <p:spPr>
          <a:xfrm flipH="1" flipV="1">
            <a:off x="4120920" y="1309680"/>
            <a:ext cx="425880" cy="9399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60" name="直接连接符 168"/>
          <p:cNvCxnSpPr>
            <a:stCxn id="321" idx="6"/>
          </p:cNvCxnSpPr>
          <p:nvPr/>
        </p:nvCxnSpPr>
        <p:spPr>
          <a:xfrm flipV="1">
            <a:off x="6943680" y="2549520"/>
            <a:ext cx="1424160" cy="446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61" name="直接连接符 169"/>
          <p:cNvCxnSpPr/>
          <p:nvPr/>
        </p:nvCxnSpPr>
        <p:spPr>
          <a:xfrm flipH="1" flipV="1">
            <a:off x="6053040" y="1231560"/>
            <a:ext cx="435240" cy="9799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62" name="直接连接符 170"/>
          <p:cNvCxnSpPr/>
          <p:nvPr/>
        </p:nvCxnSpPr>
        <p:spPr>
          <a:xfrm flipV="1">
            <a:off x="4271760" y="814320"/>
            <a:ext cx="1094040" cy="320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63" name="直接连接符 171"/>
          <p:cNvCxnSpPr/>
          <p:nvPr/>
        </p:nvCxnSpPr>
        <p:spPr>
          <a:xfrm flipH="1" flipV="1">
            <a:off x="4849560" y="3004920"/>
            <a:ext cx="427320" cy="875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364" name="矩形 1031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solidFill>
            <a:schemeClr val="bg2">
              <a:alpha val="7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365" name="直接连接符 173"/>
          <p:cNvCxnSpPr/>
          <p:nvPr/>
        </p:nvCxnSpPr>
        <p:spPr>
          <a:xfrm flipV="1">
            <a:off x="8770680" y="618840"/>
            <a:ext cx="1027440" cy="15195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66" name="直接连接符 174"/>
          <p:cNvCxnSpPr/>
          <p:nvPr/>
        </p:nvCxnSpPr>
        <p:spPr>
          <a:xfrm>
            <a:off x="8773920" y="2890800"/>
            <a:ext cx="1109880" cy="22528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pic>
        <p:nvPicPr>
          <p:cNvPr id="367" name="Picture 5" descr="D:\Betsy葛\1\图片3副本.png"/>
          <p:cNvPicPr/>
          <p:nvPr/>
        </p:nvPicPr>
        <p:blipFill>
          <a:blip r:embed="rId1"/>
          <a:stretch/>
        </p:blipFill>
        <p:spPr>
          <a:xfrm>
            <a:off x="5103720" y="92160"/>
            <a:ext cx="4694040" cy="1809360"/>
          </a:xfrm>
          <a:prstGeom prst="rect">
            <a:avLst/>
          </a:prstGeom>
          <a:ln w="9525">
            <a:noFill/>
          </a:ln>
        </p:spPr>
      </p:pic>
      <p:sp>
        <p:nvSpPr>
          <p:cNvPr id="368" name="TextBox 139"/>
          <p:cNvSpPr/>
          <p:nvPr/>
        </p:nvSpPr>
        <p:spPr>
          <a:xfrm rot="21330000">
            <a:off x="5466960" y="319320"/>
            <a:ext cx="39330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宋体"/>
              </a:rPr>
              <a:t>COLLABOR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直接连接符 246"/>
          <p:cNvCxnSpPr/>
          <p:nvPr/>
        </p:nvCxnSpPr>
        <p:spPr>
          <a:xfrm flipH="1" flipV="1">
            <a:off x="3270240" y="-122040"/>
            <a:ext cx="425520" cy="9399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grpSp>
        <p:nvGrpSpPr>
          <p:cNvPr id="370" name="组合 198"/>
          <p:cNvGrpSpPr/>
          <p:nvPr/>
        </p:nvGrpSpPr>
        <p:grpSpPr>
          <a:xfrm>
            <a:off x="4319640" y="2398680"/>
            <a:ext cx="758520" cy="756720"/>
            <a:chOff x="4319640" y="2398680"/>
            <a:chExt cx="758520" cy="756720"/>
          </a:xfrm>
        </p:grpSpPr>
        <p:sp>
          <p:nvSpPr>
            <p:cNvPr id="371" name="椭圆 199"/>
            <p:cNvSpPr/>
            <p:nvPr/>
          </p:nvSpPr>
          <p:spPr>
            <a:xfrm>
              <a:off x="4546440" y="2625840"/>
              <a:ext cx="304560" cy="3027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72" name="椭圆 200"/>
            <p:cNvSpPr/>
            <p:nvPr/>
          </p:nvSpPr>
          <p:spPr>
            <a:xfrm>
              <a:off x="4319640" y="2398680"/>
              <a:ext cx="758520" cy="7567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73" name="组合 201"/>
          <p:cNvGrpSpPr/>
          <p:nvPr/>
        </p:nvGrpSpPr>
        <p:grpSpPr>
          <a:xfrm>
            <a:off x="6184800" y="2367000"/>
            <a:ext cx="758520" cy="756720"/>
            <a:chOff x="6184800" y="2367000"/>
            <a:chExt cx="758520" cy="756720"/>
          </a:xfrm>
        </p:grpSpPr>
        <p:sp>
          <p:nvSpPr>
            <p:cNvPr id="374" name="椭圆 202"/>
            <p:cNvSpPr/>
            <p:nvPr/>
          </p:nvSpPr>
          <p:spPr>
            <a:xfrm>
              <a:off x="6411960" y="2593800"/>
              <a:ext cx="304560" cy="3027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75" name="椭圆 203"/>
            <p:cNvSpPr/>
            <p:nvPr/>
          </p:nvSpPr>
          <p:spPr>
            <a:xfrm>
              <a:off x="6184800" y="2367000"/>
              <a:ext cx="758520" cy="7567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76" name="组合 204"/>
          <p:cNvGrpSpPr/>
          <p:nvPr/>
        </p:nvGrpSpPr>
        <p:grpSpPr>
          <a:xfrm>
            <a:off x="8370720" y="2276640"/>
            <a:ext cx="758520" cy="758520"/>
            <a:chOff x="8370720" y="2276640"/>
            <a:chExt cx="758520" cy="758520"/>
          </a:xfrm>
        </p:grpSpPr>
        <p:sp>
          <p:nvSpPr>
            <p:cNvPr id="377" name="椭圆 205"/>
            <p:cNvSpPr/>
            <p:nvPr/>
          </p:nvSpPr>
          <p:spPr>
            <a:xfrm>
              <a:off x="8597880" y="2503440"/>
              <a:ext cx="304560" cy="3045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78" name="椭圆 206"/>
            <p:cNvSpPr/>
            <p:nvPr/>
          </p:nvSpPr>
          <p:spPr>
            <a:xfrm>
              <a:off x="8370720" y="2276640"/>
              <a:ext cx="758520" cy="7585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79" name="组合 207"/>
          <p:cNvGrpSpPr/>
          <p:nvPr/>
        </p:nvGrpSpPr>
        <p:grpSpPr>
          <a:xfrm>
            <a:off x="5103720" y="3979800"/>
            <a:ext cx="758520" cy="758520"/>
            <a:chOff x="5103720" y="3979800"/>
            <a:chExt cx="758520" cy="758520"/>
          </a:xfrm>
        </p:grpSpPr>
        <p:sp>
          <p:nvSpPr>
            <p:cNvPr id="380" name="椭圆 208"/>
            <p:cNvSpPr/>
            <p:nvPr/>
          </p:nvSpPr>
          <p:spPr>
            <a:xfrm>
              <a:off x="5330880" y="4206960"/>
              <a:ext cx="304560" cy="3045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81" name="椭圆 209"/>
            <p:cNvSpPr/>
            <p:nvPr/>
          </p:nvSpPr>
          <p:spPr>
            <a:xfrm>
              <a:off x="5103720" y="3979800"/>
              <a:ext cx="758520" cy="7585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82" name="组合 210"/>
          <p:cNvGrpSpPr/>
          <p:nvPr/>
        </p:nvGrpSpPr>
        <p:grpSpPr>
          <a:xfrm>
            <a:off x="3424320" y="3975120"/>
            <a:ext cx="758520" cy="758520"/>
            <a:chOff x="3424320" y="3975120"/>
            <a:chExt cx="758520" cy="758520"/>
          </a:xfrm>
        </p:grpSpPr>
        <p:sp>
          <p:nvSpPr>
            <p:cNvPr id="383" name="椭圆 211"/>
            <p:cNvSpPr/>
            <p:nvPr/>
          </p:nvSpPr>
          <p:spPr>
            <a:xfrm>
              <a:off x="3651120" y="4202280"/>
              <a:ext cx="304560" cy="3045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84" name="椭圆 212"/>
            <p:cNvSpPr/>
            <p:nvPr/>
          </p:nvSpPr>
          <p:spPr>
            <a:xfrm>
              <a:off x="3424320" y="3975120"/>
              <a:ext cx="758520" cy="7585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85" name="组合 213"/>
          <p:cNvGrpSpPr/>
          <p:nvPr/>
        </p:nvGrpSpPr>
        <p:grpSpPr>
          <a:xfrm>
            <a:off x="1424160" y="4033800"/>
            <a:ext cx="758520" cy="758520"/>
            <a:chOff x="1424160" y="4033800"/>
            <a:chExt cx="758520" cy="758520"/>
          </a:xfrm>
        </p:grpSpPr>
        <p:sp>
          <p:nvSpPr>
            <p:cNvPr id="386" name="椭圆 214"/>
            <p:cNvSpPr/>
            <p:nvPr/>
          </p:nvSpPr>
          <p:spPr>
            <a:xfrm>
              <a:off x="1650960" y="4260960"/>
              <a:ext cx="304560" cy="304560"/>
            </a:xfrm>
            <a:prstGeom prst="ellipse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87" name="椭圆 215"/>
            <p:cNvSpPr/>
            <p:nvPr/>
          </p:nvSpPr>
          <p:spPr>
            <a:xfrm>
              <a:off x="1424160" y="4033800"/>
              <a:ext cx="758520" cy="758520"/>
            </a:xfrm>
            <a:prstGeom prst="ellipse">
              <a:avLst/>
            </a:prstGeom>
            <a:noFill/>
            <a:ln w="9525">
              <a:solidFill>
                <a:srgbClr val="ff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88" name="组合 216"/>
          <p:cNvGrpSpPr/>
          <p:nvPr/>
        </p:nvGrpSpPr>
        <p:grpSpPr>
          <a:xfrm>
            <a:off x="2467080" y="2363760"/>
            <a:ext cx="758520" cy="758520"/>
            <a:chOff x="2467080" y="2363760"/>
            <a:chExt cx="758520" cy="758520"/>
          </a:xfrm>
        </p:grpSpPr>
        <p:sp>
          <p:nvSpPr>
            <p:cNvPr id="389" name="椭圆 217"/>
            <p:cNvSpPr/>
            <p:nvPr/>
          </p:nvSpPr>
          <p:spPr>
            <a:xfrm>
              <a:off x="2693880" y="2590920"/>
              <a:ext cx="304560" cy="3045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90" name="椭圆 218"/>
            <p:cNvSpPr/>
            <p:nvPr/>
          </p:nvSpPr>
          <p:spPr>
            <a:xfrm>
              <a:off x="2467080" y="2363760"/>
              <a:ext cx="758520" cy="7585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91" name="组合 219"/>
          <p:cNvGrpSpPr/>
          <p:nvPr/>
        </p:nvGrpSpPr>
        <p:grpSpPr>
          <a:xfrm>
            <a:off x="3513240" y="770040"/>
            <a:ext cx="758520" cy="758520"/>
            <a:chOff x="3513240" y="770040"/>
            <a:chExt cx="758520" cy="758520"/>
          </a:xfrm>
        </p:grpSpPr>
        <p:sp>
          <p:nvSpPr>
            <p:cNvPr id="392" name="椭圆 220"/>
            <p:cNvSpPr/>
            <p:nvPr/>
          </p:nvSpPr>
          <p:spPr>
            <a:xfrm>
              <a:off x="3740040" y="996840"/>
              <a:ext cx="304560" cy="3045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93" name="椭圆 221"/>
            <p:cNvSpPr/>
            <p:nvPr/>
          </p:nvSpPr>
          <p:spPr>
            <a:xfrm>
              <a:off x="3513240" y="770040"/>
              <a:ext cx="758520" cy="7585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94" name="组合 222"/>
          <p:cNvGrpSpPr/>
          <p:nvPr/>
        </p:nvGrpSpPr>
        <p:grpSpPr>
          <a:xfrm>
            <a:off x="1044720" y="770040"/>
            <a:ext cx="758520" cy="758520"/>
            <a:chOff x="1044720" y="770040"/>
            <a:chExt cx="758520" cy="758520"/>
          </a:xfrm>
        </p:grpSpPr>
        <p:sp>
          <p:nvSpPr>
            <p:cNvPr id="395" name="椭圆 223"/>
            <p:cNvSpPr/>
            <p:nvPr/>
          </p:nvSpPr>
          <p:spPr>
            <a:xfrm>
              <a:off x="1271520" y="996840"/>
              <a:ext cx="304560" cy="3045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96" name="椭圆 224"/>
            <p:cNvSpPr/>
            <p:nvPr/>
          </p:nvSpPr>
          <p:spPr>
            <a:xfrm>
              <a:off x="1044720" y="770040"/>
              <a:ext cx="758520" cy="7585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97" name="组合 225"/>
          <p:cNvGrpSpPr/>
          <p:nvPr/>
        </p:nvGrpSpPr>
        <p:grpSpPr>
          <a:xfrm>
            <a:off x="-401760" y="1639800"/>
            <a:ext cx="758520" cy="758520"/>
            <a:chOff x="-401760" y="1639800"/>
            <a:chExt cx="758520" cy="758520"/>
          </a:xfrm>
        </p:grpSpPr>
        <p:sp>
          <p:nvSpPr>
            <p:cNvPr id="398" name="椭圆 226"/>
            <p:cNvSpPr/>
            <p:nvPr/>
          </p:nvSpPr>
          <p:spPr>
            <a:xfrm>
              <a:off x="-174600" y="1866960"/>
              <a:ext cx="304560" cy="304560"/>
            </a:xfrm>
            <a:prstGeom prst="ellipse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99" name="椭圆 227"/>
            <p:cNvSpPr/>
            <p:nvPr/>
          </p:nvSpPr>
          <p:spPr>
            <a:xfrm>
              <a:off x="-401760" y="1639800"/>
              <a:ext cx="758520" cy="7585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00" name="组合 228"/>
          <p:cNvGrpSpPr/>
          <p:nvPr/>
        </p:nvGrpSpPr>
        <p:grpSpPr>
          <a:xfrm>
            <a:off x="-662040" y="3629160"/>
            <a:ext cx="758520" cy="758520"/>
            <a:chOff x="-662040" y="3629160"/>
            <a:chExt cx="758520" cy="758520"/>
          </a:xfrm>
        </p:grpSpPr>
        <p:sp>
          <p:nvSpPr>
            <p:cNvPr id="401" name="椭圆 229"/>
            <p:cNvSpPr/>
            <p:nvPr/>
          </p:nvSpPr>
          <p:spPr>
            <a:xfrm>
              <a:off x="-434880" y="3855960"/>
              <a:ext cx="304560" cy="304560"/>
            </a:xfrm>
            <a:prstGeom prst="ellipse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02" name="椭圆 230"/>
            <p:cNvSpPr/>
            <p:nvPr/>
          </p:nvSpPr>
          <p:spPr>
            <a:xfrm>
              <a:off x="-662040" y="3629160"/>
              <a:ext cx="758520" cy="758520"/>
            </a:xfrm>
            <a:prstGeom prst="ellipse">
              <a:avLst/>
            </a:prstGeom>
            <a:noFill/>
            <a:ln w="9525">
              <a:solidFill>
                <a:srgbClr val="ff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cxnSp>
        <p:nvCxnSpPr>
          <p:cNvPr id="403" name="直接连接符 231"/>
          <p:cNvCxnSpPr>
            <a:endCxn id="393" idx="3"/>
          </p:cNvCxnSpPr>
          <p:nvPr/>
        </p:nvCxnSpPr>
        <p:spPr>
          <a:xfrm flipV="1">
            <a:off x="3047760" y="1417320"/>
            <a:ext cx="576720" cy="10148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04" name="直接连接符 232"/>
          <p:cNvCxnSpPr/>
          <p:nvPr/>
        </p:nvCxnSpPr>
        <p:spPr>
          <a:xfrm flipV="1">
            <a:off x="1989000" y="3035160"/>
            <a:ext cx="628920" cy="10260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05" name="直接连接符 233"/>
          <p:cNvCxnSpPr/>
          <p:nvPr/>
        </p:nvCxnSpPr>
        <p:spPr>
          <a:xfrm>
            <a:off x="3232080" y="2776320"/>
            <a:ext cx="109404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06" name="直接连接符 234"/>
          <p:cNvCxnSpPr>
            <a:stCxn id="372" idx="6"/>
          </p:cNvCxnSpPr>
          <p:nvPr/>
        </p:nvCxnSpPr>
        <p:spPr>
          <a:xfrm flipV="1">
            <a:off x="5078160" y="2746080"/>
            <a:ext cx="1094400" cy="30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07" name="直接连接符 235"/>
          <p:cNvCxnSpPr>
            <a:stCxn id="384" idx="6"/>
            <a:endCxn id="381" idx="2"/>
          </p:cNvCxnSpPr>
          <p:nvPr/>
        </p:nvCxnSpPr>
        <p:spPr>
          <a:xfrm>
            <a:off x="4182840" y="4354200"/>
            <a:ext cx="921240" cy="54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08" name="直接连接符 236"/>
          <p:cNvCxnSpPr/>
          <p:nvPr/>
        </p:nvCxnSpPr>
        <p:spPr>
          <a:xfrm>
            <a:off x="90360" y="4081320"/>
            <a:ext cx="1333800" cy="300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cxnSp>
        <p:nvCxnSpPr>
          <p:cNvPr id="409" name="直接连接符 237"/>
          <p:cNvCxnSpPr/>
          <p:nvPr/>
        </p:nvCxnSpPr>
        <p:spPr>
          <a:xfrm flipV="1">
            <a:off x="2998440" y="4738680"/>
            <a:ext cx="676800" cy="16560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10" name="直接连接符 238"/>
          <p:cNvCxnSpPr/>
          <p:nvPr/>
        </p:nvCxnSpPr>
        <p:spPr>
          <a:xfrm>
            <a:off x="1922400" y="4792320"/>
            <a:ext cx="911520" cy="160236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cxnSp>
        <p:nvCxnSpPr>
          <p:cNvPr id="411" name="直接连接符 239"/>
          <p:cNvCxnSpPr>
            <a:stCxn id="399" idx="7"/>
          </p:cNvCxnSpPr>
          <p:nvPr/>
        </p:nvCxnSpPr>
        <p:spPr>
          <a:xfrm flipV="1">
            <a:off x="245880" y="1299960"/>
            <a:ext cx="798840" cy="4510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12" name="直接连接符 240"/>
          <p:cNvCxnSpPr>
            <a:stCxn id="390" idx="1"/>
            <a:endCxn id="396" idx="5"/>
          </p:cNvCxnSpPr>
          <p:nvPr/>
        </p:nvCxnSpPr>
        <p:spPr>
          <a:xfrm flipH="1" flipV="1">
            <a:off x="1692000" y="1417320"/>
            <a:ext cx="886320" cy="10576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13" name="直接连接符 241"/>
          <p:cNvCxnSpPr/>
          <p:nvPr/>
        </p:nvCxnSpPr>
        <p:spPr>
          <a:xfrm flipH="1" flipV="1">
            <a:off x="4120920" y="1461960"/>
            <a:ext cx="425880" cy="9399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14" name="直接连接符 242"/>
          <p:cNvCxnSpPr>
            <a:stCxn id="375" idx="6"/>
          </p:cNvCxnSpPr>
          <p:nvPr/>
        </p:nvCxnSpPr>
        <p:spPr>
          <a:xfrm flipV="1">
            <a:off x="6943680" y="2700000"/>
            <a:ext cx="1424160" cy="464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15" name="直接连接符 243"/>
          <p:cNvCxnSpPr/>
          <p:nvPr/>
        </p:nvCxnSpPr>
        <p:spPr>
          <a:xfrm flipH="1" flipV="1">
            <a:off x="6053040" y="1382400"/>
            <a:ext cx="435240" cy="981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16" name="直接连接符 244"/>
          <p:cNvCxnSpPr/>
          <p:nvPr/>
        </p:nvCxnSpPr>
        <p:spPr>
          <a:xfrm flipV="1">
            <a:off x="4271760" y="966600"/>
            <a:ext cx="1094040" cy="320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17" name="直接连接符 245"/>
          <p:cNvCxnSpPr/>
          <p:nvPr/>
        </p:nvCxnSpPr>
        <p:spPr>
          <a:xfrm flipH="1" flipV="1">
            <a:off x="4849560" y="3122280"/>
            <a:ext cx="427320" cy="9086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18" name="直接连接符 247"/>
          <p:cNvCxnSpPr/>
          <p:nvPr/>
        </p:nvCxnSpPr>
        <p:spPr>
          <a:xfrm flipV="1">
            <a:off x="8770680" y="761760"/>
            <a:ext cx="1027440" cy="15274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19" name="直接连接符 248"/>
          <p:cNvCxnSpPr/>
          <p:nvPr/>
        </p:nvCxnSpPr>
        <p:spPr>
          <a:xfrm>
            <a:off x="8773920" y="3043080"/>
            <a:ext cx="1109880" cy="22910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20" name="TextBox 1118"/>
          <p:cNvSpPr/>
          <p:nvPr/>
        </p:nvSpPr>
        <p:spPr>
          <a:xfrm rot="21189600">
            <a:off x="6876720" y="3289680"/>
            <a:ext cx="2592000" cy="26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3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直接连接符 360"/>
          <p:cNvCxnSpPr>
            <a:stCxn id="381" idx="6"/>
          </p:cNvCxnSpPr>
          <p:nvPr/>
        </p:nvCxnSpPr>
        <p:spPr>
          <a:xfrm flipV="1">
            <a:off x="5862600" y="4354200"/>
            <a:ext cx="1589400" cy="54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22" name="直接连接符 361"/>
          <p:cNvCxnSpPr/>
          <p:nvPr/>
        </p:nvCxnSpPr>
        <p:spPr>
          <a:xfrm flipV="1">
            <a:off x="5851440" y="4227480"/>
            <a:ext cx="1587600" cy="50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pic>
        <p:nvPicPr>
          <p:cNvPr id="423" name="Picture 7" descr="D:\Betsy葛\1\图片5副本.png"/>
          <p:cNvPicPr/>
          <p:nvPr/>
        </p:nvPicPr>
        <p:blipFill>
          <a:blip r:embed="rId2"/>
          <a:stretch/>
        </p:blipFill>
        <p:spPr>
          <a:xfrm>
            <a:off x="5332320" y="2505240"/>
            <a:ext cx="5443200" cy="4979520"/>
          </a:xfrm>
          <a:prstGeom prst="rect">
            <a:avLst/>
          </a:prstGeom>
          <a:ln w="9525">
            <a:noFill/>
          </a:ln>
        </p:spPr>
      </p:pic>
    </p:spTree>
  </p:cSld>
  <p:transition advTm="0">
    <p:push dir="u"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9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9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3" dur="1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2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7" dur="1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9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31" dur="1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1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9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1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3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94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7" dur="1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9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1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1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2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1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1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1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9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9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5" dur="1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9" dur="1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0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0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1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1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01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9" dur="1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0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3" dur="1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1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0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1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1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1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1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1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06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2" dur="1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6" dur="1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0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1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1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1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1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1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1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1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1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09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9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10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3" dur="1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1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14" dur="1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17" dur="1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0" dur="1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3" dur="1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1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1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13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8" descr="D:\Betsy葛\1\图片4.png"/>
          <p:cNvPicPr/>
          <p:nvPr/>
        </p:nvPicPr>
        <p:blipFill>
          <a:blip r:embed="rId1"/>
          <a:stretch/>
        </p:blipFill>
        <p:spPr>
          <a:xfrm>
            <a:off x="3181320" y="1927080"/>
            <a:ext cx="2781000" cy="748800"/>
          </a:xfrm>
          <a:prstGeom prst="rect">
            <a:avLst/>
          </a:prstGeom>
          <a:ln w="9525">
            <a:noFill/>
          </a:ln>
        </p:spPr>
      </p:pic>
      <p:pic>
        <p:nvPicPr>
          <p:cNvPr id="425" name="Picture 14" descr=""/>
          <p:cNvPicPr/>
          <p:nvPr/>
        </p:nvPicPr>
        <p:blipFill>
          <a:blip r:embed="rId2"/>
          <a:stretch/>
        </p:blipFill>
        <p:spPr>
          <a:xfrm>
            <a:off x="3181320" y="1927080"/>
            <a:ext cx="2781000" cy="748800"/>
          </a:xfrm>
          <a:prstGeom prst="rect">
            <a:avLst/>
          </a:prstGeom>
          <a:ln w="9525">
            <a:noFill/>
          </a:ln>
        </p:spPr>
      </p:pic>
      <p:pic>
        <p:nvPicPr>
          <p:cNvPr id="426" name="Picture 2" descr="D:\Betsy葛\1\图片4副本.png"/>
          <p:cNvPicPr/>
          <p:nvPr/>
        </p:nvPicPr>
        <p:blipFill>
          <a:blip r:embed="rId3"/>
          <a:stretch/>
        </p:blipFill>
        <p:spPr>
          <a:xfrm>
            <a:off x="2530440" y="1565280"/>
            <a:ext cx="1836360" cy="495000"/>
          </a:xfrm>
          <a:prstGeom prst="rect">
            <a:avLst/>
          </a:prstGeom>
          <a:ln w="9525">
            <a:noFill/>
          </a:ln>
        </p:spPr>
      </p:pic>
      <p:pic>
        <p:nvPicPr>
          <p:cNvPr id="427" name="Picture 3" descr="D:\Betsy葛\1\DS .png"/>
          <p:cNvPicPr/>
          <p:nvPr/>
        </p:nvPicPr>
        <p:blipFill>
          <a:blip r:embed="rId4"/>
          <a:stretch/>
        </p:blipFill>
        <p:spPr>
          <a:xfrm>
            <a:off x="-558720" y="169920"/>
            <a:ext cx="4714560" cy="1271160"/>
          </a:xfrm>
          <a:prstGeom prst="rect">
            <a:avLst/>
          </a:prstGeom>
          <a:ln w="9525">
            <a:noFill/>
          </a:ln>
        </p:spPr>
      </p:pic>
      <p:pic>
        <p:nvPicPr>
          <p:cNvPr id="428" name="Picture 4" descr="D:\Betsy葛\1\FF.png"/>
          <p:cNvPicPr/>
          <p:nvPr/>
        </p:nvPicPr>
        <p:blipFill>
          <a:blip r:embed="rId5"/>
          <a:stretch/>
        </p:blipFill>
        <p:spPr>
          <a:xfrm>
            <a:off x="90360" y="3537000"/>
            <a:ext cx="4382640" cy="1180800"/>
          </a:xfrm>
          <a:prstGeom prst="rect">
            <a:avLst/>
          </a:prstGeom>
          <a:ln w="9525">
            <a:noFill/>
          </a:ln>
        </p:spPr>
      </p:pic>
      <p:pic>
        <p:nvPicPr>
          <p:cNvPr id="429" name="Picture 3" descr="D:\Betsy葛\1\DS .png"/>
          <p:cNvPicPr/>
          <p:nvPr/>
        </p:nvPicPr>
        <p:blipFill>
          <a:blip r:embed="rId6"/>
          <a:stretch/>
        </p:blipFill>
        <p:spPr>
          <a:xfrm>
            <a:off x="4962600" y="2571840"/>
            <a:ext cx="4181040" cy="1126800"/>
          </a:xfrm>
          <a:prstGeom prst="rect">
            <a:avLst/>
          </a:prstGeom>
          <a:ln w="9525">
            <a:noFill/>
          </a:ln>
        </p:spPr>
      </p:pic>
      <p:pic>
        <p:nvPicPr>
          <p:cNvPr id="430" name="Picture 9" descr="D:\Betsy葛\1\图片4副本.png"/>
          <p:cNvPicPr/>
          <p:nvPr/>
        </p:nvPicPr>
        <p:blipFill>
          <a:blip r:embed="rId7"/>
          <a:stretch/>
        </p:blipFill>
        <p:spPr>
          <a:xfrm>
            <a:off x="3857760" y="1212840"/>
            <a:ext cx="1428480" cy="385560"/>
          </a:xfrm>
          <a:prstGeom prst="rect">
            <a:avLst/>
          </a:prstGeom>
          <a:ln w="9525">
            <a:noFill/>
          </a:ln>
        </p:spPr>
      </p:pic>
      <p:pic>
        <p:nvPicPr>
          <p:cNvPr id="431" name="Picture 11" descr="D:\Betsy葛\1\图片4副本.png"/>
          <p:cNvPicPr/>
          <p:nvPr/>
        </p:nvPicPr>
        <p:blipFill>
          <a:blip r:embed="rId8"/>
          <a:stretch/>
        </p:blipFill>
        <p:spPr>
          <a:xfrm>
            <a:off x="5459400" y="4314960"/>
            <a:ext cx="1488600" cy="401400"/>
          </a:xfrm>
          <a:prstGeom prst="rect">
            <a:avLst/>
          </a:prstGeom>
          <a:ln w="9525">
            <a:noFill/>
          </a:ln>
        </p:spPr>
      </p:pic>
      <p:pic>
        <p:nvPicPr>
          <p:cNvPr id="432" name="Picture 11" descr="D:\Betsy葛\1\图片4副本.png"/>
          <p:cNvPicPr/>
          <p:nvPr/>
        </p:nvPicPr>
        <p:blipFill>
          <a:blip r:embed="rId9"/>
          <a:stretch/>
        </p:blipFill>
        <p:spPr>
          <a:xfrm>
            <a:off x="2281320" y="2405160"/>
            <a:ext cx="1490400" cy="401400"/>
          </a:xfrm>
          <a:prstGeom prst="rect">
            <a:avLst/>
          </a:prstGeom>
          <a:ln w="9525">
            <a:noFill/>
          </a:ln>
        </p:spPr>
      </p:pic>
      <p:sp>
        <p:nvSpPr>
          <p:cNvPr id="433" name="TextBox 5"/>
          <p:cNvSpPr/>
          <p:nvPr/>
        </p:nvSpPr>
        <p:spPr>
          <a:xfrm>
            <a:off x="3958560" y="-977760"/>
            <a:ext cx="12265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72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0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2" dur="1000" fill="hold"/>
                                        <p:tgtEl>
                                          <p:spTgt spid="429"/>
                                        </p:tgtEl>
                                      </p:cBhvr>
                                      <p:by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4" dur="1000" fill="hold"/>
                                        <p:tgtEl>
                                          <p:spTgt spid="431"/>
                                        </p:tgtEl>
                                      </p:cBhvr>
                                      <p:by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1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6" dur="1000" fill="hold"/>
                                        <p:tgtEl>
                                          <p:spTgt spid="428"/>
                                        </p:tgtEl>
                                      </p:cBhvr>
                                      <p:by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8" dur="1000" fill="hold"/>
                                        <p:tgtEl>
                                          <p:spTgt spid="432"/>
                                        </p:tgtEl>
                                      </p:cBhvr>
                                      <p:by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0" dur="1000" fill="hold"/>
                                        <p:tgtEl>
                                          <p:spTgt spid="426"/>
                                        </p:tgtEl>
                                      </p:cBhvr>
                                      <p:by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1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2" dur="1000" fill="hold"/>
                                        <p:tgtEl>
                                          <p:spTgt spid="430"/>
                                        </p:tgtEl>
                                      </p:cBhvr>
                                      <p:by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4" dur="1000" fill="hold"/>
                                        <p:tgtEl>
                                          <p:spTgt spid="427"/>
                                        </p:tgtEl>
                                      </p:cBhvr>
                                      <p:by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7" dur="1000" fill="hold"/>
                                        <p:tgtEl>
                                          <p:spTgt spid="424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-0.05 L 0 0.43272 E">
                                      <p:cBhvr>
                                        <p:cTn id="1180" dur="6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11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11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43272 L 0 0.31173 E">
                                      <p:cBhvr>
                                        <p:cTn id="1188" dur="1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96" dur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7" dur="8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8" dur="8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9" dur="8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0" dur="80" fill="hold">
                                          <p:stCondLst>
                                            <p:cond delay="32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3"/>
          <p:cNvSpPr/>
          <p:nvPr/>
        </p:nvSpPr>
        <p:spPr>
          <a:xfrm>
            <a:off x="6141600" y="-665280"/>
            <a:ext cx="3524760" cy="359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30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5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4"/>
          <p:cNvSpPr/>
          <p:nvPr/>
        </p:nvSpPr>
        <p:spPr>
          <a:xfrm>
            <a:off x="838440" y="1346040"/>
            <a:ext cx="508248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P R A C T I C E 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2"/>
          <p:cNvSpPr/>
          <p:nvPr/>
        </p:nvSpPr>
        <p:spPr>
          <a:xfrm>
            <a:off x="81720" y="2209680"/>
            <a:ext cx="38113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P R A C T I C E 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23"/>
          <p:cNvSpPr/>
          <p:nvPr/>
        </p:nvSpPr>
        <p:spPr>
          <a:xfrm>
            <a:off x="184320" y="2900520"/>
            <a:ext cx="2720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P R A C T I C E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椭圆 24"/>
          <p:cNvSpPr/>
          <p:nvPr/>
        </p:nvSpPr>
        <p:spPr>
          <a:xfrm>
            <a:off x="8115480" y="309888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39" name="椭圆 26"/>
          <p:cNvSpPr/>
          <p:nvPr/>
        </p:nvSpPr>
        <p:spPr>
          <a:xfrm>
            <a:off x="8115480" y="412740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0" name="椭圆 27"/>
          <p:cNvSpPr/>
          <p:nvPr/>
        </p:nvSpPr>
        <p:spPr>
          <a:xfrm>
            <a:off x="8115480" y="102564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1" name="椭圆 29"/>
          <p:cNvSpPr/>
          <p:nvPr/>
        </p:nvSpPr>
        <p:spPr>
          <a:xfrm>
            <a:off x="8115480" y="206856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2" name="椭圆 30"/>
          <p:cNvSpPr/>
          <p:nvPr/>
        </p:nvSpPr>
        <p:spPr>
          <a:xfrm>
            <a:off x="8115480" y="-324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3" name="椭圆 31"/>
          <p:cNvSpPr/>
          <p:nvPr/>
        </p:nvSpPr>
        <p:spPr>
          <a:xfrm>
            <a:off x="7086600" y="309888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4" name="椭圆 32"/>
          <p:cNvSpPr/>
          <p:nvPr/>
        </p:nvSpPr>
        <p:spPr>
          <a:xfrm>
            <a:off x="7086600" y="412740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5" name="椭圆 33"/>
          <p:cNvSpPr/>
          <p:nvPr/>
        </p:nvSpPr>
        <p:spPr>
          <a:xfrm>
            <a:off x="7086600" y="102564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6" name="椭圆 34"/>
          <p:cNvSpPr/>
          <p:nvPr/>
        </p:nvSpPr>
        <p:spPr>
          <a:xfrm>
            <a:off x="7086600" y="206856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7" name="椭圆 35"/>
          <p:cNvSpPr/>
          <p:nvPr/>
        </p:nvSpPr>
        <p:spPr>
          <a:xfrm>
            <a:off x="7086600" y="-324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8" name="椭圆 36"/>
          <p:cNvSpPr/>
          <p:nvPr/>
        </p:nvSpPr>
        <p:spPr>
          <a:xfrm>
            <a:off x="6058080" y="309888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9" name="椭圆 37"/>
          <p:cNvSpPr/>
          <p:nvPr/>
        </p:nvSpPr>
        <p:spPr>
          <a:xfrm>
            <a:off x="6058080" y="412740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0" name="椭圆 38"/>
          <p:cNvSpPr/>
          <p:nvPr/>
        </p:nvSpPr>
        <p:spPr>
          <a:xfrm>
            <a:off x="6058080" y="102564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1" name="椭圆 39"/>
          <p:cNvSpPr/>
          <p:nvPr/>
        </p:nvSpPr>
        <p:spPr>
          <a:xfrm>
            <a:off x="6058080" y="206856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2" name="椭圆 40"/>
          <p:cNvSpPr/>
          <p:nvPr/>
        </p:nvSpPr>
        <p:spPr>
          <a:xfrm>
            <a:off x="6058080" y="-324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3" name="椭圆 41"/>
          <p:cNvSpPr/>
          <p:nvPr/>
        </p:nvSpPr>
        <p:spPr>
          <a:xfrm>
            <a:off x="4967280" y="309888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4" name="椭圆 42"/>
          <p:cNvSpPr/>
          <p:nvPr/>
        </p:nvSpPr>
        <p:spPr>
          <a:xfrm>
            <a:off x="4967280" y="412740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5" name="椭圆 43"/>
          <p:cNvSpPr/>
          <p:nvPr/>
        </p:nvSpPr>
        <p:spPr>
          <a:xfrm>
            <a:off x="4967280" y="102564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6" name="椭圆 44"/>
          <p:cNvSpPr/>
          <p:nvPr/>
        </p:nvSpPr>
        <p:spPr>
          <a:xfrm>
            <a:off x="4967280" y="206856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7" name="椭圆 45"/>
          <p:cNvSpPr/>
          <p:nvPr/>
        </p:nvSpPr>
        <p:spPr>
          <a:xfrm>
            <a:off x="4967280" y="-324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8" name="椭圆 46"/>
          <p:cNvSpPr/>
          <p:nvPr/>
        </p:nvSpPr>
        <p:spPr>
          <a:xfrm>
            <a:off x="3959280" y="309888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9" name="椭圆 47"/>
          <p:cNvSpPr/>
          <p:nvPr/>
        </p:nvSpPr>
        <p:spPr>
          <a:xfrm>
            <a:off x="3959280" y="412740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0" name="椭圆 48"/>
          <p:cNvSpPr/>
          <p:nvPr/>
        </p:nvSpPr>
        <p:spPr>
          <a:xfrm>
            <a:off x="3959280" y="102564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1" name="椭圆 49"/>
          <p:cNvSpPr/>
          <p:nvPr/>
        </p:nvSpPr>
        <p:spPr>
          <a:xfrm>
            <a:off x="3959280" y="206856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2" name="椭圆 50"/>
          <p:cNvSpPr/>
          <p:nvPr/>
        </p:nvSpPr>
        <p:spPr>
          <a:xfrm>
            <a:off x="3959280" y="-324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3" name="椭圆 51"/>
          <p:cNvSpPr/>
          <p:nvPr/>
        </p:nvSpPr>
        <p:spPr>
          <a:xfrm>
            <a:off x="2914560" y="308628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4" name="椭圆 52"/>
          <p:cNvSpPr/>
          <p:nvPr/>
        </p:nvSpPr>
        <p:spPr>
          <a:xfrm>
            <a:off x="2914560" y="411480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5" name="椭圆 53"/>
          <p:cNvSpPr/>
          <p:nvPr/>
        </p:nvSpPr>
        <p:spPr>
          <a:xfrm>
            <a:off x="2914560" y="101268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6" name="椭圆 54"/>
          <p:cNvSpPr/>
          <p:nvPr/>
        </p:nvSpPr>
        <p:spPr>
          <a:xfrm>
            <a:off x="2914560" y="205740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7" name="椭圆 55"/>
          <p:cNvSpPr/>
          <p:nvPr/>
        </p:nvSpPr>
        <p:spPr>
          <a:xfrm>
            <a:off x="2914560" y="-1584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8" name="椭圆 56"/>
          <p:cNvSpPr/>
          <p:nvPr/>
        </p:nvSpPr>
        <p:spPr>
          <a:xfrm>
            <a:off x="1886040" y="305424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9" name="椭圆 57"/>
          <p:cNvSpPr/>
          <p:nvPr/>
        </p:nvSpPr>
        <p:spPr>
          <a:xfrm>
            <a:off x="1886040" y="408456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0" name="椭圆 58"/>
          <p:cNvSpPr/>
          <p:nvPr/>
        </p:nvSpPr>
        <p:spPr>
          <a:xfrm>
            <a:off x="1886040" y="98280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1" name="椭圆 59"/>
          <p:cNvSpPr/>
          <p:nvPr/>
        </p:nvSpPr>
        <p:spPr>
          <a:xfrm>
            <a:off x="1886040" y="202572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2" name="椭圆 60"/>
          <p:cNvSpPr/>
          <p:nvPr/>
        </p:nvSpPr>
        <p:spPr>
          <a:xfrm>
            <a:off x="1886040" y="-4608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3" name="椭圆 61"/>
          <p:cNvSpPr/>
          <p:nvPr/>
        </p:nvSpPr>
        <p:spPr>
          <a:xfrm>
            <a:off x="857160" y="308448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4" name="椭圆 62"/>
          <p:cNvSpPr/>
          <p:nvPr/>
        </p:nvSpPr>
        <p:spPr>
          <a:xfrm>
            <a:off x="857160" y="411336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5" name="椭圆 63"/>
          <p:cNvSpPr/>
          <p:nvPr/>
        </p:nvSpPr>
        <p:spPr>
          <a:xfrm>
            <a:off x="857160" y="101268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6" name="椭圆 64"/>
          <p:cNvSpPr/>
          <p:nvPr/>
        </p:nvSpPr>
        <p:spPr>
          <a:xfrm>
            <a:off x="857160" y="205596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7" name="椭圆 65"/>
          <p:cNvSpPr/>
          <p:nvPr/>
        </p:nvSpPr>
        <p:spPr>
          <a:xfrm>
            <a:off x="857160" y="-1584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8" name="椭圆 66"/>
          <p:cNvSpPr/>
          <p:nvPr/>
        </p:nvSpPr>
        <p:spPr>
          <a:xfrm>
            <a:off x="-163440" y="308448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9" name="椭圆 67"/>
          <p:cNvSpPr/>
          <p:nvPr/>
        </p:nvSpPr>
        <p:spPr>
          <a:xfrm>
            <a:off x="-163440" y="411336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0" name="椭圆 68"/>
          <p:cNvSpPr/>
          <p:nvPr/>
        </p:nvSpPr>
        <p:spPr>
          <a:xfrm>
            <a:off x="-163440" y="101268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1" name="椭圆 69"/>
          <p:cNvSpPr/>
          <p:nvPr/>
        </p:nvSpPr>
        <p:spPr>
          <a:xfrm>
            <a:off x="-163440" y="205596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2" name="椭圆 70"/>
          <p:cNvSpPr/>
          <p:nvPr/>
        </p:nvSpPr>
        <p:spPr>
          <a:xfrm>
            <a:off x="-163440" y="-15840"/>
            <a:ext cx="1028520" cy="1028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p:transition spd="slow" advTm="0">
    <p:push dir="d"/>
  </p:transition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nodeType="clickEffect" fill="hold">
                      <p:stCondLst>
                        <p:cond delay="0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path" presetID="35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94444E-006 -1.54083E-006 L -0.08837 -1.54083E-006 E">
                                      <p:cBhvr>
                                        <p:cTn id="1213" dur="2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2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2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6" presetSubtype="3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3" dur="2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6" dur="2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9" dur="2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6" presetSubtype="3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2" dur="2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6" presetSubtype="3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5" dur="2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6" presetSubtype="3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8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6" presetSubtype="3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1" dur="2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6" presetSubtype="3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4" dur="2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6" presetSubtype="3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7" dur="2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6" presetSubtype="3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0" dur="2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6" presetSubtype="3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3" dur="2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6" presetSubtype="3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6" dur="2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6" presetSubtype="3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9" dur="2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6" presetSubtype="3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2" dur="2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6" presetSubtype="3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5" dur="2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6" presetSubtype="3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8" dur="2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6" presetSubtype="3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71" dur="2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6" presetSubtype="3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74" dur="2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2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2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2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2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2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2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2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2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2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2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2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2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2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2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2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2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2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2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2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2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2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2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4" descr="D:\Betsy葛\1\3225s.png"/>
          <p:cNvPicPr/>
          <p:nvPr/>
        </p:nvPicPr>
        <p:blipFill>
          <a:blip r:embed="rId1"/>
          <a:srcRect l="11694" t="0" r="0" b="0"/>
          <a:stretch/>
        </p:blipFill>
        <p:spPr>
          <a:xfrm>
            <a:off x="-495360" y="-46080"/>
            <a:ext cx="10442160" cy="5181120"/>
          </a:xfrm>
          <a:prstGeom prst="rect">
            <a:avLst/>
          </a:prstGeom>
          <a:ln w="9525">
            <a:noFill/>
          </a:ln>
        </p:spPr>
      </p:pic>
      <p:sp>
        <p:nvSpPr>
          <p:cNvPr id="484" name="任意多边形 6"/>
          <p:cNvSpPr/>
          <p:nvPr/>
        </p:nvSpPr>
        <p:spPr>
          <a:xfrm>
            <a:off x="781200" y="3400560"/>
            <a:ext cx="1771200" cy="1406160"/>
          </a:xfrm>
          <a:custGeom>
            <a:avLst/>
            <a:gdLst>
              <a:gd name="textAreaLeft" fmla="*/ 0 w 1771200"/>
              <a:gd name="textAreaRight" fmla="*/ 1771560 w 1771200"/>
              <a:gd name="textAreaTop" fmla="*/ 0 h 1406160"/>
              <a:gd name="textAreaBottom" fmla="*/ 1406520 h 1406160"/>
            </a:gdLst>
            <a:ahLst/>
            <a:rect l="textAreaLeft" t="textAreaTop" r="textAreaRight" b="textAreaBottom"/>
            <a:pathLst>
              <a:path w="1771650" h="1406092">
                <a:moveTo>
                  <a:pt x="1333500" y="1333500"/>
                </a:moveTo>
                <a:lnTo>
                  <a:pt x="1333500" y="1333500"/>
                </a:lnTo>
                <a:lnTo>
                  <a:pt x="1409700" y="1304925"/>
                </a:lnTo>
                <a:cubicBezTo>
                  <a:pt x="1419136" y="1301494"/>
                  <a:pt x="1428235" y="1295400"/>
                  <a:pt x="1438275" y="1295400"/>
                </a:cubicBezTo>
                <a:cubicBezTo>
                  <a:pt x="1451366" y="1295400"/>
                  <a:pt x="1463675" y="1301750"/>
                  <a:pt x="1476375" y="1304925"/>
                </a:cubicBezTo>
                <a:cubicBezTo>
                  <a:pt x="1560588" y="1300915"/>
                  <a:pt x="1655287" y="1341358"/>
                  <a:pt x="1704975" y="1266825"/>
                </a:cubicBezTo>
                <a:cubicBezTo>
                  <a:pt x="1710544" y="1258471"/>
                  <a:pt x="1711325" y="1247775"/>
                  <a:pt x="1714500" y="1238250"/>
                </a:cubicBezTo>
                <a:cubicBezTo>
                  <a:pt x="1717675" y="1209675"/>
                  <a:pt x="1719653" y="1180942"/>
                  <a:pt x="1724025" y="1152525"/>
                </a:cubicBezTo>
                <a:cubicBezTo>
                  <a:pt x="1727442" y="1130313"/>
                  <a:pt x="1735962" y="1107188"/>
                  <a:pt x="1743075" y="1085850"/>
                </a:cubicBezTo>
                <a:cubicBezTo>
                  <a:pt x="1746250" y="1044575"/>
                  <a:pt x="1747763" y="1003138"/>
                  <a:pt x="1752600" y="962025"/>
                </a:cubicBezTo>
                <a:cubicBezTo>
                  <a:pt x="1754130" y="949024"/>
                  <a:pt x="1761356" y="936993"/>
                  <a:pt x="1762125" y="923925"/>
                </a:cubicBezTo>
                <a:cubicBezTo>
                  <a:pt x="1767721" y="828787"/>
                  <a:pt x="1768475" y="733425"/>
                  <a:pt x="1771650" y="638175"/>
                </a:cubicBezTo>
                <a:cubicBezTo>
                  <a:pt x="1768475" y="549275"/>
                  <a:pt x="1765479" y="460368"/>
                  <a:pt x="1762125" y="371475"/>
                </a:cubicBezTo>
                <a:cubicBezTo>
                  <a:pt x="1759129" y="292093"/>
                  <a:pt x="1757555" y="212634"/>
                  <a:pt x="1752600" y="133350"/>
                </a:cubicBezTo>
                <a:cubicBezTo>
                  <a:pt x="1751200" y="110943"/>
                  <a:pt x="1755128" y="85616"/>
                  <a:pt x="1743075" y="66675"/>
                </a:cubicBezTo>
                <a:cubicBezTo>
                  <a:pt x="1730783" y="47359"/>
                  <a:pt x="1704975" y="41275"/>
                  <a:pt x="1685925" y="28575"/>
                </a:cubicBezTo>
                <a:cubicBezTo>
                  <a:pt x="1648996" y="3956"/>
                  <a:pt x="1668210" y="13145"/>
                  <a:pt x="1628775" y="0"/>
                </a:cubicBezTo>
                <a:cubicBezTo>
                  <a:pt x="1604204" y="3510"/>
                  <a:pt x="1560124" y="5750"/>
                  <a:pt x="1533525" y="19050"/>
                </a:cubicBezTo>
                <a:cubicBezTo>
                  <a:pt x="1523286" y="24170"/>
                  <a:pt x="1516395" y="37836"/>
                  <a:pt x="1504950" y="38100"/>
                </a:cubicBezTo>
                <a:cubicBezTo>
                  <a:pt x="1101820" y="47403"/>
                  <a:pt x="698500" y="44450"/>
                  <a:pt x="295275" y="47625"/>
                </a:cubicBezTo>
                <a:cubicBezTo>
                  <a:pt x="206375" y="50800"/>
                  <a:pt x="116697" y="44995"/>
                  <a:pt x="28575" y="57150"/>
                </a:cubicBezTo>
                <a:cubicBezTo>
                  <a:pt x="18629" y="58522"/>
                  <a:pt x="19741" y="75709"/>
                  <a:pt x="19050" y="85725"/>
                </a:cubicBezTo>
                <a:cubicBezTo>
                  <a:pt x="13366" y="168140"/>
                  <a:pt x="12700" y="250825"/>
                  <a:pt x="9525" y="333375"/>
                </a:cubicBezTo>
                <a:cubicBezTo>
                  <a:pt x="15875" y="381000"/>
                  <a:pt x="19585" y="429052"/>
                  <a:pt x="28575" y="476250"/>
                </a:cubicBezTo>
                <a:cubicBezTo>
                  <a:pt x="32332" y="495976"/>
                  <a:pt x="47625" y="533400"/>
                  <a:pt x="47625" y="533400"/>
                </a:cubicBezTo>
                <a:cubicBezTo>
                  <a:pt x="44450" y="542925"/>
                  <a:pt x="38100" y="551935"/>
                  <a:pt x="38100" y="561975"/>
                </a:cubicBezTo>
                <a:cubicBezTo>
                  <a:pt x="38100" y="613306"/>
                  <a:pt x="43674" y="613198"/>
                  <a:pt x="66675" y="647700"/>
                </a:cubicBezTo>
                <a:cubicBezTo>
                  <a:pt x="63500" y="657225"/>
                  <a:pt x="61640" y="667295"/>
                  <a:pt x="57150" y="676275"/>
                </a:cubicBezTo>
                <a:cubicBezTo>
                  <a:pt x="52030" y="686514"/>
                  <a:pt x="42749" y="694389"/>
                  <a:pt x="38100" y="704850"/>
                </a:cubicBezTo>
                <a:cubicBezTo>
                  <a:pt x="29945" y="723200"/>
                  <a:pt x="19050" y="762000"/>
                  <a:pt x="19050" y="762000"/>
                </a:cubicBezTo>
                <a:cubicBezTo>
                  <a:pt x="22225" y="825500"/>
                  <a:pt x="17202" y="889946"/>
                  <a:pt x="28575" y="952500"/>
                </a:cubicBezTo>
                <a:cubicBezTo>
                  <a:pt x="30623" y="963763"/>
                  <a:pt x="46628" y="967041"/>
                  <a:pt x="57150" y="971550"/>
                </a:cubicBezTo>
                <a:cubicBezTo>
                  <a:pt x="77587" y="980309"/>
                  <a:pt x="136036" y="986964"/>
                  <a:pt x="152400" y="990600"/>
                </a:cubicBezTo>
                <a:cubicBezTo>
                  <a:pt x="162201" y="992778"/>
                  <a:pt x="171450" y="996950"/>
                  <a:pt x="180975" y="1000125"/>
                </a:cubicBezTo>
                <a:cubicBezTo>
                  <a:pt x="111406" y="1023315"/>
                  <a:pt x="143306" y="1014305"/>
                  <a:pt x="85725" y="1028700"/>
                </a:cubicBezTo>
                <a:cubicBezTo>
                  <a:pt x="76200" y="1038225"/>
                  <a:pt x="68358" y="1049803"/>
                  <a:pt x="57150" y="1057275"/>
                </a:cubicBezTo>
                <a:cubicBezTo>
                  <a:pt x="-25558" y="1112414"/>
                  <a:pt x="91157" y="1004218"/>
                  <a:pt x="0" y="1095375"/>
                </a:cubicBezTo>
                <a:cubicBezTo>
                  <a:pt x="999" y="1103367"/>
                  <a:pt x="13557" y="1212245"/>
                  <a:pt x="19050" y="1228725"/>
                </a:cubicBezTo>
                <a:cubicBezTo>
                  <a:pt x="22670" y="1239585"/>
                  <a:pt x="30771" y="1248506"/>
                  <a:pt x="38100" y="1257300"/>
                </a:cubicBezTo>
                <a:cubicBezTo>
                  <a:pt x="58511" y="1281793"/>
                  <a:pt x="65273" y="1289950"/>
                  <a:pt x="95250" y="1295400"/>
                </a:cubicBezTo>
                <a:cubicBezTo>
                  <a:pt x="120435" y="1299979"/>
                  <a:pt x="146050" y="1301750"/>
                  <a:pt x="171450" y="1304925"/>
                </a:cubicBezTo>
                <a:cubicBezTo>
                  <a:pt x="501642" y="1525053"/>
                  <a:pt x="174520" y="1314502"/>
                  <a:pt x="1285875" y="1333500"/>
                </a:cubicBezTo>
                <a:cubicBezTo>
                  <a:pt x="1295914" y="1333672"/>
                  <a:pt x="1304460" y="1342026"/>
                  <a:pt x="1314450" y="1343025"/>
                </a:cubicBezTo>
                <a:cubicBezTo>
                  <a:pt x="1336565" y="1345236"/>
                  <a:pt x="1358900" y="1343025"/>
                  <a:pt x="1333500" y="1333500"/>
                </a:cubicBezTo>
                <a:close/>
              </a:path>
            </a:pathLst>
          </a:cu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5" name="TextBox 5"/>
          <p:cNvSpPr/>
          <p:nvPr/>
        </p:nvSpPr>
        <p:spPr>
          <a:xfrm>
            <a:off x="646200" y="3257640"/>
            <a:ext cx="1851480" cy="18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6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" descr="D:\Betsy葛\1\32.png"/>
          <p:cNvPicPr/>
          <p:nvPr/>
        </p:nvPicPr>
        <p:blipFill>
          <a:blip r:embed="rId2"/>
          <a:stretch/>
        </p:blipFill>
        <p:spPr>
          <a:xfrm>
            <a:off x="0" y="0"/>
            <a:ext cx="11801160" cy="5155920"/>
          </a:xfrm>
          <a:prstGeom prst="rect">
            <a:avLst/>
          </a:prstGeom>
          <a:ln w="9525">
            <a:noFill/>
          </a:ln>
        </p:spPr>
      </p:pic>
      <p:sp>
        <p:nvSpPr>
          <p:cNvPr id="487" name="任意多边形 8"/>
          <p:cNvSpPr/>
          <p:nvPr/>
        </p:nvSpPr>
        <p:spPr>
          <a:xfrm>
            <a:off x="4791960" y="1140120"/>
            <a:ext cx="3782520" cy="2112480"/>
          </a:xfrm>
          <a:custGeom>
            <a:avLst/>
            <a:gdLst>
              <a:gd name="textAreaLeft" fmla="*/ 0 w 3782520"/>
              <a:gd name="textAreaRight" fmla="*/ 3782880 w 3782520"/>
              <a:gd name="textAreaTop" fmla="*/ 0 h 2112480"/>
              <a:gd name="textAreaBottom" fmla="*/ 2112840 h 2112480"/>
            </a:gdLst>
            <a:ahLst/>
            <a:rect l="textAreaLeft" t="textAreaTop" r="textAreaRight" b="textAreaBottom"/>
            <a:pathLst>
              <a:path w="3581400" h="2000250">
                <a:moveTo>
                  <a:pt x="0" y="895350"/>
                </a:moveTo>
                <a:lnTo>
                  <a:pt x="0" y="895350"/>
                </a:lnTo>
                <a:cubicBezTo>
                  <a:pt x="16361" y="682661"/>
                  <a:pt x="-16307" y="700050"/>
                  <a:pt x="57150" y="571500"/>
                </a:cubicBezTo>
                <a:cubicBezTo>
                  <a:pt x="68509" y="551621"/>
                  <a:pt x="78020" y="529427"/>
                  <a:pt x="95250" y="514350"/>
                </a:cubicBezTo>
                <a:cubicBezTo>
                  <a:pt x="129711" y="484197"/>
                  <a:pt x="171450" y="463550"/>
                  <a:pt x="209550" y="438150"/>
                </a:cubicBezTo>
                <a:cubicBezTo>
                  <a:pt x="228600" y="425450"/>
                  <a:pt x="244980" y="407290"/>
                  <a:pt x="266700" y="400050"/>
                </a:cubicBezTo>
                <a:lnTo>
                  <a:pt x="381000" y="361950"/>
                </a:lnTo>
                <a:lnTo>
                  <a:pt x="438150" y="342900"/>
                </a:lnTo>
                <a:lnTo>
                  <a:pt x="495300" y="323850"/>
                </a:lnTo>
                <a:cubicBezTo>
                  <a:pt x="628650" y="330200"/>
                  <a:pt x="762310" y="331813"/>
                  <a:pt x="895350" y="342900"/>
                </a:cubicBezTo>
                <a:cubicBezTo>
                  <a:pt x="915361" y="344568"/>
                  <a:pt x="932420" y="361950"/>
                  <a:pt x="952500" y="361950"/>
                </a:cubicBezTo>
                <a:cubicBezTo>
                  <a:pt x="1086001" y="361950"/>
                  <a:pt x="1219200" y="349250"/>
                  <a:pt x="1352550" y="342900"/>
                </a:cubicBezTo>
                <a:cubicBezTo>
                  <a:pt x="1377950" y="330200"/>
                  <a:pt x="1404094" y="318889"/>
                  <a:pt x="1428750" y="304800"/>
                </a:cubicBezTo>
                <a:cubicBezTo>
                  <a:pt x="1448629" y="293441"/>
                  <a:pt x="1464978" y="275999"/>
                  <a:pt x="1485900" y="266700"/>
                </a:cubicBezTo>
                <a:cubicBezTo>
                  <a:pt x="1645938" y="195572"/>
                  <a:pt x="1551590" y="262430"/>
                  <a:pt x="1695450" y="190500"/>
                </a:cubicBezTo>
                <a:cubicBezTo>
                  <a:pt x="1715928" y="180261"/>
                  <a:pt x="1732122" y="162639"/>
                  <a:pt x="1752600" y="152400"/>
                </a:cubicBezTo>
                <a:cubicBezTo>
                  <a:pt x="1783050" y="137175"/>
                  <a:pt x="1857466" y="122438"/>
                  <a:pt x="1885950" y="114300"/>
                </a:cubicBezTo>
                <a:cubicBezTo>
                  <a:pt x="1905258" y="108783"/>
                  <a:pt x="1923792" y="100767"/>
                  <a:pt x="1943100" y="95250"/>
                </a:cubicBezTo>
                <a:cubicBezTo>
                  <a:pt x="1968274" y="88057"/>
                  <a:pt x="1994126" y="83393"/>
                  <a:pt x="2019300" y="76200"/>
                </a:cubicBezTo>
                <a:cubicBezTo>
                  <a:pt x="2038608" y="70683"/>
                  <a:pt x="2057142" y="62667"/>
                  <a:pt x="2076450" y="57150"/>
                </a:cubicBezTo>
                <a:cubicBezTo>
                  <a:pt x="2101624" y="49957"/>
                  <a:pt x="2127476" y="45293"/>
                  <a:pt x="2152650" y="38100"/>
                </a:cubicBezTo>
                <a:cubicBezTo>
                  <a:pt x="2171958" y="32583"/>
                  <a:pt x="2190319" y="23920"/>
                  <a:pt x="2209800" y="19050"/>
                </a:cubicBezTo>
                <a:cubicBezTo>
                  <a:pt x="2241212" y="11197"/>
                  <a:pt x="2273300" y="6350"/>
                  <a:pt x="2305050" y="0"/>
                </a:cubicBezTo>
                <a:cubicBezTo>
                  <a:pt x="2451100" y="6350"/>
                  <a:pt x="2597443" y="7838"/>
                  <a:pt x="2743200" y="19050"/>
                </a:cubicBezTo>
                <a:cubicBezTo>
                  <a:pt x="2763221" y="20590"/>
                  <a:pt x="2780869" y="33230"/>
                  <a:pt x="2800350" y="38100"/>
                </a:cubicBezTo>
                <a:cubicBezTo>
                  <a:pt x="2831762" y="45953"/>
                  <a:pt x="2864188" y="49297"/>
                  <a:pt x="2895600" y="57150"/>
                </a:cubicBezTo>
                <a:cubicBezTo>
                  <a:pt x="2915081" y="62020"/>
                  <a:pt x="2933442" y="70683"/>
                  <a:pt x="2952750" y="76200"/>
                </a:cubicBezTo>
                <a:cubicBezTo>
                  <a:pt x="2977924" y="83393"/>
                  <a:pt x="3004435" y="86057"/>
                  <a:pt x="3028950" y="95250"/>
                </a:cubicBezTo>
                <a:cubicBezTo>
                  <a:pt x="3062827" y="107954"/>
                  <a:pt x="3132153" y="146327"/>
                  <a:pt x="3162300" y="171450"/>
                </a:cubicBezTo>
                <a:cubicBezTo>
                  <a:pt x="3182996" y="188697"/>
                  <a:pt x="3198754" y="211353"/>
                  <a:pt x="3219450" y="228600"/>
                </a:cubicBezTo>
                <a:cubicBezTo>
                  <a:pt x="3237039" y="243257"/>
                  <a:pt x="3260411" y="250511"/>
                  <a:pt x="3276600" y="266700"/>
                </a:cubicBezTo>
                <a:cubicBezTo>
                  <a:pt x="3299051" y="289151"/>
                  <a:pt x="3312842" y="319006"/>
                  <a:pt x="3333750" y="342900"/>
                </a:cubicBezTo>
                <a:cubicBezTo>
                  <a:pt x="3357404" y="369933"/>
                  <a:pt x="3384550" y="393700"/>
                  <a:pt x="3409950" y="419100"/>
                </a:cubicBezTo>
                <a:cubicBezTo>
                  <a:pt x="3449077" y="536482"/>
                  <a:pt x="3404326" y="411209"/>
                  <a:pt x="3467100" y="552450"/>
                </a:cubicBezTo>
                <a:cubicBezTo>
                  <a:pt x="3480988" y="583699"/>
                  <a:pt x="3493193" y="615681"/>
                  <a:pt x="3505200" y="647700"/>
                </a:cubicBezTo>
                <a:cubicBezTo>
                  <a:pt x="3512251" y="666502"/>
                  <a:pt x="3516340" y="686393"/>
                  <a:pt x="3524250" y="704850"/>
                </a:cubicBezTo>
                <a:cubicBezTo>
                  <a:pt x="3535437" y="730952"/>
                  <a:pt x="3549650" y="755650"/>
                  <a:pt x="3562350" y="781050"/>
                </a:cubicBezTo>
                <a:cubicBezTo>
                  <a:pt x="3568700" y="812800"/>
                  <a:pt x="3581400" y="843921"/>
                  <a:pt x="3581400" y="876300"/>
                </a:cubicBezTo>
                <a:cubicBezTo>
                  <a:pt x="3581400" y="1003459"/>
                  <a:pt x="3573366" y="1130619"/>
                  <a:pt x="3562350" y="1257300"/>
                </a:cubicBezTo>
                <a:cubicBezTo>
                  <a:pt x="3559399" y="1291239"/>
                  <a:pt x="3527828" y="1348972"/>
                  <a:pt x="3505200" y="1371600"/>
                </a:cubicBezTo>
                <a:cubicBezTo>
                  <a:pt x="3489011" y="1387789"/>
                  <a:pt x="3465433" y="1394800"/>
                  <a:pt x="3448050" y="1409700"/>
                </a:cubicBezTo>
                <a:cubicBezTo>
                  <a:pt x="3420777" y="1433077"/>
                  <a:pt x="3399900" y="1463460"/>
                  <a:pt x="3371850" y="1485900"/>
                </a:cubicBezTo>
                <a:cubicBezTo>
                  <a:pt x="3336094" y="1514505"/>
                  <a:pt x="3295650" y="1536700"/>
                  <a:pt x="3257550" y="1562100"/>
                </a:cubicBezTo>
                <a:cubicBezTo>
                  <a:pt x="3238500" y="1574800"/>
                  <a:pt x="3216589" y="1584011"/>
                  <a:pt x="3200400" y="1600200"/>
                </a:cubicBezTo>
                <a:cubicBezTo>
                  <a:pt x="3162300" y="1638300"/>
                  <a:pt x="3118429" y="1671395"/>
                  <a:pt x="3086100" y="1714500"/>
                </a:cubicBezTo>
                <a:cubicBezTo>
                  <a:pt x="3015213" y="1809016"/>
                  <a:pt x="3055368" y="1773088"/>
                  <a:pt x="2971800" y="1828800"/>
                </a:cubicBezTo>
                <a:cubicBezTo>
                  <a:pt x="2959100" y="1847850"/>
                  <a:pt x="2953115" y="1873816"/>
                  <a:pt x="2933700" y="1885950"/>
                </a:cubicBezTo>
                <a:cubicBezTo>
                  <a:pt x="2899644" y="1907235"/>
                  <a:pt x="2855321" y="1906089"/>
                  <a:pt x="2819400" y="1924050"/>
                </a:cubicBezTo>
                <a:cubicBezTo>
                  <a:pt x="2670552" y="1998474"/>
                  <a:pt x="2747118" y="1974197"/>
                  <a:pt x="2590800" y="2000250"/>
                </a:cubicBezTo>
                <a:cubicBezTo>
                  <a:pt x="2400300" y="1993900"/>
                  <a:pt x="2208521" y="2004136"/>
                  <a:pt x="2019300" y="1981200"/>
                </a:cubicBezTo>
                <a:cubicBezTo>
                  <a:pt x="1988346" y="1977448"/>
                  <a:pt x="1941073" y="1887328"/>
                  <a:pt x="1924050" y="1866900"/>
                </a:cubicBezTo>
                <a:cubicBezTo>
                  <a:pt x="1881031" y="1815277"/>
                  <a:pt x="1749313" y="1707054"/>
                  <a:pt x="1714500" y="1695450"/>
                </a:cubicBezTo>
                <a:cubicBezTo>
                  <a:pt x="1506074" y="1625975"/>
                  <a:pt x="1821774" y="1736777"/>
                  <a:pt x="1600200" y="1638300"/>
                </a:cubicBezTo>
                <a:cubicBezTo>
                  <a:pt x="1563500" y="1621989"/>
                  <a:pt x="1524000" y="1612900"/>
                  <a:pt x="1485900" y="1600200"/>
                </a:cubicBezTo>
                <a:lnTo>
                  <a:pt x="1428750" y="1581150"/>
                </a:lnTo>
                <a:cubicBezTo>
                  <a:pt x="1409700" y="1574800"/>
                  <a:pt x="1391479" y="1564940"/>
                  <a:pt x="1371600" y="1562100"/>
                </a:cubicBezTo>
                <a:cubicBezTo>
                  <a:pt x="1181326" y="1534918"/>
                  <a:pt x="1282877" y="1548009"/>
                  <a:pt x="1066800" y="1524000"/>
                </a:cubicBezTo>
                <a:cubicBezTo>
                  <a:pt x="1041400" y="1517650"/>
                  <a:pt x="1016158" y="1510630"/>
                  <a:pt x="990600" y="1504950"/>
                </a:cubicBezTo>
                <a:cubicBezTo>
                  <a:pt x="920681" y="1489412"/>
                  <a:pt x="885520" y="1486761"/>
                  <a:pt x="819150" y="1466850"/>
                </a:cubicBezTo>
                <a:cubicBezTo>
                  <a:pt x="780683" y="1455310"/>
                  <a:pt x="738266" y="1451027"/>
                  <a:pt x="704850" y="1428750"/>
                </a:cubicBezTo>
                <a:cubicBezTo>
                  <a:pt x="666750" y="1403350"/>
                  <a:pt x="631506" y="1373028"/>
                  <a:pt x="590550" y="1352550"/>
                </a:cubicBezTo>
                <a:cubicBezTo>
                  <a:pt x="565150" y="1339850"/>
                  <a:pt x="537458" y="1330956"/>
                  <a:pt x="514350" y="1314450"/>
                </a:cubicBezTo>
                <a:cubicBezTo>
                  <a:pt x="389489" y="1225264"/>
                  <a:pt x="522644" y="1279115"/>
                  <a:pt x="400050" y="1238250"/>
                </a:cubicBezTo>
                <a:cubicBezTo>
                  <a:pt x="336550" y="1143000"/>
                  <a:pt x="381000" y="1193800"/>
                  <a:pt x="247650" y="1104900"/>
                </a:cubicBezTo>
                <a:lnTo>
                  <a:pt x="190500" y="1066800"/>
                </a:lnTo>
                <a:cubicBezTo>
                  <a:pt x="177800" y="1047750"/>
                  <a:pt x="169630" y="1024727"/>
                  <a:pt x="152400" y="1009650"/>
                </a:cubicBezTo>
                <a:cubicBezTo>
                  <a:pt x="117939" y="979497"/>
                  <a:pt x="70479" y="965829"/>
                  <a:pt x="38100" y="933450"/>
                </a:cubicBezTo>
                <a:lnTo>
                  <a:pt x="0" y="895350"/>
                </a:lnTo>
                <a:close/>
              </a:path>
            </a:pathLst>
          </a:custGeom>
          <a:solidFill>
            <a:schemeClr val="bg1">
              <a:alpha val="11000"/>
            </a:schemeClr>
          </a:solidFill>
          <a:ln>
            <a:noFill/>
          </a:ln>
          <a:effectLst>
            <a:glow rad="546120">
              <a:srgbClr val="ffffff">
                <a:alpha val="88000"/>
              </a:srgbClr>
            </a:glow>
            <a:softEdge rad="1652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5303160" y="1515960"/>
            <a:ext cx="270324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宋体"/>
              </a:rPr>
              <a:t>ALLOW    YOURSEL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0"/>
          <p:cNvSpPr/>
          <p:nvPr/>
        </p:nvSpPr>
        <p:spPr>
          <a:xfrm>
            <a:off x="6521400" y="1959120"/>
            <a:ext cx="53604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1"/>
          <p:cNvSpPr/>
          <p:nvPr/>
        </p:nvSpPr>
        <p:spPr>
          <a:xfrm>
            <a:off x="5613120" y="2346480"/>
            <a:ext cx="242748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宋体"/>
              </a:rPr>
              <a:t>MAKE  MISTAK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nodeType="clickEffect" fill="hold">
                      <p:stCondLst>
                        <p:cond delay="0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withEffect" fill="hold" presetClass="exit" presetID="6" presetSubtype="32">
                                  <p:stCondLst>
                                    <p:cond delay="2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61" dur="7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6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65" dur="6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5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4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4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4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3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1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3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Box 1"/>
          <p:cNvSpPr/>
          <p:nvPr/>
        </p:nvSpPr>
        <p:spPr>
          <a:xfrm>
            <a:off x="32400" y="1676520"/>
            <a:ext cx="1631880" cy="1613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7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"/>
          <p:cNvSpPr/>
          <p:nvPr/>
        </p:nvSpPr>
        <p:spPr>
          <a:xfrm>
            <a:off x="1503000" y="2394000"/>
            <a:ext cx="641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直接连接符 4"/>
          <p:cNvCxnSpPr/>
          <p:nvPr/>
        </p:nvCxnSpPr>
        <p:spPr>
          <a:xfrm>
            <a:off x="-45720" y="3012840"/>
            <a:ext cx="140475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494" name="矩形 12"/>
          <p:cNvSpPr/>
          <p:nvPr/>
        </p:nvSpPr>
        <p:spPr>
          <a:xfrm flipV="1">
            <a:off x="2130480" y="2599920"/>
            <a:ext cx="11485080" cy="4392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5" name="矩形 13"/>
          <p:cNvSpPr/>
          <p:nvPr/>
        </p:nvSpPr>
        <p:spPr>
          <a:xfrm>
            <a:off x="2111400" y="2357280"/>
            <a:ext cx="7760880" cy="46152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496" name="燕尾形 11"/>
          <p:cNvSpPr/>
          <p:nvPr/>
        </p:nvSpPr>
        <p:spPr>
          <a:xfrm>
            <a:off x="2028960" y="2527200"/>
            <a:ext cx="164880" cy="194760"/>
          </a:xfrm>
          <a:prstGeom prst="chevron">
            <a:avLst>
              <a:gd name="adj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497" name="组合 15"/>
          <p:cNvGrpSpPr/>
          <p:nvPr/>
        </p:nvGrpSpPr>
        <p:grpSpPr>
          <a:xfrm>
            <a:off x="11091960" y="1562040"/>
            <a:ext cx="8124840" cy="2652480"/>
            <a:chOff x="11091960" y="1562040"/>
            <a:chExt cx="8124840" cy="2652480"/>
          </a:xfrm>
        </p:grpSpPr>
        <p:pic>
          <p:nvPicPr>
            <p:cNvPr id="498" name="Picture 4" descr="D:\Betsy葛\1\1104131533871422314e03eca2副本.png"/>
            <p:cNvPicPr/>
            <p:nvPr/>
          </p:nvPicPr>
          <p:blipFill>
            <a:blip r:embed="rId1"/>
            <a:stretch/>
          </p:blipFill>
          <p:spPr>
            <a:xfrm flipH="1">
              <a:off x="17703720" y="1595520"/>
              <a:ext cx="1513080" cy="26190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499" name="组合 14"/>
            <p:cNvGrpSpPr/>
            <p:nvPr/>
          </p:nvGrpSpPr>
          <p:grpSpPr>
            <a:xfrm>
              <a:off x="11091960" y="1562040"/>
              <a:ext cx="8124120" cy="1818000"/>
              <a:chOff x="11091960" y="1562040"/>
              <a:chExt cx="8124120" cy="1818000"/>
            </a:xfrm>
          </p:grpSpPr>
          <p:pic>
            <p:nvPicPr>
              <p:cNvPr id="500" name="Picture 5" descr="D:\Betsy葛\1\13.png"/>
              <p:cNvPicPr/>
              <p:nvPr/>
            </p:nvPicPr>
            <p:blipFill>
              <a:blip r:embed="rId2"/>
              <a:stretch/>
            </p:blipFill>
            <p:spPr>
              <a:xfrm>
                <a:off x="18043920" y="1562040"/>
                <a:ext cx="1172160" cy="144864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501" name="Picture 6" descr="D:\Betsy葛\1\errr.png"/>
              <p:cNvPicPr/>
              <p:nvPr/>
            </p:nvPicPr>
            <p:blipFill>
              <a:blip r:embed="rId3"/>
              <a:stretch/>
            </p:blipFill>
            <p:spPr>
              <a:xfrm>
                <a:off x="16923960" y="2004840"/>
                <a:ext cx="513000" cy="991440"/>
              </a:xfrm>
              <a:prstGeom prst="rect">
                <a:avLst/>
              </a:prstGeom>
              <a:ln w="9525">
                <a:noFill/>
              </a:ln>
            </p:spPr>
          </p:pic>
          <p:grpSp>
            <p:nvGrpSpPr>
              <p:cNvPr id="502" name="组合 10"/>
              <p:cNvGrpSpPr/>
              <p:nvPr/>
            </p:nvGrpSpPr>
            <p:grpSpPr>
              <a:xfrm>
                <a:off x="11091960" y="2325240"/>
                <a:ext cx="2735280" cy="1054800"/>
                <a:chOff x="11091960" y="2325240"/>
                <a:chExt cx="2735280" cy="1054800"/>
              </a:xfrm>
            </p:grpSpPr>
            <p:pic>
              <p:nvPicPr>
                <p:cNvPr id="503" name="Picture 2" descr="D:\Betsy葛\1\20120217_b758433fadcf015853ecgjwFPuRPqbre副本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252240" y="2504160"/>
                  <a:ext cx="432720" cy="554400"/>
                </a:xfrm>
                <a:prstGeom prst="rect">
                  <a:avLst/>
                </a:prstGeom>
                <a:ln w="9525">
                  <a:noFill/>
                </a:ln>
              </p:spPr>
            </p:pic>
            <p:pic>
              <p:nvPicPr>
                <p:cNvPr id="504" name="Picture 3" descr="D:\Betsy葛\1\img02546460副本.png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13266000" y="2394720"/>
                  <a:ext cx="561240" cy="655200"/>
                </a:xfrm>
                <a:prstGeom prst="rect">
                  <a:avLst/>
                </a:prstGeom>
                <a:ln w="9525">
                  <a:noFill/>
                </a:ln>
              </p:spPr>
            </p:pic>
            <p:pic>
              <p:nvPicPr>
                <p:cNvPr id="505" name="Picture 6" descr="D:\Betsy葛\1\img02546副本.png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11091960" y="2325240"/>
                  <a:ext cx="1414440" cy="1054800"/>
                </a:xfrm>
                <a:prstGeom prst="rect">
                  <a:avLst/>
                </a:prstGeom>
                <a:ln w="9525">
                  <a:noFill/>
                </a:ln>
              </p:spPr>
            </p:pic>
          </p:grpSp>
        </p:grpSp>
      </p:grpSp>
      <p:sp>
        <p:nvSpPr>
          <p:cNvPr id="506" name="TextBox 17"/>
          <p:cNvSpPr/>
          <p:nvPr/>
        </p:nvSpPr>
        <p:spPr>
          <a:xfrm>
            <a:off x="6317280" y="2139840"/>
            <a:ext cx="8074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宋体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6"/>
          <p:cNvSpPr/>
          <p:nvPr/>
        </p:nvSpPr>
        <p:spPr>
          <a:xfrm>
            <a:off x="4511520" y="2149560"/>
            <a:ext cx="1859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OME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2062"/>
          <p:cNvSpPr/>
          <p:nvPr/>
        </p:nvSpPr>
        <p:spPr>
          <a:xfrm>
            <a:off x="17499600" y="157320"/>
            <a:ext cx="1486080" cy="74592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2047875" h="867722">
                <a:moveTo>
                  <a:pt x="276225" y="162872"/>
                </a:moveTo>
                <a:lnTo>
                  <a:pt x="276225" y="162872"/>
                </a:lnTo>
                <a:cubicBezTo>
                  <a:pt x="298450" y="143822"/>
                  <a:pt x="321142" y="125304"/>
                  <a:pt x="342900" y="105722"/>
                </a:cubicBezTo>
                <a:cubicBezTo>
                  <a:pt x="371906" y="79616"/>
                  <a:pt x="387051" y="52905"/>
                  <a:pt x="428625" y="39047"/>
                </a:cubicBezTo>
                <a:cubicBezTo>
                  <a:pt x="469619" y="25382"/>
                  <a:pt x="447460" y="31957"/>
                  <a:pt x="495300" y="19997"/>
                </a:cubicBezTo>
                <a:cubicBezTo>
                  <a:pt x="504825" y="13647"/>
                  <a:pt x="512445" y="1582"/>
                  <a:pt x="523875" y="947"/>
                </a:cubicBezTo>
                <a:cubicBezTo>
                  <a:pt x="582931" y="-2334"/>
                  <a:pt x="647015" y="2647"/>
                  <a:pt x="704850" y="19997"/>
                </a:cubicBezTo>
                <a:cubicBezTo>
                  <a:pt x="724084" y="25767"/>
                  <a:pt x="745292" y="27908"/>
                  <a:pt x="762000" y="39047"/>
                </a:cubicBezTo>
                <a:cubicBezTo>
                  <a:pt x="771525" y="45397"/>
                  <a:pt x="780114" y="53448"/>
                  <a:pt x="790575" y="58097"/>
                </a:cubicBezTo>
                <a:cubicBezTo>
                  <a:pt x="808925" y="66252"/>
                  <a:pt x="847725" y="77147"/>
                  <a:pt x="847725" y="77147"/>
                </a:cubicBezTo>
                <a:cubicBezTo>
                  <a:pt x="857250" y="86672"/>
                  <a:pt x="865092" y="98250"/>
                  <a:pt x="876300" y="105722"/>
                </a:cubicBezTo>
                <a:cubicBezTo>
                  <a:pt x="884654" y="111291"/>
                  <a:pt x="895221" y="112489"/>
                  <a:pt x="904875" y="115247"/>
                </a:cubicBezTo>
                <a:cubicBezTo>
                  <a:pt x="917462" y="118843"/>
                  <a:pt x="930388" y="121176"/>
                  <a:pt x="942975" y="124772"/>
                </a:cubicBezTo>
                <a:cubicBezTo>
                  <a:pt x="952629" y="127530"/>
                  <a:pt x="961555" y="133345"/>
                  <a:pt x="971550" y="134297"/>
                </a:cubicBezTo>
                <a:cubicBezTo>
                  <a:pt x="1028530" y="139724"/>
                  <a:pt x="1085850" y="140647"/>
                  <a:pt x="1143000" y="143822"/>
                </a:cubicBezTo>
                <a:cubicBezTo>
                  <a:pt x="1152525" y="146997"/>
                  <a:pt x="1162595" y="148857"/>
                  <a:pt x="1171575" y="153347"/>
                </a:cubicBezTo>
                <a:cubicBezTo>
                  <a:pt x="1181814" y="158467"/>
                  <a:pt x="1188925" y="170152"/>
                  <a:pt x="1200150" y="172397"/>
                </a:cubicBezTo>
                <a:cubicBezTo>
                  <a:pt x="1253442" y="183055"/>
                  <a:pt x="1308100" y="185097"/>
                  <a:pt x="1362075" y="191447"/>
                </a:cubicBezTo>
                <a:cubicBezTo>
                  <a:pt x="1438275" y="242247"/>
                  <a:pt x="1346200" y="175572"/>
                  <a:pt x="1409700" y="239072"/>
                </a:cubicBezTo>
                <a:cubicBezTo>
                  <a:pt x="1417795" y="247167"/>
                  <a:pt x="1428750" y="251772"/>
                  <a:pt x="1438275" y="258122"/>
                </a:cubicBezTo>
                <a:cubicBezTo>
                  <a:pt x="1470388" y="209952"/>
                  <a:pt x="1439892" y="243026"/>
                  <a:pt x="1485900" y="220022"/>
                </a:cubicBezTo>
                <a:cubicBezTo>
                  <a:pt x="1496139" y="214902"/>
                  <a:pt x="1504236" y="206092"/>
                  <a:pt x="1514475" y="200972"/>
                </a:cubicBezTo>
                <a:cubicBezTo>
                  <a:pt x="1523455" y="196482"/>
                  <a:pt x="1533822" y="195402"/>
                  <a:pt x="1543050" y="191447"/>
                </a:cubicBezTo>
                <a:cubicBezTo>
                  <a:pt x="1556101" y="185854"/>
                  <a:pt x="1567855" y="177383"/>
                  <a:pt x="1581150" y="172397"/>
                </a:cubicBezTo>
                <a:cubicBezTo>
                  <a:pt x="1598044" y="166062"/>
                  <a:pt x="1652062" y="156639"/>
                  <a:pt x="1666875" y="153347"/>
                </a:cubicBezTo>
                <a:cubicBezTo>
                  <a:pt x="1679654" y="150507"/>
                  <a:pt x="1692436" y="147584"/>
                  <a:pt x="1704975" y="143822"/>
                </a:cubicBezTo>
                <a:cubicBezTo>
                  <a:pt x="1724209" y="138052"/>
                  <a:pt x="1762125" y="124772"/>
                  <a:pt x="1762125" y="124772"/>
                </a:cubicBezTo>
                <a:cubicBezTo>
                  <a:pt x="1784350" y="127947"/>
                  <a:pt x="1806785" y="129894"/>
                  <a:pt x="1828800" y="134297"/>
                </a:cubicBezTo>
                <a:cubicBezTo>
                  <a:pt x="1852159" y="138969"/>
                  <a:pt x="1874822" y="152545"/>
                  <a:pt x="1895475" y="162872"/>
                </a:cubicBezTo>
                <a:cubicBezTo>
                  <a:pt x="1901825" y="172397"/>
                  <a:pt x="1906430" y="183352"/>
                  <a:pt x="1914525" y="191447"/>
                </a:cubicBezTo>
                <a:cubicBezTo>
                  <a:pt x="1922620" y="199542"/>
                  <a:pt x="1935562" y="201882"/>
                  <a:pt x="1943100" y="210497"/>
                </a:cubicBezTo>
                <a:cubicBezTo>
                  <a:pt x="1958177" y="227727"/>
                  <a:pt x="1968500" y="248597"/>
                  <a:pt x="1981200" y="267647"/>
                </a:cubicBezTo>
                <a:cubicBezTo>
                  <a:pt x="1987550" y="277172"/>
                  <a:pt x="1996630" y="285362"/>
                  <a:pt x="2000250" y="296222"/>
                </a:cubicBezTo>
                <a:cubicBezTo>
                  <a:pt x="2003425" y="305747"/>
                  <a:pt x="2005620" y="315657"/>
                  <a:pt x="2009775" y="324797"/>
                </a:cubicBezTo>
                <a:cubicBezTo>
                  <a:pt x="2021526" y="350650"/>
                  <a:pt x="2047875" y="400997"/>
                  <a:pt x="2047875" y="400997"/>
                </a:cubicBezTo>
                <a:cubicBezTo>
                  <a:pt x="2047471" y="404228"/>
                  <a:pt x="2042379" y="485442"/>
                  <a:pt x="2028825" y="505772"/>
                </a:cubicBezTo>
                <a:cubicBezTo>
                  <a:pt x="2021353" y="516980"/>
                  <a:pt x="2009775" y="524822"/>
                  <a:pt x="2000250" y="534347"/>
                </a:cubicBezTo>
                <a:cubicBezTo>
                  <a:pt x="1997075" y="556572"/>
                  <a:pt x="1993348" y="578725"/>
                  <a:pt x="1990725" y="601022"/>
                </a:cubicBezTo>
                <a:cubicBezTo>
                  <a:pt x="1986997" y="632712"/>
                  <a:pt x="1993472" y="666818"/>
                  <a:pt x="1981200" y="696272"/>
                </a:cubicBezTo>
                <a:cubicBezTo>
                  <a:pt x="1977403" y="705384"/>
                  <a:pt x="1925964" y="721034"/>
                  <a:pt x="1914525" y="724847"/>
                </a:cubicBezTo>
                <a:cubicBezTo>
                  <a:pt x="1873250" y="721672"/>
                  <a:pt x="1831388" y="722951"/>
                  <a:pt x="1790700" y="715322"/>
                </a:cubicBezTo>
                <a:cubicBezTo>
                  <a:pt x="1779448" y="713212"/>
                  <a:pt x="1773567" y="696619"/>
                  <a:pt x="1762125" y="696272"/>
                </a:cubicBezTo>
                <a:lnTo>
                  <a:pt x="1476375" y="705797"/>
                </a:lnTo>
                <a:lnTo>
                  <a:pt x="1419225" y="724847"/>
                </a:lnTo>
                <a:cubicBezTo>
                  <a:pt x="1409700" y="728022"/>
                  <a:pt x="1400495" y="732403"/>
                  <a:pt x="1390650" y="734372"/>
                </a:cubicBezTo>
                <a:lnTo>
                  <a:pt x="1343025" y="743897"/>
                </a:lnTo>
                <a:cubicBezTo>
                  <a:pt x="1333500" y="750247"/>
                  <a:pt x="1324972" y="758438"/>
                  <a:pt x="1314450" y="762947"/>
                </a:cubicBezTo>
                <a:cubicBezTo>
                  <a:pt x="1302418" y="768104"/>
                  <a:pt x="1288937" y="768876"/>
                  <a:pt x="1276350" y="772472"/>
                </a:cubicBezTo>
                <a:cubicBezTo>
                  <a:pt x="1155729" y="806935"/>
                  <a:pt x="1407397" y="775346"/>
                  <a:pt x="1019175" y="791522"/>
                </a:cubicBezTo>
                <a:cubicBezTo>
                  <a:pt x="882688" y="818819"/>
                  <a:pt x="1051756" y="780662"/>
                  <a:pt x="933450" y="820097"/>
                </a:cubicBezTo>
                <a:cubicBezTo>
                  <a:pt x="900844" y="830966"/>
                  <a:pt x="885763" y="824890"/>
                  <a:pt x="857250" y="839147"/>
                </a:cubicBezTo>
                <a:cubicBezTo>
                  <a:pt x="783392" y="876076"/>
                  <a:pt x="871924" y="843781"/>
                  <a:pt x="800100" y="867722"/>
                </a:cubicBezTo>
                <a:lnTo>
                  <a:pt x="295275" y="858197"/>
                </a:lnTo>
                <a:cubicBezTo>
                  <a:pt x="285241" y="857839"/>
                  <a:pt x="276440" y="851107"/>
                  <a:pt x="266700" y="848672"/>
                </a:cubicBezTo>
                <a:cubicBezTo>
                  <a:pt x="188134" y="829030"/>
                  <a:pt x="249421" y="849178"/>
                  <a:pt x="180975" y="829622"/>
                </a:cubicBezTo>
                <a:cubicBezTo>
                  <a:pt x="85322" y="802293"/>
                  <a:pt x="233407" y="840349"/>
                  <a:pt x="114300" y="810572"/>
                </a:cubicBezTo>
                <a:cubicBezTo>
                  <a:pt x="80595" y="788102"/>
                  <a:pt x="78421" y="789351"/>
                  <a:pt x="47625" y="753422"/>
                </a:cubicBezTo>
                <a:cubicBezTo>
                  <a:pt x="5292" y="704033"/>
                  <a:pt x="55033" y="742486"/>
                  <a:pt x="0" y="705797"/>
                </a:cubicBezTo>
                <a:cubicBezTo>
                  <a:pt x="13371" y="344778"/>
                  <a:pt x="-7911" y="549284"/>
                  <a:pt x="19050" y="400997"/>
                </a:cubicBezTo>
                <a:cubicBezTo>
                  <a:pt x="22505" y="381996"/>
                  <a:pt x="21402" y="361778"/>
                  <a:pt x="28575" y="343847"/>
                </a:cubicBezTo>
                <a:cubicBezTo>
                  <a:pt x="34471" y="329107"/>
                  <a:pt x="48046" y="318752"/>
                  <a:pt x="57150" y="305747"/>
                </a:cubicBezTo>
                <a:cubicBezTo>
                  <a:pt x="70280" y="286990"/>
                  <a:pt x="82550" y="267647"/>
                  <a:pt x="95250" y="248597"/>
                </a:cubicBezTo>
                <a:cubicBezTo>
                  <a:pt x="101600" y="239072"/>
                  <a:pt x="104775" y="226372"/>
                  <a:pt x="114300" y="220022"/>
                </a:cubicBezTo>
                <a:lnTo>
                  <a:pt x="171450" y="181922"/>
                </a:lnTo>
                <a:cubicBezTo>
                  <a:pt x="180975" y="175572"/>
                  <a:pt x="188692" y="164491"/>
                  <a:pt x="200025" y="162872"/>
                </a:cubicBezTo>
                <a:cubicBezTo>
                  <a:pt x="222250" y="159697"/>
                  <a:pt x="244342" y="155380"/>
                  <a:pt x="266700" y="153347"/>
                </a:cubicBezTo>
                <a:cubicBezTo>
                  <a:pt x="279348" y="152197"/>
                  <a:pt x="274638" y="161285"/>
                  <a:pt x="276225" y="162872"/>
                </a:cubicBezTo>
                <a:close/>
              </a:path>
            </a:pathLst>
          </a:custGeom>
          <a:solidFill>
            <a:schemeClr val="bg1">
              <a:lumMod val="85000"/>
              <a:alpha val="64000"/>
            </a:schemeClr>
          </a:solidFill>
          <a:ln>
            <a:noFill/>
          </a:ln>
          <a:effectLst>
            <a:glow rad="380880">
              <a:srgbClr val="eeece1">
                <a:alpha val="40000"/>
              </a:srgbClr>
            </a:glow>
            <a:softEdge rad="38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9" name="任意多边形 2064"/>
          <p:cNvSpPr/>
          <p:nvPr/>
        </p:nvSpPr>
        <p:spPr>
          <a:xfrm>
            <a:off x="16080120" y="90720"/>
            <a:ext cx="684720" cy="347040"/>
          </a:xfrm>
          <a:custGeom>
            <a:avLst/>
            <a:gdLst>
              <a:gd name="textAreaLeft" fmla="*/ 0 w 684720"/>
              <a:gd name="textAreaRight" fmla="*/ 685080 w 684720"/>
              <a:gd name="textAreaTop" fmla="*/ 0 h 347040"/>
              <a:gd name="textAreaBottom" fmla="*/ 347400 h 347040"/>
            </a:gdLst>
            <a:ahLst/>
            <a:rect l="textAreaLeft" t="textAreaTop" r="textAreaRight" b="textAreaBottom"/>
            <a:pathLst>
              <a:path w="974946" h="375504">
                <a:moveTo>
                  <a:pt x="607844" y="740"/>
                </a:moveTo>
                <a:cubicBezTo>
                  <a:pt x="457153" y="-226"/>
                  <a:pt x="387792" y="29679"/>
                  <a:pt x="270989" y="36431"/>
                </a:cubicBezTo>
                <a:cubicBezTo>
                  <a:pt x="183946" y="51302"/>
                  <a:pt x="130602" y="61565"/>
                  <a:pt x="85588" y="89966"/>
                </a:cubicBezTo>
                <a:cubicBezTo>
                  <a:pt x="40574" y="118367"/>
                  <a:pt x="5135" y="172971"/>
                  <a:pt x="902" y="206838"/>
                </a:cubicBezTo>
                <a:cubicBezTo>
                  <a:pt x="-3331" y="240705"/>
                  <a:pt x="5857" y="266078"/>
                  <a:pt x="60188" y="293166"/>
                </a:cubicBezTo>
                <a:cubicBezTo>
                  <a:pt x="114519" y="320254"/>
                  <a:pt x="250688" y="356666"/>
                  <a:pt x="326888" y="369366"/>
                </a:cubicBezTo>
                <a:cubicBezTo>
                  <a:pt x="403088" y="382066"/>
                  <a:pt x="460803" y="371456"/>
                  <a:pt x="517388" y="369366"/>
                </a:cubicBezTo>
                <a:cubicBezTo>
                  <a:pt x="568188" y="363016"/>
                  <a:pt x="613483" y="363178"/>
                  <a:pt x="666400" y="356828"/>
                </a:cubicBezTo>
                <a:cubicBezTo>
                  <a:pt x="721433" y="352595"/>
                  <a:pt x="779707" y="345198"/>
                  <a:pt x="824722" y="326121"/>
                </a:cubicBezTo>
                <a:cubicBezTo>
                  <a:pt x="869737" y="307044"/>
                  <a:pt x="913205" y="269883"/>
                  <a:pt x="936488" y="242366"/>
                </a:cubicBezTo>
                <a:cubicBezTo>
                  <a:pt x="949330" y="223103"/>
                  <a:pt x="972329" y="193683"/>
                  <a:pt x="974588" y="166166"/>
                </a:cubicBezTo>
                <a:cubicBezTo>
                  <a:pt x="976847" y="138649"/>
                  <a:pt x="968391" y="101434"/>
                  <a:pt x="950043" y="77266"/>
                </a:cubicBezTo>
                <a:cubicBezTo>
                  <a:pt x="931695" y="53098"/>
                  <a:pt x="920175" y="38923"/>
                  <a:pt x="864499" y="21158"/>
                </a:cubicBezTo>
                <a:cubicBezTo>
                  <a:pt x="760024" y="-12177"/>
                  <a:pt x="629011" y="4973"/>
                  <a:pt x="607844" y="740"/>
                </a:cubicBezTo>
                <a:close/>
              </a:path>
            </a:pathLst>
          </a:custGeom>
          <a:solidFill>
            <a:schemeClr val="bg1">
              <a:lumMod val="85000"/>
              <a:alpha val="69000"/>
            </a:schemeClr>
          </a:solidFill>
          <a:ln>
            <a:noFill/>
          </a:ln>
          <a:effectLst>
            <a:glow rad="825480">
              <a:srgbClr val="eeece1">
                <a:alpha val="36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0" name="Freeform 969"/>
          <p:cNvSpPr/>
          <p:nvPr/>
        </p:nvSpPr>
        <p:spPr>
          <a:xfrm flipH="1">
            <a:off x="16299000" y="1074600"/>
            <a:ext cx="234720" cy="171000"/>
          </a:xfrm>
          <a:custGeom>
            <a:avLst/>
            <a:gdLst>
              <a:gd name="textAreaLeft" fmla="*/ 360 w 234720"/>
              <a:gd name="textAreaRight" fmla="*/ 235440 w 234720"/>
              <a:gd name="textAreaTop" fmla="*/ 0 h 171000"/>
              <a:gd name="textAreaBottom" fmla="*/ 171360 h 17100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11" name="Freeform 970"/>
          <p:cNvSpPr/>
          <p:nvPr/>
        </p:nvSpPr>
        <p:spPr>
          <a:xfrm flipH="1">
            <a:off x="16298280" y="903240"/>
            <a:ext cx="247320" cy="220320"/>
          </a:xfrm>
          <a:custGeom>
            <a:avLst/>
            <a:gdLst>
              <a:gd name="textAreaLeft" fmla="*/ -360 w 247320"/>
              <a:gd name="textAreaRight" fmla="*/ 247320 w 247320"/>
              <a:gd name="textAreaTop" fmla="*/ 0 h 220320"/>
              <a:gd name="textAreaBottom" fmla="*/ 220680 h 22032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12" name="Freeform 969"/>
          <p:cNvSpPr/>
          <p:nvPr/>
        </p:nvSpPr>
        <p:spPr>
          <a:xfrm flipH="1">
            <a:off x="16704720" y="1244520"/>
            <a:ext cx="153720" cy="112320"/>
          </a:xfrm>
          <a:custGeom>
            <a:avLst/>
            <a:gdLst>
              <a:gd name="textAreaLeft" fmla="*/ -360 w 153720"/>
              <a:gd name="textAreaRight" fmla="*/ 153720 w 153720"/>
              <a:gd name="textAreaTop" fmla="*/ 0 h 112320"/>
              <a:gd name="textAreaBottom" fmla="*/ 112680 h 11232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13" name="Freeform 970"/>
          <p:cNvSpPr/>
          <p:nvPr/>
        </p:nvSpPr>
        <p:spPr>
          <a:xfrm flipH="1">
            <a:off x="16693560" y="1136520"/>
            <a:ext cx="163080" cy="144000"/>
          </a:xfrm>
          <a:custGeom>
            <a:avLst/>
            <a:gdLst>
              <a:gd name="textAreaLeft" fmla="*/ -360 w 163080"/>
              <a:gd name="textAreaRight" fmla="*/ 163080 w 16308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14" name="Freeform 969"/>
          <p:cNvSpPr/>
          <p:nvPr/>
        </p:nvSpPr>
        <p:spPr>
          <a:xfrm flipH="1">
            <a:off x="16830720" y="1077840"/>
            <a:ext cx="196560" cy="142560"/>
          </a:xfrm>
          <a:custGeom>
            <a:avLst/>
            <a:gdLst>
              <a:gd name="textAreaLeft" fmla="*/ 360 w 196560"/>
              <a:gd name="textAreaRight" fmla="*/ 197280 w 19656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15" name="Freeform 970"/>
          <p:cNvSpPr/>
          <p:nvPr/>
        </p:nvSpPr>
        <p:spPr>
          <a:xfrm flipH="1">
            <a:off x="16822080" y="941400"/>
            <a:ext cx="207720" cy="183960"/>
          </a:xfrm>
          <a:custGeom>
            <a:avLst/>
            <a:gdLst>
              <a:gd name="textAreaLeft" fmla="*/ -360 w 207720"/>
              <a:gd name="textAreaRight" fmla="*/ 207720 w 2077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nodeType="clickEffect" fill="hold">
                      <p:stCondLst>
                        <p:cond delay="0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4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4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4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2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81481E-006 L 0.44983 4.81481E-006 E">
                                      <p:cBhvr>
                                        <p:cTn id="1401" dur="21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3" dur="4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path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4.16667E-006 -5.55112E-017 C -0.1 -0.02731 -0.2 -0.05463 -0.38368 -0.06319 C -0.56754 -0.07176 -0.98803 -0.04352 -1.10243 -0.05208 E">
                                      <p:cBhvr>
                                        <p:cTn id="1406" dur="24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8" dur="4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path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4.16667E-006 -5.55112E-017 C -0.1 -0.02731 -0.2 -0.05463 -0.38368 -0.06319 C -0.56754 -0.07176 -0.98803 -0.04352 -1.10243 -0.05208 E">
                                      <p:cBhvr>
                                        <p:cTn id="1411" dur="24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2" nodeType="withEffect" fill="hold" presetClass="exit" presetID="11" repeatCount="indefinite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3" dur="4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path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4.16667E-006 -5.55112E-017 C -0.1 -0.02731 -0.2 -0.05463 -0.38368 -0.06319 C -0.56754 -0.07176 -0.98803 -0.04352 -1.10243 -0.05208 E">
                                      <p:cBhvr>
                                        <p:cTn id="1416" dur="24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1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8" dur="4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path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6 -5.55112E-017 C -0.1 -0.02731 -0.2 -0.05463 -0.38368 -0.06319 C -0.56754 -0.07176 -0.98803 -0.04352 -1.10243 -0.05208 E">
                                      <p:cBhvr>
                                        <p:cTn id="1421" dur="23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2" nodeType="withEffect" fill="hold" presetClass="exit" presetID="11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3" dur="4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path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16667E-006 -5.55112E-017 C -0.1 -0.02731 -0.2 -0.05463 -0.38368 -0.06319 C -0.56754 -0.07176 -0.98803 -0.04352 -1.10243 -0.05208 E">
                                      <p:cBhvr>
                                        <p:cTn id="1426" dur="2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1" repeatCount="indefinite">
                                  <p:stCondLst>
                                    <p:cond delay="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8" dur="4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path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4.16667E-006 -5.55112E-017 C -0.1 -0.02731 -0.2 -0.05463 -0.38368 -0.06319 C -0.56754 -0.07176 -0.98803 -0.04352 -1.10243 -0.05208 E">
                                      <p:cBhvr>
                                        <p:cTn id="1431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2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2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81481E-006 L 0.44983 4.81481E-006 E">
                                      <p:cBhvr>
                                        <p:cTn id="1439" dur="2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0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66667E-006 4.69136E-006 L -0.38924 4.69136E-006 E">
                                      <p:cBhvr>
                                        <p:cTn id="1441" dur="7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2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66667E-006 4.69136E-006 L -0.38924 4.69136E-006 E">
                                      <p:cBhvr>
                                        <p:cTn id="1443" dur="7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4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45" dur="6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6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66667E-006 -6.79642E-008 L -1.06979 0.00031 E">
                                      <p:cBhvr>
                                        <p:cTn id="144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8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66667E-006 -6.79642E-008 L -1.06979 0.00031 E">
                                      <p:cBhvr>
                                        <p:cTn id="144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0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66667E-006 -6.79642E-008 L -1.06979 0.00031 E">
                                      <p:cBhvr>
                                        <p:cTn id="145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4"/>
          <p:cNvSpPr/>
          <p:nvPr/>
        </p:nvSpPr>
        <p:spPr>
          <a:xfrm>
            <a:off x="2132280" y="2111400"/>
            <a:ext cx="8211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c80a14"/>
                </a:solidFill>
                <a:latin typeface="Adobe Gothic Std B"/>
                <a:ea typeface="Adobe Gothic Std B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3041640" y="2265480"/>
            <a:ext cx="3928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AYS  TO  STAY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06120" y="-1181160"/>
            <a:ext cx="609120" cy="6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3.0)">
                                      <p:cBhvr>
                                        <p:cTn id="107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矩形 1"/>
          <p:cNvSpPr/>
          <p:nvPr/>
        </p:nvSpPr>
        <p:spPr>
          <a:xfrm>
            <a:off x="5829480" y="2073240"/>
            <a:ext cx="914040" cy="1361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9600" spc="-1" strike="noStrike">
                <a:solidFill>
                  <a:schemeClr val="lt1"/>
                </a:solidFill>
                <a:latin typeface="Adobe Gothic Std B"/>
                <a:ea typeface="Adobe Gothic Std B"/>
              </a:rPr>
              <a:t>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矩形 5"/>
          <p:cNvSpPr/>
          <p:nvPr/>
        </p:nvSpPr>
        <p:spPr>
          <a:xfrm>
            <a:off x="7810560" y="2073240"/>
            <a:ext cx="914040" cy="1361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8" name="TextBox 6" hidden="1"/>
          <p:cNvSpPr/>
          <p:nvPr/>
        </p:nvSpPr>
        <p:spPr>
          <a:xfrm>
            <a:off x="6824520" y="1968480"/>
            <a:ext cx="879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c80a14"/>
                </a:solidFill>
                <a:latin typeface="Adobe Gothic Std B"/>
                <a:ea typeface="Adobe Gothic Std B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8"/>
          <p:cNvSpPr/>
          <p:nvPr/>
        </p:nvSpPr>
        <p:spPr>
          <a:xfrm>
            <a:off x="7827840" y="1968480"/>
            <a:ext cx="879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9"/>
          <p:cNvSpPr/>
          <p:nvPr/>
        </p:nvSpPr>
        <p:spPr>
          <a:xfrm>
            <a:off x="7827840" y="1968480"/>
            <a:ext cx="879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1"/>
          <p:cNvSpPr/>
          <p:nvPr/>
        </p:nvSpPr>
        <p:spPr>
          <a:xfrm>
            <a:off x="7827840" y="1968480"/>
            <a:ext cx="879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12"/>
          <p:cNvSpPr/>
          <p:nvPr/>
        </p:nvSpPr>
        <p:spPr>
          <a:xfrm>
            <a:off x="6819840" y="2073240"/>
            <a:ext cx="914040" cy="1361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chemeClr val="lt1"/>
              </a:solidFill>
              <a:latin typeface="Adobe Gothic Std B"/>
              <a:ea typeface="宋体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6837120" y="1968480"/>
            <a:ext cx="879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0"/>
          <p:cNvSpPr/>
          <p:nvPr/>
        </p:nvSpPr>
        <p:spPr>
          <a:xfrm>
            <a:off x="6837120" y="1968480"/>
            <a:ext cx="879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4" hidden="1"/>
          <p:cNvSpPr/>
          <p:nvPr/>
        </p:nvSpPr>
        <p:spPr>
          <a:xfrm>
            <a:off x="7827840" y="1978200"/>
            <a:ext cx="879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5"/>
          <p:cNvSpPr/>
          <p:nvPr/>
        </p:nvSpPr>
        <p:spPr>
          <a:xfrm>
            <a:off x="6837120" y="1968480"/>
            <a:ext cx="879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c80a14"/>
                </a:solidFill>
                <a:latin typeface="Adobe Gothic Std B"/>
                <a:ea typeface="Adobe Gothic Std B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"/>
          <p:cNvSpPr/>
          <p:nvPr/>
        </p:nvSpPr>
        <p:spPr>
          <a:xfrm>
            <a:off x="7827840" y="1968480"/>
            <a:ext cx="879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c80a14"/>
                </a:solidFill>
                <a:latin typeface="Adobe Gothic Std B"/>
                <a:ea typeface="Adobe Gothic Std B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7"/>
          <p:cNvSpPr/>
          <p:nvPr/>
        </p:nvSpPr>
        <p:spPr>
          <a:xfrm>
            <a:off x="3600360" y="2289240"/>
            <a:ext cx="2228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C O U N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8"/>
          <p:cNvSpPr/>
          <p:nvPr/>
        </p:nvSpPr>
        <p:spPr>
          <a:xfrm>
            <a:off x="1899000" y="2851200"/>
            <a:ext cx="38311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YOUR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BLESS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nodeType="clickEffect" fill="hold">
                      <p:stCondLst>
                        <p:cond delay="0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4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110"/>
                            </p:stCondLst>
                            <p:childTnLst>
                              <p:par>
                                <p:cTn id="1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nodeType="afterEffect" fill="hold">
                            <p:stCondLst>
                              <p:cond delay="210"/>
                            </p:stCondLst>
                            <p:childTnLst>
                              <p:par>
                                <p:cTn id="14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220"/>
                            </p:stCondLst>
                            <p:childTnLst>
                              <p:par>
                                <p:cTn id="1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14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nodeType="afterEffect" fill="hold">
                            <p:stCondLst>
                              <p:cond delay="330"/>
                            </p:stCondLst>
                            <p:childTnLst>
                              <p:par>
                                <p:cTn id="1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nodeType="afterEffect" fill="hold">
                            <p:stCondLst>
                              <p:cond delay="530"/>
                            </p:stCondLst>
                            <p:childTnLst>
                              <p:par>
                                <p:cTn id="14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730"/>
                            </p:stCondLst>
                            <p:childTnLst>
                              <p:par>
                                <p:cTn id="1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1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830"/>
                            </p:stCondLst>
                            <p:childTnLst>
                              <p:par>
                                <p:cTn id="1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3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4" dur="1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8" dur="1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2" dur="1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6" dur="1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0" dur="1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4" dur="1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8" dur="1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2" dur="1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6" dur="1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0" dur="1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4" dur="1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2" presetSubtype="8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8" dur="1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1"/>
          <p:cNvSpPr/>
          <p:nvPr/>
        </p:nvSpPr>
        <p:spPr>
          <a:xfrm>
            <a:off x="10440" y="549360"/>
            <a:ext cx="2186640" cy="219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19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3"/>
          <p:cNvSpPr/>
          <p:nvPr/>
        </p:nvSpPr>
        <p:spPr>
          <a:xfrm>
            <a:off x="107280" y="2262240"/>
            <a:ext cx="46904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GET  LOTS  OF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组合 20"/>
          <p:cNvGrpSpPr/>
          <p:nvPr/>
        </p:nvGrpSpPr>
        <p:grpSpPr>
          <a:xfrm>
            <a:off x="4601160" y="1900440"/>
            <a:ext cx="6098400" cy="7498800"/>
            <a:chOff x="4601160" y="1900440"/>
            <a:chExt cx="6098400" cy="7498800"/>
          </a:xfrm>
        </p:grpSpPr>
        <p:pic>
          <p:nvPicPr>
            <p:cNvPr id="533" name="Picture 3" descr="D:\Betsy葛\1\gh.png"/>
            <p:cNvPicPr/>
            <p:nvPr/>
          </p:nvPicPr>
          <p:blipFill>
            <a:blip r:embed="rId1"/>
            <a:stretch/>
          </p:blipFill>
          <p:spPr>
            <a:xfrm rot="21381600">
              <a:off x="4698720" y="2001600"/>
              <a:ext cx="3302280" cy="31834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34" name="矩形 24"/>
            <p:cNvSpPr/>
            <p:nvPr/>
          </p:nvSpPr>
          <p:spPr>
            <a:xfrm>
              <a:off x="10277640" y="8982000"/>
              <a:ext cx="421920" cy="41724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nodeType="clickEffect" fill="hold">
                      <p:stCondLst>
                        <p:cond delay="0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2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56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72" dur="3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74" nodeType="afterEffect" fill="hold" presetClass="emph" presetID="32" repeatCount="6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7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6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7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8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0" nodeType="withEffect" fill="hold" presetClass="emph" presetID="32" repeatCount="7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9"/>
          <p:cNvSpPr/>
          <p:nvPr/>
        </p:nvSpPr>
        <p:spPr>
          <a:xfrm>
            <a:off x="2514600" y="2448000"/>
            <a:ext cx="1926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SAF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"/>
          <p:cNvSpPr/>
          <p:nvPr/>
        </p:nvSpPr>
        <p:spPr>
          <a:xfrm>
            <a:off x="2514600" y="2448000"/>
            <a:ext cx="21981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80a14"/>
                </a:solidFill>
                <a:latin typeface="Calibri"/>
                <a:ea typeface="宋体"/>
              </a:rPr>
              <a:t>SAF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2"/>
          <p:cNvSpPr/>
          <p:nvPr/>
        </p:nvSpPr>
        <p:spPr>
          <a:xfrm>
            <a:off x="2508120" y="1914480"/>
            <a:ext cx="1765080" cy="1765080"/>
          </a:xfrm>
          <a:prstGeom prst="ellipse">
            <a:avLst/>
          </a:prstGeom>
          <a:noFill/>
          <a:ln w="57150"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>
                  <a:alpha val="1000"/>
                </a:srgbClr>
              </a:solidFill>
              <a:latin typeface="Calibri"/>
              <a:ea typeface="宋体"/>
            </a:endParaRPr>
          </a:p>
        </p:txBody>
      </p:sp>
      <p:sp>
        <p:nvSpPr>
          <p:cNvPr id="538" name="TextBox 3"/>
          <p:cNvSpPr/>
          <p:nvPr/>
        </p:nvSpPr>
        <p:spPr>
          <a:xfrm>
            <a:off x="1976400" y="3193920"/>
            <a:ext cx="1277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5"/>
          <p:cNvSpPr/>
          <p:nvPr/>
        </p:nvSpPr>
        <p:spPr>
          <a:xfrm>
            <a:off x="5526000" y="2398680"/>
            <a:ext cx="14904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RI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4"/>
          <p:cNvSpPr/>
          <p:nvPr/>
        </p:nvSpPr>
        <p:spPr>
          <a:xfrm>
            <a:off x="2192400" y="3635280"/>
            <a:ext cx="213840" cy="213840"/>
          </a:xfrm>
          <a:prstGeom prst="ellipse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1" name="TextBox 11"/>
          <p:cNvSpPr/>
          <p:nvPr/>
        </p:nvSpPr>
        <p:spPr>
          <a:xfrm>
            <a:off x="5530680" y="2408400"/>
            <a:ext cx="14886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宋体"/>
              </a:rPr>
              <a:t>RI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6"/>
          <p:cNvSpPr/>
          <p:nvPr/>
        </p:nvSpPr>
        <p:spPr>
          <a:xfrm>
            <a:off x="5370480" y="1932120"/>
            <a:ext cx="1765080" cy="1765080"/>
          </a:xfrm>
          <a:prstGeom prst="ellipse">
            <a:avLst/>
          </a:prstGeom>
          <a:noFill/>
          <a:ln w="57150"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>
                  <a:alpha val="1000"/>
                </a:srgbClr>
              </a:solidFill>
              <a:latin typeface="Calibri"/>
              <a:ea typeface="宋体"/>
            </a:endParaRPr>
          </a:p>
        </p:txBody>
      </p:sp>
      <p:sp>
        <p:nvSpPr>
          <p:cNvPr id="543" name="椭圆 7"/>
          <p:cNvSpPr/>
          <p:nvPr/>
        </p:nvSpPr>
        <p:spPr>
          <a:xfrm>
            <a:off x="5616720" y="1500120"/>
            <a:ext cx="213840" cy="212400"/>
          </a:xfrm>
          <a:prstGeom prst="ellipse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4" name="椭圆 8"/>
          <p:cNvSpPr/>
          <p:nvPr/>
        </p:nvSpPr>
        <p:spPr>
          <a:xfrm>
            <a:off x="7016760" y="1730520"/>
            <a:ext cx="213840" cy="213840"/>
          </a:xfrm>
          <a:prstGeom prst="ellipse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5" name="TextBox 10"/>
          <p:cNvSpPr/>
          <p:nvPr/>
        </p:nvSpPr>
        <p:spPr>
          <a:xfrm>
            <a:off x="5738760" y="3551400"/>
            <a:ext cx="1277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椭圆 12"/>
          <p:cNvSpPr/>
          <p:nvPr/>
        </p:nvSpPr>
        <p:spPr>
          <a:xfrm>
            <a:off x="3817800" y="3679920"/>
            <a:ext cx="213840" cy="213840"/>
          </a:xfrm>
          <a:prstGeom prst="ellipse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7" name="椭圆 13"/>
          <p:cNvSpPr/>
          <p:nvPr/>
        </p:nvSpPr>
        <p:spPr>
          <a:xfrm>
            <a:off x="2400480" y="1847880"/>
            <a:ext cx="213840" cy="213840"/>
          </a:xfrm>
          <a:prstGeom prst="ellipse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8" name="椭圆 14"/>
          <p:cNvSpPr/>
          <p:nvPr/>
        </p:nvSpPr>
        <p:spPr>
          <a:xfrm>
            <a:off x="3489480" y="1368360"/>
            <a:ext cx="213840" cy="213840"/>
          </a:xfrm>
          <a:prstGeom prst="ellipse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9" name="椭圆 15"/>
          <p:cNvSpPr/>
          <p:nvPr/>
        </p:nvSpPr>
        <p:spPr>
          <a:xfrm>
            <a:off x="1289160" y="4456080"/>
            <a:ext cx="288720" cy="290160"/>
          </a:xfrm>
          <a:prstGeom prst="ellipse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0" name="椭圆 16"/>
          <p:cNvSpPr/>
          <p:nvPr/>
        </p:nvSpPr>
        <p:spPr>
          <a:xfrm>
            <a:off x="4443480" y="4529160"/>
            <a:ext cx="144000" cy="145800"/>
          </a:xfrm>
          <a:prstGeom prst="ellipse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1" name="椭圆 18"/>
          <p:cNvSpPr/>
          <p:nvPr/>
        </p:nvSpPr>
        <p:spPr>
          <a:xfrm>
            <a:off x="6827760" y="4475160"/>
            <a:ext cx="296640" cy="294840"/>
          </a:xfrm>
          <a:prstGeom prst="ellipse">
            <a:avLst/>
          </a:prstGeom>
          <a:solidFill>
            <a:schemeClr val="dk1">
              <a:alpha val="49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2" name="椭圆 19"/>
          <p:cNvSpPr/>
          <p:nvPr/>
        </p:nvSpPr>
        <p:spPr>
          <a:xfrm>
            <a:off x="1530360" y="4125960"/>
            <a:ext cx="336240" cy="336240"/>
          </a:xfrm>
          <a:prstGeom prst="ellipse">
            <a:avLst/>
          </a:prstGeom>
          <a:solidFill>
            <a:schemeClr val="dk1">
              <a:alpha val="49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3" name="椭圆 20"/>
          <p:cNvSpPr/>
          <p:nvPr/>
        </p:nvSpPr>
        <p:spPr>
          <a:xfrm>
            <a:off x="158760" y="2100240"/>
            <a:ext cx="336240" cy="336240"/>
          </a:xfrm>
          <a:prstGeom prst="ellipse">
            <a:avLst/>
          </a:prstGeom>
          <a:solidFill>
            <a:schemeClr val="dk1">
              <a:alpha val="49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4" name="椭圆 21"/>
          <p:cNvSpPr/>
          <p:nvPr/>
        </p:nvSpPr>
        <p:spPr>
          <a:xfrm>
            <a:off x="2070000" y="1174680"/>
            <a:ext cx="229680" cy="229680"/>
          </a:xfrm>
          <a:prstGeom prst="ellipse">
            <a:avLst/>
          </a:prstGeom>
          <a:solidFill>
            <a:schemeClr val="dk1">
              <a:alpha val="49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5" name="TextBox 23"/>
          <p:cNvSpPr/>
          <p:nvPr/>
        </p:nvSpPr>
        <p:spPr>
          <a:xfrm>
            <a:off x="7230960" y="2436840"/>
            <a:ext cx="1277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4"/>
          <p:cNvSpPr/>
          <p:nvPr/>
        </p:nvSpPr>
        <p:spPr>
          <a:xfrm>
            <a:off x="1611720" y="2403360"/>
            <a:ext cx="1331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T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椭圆 25"/>
          <p:cNvSpPr/>
          <p:nvPr/>
        </p:nvSpPr>
        <p:spPr>
          <a:xfrm>
            <a:off x="2849400" y="1554120"/>
            <a:ext cx="293400" cy="29340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8" name="椭圆 26"/>
          <p:cNvSpPr/>
          <p:nvPr/>
        </p:nvSpPr>
        <p:spPr>
          <a:xfrm>
            <a:off x="4222800" y="1544760"/>
            <a:ext cx="293400" cy="29340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9" name="椭圆 27"/>
          <p:cNvSpPr/>
          <p:nvPr/>
        </p:nvSpPr>
        <p:spPr>
          <a:xfrm>
            <a:off x="4179960" y="3894120"/>
            <a:ext cx="293400" cy="29340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0" name="椭圆 28"/>
          <p:cNvSpPr/>
          <p:nvPr/>
        </p:nvSpPr>
        <p:spPr>
          <a:xfrm>
            <a:off x="2556000" y="3492360"/>
            <a:ext cx="293400" cy="29340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1" name="椭圆 29"/>
          <p:cNvSpPr/>
          <p:nvPr/>
        </p:nvSpPr>
        <p:spPr>
          <a:xfrm>
            <a:off x="7738920" y="1174680"/>
            <a:ext cx="245880" cy="245880"/>
          </a:xfrm>
          <a:prstGeom prst="ellipse">
            <a:avLst/>
          </a:prstGeom>
          <a:solidFill>
            <a:schemeClr val="tx1">
              <a:alpha val="1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2" name="椭圆 30"/>
          <p:cNvSpPr/>
          <p:nvPr/>
        </p:nvSpPr>
        <p:spPr>
          <a:xfrm>
            <a:off x="7021440" y="509760"/>
            <a:ext cx="420480" cy="420480"/>
          </a:xfrm>
          <a:prstGeom prst="ellipse">
            <a:avLst/>
          </a:prstGeom>
          <a:solidFill>
            <a:schemeClr val="tx1">
              <a:alpha val="1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3" name="椭圆 31"/>
          <p:cNvSpPr/>
          <p:nvPr/>
        </p:nvSpPr>
        <p:spPr>
          <a:xfrm>
            <a:off x="7859880" y="4187880"/>
            <a:ext cx="340920" cy="340920"/>
          </a:xfrm>
          <a:prstGeom prst="ellipse">
            <a:avLst/>
          </a:prstGeom>
          <a:solidFill>
            <a:schemeClr val="tx1">
              <a:alpha val="1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4" name="椭圆 32"/>
          <p:cNvSpPr/>
          <p:nvPr/>
        </p:nvSpPr>
        <p:spPr>
          <a:xfrm>
            <a:off x="2300400" y="4506840"/>
            <a:ext cx="255240" cy="255240"/>
          </a:xfrm>
          <a:prstGeom prst="ellipse">
            <a:avLst/>
          </a:prstGeom>
          <a:solidFill>
            <a:schemeClr val="tx1">
              <a:alpha val="1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5" name="椭圆 33"/>
          <p:cNvSpPr/>
          <p:nvPr/>
        </p:nvSpPr>
        <p:spPr>
          <a:xfrm>
            <a:off x="996840" y="3360600"/>
            <a:ext cx="388440" cy="388440"/>
          </a:xfrm>
          <a:prstGeom prst="ellipse">
            <a:avLst/>
          </a:prstGeom>
          <a:solidFill>
            <a:schemeClr val="tx1">
              <a:alpha val="1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6" name="椭圆 34"/>
          <p:cNvSpPr/>
          <p:nvPr/>
        </p:nvSpPr>
        <p:spPr>
          <a:xfrm>
            <a:off x="376200" y="4359240"/>
            <a:ext cx="242640" cy="242640"/>
          </a:xfrm>
          <a:prstGeom prst="ellipse">
            <a:avLst/>
          </a:prstGeom>
          <a:solidFill>
            <a:schemeClr val="tx1">
              <a:alpha val="1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7" name="椭圆 35"/>
          <p:cNvSpPr/>
          <p:nvPr/>
        </p:nvSpPr>
        <p:spPr>
          <a:xfrm>
            <a:off x="752400" y="490680"/>
            <a:ext cx="437760" cy="439200"/>
          </a:xfrm>
          <a:prstGeom prst="ellipse">
            <a:avLst/>
          </a:prstGeom>
          <a:solidFill>
            <a:schemeClr val="tx1">
              <a:alpha val="1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8" name="椭圆 36"/>
          <p:cNvSpPr/>
          <p:nvPr/>
        </p:nvSpPr>
        <p:spPr>
          <a:xfrm>
            <a:off x="1577880" y="728640"/>
            <a:ext cx="218880" cy="218880"/>
          </a:xfrm>
          <a:prstGeom prst="ellipse">
            <a:avLst/>
          </a:prstGeom>
          <a:solidFill>
            <a:schemeClr val="tx1">
              <a:alpha val="1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nodeType="clickEffect" fill="hold">
                      <p:stCondLst>
                        <p:cond delay="0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0"/>
                            </p:stCondLst>
                            <p:childTnLst>
                              <p:par>
                                <p:cTn id="1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10"/>
                            </p:stCondLst>
                            <p:childTnLst>
                              <p:par>
                                <p:cTn id="159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">
                                  <p:stCondLst>
                                    <p:cond delay="69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">
                                  <p:stCondLst>
                                    <p:cond delay="69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xit" presetID="1">
                                  <p:stCondLst>
                                    <p:cond delay="69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1110"/>
                            </p:stCondLst>
                            <p:childTnLst>
                              <p:par>
                                <p:cTn id="16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1310"/>
                            </p:stCondLst>
                            <p:childTnLst>
                              <p:par>
                                <p:cTn id="1695" nodeType="after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nodeType="afterEffect" fill="hold">
                            <p:stCondLst>
                              <p:cond delay="1510"/>
                            </p:stCondLst>
                            <p:childTnLst>
                              <p:par>
                                <p:cTn id="1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nodeType="afterEffect" fill="hold">
                            <p:stCondLst>
                              <p:cond delay="1510"/>
                            </p:stCondLst>
                            <p:childTnLst>
                              <p:par>
                                <p:cTn id="17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02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04" dur="2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36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1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1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2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10" repeatCount="2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0" repeatCount="2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0" repeatCount="2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0" repeatCount="2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0" repeatCount="2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0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0" repeatCount="2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0" repeatCount="2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path" presetID="37" repeatCount="2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98 -0.02993 L 0.10347 0.01019 C 0.11736 0.01914 0.1382 0.02408 0.1599 0.02408 C 0.18472 0.02408 0.20452 0.01914 0.21841 0.01019 L 0.28507 -0.02993 E">
                                      <p:cBhvr>
                                        <p:cTn id="1778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9" nodeType="withEffect" fill="hold" presetClass="path" presetID="37" repeatCount="2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34568E-006 L 0.06649 0.04012 C 0.08038 0.04907 0.10122 0.05401 0.12292 0.05401 C 0.14774 0.05401 0.16754 0.04907 0.18142 0.04012 L 0.24809 2.34568E-006 E">
                                      <p:cBhvr>
                                        <p:cTn id="1780" dur="175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1" nodeType="withEffect" fill="hold" presetClass="path" presetID="37" repeatCount="2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6.17284E-007 L 0.06649 0.04012 C 0.08038 0.04907 0.10121 0.05401 0.12292 0.05401 C 0.14774 0.05401 0.16753 0.04907 0.18142 0.04012 L 0.24809 6.17284E-007 E">
                                      <p:cBhvr>
                                        <p:cTn id="1782" dur="175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3" nodeType="withEffect" fill="hold" presetClass="path" presetID="37" repeatCount="2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96296E-006 L 0.06649 0.04013 C 0.08038 0.04908 0.10122 0.05402 0.12292 0.05402 C 0.14774 0.05402 0.16753 0.04908 0.18142 0.04013 L 0.24809 -2.96296E-006 E">
                                      <p:cBhvr>
                                        <p:cTn id="1784" dur="175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5" nodeType="withEffect" fill="hold" presetClass="path" presetID="37" repeatCount="2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0.06649 0.04013 C 0.08038 0.04908 0.10121 0.05402 0.12292 0.05402 C 0.14774 0.05402 0.16753 0.04908 0.18142 0.04013 L 0.24809 -2.96296E-006 E">
                                      <p:cBhvr>
                                        <p:cTn id="1786" dur="175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7" nodeType="withEffect" fill="hold" presetClass="path" presetID="37" repeatCount="2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0.06649 0.04013 C 0.08038 0.04908 0.10121 0.05402 0.12292 0.05402 C 0.14774 0.05402 0.16753 0.04908 0.18142 0.04013 L 0.24809 -4.81481E-006 E">
                                      <p:cBhvr>
                                        <p:cTn id="1788" dur="175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9" nodeType="withEffect" fill="hold" presetClass="path" presetID="37" repeatCount="2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93827E-007 L 0.0665 0.04012 C 0.08038 0.04907 0.10122 0.05401 0.12292 0.05401 C 0.14775 0.05401 0.16754 0.04907 0.18143 0.04012 L 0.24809 -4.93827E-007 E">
                                      <p:cBhvr>
                                        <p:cTn id="1790" dur="175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1" nodeType="withEffect" fill="hold" presetClass="path" presetID="37" repeatCount="2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L 0.0665 0.04013 C 0.08038 0.04908 0.10122 0.05401 0.12292 0.05401 C 0.14775 0.05401 0.16754 0.04908 0.18143 0.04013 L 0.2481 -2.22222E-006 E">
                                      <p:cBhvr>
                                        <p:cTn id="1792" dur="175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矩形 12"/>
          <p:cNvSpPr/>
          <p:nvPr/>
        </p:nvSpPr>
        <p:spPr>
          <a:xfrm>
            <a:off x="-1508040" y="-1811160"/>
            <a:ext cx="13060080" cy="7391160"/>
          </a:xfrm>
          <a:prstGeom prst="rect">
            <a:avLst/>
          </a:prstGeom>
          <a:pattFill prst="openDmnd">
            <a:fgClr>
              <a:srgbClr val="eeece1"/>
            </a:fgClr>
            <a:bgClr>
              <a:srgbClr val="d9d9d9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eeece1"/>
              </a:solidFill>
              <a:latin typeface="Calibri"/>
              <a:ea typeface="宋体"/>
            </a:endParaRPr>
          </a:p>
        </p:txBody>
      </p:sp>
      <p:sp>
        <p:nvSpPr>
          <p:cNvPr id="570" name="TextBox 11"/>
          <p:cNvSpPr/>
          <p:nvPr/>
        </p:nvSpPr>
        <p:spPr>
          <a:xfrm>
            <a:off x="2600280" y="66600"/>
            <a:ext cx="3471480" cy="312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000000"/>
                </a:solidFill>
                <a:latin typeface="汉仪大黑简"/>
                <a:ea typeface="宋体"/>
              </a:rPr>
              <a:t>2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3"/>
          <p:cNvSpPr/>
          <p:nvPr/>
        </p:nvSpPr>
        <p:spPr>
          <a:xfrm>
            <a:off x="1735200" y="2846520"/>
            <a:ext cx="58557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BREAK  THE 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8" descr="C:\Documents and Settings\Administrator\桌面\图片7.jpg"/>
          <p:cNvPicPr/>
          <p:nvPr/>
        </p:nvPicPr>
        <p:blipFill>
          <a:blip r:embed="rId1"/>
          <a:stretch/>
        </p:blipFill>
        <p:spPr>
          <a:xfrm>
            <a:off x="-1508040" y="-1704960"/>
            <a:ext cx="12450240" cy="7067160"/>
          </a:xfrm>
          <a:prstGeom prst="rect">
            <a:avLst/>
          </a:prstGeom>
          <a:ln w="9525">
            <a:noFill/>
          </a:ln>
        </p:spPr>
      </p:pic>
      <p:pic>
        <p:nvPicPr>
          <p:cNvPr id="573" name="Picture 7" descr="C:\Documents and Settings\Administrator\桌面\图片1SD.png"/>
          <p:cNvPicPr/>
          <p:nvPr/>
        </p:nvPicPr>
        <p:blipFill>
          <a:blip r:embed="rId2"/>
          <a:stretch/>
        </p:blipFill>
        <p:spPr>
          <a:xfrm>
            <a:off x="-1501920" y="-1728720"/>
            <a:ext cx="12202920" cy="7003800"/>
          </a:xfrm>
          <a:prstGeom prst="rect">
            <a:avLst/>
          </a:prstGeom>
          <a:ln w="9525">
            <a:noFill/>
          </a:ln>
        </p:spPr>
      </p:pic>
      <p:pic>
        <p:nvPicPr>
          <p:cNvPr id="574" name="Picture 6" descr=""/>
          <p:cNvPicPr/>
          <p:nvPr/>
        </p:nvPicPr>
        <p:blipFill>
          <a:blip r:embed="rId3"/>
          <a:stretch/>
        </p:blipFill>
        <p:spPr>
          <a:xfrm>
            <a:off x="-1303200" y="-1681200"/>
            <a:ext cx="12189960" cy="7005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nodeType="clickEffect" fill="hold">
                      <p:stCondLst>
                        <p:cond delay="0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8.64198E-007 L 0.02309 -8.64198E-007 E">
                                      <p:cBhvr>
                                        <p:cTn id="1807" dur="4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09 -8.64198E-007 L 0.05764 -8.64198E-007 E">
                                      <p:cBhvr>
                                        <p:cTn id="1810" dur="4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8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12 -8.64198E-007 L 0.30712 -8.64198E-007 E">
                                      <p:cBhvr>
                                        <p:cTn id="1813" dur="2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14 1.23457E-006 L -0.27014 1.23457E-006 E">
                                      <p:cBhvr>
                                        <p:cTn id="1815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821" nodeType="afterEffect" fill="hold" presetClass="path" presetID="28" repeatCount="8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27014 -4.38678E-007 C -0.25313 -4.38678E-007 -0.23907 0.0139 -0.23907 0.03089 C -0.23907 0.04912 -0.25313 0.06302 -0.27014 0.06302 C -0.28716 0.06302 -0.30122 0.07692 -0.30122 0.09422 C -0.30122 0.11121 -0.28716 0.12512 -0.27014 0.12512 C -0.25313 0.12512 -0.23907 0.13902 -0.23907 0.15601 C -0.23907 0.17331 -0.25313 0.18721 -0.27014 0.18721 C -0.28716 0.18721 -0.30122 0.20111 -0.30122 0.21934 C -0.30122 0.23633 -0.28716 0.25023 -0.27014 0.25023 C -0.25313 0.25023 -0.23907 0.23633 -0.23907 0.21934 C -0.23907 0.20111 -0.25313 0.18721 -0.27014 0.18721 C -0.28716 0.18721 -0.30122 0.17331 -0.30122 0.15601 C -0.30122 0.13902 -0.28716 0.12512 -0.27014 0.12512 C -0.25313 0.12512 -0.23907 0.11121 -0.23907 0.09422 C -0.23907 0.07692 -0.25313 0.06302 -0.27014 0.06302 C -0.28716 0.06302 -0.30122 0.04912 -0.30122 0.03089 C -0.30122 0.0139 -0.28716 -4.38678E-007 -0.27014 -4.38678E-007 Z">
                                      <p:cBhvr>
                                        <p:cTn id="182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3" nodeType="withEffect" fill="hold" presetClass="path" presetID="28" repeatCount="8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30504 -0.00123 C 0.32205 -0.00123 0.33611 0.01266 0.33611 0.02963 C 0.33611 0.04784 0.32205 0.06173 0.30504 0.06173 C 0.28802 0.06173 0.27396 0.07562 0.27396 0.0929 C 0.27396 0.10988 0.28802 0.12377 0.30504 0.12377 C 0.32205 0.12377 0.33611 0.13766 0.33611 0.15463 C 0.33611 0.17192 0.32205 0.18581 0.30504 0.18581 C 0.28802 0.18581 0.27396 0.19969 0.27396 0.2179 C 0.27396 0.23488 0.28802 0.24877 0.30504 0.24877 C 0.32205 0.24877 0.33611 0.23488 0.33611 0.2179 C 0.33611 0.19969 0.32205 0.18581 0.30504 0.18581 C 0.28802 0.18581 0.27396 0.17192 0.27396 0.15463 C 0.27396 0.13766 0.28802 0.12377 0.30504 0.12377 C 0.32205 0.12377 0.33611 0.10988 0.33611 0.0929 C 0.33611 0.07562 0.32205 0.06173 0.30504 0.06173 C 0.28802 0.06173 0.27396 0.04784 0.27396 0.02963 C 0.27396 0.01266 0.28802 -0.00123 0.30504 -0.00123 Z">
                                      <p:cBhvr>
                                        <p:cTn id="182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5" nodeType="withEffect" fill="hold" presetClass="path" presetID="28" repeatCount="8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0.017 0 0.031 0.014 0.031 0.031 C 0.031 0.049 0.017 0.063 0 0.063 C -0.017 0.063 -0.031 0.077 -0.031 0.094 C -0.031 0.111 -0.017 0.125 0 0.125 C 0.017 0.125 0.031 0.139 0.031 0.156 C 0.031 0.173 0.017 0.187 0 0.187 C -0.017 0.187 -0.031 0.201 -0.031 0.219 C -0.031 0.236 -0.017 0.25 0 0.25 C 0.017 0.25 0.031 0.236 0.031 0.219 C 0.031 0.201 0.017 0.187 0 0.187 C -0.017 0.187 -0.031 0.173 -0.031 0.156 C -0.031 0.139 -0.017 0.125 0 0.125 C 0.017 0.125 0.031 0.111 0.031 0.094 C 0.031 0.077 0.017 0.063 0 0.063 C -0.017 0.063 -0.031 0.049 -0.031 0.031 C -0.031 0.014 -0.017 0 0 0 Z">
                                      <p:cBhvr>
                                        <p:cTn id="182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7" nodeType="withEffect" fill="hold" presetClass="path" presetID="28" repeatCount="8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0.017 0 0.031 0.014 0.031 0.031 C 0.031 0.049 0.017 0.063 0 0.063 C -0.017 0.063 -0.031 0.077 -0.031 0.094 C -0.031 0.111 -0.017 0.125 0 0.125 C 0.017 0.125 0.031 0.139 0.031 0.156 C 0.031 0.173 0.017 0.187 0 0.187 C -0.017 0.187 -0.031 0.201 -0.031 0.219 C -0.031 0.236 -0.017 0.25 0 0.25 C 0.017 0.25 0.031 0.236 0.031 0.219 C 0.031 0.201 0.017 0.187 0 0.187 C -0.017 0.187 -0.031 0.173 -0.031 0.156 C -0.031 0.139 -0.017 0.125 0 0.125 C 0.017 0.125 0.031 0.111 0.031 0.094 C 0.031 0.077 0.017 0.063 0 0.063 C -0.017 0.063 -0.031 0.049 -0.031 0.031 C -0.031 0.014 -0.017 0 0 0 Z">
                                      <p:cBhvr>
                                        <p:cTn id="182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9" nodeType="withEffect" fill="hold" presetClass="path" presetID="28" repeatCount="8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0.017 0 0.031 0.014 0.031 0.031 C 0.031 0.049 0.017 0.063 0 0.063 C -0.017 0.063 -0.031 0.077 -0.031 0.094 C -0.031 0.111 -0.017 0.125 0 0.125 C 0.017 0.125 0.031 0.139 0.031 0.156 C 0.031 0.173 0.017 0.187 0 0.187 C -0.017 0.187 -0.031 0.201 -0.031 0.219 C -0.031 0.236 -0.017 0.25 0 0.25 C 0.017 0.25 0.031 0.236 0.031 0.219 C 0.031 0.201 0.017 0.187 0 0.187 C -0.017 0.187 -0.031 0.173 -0.031 0.156 C -0.031 0.139 -0.017 0.125 0 0.125 C 0.017 0.125 0.031 0.111 0.031 0.094 C 0.031 0.077 0.017 0.063 0 0.063 C -0.017 0.063 -0.031 0.049 -0.031 0.031 C -0.031 0.014 -0.017 0 0 0 Z">
                                      <p:cBhvr>
                                        <p:cTn id="183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4"/>
          <p:cNvSpPr/>
          <p:nvPr/>
        </p:nvSpPr>
        <p:spPr>
          <a:xfrm>
            <a:off x="2376360" y="2876400"/>
            <a:ext cx="4895640" cy="4572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76" name="TextBox 8"/>
          <p:cNvSpPr/>
          <p:nvPr/>
        </p:nvSpPr>
        <p:spPr>
          <a:xfrm>
            <a:off x="2459520" y="2247840"/>
            <a:ext cx="6444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9"/>
          <p:cNvSpPr/>
          <p:nvPr/>
        </p:nvSpPr>
        <p:spPr>
          <a:xfrm>
            <a:off x="3233520" y="2247840"/>
            <a:ext cx="1430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0"/>
          <p:cNvSpPr/>
          <p:nvPr/>
        </p:nvSpPr>
        <p:spPr>
          <a:xfrm>
            <a:off x="4801320" y="2247840"/>
            <a:ext cx="1415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1"/>
          <p:cNvSpPr/>
          <p:nvPr/>
        </p:nvSpPr>
        <p:spPr>
          <a:xfrm>
            <a:off x="6468120" y="2247840"/>
            <a:ext cx="529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12"/>
          <p:cNvSpPr/>
          <p:nvPr/>
        </p:nvSpPr>
        <p:spPr>
          <a:xfrm>
            <a:off x="2376360" y="2176560"/>
            <a:ext cx="4895640" cy="4572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581" name="组合 20"/>
          <p:cNvGrpSpPr/>
          <p:nvPr/>
        </p:nvGrpSpPr>
        <p:grpSpPr>
          <a:xfrm>
            <a:off x="7467480" y="1459080"/>
            <a:ext cx="2230200" cy="2334960"/>
            <a:chOff x="7467480" y="1459080"/>
            <a:chExt cx="2230200" cy="2334960"/>
          </a:xfrm>
        </p:grpSpPr>
        <p:sp>
          <p:nvSpPr>
            <p:cNvPr id="582" name="矩形 13"/>
            <p:cNvSpPr/>
            <p:nvPr/>
          </p:nvSpPr>
          <p:spPr>
            <a:xfrm>
              <a:off x="7467480" y="1459080"/>
              <a:ext cx="375840" cy="2334960"/>
            </a:xfrm>
            <a:prstGeom prst="rect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3" name="矩形 14"/>
            <p:cNvSpPr/>
            <p:nvPr/>
          </p:nvSpPr>
          <p:spPr>
            <a:xfrm>
              <a:off x="7843680" y="2540160"/>
              <a:ext cx="1854000" cy="172800"/>
            </a:xfrm>
            <a:prstGeom prst="rect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84" name="组合 19"/>
          <p:cNvGrpSpPr/>
          <p:nvPr/>
        </p:nvGrpSpPr>
        <p:grpSpPr>
          <a:xfrm>
            <a:off x="4394160" y="1459080"/>
            <a:ext cx="2230200" cy="2334960"/>
            <a:chOff x="4394160" y="1459080"/>
            <a:chExt cx="2230200" cy="2334960"/>
          </a:xfrm>
        </p:grpSpPr>
        <p:sp>
          <p:nvSpPr>
            <p:cNvPr id="585" name="矩形 17"/>
            <p:cNvSpPr/>
            <p:nvPr/>
          </p:nvSpPr>
          <p:spPr>
            <a:xfrm>
              <a:off x="6248520" y="1459080"/>
              <a:ext cx="375840" cy="2334960"/>
            </a:xfrm>
            <a:prstGeom prst="rect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6" name="矩形 18"/>
            <p:cNvSpPr/>
            <p:nvPr/>
          </p:nvSpPr>
          <p:spPr>
            <a:xfrm>
              <a:off x="4394160" y="2540160"/>
              <a:ext cx="1854000" cy="172800"/>
            </a:xfrm>
            <a:prstGeom prst="rect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87" name="组合 26"/>
          <p:cNvGrpSpPr/>
          <p:nvPr/>
        </p:nvGrpSpPr>
        <p:grpSpPr>
          <a:xfrm>
            <a:off x="2376360" y="2176560"/>
            <a:ext cx="4895640" cy="747000"/>
            <a:chOff x="2376360" y="2176560"/>
            <a:chExt cx="4895640" cy="747000"/>
          </a:xfrm>
        </p:grpSpPr>
        <p:sp>
          <p:nvSpPr>
            <p:cNvPr id="588" name="矩形 27"/>
            <p:cNvSpPr/>
            <p:nvPr/>
          </p:nvSpPr>
          <p:spPr>
            <a:xfrm>
              <a:off x="2376360" y="2876400"/>
              <a:ext cx="4895640" cy="4716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" name="TextBox 8"/>
            <p:cNvSpPr/>
            <p:nvPr/>
          </p:nvSpPr>
          <p:spPr>
            <a:xfrm>
              <a:off x="2460600" y="2248920"/>
              <a:ext cx="64440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2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Box 9"/>
            <p:cNvSpPr/>
            <p:nvPr/>
          </p:nvSpPr>
          <p:spPr>
            <a:xfrm>
              <a:off x="3233520" y="2248920"/>
              <a:ext cx="143064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ON’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Box 10"/>
            <p:cNvSpPr/>
            <p:nvPr/>
          </p:nvSpPr>
          <p:spPr>
            <a:xfrm>
              <a:off x="4800960" y="2248920"/>
              <a:ext cx="14155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FOR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Box 11"/>
            <p:cNvSpPr/>
            <p:nvPr/>
          </p:nvSpPr>
          <p:spPr>
            <a:xfrm>
              <a:off x="6467760" y="2248920"/>
              <a:ext cx="5299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I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矩形 32"/>
            <p:cNvSpPr/>
            <p:nvPr/>
          </p:nvSpPr>
          <p:spPr>
            <a:xfrm>
              <a:off x="2376360" y="2176560"/>
              <a:ext cx="4895640" cy="4716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94" name="组合 33"/>
          <p:cNvGrpSpPr/>
          <p:nvPr/>
        </p:nvGrpSpPr>
        <p:grpSpPr>
          <a:xfrm>
            <a:off x="2371680" y="2179800"/>
            <a:ext cx="4895640" cy="745560"/>
            <a:chOff x="2371680" y="2179800"/>
            <a:chExt cx="4895640" cy="745560"/>
          </a:xfrm>
        </p:grpSpPr>
        <p:sp>
          <p:nvSpPr>
            <p:cNvPr id="595" name="矩形 34"/>
            <p:cNvSpPr/>
            <p:nvPr/>
          </p:nvSpPr>
          <p:spPr>
            <a:xfrm>
              <a:off x="2371680" y="2878200"/>
              <a:ext cx="4895640" cy="4716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" name="TextBox 8"/>
            <p:cNvSpPr/>
            <p:nvPr/>
          </p:nvSpPr>
          <p:spPr>
            <a:xfrm>
              <a:off x="2455920" y="2252160"/>
              <a:ext cx="64440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2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9"/>
            <p:cNvSpPr/>
            <p:nvPr/>
          </p:nvSpPr>
          <p:spPr>
            <a:xfrm>
              <a:off x="3228480" y="2252160"/>
              <a:ext cx="143064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ON’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10"/>
            <p:cNvSpPr/>
            <p:nvPr/>
          </p:nvSpPr>
          <p:spPr>
            <a:xfrm>
              <a:off x="4796280" y="2252160"/>
              <a:ext cx="14155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FOR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11"/>
            <p:cNvSpPr/>
            <p:nvPr/>
          </p:nvSpPr>
          <p:spPr>
            <a:xfrm>
              <a:off x="6462720" y="2252160"/>
              <a:ext cx="5299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I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矩形 39"/>
            <p:cNvSpPr/>
            <p:nvPr/>
          </p:nvSpPr>
          <p:spPr>
            <a:xfrm>
              <a:off x="2371680" y="2179800"/>
              <a:ext cx="4895640" cy="4716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1" dur="indefinite" restart="never" nodeType="tmRoot">
          <p:childTnLst>
            <p:seq>
              <p:cTn id="1832" dur="indefinite" nodeType="mainSeq">
                <p:childTnLst>
                  <p:par>
                    <p:cTn id="1833" nodeType="clickEffect" fill="hold">
                      <p:stCondLst>
                        <p:cond delay="0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2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2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2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2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2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2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4" dur="1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7" dur="1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8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2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2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84" nodeType="after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5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6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6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9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4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4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4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4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82716E-006 L -1.52118 -3.82716E-006 E">
                                      <p:cBhvr>
                                        <p:cTn id="1902" dur="4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3" nodeType="withEffect" fill="hold" presetClass="exit" presetID="2" presetSubtype="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4" dur="5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3" descr="C:\Documents and Settings\Administrator\桌面\45831c5e333b530669cb4bc3d7ec9f0f.png"/>
          <p:cNvPicPr/>
          <p:nvPr/>
        </p:nvPicPr>
        <p:blipFill>
          <a:blip r:embed="rId1"/>
          <a:stretch/>
        </p:blipFill>
        <p:spPr>
          <a:xfrm>
            <a:off x="-896760" y="1552680"/>
            <a:ext cx="5419440" cy="3153960"/>
          </a:xfrm>
          <a:prstGeom prst="rect">
            <a:avLst/>
          </a:prstGeom>
          <a:ln w="9525">
            <a:noFill/>
          </a:ln>
        </p:spPr>
      </p:pic>
      <p:pic>
        <p:nvPicPr>
          <p:cNvPr id="602" name="Picture 4" descr="C:\Documents and Settings\Administrator\桌面\45831c5e333b5309f0f.png"/>
          <p:cNvPicPr/>
          <p:nvPr/>
        </p:nvPicPr>
        <p:blipFill>
          <a:blip r:embed="rId2"/>
          <a:stretch/>
        </p:blipFill>
        <p:spPr>
          <a:xfrm>
            <a:off x="341280" y="1717560"/>
            <a:ext cx="5479560" cy="3190680"/>
          </a:xfrm>
          <a:prstGeom prst="rect">
            <a:avLst/>
          </a:prstGeom>
          <a:ln w="9525">
            <a:noFill/>
          </a:ln>
        </p:spPr>
      </p:pic>
      <p:sp>
        <p:nvSpPr>
          <p:cNvPr id="603" name="任意多边形 2"/>
          <p:cNvSpPr/>
          <p:nvPr/>
        </p:nvSpPr>
        <p:spPr>
          <a:xfrm rot="21279600">
            <a:off x="2277000" y="3232800"/>
            <a:ext cx="803520" cy="45360"/>
          </a:xfrm>
          <a:custGeom>
            <a:avLst/>
            <a:gdLst>
              <a:gd name="textAreaLeft" fmla="*/ 0 w 803520"/>
              <a:gd name="textAreaRight" fmla="*/ 803880 w 80352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490474" h="33537">
                <a:moveTo>
                  <a:pt x="0" y="10071"/>
                </a:moveTo>
                <a:cubicBezTo>
                  <a:pt x="124761" y="4365"/>
                  <a:pt x="108528" y="127"/>
                  <a:pt x="197647" y="3267"/>
                </a:cubicBezTo>
                <a:cubicBezTo>
                  <a:pt x="264179" y="-5230"/>
                  <a:pt x="282130" y="4958"/>
                  <a:pt x="330934" y="10003"/>
                </a:cubicBezTo>
                <a:cubicBezTo>
                  <a:pt x="379739" y="15048"/>
                  <a:pt x="463343" y="26627"/>
                  <a:pt x="490474" y="33537"/>
                </a:cubicBezTo>
              </a:path>
            </a:pathLst>
          </a:custGeom>
          <a:noFill/>
          <a:ln w="12700">
            <a:solidFill>
              <a:srgbClr val="c00000"/>
            </a:solidFill>
            <a:round/>
          </a:ln>
          <a:effectLst>
            <a:glow rad="25560">
              <a:srgbClr val="eb2722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4" name="TextBox 5"/>
          <p:cNvSpPr/>
          <p:nvPr/>
        </p:nvSpPr>
        <p:spPr>
          <a:xfrm rot="20461200">
            <a:off x="4501080" y="857880"/>
            <a:ext cx="145836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6"/>
          <p:cNvSpPr/>
          <p:nvPr/>
        </p:nvSpPr>
        <p:spPr>
          <a:xfrm rot="20210400">
            <a:off x="4768560" y="1486080"/>
            <a:ext cx="36558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AD A PAGE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 rot="20210400">
            <a:off x="4959000" y="2103480"/>
            <a:ext cx="22964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nodeType="clickEffect" fill="hold">
                      <p:stCondLst>
                        <p:cond delay="0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3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5" dur="3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917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8" dur="25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25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8" dur="2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1930" dur="35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3" dur="2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6" dur="6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矩形 3"/>
          <p:cNvSpPr/>
          <p:nvPr/>
        </p:nvSpPr>
        <p:spPr>
          <a:xfrm>
            <a:off x="2598840" y="3227400"/>
            <a:ext cx="293400" cy="207720"/>
          </a:xfrm>
          <a:prstGeom prst="rect">
            <a:avLst/>
          </a:prstGeom>
          <a:solidFill>
            <a:srgbClr val="c80a14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8" name="矩形 4"/>
          <p:cNvSpPr/>
          <p:nvPr/>
        </p:nvSpPr>
        <p:spPr>
          <a:xfrm>
            <a:off x="6345360" y="0"/>
            <a:ext cx="2798280" cy="508608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9" name="矩形 5"/>
          <p:cNvSpPr/>
          <p:nvPr/>
        </p:nvSpPr>
        <p:spPr>
          <a:xfrm>
            <a:off x="0" y="1263600"/>
            <a:ext cx="2507760" cy="38793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0" name="TextBox 6"/>
          <p:cNvSpPr/>
          <p:nvPr/>
        </p:nvSpPr>
        <p:spPr>
          <a:xfrm>
            <a:off x="3841560" y="1969920"/>
            <a:ext cx="12585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7"/>
          <p:cNvSpPr/>
          <p:nvPr/>
        </p:nvSpPr>
        <p:spPr>
          <a:xfrm>
            <a:off x="3269520" y="2444760"/>
            <a:ext cx="24811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8"/>
          <p:cNvSpPr/>
          <p:nvPr/>
        </p:nvSpPr>
        <p:spPr>
          <a:xfrm flipV="1">
            <a:off x="2711520" y="1452960"/>
            <a:ext cx="3709800" cy="1076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3" name="矩形 9"/>
          <p:cNvSpPr/>
          <p:nvPr/>
        </p:nvSpPr>
        <p:spPr>
          <a:xfrm flipV="1">
            <a:off x="2579760" y="3434760"/>
            <a:ext cx="3879360" cy="10764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4" name="矩形 10"/>
          <p:cNvSpPr/>
          <p:nvPr/>
        </p:nvSpPr>
        <p:spPr>
          <a:xfrm flipV="1" rot="5400000">
            <a:off x="5360760" y="2430720"/>
            <a:ext cx="2072880" cy="12348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5" name="矩形 11"/>
          <p:cNvSpPr/>
          <p:nvPr/>
        </p:nvSpPr>
        <p:spPr>
          <a:xfrm flipV="1" rot="5400000">
            <a:off x="1711440" y="2631960"/>
            <a:ext cx="1698120" cy="12348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6" name="矩形 12"/>
          <p:cNvSpPr/>
          <p:nvPr/>
        </p:nvSpPr>
        <p:spPr>
          <a:xfrm>
            <a:off x="581040" y="74520"/>
            <a:ext cx="6492600" cy="13791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1279080" y="423720"/>
            <a:ext cx="1703520" cy="1613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4"/>
          <p:cNvSpPr/>
          <p:nvPr/>
        </p:nvSpPr>
        <p:spPr>
          <a:xfrm>
            <a:off x="3841560" y="1968480"/>
            <a:ext cx="12585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15"/>
          <p:cNvSpPr/>
          <p:nvPr/>
        </p:nvSpPr>
        <p:spPr>
          <a:xfrm>
            <a:off x="3269520" y="2444760"/>
            <a:ext cx="24811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16"/>
          <p:cNvSpPr/>
          <p:nvPr/>
        </p:nvSpPr>
        <p:spPr>
          <a:xfrm>
            <a:off x="1449360" y="3543480"/>
            <a:ext cx="5168520" cy="15998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7" dur="indefinite" restart="never" nodeType="tmRoot">
          <p:childTnLst>
            <p:seq>
              <p:cTn id="1938" dur="indefinite" nodeType="mainSeq">
                <p:childTnLst>
                  <p:par>
                    <p:cTn id="1939" nodeType="clickEffect" fill="hold">
                      <p:stCondLst>
                        <p:cond delay="0"/>
                      </p:stCondLst>
                      <p:childTnLst>
                        <p:par>
                          <p:cTn id="1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2" dur="2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2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7" dur="3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25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9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5" dur="35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9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9" dur="25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2" dur="2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6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mph" presetID="8" repeatCount="3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978" dur="2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9" nodeType="withEffect" fill="hold" presetClass="emph" presetID="8" repeatCount="3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980" dur="2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3" dur="3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35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mph" presetID="8" repeatCount="2000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1988" dur="2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9" nodeType="withEffect" fill="hold" presetClass="emph" presetID="8" repeatCount="2000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1990" dur="2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994" dur="750" fill="hold"/>
                                        <p:tgtEl>
                                          <p:spTgt spid="607"/>
                                        </p:tgtEl>
                                      </p:cBhvr>
                                      <p:by x="1800000" y="1800000"/>
                                    </p:animScale>
                                  </p:childTnLst>
                                </p:cTn>
                              </p:par>
                              <p:par>
                                <p:cTn id="1995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3.61111E-006 -1.72073E-006 L 0.11841 -1.72073E-006 E">
                                      <p:cBhvr>
                                        <p:cTn id="1996" dur="75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矩形 5"/>
          <p:cNvSpPr/>
          <p:nvPr/>
        </p:nvSpPr>
        <p:spPr>
          <a:xfrm>
            <a:off x="1028880" y="2717640"/>
            <a:ext cx="6972120" cy="13932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 w="952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622" name="矩形 4"/>
          <p:cNvSpPr/>
          <p:nvPr/>
        </p:nvSpPr>
        <p:spPr>
          <a:xfrm>
            <a:off x="1028880" y="2717640"/>
            <a:ext cx="6972120" cy="13932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23" name="矩形 6"/>
          <p:cNvSpPr/>
          <p:nvPr/>
        </p:nvSpPr>
        <p:spPr>
          <a:xfrm>
            <a:off x="7988400" y="39600"/>
            <a:ext cx="1693440" cy="514332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624" name="直接连接符 16"/>
          <p:cNvCxnSpPr/>
          <p:nvPr/>
        </p:nvCxnSpPr>
        <p:spPr>
          <a:xfrm>
            <a:off x="7988040" y="2717640"/>
            <a:ext cx="360" cy="1400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625" name="TextBox 17"/>
          <p:cNvSpPr/>
          <p:nvPr/>
        </p:nvSpPr>
        <p:spPr>
          <a:xfrm>
            <a:off x="915840" y="2305080"/>
            <a:ext cx="3106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18"/>
          <p:cNvSpPr/>
          <p:nvPr/>
        </p:nvSpPr>
        <p:spPr>
          <a:xfrm>
            <a:off x="7442640" y="2335320"/>
            <a:ext cx="7509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80a14"/>
                </a:solidFill>
                <a:latin typeface="Calibri"/>
                <a:ea typeface="宋体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等腰三角形 19"/>
          <p:cNvSpPr/>
          <p:nvPr/>
        </p:nvSpPr>
        <p:spPr>
          <a:xfrm flipV="1">
            <a:off x="6119640" y="2128680"/>
            <a:ext cx="247320" cy="21888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628" name="组合 32"/>
          <p:cNvGrpSpPr/>
          <p:nvPr/>
        </p:nvGrpSpPr>
        <p:grpSpPr>
          <a:xfrm>
            <a:off x="1022400" y="2335320"/>
            <a:ext cx="7362720" cy="521640"/>
            <a:chOff x="1022400" y="2335320"/>
            <a:chExt cx="7362720" cy="521640"/>
          </a:xfrm>
        </p:grpSpPr>
        <p:sp>
          <p:nvSpPr>
            <p:cNvPr id="629" name="矩形 20"/>
            <p:cNvSpPr/>
            <p:nvPr/>
          </p:nvSpPr>
          <p:spPr>
            <a:xfrm>
              <a:off x="1022400" y="2717640"/>
              <a:ext cx="6972120" cy="13932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630" name="矩形 28"/>
            <p:cNvSpPr/>
            <p:nvPr/>
          </p:nvSpPr>
          <p:spPr>
            <a:xfrm>
              <a:off x="1022400" y="2717640"/>
              <a:ext cx="5214600" cy="13932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 w="9525"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  <a:ea typeface="宋体"/>
              </a:endParaRPr>
            </a:p>
          </p:txBody>
        </p:sp>
        <p:sp>
          <p:nvSpPr>
            <p:cNvPr id="631" name="TextBox 29"/>
            <p:cNvSpPr/>
            <p:nvPr/>
          </p:nvSpPr>
          <p:spPr>
            <a:xfrm>
              <a:off x="7634160" y="2335320"/>
              <a:ext cx="75096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c80a14"/>
                  </a:solidFill>
                  <a:latin typeface="Calibri"/>
                  <a:ea typeface="宋体"/>
                </a:rPr>
                <a:t>1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等腰三角形 30"/>
            <p:cNvSpPr/>
            <p:nvPr/>
          </p:nvSpPr>
          <p:spPr>
            <a:xfrm flipV="1">
              <a:off x="6113520" y="2487600"/>
              <a:ext cx="248760" cy="21888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633" name="TextBox 33"/>
          <p:cNvSpPr/>
          <p:nvPr/>
        </p:nvSpPr>
        <p:spPr>
          <a:xfrm>
            <a:off x="7315920" y="1768320"/>
            <a:ext cx="7603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34"/>
          <p:cNvSpPr/>
          <p:nvPr/>
        </p:nvSpPr>
        <p:spPr>
          <a:xfrm>
            <a:off x="1863360" y="1922400"/>
            <a:ext cx="44499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TOPTRY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BE SOME ONEELSE’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430920" y="48085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000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l"/>
  </p:transition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nodeType="clickEffect" fill="hold">
                      <p:stCondLst>
                        <p:cond delay="0"/>
                      </p:stCondLst>
                      <p:childTnLst>
                        <p:par>
                          <p:cTn id="2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7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0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6" nodeType="after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4.69136E-006 L 0.56875 4.69136E-006 E">
                                      <p:cBhvr>
                                        <p:cTn id="2017" dur="13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0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0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5E-006 0.06759 E">
                                      <p:cBhvr>
                                        <p:cTn id="2025" dur="3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0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0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3" dur="500" fill="hold"/>
                                        <p:tgtEl>
                                          <p:spTgt spid="628"/>
                                        </p:tgtEl>
                                      </p:cBhvr>
                                      <p:by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0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7" dur="1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-0.69583 3.7037E-007 E">
                                      <p:cBhvr>
                                        <p:cTn id="205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-0.69583 3.7037E-007 E">
                                      <p:cBhvr>
                                        <p:cTn id="205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6" dur="4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5" descr="D:\Betsy葛\1\未标题-2.png饭盒.png"/>
          <p:cNvPicPr/>
          <p:nvPr/>
        </p:nvPicPr>
        <p:blipFill>
          <a:blip r:embed="rId1"/>
          <a:stretch/>
        </p:blipFill>
        <p:spPr>
          <a:xfrm rot="1498800">
            <a:off x="4732200" y="2252520"/>
            <a:ext cx="1666440" cy="1827000"/>
          </a:xfrm>
          <a:prstGeom prst="rect">
            <a:avLst/>
          </a:prstGeom>
          <a:ln w="9525">
            <a:noFill/>
          </a:ln>
        </p:spPr>
      </p:pic>
      <p:pic>
        <p:nvPicPr>
          <p:cNvPr id="637" name="Picture 6" descr="D:\Betsy葛\1\反应.png"/>
          <p:cNvPicPr/>
          <p:nvPr/>
        </p:nvPicPr>
        <p:blipFill>
          <a:blip r:embed="rId2"/>
          <a:stretch/>
        </p:blipFill>
        <p:spPr>
          <a:xfrm>
            <a:off x="4560840" y="2787480"/>
            <a:ext cx="4316040" cy="1617480"/>
          </a:xfrm>
          <a:prstGeom prst="rect">
            <a:avLst/>
          </a:prstGeom>
          <a:ln w="9525">
            <a:noFill/>
          </a:ln>
        </p:spPr>
      </p:pic>
      <p:pic>
        <p:nvPicPr>
          <p:cNvPr id="638" name="Picture 7" descr="D:\Betsy葛\1\儿童.png"/>
          <p:cNvPicPr/>
          <p:nvPr/>
        </p:nvPicPr>
        <p:blipFill>
          <a:blip r:embed="rId3"/>
          <a:stretch/>
        </p:blipFill>
        <p:spPr>
          <a:xfrm>
            <a:off x="4708440" y="2774880"/>
            <a:ext cx="4357440" cy="1736280"/>
          </a:xfrm>
          <a:prstGeom prst="rect">
            <a:avLst/>
          </a:prstGeom>
          <a:ln w="9525">
            <a:noFill/>
          </a:ln>
        </p:spPr>
      </p:pic>
      <p:sp>
        <p:nvSpPr>
          <p:cNvPr id="639" name="任意多边形 3"/>
          <p:cNvSpPr/>
          <p:nvPr/>
        </p:nvSpPr>
        <p:spPr>
          <a:xfrm>
            <a:off x="418680" y="2114280"/>
            <a:ext cx="1548000" cy="139428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394280"/>
              <a:gd name="textAreaBottom" fmla="*/ 1394640 h 1394280"/>
            </a:gdLst>
            <a:ahLst/>
            <a:rect l="textAreaLeft" t="textAreaTop" r="textAreaRight" b="textAreaBottom"/>
            <a:pathLst>
              <a:path w="1548188" h="1394460">
                <a:moveTo>
                  <a:pt x="419100" y="190500"/>
                </a:moveTo>
                <a:lnTo>
                  <a:pt x="419100" y="190500"/>
                </a:lnTo>
                <a:cubicBezTo>
                  <a:pt x="353060" y="193040"/>
                  <a:pt x="286912" y="193573"/>
                  <a:pt x="220980" y="198120"/>
                </a:cubicBezTo>
                <a:cubicBezTo>
                  <a:pt x="212967" y="198673"/>
                  <a:pt x="204656" y="201071"/>
                  <a:pt x="198120" y="205740"/>
                </a:cubicBezTo>
                <a:cubicBezTo>
                  <a:pt x="171679" y="224626"/>
                  <a:pt x="153951" y="255554"/>
                  <a:pt x="137160" y="281940"/>
                </a:cubicBezTo>
                <a:cubicBezTo>
                  <a:pt x="124515" y="301810"/>
                  <a:pt x="108606" y="328245"/>
                  <a:pt x="99060" y="350520"/>
                </a:cubicBezTo>
                <a:cubicBezTo>
                  <a:pt x="95896" y="357903"/>
                  <a:pt x="94604" y="365997"/>
                  <a:pt x="91440" y="373380"/>
                </a:cubicBezTo>
                <a:cubicBezTo>
                  <a:pt x="71524" y="419851"/>
                  <a:pt x="78683" y="388790"/>
                  <a:pt x="60960" y="441960"/>
                </a:cubicBezTo>
                <a:cubicBezTo>
                  <a:pt x="40210" y="504210"/>
                  <a:pt x="69277" y="440566"/>
                  <a:pt x="38100" y="502920"/>
                </a:cubicBezTo>
                <a:cubicBezTo>
                  <a:pt x="35560" y="518160"/>
                  <a:pt x="32522" y="533325"/>
                  <a:pt x="30480" y="548640"/>
                </a:cubicBezTo>
                <a:cubicBezTo>
                  <a:pt x="27440" y="571439"/>
                  <a:pt x="26357" y="594487"/>
                  <a:pt x="22860" y="617220"/>
                </a:cubicBezTo>
                <a:cubicBezTo>
                  <a:pt x="21268" y="627571"/>
                  <a:pt x="18249" y="637669"/>
                  <a:pt x="15240" y="647700"/>
                </a:cubicBezTo>
                <a:cubicBezTo>
                  <a:pt x="10624" y="663087"/>
                  <a:pt x="0" y="693420"/>
                  <a:pt x="0" y="693420"/>
                </a:cubicBezTo>
                <a:cubicBezTo>
                  <a:pt x="5080" y="728980"/>
                  <a:pt x="2345" y="766573"/>
                  <a:pt x="15240" y="800100"/>
                </a:cubicBezTo>
                <a:cubicBezTo>
                  <a:pt x="24188" y="823365"/>
                  <a:pt x="74695" y="889533"/>
                  <a:pt x="99060" y="922020"/>
                </a:cubicBezTo>
                <a:cubicBezTo>
                  <a:pt x="104354" y="937901"/>
                  <a:pt x="111458" y="962805"/>
                  <a:pt x="121920" y="975360"/>
                </a:cubicBezTo>
                <a:cubicBezTo>
                  <a:pt x="127783" y="982395"/>
                  <a:pt x="137827" y="984640"/>
                  <a:pt x="144780" y="990600"/>
                </a:cubicBezTo>
                <a:cubicBezTo>
                  <a:pt x="155689" y="999951"/>
                  <a:pt x="166639" y="1009585"/>
                  <a:pt x="175260" y="1021080"/>
                </a:cubicBezTo>
                <a:cubicBezTo>
                  <a:pt x="182076" y="1030167"/>
                  <a:pt x="184656" y="1041820"/>
                  <a:pt x="190500" y="1051560"/>
                </a:cubicBezTo>
                <a:cubicBezTo>
                  <a:pt x="199924" y="1067266"/>
                  <a:pt x="212789" y="1080897"/>
                  <a:pt x="220980" y="1097280"/>
                </a:cubicBezTo>
                <a:cubicBezTo>
                  <a:pt x="226060" y="1107440"/>
                  <a:pt x="229404" y="1118673"/>
                  <a:pt x="236220" y="1127760"/>
                </a:cubicBezTo>
                <a:cubicBezTo>
                  <a:pt x="244841" y="1139255"/>
                  <a:pt x="257238" y="1147427"/>
                  <a:pt x="266700" y="1158240"/>
                </a:cubicBezTo>
                <a:cubicBezTo>
                  <a:pt x="275063" y="1167798"/>
                  <a:pt x="280068" y="1180283"/>
                  <a:pt x="289560" y="1188720"/>
                </a:cubicBezTo>
                <a:cubicBezTo>
                  <a:pt x="333032" y="1227361"/>
                  <a:pt x="368740" y="1230353"/>
                  <a:pt x="426720" y="1249680"/>
                </a:cubicBezTo>
                <a:cubicBezTo>
                  <a:pt x="441960" y="1254760"/>
                  <a:pt x="456994" y="1260507"/>
                  <a:pt x="472440" y="1264920"/>
                </a:cubicBezTo>
                <a:cubicBezTo>
                  <a:pt x="490220" y="1270000"/>
                  <a:pt x="508402" y="1273841"/>
                  <a:pt x="525780" y="1280160"/>
                </a:cubicBezTo>
                <a:cubicBezTo>
                  <a:pt x="536455" y="1284042"/>
                  <a:pt x="545880" y="1290787"/>
                  <a:pt x="556260" y="1295400"/>
                </a:cubicBezTo>
                <a:cubicBezTo>
                  <a:pt x="577914" y="1305024"/>
                  <a:pt x="618215" y="1319917"/>
                  <a:pt x="640080" y="1325880"/>
                </a:cubicBezTo>
                <a:cubicBezTo>
                  <a:pt x="678644" y="1336397"/>
                  <a:pt x="698080" y="1332316"/>
                  <a:pt x="739140" y="1348740"/>
                </a:cubicBezTo>
                <a:cubicBezTo>
                  <a:pt x="759270" y="1356792"/>
                  <a:pt x="779195" y="1365627"/>
                  <a:pt x="800100" y="1371600"/>
                </a:cubicBezTo>
                <a:cubicBezTo>
                  <a:pt x="854857" y="1387245"/>
                  <a:pt x="805827" y="1371127"/>
                  <a:pt x="868680" y="1386840"/>
                </a:cubicBezTo>
                <a:cubicBezTo>
                  <a:pt x="876472" y="1388788"/>
                  <a:pt x="883920" y="1391920"/>
                  <a:pt x="891540" y="1394460"/>
                </a:cubicBezTo>
                <a:cubicBezTo>
                  <a:pt x="904240" y="1389380"/>
                  <a:pt x="917911" y="1386257"/>
                  <a:pt x="929640" y="1379220"/>
                </a:cubicBezTo>
                <a:cubicBezTo>
                  <a:pt x="943586" y="1370852"/>
                  <a:pt x="952791" y="1355147"/>
                  <a:pt x="967740" y="1348740"/>
                </a:cubicBezTo>
                <a:cubicBezTo>
                  <a:pt x="989264" y="1339515"/>
                  <a:pt x="1013460" y="1338580"/>
                  <a:pt x="1036320" y="1333500"/>
                </a:cubicBezTo>
                <a:cubicBezTo>
                  <a:pt x="1070515" y="1316402"/>
                  <a:pt x="1071089" y="1314319"/>
                  <a:pt x="1112520" y="1303020"/>
                </a:cubicBezTo>
                <a:cubicBezTo>
                  <a:pt x="1125015" y="1299612"/>
                  <a:pt x="1138125" y="1298808"/>
                  <a:pt x="1150620" y="1295400"/>
                </a:cubicBezTo>
                <a:cubicBezTo>
                  <a:pt x="1166118" y="1291173"/>
                  <a:pt x="1196340" y="1280160"/>
                  <a:pt x="1196340" y="1280160"/>
                </a:cubicBezTo>
                <a:cubicBezTo>
                  <a:pt x="1203960" y="1272540"/>
                  <a:pt x="1211146" y="1264459"/>
                  <a:pt x="1219200" y="1257300"/>
                </a:cubicBezTo>
                <a:cubicBezTo>
                  <a:pt x="1234027" y="1244120"/>
                  <a:pt x="1250892" y="1233228"/>
                  <a:pt x="1264920" y="1219200"/>
                </a:cubicBezTo>
                <a:cubicBezTo>
                  <a:pt x="1273900" y="1210220"/>
                  <a:pt x="1278800" y="1197700"/>
                  <a:pt x="1287780" y="1188720"/>
                </a:cubicBezTo>
                <a:cubicBezTo>
                  <a:pt x="1319992" y="1156508"/>
                  <a:pt x="1324359" y="1191761"/>
                  <a:pt x="1356360" y="1127760"/>
                </a:cubicBezTo>
                <a:cubicBezTo>
                  <a:pt x="1375696" y="1089089"/>
                  <a:pt x="1362149" y="1103581"/>
                  <a:pt x="1394460" y="1082040"/>
                </a:cubicBezTo>
                <a:cubicBezTo>
                  <a:pt x="1399540" y="1071880"/>
                  <a:pt x="1402884" y="1060647"/>
                  <a:pt x="1409700" y="1051560"/>
                </a:cubicBezTo>
                <a:cubicBezTo>
                  <a:pt x="1448071" y="1000398"/>
                  <a:pt x="1432522" y="1042917"/>
                  <a:pt x="1463040" y="990600"/>
                </a:cubicBezTo>
                <a:cubicBezTo>
                  <a:pt x="1474487" y="970976"/>
                  <a:pt x="1479889" y="947815"/>
                  <a:pt x="1493520" y="929640"/>
                </a:cubicBezTo>
                <a:cubicBezTo>
                  <a:pt x="1525266" y="887312"/>
                  <a:pt x="1509846" y="910050"/>
                  <a:pt x="1539240" y="861060"/>
                </a:cubicBezTo>
                <a:cubicBezTo>
                  <a:pt x="1547875" y="826521"/>
                  <a:pt x="1554071" y="818026"/>
                  <a:pt x="1539240" y="777240"/>
                </a:cubicBezTo>
                <a:cubicBezTo>
                  <a:pt x="1534900" y="765305"/>
                  <a:pt x="1524000" y="756920"/>
                  <a:pt x="1516380" y="746760"/>
                </a:cubicBezTo>
                <a:cubicBezTo>
                  <a:pt x="1508760" y="723900"/>
                  <a:pt x="1499364" y="701557"/>
                  <a:pt x="1493520" y="678180"/>
                </a:cubicBezTo>
                <a:cubicBezTo>
                  <a:pt x="1490980" y="668020"/>
                  <a:pt x="1488777" y="657770"/>
                  <a:pt x="1485900" y="647700"/>
                </a:cubicBezTo>
                <a:cubicBezTo>
                  <a:pt x="1483693" y="639977"/>
                  <a:pt x="1480228" y="632632"/>
                  <a:pt x="1478280" y="624840"/>
                </a:cubicBezTo>
                <a:cubicBezTo>
                  <a:pt x="1475139" y="612275"/>
                  <a:pt x="1474068" y="599235"/>
                  <a:pt x="1470660" y="586740"/>
                </a:cubicBezTo>
                <a:cubicBezTo>
                  <a:pt x="1466433" y="571242"/>
                  <a:pt x="1455420" y="541020"/>
                  <a:pt x="1455420" y="541020"/>
                </a:cubicBezTo>
                <a:cubicBezTo>
                  <a:pt x="1450744" y="484914"/>
                  <a:pt x="1452096" y="459144"/>
                  <a:pt x="1440180" y="411480"/>
                </a:cubicBezTo>
                <a:cubicBezTo>
                  <a:pt x="1430719" y="373635"/>
                  <a:pt x="1433676" y="401756"/>
                  <a:pt x="1417320" y="358140"/>
                </a:cubicBezTo>
                <a:cubicBezTo>
                  <a:pt x="1396232" y="301905"/>
                  <a:pt x="1425344" y="351127"/>
                  <a:pt x="1394460" y="304800"/>
                </a:cubicBezTo>
                <a:cubicBezTo>
                  <a:pt x="1390503" y="288971"/>
                  <a:pt x="1378557" y="237876"/>
                  <a:pt x="1371600" y="228600"/>
                </a:cubicBezTo>
                <a:cubicBezTo>
                  <a:pt x="1335808" y="180878"/>
                  <a:pt x="1357720" y="207100"/>
                  <a:pt x="1303020" y="152400"/>
                </a:cubicBezTo>
                <a:cubicBezTo>
                  <a:pt x="1292860" y="142240"/>
                  <a:pt x="1280510" y="133875"/>
                  <a:pt x="1272540" y="121920"/>
                </a:cubicBezTo>
                <a:cubicBezTo>
                  <a:pt x="1267460" y="114300"/>
                  <a:pt x="1264335" y="104923"/>
                  <a:pt x="1257300" y="99060"/>
                </a:cubicBezTo>
                <a:cubicBezTo>
                  <a:pt x="1248574" y="91788"/>
                  <a:pt x="1237261" y="88295"/>
                  <a:pt x="1226820" y="83820"/>
                </a:cubicBezTo>
                <a:cubicBezTo>
                  <a:pt x="1214111" y="78373"/>
                  <a:pt x="1185564" y="70997"/>
                  <a:pt x="1173480" y="68580"/>
                </a:cubicBezTo>
                <a:cubicBezTo>
                  <a:pt x="1158330" y="65550"/>
                  <a:pt x="1142842" y="64312"/>
                  <a:pt x="1127760" y="60960"/>
                </a:cubicBezTo>
                <a:cubicBezTo>
                  <a:pt x="1092497" y="53124"/>
                  <a:pt x="1115910" y="51252"/>
                  <a:pt x="1074420" y="45720"/>
                </a:cubicBezTo>
                <a:cubicBezTo>
                  <a:pt x="1046611" y="42012"/>
                  <a:pt x="1018540" y="40640"/>
                  <a:pt x="990600" y="38100"/>
                </a:cubicBezTo>
                <a:cubicBezTo>
                  <a:pt x="965200" y="33020"/>
                  <a:pt x="939951" y="27118"/>
                  <a:pt x="914400" y="22860"/>
                </a:cubicBezTo>
                <a:cubicBezTo>
                  <a:pt x="894019" y="19463"/>
                  <a:pt x="851880" y="12945"/>
                  <a:pt x="830580" y="7620"/>
                </a:cubicBezTo>
                <a:cubicBezTo>
                  <a:pt x="822788" y="5672"/>
                  <a:pt x="815340" y="2540"/>
                  <a:pt x="807720" y="0"/>
                </a:cubicBezTo>
                <a:cubicBezTo>
                  <a:pt x="759460" y="2540"/>
                  <a:pt x="711085" y="3433"/>
                  <a:pt x="662940" y="7620"/>
                </a:cubicBezTo>
                <a:cubicBezTo>
                  <a:pt x="657029" y="8134"/>
                  <a:pt x="617575" y="18872"/>
                  <a:pt x="609600" y="22860"/>
                </a:cubicBezTo>
                <a:cubicBezTo>
                  <a:pt x="601409" y="26956"/>
                  <a:pt x="594691" y="33556"/>
                  <a:pt x="586740" y="38100"/>
                </a:cubicBezTo>
                <a:cubicBezTo>
                  <a:pt x="576877" y="43736"/>
                  <a:pt x="566420" y="48260"/>
                  <a:pt x="556260" y="53340"/>
                </a:cubicBezTo>
                <a:cubicBezTo>
                  <a:pt x="546100" y="68580"/>
                  <a:pt x="541020" y="88900"/>
                  <a:pt x="525780" y="99060"/>
                </a:cubicBezTo>
                <a:cubicBezTo>
                  <a:pt x="502822" y="114365"/>
                  <a:pt x="499510" y="117939"/>
                  <a:pt x="472440" y="129540"/>
                </a:cubicBezTo>
                <a:cubicBezTo>
                  <a:pt x="437819" y="144378"/>
                  <a:pt x="427990" y="180340"/>
                  <a:pt x="419100" y="19050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  <a:effectLst>
            <a:glow rad="685800">
              <a:srgbClr val="ffffff">
                <a:alpha val="86000"/>
              </a:srgbClr>
            </a:glow>
            <a:softEdge rad="254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640" name="Picture 2" descr="D:\Betsy葛\1\fgh.png"/>
          <p:cNvPicPr/>
          <p:nvPr/>
        </p:nvPicPr>
        <p:blipFill>
          <a:blip r:embed="rId4"/>
          <a:stretch/>
        </p:blipFill>
        <p:spPr>
          <a:xfrm>
            <a:off x="592200" y="2214720"/>
            <a:ext cx="1199880" cy="2133360"/>
          </a:xfrm>
          <a:prstGeom prst="rect">
            <a:avLst/>
          </a:prstGeom>
          <a:ln w="9525">
            <a:noFill/>
          </a:ln>
        </p:spPr>
      </p:pic>
      <p:sp>
        <p:nvSpPr>
          <p:cNvPr id="641" name="TextBox 1"/>
          <p:cNvSpPr/>
          <p:nvPr/>
        </p:nvSpPr>
        <p:spPr>
          <a:xfrm>
            <a:off x="1574640" y="1436760"/>
            <a:ext cx="1141200" cy="1095120"/>
          </a:xfrm>
          <a:prstGeom prst="rect">
            <a:avLst/>
          </a:prstGeom>
          <a:noFill/>
          <a:ln w="0">
            <a:noFill/>
          </a:ln>
          <a:effectLst>
            <a:glow rad="622440">
              <a:srgbClr val="808080">
                <a:alpha val="31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3" descr="D:\Betsy葛\1\fggfg.png"/>
          <p:cNvPicPr/>
          <p:nvPr/>
        </p:nvPicPr>
        <p:blipFill>
          <a:blip r:embed="rId5"/>
          <a:stretch/>
        </p:blipFill>
        <p:spPr>
          <a:xfrm>
            <a:off x="531720" y="2157480"/>
            <a:ext cx="1321920" cy="2247480"/>
          </a:xfrm>
          <a:prstGeom prst="rect">
            <a:avLst/>
          </a:prstGeom>
          <a:ln w="9525">
            <a:noFill/>
          </a:ln>
        </p:spPr>
      </p:pic>
      <p:sp>
        <p:nvSpPr>
          <p:cNvPr id="643" name="TextBox 4"/>
          <p:cNvSpPr/>
          <p:nvPr/>
        </p:nvSpPr>
        <p:spPr>
          <a:xfrm>
            <a:off x="1060200" y="1096920"/>
            <a:ext cx="85176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c80a14"/>
                </a:solidFill>
                <a:latin typeface="方正大黑简体"/>
                <a:ea typeface="方正大黑简体"/>
              </a:rPr>
              <a:t>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1734120" y="3481560"/>
            <a:ext cx="2288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G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AN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DEA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直接连接符 12"/>
          <p:cNvCxnSpPr/>
          <p:nvPr/>
        </p:nvCxnSpPr>
        <p:spPr>
          <a:xfrm>
            <a:off x="5695920" y="2374560"/>
            <a:ext cx="136800" cy="18910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646" name="直接连接符 15"/>
          <p:cNvCxnSpPr/>
          <p:nvPr/>
        </p:nvCxnSpPr>
        <p:spPr>
          <a:xfrm>
            <a:off x="7226280" y="2185920"/>
            <a:ext cx="177840" cy="20005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647" name="直接连接符 14"/>
          <p:cNvCxnSpPr/>
          <p:nvPr/>
        </p:nvCxnSpPr>
        <p:spPr>
          <a:xfrm flipV="1">
            <a:off x="5724360" y="4046400"/>
            <a:ext cx="1613160" cy="281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648" name="直接连接符 20"/>
          <p:cNvCxnSpPr/>
          <p:nvPr/>
        </p:nvCxnSpPr>
        <p:spPr>
          <a:xfrm flipV="1">
            <a:off x="5649840" y="2182680"/>
            <a:ext cx="1576800" cy="1922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649" name="直接连接符 23"/>
          <p:cNvCxnSpPr/>
          <p:nvPr/>
        </p:nvCxnSpPr>
        <p:spPr>
          <a:xfrm>
            <a:off x="5649840" y="2374560"/>
            <a:ext cx="90720" cy="19468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650" name="直接连接符 25"/>
          <p:cNvCxnSpPr/>
          <p:nvPr/>
        </p:nvCxnSpPr>
        <p:spPr>
          <a:xfrm flipV="1">
            <a:off x="5724360" y="4143240"/>
            <a:ext cx="1679760" cy="1843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651" name="直接连接符 28"/>
          <p:cNvCxnSpPr/>
          <p:nvPr/>
        </p:nvCxnSpPr>
        <p:spPr>
          <a:xfrm>
            <a:off x="7161120" y="2185920"/>
            <a:ext cx="176400" cy="19162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652" name="直接连接符 30"/>
          <p:cNvCxnSpPr/>
          <p:nvPr/>
        </p:nvCxnSpPr>
        <p:spPr>
          <a:xfrm flipV="1">
            <a:off x="5702040" y="2277720"/>
            <a:ext cx="1459440" cy="1544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pic>
        <p:nvPicPr>
          <p:cNvPr id="653" name="Picture 4" descr="D:\Betsy葛\1\对方是个.png"/>
          <p:cNvPicPr/>
          <p:nvPr/>
        </p:nvPicPr>
        <p:blipFill>
          <a:blip r:embed="rId6"/>
          <a:stretch/>
        </p:blipFill>
        <p:spPr>
          <a:xfrm>
            <a:off x="6761160" y="2146320"/>
            <a:ext cx="1375920" cy="1201320"/>
          </a:xfrm>
          <a:prstGeom prst="rect">
            <a:avLst/>
          </a:prstGeom>
          <a:ln w="9525">
            <a:noFill/>
          </a:ln>
        </p:spPr>
      </p:pic>
      <p:cxnSp>
        <p:nvCxnSpPr>
          <p:cNvPr id="654" name="直接连接符 1024"/>
          <p:cNvCxnSpPr/>
          <p:nvPr/>
        </p:nvCxnSpPr>
        <p:spPr>
          <a:xfrm>
            <a:off x="7403760" y="2603160"/>
            <a:ext cx="189360" cy="192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655" name="直接连接符 1030"/>
          <p:cNvCxnSpPr/>
          <p:nvPr/>
        </p:nvCxnSpPr>
        <p:spPr>
          <a:xfrm flipV="1">
            <a:off x="7592760" y="2477880"/>
            <a:ext cx="116280" cy="3193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656" name="直接连接符 1032"/>
          <p:cNvCxnSpPr/>
          <p:nvPr/>
        </p:nvCxnSpPr>
        <p:spPr>
          <a:xfrm flipH="1">
            <a:off x="7403760" y="2477880"/>
            <a:ext cx="305280" cy="1274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657" name="任意多边形 1044"/>
          <p:cNvSpPr/>
          <p:nvPr/>
        </p:nvSpPr>
        <p:spPr>
          <a:xfrm rot="21294600">
            <a:off x="6035400" y="3576240"/>
            <a:ext cx="1103040" cy="558360"/>
          </a:xfrm>
          <a:custGeom>
            <a:avLst/>
            <a:gdLst>
              <a:gd name="textAreaLeft" fmla="*/ 0 w 1103040"/>
              <a:gd name="textAreaRight" fmla="*/ 1103400 w 110304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1323474" h="402192">
                <a:moveTo>
                  <a:pt x="0" y="252663"/>
                </a:moveTo>
                <a:cubicBezTo>
                  <a:pt x="4011" y="276726"/>
                  <a:pt x="7248" y="300931"/>
                  <a:pt x="12032" y="324853"/>
                </a:cubicBezTo>
                <a:cubicBezTo>
                  <a:pt x="15275" y="341068"/>
                  <a:pt x="10305" y="382152"/>
                  <a:pt x="24063" y="372979"/>
                </a:cubicBezTo>
                <a:cubicBezTo>
                  <a:pt x="45168" y="358909"/>
                  <a:pt x="48127" y="300789"/>
                  <a:pt x="48127" y="300789"/>
                </a:cubicBezTo>
                <a:cubicBezTo>
                  <a:pt x="52137" y="312821"/>
                  <a:pt x="57082" y="324580"/>
                  <a:pt x="60158" y="336884"/>
                </a:cubicBezTo>
                <a:cubicBezTo>
                  <a:pt x="65118" y="356723"/>
                  <a:pt x="52790" y="390575"/>
                  <a:pt x="72190" y="397042"/>
                </a:cubicBezTo>
                <a:cubicBezTo>
                  <a:pt x="89205" y="402714"/>
                  <a:pt x="87355" y="364488"/>
                  <a:pt x="96253" y="348916"/>
                </a:cubicBezTo>
                <a:cubicBezTo>
                  <a:pt x="103427" y="336361"/>
                  <a:pt x="112295" y="324853"/>
                  <a:pt x="120316" y="312821"/>
                </a:cubicBezTo>
                <a:cubicBezTo>
                  <a:pt x="132348" y="320842"/>
                  <a:pt x="145119" y="345917"/>
                  <a:pt x="156411" y="336884"/>
                </a:cubicBezTo>
                <a:cubicBezTo>
                  <a:pt x="165564" y="329561"/>
                  <a:pt x="187451" y="236786"/>
                  <a:pt x="192506" y="216568"/>
                </a:cubicBezTo>
                <a:cubicBezTo>
                  <a:pt x="254699" y="278763"/>
                  <a:pt x="181223" y="195126"/>
                  <a:pt x="228600" y="360947"/>
                </a:cubicBezTo>
                <a:cubicBezTo>
                  <a:pt x="232084" y="373141"/>
                  <a:pt x="234960" y="336196"/>
                  <a:pt x="240632" y="324853"/>
                </a:cubicBezTo>
                <a:cubicBezTo>
                  <a:pt x="247099" y="311919"/>
                  <a:pt x="258228" y="301692"/>
                  <a:pt x="264695" y="288758"/>
                </a:cubicBezTo>
                <a:cubicBezTo>
                  <a:pt x="299520" y="219109"/>
                  <a:pt x="244399" y="284992"/>
                  <a:pt x="312821" y="216568"/>
                </a:cubicBezTo>
                <a:cubicBezTo>
                  <a:pt x="345569" y="118330"/>
                  <a:pt x="311014" y="206627"/>
                  <a:pt x="336885" y="348916"/>
                </a:cubicBezTo>
                <a:cubicBezTo>
                  <a:pt x="339154" y="361394"/>
                  <a:pt x="341881" y="323373"/>
                  <a:pt x="348916" y="312821"/>
                </a:cubicBezTo>
                <a:cubicBezTo>
                  <a:pt x="358354" y="298663"/>
                  <a:pt x="374118" y="289798"/>
                  <a:pt x="385011" y="276726"/>
                </a:cubicBezTo>
                <a:cubicBezTo>
                  <a:pt x="394268" y="265618"/>
                  <a:pt x="401053" y="252663"/>
                  <a:pt x="409074" y="240632"/>
                </a:cubicBezTo>
                <a:cubicBezTo>
                  <a:pt x="441840" y="371694"/>
                  <a:pt x="424337" y="360056"/>
                  <a:pt x="445169" y="276726"/>
                </a:cubicBezTo>
                <a:cubicBezTo>
                  <a:pt x="455581" y="235076"/>
                  <a:pt x="452889" y="244943"/>
                  <a:pt x="481263" y="216568"/>
                </a:cubicBezTo>
                <a:cubicBezTo>
                  <a:pt x="485274" y="204537"/>
                  <a:pt x="481952" y="174802"/>
                  <a:pt x="493295" y="180474"/>
                </a:cubicBezTo>
                <a:cubicBezTo>
                  <a:pt x="508085" y="187869"/>
                  <a:pt x="503501" y="212165"/>
                  <a:pt x="505327" y="228600"/>
                </a:cubicBezTo>
                <a:cubicBezTo>
                  <a:pt x="511543" y="284546"/>
                  <a:pt x="513348" y="340895"/>
                  <a:pt x="517358" y="397042"/>
                </a:cubicBezTo>
                <a:cubicBezTo>
                  <a:pt x="535293" y="343240"/>
                  <a:pt x="551099" y="293467"/>
                  <a:pt x="577516" y="240632"/>
                </a:cubicBezTo>
                <a:lnTo>
                  <a:pt x="601579" y="192505"/>
                </a:lnTo>
                <a:cubicBezTo>
                  <a:pt x="605590" y="208547"/>
                  <a:pt x="597075" y="240632"/>
                  <a:pt x="613611" y="240632"/>
                </a:cubicBezTo>
                <a:cubicBezTo>
                  <a:pt x="618585" y="240632"/>
                  <a:pt x="667280" y="166144"/>
                  <a:pt x="673769" y="156411"/>
                </a:cubicBezTo>
                <a:cubicBezTo>
                  <a:pt x="712240" y="40991"/>
                  <a:pt x="671226" y="149374"/>
                  <a:pt x="697832" y="348916"/>
                </a:cubicBezTo>
                <a:cubicBezTo>
                  <a:pt x="700017" y="365307"/>
                  <a:pt x="705111" y="316628"/>
                  <a:pt x="709863" y="300789"/>
                </a:cubicBezTo>
                <a:cubicBezTo>
                  <a:pt x="735028" y="216905"/>
                  <a:pt x="726680" y="240679"/>
                  <a:pt x="770021" y="168442"/>
                </a:cubicBezTo>
                <a:cubicBezTo>
                  <a:pt x="778042" y="140368"/>
                  <a:pt x="785695" y="112187"/>
                  <a:pt x="794085" y="84221"/>
                </a:cubicBezTo>
                <a:cubicBezTo>
                  <a:pt x="797729" y="72073"/>
                  <a:pt x="794773" y="42454"/>
                  <a:pt x="806116" y="48126"/>
                </a:cubicBezTo>
                <a:cubicBezTo>
                  <a:pt x="820906" y="55521"/>
                  <a:pt x="814137" y="80211"/>
                  <a:pt x="818148" y="96253"/>
                </a:cubicBezTo>
                <a:cubicBezTo>
                  <a:pt x="822158" y="132348"/>
                  <a:pt x="816691" y="170818"/>
                  <a:pt x="830179" y="204537"/>
                </a:cubicBezTo>
                <a:cubicBezTo>
                  <a:pt x="836320" y="219890"/>
                  <a:pt x="837668" y="172311"/>
                  <a:pt x="842211" y="156411"/>
                </a:cubicBezTo>
                <a:cubicBezTo>
                  <a:pt x="845695" y="144217"/>
                  <a:pt x="850598" y="132464"/>
                  <a:pt x="854242" y="120316"/>
                </a:cubicBezTo>
                <a:cubicBezTo>
                  <a:pt x="884826" y="18370"/>
                  <a:pt x="860849" y="62281"/>
                  <a:pt x="902369" y="0"/>
                </a:cubicBezTo>
                <a:cubicBezTo>
                  <a:pt x="906379" y="20053"/>
                  <a:pt x="913163" y="39746"/>
                  <a:pt x="914400" y="60158"/>
                </a:cubicBezTo>
                <a:cubicBezTo>
                  <a:pt x="921198" y="172318"/>
                  <a:pt x="911250" y="285706"/>
                  <a:pt x="926432" y="397042"/>
                </a:cubicBezTo>
                <a:cubicBezTo>
                  <a:pt x="929859" y="422174"/>
                  <a:pt x="941075" y="348403"/>
                  <a:pt x="950495" y="324853"/>
                </a:cubicBezTo>
                <a:cubicBezTo>
                  <a:pt x="957156" y="308200"/>
                  <a:pt x="968260" y="293520"/>
                  <a:pt x="974558" y="276726"/>
                </a:cubicBezTo>
                <a:cubicBezTo>
                  <a:pt x="980364" y="261243"/>
                  <a:pt x="980076" y="243799"/>
                  <a:pt x="986590" y="228600"/>
                </a:cubicBezTo>
                <a:cubicBezTo>
                  <a:pt x="992286" y="215309"/>
                  <a:pt x="1004593" y="205634"/>
                  <a:pt x="1010653" y="192505"/>
                </a:cubicBezTo>
                <a:cubicBezTo>
                  <a:pt x="1028754" y="153286"/>
                  <a:pt x="1042737" y="112294"/>
                  <a:pt x="1058779" y="72189"/>
                </a:cubicBezTo>
                <a:lnTo>
                  <a:pt x="1082842" y="12032"/>
                </a:lnTo>
                <a:cubicBezTo>
                  <a:pt x="1121357" y="166087"/>
                  <a:pt x="1063326" y="-79399"/>
                  <a:pt x="1106906" y="312821"/>
                </a:cubicBezTo>
                <a:cubicBezTo>
                  <a:pt x="1108307" y="325426"/>
                  <a:pt x="1115453" y="288920"/>
                  <a:pt x="1118937" y="276726"/>
                </a:cubicBezTo>
                <a:cubicBezTo>
                  <a:pt x="1138360" y="208746"/>
                  <a:pt x="1118401" y="247453"/>
                  <a:pt x="1155032" y="192505"/>
                </a:cubicBezTo>
                <a:cubicBezTo>
                  <a:pt x="1159042" y="176463"/>
                  <a:pt x="1152273" y="136984"/>
                  <a:pt x="1167063" y="144379"/>
                </a:cubicBezTo>
                <a:cubicBezTo>
                  <a:pt x="1185354" y="153525"/>
                  <a:pt x="1174135" y="184698"/>
                  <a:pt x="1179095" y="204537"/>
                </a:cubicBezTo>
                <a:cubicBezTo>
                  <a:pt x="1182171" y="216841"/>
                  <a:pt x="1187116" y="228600"/>
                  <a:pt x="1191127" y="240632"/>
                </a:cubicBezTo>
                <a:cubicBezTo>
                  <a:pt x="1254520" y="145542"/>
                  <a:pt x="1163931" y="262606"/>
                  <a:pt x="1239253" y="312821"/>
                </a:cubicBezTo>
                <a:cubicBezTo>
                  <a:pt x="1245848" y="317218"/>
                  <a:pt x="1301607" y="231321"/>
                  <a:pt x="1311442" y="216568"/>
                </a:cubicBezTo>
                <a:cubicBezTo>
                  <a:pt x="1315453" y="232610"/>
                  <a:pt x="1323474" y="248159"/>
                  <a:pt x="1323474" y="264695"/>
                </a:cubicBezTo>
                <a:cubicBezTo>
                  <a:pt x="1323474" y="281231"/>
                  <a:pt x="1311442" y="312821"/>
                  <a:pt x="1311442" y="312821"/>
                </a:cubicBezTo>
              </a:path>
            </a:pathLst>
          </a:cu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8" name="TextBox 1112"/>
          <p:cNvSpPr/>
          <p:nvPr/>
        </p:nvSpPr>
        <p:spPr>
          <a:xfrm>
            <a:off x="4723920" y="4246560"/>
            <a:ext cx="3224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WRIT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IT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nodeType="clickEffect" fill="hold">
                      <p:stCondLst>
                        <p:cond delay="0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25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25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137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xit" presetID="1">
                                  <p:stCondLst>
                                    <p:cond delay="67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">
                                  <p:stCondLst>
                                    <p:cond delay="67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1">
                                  <p:stCondLst>
                                    <p:cond delay="67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1">
                                  <p:stCondLst>
                                    <p:cond delay="67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7" nodeType="withEffect" fill="hold" presetClass="path" presetID="64">
                                  <p:stCondLst>
                                    <p:cond delay="670"/>
                                  </p:stCondLst>
                                  <p:childTnLst>
                                    <p:animMotion origin="layout" path="M 2.77556E-017 -3.7037E-006 L 2.77556E-017 -0.07592 E">
                                      <p:cBhvr>
                                        <p:cTn id="2078" dur="1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22" presetSubtype="8">
                                  <p:stCondLst>
                                    <p:cond delay="67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1" dur="2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4" dur="2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2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0" dur="2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0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4" dur="2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8" dur="2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2" dur="2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6" dur="2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0" dur="2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3" dur="2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7" dur="2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2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5" dur="2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9" dur="2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3" dur="25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3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37" dur="2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13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41" dur="2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4" dur="25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矩形 2"/>
          <p:cNvSpPr/>
          <p:nvPr/>
        </p:nvSpPr>
        <p:spPr>
          <a:xfrm>
            <a:off x="533520" y="490680"/>
            <a:ext cx="8057880" cy="4219200"/>
          </a:xfrm>
          <a:prstGeom prst="rect">
            <a:avLst/>
          </a:prstGeom>
          <a:noFill/>
          <a:ln w="28575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660" name="Picture 7" descr="D:\Betsy葛\1\未标ssdf题-2.png"/>
          <p:cNvPicPr/>
          <p:nvPr/>
        </p:nvPicPr>
        <p:blipFill>
          <a:blip r:embed="rId1"/>
          <a:stretch/>
        </p:blipFill>
        <p:spPr>
          <a:xfrm>
            <a:off x="-774720" y="7920"/>
            <a:ext cx="10108800" cy="5135040"/>
          </a:xfrm>
          <a:prstGeom prst="rect">
            <a:avLst/>
          </a:prstGeom>
          <a:ln w="9525">
            <a:noFill/>
          </a:ln>
        </p:spPr>
      </p:pic>
      <p:pic>
        <p:nvPicPr>
          <p:cNvPr id="661" name="Picture 8" descr="D:\Betsy葛\1\dfgt.png"/>
          <p:cNvPicPr/>
          <p:nvPr/>
        </p:nvPicPr>
        <p:blipFill>
          <a:blip r:embed="rId2"/>
          <a:stretch/>
        </p:blipFill>
        <p:spPr>
          <a:xfrm>
            <a:off x="-774720" y="7920"/>
            <a:ext cx="10108800" cy="5135040"/>
          </a:xfrm>
          <a:prstGeom prst="rect">
            <a:avLst/>
          </a:prstGeom>
          <a:ln w="9525">
            <a:noFill/>
          </a:ln>
        </p:spPr>
      </p:pic>
      <p:pic>
        <p:nvPicPr>
          <p:cNvPr id="662" name="Picture 9" descr="D:\Betsy葛\1\yuyt.png"/>
          <p:cNvPicPr/>
          <p:nvPr/>
        </p:nvPicPr>
        <p:blipFill>
          <a:blip r:embed="rId3"/>
          <a:stretch/>
        </p:blipFill>
        <p:spPr>
          <a:xfrm>
            <a:off x="-774720" y="7920"/>
            <a:ext cx="10108800" cy="5135040"/>
          </a:xfrm>
          <a:prstGeom prst="rect">
            <a:avLst/>
          </a:prstGeom>
          <a:ln w="9525">
            <a:noFill/>
          </a:ln>
        </p:spPr>
      </p:pic>
      <p:pic>
        <p:nvPicPr>
          <p:cNvPr id="663" name="Picture 10" descr=""/>
          <p:cNvPicPr/>
          <p:nvPr/>
        </p:nvPicPr>
        <p:blipFill>
          <a:blip r:embed="rId4"/>
          <a:stretch/>
        </p:blipFill>
        <p:spPr>
          <a:xfrm>
            <a:off x="-277920" y="7920"/>
            <a:ext cx="9115200" cy="5135040"/>
          </a:xfrm>
          <a:prstGeom prst="rect">
            <a:avLst/>
          </a:prstGeom>
          <a:ln w="9525">
            <a:noFill/>
          </a:ln>
        </p:spPr>
      </p:pic>
      <p:sp>
        <p:nvSpPr>
          <p:cNvPr id="664" name="TextBox 3"/>
          <p:cNvSpPr/>
          <p:nvPr/>
        </p:nvSpPr>
        <p:spPr>
          <a:xfrm>
            <a:off x="5508000" y="384120"/>
            <a:ext cx="2186640" cy="219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27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716400" y="1189080"/>
            <a:ext cx="223236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宋体"/>
              </a:rPr>
              <a:t>CLE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762120" y="1932120"/>
            <a:ext cx="18410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777600" y="2448000"/>
            <a:ext cx="2764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WORK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fade/>
  </p:transition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nodeType="clickEffect" fill="hold">
                      <p:stCondLst>
                        <p:cond delay="0"/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nodeType="afterEffect" fill="hold">
                            <p:stCondLst>
                              <p:cond delay="10"/>
                            </p:stCondLst>
                            <p:childTnLst>
                              <p:par>
                                <p:cTn id="2160" nodeType="afterEffect" fill="hold" presetClass="entr" presetID="1">
                                  <p:stCondLst>
                                    <p:cond delay="59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xit" presetID="1">
                                  <p:stCondLst>
                                    <p:cond delay="59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nodeType="afterEffect" fill="hold">
                            <p:stCondLst>
                              <p:cond delay="610"/>
                            </p:stCondLst>
                            <p:childTnLst>
                              <p:par>
                                <p:cTn id="2165" nodeType="afterEffect" fill="hold" presetClass="exit" presetID="1">
                                  <p:stCondLst>
                                    <p:cond delay="38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8" nodeType="afterEffect" fill="hold" presetClass="exit" presetID="1">
                                  <p:stCondLst>
                                    <p:cond delay="29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177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/>
          <p:cNvSpPr/>
          <p:nvPr/>
        </p:nvSpPr>
        <p:spPr>
          <a:xfrm>
            <a:off x="-265320" y="-604800"/>
            <a:ext cx="3959280" cy="764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9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4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466720" y="1413000"/>
            <a:ext cx="5911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2466720" y="2117880"/>
            <a:ext cx="5911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2466720" y="2824200"/>
            <a:ext cx="5911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00000"/>
                </a:solidFill>
                <a:latin typeface="黑体"/>
                <a:ea typeface="黑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3186000" y="1828800"/>
            <a:ext cx="2098440" cy="2235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矩形 10"/>
          <p:cNvSpPr/>
          <p:nvPr/>
        </p:nvSpPr>
        <p:spPr>
          <a:xfrm>
            <a:off x="3186000" y="2502000"/>
            <a:ext cx="2098440" cy="2217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矩形 11"/>
          <p:cNvSpPr/>
          <p:nvPr/>
        </p:nvSpPr>
        <p:spPr>
          <a:xfrm>
            <a:off x="3186000" y="3173400"/>
            <a:ext cx="2098440" cy="2235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0360" y="3689280"/>
            <a:ext cx="1321200" cy="59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K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5"/>
          <p:cNvSpPr/>
          <p:nvPr/>
        </p:nvSpPr>
        <p:spPr>
          <a:xfrm>
            <a:off x="4086720" y="3689280"/>
            <a:ext cx="1285920" cy="59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LIS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Box 39"/>
          <p:cNvSpPr/>
          <p:nvPr/>
        </p:nvSpPr>
        <p:spPr>
          <a:xfrm>
            <a:off x="1093320" y="-423720"/>
            <a:ext cx="408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2002" strike="noStrike">
                <a:solidFill>
                  <a:srgbClr val="000000"/>
                </a:solidFill>
                <a:latin typeface="Calibri"/>
                <a:ea typeface="宋体"/>
              </a:rPr>
              <a:t>HXRY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1234080" y="1725480"/>
            <a:ext cx="5011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直接连接符 5"/>
          <p:cNvCxnSpPr/>
          <p:nvPr/>
        </p:nvCxnSpPr>
        <p:spPr>
          <a:xfrm>
            <a:off x="1520640" y="-2052360"/>
            <a:ext cx="360" cy="1794240"/>
          </a:xfrm>
          <a:prstGeom prst="straightConnector1">
            <a:avLst/>
          </a:prstGeom>
          <a:ln w="285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sp>
        <p:nvSpPr>
          <p:cNvPr id="671" name="TextBox 39"/>
          <p:cNvSpPr/>
          <p:nvPr/>
        </p:nvSpPr>
        <p:spPr>
          <a:xfrm>
            <a:off x="1664280" y="-620640"/>
            <a:ext cx="408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2002" strike="noStrike">
                <a:solidFill>
                  <a:srgbClr val="000000"/>
                </a:solidFill>
                <a:latin typeface="Calibri"/>
                <a:ea typeface="宋体"/>
              </a:rPr>
              <a:t>HXRY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0"/>
          <p:cNvSpPr/>
          <p:nvPr/>
        </p:nvSpPr>
        <p:spPr>
          <a:xfrm>
            <a:off x="1711080" y="2257560"/>
            <a:ext cx="4888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3" name="直接连接符 11"/>
          <p:cNvCxnSpPr/>
          <p:nvPr/>
        </p:nvCxnSpPr>
        <p:spPr>
          <a:xfrm>
            <a:off x="2030400" y="-2420640"/>
            <a:ext cx="360" cy="1794240"/>
          </a:xfrm>
          <a:prstGeom prst="straightConnector1">
            <a:avLst/>
          </a:prstGeom>
          <a:ln w="285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sp>
        <p:nvSpPr>
          <p:cNvPr id="674" name="TextBox 39"/>
          <p:cNvSpPr/>
          <p:nvPr/>
        </p:nvSpPr>
        <p:spPr>
          <a:xfrm>
            <a:off x="2071440" y="-620640"/>
            <a:ext cx="408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2002" strike="noStrike">
                <a:solidFill>
                  <a:srgbClr val="000000"/>
                </a:solidFill>
                <a:latin typeface="Calibri"/>
                <a:ea typeface="宋体"/>
              </a:rPr>
              <a:t>HXRY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5"/>
          <p:cNvSpPr/>
          <p:nvPr/>
        </p:nvSpPr>
        <p:spPr>
          <a:xfrm>
            <a:off x="2118240" y="2257560"/>
            <a:ext cx="4219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39"/>
          <p:cNvSpPr/>
          <p:nvPr/>
        </p:nvSpPr>
        <p:spPr>
          <a:xfrm>
            <a:off x="2412000" y="-165240"/>
            <a:ext cx="408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2002" strike="noStrike">
                <a:solidFill>
                  <a:srgbClr val="000000"/>
                </a:solidFill>
                <a:latin typeface="Calibri"/>
                <a:ea typeface="宋体"/>
              </a:rPr>
              <a:t>HXRY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21"/>
          <p:cNvSpPr/>
          <p:nvPr/>
        </p:nvSpPr>
        <p:spPr>
          <a:xfrm>
            <a:off x="2554200" y="1984320"/>
            <a:ext cx="4280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8" name="直接连接符 22"/>
          <p:cNvCxnSpPr/>
          <p:nvPr/>
        </p:nvCxnSpPr>
        <p:spPr>
          <a:xfrm>
            <a:off x="2839680" y="-1793520"/>
            <a:ext cx="360" cy="1793880"/>
          </a:xfrm>
          <a:prstGeom prst="straightConnector1">
            <a:avLst/>
          </a:prstGeom>
          <a:ln w="285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679" name="直接连接符 23"/>
          <p:cNvCxnSpPr/>
          <p:nvPr/>
        </p:nvCxnSpPr>
        <p:spPr>
          <a:xfrm>
            <a:off x="2419200" y="-2990520"/>
            <a:ext cx="360" cy="2629080"/>
          </a:xfrm>
          <a:prstGeom prst="straightConnector1">
            <a:avLst/>
          </a:prstGeom>
          <a:ln w="285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sp>
        <p:nvSpPr>
          <p:cNvPr id="680" name="TextBox 39"/>
          <p:cNvSpPr/>
          <p:nvPr/>
        </p:nvSpPr>
        <p:spPr>
          <a:xfrm>
            <a:off x="4507200" y="4775040"/>
            <a:ext cx="49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2002" strike="noStrike">
                <a:solidFill>
                  <a:srgbClr val="000000"/>
                </a:solidFill>
                <a:latin typeface="Calibri"/>
                <a:ea typeface="宋体"/>
              </a:rPr>
              <a:t>HUKAGY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46"/>
          <p:cNvSpPr/>
          <p:nvPr/>
        </p:nvSpPr>
        <p:spPr>
          <a:xfrm>
            <a:off x="4719240" y="2995560"/>
            <a:ext cx="414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2" name="直接连接符 47"/>
          <p:cNvCxnSpPr/>
          <p:nvPr/>
        </p:nvCxnSpPr>
        <p:spPr>
          <a:xfrm>
            <a:off x="4954320" y="5202000"/>
            <a:ext cx="360" cy="141948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683" name="TextBox 39"/>
          <p:cNvSpPr/>
          <p:nvPr/>
        </p:nvSpPr>
        <p:spPr>
          <a:xfrm>
            <a:off x="4843080" y="5005440"/>
            <a:ext cx="49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2002" strike="noStrike">
                <a:solidFill>
                  <a:srgbClr val="000000"/>
                </a:solidFill>
                <a:latin typeface="Calibri"/>
                <a:ea typeface="宋体"/>
              </a:rPr>
              <a:t>HUKAGY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52"/>
          <p:cNvSpPr/>
          <p:nvPr/>
        </p:nvSpPr>
        <p:spPr>
          <a:xfrm>
            <a:off x="5054760" y="3225960"/>
            <a:ext cx="5119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5" name="直接连接符 53"/>
          <p:cNvCxnSpPr/>
          <p:nvPr/>
        </p:nvCxnSpPr>
        <p:spPr>
          <a:xfrm>
            <a:off x="5290920" y="5432400"/>
            <a:ext cx="360" cy="141948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686" name="TextBox 39"/>
          <p:cNvSpPr/>
          <p:nvPr/>
        </p:nvSpPr>
        <p:spPr>
          <a:xfrm>
            <a:off x="5259240" y="5052960"/>
            <a:ext cx="49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2002" strike="noStrike">
                <a:solidFill>
                  <a:srgbClr val="000000"/>
                </a:solidFill>
                <a:latin typeface="Calibri"/>
                <a:ea typeface="宋体"/>
              </a:rPr>
              <a:t>HUKAGY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55"/>
          <p:cNvSpPr/>
          <p:nvPr/>
        </p:nvSpPr>
        <p:spPr>
          <a:xfrm>
            <a:off x="5470920" y="2984400"/>
            <a:ext cx="5148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8" name="直接连接符 56"/>
          <p:cNvCxnSpPr/>
          <p:nvPr/>
        </p:nvCxnSpPr>
        <p:spPr>
          <a:xfrm>
            <a:off x="5706720" y="5479920"/>
            <a:ext cx="360" cy="141948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689" name="TextBox 57"/>
          <p:cNvSpPr/>
          <p:nvPr/>
        </p:nvSpPr>
        <p:spPr>
          <a:xfrm>
            <a:off x="7942320" y="1803240"/>
            <a:ext cx="879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58"/>
          <p:cNvSpPr/>
          <p:nvPr/>
        </p:nvSpPr>
        <p:spPr>
          <a:xfrm>
            <a:off x="7942320" y="1803240"/>
            <a:ext cx="879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59"/>
          <p:cNvSpPr/>
          <p:nvPr/>
        </p:nvSpPr>
        <p:spPr>
          <a:xfrm>
            <a:off x="7942320" y="1803240"/>
            <a:ext cx="879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60"/>
          <p:cNvSpPr/>
          <p:nvPr/>
        </p:nvSpPr>
        <p:spPr>
          <a:xfrm>
            <a:off x="6951600" y="1803240"/>
            <a:ext cx="879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61"/>
          <p:cNvSpPr/>
          <p:nvPr/>
        </p:nvSpPr>
        <p:spPr>
          <a:xfrm>
            <a:off x="6951600" y="1803240"/>
            <a:ext cx="879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62"/>
          <p:cNvSpPr/>
          <p:nvPr/>
        </p:nvSpPr>
        <p:spPr>
          <a:xfrm>
            <a:off x="7942320" y="1803240"/>
            <a:ext cx="879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d"/>
  </p:transition>
  <p:timing>
    <p:tnLst>
      <p:par>
        <p:cTn id="2179" dur="indefinite" restart="never" nodeType="tmRoot">
          <p:childTnLst>
            <p:seq>
              <p:cTn id="2180" dur="indefinite" nodeType="mainSeq">
                <p:childTnLst>
                  <p:par>
                    <p:cTn id="2181" nodeType="clickEffect" fill="hold">
                      <p:stCondLst>
                        <p:cond delay="0"/>
                      </p:stCondLst>
                      <p:childTnLst>
                        <p:par>
                          <p:cTn id="2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2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nodeType="afterEffect" fill="hold">
                            <p:stCondLst>
                              <p:cond delay="110"/>
                            </p:stCondLst>
                            <p:childTnLst>
                              <p:par>
                                <p:cTn id="2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nodeType="afterEffect" fill="hold">
                            <p:stCondLst>
                              <p:cond delay="210"/>
                            </p:stCondLst>
                            <p:childTnLst>
                              <p:par>
                                <p:cTn id="21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nodeType="afterEffect" fill="hold">
                            <p:stCondLst>
                              <p:cond delay="220"/>
                            </p:stCondLst>
                            <p:childTnLst>
                              <p:par>
                                <p:cTn id="2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22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nodeType="afterEffect" fill="hold">
                            <p:stCondLst>
                              <p:cond delay="330"/>
                            </p:stCondLst>
                            <p:childTnLst>
                              <p:par>
                                <p:cTn id="220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nodeType="afterEffect" fill="hold">
                            <p:stCondLst>
                              <p:cond delay="430"/>
                            </p:stCondLst>
                            <p:childTnLst>
                              <p:par>
                                <p:cTn id="22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2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800"/>
                                  </p:iterate>
                                  <p:childTnLst>
                                    <p:set>
                                      <p:cBhvr>
                                        <p:cTn id="221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2.96296E-006 L -2.22222E-006 0.39321 E">
                                      <p:cBhvr>
                                        <p:cTn id="2215" dur="9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6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2.96296E-006 L -0.00139 0.27315 E">
                                      <p:cBhvr>
                                        <p:cTn id="2219" dur="9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0" nodeType="withEffect" fill="hold" presetClass="path" presetID="64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2.77778E-006 -0.02809 L 0.00278 -0.17469 E">
                                      <p:cBhvr>
                                        <p:cTn id="222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2" nodeType="withEffect" fill="hold" presetClass="path" presetID="64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139 0.27309 L -0.00139 0.22922 E">
                                      <p:cBhvr>
                                        <p:cTn id="222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11">
                                  <p:stCondLst>
                                    <p:cond delay="500"/>
                                  </p:stCondLst>
                                  <p:iterate type="lt">
                                    <p:tmAbs val="800"/>
                                  </p:iterate>
                                  <p:childTnLst>
                                    <p:set>
                                      <p:cBhvr>
                                        <p:cTn id="222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6" nodeType="withEffect" fill="hold" presetClass="path" presetID="4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138 0.03087 L -0.00555 0.59815 E">
                                      <p:cBhvr>
                                        <p:cTn id="2227" dur="9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8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-3.7037E-006 L -0.00399 0.51729 E">
                                      <p:cBhvr>
                                        <p:cTn id="2229" dur="9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0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2" nodeType="withEffect" fill="hold" presetClass="path" presetID="64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2.5E-006 2.34568E-006 L 0.00278 -0.26605 E">
                                      <p:cBhvr>
                                        <p:cTn id="223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4" nodeType="withEffect" fill="hold" presetClass="path" presetID="64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139 0.27309 L -0.00139 0.22922 E">
                                      <p:cBhvr>
                                        <p:cTn id="223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6" nodeType="withEffect" fill="hold" presetClass="entr" presetID="11">
                                  <p:stCondLst>
                                    <p:cond delay="900"/>
                                  </p:stCondLst>
                                  <p:iterate type="lt">
                                    <p:tmAbs val="800"/>
                                  </p:iterate>
                                  <p:childTnLst>
                                    <p:set>
                                      <p:cBhvr>
                                        <p:cTn id="223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1.38778E-017 2.96296E-006 L -0.00139 0.27315 E">
                                      <p:cBhvr>
                                        <p:cTn id="2239" dur="8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0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path" presetID="64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0139 0.27309 L -0.00139 0.22922 E">
                                      <p:cBhvr>
                                        <p:cTn id="2243" dur="8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4" nodeType="withEffect" fill="hold" presetClass="path" presetID="42">
                                  <p:stCondLst>
                                    <p:cond delay="17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138 0.03087 L -0.00555 0.59815 E">
                                      <p:cBhvr>
                                        <p:cTn id="2245" dur="9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6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5E-006 2.34568E-006 L 0.00278 -0.26605 E">
                                      <p:cBhvr>
                                        <p:cTn id="2247" dur="75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11">
                                  <p:stCondLst>
                                    <p:cond delay="1000"/>
                                  </p:stCondLst>
                                  <p:iterate type="lt">
                                    <p:tmAbs val="800"/>
                                  </p:iterate>
                                  <p:childTnLst>
                                    <p:set>
                                      <p:cBhvr>
                                        <p:cTn id="224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path" presetID="4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2.96296E-006 L -2.22222E-006 0.39321 E">
                                      <p:cBhvr>
                                        <p:cTn id="2251" dur="9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778E-017 2.96296E-006 L -0.00139 0.27315 E">
                                      <p:cBhvr>
                                        <p:cTn id="2255" dur="9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6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6 -0.02809 L 0.00278 -0.17469 E">
                                      <p:cBhvr>
                                        <p:cTn id="225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8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0139 0.27309 L -0.00139 0.22922 E">
                                      <p:cBhvr>
                                        <p:cTn id="225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1">
                                  <p:stCondLst>
                                    <p:cond delay="1600"/>
                                  </p:stCondLst>
                                  <p:iterate type="lt">
                                    <p:tmAbs val="800"/>
                                  </p:iterate>
                                  <p:childTnLst>
                                    <p:set>
                                      <p:cBhvr>
                                        <p:cTn id="226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path" presetID="64">
                                  <p:stCondLst>
                                    <p:cond delay="1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1.23457E-006 L 8.33333E-007 -0.37932 E">
                                      <p:cBhvr>
                                        <p:cTn id="2263" dur="16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4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22222E-006 2.3911E-006 L -2.22222E-006 -0.36299 E">
                                      <p:cBhvr>
                                        <p:cTn id="2265" dur="16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6" nodeType="withEffect" fill="hold" presetClass="path" presetID="42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2.22222E-006 -0.25023 L 0.00174 -0.13809 E">
                                      <p:cBhvr>
                                        <p:cTn id="2267" dur="7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0.00017 -0.00556 L -0.00017 0.18659 E">
                                      <p:cBhvr>
                                        <p:cTn id="2271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11">
                                  <p:stCondLst>
                                    <p:cond delay="700"/>
                                  </p:stCondLst>
                                  <p:iterate type="lt">
                                    <p:tmAbs val="800"/>
                                  </p:iterate>
                                  <p:childTnLst>
                                    <p:set>
                                      <p:cBhvr>
                                        <p:cTn id="227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nodeType="withEffect" fill="hold" presetClass="path" presetID="64">
                                  <p:stCondLst>
                                    <p:cond delay="7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1.23457E-006 L 8.33333E-007 -0.37932 E">
                                      <p:cBhvr>
                                        <p:cTn id="2275" dur="16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6" nodeType="withEffect" fill="hold" presetClass="path" presetID="64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2.22222E-006 2.3911E-006 L -2.22222E-006 -0.36299 E">
                                      <p:cBhvr>
                                        <p:cTn id="2277" dur="16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8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2.22222E-006 -0.25023 L 0.00174 -0.13809 E">
                                      <p:cBhvr>
                                        <p:cTn id="2279" dur="7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2" nodeType="withEffect" fill="hold" presetClass="path" presetID="4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00017 -0.00556 L -0.00017 0.18659 E">
                                      <p:cBhvr>
                                        <p:cTn id="2283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11">
                                  <p:stCondLst>
                                    <p:cond delay="1200"/>
                                  </p:stCondLst>
                                  <p:iterate type="lt">
                                    <p:tmAbs val="800"/>
                                  </p:iterate>
                                  <p:childTnLst>
                                    <p:set>
                                      <p:cBhvr>
                                        <p:cTn id="228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path" presetID="64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1.23457E-006 L 8.33333E-007 -0.37932 E">
                                      <p:cBhvr>
                                        <p:cTn id="2287" dur="16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8" nodeType="withEffect" fill="hold" presetClass="path" presetID="64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22222E-006 2.3911E-006 L -2.22222E-006 -0.36299 E">
                                      <p:cBhvr>
                                        <p:cTn id="2289" dur="16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0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2.22222E-006 -0.25023 L 0.00174 -0.13809 E">
                                      <p:cBhvr>
                                        <p:cTn id="2291" dur="7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4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00017 -0.00556 L -0.00017 0.18659 E">
                                      <p:cBhvr>
                                        <p:cTn id="2295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Box 1"/>
          <p:cNvSpPr/>
          <p:nvPr/>
        </p:nvSpPr>
        <p:spPr>
          <a:xfrm>
            <a:off x="2493000" y="2057400"/>
            <a:ext cx="696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2"/>
          <p:cNvSpPr/>
          <p:nvPr/>
        </p:nvSpPr>
        <p:spPr>
          <a:xfrm>
            <a:off x="3292200" y="2119320"/>
            <a:ext cx="35323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NISH 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nodeType="clickEffect" fill="hold">
                      <p:stCondLst>
                        <p:cond delay="0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900000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900000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900000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900000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900000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900000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900000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30"/>
          <p:cNvGrpSpPr/>
          <p:nvPr/>
        </p:nvGrpSpPr>
        <p:grpSpPr>
          <a:xfrm>
            <a:off x="789840" y="441000"/>
            <a:ext cx="6239160" cy="4280760"/>
            <a:chOff x="789840" y="441000"/>
            <a:chExt cx="6239160" cy="4280760"/>
          </a:xfrm>
        </p:grpSpPr>
        <p:pic>
          <p:nvPicPr>
            <p:cNvPr id="118" name="Picture 11" descr=""/>
            <p:cNvPicPr/>
            <p:nvPr/>
          </p:nvPicPr>
          <p:blipFill>
            <a:blip r:embed="rId1"/>
            <a:stretch/>
          </p:blipFill>
          <p:spPr>
            <a:xfrm rot="21582000">
              <a:off x="3913920" y="448920"/>
              <a:ext cx="3103920" cy="420552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19" name="Picture 9" descr=""/>
            <p:cNvPicPr/>
            <p:nvPr/>
          </p:nvPicPr>
          <p:blipFill>
            <a:blip r:embed="rId2"/>
            <a:stretch/>
          </p:blipFill>
          <p:spPr>
            <a:xfrm rot="21600">
              <a:off x="802800" y="462600"/>
              <a:ext cx="3139920" cy="4249080"/>
            </a:xfrm>
            <a:prstGeom prst="rect">
              <a:avLst/>
            </a:prstGeom>
            <a:ln w="9525">
              <a:noFill/>
            </a:ln>
          </p:spPr>
        </p:pic>
      </p:grpSp>
      <p:pic>
        <p:nvPicPr>
          <p:cNvPr id="120" name="Picture 11" descr=""/>
          <p:cNvPicPr/>
          <p:nvPr/>
        </p:nvPicPr>
        <p:blipFill>
          <a:blip r:embed="rId3"/>
          <a:stretch/>
        </p:blipFill>
        <p:spPr>
          <a:xfrm rot="21582000">
            <a:off x="3908520" y="458640"/>
            <a:ext cx="3104640" cy="4206600"/>
          </a:xfrm>
          <a:prstGeom prst="rect">
            <a:avLst/>
          </a:prstGeom>
          <a:ln w="9525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4"/>
          <a:stretch/>
        </p:blipFill>
        <p:spPr>
          <a:xfrm rot="21600">
            <a:off x="796680" y="436320"/>
            <a:ext cx="3141360" cy="4249440"/>
          </a:xfrm>
          <a:prstGeom prst="rect">
            <a:avLst/>
          </a:prstGeom>
          <a:ln w="9525">
            <a:noFill/>
          </a:ln>
        </p:spPr>
      </p:pic>
      <p:grpSp>
        <p:nvGrpSpPr>
          <p:cNvPr id="122" name="组合 1"/>
          <p:cNvGrpSpPr/>
          <p:nvPr/>
        </p:nvGrpSpPr>
        <p:grpSpPr>
          <a:xfrm>
            <a:off x="1402560" y="543960"/>
            <a:ext cx="5031720" cy="4028760"/>
            <a:chOff x="1402560" y="543960"/>
            <a:chExt cx="5031720" cy="4028760"/>
          </a:xfrm>
        </p:grpSpPr>
        <p:pic>
          <p:nvPicPr>
            <p:cNvPr id="123" name="Picture 11" descr=""/>
            <p:cNvPicPr/>
            <p:nvPr/>
          </p:nvPicPr>
          <p:blipFill>
            <a:blip r:embed="rId5"/>
            <a:stretch/>
          </p:blipFill>
          <p:spPr>
            <a:xfrm rot="20742000">
              <a:off x="3879720" y="771120"/>
              <a:ext cx="2217600" cy="300492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24" name="Picture 9" descr=""/>
            <p:cNvPicPr/>
            <p:nvPr/>
          </p:nvPicPr>
          <p:blipFill>
            <a:blip r:embed="rId6"/>
            <a:stretch/>
          </p:blipFill>
          <p:spPr>
            <a:xfrm rot="20781600">
              <a:off x="1728720" y="1315080"/>
              <a:ext cx="2243160" cy="3035880"/>
            </a:xfrm>
            <a:prstGeom prst="rect">
              <a:avLst/>
            </a:prstGeom>
            <a:ln w="9525">
              <a:noFill/>
            </a:ln>
          </p:spPr>
        </p:pic>
      </p:grpSp>
      <p:pic>
        <p:nvPicPr>
          <p:cNvPr id="125" name="Picture 11" descr=""/>
          <p:cNvPicPr/>
          <p:nvPr/>
        </p:nvPicPr>
        <p:blipFill>
          <a:blip r:embed="rId7"/>
          <a:stretch/>
        </p:blipFill>
        <p:spPr>
          <a:xfrm rot="20742000">
            <a:off x="3889440" y="779400"/>
            <a:ext cx="2217240" cy="300492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8"/>
          <a:stretch/>
        </p:blipFill>
        <p:spPr>
          <a:xfrm rot="20756400">
            <a:off x="3900600" y="768240"/>
            <a:ext cx="2212560" cy="2993760"/>
          </a:xfrm>
          <a:prstGeom prst="rect">
            <a:avLst/>
          </a:prstGeom>
          <a:ln w="9525">
            <a:noFill/>
          </a:ln>
        </p:spPr>
      </p:pic>
      <p:sp>
        <p:nvSpPr>
          <p:cNvPr id="127" name="TextBox 4"/>
          <p:cNvSpPr/>
          <p:nvPr/>
        </p:nvSpPr>
        <p:spPr>
          <a:xfrm>
            <a:off x="6706080" y="-781200"/>
            <a:ext cx="3326760" cy="638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13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9"/>
          <a:stretch/>
        </p:blipFill>
        <p:spPr>
          <a:xfrm rot="20781600">
            <a:off x="1728360" y="1314000"/>
            <a:ext cx="2244240" cy="3036600"/>
          </a:xfrm>
          <a:prstGeom prst="rect">
            <a:avLst/>
          </a:prstGeom>
          <a:ln w="9525">
            <a:noFill/>
          </a:ln>
        </p:spPr>
      </p:pic>
      <p:sp>
        <p:nvSpPr>
          <p:cNvPr id="129" name="TextBox 9"/>
          <p:cNvSpPr/>
          <p:nvPr/>
        </p:nvSpPr>
        <p:spPr>
          <a:xfrm>
            <a:off x="3923280" y="1390680"/>
            <a:ext cx="15922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C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3814200" y="2019240"/>
            <a:ext cx="32932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A  </a:t>
            </a:r>
            <a:r>
              <a:rPr b="1" lang="en-US" sz="3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NOTE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3922200" y="2646360"/>
            <a:ext cx="30661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EVERY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2"/>
          <p:cNvGrpSpPr/>
          <p:nvPr/>
        </p:nvGrpSpPr>
        <p:grpSpPr>
          <a:xfrm>
            <a:off x="3814200" y="1390680"/>
            <a:ext cx="3293280" cy="1893600"/>
            <a:chOff x="3814200" y="1390680"/>
            <a:chExt cx="3293280" cy="1893600"/>
          </a:xfrm>
        </p:grpSpPr>
        <p:sp>
          <p:nvSpPr>
            <p:cNvPr id="133" name="TextBox 17"/>
            <p:cNvSpPr/>
            <p:nvPr/>
          </p:nvSpPr>
          <p:spPr>
            <a:xfrm>
              <a:off x="3923280" y="1390680"/>
              <a:ext cx="159228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dobe Gothic Std B"/>
                  <a:ea typeface="Adobe Gothic Std B"/>
                </a:rPr>
                <a:t>CARR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18"/>
            <p:cNvSpPr/>
            <p:nvPr/>
          </p:nvSpPr>
          <p:spPr>
            <a:xfrm>
              <a:off x="3814200" y="2018160"/>
              <a:ext cx="329328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dobe Gothic Std B"/>
                  <a:ea typeface="Adobe Gothic Std B"/>
                </a:rPr>
                <a:t>A  </a:t>
              </a:r>
              <a:r>
                <a:rPr b="1" lang="en-US" sz="3600" spc="-1" strike="noStrike">
                  <a:solidFill>
                    <a:srgbClr val="000000"/>
                  </a:solidFill>
                  <a:latin typeface="Adobe Gothic Std B"/>
                  <a:ea typeface="Adobe Gothic Std B"/>
                </a:rPr>
                <a:t>NOTEBOO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19"/>
            <p:cNvSpPr/>
            <p:nvPr/>
          </p:nvSpPr>
          <p:spPr>
            <a:xfrm>
              <a:off x="3922200" y="2646000"/>
              <a:ext cx="30661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dobe Gothic Std B"/>
                  <a:ea typeface="Adobe Gothic Std B"/>
                </a:rPr>
                <a:t>EVERYWHER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1"/>
          <p:cNvSpPr/>
          <p:nvPr/>
        </p:nvSpPr>
        <p:spPr>
          <a:xfrm>
            <a:off x="3416760" y="2389320"/>
            <a:ext cx="2311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9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1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1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840000">
                                      <p:cBhvr>
                                        <p:cTn id="179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" presetSubtype="6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4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5" dur="400" fill="hold"/>
                                        <p:tgtEl>
                                          <p:spTgt spid="122"/>
                                        </p:tgtEl>
                                      </p:cBhvr>
                                      <p:by x="14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221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223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6">
                                  <p:stCondLst>
                                    <p:cond delay="150"/>
                                  </p:stCondLst>
                                  <p:childTnLst>
                                    <p:animScale>
                                      <p:cBhvr>
                                        <p:cTn id="233" dur="100" fill="hold"/>
                                        <p:tgtEl>
                                          <p:spTgt spid="120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6">
                                  <p:stCondLst>
                                    <p:cond delay="150"/>
                                  </p:stCondLst>
                                  <p:childTnLst>
                                    <p:animScale>
                                      <p:cBhvr>
                                        <p:cTn id="235" dur="100" fill="hold"/>
                                        <p:tgtEl>
                                          <p:spTgt spid="132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4"/>
          <p:cNvSpPr/>
          <p:nvPr/>
        </p:nvSpPr>
        <p:spPr>
          <a:xfrm>
            <a:off x="378720" y="-1198440"/>
            <a:ext cx="1915560" cy="373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39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3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"/>
          <p:cNvSpPr/>
          <p:nvPr/>
        </p:nvSpPr>
        <p:spPr>
          <a:xfrm>
            <a:off x="-482760" y="746280"/>
            <a:ext cx="9815040" cy="3884400"/>
          </a:xfrm>
          <a:custGeom>
            <a:avLst/>
            <a:gdLst>
              <a:gd name="textAreaLeft" fmla="*/ 0 w 9815040"/>
              <a:gd name="textAreaRight" fmla="*/ 9815400 w 9815040"/>
              <a:gd name="textAreaTop" fmla="*/ 0 h 3884400"/>
              <a:gd name="textAreaBottom" fmla="*/ 3884760 h 3884400"/>
            </a:gdLst>
            <a:ahLst/>
            <a:rect l="textAreaLeft" t="textAreaTop" r="textAreaRight" b="textAreaBottom"/>
            <a:pathLst>
              <a:path w="9815540" h="3883179">
                <a:moveTo>
                  <a:pt x="0" y="479885"/>
                </a:moveTo>
                <a:cubicBezTo>
                  <a:pt x="282756" y="483667"/>
                  <a:pt x="1313434" y="588836"/>
                  <a:pt x="2005218" y="509528"/>
                </a:cubicBezTo>
                <a:cubicBezTo>
                  <a:pt x="2697002" y="430220"/>
                  <a:pt x="3611433" y="-48649"/>
                  <a:pt x="4150706" y="4038"/>
                </a:cubicBezTo>
                <a:cubicBezTo>
                  <a:pt x="4689979" y="56725"/>
                  <a:pt x="5104109" y="239426"/>
                  <a:pt x="5240857" y="825648"/>
                </a:cubicBezTo>
                <a:cubicBezTo>
                  <a:pt x="5377605" y="1411870"/>
                  <a:pt x="5028125" y="1807927"/>
                  <a:pt x="5047392" y="2302171"/>
                </a:cubicBezTo>
                <a:cubicBezTo>
                  <a:pt x="5066659" y="2796415"/>
                  <a:pt x="5239101" y="3254257"/>
                  <a:pt x="5878973" y="3442768"/>
                </a:cubicBezTo>
                <a:cubicBezTo>
                  <a:pt x="6518845" y="3631279"/>
                  <a:pt x="8230531" y="3359834"/>
                  <a:pt x="8886625" y="3433236"/>
                </a:cubicBezTo>
                <a:cubicBezTo>
                  <a:pt x="9542719" y="3506638"/>
                  <a:pt x="9663140" y="3803350"/>
                  <a:pt x="9815540" y="3883179"/>
                </a:cubicBezTo>
              </a:path>
            </a:pathLst>
          </a:custGeom>
          <a:noFill/>
          <a:ln w="635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9" name="任意多边形 6"/>
          <p:cNvSpPr/>
          <p:nvPr/>
        </p:nvSpPr>
        <p:spPr>
          <a:xfrm>
            <a:off x="-406440" y="1851120"/>
            <a:ext cx="9550080" cy="2220480"/>
          </a:xfrm>
          <a:custGeom>
            <a:avLst/>
            <a:gdLst>
              <a:gd name="textAreaLeft" fmla="*/ 0 w 9550080"/>
              <a:gd name="textAreaRight" fmla="*/ 9550440 w 9550080"/>
              <a:gd name="textAreaTop" fmla="*/ 0 h 2220480"/>
              <a:gd name="textAreaBottom" fmla="*/ 2220840 h 2220480"/>
            </a:gdLst>
            <a:ahLst/>
            <a:rect l="textAreaLeft" t="textAreaTop" r="textAreaRight" b="textAreaBottom"/>
            <a:pathLst>
              <a:path w="9550400" h="2220685">
                <a:moveTo>
                  <a:pt x="0" y="2220685"/>
                </a:moveTo>
                <a:cubicBezTo>
                  <a:pt x="305405" y="2142066"/>
                  <a:pt x="468117" y="1933667"/>
                  <a:pt x="913040" y="1879781"/>
                </a:cubicBezTo>
                <a:cubicBezTo>
                  <a:pt x="1357963" y="1825895"/>
                  <a:pt x="1454150" y="1893742"/>
                  <a:pt x="1755140" y="2011671"/>
                </a:cubicBezTo>
                <a:cubicBezTo>
                  <a:pt x="1987550" y="2083880"/>
                  <a:pt x="2148477" y="2136199"/>
                  <a:pt x="2595154" y="2133963"/>
                </a:cubicBezTo>
                <a:cubicBezTo>
                  <a:pt x="3041831" y="2131727"/>
                  <a:pt x="3883175" y="2049114"/>
                  <a:pt x="4435202" y="1998254"/>
                </a:cubicBezTo>
                <a:cubicBezTo>
                  <a:pt x="4987229" y="1947394"/>
                  <a:pt x="5391331" y="1998859"/>
                  <a:pt x="5907314" y="1828800"/>
                </a:cubicBezTo>
                <a:cubicBezTo>
                  <a:pt x="6423297" y="1658741"/>
                  <a:pt x="7025519" y="1139220"/>
                  <a:pt x="7531100" y="977900"/>
                </a:cubicBezTo>
                <a:cubicBezTo>
                  <a:pt x="8036681" y="816580"/>
                  <a:pt x="8622619" y="1097340"/>
                  <a:pt x="8559799" y="1394278"/>
                </a:cubicBezTo>
                <a:cubicBezTo>
                  <a:pt x="8496979" y="1691216"/>
                  <a:pt x="8168972" y="1650999"/>
                  <a:pt x="8068582" y="1540328"/>
                </a:cubicBezTo>
                <a:cubicBezTo>
                  <a:pt x="7968192" y="1429657"/>
                  <a:pt x="7939087" y="1272721"/>
                  <a:pt x="8186057" y="1016000"/>
                </a:cubicBezTo>
                <a:cubicBezTo>
                  <a:pt x="8433027" y="759279"/>
                  <a:pt x="9032573" y="117021"/>
                  <a:pt x="9550400" y="0"/>
                </a:cubicBezTo>
              </a:path>
            </a:pathLst>
          </a:custGeom>
          <a:noFill/>
          <a:ln w="635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4151160" y="-101520"/>
            <a:ext cx="1850760" cy="5608440"/>
          </a:xfrm>
          <a:custGeom>
            <a:avLst/>
            <a:gdLst>
              <a:gd name="textAreaLeft" fmla="*/ 0 w 1850760"/>
              <a:gd name="textAreaRight" fmla="*/ 1851120 w 1850760"/>
              <a:gd name="textAreaTop" fmla="*/ 0 h 5608440"/>
              <a:gd name="textAreaBottom" fmla="*/ 5608800 h 5608440"/>
            </a:gdLst>
            <a:ahLst/>
            <a:rect l="textAreaLeft" t="textAreaTop" r="textAreaRight" b="textAreaBottom"/>
            <a:pathLst>
              <a:path w="1851470" h="5609055">
                <a:moveTo>
                  <a:pt x="0" y="0"/>
                </a:moveTo>
                <a:cubicBezTo>
                  <a:pt x="355599" y="222552"/>
                  <a:pt x="711199" y="445105"/>
                  <a:pt x="899885" y="841829"/>
                </a:cubicBezTo>
                <a:cubicBezTo>
                  <a:pt x="1088571" y="1238553"/>
                  <a:pt x="991775" y="1940962"/>
                  <a:pt x="1132114" y="2380343"/>
                </a:cubicBezTo>
                <a:cubicBezTo>
                  <a:pt x="1272453" y="2819724"/>
                  <a:pt x="1648973" y="3095972"/>
                  <a:pt x="1741919" y="3478113"/>
                </a:cubicBezTo>
                <a:cubicBezTo>
                  <a:pt x="1834865" y="3860254"/>
                  <a:pt x="1955340" y="4318034"/>
                  <a:pt x="1689790" y="4673191"/>
                </a:cubicBezTo>
                <a:cubicBezTo>
                  <a:pt x="1424240" y="5028348"/>
                  <a:pt x="148618" y="5609055"/>
                  <a:pt x="148618" y="5609055"/>
                </a:cubicBezTo>
              </a:path>
            </a:pathLst>
          </a:custGeom>
          <a:noFill/>
          <a:ln w="6350">
            <a:solidFill>
              <a:srgbClr val="ffffff">
                <a:lumMod val="65000"/>
              </a:srgbClr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任意多边形 8"/>
          <p:cNvSpPr/>
          <p:nvPr/>
        </p:nvSpPr>
        <p:spPr>
          <a:xfrm>
            <a:off x="163440" y="903240"/>
            <a:ext cx="8329320" cy="5148000"/>
          </a:xfrm>
          <a:custGeom>
            <a:avLst/>
            <a:gdLst>
              <a:gd name="textAreaLeft" fmla="*/ 0 w 8329320"/>
              <a:gd name="textAreaRight" fmla="*/ 8329680 w 8329320"/>
              <a:gd name="textAreaTop" fmla="*/ 0 h 5148000"/>
              <a:gd name="textAreaBottom" fmla="*/ 5148360 h 5148000"/>
            </a:gdLst>
            <a:ahLst/>
            <a:rect l="textAreaLeft" t="textAreaTop" r="textAreaRight" b="textAreaBottom"/>
            <a:pathLst>
              <a:path w="8328950" h="5147665">
                <a:moveTo>
                  <a:pt x="0" y="5147665"/>
                </a:moveTo>
                <a:cubicBezTo>
                  <a:pt x="391281" y="4630594"/>
                  <a:pt x="1108528" y="3884317"/>
                  <a:pt x="2073728" y="3516622"/>
                </a:cubicBezTo>
                <a:cubicBezTo>
                  <a:pt x="3038928" y="3148927"/>
                  <a:pt x="4958915" y="3351960"/>
                  <a:pt x="5791199" y="2941493"/>
                </a:cubicBezTo>
                <a:cubicBezTo>
                  <a:pt x="6623484" y="2531026"/>
                  <a:pt x="6629963" y="1703725"/>
                  <a:pt x="7067435" y="1053818"/>
                </a:cubicBezTo>
                <a:cubicBezTo>
                  <a:pt x="7504907" y="403911"/>
                  <a:pt x="8246702" y="6047"/>
                  <a:pt x="8328950" y="0"/>
                </a:cubicBezTo>
              </a:path>
            </a:pathLst>
          </a:custGeom>
          <a:noFill/>
          <a:ln w="3175"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6c0000"/>
              </a:solidFill>
              <a:latin typeface="Calibri"/>
              <a:ea typeface="宋体"/>
            </a:endParaRPr>
          </a:p>
        </p:txBody>
      </p:sp>
      <p:pic>
        <p:nvPicPr>
          <p:cNvPr id="142" name="Picture 2" descr="D:\Betsy葛\1\铅笔.png"/>
          <p:cNvPicPr/>
          <p:nvPr/>
        </p:nvPicPr>
        <p:blipFill>
          <a:blip r:embed="rId1"/>
          <a:stretch/>
        </p:blipFill>
        <p:spPr>
          <a:xfrm rot="2466000">
            <a:off x="411120" y="2314440"/>
            <a:ext cx="342720" cy="1806120"/>
          </a:xfrm>
          <a:prstGeom prst="rect">
            <a:avLst/>
          </a:prstGeom>
          <a:ln w="9525">
            <a:noFill/>
          </a:ln>
        </p:spPr>
      </p:pic>
      <p:sp>
        <p:nvSpPr>
          <p:cNvPr id="143" name="TextBox 14"/>
          <p:cNvSpPr txBox="1"/>
          <p:nvPr/>
        </p:nvSpPr>
        <p:spPr>
          <a:xfrm>
            <a:off x="1233000" y="3471480"/>
            <a:ext cx="2670840" cy="461160"/>
          </a:xfrm>
          <a:prstGeom prst="rect">
            <a:avLst/>
          </a:prstGeom>
        </p:spPr>
        <p:txBody>
          <a:bodyPr wrap="none" lIns="90000" rIns="90000" tIns="45000" bIns="45000" anchor="t">
            <a:prstTxWarp prst="textArchDown">
              <a:avLst>
                <a:gd name="adj" fmla="val 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Calibri"/>
              </a:rPr>
              <a:t>TRY  FREE  WRITING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9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4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1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7 0.00216 C 0.01076 -0.00402 0.03003 -0.03118 0.0592 -0.03118 C 0.08003 -0.02809 0.10225 2.71604999999963E-006 0.13715 0.0071 C 0.17204 0.01419 0.21388 0.01389 0.26875 0.01142 C 0.32326 0.00401 0.4085 0.00957 0.46649 -0.0071 C 0.52361 -0.02562 0.5684 -0.06945 0.61111 -0.09969 C 0.65555 -0.13951 0.68854 -0.16173 0.72274 -0.18858 C 0.77013 -0.20494 0.84375 -0.19414 0.87204 -0.18118 C 0.90034 -0.13087 0.86753 -0.07716 0.85538 -0.06327 C 0.84461 -0.0642 0.82395 -0.06914 0.81631 -0.0821 C 0.80989 -0.0926 0.80833 -0.1213 0.80954 -0.13673 C 0.80798 -0.15185 0.81059 -0.15988 0.82204 -0.17685 C 0.83333 -0.19568 0.85868 -0.22439 0.87777 -0.24939 C 0.90347 -0.28611 0.91458 -0.29661 0.93802 -0.32624 C 0.95295 -0.35155 1.00989 -0.38704 1.01631 -0.39013 C 1.02152 -0.3963 1.01944 -0.3929 1.02343 -0.4 E">
                                      <p:cBhvr>
                                        <p:cTn id="260" dur="26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6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1"/>
          <p:cNvSpPr/>
          <p:nvPr/>
        </p:nvSpPr>
        <p:spPr>
          <a:xfrm>
            <a:off x="3391200" y="217440"/>
            <a:ext cx="2360520" cy="466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23"/>
          <p:cNvGrpSpPr/>
          <p:nvPr/>
        </p:nvGrpSpPr>
        <p:grpSpPr>
          <a:xfrm>
            <a:off x="1835280" y="723960"/>
            <a:ext cx="5473440" cy="3695400"/>
            <a:chOff x="1835280" y="723960"/>
            <a:chExt cx="5473440" cy="3695400"/>
          </a:xfrm>
        </p:grpSpPr>
        <p:sp>
          <p:nvSpPr>
            <p:cNvPr id="146" name="圆角矩形 12"/>
            <p:cNvSpPr/>
            <p:nvPr/>
          </p:nvSpPr>
          <p:spPr>
            <a:xfrm>
              <a:off x="2482920" y="723960"/>
              <a:ext cx="4177800" cy="235548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7" name="矩形 13"/>
            <p:cNvSpPr/>
            <p:nvPr/>
          </p:nvSpPr>
          <p:spPr>
            <a:xfrm>
              <a:off x="2482920" y="1538280"/>
              <a:ext cx="4177800" cy="17586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8" name="流程图: 手动操作 19"/>
            <p:cNvSpPr/>
            <p:nvPr/>
          </p:nvSpPr>
          <p:spPr>
            <a:xfrm flipV="1">
              <a:off x="1835280" y="3440520"/>
              <a:ext cx="5473440" cy="688680"/>
            </a:xfrm>
            <a:custGeom>
              <a:avLst/>
              <a:gdLst>
                <a:gd name="textAreaLeft" fmla="*/ 0 w 5473440"/>
                <a:gd name="textAreaRight" fmla="*/ 5473800 w 5473440"/>
                <a:gd name="textAreaTop" fmla="*/ -360 h 688680"/>
                <a:gd name="textAreaBottom" fmla="*/ 688680 h 688680"/>
              </a:gdLst>
              <a:ahLst/>
              <a:rect l="textAreaLeft" t="textAreaTop" r="textAreaRight" b="textAreaBottom"/>
              <a:pathLst>
                <a:path w="10000" h="10294">
                  <a:moveTo>
                    <a:pt x="0" y="0"/>
                  </a:moveTo>
                  <a:lnTo>
                    <a:pt x="10000" y="0"/>
                  </a:lnTo>
                  <a:lnTo>
                    <a:pt x="8776" y="10000"/>
                  </a:lnTo>
                  <a:lnTo>
                    <a:pt x="1224" y="10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9" name="矩形 20"/>
            <p:cNvSpPr/>
            <p:nvPr/>
          </p:nvSpPr>
          <p:spPr>
            <a:xfrm>
              <a:off x="2771640" y="961920"/>
              <a:ext cx="3600000" cy="21175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0" name="流程图: 手动操作 19"/>
            <p:cNvSpPr/>
            <p:nvPr/>
          </p:nvSpPr>
          <p:spPr>
            <a:xfrm flipV="1">
              <a:off x="4008600" y="3699000"/>
              <a:ext cx="1126800" cy="267840"/>
            </a:xfrm>
            <a:custGeom>
              <a:avLst/>
              <a:gdLst>
                <a:gd name="textAreaLeft" fmla="*/ 0 w 1126800"/>
                <a:gd name="textAreaRight" fmla="*/ 1127160 w 1126800"/>
                <a:gd name="textAreaTop" fmla="*/ 360 h 267840"/>
                <a:gd name="textAreaBottom" fmla="*/ 268560 h 267840"/>
              </a:gdLst>
              <a:ahLst/>
              <a:rect l="textAreaLeft" t="textAreaTop" r="textAreaRight" b="textAreaBottom"/>
              <a:pathLst>
                <a:path w="10000" h="10294">
                  <a:moveTo>
                    <a:pt x="0" y="0"/>
                  </a:moveTo>
                  <a:lnTo>
                    <a:pt x="10000" y="0"/>
                  </a:lnTo>
                  <a:lnTo>
                    <a:pt x="8776" y="10000"/>
                  </a:lnTo>
                  <a:lnTo>
                    <a:pt x="1224" y="10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1" name="圆角矩形 22"/>
            <p:cNvSpPr/>
            <p:nvPr/>
          </p:nvSpPr>
          <p:spPr>
            <a:xfrm>
              <a:off x="1835280" y="4202280"/>
              <a:ext cx="5473440" cy="217080"/>
            </a:xfrm>
            <a:custGeom>
              <a:avLst/>
              <a:gdLst>
                <a:gd name="textAreaLeft" fmla="*/ 0 w 5473440"/>
                <a:gd name="textAreaRight" fmla="*/ 5473800 w 547344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5472608" h="216771">
                  <a:moveTo>
                    <a:pt x="0" y="36005"/>
                  </a:moveTo>
                  <a:cubicBezTo>
                    <a:pt x="0" y="16120"/>
                    <a:pt x="16120" y="0"/>
                    <a:pt x="36005" y="0"/>
                  </a:cubicBezTo>
                  <a:lnTo>
                    <a:pt x="5436603" y="0"/>
                  </a:lnTo>
                  <a:cubicBezTo>
                    <a:pt x="5456488" y="0"/>
                    <a:pt x="5472608" y="16120"/>
                    <a:pt x="5472608" y="36005"/>
                  </a:cubicBezTo>
                  <a:lnTo>
                    <a:pt x="5436603" y="216024"/>
                  </a:lnTo>
                  <a:lnTo>
                    <a:pt x="36005" y="216024"/>
                  </a:lnTo>
                  <a:cubicBezTo>
                    <a:pt x="34779" y="228884"/>
                    <a:pt x="0" y="72009"/>
                    <a:pt x="0" y="36005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2" name="矩形 25"/>
          <p:cNvSpPr/>
          <p:nvPr/>
        </p:nvSpPr>
        <p:spPr>
          <a:xfrm rot="2700000">
            <a:off x="4273560" y="303120"/>
            <a:ext cx="444240" cy="382248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c00000"/>
              </a:solidFill>
              <a:latin typeface="Calibri"/>
              <a:ea typeface="宋体"/>
            </a:endParaRPr>
          </a:p>
        </p:txBody>
      </p:sp>
      <p:sp>
        <p:nvSpPr>
          <p:cNvPr id="153" name="矩形 27"/>
          <p:cNvSpPr/>
          <p:nvPr/>
        </p:nvSpPr>
        <p:spPr>
          <a:xfrm rot="18900000">
            <a:off x="4273200" y="304920"/>
            <a:ext cx="444240" cy="382068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c00000"/>
              </a:solidFill>
              <a:latin typeface="Calibri"/>
              <a:ea typeface="宋体"/>
            </a:endParaRPr>
          </a:p>
        </p:txBody>
      </p:sp>
      <p:sp>
        <p:nvSpPr>
          <p:cNvPr id="154" name="TextBox 24"/>
          <p:cNvSpPr/>
          <p:nvPr/>
        </p:nvSpPr>
        <p:spPr>
          <a:xfrm>
            <a:off x="3240720" y="1658880"/>
            <a:ext cx="25815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GET</a:t>
            </a:r>
            <a:r>
              <a:rPr b="0" lang="en-US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 A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48"/>
          <p:cNvGrpSpPr/>
          <p:nvPr/>
        </p:nvGrpSpPr>
        <p:grpSpPr>
          <a:xfrm>
            <a:off x="1825560" y="707400"/>
            <a:ext cx="5471640" cy="3711960"/>
            <a:chOff x="1825560" y="707400"/>
            <a:chExt cx="5471640" cy="3711960"/>
          </a:xfrm>
        </p:grpSpPr>
        <p:grpSp>
          <p:nvGrpSpPr>
            <p:cNvPr id="156" name="组合 38"/>
            <p:cNvGrpSpPr/>
            <p:nvPr/>
          </p:nvGrpSpPr>
          <p:grpSpPr>
            <a:xfrm>
              <a:off x="1825560" y="725400"/>
              <a:ext cx="5471640" cy="3693960"/>
              <a:chOff x="1825560" y="725400"/>
              <a:chExt cx="5471640" cy="3693960"/>
            </a:xfrm>
          </p:grpSpPr>
          <p:sp>
            <p:nvSpPr>
              <p:cNvPr id="157" name="圆角矩形 39"/>
              <p:cNvSpPr/>
              <p:nvPr/>
            </p:nvSpPr>
            <p:spPr>
              <a:xfrm>
                <a:off x="2473200" y="725400"/>
                <a:ext cx="4176360" cy="2354040"/>
              </a:xfrm>
              <a:prstGeom prst="roundRect">
                <a:avLst>
                  <a:gd name="adj" fmla="val 16667"/>
                </a:avLst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58" name="矩形 40"/>
              <p:cNvSpPr/>
              <p:nvPr/>
            </p:nvSpPr>
            <p:spPr>
              <a:xfrm>
                <a:off x="2473200" y="1539720"/>
                <a:ext cx="4176360" cy="1757160"/>
              </a:xfrm>
              <a:prstGeom prst="rect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59" name="流程图: 手动操作 19"/>
              <p:cNvSpPr/>
              <p:nvPr/>
            </p:nvSpPr>
            <p:spPr>
              <a:xfrm flipV="1">
                <a:off x="1825560" y="3442320"/>
                <a:ext cx="5471640" cy="688680"/>
              </a:xfrm>
              <a:custGeom>
                <a:avLst/>
                <a:gdLst>
                  <a:gd name="textAreaLeft" fmla="*/ 0 w 5471640"/>
                  <a:gd name="textAreaRight" fmla="*/ 5472000 w 5471640"/>
                  <a:gd name="textAreaTop" fmla="*/ -360 h 688680"/>
                  <a:gd name="textAreaBottom" fmla="*/ 688680 h 688680"/>
                </a:gdLst>
                <a:ahLst/>
                <a:rect l="textAreaLeft" t="textAreaTop" r="textAreaRight" b="textAreaBottom"/>
                <a:pathLst>
                  <a:path w="10000" h="10294">
                    <a:moveTo>
                      <a:pt x="0" y="0"/>
                    </a:moveTo>
                    <a:lnTo>
                      <a:pt x="10000" y="0"/>
                    </a:lnTo>
                    <a:lnTo>
                      <a:pt x="8776" y="10000"/>
                    </a:lnTo>
                    <a:lnTo>
                      <a:pt x="1224" y="102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60" name="矩形 42"/>
              <p:cNvSpPr/>
              <p:nvPr/>
            </p:nvSpPr>
            <p:spPr>
              <a:xfrm>
                <a:off x="2762280" y="963720"/>
                <a:ext cx="3598560" cy="2115720"/>
              </a:xfrm>
              <a:prstGeom prst="rect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61" name="流程图: 手动操作 19"/>
              <p:cNvSpPr/>
              <p:nvPr/>
            </p:nvSpPr>
            <p:spPr>
              <a:xfrm flipV="1">
                <a:off x="3998880" y="3699000"/>
                <a:ext cx="1125000" cy="267840"/>
              </a:xfrm>
              <a:custGeom>
                <a:avLst/>
                <a:gdLst>
                  <a:gd name="textAreaLeft" fmla="*/ 0 w 1125000"/>
                  <a:gd name="textAreaRight" fmla="*/ 1125360 w 1125000"/>
                  <a:gd name="textAreaTop" fmla="*/ 360 h 267840"/>
                  <a:gd name="textAreaBottom" fmla="*/ 268560 h 267840"/>
                </a:gdLst>
                <a:ahLst/>
                <a:rect l="textAreaLeft" t="textAreaTop" r="textAreaRight" b="textAreaBottom"/>
                <a:pathLst>
                  <a:path w="10000" h="10294">
                    <a:moveTo>
                      <a:pt x="0" y="0"/>
                    </a:moveTo>
                    <a:lnTo>
                      <a:pt x="10000" y="0"/>
                    </a:lnTo>
                    <a:lnTo>
                      <a:pt x="8776" y="10000"/>
                    </a:lnTo>
                    <a:lnTo>
                      <a:pt x="1224" y="102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62" name="圆角矩形 22"/>
              <p:cNvSpPr/>
              <p:nvPr/>
            </p:nvSpPr>
            <p:spPr>
              <a:xfrm>
                <a:off x="1825560" y="4202280"/>
                <a:ext cx="5471640" cy="217080"/>
              </a:xfrm>
              <a:custGeom>
                <a:avLst/>
                <a:gdLst>
                  <a:gd name="textAreaLeft" fmla="*/ 0 w 5471640"/>
                  <a:gd name="textAreaRight" fmla="*/ 5472000 w 547164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5472608" h="216771">
                    <a:moveTo>
                      <a:pt x="0" y="36005"/>
                    </a:moveTo>
                    <a:cubicBezTo>
                      <a:pt x="0" y="16120"/>
                      <a:pt x="16120" y="0"/>
                      <a:pt x="36005" y="0"/>
                    </a:cubicBezTo>
                    <a:lnTo>
                      <a:pt x="5436603" y="0"/>
                    </a:lnTo>
                    <a:cubicBezTo>
                      <a:pt x="5456488" y="0"/>
                      <a:pt x="5472608" y="16120"/>
                      <a:pt x="5472608" y="36005"/>
                    </a:cubicBezTo>
                    <a:lnTo>
                      <a:pt x="5436603" y="216024"/>
                    </a:lnTo>
                    <a:lnTo>
                      <a:pt x="36005" y="216024"/>
                    </a:lnTo>
                    <a:cubicBezTo>
                      <a:pt x="34779" y="228884"/>
                      <a:pt x="0" y="72009"/>
                      <a:pt x="0" y="36005"/>
                    </a:cubicBez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63" name="矩形 45"/>
            <p:cNvSpPr/>
            <p:nvPr/>
          </p:nvSpPr>
          <p:spPr>
            <a:xfrm rot="2700000">
              <a:off x="4264200" y="304560"/>
              <a:ext cx="444240" cy="382248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c00000"/>
                </a:solidFill>
                <a:latin typeface="Calibri"/>
                <a:ea typeface="宋体"/>
              </a:endParaRPr>
            </a:p>
          </p:txBody>
        </p:sp>
        <p:sp>
          <p:nvSpPr>
            <p:cNvPr id="164" name="矩形 46"/>
            <p:cNvSpPr/>
            <p:nvPr/>
          </p:nvSpPr>
          <p:spPr>
            <a:xfrm rot="18900000">
              <a:off x="4263840" y="304560"/>
              <a:ext cx="444240" cy="382248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c00000"/>
                </a:solidFill>
                <a:latin typeface="Calibri"/>
                <a:ea typeface="宋体"/>
              </a:endParaRPr>
            </a:p>
          </p:txBody>
        </p:sp>
        <p:sp>
          <p:nvSpPr>
            <p:cNvPr id="165" name="TextBox 47"/>
            <p:cNvSpPr/>
            <p:nvPr/>
          </p:nvSpPr>
          <p:spPr>
            <a:xfrm>
              <a:off x="3229920" y="1658880"/>
              <a:ext cx="2581560" cy="699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方正综艺简体"/>
                  <a:ea typeface="方正综艺简体"/>
                </a:rPr>
                <a:t>GET</a:t>
              </a:r>
              <a:r>
                <a:rPr b="0" lang="en-US" sz="4000" spc="-1" strike="noStrike">
                  <a:solidFill>
                    <a:srgbClr val="000000"/>
                  </a:solidFill>
                  <a:latin typeface="方正综艺简体"/>
                  <a:ea typeface="方正综艺简体"/>
                </a:rPr>
                <a:t> AWA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10"/>
          <p:cNvSpPr/>
          <p:nvPr/>
        </p:nvSpPr>
        <p:spPr>
          <a:xfrm>
            <a:off x="2998800" y="3549600"/>
            <a:ext cx="314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FROM  THE 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14"/>
          <p:cNvGrpSpPr/>
          <p:nvPr/>
        </p:nvGrpSpPr>
        <p:grpSpPr>
          <a:xfrm>
            <a:off x="-477720" y="-1189080"/>
            <a:ext cx="9815040" cy="7248240"/>
            <a:chOff x="-477720" y="-1189080"/>
            <a:chExt cx="9815040" cy="7248240"/>
          </a:xfrm>
        </p:grpSpPr>
        <p:sp>
          <p:nvSpPr>
            <p:cNvPr id="168" name="TextBox 35"/>
            <p:cNvSpPr/>
            <p:nvPr/>
          </p:nvSpPr>
          <p:spPr>
            <a:xfrm>
              <a:off x="383760" y="-1189080"/>
              <a:ext cx="1915560" cy="3731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39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3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6"/>
            <p:cNvSpPr/>
            <p:nvPr/>
          </p:nvSpPr>
          <p:spPr>
            <a:xfrm>
              <a:off x="-477720" y="755640"/>
              <a:ext cx="9815040" cy="3882600"/>
            </a:xfrm>
            <a:custGeom>
              <a:avLst/>
              <a:gdLst>
                <a:gd name="textAreaLeft" fmla="*/ 0 w 9815040"/>
                <a:gd name="textAreaRight" fmla="*/ 9815400 w 9815040"/>
                <a:gd name="textAreaTop" fmla="*/ 0 h 3882600"/>
                <a:gd name="textAreaBottom" fmla="*/ 3882960 h 3882600"/>
              </a:gdLst>
              <a:ahLst/>
              <a:rect l="textAreaLeft" t="textAreaTop" r="textAreaRight" b="textAreaBottom"/>
              <a:pathLst>
                <a:path w="9815540" h="3883179">
                  <a:moveTo>
                    <a:pt x="0" y="479885"/>
                  </a:moveTo>
                  <a:cubicBezTo>
                    <a:pt x="282756" y="483667"/>
                    <a:pt x="1313434" y="588836"/>
                    <a:pt x="2005218" y="509528"/>
                  </a:cubicBezTo>
                  <a:cubicBezTo>
                    <a:pt x="2697002" y="430220"/>
                    <a:pt x="3611433" y="-48649"/>
                    <a:pt x="4150706" y="4038"/>
                  </a:cubicBezTo>
                  <a:cubicBezTo>
                    <a:pt x="4689979" y="56725"/>
                    <a:pt x="5104109" y="239426"/>
                    <a:pt x="5240857" y="825648"/>
                  </a:cubicBezTo>
                  <a:cubicBezTo>
                    <a:pt x="5377605" y="1411870"/>
                    <a:pt x="5028125" y="1807927"/>
                    <a:pt x="5047392" y="2302171"/>
                  </a:cubicBezTo>
                  <a:cubicBezTo>
                    <a:pt x="5066659" y="2796415"/>
                    <a:pt x="5239101" y="3254257"/>
                    <a:pt x="5878973" y="3442768"/>
                  </a:cubicBezTo>
                  <a:cubicBezTo>
                    <a:pt x="6518845" y="3631279"/>
                    <a:pt x="8230531" y="3359834"/>
                    <a:pt x="8886625" y="3433236"/>
                  </a:cubicBezTo>
                  <a:cubicBezTo>
                    <a:pt x="9542719" y="3506638"/>
                    <a:pt x="9663140" y="3803350"/>
                    <a:pt x="9815540" y="3883179"/>
                  </a:cubicBezTo>
                </a:path>
              </a:pathLst>
            </a:custGeom>
            <a:noFill/>
            <a:ln w="6350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任意多边形 37"/>
            <p:cNvSpPr/>
            <p:nvPr/>
          </p:nvSpPr>
          <p:spPr>
            <a:xfrm>
              <a:off x="-401760" y="1860480"/>
              <a:ext cx="9550080" cy="2279160"/>
            </a:xfrm>
            <a:custGeom>
              <a:avLst/>
              <a:gdLst>
                <a:gd name="textAreaLeft" fmla="*/ 0 w 9550080"/>
                <a:gd name="textAreaRight" fmla="*/ 9550440 w 9550080"/>
                <a:gd name="textAreaTop" fmla="*/ 0 h 2279160"/>
                <a:gd name="textAreaBottom" fmla="*/ 2279520 h 2279160"/>
              </a:gdLst>
              <a:ahLst/>
              <a:rect l="textAreaLeft" t="textAreaTop" r="textAreaRight" b="textAreaBottom"/>
              <a:pathLst>
                <a:path w="9550400" h="2280204">
                  <a:moveTo>
                    <a:pt x="0" y="2220685"/>
                  </a:moveTo>
                  <a:cubicBezTo>
                    <a:pt x="305405" y="2142066"/>
                    <a:pt x="689429" y="1790095"/>
                    <a:pt x="1132115" y="1799771"/>
                  </a:cubicBezTo>
                  <a:cubicBezTo>
                    <a:pt x="1574801" y="1809447"/>
                    <a:pt x="2109410" y="2254553"/>
                    <a:pt x="2656114" y="2278743"/>
                  </a:cubicBezTo>
                  <a:cubicBezTo>
                    <a:pt x="3202818" y="2302933"/>
                    <a:pt x="3870475" y="2019904"/>
                    <a:pt x="4412342" y="1944914"/>
                  </a:cubicBezTo>
                  <a:cubicBezTo>
                    <a:pt x="4954209" y="1869924"/>
                    <a:pt x="5387521" y="1989969"/>
                    <a:pt x="5907314" y="1828800"/>
                  </a:cubicBezTo>
                  <a:cubicBezTo>
                    <a:pt x="6427107" y="1667631"/>
                    <a:pt x="7025519" y="1139220"/>
                    <a:pt x="7531100" y="977900"/>
                  </a:cubicBezTo>
                  <a:cubicBezTo>
                    <a:pt x="8036681" y="816580"/>
                    <a:pt x="8622619" y="1097340"/>
                    <a:pt x="8559799" y="1394278"/>
                  </a:cubicBezTo>
                  <a:cubicBezTo>
                    <a:pt x="8496979" y="1691216"/>
                    <a:pt x="8168972" y="1650999"/>
                    <a:pt x="8068582" y="1540328"/>
                  </a:cubicBezTo>
                  <a:cubicBezTo>
                    <a:pt x="7968192" y="1429657"/>
                    <a:pt x="7939087" y="1272721"/>
                    <a:pt x="8186057" y="1016000"/>
                  </a:cubicBezTo>
                  <a:cubicBezTo>
                    <a:pt x="8433027" y="759279"/>
                    <a:pt x="9032573" y="117021"/>
                    <a:pt x="9550400" y="0"/>
                  </a:cubicBezTo>
                </a:path>
              </a:pathLst>
            </a:custGeom>
            <a:noFill/>
            <a:ln w="6350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1" name="任意多边形 49"/>
            <p:cNvSpPr/>
            <p:nvPr/>
          </p:nvSpPr>
          <p:spPr>
            <a:xfrm>
              <a:off x="4156200" y="-92160"/>
              <a:ext cx="1850760" cy="560844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5608440"/>
                <a:gd name="textAreaBottom" fmla="*/ 5608800 h 5608440"/>
              </a:gdLst>
              <a:ahLst/>
              <a:rect l="textAreaLeft" t="textAreaTop" r="textAreaRight" b="textAreaBottom"/>
              <a:pathLst>
                <a:path w="1851470" h="5609055">
                  <a:moveTo>
                    <a:pt x="0" y="0"/>
                  </a:moveTo>
                  <a:cubicBezTo>
                    <a:pt x="355599" y="222552"/>
                    <a:pt x="711199" y="445105"/>
                    <a:pt x="899885" y="841829"/>
                  </a:cubicBezTo>
                  <a:cubicBezTo>
                    <a:pt x="1088571" y="1238553"/>
                    <a:pt x="991775" y="1940962"/>
                    <a:pt x="1132114" y="2380343"/>
                  </a:cubicBezTo>
                  <a:cubicBezTo>
                    <a:pt x="1272453" y="2819724"/>
                    <a:pt x="1648973" y="3095972"/>
                    <a:pt x="1741919" y="3478113"/>
                  </a:cubicBezTo>
                  <a:cubicBezTo>
                    <a:pt x="1834865" y="3860254"/>
                    <a:pt x="1955340" y="4318034"/>
                    <a:pt x="1689790" y="4673191"/>
                  </a:cubicBezTo>
                  <a:cubicBezTo>
                    <a:pt x="1424240" y="5028348"/>
                    <a:pt x="148618" y="5609055"/>
                    <a:pt x="148618" y="5609055"/>
                  </a:cubicBezTo>
                </a:path>
              </a:pathLst>
            </a:custGeom>
            <a:noFill/>
            <a:ln w="6350">
              <a:solidFill>
                <a:srgbClr val="ffffff">
                  <a:lumMod val="6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2" name="任意多边形 50"/>
            <p:cNvSpPr/>
            <p:nvPr/>
          </p:nvSpPr>
          <p:spPr>
            <a:xfrm>
              <a:off x="168120" y="912960"/>
              <a:ext cx="8329320" cy="5146200"/>
            </a:xfrm>
            <a:custGeom>
              <a:avLst/>
              <a:gdLst>
                <a:gd name="textAreaLeft" fmla="*/ 0 w 8329320"/>
                <a:gd name="textAreaRight" fmla="*/ 8329680 w 8329320"/>
                <a:gd name="textAreaTop" fmla="*/ 0 h 5146200"/>
                <a:gd name="textAreaBottom" fmla="*/ 5146560 h 5146200"/>
              </a:gdLst>
              <a:ahLst/>
              <a:rect l="textAreaLeft" t="textAreaTop" r="textAreaRight" b="textAreaBottom"/>
              <a:pathLst>
                <a:path w="8328950" h="5147665">
                  <a:moveTo>
                    <a:pt x="0" y="5147665"/>
                  </a:moveTo>
                  <a:cubicBezTo>
                    <a:pt x="391281" y="4630594"/>
                    <a:pt x="1108528" y="3884317"/>
                    <a:pt x="2073728" y="3516622"/>
                  </a:cubicBezTo>
                  <a:cubicBezTo>
                    <a:pt x="3038928" y="3148927"/>
                    <a:pt x="4958915" y="3351960"/>
                    <a:pt x="5791199" y="2941493"/>
                  </a:cubicBezTo>
                  <a:cubicBezTo>
                    <a:pt x="6623484" y="2531026"/>
                    <a:pt x="6629963" y="1703725"/>
                    <a:pt x="7067435" y="1053818"/>
                  </a:cubicBezTo>
                  <a:cubicBezTo>
                    <a:pt x="7504907" y="403911"/>
                    <a:pt x="8246702" y="6047"/>
                    <a:pt x="8328950" y="0"/>
                  </a:cubicBezTo>
                </a:path>
              </a:pathLst>
            </a:custGeom>
            <a:noFill/>
            <a:ln w="3175"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6c0000"/>
                </a:solidFill>
                <a:latin typeface="Calibri"/>
                <a:ea typeface="宋体"/>
              </a:endParaRPr>
            </a:p>
          </p:txBody>
        </p:sp>
        <p:pic>
          <p:nvPicPr>
            <p:cNvPr id="173" name="Picture 2" descr="D:\Betsy葛\1\铅笔.png"/>
            <p:cNvPicPr/>
            <p:nvPr/>
          </p:nvPicPr>
          <p:blipFill>
            <a:blip r:embed="rId1"/>
            <a:stretch/>
          </p:blipFill>
          <p:spPr>
            <a:xfrm rot="2466000">
              <a:off x="416160" y="2323440"/>
              <a:ext cx="343440" cy="180648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277" nodeType="after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2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7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7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7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67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2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97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3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680" fill="hold"/>
                                        <p:tgtEl>
                                          <p:spTgt spid="155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25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5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25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5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6"/>
          <p:cNvSpPr/>
          <p:nvPr/>
        </p:nvSpPr>
        <p:spPr>
          <a:xfrm>
            <a:off x="1692360" y="3003480"/>
            <a:ext cx="547200" cy="9363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5" name="矩形 7"/>
          <p:cNvSpPr/>
          <p:nvPr/>
        </p:nvSpPr>
        <p:spPr>
          <a:xfrm>
            <a:off x="2340000" y="3003480"/>
            <a:ext cx="70920" cy="115200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6" name="矩形 8"/>
          <p:cNvSpPr/>
          <p:nvPr/>
        </p:nvSpPr>
        <p:spPr>
          <a:xfrm>
            <a:off x="2511360" y="3003480"/>
            <a:ext cx="547200" cy="16552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7" name="矩形 9"/>
          <p:cNvSpPr/>
          <p:nvPr/>
        </p:nvSpPr>
        <p:spPr>
          <a:xfrm>
            <a:off x="3276720" y="3003480"/>
            <a:ext cx="43920" cy="14396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3419640" y="3003480"/>
            <a:ext cx="55080" cy="244764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9" name="矩形 15"/>
          <p:cNvSpPr/>
          <p:nvPr/>
        </p:nvSpPr>
        <p:spPr>
          <a:xfrm>
            <a:off x="4859280" y="3003480"/>
            <a:ext cx="383760" cy="3664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0" name="矩形 16"/>
          <p:cNvSpPr/>
          <p:nvPr/>
        </p:nvSpPr>
        <p:spPr>
          <a:xfrm>
            <a:off x="5400720" y="3003480"/>
            <a:ext cx="382320" cy="366480"/>
          </a:xfrm>
          <a:prstGeom prst="rect">
            <a:avLst/>
          </a:prstGeom>
          <a:solidFill>
            <a:srgbClr val="c80a14"/>
          </a:solidFill>
          <a:ln>
            <a:solidFill>
              <a:srgbClr val="c80a14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c00000"/>
              </a:solidFill>
              <a:latin typeface="Calibri"/>
              <a:ea typeface="宋体"/>
            </a:endParaRPr>
          </a:p>
        </p:txBody>
      </p:sp>
      <p:sp>
        <p:nvSpPr>
          <p:cNvPr id="181" name="矩形 17"/>
          <p:cNvSpPr/>
          <p:nvPr/>
        </p:nvSpPr>
        <p:spPr>
          <a:xfrm>
            <a:off x="5940360" y="3003480"/>
            <a:ext cx="382320" cy="3664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2" name="矩形 18"/>
          <p:cNvSpPr/>
          <p:nvPr/>
        </p:nvSpPr>
        <p:spPr>
          <a:xfrm>
            <a:off x="6480000" y="3003480"/>
            <a:ext cx="382320" cy="3664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3" name="矩形 19"/>
          <p:cNvSpPr/>
          <p:nvPr/>
        </p:nvSpPr>
        <p:spPr>
          <a:xfrm>
            <a:off x="7020000" y="3003480"/>
            <a:ext cx="468000" cy="9363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4" name="TextBox 21"/>
          <p:cNvSpPr/>
          <p:nvPr/>
        </p:nvSpPr>
        <p:spPr>
          <a:xfrm>
            <a:off x="1666080" y="2211480"/>
            <a:ext cx="1096920" cy="54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QU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2853000" y="2211480"/>
            <a:ext cx="1764720" cy="54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BE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" hidden="1"/>
          <p:cNvSpPr/>
          <p:nvPr/>
        </p:nvSpPr>
        <p:spPr>
          <a:xfrm>
            <a:off x="4724640" y="2211480"/>
            <a:ext cx="2020680" cy="54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YOUR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4" hidden="1"/>
          <p:cNvSpPr/>
          <p:nvPr/>
        </p:nvSpPr>
        <p:spPr>
          <a:xfrm>
            <a:off x="6870240" y="2227320"/>
            <a:ext cx="688680" cy="54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6" hidden="1"/>
          <p:cNvSpPr/>
          <p:nvPr/>
        </p:nvSpPr>
        <p:spPr>
          <a:xfrm>
            <a:off x="1603800" y="1879560"/>
            <a:ext cx="2265840" cy="446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7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6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30"/>
          <p:cNvGrpSpPr/>
          <p:nvPr/>
        </p:nvGrpSpPr>
        <p:grpSpPr>
          <a:xfrm>
            <a:off x="856800" y="1635120"/>
            <a:ext cx="819720" cy="2742840"/>
            <a:chOff x="856800" y="1635120"/>
            <a:chExt cx="819720" cy="2742840"/>
          </a:xfrm>
        </p:grpSpPr>
        <p:sp>
          <p:nvSpPr>
            <p:cNvPr id="190" name="TextBox 28"/>
            <p:cNvSpPr/>
            <p:nvPr/>
          </p:nvSpPr>
          <p:spPr>
            <a:xfrm>
              <a:off x="856800" y="1635120"/>
              <a:ext cx="819720" cy="1430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8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5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29"/>
            <p:cNvSpPr/>
            <p:nvPr/>
          </p:nvSpPr>
          <p:spPr>
            <a:xfrm>
              <a:off x="984240" y="2938320"/>
              <a:ext cx="506160" cy="1439640"/>
            </a:xfrm>
            <a:prstGeom prst="rect">
              <a:avLst/>
            </a:prstGeom>
            <a:solidFill>
              <a:srgbClr val="000000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92" name="矩形 27"/>
          <p:cNvSpPr/>
          <p:nvPr/>
        </p:nvSpPr>
        <p:spPr>
          <a:xfrm>
            <a:off x="4465800" y="1419120"/>
            <a:ext cx="576000" cy="57600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93" name="组合 32"/>
          <p:cNvGrpSpPr/>
          <p:nvPr/>
        </p:nvGrpSpPr>
        <p:grpSpPr>
          <a:xfrm>
            <a:off x="5130720" y="843120"/>
            <a:ext cx="144360" cy="1152000"/>
            <a:chOff x="5130720" y="843120"/>
            <a:chExt cx="144360" cy="1152000"/>
          </a:xfrm>
        </p:grpSpPr>
        <p:sp>
          <p:nvSpPr>
            <p:cNvPr id="194" name="矩形 33"/>
            <p:cNvSpPr/>
            <p:nvPr/>
          </p:nvSpPr>
          <p:spPr>
            <a:xfrm>
              <a:off x="5130720" y="843120"/>
              <a:ext cx="72720" cy="1152000"/>
            </a:xfrm>
            <a:prstGeom prst="rect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5" name="矩形 34"/>
            <p:cNvSpPr/>
            <p:nvPr/>
          </p:nvSpPr>
          <p:spPr>
            <a:xfrm>
              <a:off x="5167440" y="1419120"/>
              <a:ext cx="107640" cy="576000"/>
            </a:xfrm>
            <a:prstGeom prst="rect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cxnSp>
        <p:nvCxnSpPr>
          <p:cNvPr id="196" name="直接连接符 35"/>
          <p:cNvCxnSpPr/>
          <p:nvPr/>
        </p:nvCxnSpPr>
        <p:spPr>
          <a:xfrm>
            <a:off x="5329080" y="842760"/>
            <a:ext cx="360" cy="115308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5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34568E-006 L 0.01198 2.34568E-006 E">
                                      <p:cBhvr>
                                        <p:cTn id="35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17 2.22045E-016 L -4.16667E-006 2.22045E-016 E">
                                      <p:cBhvr>
                                        <p:cTn id="354" dur="2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3 -3.08642E-006 L 0.01128 -3.08642E-006 E">
                                      <p:cBhvr>
                                        <p:cTn id="360" dur="2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2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2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2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2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2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2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2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2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4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-1316160" y="-523800"/>
            <a:ext cx="9315000" cy="9315000"/>
          </a:xfrm>
          <a:prstGeom prst="rect">
            <a:avLst/>
          </a:prstGeom>
          <a:ln w="9525">
            <a:noFill/>
          </a:ln>
        </p:spPr>
      </p:pic>
      <p:pic>
        <p:nvPicPr>
          <p:cNvPr id="198" name="Picture 3" descr="D:\Betsy葛\1\白线字体.png"/>
          <p:cNvPicPr/>
          <p:nvPr/>
        </p:nvPicPr>
        <p:blipFill>
          <a:blip r:embed="rId2"/>
          <a:stretch/>
        </p:blipFill>
        <p:spPr>
          <a:xfrm>
            <a:off x="5388120" y="2279520"/>
            <a:ext cx="3107880" cy="363240"/>
          </a:xfrm>
          <a:prstGeom prst="rect">
            <a:avLst/>
          </a:prstGeom>
          <a:ln w="9525">
            <a:noFill/>
          </a:ln>
        </p:spPr>
      </p:pic>
      <p:sp>
        <p:nvSpPr>
          <p:cNvPr id="199" name="TextBox 3"/>
          <p:cNvSpPr/>
          <p:nvPr/>
        </p:nvSpPr>
        <p:spPr>
          <a:xfrm>
            <a:off x="1809360" y="1879560"/>
            <a:ext cx="2264400" cy="446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7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6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4900680" y="2028960"/>
            <a:ext cx="3438000" cy="858600"/>
          </a:xfrm>
          <a:prstGeom prst="rect">
            <a:avLst/>
          </a:prstGeom>
          <a:ln w="9525">
            <a:noFill/>
          </a:ln>
        </p:spPr>
      </p:pic>
      <p:pic>
        <p:nvPicPr>
          <p:cNvPr id="201" name="Picture 11" descr="C:\Documents and Settings\Administrator\桌面\55.png"/>
          <p:cNvPicPr/>
          <p:nvPr/>
        </p:nvPicPr>
        <p:blipFill>
          <a:blip r:embed="rId4"/>
          <a:stretch/>
        </p:blipFill>
        <p:spPr>
          <a:xfrm>
            <a:off x="9404280" y="2152800"/>
            <a:ext cx="1566360" cy="267840"/>
          </a:xfrm>
          <a:prstGeom prst="rect">
            <a:avLst/>
          </a:prstGeom>
          <a:ln w="9525">
            <a:noFill/>
          </a:ln>
        </p:spPr>
      </p:pic>
    </p:spTree>
  </p:cSld>
  <p:transition spd="slow" advTm="0">
    <p:push dir="u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14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25" dur="2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4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00000">
                                      <p:cBhvr>
                                        <p:cTn id="428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4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31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8" repeatCount="2000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433" dur="2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8" repeatCount="2000">
                                  <p:stCondLst>
                                    <p:cond delay="250"/>
                                  </p:stCondLst>
                                  <p:childTnLst>
                                    <p:animRot by="-21600000">
                                      <p:cBhvr>
                                        <p:cTn id="435" dur="187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"/>
          <p:cNvSpPr/>
          <p:nvPr/>
        </p:nvSpPr>
        <p:spPr>
          <a:xfrm>
            <a:off x="-17280" y="1577880"/>
            <a:ext cx="2680560" cy="533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44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7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185400" y="1854360"/>
            <a:ext cx="11124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1284120" y="1854360"/>
            <a:ext cx="32000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IN THE SH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D:\Betsy葛\1\未标题-2.png"/>
          <p:cNvPicPr/>
          <p:nvPr/>
        </p:nvPicPr>
        <p:blipFill>
          <a:blip r:embed="rId1"/>
          <a:stretch/>
        </p:blipFill>
        <p:spPr>
          <a:xfrm rot="411600">
            <a:off x="4644720" y="88560"/>
            <a:ext cx="3587400" cy="6251040"/>
          </a:xfrm>
          <a:prstGeom prst="rect">
            <a:avLst/>
          </a:prstGeom>
          <a:ln w="9525">
            <a:noFill/>
          </a:ln>
        </p:spPr>
      </p:pic>
      <p:pic>
        <p:nvPicPr>
          <p:cNvPr id="206" name="Picture 2" descr="D:\Betsy葛\1\花洒.png"/>
          <p:cNvPicPr/>
          <p:nvPr/>
        </p:nvPicPr>
        <p:blipFill>
          <a:blip r:embed="rId2"/>
          <a:stretch/>
        </p:blipFill>
        <p:spPr>
          <a:xfrm rot="2113200">
            <a:off x="7910280" y="-217440"/>
            <a:ext cx="1066320" cy="79164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6" descr="D:\Betsy葛\1\音乐符.png"/>
          <p:cNvPicPr/>
          <p:nvPr/>
        </p:nvPicPr>
        <p:blipFill>
          <a:blip r:embed="rId3"/>
          <a:stretch/>
        </p:blipFill>
        <p:spPr>
          <a:xfrm rot="19249200">
            <a:off x="4592520" y="7026120"/>
            <a:ext cx="414000" cy="612360"/>
          </a:xfrm>
          <a:prstGeom prst="rect">
            <a:avLst/>
          </a:prstGeom>
          <a:ln w="9525">
            <a:noFill/>
          </a:ln>
        </p:spPr>
      </p:pic>
      <p:pic>
        <p:nvPicPr>
          <p:cNvPr id="208" name="Picture 7" descr="D:\Betsy葛\1\黑色的音乐符.png"/>
          <p:cNvPicPr/>
          <p:nvPr/>
        </p:nvPicPr>
        <p:blipFill>
          <a:blip r:embed="rId4"/>
          <a:stretch/>
        </p:blipFill>
        <p:spPr>
          <a:xfrm rot="13964400">
            <a:off x="4665600" y="7404120"/>
            <a:ext cx="444240" cy="657000"/>
          </a:xfrm>
          <a:prstGeom prst="rect">
            <a:avLst/>
          </a:prstGeom>
          <a:ln w="9525">
            <a:noFill/>
          </a:ln>
        </p:spPr>
      </p:pic>
      <p:pic>
        <p:nvPicPr>
          <p:cNvPr id="209" name="Picture 7" descr="D:\Betsy葛\1\黑色的音乐符.png"/>
          <p:cNvPicPr/>
          <p:nvPr/>
        </p:nvPicPr>
        <p:blipFill>
          <a:blip r:embed="rId5"/>
          <a:stretch/>
        </p:blipFill>
        <p:spPr>
          <a:xfrm>
            <a:off x="6873840" y="6742080"/>
            <a:ext cx="657000" cy="444240"/>
          </a:xfrm>
          <a:prstGeom prst="rect">
            <a:avLst/>
          </a:prstGeom>
          <a:ln w="9525">
            <a:noFill/>
          </a:ln>
        </p:spPr>
      </p:pic>
      <p:pic>
        <p:nvPicPr>
          <p:cNvPr id="210" name="Picture 7" descr="D:\Betsy葛\1\黑色的音乐符.png"/>
          <p:cNvPicPr/>
          <p:nvPr/>
        </p:nvPicPr>
        <p:blipFill>
          <a:blip r:embed="rId6"/>
          <a:stretch/>
        </p:blipFill>
        <p:spPr>
          <a:xfrm rot="18320400">
            <a:off x="4367160" y="7502760"/>
            <a:ext cx="444240" cy="657000"/>
          </a:xfrm>
          <a:prstGeom prst="rect">
            <a:avLst/>
          </a:prstGeom>
          <a:ln w="9525">
            <a:noFill/>
          </a:ln>
        </p:spPr>
      </p:pic>
      <p:grpSp>
        <p:nvGrpSpPr>
          <p:cNvPr id="211" name="组合 4"/>
          <p:cNvGrpSpPr/>
          <p:nvPr/>
        </p:nvGrpSpPr>
        <p:grpSpPr>
          <a:xfrm>
            <a:off x="2847240" y="1855080"/>
            <a:ext cx="4732200" cy="3078360"/>
            <a:chOff x="2847240" y="1855080"/>
            <a:chExt cx="4732200" cy="3078360"/>
          </a:xfrm>
        </p:grpSpPr>
        <p:sp>
          <p:nvSpPr>
            <p:cNvPr id="212" name="椭圆 2"/>
            <p:cNvSpPr/>
            <p:nvPr/>
          </p:nvSpPr>
          <p:spPr>
            <a:xfrm>
              <a:off x="2847240" y="1855080"/>
              <a:ext cx="3266280" cy="2736000"/>
            </a:xfrm>
            <a:prstGeom prst="ellipse">
              <a:avLst/>
            </a:prstGeom>
            <a:solidFill>
              <a:schemeClr val="bg1">
                <a:alpha val="85000"/>
              </a:schemeClr>
            </a:solidFill>
            <a:ln>
              <a:noFill/>
            </a:ln>
            <a:effectLst>
              <a:softEdge rad="6350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grpSp>
          <p:nvGrpSpPr>
            <p:cNvPr id="213" name="组合 3"/>
            <p:cNvGrpSpPr/>
            <p:nvPr/>
          </p:nvGrpSpPr>
          <p:grpSpPr>
            <a:xfrm>
              <a:off x="3170160" y="2160720"/>
              <a:ext cx="4409280" cy="2772720"/>
              <a:chOff x="3170160" y="2160720"/>
              <a:chExt cx="4409280" cy="2772720"/>
            </a:xfrm>
          </p:grpSpPr>
          <p:sp>
            <p:nvSpPr>
              <p:cNvPr id="214" name="椭圆 11"/>
              <p:cNvSpPr/>
              <p:nvPr/>
            </p:nvSpPr>
            <p:spPr>
              <a:xfrm>
                <a:off x="3170160" y="2722680"/>
                <a:ext cx="3624840" cy="2210760"/>
              </a:xfrm>
              <a:prstGeom prst="ellipse">
                <a:avLst/>
              </a:prstGeom>
              <a:solidFill>
                <a:schemeClr val="bg1">
                  <a:alpha val="85000"/>
                </a:schemeClr>
              </a:solidFill>
              <a:ln>
                <a:noFill/>
              </a:ln>
              <a:effectLst>
                <a:softEdge rad="635040"/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15" name="椭圆 12"/>
              <p:cNvSpPr/>
              <p:nvPr/>
            </p:nvSpPr>
            <p:spPr>
              <a:xfrm>
                <a:off x="4513320" y="2160720"/>
                <a:ext cx="3066120" cy="2185560"/>
              </a:xfrm>
              <a:prstGeom prst="ellipse">
                <a:avLst/>
              </a:prstGeom>
              <a:solidFill>
                <a:schemeClr val="bg1">
                  <a:alpha val="85000"/>
                </a:schemeClr>
              </a:solidFill>
              <a:ln>
                <a:noFill/>
              </a:ln>
              <a:effectLst>
                <a:softEdge rad="635040"/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216" name="椭圆 23"/>
          <p:cNvSpPr/>
          <p:nvPr/>
        </p:nvSpPr>
        <p:spPr>
          <a:xfrm flipH="1">
            <a:off x="4536360" y="1833120"/>
            <a:ext cx="2797920" cy="2249280"/>
          </a:xfrm>
          <a:prstGeom prst="ellipse">
            <a:avLst/>
          </a:prstGeom>
          <a:solidFill>
            <a:schemeClr val="bg1">
              <a:alpha val="50000"/>
            </a:scheme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p:transition spd="med" advTm="0"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path" presetID="42" repeatCount="2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19 -0.04938 L -3.61111E-006 -4.44444E-006 E">
                                      <p:cBhvr>
                                        <p:cTn id="463" dur="2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0.15123 C 0.02222 0.12685 0.01858 0.11852 0.01354 0.09876 C 0.01285 0.06296 -0.00521 -0.09136 0.00278 -0.15402 C 0.01076 -0.21698 0.04913 -0.22778 0.06111 -0.2784 C 0.07812 -0.33704 0.06128 -0.41574 0.07465 -0.45895 C 0.08802 -0.50185 0.13681 -0.50587 0.14184 -0.53611 C 0.14687 -0.56605 0.10833 -0.60432 0.10486 -0.6392 C 0.10139 -0.67377 0.12431 -0.71574 0.12153 -0.74476 E">
                                      <p:cBhvr>
                                        <p:cTn id="465" dur="4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467" dur="4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305 -0.01421 C -0.09444 -0.03244 -0.09652 -0.04974 -0.09878 -0.06704 C -0.10312 -0.10875 -0.12448 -0.18258 -0.11632 -0.2283 C -0.10816 -0.27402 -0.06927 -0.30831 -0.04965 -0.34137 C -0.03003 -0.37442 -0.00382 -0.38987 0.00122 -0.42601 C 0.00625 -0.46216 -0.02743 -0.51406 -0.01944 -0.55885 C -0.01145 -0.60365 0.0349 -0.66636 0.04914 -0.69478 E">
                                      <p:cBhvr>
                                        <p:cTn id="469" dur="32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71" dur="4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2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34568E-006 C -0.00139 -0.01821 -0.00348 -0.03549 -0.00573 -0.05278 C -0.01007 -0.09444 -0.01476 -0.19444 -0.00573 -0.26512 C 0.00017 -0.33673 0.00503 -0.4145 0.02968 -0.48364 C 0.05434 -0.55278 0.11875 -0.6392 0.14218 -0.67994 E">
                                      <p:cBhvr>
                                        <p:cTn id="473" dur="32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75" dur="2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77" dur="2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8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05 -0.04016 C -0.05503 -0.07661 -0.05608 -0.12419 -0.06962 -0.17887 C -0.07292 -0.211 -0.07465 -0.23695 -0.0717 -0.27 C -0.06719 -0.3151 -0.03976 -0.36083 -0.01788 -0.38492 C -0.00972 -0.39357 0.00104 -0.39295 0.00903 -0.4016 C 0.01111 -0.40377 0.01319 -0.40624 0.01528 -0.4084 C 0.02066 -0.41303 0.02674 -0.41674 0.03177 -0.42199 C 0.03889 -0.42879 0.04549 -0.43559 0.0526 -0.44207 C 0.0559 -0.44547 0.06285 -0.45227 0.06285 -0.45196 C 0.0691 -0.46741 0.08889 -0.49428 0.09809 -0.50417 C 0.1033 -0.53135 0.09878 -0.57491 0.09392 -0.61446 C 0.08698 -0.6472 0.0592 -0.68767 0.05677 -0.72598 C 0.05677 -0.75749 0.0592 -0.81526 0.07951 -0.84399 C 0.10017 -0.88384 0.14826 -0.89434 0.17882 -0.89805 C 0.20781 -0.90979 0.24687 -0.87396 0.26788 -0.90825 E">
                                      <p:cBhvr>
                                        <p:cTn id="479" dur="4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3600000">
                                      <p:cBhvr>
                                        <p:cTn id="481" dur="3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3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495" dur="1600" fill="hold"/>
                                        <p:tgtEl>
                                          <p:spTgt spid="211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497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03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2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2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2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2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1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2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2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2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2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自定义 6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900000"/>
      </a:hlink>
      <a:folHlink>
        <a:srgbClr val="5f006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自定义 6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900000"/>
      </a:hlink>
      <a:folHlink>
        <a:srgbClr val="5f006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900000"/>
      </a:hlink>
      <a:folHlink>
        <a:srgbClr val="5f006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8</TotalTime>
  <Application>LibreOffice/7.4.7.2$Linux_X86_64 LibreOffice_project/40$Build-2</Application>
  <AppVersion>15.0000</AppVersion>
  <Words>524</Words>
  <Paragraphs>191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2:50:14Z</dcterms:created>
  <dc:creator>锐普PPT</dc:creator>
  <dc:description/>
  <dc:language>en-US</dc:language>
  <cp:lastModifiedBy>yu wang</cp:lastModifiedBy>
  <dcterms:modified xsi:type="dcterms:W3CDTF">2015-08-14T12:49:30Z</dcterms:modified>
  <cp:revision>4</cp:revision>
  <dc:subject/>
  <dc:title>锐普PPT设计师习作-保持创意的29个习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4</vt:r8>
  </property>
  <property fmtid="{D5CDD505-2E9C-101B-9397-08002B2CF9AE}" pid="4" name="PresentationFormat">
    <vt:lpwstr>全屏显示(16:9)</vt:lpwstr>
  </property>
  <property fmtid="{D5CDD505-2E9C-101B-9397-08002B2CF9AE}" pid="5" name="Slides">
    <vt:r8>32</vt:r8>
  </property>
</Properties>
</file>