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439A-87FB-491E-ADFD-D20C1409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8F6E-D582-40E8-A788-E02DBB00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6279-971F-4D03-A8A4-188938AE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D6B-0864-4491-8FC1-CABF3DC1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DA89-0060-4B88-8823-D42274B9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F8D7-7745-419E-9A01-89D9DD7E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A1E1-D180-4432-AEB1-95E75AA7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BD9C-7431-49FD-8CA6-F5C69F97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56F6-C16C-4D65-8423-385BB495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25CE-8DAE-4583-85F4-0DB22036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031-975E-4199-A768-B939A7B4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611-51F3-45A5-B89F-2FC538C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71CD-05E8-4A7F-8F7F-3460BB7D1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71640" y="3214800"/>
            <a:ext cx="71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创意地球环球企业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00240" y="392904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企业商务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862200" y="857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/>
          <p:cNvSpPr/>
          <p:nvPr/>
        </p:nvSpPr>
        <p:spPr>
          <a:xfrm>
            <a:off x="4283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2068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1408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140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6355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23547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97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49768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5640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87760" y="976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99780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21252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265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16120" y="9050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28356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7121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7835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2071800" y="35719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3549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628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28364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161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286000" y="3643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354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6212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41407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79092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43549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67125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156888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86220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837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3214800" y="45007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933840" y="9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4640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97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66409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3569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566640" y="638172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yu wang</cp:lastModifiedBy>
  <dcterms:modified xsi:type="dcterms:W3CDTF">2015-08-14T12:49:55Z</dcterms:modified>
  <cp:revision>42</cp:revision>
  <dc:subject/>
  <dc:title>www.pptbz.com</dc:title>
</cp:coreProperties>
</file>