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92C-DB58-41C0-9971-7F0E52BE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F1BF-9A03-4637-8508-CE525DCA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A6BD-6716-4034-9FDD-C59E15F6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9F7C-727A-41DC-9006-5C40F15D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C3F2-7CCD-43D6-A021-FBA4B7E7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490C-63B2-4DDA-BC92-9855533B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2116-7E18-4239-9683-FF851FE2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D5C6-DD12-4966-A995-991CFA68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E9C5-519E-4116-A8AF-714537248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AF94-73B2-40C4-B95D-5883D08A0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65AA-A8A6-4A6F-B47F-8CD91C76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7B3F-A156-4369-9974-9294B198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1785-D98F-4752-AB98-D6616A63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D5F0-00AA-4C5D-873E-515C06E4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1C77-8C7E-49C1-9EC7-B06CD22C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5E50-F406-4741-9888-0AC3D0F4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267B8-2C6E-452D-BC0B-D7B7156D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6BA3-3AE8-4CB2-BC17-6EDAA2EB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359-7CCF-4AC0-8D86-78D03241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F113-D5AD-420B-A9C4-A86454A7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27A-5B20-40FE-B1FF-D3242B91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0D68-D7CF-4475-8C14-4089BDFF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C14D-09A9-4363-A175-020FC144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14A6-A4B8-4B65-A550-97C86C68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94C9F3C-8BE5-4B13-9AC5-D08BD5BDC39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D275A1B-1CF4-4506-BDEB-4A7F731FF3F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2330640" y="4943520"/>
            <a:ext cx="497664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创意书架艺术设计</a:t>
            </a:r>
            <a:r>
              <a:rPr b="0" lang="en-US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822840" y="5723280"/>
            <a:ext cx="23756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适用于简约创意主题及相关类别演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4" name="直接连接符 3"/>
          <p:cNvCxnSpPr/>
          <p:nvPr/>
        </p:nvCxnSpPr>
        <p:spPr>
          <a:xfrm>
            <a:off x="2123640" y="5651280"/>
            <a:ext cx="5297400" cy="360"/>
          </a:xfrm>
          <a:prstGeom prst="straightConnector1">
            <a:avLst/>
          </a:prstGeom>
          <a:ln w="38100">
            <a:solidFill>
              <a:srgbClr val="ffffff"/>
            </a:solidFill>
            <a:round/>
          </a:ln>
        </p:spPr>
      </p:cxn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4143240" y="1149480"/>
            <a:ext cx="12139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矩形 2"/>
          <p:cNvSpPr/>
          <p:nvPr/>
        </p:nvSpPr>
        <p:spPr>
          <a:xfrm>
            <a:off x="4711680" y="234468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4711680" y="314316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4711680" y="392904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4783320" y="4773600"/>
            <a:ext cx="100404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  <Words>177</Words>
  <Paragraphs>3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u wang</cp:lastModifiedBy>
  <dcterms:modified xsi:type="dcterms:W3CDTF">2015-08-14T12:49:5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