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2A0-BE52-44D1-8AF5-6919B19F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C17-4F09-41FE-BD89-73B9186F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B94-AEA6-4D90-9F1E-EECAF8D9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60C-50B5-455F-9C2A-7996DD7A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3639-3048-4365-8D91-BA8A5893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C3CC-5993-4031-B6FF-4DD82B9B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B621-187E-47A1-B126-DC7C6FE5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9AEA-8786-48C3-8173-06D0E5DD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6AF1-55CB-4E21-AB5E-147DE9C6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0E1F-6C64-4994-B85C-2129AFC4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67BC-BE6D-41CA-BCA5-0C60EDB5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93E-FFEE-4E1E-A215-87AF7ED4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70EC-A2A9-4D36-B0C4-72E7C8EB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1E12-1D00-4005-B6FC-5C8C3C63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594B-DA47-4132-B542-C5A84159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D073-1E41-4275-8DE4-6D97D01C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7935-6465-4D6A-AA95-49B692A8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CDF-3EEE-4750-BD28-C49980A2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4ED-2975-431E-B447-91DBF488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6B3-B598-4FDB-AA67-C8F05A97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2FA-A17D-460D-906D-183EB223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9DB-E412-47CF-A705-D2EF17E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20C-BA1D-4BB5-8754-EF86CDE8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981-C468-4D74-8489-B41415A8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BCC314-6521-4319-8FDB-79EA3538789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121FF0-C301-4A6B-9715-C2445DA167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107080" y="4943520"/>
            <a:ext cx="55861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创意书架艺术设计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822840" y="5723280"/>
            <a:ext cx="237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简约创意主题及相关类别演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" name="直接连接符 3"/>
          <p:cNvCxnSpPr/>
          <p:nvPr/>
        </p:nvCxnSpPr>
        <p:spPr>
          <a:xfrm>
            <a:off x="2123640" y="5651280"/>
            <a:ext cx="529740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143240" y="1149480"/>
            <a:ext cx="1213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471168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711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7116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78332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8064000" y="-540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  <Words>262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1:0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