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51435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82165BD-F5DE-4706-9AF4-BB3F713033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E88A7EB-954F-4F4A-B384-E8750F984E7C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8248-59D0-4B6A-AF5D-A0398D7B5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24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2880"/>
            <a:ext cx="822924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BCF5-5614-4274-B022-15DA828A0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2880"/>
            <a:ext cx="40158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2880"/>
            <a:ext cx="40158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9F4B-F5E3-4BFD-B5AA-5E20E663A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2880"/>
            <a:ext cx="26496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2880"/>
            <a:ext cx="26496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2880"/>
            <a:ext cx="26496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171B-ECC3-4CE6-942A-EB08D671D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15E10-A96C-4D16-A6CE-8F3290A64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24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340BF-FC53-45B5-8D16-73A594006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24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6C0A9-80B3-4FA5-9809-F979FA5C9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948FF-B4A4-4195-BCD3-3AE394338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51C88-DBB9-468B-AA90-6A1159946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240" cy="397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EE8D4-C818-455B-9C32-0CCA3BEE0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2972880"/>
            <a:ext cx="40158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31308-B3BC-4BC2-8AB7-4E9B1C377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24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2CDA-2F13-4EA9-B178-214A424F1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2972880"/>
            <a:ext cx="40158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A29AD-A404-4512-8144-5F31B8839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2972880"/>
            <a:ext cx="822924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3E1ED-EE46-4942-9F5F-40A44A90D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24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2972880"/>
            <a:ext cx="822924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70731-0942-4D72-A407-EF650E7E0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2972880"/>
            <a:ext cx="40158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2972880"/>
            <a:ext cx="40158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BDA05-F74B-4769-9A54-77E00D29B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2972880"/>
            <a:ext cx="26496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2972880"/>
            <a:ext cx="26496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2972880"/>
            <a:ext cx="26496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BE52C-2B60-4387-8B93-90E38319A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24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31E7-8CEE-44C2-BC19-D56D7A43C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2F32-B058-4021-900A-185A2F0DB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0A5A-EC09-49BC-A603-2E3F4A8A3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240" cy="397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0946-0A44-4211-B57A-C4046233D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2880"/>
            <a:ext cx="40158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1C41-44D2-4DC2-8E62-8B3B0EDDA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2880"/>
            <a:ext cx="40158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3545-ED33-4E6E-A5E1-4E32A6D5C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2880"/>
            <a:ext cx="822924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0220-1233-4652-8C50-AA1AA0737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240" cy="3393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4767120"/>
            <a:ext cx="2133360" cy="27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7120"/>
            <a:ext cx="2895120" cy="27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4767120"/>
            <a:ext cx="2133360" cy="27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307749F-7BC7-40A2-A7BD-458838EF09D0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97680"/>
            <a:ext cx="7772040" cy="11023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7200" y="4767120"/>
            <a:ext cx="2133360" cy="27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4767120"/>
            <a:ext cx="2895120" cy="27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4767120"/>
            <a:ext cx="2133360" cy="27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A9878A3-456F-426F-8F7A-A53F3E017154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hyperlink" Target="http://www.eeppt.com/moban/jiaoyu/" TargetMode="External"/><Relationship Id="rId21" Type="http://schemas.openxmlformats.org/officeDocument/2006/relationships/hyperlink" Target="http://www.eeppt.com/moban/keji/" TargetMode="External"/><Relationship Id="rId22" Type="http://schemas.openxmlformats.org/officeDocument/2006/relationships/hyperlink" Target="http://www.eeppt.com/moban/lunwen/" TargetMode="External"/><Relationship Id="rId23" Type="http://schemas.openxmlformats.org/officeDocument/2006/relationships/hyperlink" Target="http://www.eeppt.com/moban/tongyong/" TargetMode="External"/><Relationship Id="rId24" Type="http://schemas.openxmlformats.org/officeDocument/2006/relationships/hyperlink" Target="http://www.eeppt.com/moban/yiliao/" TargetMode="External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等腰三角形 11"/>
          <p:cNvSpPr/>
          <p:nvPr/>
        </p:nvSpPr>
        <p:spPr>
          <a:xfrm rot="13558800">
            <a:off x="7778160" y="-622080"/>
            <a:ext cx="1198080" cy="3095280"/>
          </a:xfrm>
          <a:prstGeom prst="triangle">
            <a:avLst>
              <a:gd name="adj" fmla="val 65111"/>
            </a:avLst>
          </a:prstGeom>
          <a:solidFill>
            <a:srgbClr val="29a4d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89" name="任意多边形 8"/>
          <p:cNvSpPr/>
          <p:nvPr/>
        </p:nvSpPr>
        <p:spPr>
          <a:xfrm>
            <a:off x="1749600" y="2146320"/>
            <a:ext cx="4533480" cy="2997000"/>
          </a:xfrm>
          <a:custGeom>
            <a:avLst/>
            <a:gdLst>
              <a:gd name="textAreaLeft" fmla="*/ 0 w 4533480"/>
              <a:gd name="textAreaRight" fmla="*/ 4533840 w 4533480"/>
              <a:gd name="textAreaTop" fmla="*/ 0 h 2997000"/>
              <a:gd name="textAreaBottom" fmla="*/ 2997360 h 2997000"/>
            </a:gdLst>
            <a:ahLst/>
            <a:rect l="textAreaLeft" t="textAreaTop" r="textAreaRight" b="textAreaBottom"/>
            <a:pathLst>
              <a:path w="4533900" h="2997200">
                <a:moveTo>
                  <a:pt x="1638300" y="0"/>
                </a:moveTo>
                <a:lnTo>
                  <a:pt x="4533900" y="762000"/>
                </a:lnTo>
                <a:lnTo>
                  <a:pt x="0" y="2997200"/>
                </a:lnTo>
                <a:lnTo>
                  <a:pt x="1638300" y="0"/>
                </a:lnTo>
                <a:close/>
              </a:path>
            </a:pathLst>
          </a:custGeom>
          <a:solidFill>
            <a:srgbClr val="29a4d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90" name="任意多边形 4"/>
          <p:cNvSpPr/>
          <p:nvPr/>
        </p:nvSpPr>
        <p:spPr>
          <a:xfrm>
            <a:off x="0" y="1460520"/>
            <a:ext cx="3435120" cy="3682800"/>
          </a:xfrm>
          <a:custGeom>
            <a:avLst/>
            <a:gdLst>
              <a:gd name="textAreaLeft" fmla="*/ 0 w 3435120"/>
              <a:gd name="textAreaRight" fmla="*/ 3435480 w 3435120"/>
              <a:gd name="textAreaTop" fmla="*/ 0 h 3682800"/>
              <a:gd name="textAreaBottom" fmla="*/ 3683160 h 3682800"/>
            </a:gdLst>
            <a:ahLst/>
            <a:rect l="textAreaLeft" t="textAreaTop" r="textAreaRight" b="textAreaBottom"/>
            <a:pathLst>
              <a:path w="3435179" h="3682313">
                <a:moveTo>
                  <a:pt x="0" y="3657600"/>
                </a:moveTo>
                <a:lnTo>
                  <a:pt x="1754660" y="3682313"/>
                </a:lnTo>
                <a:lnTo>
                  <a:pt x="3385752" y="630194"/>
                </a:lnTo>
                <a:lnTo>
                  <a:pt x="3435179" y="0"/>
                </a:lnTo>
                <a:lnTo>
                  <a:pt x="12357" y="2792627"/>
                </a:lnTo>
                <a:lnTo>
                  <a:pt x="0" y="3657600"/>
                </a:lnTo>
                <a:close/>
              </a:path>
            </a:pathLst>
          </a:custGeom>
          <a:solidFill>
            <a:srgbClr val="ee0f68"/>
          </a:solidFill>
          <a:ln>
            <a:noFill/>
          </a:ln>
          <a:effectLst>
            <a:outerShdw algn="tl" blurRad="76320" dir="2700000" dist="50402" rotWithShape="0" sx="100500" sy="100500">
              <a:srgbClr val="000000">
                <a:alpha val="9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91" name="任意多边形 10"/>
          <p:cNvSpPr/>
          <p:nvPr/>
        </p:nvSpPr>
        <p:spPr>
          <a:xfrm>
            <a:off x="5513400" y="-258840"/>
            <a:ext cx="3303360" cy="2099880"/>
          </a:xfrm>
          <a:custGeom>
            <a:avLst/>
            <a:gdLst>
              <a:gd name="textAreaLeft" fmla="*/ 0 w 3303360"/>
              <a:gd name="textAreaRight" fmla="*/ 3303720 w 3303360"/>
              <a:gd name="textAreaTop" fmla="*/ 0 h 2099880"/>
              <a:gd name="textAreaBottom" fmla="*/ 2100240 h 2099880"/>
            </a:gdLst>
            <a:ahLst/>
            <a:rect l="textAreaLeft" t="textAreaTop" r="textAreaRight" b="textAreaBottom"/>
            <a:pathLst>
              <a:path w="3225113" h="2100649">
                <a:moveTo>
                  <a:pt x="0" y="1692876"/>
                </a:moveTo>
                <a:lnTo>
                  <a:pt x="1556951" y="2100649"/>
                </a:lnTo>
                <a:lnTo>
                  <a:pt x="3225113" y="0"/>
                </a:lnTo>
                <a:lnTo>
                  <a:pt x="0" y="1692876"/>
                </a:lnTo>
                <a:close/>
              </a:path>
            </a:pathLst>
          </a:custGeom>
          <a:solidFill>
            <a:srgbClr val="ee0f68"/>
          </a:solidFill>
          <a:ln>
            <a:noFill/>
          </a:ln>
          <a:effectLst>
            <a:outerShdw algn="tl" blurRad="76320" dir="2700000" dist="50402" rotWithShape="0" sx="100500" sy="100500">
              <a:srgbClr val="000000">
                <a:alpha val="9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92" name="TextBox 15"/>
          <p:cNvSpPr/>
          <p:nvPr/>
        </p:nvSpPr>
        <p:spPr>
          <a:xfrm>
            <a:off x="468360" y="141120"/>
            <a:ext cx="98856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767676"/>
                </a:solidFill>
                <a:latin typeface="微软雅黑"/>
                <a:ea typeface="微软雅黑"/>
              </a:rPr>
              <a:t>LO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1"/>
          <p:cNvSpPr/>
          <p:nvPr/>
        </p:nvSpPr>
        <p:spPr>
          <a:xfrm>
            <a:off x="2696760" y="1639800"/>
            <a:ext cx="38487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多彩活力企业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12"/>
          <p:cNvSpPr/>
          <p:nvPr/>
        </p:nvSpPr>
        <p:spPr>
          <a:xfrm>
            <a:off x="239400" y="467784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任意多边形 2"/>
          <p:cNvSpPr/>
          <p:nvPr/>
        </p:nvSpPr>
        <p:spPr>
          <a:xfrm>
            <a:off x="1743120" y="2286000"/>
            <a:ext cx="1988640" cy="2866680"/>
          </a:xfrm>
          <a:custGeom>
            <a:avLst/>
            <a:gdLst>
              <a:gd name="textAreaLeft" fmla="*/ 0 w 1988640"/>
              <a:gd name="textAreaRight" fmla="*/ 1989000 w 1988640"/>
              <a:gd name="textAreaTop" fmla="*/ 0 h 2866680"/>
              <a:gd name="textAreaBottom" fmla="*/ 2867040 h 2866680"/>
            </a:gdLst>
            <a:ahLst/>
            <a:rect l="textAreaLeft" t="textAreaTop" r="textAreaRight" b="textAreaBottom"/>
            <a:pathLst>
              <a:path w="1989438" h="2866768">
                <a:moveTo>
                  <a:pt x="1989438" y="0"/>
                </a:moveTo>
                <a:lnTo>
                  <a:pt x="0" y="2866768"/>
                </a:lnTo>
                <a:lnTo>
                  <a:pt x="1495168" y="0"/>
                </a:lnTo>
                <a:lnTo>
                  <a:pt x="1989438" y="0"/>
                </a:lnTo>
                <a:close/>
              </a:path>
            </a:pathLst>
          </a:custGeom>
          <a:solidFill>
            <a:srgbClr val="29a4d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96" name="任意多边形 1"/>
          <p:cNvSpPr/>
          <p:nvPr/>
        </p:nvSpPr>
        <p:spPr>
          <a:xfrm>
            <a:off x="0" y="36360"/>
            <a:ext cx="3447720" cy="5116320"/>
          </a:xfrm>
          <a:custGeom>
            <a:avLst/>
            <a:gdLst>
              <a:gd name="textAreaLeft" fmla="*/ 0 w 3447720"/>
              <a:gd name="textAreaRight" fmla="*/ 3448080 w 3447720"/>
              <a:gd name="textAreaTop" fmla="*/ 0 h 5116320"/>
              <a:gd name="textAreaBottom" fmla="*/ 5116680 h 5116320"/>
            </a:gdLst>
            <a:ahLst/>
            <a:rect l="textAreaLeft" t="textAreaTop" r="textAreaRight" b="textAreaBottom"/>
            <a:pathLst>
              <a:path w="3447535" h="5115698">
                <a:moveTo>
                  <a:pt x="0" y="5103341"/>
                </a:moveTo>
                <a:lnTo>
                  <a:pt x="1705233" y="5115698"/>
                </a:lnTo>
                <a:lnTo>
                  <a:pt x="3249827" y="2224216"/>
                </a:lnTo>
                <a:lnTo>
                  <a:pt x="3447535" y="0"/>
                </a:lnTo>
                <a:lnTo>
                  <a:pt x="24714" y="3892379"/>
                </a:lnTo>
                <a:lnTo>
                  <a:pt x="0" y="5103341"/>
                </a:lnTo>
                <a:close/>
              </a:path>
            </a:pathLst>
          </a:custGeom>
          <a:solidFill>
            <a:srgbClr val="ee0f68"/>
          </a:solidFill>
          <a:ln>
            <a:noFill/>
          </a:ln>
          <a:effectLst>
            <a:outerShdw algn="tl" blurRad="63360" dir="2700000" dist="37674" rotWithShape="0" sx="100500" sy="100500">
              <a:srgbClr val="000000">
                <a:alpha val="9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97" name="TextBox 16"/>
          <p:cNvSpPr/>
          <p:nvPr/>
        </p:nvSpPr>
        <p:spPr>
          <a:xfrm rot="18331200">
            <a:off x="1789200" y="3743280"/>
            <a:ext cx="214596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2800" spc="-1" strike="noStrike">
                <a:solidFill>
                  <a:srgbClr val="767676"/>
                </a:solidFill>
                <a:latin typeface="微软雅黑"/>
                <a:ea typeface="微软雅黑"/>
              </a:rPr>
              <a:t>目   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7"/>
          <p:cNvSpPr/>
          <p:nvPr/>
        </p:nvSpPr>
        <p:spPr>
          <a:xfrm>
            <a:off x="468360" y="141120"/>
            <a:ext cx="98856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767676"/>
                </a:solidFill>
                <a:latin typeface="微软雅黑"/>
                <a:ea typeface="微软雅黑"/>
              </a:rPr>
              <a:t>LO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任意多边形 19"/>
          <p:cNvSpPr/>
          <p:nvPr/>
        </p:nvSpPr>
        <p:spPr>
          <a:xfrm>
            <a:off x="3454560" y="1193760"/>
            <a:ext cx="1231560" cy="647280"/>
          </a:xfrm>
          <a:custGeom>
            <a:avLst/>
            <a:gdLst>
              <a:gd name="textAreaLeft" fmla="*/ 0 w 1231560"/>
              <a:gd name="textAreaRight" fmla="*/ 1231920 w 1231560"/>
              <a:gd name="textAreaTop" fmla="*/ 0 h 647280"/>
              <a:gd name="textAreaBottom" fmla="*/ 647640 h 647280"/>
            </a:gdLst>
            <a:ahLst/>
            <a:rect l="textAreaLeft" t="textAreaTop" r="textAreaRight" b="textAreaBottom"/>
            <a:pathLst>
              <a:path w="1231900" h="647700">
                <a:moveTo>
                  <a:pt x="0" y="647700"/>
                </a:moveTo>
                <a:lnTo>
                  <a:pt x="419100" y="0"/>
                </a:lnTo>
                <a:lnTo>
                  <a:pt x="1231900" y="0"/>
                </a:lnTo>
              </a:path>
            </a:pathLst>
          </a:custGeom>
          <a:noFill/>
          <a:ln>
            <a:solidFill>
              <a:srgbClr val="ffffff">
                <a:lumMod val="65000"/>
              </a:srgbClr>
            </a:solidFill>
            <a:prstDash val="sys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00" name="任意多边形 22"/>
          <p:cNvSpPr/>
          <p:nvPr/>
        </p:nvSpPr>
        <p:spPr>
          <a:xfrm>
            <a:off x="2971800" y="2712960"/>
            <a:ext cx="2361960" cy="2422080"/>
          </a:xfrm>
          <a:custGeom>
            <a:avLst/>
            <a:gdLst>
              <a:gd name="textAreaLeft" fmla="*/ 0 w 2361960"/>
              <a:gd name="textAreaRight" fmla="*/ 2362320 w 2361960"/>
              <a:gd name="textAreaTop" fmla="*/ 0 h 2422080"/>
              <a:gd name="textAreaBottom" fmla="*/ 2422440 h 2422080"/>
            </a:gdLst>
            <a:ahLst/>
            <a:rect l="textAreaLeft" t="textAreaTop" r="textAreaRight" b="textAreaBottom"/>
            <a:pathLst>
              <a:path w="2362200" h="2423160">
                <a:moveTo>
                  <a:pt x="0" y="2423160"/>
                </a:moveTo>
                <a:lnTo>
                  <a:pt x="1546860" y="0"/>
                </a:lnTo>
                <a:lnTo>
                  <a:pt x="2362200" y="0"/>
                </a:lnTo>
              </a:path>
            </a:pathLst>
          </a:custGeom>
          <a:noFill/>
          <a:ln>
            <a:solidFill>
              <a:srgbClr val="ffffff">
                <a:lumMod val="65000"/>
              </a:srgbClr>
            </a:solidFill>
            <a:prstDash val="sys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01" name="任意多边形 23"/>
          <p:cNvSpPr/>
          <p:nvPr/>
        </p:nvSpPr>
        <p:spPr>
          <a:xfrm>
            <a:off x="3897360" y="3573360"/>
            <a:ext cx="1760040" cy="1553760"/>
          </a:xfrm>
          <a:custGeom>
            <a:avLst/>
            <a:gdLst>
              <a:gd name="textAreaLeft" fmla="*/ 0 w 1760040"/>
              <a:gd name="textAreaRight" fmla="*/ 1760400 w 1760040"/>
              <a:gd name="textAreaTop" fmla="*/ 0 h 1553760"/>
              <a:gd name="textAreaBottom" fmla="*/ 1554120 h 1553760"/>
            </a:gdLst>
            <a:ahLst/>
            <a:rect l="textAreaLeft" t="textAreaTop" r="textAreaRight" b="textAreaBottom"/>
            <a:pathLst>
              <a:path w="1760220" h="1554480">
                <a:moveTo>
                  <a:pt x="0" y="1554480"/>
                </a:moveTo>
                <a:lnTo>
                  <a:pt x="960120" y="0"/>
                </a:lnTo>
                <a:lnTo>
                  <a:pt x="1760220" y="0"/>
                </a:lnTo>
                <a:lnTo>
                  <a:pt x="1760220" y="0"/>
                </a:lnTo>
              </a:path>
            </a:pathLst>
          </a:custGeom>
          <a:noFill/>
          <a:ln>
            <a:solidFill>
              <a:srgbClr val="ffffff">
                <a:lumMod val="65000"/>
              </a:srgbClr>
            </a:solidFill>
            <a:prstDash val="sys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02" name="任意多边形 24"/>
          <p:cNvSpPr/>
          <p:nvPr/>
        </p:nvSpPr>
        <p:spPr>
          <a:xfrm>
            <a:off x="3262320" y="1927080"/>
            <a:ext cx="1692000" cy="1396800"/>
          </a:xfrm>
          <a:custGeom>
            <a:avLst/>
            <a:gdLst>
              <a:gd name="textAreaLeft" fmla="*/ 0 w 1692000"/>
              <a:gd name="textAreaRight" fmla="*/ 1692360 w 1692000"/>
              <a:gd name="textAreaTop" fmla="*/ 0 h 1396800"/>
              <a:gd name="textAreaBottom" fmla="*/ 1397160 h 1396800"/>
            </a:gdLst>
            <a:ahLst/>
            <a:rect l="textAreaLeft" t="textAreaTop" r="textAreaRight" b="textAreaBottom"/>
            <a:pathLst>
              <a:path w="1692875" h="1396314">
                <a:moveTo>
                  <a:pt x="1692875" y="0"/>
                </a:moveTo>
                <a:lnTo>
                  <a:pt x="902043" y="0"/>
                </a:lnTo>
                <a:lnTo>
                  <a:pt x="0" y="1396314"/>
                </a:lnTo>
              </a:path>
            </a:pathLst>
          </a:custGeom>
          <a:noFill/>
          <a:ln>
            <a:solidFill>
              <a:srgbClr val="ffffff">
                <a:lumMod val="65000"/>
              </a:srgbClr>
            </a:solidFill>
            <a:prstDash val="sys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03" name="TextBox 25"/>
          <p:cNvSpPr/>
          <p:nvPr/>
        </p:nvSpPr>
        <p:spPr>
          <a:xfrm>
            <a:off x="4726080" y="1044720"/>
            <a:ext cx="165240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400" spc="-1" strike="noStrike">
                <a:solidFill>
                  <a:srgbClr val="767676"/>
                </a:solidFill>
                <a:latin typeface="微软雅黑"/>
                <a:ea typeface="微软雅黑"/>
              </a:rPr>
              <a:t>请在此处输入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26"/>
          <p:cNvSpPr/>
          <p:nvPr/>
        </p:nvSpPr>
        <p:spPr>
          <a:xfrm>
            <a:off x="5016600" y="1773360"/>
            <a:ext cx="165060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400" spc="-1" strike="noStrike">
                <a:solidFill>
                  <a:srgbClr val="767676"/>
                </a:solidFill>
                <a:latin typeface="微软雅黑"/>
                <a:ea typeface="微软雅黑"/>
              </a:rPr>
              <a:t>请在此处输入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27"/>
          <p:cNvSpPr/>
          <p:nvPr/>
        </p:nvSpPr>
        <p:spPr>
          <a:xfrm>
            <a:off x="5432400" y="2558880"/>
            <a:ext cx="165240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400" spc="-1" strike="noStrike">
                <a:solidFill>
                  <a:srgbClr val="767676"/>
                </a:solidFill>
                <a:latin typeface="微软雅黑"/>
                <a:ea typeface="微软雅黑"/>
              </a:rPr>
              <a:t>请在此处输入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28"/>
          <p:cNvSpPr/>
          <p:nvPr/>
        </p:nvSpPr>
        <p:spPr>
          <a:xfrm>
            <a:off x="5713560" y="3419640"/>
            <a:ext cx="165060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400" spc="-1" strike="noStrike">
                <a:solidFill>
                  <a:srgbClr val="767676"/>
                </a:solidFill>
                <a:latin typeface="微软雅黑"/>
                <a:ea typeface="微软雅黑"/>
              </a:rPr>
              <a:t>请在此处输入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任意多边形 6"/>
          <p:cNvSpPr/>
          <p:nvPr/>
        </p:nvSpPr>
        <p:spPr>
          <a:xfrm>
            <a:off x="3916440" y="1531800"/>
            <a:ext cx="3472920" cy="2001600"/>
          </a:xfrm>
          <a:custGeom>
            <a:avLst/>
            <a:gdLst>
              <a:gd name="textAreaLeft" fmla="*/ 0 w 3472920"/>
              <a:gd name="textAreaRight" fmla="*/ 3473280 w 3472920"/>
              <a:gd name="textAreaTop" fmla="*/ 0 h 2001600"/>
              <a:gd name="textAreaBottom" fmla="*/ 2001960 h 2001600"/>
            </a:gdLst>
            <a:ahLst/>
            <a:rect l="textAreaLeft" t="textAreaTop" r="textAreaRight" b="textAreaBottom"/>
            <a:pathLst>
              <a:path w="3472249" h="2001794">
                <a:moveTo>
                  <a:pt x="3472249" y="2001794"/>
                </a:moveTo>
                <a:lnTo>
                  <a:pt x="3064476" y="0"/>
                </a:lnTo>
                <a:lnTo>
                  <a:pt x="0" y="568411"/>
                </a:lnTo>
                <a:lnTo>
                  <a:pt x="395416" y="1977081"/>
                </a:lnTo>
                <a:lnTo>
                  <a:pt x="3472249" y="2001794"/>
                </a:lnTo>
                <a:close/>
              </a:path>
            </a:pathLst>
          </a:custGeom>
          <a:solidFill>
            <a:srgbClr val="29a4d0"/>
          </a:solidFill>
          <a:ln>
            <a:noFill/>
          </a:ln>
          <a:effectLst>
            <a:outerShdw algn="tl" blurRad="63360" dir="2700000" dist="37674" rotWithShape="0" sx="100500" sy="100500">
              <a:srgbClr val="000000">
                <a:alpha val="9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08" name="任意多边形 5"/>
          <p:cNvSpPr/>
          <p:nvPr/>
        </p:nvSpPr>
        <p:spPr>
          <a:xfrm>
            <a:off x="1743120" y="542880"/>
            <a:ext cx="3260520" cy="2001600"/>
          </a:xfrm>
          <a:custGeom>
            <a:avLst/>
            <a:gdLst>
              <a:gd name="textAreaLeft" fmla="*/ 0 w 3260520"/>
              <a:gd name="textAreaRight" fmla="*/ 3260880 w 3260520"/>
              <a:gd name="textAreaTop" fmla="*/ 0 h 2001600"/>
              <a:gd name="textAreaBottom" fmla="*/ 2001960 h 2001600"/>
            </a:gdLst>
            <a:ahLst/>
            <a:rect l="textAreaLeft" t="textAreaTop" r="textAreaRight" b="textAreaBottom"/>
            <a:pathLst>
              <a:path w="3262183" h="2001795">
                <a:moveTo>
                  <a:pt x="630194" y="0"/>
                </a:moveTo>
                <a:lnTo>
                  <a:pt x="0" y="1618735"/>
                </a:lnTo>
                <a:lnTo>
                  <a:pt x="3262183" y="2001795"/>
                </a:lnTo>
                <a:lnTo>
                  <a:pt x="3150973" y="840260"/>
                </a:lnTo>
                <a:lnTo>
                  <a:pt x="630194" y="0"/>
                </a:lnTo>
                <a:close/>
              </a:path>
            </a:pathLst>
          </a:custGeom>
          <a:solidFill>
            <a:srgbClr val="ee0f68"/>
          </a:solidFill>
          <a:ln>
            <a:noFill/>
          </a:ln>
          <a:effectLst>
            <a:outerShdw algn="tl" blurRad="63360" dir="2700000" dist="37674" rotWithShape="0" sx="100500" sy="100500">
              <a:srgbClr val="000000">
                <a:alpha val="9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09" name="TextBox 7"/>
          <p:cNvSpPr/>
          <p:nvPr/>
        </p:nvSpPr>
        <p:spPr>
          <a:xfrm>
            <a:off x="468360" y="141120"/>
            <a:ext cx="98856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767676"/>
                </a:solidFill>
                <a:latin typeface="微软雅黑"/>
                <a:ea typeface="微软雅黑"/>
              </a:rPr>
              <a:t>LO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8"/>
          <p:cNvSpPr/>
          <p:nvPr/>
        </p:nvSpPr>
        <p:spPr>
          <a:xfrm rot="20929800">
            <a:off x="4958640" y="1222200"/>
            <a:ext cx="2734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767676"/>
                </a:solidFill>
                <a:latin typeface="微软雅黑"/>
                <a:ea typeface="微软雅黑"/>
              </a:rPr>
              <a:t>请在此处输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9"/>
          <p:cNvSpPr/>
          <p:nvPr/>
        </p:nvSpPr>
        <p:spPr>
          <a:xfrm rot="346800">
            <a:off x="1743120" y="2452320"/>
            <a:ext cx="2734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767676"/>
                </a:solidFill>
                <a:latin typeface="微软雅黑"/>
                <a:ea typeface="微软雅黑"/>
              </a:rPr>
              <a:t>请在此处输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-14400" y="4732200"/>
            <a:ext cx="532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任意多边形 6"/>
          <p:cNvSpPr/>
          <p:nvPr/>
        </p:nvSpPr>
        <p:spPr>
          <a:xfrm>
            <a:off x="7505640" y="628560"/>
            <a:ext cx="3123720" cy="1161720"/>
          </a:xfrm>
          <a:custGeom>
            <a:avLst/>
            <a:gdLst>
              <a:gd name="textAreaLeft" fmla="*/ 0 w 3123720"/>
              <a:gd name="textAreaRight" fmla="*/ 3124080 w 3123720"/>
              <a:gd name="textAreaTop" fmla="*/ 0 h 1161720"/>
              <a:gd name="textAreaBottom" fmla="*/ 1162080 h 1161720"/>
            </a:gdLst>
            <a:ahLst/>
            <a:rect l="textAreaLeft" t="textAreaTop" r="textAreaRight" b="textAreaBottom"/>
            <a:pathLst>
              <a:path w="3124200" h="1162050">
                <a:moveTo>
                  <a:pt x="0" y="0"/>
                </a:moveTo>
                <a:lnTo>
                  <a:pt x="1123950" y="1162050"/>
                </a:lnTo>
                <a:lnTo>
                  <a:pt x="3124200" y="781050"/>
                </a:lnTo>
                <a:lnTo>
                  <a:pt x="0" y="0"/>
                </a:lnTo>
                <a:close/>
              </a:path>
            </a:pathLst>
          </a:custGeom>
          <a:solidFill>
            <a:srgbClr val="29a4d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14" name="TextBox 4"/>
          <p:cNvSpPr/>
          <p:nvPr/>
        </p:nvSpPr>
        <p:spPr>
          <a:xfrm>
            <a:off x="468360" y="141120"/>
            <a:ext cx="98856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767676"/>
                </a:solidFill>
                <a:latin typeface="微软雅黑"/>
                <a:ea typeface="微软雅黑"/>
              </a:rPr>
              <a:t>LO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直角三角形 5"/>
          <p:cNvSpPr/>
          <p:nvPr/>
        </p:nvSpPr>
        <p:spPr>
          <a:xfrm flipH="1" flipV="1">
            <a:off x="5129280" y="-22680"/>
            <a:ext cx="4024080" cy="1115640"/>
          </a:xfrm>
          <a:prstGeom prst="rtTriangle">
            <a:avLst/>
          </a:prstGeom>
          <a:solidFill>
            <a:srgbClr val="ee0f68"/>
          </a:solidFill>
          <a:ln>
            <a:noFill/>
          </a:ln>
          <a:effectLst>
            <a:outerShdw algn="tr" blurRad="76320" dir="8100000" dist="37674" rotWithShape="0" sx="100500" sy="100500">
              <a:srgbClr val="000000">
                <a:alpha val="9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cxnSp>
        <p:nvCxnSpPr>
          <p:cNvPr id="116" name="直接连接符 8"/>
          <p:cNvCxnSpPr/>
          <p:nvPr/>
        </p:nvCxnSpPr>
        <p:spPr>
          <a:xfrm>
            <a:off x="3276360" y="1209600"/>
            <a:ext cx="360" cy="2370240"/>
          </a:xfrm>
          <a:prstGeom prst="straightConnector1">
            <a:avLst/>
          </a:prstGeom>
          <a:ln w="12700">
            <a:solidFill>
              <a:srgbClr val="767676"/>
            </a:solidFill>
            <a:prstDash val="dash"/>
            <a:round/>
          </a:ln>
        </p:spPr>
      </p:cxnSp>
      <p:sp>
        <p:nvSpPr>
          <p:cNvPr id="117" name="TextBox 9"/>
          <p:cNvSpPr/>
          <p:nvPr/>
        </p:nvSpPr>
        <p:spPr>
          <a:xfrm>
            <a:off x="3551400" y="1517760"/>
            <a:ext cx="4895640" cy="1962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767676"/>
                </a:solidFill>
                <a:latin typeface="微软雅黑"/>
                <a:ea typeface="微软雅黑"/>
              </a:rPr>
              <a:t>请在此处输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767676"/>
                </a:solidFill>
                <a:latin typeface="微软雅黑"/>
                <a:ea typeface="微软雅黑"/>
              </a:rPr>
              <a:t>请在此处输入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767676"/>
                </a:solidFill>
                <a:latin typeface="微软雅黑"/>
                <a:ea typeface="微软雅黑"/>
              </a:rPr>
              <a:t>请在此处输入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767676"/>
                </a:solidFill>
                <a:latin typeface="微软雅黑"/>
                <a:ea typeface="微软雅黑"/>
              </a:rPr>
              <a:t>请在此处输入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767676"/>
                </a:solidFill>
                <a:latin typeface="微软雅黑"/>
                <a:ea typeface="微软雅黑"/>
              </a:rPr>
              <a:t>请在此处输入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767676"/>
                </a:solidFill>
                <a:latin typeface="微软雅黑"/>
                <a:ea typeface="微软雅黑"/>
              </a:rPr>
              <a:t>请在此处输入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10"/>
          <p:cNvSpPr/>
          <p:nvPr/>
        </p:nvSpPr>
        <p:spPr>
          <a:xfrm rot="951600">
            <a:off x="5507640" y="522360"/>
            <a:ext cx="26636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767676"/>
                </a:solidFill>
                <a:latin typeface="微软雅黑"/>
                <a:ea typeface="微软雅黑"/>
              </a:rPr>
              <a:t>请在此处输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11"/>
          <p:cNvSpPr/>
          <p:nvPr/>
        </p:nvSpPr>
        <p:spPr>
          <a:xfrm>
            <a:off x="1619280" y="2066760"/>
            <a:ext cx="115200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767676"/>
                </a:solidFill>
                <a:latin typeface="微软雅黑"/>
                <a:ea typeface="微软雅黑"/>
              </a:rPr>
              <a:t>请在此处输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任意多边形 6"/>
          <p:cNvSpPr/>
          <p:nvPr/>
        </p:nvSpPr>
        <p:spPr>
          <a:xfrm>
            <a:off x="2502000" y="2768760"/>
            <a:ext cx="5168520" cy="2400120"/>
          </a:xfrm>
          <a:custGeom>
            <a:avLst/>
            <a:gdLst>
              <a:gd name="textAreaLeft" fmla="*/ 0 w 5168520"/>
              <a:gd name="textAreaRight" fmla="*/ 5168880 w 5168520"/>
              <a:gd name="textAreaTop" fmla="*/ 0 h 2400120"/>
              <a:gd name="textAreaBottom" fmla="*/ 2400480 h 2400120"/>
            </a:gdLst>
            <a:ahLst/>
            <a:rect l="textAreaLeft" t="textAreaTop" r="textAreaRight" b="textAreaBottom"/>
            <a:pathLst>
              <a:path w="5168900" h="2400300">
                <a:moveTo>
                  <a:pt x="0" y="203200"/>
                </a:moveTo>
                <a:lnTo>
                  <a:pt x="3136900" y="0"/>
                </a:lnTo>
                <a:lnTo>
                  <a:pt x="5168900" y="2400300"/>
                </a:lnTo>
                <a:lnTo>
                  <a:pt x="0" y="203200"/>
                </a:lnTo>
                <a:close/>
              </a:path>
            </a:pathLst>
          </a:custGeom>
          <a:solidFill>
            <a:srgbClr val="29a4d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21" name="TextBox 4"/>
          <p:cNvSpPr/>
          <p:nvPr/>
        </p:nvSpPr>
        <p:spPr>
          <a:xfrm>
            <a:off x="468360" y="141120"/>
            <a:ext cx="98856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767676"/>
                </a:solidFill>
                <a:latin typeface="微软雅黑"/>
                <a:ea typeface="微软雅黑"/>
              </a:rPr>
              <a:t>LO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任意多边形 5"/>
          <p:cNvSpPr/>
          <p:nvPr/>
        </p:nvSpPr>
        <p:spPr>
          <a:xfrm>
            <a:off x="5486400" y="1536840"/>
            <a:ext cx="3708000" cy="3623760"/>
          </a:xfrm>
          <a:custGeom>
            <a:avLst/>
            <a:gdLst>
              <a:gd name="textAreaLeft" fmla="*/ 0 w 3708000"/>
              <a:gd name="textAreaRight" fmla="*/ 3708360 w 3708000"/>
              <a:gd name="textAreaTop" fmla="*/ 0 h 3623760"/>
              <a:gd name="textAreaBottom" fmla="*/ 3624120 h 3623760"/>
            </a:gdLst>
            <a:ahLst/>
            <a:rect l="textAreaLeft" t="textAreaTop" r="textAreaRight" b="textAreaBottom"/>
            <a:pathLst>
              <a:path w="3708400" h="3670300">
                <a:moveTo>
                  <a:pt x="0" y="0"/>
                </a:moveTo>
                <a:lnTo>
                  <a:pt x="139700" y="1206500"/>
                </a:lnTo>
                <a:lnTo>
                  <a:pt x="2184400" y="3670300"/>
                </a:lnTo>
                <a:lnTo>
                  <a:pt x="3708400" y="3670300"/>
                </a:lnTo>
                <a:lnTo>
                  <a:pt x="0" y="0"/>
                </a:lnTo>
                <a:close/>
              </a:path>
            </a:pathLst>
          </a:custGeom>
          <a:solidFill>
            <a:srgbClr val="ee0f68"/>
          </a:solidFill>
          <a:ln>
            <a:noFill/>
          </a:ln>
          <a:effectLst>
            <a:outerShdw algn="tr" blurRad="76320" dir="8100000" dist="37674" rotWithShape="0" sx="100500" sy="100500">
              <a:srgbClr val="000000">
                <a:alpha val="7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23" name="TextBox 8"/>
          <p:cNvSpPr/>
          <p:nvPr/>
        </p:nvSpPr>
        <p:spPr>
          <a:xfrm rot="21360000">
            <a:off x="2253600" y="1528560"/>
            <a:ext cx="3204720" cy="912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zh-CN" sz="5400" spc="-1" strike="noStrike">
                <a:solidFill>
                  <a:srgbClr val="767676"/>
                </a:solidFill>
                <a:latin typeface="微软雅黑"/>
                <a:ea typeface="微软雅黑"/>
              </a:rPr>
              <a:t>谢谢观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9"/>
          <p:cNvSpPr/>
          <p:nvPr/>
        </p:nvSpPr>
        <p:spPr>
          <a:xfrm rot="21352200">
            <a:off x="3798360" y="2411280"/>
            <a:ext cx="163008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2000" spc="-1" strike="noStrike">
                <a:solidFill>
                  <a:srgbClr val="767676"/>
                </a:solidFill>
                <a:latin typeface="微软雅黑"/>
                <a:ea typeface="微软雅黑"/>
              </a:rPr>
              <a:t>Thank Y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94360" y="141840"/>
            <a:ext cx="6155280" cy="430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24000" y="952560"/>
            <a:ext cx="6695640" cy="39142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en-US" sz="105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1" lang="en-US" sz="105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1" lang="en-US" sz="105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10"/>
              </a:spcBef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好看的ppt背景图片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动态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模板下载 免费完整版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 毕业设计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答辩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月总结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精美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说课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企业介绍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商务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市场营销策划ppt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ppt素材图片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图表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自然风景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国外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简洁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公司会议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教育教学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网络科技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论文答辩ppt模板免费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3"/>
              </a:rPr>
              <a:t>通用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4"/>
              </a:rPr>
              <a:t>医疗卫生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6607800" y="250200"/>
            <a:ext cx="1041480" cy="26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525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​​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​​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  <Words>251</Words>
  <Paragraphs>55</Paragraphs>
  <Company>Sky123.Org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8T02:45:16Z</dcterms:created>
  <dc:creator>chenzhilei</dc:creator>
  <dc:description/>
  <dc:language>en-US</dc:language>
  <cp:lastModifiedBy>yu wang</cp:lastModifiedBy>
  <dcterms:modified xsi:type="dcterms:W3CDTF">2015-08-12T14:51:44Z</dcterms:modified>
  <cp:revision>1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全屏显示(16:9)</vt:lpwstr>
  </property>
  <property fmtid="{D5CDD505-2E9C-101B-9397-08002B2CF9AE}" pid="4" name="Slides">
    <vt:r8>6</vt:r8>
  </property>
</Properties>
</file>