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660A-A458-47B7-B351-DB34C4D3CC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745A-251A-42D7-81E8-63EA1534A4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54D-738E-4E64-847A-02416F35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BD5-00CB-4025-AB77-7873305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275-85A5-4D60-B152-9111DBAA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DE9-25FA-4E5A-84DB-2F98C40C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0743-4DA2-449C-8FFE-1BC97C0F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9480-CDC4-4365-8686-E199780F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A93-FBF2-4283-8B10-407195B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5244-6E62-4347-8C79-6A7EFCDC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9DDA-B2BF-4D78-85AF-0674909D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292-694B-4336-98D7-13072984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1165-88F7-4F01-92EE-BB47D5E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764-14FE-441B-B62B-63C700B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3D39-04AC-4B5D-A366-3C4ABF5A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6833-7B5A-432C-9449-68719B7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BDA8-1BAD-4C83-92E6-0DFDF39F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61A4-9EFA-4775-BD02-3A4363A5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0A41-EB9C-4972-9204-93265C00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10A-305E-4AE8-A23E-9608DAD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967-2E76-44CE-8CD4-6169BCC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D7F-E3D1-458C-9570-CD5B1615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AAB-81D8-47A2-8912-0A723BD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72F-2E90-4622-B98D-F9DB946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3FD-5F1F-4B66-8632-D33003A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83F-15AF-49C9-AA73-D4A5A614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BD6-ADD8-4154-954F-77EF99B35254}" type="datetime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B10A-6160-43A7-B374-3DF0056FC9E8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 (9)\8.jpg"/>
          <p:cNvPicPr/>
          <p:nvPr/>
        </p:nvPicPr>
        <p:blipFill>
          <a:blip r:embed="rId2"/>
          <a:stretch/>
        </p:blipFill>
        <p:spPr>
          <a:xfrm>
            <a:off x="2246400" y="1676520"/>
            <a:ext cx="6897600" cy="517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 (9)\5.jpg"/>
          <p:cNvPicPr/>
          <p:nvPr/>
        </p:nvPicPr>
        <p:blipFill>
          <a:blip r:embed="rId3"/>
          <a:stretch/>
        </p:blipFill>
        <p:spPr>
          <a:xfrm>
            <a:off x="-648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2AA-B590-4649-BD81-2BEB6E960A9C}" type="datetime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485-5944-48A2-B0F8-C484D11B4BC5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多彩炫丽</a:t>
            </a:r>
            <a:r>
              <a:rPr b="1" lang="en-US" sz="4000" spc="-1" strike="noStrike">
                <a:solidFill>
                  <a:srgbClr val="40404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Verdana"/>
              </a:rPr>
              <a:t>模板完整版下载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3840" y="2636640"/>
            <a:ext cx="83563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9B5-02F3-41D2-8AA3-A20FDF620791}" type="slidenum">
              <a:rPr b="0" lang="zh-CN" sz="1200" spc="-1" strike="noStrike">
                <a:solidFill>
                  <a:srgbClr val="7f7f7f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Verdana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yu wang</cp:lastModifiedBy>
  <cp:lastPrinted>1899-12-30T00:00:00Z</cp:lastPrinted>
  <dcterms:modified xsi:type="dcterms:W3CDTF">2015-08-12T14:51:4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