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2C6-2F19-4F7C-B511-90EAB24A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0B8-F675-4BC8-8D54-5601FEB8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DFE-9781-49FD-853A-87331384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41A-9110-4AD1-A6B0-D14F3DB4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02C-A830-4476-B55D-438EE918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807-0C48-4FC8-B189-3C240683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CC7-D0FA-4B85-91C1-4C8FE6FE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3FC-818D-4787-AB2A-51BFFFE7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AE0-0030-4696-8ECE-A4F9F5B0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FE2-8975-4D5E-88C6-A5094E09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AFE-91CC-4365-9E55-B13C6EDA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67E-7F78-4B51-BA4E-58ED0A05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628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-74520" y="6267600"/>
            <a:ext cx="9299520" cy="593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BE35-53A0-48E8-B767-ACCE232254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 flipV="1">
            <a:off x="250920" y="1224000"/>
            <a:ext cx="8642160" cy="1440"/>
          </a:xfrm>
          <a:prstGeom prst="line">
            <a:avLst/>
          </a:prstGeom>
          <a:ln w="2844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A3D8-86BD-45AC-9A92-9183E20E4F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7628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-74520" y="6267600"/>
            <a:ext cx="9299520" cy="593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D8B7-8594-4A0E-8C30-88B0629826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-74520" y="6267600"/>
            <a:ext cx="9299520" cy="593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D82A-ACF0-4755-9D18-8CA4D7296C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7628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-57240" y="3924360"/>
            <a:ext cx="9296640" cy="29368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80787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独具特色的设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:/Users/INK/Desktop/design/img/HIT_main_building_white.pngHIT_main_building_white"/>
          <p:cNvPicPr/>
          <p:nvPr/>
        </p:nvPicPr>
        <p:blipFill>
          <a:blip r:embed="rId1"/>
          <a:stretch/>
        </p:blipFill>
        <p:spPr>
          <a:xfrm>
            <a:off x="27000" y="4057560"/>
            <a:ext cx="6985080" cy="288144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 rot="16200000">
            <a:off x="-464400" y="-887760"/>
            <a:ext cx="2466720" cy="1125720"/>
          </a:xfrm>
          <a:custGeom>
            <a:avLst/>
            <a:gdLst>
              <a:gd name="textAreaLeft" fmla="*/ 308160 w 2466720"/>
              <a:gd name="textAreaRight" fmla="*/ 2158560 w 2466720"/>
              <a:gd name="textAreaTop" fmla="*/ 281520 h 1125720"/>
              <a:gd name="textAreaBottom" fmla="*/ 84456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ea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96,1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5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630360" y="1763640"/>
            <a:ext cx="6615000" cy="574920"/>
            <a:chOff x="630360" y="1763640"/>
            <a:chExt cx="6615000" cy="574920"/>
          </a:xfrm>
        </p:grpSpPr>
        <p:sp>
          <p:nvSpPr>
            <p:cNvPr id="176" name="Line 5"/>
            <p:cNvSpPr/>
            <p:nvPr/>
          </p:nvSpPr>
          <p:spPr>
            <a:xfrm>
              <a:off x="1079640" y="2050920"/>
              <a:ext cx="494640" cy="360"/>
            </a:xfrm>
            <a:prstGeom prst="line">
              <a:avLst/>
            </a:prstGeom>
            <a:ln w="2232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630360" y="1763640"/>
              <a:ext cx="576000" cy="574920"/>
            </a:xfrm>
            <a:prstGeom prst="rect">
              <a:avLst/>
            </a:prstGeom>
            <a:solidFill>
              <a:srgbClr val="366b7e"/>
            </a:solidFill>
            <a:ln w="648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1485720" y="1763640"/>
              <a:ext cx="5759640" cy="574920"/>
            </a:xfrm>
            <a:prstGeom prst="rect">
              <a:avLst/>
            </a:prstGeom>
            <a:solidFill>
              <a:srgbClr val="366b7e"/>
            </a:solidFill>
            <a:ln w="936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Be diffe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9" name="AutoShape 7"/>
          <p:cNvCxnSpPr/>
          <p:nvPr/>
        </p:nvCxnSpPr>
        <p:spPr>
          <a:xfrm>
            <a:off x="253800" y="1224000"/>
            <a:ext cx="8639640" cy="2160"/>
          </a:xfrm>
          <a:prstGeom prst="straightConnector1">
            <a:avLst/>
          </a:prstGeom>
          <a:ln w="25560">
            <a:solidFill>
              <a:srgbClr val="6ea0b0"/>
            </a:solidFill>
            <a:miter/>
          </a:ln>
        </p:spPr>
      </p:cxnSp>
      <p:grpSp>
        <p:nvGrpSpPr>
          <p:cNvPr id="180" name="Group 8"/>
          <p:cNvGrpSpPr/>
          <p:nvPr/>
        </p:nvGrpSpPr>
        <p:grpSpPr>
          <a:xfrm>
            <a:off x="1093680" y="3117960"/>
            <a:ext cx="6615360" cy="574560"/>
            <a:chOff x="1093680" y="3117960"/>
            <a:chExt cx="6615360" cy="574560"/>
          </a:xfrm>
        </p:grpSpPr>
        <p:sp>
          <p:nvSpPr>
            <p:cNvPr id="181" name="Line 5"/>
            <p:cNvSpPr/>
            <p:nvPr/>
          </p:nvSpPr>
          <p:spPr>
            <a:xfrm>
              <a:off x="1542960" y="3404880"/>
              <a:ext cx="494640" cy="360"/>
            </a:xfrm>
            <a:prstGeom prst="line">
              <a:avLst/>
            </a:prstGeom>
            <a:ln w="2232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1093680" y="3117960"/>
              <a:ext cx="576000" cy="574560"/>
            </a:xfrm>
            <a:prstGeom prst="rect">
              <a:avLst/>
            </a:prstGeom>
            <a:solidFill>
              <a:srgbClr val="366b7e"/>
            </a:solidFill>
            <a:ln w="648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"/>
            <p:cNvSpPr/>
            <p:nvPr/>
          </p:nvSpPr>
          <p:spPr>
            <a:xfrm>
              <a:off x="1949040" y="3117960"/>
              <a:ext cx="5760000" cy="574560"/>
            </a:xfrm>
            <a:prstGeom prst="rect">
              <a:avLst/>
            </a:prstGeom>
            <a:solidFill>
              <a:srgbClr val="366b7e"/>
            </a:solidFill>
            <a:ln w="936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Keep it si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2"/>
          <p:cNvGrpSpPr/>
          <p:nvPr/>
        </p:nvGrpSpPr>
        <p:grpSpPr>
          <a:xfrm>
            <a:off x="1557360" y="4471920"/>
            <a:ext cx="6615000" cy="576360"/>
            <a:chOff x="1557360" y="4471920"/>
            <a:chExt cx="6615000" cy="576360"/>
          </a:xfrm>
        </p:grpSpPr>
        <p:sp>
          <p:nvSpPr>
            <p:cNvPr id="185" name="Line 5"/>
            <p:cNvSpPr/>
            <p:nvPr/>
          </p:nvSpPr>
          <p:spPr>
            <a:xfrm>
              <a:off x="2006640" y="4759560"/>
              <a:ext cx="494640" cy="360"/>
            </a:xfrm>
            <a:prstGeom prst="line">
              <a:avLst/>
            </a:prstGeom>
            <a:ln w="2232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557360" y="4471920"/>
              <a:ext cx="576000" cy="576360"/>
            </a:xfrm>
            <a:prstGeom prst="rect">
              <a:avLst/>
            </a:prstGeom>
            <a:solidFill>
              <a:srgbClr val="366b7e"/>
            </a:solidFill>
            <a:ln w="648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2412720" y="4471920"/>
              <a:ext cx="5759640" cy="576360"/>
            </a:xfrm>
            <a:prstGeom prst="rect">
              <a:avLst/>
            </a:prstGeom>
            <a:solidFill>
              <a:srgbClr val="366b7e"/>
            </a:solidFill>
            <a:ln w="936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Make this yo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 rot="18900000">
            <a:off x="2419200" y="2971800"/>
            <a:ext cx="898560" cy="917640"/>
          </a:xfrm>
          <a:prstGeom prst="rect">
            <a:avLst/>
          </a:prstGeom>
          <a:solidFill>
            <a:srgbClr val="366b7e"/>
          </a:solidFill>
          <a:ln w="648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882800" y="3214440"/>
            <a:ext cx="1992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3581280" y="3429000"/>
            <a:ext cx="4365720" cy="0"/>
          </a:xfrm>
          <a:prstGeom prst="line">
            <a:avLst/>
          </a:prstGeom>
          <a:ln w="2844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708360" y="2708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diffe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/Users/INK/Desktop/design/img/dare-to-be-different-pictures11.jpegdare-to-be-different-pictures11"/>
          <p:cNvPicPr/>
          <p:nvPr/>
        </p:nvPicPr>
        <p:blipFill>
          <a:blip r:embed="rId1"/>
          <a:srcRect l="0" t="26328" r="0" b="0"/>
          <a:stretch/>
        </p:blipFill>
        <p:spPr>
          <a:xfrm>
            <a:off x="-326880" y="-165240"/>
            <a:ext cx="9617040" cy="70851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628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Make a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 rot="18900000">
            <a:off x="2419200" y="2971800"/>
            <a:ext cx="898560" cy="917640"/>
          </a:xfrm>
          <a:prstGeom prst="rect">
            <a:avLst/>
          </a:prstGeom>
          <a:solidFill>
            <a:srgbClr val="366b7e"/>
          </a:solidFill>
          <a:ln w="648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882800" y="3214440"/>
            <a:ext cx="1992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581280" y="3429000"/>
            <a:ext cx="4365720" cy="0"/>
          </a:xfrm>
          <a:prstGeom prst="line">
            <a:avLst/>
          </a:prstGeom>
          <a:ln w="2844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762360" y="2708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i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2232000" y="2303640"/>
                <a:ext cx="5283360" cy="20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 rot="18900000">
            <a:off x="2419200" y="2971800"/>
            <a:ext cx="898560" cy="917640"/>
          </a:xfrm>
          <a:prstGeom prst="rect">
            <a:avLst/>
          </a:prstGeom>
          <a:solidFill>
            <a:srgbClr val="366b7e"/>
          </a:solidFill>
          <a:ln w="648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882800" y="3214800"/>
            <a:ext cx="1992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3581280" y="3429000"/>
            <a:ext cx="4365720" cy="0"/>
          </a:xfrm>
          <a:prstGeom prst="line">
            <a:avLst/>
          </a:prstGeom>
          <a:ln w="2844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716280" y="2708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this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49200" y="6497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ange 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476280" y="2584440"/>
            <a:ext cx="841680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927000" y="1617840"/>
            <a:ext cx="39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幻灯片母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5832360" y="2800440"/>
            <a:ext cx="668520" cy="849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2050920" y="4375080"/>
            <a:ext cx="39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然后更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403542 0.065556 E">
                                      <p:cBhvr>
                                        <p:cTn id="77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-57240" y="3924360"/>
            <a:ext cx="9296640" cy="29368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/Users/INK/Desktop/design/img/HIT_main_building_white.pngHIT_main_building_white"/>
          <p:cNvPicPr/>
          <p:nvPr/>
        </p:nvPicPr>
        <p:blipFill>
          <a:blip r:embed="rId1"/>
          <a:stretch/>
        </p:blipFill>
        <p:spPr>
          <a:xfrm>
            <a:off x="27000" y="4057560"/>
            <a:ext cx="6985080" cy="2881440"/>
          </a:xfrm>
          <a:prstGeom prst="rect">
            <a:avLst/>
          </a:prstGeom>
          <a:ln w="0">
            <a:noFill/>
          </a:ln>
        </p:spPr>
      </p:pic>
      <p:sp>
        <p:nvSpPr>
          <p:cNvPr id="211" name="标题 1"/>
          <p:cNvSpPr/>
          <p:nvPr/>
        </p:nvSpPr>
        <p:spPr>
          <a:xfrm>
            <a:off x="527040" y="198900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ea0b0"/>
                </a:solidFill>
                <a:latin typeface="Bitsumishi"/>
                <a:ea typeface="微软雅黑"/>
              </a:rPr>
              <a:t>Thanks</a:t>
            </a:r>
            <a:r>
              <a:rPr b="0" lang="zh-CN" sz="8000" spc="-1" strike="noStrike">
                <a:solidFill>
                  <a:srgbClr val="6ea0b0"/>
                </a:solidFill>
                <a:latin typeface="Bitsumishi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 rot="16200000">
            <a:off x="-464400" y="-887760"/>
            <a:ext cx="2466720" cy="1125720"/>
          </a:xfrm>
          <a:custGeom>
            <a:avLst/>
            <a:gdLst>
              <a:gd name="textAreaLeft" fmla="*/ 308160 w 2466720"/>
              <a:gd name="textAreaRight" fmla="*/ 2158560 w 2466720"/>
              <a:gd name="textAreaTop" fmla="*/ 281520 h 1125720"/>
              <a:gd name="textAreaBottom" fmla="*/ 84456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ea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yu wang</cp:lastModifiedBy>
  <dcterms:modified xsi:type="dcterms:W3CDTF">2015-08-14T12:52:31Z</dcterms:modified>
  <cp:revision>4</cp:revision>
  <dc:subject/>
  <dc:title>Make a dif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