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E3F-8FC3-44DC-A164-E186ABBC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2E4-6901-45C9-914D-C0756B68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F6F44-A0B0-447B-A3ED-51600A8B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F7CB6-BB62-49CF-9751-D521CAA7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E71A7-C640-49E6-8AA2-E9C84BA2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2EE9C-5723-4E80-829A-F5B06774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C78CD-722C-4BC7-AACD-32E83BD5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D66F1-267B-4870-AFCE-03BF2F2C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F60CB-F91A-42B7-BBAC-A8817275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430B2-7E82-45AF-86A3-1BCF29E7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28D8F-FA15-4CD8-970D-6E08882A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64A27-EF20-4F91-8C5C-11DC8542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BDD-68EF-4E5A-9E0B-C31A4D17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0AA09-DDA7-42F5-845F-5FAFDE8E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CB892-F141-44AC-9851-49820F34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14EFD-F1F1-4DC3-A2B6-D30F6FB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3D912-EFFF-42D8-8B4D-A2887DBC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A69B9-74F7-4C94-A811-7221936D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2EC7A-726F-415D-B1E9-F367895E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1ADFB-8BC8-439B-99F7-48C6E542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06176-BA82-4BA2-AAF4-9D17C36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5E1FA-8871-4699-B0C6-0FE6E373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BF8B1-03DA-4615-992C-E0D3BBA9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526-16DC-4E72-8785-B865C39B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DF47D-E69C-4A47-B73B-1D553EDF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79FB6-A300-4DDC-A1B2-B5A8884A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98153-1C0D-4E06-A71B-3975FE04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02163-293F-4058-9BB6-D5C14EAD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11A64-3F14-408C-9E45-14B32FAF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65BE6-53D7-442A-9352-09306371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A0B52-6C7E-4138-9115-C4B07949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F3410-3FFC-4A0A-96FC-F463855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8647B-8BBB-476E-A7C2-FB33E38D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3135C-4795-46C6-AC26-8D3A8E0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711D-5909-4C03-B46F-95583AFA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F14B9-E1EB-47A2-BF7D-527D76B2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11CC6-B815-41BB-AE10-745AE4D0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3F619-820C-4765-BEDE-85907CB7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ACC6D-E54F-4136-A224-2F8190BA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0AE00-9C79-4684-ADE3-BE14A1A9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25B7C-0376-4588-8AB6-401BECDD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EED6D-8E5E-404D-9AD7-C123001E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1C125-28BF-4595-A241-6BB3C19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62DB4-4E47-4A02-ADBB-6C367EFA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5A753-EF55-4996-BAEB-644A08B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57FC-B463-485B-B3B4-5EFE3C96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7F8B8-4628-45A1-A4D2-552FB2D3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97D41-B293-4221-93EF-0DB2CC32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7F975-109D-4955-8220-9CB25661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2F5E6-6F31-4B30-AD2A-8C2264B7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AE44A-7E4C-4186-A7F8-4183A628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933A7-DFD0-4918-B8A5-48BCA12B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21E3F-285F-425E-AE77-92605740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30503-EE9E-4916-845B-50160882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E9EEC-79D2-4BD7-AEE1-D6172701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30181-9401-4B44-A8B5-F75A57DC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B706-A478-45A1-A5AD-99BC6450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23632-FFA2-4F58-AAED-3D355435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2C697-39CA-42F1-88AB-8668449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A5679-2753-463F-80DA-0022B407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36DA6-B1D2-4E0A-B3D2-719CCD5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1D7AA-58EA-4E40-8234-4A8D9436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5D1EE-B617-48FF-8988-FD8D0CD0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60BAB-4BDB-4300-BD0B-973BA3F7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2703-65D5-46D3-8339-39D12D4B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71E8-EBB3-49EE-957C-EBD3235E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E70D-E09F-4A80-82EA-CC4A8773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5DB3-D516-452D-A02A-978885A9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1E8-458C-4307-917A-7AF38C81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258B-A2CE-44EB-9094-BB1C0EA9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3FAA-A090-4E28-8CCA-1EC77F9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CFD9-E805-4A62-A8F0-79FB7F02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361E-8C82-4D95-9086-EBFF2A27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62EC-78C2-491C-8F4D-0F1D062B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C414-A9EF-40D0-89EF-313CDD1E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29BE-9B5E-443E-8DBA-2CFD6D55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AE70-A1C5-47FC-A003-CC87BA3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E4E5-E838-4E23-8AE9-BE96A9D5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E0C0-8200-4E75-860B-CDED6F5B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11B-DF10-4257-9DBF-E77080AB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7FD3-B759-4314-9476-4D053BE8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F460-B1DF-4E0B-BF61-97E4337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9616-7E71-44B8-9C8E-64CD2F52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1122-223C-4576-BB7C-154E3E0E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6F77-1A13-4F18-883C-36540A2F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67B7-91C9-4543-88AA-E186BC79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19A63-D7D8-40FE-A615-9BDE06B3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EAFA6-A285-4218-A176-625CF96A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B0155-E6B5-4F86-A40C-536B8340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5DBF-2271-4C99-8799-D266A6D5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D2A-0316-49C0-BC53-D4DC9A41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A132-000D-4844-92EE-73557A34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A0A0-7A49-4358-80C6-196C6FB7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31DD7-8933-4E2F-8573-FAC91C8B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D3A4-125E-40F1-B4C4-47AB8FD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EDE89-7A41-451C-BD36-BA4C415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B46A9-ED84-4092-8B28-4793AF4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068F-6797-49F9-AC27-43E8B71A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61248-C551-4FAA-831F-DE3F6DE7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237CC-A730-46E8-B91E-1FA58D01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AFCE-6919-4991-9FE7-1A0A696A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802-1411-43E4-A999-99188450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77E06-9FCF-4B62-A4EE-DEE969D9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B1E4D-D2A9-4A21-950D-CB35F8D6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ACA6B-4390-4337-B15E-E30CA30C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08EAA-D7AD-410C-8707-A819B132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BCAA2-A8D2-4C7D-B8F8-9DD2750E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64DB-83C4-4B72-9A9D-7200F932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7601F-1637-4F32-8A72-F12036B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EEE1B-1F28-404F-ADE8-834D781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8B105-F2A4-4EEB-891A-081A95EF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8B151-CCAD-44D1-B6BC-F46E1E57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30A-A431-4697-92FE-C92D9741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B97E-D8D6-4B9F-82DA-39072021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E3E42-BEBA-4DA2-8DC6-E8452E34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C506B-8F18-483F-9CBC-32F029E7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EF188-A6DC-4971-B236-3AD87882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D185-5152-4E0B-872B-2225F8E6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F33A-ACBE-450B-9F18-A69305D8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6F330-1F6B-4FEB-B0C7-E946BF42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E0DCA-2250-4BD6-86BF-9DD0A5E4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182F1-8AA0-4770-BAFD-0562B4B4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13FD3-E917-4B38-BD00-7D3A962D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0D0-81E5-44F9-883E-38EEA70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D89A6-F9D4-4530-9C38-7FF75DBB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1F3F9-85CC-4E74-A908-995EBD17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B30AE-86F1-42C3-AF69-51DC5DEB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92137-B63A-4685-B53F-EDA162A5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8DF31-CC64-48B3-9FF7-3467627D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C1DD-45D3-4999-ADE3-647BC6EA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FFE9-3009-4331-8A25-00E6BC04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8977-A07F-4EB6-9288-EA0530A3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8186-5109-413E-BBFE-A786FB9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5497B-69D9-4815-91EF-F77D120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383-7E97-4730-9C97-1F3A26E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CDE02-16C8-4D5D-AC09-695892B4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96238-9E14-49B1-A1FC-53A7853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E1065-7B54-4443-AAC1-F0821BB6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B4E05-4A1E-4A78-A247-201F702E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75EDF-5121-4F74-B50E-1E8D394A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63662-8C75-4CDE-99A9-7841B368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F9FB6-F3B2-4FA1-8FCC-E868E5A7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2A9EF-B857-4EB7-AD98-C51D2CA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455B5-1CA6-4E2D-B6F5-E140EBAC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A1478-8B0F-488D-BD88-4013037C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309-69F1-4CF1-B4C5-0D79FAB9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2D266-4799-48AB-A3F9-574941B2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A19D7-21C9-4A6A-854A-FF9ACE1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134A3-76BD-422F-9B49-CE27D98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89A4D-E43E-47B0-849B-B0276821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FFA32-9FE2-4819-BB26-897489DD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63712-4483-4F7C-9640-51C8A182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A482F-9DA6-4463-A51D-3852B461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D4029-B079-45E9-AD24-B59E7850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20D87-FE55-4089-9C9E-2641ED09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2B9CD-ED4C-4DE0-B15C-82C50219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847B-D634-4D88-81D2-5E8E2DA4BB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A400-819C-4FB4-83FD-B36FC8C701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4794-9C6C-446B-8AF8-6F06239476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8702-E8A3-4A05-AE17-1312B0A29C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9932-804C-4BAA-A544-7D9A8887A4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3F79-D340-485B-BC57-9AA17D3611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F85E-B62E-440E-AD05-2361DBCB6B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B564-E6B0-4F40-B52C-1469DDC5DA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EFBE-2D3A-4453-8696-3C72D07B19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D69A-AF4C-45B9-93BF-7175E7F7E7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001-97B9-4ED5-88B8-F014E85B99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41F7-0CD7-4C12-BCE4-3249F77FA5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BE02-BF99-4A07-A7DA-0132555E7E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矩形 3"/>
          <p:cNvSpPr/>
          <p:nvPr/>
        </p:nvSpPr>
        <p:spPr>
          <a:xfrm>
            <a:off x="900000" y="1123920"/>
            <a:ext cx="777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大气的商务蓝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"/>
          <p:cNvSpPr/>
          <p:nvPr/>
        </p:nvSpPr>
        <p:spPr>
          <a:xfrm>
            <a:off x="4313880" y="5688000"/>
            <a:ext cx="1400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5439600" y="2314440"/>
            <a:ext cx="1400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圆角矩形 1"/>
          <p:cNvSpPr/>
          <p:nvPr/>
        </p:nvSpPr>
        <p:spPr>
          <a:xfrm>
            <a:off x="0" y="1689120"/>
            <a:ext cx="914400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7" descr=""/>
          <p:cNvPicPr/>
          <p:nvPr/>
        </p:nvPicPr>
        <p:blipFill>
          <a:blip r:embed="rId1"/>
          <a:stretch/>
        </p:blipFill>
        <p:spPr>
          <a:xfrm>
            <a:off x="628560" y="-1558800"/>
            <a:ext cx="8713800" cy="158256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5"/>
          <p:cNvSpPr/>
          <p:nvPr/>
        </p:nvSpPr>
        <p:spPr>
          <a:xfrm>
            <a:off x="1152360" y="198432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2"/>
          <a:stretch/>
        </p:blipFill>
        <p:spPr>
          <a:xfrm>
            <a:off x="0" y="1628640"/>
            <a:ext cx="1177920" cy="1177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"/>
          <p:cNvPicPr/>
          <p:nvPr/>
        </p:nvPicPr>
        <p:blipFill>
          <a:blip r:embed="rId3"/>
          <a:stretch/>
        </p:blipFill>
        <p:spPr>
          <a:xfrm>
            <a:off x="3419640" y="3068640"/>
            <a:ext cx="2520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矩形 24"/>
          <p:cNvSpPr/>
          <p:nvPr/>
        </p:nvSpPr>
        <p:spPr>
          <a:xfrm>
            <a:off x="1342080" y="2997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3"/>
          <p:cNvGrpSpPr/>
          <p:nvPr/>
        </p:nvGrpSpPr>
        <p:grpSpPr>
          <a:xfrm>
            <a:off x="3092400" y="2941560"/>
            <a:ext cx="522360" cy="412920"/>
            <a:chOff x="3092400" y="2941560"/>
            <a:chExt cx="522360" cy="412920"/>
          </a:xfrm>
        </p:grpSpPr>
        <p:sp>
          <p:nvSpPr>
            <p:cNvPr id="727" name="燕尾形 11"/>
            <p:cNvSpPr/>
            <p:nvPr/>
          </p:nvSpPr>
          <p:spPr>
            <a:xfrm>
              <a:off x="3092400" y="2941560"/>
              <a:ext cx="282600" cy="412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燕尾形 12"/>
            <p:cNvSpPr/>
            <p:nvPr/>
          </p:nvSpPr>
          <p:spPr>
            <a:xfrm>
              <a:off x="3332160" y="2941560"/>
              <a:ext cx="282600" cy="412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6"/>
          <p:cNvGrpSpPr/>
          <p:nvPr/>
        </p:nvGrpSpPr>
        <p:grpSpPr>
          <a:xfrm>
            <a:off x="5838840" y="2941560"/>
            <a:ext cx="522360" cy="412920"/>
            <a:chOff x="5838840" y="2941560"/>
            <a:chExt cx="522360" cy="412920"/>
          </a:xfrm>
        </p:grpSpPr>
        <p:sp>
          <p:nvSpPr>
            <p:cNvPr id="730" name="燕尾形 14"/>
            <p:cNvSpPr/>
            <p:nvPr/>
          </p:nvSpPr>
          <p:spPr>
            <a:xfrm>
              <a:off x="5838840" y="2941560"/>
              <a:ext cx="282600" cy="412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燕尾形 15"/>
            <p:cNvSpPr/>
            <p:nvPr/>
          </p:nvSpPr>
          <p:spPr>
            <a:xfrm>
              <a:off x="6078600" y="2941560"/>
              <a:ext cx="282600" cy="412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9"/>
          <p:cNvGrpSpPr/>
          <p:nvPr/>
        </p:nvGrpSpPr>
        <p:grpSpPr>
          <a:xfrm>
            <a:off x="3567600" y="3933720"/>
            <a:ext cx="1892520" cy="1892520"/>
            <a:chOff x="3567600" y="3933720"/>
            <a:chExt cx="1892520" cy="1892520"/>
          </a:xfrm>
        </p:grpSpPr>
        <p:sp>
          <p:nvSpPr>
            <p:cNvPr id="733" name="矩形 17"/>
            <p:cNvSpPr/>
            <p:nvPr/>
          </p:nvSpPr>
          <p:spPr>
            <a:xfrm>
              <a:off x="3748680" y="49618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2" descr=""/>
            <p:cNvPicPr/>
            <p:nvPr/>
          </p:nvPicPr>
          <p:blipFill>
            <a:blip r:embed="rId1"/>
            <a:stretch/>
          </p:blipFill>
          <p:spPr>
            <a:xfrm>
              <a:off x="3567600" y="3933720"/>
              <a:ext cx="1892520" cy="189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矩形 24"/>
          <p:cNvSpPr/>
          <p:nvPr/>
        </p:nvSpPr>
        <p:spPr>
          <a:xfrm>
            <a:off x="4174200" y="2997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24"/>
          <p:cNvSpPr/>
          <p:nvPr/>
        </p:nvSpPr>
        <p:spPr>
          <a:xfrm>
            <a:off x="6986520" y="2997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4" descr=""/>
          <p:cNvPicPr/>
          <p:nvPr/>
        </p:nvPicPr>
        <p:blipFill>
          <a:blip r:embed="rId2"/>
          <a:stretch/>
        </p:blipFill>
        <p:spPr>
          <a:xfrm>
            <a:off x="2873520" y="1096920"/>
            <a:ext cx="3466800" cy="976320"/>
          </a:xfrm>
          <a:prstGeom prst="rect">
            <a:avLst/>
          </a:prstGeom>
          <a:ln w="0">
            <a:noFill/>
          </a:ln>
        </p:spPr>
      </p:pic>
      <p:sp>
        <p:nvSpPr>
          <p:cNvPr id="738" name="矩形 24"/>
          <p:cNvSpPr/>
          <p:nvPr/>
        </p:nvSpPr>
        <p:spPr>
          <a:xfrm>
            <a:off x="3997440" y="1484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圆角矩形 1"/>
          <p:cNvSpPr/>
          <p:nvPr/>
        </p:nvSpPr>
        <p:spPr>
          <a:xfrm>
            <a:off x="0" y="1689120"/>
            <a:ext cx="914400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7" descr=""/>
          <p:cNvPicPr/>
          <p:nvPr/>
        </p:nvPicPr>
        <p:blipFill>
          <a:blip r:embed="rId1"/>
          <a:stretch/>
        </p:blipFill>
        <p:spPr>
          <a:xfrm>
            <a:off x="628560" y="-1558800"/>
            <a:ext cx="8713800" cy="158256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5"/>
          <p:cNvSpPr/>
          <p:nvPr/>
        </p:nvSpPr>
        <p:spPr>
          <a:xfrm>
            <a:off x="1152360" y="198432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2"/>
          <a:stretch/>
        </p:blipFill>
        <p:spPr>
          <a:xfrm>
            <a:off x="1440" y="1628640"/>
            <a:ext cx="1175040" cy="11779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6" descr=""/>
          <p:cNvPicPr/>
          <p:nvPr/>
        </p:nvPicPr>
        <p:blipFill>
          <a:blip r:embed="rId3"/>
          <a:stretch/>
        </p:blipFill>
        <p:spPr>
          <a:xfrm>
            <a:off x="2448000" y="2514600"/>
            <a:ext cx="42480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矩形 3"/>
          <p:cNvSpPr/>
          <p:nvPr/>
        </p:nvSpPr>
        <p:spPr>
          <a:xfrm>
            <a:off x="2673360" y="1557360"/>
            <a:ext cx="468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4313880" y="5688000"/>
            <a:ext cx="1400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971640" y="2697120"/>
            <a:ext cx="8121600" cy="3684600"/>
            <a:chOff x="971640" y="2697120"/>
            <a:chExt cx="8121600" cy="3684600"/>
          </a:xfrm>
        </p:grpSpPr>
        <p:sp>
          <p:nvSpPr>
            <p:cNvPr id="552" name="新月形 34"/>
            <p:cNvSpPr/>
            <p:nvPr/>
          </p:nvSpPr>
          <p:spPr>
            <a:xfrm rot="16200000">
              <a:off x="3896640" y="1185120"/>
              <a:ext cx="2271600" cy="812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30"/>
            <p:cNvSpPr/>
            <p:nvPr/>
          </p:nvSpPr>
          <p:spPr>
            <a:xfrm>
              <a:off x="4084920" y="26971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000"/>
                  </a:solidFill>
                  <a:latin typeface="黑体"/>
                  <a:ea typeface="黑体"/>
                </a:rPr>
                <a:t>单击此处添加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橢圓 9"/>
          <p:cNvSpPr/>
          <p:nvPr/>
        </p:nvSpPr>
        <p:spPr>
          <a:xfrm>
            <a:off x="5867280" y="2095560"/>
            <a:ext cx="1425600" cy="1406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橢圓 9"/>
          <p:cNvSpPr/>
          <p:nvPr/>
        </p:nvSpPr>
        <p:spPr>
          <a:xfrm>
            <a:off x="4154400" y="833400"/>
            <a:ext cx="1425600" cy="1406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橢圓 9"/>
          <p:cNvSpPr/>
          <p:nvPr/>
        </p:nvSpPr>
        <p:spPr>
          <a:xfrm>
            <a:off x="5219640" y="4040280"/>
            <a:ext cx="1425600" cy="14047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橢圓 9"/>
          <p:cNvSpPr/>
          <p:nvPr/>
        </p:nvSpPr>
        <p:spPr>
          <a:xfrm>
            <a:off x="3075120" y="3967200"/>
            <a:ext cx="1423800" cy="1406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橢圓 9"/>
          <p:cNvSpPr/>
          <p:nvPr/>
        </p:nvSpPr>
        <p:spPr>
          <a:xfrm>
            <a:off x="2498760" y="2163600"/>
            <a:ext cx="1425600" cy="1406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6"/>
          <p:cNvSpPr/>
          <p:nvPr/>
        </p:nvSpPr>
        <p:spPr>
          <a:xfrm>
            <a:off x="4545360" y="288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38160" y="4062240"/>
            <a:ext cx="174636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7" descr=""/>
          <p:cNvPicPr/>
          <p:nvPr/>
        </p:nvPicPr>
        <p:blipFill>
          <a:blip r:embed="rId1"/>
          <a:stretch/>
        </p:blipFill>
        <p:spPr>
          <a:xfrm>
            <a:off x="628560" y="-1558800"/>
            <a:ext cx="8713800" cy="158256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3"/>
          <p:cNvGrpSpPr/>
          <p:nvPr/>
        </p:nvGrpSpPr>
        <p:grpSpPr>
          <a:xfrm>
            <a:off x="0" y="1628640"/>
            <a:ext cx="9180360" cy="1179720"/>
            <a:chOff x="0" y="1628640"/>
            <a:chExt cx="9180360" cy="1179720"/>
          </a:xfrm>
        </p:grpSpPr>
        <p:sp>
          <p:nvSpPr>
            <p:cNvPr id="563" name="圆角矩形 1"/>
            <p:cNvSpPr/>
            <p:nvPr/>
          </p:nvSpPr>
          <p:spPr>
            <a:xfrm>
              <a:off x="0" y="1690560"/>
              <a:ext cx="9144000" cy="108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ae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5"/>
            <p:cNvSpPr/>
            <p:nvPr/>
          </p:nvSpPr>
          <p:spPr>
            <a:xfrm>
              <a:off x="1152000" y="1984680"/>
              <a:ext cx="80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1628640"/>
              <a:ext cx="1177920" cy="117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6" name="Picture 11" descr=""/>
          <p:cNvPicPr/>
          <p:nvPr/>
        </p:nvPicPr>
        <p:blipFill>
          <a:blip r:embed="rId3"/>
          <a:stretch/>
        </p:blipFill>
        <p:spPr>
          <a:xfrm>
            <a:off x="2894040" y="2808360"/>
            <a:ext cx="32972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7" name="直接箭头连接符 73"/>
          <p:cNvCxnSpPr>
            <a:stCxn id="568" idx="5"/>
            <a:endCxn id="569" idx="7"/>
          </p:cNvCxnSpPr>
          <p:nvPr/>
        </p:nvCxnSpPr>
        <p:spPr>
          <a:xfrm>
            <a:off x="6365880" y="3943080"/>
            <a:ext cx="519840" cy="64980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570" name="直接箭头连接符 59"/>
          <p:cNvCxnSpPr>
            <a:stCxn id="571" idx="5"/>
            <a:endCxn id="572" idx="7"/>
          </p:cNvCxnSpPr>
          <p:nvPr/>
        </p:nvCxnSpPr>
        <p:spPr>
          <a:xfrm>
            <a:off x="3652920" y="3881160"/>
            <a:ext cx="459360" cy="64980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573" name="矩形 2"/>
          <p:cNvSpPr/>
          <p:nvPr/>
        </p:nvSpPr>
        <p:spPr>
          <a:xfrm>
            <a:off x="3925080" y="981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"/>
          <p:cNvSpPr/>
          <p:nvPr/>
        </p:nvSpPr>
        <p:spPr>
          <a:xfrm>
            <a:off x="772200" y="2746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6"/>
          <p:cNvGrpSpPr/>
          <p:nvPr/>
        </p:nvGrpSpPr>
        <p:grpSpPr>
          <a:xfrm>
            <a:off x="4283640" y="1977480"/>
            <a:ext cx="1080360" cy="1107000"/>
            <a:chOff x="4283640" y="1977480"/>
            <a:chExt cx="1080360" cy="1107000"/>
          </a:xfrm>
        </p:grpSpPr>
        <p:sp>
          <p:nvSpPr>
            <p:cNvPr id="576" name="Oval 2"/>
            <p:cNvSpPr/>
            <p:nvPr/>
          </p:nvSpPr>
          <p:spPr>
            <a:xfrm>
              <a:off x="4359960" y="2076480"/>
              <a:ext cx="100404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11"/>
            <p:cNvSpPr/>
            <p:nvPr/>
          </p:nvSpPr>
          <p:spPr>
            <a:xfrm rot="19388400">
              <a:off x="4356000" y="2134800"/>
              <a:ext cx="681120" cy="4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12"/>
            <p:cNvSpPr/>
            <p:nvPr/>
          </p:nvSpPr>
          <p:spPr>
            <a:xfrm>
              <a:off x="4467600" y="2184480"/>
              <a:ext cx="78876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0"/>
          <p:cNvGrpSpPr/>
          <p:nvPr/>
        </p:nvGrpSpPr>
        <p:grpSpPr>
          <a:xfrm>
            <a:off x="2385720" y="4480920"/>
            <a:ext cx="457560" cy="470520"/>
            <a:chOff x="2385720" y="4480920"/>
            <a:chExt cx="457560" cy="470520"/>
          </a:xfrm>
        </p:grpSpPr>
        <p:sp>
          <p:nvSpPr>
            <p:cNvPr id="580" name="Oval 2"/>
            <p:cNvSpPr/>
            <p:nvPr/>
          </p:nvSpPr>
          <p:spPr>
            <a:xfrm>
              <a:off x="2417760" y="4522680"/>
              <a:ext cx="425520" cy="42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15"/>
            <p:cNvSpPr/>
            <p:nvPr/>
          </p:nvSpPr>
          <p:spPr>
            <a:xfrm rot="19388400">
              <a:off x="2416320" y="4547880"/>
              <a:ext cx="289080" cy="19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16"/>
            <p:cNvSpPr/>
            <p:nvPr/>
          </p:nvSpPr>
          <p:spPr>
            <a:xfrm>
              <a:off x="2463480" y="4568400"/>
              <a:ext cx="334080" cy="33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4"/>
          <p:cNvGrpSpPr/>
          <p:nvPr/>
        </p:nvGrpSpPr>
        <p:grpSpPr>
          <a:xfrm>
            <a:off x="3083760" y="3295800"/>
            <a:ext cx="716760" cy="734760"/>
            <a:chOff x="3083760" y="3295800"/>
            <a:chExt cx="716760" cy="734760"/>
          </a:xfrm>
        </p:grpSpPr>
        <p:sp>
          <p:nvSpPr>
            <p:cNvPr id="584" name="Oval 2"/>
            <p:cNvSpPr/>
            <p:nvPr/>
          </p:nvSpPr>
          <p:spPr>
            <a:xfrm>
              <a:off x="3134520" y="3360600"/>
              <a:ext cx="666000" cy="66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19"/>
            <p:cNvSpPr/>
            <p:nvPr/>
          </p:nvSpPr>
          <p:spPr>
            <a:xfrm rot="19388400">
              <a:off x="3131640" y="3399840"/>
              <a:ext cx="4510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20"/>
            <p:cNvSpPr/>
            <p:nvPr/>
          </p:nvSpPr>
          <p:spPr>
            <a:xfrm>
              <a:off x="3205800" y="3432240"/>
              <a:ext cx="523080" cy="52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8"/>
          <p:cNvGrpSpPr/>
          <p:nvPr/>
        </p:nvGrpSpPr>
        <p:grpSpPr>
          <a:xfrm>
            <a:off x="3898440" y="4480920"/>
            <a:ext cx="457560" cy="470520"/>
            <a:chOff x="3898440" y="4480920"/>
            <a:chExt cx="457560" cy="470520"/>
          </a:xfrm>
        </p:grpSpPr>
        <p:sp>
          <p:nvSpPr>
            <p:cNvPr id="587" name="Oval 2"/>
            <p:cNvSpPr/>
            <p:nvPr/>
          </p:nvSpPr>
          <p:spPr>
            <a:xfrm>
              <a:off x="3930480" y="4522680"/>
              <a:ext cx="425520" cy="42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椭圆 23"/>
            <p:cNvSpPr/>
            <p:nvPr/>
          </p:nvSpPr>
          <p:spPr>
            <a:xfrm rot="19388400">
              <a:off x="3929040" y="4547880"/>
              <a:ext cx="289080" cy="19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椭圆 24"/>
            <p:cNvSpPr/>
            <p:nvPr/>
          </p:nvSpPr>
          <p:spPr>
            <a:xfrm>
              <a:off x="3976200" y="4568400"/>
              <a:ext cx="334080" cy="33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22"/>
          <p:cNvGrpSpPr/>
          <p:nvPr/>
        </p:nvGrpSpPr>
        <p:grpSpPr>
          <a:xfrm>
            <a:off x="5797080" y="3358080"/>
            <a:ext cx="716400" cy="734400"/>
            <a:chOff x="5797080" y="3358080"/>
            <a:chExt cx="716400" cy="734400"/>
          </a:xfrm>
        </p:grpSpPr>
        <p:sp>
          <p:nvSpPr>
            <p:cNvPr id="590" name="Oval 2"/>
            <p:cNvSpPr/>
            <p:nvPr/>
          </p:nvSpPr>
          <p:spPr>
            <a:xfrm>
              <a:off x="5847840" y="3422520"/>
              <a:ext cx="665640" cy="66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椭圆 43"/>
            <p:cNvSpPr/>
            <p:nvPr/>
          </p:nvSpPr>
          <p:spPr>
            <a:xfrm rot="19388400">
              <a:off x="5845320" y="3462120"/>
              <a:ext cx="45072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椭圆 44"/>
            <p:cNvSpPr/>
            <p:nvPr/>
          </p:nvSpPr>
          <p:spPr>
            <a:xfrm>
              <a:off x="5919120" y="3494160"/>
              <a:ext cx="523080" cy="52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2" name="直接箭头连接符 50"/>
          <p:cNvCxnSpPr>
            <a:stCxn id="576" idx="3"/>
            <a:endCxn id="584" idx="7"/>
          </p:cNvCxnSpPr>
          <p:nvPr/>
        </p:nvCxnSpPr>
        <p:spPr>
          <a:xfrm flipH="1">
            <a:off x="3702960" y="2936520"/>
            <a:ext cx="803880" cy="52308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593" name="直接箭头连接符 54"/>
          <p:cNvCxnSpPr>
            <a:stCxn id="576" idx="5"/>
            <a:endCxn id="591" idx="0"/>
          </p:cNvCxnSpPr>
          <p:nvPr/>
        </p:nvCxnSpPr>
        <p:spPr>
          <a:xfrm>
            <a:off x="5216040" y="2936520"/>
            <a:ext cx="762840" cy="55620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594" name="直接箭头连接符 56"/>
          <p:cNvCxnSpPr>
            <a:stCxn id="584" idx="3"/>
            <a:endCxn id="580" idx="7"/>
          </p:cNvCxnSpPr>
          <p:nvPr/>
        </p:nvCxnSpPr>
        <p:spPr>
          <a:xfrm flipH="1">
            <a:off x="2781000" y="3931920"/>
            <a:ext cx="451440" cy="65484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grpSp>
        <p:nvGrpSpPr>
          <p:cNvPr id="595" name="Group 29"/>
          <p:cNvGrpSpPr/>
          <p:nvPr/>
        </p:nvGrpSpPr>
        <p:grpSpPr>
          <a:xfrm>
            <a:off x="5225760" y="4545000"/>
            <a:ext cx="459000" cy="468360"/>
            <a:chOff x="5225760" y="4545000"/>
            <a:chExt cx="459000" cy="468360"/>
          </a:xfrm>
        </p:grpSpPr>
        <p:sp>
          <p:nvSpPr>
            <p:cNvPr id="596" name="Oval 2"/>
            <p:cNvSpPr/>
            <p:nvPr/>
          </p:nvSpPr>
          <p:spPr>
            <a:xfrm>
              <a:off x="5257800" y="4586400"/>
              <a:ext cx="426960" cy="42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64"/>
            <p:cNvSpPr/>
            <p:nvPr/>
          </p:nvSpPr>
          <p:spPr>
            <a:xfrm rot="19388400">
              <a:off x="5256360" y="4611600"/>
              <a:ext cx="288720" cy="19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65"/>
            <p:cNvSpPr/>
            <p:nvPr/>
          </p:nvSpPr>
          <p:spPr>
            <a:xfrm>
              <a:off x="5303520" y="4632120"/>
              <a:ext cx="335160" cy="33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33"/>
          <p:cNvGrpSpPr/>
          <p:nvPr/>
        </p:nvGrpSpPr>
        <p:grpSpPr>
          <a:xfrm>
            <a:off x="6670080" y="4544640"/>
            <a:ext cx="459360" cy="468720"/>
            <a:chOff x="6670080" y="4544640"/>
            <a:chExt cx="459360" cy="468720"/>
          </a:xfrm>
        </p:grpSpPr>
        <p:sp>
          <p:nvSpPr>
            <p:cNvPr id="600" name="Oval 2"/>
            <p:cNvSpPr/>
            <p:nvPr/>
          </p:nvSpPr>
          <p:spPr>
            <a:xfrm>
              <a:off x="6702120" y="4586400"/>
              <a:ext cx="427320" cy="42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68"/>
            <p:cNvSpPr/>
            <p:nvPr/>
          </p:nvSpPr>
          <p:spPr>
            <a:xfrm rot="19388400">
              <a:off x="6700680" y="4611600"/>
              <a:ext cx="289080" cy="19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69"/>
            <p:cNvSpPr/>
            <p:nvPr/>
          </p:nvSpPr>
          <p:spPr>
            <a:xfrm>
              <a:off x="6748200" y="4632120"/>
              <a:ext cx="335520" cy="33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2" name="直接箭头连接符 71"/>
          <p:cNvCxnSpPr>
            <a:stCxn id="590" idx="3"/>
            <a:endCxn id="597" idx="6"/>
          </p:cNvCxnSpPr>
          <p:nvPr/>
        </p:nvCxnSpPr>
        <p:spPr>
          <a:xfrm flipH="1">
            <a:off x="5516280" y="3994200"/>
            <a:ext cx="429120" cy="62928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603" name="直接连接符 75"/>
          <p:cNvSpPr/>
          <p:nvPr/>
        </p:nvSpPr>
        <p:spPr>
          <a:xfrm>
            <a:off x="324000" y="4191120"/>
            <a:ext cx="8820000" cy="0"/>
          </a:xfrm>
          <a:prstGeom prst="line">
            <a:avLst/>
          </a:prstGeom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76"/>
          <p:cNvSpPr/>
          <p:nvPr/>
        </p:nvSpPr>
        <p:spPr>
          <a:xfrm>
            <a:off x="324000" y="3227400"/>
            <a:ext cx="8820000" cy="0"/>
          </a:xfrm>
          <a:prstGeom prst="line">
            <a:avLst/>
          </a:prstGeom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46"/>
          <p:cNvSpPr/>
          <p:nvPr/>
        </p:nvSpPr>
        <p:spPr>
          <a:xfrm>
            <a:off x="772200" y="3583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47"/>
          <p:cNvSpPr/>
          <p:nvPr/>
        </p:nvSpPr>
        <p:spPr>
          <a:xfrm>
            <a:off x="772200" y="45147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0" descr=""/>
          <p:cNvPicPr/>
          <p:nvPr/>
        </p:nvPicPr>
        <p:blipFill>
          <a:blip r:embed="rId1"/>
          <a:stretch/>
        </p:blipFill>
        <p:spPr>
          <a:xfrm>
            <a:off x="2492280" y="4327560"/>
            <a:ext cx="1220760" cy="12254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"/>
          <p:cNvPicPr/>
          <p:nvPr/>
        </p:nvPicPr>
        <p:blipFill>
          <a:blip r:embed="rId2"/>
          <a:stretch/>
        </p:blipFill>
        <p:spPr>
          <a:xfrm>
            <a:off x="5237280" y="4314960"/>
            <a:ext cx="1222200" cy="122544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4"/>
          <p:cNvGrpSpPr/>
          <p:nvPr/>
        </p:nvGrpSpPr>
        <p:grpSpPr>
          <a:xfrm>
            <a:off x="2490840" y="1698480"/>
            <a:ext cx="1222200" cy="1233720"/>
            <a:chOff x="2490840" y="1698480"/>
            <a:chExt cx="1222200" cy="1233720"/>
          </a:xfrm>
        </p:grpSpPr>
        <p:pic>
          <p:nvPicPr>
            <p:cNvPr id="610" name="Picture 8" descr=""/>
            <p:cNvPicPr/>
            <p:nvPr/>
          </p:nvPicPr>
          <p:blipFill>
            <a:blip r:embed="rId3"/>
            <a:stretch/>
          </p:blipFill>
          <p:spPr>
            <a:xfrm>
              <a:off x="2490840" y="1701360"/>
              <a:ext cx="122220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Oval 9"/>
            <p:cNvSpPr/>
            <p:nvPr/>
          </p:nvSpPr>
          <p:spPr>
            <a:xfrm>
              <a:off x="2490840" y="1698480"/>
              <a:ext cx="1214280" cy="123372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6"/>
            <p:cNvSpPr/>
            <p:nvPr/>
          </p:nvSpPr>
          <p:spPr>
            <a:xfrm>
              <a:off x="2566800" y="196200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8"/>
          <p:cNvGrpSpPr/>
          <p:nvPr/>
        </p:nvGrpSpPr>
        <p:grpSpPr>
          <a:xfrm>
            <a:off x="2492280" y="4324320"/>
            <a:ext cx="1216080" cy="1233360"/>
            <a:chOff x="2492280" y="4324320"/>
            <a:chExt cx="1216080" cy="1233360"/>
          </a:xfrm>
        </p:grpSpPr>
        <p:sp>
          <p:nvSpPr>
            <p:cNvPr id="614" name="Oval 11"/>
            <p:cNvSpPr/>
            <p:nvPr/>
          </p:nvSpPr>
          <p:spPr>
            <a:xfrm>
              <a:off x="2492280" y="4324320"/>
              <a:ext cx="1216080" cy="12333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50"/>
            <p:cNvSpPr/>
            <p:nvPr/>
          </p:nvSpPr>
          <p:spPr>
            <a:xfrm>
              <a:off x="2566800" y="4566960"/>
              <a:ext cx="110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1"/>
          <p:cNvGrpSpPr/>
          <p:nvPr/>
        </p:nvGrpSpPr>
        <p:grpSpPr>
          <a:xfrm>
            <a:off x="5237280" y="4302000"/>
            <a:ext cx="1216080" cy="1233720"/>
            <a:chOff x="5237280" y="4302000"/>
            <a:chExt cx="1216080" cy="1233720"/>
          </a:xfrm>
        </p:grpSpPr>
        <p:sp>
          <p:nvSpPr>
            <p:cNvPr id="617" name="Oval 13"/>
            <p:cNvSpPr/>
            <p:nvPr/>
          </p:nvSpPr>
          <p:spPr>
            <a:xfrm>
              <a:off x="5237280" y="4302000"/>
              <a:ext cx="1216080" cy="123372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51"/>
            <p:cNvSpPr/>
            <p:nvPr/>
          </p:nvSpPr>
          <p:spPr>
            <a:xfrm>
              <a:off x="5361480" y="4565520"/>
              <a:ext cx="101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4"/>
          <p:cNvGrpSpPr/>
          <p:nvPr/>
        </p:nvGrpSpPr>
        <p:grpSpPr>
          <a:xfrm>
            <a:off x="4087800" y="2397240"/>
            <a:ext cx="790200" cy="703800"/>
            <a:chOff x="4087800" y="2397240"/>
            <a:chExt cx="790200" cy="703800"/>
          </a:xfrm>
        </p:grpSpPr>
        <p:sp>
          <p:nvSpPr>
            <p:cNvPr id="620" name="Text Box 52"/>
            <p:cNvSpPr/>
            <p:nvPr/>
          </p:nvSpPr>
          <p:spPr>
            <a:xfrm>
              <a:off x="4087800" y="23972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17"/>
          <p:cNvGrpSpPr/>
          <p:nvPr/>
        </p:nvGrpSpPr>
        <p:grpSpPr>
          <a:xfrm>
            <a:off x="5237280" y="1685880"/>
            <a:ext cx="1220760" cy="1233360"/>
            <a:chOff x="5237280" y="1685880"/>
            <a:chExt cx="1220760" cy="1233360"/>
          </a:xfrm>
        </p:grpSpPr>
        <p:pic>
          <p:nvPicPr>
            <p:cNvPr id="622" name="Picture 14" descr=""/>
            <p:cNvPicPr/>
            <p:nvPr/>
          </p:nvPicPr>
          <p:blipFill>
            <a:blip r:embed="rId4"/>
            <a:stretch/>
          </p:blipFill>
          <p:spPr>
            <a:xfrm>
              <a:off x="5237280" y="1687320"/>
              <a:ext cx="122076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Oval 15"/>
            <p:cNvSpPr/>
            <p:nvPr/>
          </p:nvSpPr>
          <p:spPr>
            <a:xfrm>
              <a:off x="5237280" y="1685880"/>
              <a:ext cx="1216080" cy="12333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矩形 4"/>
            <p:cNvSpPr/>
            <p:nvPr/>
          </p:nvSpPr>
          <p:spPr>
            <a:xfrm>
              <a:off x="5538600" y="19778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 Box 3"/>
          <p:cNvSpPr/>
          <p:nvPr/>
        </p:nvSpPr>
        <p:spPr>
          <a:xfrm>
            <a:off x="53964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654840" y="1123920"/>
            <a:ext cx="8123400" cy="1596600"/>
            <a:chOff x="654840" y="1123920"/>
            <a:chExt cx="8123400" cy="1596600"/>
          </a:xfrm>
        </p:grpSpPr>
        <p:sp>
          <p:nvSpPr>
            <p:cNvPr id="627" name="矩形 6"/>
            <p:cNvSpPr/>
            <p:nvPr/>
          </p:nvSpPr>
          <p:spPr>
            <a:xfrm>
              <a:off x="1463760" y="2260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矩形 7"/>
            <p:cNvSpPr/>
            <p:nvPr/>
          </p:nvSpPr>
          <p:spPr>
            <a:xfrm>
              <a:off x="6140520" y="2260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新月形 10"/>
            <p:cNvSpPr/>
            <p:nvPr/>
          </p:nvSpPr>
          <p:spPr>
            <a:xfrm flipH="1" rot="16200000">
              <a:off x="4147560" y="-2369160"/>
              <a:ext cx="1136880" cy="812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矩形 11"/>
            <p:cNvSpPr/>
            <p:nvPr/>
          </p:nvSpPr>
          <p:spPr>
            <a:xfrm>
              <a:off x="3651840" y="14302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左大括号 12"/>
          <p:cNvSpPr/>
          <p:nvPr/>
        </p:nvSpPr>
        <p:spPr>
          <a:xfrm rot="16200000">
            <a:off x="4361400" y="-761040"/>
            <a:ext cx="728640" cy="8140680"/>
          </a:xfrm>
          <a:custGeom>
            <a:avLst/>
            <a:gdLst>
              <a:gd name="textAreaLeft" fmla="*/ 465480 w 728640"/>
              <a:gd name="textAreaRight" fmla="*/ 729000 w 728640"/>
              <a:gd name="textAreaTop" fmla="*/ 84240 h 8140680"/>
              <a:gd name="textAreaBottom" fmla="*/ 8056440 h 814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9"/>
                  <a:pt x="10800" y="717"/>
                </a:cubicBezTo>
                <a:lnTo>
                  <a:pt x="10800" y="10083"/>
                </a:lnTo>
                <a:cubicBezTo>
                  <a:pt x="10800" y="10442"/>
                  <a:pt x="5400" y="10800"/>
                  <a:pt x="0" y="10800"/>
                </a:cubicBezTo>
                <a:cubicBezTo>
                  <a:pt x="5400" y="10800"/>
                  <a:pt x="10800" y="11159"/>
                  <a:pt x="10800" y="11517"/>
                </a:cubicBezTo>
                <a:lnTo>
                  <a:pt x="10800" y="20883"/>
                </a:lnTo>
                <a:cubicBezTo>
                  <a:pt x="10800" y="2124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4"/>
          <p:cNvSpPr/>
          <p:nvPr/>
        </p:nvSpPr>
        <p:spPr>
          <a:xfrm>
            <a:off x="3505680" y="37908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f4"/>
                </a:solidFill>
                <a:latin typeface="微软雅黑"/>
                <a:ea typeface="微软雅黑"/>
              </a:rPr>
              <a:t>单击此处添加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9"/>
          <p:cNvGrpSpPr/>
          <p:nvPr/>
        </p:nvGrpSpPr>
        <p:grpSpPr>
          <a:xfrm>
            <a:off x="1257480" y="4924440"/>
            <a:ext cx="1277640" cy="719280"/>
            <a:chOff x="1257480" y="4924440"/>
            <a:chExt cx="1277640" cy="719280"/>
          </a:xfrm>
        </p:grpSpPr>
        <p:sp>
          <p:nvSpPr>
            <p:cNvPr id="634" name="椭圆 16"/>
            <p:cNvSpPr/>
            <p:nvPr/>
          </p:nvSpPr>
          <p:spPr>
            <a:xfrm>
              <a:off x="1257480" y="4924440"/>
              <a:ext cx="127764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19"/>
            <p:cNvSpPr/>
            <p:nvPr/>
          </p:nvSpPr>
          <p:spPr>
            <a:xfrm>
              <a:off x="1403640" y="5055480"/>
              <a:ext cx="8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12"/>
          <p:cNvGrpSpPr/>
          <p:nvPr/>
        </p:nvGrpSpPr>
        <p:grpSpPr>
          <a:xfrm>
            <a:off x="2262240" y="4902120"/>
            <a:ext cx="1278000" cy="720720"/>
            <a:chOff x="2262240" y="4902120"/>
            <a:chExt cx="1278000" cy="720720"/>
          </a:xfrm>
        </p:grpSpPr>
        <p:sp>
          <p:nvSpPr>
            <p:cNvPr id="637" name="椭圆 17"/>
            <p:cNvSpPr/>
            <p:nvPr/>
          </p:nvSpPr>
          <p:spPr>
            <a:xfrm>
              <a:off x="2262240" y="4903560"/>
              <a:ext cx="127800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20"/>
            <p:cNvSpPr/>
            <p:nvPr/>
          </p:nvSpPr>
          <p:spPr>
            <a:xfrm>
              <a:off x="2610720" y="4902120"/>
              <a:ext cx="86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15"/>
          <p:cNvGrpSpPr/>
          <p:nvPr/>
        </p:nvGrpSpPr>
        <p:grpSpPr>
          <a:xfrm>
            <a:off x="1671480" y="5513400"/>
            <a:ext cx="1278000" cy="719280"/>
            <a:chOff x="1671480" y="5513400"/>
            <a:chExt cx="1278000" cy="719280"/>
          </a:xfrm>
        </p:grpSpPr>
        <p:sp>
          <p:nvSpPr>
            <p:cNvPr id="640" name="椭圆 18"/>
            <p:cNvSpPr/>
            <p:nvPr/>
          </p:nvSpPr>
          <p:spPr>
            <a:xfrm>
              <a:off x="1671480" y="5513400"/>
              <a:ext cx="127800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21"/>
            <p:cNvSpPr/>
            <p:nvPr/>
          </p:nvSpPr>
          <p:spPr>
            <a:xfrm>
              <a:off x="2015280" y="5590800"/>
              <a:ext cx="86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8"/>
          <p:cNvGrpSpPr/>
          <p:nvPr/>
        </p:nvGrpSpPr>
        <p:grpSpPr>
          <a:xfrm>
            <a:off x="2692440" y="5479920"/>
            <a:ext cx="1276200" cy="719280"/>
            <a:chOff x="2692440" y="5479920"/>
            <a:chExt cx="1276200" cy="719280"/>
          </a:xfrm>
        </p:grpSpPr>
        <p:sp>
          <p:nvSpPr>
            <p:cNvPr id="643" name="椭圆 22"/>
            <p:cNvSpPr/>
            <p:nvPr/>
          </p:nvSpPr>
          <p:spPr>
            <a:xfrm>
              <a:off x="2692440" y="5479920"/>
              <a:ext cx="127620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矩形 23"/>
            <p:cNvSpPr/>
            <p:nvPr/>
          </p:nvSpPr>
          <p:spPr>
            <a:xfrm>
              <a:off x="3119760" y="578376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矩形 25"/>
          <p:cNvSpPr/>
          <p:nvPr/>
        </p:nvSpPr>
        <p:spPr>
          <a:xfrm>
            <a:off x="6381000" y="5354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22"/>
          <p:cNvGrpSpPr/>
          <p:nvPr/>
        </p:nvGrpSpPr>
        <p:grpSpPr>
          <a:xfrm>
            <a:off x="4302000" y="5241960"/>
            <a:ext cx="1258920" cy="708120"/>
            <a:chOff x="4302000" y="5241960"/>
            <a:chExt cx="1258920" cy="708120"/>
          </a:xfrm>
        </p:grpSpPr>
        <p:sp>
          <p:nvSpPr>
            <p:cNvPr id="647" name="燕尾形 31"/>
            <p:cNvSpPr/>
            <p:nvPr/>
          </p:nvSpPr>
          <p:spPr>
            <a:xfrm>
              <a:off x="4302000" y="5241960"/>
              <a:ext cx="774720" cy="7081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135" y="0"/>
                  </a:lnTo>
                  <a:lnTo>
                    <a:pt x="21600" y="10800"/>
                  </a:lnTo>
                  <a:lnTo>
                    <a:pt x="10135" y="21600"/>
                  </a:lnTo>
                  <a:lnTo>
                    <a:pt x="0" y="21600"/>
                  </a:lnTo>
                  <a:lnTo>
                    <a:pt x="11465" y="10800"/>
                  </a:lnTo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燕尾形 32"/>
            <p:cNvSpPr/>
            <p:nvPr/>
          </p:nvSpPr>
          <p:spPr>
            <a:xfrm>
              <a:off x="4786200" y="5241960"/>
              <a:ext cx="774720" cy="7081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135" y="0"/>
                  </a:lnTo>
                  <a:lnTo>
                    <a:pt x="21600" y="10800"/>
                  </a:lnTo>
                  <a:lnTo>
                    <a:pt x="10135" y="21600"/>
                  </a:lnTo>
                  <a:lnTo>
                    <a:pt x="0" y="21600"/>
                  </a:lnTo>
                  <a:lnTo>
                    <a:pt x="11465" y="10800"/>
                  </a:lnTo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628560" y="-1558800"/>
            <a:ext cx="8713800" cy="158256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3"/>
          <p:cNvGrpSpPr/>
          <p:nvPr/>
        </p:nvGrpSpPr>
        <p:grpSpPr>
          <a:xfrm>
            <a:off x="0" y="1628640"/>
            <a:ext cx="9144000" cy="1179720"/>
            <a:chOff x="0" y="1628640"/>
            <a:chExt cx="9144000" cy="1179720"/>
          </a:xfrm>
        </p:grpSpPr>
        <p:sp>
          <p:nvSpPr>
            <p:cNvPr id="651" name="圆角矩形 1"/>
            <p:cNvSpPr/>
            <p:nvPr/>
          </p:nvSpPr>
          <p:spPr>
            <a:xfrm>
              <a:off x="0" y="1690560"/>
              <a:ext cx="9144000" cy="108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ae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5"/>
            <p:cNvSpPr/>
            <p:nvPr/>
          </p:nvSpPr>
          <p:spPr>
            <a:xfrm>
              <a:off x="1177920" y="1984680"/>
              <a:ext cx="760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1628640"/>
              <a:ext cx="1177920" cy="117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Group 7"/>
          <p:cNvGrpSpPr/>
          <p:nvPr/>
        </p:nvGrpSpPr>
        <p:grpSpPr>
          <a:xfrm>
            <a:off x="1101240" y="3401640"/>
            <a:ext cx="7306920" cy="2224800"/>
            <a:chOff x="1101240" y="3401640"/>
            <a:chExt cx="7306920" cy="2224800"/>
          </a:xfrm>
        </p:grpSpPr>
        <p:grpSp>
          <p:nvGrpSpPr>
            <p:cNvPr id="655" name="Group 8"/>
            <p:cNvGrpSpPr/>
            <p:nvPr/>
          </p:nvGrpSpPr>
          <p:grpSpPr>
            <a:xfrm>
              <a:off x="1117800" y="4079880"/>
              <a:ext cx="1741680" cy="809280"/>
              <a:chOff x="1117800" y="4079880"/>
              <a:chExt cx="1741680" cy="809280"/>
            </a:xfrm>
          </p:grpSpPr>
          <p:grpSp>
            <p:nvGrpSpPr>
              <p:cNvPr id="656" name="Group 10"/>
              <p:cNvGrpSpPr/>
              <p:nvPr/>
            </p:nvGrpSpPr>
            <p:grpSpPr>
              <a:xfrm>
                <a:off x="1117800" y="4079880"/>
                <a:ext cx="1741680" cy="809280"/>
                <a:chOff x="1117800" y="4079880"/>
                <a:chExt cx="1741680" cy="809280"/>
              </a:xfrm>
            </p:grpSpPr>
            <p:grpSp>
              <p:nvGrpSpPr>
                <p:cNvPr id="657" name="Group 210"/>
                <p:cNvGrpSpPr/>
                <p:nvPr/>
              </p:nvGrpSpPr>
              <p:grpSpPr>
                <a:xfrm>
                  <a:off x="1117800" y="4079880"/>
                  <a:ext cx="1741680" cy="809280"/>
                  <a:chOff x="1117800" y="4079880"/>
                  <a:chExt cx="1741680" cy="809280"/>
                </a:xfrm>
              </p:grpSpPr>
              <p:sp>
                <p:nvSpPr>
                  <p:cNvPr id="658" name="Oval 223"/>
                  <p:cNvSpPr/>
                  <p:nvPr/>
                </p:nvSpPr>
                <p:spPr>
                  <a:xfrm flipH="1">
                    <a:off x="1117800" y="4079880"/>
                    <a:ext cx="1741680" cy="809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9" name="Group 233"/>
            <p:cNvGrpSpPr/>
            <p:nvPr/>
          </p:nvGrpSpPr>
          <p:grpSpPr>
            <a:xfrm>
              <a:off x="1101240" y="5159880"/>
              <a:ext cx="1741320" cy="466560"/>
              <a:chOff x="1101240" y="5159880"/>
              <a:chExt cx="1741320" cy="466560"/>
            </a:xfrm>
          </p:grpSpPr>
          <p:grpSp>
            <p:nvGrpSpPr>
              <p:cNvPr id="660" name="Group 235"/>
              <p:cNvGrpSpPr/>
              <p:nvPr/>
            </p:nvGrpSpPr>
            <p:grpSpPr>
              <a:xfrm>
                <a:off x="1101240" y="5159880"/>
                <a:ext cx="1741320" cy="466560"/>
                <a:chOff x="1101240" y="5159880"/>
                <a:chExt cx="1741320" cy="466560"/>
              </a:xfrm>
            </p:grpSpPr>
            <p:grpSp>
              <p:nvGrpSpPr>
                <p:cNvPr id="661" name="Group 236"/>
                <p:cNvGrpSpPr/>
                <p:nvPr/>
              </p:nvGrpSpPr>
              <p:grpSpPr>
                <a:xfrm>
                  <a:off x="1101240" y="5159880"/>
                  <a:ext cx="1741320" cy="466560"/>
                  <a:chOff x="1101240" y="5159880"/>
                  <a:chExt cx="1741320" cy="466560"/>
                </a:xfrm>
              </p:grpSpPr>
              <p:sp>
                <p:nvSpPr>
                  <p:cNvPr id="662" name="Oval 245"/>
                  <p:cNvSpPr/>
                  <p:nvPr/>
                </p:nvSpPr>
                <p:spPr>
                  <a:xfrm flipH="1">
                    <a:off x="1100880" y="5159880"/>
                    <a:ext cx="1741320" cy="46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3" name="Group 275"/>
            <p:cNvGrpSpPr/>
            <p:nvPr/>
          </p:nvGrpSpPr>
          <p:grpSpPr>
            <a:xfrm>
              <a:off x="2469960" y="4722840"/>
              <a:ext cx="1744920" cy="533880"/>
              <a:chOff x="2469960" y="4722840"/>
              <a:chExt cx="1744920" cy="533880"/>
            </a:xfrm>
          </p:grpSpPr>
          <p:grpSp>
            <p:nvGrpSpPr>
              <p:cNvPr id="664" name="Group 277"/>
              <p:cNvGrpSpPr/>
              <p:nvPr/>
            </p:nvGrpSpPr>
            <p:grpSpPr>
              <a:xfrm>
                <a:off x="2469960" y="4722840"/>
                <a:ext cx="1744920" cy="533880"/>
                <a:chOff x="2469960" y="4722840"/>
                <a:chExt cx="1744920" cy="533880"/>
              </a:xfrm>
            </p:grpSpPr>
            <p:grpSp>
              <p:nvGrpSpPr>
                <p:cNvPr id="665" name="Group 278"/>
                <p:cNvGrpSpPr/>
                <p:nvPr/>
              </p:nvGrpSpPr>
              <p:grpSpPr>
                <a:xfrm>
                  <a:off x="2586960" y="4722840"/>
                  <a:ext cx="735840" cy="403200"/>
                  <a:chOff x="2586960" y="4722840"/>
                  <a:chExt cx="735840" cy="403200"/>
                </a:xfrm>
              </p:grpSpPr>
              <p:sp>
                <p:nvSpPr>
                  <p:cNvPr id="666" name="Oval 284"/>
                  <p:cNvSpPr/>
                  <p:nvPr/>
                </p:nvSpPr>
                <p:spPr>
                  <a:xfrm>
                    <a:off x="2586960" y="4722840"/>
                    <a:ext cx="735840" cy="40320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64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Group 294"/>
                <p:cNvGrpSpPr/>
                <p:nvPr/>
              </p:nvGrpSpPr>
              <p:grpSpPr>
                <a:xfrm>
                  <a:off x="2469960" y="4921200"/>
                  <a:ext cx="1744920" cy="335520"/>
                  <a:chOff x="2469960" y="4921200"/>
                  <a:chExt cx="1744920" cy="335520"/>
                </a:xfrm>
              </p:grpSpPr>
              <p:grpSp>
                <p:nvGrpSpPr>
                  <p:cNvPr id="668" name="Group 302"/>
                  <p:cNvGrpSpPr/>
                  <p:nvPr/>
                </p:nvGrpSpPr>
                <p:grpSpPr>
                  <a:xfrm>
                    <a:off x="2469960" y="4921200"/>
                    <a:ext cx="1744920" cy="335520"/>
                    <a:chOff x="2469960" y="4921200"/>
                    <a:chExt cx="1744920" cy="335520"/>
                  </a:xfrm>
                </p:grpSpPr>
                <p:sp>
                  <p:nvSpPr>
                    <p:cNvPr id="669" name="Line 314"/>
                    <p:cNvSpPr/>
                    <p:nvPr/>
                  </p:nvSpPr>
                  <p:spPr>
                    <a:xfrm flipH="1" flipV="1">
                      <a:off x="3106440" y="4961160"/>
                      <a:ext cx="895320" cy="17208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Line 316"/>
                    <p:cNvSpPr/>
                    <p:nvPr/>
                  </p:nvSpPr>
                  <p:spPr>
                    <a:xfrm flipH="1" flipV="1">
                      <a:off x="2894040" y="5003640"/>
                      <a:ext cx="894240" cy="16956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Line 318"/>
                    <p:cNvSpPr/>
                    <p:nvPr/>
                  </p:nvSpPr>
                  <p:spPr>
                    <a:xfrm flipH="1" flipV="1">
                      <a:off x="2682360" y="5043960"/>
                      <a:ext cx="893520" cy="17208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Line 320"/>
                    <p:cNvSpPr/>
                    <p:nvPr/>
                  </p:nvSpPr>
                  <p:spPr>
                    <a:xfrm flipH="1" flipV="1">
                      <a:off x="3318480" y="4921200"/>
                      <a:ext cx="896400" cy="17208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Line 322"/>
                    <p:cNvSpPr/>
                    <p:nvPr/>
                  </p:nvSpPr>
                  <p:spPr>
                    <a:xfrm flipH="1" flipV="1">
                      <a:off x="2469960" y="5084640"/>
                      <a:ext cx="893520" cy="17208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4" name="Group 323"/>
            <p:cNvGrpSpPr/>
            <p:nvPr/>
          </p:nvGrpSpPr>
          <p:grpSpPr>
            <a:xfrm>
              <a:off x="3831120" y="4412520"/>
              <a:ext cx="1741320" cy="477720"/>
              <a:chOff x="3831120" y="4412520"/>
              <a:chExt cx="1741320" cy="477720"/>
            </a:xfrm>
          </p:grpSpPr>
          <p:grpSp>
            <p:nvGrpSpPr>
              <p:cNvPr id="675" name="Group 325"/>
              <p:cNvGrpSpPr/>
              <p:nvPr/>
            </p:nvGrpSpPr>
            <p:grpSpPr>
              <a:xfrm>
                <a:off x="3831120" y="4412520"/>
                <a:ext cx="1741320" cy="477720"/>
                <a:chOff x="3831120" y="4412520"/>
                <a:chExt cx="1741320" cy="477720"/>
              </a:xfrm>
            </p:grpSpPr>
            <p:grpSp>
              <p:nvGrpSpPr>
                <p:cNvPr id="676" name="Group 383"/>
                <p:cNvGrpSpPr/>
                <p:nvPr/>
              </p:nvGrpSpPr>
              <p:grpSpPr>
                <a:xfrm>
                  <a:off x="3831120" y="4412520"/>
                  <a:ext cx="1741320" cy="477720"/>
                  <a:chOff x="3831120" y="4412520"/>
                  <a:chExt cx="1741320" cy="477720"/>
                </a:xfrm>
              </p:grpSpPr>
              <p:grpSp>
                <p:nvGrpSpPr>
                  <p:cNvPr id="677" name="Group 384"/>
                  <p:cNvGrpSpPr/>
                  <p:nvPr/>
                </p:nvGrpSpPr>
                <p:grpSpPr>
                  <a:xfrm>
                    <a:off x="3831120" y="4412520"/>
                    <a:ext cx="1741320" cy="477720"/>
                    <a:chOff x="3831120" y="4412520"/>
                    <a:chExt cx="1741320" cy="477720"/>
                  </a:xfrm>
                </p:grpSpPr>
                <p:sp>
                  <p:nvSpPr>
                    <p:cNvPr id="678" name="Oval 393"/>
                    <p:cNvSpPr/>
                    <p:nvPr/>
                  </p:nvSpPr>
                  <p:spPr>
                    <a:xfrm flipH="1">
                      <a:off x="3830760" y="4412520"/>
                      <a:ext cx="1741320" cy="477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9" name="Group 417"/>
            <p:cNvGrpSpPr/>
            <p:nvPr/>
          </p:nvGrpSpPr>
          <p:grpSpPr>
            <a:xfrm>
              <a:off x="3822120" y="3401640"/>
              <a:ext cx="1862640" cy="749160"/>
              <a:chOff x="3822120" y="3401640"/>
              <a:chExt cx="1862640" cy="749160"/>
            </a:xfrm>
          </p:grpSpPr>
          <p:grpSp>
            <p:nvGrpSpPr>
              <p:cNvPr id="680" name="Group 419"/>
              <p:cNvGrpSpPr/>
              <p:nvPr/>
            </p:nvGrpSpPr>
            <p:grpSpPr>
              <a:xfrm>
                <a:off x="3822120" y="3741840"/>
                <a:ext cx="293760" cy="408960"/>
                <a:chOff x="3822120" y="3741840"/>
                <a:chExt cx="293760" cy="408960"/>
              </a:xfrm>
            </p:grpSpPr>
            <p:grpSp>
              <p:nvGrpSpPr>
                <p:cNvPr id="681" name="Group 424"/>
                <p:cNvGrpSpPr/>
                <p:nvPr/>
              </p:nvGrpSpPr>
              <p:grpSpPr>
                <a:xfrm>
                  <a:off x="3822120" y="3741840"/>
                  <a:ext cx="293760" cy="408960"/>
                  <a:chOff x="3822120" y="3741840"/>
                  <a:chExt cx="293760" cy="408960"/>
                </a:xfrm>
              </p:grpSpPr>
              <p:sp>
                <p:nvSpPr>
                  <p:cNvPr id="682" name="Oval 432"/>
                  <p:cNvSpPr/>
                  <p:nvPr/>
                </p:nvSpPr>
                <p:spPr>
                  <a:xfrm flipH="1">
                    <a:off x="3822120" y="3741840"/>
                    <a:ext cx="293760" cy="408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3" name="Group 432"/>
              <p:cNvGrpSpPr/>
              <p:nvPr/>
            </p:nvGrpSpPr>
            <p:grpSpPr>
              <a:xfrm>
                <a:off x="4384440" y="3401640"/>
                <a:ext cx="1300320" cy="645120"/>
                <a:chOff x="4384440" y="3401640"/>
                <a:chExt cx="1300320" cy="645120"/>
              </a:xfrm>
            </p:grpSpPr>
            <p:sp>
              <p:nvSpPr>
                <p:cNvPr id="684" name="Line 449"/>
                <p:cNvSpPr/>
                <p:nvPr/>
              </p:nvSpPr>
              <p:spPr>
                <a:xfrm flipV="1">
                  <a:off x="4743720" y="3581280"/>
                  <a:ext cx="941040" cy="46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450"/>
                <p:cNvSpPr/>
                <p:nvPr/>
              </p:nvSpPr>
              <p:spPr>
                <a:xfrm flipV="1">
                  <a:off x="4624560" y="3520800"/>
                  <a:ext cx="941040" cy="46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451"/>
                <p:cNvSpPr/>
                <p:nvPr/>
              </p:nvSpPr>
              <p:spPr>
                <a:xfrm flipV="1">
                  <a:off x="4505400" y="3462480"/>
                  <a:ext cx="941040" cy="463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452"/>
                <p:cNvSpPr/>
                <p:nvPr/>
              </p:nvSpPr>
              <p:spPr>
                <a:xfrm flipV="1">
                  <a:off x="4384440" y="3401640"/>
                  <a:ext cx="941760" cy="46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8" name="Group 470"/>
            <p:cNvGrpSpPr/>
            <p:nvPr/>
          </p:nvGrpSpPr>
          <p:grpSpPr>
            <a:xfrm>
              <a:off x="5175720" y="3773160"/>
              <a:ext cx="1862640" cy="749160"/>
              <a:chOff x="5175720" y="3773160"/>
              <a:chExt cx="1862640" cy="749160"/>
            </a:xfrm>
          </p:grpSpPr>
          <p:grpSp>
            <p:nvGrpSpPr>
              <p:cNvPr id="689" name="Group 472"/>
              <p:cNvGrpSpPr/>
              <p:nvPr/>
            </p:nvGrpSpPr>
            <p:grpSpPr>
              <a:xfrm>
                <a:off x="5175720" y="4113360"/>
                <a:ext cx="293760" cy="408960"/>
                <a:chOff x="5175720" y="4113360"/>
                <a:chExt cx="293760" cy="408960"/>
              </a:xfrm>
            </p:grpSpPr>
            <p:grpSp>
              <p:nvGrpSpPr>
                <p:cNvPr id="690" name="Group 477"/>
                <p:cNvGrpSpPr/>
                <p:nvPr/>
              </p:nvGrpSpPr>
              <p:grpSpPr>
                <a:xfrm>
                  <a:off x="5175720" y="4113360"/>
                  <a:ext cx="293760" cy="408960"/>
                  <a:chOff x="5175720" y="4113360"/>
                  <a:chExt cx="293760" cy="408960"/>
                </a:xfrm>
              </p:grpSpPr>
              <p:sp>
                <p:nvSpPr>
                  <p:cNvPr id="691" name="Oval 485"/>
                  <p:cNvSpPr/>
                  <p:nvPr/>
                </p:nvSpPr>
                <p:spPr>
                  <a:xfrm flipH="1">
                    <a:off x="5175720" y="4113360"/>
                    <a:ext cx="293760" cy="408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2" name="Group 485"/>
              <p:cNvGrpSpPr/>
              <p:nvPr/>
            </p:nvGrpSpPr>
            <p:grpSpPr>
              <a:xfrm>
                <a:off x="5738040" y="3773160"/>
                <a:ext cx="1300320" cy="645120"/>
                <a:chOff x="5738040" y="3773160"/>
                <a:chExt cx="1300320" cy="645120"/>
              </a:xfrm>
            </p:grpSpPr>
            <p:sp>
              <p:nvSpPr>
                <p:cNvPr id="693" name="Line 502"/>
                <p:cNvSpPr/>
                <p:nvPr/>
              </p:nvSpPr>
              <p:spPr>
                <a:xfrm flipV="1">
                  <a:off x="6097320" y="3952800"/>
                  <a:ext cx="941040" cy="46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03"/>
                <p:cNvSpPr/>
                <p:nvPr/>
              </p:nvSpPr>
              <p:spPr>
                <a:xfrm flipV="1">
                  <a:off x="5978160" y="3892320"/>
                  <a:ext cx="941040" cy="46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04"/>
                <p:cNvSpPr/>
                <p:nvPr/>
              </p:nvSpPr>
              <p:spPr>
                <a:xfrm flipV="1">
                  <a:off x="5859000" y="3834000"/>
                  <a:ext cx="941040" cy="463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05"/>
                <p:cNvSpPr/>
                <p:nvPr/>
              </p:nvSpPr>
              <p:spPr>
                <a:xfrm flipV="1">
                  <a:off x="5738040" y="3773160"/>
                  <a:ext cx="941760" cy="46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7" name="Group 523"/>
            <p:cNvGrpSpPr/>
            <p:nvPr/>
          </p:nvGrpSpPr>
          <p:grpSpPr>
            <a:xfrm>
              <a:off x="6545520" y="4146120"/>
              <a:ext cx="1862640" cy="749160"/>
              <a:chOff x="6545520" y="4146120"/>
              <a:chExt cx="1862640" cy="749160"/>
            </a:xfrm>
          </p:grpSpPr>
          <p:grpSp>
            <p:nvGrpSpPr>
              <p:cNvPr id="698" name="Group 525"/>
              <p:cNvGrpSpPr/>
              <p:nvPr/>
            </p:nvGrpSpPr>
            <p:grpSpPr>
              <a:xfrm>
                <a:off x="6545520" y="4486320"/>
                <a:ext cx="293760" cy="408960"/>
                <a:chOff x="6545520" y="4486320"/>
                <a:chExt cx="293760" cy="408960"/>
              </a:xfrm>
            </p:grpSpPr>
            <p:grpSp>
              <p:nvGrpSpPr>
                <p:cNvPr id="699" name="Group 530"/>
                <p:cNvGrpSpPr/>
                <p:nvPr/>
              </p:nvGrpSpPr>
              <p:grpSpPr>
                <a:xfrm>
                  <a:off x="6545520" y="4486320"/>
                  <a:ext cx="293760" cy="408960"/>
                  <a:chOff x="6545520" y="4486320"/>
                  <a:chExt cx="293760" cy="408960"/>
                </a:xfrm>
              </p:grpSpPr>
              <p:sp>
                <p:nvSpPr>
                  <p:cNvPr id="700" name="Oval 538"/>
                  <p:cNvSpPr/>
                  <p:nvPr/>
                </p:nvSpPr>
                <p:spPr>
                  <a:xfrm flipH="1">
                    <a:off x="6545520" y="4486320"/>
                    <a:ext cx="293760" cy="408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" name="Group 538"/>
              <p:cNvGrpSpPr/>
              <p:nvPr/>
            </p:nvGrpSpPr>
            <p:grpSpPr>
              <a:xfrm>
                <a:off x="7107840" y="4146120"/>
                <a:ext cx="1300320" cy="645120"/>
                <a:chOff x="7107840" y="4146120"/>
                <a:chExt cx="1300320" cy="645120"/>
              </a:xfrm>
            </p:grpSpPr>
            <p:sp>
              <p:nvSpPr>
                <p:cNvPr id="702" name="Line 555"/>
                <p:cNvSpPr/>
                <p:nvPr/>
              </p:nvSpPr>
              <p:spPr>
                <a:xfrm flipV="1">
                  <a:off x="7467120" y="4325760"/>
                  <a:ext cx="941040" cy="46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56"/>
                <p:cNvSpPr/>
                <p:nvPr/>
              </p:nvSpPr>
              <p:spPr>
                <a:xfrm flipV="1">
                  <a:off x="7347960" y="4265280"/>
                  <a:ext cx="941040" cy="46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57"/>
                <p:cNvSpPr/>
                <p:nvPr/>
              </p:nvSpPr>
              <p:spPr>
                <a:xfrm flipV="1">
                  <a:off x="7228800" y="4206960"/>
                  <a:ext cx="941040" cy="463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58"/>
                <p:cNvSpPr/>
                <p:nvPr/>
              </p:nvSpPr>
              <p:spPr>
                <a:xfrm flipV="1">
                  <a:off x="7107840" y="4146120"/>
                  <a:ext cx="941760" cy="46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矩形 1"/>
          <p:cNvSpPr/>
          <p:nvPr/>
        </p:nvSpPr>
        <p:spPr>
          <a:xfrm>
            <a:off x="395280" y="1220760"/>
            <a:ext cx="82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4"/>
          <p:cNvSpPr/>
          <p:nvPr/>
        </p:nvSpPr>
        <p:spPr>
          <a:xfrm>
            <a:off x="4751280" y="38210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8"/>
          <p:cNvSpPr/>
          <p:nvPr/>
        </p:nvSpPr>
        <p:spPr>
          <a:xfrm>
            <a:off x="4549680" y="250200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9"/>
          <p:cNvSpPr/>
          <p:nvPr/>
        </p:nvSpPr>
        <p:spPr>
          <a:xfrm>
            <a:off x="4714920" y="3162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10"/>
          <p:cNvSpPr/>
          <p:nvPr/>
        </p:nvSpPr>
        <p:spPr>
          <a:xfrm>
            <a:off x="4363920" y="4479840"/>
            <a:ext cx="28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左大括号 11"/>
          <p:cNvSpPr/>
          <p:nvPr/>
        </p:nvSpPr>
        <p:spPr>
          <a:xfrm>
            <a:off x="4135320" y="2682720"/>
            <a:ext cx="443160" cy="2200320"/>
          </a:xfrm>
          <a:custGeom>
            <a:avLst/>
            <a:gdLst>
              <a:gd name="textAreaLeft" fmla="*/ 283320 w 443160"/>
              <a:gd name="textAreaRight" fmla="*/ 443520 w 443160"/>
              <a:gd name="textAreaTop" fmla="*/ 89640 h 2200320"/>
              <a:gd name="textAreaBottom" fmla="*/ 21106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08"/>
                  <a:pt x="10800" y="2815"/>
                </a:cubicBezTo>
                <a:lnTo>
                  <a:pt x="10800" y="7985"/>
                </a:lnTo>
                <a:cubicBezTo>
                  <a:pt x="10800" y="9393"/>
                  <a:pt x="5400" y="10800"/>
                  <a:pt x="0" y="10800"/>
                </a:cubicBezTo>
                <a:cubicBezTo>
                  <a:pt x="5400" y="10800"/>
                  <a:pt x="10800" y="12208"/>
                  <a:pt x="10800" y="13615"/>
                </a:cubicBezTo>
                <a:lnTo>
                  <a:pt x="10800" y="18785"/>
                </a:lnTo>
                <a:cubicBezTo>
                  <a:pt x="10800" y="201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5"/>
          <p:cNvSpPr/>
          <p:nvPr/>
        </p:nvSpPr>
        <p:spPr>
          <a:xfrm>
            <a:off x="1616760" y="3475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琥珀"/>
                <a:ea typeface="华文琥珀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新月形 17"/>
          <p:cNvSpPr/>
          <p:nvPr/>
        </p:nvSpPr>
        <p:spPr>
          <a:xfrm flipH="1" rot="10800000">
            <a:off x="2843280" y="1061640"/>
            <a:ext cx="341280" cy="77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新月形 18"/>
          <p:cNvSpPr/>
          <p:nvPr/>
        </p:nvSpPr>
        <p:spPr>
          <a:xfrm rot="10800000">
            <a:off x="5940000" y="1061640"/>
            <a:ext cx="306360" cy="77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圆角矩形 1"/>
          <p:cNvSpPr/>
          <p:nvPr/>
        </p:nvSpPr>
        <p:spPr>
          <a:xfrm>
            <a:off x="0" y="1693800"/>
            <a:ext cx="914400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7" descr=""/>
          <p:cNvPicPr/>
          <p:nvPr/>
        </p:nvPicPr>
        <p:blipFill>
          <a:blip r:embed="rId1"/>
          <a:stretch/>
        </p:blipFill>
        <p:spPr>
          <a:xfrm>
            <a:off x="628560" y="-1558800"/>
            <a:ext cx="8713800" cy="158256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1152360" y="19890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" descr=""/>
          <p:cNvPicPr/>
          <p:nvPr/>
        </p:nvPicPr>
        <p:blipFill>
          <a:blip r:embed="rId2"/>
          <a:stretch/>
        </p:blipFill>
        <p:spPr>
          <a:xfrm>
            <a:off x="0" y="1633680"/>
            <a:ext cx="1177920" cy="11779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" descr=""/>
          <p:cNvPicPr/>
          <p:nvPr/>
        </p:nvPicPr>
        <p:blipFill>
          <a:blip r:embed="rId3"/>
          <a:stretch/>
        </p:blipFill>
        <p:spPr>
          <a:xfrm>
            <a:off x="2224080" y="2786040"/>
            <a:ext cx="46944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4:51:00Z</dcterms:created>
  <dc:creator>ppt宝藏</dc:creator>
  <dc:description/>
  <dc:language>en-US</dc:language>
  <cp:lastModifiedBy>yu wang</cp:lastModifiedBy>
  <cp:lastPrinted>1899-12-30T00:00:00Z</cp:lastPrinted>
  <dcterms:modified xsi:type="dcterms:W3CDTF">2015-08-14T12:50:44Z</dcterms:modified>
  <cp:revision>6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