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63.jpeg" ContentType="image/jpeg"/>
  <Override PartName="/ppt/media/image64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15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4.jpeg" ContentType="image/jpeg"/>
  <Override PartName="/ppt/media/image91.jpeg" ContentType="image/jpeg"/>
  <Override PartName="/ppt/media/image111.jpeg" ContentType="image/jpeg"/>
  <Override PartName="/ppt/media/image20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95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66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2.jpeg" ContentType="image/jpeg"/>
  <Override PartName="/ppt/media/image82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03.jpeg" ContentType="image/jpeg"/>
  <Override PartName="/ppt/media/image8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550-E756-4286-8572-2545076B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7F5C-484C-4737-9107-F1195983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FFA-ACED-4989-AA44-303E9CE7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B3A-3C90-419B-AD34-9C0C1C7E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AB03-850A-42D1-9C1C-42441843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0A85-20FF-48C9-8F5F-353C7153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7EDB-6A53-4F88-8672-1084E44E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5F8A-ACA8-4885-854A-95C9FE7C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67D3-814F-42A9-84FA-979746D2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BA5A-2F43-4D68-9AD9-B09DCB5F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AA2D-BA51-4D02-B742-E277261B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29D-C1DC-4DA8-824C-B059F5B8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926E-F476-4234-9FD9-0ED73323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0592-1D82-46A0-AA1B-50058B64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35EA-617F-4148-A7F6-5323B3F9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68E5-9FA5-4B8E-8B1E-D0EE7AB6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82BD-39CC-45ED-8AAE-B6601392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59F-FD77-4698-A1F5-271AED6C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6BE-F129-48FF-9A99-8F61A286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341-70C2-427A-8FC2-E347E5E1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B77-60CA-4F06-813A-AA864539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9C5-2138-4A87-A14D-31EF61E2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098-E8B2-4C59-B5F3-8CC029A2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A12-FB37-4A23-AE1F-EC54AE13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13DFB5-936E-4322-84ED-5E25B930B09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F5A085-A3FA-42A5-B43E-E39D4C97D6B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36.jpeg"/><Relationship Id="rId3" Type="http://schemas.openxmlformats.org/officeDocument/2006/relationships/image" Target="../media/image85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4.jpeg"/><Relationship Id="rId9" Type="http://schemas.openxmlformats.org/officeDocument/2006/relationships/image" Target="../media/image86.jpeg"/><Relationship Id="rId10" Type="http://schemas.openxmlformats.org/officeDocument/2006/relationships/image" Target="../media/image87.jpeg"/><Relationship Id="rId11" Type="http://schemas.openxmlformats.org/officeDocument/2006/relationships/image" Target="../media/image88.jpeg"/><Relationship Id="rId12" Type="http://schemas.openxmlformats.org/officeDocument/2006/relationships/image" Target="../media/image89.jpeg"/><Relationship Id="rId13" Type="http://schemas.openxmlformats.org/officeDocument/2006/relationships/image" Target="../media/image90.jpeg"/><Relationship Id="rId14" Type="http://schemas.openxmlformats.org/officeDocument/2006/relationships/image" Target="../media/image91.jpeg"/><Relationship Id="rId15" Type="http://schemas.openxmlformats.org/officeDocument/2006/relationships/image" Target="../media/image92.jpeg"/><Relationship Id="rId16" Type="http://schemas.openxmlformats.org/officeDocument/2006/relationships/image" Target="../media/image93.jpeg"/><Relationship Id="rId17" Type="http://schemas.openxmlformats.org/officeDocument/2006/relationships/image" Target="../media/image94.jpeg"/><Relationship Id="rId18" Type="http://schemas.openxmlformats.org/officeDocument/2006/relationships/image" Target="../media/image95.jpeg"/><Relationship Id="rId1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36.jpeg"/><Relationship Id="rId3" Type="http://schemas.openxmlformats.org/officeDocument/2006/relationships/image" Target="../media/image9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98.jpeg"/><Relationship Id="rId9" Type="http://schemas.openxmlformats.org/officeDocument/2006/relationships/image" Target="../media/image99.jpeg"/><Relationship Id="rId10" Type="http://schemas.openxmlformats.org/officeDocument/2006/relationships/image" Target="../media/image100.jpeg"/><Relationship Id="rId11" Type="http://schemas.openxmlformats.org/officeDocument/2006/relationships/image" Target="../media/image101.jpeg"/><Relationship Id="rId1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36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image" Target="../media/image105.jpeg"/><Relationship Id="rId6" Type="http://schemas.openxmlformats.org/officeDocument/2006/relationships/image" Target="../media/image103.jpeg"/><Relationship Id="rId7" Type="http://schemas.openxmlformats.org/officeDocument/2006/relationships/image" Target="../media/image104.jpeg"/><Relationship Id="rId8" Type="http://schemas.openxmlformats.org/officeDocument/2006/relationships/image" Target="../media/image106.jpeg"/><Relationship Id="rId9" Type="http://schemas.openxmlformats.org/officeDocument/2006/relationships/image" Target="../media/image107.jpeg"/><Relationship Id="rId10" Type="http://schemas.openxmlformats.org/officeDocument/2006/relationships/image" Target="../media/image108.jpeg"/><Relationship Id="rId11" Type="http://schemas.openxmlformats.org/officeDocument/2006/relationships/image" Target="../media/image109.jpeg"/><Relationship Id="rId12" Type="http://schemas.openxmlformats.org/officeDocument/2006/relationships/image" Target="../media/image110.jpeg"/><Relationship Id="rId13" Type="http://schemas.openxmlformats.org/officeDocument/2006/relationships/image" Target="../media/image111.jpeg"/><Relationship Id="rId14" Type="http://schemas.openxmlformats.org/officeDocument/2006/relationships/image" Target="../media/image112.jpeg"/><Relationship Id="rId15" Type="http://schemas.openxmlformats.org/officeDocument/2006/relationships/image" Target="../media/image113.jpeg"/><Relationship Id="rId16" Type="http://schemas.openxmlformats.org/officeDocument/2006/relationships/image" Target="../media/image114.jpeg"/><Relationship Id="rId1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image" Target="../media/image25.jpeg"/><Relationship Id="rId15" Type="http://schemas.openxmlformats.org/officeDocument/2006/relationships/image" Target="../media/image26.jpe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jpeg"/><Relationship Id="rId2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38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6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51.jpeg"/><Relationship Id="rId11" Type="http://schemas.openxmlformats.org/officeDocument/2006/relationships/image" Target="../media/image52.jpeg"/><Relationship Id="rId12" Type="http://schemas.openxmlformats.org/officeDocument/2006/relationships/image" Target="../media/image53.jpeg"/><Relationship Id="rId13" Type="http://schemas.openxmlformats.org/officeDocument/2006/relationships/image" Target="../media/image54.jpeg"/><Relationship Id="rId14" Type="http://schemas.openxmlformats.org/officeDocument/2006/relationships/image" Target="../media/image55.jpeg"/><Relationship Id="rId1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3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image" Target="../media/image59.jpeg"/><Relationship Id="rId10" Type="http://schemas.openxmlformats.org/officeDocument/2006/relationships/image" Target="../media/image61.jpeg"/><Relationship Id="rId11" Type="http://schemas.openxmlformats.org/officeDocument/2006/relationships/image" Target="../media/image62.jpeg"/><Relationship Id="rId12" Type="http://schemas.openxmlformats.org/officeDocument/2006/relationships/image" Target="../media/image63.jpeg"/><Relationship Id="rId13" Type="http://schemas.openxmlformats.org/officeDocument/2006/relationships/image" Target="../media/image64.jpeg"/><Relationship Id="rId14" Type="http://schemas.openxmlformats.org/officeDocument/2006/relationships/image" Target="../media/image65.jpeg"/><Relationship Id="rId15" Type="http://schemas.openxmlformats.org/officeDocument/2006/relationships/image" Target="../media/image66.jpeg"/><Relationship Id="rId16" Type="http://schemas.openxmlformats.org/officeDocument/2006/relationships/image" Target="../media/image67.jpeg"/><Relationship Id="rId17" Type="http://schemas.openxmlformats.org/officeDocument/2006/relationships/image" Target="../media/image68.jpeg"/><Relationship Id="rId18" Type="http://schemas.openxmlformats.org/officeDocument/2006/relationships/image" Target="../media/image69.jpeg"/><Relationship Id="rId19" Type="http://schemas.openxmlformats.org/officeDocument/2006/relationships/image" Target="../media/image70.jpeg"/><Relationship Id="rId20" Type="http://schemas.openxmlformats.org/officeDocument/2006/relationships/image" Target="../media/image71.jpeg"/><Relationship Id="rId2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36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4.jpeg"/><Relationship Id="rId9" Type="http://schemas.openxmlformats.org/officeDocument/2006/relationships/image" Target="../media/image76.jpeg"/><Relationship Id="rId10" Type="http://schemas.openxmlformats.org/officeDocument/2006/relationships/image" Target="../media/image77.jpeg"/><Relationship Id="rId11" Type="http://schemas.openxmlformats.org/officeDocument/2006/relationships/image" Target="../media/image78.jpeg"/><Relationship Id="rId12" Type="http://schemas.openxmlformats.org/officeDocument/2006/relationships/image" Target="../media/image79.jpeg"/><Relationship Id="rId13" Type="http://schemas.openxmlformats.org/officeDocument/2006/relationships/image" Target="../media/image80.jpeg"/><Relationship Id="rId14" Type="http://schemas.openxmlformats.org/officeDocument/2006/relationships/image" Target="../media/image81.jpeg"/><Relationship Id="rId15" Type="http://schemas.openxmlformats.org/officeDocument/2006/relationships/image" Target="../media/image82.jpeg"/><Relationship Id="rId16" Type="http://schemas.openxmlformats.org/officeDocument/2006/relationships/image" Target="../media/image83.jpeg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3"/>
          <p:cNvSpPr/>
          <p:nvPr/>
        </p:nvSpPr>
        <p:spPr>
          <a:xfrm>
            <a:off x="0" y="0"/>
            <a:ext cx="12191760" cy="68576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1974" h="6858000">
                <a:moveTo>
                  <a:pt x="0" y="6858000"/>
                </a:moveTo>
                <a:lnTo>
                  <a:pt x="12191974" y="6858000"/>
                </a:lnTo>
                <a:lnTo>
                  <a:pt x="12191974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1a60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10767960" y="6158880"/>
            <a:ext cx="158760" cy="168840"/>
          </a:xfrm>
          <a:custGeom>
            <a:avLst/>
            <a:gdLst>
              <a:gd name="textAreaLeft" fmla="*/ 0 w 158760"/>
              <a:gd name="textAreaRight" fmla="*/ 159120 w 158760"/>
              <a:gd name="textAreaTop" fmla="*/ 0 h 168840"/>
              <a:gd name="textAreaBottom" fmla="*/ 169200 h 168840"/>
            </a:gdLst>
            <a:ahLst/>
            <a:rect l="textAreaLeft" t="textAreaTop" r="textAreaRight" b="textAreaBottom"/>
            <a:pathLst>
              <a:path w="158986" h="169121">
                <a:moveTo>
                  <a:pt x="158986" y="125252"/>
                </a:moveTo>
                <a:cubicBezTo>
                  <a:pt x="146933" y="145978"/>
                  <a:pt x="129687" y="159643"/>
                  <a:pt x="107106" y="166260"/>
                </a:cubicBezTo>
                <a:cubicBezTo>
                  <a:pt x="84729" y="172788"/>
                  <a:pt x="63164" y="170070"/>
                  <a:pt x="42514" y="158132"/>
                </a:cubicBezTo>
                <a:cubicBezTo>
                  <a:pt x="22105" y="146258"/>
                  <a:pt x="8770" y="129125"/>
                  <a:pt x="2547" y="106710"/>
                </a:cubicBezTo>
                <a:cubicBezTo>
                  <a:pt x="-3624" y="84269"/>
                  <a:pt x="-855" y="62895"/>
                  <a:pt x="10891" y="42486"/>
                </a:cubicBezTo>
                <a:cubicBezTo>
                  <a:pt x="22626" y="22039"/>
                  <a:pt x="39784" y="8678"/>
                  <a:pt x="62339" y="2519"/>
                </a:cubicBezTo>
                <a:cubicBezTo>
                  <a:pt x="85059" y="-3640"/>
                  <a:pt x="106560" y="-820"/>
                  <a:pt x="126804" y="10863"/>
                </a:cubicBezTo>
                <a:cubicBezTo>
                  <a:pt x="136900" y="16705"/>
                  <a:pt x="146108" y="25265"/>
                  <a:pt x="154375" y="36415"/>
                </a:cubicBezTo>
                <a:lnTo>
                  <a:pt x="128544" y="55224"/>
                </a:lnTo>
                <a:cubicBezTo>
                  <a:pt x="123235" y="47795"/>
                  <a:pt x="117330" y="42194"/>
                  <a:pt x="110776" y="38396"/>
                </a:cubicBezTo>
                <a:cubicBezTo>
                  <a:pt x="98089" y="31081"/>
                  <a:pt x="84666" y="29316"/>
                  <a:pt x="70581" y="33291"/>
                </a:cubicBezTo>
                <a:cubicBezTo>
                  <a:pt x="56471" y="37215"/>
                  <a:pt x="45804" y="45547"/>
                  <a:pt x="38488" y="58272"/>
                </a:cubicBezTo>
                <a:cubicBezTo>
                  <a:pt x="31186" y="70947"/>
                  <a:pt x="29458" y="84294"/>
                  <a:pt x="33307" y="98430"/>
                </a:cubicBezTo>
                <a:cubicBezTo>
                  <a:pt x="37142" y="112514"/>
                  <a:pt x="45435" y="123296"/>
                  <a:pt x="58262" y="130726"/>
                </a:cubicBezTo>
                <a:cubicBezTo>
                  <a:pt x="71216" y="138231"/>
                  <a:pt x="84666" y="139793"/>
                  <a:pt x="98546" y="135361"/>
                </a:cubicBezTo>
                <a:cubicBezTo>
                  <a:pt x="112618" y="131043"/>
                  <a:pt x="123476" y="122293"/>
                  <a:pt x="131173" y="109148"/>
                </a:cubicBezTo>
                <a:lnTo>
                  <a:pt x="158986" y="125252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10935360" y="6108120"/>
            <a:ext cx="146160" cy="217080"/>
          </a:xfrm>
          <a:custGeom>
            <a:avLst/>
            <a:gdLst>
              <a:gd name="textAreaLeft" fmla="*/ 0 w 146160"/>
              <a:gd name="textAreaRight" fmla="*/ 146520 w 146160"/>
              <a:gd name="textAreaTop" fmla="*/ 0 h 217080"/>
              <a:gd name="textAreaBottom" fmla="*/ 217440 h 217080"/>
            </a:gdLst>
            <a:ahLst/>
            <a:rect l="textAreaLeft" t="textAreaTop" r="textAreaRight" b="textAreaBottom"/>
            <a:pathLst>
              <a:path w="146684" h="217601">
                <a:moveTo>
                  <a:pt x="101993" y="217601"/>
                </a:moveTo>
                <a:lnTo>
                  <a:pt x="42150" y="158140"/>
                </a:lnTo>
                <a:lnTo>
                  <a:pt x="31762" y="168579"/>
                </a:lnTo>
                <a:lnTo>
                  <a:pt x="31762" y="217601"/>
                </a:lnTo>
                <a:lnTo>
                  <a:pt x="0" y="217601"/>
                </a:lnTo>
                <a:lnTo>
                  <a:pt x="0" y="0"/>
                </a:lnTo>
                <a:lnTo>
                  <a:pt x="31762" y="0"/>
                </a:lnTo>
                <a:lnTo>
                  <a:pt x="31762" y="123481"/>
                </a:lnTo>
                <a:lnTo>
                  <a:pt x="101993" y="53123"/>
                </a:lnTo>
                <a:lnTo>
                  <a:pt x="146684" y="53123"/>
                </a:lnTo>
                <a:lnTo>
                  <a:pt x="64617" y="135534"/>
                </a:lnTo>
                <a:lnTo>
                  <a:pt x="146684" y="217601"/>
                </a:lnTo>
                <a:lnTo>
                  <a:pt x="101993" y="217601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11086200" y="6161040"/>
            <a:ext cx="142560" cy="166680"/>
          </a:xfrm>
          <a:custGeom>
            <a:avLst/>
            <a:gdLst>
              <a:gd name="textAreaLeft" fmla="*/ 0 w 142560"/>
              <a:gd name="textAreaRight" fmla="*/ 142920 w 1425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42925" h="167106">
                <a:moveTo>
                  <a:pt x="142925" y="95605"/>
                </a:moveTo>
                <a:cubicBezTo>
                  <a:pt x="142925" y="114642"/>
                  <a:pt x="135699" y="131317"/>
                  <a:pt x="121233" y="145643"/>
                </a:cubicBezTo>
                <a:cubicBezTo>
                  <a:pt x="106756" y="159968"/>
                  <a:pt x="90182" y="167106"/>
                  <a:pt x="71475" y="167106"/>
                </a:cubicBezTo>
                <a:cubicBezTo>
                  <a:pt x="52552" y="167106"/>
                  <a:pt x="35941" y="159968"/>
                  <a:pt x="21564" y="145643"/>
                </a:cubicBezTo>
                <a:cubicBezTo>
                  <a:pt x="7187" y="131317"/>
                  <a:pt x="0" y="114642"/>
                  <a:pt x="0" y="95605"/>
                </a:cubicBezTo>
                <a:lnTo>
                  <a:pt x="0" y="0"/>
                </a:lnTo>
                <a:lnTo>
                  <a:pt x="31775" y="0"/>
                </a:lnTo>
                <a:lnTo>
                  <a:pt x="31775" y="95605"/>
                </a:lnTo>
                <a:cubicBezTo>
                  <a:pt x="31775" y="106426"/>
                  <a:pt x="35699" y="115747"/>
                  <a:pt x="43548" y="123634"/>
                </a:cubicBezTo>
                <a:cubicBezTo>
                  <a:pt x="51422" y="131559"/>
                  <a:pt x="60731" y="135547"/>
                  <a:pt x="71475" y="135547"/>
                </a:cubicBezTo>
                <a:cubicBezTo>
                  <a:pt x="82232" y="135547"/>
                  <a:pt x="91516" y="131559"/>
                  <a:pt x="99415" y="123634"/>
                </a:cubicBezTo>
                <a:cubicBezTo>
                  <a:pt x="107276" y="115747"/>
                  <a:pt x="111200" y="106426"/>
                  <a:pt x="111200" y="95605"/>
                </a:cubicBezTo>
                <a:lnTo>
                  <a:pt x="111200" y="0"/>
                </a:lnTo>
                <a:lnTo>
                  <a:pt x="142925" y="0"/>
                </a:lnTo>
                <a:lnTo>
                  <a:pt x="142925" y="95605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11417400" y="6161040"/>
            <a:ext cx="31320" cy="164160"/>
          </a:xfrm>
          <a:custGeom>
            <a:avLst/>
            <a:gdLst>
              <a:gd name="textAreaLeft" fmla="*/ 0 w 31320"/>
              <a:gd name="textAreaRight" fmla="*/ 31680 w 31320"/>
              <a:gd name="textAreaTop" fmla="*/ 0 h 164160"/>
              <a:gd name="textAreaBottom" fmla="*/ 164520 h 164160"/>
            </a:gdLst>
            <a:ahLst/>
            <a:rect l="textAreaLeft" t="textAreaTop" r="textAreaRight" b="textAreaBottom"/>
            <a:pathLst>
              <a:path w="31775" h="164477">
                <a:moveTo>
                  <a:pt x="15887" y="0"/>
                </a:moveTo>
                <a:lnTo>
                  <a:pt x="15887" y="164477"/>
                </a:lnTo>
              </a:path>
            </a:pathLst>
          </a:custGeom>
          <a:noFill/>
          <a:ln w="254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11417400" y="6108120"/>
            <a:ext cx="31320" cy="31680"/>
          </a:xfrm>
          <a:custGeom>
            <a:avLst/>
            <a:gdLst>
              <a:gd name="textAreaLeft" fmla="*/ 0 w 31320"/>
              <a:gd name="textAreaRight" fmla="*/ 31680 w 313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1775" h="31877">
                <a:moveTo>
                  <a:pt x="0" y="0"/>
                </a:moveTo>
                <a:lnTo>
                  <a:pt x="31774" y="0"/>
                </a:lnTo>
                <a:lnTo>
                  <a:pt x="31774" y="31876"/>
                </a:lnTo>
                <a:lnTo>
                  <a:pt x="0" y="3187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11462400" y="6108120"/>
            <a:ext cx="87120" cy="217080"/>
          </a:xfrm>
          <a:custGeom>
            <a:avLst/>
            <a:gdLst>
              <a:gd name="textAreaLeft" fmla="*/ 0 w 87120"/>
              <a:gd name="textAreaRight" fmla="*/ 87480 w 87120"/>
              <a:gd name="textAreaTop" fmla="*/ 0 h 217080"/>
              <a:gd name="textAreaBottom" fmla="*/ 217440 h 217080"/>
            </a:gdLst>
            <a:ahLst/>
            <a:rect l="textAreaLeft" t="textAreaTop" r="textAreaRight" b="textAreaBottom"/>
            <a:pathLst>
              <a:path w="87414" h="217601">
                <a:moveTo>
                  <a:pt x="87414" y="31737"/>
                </a:moveTo>
                <a:cubicBezTo>
                  <a:pt x="75730" y="31737"/>
                  <a:pt x="65773" y="35559"/>
                  <a:pt x="57505" y="43103"/>
                </a:cubicBezTo>
                <a:cubicBezTo>
                  <a:pt x="49212" y="50596"/>
                  <a:pt x="45072" y="60083"/>
                  <a:pt x="45072" y="71602"/>
                </a:cubicBezTo>
                <a:lnTo>
                  <a:pt x="45072" y="79705"/>
                </a:lnTo>
                <a:lnTo>
                  <a:pt x="71602" y="79705"/>
                </a:lnTo>
                <a:lnTo>
                  <a:pt x="71602" y="111556"/>
                </a:lnTo>
                <a:lnTo>
                  <a:pt x="45072" y="111556"/>
                </a:lnTo>
                <a:lnTo>
                  <a:pt x="45072" y="217601"/>
                </a:lnTo>
                <a:lnTo>
                  <a:pt x="13322" y="217601"/>
                </a:lnTo>
                <a:lnTo>
                  <a:pt x="13322" y="111556"/>
                </a:lnTo>
                <a:lnTo>
                  <a:pt x="0" y="111556"/>
                </a:lnTo>
                <a:lnTo>
                  <a:pt x="0" y="79705"/>
                </a:lnTo>
                <a:lnTo>
                  <a:pt x="13322" y="79705"/>
                </a:lnTo>
                <a:lnTo>
                  <a:pt x="13322" y="71602"/>
                </a:lnTo>
                <a:cubicBezTo>
                  <a:pt x="13322" y="52006"/>
                  <a:pt x="20713" y="35178"/>
                  <a:pt x="35559" y="21170"/>
                </a:cubicBezTo>
                <a:cubicBezTo>
                  <a:pt x="50330" y="7239"/>
                  <a:pt x="67588" y="203"/>
                  <a:pt x="87414" y="0"/>
                </a:cubicBezTo>
                <a:lnTo>
                  <a:pt x="87414" y="31737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0418040" y="6108120"/>
            <a:ext cx="169200" cy="219960"/>
          </a:xfrm>
          <a:custGeom>
            <a:avLst/>
            <a:gdLst>
              <a:gd name="textAreaLeft" fmla="*/ 0 w 169200"/>
              <a:gd name="textAreaRight" fmla="*/ 169560 w 169200"/>
              <a:gd name="textAreaTop" fmla="*/ 0 h 219960"/>
              <a:gd name="textAreaBottom" fmla="*/ 220320 h 219960"/>
            </a:gdLst>
            <a:ahLst/>
            <a:rect l="textAreaLeft" t="textAreaTop" r="textAreaRight" b="textAreaBottom"/>
            <a:pathLst>
              <a:path w="169405" h="220230">
                <a:moveTo>
                  <a:pt x="85801" y="220230"/>
                </a:moveTo>
                <a:cubicBezTo>
                  <a:pt x="108470" y="219989"/>
                  <a:pt x="128016" y="211747"/>
                  <a:pt x="144412" y="195478"/>
                </a:cubicBezTo>
                <a:cubicBezTo>
                  <a:pt x="161049" y="178765"/>
                  <a:pt x="169405" y="158775"/>
                  <a:pt x="169405" y="135521"/>
                </a:cubicBezTo>
                <a:cubicBezTo>
                  <a:pt x="169405" y="112560"/>
                  <a:pt x="161379" y="92621"/>
                  <a:pt x="145326" y="75704"/>
                </a:cubicBezTo>
                <a:cubicBezTo>
                  <a:pt x="129337" y="58889"/>
                  <a:pt x="109982" y="50482"/>
                  <a:pt x="87325" y="50482"/>
                </a:cubicBezTo>
                <a:lnTo>
                  <a:pt x="85559" y="50482"/>
                </a:lnTo>
                <a:lnTo>
                  <a:pt x="85559" y="26466"/>
                </a:lnTo>
                <a:lnTo>
                  <a:pt x="44374" y="67817"/>
                </a:lnTo>
                <a:lnTo>
                  <a:pt x="85559" y="109169"/>
                </a:lnTo>
                <a:lnTo>
                  <a:pt x="85559" y="82359"/>
                </a:lnTo>
                <a:cubicBezTo>
                  <a:pt x="99606" y="82537"/>
                  <a:pt x="111735" y="87769"/>
                  <a:pt x="121970" y="98081"/>
                </a:cubicBezTo>
                <a:cubicBezTo>
                  <a:pt x="132422" y="108597"/>
                  <a:pt x="137642" y="121018"/>
                  <a:pt x="137642" y="135483"/>
                </a:cubicBezTo>
                <a:cubicBezTo>
                  <a:pt x="137642" y="150024"/>
                  <a:pt x="132422" y="162585"/>
                  <a:pt x="121970" y="173011"/>
                </a:cubicBezTo>
                <a:cubicBezTo>
                  <a:pt x="111633" y="183438"/>
                  <a:pt x="99186" y="188671"/>
                  <a:pt x="84709" y="188671"/>
                </a:cubicBezTo>
                <a:cubicBezTo>
                  <a:pt x="70116" y="188671"/>
                  <a:pt x="57632" y="183489"/>
                  <a:pt x="47269" y="173037"/>
                </a:cubicBezTo>
                <a:cubicBezTo>
                  <a:pt x="36931" y="162699"/>
                  <a:pt x="31763" y="150114"/>
                  <a:pt x="31763" y="135483"/>
                </a:cubicBezTo>
                <a:lnTo>
                  <a:pt x="31763" y="0"/>
                </a:lnTo>
                <a:lnTo>
                  <a:pt x="0" y="0"/>
                </a:lnTo>
                <a:lnTo>
                  <a:pt x="0" y="135521"/>
                </a:lnTo>
                <a:cubicBezTo>
                  <a:pt x="0" y="158877"/>
                  <a:pt x="8280" y="178866"/>
                  <a:pt x="24841" y="195478"/>
                </a:cubicBezTo>
                <a:cubicBezTo>
                  <a:pt x="41364" y="211975"/>
                  <a:pt x="61341" y="220230"/>
                  <a:pt x="84709" y="220230"/>
                </a:cubicBezTo>
                <a:lnTo>
                  <a:pt x="85801" y="22023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0275480" y="6090120"/>
            <a:ext cx="22680" cy="299880"/>
          </a:xfrm>
          <a:custGeom>
            <a:avLst/>
            <a:gdLst>
              <a:gd name="textAreaLeft" fmla="*/ 0 w 22680"/>
              <a:gd name="textAreaRight" fmla="*/ 23040 w 226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23050" h="300240">
                <a:moveTo>
                  <a:pt x="6350" y="6350"/>
                </a:moveTo>
                <a:lnTo>
                  <a:pt x="6350" y="29389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9616680" y="6060600"/>
            <a:ext cx="147960" cy="308520"/>
          </a:xfrm>
          <a:custGeom>
            <a:avLst/>
            <a:gdLst>
              <a:gd name="textAreaLeft" fmla="*/ 0 w 147960"/>
              <a:gd name="textAreaRight" fmla="*/ 148320 w 147960"/>
              <a:gd name="textAreaTop" fmla="*/ 0 h 308520"/>
              <a:gd name="textAreaBottom" fmla="*/ 308880 h 308520"/>
            </a:gdLst>
            <a:ahLst/>
            <a:rect l="textAreaLeft" t="textAreaTop" r="textAreaRight" b="textAreaBottom"/>
            <a:pathLst>
              <a:path w="148386" h="308825">
                <a:moveTo>
                  <a:pt x="87172" y="229996"/>
                </a:moveTo>
                <a:cubicBezTo>
                  <a:pt x="87172" y="257352"/>
                  <a:pt x="92747" y="263842"/>
                  <a:pt x="115925" y="263842"/>
                </a:cubicBezTo>
                <a:cubicBezTo>
                  <a:pt x="123811" y="263842"/>
                  <a:pt x="132613" y="262927"/>
                  <a:pt x="142366" y="261073"/>
                </a:cubicBezTo>
                <a:lnTo>
                  <a:pt x="148386" y="302336"/>
                </a:lnTo>
                <a:cubicBezTo>
                  <a:pt x="133083" y="306514"/>
                  <a:pt x="115925" y="308825"/>
                  <a:pt x="101079" y="308825"/>
                </a:cubicBezTo>
                <a:cubicBezTo>
                  <a:pt x="57492" y="308825"/>
                  <a:pt x="40334" y="290740"/>
                  <a:pt x="40334" y="245770"/>
                </a:cubicBezTo>
                <a:lnTo>
                  <a:pt x="40334" y="125196"/>
                </a:lnTo>
                <a:lnTo>
                  <a:pt x="0" y="125196"/>
                </a:lnTo>
                <a:lnTo>
                  <a:pt x="0" y="84861"/>
                </a:lnTo>
                <a:lnTo>
                  <a:pt x="40334" y="84861"/>
                </a:lnTo>
                <a:lnTo>
                  <a:pt x="40334" y="16687"/>
                </a:lnTo>
                <a:lnTo>
                  <a:pt x="87172" y="0"/>
                </a:lnTo>
                <a:lnTo>
                  <a:pt x="87172" y="84861"/>
                </a:lnTo>
                <a:lnTo>
                  <a:pt x="145135" y="84861"/>
                </a:lnTo>
                <a:lnTo>
                  <a:pt x="145135" y="125196"/>
                </a:lnTo>
                <a:lnTo>
                  <a:pt x="87172" y="125196"/>
                </a:lnTo>
                <a:lnTo>
                  <a:pt x="87172" y="22999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9775440" y="6060600"/>
            <a:ext cx="147960" cy="308520"/>
          </a:xfrm>
          <a:custGeom>
            <a:avLst/>
            <a:gdLst>
              <a:gd name="textAreaLeft" fmla="*/ 0 w 147960"/>
              <a:gd name="textAreaRight" fmla="*/ 148320 w 147960"/>
              <a:gd name="textAreaTop" fmla="*/ 0 h 308520"/>
              <a:gd name="textAreaBottom" fmla="*/ 308880 h 308520"/>
            </a:gdLst>
            <a:ahLst/>
            <a:rect l="textAreaLeft" t="textAreaTop" r="textAreaRight" b="textAreaBottom"/>
            <a:pathLst>
              <a:path w="148387" h="308825">
                <a:moveTo>
                  <a:pt x="87172" y="229996"/>
                </a:moveTo>
                <a:cubicBezTo>
                  <a:pt x="87172" y="257352"/>
                  <a:pt x="92748" y="263842"/>
                  <a:pt x="115925" y="263842"/>
                </a:cubicBezTo>
                <a:cubicBezTo>
                  <a:pt x="123812" y="263842"/>
                  <a:pt x="132613" y="262927"/>
                  <a:pt x="142367" y="261073"/>
                </a:cubicBezTo>
                <a:lnTo>
                  <a:pt x="148387" y="302336"/>
                </a:lnTo>
                <a:cubicBezTo>
                  <a:pt x="133083" y="306514"/>
                  <a:pt x="115925" y="308825"/>
                  <a:pt x="101079" y="308825"/>
                </a:cubicBezTo>
                <a:cubicBezTo>
                  <a:pt x="57493" y="308825"/>
                  <a:pt x="40335" y="290740"/>
                  <a:pt x="40335" y="245770"/>
                </a:cubicBezTo>
                <a:lnTo>
                  <a:pt x="40335" y="125196"/>
                </a:lnTo>
                <a:lnTo>
                  <a:pt x="0" y="125196"/>
                </a:lnTo>
                <a:lnTo>
                  <a:pt x="0" y="84861"/>
                </a:lnTo>
                <a:lnTo>
                  <a:pt x="40335" y="84861"/>
                </a:lnTo>
                <a:lnTo>
                  <a:pt x="40335" y="16687"/>
                </a:lnTo>
                <a:lnTo>
                  <a:pt x="87172" y="0"/>
                </a:lnTo>
                <a:lnTo>
                  <a:pt x="87172" y="84861"/>
                </a:lnTo>
                <a:lnTo>
                  <a:pt x="145136" y="84861"/>
                </a:lnTo>
                <a:lnTo>
                  <a:pt x="145136" y="125196"/>
                </a:lnTo>
                <a:lnTo>
                  <a:pt x="87172" y="125196"/>
                </a:lnTo>
                <a:lnTo>
                  <a:pt x="87172" y="22999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5998680" y="4946040"/>
            <a:ext cx="617040" cy="496440"/>
          </a:xfrm>
          <a:custGeom>
            <a:avLst/>
            <a:gdLst>
              <a:gd name="textAreaLeft" fmla="*/ 0 w 617040"/>
              <a:gd name="textAreaRight" fmla="*/ 617400 w 617040"/>
              <a:gd name="textAreaTop" fmla="*/ 0 h 496440"/>
              <a:gd name="textAreaBottom" fmla="*/ 496800 h 496440"/>
            </a:gdLst>
            <a:ahLst/>
            <a:rect l="textAreaLeft" t="textAreaTop" r="textAreaRight" b="textAreaBottom"/>
            <a:pathLst>
              <a:path w="617563" h="496836">
                <a:moveTo>
                  <a:pt x="617563" y="496836"/>
                </a:moveTo>
                <a:lnTo>
                  <a:pt x="0" y="496836"/>
                </a:lnTo>
                <a:lnTo>
                  <a:pt x="0" y="0"/>
                </a:lnTo>
                <a:lnTo>
                  <a:pt x="617563" y="0"/>
                </a:lnTo>
                <a:lnTo>
                  <a:pt x="617563" y="496836"/>
                </a:lnTo>
              </a:path>
            </a:pathLst>
          </a:custGeom>
          <a:solidFill>
            <a:srgbClr val="b6b2a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5576760" y="5382360"/>
            <a:ext cx="1461240" cy="120240"/>
          </a:xfrm>
          <a:custGeom>
            <a:avLst/>
            <a:gdLst>
              <a:gd name="textAreaLeft" fmla="*/ 0 w 1461240"/>
              <a:gd name="textAreaRight" fmla="*/ 1461600 w 1461240"/>
              <a:gd name="textAreaTop" fmla="*/ 0 h 120240"/>
              <a:gd name="textAreaBottom" fmla="*/ 120600 h 120240"/>
            </a:gdLst>
            <a:ahLst/>
            <a:rect l="textAreaLeft" t="textAreaTop" r="textAreaRight" b="textAreaBottom"/>
            <a:pathLst>
              <a:path w="1461668" h="120726">
                <a:moveTo>
                  <a:pt x="1461668" y="120726"/>
                </a:moveTo>
                <a:lnTo>
                  <a:pt x="0" y="120726"/>
                </a:lnTo>
                <a:lnTo>
                  <a:pt x="0" y="0"/>
                </a:lnTo>
                <a:lnTo>
                  <a:pt x="1461668" y="0"/>
                </a:lnTo>
                <a:lnTo>
                  <a:pt x="1461668" y="120726"/>
                </a:lnTo>
              </a:path>
            </a:pathLst>
          </a:custGeom>
          <a:solidFill>
            <a:srgbClr val="b6b2a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2818080" y="5493600"/>
            <a:ext cx="6438600" cy="236520"/>
          </a:xfrm>
          <a:custGeom>
            <a:avLst/>
            <a:gdLst>
              <a:gd name="textAreaLeft" fmla="*/ 0 w 6438600"/>
              <a:gd name="textAreaRight" fmla="*/ 6438960 w 6438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6439103" h="236804">
                <a:moveTo>
                  <a:pt x="6439103" y="236804"/>
                </a:moveTo>
                <a:lnTo>
                  <a:pt x="0" y="236804"/>
                </a:lnTo>
                <a:lnTo>
                  <a:pt x="0" y="0"/>
                </a:lnTo>
                <a:lnTo>
                  <a:pt x="6439102" y="0"/>
                </a:lnTo>
                <a:lnTo>
                  <a:pt x="6439102" y="236804"/>
                </a:lnTo>
              </a:path>
            </a:pathLst>
          </a:custGeom>
          <a:solidFill>
            <a:srgbClr val="8a8a8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4684680" y="3004200"/>
            <a:ext cx="3245400" cy="2045520"/>
          </a:xfrm>
          <a:custGeom>
            <a:avLst/>
            <a:gdLst>
              <a:gd name="textAreaLeft" fmla="*/ 0 w 3245400"/>
              <a:gd name="textAreaRight" fmla="*/ 3245760 w 3245400"/>
              <a:gd name="textAreaTop" fmla="*/ 0 h 2045520"/>
              <a:gd name="textAreaBottom" fmla="*/ 2045880 h 2045520"/>
            </a:gdLst>
            <a:ahLst/>
            <a:rect l="textAreaLeft" t="textAreaTop" r="textAreaRight" b="textAreaBottom"/>
            <a:pathLst>
              <a:path w="3245701" h="2045792">
                <a:moveTo>
                  <a:pt x="3164319" y="2045792"/>
                </a:moveTo>
                <a:lnTo>
                  <a:pt x="81381" y="2045792"/>
                </a:lnTo>
                <a:cubicBezTo>
                  <a:pt x="36626" y="2045792"/>
                  <a:pt x="0" y="2009177"/>
                  <a:pt x="0" y="1964410"/>
                </a:cubicBezTo>
                <a:lnTo>
                  <a:pt x="0" y="81381"/>
                </a:lnTo>
                <a:cubicBezTo>
                  <a:pt x="0" y="36626"/>
                  <a:pt x="36626" y="0"/>
                  <a:pt x="81381" y="0"/>
                </a:cubicBezTo>
                <a:lnTo>
                  <a:pt x="3164319" y="0"/>
                </a:lnTo>
                <a:cubicBezTo>
                  <a:pt x="3209074" y="0"/>
                  <a:pt x="3245700" y="36626"/>
                  <a:pt x="3245700" y="81381"/>
                </a:cubicBezTo>
                <a:lnTo>
                  <a:pt x="3245700" y="1964410"/>
                </a:lnTo>
                <a:cubicBezTo>
                  <a:pt x="3245700" y="2009177"/>
                  <a:pt x="3209074" y="2045792"/>
                  <a:pt x="3164319" y="2045792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4842360" y="3152520"/>
            <a:ext cx="2925000" cy="1629360"/>
          </a:xfrm>
          <a:custGeom>
            <a:avLst/>
            <a:gdLst>
              <a:gd name="textAreaLeft" fmla="*/ 0 w 2925000"/>
              <a:gd name="textAreaRight" fmla="*/ 2925360 w 2925000"/>
              <a:gd name="textAreaTop" fmla="*/ 0 h 1629360"/>
              <a:gd name="textAreaBottom" fmla="*/ 1629720 h 1629360"/>
            </a:gdLst>
            <a:ahLst/>
            <a:rect l="textAreaLeft" t="textAreaTop" r="textAreaRight" b="textAreaBottom"/>
            <a:pathLst>
              <a:path w="2925305" h="1629816">
                <a:moveTo>
                  <a:pt x="2925305" y="1629816"/>
                </a:moveTo>
                <a:lnTo>
                  <a:pt x="0" y="1629816"/>
                </a:lnTo>
                <a:lnTo>
                  <a:pt x="0" y="0"/>
                </a:lnTo>
                <a:lnTo>
                  <a:pt x="2925305" y="0"/>
                </a:lnTo>
                <a:lnTo>
                  <a:pt x="2925305" y="1629816"/>
                </a:lnTo>
              </a:path>
            </a:pathLst>
          </a:custGeom>
          <a:solidFill>
            <a:srgbClr val="f1f6f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8571600" y="4824000"/>
            <a:ext cx="20520" cy="158760"/>
          </a:xfrm>
          <a:custGeom>
            <a:avLst/>
            <a:gdLst>
              <a:gd name="textAreaLeft" fmla="*/ 0 w 20520"/>
              <a:gd name="textAreaRight" fmla="*/ 20880 w 20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0955" h="158965">
                <a:moveTo>
                  <a:pt x="10477" y="0"/>
                </a:moveTo>
                <a:lnTo>
                  <a:pt x="10477" y="158965"/>
                </a:lnTo>
              </a:path>
            </a:pathLst>
          </a:custGeom>
          <a:noFill/>
          <a:ln w="12700">
            <a:solidFill>
              <a:srgbClr val="132734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8494560" y="4978080"/>
            <a:ext cx="174600" cy="183960"/>
          </a:xfrm>
          <a:custGeom>
            <a:avLst/>
            <a:gdLst>
              <a:gd name="textAreaLeft" fmla="*/ 0 w 174600"/>
              <a:gd name="textAreaRight" fmla="*/ 174960 w 1746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75056" h="184404">
                <a:moveTo>
                  <a:pt x="87527" y="0"/>
                </a:moveTo>
                <a:lnTo>
                  <a:pt x="0" y="14503"/>
                </a:lnTo>
                <a:lnTo>
                  <a:pt x="0" y="184404"/>
                </a:lnTo>
                <a:lnTo>
                  <a:pt x="87527" y="184404"/>
                </a:lnTo>
                <a:lnTo>
                  <a:pt x="175056" y="184404"/>
                </a:lnTo>
                <a:lnTo>
                  <a:pt x="175056" y="14503"/>
                </a:lnTo>
                <a:lnTo>
                  <a:pt x="87527" y="0"/>
                </a:ln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3116160" y="5332320"/>
            <a:ext cx="1011600" cy="169560"/>
          </a:xfrm>
          <a:custGeom>
            <a:avLst/>
            <a:gdLst>
              <a:gd name="textAreaLeft" fmla="*/ 0 w 1011600"/>
              <a:gd name="textAreaRight" fmla="*/ 1011960 w 10116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1012050" h="169900">
                <a:moveTo>
                  <a:pt x="1012050" y="169900"/>
                </a:moveTo>
                <a:lnTo>
                  <a:pt x="0" y="169900"/>
                </a:lnTo>
                <a:lnTo>
                  <a:pt x="0" y="0"/>
                </a:lnTo>
                <a:lnTo>
                  <a:pt x="1012050" y="0"/>
                </a:lnTo>
                <a:lnTo>
                  <a:pt x="1012050" y="169900"/>
                </a:lnTo>
              </a:path>
            </a:pathLst>
          </a:custGeom>
          <a:solidFill>
            <a:srgbClr val="eeede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3536280" y="5150880"/>
            <a:ext cx="190440" cy="190440"/>
          </a:xfrm>
          <a:custGeom>
            <a:avLst/>
            <a:gdLst>
              <a:gd name="textAreaLeft" fmla="*/ 0 w 190440"/>
              <a:gd name="textAreaRight" fmla="*/ 190800 w 1904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90957" h="190956">
                <a:moveTo>
                  <a:pt x="190957" y="95478"/>
                </a:moveTo>
                <a:cubicBezTo>
                  <a:pt x="190957" y="148208"/>
                  <a:pt x="148209" y="190956"/>
                  <a:pt x="95478" y="190956"/>
                </a:cubicBezTo>
                <a:cubicBezTo>
                  <a:pt x="42748" y="190956"/>
                  <a:pt x="0" y="148208"/>
                  <a:pt x="0" y="95478"/>
                </a:cubicBezTo>
                <a:cubicBezTo>
                  <a:pt x="0" y="42748"/>
                  <a:pt x="42748" y="0"/>
                  <a:pt x="95478" y="0"/>
                </a:cubicBezTo>
                <a:cubicBezTo>
                  <a:pt x="148209" y="0"/>
                  <a:pt x="190957" y="42748"/>
                  <a:pt x="190957" y="95478"/>
                </a:cubicBezTo>
              </a:path>
            </a:pathLst>
          </a:custGeom>
          <a:solidFill>
            <a:srgbClr val="eeede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2904480" y="4293360"/>
            <a:ext cx="731880" cy="978840"/>
          </a:xfrm>
          <a:custGeom>
            <a:avLst/>
            <a:gdLst>
              <a:gd name="textAreaLeft" fmla="*/ 0 w 731880"/>
              <a:gd name="textAreaRight" fmla="*/ 732240 w 731880"/>
              <a:gd name="textAreaTop" fmla="*/ 0 h 978840"/>
              <a:gd name="textAreaBottom" fmla="*/ 979200 h 978840"/>
            </a:gdLst>
            <a:ahLst/>
            <a:rect l="textAreaLeft" t="textAreaTop" r="textAreaRight" b="textAreaBottom"/>
            <a:pathLst>
              <a:path w="732358" h="979119">
                <a:moveTo>
                  <a:pt x="11334" y="11334"/>
                </a:moveTo>
                <a:lnTo>
                  <a:pt x="721023" y="967784"/>
                </a:lnTo>
              </a:path>
            </a:pathLst>
          </a:custGeom>
          <a:noFill/>
          <a:ln w="25400">
            <a:solidFill>
              <a:srgbClr val="eeedea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2953800" y="4270320"/>
            <a:ext cx="731880" cy="978840"/>
          </a:xfrm>
          <a:custGeom>
            <a:avLst/>
            <a:gdLst>
              <a:gd name="textAreaLeft" fmla="*/ 0 w 731880"/>
              <a:gd name="textAreaRight" fmla="*/ 732240 w 731880"/>
              <a:gd name="textAreaTop" fmla="*/ 0 h 978840"/>
              <a:gd name="textAreaBottom" fmla="*/ 979200 h 978840"/>
            </a:gdLst>
            <a:ahLst/>
            <a:rect l="textAreaLeft" t="textAreaTop" r="textAreaRight" b="textAreaBottom"/>
            <a:pathLst>
              <a:path w="732345" h="979119">
                <a:moveTo>
                  <a:pt x="11334" y="11334"/>
                </a:moveTo>
                <a:lnTo>
                  <a:pt x="721010" y="967784"/>
                </a:lnTo>
              </a:path>
            </a:pathLst>
          </a:custGeom>
          <a:noFill/>
          <a:ln w="25400">
            <a:solidFill>
              <a:srgbClr val="eeedea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2921400" y="3352320"/>
            <a:ext cx="885600" cy="845280"/>
          </a:xfrm>
          <a:custGeom>
            <a:avLst/>
            <a:gdLst>
              <a:gd name="textAreaLeft" fmla="*/ 0 w 885600"/>
              <a:gd name="textAreaRight" fmla="*/ 885960 w 885600"/>
              <a:gd name="textAreaTop" fmla="*/ 0 h 845280"/>
              <a:gd name="textAreaBottom" fmla="*/ 845640 h 845280"/>
            </a:gdLst>
            <a:ahLst/>
            <a:rect l="textAreaLeft" t="textAreaTop" r="textAreaRight" b="textAreaBottom"/>
            <a:pathLst>
              <a:path w="885888" h="845769">
                <a:moveTo>
                  <a:pt x="874553" y="11334"/>
                </a:moveTo>
                <a:lnTo>
                  <a:pt x="11334" y="834434"/>
                </a:lnTo>
              </a:path>
            </a:pathLst>
          </a:custGeom>
          <a:noFill/>
          <a:ln w="25400">
            <a:solidFill>
              <a:srgbClr val="eeedea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2950920" y="3397680"/>
            <a:ext cx="885600" cy="845280"/>
          </a:xfrm>
          <a:custGeom>
            <a:avLst/>
            <a:gdLst>
              <a:gd name="textAreaLeft" fmla="*/ 0 w 885600"/>
              <a:gd name="textAreaRight" fmla="*/ 885960 w 885600"/>
              <a:gd name="textAreaTop" fmla="*/ 0 h 845280"/>
              <a:gd name="textAreaBottom" fmla="*/ 845640 h 845280"/>
            </a:gdLst>
            <a:ahLst/>
            <a:rect l="textAreaLeft" t="textAreaTop" r="textAreaRight" b="textAreaBottom"/>
            <a:pathLst>
              <a:path w="885901" h="845781">
                <a:moveTo>
                  <a:pt x="874566" y="11334"/>
                </a:moveTo>
                <a:lnTo>
                  <a:pt x="11334" y="834446"/>
                </a:lnTo>
              </a:path>
            </a:pathLst>
          </a:custGeom>
          <a:noFill/>
          <a:ln w="25400">
            <a:solidFill>
              <a:srgbClr val="eeedea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2807280" y="4133520"/>
            <a:ext cx="237600" cy="237960"/>
          </a:xfrm>
          <a:custGeom>
            <a:avLst/>
            <a:gdLst>
              <a:gd name="textAreaLeft" fmla="*/ 0 w 237600"/>
              <a:gd name="textAreaRight" fmla="*/ 237960 w 23760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38137" h="238150">
                <a:moveTo>
                  <a:pt x="238137" y="119075"/>
                </a:moveTo>
                <a:cubicBezTo>
                  <a:pt x="238137" y="184836"/>
                  <a:pt x="184823" y="238150"/>
                  <a:pt x="119062" y="238150"/>
                </a:cubicBezTo>
                <a:cubicBezTo>
                  <a:pt x="53301" y="238150"/>
                  <a:pt x="0" y="184836"/>
                  <a:pt x="0" y="119075"/>
                </a:cubicBezTo>
                <a:cubicBezTo>
                  <a:pt x="0" y="53314"/>
                  <a:pt x="53301" y="0"/>
                  <a:pt x="119062" y="0"/>
                </a:cubicBezTo>
                <a:cubicBezTo>
                  <a:pt x="184823" y="0"/>
                  <a:pt x="238137" y="53314"/>
                  <a:pt x="238137" y="119075"/>
                </a:cubicBezTo>
              </a:path>
            </a:pathLst>
          </a:custGeom>
          <a:solidFill>
            <a:srgbClr val="eeede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4065480" y="3454200"/>
            <a:ext cx="263880" cy="261720"/>
          </a:xfrm>
          <a:custGeom>
            <a:avLst/>
            <a:gdLst>
              <a:gd name="textAreaLeft" fmla="*/ 0 w 263880"/>
              <a:gd name="textAreaRight" fmla="*/ 264240 w 26388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264147" h="262064">
                <a:moveTo>
                  <a:pt x="264147" y="131026"/>
                </a:moveTo>
                <a:cubicBezTo>
                  <a:pt x="264147" y="203390"/>
                  <a:pt x="205016" y="262064"/>
                  <a:pt x="132067" y="262064"/>
                </a:cubicBezTo>
                <a:cubicBezTo>
                  <a:pt x="59131" y="262064"/>
                  <a:pt x="0" y="203390"/>
                  <a:pt x="0" y="131026"/>
                </a:cubicBezTo>
                <a:cubicBezTo>
                  <a:pt x="0" y="58661"/>
                  <a:pt x="59131" y="0"/>
                  <a:pt x="132067" y="0"/>
                </a:cubicBezTo>
                <a:cubicBezTo>
                  <a:pt x="205016" y="0"/>
                  <a:pt x="264147" y="58661"/>
                  <a:pt x="264147" y="131026"/>
                </a:cubicBezTo>
              </a:path>
            </a:pathLst>
          </a:custGeom>
          <a:solidFill>
            <a:srgbClr val="fbeaa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3567960" y="2963880"/>
            <a:ext cx="893160" cy="892080"/>
          </a:xfrm>
          <a:custGeom>
            <a:avLst/>
            <a:gdLst>
              <a:gd name="textAreaLeft" fmla="*/ 0 w 893160"/>
              <a:gd name="textAreaRight" fmla="*/ 893520 w 89316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893673" h="892340">
                <a:moveTo>
                  <a:pt x="893673" y="373202"/>
                </a:moveTo>
                <a:lnTo>
                  <a:pt x="458660" y="225832"/>
                </a:lnTo>
                <a:cubicBezTo>
                  <a:pt x="458660" y="225832"/>
                  <a:pt x="284213" y="28905"/>
                  <a:pt x="260591" y="11278"/>
                </a:cubicBezTo>
                <a:cubicBezTo>
                  <a:pt x="224802" y="-15455"/>
                  <a:pt x="199288" y="11278"/>
                  <a:pt x="199288" y="11278"/>
                </a:cubicBezTo>
                <a:lnTo>
                  <a:pt x="88481" y="119736"/>
                </a:lnTo>
                <a:lnTo>
                  <a:pt x="88595" y="119850"/>
                </a:lnTo>
                <a:lnTo>
                  <a:pt x="11315" y="197650"/>
                </a:lnTo>
                <a:cubicBezTo>
                  <a:pt x="11315" y="197650"/>
                  <a:pt x="-15443" y="223126"/>
                  <a:pt x="11252" y="258953"/>
                </a:cubicBezTo>
                <a:cubicBezTo>
                  <a:pt x="28867" y="282575"/>
                  <a:pt x="225640" y="457187"/>
                  <a:pt x="225640" y="457187"/>
                </a:cubicBezTo>
                <a:lnTo>
                  <a:pt x="372630" y="892340"/>
                </a:lnTo>
                <a:lnTo>
                  <a:pt x="612864" y="659410"/>
                </a:lnTo>
                <a:lnTo>
                  <a:pt x="614273" y="660857"/>
                </a:lnTo>
                <a:lnTo>
                  <a:pt x="893673" y="373202"/>
                </a:lnTo>
              </a:path>
            </a:pathLst>
          </a:custGeom>
          <a:solidFill>
            <a:srgbClr val="eeede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3619080" y="3214440"/>
            <a:ext cx="156960" cy="148680"/>
          </a:xfrm>
          <a:custGeom>
            <a:avLst/>
            <a:gdLst>
              <a:gd name="textAreaLeft" fmla="*/ 0 w 156960"/>
              <a:gd name="textAreaRight" fmla="*/ 157320 w 156960"/>
              <a:gd name="textAreaTop" fmla="*/ 0 h 148680"/>
              <a:gd name="textAreaBottom" fmla="*/ 149040 h 148680"/>
            </a:gdLst>
            <a:ahLst/>
            <a:rect l="textAreaLeft" t="textAreaTop" r="textAreaRight" b="textAreaBottom"/>
            <a:pathLst>
              <a:path w="157353" h="149148">
                <a:moveTo>
                  <a:pt x="6350" y="6350"/>
                </a:moveTo>
                <a:lnTo>
                  <a:pt x="151003" y="142798"/>
                </a:lnTo>
              </a:path>
            </a:pathLst>
          </a:custGeom>
          <a:noFill/>
          <a:ln w="12700">
            <a:solidFill>
              <a:srgbClr val="a3a29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3661560" y="3166560"/>
            <a:ext cx="156960" cy="148680"/>
          </a:xfrm>
          <a:custGeom>
            <a:avLst/>
            <a:gdLst>
              <a:gd name="textAreaLeft" fmla="*/ 0 w 156960"/>
              <a:gd name="textAreaRight" fmla="*/ 157320 w 156960"/>
              <a:gd name="textAreaTop" fmla="*/ 0 h 148680"/>
              <a:gd name="textAreaBottom" fmla="*/ 149040 h 148680"/>
            </a:gdLst>
            <a:ahLst/>
            <a:rect l="textAreaLeft" t="textAreaTop" r="textAreaRight" b="textAreaBottom"/>
            <a:pathLst>
              <a:path w="157353" h="149136">
                <a:moveTo>
                  <a:pt x="6350" y="6350"/>
                </a:moveTo>
                <a:lnTo>
                  <a:pt x="151002" y="142786"/>
                </a:lnTo>
              </a:path>
            </a:pathLst>
          </a:custGeom>
          <a:noFill/>
          <a:ln w="12700">
            <a:solidFill>
              <a:srgbClr val="a3a29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3711600" y="3116160"/>
            <a:ext cx="156960" cy="148680"/>
          </a:xfrm>
          <a:custGeom>
            <a:avLst/>
            <a:gdLst>
              <a:gd name="textAreaLeft" fmla="*/ 0 w 156960"/>
              <a:gd name="textAreaRight" fmla="*/ 157320 w 156960"/>
              <a:gd name="textAreaTop" fmla="*/ 0 h 148680"/>
              <a:gd name="textAreaBottom" fmla="*/ 149040 h 148680"/>
            </a:gdLst>
            <a:ahLst/>
            <a:rect l="textAreaLeft" t="textAreaTop" r="textAreaRight" b="textAreaBottom"/>
            <a:pathLst>
              <a:path w="157353" h="149148">
                <a:moveTo>
                  <a:pt x="6350" y="6350"/>
                </a:moveTo>
                <a:lnTo>
                  <a:pt x="151003" y="142798"/>
                </a:lnTo>
              </a:path>
            </a:pathLst>
          </a:custGeom>
          <a:noFill/>
          <a:ln w="12700">
            <a:solidFill>
              <a:srgbClr val="a3a29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3763800" y="3066840"/>
            <a:ext cx="156960" cy="148680"/>
          </a:xfrm>
          <a:custGeom>
            <a:avLst/>
            <a:gdLst>
              <a:gd name="textAreaLeft" fmla="*/ 0 w 156960"/>
              <a:gd name="textAreaRight" fmla="*/ 157320 w 156960"/>
              <a:gd name="textAreaTop" fmla="*/ 0 h 148680"/>
              <a:gd name="textAreaBottom" fmla="*/ 149040 h 148680"/>
            </a:gdLst>
            <a:ahLst/>
            <a:rect l="textAreaLeft" t="textAreaTop" r="textAreaRight" b="textAreaBottom"/>
            <a:pathLst>
              <a:path w="157365" h="149136">
                <a:moveTo>
                  <a:pt x="6350" y="6350"/>
                </a:moveTo>
                <a:lnTo>
                  <a:pt x="151015" y="142786"/>
                </a:lnTo>
              </a:path>
            </a:pathLst>
          </a:custGeom>
          <a:noFill/>
          <a:ln w="12700">
            <a:solidFill>
              <a:srgbClr val="a3a29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3813480" y="3026160"/>
            <a:ext cx="153000" cy="153000"/>
          </a:xfrm>
          <a:custGeom>
            <a:avLst/>
            <a:gdLst>
              <a:gd name="textAreaLeft" fmla="*/ 0 w 153000"/>
              <a:gd name="textAreaRight" fmla="*/ 153360 w 153000"/>
              <a:gd name="textAreaTop" fmla="*/ 0 h 153000"/>
              <a:gd name="textAreaBottom" fmla="*/ 153360 h 153000"/>
            </a:gdLst>
            <a:ahLst/>
            <a:rect l="textAreaLeft" t="textAreaTop" r="textAreaRight" b="textAreaBottom"/>
            <a:pathLst>
              <a:path w="153250" h="153377">
                <a:moveTo>
                  <a:pt x="6350" y="6350"/>
                </a:moveTo>
                <a:lnTo>
                  <a:pt x="146900" y="147027"/>
                </a:lnTo>
              </a:path>
            </a:pathLst>
          </a:custGeom>
          <a:noFill/>
          <a:ln w="12700">
            <a:solidFill>
              <a:srgbClr val="a3a29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5955840" y="3394800"/>
            <a:ext cx="637200" cy="423720"/>
          </a:xfrm>
          <a:custGeom>
            <a:avLst/>
            <a:gdLst>
              <a:gd name="textAreaLeft" fmla="*/ 0 w 637200"/>
              <a:gd name="textAreaRight" fmla="*/ 637560 w 63720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637438" h="424243">
                <a:moveTo>
                  <a:pt x="121018" y="424243"/>
                </a:moveTo>
                <a:lnTo>
                  <a:pt x="121018" y="192290"/>
                </a:lnTo>
                <a:cubicBezTo>
                  <a:pt x="121018" y="153644"/>
                  <a:pt x="152628" y="122034"/>
                  <a:pt x="191262" y="122034"/>
                </a:cubicBezTo>
                <a:lnTo>
                  <a:pt x="446189" y="122034"/>
                </a:lnTo>
                <a:cubicBezTo>
                  <a:pt x="484822" y="122034"/>
                  <a:pt x="516432" y="153644"/>
                  <a:pt x="516432" y="192290"/>
                </a:cubicBezTo>
                <a:lnTo>
                  <a:pt x="516432" y="424243"/>
                </a:lnTo>
                <a:lnTo>
                  <a:pt x="637438" y="424243"/>
                </a:lnTo>
                <a:lnTo>
                  <a:pt x="637438" y="169760"/>
                </a:lnTo>
                <a:cubicBezTo>
                  <a:pt x="637438" y="76390"/>
                  <a:pt x="561048" y="0"/>
                  <a:pt x="467677" y="0"/>
                </a:cubicBezTo>
                <a:lnTo>
                  <a:pt x="169773" y="0"/>
                </a:lnTo>
                <a:cubicBezTo>
                  <a:pt x="76403" y="0"/>
                  <a:pt x="0" y="76390"/>
                  <a:pt x="0" y="169760"/>
                </a:cubicBezTo>
                <a:lnTo>
                  <a:pt x="0" y="424243"/>
                </a:lnTo>
                <a:lnTo>
                  <a:pt x="121018" y="424243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387520" y="1803240"/>
            <a:ext cx="7365600" cy="34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5842080" y="3886200"/>
            <a:ext cx="901440" cy="672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8394840" y="4813200"/>
            <a:ext cx="774360" cy="698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4"/>
          <a:stretch/>
        </p:blipFill>
        <p:spPr>
          <a:xfrm>
            <a:off x="9182160" y="6045120"/>
            <a:ext cx="228240" cy="34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5"/>
          <a:stretch/>
        </p:blipFill>
        <p:spPr>
          <a:xfrm>
            <a:off x="9410760" y="6121440"/>
            <a:ext cx="228240" cy="266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6"/>
          <a:stretch/>
        </p:blipFill>
        <p:spPr>
          <a:xfrm>
            <a:off x="9918720" y="6121440"/>
            <a:ext cx="228240" cy="266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7"/>
          <a:stretch/>
        </p:blipFill>
        <p:spPr>
          <a:xfrm>
            <a:off x="10578960" y="6146640"/>
            <a:ext cx="190080" cy="190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8"/>
          <a:stretch/>
        </p:blipFill>
        <p:spPr>
          <a:xfrm>
            <a:off x="11226960" y="6146640"/>
            <a:ext cx="190080" cy="24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9"/>
          <a:stretch/>
        </p:blipFill>
        <p:spPr>
          <a:xfrm>
            <a:off x="11531520" y="6146640"/>
            <a:ext cx="164880" cy="253800"/>
          </a:xfrm>
          <a:prstGeom prst="rect">
            <a:avLst/>
          </a:prstGeom>
          <a:ln w="0">
            <a:noFill/>
          </a:ln>
        </p:spPr>
      </p:pic>
      <p:sp>
        <p:nvSpPr>
          <p:cNvPr id="124" name="矩形 1036"/>
          <p:cNvSpPr/>
          <p:nvPr/>
        </p:nvSpPr>
        <p:spPr>
          <a:xfrm>
            <a:off x="3187440" y="116424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大气蓝色背景简洁欧美风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3"/>
          <p:cNvSpPr/>
          <p:nvPr/>
        </p:nvSpPr>
        <p:spPr>
          <a:xfrm>
            <a:off x="0" y="0"/>
            <a:ext cx="12191760" cy="68576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1974" h="6858000">
                <a:moveTo>
                  <a:pt x="0" y="6858000"/>
                </a:moveTo>
                <a:lnTo>
                  <a:pt x="12191974" y="6858000"/>
                </a:lnTo>
                <a:lnTo>
                  <a:pt x="12191974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1a60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1867320" y="4191480"/>
            <a:ext cx="501120" cy="403200"/>
          </a:xfrm>
          <a:custGeom>
            <a:avLst/>
            <a:gdLst>
              <a:gd name="textAreaLeft" fmla="*/ 0 w 501120"/>
              <a:gd name="textAreaRight" fmla="*/ 501480 w 50112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501637" h="403568">
                <a:moveTo>
                  <a:pt x="501637" y="403567"/>
                </a:moveTo>
                <a:lnTo>
                  <a:pt x="0" y="403567"/>
                </a:lnTo>
                <a:lnTo>
                  <a:pt x="0" y="0"/>
                </a:lnTo>
                <a:lnTo>
                  <a:pt x="501637" y="0"/>
                </a:lnTo>
                <a:lnTo>
                  <a:pt x="501637" y="403567"/>
                </a:lnTo>
              </a:path>
            </a:pathLst>
          </a:custGeom>
          <a:solidFill>
            <a:srgbClr val="b6b2a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524600" y="4546080"/>
            <a:ext cx="1186920" cy="97560"/>
          </a:xfrm>
          <a:custGeom>
            <a:avLst/>
            <a:gdLst>
              <a:gd name="textAreaLeft" fmla="*/ 0 w 1186920"/>
              <a:gd name="textAreaRight" fmla="*/ 1187280 w 1186920"/>
              <a:gd name="textAreaTop" fmla="*/ 0 h 97560"/>
              <a:gd name="textAreaBottom" fmla="*/ 97920 h 97560"/>
            </a:gdLst>
            <a:ahLst/>
            <a:rect l="textAreaLeft" t="textAreaTop" r="textAreaRight" b="textAreaBottom"/>
            <a:pathLst>
              <a:path w="1187284" h="98069">
                <a:moveTo>
                  <a:pt x="1187284" y="98069"/>
                </a:moveTo>
                <a:lnTo>
                  <a:pt x="0" y="98069"/>
                </a:lnTo>
                <a:lnTo>
                  <a:pt x="0" y="0"/>
                </a:lnTo>
                <a:lnTo>
                  <a:pt x="1187284" y="0"/>
                </a:lnTo>
                <a:lnTo>
                  <a:pt x="1187284" y="98069"/>
                </a:lnTo>
              </a:path>
            </a:pathLst>
          </a:custGeom>
          <a:solidFill>
            <a:srgbClr val="b6b2a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800280" y="2613960"/>
            <a:ext cx="2635920" cy="1661400"/>
          </a:xfrm>
          <a:custGeom>
            <a:avLst/>
            <a:gdLst>
              <a:gd name="textAreaLeft" fmla="*/ 0 w 2635920"/>
              <a:gd name="textAreaRight" fmla="*/ 2636280 w 2635920"/>
              <a:gd name="textAreaTop" fmla="*/ 0 h 1661400"/>
              <a:gd name="textAreaBottom" fmla="*/ 1661760 h 1661400"/>
            </a:gdLst>
            <a:ahLst/>
            <a:rect l="textAreaLeft" t="textAreaTop" r="textAreaRight" b="textAreaBottom"/>
            <a:pathLst>
              <a:path w="2636418" h="1661756">
                <a:moveTo>
                  <a:pt x="2570314" y="1661756"/>
                </a:moveTo>
                <a:lnTo>
                  <a:pt x="66103" y="1661756"/>
                </a:lnTo>
                <a:cubicBezTo>
                  <a:pt x="29756" y="1661756"/>
                  <a:pt x="0" y="1632013"/>
                  <a:pt x="0" y="1595653"/>
                </a:cubicBezTo>
                <a:lnTo>
                  <a:pt x="0" y="66103"/>
                </a:lnTo>
                <a:cubicBezTo>
                  <a:pt x="0" y="29756"/>
                  <a:pt x="29756" y="0"/>
                  <a:pt x="66103" y="0"/>
                </a:cubicBezTo>
                <a:lnTo>
                  <a:pt x="2570314" y="0"/>
                </a:lnTo>
                <a:cubicBezTo>
                  <a:pt x="2606675" y="0"/>
                  <a:pt x="2636418" y="29756"/>
                  <a:pt x="2636418" y="66103"/>
                </a:cubicBezTo>
                <a:lnTo>
                  <a:pt x="2636418" y="1595653"/>
                </a:lnTo>
                <a:cubicBezTo>
                  <a:pt x="2636418" y="1632013"/>
                  <a:pt x="2606675" y="1661756"/>
                  <a:pt x="2570314" y="1661756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928440" y="2734920"/>
            <a:ext cx="2375640" cy="1323360"/>
          </a:xfrm>
          <a:custGeom>
            <a:avLst/>
            <a:gdLst>
              <a:gd name="textAreaLeft" fmla="*/ 0 w 2375640"/>
              <a:gd name="textAreaRight" fmla="*/ 2376000 w 2375640"/>
              <a:gd name="textAreaTop" fmla="*/ 0 h 1323360"/>
              <a:gd name="textAreaBottom" fmla="*/ 1323720 h 1323360"/>
            </a:gdLst>
            <a:ahLst/>
            <a:rect l="textAreaLeft" t="textAreaTop" r="textAreaRight" b="textAreaBottom"/>
            <a:pathLst>
              <a:path w="2376170" h="1323860">
                <a:moveTo>
                  <a:pt x="2376169" y="1323860"/>
                </a:moveTo>
                <a:lnTo>
                  <a:pt x="0" y="1323860"/>
                </a:lnTo>
                <a:lnTo>
                  <a:pt x="0" y="0"/>
                </a:lnTo>
                <a:lnTo>
                  <a:pt x="2376169" y="0"/>
                </a:lnTo>
                <a:lnTo>
                  <a:pt x="2376169" y="1323860"/>
                </a:lnTo>
              </a:path>
            </a:pathLst>
          </a:custGeom>
          <a:solidFill>
            <a:srgbClr val="f1f6f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832760" y="2931480"/>
            <a:ext cx="517320" cy="344160"/>
          </a:xfrm>
          <a:custGeom>
            <a:avLst/>
            <a:gdLst>
              <a:gd name="textAreaLeft" fmla="*/ 0 w 517320"/>
              <a:gd name="textAreaRight" fmla="*/ 517680 w 517320"/>
              <a:gd name="textAreaTop" fmla="*/ 0 h 344160"/>
              <a:gd name="textAreaBottom" fmla="*/ 344520 h 344160"/>
            </a:gdLst>
            <a:ahLst/>
            <a:rect l="textAreaLeft" t="textAreaTop" r="textAreaRight" b="textAreaBottom"/>
            <a:pathLst>
              <a:path w="517779" h="344601">
                <a:moveTo>
                  <a:pt x="98297" y="344601"/>
                </a:moveTo>
                <a:lnTo>
                  <a:pt x="98297" y="156184"/>
                </a:lnTo>
                <a:cubicBezTo>
                  <a:pt x="98297" y="124802"/>
                  <a:pt x="123977" y="99123"/>
                  <a:pt x="155359" y="99123"/>
                </a:cubicBezTo>
                <a:lnTo>
                  <a:pt x="362419" y="99123"/>
                </a:lnTo>
                <a:cubicBezTo>
                  <a:pt x="393801" y="99123"/>
                  <a:pt x="419480" y="124802"/>
                  <a:pt x="419480" y="156184"/>
                </a:cubicBezTo>
                <a:lnTo>
                  <a:pt x="419480" y="344601"/>
                </a:lnTo>
                <a:lnTo>
                  <a:pt x="517778" y="344601"/>
                </a:lnTo>
                <a:lnTo>
                  <a:pt x="517778" y="137896"/>
                </a:lnTo>
                <a:cubicBezTo>
                  <a:pt x="517778" y="62052"/>
                  <a:pt x="455726" y="0"/>
                  <a:pt x="379882" y="0"/>
                </a:cubicBezTo>
                <a:lnTo>
                  <a:pt x="137896" y="0"/>
                </a:lnTo>
                <a:cubicBezTo>
                  <a:pt x="62052" y="0"/>
                  <a:pt x="0" y="62052"/>
                  <a:pt x="0" y="137896"/>
                </a:cubicBezTo>
                <a:lnTo>
                  <a:pt x="0" y="344601"/>
                </a:lnTo>
                <a:lnTo>
                  <a:pt x="98297" y="344601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0" y="658440"/>
            <a:ext cx="3702960" cy="594000"/>
          </a:xfrm>
          <a:custGeom>
            <a:avLst/>
            <a:gdLst>
              <a:gd name="textAreaLeft" fmla="*/ 0 w 3702960"/>
              <a:gd name="textAreaRight" fmla="*/ 3703320 w 370296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3703320" h="594359">
                <a:moveTo>
                  <a:pt x="0" y="594359"/>
                </a:moveTo>
                <a:lnTo>
                  <a:pt x="3703320" y="594359"/>
                </a:lnTo>
                <a:lnTo>
                  <a:pt x="3703320" y="0"/>
                </a:lnTo>
                <a:lnTo>
                  <a:pt x="0" y="0"/>
                </a:lnTo>
                <a:lnTo>
                  <a:pt x="0" y="594359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0" y="1088280"/>
            <a:ext cx="2756520" cy="594000"/>
          </a:xfrm>
          <a:custGeom>
            <a:avLst/>
            <a:gdLst>
              <a:gd name="textAreaLeft" fmla="*/ 0 w 2756520"/>
              <a:gd name="textAreaRight" fmla="*/ 2756880 w 275652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2756916" h="594359">
                <a:moveTo>
                  <a:pt x="0" y="594359"/>
                </a:moveTo>
                <a:lnTo>
                  <a:pt x="2756916" y="594359"/>
                </a:lnTo>
                <a:lnTo>
                  <a:pt x="2756916" y="0"/>
                </a:lnTo>
                <a:lnTo>
                  <a:pt x="0" y="0"/>
                </a:lnTo>
                <a:lnTo>
                  <a:pt x="0" y="594359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812880" y="863640"/>
            <a:ext cx="2692080" cy="304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812880" y="1320840"/>
            <a:ext cx="1739520" cy="304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3"/>
          <a:stretch/>
        </p:blipFill>
        <p:spPr>
          <a:xfrm>
            <a:off x="1739880" y="3327480"/>
            <a:ext cx="736200" cy="545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4"/>
          <a:stretch/>
        </p:blipFill>
        <p:spPr>
          <a:xfrm>
            <a:off x="4572000" y="154944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5"/>
          <a:stretch/>
        </p:blipFill>
        <p:spPr>
          <a:xfrm>
            <a:off x="4572000" y="298440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6"/>
          <a:stretch/>
        </p:blipFill>
        <p:spPr>
          <a:xfrm>
            <a:off x="4572000" y="402588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7"/>
          <a:stretch/>
        </p:blipFill>
        <p:spPr>
          <a:xfrm>
            <a:off x="4572000" y="507996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8"/>
          <a:stretch/>
        </p:blipFill>
        <p:spPr>
          <a:xfrm>
            <a:off x="4572000" y="612144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9"/>
          <a:stretch/>
        </p:blipFill>
        <p:spPr>
          <a:xfrm>
            <a:off x="4863960" y="1473120"/>
            <a:ext cx="6159240" cy="317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10"/>
          <a:stretch/>
        </p:blipFill>
        <p:spPr>
          <a:xfrm>
            <a:off x="4863960" y="1854360"/>
            <a:ext cx="6362280" cy="317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11"/>
          <a:stretch/>
        </p:blipFill>
        <p:spPr>
          <a:xfrm>
            <a:off x="4851360" y="2235240"/>
            <a:ext cx="6743520" cy="317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12"/>
          <a:stretch/>
        </p:blipFill>
        <p:spPr>
          <a:xfrm>
            <a:off x="4863960" y="2908440"/>
            <a:ext cx="6210000" cy="3171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13"/>
          <a:stretch/>
        </p:blipFill>
        <p:spPr>
          <a:xfrm>
            <a:off x="4851360" y="3289320"/>
            <a:ext cx="6768720" cy="317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14"/>
          <a:stretch/>
        </p:blipFill>
        <p:spPr>
          <a:xfrm>
            <a:off x="4863960" y="3949560"/>
            <a:ext cx="5816160" cy="317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15"/>
          <a:stretch/>
        </p:blipFill>
        <p:spPr>
          <a:xfrm>
            <a:off x="4851360" y="4330800"/>
            <a:ext cx="3657240" cy="3171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16"/>
          <a:stretch/>
        </p:blipFill>
        <p:spPr>
          <a:xfrm>
            <a:off x="4863960" y="5003640"/>
            <a:ext cx="6260760" cy="3171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17"/>
          <a:stretch/>
        </p:blipFill>
        <p:spPr>
          <a:xfrm>
            <a:off x="4851360" y="5384880"/>
            <a:ext cx="4495320" cy="3171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18"/>
          <a:stretch/>
        </p:blipFill>
        <p:spPr>
          <a:xfrm>
            <a:off x="4863960" y="6045120"/>
            <a:ext cx="2539800" cy="31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3"/>
          <p:cNvSpPr/>
          <p:nvPr/>
        </p:nvSpPr>
        <p:spPr>
          <a:xfrm>
            <a:off x="0" y="0"/>
            <a:ext cx="12191760" cy="68576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1974" h="6858000">
                <a:moveTo>
                  <a:pt x="0" y="6858000"/>
                </a:moveTo>
                <a:lnTo>
                  <a:pt x="12191974" y="6858000"/>
                </a:lnTo>
                <a:lnTo>
                  <a:pt x="12191974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1a60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1874520" y="3044880"/>
            <a:ext cx="509760" cy="392040"/>
          </a:xfrm>
          <a:custGeom>
            <a:avLst/>
            <a:gdLst>
              <a:gd name="textAreaLeft" fmla="*/ 0 w 509760"/>
              <a:gd name="textAreaRight" fmla="*/ 510120 w 50976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510209" h="392430">
                <a:moveTo>
                  <a:pt x="510209" y="392430"/>
                </a:moveTo>
                <a:cubicBezTo>
                  <a:pt x="448246" y="227647"/>
                  <a:pt x="366687" y="91275"/>
                  <a:pt x="305485" y="1600"/>
                </a:cubicBezTo>
                <a:cubicBezTo>
                  <a:pt x="288797" y="622"/>
                  <a:pt x="272033" y="0"/>
                  <a:pt x="255104" y="0"/>
                </a:cubicBezTo>
                <a:cubicBezTo>
                  <a:pt x="238188" y="0"/>
                  <a:pt x="221411" y="622"/>
                  <a:pt x="204736" y="1600"/>
                </a:cubicBezTo>
                <a:cubicBezTo>
                  <a:pt x="143535" y="91275"/>
                  <a:pt x="61975" y="227647"/>
                  <a:pt x="0" y="392430"/>
                </a:cubicBezTo>
                <a:lnTo>
                  <a:pt x="510209" y="392430"/>
                </a:ln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1271880" y="3535920"/>
            <a:ext cx="466560" cy="354600"/>
          </a:xfrm>
          <a:custGeom>
            <a:avLst/>
            <a:gdLst>
              <a:gd name="textAreaLeft" fmla="*/ 0 w 466560"/>
              <a:gd name="textAreaRight" fmla="*/ 466920 w 466560"/>
              <a:gd name="textAreaTop" fmla="*/ 0 h 354600"/>
              <a:gd name="textAreaBottom" fmla="*/ 354960 h 354600"/>
            </a:gdLst>
            <a:ahLst/>
            <a:rect l="textAreaLeft" t="textAreaTop" r="textAreaRight" b="textAreaBottom"/>
            <a:pathLst>
              <a:path w="466940" h="355091">
                <a:moveTo>
                  <a:pt x="0" y="355091"/>
                </a:moveTo>
                <a:lnTo>
                  <a:pt x="414743" y="355091"/>
                </a:lnTo>
                <a:cubicBezTo>
                  <a:pt x="416077" y="229755"/>
                  <a:pt x="436206" y="110286"/>
                  <a:pt x="466940" y="0"/>
                </a:cubicBezTo>
                <a:lnTo>
                  <a:pt x="82346" y="0"/>
                </a:lnTo>
                <a:cubicBezTo>
                  <a:pt x="31165" y="107886"/>
                  <a:pt x="1904" y="228155"/>
                  <a:pt x="0" y="355091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1784160" y="3535920"/>
            <a:ext cx="690840" cy="354600"/>
          </a:xfrm>
          <a:custGeom>
            <a:avLst/>
            <a:gdLst>
              <a:gd name="textAreaLeft" fmla="*/ 0 w 690840"/>
              <a:gd name="textAreaRight" fmla="*/ 691200 w 690840"/>
              <a:gd name="textAreaTop" fmla="*/ 0 h 354600"/>
              <a:gd name="textAreaBottom" fmla="*/ 354960 h 354600"/>
            </a:gdLst>
            <a:ahLst/>
            <a:rect l="textAreaLeft" t="textAreaTop" r="textAreaRight" b="textAreaBottom"/>
            <a:pathLst>
              <a:path w="691045" h="355091">
                <a:moveTo>
                  <a:pt x="691045" y="355091"/>
                </a:moveTo>
                <a:cubicBezTo>
                  <a:pt x="689571" y="229958"/>
                  <a:pt x="667283" y="110096"/>
                  <a:pt x="634060" y="0"/>
                </a:cubicBezTo>
                <a:lnTo>
                  <a:pt x="56984" y="0"/>
                </a:lnTo>
                <a:cubicBezTo>
                  <a:pt x="23761" y="110096"/>
                  <a:pt x="1473" y="229958"/>
                  <a:pt x="0" y="355091"/>
                </a:cubicBezTo>
                <a:lnTo>
                  <a:pt x="691045" y="355091"/>
                </a:ln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1787040" y="3989880"/>
            <a:ext cx="684720" cy="348480"/>
          </a:xfrm>
          <a:custGeom>
            <a:avLst/>
            <a:gdLst>
              <a:gd name="textAreaLeft" fmla="*/ 0 w 684720"/>
              <a:gd name="textAreaRight" fmla="*/ 685080 w 684720"/>
              <a:gd name="textAreaTop" fmla="*/ 0 h 348480"/>
              <a:gd name="textAreaBottom" fmla="*/ 348840 h 348480"/>
            </a:gdLst>
            <a:ahLst/>
            <a:rect l="textAreaLeft" t="textAreaTop" r="textAreaRight" b="textAreaBottom"/>
            <a:pathLst>
              <a:path w="684911" h="348780">
                <a:moveTo>
                  <a:pt x="0" y="0"/>
                </a:moveTo>
                <a:cubicBezTo>
                  <a:pt x="9270" y="124167"/>
                  <a:pt x="37795" y="241934"/>
                  <a:pt x="75323" y="348779"/>
                </a:cubicBezTo>
                <a:lnTo>
                  <a:pt x="609434" y="348779"/>
                </a:lnTo>
                <a:cubicBezTo>
                  <a:pt x="647026" y="241871"/>
                  <a:pt x="675614" y="124091"/>
                  <a:pt x="684910" y="0"/>
                </a:cubicBezTo>
                <a:lnTo>
                  <a:pt x="0" y="0"/>
                </a:ln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2309040" y="3063960"/>
            <a:ext cx="540720" cy="373320"/>
          </a:xfrm>
          <a:custGeom>
            <a:avLst/>
            <a:gdLst>
              <a:gd name="textAreaLeft" fmla="*/ 0 w 540720"/>
              <a:gd name="textAreaRight" fmla="*/ 541080 w 54072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540981" h="373507">
                <a:moveTo>
                  <a:pt x="180606" y="373507"/>
                </a:moveTo>
                <a:lnTo>
                  <a:pt x="540981" y="373507"/>
                </a:lnTo>
                <a:cubicBezTo>
                  <a:pt x="419188" y="185496"/>
                  <a:pt x="226136" y="48145"/>
                  <a:pt x="0" y="0"/>
                </a:cubicBezTo>
                <a:cubicBezTo>
                  <a:pt x="60477" y="96837"/>
                  <a:pt x="128612" y="224650"/>
                  <a:pt x="180606" y="373507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1900800" y="4437000"/>
            <a:ext cx="457200" cy="326160"/>
          </a:xfrm>
          <a:custGeom>
            <a:avLst/>
            <a:gdLst>
              <a:gd name="textAreaLeft" fmla="*/ 0 w 457200"/>
              <a:gd name="textAreaRight" fmla="*/ 457560 w 457200"/>
              <a:gd name="textAreaTop" fmla="*/ 0 h 326160"/>
              <a:gd name="textAreaBottom" fmla="*/ 326520 h 326160"/>
            </a:gdLst>
            <a:ahLst/>
            <a:rect l="textAreaLeft" t="textAreaTop" r="textAreaRight" b="textAreaBottom"/>
            <a:pathLst>
              <a:path w="457542" h="326402">
                <a:moveTo>
                  <a:pt x="0" y="0"/>
                </a:moveTo>
                <a:cubicBezTo>
                  <a:pt x="57480" y="135280"/>
                  <a:pt x="125475" y="247434"/>
                  <a:pt x="178346" y="324789"/>
                </a:cubicBezTo>
                <a:cubicBezTo>
                  <a:pt x="195071" y="325767"/>
                  <a:pt x="211899" y="326402"/>
                  <a:pt x="228879" y="326402"/>
                </a:cubicBezTo>
                <a:cubicBezTo>
                  <a:pt x="245808" y="326402"/>
                  <a:pt x="262585" y="325767"/>
                  <a:pt x="279260" y="324802"/>
                </a:cubicBezTo>
                <a:cubicBezTo>
                  <a:pt x="332079" y="247408"/>
                  <a:pt x="400050" y="135216"/>
                  <a:pt x="457542" y="0"/>
                </a:cubicBezTo>
                <a:lnTo>
                  <a:pt x="0" y="0"/>
                </a:ln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1275840" y="3989880"/>
            <a:ext cx="482760" cy="348480"/>
          </a:xfrm>
          <a:custGeom>
            <a:avLst/>
            <a:gdLst>
              <a:gd name="textAreaLeft" fmla="*/ 0 w 482760"/>
              <a:gd name="textAreaRight" fmla="*/ 483120 w 482760"/>
              <a:gd name="textAreaTop" fmla="*/ 0 h 348480"/>
              <a:gd name="textAreaBottom" fmla="*/ 348840 h 348480"/>
            </a:gdLst>
            <a:ahLst/>
            <a:rect l="textAreaLeft" t="textAreaTop" r="textAreaRight" b="textAreaBottom"/>
            <a:pathLst>
              <a:path w="482942" h="348780">
                <a:moveTo>
                  <a:pt x="413715" y="0"/>
                </a:moveTo>
                <a:lnTo>
                  <a:pt x="0" y="0"/>
                </a:lnTo>
                <a:cubicBezTo>
                  <a:pt x="12471" y="126339"/>
                  <a:pt x="52374" y="244538"/>
                  <a:pt x="113487" y="348779"/>
                </a:cubicBezTo>
                <a:lnTo>
                  <a:pt x="482942" y="348779"/>
                </a:lnTo>
                <a:cubicBezTo>
                  <a:pt x="447954" y="241464"/>
                  <a:pt x="422135" y="124028"/>
                  <a:pt x="413715" y="0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2500560" y="3989880"/>
            <a:ext cx="482760" cy="348480"/>
          </a:xfrm>
          <a:custGeom>
            <a:avLst/>
            <a:gdLst>
              <a:gd name="textAreaLeft" fmla="*/ 0 w 482760"/>
              <a:gd name="textAreaRight" fmla="*/ 483120 w 482760"/>
              <a:gd name="textAreaTop" fmla="*/ 0 h 348480"/>
              <a:gd name="textAreaBottom" fmla="*/ 348840 h 348480"/>
            </a:gdLst>
            <a:ahLst/>
            <a:rect l="textAreaLeft" t="textAreaTop" r="textAreaRight" b="textAreaBottom"/>
            <a:pathLst>
              <a:path w="482943" h="348780">
                <a:moveTo>
                  <a:pt x="482942" y="0"/>
                </a:moveTo>
                <a:lnTo>
                  <a:pt x="69227" y="0"/>
                </a:lnTo>
                <a:cubicBezTo>
                  <a:pt x="60807" y="124028"/>
                  <a:pt x="34988" y="241464"/>
                  <a:pt x="0" y="348779"/>
                </a:cubicBezTo>
                <a:lnTo>
                  <a:pt x="369455" y="348779"/>
                </a:lnTo>
                <a:cubicBezTo>
                  <a:pt x="430568" y="244538"/>
                  <a:pt x="470484" y="126339"/>
                  <a:pt x="482942" y="0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2309040" y="4437000"/>
            <a:ext cx="493200" cy="307080"/>
          </a:xfrm>
          <a:custGeom>
            <a:avLst/>
            <a:gdLst>
              <a:gd name="textAreaLeft" fmla="*/ 0 w 493200"/>
              <a:gd name="textAreaRight" fmla="*/ 493560 w 49320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493649" h="307479">
                <a:moveTo>
                  <a:pt x="156159" y="0"/>
                </a:moveTo>
                <a:cubicBezTo>
                  <a:pt x="108293" y="120827"/>
                  <a:pt x="51358" y="225247"/>
                  <a:pt x="0" y="307479"/>
                </a:cubicBezTo>
                <a:cubicBezTo>
                  <a:pt x="198742" y="265163"/>
                  <a:pt x="371906" y="153936"/>
                  <a:pt x="493649" y="0"/>
                </a:cubicBezTo>
                <a:lnTo>
                  <a:pt x="156159" y="0"/>
                </a:ln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1456560" y="4437000"/>
            <a:ext cx="493200" cy="307080"/>
          </a:xfrm>
          <a:custGeom>
            <a:avLst/>
            <a:gdLst>
              <a:gd name="textAreaLeft" fmla="*/ 0 w 493200"/>
              <a:gd name="textAreaRight" fmla="*/ 493560 w 49320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493648" h="307479">
                <a:moveTo>
                  <a:pt x="337489" y="0"/>
                </a:moveTo>
                <a:lnTo>
                  <a:pt x="0" y="0"/>
                </a:lnTo>
                <a:cubicBezTo>
                  <a:pt x="121742" y="153949"/>
                  <a:pt x="294906" y="265163"/>
                  <a:pt x="493648" y="307479"/>
                </a:cubicBezTo>
                <a:cubicBezTo>
                  <a:pt x="442302" y="225247"/>
                  <a:pt x="385356" y="120827"/>
                  <a:pt x="337489" y="0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2520360" y="3535920"/>
            <a:ext cx="466560" cy="354600"/>
          </a:xfrm>
          <a:custGeom>
            <a:avLst/>
            <a:gdLst>
              <a:gd name="textAreaLeft" fmla="*/ 0 w 466560"/>
              <a:gd name="textAreaRight" fmla="*/ 466920 w 466560"/>
              <a:gd name="textAreaTop" fmla="*/ 0 h 354600"/>
              <a:gd name="textAreaBottom" fmla="*/ 354960 h 354600"/>
            </a:gdLst>
            <a:ahLst/>
            <a:rect l="textAreaLeft" t="textAreaTop" r="textAreaRight" b="textAreaBottom"/>
            <a:pathLst>
              <a:path w="466940" h="355091">
                <a:moveTo>
                  <a:pt x="52197" y="355091"/>
                </a:moveTo>
                <a:lnTo>
                  <a:pt x="466940" y="355091"/>
                </a:lnTo>
                <a:cubicBezTo>
                  <a:pt x="465035" y="228155"/>
                  <a:pt x="435787" y="107886"/>
                  <a:pt x="384594" y="0"/>
                </a:cubicBezTo>
                <a:lnTo>
                  <a:pt x="0" y="0"/>
                </a:lnTo>
                <a:cubicBezTo>
                  <a:pt x="30746" y="110286"/>
                  <a:pt x="50863" y="229755"/>
                  <a:pt x="52197" y="355091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1409400" y="3063960"/>
            <a:ext cx="540720" cy="373320"/>
          </a:xfrm>
          <a:custGeom>
            <a:avLst/>
            <a:gdLst>
              <a:gd name="textAreaLeft" fmla="*/ 0 w 540720"/>
              <a:gd name="textAreaRight" fmla="*/ 541080 w 54072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540994" h="373507">
                <a:moveTo>
                  <a:pt x="360375" y="373507"/>
                </a:moveTo>
                <a:cubicBezTo>
                  <a:pt x="412369" y="224650"/>
                  <a:pt x="480517" y="96837"/>
                  <a:pt x="540994" y="0"/>
                </a:cubicBezTo>
                <a:cubicBezTo>
                  <a:pt x="314845" y="48145"/>
                  <a:pt x="121793" y="185483"/>
                  <a:pt x="0" y="373507"/>
                </a:cubicBezTo>
                <a:lnTo>
                  <a:pt x="360375" y="373507"/>
                </a:ln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1871640" y="3939840"/>
            <a:ext cx="509760" cy="327960"/>
          </a:xfrm>
          <a:custGeom>
            <a:avLst/>
            <a:gdLst>
              <a:gd name="textAreaLeft" fmla="*/ 0 w 509760"/>
              <a:gd name="textAreaRight" fmla="*/ 510120 w 509760"/>
              <a:gd name="textAreaTop" fmla="*/ 0 h 327960"/>
              <a:gd name="textAreaBottom" fmla="*/ 328320 h 327960"/>
            </a:gdLst>
            <a:ahLst/>
            <a:rect l="textAreaLeft" t="textAreaTop" r="textAreaRight" b="textAreaBottom"/>
            <a:pathLst>
              <a:path w="510209" h="328498">
                <a:moveTo>
                  <a:pt x="510209" y="328498"/>
                </a:moveTo>
                <a:lnTo>
                  <a:pt x="0" y="328498"/>
                </a:lnTo>
                <a:lnTo>
                  <a:pt x="0" y="0"/>
                </a:lnTo>
                <a:lnTo>
                  <a:pt x="510209" y="0"/>
                </a:lnTo>
                <a:lnTo>
                  <a:pt x="510209" y="328498"/>
                </a:ln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1884240" y="3470400"/>
            <a:ext cx="482760" cy="321120"/>
          </a:xfrm>
          <a:custGeom>
            <a:avLst/>
            <a:gdLst>
              <a:gd name="textAreaLeft" fmla="*/ 0 w 482760"/>
              <a:gd name="textAreaRight" fmla="*/ 483120 w 482760"/>
              <a:gd name="textAreaTop" fmla="*/ 0 h 321120"/>
              <a:gd name="textAreaBottom" fmla="*/ 321480 h 321120"/>
            </a:gdLst>
            <a:ahLst/>
            <a:rect l="textAreaLeft" t="textAreaTop" r="textAreaRight" b="textAreaBottom"/>
            <a:pathLst>
              <a:path w="483069" h="321513">
                <a:moveTo>
                  <a:pt x="91706" y="321513"/>
                </a:moveTo>
                <a:lnTo>
                  <a:pt x="91706" y="145719"/>
                </a:lnTo>
                <a:cubicBezTo>
                  <a:pt x="91706" y="116446"/>
                  <a:pt x="115659" y="92481"/>
                  <a:pt x="144945" y="92481"/>
                </a:cubicBezTo>
                <a:lnTo>
                  <a:pt x="338124" y="92481"/>
                </a:lnTo>
                <a:cubicBezTo>
                  <a:pt x="367411" y="92481"/>
                  <a:pt x="391363" y="116446"/>
                  <a:pt x="391363" y="145719"/>
                </a:cubicBezTo>
                <a:lnTo>
                  <a:pt x="391363" y="321513"/>
                </a:lnTo>
                <a:lnTo>
                  <a:pt x="483069" y="321513"/>
                </a:lnTo>
                <a:lnTo>
                  <a:pt x="483069" y="128663"/>
                </a:lnTo>
                <a:cubicBezTo>
                  <a:pt x="483069" y="57899"/>
                  <a:pt x="425183" y="0"/>
                  <a:pt x="354418" y="0"/>
                </a:cubicBezTo>
                <a:lnTo>
                  <a:pt x="128651" y="0"/>
                </a:lnTo>
                <a:cubicBezTo>
                  <a:pt x="57886" y="0"/>
                  <a:pt x="0" y="57899"/>
                  <a:pt x="0" y="128663"/>
                </a:cubicBezTo>
                <a:lnTo>
                  <a:pt x="0" y="321513"/>
                </a:lnTo>
                <a:lnTo>
                  <a:pt x="91706" y="321513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0" y="658440"/>
            <a:ext cx="3702960" cy="594000"/>
          </a:xfrm>
          <a:custGeom>
            <a:avLst/>
            <a:gdLst>
              <a:gd name="textAreaLeft" fmla="*/ 0 w 3702960"/>
              <a:gd name="textAreaRight" fmla="*/ 3703320 w 370296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3703320" h="594359">
                <a:moveTo>
                  <a:pt x="0" y="594359"/>
                </a:moveTo>
                <a:lnTo>
                  <a:pt x="3703320" y="594359"/>
                </a:lnTo>
                <a:lnTo>
                  <a:pt x="3703320" y="0"/>
                </a:lnTo>
                <a:lnTo>
                  <a:pt x="0" y="0"/>
                </a:lnTo>
                <a:lnTo>
                  <a:pt x="0" y="594359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0" y="1088280"/>
            <a:ext cx="2756520" cy="594000"/>
          </a:xfrm>
          <a:custGeom>
            <a:avLst/>
            <a:gdLst>
              <a:gd name="textAreaLeft" fmla="*/ 0 w 2756520"/>
              <a:gd name="textAreaRight" fmla="*/ 2756880 w 275652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2756916" h="594359">
                <a:moveTo>
                  <a:pt x="0" y="594359"/>
                </a:moveTo>
                <a:lnTo>
                  <a:pt x="2756916" y="594359"/>
                </a:lnTo>
                <a:lnTo>
                  <a:pt x="2756916" y="0"/>
                </a:lnTo>
                <a:lnTo>
                  <a:pt x="0" y="0"/>
                </a:lnTo>
                <a:lnTo>
                  <a:pt x="0" y="594359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812880" y="863640"/>
            <a:ext cx="1854000" cy="304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812880" y="1320840"/>
            <a:ext cx="1739520" cy="304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3"/>
          <a:stretch/>
        </p:blipFill>
        <p:spPr>
          <a:xfrm>
            <a:off x="1790640" y="3835440"/>
            <a:ext cx="698040" cy="520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4"/>
          <a:stretch/>
        </p:blipFill>
        <p:spPr>
          <a:xfrm>
            <a:off x="4572000" y="266688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5"/>
          <a:stretch/>
        </p:blipFill>
        <p:spPr>
          <a:xfrm>
            <a:off x="4572000" y="334008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6"/>
          <a:stretch/>
        </p:blipFill>
        <p:spPr>
          <a:xfrm>
            <a:off x="4572000" y="400068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7"/>
          <a:stretch/>
        </p:blipFill>
        <p:spPr>
          <a:xfrm>
            <a:off x="4572000" y="467352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8"/>
          <a:stretch/>
        </p:blipFill>
        <p:spPr>
          <a:xfrm>
            <a:off x="4863960" y="2590920"/>
            <a:ext cx="6070320" cy="317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9"/>
          <a:stretch/>
        </p:blipFill>
        <p:spPr>
          <a:xfrm>
            <a:off x="4863960" y="3251160"/>
            <a:ext cx="6082920" cy="317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10"/>
          <a:stretch/>
        </p:blipFill>
        <p:spPr>
          <a:xfrm>
            <a:off x="4838760" y="3924360"/>
            <a:ext cx="2920680" cy="317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11"/>
          <a:stretch/>
        </p:blipFill>
        <p:spPr>
          <a:xfrm>
            <a:off x="4838760" y="4584600"/>
            <a:ext cx="5181120" cy="31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reeform 3"/>
          <p:cNvSpPr/>
          <p:nvPr/>
        </p:nvSpPr>
        <p:spPr>
          <a:xfrm>
            <a:off x="0" y="0"/>
            <a:ext cx="12191760" cy="68576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1974" h="6858000">
                <a:moveTo>
                  <a:pt x="0" y="6858000"/>
                </a:moveTo>
                <a:lnTo>
                  <a:pt x="12191974" y="6858000"/>
                </a:lnTo>
                <a:lnTo>
                  <a:pt x="12191974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1a60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969120" y="2752200"/>
            <a:ext cx="1211040" cy="120924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1209240"/>
              <a:gd name="textAreaBottom" fmla="*/ 1209600 h 1209240"/>
            </a:gdLst>
            <a:ahLst/>
            <a:rect l="textAreaLeft" t="textAreaTop" r="textAreaRight" b="textAreaBottom"/>
            <a:pathLst>
              <a:path w="1211338" h="1209585">
                <a:moveTo>
                  <a:pt x="65201" y="1209586"/>
                </a:moveTo>
                <a:lnTo>
                  <a:pt x="0" y="1144244"/>
                </a:lnTo>
                <a:lnTo>
                  <a:pt x="1146136" y="0"/>
                </a:lnTo>
                <a:lnTo>
                  <a:pt x="1211338" y="65341"/>
                </a:lnTo>
                <a:lnTo>
                  <a:pt x="65201" y="1209586"/>
                </a:lnTo>
              </a:path>
            </a:pathLst>
          </a:custGeom>
          <a:solidFill>
            <a:srgbClr val="b8d1c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2055600" y="2743200"/>
            <a:ext cx="1261440" cy="1207800"/>
          </a:xfrm>
          <a:custGeom>
            <a:avLst/>
            <a:gdLst>
              <a:gd name="textAreaLeft" fmla="*/ 0 w 1261440"/>
              <a:gd name="textAreaRight" fmla="*/ 1261800 w 1261440"/>
              <a:gd name="textAreaTop" fmla="*/ 0 h 1207800"/>
              <a:gd name="textAreaBottom" fmla="*/ 1208160 h 1207800"/>
            </a:gdLst>
            <a:ahLst/>
            <a:rect l="textAreaLeft" t="textAreaTop" r="textAreaRight" b="textAreaBottom"/>
            <a:pathLst>
              <a:path w="1261770" h="1208011">
                <a:moveTo>
                  <a:pt x="1198143" y="1208011"/>
                </a:moveTo>
                <a:lnTo>
                  <a:pt x="0" y="66878"/>
                </a:lnTo>
                <a:lnTo>
                  <a:pt x="63626" y="0"/>
                </a:lnTo>
                <a:lnTo>
                  <a:pt x="1261770" y="1141145"/>
                </a:lnTo>
                <a:lnTo>
                  <a:pt x="1198143" y="1208011"/>
                </a:lnTo>
              </a:path>
            </a:pathLst>
          </a:custGeom>
          <a:solidFill>
            <a:srgbClr val="b8d1c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0" name="Freeform 3"/>
          <p:cNvSpPr/>
          <p:nvPr/>
        </p:nvSpPr>
        <p:spPr>
          <a:xfrm>
            <a:off x="2561760" y="2784960"/>
            <a:ext cx="347760" cy="774720"/>
          </a:xfrm>
          <a:custGeom>
            <a:avLst/>
            <a:gdLst>
              <a:gd name="textAreaLeft" fmla="*/ 0 w 347760"/>
              <a:gd name="textAreaRight" fmla="*/ 348120 w 3477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348145" h="774953">
                <a:moveTo>
                  <a:pt x="348145" y="774953"/>
                </a:moveTo>
                <a:lnTo>
                  <a:pt x="0" y="461556"/>
                </a:lnTo>
                <a:lnTo>
                  <a:pt x="0" y="0"/>
                </a:lnTo>
                <a:lnTo>
                  <a:pt x="348145" y="0"/>
                </a:lnTo>
                <a:lnTo>
                  <a:pt x="348145" y="774953"/>
                </a:lnTo>
              </a:path>
            </a:pathLst>
          </a:custGeom>
          <a:solidFill>
            <a:srgbClr val="b8d1c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1" name="Freeform 3"/>
          <p:cNvSpPr/>
          <p:nvPr/>
        </p:nvSpPr>
        <p:spPr>
          <a:xfrm>
            <a:off x="1224000" y="3065400"/>
            <a:ext cx="1815840" cy="1847880"/>
          </a:xfrm>
          <a:custGeom>
            <a:avLst/>
            <a:gdLst>
              <a:gd name="textAreaLeft" fmla="*/ 0 w 1815840"/>
              <a:gd name="textAreaRight" fmla="*/ 1816200 w 1815840"/>
              <a:gd name="textAreaTop" fmla="*/ 0 h 1847880"/>
              <a:gd name="textAreaBottom" fmla="*/ 1848240 h 1847880"/>
            </a:gdLst>
            <a:ahLst/>
            <a:rect l="textAreaLeft" t="textAreaTop" r="textAreaRight" b="textAreaBottom"/>
            <a:pathLst>
              <a:path w="1816303" h="1848129">
                <a:moveTo>
                  <a:pt x="906627" y="0"/>
                </a:moveTo>
                <a:lnTo>
                  <a:pt x="0" y="898449"/>
                </a:lnTo>
                <a:lnTo>
                  <a:pt x="278257" y="897966"/>
                </a:lnTo>
                <a:lnTo>
                  <a:pt x="278257" y="898449"/>
                </a:lnTo>
                <a:lnTo>
                  <a:pt x="0" y="898449"/>
                </a:lnTo>
                <a:lnTo>
                  <a:pt x="0" y="1848129"/>
                </a:lnTo>
                <a:lnTo>
                  <a:pt x="620356" y="1848129"/>
                </a:lnTo>
                <a:lnTo>
                  <a:pt x="620356" y="1110335"/>
                </a:lnTo>
                <a:lnTo>
                  <a:pt x="1201610" y="1110335"/>
                </a:lnTo>
                <a:lnTo>
                  <a:pt x="1201610" y="1848129"/>
                </a:lnTo>
                <a:lnTo>
                  <a:pt x="1813179" y="1848129"/>
                </a:lnTo>
                <a:lnTo>
                  <a:pt x="1816303" y="895362"/>
                </a:lnTo>
                <a:lnTo>
                  <a:pt x="906627" y="0"/>
                </a:ln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1958760" y="3373200"/>
            <a:ext cx="359640" cy="239400"/>
          </a:xfrm>
          <a:custGeom>
            <a:avLst/>
            <a:gdLst>
              <a:gd name="textAreaLeft" fmla="*/ 0 w 359640"/>
              <a:gd name="textAreaRight" fmla="*/ 360000 w 35964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360133" h="239687">
                <a:moveTo>
                  <a:pt x="68364" y="239687"/>
                </a:moveTo>
                <a:lnTo>
                  <a:pt x="68364" y="108636"/>
                </a:lnTo>
                <a:cubicBezTo>
                  <a:pt x="68364" y="86804"/>
                  <a:pt x="86220" y="68948"/>
                  <a:pt x="108051" y="68948"/>
                </a:cubicBezTo>
                <a:lnTo>
                  <a:pt x="252069" y="68948"/>
                </a:lnTo>
                <a:cubicBezTo>
                  <a:pt x="273900" y="68948"/>
                  <a:pt x="291756" y="86804"/>
                  <a:pt x="291756" y="108636"/>
                </a:cubicBezTo>
                <a:lnTo>
                  <a:pt x="291756" y="239687"/>
                </a:lnTo>
                <a:lnTo>
                  <a:pt x="360133" y="239687"/>
                </a:lnTo>
                <a:lnTo>
                  <a:pt x="360133" y="95910"/>
                </a:lnTo>
                <a:cubicBezTo>
                  <a:pt x="360133" y="43154"/>
                  <a:pt x="316979" y="0"/>
                  <a:pt x="264223" y="0"/>
                </a:cubicBezTo>
                <a:lnTo>
                  <a:pt x="95910" y="0"/>
                </a:lnTo>
                <a:cubicBezTo>
                  <a:pt x="43154" y="0"/>
                  <a:pt x="0" y="43154"/>
                  <a:pt x="0" y="95910"/>
                </a:cubicBezTo>
                <a:lnTo>
                  <a:pt x="0" y="239687"/>
                </a:lnTo>
                <a:lnTo>
                  <a:pt x="68364" y="239687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3" name="Freeform 3"/>
          <p:cNvSpPr/>
          <p:nvPr/>
        </p:nvSpPr>
        <p:spPr>
          <a:xfrm>
            <a:off x="0" y="658440"/>
            <a:ext cx="5010480" cy="594000"/>
          </a:xfrm>
          <a:custGeom>
            <a:avLst/>
            <a:gdLst>
              <a:gd name="textAreaLeft" fmla="*/ 0 w 5010480"/>
              <a:gd name="textAreaRight" fmla="*/ 5010840 w 501048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5010911" h="594359">
                <a:moveTo>
                  <a:pt x="0" y="594359"/>
                </a:moveTo>
                <a:lnTo>
                  <a:pt x="5010911" y="594359"/>
                </a:lnTo>
                <a:lnTo>
                  <a:pt x="5010911" y="0"/>
                </a:lnTo>
                <a:lnTo>
                  <a:pt x="0" y="0"/>
                </a:lnTo>
                <a:lnTo>
                  <a:pt x="0" y="594359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4" name="Freeform 3"/>
          <p:cNvSpPr/>
          <p:nvPr/>
        </p:nvSpPr>
        <p:spPr>
          <a:xfrm>
            <a:off x="0" y="1088280"/>
            <a:ext cx="2756520" cy="594000"/>
          </a:xfrm>
          <a:custGeom>
            <a:avLst/>
            <a:gdLst>
              <a:gd name="textAreaLeft" fmla="*/ 0 w 2756520"/>
              <a:gd name="textAreaRight" fmla="*/ 2756880 w 275652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2756916" h="594359">
                <a:moveTo>
                  <a:pt x="0" y="594359"/>
                </a:moveTo>
                <a:lnTo>
                  <a:pt x="2756916" y="594359"/>
                </a:lnTo>
                <a:lnTo>
                  <a:pt x="2756916" y="0"/>
                </a:lnTo>
                <a:lnTo>
                  <a:pt x="0" y="0"/>
                </a:lnTo>
                <a:lnTo>
                  <a:pt x="0" y="594359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825480" y="863640"/>
            <a:ext cx="3949200" cy="367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812880" y="1320840"/>
            <a:ext cx="1739520" cy="304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3"/>
          <a:stretch/>
        </p:blipFill>
        <p:spPr>
          <a:xfrm>
            <a:off x="4572000" y="224784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"/>
          <p:cNvPicPr/>
          <p:nvPr/>
        </p:nvPicPr>
        <p:blipFill>
          <a:blip r:embed="rId4"/>
          <a:stretch/>
        </p:blipFill>
        <p:spPr>
          <a:xfrm>
            <a:off x="4572000" y="292104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5"/>
          <a:stretch/>
        </p:blipFill>
        <p:spPr>
          <a:xfrm>
            <a:off x="1892160" y="3645000"/>
            <a:ext cx="520200" cy="3934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6"/>
          <a:stretch/>
        </p:blipFill>
        <p:spPr>
          <a:xfrm>
            <a:off x="4572000" y="396252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7"/>
          <a:stretch/>
        </p:blipFill>
        <p:spPr>
          <a:xfrm>
            <a:off x="4572000" y="539748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8"/>
          <a:stretch/>
        </p:blipFill>
        <p:spPr>
          <a:xfrm>
            <a:off x="4863960" y="2171880"/>
            <a:ext cx="4076280" cy="317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9"/>
          <a:stretch/>
        </p:blipFill>
        <p:spPr>
          <a:xfrm>
            <a:off x="4851360" y="2832120"/>
            <a:ext cx="6590880" cy="317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10"/>
          <a:stretch/>
        </p:blipFill>
        <p:spPr>
          <a:xfrm>
            <a:off x="4851360" y="3225960"/>
            <a:ext cx="939600" cy="240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11"/>
          <a:stretch/>
        </p:blipFill>
        <p:spPr>
          <a:xfrm>
            <a:off x="4838760" y="3886200"/>
            <a:ext cx="6286320" cy="3171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12"/>
          <a:stretch/>
        </p:blipFill>
        <p:spPr>
          <a:xfrm>
            <a:off x="4851360" y="4267080"/>
            <a:ext cx="6603480" cy="3171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13"/>
          <a:stretch/>
        </p:blipFill>
        <p:spPr>
          <a:xfrm>
            <a:off x="4838760" y="4673520"/>
            <a:ext cx="2158560" cy="2916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14"/>
          <a:stretch/>
        </p:blipFill>
        <p:spPr>
          <a:xfrm>
            <a:off x="4863960" y="5321160"/>
            <a:ext cx="6692400" cy="3045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15"/>
          <a:stretch/>
        </p:blipFill>
        <p:spPr>
          <a:xfrm>
            <a:off x="4838760" y="5689440"/>
            <a:ext cx="6654600" cy="317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16"/>
          <a:stretch/>
        </p:blipFill>
        <p:spPr>
          <a:xfrm>
            <a:off x="4851360" y="6083280"/>
            <a:ext cx="40255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3"/>
          <p:cNvSpPr/>
          <p:nvPr/>
        </p:nvSpPr>
        <p:spPr>
          <a:xfrm>
            <a:off x="0" y="0"/>
            <a:ext cx="12191760" cy="68576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1974" h="6858000">
                <a:moveTo>
                  <a:pt x="0" y="6858000"/>
                </a:moveTo>
                <a:lnTo>
                  <a:pt x="12191974" y="6858000"/>
                </a:lnTo>
                <a:lnTo>
                  <a:pt x="12191974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1a60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10172880" y="1728360"/>
            <a:ext cx="1128960" cy="99900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999000"/>
              <a:gd name="textAreaBottom" fmla="*/ 999360 h 999000"/>
            </a:gdLst>
            <a:ahLst/>
            <a:rect l="textAreaLeft" t="textAreaTop" r="textAreaRight" b="textAreaBottom"/>
            <a:pathLst>
              <a:path w="1129296" h="999502">
                <a:moveTo>
                  <a:pt x="1084097" y="999502"/>
                </a:moveTo>
                <a:lnTo>
                  <a:pt x="45199" y="999502"/>
                </a:lnTo>
                <a:cubicBezTo>
                  <a:pt x="20332" y="999502"/>
                  <a:pt x="0" y="979157"/>
                  <a:pt x="0" y="954303"/>
                </a:cubicBezTo>
                <a:lnTo>
                  <a:pt x="0" y="45211"/>
                </a:lnTo>
                <a:cubicBezTo>
                  <a:pt x="0" y="20345"/>
                  <a:pt x="20332" y="0"/>
                  <a:pt x="45199" y="0"/>
                </a:cubicBezTo>
                <a:lnTo>
                  <a:pt x="1084097" y="0"/>
                </a:lnTo>
                <a:cubicBezTo>
                  <a:pt x="1108964" y="0"/>
                  <a:pt x="1129296" y="20345"/>
                  <a:pt x="1129296" y="45211"/>
                </a:cubicBezTo>
                <a:lnTo>
                  <a:pt x="1129296" y="954303"/>
                </a:lnTo>
                <a:cubicBezTo>
                  <a:pt x="1129296" y="979157"/>
                  <a:pt x="1108964" y="999502"/>
                  <a:pt x="1084097" y="999502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10199880" y="1752120"/>
            <a:ext cx="1074960" cy="951120"/>
          </a:xfrm>
          <a:custGeom>
            <a:avLst/>
            <a:gdLst>
              <a:gd name="textAreaLeft" fmla="*/ 0 w 1074960"/>
              <a:gd name="textAreaRight" fmla="*/ 1075320 w 1074960"/>
              <a:gd name="textAreaTop" fmla="*/ 0 h 951120"/>
              <a:gd name="textAreaBottom" fmla="*/ 951480 h 951120"/>
            </a:gdLst>
            <a:ahLst/>
            <a:rect l="textAreaLeft" t="textAreaTop" r="textAreaRight" b="textAreaBottom"/>
            <a:pathLst>
              <a:path w="1075156" h="951573">
                <a:moveTo>
                  <a:pt x="1029957" y="951572"/>
                </a:moveTo>
                <a:lnTo>
                  <a:pt x="45198" y="951572"/>
                </a:lnTo>
                <a:cubicBezTo>
                  <a:pt x="20345" y="951572"/>
                  <a:pt x="0" y="931227"/>
                  <a:pt x="0" y="906373"/>
                </a:cubicBezTo>
                <a:lnTo>
                  <a:pt x="0" y="45199"/>
                </a:lnTo>
                <a:cubicBezTo>
                  <a:pt x="0" y="20332"/>
                  <a:pt x="20345" y="0"/>
                  <a:pt x="45198" y="0"/>
                </a:cubicBezTo>
                <a:lnTo>
                  <a:pt x="1029957" y="0"/>
                </a:lnTo>
                <a:cubicBezTo>
                  <a:pt x="1054823" y="0"/>
                  <a:pt x="1075156" y="20332"/>
                  <a:pt x="1075156" y="45199"/>
                </a:cubicBezTo>
                <a:lnTo>
                  <a:pt x="1075156" y="906373"/>
                </a:lnTo>
                <a:cubicBezTo>
                  <a:pt x="1075156" y="931227"/>
                  <a:pt x="1054823" y="951572"/>
                  <a:pt x="1029957" y="951572"/>
                </a:cubicBezTo>
              </a:path>
            </a:pathLst>
          </a:custGeom>
          <a:solidFill>
            <a:srgbClr val="f1f6f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10270440" y="1738080"/>
            <a:ext cx="1210680" cy="932760"/>
          </a:xfrm>
          <a:custGeom>
            <a:avLst/>
            <a:gdLst>
              <a:gd name="textAreaLeft" fmla="*/ 0 w 1210680"/>
              <a:gd name="textAreaRight" fmla="*/ 1211040 w 1210680"/>
              <a:gd name="textAreaTop" fmla="*/ 0 h 932760"/>
              <a:gd name="textAreaBottom" fmla="*/ 933120 h 932760"/>
            </a:gdLst>
            <a:ahLst/>
            <a:rect l="textAreaLeft" t="textAreaTop" r="textAreaRight" b="textAreaBottom"/>
            <a:pathLst>
              <a:path w="1211010" h="933172">
                <a:moveTo>
                  <a:pt x="1192424" y="141847"/>
                </a:moveTo>
                <a:lnTo>
                  <a:pt x="1078098" y="21185"/>
                </a:lnTo>
                <a:cubicBezTo>
                  <a:pt x="1052304" y="-6043"/>
                  <a:pt x="1008908" y="-7211"/>
                  <a:pt x="981679" y="18581"/>
                </a:cubicBezTo>
                <a:lnTo>
                  <a:pt x="459913" y="512929"/>
                </a:lnTo>
                <a:lnTo>
                  <a:pt x="229078" y="294844"/>
                </a:lnTo>
                <a:cubicBezTo>
                  <a:pt x="201810" y="269089"/>
                  <a:pt x="158427" y="270321"/>
                  <a:pt x="132659" y="297588"/>
                </a:cubicBezTo>
                <a:lnTo>
                  <a:pt x="18512" y="418415"/>
                </a:lnTo>
                <a:cubicBezTo>
                  <a:pt x="-7243" y="445682"/>
                  <a:pt x="-6012" y="489065"/>
                  <a:pt x="21255" y="514834"/>
                </a:cubicBezTo>
                <a:cubicBezTo>
                  <a:pt x="21255" y="514834"/>
                  <a:pt x="383497" y="864452"/>
                  <a:pt x="456382" y="933172"/>
                </a:cubicBezTo>
                <a:lnTo>
                  <a:pt x="1189820" y="238266"/>
                </a:lnTo>
                <a:cubicBezTo>
                  <a:pt x="1217048" y="212472"/>
                  <a:pt x="1218230" y="169076"/>
                  <a:pt x="1192424" y="141847"/>
                </a:cubicBez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10172880" y="3231360"/>
            <a:ext cx="1128960" cy="99900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999000"/>
              <a:gd name="textAreaBottom" fmla="*/ 999360 h 999000"/>
            </a:gdLst>
            <a:ahLst/>
            <a:rect l="textAreaLeft" t="textAreaTop" r="textAreaRight" b="textAreaBottom"/>
            <a:pathLst>
              <a:path w="1129296" h="999502">
                <a:moveTo>
                  <a:pt x="1084097" y="999502"/>
                </a:moveTo>
                <a:lnTo>
                  <a:pt x="45199" y="999502"/>
                </a:lnTo>
                <a:cubicBezTo>
                  <a:pt x="20332" y="999502"/>
                  <a:pt x="0" y="979157"/>
                  <a:pt x="0" y="954303"/>
                </a:cubicBezTo>
                <a:lnTo>
                  <a:pt x="0" y="45211"/>
                </a:lnTo>
                <a:cubicBezTo>
                  <a:pt x="0" y="20345"/>
                  <a:pt x="20332" y="0"/>
                  <a:pt x="45199" y="0"/>
                </a:cubicBezTo>
                <a:lnTo>
                  <a:pt x="1084097" y="0"/>
                </a:lnTo>
                <a:cubicBezTo>
                  <a:pt x="1108964" y="0"/>
                  <a:pt x="1129296" y="20345"/>
                  <a:pt x="1129296" y="45211"/>
                </a:cubicBezTo>
                <a:lnTo>
                  <a:pt x="1129296" y="954303"/>
                </a:lnTo>
                <a:cubicBezTo>
                  <a:pt x="1129296" y="979157"/>
                  <a:pt x="1108964" y="999502"/>
                  <a:pt x="1084097" y="999502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10199880" y="3255120"/>
            <a:ext cx="1074960" cy="951120"/>
          </a:xfrm>
          <a:custGeom>
            <a:avLst/>
            <a:gdLst>
              <a:gd name="textAreaLeft" fmla="*/ 0 w 1074960"/>
              <a:gd name="textAreaRight" fmla="*/ 1075320 w 1074960"/>
              <a:gd name="textAreaTop" fmla="*/ 0 h 951120"/>
              <a:gd name="textAreaBottom" fmla="*/ 951480 h 951120"/>
            </a:gdLst>
            <a:ahLst/>
            <a:rect l="textAreaLeft" t="textAreaTop" r="textAreaRight" b="textAreaBottom"/>
            <a:pathLst>
              <a:path w="1075156" h="951572">
                <a:moveTo>
                  <a:pt x="1029957" y="951572"/>
                </a:moveTo>
                <a:lnTo>
                  <a:pt x="45198" y="951572"/>
                </a:lnTo>
                <a:cubicBezTo>
                  <a:pt x="20345" y="951572"/>
                  <a:pt x="0" y="931227"/>
                  <a:pt x="0" y="906373"/>
                </a:cubicBezTo>
                <a:lnTo>
                  <a:pt x="0" y="45199"/>
                </a:lnTo>
                <a:cubicBezTo>
                  <a:pt x="0" y="20332"/>
                  <a:pt x="20345" y="0"/>
                  <a:pt x="45198" y="0"/>
                </a:cubicBezTo>
                <a:lnTo>
                  <a:pt x="1029957" y="0"/>
                </a:lnTo>
                <a:cubicBezTo>
                  <a:pt x="1054823" y="0"/>
                  <a:pt x="1075156" y="20332"/>
                  <a:pt x="1075156" y="45199"/>
                </a:cubicBezTo>
                <a:lnTo>
                  <a:pt x="1075156" y="906373"/>
                </a:lnTo>
                <a:cubicBezTo>
                  <a:pt x="1075156" y="931227"/>
                  <a:pt x="1054823" y="951572"/>
                  <a:pt x="1029957" y="951572"/>
                </a:cubicBezTo>
              </a:path>
            </a:pathLst>
          </a:custGeom>
          <a:solidFill>
            <a:srgbClr val="f1f6f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10270440" y="3241080"/>
            <a:ext cx="1210680" cy="932760"/>
          </a:xfrm>
          <a:custGeom>
            <a:avLst/>
            <a:gdLst>
              <a:gd name="textAreaLeft" fmla="*/ 0 w 1210680"/>
              <a:gd name="textAreaRight" fmla="*/ 1211040 w 1210680"/>
              <a:gd name="textAreaTop" fmla="*/ 0 h 932760"/>
              <a:gd name="textAreaBottom" fmla="*/ 933120 h 932760"/>
            </a:gdLst>
            <a:ahLst/>
            <a:rect l="textAreaLeft" t="textAreaTop" r="textAreaRight" b="textAreaBottom"/>
            <a:pathLst>
              <a:path w="1211010" h="933172">
                <a:moveTo>
                  <a:pt x="1192424" y="141847"/>
                </a:moveTo>
                <a:lnTo>
                  <a:pt x="1078098" y="21185"/>
                </a:lnTo>
                <a:cubicBezTo>
                  <a:pt x="1052304" y="-6043"/>
                  <a:pt x="1008908" y="-7211"/>
                  <a:pt x="981679" y="18581"/>
                </a:cubicBezTo>
                <a:lnTo>
                  <a:pt x="459913" y="512929"/>
                </a:lnTo>
                <a:lnTo>
                  <a:pt x="229078" y="294844"/>
                </a:lnTo>
                <a:cubicBezTo>
                  <a:pt x="201810" y="269089"/>
                  <a:pt x="158427" y="270320"/>
                  <a:pt x="132659" y="297587"/>
                </a:cubicBezTo>
                <a:lnTo>
                  <a:pt x="18512" y="418415"/>
                </a:lnTo>
                <a:cubicBezTo>
                  <a:pt x="-7243" y="445682"/>
                  <a:pt x="-6012" y="489066"/>
                  <a:pt x="21255" y="514834"/>
                </a:cubicBezTo>
                <a:cubicBezTo>
                  <a:pt x="21255" y="514834"/>
                  <a:pt x="383497" y="864452"/>
                  <a:pt x="456382" y="933172"/>
                </a:cubicBezTo>
                <a:lnTo>
                  <a:pt x="1189820" y="238266"/>
                </a:lnTo>
                <a:cubicBezTo>
                  <a:pt x="1217048" y="212472"/>
                  <a:pt x="1218230" y="169076"/>
                  <a:pt x="1192424" y="141847"/>
                </a:cubicBez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10172880" y="4734360"/>
            <a:ext cx="1128960" cy="99900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999000"/>
              <a:gd name="textAreaBottom" fmla="*/ 999360 h 999000"/>
            </a:gdLst>
            <a:ahLst/>
            <a:rect l="textAreaLeft" t="textAreaTop" r="textAreaRight" b="textAreaBottom"/>
            <a:pathLst>
              <a:path w="1129296" h="999502">
                <a:moveTo>
                  <a:pt x="1084097" y="999502"/>
                </a:moveTo>
                <a:lnTo>
                  <a:pt x="45199" y="999502"/>
                </a:lnTo>
                <a:cubicBezTo>
                  <a:pt x="20332" y="999502"/>
                  <a:pt x="0" y="979157"/>
                  <a:pt x="0" y="954303"/>
                </a:cubicBezTo>
                <a:lnTo>
                  <a:pt x="0" y="45211"/>
                </a:lnTo>
                <a:cubicBezTo>
                  <a:pt x="0" y="20345"/>
                  <a:pt x="20332" y="0"/>
                  <a:pt x="45199" y="0"/>
                </a:cubicBezTo>
                <a:lnTo>
                  <a:pt x="1084097" y="0"/>
                </a:lnTo>
                <a:cubicBezTo>
                  <a:pt x="1108964" y="0"/>
                  <a:pt x="1129296" y="20345"/>
                  <a:pt x="1129296" y="45211"/>
                </a:cubicBezTo>
                <a:lnTo>
                  <a:pt x="1129296" y="954303"/>
                </a:lnTo>
                <a:cubicBezTo>
                  <a:pt x="1129296" y="979157"/>
                  <a:pt x="1108964" y="999502"/>
                  <a:pt x="1084097" y="999502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10199880" y="4758480"/>
            <a:ext cx="1074960" cy="951120"/>
          </a:xfrm>
          <a:custGeom>
            <a:avLst/>
            <a:gdLst>
              <a:gd name="textAreaLeft" fmla="*/ 0 w 1074960"/>
              <a:gd name="textAreaRight" fmla="*/ 1075320 w 1074960"/>
              <a:gd name="textAreaTop" fmla="*/ 0 h 951120"/>
              <a:gd name="textAreaBottom" fmla="*/ 951480 h 951120"/>
            </a:gdLst>
            <a:ahLst/>
            <a:rect l="textAreaLeft" t="textAreaTop" r="textAreaRight" b="textAreaBottom"/>
            <a:pathLst>
              <a:path w="1075156" h="951572">
                <a:moveTo>
                  <a:pt x="1029957" y="951572"/>
                </a:moveTo>
                <a:lnTo>
                  <a:pt x="45198" y="951572"/>
                </a:lnTo>
                <a:cubicBezTo>
                  <a:pt x="20345" y="951572"/>
                  <a:pt x="0" y="931227"/>
                  <a:pt x="0" y="906373"/>
                </a:cubicBezTo>
                <a:lnTo>
                  <a:pt x="0" y="45199"/>
                </a:lnTo>
                <a:cubicBezTo>
                  <a:pt x="0" y="20332"/>
                  <a:pt x="20345" y="0"/>
                  <a:pt x="45198" y="0"/>
                </a:cubicBezTo>
                <a:lnTo>
                  <a:pt x="1029957" y="0"/>
                </a:lnTo>
                <a:cubicBezTo>
                  <a:pt x="1054823" y="0"/>
                  <a:pt x="1075156" y="20332"/>
                  <a:pt x="1075156" y="45199"/>
                </a:cubicBezTo>
                <a:lnTo>
                  <a:pt x="1075156" y="906373"/>
                </a:lnTo>
                <a:cubicBezTo>
                  <a:pt x="1075156" y="931227"/>
                  <a:pt x="1054823" y="951572"/>
                  <a:pt x="1029957" y="951572"/>
                </a:cubicBezTo>
              </a:path>
            </a:pathLst>
          </a:custGeom>
          <a:solidFill>
            <a:srgbClr val="f1f6f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10270440" y="4744080"/>
            <a:ext cx="1210680" cy="932760"/>
          </a:xfrm>
          <a:custGeom>
            <a:avLst/>
            <a:gdLst>
              <a:gd name="textAreaLeft" fmla="*/ 0 w 1210680"/>
              <a:gd name="textAreaRight" fmla="*/ 1211040 w 1210680"/>
              <a:gd name="textAreaTop" fmla="*/ 0 h 932760"/>
              <a:gd name="textAreaBottom" fmla="*/ 933120 h 932760"/>
            </a:gdLst>
            <a:ahLst/>
            <a:rect l="textAreaLeft" t="textAreaTop" r="textAreaRight" b="textAreaBottom"/>
            <a:pathLst>
              <a:path w="1211010" h="933172">
                <a:moveTo>
                  <a:pt x="1192424" y="141847"/>
                </a:moveTo>
                <a:lnTo>
                  <a:pt x="1078098" y="21185"/>
                </a:lnTo>
                <a:cubicBezTo>
                  <a:pt x="1052304" y="-6043"/>
                  <a:pt x="1008908" y="-7211"/>
                  <a:pt x="981679" y="18581"/>
                </a:cubicBezTo>
                <a:lnTo>
                  <a:pt x="459913" y="512929"/>
                </a:lnTo>
                <a:lnTo>
                  <a:pt x="229078" y="294844"/>
                </a:lnTo>
                <a:cubicBezTo>
                  <a:pt x="201810" y="269089"/>
                  <a:pt x="158427" y="270321"/>
                  <a:pt x="132659" y="297588"/>
                </a:cubicBezTo>
                <a:lnTo>
                  <a:pt x="18512" y="418415"/>
                </a:lnTo>
                <a:cubicBezTo>
                  <a:pt x="-7243" y="445682"/>
                  <a:pt x="-6012" y="489065"/>
                  <a:pt x="21255" y="514834"/>
                </a:cubicBezTo>
                <a:cubicBezTo>
                  <a:pt x="21255" y="514834"/>
                  <a:pt x="383497" y="864452"/>
                  <a:pt x="456382" y="933172"/>
                </a:cubicBezTo>
                <a:lnTo>
                  <a:pt x="1189820" y="238266"/>
                </a:lnTo>
                <a:cubicBezTo>
                  <a:pt x="1217048" y="212472"/>
                  <a:pt x="1218230" y="169076"/>
                  <a:pt x="1192424" y="141847"/>
                </a:cubicBez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09480" y="673200"/>
            <a:ext cx="10350000" cy="507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635040" y="1536840"/>
            <a:ext cx="228240" cy="291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1003320" y="1219320"/>
            <a:ext cx="6832080" cy="786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4"/>
          <a:stretch/>
        </p:blipFill>
        <p:spPr>
          <a:xfrm>
            <a:off x="7937640" y="1434960"/>
            <a:ext cx="1269720" cy="393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5"/>
          <a:stretch/>
        </p:blipFill>
        <p:spPr>
          <a:xfrm>
            <a:off x="635040" y="2057400"/>
            <a:ext cx="4571640" cy="507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6"/>
          <a:stretch/>
        </p:blipFill>
        <p:spPr>
          <a:xfrm>
            <a:off x="647640" y="3289320"/>
            <a:ext cx="1625400" cy="317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7"/>
          <a:stretch/>
        </p:blipFill>
        <p:spPr>
          <a:xfrm>
            <a:off x="2336760" y="3314880"/>
            <a:ext cx="1358640" cy="367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8"/>
          <a:stretch/>
        </p:blipFill>
        <p:spPr>
          <a:xfrm>
            <a:off x="5079960" y="3301920"/>
            <a:ext cx="2082600" cy="317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9"/>
          <a:stretch/>
        </p:blipFill>
        <p:spPr>
          <a:xfrm>
            <a:off x="7226280" y="3327480"/>
            <a:ext cx="1358640" cy="367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10"/>
          <a:stretch/>
        </p:blipFill>
        <p:spPr>
          <a:xfrm>
            <a:off x="635040" y="3873600"/>
            <a:ext cx="964800" cy="317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11"/>
          <a:stretch/>
        </p:blipFill>
        <p:spPr>
          <a:xfrm>
            <a:off x="1663560" y="3898800"/>
            <a:ext cx="1358640" cy="367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12"/>
          <a:stretch/>
        </p:blipFill>
        <p:spPr>
          <a:xfrm>
            <a:off x="5079960" y="3886200"/>
            <a:ext cx="1460160" cy="317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13"/>
          <a:stretch/>
        </p:blipFill>
        <p:spPr>
          <a:xfrm>
            <a:off x="6591240" y="3911760"/>
            <a:ext cx="1358640" cy="367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14"/>
          <a:stretch/>
        </p:blipFill>
        <p:spPr>
          <a:xfrm>
            <a:off x="635040" y="4470480"/>
            <a:ext cx="2196720" cy="304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15"/>
          <a:stretch/>
        </p:blipFill>
        <p:spPr>
          <a:xfrm>
            <a:off x="2895480" y="4483080"/>
            <a:ext cx="1358640" cy="367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16"/>
          <a:stretch/>
        </p:blipFill>
        <p:spPr>
          <a:xfrm>
            <a:off x="5079960" y="4470480"/>
            <a:ext cx="3098520" cy="380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17"/>
          <a:stretch/>
        </p:blipFill>
        <p:spPr>
          <a:xfrm>
            <a:off x="8280360" y="4495680"/>
            <a:ext cx="1358640" cy="367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18"/>
          <a:stretch/>
        </p:blipFill>
        <p:spPr>
          <a:xfrm>
            <a:off x="622440" y="5041800"/>
            <a:ext cx="2095200" cy="41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19"/>
          <a:stretch/>
        </p:blipFill>
        <p:spPr>
          <a:xfrm>
            <a:off x="2781360" y="5067360"/>
            <a:ext cx="1358640" cy="3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reeform 3"/>
          <p:cNvSpPr/>
          <p:nvPr/>
        </p:nvSpPr>
        <p:spPr>
          <a:xfrm>
            <a:off x="0" y="0"/>
            <a:ext cx="12191760" cy="68576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1974" h="6858000">
                <a:moveTo>
                  <a:pt x="0" y="6858000"/>
                </a:moveTo>
                <a:lnTo>
                  <a:pt x="12191974" y="6858000"/>
                </a:lnTo>
                <a:lnTo>
                  <a:pt x="12191974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1a60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0" y="1719720"/>
            <a:ext cx="2928240" cy="618120"/>
          </a:xfrm>
          <a:custGeom>
            <a:avLst/>
            <a:gdLst>
              <a:gd name="textAreaLeft" fmla="*/ 0 w 2928240"/>
              <a:gd name="textAreaRight" fmla="*/ 2928600 w 2928240"/>
              <a:gd name="textAreaTop" fmla="*/ 0 h 618120"/>
              <a:gd name="textAreaBottom" fmla="*/ 618480 h 618120"/>
            </a:gdLst>
            <a:ahLst/>
            <a:rect l="textAreaLeft" t="textAreaTop" r="textAreaRight" b="textAreaBottom"/>
            <a:pathLst>
              <a:path w="2928531" h="618312">
                <a:moveTo>
                  <a:pt x="0" y="618312"/>
                </a:moveTo>
                <a:lnTo>
                  <a:pt x="2928531" y="618312"/>
                </a:lnTo>
                <a:lnTo>
                  <a:pt x="2928531" y="0"/>
                </a:lnTo>
                <a:lnTo>
                  <a:pt x="0" y="0"/>
                </a:lnTo>
                <a:lnTo>
                  <a:pt x="0" y="618312"/>
                </a:lnTo>
              </a:path>
            </a:pathLst>
          </a:custGeom>
          <a:solidFill>
            <a:srgbClr val="b6b2a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2906280" y="1477440"/>
            <a:ext cx="1431000" cy="1118160"/>
          </a:xfrm>
          <a:custGeom>
            <a:avLst/>
            <a:gdLst>
              <a:gd name="textAreaLeft" fmla="*/ 0 w 1431000"/>
              <a:gd name="textAreaRight" fmla="*/ 1431360 w 1431000"/>
              <a:gd name="textAreaTop" fmla="*/ 0 h 1118160"/>
              <a:gd name="textAreaBottom" fmla="*/ 1118520 h 1118160"/>
            </a:gdLst>
            <a:ahLst/>
            <a:rect l="textAreaLeft" t="textAreaTop" r="textAreaRight" b="textAreaBottom"/>
            <a:pathLst>
              <a:path w="1431505" h="1118514">
                <a:moveTo>
                  <a:pt x="22275" y="860564"/>
                </a:moveTo>
                <a:lnTo>
                  <a:pt x="375589" y="1111935"/>
                </a:lnTo>
                <a:lnTo>
                  <a:pt x="1431505" y="1118514"/>
                </a:lnTo>
                <a:lnTo>
                  <a:pt x="1418323" y="0"/>
                </a:lnTo>
                <a:lnTo>
                  <a:pt x="367347" y="0"/>
                </a:lnTo>
                <a:lnTo>
                  <a:pt x="0" y="258622"/>
                </a:lnTo>
                <a:lnTo>
                  <a:pt x="22275" y="860564"/>
                </a:lnTo>
              </a:path>
            </a:pathLst>
          </a:custGeom>
          <a:solidFill>
            <a:srgbClr val="b6b2a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4189320" y="2388240"/>
            <a:ext cx="960120" cy="207000"/>
          </a:xfrm>
          <a:custGeom>
            <a:avLst/>
            <a:gdLst>
              <a:gd name="textAreaLeft" fmla="*/ 0 w 960120"/>
              <a:gd name="textAreaRight" fmla="*/ 960480 w 960120"/>
              <a:gd name="textAreaTop" fmla="*/ 0 h 207000"/>
              <a:gd name="textAreaBottom" fmla="*/ 207360 h 207000"/>
            </a:gdLst>
            <a:ahLst/>
            <a:rect l="textAreaLeft" t="textAreaTop" r="textAreaRight" b="textAreaBottom"/>
            <a:pathLst>
              <a:path w="960462" h="207213">
                <a:moveTo>
                  <a:pt x="856856" y="0"/>
                </a:moveTo>
                <a:lnTo>
                  <a:pt x="103606" y="0"/>
                </a:lnTo>
                <a:cubicBezTo>
                  <a:pt x="46621" y="0"/>
                  <a:pt x="0" y="46621"/>
                  <a:pt x="0" y="103606"/>
                </a:cubicBezTo>
                <a:cubicBezTo>
                  <a:pt x="0" y="160591"/>
                  <a:pt x="46621" y="207213"/>
                  <a:pt x="103606" y="207213"/>
                </a:cubicBezTo>
                <a:lnTo>
                  <a:pt x="856856" y="207213"/>
                </a:lnTo>
                <a:cubicBezTo>
                  <a:pt x="913841" y="207213"/>
                  <a:pt x="960462" y="160591"/>
                  <a:pt x="960462" y="103606"/>
                </a:cubicBezTo>
                <a:cubicBezTo>
                  <a:pt x="960462" y="46621"/>
                  <a:pt x="913841" y="0"/>
                  <a:pt x="856856" y="0"/>
                </a:cubicBezTo>
              </a:path>
            </a:pathLst>
          </a:custGeom>
          <a:solidFill>
            <a:srgbClr val="b6b2a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4209120" y="2080440"/>
            <a:ext cx="1127880" cy="207000"/>
          </a:xfrm>
          <a:custGeom>
            <a:avLst/>
            <a:gdLst>
              <a:gd name="textAreaLeft" fmla="*/ 0 w 1127880"/>
              <a:gd name="textAreaRight" fmla="*/ 1128240 w 1127880"/>
              <a:gd name="textAreaTop" fmla="*/ 0 h 207000"/>
              <a:gd name="textAreaBottom" fmla="*/ 207360 h 207000"/>
            </a:gdLst>
            <a:ahLst/>
            <a:rect l="textAreaLeft" t="textAreaTop" r="textAreaRight" b="textAreaBottom"/>
            <a:pathLst>
              <a:path w="1128407" h="207213">
                <a:moveTo>
                  <a:pt x="1024801" y="0"/>
                </a:moveTo>
                <a:lnTo>
                  <a:pt x="103606" y="0"/>
                </a:lnTo>
                <a:cubicBezTo>
                  <a:pt x="46621" y="0"/>
                  <a:pt x="0" y="46621"/>
                  <a:pt x="0" y="103606"/>
                </a:cubicBezTo>
                <a:cubicBezTo>
                  <a:pt x="0" y="160591"/>
                  <a:pt x="46621" y="207213"/>
                  <a:pt x="103606" y="207213"/>
                </a:cubicBezTo>
                <a:lnTo>
                  <a:pt x="1024801" y="207213"/>
                </a:lnTo>
                <a:cubicBezTo>
                  <a:pt x="1081785" y="207213"/>
                  <a:pt x="1128407" y="160591"/>
                  <a:pt x="1128407" y="103606"/>
                </a:cubicBezTo>
                <a:cubicBezTo>
                  <a:pt x="1128407" y="46621"/>
                  <a:pt x="1081785" y="0"/>
                  <a:pt x="1024801" y="0"/>
                </a:cubicBezTo>
              </a:path>
            </a:pathLst>
          </a:custGeom>
          <a:solidFill>
            <a:srgbClr val="b6b2a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4087440" y="1770480"/>
            <a:ext cx="1396800" cy="20700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207000"/>
              <a:gd name="textAreaBottom" fmla="*/ 207360 h 207000"/>
            </a:gdLst>
            <a:ahLst/>
            <a:rect l="textAreaLeft" t="textAreaTop" r="textAreaRight" b="textAreaBottom"/>
            <a:pathLst>
              <a:path w="1397203" h="207213">
                <a:moveTo>
                  <a:pt x="1293596" y="0"/>
                </a:moveTo>
                <a:lnTo>
                  <a:pt x="103606" y="0"/>
                </a:lnTo>
                <a:cubicBezTo>
                  <a:pt x="46621" y="0"/>
                  <a:pt x="0" y="46621"/>
                  <a:pt x="0" y="103606"/>
                </a:cubicBezTo>
                <a:cubicBezTo>
                  <a:pt x="0" y="160591"/>
                  <a:pt x="46621" y="207213"/>
                  <a:pt x="103606" y="207213"/>
                </a:cubicBezTo>
                <a:lnTo>
                  <a:pt x="1293596" y="207213"/>
                </a:lnTo>
                <a:cubicBezTo>
                  <a:pt x="1350581" y="207213"/>
                  <a:pt x="1397203" y="160591"/>
                  <a:pt x="1397203" y="103606"/>
                </a:cubicBezTo>
                <a:cubicBezTo>
                  <a:pt x="1397203" y="46621"/>
                  <a:pt x="1350581" y="0"/>
                  <a:pt x="1293596" y="0"/>
                </a:cubicBezTo>
              </a:path>
            </a:pathLst>
          </a:custGeom>
          <a:solidFill>
            <a:srgbClr val="b6b2a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3940560" y="1477440"/>
            <a:ext cx="1396800" cy="20700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207000"/>
              <a:gd name="textAreaBottom" fmla="*/ 207360 h 207000"/>
            </a:gdLst>
            <a:ahLst/>
            <a:rect l="textAreaLeft" t="textAreaTop" r="textAreaRight" b="textAreaBottom"/>
            <a:pathLst>
              <a:path w="1397203" h="207213">
                <a:moveTo>
                  <a:pt x="1293596" y="0"/>
                </a:moveTo>
                <a:lnTo>
                  <a:pt x="103606" y="0"/>
                </a:lnTo>
                <a:cubicBezTo>
                  <a:pt x="46621" y="0"/>
                  <a:pt x="0" y="46621"/>
                  <a:pt x="0" y="103606"/>
                </a:cubicBezTo>
                <a:cubicBezTo>
                  <a:pt x="0" y="160591"/>
                  <a:pt x="46621" y="207213"/>
                  <a:pt x="103606" y="207213"/>
                </a:cubicBezTo>
                <a:lnTo>
                  <a:pt x="1293596" y="207213"/>
                </a:lnTo>
                <a:cubicBezTo>
                  <a:pt x="1350581" y="207213"/>
                  <a:pt x="1397203" y="160591"/>
                  <a:pt x="1397203" y="103606"/>
                </a:cubicBezTo>
                <a:cubicBezTo>
                  <a:pt x="1397203" y="46621"/>
                  <a:pt x="1350581" y="0"/>
                  <a:pt x="1293596" y="0"/>
                </a:cubicBezTo>
              </a:path>
            </a:pathLst>
          </a:custGeom>
          <a:solidFill>
            <a:srgbClr val="b6b2a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2962080" y="980280"/>
            <a:ext cx="1182600" cy="914400"/>
          </a:xfrm>
          <a:custGeom>
            <a:avLst/>
            <a:gdLst>
              <a:gd name="textAreaLeft" fmla="*/ 0 w 1182600"/>
              <a:gd name="textAreaRight" fmla="*/ 1182960 w 11826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82954" h="914934">
                <a:moveTo>
                  <a:pt x="979582" y="22067"/>
                </a:moveTo>
                <a:lnTo>
                  <a:pt x="52711" y="680918"/>
                </a:lnTo>
                <a:cubicBezTo>
                  <a:pt x="-5568" y="722345"/>
                  <a:pt x="-19361" y="803930"/>
                  <a:pt x="22078" y="862223"/>
                </a:cubicBezTo>
                <a:cubicBezTo>
                  <a:pt x="63506" y="920503"/>
                  <a:pt x="145091" y="934296"/>
                  <a:pt x="203371" y="892856"/>
                </a:cubicBezTo>
                <a:lnTo>
                  <a:pt x="1130243" y="234005"/>
                </a:lnTo>
                <a:cubicBezTo>
                  <a:pt x="1188523" y="192578"/>
                  <a:pt x="1202315" y="110993"/>
                  <a:pt x="1160875" y="52712"/>
                </a:cubicBezTo>
                <a:cubicBezTo>
                  <a:pt x="1119447" y="-5567"/>
                  <a:pt x="1037863" y="-19359"/>
                  <a:pt x="979582" y="22067"/>
                </a:cubicBezTo>
              </a:path>
            </a:pathLst>
          </a:custGeom>
          <a:solidFill>
            <a:srgbClr val="b6b2a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8845920" y="2418480"/>
            <a:ext cx="3345840" cy="618120"/>
          </a:xfrm>
          <a:custGeom>
            <a:avLst/>
            <a:gdLst>
              <a:gd name="textAreaLeft" fmla="*/ 0 w 3345840"/>
              <a:gd name="textAreaRight" fmla="*/ 3346200 w 3345840"/>
              <a:gd name="textAreaTop" fmla="*/ 0 h 618120"/>
              <a:gd name="textAreaBottom" fmla="*/ 618480 h 618120"/>
            </a:gdLst>
            <a:ahLst/>
            <a:rect l="textAreaLeft" t="textAreaTop" r="textAreaRight" b="textAreaBottom"/>
            <a:pathLst>
              <a:path w="3346208" h="618312">
                <a:moveTo>
                  <a:pt x="0" y="618312"/>
                </a:moveTo>
                <a:lnTo>
                  <a:pt x="3346208" y="618312"/>
                </a:lnTo>
                <a:lnTo>
                  <a:pt x="3346208" y="0"/>
                </a:lnTo>
                <a:lnTo>
                  <a:pt x="0" y="0"/>
                </a:lnTo>
                <a:lnTo>
                  <a:pt x="0" y="618312"/>
                </a:ln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7436520" y="2176200"/>
            <a:ext cx="1431000" cy="1118160"/>
          </a:xfrm>
          <a:custGeom>
            <a:avLst/>
            <a:gdLst>
              <a:gd name="textAreaLeft" fmla="*/ 0 w 1431000"/>
              <a:gd name="textAreaRight" fmla="*/ 1431360 w 1431000"/>
              <a:gd name="textAreaTop" fmla="*/ 0 h 1118160"/>
              <a:gd name="textAreaBottom" fmla="*/ 1118520 h 1118160"/>
            </a:gdLst>
            <a:ahLst/>
            <a:rect l="textAreaLeft" t="textAreaTop" r="textAreaRight" b="textAreaBottom"/>
            <a:pathLst>
              <a:path w="1431506" h="1118527">
                <a:moveTo>
                  <a:pt x="1409230" y="860564"/>
                </a:moveTo>
                <a:lnTo>
                  <a:pt x="1055916" y="1111935"/>
                </a:lnTo>
                <a:lnTo>
                  <a:pt x="0" y="1118527"/>
                </a:lnTo>
                <a:lnTo>
                  <a:pt x="13182" y="0"/>
                </a:lnTo>
                <a:lnTo>
                  <a:pt x="1064158" y="0"/>
                </a:lnTo>
                <a:lnTo>
                  <a:pt x="1431505" y="258635"/>
                </a:lnTo>
                <a:lnTo>
                  <a:pt x="1409230" y="860564"/>
                </a:ln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6624360" y="3087360"/>
            <a:ext cx="960120" cy="207000"/>
          </a:xfrm>
          <a:custGeom>
            <a:avLst/>
            <a:gdLst>
              <a:gd name="textAreaLeft" fmla="*/ 0 w 960120"/>
              <a:gd name="textAreaRight" fmla="*/ 960480 w 960120"/>
              <a:gd name="textAreaTop" fmla="*/ 0 h 207000"/>
              <a:gd name="textAreaBottom" fmla="*/ 207360 h 207000"/>
            </a:gdLst>
            <a:ahLst/>
            <a:rect l="textAreaLeft" t="textAreaTop" r="textAreaRight" b="textAreaBottom"/>
            <a:pathLst>
              <a:path w="960463" h="207213">
                <a:moveTo>
                  <a:pt x="103606" y="0"/>
                </a:moveTo>
                <a:lnTo>
                  <a:pt x="856856" y="0"/>
                </a:lnTo>
                <a:cubicBezTo>
                  <a:pt x="913841" y="0"/>
                  <a:pt x="960463" y="46621"/>
                  <a:pt x="960463" y="103606"/>
                </a:cubicBezTo>
                <a:lnTo>
                  <a:pt x="960463" y="103606"/>
                </a:lnTo>
                <a:cubicBezTo>
                  <a:pt x="960463" y="160591"/>
                  <a:pt x="913841" y="207213"/>
                  <a:pt x="856856" y="207213"/>
                </a:cubicBezTo>
                <a:lnTo>
                  <a:pt x="103606" y="207213"/>
                </a:lnTo>
                <a:cubicBezTo>
                  <a:pt x="46621" y="207213"/>
                  <a:pt x="0" y="160591"/>
                  <a:pt x="0" y="103606"/>
                </a:cubicBezTo>
                <a:lnTo>
                  <a:pt x="0" y="103606"/>
                </a:lnTo>
                <a:cubicBezTo>
                  <a:pt x="0" y="46621"/>
                  <a:pt x="46621" y="0"/>
                  <a:pt x="103606" y="0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6436440" y="2779200"/>
            <a:ext cx="1127880" cy="207000"/>
          </a:xfrm>
          <a:custGeom>
            <a:avLst/>
            <a:gdLst>
              <a:gd name="textAreaLeft" fmla="*/ 0 w 1127880"/>
              <a:gd name="textAreaRight" fmla="*/ 1128240 w 1127880"/>
              <a:gd name="textAreaTop" fmla="*/ 0 h 207000"/>
              <a:gd name="textAreaBottom" fmla="*/ 207360 h 207000"/>
            </a:gdLst>
            <a:ahLst/>
            <a:rect l="textAreaLeft" t="textAreaTop" r="textAreaRight" b="textAreaBottom"/>
            <a:pathLst>
              <a:path w="1128407" h="207213">
                <a:moveTo>
                  <a:pt x="103606" y="0"/>
                </a:moveTo>
                <a:lnTo>
                  <a:pt x="1024801" y="0"/>
                </a:lnTo>
                <a:cubicBezTo>
                  <a:pt x="1081785" y="0"/>
                  <a:pt x="1128407" y="46621"/>
                  <a:pt x="1128407" y="103606"/>
                </a:cubicBezTo>
                <a:lnTo>
                  <a:pt x="1128407" y="103606"/>
                </a:lnTo>
                <a:cubicBezTo>
                  <a:pt x="1128407" y="160591"/>
                  <a:pt x="1081785" y="207213"/>
                  <a:pt x="1024801" y="207213"/>
                </a:cubicBezTo>
                <a:lnTo>
                  <a:pt x="103606" y="207213"/>
                </a:lnTo>
                <a:cubicBezTo>
                  <a:pt x="46621" y="207213"/>
                  <a:pt x="0" y="160591"/>
                  <a:pt x="0" y="103606"/>
                </a:cubicBezTo>
                <a:lnTo>
                  <a:pt x="0" y="103606"/>
                </a:lnTo>
                <a:cubicBezTo>
                  <a:pt x="0" y="46621"/>
                  <a:pt x="46621" y="0"/>
                  <a:pt x="103606" y="0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6289920" y="2469600"/>
            <a:ext cx="1396800" cy="20700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207000"/>
              <a:gd name="textAreaBottom" fmla="*/ 207360 h 207000"/>
            </a:gdLst>
            <a:ahLst/>
            <a:rect l="textAreaLeft" t="textAreaTop" r="textAreaRight" b="textAreaBottom"/>
            <a:pathLst>
              <a:path w="1397203" h="207213">
                <a:moveTo>
                  <a:pt x="103606" y="0"/>
                </a:moveTo>
                <a:lnTo>
                  <a:pt x="1293596" y="0"/>
                </a:lnTo>
                <a:cubicBezTo>
                  <a:pt x="1350581" y="0"/>
                  <a:pt x="1397202" y="46621"/>
                  <a:pt x="1397202" y="103606"/>
                </a:cubicBezTo>
                <a:cubicBezTo>
                  <a:pt x="1397202" y="160591"/>
                  <a:pt x="1350581" y="207213"/>
                  <a:pt x="1293596" y="207213"/>
                </a:cubicBezTo>
                <a:lnTo>
                  <a:pt x="103606" y="207213"/>
                </a:lnTo>
                <a:cubicBezTo>
                  <a:pt x="46621" y="207213"/>
                  <a:pt x="0" y="160591"/>
                  <a:pt x="0" y="103606"/>
                </a:cubicBezTo>
                <a:cubicBezTo>
                  <a:pt x="0" y="46621"/>
                  <a:pt x="46621" y="0"/>
                  <a:pt x="103606" y="0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6436440" y="2176200"/>
            <a:ext cx="1396800" cy="20700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207000"/>
              <a:gd name="textAreaBottom" fmla="*/ 207360 h 207000"/>
            </a:gdLst>
            <a:ahLst/>
            <a:rect l="textAreaLeft" t="textAreaTop" r="textAreaRight" b="textAreaBottom"/>
            <a:pathLst>
              <a:path w="1397203" h="207213">
                <a:moveTo>
                  <a:pt x="103606" y="0"/>
                </a:moveTo>
                <a:lnTo>
                  <a:pt x="1293596" y="0"/>
                </a:lnTo>
                <a:cubicBezTo>
                  <a:pt x="1350581" y="0"/>
                  <a:pt x="1397203" y="46621"/>
                  <a:pt x="1397203" y="103606"/>
                </a:cubicBezTo>
                <a:cubicBezTo>
                  <a:pt x="1397203" y="160591"/>
                  <a:pt x="1350581" y="207213"/>
                  <a:pt x="1293596" y="207213"/>
                </a:cubicBezTo>
                <a:lnTo>
                  <a:pt x="103606" y="207213"/>
                </a:lnTo>
                <a:cubicBezTo>
                  <a:pt x="46621" y="207213"/>
                  <a:pt x="0" y="160591"/>
                  <a:pt x="0" y="103606"/>
                </a:cubicBezTo>
                <a:cubicBezTo>
                  <a:pt x="0" y="46621"/>
                  <a:pt x="46621" y="0"/>
                  <a:pt x="103606" y="0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4654800" y="1389240"/>
            <a:ext cx="3178800" cy="1801080"/>
          </a:xfrm>
          <a:custGeom>
            <a:avLst/>
            <a:gdLst>
              <a:gd name="textAreaLeft" fmla="*/ 0 w 3178800"/>
              <a:gd name="textAreaRight" fmla="*/ 3179160 w 3178800"/>
              <a:gd name="textAreaTop" fmla="*/ 0 h 1801080"/>
              <a:gd name="textAreaBottom" fmla="*/ 1801440 h 1801080"/>
            </a:gdLst>
            <a:ahLst/>
            <a:rect l="textAreaLeft" t="textAreaTop" r="textAreaRight" b="textAreaBottom"/>
            <a:pathLst>
              <a:path w="3179153" h="1801431">
                <a:moveTo>
                  <a:pt x="7213" y="1794217"/>
                </a:moveTo>
                <a:lnTo>
                  <a:pt x="3171939" y="1794217"/>
                </a:lnTo>
                <a:lnTo>
                  <a:pt x="3171939" y="7213"/>
                </a:lnTo>
                <a:lnTo>
                  <a:pt x="7213" y="7213"/>
                </a:lnTo>
                <a:lnTo>
                  <a:pt x="7213" y="1794217"/>
                </a:lnTo>
              </a:path>
            </a:pathLst>
          </a:custGeom>
          <a:noFill/>
          <a:ln w="12700">
            <a:solidFill>
              <a:srgbClr val="b8d1c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7629480" y="1679040"/>
            <a:ext cx="1182600" cy="914400"/>
          </a:xfrm>
          <a:custGeom>
            <a:avLst/>
            <a:gdLst>
              <a:gd name="textAreaLeft" fmla="*/ 0 w 1182600"/>
              <a:gd name="textAreaRight" fmla="*/ 1182960 w 11826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82951" h="914933">
                <a:moveTo>
                  <a:pt x="203372" y="22072"/>
                </a:moveTo>
                <a:lnTo>
                  <a:pt x="1130244" y="680923"/>
                </a:lnTo>
                <a:cubicBezTo>
                  <a:pt x="1188524" y="722350"/>
                  <a:pt x="1202304" y="803935"/>
                  <a:pt x="1160876" y="862215"/>
                </a:cubicBezTo>
                <a:cubicBezTo>
                  <a:pt x="1119449" y="920508"/>
                  <a:pt x="1037864" y="934288"/>
                  <a:pt x="979584" y="892860"/>
                </a:cubicBezTo>
                <a:lnTo>
                  <a:pt x="52712" y="234010"/>
                </a:lnTo>
                <a:cubicBezTo>
                  <a:pt x="-5567" y="192582"/>
                  <a:pt x="-19360" y="110997"/>
                  <a:pt x="22067" y="52717"/>
                </a:cubicBezTo>
                <a:cubicBezTo>
                  <a:pt x="63507" y="-5575"/>
                  <a:pt x="145092" y="-19354"/>
                  <a:pt x="203372" y="22072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4648320" y="1397160"/>
            <a:ext cx="3187440" cy="1790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3759120" y="3784680"/>
            <a:ext cx="7569000" cy="799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3"/>
          <a:stretch/>
        </p:blipFill>
        <p:spPr>
          <a:xfrm>
            <a:off x="3746520" y="4622760"/>
            <a:ext cx="7009920" cy="507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4"/>
          <a:stretch/>
        </p:blipFill>
        <p:spPr>
          <a:xfrm>
            <a:off x="3746520" y="5257800"/>
            <a:ext cx="656568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3"/>
          <p:cNvSpPr/>
          <p:nvPr/>
        </p:nvSpPr>
        <p:spPr>
          <a:xfrm>
            <a:off x="0" y="0"/>
            <a:ext cx="12191760" cy="68576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1974" h="6858000">
                <a:moveTo>
                  <a:pt x="0" y="6858000"/>
                </a:moveTo>
                <a:lnTo>
                  <a:pt x="12191974" y="6858000"/>
                </a:lnTo>
                <a:lnTo>
                  <a:pt x="12191974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1a60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660600" y="3429720"/>
            <a:ext cx="3211560" cy="65592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655920"/>
              <a:gd name="textAreaBottom" fmla="*/ 656280 h 655920"/>
            </a:gdLst>
            <a:ahLst/>
            <a:rect l="textAreaLeft" t="textAreaTop" r="textAreaRight" b="textAreaBottom"/>
            <a:pathLst>
              <a:path w="3211766" h="656272">
                <a:moveTo>
                  <a:pt x="3132213" y="656272"/>
                </a:moveTo>
                <a:lnTo>
                  <a:pt x="79552" y="656272"/>
                </a:lnTo>
                <a:cubicBezTo>
                  <a:pt x="35801" y="656272"/>
                  <a:pt x="0" y="620471"/>
                  <a:pt x="0" y="576719"/>
                </a:cubicBezTo>
                <a:lnTo>
                  <a:pt x="0" y="79552"/>
                </a:lnTo>
                <a:cubicBezTo>
                  <a:pt x="0" y="35801"/>
                  <a:pt x="35801" y="0"/>
                  <a:pt x="79552" y="0"/>
                </a:cubicBezTo>
                <a:lnTo>
                  <a:pt x="3132213" y="0"/>
                </a:lnTo>
                <a:cubicBezTo>
                  <a:pt x="3175965" y="0"/>
                  <a:pt x="3211766" y="35801"/>
                  <a:pt x="3211766" y="79552"/>
                </a:cubicBezTo>
                <a:lnTo>
                  <a:pt x="3211766" y="576719"/>
                </a:lnTo>
                <a:cubicBezTo>
                  <a:pt x="3211766" y="620471"/>
                  <a:pt x="3175965" y="656272"/>
                  <a:pt x="3132213" y="656272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722880" y="3489480"/>
            <a:ext cx="3098880" cy="536760"/>
          </a:xfrm>
          <a:custGeom>
            <a:avLst/>
            <a:gdLst>
              <a:gd name="textAreaLeft" fmla="*/ 0 w 3098880"/>
              <a:gd name="textAreaRight" fmla="*/ 3099240 w 309888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3099308" h="536955">
                <a:moveTo>
                  <a:pt x="3045663" y="536955"/>
                </a:moveTo>
                <a:lnTo>
                  <a:pt x="53644" y="536955"/>
                </a:lnTo>
                <a:cubicBezTo>
                  <a:pt x="24142" y="536955"/>
                  <a:pt x="0" y="512813"/>
                  <a:pt x="0" y="483311"/>
                </a:cubicBezTo>
                <a:lnTo>
                  <a:pt x="0" y="53657"/>
                </a:lnTo>
                <a:cubicBezTo>
                  <a:pt x="0" y="24142"/>
                  <a:pt x="24142" y="0"/>
                  <a:pt x="53644" y="0"/>
                </a:cubicBezTo>
                <a:lnTo>
                  <a:pt x="3045663" y="0"/>
                </a:lnTo>
                <a:cubicBezTo>
                  <a:pt x="3075165" y="0"/>
                  <a:pt x="3099308" y="24142"/>
                  <a:pt x="3099308" y="53657"/>
                </a:cubicBezTo>
                <a:lnTo>
                  <a:pt x="3099308" y="483311"/>
                </a:lnTo>
                <a:cubicBezTo>
                  <a:pt x="3099308" y="512813"/>
                  <a:pt x="3075165" y="536955"/>
                  <a:pt x="3045663" y="536955"/>
                </a:cubicBezTo>
              </a:path>
            </a:pathLst>
          </a:custGeom>
          <a:solidFill>
            <a:srgbClr val="f1f6f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1314000" y="3683880"/>
            <a:ext cx="151200" cy="151200"/>
          </a:xfrm>
          <a:custGeom>
            <a:avLst/>
            <a:gdLst>
              <a:gd name="textAreaLeft" fmla="*/ 0 w 151200"/>
              <a:gd name="textAreaRight" fmla="*/ 151560 w 15120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151739" h="151739">
                <a:moveTo>
                  <a:pt x="151739" y="75869"/>
                </a:moveTo>
                <a:cubicBezTo>
                  <a:pt x="151739" y="117779"/>
                  <a:pt x="117767" y="151739"/>
                  <a:pt x="75869" y="151739"/>
                </a:cubicBezTo>
                <a:cubicBezTo>
                  <a:pt x="33959" y="151739"/>
                  <a:pt x="0" y="117779"/>
                  <a:pt x="0" y="75869"/>
                </a:cubicBezTo>
                <a:cubicBezTo>
                  <a:pt x="0" y="33972"/>
                  <a:pt x="33959" y="0"/>
                  <a:pt x="75869" y="0"/>
                </a:cubicBezTo>
                <a:cubicBezTo>
                  <a:pt x="117767" y="0"/>
                  <a:pt x="151739" y="33972"/>
                  <a:pt x="151739" y="75869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1620720" y="3683880"/>
            <a:ext cx="151200" cy="151200"/>
          </a:xfrm>
          <a:custGeom>
            <a:avLst/>
            <a:gdLst>
              <a:gd name="textAreaLeft" fmla="*/ 0 w 151200"/>
              <a:gd name="textAreaRight" fmla="*/ 151560 w 15120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151739" h="151739">
                <a:moveTo>
                  <a:pt x="151739" y="75869"/>
                </a:moveTo>
                <a:cubicBezTo>
                  <a:pt x="151739" y="117779"/>
                  <a:pt x="117767" y="151739"/>
                  <a:pt x="75869" y="151739"/>
                </a:cubicBezTo>
                <a:cubicBezTo>
                  <a:pt x="33959" y="151739"/>
                  <a:pt x="0" y="117779"/>
                  <a:pt x="0" y="75869"/>
                </a:cubicBezTo>
                <a:cubicBezTo>
                  <a:pt x="0" y="33972"/>
                  <a:pt x="33959" y="0"/>
                  <a:pt x="75869" y="0"/>
                </a:cubicBezTo>
                <a:cubicBezTo>
                  <a:pt x="117767" y="0"/>
                  <a:pt x="151739" y="33972"/>
                  <a:pt x="151739" y="75869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1937520" y="3683880"/>
            <a:ext cx="151200" cy="151200"/>
          </a:xfrm>
          <a:custGeom>
            <a:avLst/>
            <a:gdLst>
              <a:gd name="textAreaLeft" fmla="*/ 0 w 151200"/>
              <a:gd name="textAreaRight" fmla="*/ 151560 w 15120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151739" h="151739">
                <a:moveTo>
                  <a:pt x="151739" y="75869"/>
                </a:moveTo>
                <a:cubicBezTo>
                  <a:pt x="151739" y="117779"/>
                  <a:pt x="117767" y="151739"/>
                  <a:pt x="75869" y="151739"/>
                </a:cubicBezTo>
                <a:cubicBezTo>
                  <a:pt x="33959" y="151739"/>
                  <a:pt x="0" y="117779"/>
                  <a:pt x="0" y="75869"/>
                </a:cubicBezTo>
                <a:cubicBezTo>
                  <a:pt x="0" y="33972"/>
                  <a:pt x="33959" y="0"/>
                  <a:pt x="75869" y="0"/>
                </a:cubicBezTo>
                <a:cubicBezTo>
                  <a:pt x="117767" y="0"/>
                  <a:pt x="151739" y="33972"/>
                  <a:pt x="151739" y="75869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2244240" y="3683880"/>
            <a:ext cx="151200" cy="151200"/>
          </a:xfrm>
          <a:custGeom>
            <a:avLst/>
            <a:gdLst>
              <a:gd name="textAreaLeft" fmla="*/ 0 w 151200"/>
              <a:gd name="textAreaRight" fmla="*/ 151560 w 15120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151739" h="151739">
                <a:moveTo>
                  <a:pt x="151739" y="75869"/>
                </a:moveTo>
                <a:cubicBezTo>
                  <a:pt x="151739" y="117779"/>
                  <a:pt x="117767" y="151739"/>
                  <a:pt x="75869" y="151739"/>
                </a:cubicBezTo>
                <a:cubicBezTo>
                  <a:pt x="33959" y="151739"/>
                  <a:pt x="0" y="117779"/>
                  <a:pt x="0" y="75869"/>
                </a:cubicBezTo>
                <a:cubicBezTo>
                  <a:pt x="0" y="33972"/>
                  <a:pt x="33959" y="0"/>
                  <a:pt x="75869" y="0"/>
                </a:cubicBezTo>
                <a:cubicBezTo>
                  <a:pt x="117767" y="0"/>
                  <a:pt x="151739" y="33972"/>
                  <a:pt x="151739" y="75869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2567520" y="3683880"/>
            <a:ext cx="151200" cy="151200"/>
          </a:xfrm>
          <a:custGeom>
            <a:avLst/>
            <a:gdLst>
              <a:gd name="textAreaLeft" fmla="*/ 0 w 151200"/>
              <a:gd name="textAreaRight" fmla="*/ 151560 w 15120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151739" h="151739">
                <a:moveTo>
                  <a:pt x="151739" y="75869"/>
                </a:moveTo>
                <a:cubicBezTo>
                  <a:pt x="151739" y="117779"/>
                  <a:pt x="117767" y="151739"/>
                  <a:pt x="75869" y="151739"/>
                </a:cubicBezTo>
                <a:cubicBezTo>
                  <a:pt x="33959" y="151739"/>
                  <a:pt x="0" y="117779"/>
                  <a:pt x="0" y="75869"/>
                </a:cubicBezTo>
                <a:cubicBezTo>
                  <a:pt x="0" y="33972"/>
                  <a:pt x="33959" y="0"/>
                  <a:pt x="75869" y="0"/>
                </a:cubicBezTo>
                <a:cubicBezTo>
                  <a:pt x="117767" y="0"/>
                  <a:pt x="151739" y="33972"/>
                  <a:pt x="151739" y="75869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2752200" y="3531240"/>
            <a:ext cx="29520" cy="453240"/>
          </a:xfrm>
          <a:custGeom>
            <a:avLst/>
            <a:gdLst>
              <a:gd name="textAreaLeft" fmla="*/ 0 w 29520"/>
              <a:gd name="textAreaRight" fmla="*/ 29880 w 29520"/>
              <a:gd name="textAreaTop" fmla="*/ 0 h 453240"/>
              <a:gd name="textAreaBottom" fmla="*/ 453600 h 453240"/>
            </a:gdLst>
            <a:ahLst/>
            <a:rect l="textAreaLeft" t="textAreaTop" r="textAreaRight" b="textAreaBottom"/>
            <a:pathLst>
              <a:path w="29997" h="453732">
                <a:moveTo>
                  <a:pt x="7499" y="7499"/>
                </a:moveTo>
                <a:lnTo>
                  <a:pt x="7499" y="446233"/>
                </a:lnTo>
              </a:path>
            </a:pathLst>
          </a:custGeom>
          <a:noFill/>
          <a:ln w="12700">
            <a:solidFill>
              <a:srgbClr val="132734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878040" y="3571920"/>
            <a:ext cx="209880" cy="139680"/>
          </a:xfrm>
          <a:custGeom>
            <a:avLst/>
            <a:gdLst>
              <a:gd name="textAreaLeft" fmla="*/ 0 w 209880"/>
              <a:gd name="textAreaRight" fmla="*/ 210240 w 2098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10210" h="139903">
                <a:moveTo>
                  <a:pt x="39903" y="139903"/>
                </a:moveTo>
                <a:lnTo>
                  <a:pt x="39903" y="63411"/>
                </a:lnTo>
                <a:cubicBezTo>
                  <a:pt x="39903" y="50660"/>
                  <a:pt x="50330" y="40246"/>
                  <a:pt x="63068" y="40246"/>
                </a:cubicBezTo>
                <a:lnTo>
                  <a:pt x="147142" y="40246"/>
                </a:lnTo>
                <a:cubicBezTo>
                  <a:pt x="159880" y="40246"/>
                  <a:pt x="170306" y="50660"/>
                  <a:pt x="170306" y="63411"/>
                </a:cubicBezTo>
                <a:lnTo>
                  <a:pt x="170306" y="139903"/>
                </a:lnTo>
                <a:lnTo>
                  <a:pt x="210210" y="139903"/>
                </a:lnTo>
                <a:lnTo>
                  <a:pt x="210210" y="55981"/>
                </a:lnTo>
                <a:cubicBezTo>
                  <a:pt x="210210" y="25184"/>
                  <a:pt x="185013" y="0"/>
                  <a:pt x="154228" y="0"/>
                </a:cubicBezTo>
                <a:lnTo>
                  <a:pt x="55981" y="0"/>
                </a:lnTo>
                <a:cubicBezTo>
                  <a:pt x="25184" y="0"/>
                  <a:pt x="0" y="25184"/>
                  <a:pt x="0" y="55981"/>
                </a:cubicBezTo>
                <a:lnTo>
                  <a:pt x="0" y="139903"/>
                </a:lnTo>
                <a:lnTo>
                  <a:pt x="39903" y="139903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0" y="658440"/>
            <a:ext cx="3702960" cy="594000"/>
          </a:xfrm>
          <a:custGeom>
            <a:avLst/>
            <a:gdLst>
              <a:gd name="textAreaLeft" fmla="*/ 0 w 3702960"/>
              <a:gd name="textAreaRight" fmla="*/ 3703320 w 370296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3703320" h="594359">
                <a:moveTo>
                  <a:pt x="0" y="594359"/>
                </a:moveTo>
                <a:lnTo>
                  <a:pt x="3703320" y="594359"/>
                </a:lnTo>
                <a:lnTo>
                  <a:pt x="3703320" y="0"/>
                </a:lnTo>
                <a:lnTo>
                  <a:pt x="0" y="0"/>
                </a:lnTo>
                <a:lnTo>
                  <a:pt x="0" y="594359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0" y="1088280"/>
            <a:ext cx="2756520" cy="594000"/>
          </a:xfrm>
          <a:custGeom>
            <a:avLst/>
            <a:gdLst>
              <a:gd name="textAreaLeft" fmla="*/ 0 w 2756520"/>
              <a:gd name="textAreaRight" fmla="*/ 2756880 w 275652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2756916" h="594359">
                <a:moveTo>
                  <a:pt x="0" y="594359"/>
                </a:moveTo>
                <a:lnTo>
                  <a:pt x="2756916" y="594359"/>
                </a:lnTo>
                <a:lnTo>
                  <a:pt x="2756916" y="0"/>
                </a:lnTo>
                <a:lnTo>
                  <a:pt x="0" y="0"/>
                </a:lnTo>
                <a:lnTo>
                  <a:pt x="0" y="594359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825480" y="863640"/>
            <a:ext cx="2057040" cy="304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812880" y="1320840"/>
            <a:ext cx="1739520" cy="304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825480" y="3720960"/>
            <a:ext cx="317160" cy="240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4"/>
          <a:stretch/>
        </p:blipFill>
        <p:spPr>
          <a:xfrm>
            <a:off x="4572000" y="266688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5"/>
          <a:stretch/>
        </p:blipFill>
        <p:spPr>
          <a:xfrm>
            <a:off x="4572000" y="334008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6"/>
          <a:stretch/>
        </p:blipFill>
        <p:spPr>
          <a:xfrm>
            <a:off x="4572000" y="438156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7"/>
          <a:stretch/>
        </p:blipFill>
        <p:spPr>
          <a:xfrm>
            <a:off x="4863960" y="2590920"/>
            <a:ext cx="6489360" cy="317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8"/>
          <a:stretch/>
        </p:blipFill>
        <p:spPr>
          <a:xfrm>
            <a:off x="4863960" y="3251160"/>
            <a:ext cx="6552720" cy="317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9"/>
          <a:stretch/>
        </p:blipFill>
        <p:spPr>
          <a:xfrm>
            <a:off x="4838760" y="3632040"/>
            <a:ext cx="5155920" cy="317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10"/>
          <a:stretch/>
        </p:blipFill>
        <p:spPr>
          <a:xfrm>
            <a:off x="4851360" y="4305240"/>
            <a:ext cx="6019560" cy="317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11"/>
          <a:stretch/>
        </p:blipFill>
        <p:spPr>
          <a:xfrm>
            <a:off x="4851360" y="4686480"/>
            <a:ext cx="2031480" cy="25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3"/>
          <p:cNvSpPr/>
          <p:nvPr/>
        </p:nvSpPr>
        <p:spPr>
          <a:xfrm>
            <a:off x="0" y="0"/>
            <a:ext cx="12191760" cy="68576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1974" h="6858000">
                <a:moveTo>
                  <a:pt x="0" y="6858000"/>
                </a:moveTo>
                <a:lnTo>
                  <a:pt x="12191974" y="6858000"/>
                </a:lnTo>
                <a:lnTo>
                  <a:pt x="12191974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1a60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1096200" y="2569320"/>
            <a:ext cx="2370960" cy="1570680"/>
          </a:xfrm>
          <a:custGeom>
            <a:avLst/>
            <a:gdLst>
              <a:gd name="textAreaLeft" fmla="*/ 0 w 2370960"/>
              <a:gd name="textAreaRight" fmla="*/ 2371320 w 2370960"/>
              <a:gd name="textAreaTop" fmla="*/ 0 h 1570680"/>
              <a:gd name="textAreaBottom" fmla="*/ 1571040 h 1570680"/>
            </a:gdLst>
            <a:ahLst/>
            <a:rect l="textAreaLeft" t="textAreaTop" r="textAreaRight" b="textAreaBottom"/>
            <a:pathLst>
              <a:path w="2371496" h="1571131">
                <a:moveTo>
                  <a:pt x="1069632" y="1571131"/>
                </a:moveTo>
                <a:cubicBezTo>
                  <a:pt x="1069632" y="1561860"/>
                  <a:pt x="1470990" y="1446010"/>
                  <a:pt x="1470990" y="1446010"/>
                </a:cubicBezTo>
                <a:lnTo>
                  <a:pt x="2371496" y="744475"/>
                </a:lnTo>
                <a:lnTo>
                  <a:pt x="1360081" y="61431"/>
                </a:lnTo>
                <a:cubicBezTo>
                  <a:pt x="1239989" y="-14552"/>
                  <a:pt x="1164018" y="-34161"/>
                  <a:pt x="988783" y="84710"/>
                </a:cubicBezTo>
                <a:lnTo>
                  <a:pt x="0" y="728435"/>
                </a:lnTo>
                <a:cubicBezTo>
                  <a:pt x="253517" y="912827"/>
                  <a:pt x="1069632" y="1579056"/>
                  <a:pt x="1069632" y="1571131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1783080" y="2569320"/>
            <a:ext cx="954000" cy="634680"/>
          </a:xfrm>
          <a:custGeom>
            <a:avLst/>
            <a:gdLst>
              <a:gd name="textAreaLeft" fmla="*/ 0 w 954000"/>
              <a:gd name="textAreaRight" fmla="*/ 954360 w 954000"/>
              <a:gd name="textAreaTop" fmla="*/ 0 h 634680"/>
              <a:gd name="textAreaBottom" fmla="*/ 635040 h 634680"/>
            </a:gdLst>
            <a:ahLst/>
            <a:rect l="textAreaLeft" t="textAreaTop" r="textAreaRight" b="textAreaBottom"/>
            <a:pathLst>
              <a:path w="954405" h="635190">
                <a:moveTo>
                  <a:pt x="181190" y="635190"/>
                </a:moveTo>
                <a:lnTo>
                  <a:pt x="181190" y="287896"/>
                </a:lnTo>
                <a:cubicBezTo>
                  <a:pt x="181190" y="230047"/>
                  <a:pt x="228523" y="182714"/>
                  <a:pt x="286372" y="182714"/>
                </a:cubicBezTo>
                <a:lnTo>
                  <a:pt x="668045" y="182714"/>
                </a:lnTo>
                <a:cubicBezTo>
                  <a:pt x="725881" y="182714"/>
                  <a:pt x="773214" y="230047"/>
                  <a:pt x="773214" y="287896"/>
                </a:cubicBezTo>
                <a:lnTo>
                  <a:pt x="773214" y="635190"/>
                </a:lnTo>
                <a:lnTo>
                  <a:pt x="954405" y="635190"/>
                </a:lnTo>
                <a:lnTo>
                  <a:pt x="954405" y="254177"/>
                </a:lnTo>
                <a:cubicBezTo>
                  <a:pt x="954405" y="114376"/>
                  <a:pt x="840028" y="0"/>
                  <a:pt x="700227" y="0"/>
                </a:cubicBezTo>
                <a:lnTo>
                  <a:pt x="254177" y="0"/>
                </a:lnTo>
                <a:cubicBezTo>
                  <a:pt x="114388" y="0"/>
                  <a:pt x="0" y="114376"/>
                  <a:pt x="0" y="254177"/>
                </a:cubicBezTo>
                <a:lnTo>
                  <a:pt x="0" y="635190"/>
                </a:lnTo>
                <a:lnTo>
                  <a:pt x="181190" y="635190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1049760" y="3345120"/>
            <a:ext cx="2469600" cy="1407960"/>
          </a:xfrm>
          <a:custGeom>
            <a:avLst/>
            <a:gdLst>
              <a:gd name="textAreaLeft" fmla="*/ 0 w 2469600"/>
              <a:gd name="textAreaRight" fmla="*/ 2469960 w 2469600"/>
              <a:gd name="textAreaTop" fmla="*/ 0 h 1407960"/>
              <a:gd name="textAreaBottom" fmla="*/ 1408320 h 1407960"/>
            </a:gdLst>
            <a:ahLst/>
            <a:rect l="textAreaLeft" t="textAreaTop" r="textAreaRight" b="textAreaBottom"/>
            <a:pathLst>
              <a:path w="2470010" h="1408404">
                <a:moveTo>
                  <a:pt x="2451137" y="0"/>
                </a:moveTo>
                <a:lnTo>
                  <a:pt x="1333436" y="868426"/>
                </a:lnTo>
                <a:lnTo>
                  <a:pt x="1254137" y="868426"/>
                </a:lnTo>
                <a:lnTo>
                  <a:pt x="1215872" y="868426"/>
                </a:lnTo>
                <a:lnTo>
                  <a:pt x="1136561" y="868426"/>
                </a:lnTo>
                <a:lnTo>
                  <a:pt x="18872" y="0"/>
                </a:lnTo>
                <a:cubicBezTo>
                  <a:pt x="7238" y="14694"/>
                  <a:pt x="0" y="33032"/>
                  <a:pt x="0" y="53225"/>
                </a:cubicBezTo>
                <a:lnTo>
                  <a:pt x="0" y="1322184"/>
                </a:lnTo>
                <a:cubicBezTo>
                  <a:pt x="0" y="1369796"/>
                  <a:pt x="38595" y="1408404"/>
                  <a:pt x="86220" y="1408404"/>
                </a:cubicBezTo>
                <a:lnTo>
                  <a:pt x="1215872" y="1408404"/>
                </a:lnTo>
                <a:lnTo>
                  <a:pt x="1254137" y="1408404"/>
                </a:lnTo>
                <a:lnTo>
                  <a:pt x="2383790" y="1408404"/>
                </a:lnTo>
                <a:cubicBezTo>
                  <a:pt x="2431415" y="1408404"/>
                  <a:pt x="2470010" y="1369796"/>
                  <a:pt x="2470010" y="1322184"/>
                </a:cubicBezTo>
                <a:lnTo>
                  <a:pt x="2470010" y="53225"/>
                </a:lnTo>
                <a:cubicBezTo>
                  <a:pt x="2470010" y="33032"/>
                  <a:pt x="2462771" y="14694"/>
                  <a:pt x="2451137" y="0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0" y="658440"/>
            <a:ext cx="2213640" cy="594000"/>
          </a:xfrm>
          <a:custGeom>
            <a:avLst/>
            <a:gdLst>
              <a:gd name="textAreaLeft" fmla="*/ 0 w 2213640"/>
              <a:gd name="textAreaRight" fmla="*/ 2214000 w 221364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2213978" h="594359">
                <a:moveTo>
                  <a:pt x="0" y="594359"/>
                </a:moveTo>
                <a:lnTo>
                  <a:pt x="2213978" y="594359"/>
                </a:lnTo>
                <a:lnTo>
                  <a:pt x="2213978" y="0"/>
                </a:lnTo>
                <a:lnTo>
                  <a:pt x="0" y="0"/>
                </a:lnTo>
                <a:lnTo>
                  <a:pt x="0" y="594359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0" y="1088280"/>
            <a:ext cx="2756520" cy="594000"/>
          </a:xfrm>
          <a:custGeom>
            <a:avLst/>
            <a:gdLst>
              <a:gd name="textAreaLeft" fmla="*/ 0 w 2756520"/>
              <a:gd name="textAreaRight" fmla="*/ 2756880 w 275652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2756916" h="594359">
                <a:moveTo>
                  <a:pt x="0" y="594359"/>
                </a:moveTo>
                <a:lnTo>
                  <a:pt x="2756916" y="594359"/>
                </a:lnTo>
                <a:lnTo>
                  <a:pt x="2756916" y="0"/>
                </a:lnTo>
                <a:lnTo>
                  <a:pt x="0" y="0"/>
                </a:lnTo>
                <a:lnTo>
                  <a:pt x="0" y="594359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812880" y="863640"/>
            <a:ext cx="1091880" cy="304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812880" y="1320840"/>
            <a:ext cx="1739520" cy="304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1612800" y="3301920"/>
            <a:ext cx="1345680" cy="990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4"/>
          <a:stretch/>
        </p:blipFill>
        <p:spPr>
          <a:xfrm>
            <a:off x="4572000" y="199404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5"/>
          <a:stretch/>
        </p:blipFill>
        <p:spPr>
          <a:xfrm>
            <a:off x="4572000" y="266688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6"/>
          <a:stretch/>
        </p:blipFill>
        <p:spPr>
          <a:xfrm>
            <a:off x="4572000" y="370836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7"/>
          <a:stretch/>
        </p:blipFill>
        <p:spPr>
          <a:xfrm>
            <a:off x="4572000" y="514368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8"/>
          <a:stretch/>
        </p:blipFill>
        <p:spPr>
          <a:xfrm>
            <a:off x="4863960" y="1917720"/>
            <a:ext cx="5930640" cy="317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9"/>
          <a:stretch/>
        </p:blipFill>
        <p:spPr>
          <a:xfrm>
            <a:off x="4863960" y="2577960"/>
            <a:ext cx="6426000" cy="317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10"/>
          <a:stretch/>
        </p:blipFill>
        <p:spPr>
          <a:xfrm>
            <a:off x="4851360" y="2971800"/>
            <a:ext cx="1802880" cy="240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11"/>
          <a:stretch/>
        </p:blipFill>
        <p:spPr>
          <a:xfrm>
            <a:off x="4863960" y="3632040"/>
            <a:ext cx="6717960" cy="317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12"/>
          <a:stretch/>
        </p:blipFill>
        <p:spPr>
          <a:xfrm>
            <a:off x="4863960" y="4013280"/>
            <a:ext cx="6248160" cy="317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13"/>
          <a:stretch/>
        </p:blipFill>
        <p:spPr>
          <a:xfrm>
            <a:off x="4838760" y="4394160"/>
            <a:ext cx="3758760" cy="317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14"/>
          <a:stretch/>
        </p:blipFill>
        <p:spPr>
          <a:xfrm>
            <a:off x="4838760" y="5067360"/>
            <a:ext cx="379692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3"/>
          <p:cNvSpPr/>
          <p:nvPr/>
        </p:nvSpPr>
        <p:spPr>
          <a:xfrm>
            <a:off x="0" y="0"/>
            <a:ext cx="12191760" cy="68576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1974" h="6858000">
                <a:moveTo>
                  <a:pt x="0" y="6858000"/>
                </a:moveTo>
                <a:lnTo>
                  <a:pt x="12191974" y="6858000"/>
                </a:lnTo>
                <a:lnTo>
                  <a:pt x="12191974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1a60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914400" y="2807280"/>
            <a:ext cx="2598840" cy="18651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1865160"/>
              <a:gd name="textAreaBottom" fmla="*/ 1865520 h 1865160"/>
            </a:gdLst>
            <a:ahLst/>
            <a:rect l="textAreaLeft" t="textAreaTop" r="textAreaRight" b="textAreaBottom"/>
            <a:pathLst>
              <a:path w="2599156" h="1865376">
                <a:moveTo>
                  <a:pt x="2519006" y="1865376"/>
                </a:moveTo>
                <a:lnTo>
                  <a:pt x="80149" y="1865376"/>
                </a:lnTo>
                <a:cubicBezTo>
                  <a:pt x="36067" y="1865376"/>
                  <a:pt x="0" y="1829307"/>
                  <a:pt x="0" y="1785226"/>
                </a:cubicBezTo>
                <a:lnTo>
                  <a:pt x="0" y="80149"/>
                </a:lnTo>
                <a:cubicBezTo>
                  <a:pt x="0" y="36068"/>
                  <a:pt x="36067" y="0"/>
                  <a:pt x="80149" y="0"/>
                </a:cubicBezTo>
                <a:lnTo>
                  <a:pt x="2519006" y="0"/>
                </a:lnTo>
                <a:cubicBezTo>
                  <a:pt x="2563088" y="0"/>
                  <a:pt x="2599156" y="36068"/>
                  <a:pt x="2599156" y="80149"/>
                </a:cubicBezTo>
                <a:lnTo>
                  <a:pt x="2599156" y="1785226"/>
                </a:lnTo>
                <a:cubicBezTo>
                  <a:pt x="2599156" y="1829307"/>
                  <a:pt x="2563088" y="1865376"/>
                  <a:pt x="2519006" y="1865376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1052640" y="2918520"/>
            <a:ext cx="77040" cy="86040"/>
          </a:xfrm>
          <a:custGeom>
            <a:avLst/>
            <a:gdLst>
              <a:gd name="textAreaLeft" fmla="*/ 0 w 77040"/>
              <a:gd name="textAreaRight" fmla="*/ 77400 w 7704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77393" h="86398">
                <a:moveTo>
                  <a:pt x="77393" y="86398"/>
                </a:moveTo>
                <a:lnTo>
                  <a:pt x="0" y="41719"/>
                </a:lnTo>
                <a:lnTo>
                  <a:pt x="75679" y="0"/>
                </a:lnTo>
                <a:lnTo>
                  <a:pt x="77393" y="86398"/>
                </a:lnTo>
              </a:path>
            </a:pathLst>
          </a:custGeom>
          <a:solidFill>
            <a:srgbClr val="b8d1c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400" bIns="41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1188360" y="2918520"/>
            <a:ext cx="77040" cy="86040"/>
          </a:xfrm>
          <a:custGeom>
            <a:avLst/>
            <a:gdLst>
              <a:gd name="textAreaLeft" fmla="*/ 0 w 77040"/>
              <a:gd name="textAreaRight" fmla="*/ 77400 w 7704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77393" h="86398">
                <a:moveTo>
                  <a:pt x="0" y="86398"/>
                </a:moveTo>
                <a:lnTo>
                  <a:pt x="77393" y="41719"/>
                </a:lnTo>
                <a:lnTo>
                  <a:pt x="1714" y="0"/>
                </a:lnTo>
                <a:lnTo>
                  <a:pt x="0" y="86398"/>
                </a:lnTo>
              </a:path>
            </a:pathLst>
          </a:custGeom>
          <a:solidFill>
            <a:srgbClr val="b8d1c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400" bIns="41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3034800" y="2927520"/>
            <a:ext cx="75960" cy="75960"/>
          </a:xfrm>
          <a:custGeom>
            <a:avLst/>
            <a:gdLst>
              <a:gd name="textAreaLeft" fmla="*/ 0 w 75960"/>
              <a:gd name="textAreaRight" fmla="*/ 76320 w 75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6441" h="76428">
                <a:moveTo>
                  <a:pt x="76441" y="38214"/>
                </a:moveTo>
                <a:cubicBezTo>
                  <a:pt x="76441" y="59321"/>
                  <a:pt x="59334" y="76428"/>
                  <a:pt x="38226" y="76428"/>
                </a:cubicBezTo>
                <a:cubicBezTo>
                  <a:pt x="17119" y="76428"/>
                  <a:pt x="0" y="59321"/>
                  <a:pt x="0" y="38214"/>
                </a:cubicBezTo>
                <a:cubicBezTo>
                  <a:pt x="0" y="17106"/>
                  <a:pt x="17119" y="0"/>
                  <a:pt x="38226" y="0"/>
                </a:cubicBezTo>
                <a:cubicBezTo>
                  <a:pt x="59334" y="0"/>
                  <a:pt x="76441" y="17106"/>
                  <a:pt x="76441" y="38214"/>
                </a:cubicBezTo>
              </a:path>
            </a:pathLst>
          </a:custGeom>
          <a:solidFill>
            <a:srgbClr val="b8d1c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3160080" y="2927520"/>
            <a:ext cx="75960" cy="75960"/>
          </a:xfrm>
          <a:custGeom>
            <a:avLst/>
            <a:gdLst>
              <a:gd name="textAreaLeft" fmla="*/ 0 w 75960"/>
              <a:gd name="textAreaRight" fmla="*/ 76320 w 75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6441" h="76428">
                <a:moveTo>
                  <a:pt x="76441" y="38214"/>
                </a:moveTo>
                <a:cubicBezTo>
                  <a:pt x="76441" y="59321"/>
                  <a:pt x="59334" y="76428"/>
                  <a:pt x="38227" y="76428"/>
                </a:cubicBezTo>
                <a:cubicBezTo>
                  <a:pt x="17119" y="76428"/>
                  <a:pt x="0" y="59321"/>
                  <a:pt x="0" y="38214"/>
                </a:cubicBezTo>
                <a:cubicBezTo>
                  <a:pt x="0" y="17106"/>
                  <a:pt x="17119" y="0"/>
                  <a:pt x="38227" y="0"/>
                </a:cubicBezTo>
                <a:cubicBezTo>
                  <a:pt x="59334" y="0"/>
                  <a:pt x="76441" y="17106"/>
                  <a:pt x="76441" y="38214"/>
                </a:cubicBezTo>
              </a:path>
            </a:pathLst>
          </a:custGeom>
          <a:solidFill>
            <a:srgbClr val="b8d1c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3283560" y="2927520"/>
            <a:ext cx="75960" cy="75960"/>
          </a:xfrm>
          <a:custGeom>
            <a:avLst/>
            <a:gdLst>
              <a:gd name="textAreaLeft" fmla="*/ 0 w 75960"/>
              <a:gd name="textAreaRight" fmla="*/ 76320 w 75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6441" h="76428">
                <a:moveTo>
                  <a:pt x="76441" y="38214"/>
                </a:moveTo>
                <a:cubicBezTo>
                  <a:pt x="76441" y="59321"/>
                  <a:pt x="59334" y="76428"/>
                  <a:pt x="38227" y="76428"/>
                </a:cubicBezTo>
                <a:cubicBezTo>
                  <a:pt x="17119" y="76428"/>
                  <a:pt x="0" y="59321"/>
                  <a:pt x="0" y="38214"/>
                </a:cubicBezTo>
                <a:cubicBezTo>
                  <a:pt x="0" y="17106"/>
                  <a:pt x="17119" y="0"/>
                  <a:pt x="38227" y="0"/>
                </a:cubicBezTo>
                <a:cubicBezTo>
                  <a:pt x="59334" y="0"/>
                  <a:pt x="76441" y="17106"/>
                  <a:pt x="76441" y="38214"/>
                </a:cubicBezTo>
              </a:path>
            </a:pathLst>
          </a:custGeom>
          <a:solidFill>
            <a:srgbClr val="b8d1c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916920" y="3085200"/>
            <a:ext cx="2593800" cy="248040"/>
          </a:xfrm>
          <a:custGeom>
            <a:avLst/>
            <a:gdLst>
              <a:gd name="textAreaLeft" fmla="*/ 0 w 2593800"/>
              <a:gd name="textAreaRight" fmla="*/ 2594160 w 2593800"/>
              <a:gd name="textAreaTop" fmla="*/ 0 h 248040"/>
              <a:gd name="textAreaBottom" fmla="*/ 248400 h 248040"/>
            </a:gdLst>
            <a:ahLst/>
            <a:rect l="textAreaLeft" t="textAreaTop" r="textAreaRight" b="textAreaBottom"/>
            <a:pathLst>
              <a:path w="2594114" h="248462">
                <a:moveTo>
                  <a:pt x="2594114" y="248462"/>
                </a:moveTo>
                <a:lnTo>
                  <a:pt x="0" y="248462"/>
                </a:lnTo>
                <a:lnTo>
                  <a:pt x="0" y="0"/>
                </a:lnTo>
                <a:lnTo>
                  <a:pt x="2594114" y="0"/>
                </a:lnTo>
                <a:lnTo>
                  <a:pt x="2594114" y="248462"/>
                </a:lnTo>
              </a:path>
            </a:pathLst>
          </a:custGeom>
          <a:solidFill>
            <a:srgbClr val="b6b2a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1070280" y="3456720"/>
            <a:ext cx="741240" cy="565920"/>
          </a:xfrm>
          <a:custGeom>
            <a:avLst/>
            <a:gdLst>
              <a:gd name="textAreaLeft" fmla="*/ 0 w 741240"/>
              <a:gd name="textAreaRight" fmla="*/ 741600 w 741240"/>
              <a:gd name="textAreaTop" fmla="*/ 0 h 565920"/>
              <a:gd name="textAreaBottom" fmla="*/ 566280 h 565920"/>
            </a:gdLst>
            <a:ahLst/>
            <a:rect l="textAreaLeft" t="textAreaTop" r="textAreaRight" b="textAreaBottom"/>
            <a:pathLst>
              <a:path w="741743" h="566382">
                <a:moveTo>
                  <a:pt x="741743" y="566382"/>
                </a:moveTo>
                <a:lnTo>
                  <a:pt x="0" y="566382"/>
                </a:lnTo>
                <a:lnTo>
                  <a:pt x="0" y="0"/>
                </a:lnTo>
                <a:lnTo>
                  <a:pt x="741743" y="0"/>
                </a:lnTo>
                <a:lnTo>
                  <a:pt x="741743" y="566382"/>
                </a:lnTo>
              </a:path>
            </a:pathLst>
          </a:custGeom>
          <a:solidFill>
            <a:srgbClr val="f1f6f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1945440" y="3559320"/>
            <a:ext cx="1431720" cy="8244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431975" h="82816">
                <a:moveTo>
                  <a:pt x="1431975" y="82816"/>
                </a:moveTo>
                <a:lnTo>
                  <a:pt x="0" y="82816"/>
                </a:lnTo>
                <a:lnTo>
                  <a:pt x="0" y="0"/>
                </a:lnTo>
                <a:lnTo>
                  <a:pt x="1431975" y="0"/>
                </a:lnTo>
                <a:lnTo>
                  <a:pt x="1431975" y="82816"/>
                </a:lnTo>
              </a:path>
            </a:pathLst>
          </a:custGeom>
          <a:solidFill>
            <a:srgbClr val="f1f6f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1945440" y="3772080"/>
            <a:ext cx="1431720" cy="8244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431975" h="82816">
                <a:moveTo>
                  <a:pt x="1431975" y="82816"/>
                </a:moveTo>
                <a:lnTo>
                  <a:pt x="0" y="82816"/>
                </a:lnTo>
                <a:lnTo>
                  <a:pt x="0" y="0"/>
                </a:lnTo>
                <a:lnTo>
                  <a:pt x="1431975" y="0"/>
                </a:lnTo>
                <a:lnTo>
                  <a:pt x="1431975" y="82816"/>
                </a:lnTo>
              </a:path>
            </a:pathLst>
          </a:custGeom>
          <a:solidFill>
            <a:srgbClr val="f1f6f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1070280" y="4167000"/>
            <a:ext cx="2306880" cy="82440"/>
          </a:xfrm>
          <a:custGeom>
            <a:avLst/>
            <a:gdLst>
              <a:gd name="textAreaLeft" fmla="*/ 0 w 2306880"/>
              <a:gd name="textAreaRight" fmla="*/ 2307240 w 230688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307297" h="82816">
                <a:moveTo>
                  <a:pt x="2307297" y="82816"/>
                </a:moveTo>
                <a:lnTo>
                  <a:pt x="0" y="82816"/>
                </a:lnTo>
                <a:lnTo>
                  <a:pt x="0" y="0"/>
                </a:lnTo>
                <a:lnTo>
                  <a:pt x="2307298" y="0"/>
                </a:lnTo>
                <a:lnTo>
                  <a:pt x="2307298" y="82816"/>
                </a:lnTo>
              </a:path>
            </a:pathLst>
          </a:custGeom>
          <a:solidFill>
            <a:srgbClr val="f1f6f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1070280" y="4380840"/>
            <a:ext cx="2306880" cy="82440"/>
          </a:xfrm>
          <a:custGeom>
            <a:avLst/>
            <a:gdLst>
              <a:gd name="textAreaLeft" fmla="*/ 0 w 2306880"/>
              <a:gd name="textAreaRight" fmla="*/ 2307240 w 230688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307297" h="82816">
                <a:moveTo>
                  <a:pt x="2307297" y="82816"/>
                </a:moveTo>
                <a:lnTo>
                  <a:pt x="0" y="82816"/>
                </a:lnTo>
                <a:lnTo>
                  <a:pt x="0" y="0"/>
                </a:lnTo>
                <a:lnTo>
                  <a:pt x="2307298" y="0"/>
                </a:lnTo>
                <a:lnTo>
                  <a:pt x="2307298" y="82816"/>
                </a:lnTo>
              </a:path>
            </a:pathLst>
          </a:custGeom>
          <a:solidFill>
            <a:srgbClr val="f1f6f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673280" y="3168720"/>
            <a:ext cx="826200" cy="88560"/>
          </a:xfrm>
          <a:custGeom>
            <a:avLst/>
            <a:gdLst>
              <a:gd name="textAreaLeft" fmla="*/ 0 w 826200"/>
              <a:gd name="textAreaRight" fmla="*/ 826560 w 826200"/>
              <a:gd name="textAreaTop" fmla="*/ 0 h 88560"/>
              <a:gd name="textAreaBottom" fmla="*/ 88920 h 88560"/>
            </a:gdLst>
            <a:ahLst/>
            <a:rect l="textAreaLeft" t="textAreaTop" r="textAreaRight" b="textAreaBottom"/>
            <a:pathLst>
              <a:path w="826541" h="89090">
                <a:moveTo>
                  <a:pt x="826541" y="89090"/>
                </a:moveTo>
                <a:lnTo>
                  <a:pt x="0" y="89090"/>
                </a:lnTo>
                <a:lnTo>
                  <a:pt x="0" y="0"/>
                </a:lnTo>
                <a:lnTo>
                  <a:pt x="826541" y="0"/>
                </a:lnTo>
                <a:lnTo>
                  <a:pt x="826541" y="89090"/>
                </a:lnTo>
              </a:path>
            </a:pathLst>
          </a:custGeom>
          <a:solidFill>
            <a:srgbClr val="f1f6f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2618640" y="3231000"/>
            <a:ext cx="43920" cy="45720"/>
          </a:xfrm>
          <a:custGeom>
            <a:avLst/>
            <a:gdLst>
              <a:gd name="textAreaLeft" fmla="*/ 0 w 43920"/>
              <a:gd name="textAreaRight" fmla="*/ 44280 w 4392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44361" h="46088">
                <a:moveTo>
                  <a:pt x="38646" y="46088"/>
                </a:moveTo>
                <a:cubicBezTo>
                  <a:pt x="36614" y="46088"/>
                  <a:pt x="34594" y="45326"/>
                  <a:pt x="33020" y="43789"/>
                </a:cubicBezTo>
                <a:lnTo>
                  <a:pt x="88" y="11429"/>
                </a:lnTo>
                <a:cubicBezTo>
                  <a:pt x="-3073" y="8331"/>
                  <a:pt x="-3098" y="3263"/>
                  <a:pt x="0" y="101"/>
                </a:cubicBezTo>
                <a:cubicBezTo>
                  <a:pt x="3086" y="-3048"/>
                  <a:pt x="8153" y="-3098"/>
                  <a:pt x="11328" y="0"/>
                </a:cubicBezTo>
                <a:lnTo>
                  <a:pt x="44272" y="32359"/>
                </a:lnTo>
                <a:cubicBezTo>
                  <a:pt x="47421" y="35458"/>
                  <a:pt x="47459" y="40525"/>
                  <a:pt x="44361" y="43688"/>
                </a:cubicBezTo>
                <a:cubicBezTo>
                  <a:pt x="42799" y="45288"/>
                  <a:pt x="40728" y="46088"/>
                  <a:pt x="38646" y="46088"/>
                </a:cubicBezTo>
              </a:path>
            </a:pathLst>
          </a:custGeom>
          <a:solidFill>
            <a:srgbClr val="f1f6f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1307520" y="3550320"/>
            <a:ext cx="211680" cy="140760"/>
          </a:xfrm>
          <a:custGeom>
            <a:avLst/>
            <a:gdLst>
              <a:gd name="textAreaLeft" fmla="*/ 0 w 211680"/>
              <a:gd name="textAreaRight" fmla="*/ 212040 w 211680"/>
              <a:gd name="textAreaTop" fmla="*/ 0 h 140760"/>
              <a:gd name="textAreaBottom" fmla="*/ 141120 h 140760"/>
            </a:gdLst>
            <a:ahLst/>
            <a:rect l="textAreaLeft" t="textAreaTop" r="textAreaRight" b="textAreaBottom"/>
            <a:pathLst>
              <a:path w="211861" h="141008">
                <a:moveTo>
                  <a:pt x="40220" y="141008"/>
                </a:moveTo>
                <a:lnTo>
                  <a:pt x="40220" y="63918"/>
                </a:lnTo>
                <a:cubicBezTo>
                  <a:pt x="40220" y="51066"/>
                  <a:pt x="50723" y="40563"/>
                  <a:pt x="63563" y="40563"/>
                </a:cubicBezTo>
                <a:lnTo>
                  <a:pt x="148297" y="40563"/>
                </a:lnTo>
                <a:cubicBezTo>
                  <a:pt x="161137" y="40563"/>
                  <a:pt x="171640" y="51066"/>
                  <a:pt x="171640" y="63918"/>
                </a:cubicBezTo>
                <a:lnTo>
                  <a:pt x="171640" y="141008"/>
                </a:lnTo>
                <a:lnTo>
                  <a:pt x="211861" y="141008"/>
                </a:lnTo>
                <a:lnTo>
                  <a:pt x="211861" y="56426"/>
                </a:lnTo>
                <a:cubicBezTo>
                  <a:pt x="211861" y="25387"/>
                  <a:pt x="186474" y="0"/>
                  <a:pt x="155435" y="0"/>
                </a:cubicBezTo>
                <a:lnTo>
                  <a:pt x="56426" y="0"/>
                </a:lnTo>
                <a:cubicBezTo>
                  <a:pt x="25387" y="0"/>
                  <a:pt x="0" y="25387"/>
                  <a:pt x="0" y="56426"/>
                </a:cubicBezTo>
                <a:lnTo>
                  <a:pt x="0" y="141008"/>
                </a:lnTo>
                <a:lnTo>
                  <a:pt x="40220" y="141008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0" y="658440"/>
            <a:ext cx="3702960" cy="594000"/>
          </a:xfrm>
          <a:custGeom>
            <a:avLst/>
            <a:gdLst>
              <a:gd name="textAreaLeft" fmla="*/ 0 w 3702960"/>
              <a:gd name="textAreaRight" fmla="*/ 3703320 w 370296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3703320" h="594359">
                <a:moveTo>
                  <a:pt x="0" y="594359"/>
                </a:moveTo>
                <a:lnTo>
                  <a:pt x="3703320" y="594359"/>
                </a:lnTo>
                <a:lnTo>
                  <a:pt x="3703320" y="0"/>
                </a:lnTo>
                <a:lnTo>
                  <a:pt x="0" y="0"/>
                </a:lnTo>
                <a:lnTo>
                  <a:pt x="0" y="594359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0" y="1088280"/>
            <a:ext cx="2756520" cy="594000"/>
          </a:xfrm>
          <a:custGeom>
            <a:avLst/>
            <a:gdLst>
              <a:gd name="textAreaLeft" fmla="*/ 0 w 2756520"/>
              <a:gd name="textAreaRight" fmla="*/ 2756880 w 275652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2756916" h="594359">
                <a:moveTo>
                  <a:pt x="0" y="594359"/>
                </a:moveTo>
                <a:lnTo>
                  <a:pt x="2756916" y="594359"/>
                </a:lnTo>
                <a:lnTo>
                  <a:pt x="2756916" y="0"/>
                </a:lnTo>
                <a:lnTo>
                  <a:pt x="0" y="0"/>
                </a:lnTo>
                <a:lnTo>
                  <a:pt x="0" y="594359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812880" y="863640"/>
            <a:ext cx="2704680" cy="304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2"/>
          <a:stretch/>
        </p:blipFill>
        <p:spPr>
          <a:xfrm>
            <a:off x="812880" y="1320840"/>
            <a:ext cx="1739520" cy="304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3"/>
          <a:stretch/>
        </p:blipFill>
        <p:spPr>
          <a:xfrm>
            <a:off x="2527200" y="3124080"/>
            <a:ext cx="139320" cy="139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1257480" y="3708360"/>
            <a:ext cx="317160" cy="228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5"/>
          <a:stretch/>
        </p:blipFill>
        <p:spPr>
          <a:xfrm>
            <a:off x="4572000" y="128268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6"/>
          <a:stretch/>
        </p:blipFill>
        <p:spPr>
          <a:xfrm>
            <a:off x="4572000" y="233676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7"/>
          <a:stretch/>
        </p:blipFill>
        <p:spPr>
          <a:xfrm>
            <a:off x="4572000" y="375912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8"/>
          <a:stretch/>
        </p:blipFill>
        <p:spPr>
          <a:xfrm>
            <a:off x="4572000" y="519444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9"/>
          <a:stretch/>
        </p:blipFill>
        <p:spPr>
          <a:xfrm>
            <a:off x="4572000" y="623556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10"/>
          <a:stretch/>
        </p:blipFill>
        <p:spPr>
          <a:xfrm>
            <a:off x="4851360" y="1206360"/>
            <a:ext cx="6832080" cy="317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11"/>
          <a:stretch/>
        </p:blipFill>
        <p:spPr>
          <a:xfrm>
            <a:off x="4851360" y="1587600"/>
            <a:ext cx="6438600" cy="317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12"/>
          <a:stretch/>
        </p:blipFill>
        <p:spPr>
          <a:xfrm>
            <a:off x="4863960" y="2260440"/>
            <a:ext cx="6540120" cy="304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13"/>
          <a:stretch/>
        </p:blipFill>
        <p:spPr>
          <a:xfrm>
            <a:off x="4863960" y="2641680"/>
            <a:ext cx="6616440" cy="304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14"/>
          <a:stretch/>
        </p:blipFill>
        <p:spPr>
          <a:xfrm>
            <a:off x="4851360" y="3022560"/>
            <a:ext cx="1333080" cy="240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15"/>
          <a:stretch/>
        </p:blipFill>
        <p:spPr>
          <a:xfrm>
            <a:off x="4851360" y="3683160"/>
            <a:ext cx="6438600" cy="317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6"/>
          <a:stretch/>
        </p:blipFill>
        <p:spPr>
          <a:xfrm>
            <a:off x="4838760" y="4064040"/>
            <a:ext cx="5892480" cy="317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17"/>
          <a:stretch/>
        </p:blipFill>
        <p:spPr>
          <a:xfrm>
            <a:off x="4851360" y="4444920"/>
            <a:ext cx="1955520" cy="253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18"/>
          <a:stretch/>
        </p:blipFill>
        <p:spPr>
          <a:xfrm>
            <a:off x="4863960" y="5118120"/>
            <a:ext cx="604476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19"/>
          <a:stretch/>
        </p:blipFill>
        <p:spPr>
          <a:xfrm>
            <a:off x="4851360" y="5499000"/>
            <a:ext cx="939600" cy="304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0"/>
          <a:stretch/>
        </p:blipFill>
        <p:spPr>
          <a:xfrm>
            <a:off x="4851360" y="6159600"/>
            <a:ext cx="4140000" cy="31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reeform 3"/>
          <p:cNvSpPr/>
          <p:nvPr/>
        </p:nvSpPr>
        <p:spPr>
          <a:xfrm>
            <a:off x="0" y="0"/>
            <a:ext cx="12191760" cy="68576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1974" h="6858000">
                <a:moveTo>
                  <a:pt x="0" y="6858000"/>
                </a:moveTo>
                <a:lnTo>
                  <a:pt x="12191974" y="6858000"/>
                </a:lnTo>
                <a:lnTo>
                  <a:pt x="12191974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1a60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1515960" y="2587680"/>
            <a:ext cx="1226880" cy="234000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2340000"/>
              <a:gd name="textAreaBottom" fmla="*/ 2340360 h 2340000"/>
            </a:gdLst>
            <a:ahLst/>
            <a:rect l="textAreaLeft" t="textAreaTop" r="textAreaRight" b="textAreaBottom"/>
            <a:pathLst>
              <a:path w="1227099" h="2340432">
                <a:moveTo>
                  <a:pt x="1042720" y="2340432"/>
                </a:moveTo>
                <a:lnTo>
                  <a:pt x="184391" y="2340432"/>
                </a:lnTo>
                <a:cubicBezTo>
                  <a:pt x="82981" y="2340432"/>
                  <a:pt x="0" y="2257463"/>
                  <a:pt x="0" y="2156053"/>
                </a:cubicBezTo>
                <a:lnTo>
                  <a:pt x="0" y="184378"/>
                </a:lnTo>
                <a:cubicBezTo>
                  <a:pt x="0" y="82969"/>
                  <a:pt x="82981" y="0"/>
                  <a:pt x="184391" y="0"/>
                </a:cubicBezTo>
                <a:lnTo>
                  <a:pt x="1042720" y="0"/>
                </a:lnTo>
                <a:cubicBezTo>
                  <a:pt x="1144130" y="0"/>
                  <a:pt x="1227099" y="82969"/>
                  <a:pt x="1227099" y="184378"/>
                </a:cubicBezTo>
                <a:lnTo>
                  <a:pt x="1227099" y="2156053"/>
                </a:lnTo>
                <a:cubicBezTo>
                  <a:pt x="1227099" y="2257463"/>
                  <a:pt x="1144130" y="2340432"/>
                  <a:pt x="1042720" y="2340432"/>
                </a:cubicBezTo>
              </a:path>
            </a:pathLst>
          </a:custGeom>
          <a:solidFill>
            <a:srgbClr val="132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1550520" y="2905200"/>
            <a:ext cx="1150920" cy="16686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668600"/>
              <a:gd name="textAreaBottom" fmla="*/ 1668960 h 1668600"/>
            </a:gdLst>
            <a:ahLst/>
            <a:rect l="textAreaLeft" t="textAreaTop" r="textAreaRight" b="textAreaBottom"/>
            <a:pathLst>
              <a:path w="1151115" h="1669034">
                <a:moveTo>
                  <a:pt x="1151115" y="1669034"/>
                </a:moveTo>
                <a:lnTo>
                  <a:pt x="0" y="1669034"/>
                </a:lnTo>
                <a:lnTo>
                  <a:pt x="0" y="0"/>
                </a:lnTo>
                <a:lnTo>
                  <a:pt x="1151115" y="0"/>
                </a:lnTo>
                <a:lnTo>
                  <a:pt x="1151115" y="1669034"/>
                </a:lnTo>
              </a:path>
            </a:pathLst>
          </a:custGeom>
          <a:solidFill>
            <a:srgbClr val="f1f6f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1967040" y="2751120"/>
            <a:ext cx="334440" cy="55440"/>
          </a:xfrm>
          <a:custGeom>
            <a:avLst/>
            <a:gdLst>
              <a:gd name="textAreaLeft" fmla="*/ 0 w 334440"/>
              <a:gd name="textAreaRight" fmla="*/ 334800 w 3344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334670" h="55778">
                <a:moveTo>
                  <a:pt x="306781" y="55778"/>
                </a:moveTo>
                <a:lnTo>
                  <a:pt x="27889" y="55778"/>
                </a:lnTo>
                <a:cubicBezTo>
                  <a:pt x="12547" y="55778"/>
                  <a:pt x="0" y="43230"/>
                  <a:pt x="0" y="27889"/>
                </a:cubicBezTo>
                <a:cubicBezTo>
                  <a:pt x="0" y="12547"/>
                  <a:pt x="12547" y="0"/>
                  <a:pt x="27889" y="0"/>
                </a:cubicBezTo>
                <a:lnTo>
                  <a:pt x="306781" y="0"/>
                </a:lnTo>
                <a:cubicBezTo>
                  <a:pt x="322122" y="0"/>
                  <a:pt x="334670" y="12547"/>
                  <a:pt x="334670" y="27889"/>
                </a:cubicBezTo>
                <a:cubicBezTo>
                  <a:pt x="334670" y="43230"/>
                  <a:pt x="322122" y="55778"/>
                  <a:pt x="306781" y="55778"/>
                </a:cubicBezTo>
              </a:path>
            </a:pathLst>
          </a:custGeom>
          <a:solidFill>
            <a:srgbClr val="f1f6f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2017800" y="4618080"/>
            <a:ext cx="216360" cy="216360"/>
          </a:xfrm>
          <a:custGeom>
            <a:avLst/>
            <a:gdLst>
              <a:gd name="textAreaLeft" fmla="*/ 0 w 216360"/>
              <a:gd name="textAreaRight" fmla="*/ 216720 w 216360"/>
              <a:gd name="textAreaTop" fmla="*/ 0 h 216360"/>
              <a:gd name="textAreaBottom" fmla="*/ 216720 h 216360"/>
            </a:gdLst>
            <a:ahLst/>
            <a:rect l="textAreaLeft" t="textAreaTop" r="textAreaRight" b="textAreaBottom"/>
            <a:pathLst>
              <a:path w="216547" h="216547">
                <a:moveTo>
                  <a:pt x="216547" y="108280"/>
                </a:moveTo>
                <a:cubicBezTo>
                  <a:pt x="216547" y="168084"/>
                  <a:pt x="168071" y="216548"/>
                  <a:pt x="108280" y="216548"/>
                </a:cubicBezTo>
                <a:cubicBezTo>
                  <a:pt x="48475" y="216548"/>
                  <a:pt x="0" y="168084"/>
                  <a:pt x="0" y="108280"/>
                </a:cubicBezTo>
                <a:cubicBezTo>
                  <a:pt x="0" y="48476"/>
                  <a:pt x="48475" y="0"/>
                  <a:pt x="108280" y="0"/>
                </a:cubicBezTo>
                <a:cubicBezTo>
                  <a:pt x="168071" y="0"/>
                  <a:pt x="216547" y="48476"/>
                  <a:pt x="216547" y="108280"/>
                </a:cubicBezTo>
              </a:path>
            </a:pathLst>
          </a:custGeom>
          <a:solidFill>
            <a:srgbClr val="f1f6f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1909440" y="3390120"/>
            <a:ext cx="411120" cy="273600"/>
          </a:xfrm>
          <a:custGeom>
            <a:avLst/>
            <a:gdLst>
              <a:gd name="textAreaLeft" fmla="*/ 0 w 411120"/>
              <a:gd name="textAreaRight" fmla="*/ 411480 w 411120"/>
              <a:gd name="textAreaTop" fmla="*/ 0 h 273600"/>
              <a:gd name="textAreaBottom" fmla="*/ 273960 h 273600"/>
            </a:gdLst>
            <a:ahLst/>
            <a:rect l="textAreaLeft" t="textAreaTop" r="textAreaRight" b="textAreaBottom"/>
            <a:pathLst>
              <a:path w="411429" h="273824">
                <a:moveTo>
                  <a:pt x="78104" y="273824"/>
                </a:moveTo>
                <a:lnTo>
                  <a:pt x="78104" y="124104"/>
                </a:lnTo>
                <a:cubicBezTo>
                  <a:pt x="78104" y="99174"/>
                  <a:pt x="98513" y="78765"/>
                  <a:pt x="123443" y="78765"/>
                </a:cubicBezTo>
                <a:lnTo>
                  <a:pt x="287972" y="78765"/>
                </a:lnTo>
                <a:cubicBezTo>
                  <a:pt x="312915" y="78765"/>
                  <a:pt x="333311" y="99174"/>
                  <a:pt x="333311" y="124104"/>
                </a:cubicBezTo>
                <a:lnTo>
                  <a:pt x="333311" y="273824"/>
                </a:lnTo>
                <a:lnTo>
                  <a:pt x="411429" y="273824"/>
                </a:lnTo>
                <a:lnTo>
                  <a:pt x="411429" y="109575"/>
                </a:lnTo>
                <a:cubicBezTo>
                  <a:pt x="411429" y="49314"/>
                  <a:pt x="362115" y="0"/>
                  <a:pt x="301853" y="0"/>
                </a:cubicBezTo>
                <a:lnTo>
                  <a:pt x="109562" y="0"/>
                </a:lnTo>
                <a:cubicBezTo>
                  <a:pt x="49301" y="0"/>
                  <a:pt x="0" y="49314"/>
                  <a:pt x="0" y="109575"/>
                </a:cubicBezTo>
                <a:lnTo>
                  <a:pt x="0" y="273824"/>
                </a:lnTo>
                <a:lnTo>
                  <a:pt x="78104" y="273824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0" y="658440"/>
            <a:ext cx="3702960" cy="594000"/>
          </a:xfrm>
          <a:custGeom>
            <a:avLst/>
            <a:gdLst>
              <a:gd name="textAreaLeft" fmla="*/ 0 w 3702960"/>
              <a:gd name="textAreaRight" fmla="*/ 3703320 w 370296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3703320" h="594359">
                <a:moveTo>
                  <a:pt x="0" y="594359"/>
                </a:moveTo>
                <a:lnTo>
                  <a:pt x="3703320" y="594359"/>
                </a:lnTo>
                <a:lnTo>
                  <a:pt x="3703320" y="0"/>
                </a:lnTo>
                <a:lnTo>
                  <a:pt x="0" y="0"/>
                </a:lnTo>
                <a:lnTo>
                  <a:pt x="0" y="594359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0" y="1088280"/>
            <a:ext cx="2756520" cy="594000"/>
          </a:xfrm>
          <a:custGeom>
            <a:avLst/>
            <a:gdLst>
              <a:gd name="textAreaLeft" fmla="*/ 0 w 2756520"/>
              <a:gd name="textAreaRight" fmla="*/ 2756880 w 275652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2756916" h="594359">
                <a:moveTo>
                  <a:pt x="0" y="594359"/>
                </a:moveTo>
                <a:lnTo>
                  <a:pt x="2756916" y="594359"/>
                </a:lnTo>
                <a:lnTo>
                  <a:pt x="2756916" y="0"/>
                </a:lnTo>
                <a:lnTo>
                  <a:pt x="0" y="0"/>
                </a:lnTo>
                <a:lnTo>
                  <a:pt x="0" y="594359"/>
                </a:lnTo>
              </a:path>
            </a:pathLst>
          </a:custGeom>
          <a:solidFill>
            <a:srgbClr val="39a3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800280" y="863640"/>
            <a:ext cx="2526840" cy="304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812880" y="1320840"/>
            <a:ext cx="1739520" cy="3045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1828800" y="3695760"/>
            <a:ext cx="596520" cy="444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4"/>
          <a:stretch/>
        </p:blipFill>
        <p:spPr>
          <a:xfrm>
            <a:off x="4572000" y="154944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5"/>
          <a:stretch/>
        </p:blipFill>
        <p:spPr>
          <a:xfrm>
            <a:off x="4572000" y="260352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6"/>
          <a:stretch/>
        </p:blipFill>
        <p:spPr>
          <a:xfrm>
            <a:off x="4572000" y="326376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7"/>
          <a:stretch/>
        </p:blipFill>
        <p:spPr>
          <a:xfrm>
            <a:off x="4572000" y="393696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8"/>
          <a:stretch/>
        </p:blipFill>
        <p:spPr>
          <a:xfrm>
            <a:off x="4572000" y="5359320"/>
            <a:ext cx="164880" cy="177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9"/>
          <a:stretch/>
        </p:blipFill>
        <p:spPr>
          <a:xfrm>
            <a:off x="4838760" y="1473120"/>
            <a:ext cx="6413040" cy="317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10"/>
          <a:stretch/>
        </p:blipFill>
        <p:spPr>
          <a:xfrm>
            <a:off x="4851360" y="1854360"/>
            <a:ext cx="3835080" cy="253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11"/>
          <a:stretch/>
        </p:blipFill>
        <p:spPr>
          <a:xfrm>
            <a:off x="4863960" y="2527200"/>
            <a:ext cx="6552720" cy="317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12"/>
          <a:stretch/>
        </p:blipFill>
        <p:spPr>
          <a:xfrm>
            <a:off x="4863960" y="3187800"/>
            <a:ext cx="5549400" cy="3171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13"/>
          <a:stretch/>
        </p:blipFill>
        <p:spPr>
          <a:xfrm>
            <a:off x="4863960" y="3860640"/>
            <a:ext cx="5511600" cy="317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14"/>
          <a:stretch/>
        </p:blipFill>
        <p:spPr>
          <a:xfrm>
            <a:off x="4863960" y="4241880"/>
            <a:ext cx="6438600" cy="253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15"/>
          <a:stretch/>
        </p:blipFill>
        <p:spPr>
          <a:xfrm>
            <a:off x="4838760" y="4622760"/>
            <a:ext cx="2742840" cy="253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16"/>
          <a:stretch/>
        </p:blipFill>
        <p:spPr>
          <a:xfrm>
            <a:off x="4863960" y="5283360"/>
            <a:ext cx="2679480" cy="31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  <Words>164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yu wang</cp:lastModifiedBy>
  <dcterms:modified xsi:type="dcterms:W3CDTF">2015-08-14T12:50:46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4</vt:r8>
  </property>
</Properties>
</file>