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12192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7E9343-FBEC-451F-9982-C8BA4C0AB0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8" name="PlaceHolder 2"/>
          <p:cNvSpPr>
            <a:spLocks noGrp="1"/>
          </p:cNvSpPr>
          <p:nvPr>
            <p:ph/>
          </p:nvPr>
        </p:nvSpPr>
        <p:spPr>
          <a:xfrm>
            <a:off x="838080" y="1825560"/>
            <a:ext cx="1051524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9" name="PlaceHolder 3"/>
          <p:cNvSpPr>
            <a:spLocks noGrp="1"/>
          </p:cNvSpPr>
          <p:nvPr>
            <p:ph/>
          </p:nvPr>
        </p:nvSpPr>
        <p:spPr>
          <a:xfrm>
            <a:off x="838080" y="4098240"/>
            <a:ext cx="1051524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F3FD9C-412F-4363-AF5C-51F0C7F949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1" name="PlaceHolder 2"/>
          <p:cNvSpPr>
            <a:spLocks noGrp="1"/>
          </p:cNvSpPr>
          <p:nvPr>
            <p:ph/>
          </p:nvPr>
        </p:nvSpPr>
        <p:spPr>
          <a:xfrm>
            <a:off x="83808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2" name="PlaceHolder 3"/>
          <p:cNvSpPr>
            <a:spLocks noGrp="1"/>
          </p:cNvSpPr>
          <p:nvPr>
            <p:ph/>
          </p:nvPr>
        </p:nvSpPr>
        <p:spPr>
          <a:xfrm>
            <a:off x="622620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3" name="PlaceHolder 4"/>
          <p:cNvSpPr>
            <a:spLocks noGrp="1"/>
          </p:cNvSpPr>
          <p:nvPr>
            <p:ph/>
          </p:nvPr>
        </p:nvSpPr>
        <p:spPr>
          <a:xfrm>
            <a:off x="838080" y="409824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4" name="PlaceHolder 5"/>
          <p:cNvSpPr>
            <a:spLocks noGrp="1"/>
          </p:cNvSpPr>
          <p:nvPr>
            <p:ph/>
          </p:nvPr>
        </p:nvSpPr>
        <p:spPr>
          <a:xfrm>
            <a:off x="6226200" y="409824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FDA069-4C4B-4C46-8D95-684BA0E8B6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6" name="PlaceHolder 2"/>
          <p:cNvSpPr>
            <a:spLocks noGrp="1"/>
          </p:cNvSpPr>
          <p:nvPr>
            <p:ph/>
          </p:nvPr>
        </p:nvSpPr>
        <p:spPr>
          <a:xfrm>
            <a:off x="838080" y="182556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7" name="PlaceHolder 3"/>
          <p:cNvSpPr>
            <a:spLocks noGrp="1"/>
          </p:cNvSpPr>
          <p:nvPr>
            <p:ph/>
          </p:nvPr>
        </p:nvSpPr>
        <p:spPr>
          <a:xfrm>
            <a:off x="4393440" y="182556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8" name="PlaceHolder 4"/>
          <p:cNvSpPr>
            <a:spLocks noGrp="1"/>
          </p:cNvSpPr>
          <p:nvPr>
            <p:ph/>
          </p:nvPr>
        </p:nvSpPr>
        <p:spPr>
          <a:xfrm>
            <a:off x="7949160" y="182556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9" name="PlaceHolder 5"/>
          <p:cNvSpPr>
            <a:spLocks noGrp="1"/>
          </p:cNvSpPr>
          <p:nvPr>
            <p:ph/>
          </p:nvPr>
        </p:nvSpPr>
        <p:spPr>
          <a:xfrm>
            <a:off x="838080" y="409824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40" name="PlaceHolder 6"/>
          <p:cNvSpPr>
            <a:spLocks noGrp="1"/>
          </p:cNvSpPr>
          <p:nvPr>
            <p:ph/>
          </p:nvPr>
        </p:nvSpPr>
        <p:spPr>
          <a:xfrm>
            <a:off x="4393440" y="409824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41" name="PlaceHolder 7"/>
          <p:cNvSpPr>
            <a:spLocks noGrp="1"/>
          </p:cNvSpPr>
          <p:nvPr>
            <p:ph/>
          </p:nvPr>
        </p:nvSpPr>
        <p:spPr>
          <a:xfrm>
            <a:off x="7949160" y="409824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964435-AFB6-4F69-9258-4B14F2D5E4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33FBBCA-6A3A-4DFA-AD00-9DCD75ABDBA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9" name="PlaceHolder 2"/>
          <p:cNvSpPr>
            <a:spLocks noGrp="1"/>
          </p:cNvSpPr>
          <p:nvPr>
            <p:ph type="subTitle"/>
          </p:nvPr>
        </p:nvSpPr>
        <p:spPr>
          <a:xfrm>
            <a:off x="838080" y="1825560"/>
            <a:ext cx="10515240" cy="43509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408251-E6A1-4CB9-8089-38B19DC81F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1" name="PlaceHolder 2"/>
          <p:cNvSpPr>
            <a:spLocks noGrp="1"/>
          </p:cNvSpPr>
          <p:nvPr>
            <p:ph/>
          </p:nvPr>
        </p:nvSpPr>
        <p:spPr>
          <a:xfrm>
            <a:off x="838080" y="1825560"/>
            <a:ext cx="10515240" cy="43509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7E7A68-0B51-48D9-9E7B-5D8BB16F13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3" name="PlaceHolder 2"/>
          <p:cNvSpPr>
            <a:spLocks noGrp="1"/>
          </p:cNvSpPr>
          <p:nvPr>
            <p:ph/>
          </p:nvPr>
        </p:nvSpPr>
        <p:spPr>
          <a:xfrm>
            <a:off x="838080" y="1825560"/>
            <a:ext cx="5131080" cy="43509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4" name="PlaceHolder 3"/>
          <p:cNvSpPr>
            <a:spLocks noGrp="1"/>
          </p:cNvSpPr>
          <p:nvPr>
            <p:ph/>
          </p:nvPr>
        </p:nvSpPr>
        <p:spPr>
          <a:xfrm>
            <a:off x="6226200" y="1825560"/>
            <a:ext cx="5131080" cy="43509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E6075D-ED7B-4040-B226-922BB19741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DF9E2D-665F-4AFE-A52F-301B3EC82A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838080" y="365040"/>
            <a:ext cx="10515240" cy="61441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CD62A3-4E33-49E9-AE64-D595182A2A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8" name="PlaceHolder 2"/>
          <p:cNvSpPr>
            <a:spLocks noGrp="1"/>
          </p:cNvSpPr>
          <p:nvPr>
            <p:ph/>
          </p:nvPr>
        </p:nvSpPr>
        <p:spPr>
          <a:xfrm>
            <a:off x="83808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9" name="PlaceHolder 3"/>
          <p:cNvSpPr>
            <a:spLocks noGrp="1"/>
          </p:cNvSpPr>
          <p:nvPr>
            <p:ph/>
          </p:nvPr>
        </p:nvSpPr>
        <p:spPr>
          <a:xfrm>
            <a:off x="6226200" y="1825560"/>
            <a:ext cx="5131080" cy="43509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0" name="PlaceHolder 4"/>
          <p:cNvSpPr>
            <a:spLocks noGrp="1"/>
          </p:cNvSpPr>
          <p:nvPr>
            <p:ph/>
          </p:nvPr>
        </p:nvSpPr>
        <p:spPr>
          <a:xfrm>
            <a:off x="838080" y="409824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0C5843-8B3F-4035-8061-8BCBD7EAE9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 name="PlaceHolder 2"/>
          <p:cNvSpPr>
            <a:spLocks noGrp="1"/>
          </p:cNvSpPr>
          <p:nvPr>
            <p:ph type="subTitle"/>
          </p:nvPr>
        </p:nvSpPr>
        <p:spPr>
          <a:xfrm>
            <a:off x="838080" y="1825560"/>
            <a:ext cx="10515240" cy="43509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3C3919-908B-4E63-9611-7DC7BBA334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2" name="PlaceHolder 2"/>
          <p:cNvSpPr>
            <a:spLocks noGrp="1"/>
          </p:cNvSpPr>
          <p:nvPr>
            <p:ph/>
          </p:nvPr>
        </p:nvSpPr>
        <p:spPr>
          <a:xfrm>
            <a:off x="838080" y="1825560"/>
            <a:ext cx="5131080" cy="43509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3" name="PlaceHolder 3"/>
          <p:cNvSpPr>
            <a:spLocks noGrp="1"/>
          </p:cNvSpPr>
          <p:nvPr>
            <p:ph/>
          </p:nvPr>
        </p:nvSpPr>
        <p:spPr>
          <a:xfrm>
            <a:off x="622620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4" name="PlaceHolder 4"/>
          <p:cNvSpPr>
            <a:spLocks noGrp="1"/>
          </p:cNvSpPr>
          <p:nvPr>
            <p:ph/>
          </p:nvPr>
        </p:nvSpPr>
        <p:spPr>
          <a:xfrm>
            <a:off x="6226200" y="409824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3621F2-1D16-4E89-A982-9F0EF4AC8A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6" name="PlaceHolder 2"/>
          <p:cNvSpPr>
            <a:spLocks noGrp="1"/>
          </p:cNvSpPr>
          <p:nvPr>
            <p:ph/>
          </p:nvPr>
        </p:nvSpPr>
        <p:spPr>
          <a:xfrm>
            <a:off x="83808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7" name="PlaceHolder 3"/>
          <p:cNvSpPr>
            <a:spLocks noGrp="1"/>
          </p:cNvSpPr>
          <p:nvPr>
            <p:ph/>
          </p:nvPr>
        </p:nvSpPr>
        <p:spPr>
          <a:xfrm>
            <a:off x="622620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8" name="PlaceHolder 4"/>
          <p:cNvSpPr>
            <a:spLocks noGrp="1"/>
          </p:cNvSpPr>
          <p:nvPr>
            <p:ph/>
          </p:nvPr>
        </p:nvSpPr>
        <p:spPr>
          <a:xfrm>
            <a:off x="838080" y="4098240"/>
            <a:ext cx="1051524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1A9CB9-047D-4900-833D-AC9BC74405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0" name="PlaceHolder 2"/>
          <p:cNvSpPr>
            <a:spLocks noGrp="1"/>
          </p:cNvSpPr>
          <p:nvPr>
            <p:ph/>
          </p:nvPr>
        </p:nvSpPr>
        <p:spPr>
          <a:xfrm>
            <a:off x="838080" y="1825560"/>
            <a:ext cx="1051524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1" name="PlaceHolder 3"/>
          <p:cNvSpPr>
            <a:spLocks noGrp="1"/>
          </p:cNvSpPr>
          <p:nvPr>
            <p:ph/>
          </p:nvPr>
        </p:nvSpPr>
        <p:spPr>
          <a:xfrm>
            <a:off x="838080" y="4098240"/>
            <a:ext cx="1051524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A1734B-9E3A-4F0D-A517-E4C8A26193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3" name="PlaceHolder 2"/>
          <p:cNvSpPr>
            <a:spLocks noGrp="1"/>
          </p:cNvSpPr>
          <p:nvPr>
            <p:ph/>
          </p:nvPr>
        </p:nvSpPr>
        <p:spPr>
          <a:xfrm>
            <a:off x="83808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4" name="PlaceHolder 3"/>
          <p:cNvSpPr>
            <a:spLocks noGrp="1"/>
          </p:cNvSpPr>
          <p:nvPr>
            <p:ph/>
          </p:nvPr>
        </p:nvSpPr>
        <p:spPr>
          <a:xfrm>
            <a:off x="622620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5" name="PlaceHolder 4"/>
          <p:cNvSpPr>
            <a:spLocks noGrp="1"/>
          </p:cNvSpPr>
          <p:nvPr>
            <p:ph/>
          </p:nvPr>
        </p:nvSpPr>
        <p:spPr>
          <a:xfrm>
            <a:off x="838080" y="409824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6" name="PlaceHolder 5"/>
          <p:cNvSpPr>
            <a:spLocks noGrp="1"/>
          </p:cNvSpPr>
          <p:nvPr>
            <p:ph/>
          </p:nvPr>
        </p:nvSpPr>
        <p:spPr>
          <a:xfrm>
            <a:off x="6226200" y="409824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3A4171A-78C7-44F0-8CF7-9601762F41D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8" name="PlaceHolder 2"/>
          <p:cNvSpPr>
            <a:spLocks noGrp="1"/>
          </p:cNvSpPr>
          <p:nvPr>
            <p:ph/>
          </p:nvPr>
        </p:nvSpPr>
        <p:spPr>
          <a:xfrm>
            <a:off x="838080" y="182556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9" name="PlaceHolder 3"/>
          <p:cNvSpPr>
            <a:spLocks noGrp="1"/>
          </p:cNvSpPr>
          <p:nvPr>
            <p:ph/>
          </p:nvPr>
        </p:nvSpPr>
        <p:spPr>
          <a:xfrm>
            <a:off x="4393440" y="182556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80" name="PlaceHolder 4"/>
          <p:cNvSpPr>
            <a:spLocks noGrp="1"/>
          </p:cNvSpPr>
          <p:nvPr>
            <p:ph/>
          </p:nvPr>
        </p:nvSpPr>
        <p:spPr>
          <a:xfrm>
            <a:off x="7949160" y="182556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81" name="PlaceHolder 5"/>
          <p:cNvSpPr>
            <a:spLocks noGrp="1"/>
          </p:cNvSpPr>
          <p:nvPr>
            <p:ph/>
          </p:nvPr>
        </p:nvSpPr>
        <p:spPr>
          <a:xfrm>
            <a:off x="838080" y="409824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82" name="PlaceHolder 6"/>
          <p:cNvSpPr>
            <a:spLocks noGrp="1"/>
          </p:cNvSpPr>
          <p:nvPr>
            <p:ph/>
          </p:nvPr>
        </p:nvSpPr>
        <p:spPr>
          <a:xfrm>
            <a:off x="4393440" y="409824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83" name="PlaceHolder 7"/>
          <p:cNvSpPr>
            <a:spLocks noGrp="1"/>
          </p:cNvSpPr>
          <p:nvPr>
            <p:ph/>
          </p:nvPr>
        </p:nvSpPr>
        <p:spPr>
          <a:xfrm>
            <a:off x="7949160" y="409824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BF60591-C268-40FC-83F2-563E256EC22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9" name="PlaceHolder 2"/>
          <p:cNvSpPr>
            <a:spLocks noGrp="1"/>
          </p:cNvSpPr>
          <p:nvPr>
            <p:ph/>
          </p:nvPr>
        </p:nvSpPr>
        <p:spPr>
          <a:xfrm>
            <a:off x="838080" y="1825560"/>
            <a:ext cx="10515240" cy="43509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1573CD-FC77-4B36-8EBF-01EEF28378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1" name="PlaceHolder 2"/>
          <p:cNvSpPr>
            <a:spLocks noGrp="1"/>
          </p:cNvSpPr>
          <p:nvPr>
            <p:ph/>
          </p:nvPr>
        </p:nvSpPr>
        <p:spPr>
          <a:xfrm>
            <a:off x="838080" y="1825560"/>
            <a:ext cx="5131080" cy="43509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2" name="PlaceHolder 3"/>
          <p:cNvSpPr>
            <a:spLocks noGrp="1"/>
          </p:cNvSpPr>
          <p:nvPr>
            <p:ph/>
          </p:nvPr>
        </p:nvSpPr>
        <p:spPr>
          <a:xfrm>
            <a:off x="6226200" y="1825560"/>
            <a:ext cx="5131080" cy="43509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29B813-FF58-4537-A273-848FAE55E2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0A5915-160F-415A-8E0E-8A8BFD8612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838080" y="365040"/>
            <a:ext cx="10515240" cy="61441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0CCF29-A9A8-42E8-906A-9F825EB373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6" name="PlaceHolder 2"/>
          <p:cNvSpPr>
            <a:spLocks noGrp="1"/>
          </p:cNvSpPr>
          <p:nvPr>
            <p:ph/>
          </p:nvPr>
        </p:nvSpPr>
        <p:spPr>
          <a:xfrm>
            <a:off x="83808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7" name="PlaceHolder 3"/>
          <p:cNvSpPr>
            <a:spLocks noGrp="1"/>
          </p:cNvSpPr>
          <p:nvPr>
            <p:ph/>
          </p:nvPr>
        </p:nvSpPr>
        <p:spPr>
          <a:xfrm>
            <a:off x="6226200" y="1825560"/>
            <a:ext cx="5131080" cy="43509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8" name="PlaceHolder 4"/>
          <p:cNvSpPr>
            <a:spLocks noGrp="1"/>
          </p:cNvSpPr>
          <p:nvPr>
            <p:ph/>
          </p:nvPr>
        </p:nvSpPr>
        <p:spPr>
          <a:xfrm>
            <a:off x="838080" y="409824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41BB97-5F2A-4126-B2E3-23993B4718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0" name="PlaceHolder 2"/>
          <p:cNvSpPr>
            <a:spLocks noGrp="1"/>
          </p:cNvSpPr>
          <p:nvPr>
            <p:ph/>
          </p:nvPr>
        </p:nvSpPr>
        <p:spPr>
          <a:xfrm>
            <a:off x="838080" y="1825560"/>
            <a:ext cx="5131080" cy="43509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1" name="PlaceHolder 3"/>
          <p:cNvSpPr>
            <a:spLocks noGrp="1"/>
          </p:cNvSpPr>
          <p:nvPr>
            <p:ph/>
          </p:nvPr>
        </p:nvSpPr>
        <p:spPr>
          <a:xfrm>
            <a:off x="622620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2" name="PlaceHolder 4"/>
          <p:cNvSpPr>
            <a:spLocks noGrp="1"/>
          </p:cNvSpPr>
          <p:nvPr>
            <p:ph/>
          </p:nvPr>
        </p:nvSpPr>
        <p:spPr>
          <a:xfrm>
            <a:off x="6226200" y="409824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6B2FEE-8D1A-4E30-AC3E-28D763B876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4" name="PlaceHolder 2"/>
          <p:cNvSpPr>
            <a:spLocks noGrp="1"/>
          </p:cNvSpPr>
          <p:nvPr>
            <p:ph/>
          </p:nvPr>
        </p:nvSpPr>
        <p:spPr>
          <a:xfrm>
            <a:off x="83808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5" name="PlaceHolder 3"/>
          <p:cNvSpPr>
            <a:spLocks noGrp="1"/>
          </p:cNvSpPr>
          <p:nvPr>
            <p:ph/>
          </p:nvPr>
        </p:nvSpPr>
        <p:spPr>
          <a:xfrm>
            <a:off x="622620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6" name="PlaceHolder 4"/>
          <p:cNvSpPr>
            <a:spLocks noGrp="1"/>
          </p:cNvSpPr>
          <p:nvPr>
            <p:ph/>
          </p:nvPr>
        </p:nvSpPr>
        <p:spPr>
          <a:xfrm>
            <a:off x="838080" y="4098240"/>
            <a:ext cx="1051524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DC1113-9E75-43A5-A8E0-D00DF803DA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图片 7" descr=""/>
          <p:cNvPicPr/>
          <p:nvPr/>
        </p:nvPicPr>
        <p:blipFill>
          <a:blip r:embed="rId2"/>
          <a:stretch/>
        </p:blipFill>
        <p:spPr>
          <a:xfrm>
            <a:off x="0" y="0"/>
            <a:ext cx="12191760" cy="6895800"/>
          </a:xfrm>
          <a:prstGeom prst="rect">
            <a:avLst/>
          </a:prstGeom>
          <a:ln w="0">
            <a:noFill/>
          </a:ln>
        </p:spPr>
      </p:pic>
      <p:sp>
        <p:nvSpPr>
          <p:cNvPr id="1" name="PlaceHolder 1"/>
          <p:cNvSpPr>
            <a:spLocks noGrp="1"/>
          </p:cNvSpPr>
          <p:nvPr>
            <p:ph type="dt" idx="1"/>
          </p:nvPr>
        </p:nvSpPr>
        <p:spPr>
          <a:xfrm>
            <a:off x="838080" y="6356520"/>
            <a:ext cx="274284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2" name="PlaceHolder 2"/>
          <p:cNvSpPr>
            <a:spLocks noGrp="1"/>
          </p:cNvSpPr>
          <p:nvPr>
            <p:ph type="ftr" idx="2"/>
          </p:nvPr>
        </p:nvSpPr>
        <p:spPr>
          <a:xfrm>
            <a:off x="4038480" y="6356520"/>
            <a:ext cx="411444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3"/>
          <p:cNvSpPr>
            <a:spLocks noGrp="1"/>
          </p:cNvSpPr>
          <p:nvPr>
            <p:ph type="sldNum" idx="3"/>
          </p:nvPr>
        </p:nvSpPr>
        <p:spPr>
          <a:xfrm>
            <a:off x="8610480" y="6356520"/>
            <a:ext cx="274284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D5C6981C-FA51-44C2-9B10-EAF9090ACC58}"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4" name="PlaceHolder 4"/>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r>
              <a:rPr b="0" lang="en-US" sz="1800" spc="-1" strike="noStrike">
                <a:solidFill>
                  <a:srgbClr val="000000"/>
                </a:solidFill>
                <a:latin typeface="Calibri"/>
              </a:rPr>
              <a:t>Click to edit the title text format</a:t>
            </a:r>
            <a:endParaRPr b="0" lang="en-US" sz="1800" spc="-1" strike="noStrike">
              <a:solidFill>
                <a:srgbClr val="000000"/>
              </a:solidFill>
              <a:latin typeface="Calibri"/>
            </a:endParaRPr>
          </a:p>
        </p:txBody>
      </p:sp>
      <p:sp>
        <p:nvSpPr>
          <p:cNvPr id="5" name="PlaceHolder 5"/>
          <p:cNvSpPr>
            <a:spLocks noGrp="1"/>
          </p:cNvSpPr>
          <p:nvPr>
            <p:ph type="body"/>
          </p:nvPr>
        </p:nvSpPr>
        <p:spPr>
          <a:xfrm>
            <a:off x="609480" y="1604520"/>
            <a:ext cx="10972440" cy="3977280"/>
          </a:xfrm>
          <a:prstGeom prst="rect">
            <a:avLst/>
          </a:prstGeom>
          <a:noFill/>
          <a:ln w="0">
            <a:noFill/>
          </a:ln>
        </p:spPr>
        <p:txBody>
          <a:bodyPr lIns="0" rIns="0" tIns="0" bIns="0" anchor="t">
            <a:normAutofit/>
          </a:bodyPr>
          <a:p>
            <a:pPr marL="432000" indent="-324000">
              <a:lnSpc>
                <a:spcPct val="90000"/>
              </a:lnSpc>
              <a:spcBef>
                <a:spcPts val="1417"/>
              </a:spcBef>
              <a:buClr>
                <a:srgbClr val="000000"/>
              </a:buClr>
              <a:buSzPct val="45000"/>
              <a:buFont typeface="Wingdings" charset="2"/>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864000" indent="-324000">
              <a:lnSpc>
                <a:spcPct val="90000"/>
              </a:lnSpc>
              <a:spcBef>
                <a:spcPts val="1134"/>
              </a:spcBef>
              <a:buClr>
                <a:srgbClr val="000000"/>
              </a:buClr>
              <a:buSzPct val="75000"/>
              <a:buFont typeface="Symbol" charset="2"/>
              <a:buChar char=""/>
            </a:pPr>
            <a:r>
              <a:rPr b="0" lang="en-US" sz="2000" spc="-1" strike="noStrike">
                <a:solidFill>
                  <a:srgbClr val="000000"/>
                </a:solidFill>
                <a:latin typeface="Calibri"/>
              </a:rPr>
              <a:t>Second Outline Level</a:t>
            </a:r>
            <a:endParaRPr b="0" lang="en-US" sz="2000" spc="-1" strike="noStrike">
              <a:solidFill>
                <a:srgbClr val="000000"/>
              </a:solidFill>
              <a:latin typeface="Calibri"/>
            </a:endParaRPr>
          </a:p>
          <a:p>
            <a:pPr lvl="2" marL="1296000" indent="-288000">
              <a:lnSpc>
                <a:spcPct val="90000"/>
              </a:lnSpc>
              <a:spcBef>
                <a:spcPts val="850"/>
              </a:spcBef>
              <a:buClr>
                <a:srgbClr val="000000"/>
              </a:buClr>
              <a:buSzPct val="45000"/>
              <a:buFont typeface="Wingdings" charset="2"/>
              <a:buChar char=""/>
            </a:pPr>
            <a:r>
              <a:rPr b="0" lang="en-US" sz="1800" spc="-1" strike="noStrike">
                <a:solidFill>
                  <a:srgbClr val="000000"/>
                </a:solidFill>
                <a:latin typeface="Calibri"/>
              </a:rPr>
              <a:t>Third Outline Level</a:t>
            </a:r>
            <a:endParaRPr b="0" lang="en-US" sz="1800" spc="-1" strike="noStrike">
              <a:solidFill>
                <a:srgbClr val="000000"/>
              </a:solidFill>
              <a:latin typeface="Calibri"/>
            </a:endParaRPr>
          </a:p>
          <a:p>
            <a:pPr lvl="3" marL="1728000" indent="-216000">
              <a:lnSpc>
                <a:spcPct val="90000"/>
              </a:lnSpc>
              <a:spcBef>
                <a:spcPts val="567"/>
              </a:spcBef>
              <a:buClr>
                <a:srgbClr val="000000"/>
              </a:buClr>
              <a:buSzPct val="75000"/>
              <a:buFont typeface="Symbol" charset="2"/>
              <a:buChar char=""/>
            </a:pPr>
            <a:r>
              <a:rPr b="0" lang="en-US" sz="1800" spc="-1" strike="noStrike">
                <a:solidFill>
                  <a:srgbClr val="000000"/>
                </a:solidFill>
                <a:latin typeface="Calibri"/>
              </a:rPr>
              <a:t>Fourth Outline Level</a:t>
            </a:r>
            <a:endParaRPr b="0" lang="en-US" sz="1800" spc="-1" strike="noStrike">
              <a:solidFill>
                <a:srgbClr val="000000"/>
              </a:solidFill>
              <a:latin typeface="Calibri"/>
            </a:endParaRPr>
          </a:p>
          <a:p>
            <a:pPr lvl="4" marL="2160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图片 7" descr=""/>
          <p:cNvPicPr/>
          <p:nvPr/>
        </p:nvPicPr>
        <p:blipFill>
          <a:blip r:embed="rId2"/>
          <a:stretch/>
        </p:blipFill>
        <p:spPr>
          <a:xfrm>
            <a:off x="0" y="0"/>
            <a:ext cx="12191760" cy="6895800"/>
          </a:xfrm>
          <a:prstGeom prst="rect">
            <a:avLst/>
          </a:prstGeom>
          <a:ln w="0">
            <a:noFill/>
          </a:ln>
        </p:spPr>
      </p:pic>
      <p:sp>
        <p:nvSpPr>
          <p:cNvPr id="43" name="PlaceHolder 1"/>
          <p:cNvSpPr>
            <a:spLocks noGrp="1"/>
          </p:cNvSpPr>
          <p:nvPr>
            <p:ph type="title"/>
          </p:nvPr>
        </p:nvSpPr>
        <p:spPr>
          <a:xfrm>
            <a:off x="838080" y="365040"/>
            <a:ext cx="10515240" cy="1325160"/>
          </a:xfrm>
          <a:prstGeom prst="rect">
            <a:avLst/>
          </a:prstGeom>
          <a:noFill/>
          <a:ln w="0">
            <a:noFill/>
          </a:ln>
        </p:spPr>
        <p:txBody>
          <a:bodyPr anchor="ctr">
            <a:noAutofit/>
          </a:bodyPr>
          <a:p>
            <a:pPr indent="0">
              <a:lnSpc>
                <a:spcPct val="90000"/>
              </a:lnSpc>
              <a:buNone/>
            </a:pPr>
            <a:r>
              <a:rPr b="0" lang="zh-CN" sz="4400" spc="-1" strike="noStrike">
                <a:solidFill>
                  <a:srgbClr val="000000"/>
                </a:solidFill>
                <a:latin typeface="Calibri Light"/>
              </a:rPr>
              <a:t>单击此处编辑母版标题样式</a:t>
            </a:r>
            <a:endParaRPr b="0" lang="en-US" sz="4400" spc="-1" strike="noStrike">
              <a:solidFill>
                <a:srgbClr val="000000"/>
              </a:solidFill>
              <a:latin typeface="Calibri"/>
            </a:endParaRPr>
          </a:p>
        </p:txBody>
      </p:sp>
      <p:sp>
        <p:nvSpPr>
          <p:cNvPr id="44" name="PlaceHolder 2"/>
          <p:cNvSpPr>
            <a:spLocks noGrp="1"/>
          </p:cNvSpPr>
          <p:nvPr>
            <p:ph type="body"/>
          </p:nvPr>
        </p:nvSpPr>
        <p:spPr>
          <a:xfrm>
            <a:off x="838080" y="1825560"/>
            <a:ext cx="10515240" cy="4350960"/>
          </a:xfrm>
          <a:prstGeom prst="rect">
            <a:avLst/>
          </a:prstGeom>
          <a:noFill/>
          <a:ln w="0">
            <a:noFill/>
          </a:ln>
        </p:spPr>
        <p:txBody>
          <a:bodyPr anchor="t">
            <a:noAutofit/>
          </a:bodyPr>
          <a:p>
            <a:pPr marL="228600" indent="-228600">
              <a:lnSpc>
                <a:spcPct val="90000"/>
              </a:lnSpc>
              <a:spcBef>
                <a:spcPts val="1001"/>
              </a:spcBef>
              <a:buClr>
                <a:srgbClr val="000000"/>
              </a:buClr>
              <a:buFont typeface="Arial"/>
              <a:buChar char="•"/>
            </a:pPr>
            <a:r>
              <a:rPr b="0" lang="zh-CN" sz="2800" spc="-1" strike="noStrike">
                <a:solidFill>
                  <a:srgbClr val="000000"/>
                </a:solidFill>
                <a:latin typeface="Calibri"/>
              </a:rPr>
              <a:t>单击此处编辑母版文本样式</a:t>
            </a:r>
            <a:endParaRPr b="0" lang="en-US" sz="2800" spc="-1" strike="noStrike">
              <a:solidFill>
                <a:srgbClr val="000000"/>
              </a:solidFill>
              <a:latin typeface="Calibri"/>
            </a:endParaRPr>
          </a:p>
          <a:p>
            <a:pPr lvl="1" marL="685800" indent="-228600">
              <a:lnSpc>
                <a:spcPct val="90000"/>
              </a:lnSpc>
              <a:spcBef>
                <a:spcPts val="499"/>
              </a:spcBef>
              <a:buClr>
                <a:srgbClr val="000000"/>
              </a:buClr>
              <a:buFont typeface="Arial"/>
              <a:buChar char="•"/>
            </a:pPr>
            <a:r>
              <a:rPr b="0" lang="zh-CN" sz="2400" spc="-1" strike="noStrike">
                <a:solidFill>
                  <a:srgbClr val="000000"/>
                </a:solidFill>
                <a:latin typeface="Calibri"/>
              </a:rPr>
              <a:t>第二级</a:t>
            </a:r>
            <a:endParaRPr b="0" lang="en-US" sz="2400" spc="-1" strike="noStrike">
              <a:solidFill>
                <a:srgbClr val="000000"/>
              </a:solidFill>
              <a:latin typeface="Calibri"/>
            </a:endParaRPr>
          </a:p>
          <a:p>
            <a:pPr lvl="2" marL="1143000" indent="-228600">
              <a:lnSpc>
                <a:spcPct val="90000"/>
              </a:lnSpc>
              <a:spcBef>
                <a:spcPts val="499"/>
              </a:spcBef>
              <a:buClr>
                <a:srgbClr val="000000"/>
              </a:buClr>
              <a:buFont typeface="Arial"/>
              <a:buChar char="•"/>
            </a:pPr>
            <a:r>
              <a:rPr b="0" lang="zh-CN" sz="2000" spc="-1" strike="noStrike">
                <a:solidFill>
                  <a:srgbClr val="000000"/>
                </a:solidFill>
                <a:latin typeface="Calibri"/>
              </a:rPr>
              <a:t>第三级</a:t>
            </a:r>
            <a:endParaRPr b="0" lang="en-US" sz="2000" spc="-1" strike="noStrike">
              <a:solidFill>
                <a:srgbClr val="000000"/>
              </a:solidFill>
              <a:latin typeface="Calibri"/>
            </a:endParaRPr>
          </a:p>
          <a:p>
            <a:pPr lvl="3" marL="1600200" indent="-228600">
              <a:lnSpc>
                <a:spcPct val="90000"/>
              </a:lnSpc>
              <a:spcBef>
                <a:spcPts val="499"/>
              </a:spcBef>
              <a:buClr>
                <a:srgbClr val="000000"/>
              </a:buClr>
              <a:buFont typeface="Arial"/>
              <a:buChar char="•"/>
            </a:pPr>
            <a:r>
              <a:rPr b="0" lang="zh-CN" sz="1800" spc="-1" strike="noStrike">
                <a:solidFill>
                  <a:srgbClr val="000000"/>
                </a:solidFill>
                <a:latin typeface="Calibri"/>
              </a:rPr>
              <a:t>第四级</a:t>
            </a:r>
            <a:endParaRPr b="0" lang="en-US" sz="1800" spc="-1" strike="noStrike">
              <a:solidFill>
                <a:srgbClr val="000000"/>
              </a:solidFill>
              <a:latin typeface="Calibri"/>
            </a:endParaRPr>
          </a:p>
          <a:p>
            <a:pPr lvl="4" marL="2057400" indent="-228600">
              <a:lnSpc>
                <a:spcPct val="90000"/>
              </a:lnSpc>
              <a:spcBef>
                <a:spcPts val="499"/>
              </a:spcBef>
              <a:buClr>
                <a:srgbClr val="000000"/>
              </a:buClr>
              <a:buFont typeface="Arial"/>
              <a:buChar char="•"/>
            </a:pPr>
            <a:r>
              <a:rPr b="0" lang="zh-CN" sz="1800" spc="-1" strike="noStrike">
                <a:solidFill>
                  <a:srgbClr val="000000"/>
                </a:solidFill>
                <a:latin typeface="Calibri"/>
              </a:rPr>
              <a:t>第五级</a:t>
            </a:r>
            <a:endParaRPr b="0" lang="en-US" sz="1800" spc="-1" strike="noStrike">
              <a:solidFill>
                <a:srgbClr val="000000"/>
              </a:solidFill>
              <a:latin typeface="Calibri"/>
            </a:endParaRPr>
          </a:p>
        </p:txBody>
      </p:sp>
      <p:sp>
        <p:nvSpPr>
          <p:cNvPr id="45" name="PlaceHolder 3"/>
          <p:cNvSpPr>
            <a:spLocks noGrp="1"/>
          </p:cNvSpPr>
          <p:nvPr>
            <p:ph type="dt" idx="4"/>
          </p:nvPr>
        </p:nvSpPr>
        <p:spPr>
          <a:xfrm>
            <a:off x="838080" y="6356520"/>
            <a:ext cx="274284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46" name="PlaceHolder 4"/>
          <p:cNvSpPr>
            <a:spLocks noGrp="1"/>
          </p:cNvSpPr>
          <p:nvPr>
            <p:ph type="ftr" idx="5"/>
          </p:nvPr>
        </p:nvSpPr>
        <p:spPr>
          <a:xfrm>
            <a:off x="4038480" y="6356520"/>
            <a:ext cx="411444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7" name="PlaceHolder 5"/>
          <p:cNvSpPr>
            <a:spLocks noGrp="1"/>
          </p:cNvSpPr>
          <p:nvPr>
            <p:ph type="sldNum" idx="6"/>
          </p:nvPr>
        </p:nvSpPr>
        <p:spPr>
          <a:xfrm>
            <a:off x="8610480" y="6356520"/>
            <a:ext cx="274284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B8AB6B0E-5303-44C0-949A-69ED5A09D23F}"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eeppt.com/moban/" TargetMode="External"/><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www.eeppt.com/new.html" TargetMode="External"/><Relationship Id="rId2" Type="http://schemas.openxmlformats.org/officeDocument/2006/relationships/hyperlink" Target="http://www.eeppt.com/new.html" TargetMode="External"/><Relationship Id="rId3" Type="http://schemas.openxmlformats.org/officeDocument/2006/relationships/hyperlink" Target="http://www.eeppt.com/beijing/" TargetMode="External"/><Relationship Id="rId4" Type="http://schemas.openxmlformats.org/officeDocument/2006/relationships/hyperlink" Target="http://www.eeppt.com/dongtai/" TargetMode="External"/><Relationship Id="rId5" Type="http://schemas.openxmlformats.org/officeDocument/2006/relationships/hyperlink" Target="http://www.eeppt.com/moban/" TargetMode="External"/><Relationship Id="rId6" Type="http://schemas.openxmlformats.org/officeDocument/2006/relationships/hyperlink" Target="http://www.eeppt.com/moban/chuangyi/" TargetMode="External"/><Relationship Id="rId7" Type="http://schemas.openxmlformats.org/officeDocument/2006/relationships/hyperlink" Target="http://www.eeppt.com/moban/dabian/" TargetMode="External"/><Relationship Id="rId8" Type="http://schemas.openxmlformats.org/officeDocument/2006/relationships/hyperlink" Target="http://www.eeppt.com/moban/gongzuo/" TargetMode="External"/><Relationship Id="rId9" Type="http://schemas.openxmlformats.org/officeDocument/2006/relationships/hyperlink" Target="http://www.eeppt.com/moban/jingpin/" TargetMode="External"/><Relationship Id="rId10" Type="http://schemas.openxmlformats.org/officeDocument/2006/relationships/hyperlink" Target="http://www.eeppt.com/moban/kejian/" TargetMode="External"/><Relationship Id="rId11" Type="http://schemas.openxmlformats.org/officeDocument/2006/relationships/hyperlink" Target="http://www.eeppt.com/moban/qiye/" TargetMode="External"/><Relationship Id="rId12" Type="http://schemas.openxmlformats.org/officeDocument/2006/relationships/hyperlink" Target="http://www.eeppt.com/moban/shangwu/" TargetMode="External"/><Relationship Id="rId13" Type="http://schemas.openxmlformats.org/officeDocument/2006/relationships/hyperlink" Target="http://www.eeppt.com/moban/yingxiao/" TargetMode="External"/><Relationship Id="rId14" Type="http://schemas.openxmlformats.org/officeDocument/2006/relationships/hyperlink" Target="http://www.eeppt.com/sucai/" TargetMode="External"/><Relationship Id="rId15" Type="http://schemas.openxmlformats.org/officeDocument/2006/relationships/hyperlink" Target="http://www.eeppt.com/tubiao/" TargetMode="External"/><Relationship Id="rId16" Type="http://schemas.openxmlformats.org/officeDocument/2006/relationships/hyperlink" Target="http://www.eeppt.com/moban/fengjing/" TargetMode="External"/><Relationship Id="rId17" Type="http://schemas.openxmlformats.org/officeDocument/2006/relationships/hyperlink" Target="http://www.eeppt.com/moban/guowai/" TargetMode="External"/><Relationship Id="rId18" Type="http://schemas.openxmlformats.org/officeDocument/2006/relationships/hyperlink" Target="http://www.eeppt.com/moban/jianjie/" TargetMode="External"/><Relationship Id="rId19" Type="http://schemas.openxmlformats.org/officeDocument/2006/relationships/hyperlink" Target="http://www.eeppt.com/moban/huiyi/" TargetMode="External"/><Relationship Id="rId20" Type="http://schemas.openxmlformats.org/officeDocument/2006/relationships/hyperlink" Target="http://www.eeppt.com/moban/jiaoyu/" TargetMode="External"/><Relationship Id="rId21" Type="http://schemas.openxmlformats.org/officeDocument/2006/relationships/hyperlink" Target="http://www.eeppt.com/moban/keji/" TargetMode="External"/><Relationship Id="rId22" Type="http://schemas.openxmlformats.org/officeDocument/2006/relationships/hyperlink" Target="http://www.eeppt.com/moban/lunwen/" TargetMode="External"/><Relationship Id="rId23" Type="http://schemas.openxmlformats.org/officeDocument/2006/relationships/hyperlink" Target="http://www.eeppt.com/moban/tongyong/" TargetMode="External"/><Relationship Id="rId24" Type="http://schemas.openxmlformats.org/officeDocument/2006/relationships/hyperlink" Target="http://www.eeppt.com/moban/yiliao/" TargetMode="External"/><Relationship Id="rId25"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任意多边形 69"/>
          <p:cNvSpPr/>
          <p:nvPr/>
        </p:nvSpPr>
        <p:spPr>
          <a:xfrm>
            <a:off x="561960" y="5459040"/>
            <a:ext cx="1379160" cy="1436400"/>
          </a:xfrm>
          <a:custGeom>
            <a:avLst/>
            <a:gdLst>
              <a:gd name="textAreaLeft" fmla="*/ 0 w 1379160"/>
              <a:gd name="textAreaRight" fmla="*/ 1379520 w 1379160"/>
              <a:gd name="textAreaTop" fmla="*/ 0 h 1436400"/>
              <a:gd name="textAreaBottom" fmla="*/ 1436760 h 1436400"/>
            </a:gdLst>
            <a:ahLst/>
            <a:rect l="textAreaLeft" t="textAreaTop" r="textAreaRight" b="textAreaBottom"/>
            <a:pathLst>
              <a:path w="1379382" h="1436917">
                <a:moveTo>
                  <a:pt x="988221" y="0"/>
                </a:moveTo>
                <a:lnTo>
                  <a:pt x="1010406" y="15258"/>
                </a:lnTo>
                <a:lnTo>
                  <a:pt x="1238011" y="370872"/>
                </a:lnTo>
                <a:lnTo>
                  <a:pt x="1235427" y="372649"/>
                </a:lnTo>
                <a:lnTo>
                  <a:pt x="1289073" y="450653"/>
                </a:lnTo>
                <a:lnTo>
                  <a:pt x="1379382" y="591754"/>
                </a:lnTo>
                <a:lnTo>
                  <a:pt x="798132" y="1436917"/>
                </a:lnTo>
                <a:lnTo>
                  <a:pt x="0" y="1436917"/>
                </a:lnTo>
                <a:lnTo>
                  <a:pt x="988221" y="0"/>
                </a:lnTo>
                <a:close/>
              </a:path>
            </a:pathLst>
          </a:custGeom>
          <a:solidFill>
            <a:srgbClr val="ee8f82"/>
          </a:solidFill>
          <a:ln>
            <a:solidFill>
              <a:srgbClr val="ee8f82"/>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85" name="任意多边形 68"/>
          <p:cNvSpPr/>
          <p:nvPr/>
        </p:nvSpPr>
        <p:spPr>
          <a:xfrm>
            <a:off x="1950120" y="5459040"/>
            <a:ext cx="1377000" cy="1436400"/>
          </a:xfrm>
          <a:custGeom>
            <a:avLst/>
            <a:gdLst>
              <a:gd name="textAreaLeft" fmla="*/ 0 w 1377000"/>
              <a:gd name="textAreaRight" fmla="*/ 1377360 w 1377000"/>
              <a:gd name="textAreaTop" fmla="*/ 0 h 1436400"/>
              <a:gd name="textAreaBottom" fmla="*/ 1436760 h 1436400"/>
            </a:gdLst>
            <a:ahLst/>
            <a:rect l="textAreaLeft" t="textAreaTop" r="textAreaRight" b="textAreaBottom"/>
            <a:pathLst>
              <a:path w="1377333" h="1436916">
                <a:moveTo>
                  <a:pt x="389113" y="0"/>
                </a:moveTo>
                <a:lnTo>
                  <a:pt x="1377333" y="1436916"/>
                </a:lnTo>
                <a:lnTo>
                  <a:pt x="579200" y="1436916"/>
                </a:lnTo>
                <a:lnTo>
                  <a:pt x="0" y="594733"/>
                </a:lnTo>
                <a:lnTo>
                  <a:pt x="373996" y="10397"/>
                </a:lnTo>
                <a:lnTo>
                  <a:pt x="389113" y="0"/>
                </a:lnTo>
                <a:close/>
              </a:path>
            </a:pathLst>
          </a:custGeom>
          <a:solidFill>
            <a:srgbClr val="ee8f82"/>
          </a:solidFill>
          <a:ln>
            <a:solidFill>
              <a:srgbClr val="ee8f82"/>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86" name="任意多边形 818"/>
          <p:cNvSpPr/>
          <p:nvPr/>
        </p:nvSpPr>
        <p:spPr>
          <a:xfrm flipV="1">
            <a:off x="5466240" y="5123160"/>
            <a:ext cx="1608120" cy="1772640"/>
          </a:xfrm>
          <a:custGeom>
            <a:avLst/>
            <a:gdLst>
              <a:gd name="textAreaLeft" fmla="*/ 0 w 1608120"/>
              <a:gd name="textAreaRight" fmla="*/ 1608480 w 1608120"/>
              <a:gd name="textAreaTop" fmla="*/ 360 h 1772640"/>
              <a:gd name="textAreaBottom" fmla="*/ 1773360 h 1772640"/>
            </a:gdLst>
            <a:ahLst/>
            <a:rect l="textAreaLeft" t="textAreaTop" r="textAreaRight" b="textAreaBottom"/>
            <a:pathLst>
              <a:path w="1608398" h="1772896">
                <a:moveTo>
                  <a:pt x="1219285" y="1772896"/>
                </a:moveTo>
                <a:lnTo>
                  <a:pt x="1234402" y="1762499"/>
                </a:lnTo>
                <a:lnTo>
                  <a:pt x="1608398" y="1178163"/>
                </a:lnTo>
                <a:lnTo>
                  <a:pt x="798132" y="0"/>
                </a:lnTo>
                <a:lnTo>
                  <a:pt x="0" y="0"/>
                </a:lnTo>
                <a:lnTo>
                  <a:pt x="1219285" y="1772896"/>
                </a:lnTo>
                <a:close/>
              </a:path>
            </a:pathLst>
          </a:custGeom>
          <a:solidFill>
            <a:srgbClr val="ef756b">
              <a:alpha val="88000"/>
            </a:srgbClr>
          </a:solidFill>
          <a:ln>
            <a:solidFill>
              <a:srgbClr val="ee8f82"/>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87" name="任意多边形 823"/>
          <p:cNvSpPr/>
          <p:nvPr/>
        </p:nvSpPr>
        <p:spPr>
          <a:xfrm flipH="1" flipV="1">
            <a:off x="4399200" y="4205160"/>
            <a:ext cx="2238840" cy="2689560"/>
          </a:xfrm>
          <a:custGeom>
            <a:avLst/>
            <a:gdLst>
              <a:gd name="textAreaLeft" fmla="*/ -360 w 2238840"/>
              <a:gd name="textAreaRight" fmla="*/ 2238840 w 2238840"/>
              <a:gd name="textAreaTop" fmla="*/ -360 h 2689560"/>
              <a:gd name="textAreaBottom" fmla="*/ 2689560 h 2689560"/>
            </a:gdLst>
            <a:ahLst/>
            <a:rect l="textAreaLeft" t="textAreaTop" r="textAreaRight" b="textAreaBottom"/>
            <a:pathLst>
              <a:path w="2239155" h="2690045">
                <a:moveTo>
                  <a:pt x="1850042" y="2690045"/>
                </a:moveTo>
                <a:lnTo>
                  <a:pt x="0" y="0"/>
                </a:lnTo>
                <a:lnTo>
                  <a:pt x="798132" y="0"/>
                </a:lnTo>
                <a:lnTo>
                  <a:pt x="2239155" y="2095312"/>
                </a:lnTo>
                <a:lnTo>
                  <a:pt x="1865159" y="2679648"/>
                </a:lnTo>
                <a:lnTo>
                  <a:pt x="1850042" y="2690045"/>
                </a:lnTo>
                <a:close/>
              </a:path>
            </a:pathLst>
          </a:custGeom>
          <a:solidFill>
            <a:srgbClr val="a9bd9c"/>
          </a:solidFill>
          <a:ln>
            <a:solidFill>
              <a:srgbClr val="a9bd9c"/>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88" name="任意多边形 519"/>
          <p:cNvSpPr/>
          <p:nvPr/>
        </p:nvSpPr>
        <p:spPr>
          <a:xfrm>
            <a:off x="10576080" y="2869200"/>
            <a:ext cx="767880" cy="594360"/>
          </a:xfrm>
          <a:custGeom>
            <a:avLst/>
            <a:gdLst>
              <a:gd name="textAreaLeft" fmla="*/ 0 w 767880"/>
              <a:gd name="textAreaRight" fmla="*/ 768240 w 767880"/>
              <a:gd name="textAreaTop" fmla="*/ 0 h 594360"/>
              <a:gd name="textAreaBottom" fmla="*/ 594720 h 594360"/>
            </a:gdLst>
            <a:ahLst/>
            <a:rect l="textAreaLeft" t="textAreaTop" r="textAreaRight" b="textAreaBottom"/>
            <a:pathLst>
              <a:path w="768171" h="594733">
                <a:moveTo>
                  <a:pt x="380650" y="0"/>
                </a:moveTo>
                <a:lnTo>
                  <a:pt x="386064" y="7873"/>
                </a:lnTo>
                <a:lnTo>
                  <a:pt x="479739" y="144080"/>
                </a:lnTo>
                <a:lnTo>
                  <a:pt x="530801" y="223861"/>
                </a:lnTo>
                <a:lnTo>
                  <a:pt x="758406" y="579475"/>
                </a:lnTo>
                <a:lnTo>
                  <a:pt x="768171" y="594733"/>
                </a:lnTo>
                <a:lnTo>
                  <a:pt x="0" y="594733"/>
                </a:lnTo>
                <a:lnTo>
                  <a:pt x="6654" y="584336"/>
                </a:lnTo>
                <a:close/>
              </a:path>
            </a:pathLst>
          </a:custGeom>
          <a:solidFill>
            <a:srgbClr val="d57053">
              <a:alpha val="49000"/>
            </a:srgbClr>
          </a:solidFill>
          <a:ln>
            <a:solidFill>
              <a:srgbClr val="df9b83">
                <a:alpha val="49000"/>
              </a:srgbClr>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89" name="任意多边形 685"/>
          <p:cNvSpPr/>
          <p:nvPr/>
        </p:nvSpPr>
        <p:spPr>
          <a:xfrm>
            <a:off x="9482400" y="0"/>
            <a:ext cx="1473840" cy="1577520"/>
          </a:xfrm>
          <a:custGeom>
            <a:avLst/>
            <a:gdLst>
              <a:gd name="textAreaLeft" fmla="*/ 0 w 1473840"/>
              <a:gd name="textAreaRight" fmla="*/ 1474200 w 1473840"/>
              <a:gd name="textAreaTop" fmla="*/ 0 h 1577520"/>
              <a:gd name="textAreaBottom" fmla="*/ 1577880 h 1577520"/>
            </a:gdLst>
            <a:ahLst/>
            <a:rect l="textAreaLeft" t="textAreaTop" r="textAreaRight" b="textAreaBottom"/>
            <a:pathLst>
              <a:path w="1474363" h="1578002">
                <a:moveTo>
                  <a:pt x="0" y="0"/>
                </a:moveTo>
                <a:lnTo>
                  <a:pt x="798133" y="0"/>
                </a:lnTo>
                <a:lnTo>
                  <a:pt x="1474363" y="983269"/>
                </a:lnTo>
                <a:lnTo>
                  <a:pt x="1100367" y="1567605"/>
                </a:lnTo>
                <a:lnTo>
                  <a:pt x="1085250" y="1578002"/>
                </a:lnTo>
                <a:lnTo>
                  <a:pt x="0" y="0"/>
                </a:lnTo>
                <a:close/>
              </a:path>
            </a:pathLst>
          </a:custGeom>
          <a:solidFill>
            <a:srgbClr val="e7b05e">
              <a:alpha val="25000"/>
            </a:srgbClr>
          </a:solidFill>
          <a:ln>
            <a:solidFill>
              <a:srgbClr val="efe3c2"/>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90" name="任意多边形 83"/>
          <p:cNvSpPr/>
          <p:nvPr/>
        </p:nvSpPr>
        <p:spPr>
          <a:xfrm>
            <a:off x="10965600" y="0"/>
            <a:ext cx="1238040" cy="1577520"/>
          </a:xfrm>
          <a:custGeom>
            <a:avLst/>
            <a:gdLst>
              <a:gd name="textAreaLeft" fmla="*/ 0 w 1238040"/>
              <a:gd name="textAreaRight" fmla="*/ 1238400 w 1238040"/>
              <a:gd name="textAreaTop" fmla="*/ 0 h 1577520"/>
              <a:gd name="textAreaBottom" fmla="*/ 1577880 h 1577520"/>
            </a:gdLst>
            <a:ahLst/>
            <a:rect l="textAreaLeft" t="textAreaTop" r="textAreaRight" b="textAreaBottom"/>
            <a:pathLst>
              <a:path w="1238362" h="1578002">
                <a:moveTo>
                  <a:pt x="678279" y="0"/>
                </a:moveTo>
                <a:lnTo>
                  <a:pt x="1238362" y="0"/>
                </a:lnTo>
                <a:lnTo>
                  <a:pt x="1238362" y="346134"/>
                </a:lnTo>
                <a:lnTo>
                  <a:pt x="391161" y="1578002"/>
                </a:lnTo>
                <a:lnTo>
                  <a:pt x="368976" y="1562744"/>
                </a:lnTo>
                <a:lnTo>
                  <a:pt x="141371" y="1207130"/>
                </a:lnTo>
                <a:lnTo>
                  <a:pt x="143955" y="1205353"/>
                </a:lnTo>
                <a:lnTo>
                  <a:pt x="90309" y="1127349"/>
                </a:lnTo>
                <a:lnTo>
                  <a:pt x="0" y="986248"/>
                </a:lnTo>
                <a:lnTo>
                  <a:pt x="678279" y="0"/>
                </a:lnTo>
                <a:close/>
              </a:path>
            </a:pathLst>
          </a:custGeom>
          <a:solidFill>
            <a:srgbClr val="efe3c2">
              <a:alpha val="71000"/>
            </a:srgbClr>
          </a:solidFill>
          <a:ln>
            <a:solidFill>
              <a:srgbClr val="eee6c8"/>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91" name="任意多边形 703"/>
          <p:cNvSpPr/>
          <p:nvPr/>
        </p:nvSpPr>
        <p:spPr>
          <a:xfrm>
            <a:off x="11202840" y="1946880"/>
            <a:ext cx="797760" cy="1160280"/>
          </a:xfrm>
          <a:custGeom>
            <a:avLst/>
            <a:gdLst>
              <a:gd name="textAreaLeft" fmla="*/ 0 w 797760"/>
              <a:gd name="textAreaRight" fmla="*/ 798120 w 797760"/>
              <a:gd name="textAreaTop" fmla="*/ 0 h 1160280"/>
              <a:gd name="textAreaBottom" fmla="*/ 1160640 h 1160280"/>
            </a:gdLst>
            <a:ahLst/>
            <a:rect l="textAreaLeft" t="textAreaTop" r="textAreaRight" b="textAreaBottom"/>
            <a:pathLst>
              <a:path w="798132" h="1160519">
                <a:moveTo>
                  <a:pt x="399066" y="0"/>
                </a:moveTo>
                <a:lnTo>
                  <a:pt x="798132" y="580260"/>
                </a:lnTo>
                <a:lnTo>
                  <a:pt x="399066" y="1160519"/>
                </a:lnTo>
                <a:lnTo>
                  <a:pt x="0" y="580260"/>
                </a:lnTo>
                <a:lnTo>
                  <a:pt x="399066" y="0"/>
                </a:lnTo>
                <a:close/>
              </a:path>
            </a:pathLst>
          </a:custGeom>
          <a:solidFill>
            <a:srgbClr val="d57053">
              <a:alpha val="25000"/>
            </a:srgbClr>
          </a:solidFill>
          <a:ln>
            <a:solidFill>
              <a:srgbClr val="ead3be"/>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92" name="任意多边形 87"/>
          <p:cNvSpPr/>
          <p:nvPr/>
        </p:nvSpPr>
        <p:spPr>
          <a:xfrm>
            <a:off x="11602080" y="1071720"/>
            <a:ext cx="601560" cy="1455120"/>
          </a:xfrm>
          <a:custGeom>
            <a:avLst/>
            <a:gdLst>
              <a:gd name="textAreaLeft" fmla="*/ 0 w 601560"/>
              <a:gd name="textAreaRight" fmla="*/ 601920 w 601560"/>
              <a:gd name="textAreaTop" fmla="*/ 0 h 1455120"/>
              <a:gd name="textAreaBottom" fmla="*/ 1455480 h 1455120"/>
            </a:gdLst>
            <a:ahLst/>
            <a:rect l="textAreaLeft" t="textAreaTop" r="textAreaRight" b="textAreaBottom"/>
            <a:pathLst>
              <a:path w="601946" h="1455517">
                <a:moveTo>
                  <a:pt x="601946" y="0"/>
                </a:moveTo>
                <a:lnTo>
                  <a:pt x="601946" y="1160520"/>
                </a:lnTo>
                <a:lnTo>
                  <a:pt x="399066" y="1455517"/>
                </a:lnTo>
                <a:lnTo>
                  <a:pt x="0" y="875257"/>
                </a:lnTo>
                <a:lnTo>
                  <a:pt x="601946" y="0"/>
                </a:lnTo>
                <a:close/>
              </a:path>
            </a:pathLst>
          </a:custGeom>
          <a:solidFill>
            <a:srgbClr val="ebcebc"/>
          </a:solidFill>
          <a:ln>
            <a:solidFill>
              <a:srgbClr val="eacdba"/>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93" name="任意多边形 699"/>
          <p:cNvSpPr/>
          <p:nvPr/>
        </p:nvSpPr>
        <p:spPr>
          <a:xfrm>
            <a:off x="10965600" y="1590120"/>
            <a:ext cx="636120" cy="936360"/>
          </a:xfrm>
          <a:custGeom>
            <a:avLst/>
            <a:gdLst>
              <a:gd name="textAreaLeft" fmla="*/ 0 w 636120"/>
              <a:gd name="textAreaRight" fmla="*/ 636480 w 636120"/>
              <a:gd name="textAreaTop" fmla="*/ 0 h 936360"/>
              <a:gd name="textAreaBottom" fmla="*/ 936720 h 936360"/>
            </a:gdLst>
            <a:ahLst/>
            <a:rect l="textAreaLeft" t="textAreaTop" r="textAreaRight" b="textAreaBottom"/>
            <a:pathLst>
              <a:path w="636416" h="936872">
                <a:moveTo>
                  <a:pt x="391161" y="0"/>
                </a:moveTo>
                <a:lnTo>
                  <a:pt x="636416" y="356612"/>
                </a:lnTo>
                <a:lnTo>
                  <a:pt x="237350" y="936872"/>
                </a:lnTo>
                <a:lnTo>
                  <a:pt x="0" y="591754"/>
                </a:lnTo>
                <a:lnTo>
                  <a:pt x="90309" y="450653"/>
                </a:lnTo>
                <a:lnTo>
                  <a:pt x="143955" y="372649"/>
                </a:lnTo>
                <a:lnTo>
                  <a:pt x="141371" y="370872"/>
                </a:lnTo>
                <a:lnTo>
                  <a:pt x="368976" y="15258"/>
                </a:lnTo>
                <a:lnTo>
                  <a:pt x="391161" y="0"/>
                </a:lnTo>
                <a:close/>
              </a:path>
            </a:pathLst>
          </a:custGeom>
          <a:solidFill>
            <a:srgbClr val="d2dbc4"/>
          </a:solidFill>
          <a:ln>
            <a:solidFill>
              <a:srgbClr val="d3ddc7"/>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94" name="任意多边形 698"/>
          <p:cNvSpPr/>
          <p:nvPr/>
        </p:nvSpPr>
        <p:spPr>
          <a:xfrm>
            <a:off x="10965600" y="2527200"/>
            <a:ext cx="636120" cy="936360"/>
          </a:xfrm>
          <a:custGeom>
            <a:avLst/>
            <a:gdLst>
              <a:gd name="textAreaLeft" fmla="*/ 0 w 636120"/>
              <a:gd name="textAreaRight" fmla="*/ 636480 w 636120"/>
              <a:gd name="textAreaTop" fmla="*/ 0 h 936360"/>
              <a:gd name="textAreaBottom" fmla="*/ 936720 h 936360"/>
            </a:gdLst>
            <a:ahLst/>
            <a:rect l="textAreaLeft" t="textAreaTop" r="textAreaRight" b="textAreaBottom"/>
            <a:pathLst>
              <a:path w="636416" h="936871">
                <a:moveTo>
                  <a:pt x="237350" y="0"/>
                </a:moveTo>
                <a:lnTo>
                  <a:pt x="636416" y="580259"/>
                </a:lnTo>
                <a:lnTo>
                  <a:pt x="391161" y="936871"/>
                </a:lnTo>
                <a:lnTo>
                  <a:pt x="368976" y="921613"/>
                </a:lnTo>
                <a:lnTo>
                  <a:pt x="141371" y="565999"/>
                </a:lnTo>
                <a:lnTo>
                  <a:pt x="143955" y="564222"/>
                </a:lnTo>
                <a:lnTo>
                  <a:pt x="90309" y="486218"/>
                </a:lnTo>
                <a:lnTo>
                  <a:pt x="0" y="345117"/>
                </a:lnTo>
                <a:lnTo>
                  <a:pt x="237350" y="0"/>
                </a:lnTo>
                <a:close/>
              </a:path>
            </a:pathLst>
          </a:custGeom>
          <a:solidFill>
            <a:srgbClr val="e9ccba"/>
          </a:solidFill>
          <a:ln>
            <a:solidFill>
              <a:srgbClr val="eacdbb"/>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95" name="任意多边形 93"/>
          <p:cNvSpPr/>
          <p:nvPr/>
        </p:nvSpPr>
        <p:spPr>
          <a:xfrm>
            <a:off x="11602080" y="2527200"/>
            <a:ext cx="601560" cy="1455120"/>
          </a:xfrm>
          <a:custGeom>
            <a:avLst/>
            <a:gdLst>
              <a:gd name="textAreaLeft" fmla="*/ 0 w 601560"/>
              <a:gd name="textAreaRight" fmla="*/ 601920 w 601560"/>
              <a:gd name="textAreaTop" fmla="*/ 0 h 1455120"/>
              <a:gd name="textAreaBottom" fmla="*/ 1455480 h 1455120"/>
            </a:gdLst>
            <a:ahLst/>
            <a:rect l="textAreaLeft" t="textAreaTop" r="textAreaRight" b="textAreaBottom"/>
            <a:pathLst>
              <a:path w="601946" h="1455516">
                <a:moveTo>
                  <a:pt x="399066" y="0"/>
                </a:moveTo>
                <a:lnTo>
                  <a:pt x="601946" y="294997"/>
                </a:lnTo>
                <a:lnTo>
                  <a:pt x="601946" y="1455516"/>
                </a:lnTo>
                <a:lnTo>
                  <a:pt x="0" y="580259"/>
                </a:lnTo>
                <a:lnTo>
                  <a:pt x="399066" y="0"/>
                </a:lnTo>
                <a:close/>
              </a:path>
            </a:pathLst>
          </a:custGeom>
          <a:solidFill>
            <a:srgbClr val="d3ddc7"/>
          </a:solidFill>
          <a:ln>
            <a:solidFill>
              <a:srgbClr val="d3dcc6"/>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96" name="任意多边形 522"/>
          <p:cNvSpPr/>
          <p:nvPr/>
        </p:nvSpPr>
        <p:spPr>
          <a:xfrm>
            <a:off x="10576080" y="983160"/>
            <a:ext cx="767880" cy="594360"/>
          </a:xfrm>
          <a:custGeom>
            <a:avLst/>
            <a:gdLst>
              <a:gd name="textAreaLeft" fmla="*/ 0 w 767880"/>
              <a:gd name="textAreaRight" fmla="*/ 768240 w 767880"/>
              <a:gd name="textAreaTop" fmla="*/ 0 h 594360"/>
              <a:gd name="textAreaBottom" fmla="*/ 594720 h 594360"/>
            </a:gdLst>
            <a:ahLst/>
            <a:rect l="textAreaLeft" t="textAreaTop" r="textAreaRight" b="textAreaBottom"/>
            <a:pathLst>
              <a:path w="768171" h="594733">
                <a:moveTo>
                  <a:pt x="380650" y="0"/>
                </a:moveTo>
                <a:lnTo>
                  <a:pt x="386064" y="7873"/>
                </a:lnTo>
                <a:lnTo>
                  <a:pt x="479739" y="144080"/>
                </a:lnTo>
                <a:lnTo>
                  <a:pt x="530801" y="223861"/>
                </a:lnTo>
                <a:lnTo>
                  <a:pt x="758406" y="579475"/>
                </a:lnTo>
                <a:lnTo>
                  <a:pt x="768171" y="594733"/>
                </a:lnTo>
                <a:lnTo>
                  <a:pt x="0" y="594733"/>
                </a:lnTo>
                <a:lnTo>
                  <a:pt x="6654" y="584336"/>
                </a:lnTo>
                <a:close/>
              </a:path>
            </a:pathLst>
          </a:custGeom>
          <a:solidFill>
            <a:srgbClr val="e49b35">
              <a:alpha val="36000"/>
            </a:srgbClr>
          </a:solidFill>
          <a:ln>
            <a:solidFill>
              <a:srgbClr val="ebd09d">
                <a:alpha val="36000"/>
              </a:srgbClr>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97" name="任意多边形 528"/>
          <p:cNvSpPr/>
          <p:nvPr/>
        </p:nvSpPr>
        <p:spPr>
          <a:xfrm flipV="1">
            <a:off x="10576080" y="1589400"/>
            <a:ext cx="767880" cy="594360"/>
          </a:xfrm>
          <a:custGeom>
            <a:avLst/>
            <a:gdLst>
              <a:gd name="textAreaLeft" fmla="*/ 0 w 767880"/>
              <a:gd name="textAreaRight" fmla="*/ 768240 w 767880"/>
              <a:gd name="textAreaTop" fmla="*/ -360 h 594360"/>
              <a:gd name="textAreaBottom" fmla="*/ 594360 h 594360"/>
            </a:gdLst>
            <a:ahLst/>
            <a:rect l="textAreaLeft" t="textAreaTop" r="textAreaRight" b="textAreaBottom"/>
            <a:pathLst>
              <a:path w="768171" h="594733">
                <a:moveTo>
                  <a:pt x="380650" y="0"/>
                </a:moveTo>
                <a:lnTo>
                  <a:pt x="386064" y="7873"/>
                </a:lnTo>
                <a:lnTo>
                  <a:pt x="479739" y="144080"/>
                </a:lnTo>
                <a:lnTo>
                  <a:pt x="530801" y="223861"/>
                </a:lnTo>
                <a:lnTo>
                  <a:pt x="758406" y="579475"/>
                </a:lnTo>
                <a:lnTo>
                  <a:pt x="768171" y="594733"/>
                </a:lnTo>
                <a:lnTo>
                  <a:pt x="0" y="594733"/>
                </a:lnTo>
                <a:lnTo>
                  <a:pt x="6654" y="584336"/>
                </a:lnTo>
                <a:close/>
              </a:path>
            </a:pathLst>
          </a:custGeom>
          <a:solidFill>
            <a:srgbClr val="88a378">
              <a:alpha val="53000"/>
            </a:srgbClr>
          </a:solidFill>
          <a:ln>
            <a:solidFill>
              <a:srgbClr val="b3c4a5">
                <a:alpha val="53000"/>
              </a:srgbClr>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98" name="椭圆 41"/>
          <p:cNvSpPr/>
          <p:nvPr/>
        </p:nvSpPr>
        <p:spPr>
          <a:xfrm flipV="1">
            <a:off x="500040" y="2099880"/>
            <a:ext cx="8895960" cy="50760"/>
          </a:xfrm>
          <a:prstGeom prst="ellipse">
            <a:avLst/>
          </a:prstGeom>
          <a:gradFill rotWithShape="0">
            <a:gsLst>
              <a:gs pos="0">
                <a:srgbClr val="000000">
                  <a:alpha val="39215"/>
                </a:srgbClr>
              </a:gs>
              <a:gs pos="100000">
                <a:srgbClr val="ffffff"/>
              </a:gs>
            </a:gsLst>
            <a:path path="rect">
              <a:fillToRect l="50000" t="50000" r="50000" b="50000"/>
            </a:path>
          </a:gradFill>
          <a:ln>
            <a:noFill/>
          </a:ln>
        </p:spPr>
        <p:style>
          <a:lnRef idx="2">
            <a:schemeClr val="accent1">
              <a:shade val="50000"/>
            </a:schemeClr>
          </a:lnRef>
          <a:fillRef idx="1">
            <a:schemeClr val="accent1"/>
          </a:fillRef>
          <a:effectRef idx="0">
            <a:schemeClr val="accent1"/>
          </a:effectRef>
          <a:fontRef idx="minor"/>
        </p:style>
        <p:txBody>
          <a:bodyPr lIns="90000" rIns="90000" tIns="-8640" bIns="-8640" anchor="ctr">
            <a:noAutofit/>
          </a:bodyPr>
          <a:p>
            <a:pPr algn="ctr">
              <a:lnSpc>
                <a:spcPct val="100000"/>
              </a:lnSpc>
            </a:pPr>
            <a:endParaRPr b="0" lang="en-US" sz="1800" spc="-1" strike="noStrike">
              <a:solidFill>
                <a:schemeClr val="lt1"/>
              </a:solidFill>
              <a:latin typeface="Calibri"/>
            </a:endParaRPr>
          </a:p>
        </p:txBody>
      </p:sp>
      <p:sp>
        <p:nvSpPr>
          <p:cNvPr id="99" name="椭圆 44"/>
          <p:cNvSpPr/>
          <p:nvPr/>
        </p:nvSpPr>
        <p:spPr>
          <a:xfrm flipV="1">
            <a:off x="500040" y="3462120"/>
            <a:ext cx="8895960" cy="50760"/>
          </a:xfrm>
          <a:prstGeom prst="ellipse">
            <a:avLst/>
          </a:prstGeom>
          <a:gradFill rotWithShape="0">
            <a:gsLst>
              <a:gs pos="0">
                <a:srgbClr val="000000">
                  <a:alpha val="39215"/>
                </a:srgbClr>
              </a:gs>
              <a:gs pos="100000">
                <a:srgbClr val="ffffff"/>
              </a:gs>
            </a:gsLst>
            <a:path path="rect">
              <a:fillToRect l="50000" t="50000" r="50000" b="50000"/>
            </a:path>
          </a:gradFill>
          <a:ln>
            <a:noFill/>
          </a:ln>
        </p:spPr>
        <p:style>
          <a:lnRef idx="2">
            <a:schemeClr val="accent1">
              <a:shade val="50000"/>
            </a:schemeClr>
          </a:lnRef>
          <a:fillRef idx="1">
            <a:schemeClr val="accent1"/>
          </a:fillRef>
          <a:effectRef idx="0">
            <a:schemeClr val="accent1"/>
          </a:effectRef>
          <a:fontRef idx="minor"/>
        </p:style>
        <p:txBody>
          <a:bodyPr lIns="90000" rIns="90000" tIns="-8640" bIns="-8640" anchor="ctr">
            <a:noAutofit/>
          </a:bodyPr>
          <a:p>
            <a:pPr algn="ctr">
              <a:lnSpc>
                <a:spcPct val="100000"/>
              </a:lnSpc>
            </a:pPr>
            <a:endParaRPr b="0" lang="en-US" sz="1800" spc="-1" strike="noStrike">
              <a:solidFill>
                <a:schemeClr val="lt1"/>
              </a:solidFill>
              <a:latin typeface="Calibri"/>
            </a:endParaRPr>
          </a:p>
        </p:txBody>
      </p:sp>
      <p:pic>
        <p:nvPicPr>
          <p:cNvPr id="100" name="图片 40" descr=""/>
          <p:cNvPicPr/>
          <p:nvPr/>
        </p:nvPicPr>
        <p:blipFill>
          <a:blip r:embed="rId1"/>
          <a:srcRect l="157" t="30900" r="26793" b="49215"/>
          <a:stretch/>
        </p:blipFill>
        <p:spPr>
          <a:xfrm>
            <a:off x="495000" y="2123280"/>
            <a:ext cx="8906040" cy="1371240"/>
          </a:xfrm>
          <a:prstGeom prst="rect">
            <a:avLst/>
          </a:prstGeom>
          <a:ln w="0">
            <a:noFill/>
          </a:ln>
        </p:spPr>
      </p:pic>
      <p:sp>
        <p:nvSpPr>
          <p:cNvPr id="101" name="任意多边形 533"/>
          <p:cNvSpPr/>
          <p:nvPr/>
        </p:nvSpPr>
        <p:spPr>
          <a:xfrm flipH="1" flipV="1">
            <a:off x="4011840" y="4205160"/>
            <a:ext cx="767880" cy="594360"/>
          </a:xfrm>
          <a:custGeom>
            <a:avLst/>
            <a:gdLst>
              <a:gd name="textAreaLeft" fmla="*/ -360 w 767880"/>
              <a:gd name="textAreaRight" fmla="*/ 767880 w 767880"/>
              <a:gd name="textAreaTop" fmla="*/ -360 h 594360"/>
              <a:gd name="textAreaBottom" fmla="*/ 594360 h 594360"/>
            </a:gdLst>
            <a:ahLst/>
            <a:rect l="textAreaLeft" t="textAreaTop" r="textAreaRight" b="textAreaBottom"/>
            <a:pathLst>
              <a:path w="768171" h="594733">
                <a:moveTo>
                  <a:pt x="380650" y="0"/>
                </a:moveTo>
                <a:lnTo>
                  <a:pt x="386064" y="7873"/>
                </a:lnTo>
                <a:lnTo>
                  <a:pt x="479739" y="144080"/>
                </a:lnTo>
                <a:lnTo>
                  <a:pt x="530801" y="223861"/>
                </a:lnTo>
                <a:lnTo>
                  <a:pt x="758406" y="579475"/>
                </a:lnTo>
                <a:lnTo>
                  <a:pt x="768171" y="594733"/>
                </a:lnTo>
                <a:lnTo>
                  <a:pt x="0" y="594733"/>
                </a:lnTo>
                <a:lnTo>
                  <a:pt x="6654" y="584336"/>
                </a:lnTo>
                <a:close/>
              </a:path>
            </a:pathLst>
          </a:custGeom>
          <a:solidFill>
            <a:srgbClr val="89a67a"/>
          </a:solidFill>
          <a:ln>
            <a:solidFill>
              <a:srgbClr val="89a67a"/>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02" name="任意多边形 72"/>
          <p:cNvSpPr/>
          <p:nvPr/>
        </p:nvSpPr>
        <p:spPr>
          <a:xfrm>
            <a:off x="2148120" y="4205880"/>
            <a:ext cx="2242800" cy="2701800"/>
          </a:xfrm>
          <a:custGeom>
            <a:avLst/>
            <a:gdLst>
              <a:gd name="textAreaLeft" fmla="*/ 0 w 2242800"/>
              <a:gd name="textAreaRight" fmla="*/ 2243160 w 2242800"/>
              <a:gd name="textAreaTop" fmla="*/ 0 h 2701800"/>
              <a:gd name="textAreaBottom" fmla="*/ 2702160 h 2701800"/>
            </a:gdLst>
            <a:ahLst/>
            <a:rect l="textAreaLeft" t="textAreaTop" r="textAreaRight" b="textAreaBottom"/>
            <a:pathLst>
              <a:path w="2243162" h="2702024">
                <a:moveTo>
                  <a:pt x="296787" y="2270482"/>
                </a:moveTo>
                <a:lnTo>
                  <a:pt x="593574" y="2702024"/>
                </a:lnTo>
                <a:lnTo>
                  <a:pt x="0" y="2702024"/>
                </a:lnTo>
                <a:close/>
                <a:moveTo>
                  <a:pt x="1852001" y="0"/>
                </a:moveTo>
                <a:lnTo>
                  <a:pt x="1874186" y="15258"/>
                </a:lnTo>
                <a:lnTo>
                  <a:pt x="2101791" y="370872"/>
                </a:lnTo>
                <a:lnTo>
                  <a:pt x="2099207" y="372649"/>
                </a:lnTo>
                <a:lnTo>
                  <a:pt x="2152853" y="450653"/>
                </a:lnTo>
                <a:lnTo>
                  <a:pt x="2243162" y="591754"/>
                </a:lnTo>
                <a:lnTo>
                  <a:pt x="800090" y="2690045"/>
                </a:lnTo>
                <a:lnTo>
                  <a:pt x="591618" y="2690045"/>
                </a:lnTo>
                <a:lnTo>
                  <a:pt x="296788" y="2261349"/>
                </a:lnTo>
                <a:close/>
              </a:path>
            </a:pathLst>
          </a:custGeom>
          <a:solidFill>
            <a:srgbClr val="a2b894">
              <a:alpha val="91000"/>
            </a:srgbClr>
          </a:solidFill>
          <a:ln>
            <a:solidFill>
              <a:srgbClr val="a9bd9c"/>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03" name="任意多边形 61"/>
          <p:cNvSpPr/>
          <p:nvPr/>
        </p:nvSpPr>
        <p:spPr>
          <a:xfrm>
            <a:off x="-35280" y="4818240"/>
            <a:ext cx="1016640" cy="2052000"/>
          </a:xfrm>
          <a:custGeom>
            <a:avLst/>
            <a:gdLst>
              <a:gd name="textAreaLeft" fmla="*/ 0 w 1016640"/>
              <a:gd name="textAreaRight" fmla="*/ 1017000 w 1016640"/>
              <a:gd name="textAreaTop" fmla="*/ 0 h 2052000"/>
              <a:gd name="textAreaBottom" fmla="*/ 2052360 h 2052000"/>
            </a:gdLst>
            <a:ahLst/>
            <a:rect l="textAreaLeft" t="textAreaTop" r="textAreaRight" b="textAreaBottom"/>
            <a:pathLst>
              <a:path w="1017046" h="2052322">
                <a:moveTo>
                  <a:pt x="0" y="0"/>
                </a:moveTo>
                <a:lnTo>
                  <a:pt x="1017046" y="1478830"/>
                </a:lnTo>
                <a:lnTo>
                  <a:pt x="613325" y="2052322"/>
                </a:lnTo>
                <a:lnTo>
                  <a:pt x="0" y="1160520"/>
                </a:lnTo>
                <a:lnTo>
                  <a:pt x="0" y="0"/>
                </a:lnTo>
                <a:close/>
              </a:path>
            </a:pathLst>
          </a:custGeom>
          <a:solidFill>
            <a:srgbClr val="508799"/>
          </a:solidFill>
          <a:ln>
            <a:solidFill>
              <a:srgbClr val="508799"/>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04" name="任意多边形 811"/>
          <p:cNvSpPr/>
          <p:nvPr/>
        </p:nvSpPr>
        <p:spPr>
          <a:xfrm flipV="1">
            <a:off x="4397400" y="5881680"/>
            <a:ext cx="1088280" cy="1013760"/>
          </a:xfrm>
          <a:custGeom>
            <a:avLst/>
            <a:gdLst>
              <a:gd name="textAreaLeft" fmla="*/ 0 w 1088280"/>
              <a:gd name="textAreaRight" fmla="*/ 1088640 w 1088280"/>
              <a:gd name="textAreaTop" fmla="*/ 360 h 1013760"/>
              <a:gd name="textAreaBottom" fmla="*/ 1014480 h 1013760"/>
            </a:gdLst>
            <a:ahLst/>
            <a:rect l="textAreaLeft" t="textAreaTop" r="textAreaRight" b="textAreaBottom"/>
            <a:pathLst>
              <a:path w="1088729" h="1014296">
                <a:moveTo>
                  <a:pt x="391161" y="1014296"/>
                </a:moveTo>
                <a:lnTo>
                  <a:pt x="1088729" y="0"/>
                </a:lnTo>
                <a:lnTo>
                  <a:pt x="290598" y="0"/>
                </a:lnTo>
                <a:lnTo>
                  <a:pt x="0" y="422542"/>
                </a:lnTo>
                <a:lnTo>
                  <a:pt x="90309" y="563643"/>
                </a:lnTo>
                <a:lnTo>
                  <a:pt x="143955" y="641647"/>
                </a:lnTo>
                <a:lnTo>
                  <a:pt x="141371" y="643424"/>
                </a:lnTo>
                <a:lnTo>
                  <a:pt x="368976" y="999038"/>
                </a:lnTo>
                <a:lnTo>
                  <a:pt x="391161" y="1014296"/>
                </a:lnTo>
                <a:close/>
              </a:path>
            </a:pathLst>
          </a:custGeom>
          <a:solidFill>
            <a:srgbClr val="dd957c"/>
          </a:solidFill>
          <a:ln>
            <a:solidFill>
              <a:srgbClr val="dd957c"/>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05" name="任意多边形 637"/>
          <p:cNvSpPr/>
          <p:nvPr/>
        </p:nvSpPr>
        <p:spPr>
          <a:xfrm flipV="1">
            <a:off x="4007880" y="5880960"/>
            <a:ext cx="767880" cy="594360"/>
          </a:xfrm>
          <a:custGeom>
            <a:avLst/>
            <a:gdLst>
              <a:gd name="textAreaLeft" fmla="*/ 0 w 767880"/>
              <a:gd name="textAreaRight" fmla="*/ 768240 w 767880"/>
              <a:gd name="textAreaTop" fmla="*/ -360 h 594360"/>
              <a:gd name="textAreaBottom" fmla="*/ 594360 h 594360"/>
            </a:gdLst>
            <a:ahLst/>
            <a:rect l="textAreaLeft" t="textAreaTop" r="textAreaRight" b="textAreaBottom"/>
            <a:pathLst>
              <a:path w="768171" h="594733">
                <a:moveTo>
                  <a:pt x="380650" y="0"/>
                </a:moveTo>
                <a:lnTo>
                  <a:pt x="386064" y="7873"/>
                </a:lnTo>
                <a:lnTo>
                  <a:pt x="479739" y="144080"/>
                </a:lnTo>
                <a:lnTo>
                  <a:pt x="530801" y="223861"/>
                </a:lnTo>
                <a:lnTo>
                  <a:pt x="758406" y="579475"/>
                </a:lnTo>
                <a:lnTo>
                  <a:pt x="768171" y="594733"/>
                </a:lnTo>
                <a:lnTo>
                  <a:pt x="0" y="594733"/>
                </a:lnTo>
                <a:lnTo>
                  <a:pt x="6654" y="584336"/>
                </a:lnTo>
                <a:close/>
              </a:path>
            </a:pathLst>
          </a:custGeom>
          <a:solidFill>
            <a:srgbClr val="d57053"/>
          </a:solidFill>
          <a:ln>
            <a:solidFill>
              <a:srgbClr val="d57053"/>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06" name="任意多边形 647"/>
          <p:cNvSpPr/>
          <p:nvPr/>
        </p:nvSpPr>
        <p:spPr>
          <a:xfrm flipV="1">
            <a:off x="6694200" y="5122440"/>
            <a:ext cx="767880" cy="594360"/>
          </a:xfrm>
          <a:custGeom>
            <a:avLst/>
            <a:gdLst>
              <a:gd name="textAreaLeft" fmla="*/ 0 w 767880"/>
              <a:gd name="textAreaRight" fmla="*/ 768240 w 767880"/>
              <a:gd name="textAreaTop" fmla="*/ -360 h 594360"/>
              <a:gd name="textAreaBottom" fmla="*/ 594360 h 594360"/>
            </a:gdLst>
            <a:ahLst/>
            <a:rect l="textAreaLeft" t="textAreaTop" r="textAreaRight" b="textAreaBottom"/>
            <a:pathLst>
              <a:path w="768171" h="594733">
                <a:moveTo>
                  <a:pt x="380650" y="0"/>
                </a:moveTo>
                <a:lnTo>
                  <a:pt x="386064" y="7873"/>
                </a:lnTo>
                <a:lnTo>
                  <a:pt x="479739" y="144080"/>
                </a:lnTo>
                <a:lnTo>
                  <a:pt x="530801" y="223861"/>
                </a:lnTo>
                <a:lnTo>
                  <a:pt x="758406" y="579475"/>
                </a:lnTo>
                <a:lnTo>
                  <a:pt x="768171" y="594733"/>
                </a:lnTo>
                <a:lnTo>
                  <a:pt x="0" y="594733"/>
                </a:lnTo>
                <a:lnTo>
                  <a:pt x="6654" y="584336"/>
                </a:lnTo>
                <a:close/>
              </a:path>
            </a:pathLst>
          </a:custGeom>
          <a:solidFill>
            <a:srgbClr val="ed6f65"/>
          </a:solidFill>
          <a:ln>
            <a:solidFill>
              <a:srgbClr val="ed6f65"/>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07" name="任意多边形 660"/>
          <p:cNvSpPr/>
          <p:nvPr/>
        </p:nvSpPr>
        <p:spPr>
          <a:xfrm flipV="1">
            <a:off x="10822680" y="5494680"/>
            <a:ext cx="767880" cy="594360"/>
          </a:xfrm>
          <a:custGeom>
            <a:avLst/>
            <a:gdLst>
              <a:gd name="textAreaLeft" fmla="*/ 0 w 767880"/>
              <a:gd name="textAreaRight" fmla="*/ 768240 w 767880"/>
              <a:gd name="textAreaTop" fmla="*/ -360 h 594360"/>
              <a:gd name="textAreaBottom" fmla="*/ 594360 h 594360"/>
            </a:gdLst>
            <a:ahLst/>
            <a:rect l="textAreaLeft" t="textAreaTop" r="textAreaRight" b="textAreaBottom"/>
            <a:pathLst>
              <a:path w="768171" h="594733">
                <a:moveTo>
                  <a:pt x="380650" y="0"/>
                </a:moveTo>
                <a:lnTo>
                  <a:pt x="386064" y="7873"/>
                </a:lnTo>
                <a:lnTo>
                  <a:pt x="479739" y="144080"/>
                </a:lnTo>
                <a:lnTo>
                  <a:pt x="530801" y="223861"/>
                </a:lnTo>
                <a:lnTo>
                  <a:pt x="758406" y="579475"/>
                </a:lnTo>
                <a:lnTo>
                  <a:pt x="768171" y="594733"/>
                </a:lnTo>
                <a:lnTo>
                  <a:pt x="0" y="594733"/>
                </a:lnTo>
                <a:lnTo>
                  <a:pt x="6654" y="584336"/>
                </a:lnTo>
                <a:close/>
              </a:path>
            </a:pathLst>
          </a:custGeom>
          <a:solidFill>
            <a:srgbClr val="508799"/>
          </a:solidFill>
          <a:ln>
            <a:solidFill>
              <a:srgbClr val="377894"/>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08" name="任意多边形 665"/>
          <p:cNvSpPr/>
          <p:nvPr/>
        </p:nvSpPr>
        <p:spPr>
          <a:xfrm>
            <a:off x="9861840" y="5495400"/>
            <a:ext cx="1341000" cy="1384200"/>
          </a:xfrm>
          <a:custGeom>
            <a:avLst/>
            <a:gdLst>
              <a:gd name="textAreaLeft" fmla="*/ 0 w 1341000"/>
              <a:gd name="textAreaRight" fmla="*/ 1341360 w 1341000"/>
              <a:gd name="textAreaTop" fmla="*/ 0 h 1384200"/>
              <a:gd name="textAreaBottom" fmla="*/ 1384560 h 1384200"/>
            </a:gdLst>
            <a:ahLst/>
            <a:rect l="textAreaLeft" t="textAreaTop" r="textAreaRight" b="textAreaBottom"/>
            <a:pathLst>
              <a:path w="1341240" h="1384436">
                <a:moveTo>
                  <a:pt x="952127" y="0"/>
                </a:moveTo>
                <a:lnTo>
                  <a:pt x="967244" y="10397"/>
                </a:lnTo>
                <a:lnTo>
                  <a:pt x="1341240" y="594733"/>
                </a:lnTo>
                <a:lnTo>
                  <a:pt x="798132" y="1384436"/>
                </a:lnTo>
                <a:lnTo>
                  <a:pt x="0" y="1384436"/>
                </a:lnTo>
                <a:lnTo>
                  <a:pt x="952127" y="0"/>
                </a:lnTo>
                <a:close/>
              </a:path>
            </a:pathLst>
          </a:custGeom>
          <a:solidFill>
            <a:srgbClr val="30728c">
              <a:alpha val="59000"/>
            </a:srgbClr>
          </a:solidFill>
          <a:ln>
            <a:solidFill>
              <a:srgbClr val="7ca5a8"/>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09" name="任意多边形 709"/>
          <p:cNvSpPr/>
          <p:nvPr/>
        </p:nvSpPr>
        <p:spPr>
          <a:xfrm>
            <a:off x="11211840" y="5495400"/>
            <a:ext cx="979560" cy="1384200"/>
          </a:xfrm>
          <a:custGeom>
            <a:avLst/>
            <a:gdLst>
              <a:gd name="textAreaLeft" fmla="*/ 0 w 979560"/>
              <a:gd name="textAreaRight" fmla="*/ 979920 w 979560"/>
              <a:gd name="textAreaTop" fmla="*/ 0 h 1384200"/>
              <a:gd name="textAreaBottom" fmla="*/ 1384560 h 1384200"/>
            </a:gdLst>
            <a:ahLst/>
            <a:rect l="textAreaLeft" t="textAreaTop" r="textAreaRight" b="textAreaBottom"/>
            <a:pathLst>
              <a:path w="980063" h="1384436">
                <a:moveTo>
                  <a:pt x="391161" y="0"/>
                </a:moveTo>
                <a:lnTo>
                  <a:pt x="980063" y="856291"/>
                </a:lnTo>
                <a:lnTo>
                  <a:pt x="980063" y="1384436"/>
                </a:lnTo>
                <a:lnTo>
                  <a:pt x="545157" y="1384436"/>
                </a:lnTo>
                <a:lnTo>
                  <a:pt x="0" y="591754"/>
                </a:lnTo>
                <a:lnTo>
                  <a:pt x="90309" y="450653"/>
                </a:lnTo>
                <a:lnTo>
                  <a:pt x="143955" y="372649"/>
                </a:lnTo>
                <a:lnTo>
                  <a:pt x="141371" y="370872"/>
                </a:lnTo>
                <a:lnTo>
                  <a:pt x="368976" y="15258"/>
                </a:lnTo>
                <a:lnTo>
                  <a:pt x="391161" y="0"/>
                </a:lnTo>
                <a:close/>
              </a:path>
            </a:pathLst>
          </a:custGeom>
          <a:solidFill>
            <a:srgbClr val="7ca5a8"/>
          </a:solidFill>
          <a:ln>
            <a:solidFill>
              <a:srgbClr val="7ba3a6"/>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10" name="任意多边形 670"/>
          <p:cNvSpPr/>
          <p:nvPr/>
        </p:nvSpPr>
        <p:spPr>
          <a:xfrm flipV="1">
            <a:off x="9195840" y="5502600"/>
            <a:ext cx="767880" cy="594360"/>
          </a:xfrm>
          <a:custGeom>
            <a:avLst/>
            <a:gdLst>
              <a:gd name="textAreaLeft" fmla="*/ 0 w 767880"/>
              <a:gd name="textAreaRight" fmla="*/ 768240 w 767880"/>
              <a:gd name="textAreaTop" fmla="*/ -360 h 594360"/>
              <a:gd name="textAreaBottom" fmla="*/ 594360 h 594360"/>
            </a:gdLst>
            <a:ahLst/>
            <a:rect l="textAreaLeft" t="textAreaTop" r="textAreaRight" b="textAreaBottom"/>
            <a:pathLst>
              <a:path w="768171" h="594733">
                <a:moveTo>
                  <a:pt x="380650" y="0"/>
                </a:moveTo>
                <a:lnTo>
                  <a:pt x="386064" y="7873"/>
                </a:lnTo>
                <a:lnTo>
                  <a:pt x="479739" y="144080"/>
                </a:lnTo>
                <a:lnTo>
                  <a:pt x="530801" y="223861"/>
                </a:lnTo>
                <a:lnTo>
                  <a:pt x="758406" y="579475"/>
                </a:lnTo>
                <a:lnTo>
                  <a:pt x="768171" y="594733"/>
                </a:lnTo>
                <a:lnTo>
                  <a:pt x="0" y="594733"/>
                </a:lnTo>
                <a:lnTo>
                  <a:pt x="6654" y="584336"/>
                </a:lnTo>
                <a:close/>
              </a:path>
            </a:pathLst>
          </a:custGeom>
          <a:solidFill>
            <a:srgbClr val="e49b35"/>
          </a:solidFill>
          <a:ln>
            <a:solidFill>
              <a:srgbClr val="e49b35"/>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11" name="任意多边形 75"/>
          <p:cNvSpPr/>
          <p:nvPr/>
        </p:nvSpPr>
        <p:spPr>
          <a:xfrm>
            <a:off x="8220960" y="5503320"/>
            <a:ext cx="1355040" cy="1404360"/>
          </a:xfrm>
          <a:custGeom>
            <a:avLst/>
            <a:gdLst>
              <a:gd name="textAreaLeft" fmla="*/ 0 w 1355040"/>
              <a:gd name="textAreaRight" fmla="*/ 1355400 w 1355040"/>
              <a:gd name="textAreaTop" fmla="*/ 0 h 1404360"/>
              <a:gd name="textAreaBottom" fmla="*/ 1404720 h 1404360"/>
            </a:gdLst>
            <a:ahLst/>
            <a:rect l="textAreaLeft" t="textAreaTop" r="textAreaRight" b="textAreaBottom"/>
            <a:pathLst>
              <a:path w="1355248" h="1404805">
                <a:moveTo>
                  <a:pt x="966135" y="0"/>
                </a:moveTo>
                <a:lnTo>
                  <a:pt x="981252" y="10397"/>
                </a:lnTo>
                <a:lnTo>
                  <a:pt x="1355248" y="594733"/>
                </a:lnTo>
                <a:lnTo>
                  <a:pt x="798132" y="1404805"/>
                </a:lnTo>
                <a:lnTo>
                  <a:pt x="0" y="1404805"/>
                </a:lnTo>
                <a:lnTo>
                  <a:pt x="966135" y="0"/>
                </a:lnTo>
                <a:close/>
              </a:path>
            </a:pathLst>
          </a:custGeom>
          <a:solidFill>
            <a:srgbClr val="e49b35">
              <a:alpha val="87000"/>
            </a:srgbClr>
          </a:solidFill>
          <a:ln>
            <a:solidFill>
              <a:srgbClr val="e5a64a"/>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12" name="任意多边形 80"/>
          <p:cNvSpPr/>
          <p:nvPr/>
        </p:nvSpPr>
        <p:spPr>
          <a:xfrm>
            <a:off x="9585000" y="5503320"/>
            <a:ext cx="1351800" cy="1397160"/>
          </a:xfrm>
          <a:custGeom>
            <a:avLst/>
            <a:gdLst>
              <a:gd name="textAreaLeft" fmla="*/ 0 w 1351800"/>
              <a:gd name="textAreaRight" fmla="*/ 1352160 w 1351800"/>
              <a:gd name="textAreaTop" fmla="*/ 0 h 1397160"/>
              <a:gd name="textAreaBottom" fmla="*/ 1397520 h 1397160"/>
            </a:gdLst>
            <a:ahLst/>
            <a:rect l="textAreaLeft" t="textAreaTop" r="textAreaRight" b="textAreaBottom"/>
            <a:pathLst>
              <a:path w="1352191" h="1397381">
                <a:moveTo>
                  <a:pt x="391161" y="0"/>
                </a:moveTo>
                <a:lnTo>
                  <a:pt x="1352191" y="1397381"/>
                </a:lnTo>
                <a:lnTo>
                  <a:pt x="554059" y="1397381"/>
                </a:lnTo>
                <a:lnTo>
                  <a:pt x="0" y="591754"/>
                </a:lnTo>
                <a:lnTo>
                  <a:pt x="90309" y="450653"/>
                </a:lnTo>
                <a:lnTo>
                  <a:pt x="143955" y="372649"/>
                </a:lnTo>
                <a:lnTo>
                  <a:pt x="141371" y="370872"/>
                </a:lnTo>
                <a:lnTo>
                  <a:pt x="368976" y="15258"/>
                </a:lnTo>
                <a:lnTo>
                  <a:pt x="391161" y="0"/>
                </a:lnTo>
                <a:close/>
              </a:path>
            </a:pathLst>
          </a:custGeom>
          <a:solidFill>
            <a:srgbClr val="e49b35">
              <a:alpha val="87000"/>
            </a:srgbClr>
          </a:solidFill>
          <a:ln>
            <a:solidFill>
              <a:srgbClr val="e5a64a"/>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13" name="任意多边形 788"/>
          <p:cNvSpPr/>
          <p:nvPr/>
        </p:nvSpPr>
        <p:spPr>
          <a:xfrm flipV="1">
            <a:off x="3302640" y="5881680"/>
            <a:ext cx="1086480" cy="1013760"/>
          </a:xfrm>
          <a:custGeom>
            <a:avLst/>
            <a:gdLst>
              <a:gd name="textAreaLeft" fmla="*/ 0 w 1086480"/>
              <a:gd name="textAreaRight" fmla="*/ 1086840 w 1086480"/>
              <a:gd name="textAreaTop" fmla="*/ 360 h 1013760"/>
              <a:gd name="textAreaBottom" fmla="*/ 1014480 h 1013760"/>
            </a:gdLst>
            <a:ahLst/>
            <a:rect l="textAreaLeft" t="textAreaTop" r="textAreaRight" b="textAreaBottom"/>
            <a:pathLst>
              <a:path w="1086681" h="1014296">
                <a:moveTo>
                  <a:pt x="697568" y="1014296"/>
                </a:moveTo>
                <a:lnTo>
                  <a:pt x="712685" y="1003899"/>
                </a:lnTo>
                <a:lnTo>
                  <a:pt x="1086681" y="419563"/>
                </a:lnTo>
                <a:lnTo>
                  <a:pt x="798132" y="0"/>
                </a:lnTo>
                <a:lnTo>
                  <a:pt x="0" y="0"/>
                </a:lnTo>
                <a:lnTo>
                  <a:pt x="697568" y="1014296"/>
                </a:lnTo>
                <a:close/>
              </a:path>
            </a:pathLst>
          </a:custGeom>
          <a:solidFill>
            <a:srgbClr val="dd957c">
              <a:alpha val="76000"/>
            </a:srgbClr>
          </a:solidFill>
          <a:ln>
            <a:solidFill>
              <a:srgbClr val="e2ab94"/>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14" name="矩形 712"/>
          <p:cNvSpPr/>
          <p:nvPr/>
        </p:nvSpPr>
        <p:spPr>
          <a:xfrm>
            <a:off x="0" y="453600"/>
            <a:ext cx="686520" cy="462960"/>
          </a:xfrm>
          <a:prstGeom prst="rect">
            <a:avLst/>
          </a:prstGeom>
          <a:solidFill>
            <a:srgbClr val="34618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15" name="TextBox 40"/>
          <p:cNvSpPr/>
          <p:nvPr/>
        </p:nvSpPr>
        <p:spPr>
          <a:xfrm>
            <a:off x="832680" y="457200"/>
            <a:ext cx="2494440" cy="455040"/>
          </a:xfrm>
          <a:prstGeom prst="rect">
            <a:avLst/>
          </a:prstGeom>
          <a:noFill/>
          <a:ln w="0">
            <a:noFill/>
          </a:ln>
        </p:spPr>
        <p:style>
          <a:lnRef idx="0"/>
          <a:fillRef idx="0"/>
          <a:effectRef idx="0"/>
          <a:fontRef idx="minor"/>
        </p:style>
        <p:txBody>
          <a:bodyPr lIns="90000" rIns="90000" tIns="45000" bIns="45000" anchor="ctr">
            <a:spAutoFit/>
          </a:bodyPr>
          <a:p>
            <a:pPr>
              <a:lnSpc>
                <a:spcPct val="100000"/>
              </a:lnSpc>
            </a:pPr>
            <a:r>
              <a:rPr b="0" lang="en-US" sz="2400" spc="-1" strike="noStrike">
                <a:solidFill>
                  <a:srgbClr val="346182"/>
                </a:solidFill>
                <a:latin typeface="微软雅黑"/>
                <a:ea typeface="微软雅黑"/>
              </a:rPr>
              <a:t>XX</a:t>
            </a:r>
            <a:r>
              <a:rPr b="0" lang="zh-CN" sz="2400" spc="-1" strike="noStrike">
                <a:solidFill>
                  <a:srgbClr val="346182"/>
                </a:solidFill>
                <a:latin typeface="微软雅黑"/>
                <a:ea typeface="微软雅黑"/>
              </a:rPr>
              <a:t>大学</a:t>
            </a:r>
            <a:r>
              <a:rPr b="0" lang="en-US" sz="2400" spc="-1" strike="noStrike">
                <a:solidFill>
                  <a:srgbClr val="346182"/>
                </a:solidFill>
                <a:latin typeface="微软雅黑"/>
                <a:ea typeface="微软雅黑"/>
              </a:rPr>
              <a:t>XX</a:t>
            </a:r>
            <a:r>
              <a:rPr b="0" lang="zh-CN" sz="2400" spc="-1" strike="noStrike">
                <a:solidFill>
                  <a:srgbClr val="346182"/>
                </a:solidFill>
                <a:latin typeface="微软雅黑"/>
                <a:ea typeface="微软雅黑"/>
              </a:rPr>
              <a:t>学院</a:t>
            </a:r>
            <a:endParaRPr b="0" lang="en-US" sz="2400" spc="-1" strike="noStrike">
              <a:solidFill>
                <a:srgbClr val="000000"/>
              </a:solidFill>
              <a:latin typeface="Arial"/>
            </a:endParaRPr>
          </a:p>
        </p:txBody>
      </p:sp>
      <p:cxnSp>
        <p:nvCxnSpPr>
          <p:cNvPr id="116" name="直接连接符 714"/>
          <p:cNvCxnSpPr/>
          <p:nvPr/>
        </p:nvCxnSpPr>
        <p:spPr>
          <a:xfrm>
            <a:off x="789480" y="452520"/>
            <a:ext cx="360" cy="465480"/>
          </a:xfrm>
          <a:prstGeom prst="straightConnector1">
            <a:avLst/>
          </a:prstGeom>
          <a:ln w="19050">
            <a:solidFill>
              <a:srgbClr val="346182"/>
            </a:solidFill>
          </a:ln>
        </p:spPr>
      </p:cxnSp>
      <p:sp>
        <p:nvSpPr>
          <p:cNvPr id="117" name="矩形 827"/>
          <p:cNvSpPr/>
          <p:nvPr/>
        </p:nvSpPr>
        <p:spPr>
          <a:xfrm>
            <a:off x="842400" y="2455200"/>
            <a:ext cx="9276840" cy="6991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4000" spc="-1" strike="noStrike">
                <a:solidFill>
                  <a:srgbClr val="315b7b"/>
                </a:solidFill>
                <a:latin typeface="微软雅黑"/>
                <a:ea typeface="微软雅黑"/>
              </a:rPr>
              <a:t>多色复古简洁宽屏论文答辩通用</a:t>
            </a:r>
            <a:r>
              <a:rPr b="1" lang="en-US" sz="4000" spc="-1" strike="noStrike">
                <a:solidFill>
                  <a:srgbClr val="315b7b"/>
                </a:solidFill>
                <a:latin typeface="微软雅黑"/>
                <a:ea typeface="微软雅黑"/>
              </a:rPr>
              <a:t>PPT</a:t>
            </a:r>
            <a:endParaRPr b="0" lang="en-US" sz="4000" spc="-1" strike="noStrike">
              <a:solidFill>
                <a:srgbClr val="000000"/>
              </a:solidFill>
              <a:latin typeface="Arial"/>
            </a:endParaRPr>
          </a:p>
        </p:txBody>
      </p:sp>
      <p:sp>
        <p:nvSpPr>
          <p:cNvPr id="118" name="任意多边形 686"/>
          <p:cNvSpPr/>
          <p:nvPr/>
        </p:nvSpPr>
        <p:spPr>
          <a:xfrm>
            <a:off x="8185320" y="0"/>
            <a:ext cx="2770920" cy="3463560"/>
          </a:xfrm>
          <a:custGeom>
            <a:avLst/>
            <a:gdLst>
              <a:gd name="textAreaLeft" fmla="*/ 0 w 2770920"/>
              <a:gd name="textAreaRight" fmla="*/ 2771280 w 2770920"/>
              <a:gd name="textAreaTop" fmla="*/ 0 h 3463560"/>
              <a:gd name="textAreaBottom" fmla="*/ 3463920 h 3463560"/>
            </a:gdLst>
            <a:ahLst/>
            <a:rect l="textAreaLeft" t="textAreaTop" r="textAreaRight" b="textAreaBottom"/>
            <a:pathLst>
              <a:path w="2771399" h="3463952">
                <a:moveTo>
                  <a:pt x="0" y="0"/>
                </a:moveTo>
                <a:lnTo>
                  <a:pt x="798131" y="0"/>
                </a:lnTo>
                <a:lnTo>
                  <a:pt x="2771399" y="2869219"/>
                </a:lnTo>
                <a:lnTo>
                  <a:pt x="2397403" y="3453555"/>
                </a:lnTo>
                <a:lnTo>
                  <a:pt x="2382286" y="3463952"/>
                </a:lnTo>
                <a:lnTo>
                  <a:pt x="0" y="0"/>
                </a:lnTo>
                <a:close/>
              </a:path>
            </a:pathLst>
          </a:custGeom>
          <a:solidFill>
            <a:srgbClr val="d57053">
              <a:alpha val="30000"/>
            </a:srgbClr>
          </a:solidFill>
          <a:ln>
            <a:solidFill>
              <a:srgbClr val="eacebc"/>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19" name="任意多边形 824"/>
          <p:cNvSpPr/>
          <p:nvPr/>
        </p:nvSpPr>
        <p:spPr>
          <a:xfrm flipH="1" flipV="1">
            <a:off x="6913080" y="1590120"/>
            <a:ext cx="4043520" cy="5305680"/>
          </a:xfrm>
          <a:custGeom>
            <a:avLst/>
            <a:gdLst>
              <a:gd name="textAreaLeft" fmla="*/ 360 w 4043520"/>
              <a:gd name="textAreaRight" fmla="*/ 4044240 w 4043520"/>
              <a:gd name="textAreaTop" fmla="*/ 360 h 5305680"/>
              <a:gd name="textAreaBottom" fmla="*/ 5306400 h 5305680"/>
            </a:gdLst>
            <a:ahLst/>
            <a:rect l="textAreaLeft" t="textAreaTop" r="textAreaRight" b="textAreaBottom"/>
            <a:pathLst>
              <a:path w="4043737" h="5305892">
                <a:moveTo>
                  <a:pt x="389113" y="5305892"/>
                </a:moveTo>
                <a:lnTo>
                  <a:pt x="373996" y="5295495"/>
                </a:lnTo>
                <a:lnTo>
                  <a:pt x="0" y="4711159"/>
                </a:lnTo>
                <a:lnTo>
                  <a:pt x="2281471" y="1393799"/>
                </a:lnTo>
                <a:lnTo>
                  <a:pt x="2285250" y="1396398"/>
                </a:lnTo>
                <a:lnTo>
                  <a:pt x="3245605" y="0"/>
                </a:lnTo>
                <a:lnTo>
                  <a:pt x="4043737" y="0"/>
                </a:lnTo>
                <a:lnTo>
                  <a:pt x="1810872" y="3246685"/>
                </a:lnTo>
                <a:lnTo>
                  <a:pt x="1807092" y="3244086"/>
                </a:lnTo>
                <a:lnTo>
                  <a:pt x="389113" y="5305892"/>
                </a:lnTo>
                <a:close/>
              </a:path>
            </a:pathLst>
          </a:custGeom>
          <a:solidFill>
            <a:srgbClr val="88a378">
              <a:alpha val="30000"/>
            </a:srgbClr>
          </a:solidFill>
          <a:ln>
            <a:solidFill>
              <a:srgbClr val="d3dcc5">
                <a:alpha val="30000"/>
              </a:srgbClr>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20" name="任意多边形 817"/>
          <p:cNvSpPr/>
          <p:nvPr/>
        </p:nvSpPr>
        <p:spPr>
          <a:xfrm flipV="1">
            <a:off x="7083360" y="5123160"/>
            <a:ext cx="1609920" cy="1772640"/>
          </a:xfrm>
          <a:custGeom>
            <a:avLst/>
            <a:gdLst>
              <a:gd name="textAreaLeft" fmla="*/ 0 w 1609920"/>
              <a:gd name="textAreaRight" fmla="*/ 1610280 w 1609920"/>
              <a:gd name="textAreaTop" fmla="*/ 360 h 1772640"/>
              <a:gd name="textAreaBottom" fmla="*/ 1773360 h 1772640"/>
            </a:gdLst>
            <a:ahLst/>
            <a:rect l="textAreaLeft" t="textAreaTop" r="textAreaRight" b="textAreaBottom"/>
            <a:pathLst>
              <a:path w="1610447" h="1772896">
                <a:moveTo>
                  <a:pt x="391161" y="1772896"/>
                </a:moveTo>
                <a:lnTo>
                  <a:pt x="1610447" y="0"/>
                </a:lnTo>
                <a:lnTo>
                  <a:pt x="812315" y="0"/>
                </a:lnTo>
                <a:lnTo>
                  <a:pt x="0" y="1181142"/>
                </a:lnTo>
                <a:lnTo>
                  <a:pt x="90309" y="1322243"/>
                </a:lnTo>
                <a:lnTo>
                  <a:pt x="143955" y="1400247"/>
                </a:lnTo>
                <a:lnTo>
                  <a:pt x="141371" y="1402024"/>
                </a:lnTo>
                <a:lnTo>
                  <a:pt x="368976" y="1757638"/>
                </a:lnTo>
                <a:lnTo>
                  <a:pt x="391161" y="1772896"/>
                </a:lnTo>
                <a:close/>
              </a:path>
            </a:pathLst>
          </a:custGeom>
          <a:solidFill>
            <a:srgbClr val="ed6f65">
              <a:alpha val="88000"/>
            </a:srgbClr>
          </a:solidFill>
          <a:ln>
            <a:solidFill>
              <a:srgbClr val="ed8075"/>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21" name="任意多边形 54"/>
          <p:cNvSpPr/>
          <p:nvPr/>
        </p:nvSpPr>
        <p:spPr>
          <a:xfrm flipH="1" flipV="1">
            <a:off x="1561680" y="5458320"/>
            <a:ext cx="767880" cy="594360"/>
          </a:xfrm>
          <a:custGeom>
            <a:avLst/>
            <a:gdLst>
              <a:gd name="textAreaLeft" fmla="*/ -360 w 767880"/>
              <a:gd name="textAreaRight" fmla="*/ 767880 w 767880"/>
              <a:gd name="textAreaTop" fmla="*/ -360 h 594360"/>
              <a:gd name="textAreaBottom" fmla="*/ 594360 h 594360"/>
            </a:gdLst>
            <a:ahLst/>
            <a:rect l="textAreaLeft" t="textAreaTop" r="textAreaRight" b="textAreaBottom"/>
            <a:pathLst>
              <a:path w="768171" h="594733">
                <a:moveTo>
                  <a:pt x="380650" y="0"/>
                </a:moveTo>
                <a:lnTo>
                  <a:pt x="386064" y="7873"/>
                </a:lnTo>
                <a:lnTo>
                  <a:pt x="479739" y="144080"/>
                </a:lnTo>
                <a:lnTo>
                  <a:pt x="530801" y="223861"/>
                </a:lnTo>
                <a:lnTo>
                  <a:pt x="758406" y="579475"/>
                </a:lnTo>
                <a:lnTo>
                  <a:pt x="768171" y="594733"/>
                </a:lnTo>
                <a:lnTo>
                  <a:pt x="0" y="594733"/>
                </a:lnTo>
                <a:lnTo>
                  <a:pt x="6654" y="584336"/>
                </a:lnTo>
                <a:close/>
              </a:path>
            </a:pathLst>
          </a:custGeom>
          <a:solidFill>
            <a:srgbClr val="ed5249">
              <a:alpha val="82000"/>
            </a:srgbClr>
          </a:solidFill>
          <a:ln>
            <a:solidFill>
              <a:srgbClr val="ee6f65"/>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22" name="矩形 12"/>
          <p:cNvSpPr/>
          <p:nvPr/>
        </p:nvSpPr>
        <p:spPr>
          <a:xfrm>
            <a:off x="209160" y="6519960"/>
            <a:ext cx="2986560" cy="3330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1600" spc="-1" strike="noStrike">
                <a:solidFill>
                  <a:srgbClr val="000000"/>
                </a:solidFill>
                <a:latin typeface="Arial"/>
                <a:ea typeface="宋体"/>
              </a:rPr>
              <a:t>幻灯片之家</a:t>
            </a:r>
            <a:r>
              <a:rPr b="1" lang="en-US" sz="1600" spc="-1" strike="noStrike">
                <a:solidFill>
                  <a:srgbClr val="000000"/>
                </a:solidFill>
                <a:latin typeface="Arial"/>
                <a:ea typeface="宋体"/>
              </a:rPr>
              <a:t> </a:t>
            </a:r>
            <a:r>
              <a:rPr b="1" lang="en-US" sz="1600" spc="-1" strike="noStrike">
                <a:solidFill>
                  <a:srgbClr val="000000"/>
                </a:solidFill>
                <a:latin typeface="Arial"/>
                <a:ea typeface="宋体"/>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17"/>
                                        </p:tgtEl>
                                        <p:attrNameLst>
                                          <p:attrName>style.visibility</p:attrName>
                                        </p:attrNameLst>
                                      </p:cBhvr>
                                      <p:to>
                                        <p:strVal val="visible"/>
                                      </p:to>
                                    </p:set>
                                    <p:anim calcmode="lin" valueType="num">
                                      <p:cBhvr additive="repl">
                                        <p:cTn id="7" dur="500" fill="hold"/>
                                        <p:tgtEl>
                                          <p:spTgt spid="117"/>
                                        </p:tgtEl>
                                        <p:attrNameLst>
                                          <p:attrName>ppt_x</p:attrName>
                                        </p:attrNameLst>
                                      </p:cBhvr>
                                      <p:tavLst>
                                        <p:tav tm="0">
                                          <p:val>
                                            <p:strVal val="#ppt_x"/>
                                          </p:val>
                                        </p:tav>
                                        <p:tav tm="100000">
                                          <p:val>
                                            <p:strVal val="#ppt_x"/>
                                          </p:val>
                                        </p:tav>
                                      </p:tavLst>
                                    </p:anim>
                                    <p:anim calcmode="lin" valueType="num">
                                      <p:cBhvr additive="repl">
                                        <p:cTn id="8" dur="500" fill="hold"/>
                                        <p:tgtEl>
                                          <p:spTgt spid="11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任意多边形 69"/>
          <p:cNvSpPr/>
          <p:nvPr/>
        </p:nvSpPr>
        <p:spPr>
          <a:xfrm>
            <a:off x="561960" y="5459040"/>
            <a:ext cx="1379160" cy="1436400"/>
          </a:xfrm>
          <a:custGeom>
            <a:avLst/>
            <a:gdLst>
              <a:gd name="textAreaLeft" fmla="*/ 0 w 1379160"/>
              <a:gd name="textAreaRight" fmla="*/ 1379520 w 1379160"/>
              <a:gd name="textAreaTop" fmla="*/ 0 h 1436400"/>
              <a:gd name="textAreaBottom" fmla="*/ 1436760 h 1436400"/>
            </a:gdLst>
            <a:ahLst/>
            <a:rect l="textAreaLeft" t="textAreaTop" r="textAreaRight" b="textAreaBottom"/>
            <a:pathLst>
              <a:path w="1379382" h="1436917">
                <a:moveTo>
                  <a:pt x="988221" y="0"/>
                </a:moveTo>
                <a:lnTo>
                  <a:pt x="1010406" y="15258"/>
                </a:lnTo>
                <a:lnTo>
                  <a:pt x="1238011" y="370872"/>
                </a:lnTo>
                <a:lnTo>
                  <a:pt x="1235427" y="372649"/>
                </a:lnTo>
                <a:lnTo>
                  <a:pt x="1289073" y="450653"/>
                </a:lnTo>
                <a:lnTo>
                  <a:pt x="1379382" y="591754"/>
                </a:lnTo>
                <a:lnTo>
                  <a:pt x="798132" y="1436917"/>
                </a:lnTo>
                <a:lnTo>
                  <a:pt x="0" y="1436917"/>
                </a:lnTo>
                <a:lnTo>
                  <a:pt x="988221" y="0"/>
                </a:lnTo>
                <a:close/>
              </a:path>
            </a:pathLst>
          </a:custGeom>
          <a:solidFill>
            <a:srgbClr val="ee8f82">
              <a:alpha val="25000"/>
            </a:srgbClr>
          </a:solidFill>
          <a:ln>
            <a:solidFill>
              <a:srgbClr val="eed9c6"/>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24" name="任意多边形 68"/>
          <p:cNvSpPr/>
          <p:nvPr/>
        </p:nvSpPr>
        <p:spPr>
          <a:xfrm>
            <a:off x="1950120" y="5459040"/>
            <a:ext cx="1377000" cy="1436400"/>
          </a:xfrm>
          <a:custGeom>
            <a:avLst/>
            <a:gdLst>
              <a:gd name="textAreaLeft" fmla="*/ 0 w 1377000"/>
              <a:gd name="textAreaRight" fmla="*/ 1377360 w 1377000"/>
              <a:gd name="textAreaTop" fmla="*/ 0 h 1436400"/>
              <a:gd name="textAreaBottom" fmla="*/ 1436760 h 1436400"/>
            </a:gdLst>
            <a:ahLst/>
            <a:rect l="textAreaLeft" t="textAreaTop" r="textAreaRight" b="textAreaBottom"/>
            <a:pathLst>
              <a:path w="1377333" h="1436916">
                <a:moveTo>
                  <a:pt x="389113" y="0"/>
                </a:moveTo>
                <a:lnTo>
                  <a:pt x="1377333" y="1436916"/>
                </a:lnTo>
                <a:lnTo>
                  <a:pt x="579200" y="1436916"/>
                </a:lnTo>
                <a:lnTo>
                  <a:pt x="0" y="594733"/>
                </a:lnTo>
                <a:lnTo>
                  <a:pt x="373996" y="10397"/>
                </a:lnTo>
                <a:lnTo>
                  <a:pt x="389113" y="0"/>
                </a:lnTo>
                <a:close/>
              </a:path>
            </a:pathLst>
          </a:custGeom>
          <a:solidFill>
            <a:srgbClr val="f1dbcc"/>
          </a:solidFill>
          <a:ln>
            <a:solidFill>
              <a:srgbClr val="f1dbcc"/>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25" name="任意多边形 818"/>
          <p:cNvSpPr/>
          <p:nvPr/>
        </p:nvSpPr>
        <p:spPr>
          <a:xfrm flipV="1">
            <a:off x="5466240" y="5123160"/>
            <a:ext cx="1608120" cy="1772640"/>
          </a:xfrm>
          <a:custGeom>
            <a:avLst/>
            <a:gdLst>
              <a:gd name="textAreaLeft" fmla="*/ 0 w 1608120"/>
              <a:gd name="textAreaRight" fmla="*/ 1608480 w 1608120"/>
              <a:gd name="textAreaTop" fmla="*/ 360 h 1772640"/>
              <a:gd name="textAreaBottom" fmla="*/ 1773360 h 1772640"/>
            </a:gdLst>
            <a:ahLst/>
            <a:rect l="textAreaLeft" t="textAreaTop" r="textAreaRight" b="textAreaBottom"/>
            <a:pathLst>
              <a:path w="1608398" h="1772896">
                <a:moveTo>
                  <a:pt x="1219285" y="1772896"/>
                </a:moveTo>
                <a:lnTo>
                  <a:pt x="1234402" y="1762499"/>
                </a:lnTo>
                <a:lnTo>
                  <a:pt x="1608398" y="1178163"/>
                </a:lnTo>
                <a:lnTo>
                  <a:pt x="798132" y="0"/>
                </a:lnTo>
                <a:lnTo>
                  <a:pt x="0" y="0"/>
                </a:lnTo>
                <a:lnTo>
                  <a:pt x="1219285" y="1772896"/>
                </a:lnTo>
                <a:close/>
              </a:path>
            </a:pathLst>
          </a:custGeom>
          <a:solidFill>
            <a:srgbClr val="ed6f65">
              <a:alpha val="25000"/>
            </a:srgbClr>
          </a:solidFill>
          <a:ln>
            <a:solidFill>
              <a:srgbClr val="f1dbcc"/>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26" name="任意多边形 519"/>
          <p:cNvSpPr/>
          <p:nvPr/>
        </p:nvSpPr>
        <p:spPr>
          <a:xfrm>
            <a:off x="10576080" y="2869200"/>
            <a:ext cx="767880" cy="594360"/>
          </a:xfrm>
          <a:custGeom>
            <a:avLst/>
            <a:gdLst>
              <a:gd name="textAreaLeft" fmla="*/ 0 w 767880"/>
              <a:gd name="textAreaRight" fmla="*/ 768240 w 767880"/>
              <a:gd name="textAreaTop" fmla="*/ 0 h 594360"/>
              <a:gd name="textAreaBottom" fmla="*/ 594720 h 594360"/>
            </a:gdLst>
            <a:ahLst/>
            <a:rect l="textAreaLeft" t="textAreaTop" r="textAreaRight" b="textAreaBottom"/>
            <a:pathLst>
              <a:path w="768171" h="594733">
                <a:moveTo>
                  <a:pt x="380650" y="0"/>
                </a:moveTo>
                <a:lnTo>
                  <a:pt x="386064" y="7873"/>
                </a:lnTo>
                <a:lnTo>
                  <a:pt x="479739" y="144080"/>
                </a:lnTo>
                <a:lnTo>
                  <a:pt x="530801" y="223861"/>
                </a:lnTo>
                <a:lnTo>
                  <a:pt x="758406" y="579475"/>
                </a:lnTo>
                <a:lnTo>
                  <a:pt x="768171" y="594733"/>
                </a:lnTo>
                <a:lnTo>
                  <a:pt x="0" y="594733"/>
                </a:lnTo>
                <a:lnTo>
                  <a:pt x="6654" y="584336"/>
                </a:lnTo>
                <a:close/>
              </a:path>
            </a:pathLst>
          </a:custGeom>
          <a:solidFill>
            <a:srgbClr val="d57053">
              <a:alpha val="49000"/>
            </a:srgbClr>
          </a:solidFill>
          <a:ln>
            <a:solidFill>
              <a:srgbClr val="df9b83">
                <a:alpha val="49000"/>
              </a:srgbClr>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27" name="任意多边形 685"/>
          <p:cNvSpPr/>
          <p:nvPr/>
        </p:nvSpPr>
        <p:spPr>
          <a:xfrm>
            <a:off x="9482400" y="0"/>
            <a:ext cx="1473840" cy="1577520"/>
          </a:xfrm>
          <a:custGeom>
            <a:avLst/>
            <a:gdLst>
              <a:gd name="textAreaLeft" fmla="*/ 0 w 1473840"/>
              <a:gd name="textAreaRight" fmla="*/ 1474200 w 1473840"/>
              <a:gd name="textAreaTop" fmla="*/ 0 h 1577520"/>
              <a:gd name="textAreaBottom" fmla="*/ 1577880 h 1577520"/>
            </a:gdLst>
            <a:ahLst/>
            <a:rect l="textAreaLeft" t="textAreaTop" r="textAreaRight" b="textAreaBottom"/>
            <a:pathLst>
              <a:path w="1474363" h="1578002">
                <a:moveTo>
                  <a:pt x="0" y="0"/>
                </a:moveTo>
                <a:lnTo>
                  <a:pt x="798133" y="0"/>
                </a:lnTo>
                <a:lnTo>
                  <a:pt x="1474363" y="983269"/>
                </a:lnTo>
                <a:lnTo>
                  <a:pt x="1100367" y="1567605"/>
                </a:lnTo>
                <a:lnTo>
                  <a:pt x="1085250" y="1578002"/>
                </a:lnTo>
                <a:lnTo>
                  <a:pt x="0" y="0"/>
                </a:lnTo>
                <a:close/>
              </a:path>
            </a:pathLst>
          </a:custGeom>
          <a:solidFill>
            <a:srgbClr val="e7b05e">
              <a:alpha val="25000"/>
            </a:srgbClr>
          </a:solidFill>
          <a:ln>
            <a:solidFill>
              <a:srgbClr val="efe3c2"/>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28" name="任意多边形 83"/>
          <p:cNvSpPr/>
          <p:nvPr/>
        </p:nvSpPr>
        <p:spPr>
          <a:xfrm>
            <a:off x="10965600" y="0"/>
            <a:ext cx="1238040" cy="1577520"/>
          </a:xfrm>
          <a:custGeom>
            <a:avLst/>
            <a:gdLst>
              <a:gd name="textAreaLeft" fmla="*/ 0 w 1238040"/>
              <a:gd name="textAreaRight" fmla="*/ 1238400 w 1238040"/>
              <a:gd name="textAreaTop" fmla="*/ 0 h 1577520"/>
              <a:gd name="textAreaBottom" fmla="*/ 1577880 h 1577520"/>
            </a:gdLst>
            <a:ahLst/>
            <a:rect l="textAreaLeft" t="textAreaTop" r="textAreaRight" b="textAreaBottom"/>
            <a:pathLst>
              <a:path w="1238362" h="1578002">
                <a:moveTo>
                  <a:pt x="678279" y="0"/>
                </a:moveTo>
                <a:lnTo>
                  <a:pt x="1238362" y="0"/>
                </a:lnTo>
                <a:lnTo>
                  <a:pt x="1238362" y="346134"/>
                </a:lnTo>
                <a:lnTo>
                  <a:pt x="391161" y="1578002"/>
                </a:lnTo>
                <a:lnTo>
                  <a:pt x="368976" y="1562744"/>
                </a:lnTo>
                <a:lnTo>
                  <a:pt x="141371" y="1207130"/>
                </a:lnTo>
                <a:lnTo>
                  <a:pt x="143955" y="1205353"/>
                </a:lnTo>
                <a:lnTo>
                  <a:pt x="90309" y="1127349"/>
                </a:lnTo>
                <a:lnTo>
                  <a:pt x="0" y="986248"/>
                </a:lnTo>
                <a:lnTo>
                  <a:pt x="678279" y="0"/>
                </a:lnTo>
                <a:close/>
              </a:path>
            </a:pathLst>
          </a:custGeom>
          <a:solidFill>
            <a:srgbClr val="efe3c2">
              <a:alpha val="71000"/>
            </a:srgbClr>
          </a:solidFill>
          <a:ln>
            <a:solidFill>
              <a:srgbClr val="eee6c8"/>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29" name="任意多边形 703"/>
          <p:cNvSpPr/>
          <p:nvPr/>
        </p:nvSpPr>
        <p:spPr>
          <a:xfrm>
            <a:off x="11202840" y="1946880"/>
            <a:ext cx="797760" cy="1160280"/>
          </a:xfrm>
          <a:custGeom>
            <a:avLst/>
            <a:gdLst>
              <a:gd name="textAreaLeft" fmla="*/ 0 w 797760"/>
              <a:gd name="textAreaRight" fmla="*/ 798120 w 797760"/>
              <a:gd name="textAreaTop" fmla="*/ 0 h 1160280"/>
              <a:gd name="textAreaBottom" fmla="*/ 1160640 h 1160280"/>
            </a:gdLst>
            <a:ahLst/>
            <a:rect l="textAreaLeft" t="textAreaTop" r="textAreaRight" b="textAreaBottom"/>
            <a:pathLst>
              <a:path w="798132" h="1160519">
                <a:moveTo>
                  <a:pt x="399066" y="0"/>
                </a:moveTo>
                <a:lnTo>
                  <a:pt x="798132" y="580260"/>
                </a:lnTo>
                <a:lnTo>
                  <a:pt x="399066" y="1160519"/>
                </a:lnTo>
                <a:lnTo>
                  <a:pt x="0" y="580260"/>
                </a:lnTo>
                <a:lnTo>
                  <a:pt x="399066" y="0"/>
                </a:lnTo>
                <a:close/>
              </a:path>
            </a:pathLst>
          </a:custGeom>
          <a:solidFill>
            <a:srgbClr val="d57053">
              <a:alpha val="25000"/>
            </a:srgbClr>
          </a:solidFill>
          <a:ln>
            <a:solidFill>
              <a:srgbClr val="ead3be"/>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30" name="任意多边形 87"/>
          <p:cNvSpPr/>
          <p:nvPr/>
        </p:nvSpPr>
        <p:spPr>
          <a:xfrm>
            <a:off x="11602080" y="1071720"/>
            <a:ext cx="601560" cy="1455120"/>
          </a:xfrm>
          <a:custGeom>
            <a:avLst/>
            <a:gdLst>
              <a:gd name="textAreaLeft" fmla="*/ 0 w 601560"/>
              <a:gd name="textAreaRight" fmla="*/ 601920 w 601560"/>
              <a:gd name="textAreaTop" fmla="*/ 0 h 1455120"/>
              <a:gd name="textAreaBottom" fmla="*/ 1455480 h 1455120"/>
            </a:gdLst>
            <a:ahLst/>
            <a:rect l="textAreaLeft" t="textAreaTop" r="textAreaRight" b="textAreaBottom"/>
            <a:pathLst>
              <a:path w="601946" h="1455517">
                <a:moveTo>
                  <a:pt x="601946" y="0"/>
                </a:moveTo>
                <a:lnTo>
                  <a:pt x="601946" y="1160520"/>
                </a:lnTo>
                <a:lnTo>
                  <a:pt x="399066" y="1455517"/>
                </a:lnTo>
                <a:lnTo>
                  <a:pt x="0" y="875257"/>
                </a:lnTo>
                <a:lnTo>
                  <a:pt x="601946" y="0"/>
                </a:lnTo>
                <a:close/>
              </a:path>
            </a:pathLst>
          </a:custGeom>
          <a:solidFill>
            <a:srgbClr val="ebcebc"/>
          </a:solidFill>
          <a:ln>
            <a:solidFill>
              <a:srgbClr val="eacdba"/>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31" name="任意多边形 699"/>
          <p:cNvSpPr/>
          <p:nvPr/>
        </p:nvSpPr>
        <p:spPr>
          <a:xfrm>
            <a:off x="10965600" y="1590120"/>
            <a:ext cx="636120" cy="936360"/>
          </a:xfrm>
          <a:custGeom>
            <a:avLst/>
            <a:gdLst>
              <a:gd name="textAreaLeft" fmla="*/ 0 w 636120"/>
              <a:gd name="textAreaRight" fmla="*/ 636480 w 636120"/>
              <a:gd name="textAreaTop" fmla="*/ 0 h 936360"/>
              <a:gd name="textAreaBottom" fmla="*/ 936720 h 936360"/>
            </a:gdLst>
            <a:ahLst/>
            <a:rect l="textAreaLeft" t="textAreaTop" r="textAreaRight" b="textAreaBottom"/>
            <a:pathLst>
              <a:path w="636416" h="936872">
                <a:moveTo>
                  <a:pt x="391161" y="0"/>
                </a:moveTo>
                <a:lnTo>
                  <a:pt x="636416" y="356612"/>
                </a:lnTo>
                <a:lnTo>
                  <a:pt x="237350" y="936872"/>
                </a:lnTo>
                <a:lnTo>
                  <a:pt x="0" y="591754"/>
                </a:lnTo>
                <a:lnTo>
                  <a:pt x="90309" y="450653"/>
                </a:lnTo>
                <a:lnTo>
                  <a:pt x="143955" y="372649"/>
                </a:lnTo>
                <a:lnTo>
                  <a:pt x="141371" y="370872"/>
                </a:lnTo>
                <a:lnTo>
                  <a:pt x="368976" y="15258"/>
                </a:lnTo>
                <a:lnTo>
                  <a:pt x="391161" y="0"/>
                </a:lnTo>
                <a:close/>
              </a:path>
            </a:pathLst>
          </a:custGeom>
          <a:solidFill>
            <a:srgbClr val="d2dbc4"/>
          </a:solidFill>
          <a:ln>
            <a:solidFill>
              <a:srgbClr val="d3ddc7"/>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32" name="任意多边形 698"/>
          <p:cNvSpPr/>
          <p:nvPr/>
        </p:nvSpPr>
        <p:spPr>
          <a:xfrm>
            <a:off x="10965600" y="2527200"/>
            <a:ext cx="636120" cy="936360"/>
          </a:xfrm>
          <a:custGeom>
            <a:avLst/>
            <a:gdLst>
              <a:gd name="textAreaLeft" fmla="*/ 0 w 636120"/>
              <a:gd name="textAreaRight" fmla="*/ 636480 w 636120"/>
              <a:gd name="textAreaTop" fmla="*/ 0 h 936360"/>
              <a:gd name="textAreaBottom" fmla="*/ 936720 h 936360"/>
            </a:gdLst>
            <a:ahLst/>
            <a:rect l="textAreaLeft" t="textAreaTop" r="textAreaRight" b="textAreaBottom"/>
            <a:pathLst>
              <a:path w="636416" h="936871">
                <a:moveTo>
                  <a:pt x="237350" y="0"/>
                </a:moveTo>
                <a:lnTo>
                  <a:pt x="636416" y="580259"/>
                </a:lnTo>
                <a:lnTo>
                  <a:pt x="391161" y="936871"/>
                </a:lnTo>
                <a:lnTo>
                  <a:pt x="368976" y="921613"/>
                </a:lnTo>
                <a:lnTo>
                  <a:pt x="141371" y="565999"/>
                </a:lnTo>
                <a:lnTo>
                  <a:pt x="143955" y="564222"/>
                </a:lnTo>
                <a:lnTo>
                  <a:pt x="90309" y="486218"/>
                </a:lnTo>
                <a:lnTo>
                  <a:pt x="0" y="345117"/>
                </a:lnTo>
                <a:lnTo>
                  <a:pt x="237350" y="0"/>
                </a:lnTo>
                <a:close/>
              </a:path>
            </a:pathLst>
          </a:custGeom>
          <a:solidFill>
            <a:srgbClr val="e9ccba"/>
          </a:solidFill>
          <a:ln>
            <a:solidFill>
              <a:srgbClr val="eacdbb"/>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33" name="任意多边形 93"/>
          <p:cNvSpPr/>
          <p:nvPr/>
        </p:nvSpPr>
        <p:spPr>
          <a:xfrm>
            <a:off x="11602080" y="2527200"/>
            <a:ext cx="601560" cy="1455120"/>
          </a:xfrm>
          <a:custGeom>
            <a:avLst/>
            <a:gdLst>
              <a:gd name="textAreaLeft" fmla="*/ 0 w 601560"/>
              <a:gd name="textAreaRight" fmla="*/ 601920 w 601560"/>
              <a:gd name="textAreaTop" fmla="*/ 0 h 1455120"/>
              <a:gd name="textAreaBottom" fmla="*/ 1455480 h 1455120"/>
            </a:gdLst>
            <a:ahLst/>
            <a:rect l="textAreaLeft" t="textAreaTop" r="textAreaRight" b="textAreaBottom"/>
            <a:pathLst>
              <a:path w="601946" h="1455516">
                <a:moveTo>
                  <a:pt x="399066" y="0"/>
                </a:moveTo>
                <a:lnTo>
                  <a:pt x="601946" y="294997"/>
                </a:lnTo>
                <a:lnTo>
                  <a:pt x="601946" y="1455516"/>
                </a:lnTo>
                <a:lnTo>
                  <a:pt x="0" y="580259"/>
                </a:lnTo>
                <a:lnTo>
                  <a:pt x="399066" y="0"/>
                </a:lnTo>
                <a:close/>
              </a:path>
            </a:pathLst>
          </a:custGeom>
          <a:solidFill>
            <a:srgbClr val="d3ddc7"/>
          </a:solidFill>
          <a:ln>
            <a:solidFill>
              <a:srgbClr val="d3dcc6"/>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34" name="任意多边形 522"/>
          <p:cNvSpPr/>
          <p:nvPr/>
        </p:nvSpPr>
        <p:spPr>
          <a:xfrm>
            <a:off x="10576080" y="983160"/>
            <a:ext cx="767880" cy="594360"/>
          </a:xfrm>
          <a:custGeom>
            <a:avLst/>
            <a:gdLst>
              <a:gd name="textAreaLeft" fmla="*/ 0 w 767880"/>
              <a:gd name="textAreaRight" fmla="*/ 768240 w 767880"/>
              <a:gd name="textAreaTop" fmla="*/ 0 h 594360"/>
              <a:gd name="textAreaBottom" fmla="*/ 594720 h 594360"/>
            </a:gdLst>
            <a:ahLst/>
            <a:rect l="textAreaLeft" t="textAreaTop" r="textAreaRight" b="textAreaBottom"/>
            <a:pathLst>
              <a:path w="768171" h="594733">
                <a:moveTo>
                  <a:pt x="380650" y="0"/>
                </a:moveTo>
                <a:lnTo>
                  <a:pt x="386064" y="7873"/>
                </a:lnTo>
                <a:lnTo>
                  <a:pt x="479739" y="144080"/>
                </a:lnTo>
                <a:lnTo>
                  <a:pt x="530801" y="223861"/>
                </a:lnTo>
                <a:lnTo>
                  <a:pt x="758406" y="579475"/>
                </a:lnTo>
                <a:lnTo>
                  <a:pt x="768171" y="594733"/>
                </a:lnTo>
                <a:lnTo>
                  <a:pt x="0" y="594733"/>
                </a:lnTo>
                <a:lnTo>
                  <a:pt x="6654" y="584336"/>
                </a:lnTo>
                <a:close/>
              </a:path>
            </a:pathLst>
          </a:custGeom>
          <a:solidFill>
            <a:srgbClr val="e49b35">
              <a:alpha val="36000"/>
            </a:srgbClr>
          </a:solidFill>
          <a:ln>
            <a:solidFill>
              <a:srgbClr val="ebd09d">
                <a:alpha val="36000"/>
              </a:srgbClr>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35" name="任意多边形 528"/>
          <p:cNvSpPr/>
          <p:nvPr/>
        </p:nvSpPr>
        <p:spPr>
          <a:xfrm flipV="1">
            <a:off x="10576080" y="1589400"/>
            <a:ext cx="767880" cy="594360"/>
          </a:xfrm>
          <a:custGeom>
            <a:avLst/>
            <a:gdLst>
              <a:gd name="textAreaLeft" fmla="*/ 0 w 767880"/>
              <a:gd name="textAreaRight" fmla="*/ 768240 w 767880"/>
              <a:gd name="textAreaTop" fmla="*/ -360 h 594360"/>
              <a:gd name="textAreaBottom" fmla="*/ 594360 h 594360"/>
            </a:gdLst>
            <a:ahLst/>
            <a:rect l="textAreaLeft" t="textAreaTop" r="textAreaRight" b="textAreaBottom"/>
            <a:pathLst>
              <a:path w="768171" h="594733">
                <a:moveTo>
                  <a:pt x="380650" y="0"/>
                </a:moveTo>
                <a:lnTo>
                  <a:pt x="386064" y="7873"/>
                </a:lnTo>
                <a:lnTo>
                  <a:pt x="479739" y="144080"/>
                </a:lnTo>
                <a:lnTo>
                  <a:pt x="530801" y="223861"/>
                </a:lnTo>
                <a:lnTo>
                  <a:pt x="758406" y="579475"/>
                </a:lnTo>
                <a:lnTo>
                  <a:pt x="768171" y="594733"/>
                </a:lnTo>
                <a:lnTo>
                  <a:pt x="0" y="594733"/>
                </a:lnTo>
                <a:lnTo>
                  <a:pt x="6654" y="584336"/>
                </a:lnTo>
                <a:close/>
              </a:path>
            </a:pathLst>
          </a:custGeom>
          <a:solidFill>
            <a:srgbClr val="88a378">
              <a:alpha val="53000"/>
            </a:srgbClr>
          </a:solidFill>
          <a:ln>
            <a:solidFill>
              <a:srgbClr val="b3c4a5">
                <a:alpha val="53000"/>
              </a:srgbClr>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36" name="任意多边形 50"/>
          <p:cNvSpPr/>
          <p:nvPr/>
        </p:nvSpPr>
        <p:spPr>
          <a:xfrm>
            <a:off x="2444760" y="4491720"/>
            <a:ext cx="1946160" cy="2415960"/>
          </a:xfrm>
          <a:custGeom>
            <a:avLst/>
            <a:gdLst>
              <a:gd name="textAreaLeft" fmla="*/ 0 w 1946160"/>
              <a:gd name="textAreaRight" fmla="*/ 1946520 w 1946160"/>
              <a:gd name="textAreaTop" fmla="*/ 0 h 2415960"/>
              <a:gd name="textAreaBottom" fmla="*/ 2416320 h 2415960"/>
            </a:gdLst>
            <a:ahLst/>
            <a:rect l="textAreaLeft" t="textAreaTop" r="textAreaRight" b="textAreaBottom"/>
            <a:pathLst>
              <a:path w="1946374" h="2416275">
                <a:moveTo>
                  <a:pt x="1555213" y="0"/>
                </a:moveTo>
                <a:lnTo>
                  <a:pt x="1577398" y="15258"/>
                </a:lnTo>
                <a:lnTo>
                  <a:pt x="1805003" y="370872"/>
                </a:lnTo>
                <a:lnTo>
                  <a:pt x="1802419" y="372649"/>
                </a:lnTo>
                <a:lnTo>
                  <a:pt x="1856065" y="450653"/>
                </a:lnTo>
                <a:lnTo>
                  <a:pt x="1946374" y="591754"/>
                </a:lnTo>
                <a:lnTo>
                  <a:pt x="691584" y="2416275"/>
                </a:lnTo>
                <a:lnTo>
                  <a:pt x="106548" y="2416275"/>
                </a:lnTo>
                <a:lnTo>
                  <a:pt x="0" y="2261349"/>
                </a:lnTo>
                <a:lnTo>
                  <a:pt x="1555213" y="0"/>
                </a:lnTo>
                <a:close/>
              </a:path>
            </a:pathLst>
          </a:custGeom>
          <a:solidFill>
            <a:srgbClr val="a2b894">
              <a:alpha val="25000"/>
            </a:srgbClr>
          </a:solidFill>
          <a:ln>
            <a:solidFill>
              <a:srgbClr val="e0e6d3"/>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37" name="任意多边形 49"/>
          <p:cNvSpPr/>
          <p:nvPr/>
        </p:nvSpPr>
        <p:spPr>
          <a:xfrm>
            <a:off x="4399920" y="4491720"/>
            <a:ext cx="2050560" cy="2415960"/>
          </a:xfrm>
          <a:custGeom>
            <a:avLst/>
            <a:gdLst>
              <a:gd name="textAreaLeft" fmla="*/ 0 w 2050560"/>
              <a:gd name="textAreaRight" fmla="*/ 2050920 w 2050560"/>
              <a:gd name="textAreaTop" fmla="*/ 0 h 2415960"/>
              <a:gd name="textAreaBottom" fmla="*/ 2416320 h 2415960"/>
            </a:gdLst>
            <a:ahLst/>
            <a:rect l="textAreaLeft" t="textAreaTop" r="textAreaRight" b="textAreaBottom"/>
            <a:pathLst>
              <a:path w="2050873" h="2416274">
                <a:moveTo>
                  <a:pt x="389113" y="0"/>
                </a:moveTo>
                <a:lnTo>
                  <a:pt x="2050873" y="2416274"/>
                </a:lnTo>
                <a:lnTo>
                  <a:pt x="1252741" y="2416274"/>
                </a:lnTo>
                <a:lnTo>
                  <a:pt x="0" y="594733"/>
                </a:lnTo>
                <a:lnTo>
                  <a:pt x="373996" y="10397"/>
                </a:lnTo>
                <a:lnTo>
                  <a:pt x="389113" y="0"/>
                </a:lnTo>
                <a:close/>
              </a:path>
            </a:pathLst>
          </a:custGeom>
          <a:solidFill>
            <a:srgbClr val="a2b894">
              <a:alpha val="25000"/>
            </a:srgbClr>
          </a:solidFill>
          <a:ln>
            <a:solidFill>
              <a:srgbClr val="e0e6d3"/>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38" name="任意多边形 48"/>
          <p:cNvSpPr/>
          <p:nvPr/>
        </p:nvSpPr>
        <p:spPr>
          <a:xfrm>
            <a:off x="2344680" y="6762240"/>
            <a:ext cx="200160" cy="145440"/>
          </a:xfrm>
          <a:custGeom>
            <a:avLst/>
            <a:gdLst>
              <a:gd name="textAreaLeft" fmla="*/ 0 w 200160"/>
              <a:gd name="textAreaRight" fmla="*/ 200520 w 200160"/>
              <a:gd name="textAreaTop" fmla="*/ 0 h 145440"/>
              <a:gd name="textAreaBottom" fmla="*/ 145800 h 145440"/>
            </a:gdLst>
            <a:ahLst/>
            <a:rect l="textAreaLeft" t="textAreaTop" r="textAreaRight" b="textAreaBottom"/>
            <a:pathLst>
              <a:path w="200534" h="145793">
                <a:moveTo>
                  <a:pt x="100267" y="0"/>
                </a:moveTo>
                <a:lnTo>
                  <a:pt x="200534" y="145793"/>
                </a:lnTo>
                <a:lnTo>
                  <a:pt x="0" y="145793"/>
                </a:lnTo>
                <a:lnTo>
                  <a:pt x="100267" y="0"/>
                </a:lnTo>
                <a:close/>
              </a:path>
            </a:pathLst>
          </a:custGeom>
          <a:solidFill>
            <a:srgbClr val="a2b894">
              <a:alpha val="25000"/>
            </a:srgbClr>
          </a:solidFill>
          <a:ln>
            <a:solidFill>
              <a:srgbClr val="e0e6d3"/>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39" name="任意多边形 61"/>
          <p:cNvSpPr/>
          <p:nvPr/>
        </p:nvSpPr>
        <p:spPr>
          <a:xfrm>
            <a:off x="-35280" y="4818240"/>
            <a:ext cx="1016640" cy="2052000"/>
          </a:xfrm>
          <a:custGeom>
            <a:avLst/>
            <a:gdLst>
              <a:gd name="textAreaLeft" fmla="*/ 0 w 1016640"/>
              <a:gd name="textAreaRight" fmla="*/ 1017000 w 1016640"/>
              <a:gd name="textAreaTop" fmla="*/ 0 h 2052000"/>
              <a:gd name="textAreaBottom" fmla="*/ 2052360 h 2052000"/>
            </a:gdLst>
            <a:ahLst/>
            <a:rect l="textAreaLeft" t="textAreaTop" r="textAreaRight" b="textAreaBottom"/>
            <a:pathLst>
              <a:path w="1017046" h="2052322">
                <a:moveTo>
                  <a:pt x="0" y="0"/>
                </a:moveTo>
                <a:lnTo>
                  <a:pt x="1017046" y="1478830"/>
                </a:lnTo>
                <a:lnTo>
                  <a:pt x="613325" y="2052322"/>
                </a:lnTo>
                <a:lnTo>
                  <a:pt x="0" y="1160520"/>
                </a:lnTo>
                <a:lnTo>
                  <a:pt x="0" y="0"/>
                </a:lnTo>
                <a:close/>
              </a:path>
            </a:pathLst>
          </a:custGeom>
          <a:solidFill>
            <a:srgbClr val="508799">
              <a:alpha val="25000"/>
            </a:srgbClr>
          </a:solidFill>
          <a:ln>
            <a:solidFill>
              <a:srgbClr val="c3d4c3"/>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40" name="任意多边形 811"/>
          <p:cNvSpPr/>
          <p:nvPr/>
        </p:nvSpPr>
        <p:spPr>
          <a:xfrm flipV="1">
            <a:off x="4397400" y="5881680"/>
            <a:ext cx="1088280" cy="1013760"/>
          </a:xfrm>
          <a:custGeom>
            <a:avLst/>
            <a:gdLst>
              <a:gd name="textAreaLeft" fmla="*/ 0 w 1088280"/>
              <a:gd name="textAreaRight" fmla="*/ 1088640 w 1088280"/>
              <a:gd name="textAreaTop" fmla="*/ 360 h 1013760"/>
              <a:gd name="textAreaBottom" fmla="*/ 1014480 h 1013760"/>
            </a:gdLst>
            <a:ahLst/>
            <a:rect l="textAreaLeft" t="textAreaTop" r="textAreaRight" b="textAreaBottom"/>
            <a:pathLst>
              <a:path w="1088729" h="1014296">
                <a:moveTo>
                  <a:pt x="391161" y="1014296"/>
                </a:moveTo>
                <a:lnTo>
                  <a:pt x="1088729" y="0"/>
                </a:lnTo>
                <a:lnTo>
                  <a:pt x="290598" y="0"/>
                </a:lnTo>
                <a:lnTo>
                  <a:pt x="0" y="422542"/>
                </a:lnTo>
                <a:lnTo>
                  <a:pt x="90309" y="563643"/>
                </a:lnTo>
                <a:lnTo>
                  <a:pt x="143955" y="641647"/>
                </a:lnTo>
                <a:lnTo>
                  <a:pt x="141371" y="643424"/>
                </a:lnTo>
                <a:lnTo>
                  <a:pt x="368976" y="999038"/>
                </a:lnTo>
                <a:lnTo>
                  <a:pt x="391161" y="1014296"/>
                </a:lnTo>
                <a:close/>
              </a:path>
            </a:pathLst>
          </a:custGeom>
          <a:solidFill>
            <a:srgbClr val="d57053">
              <a:alpha val="25000"/>
            </a:srgbClr>
          </a:solidFill>
          <a:ln>
            <a:solidFill>
              <a:srgbClr val="ead3bf"/>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41" name="任意多边形 637"/>
          <p:cNvSpPr/>
          <p:nvPr/>
        </p:nvSpPr>
        <p:spPr>
          <a:xfrm flipV="1">
            <a:off x="4007880" y="5880960"/>
            <a:ext cx="767880" cy="594360"/>
          </a:xfrm>
          <a:custGeom>
            <a:avLst/>
            <a:gdLst>
              <a:gd name="textAreaLeft" fmla="*/ 0 w 767880"/>
              <a:gd name="textAreaRight" fmla="*/ 768240 w 767880"/>
              <a:gd name="textAreaTop" fmla="*/ -360 h 594360"/>
              <a:gd name="textAreaBottom" fmla="*/ 594360 h 594360"/>
            </a:gdLst>
            <a:ahLst/>
            <a:rect l="textAreaLeft" t="textAreaTop" r="textAreaRight" b="textAreaBottom"/>
            <a:pathLst>
              <a:path w="768171" h="594733">
                <a:moveTo>
                  <a:pt x="380650" y="0"/>
                </a:moveTo>
                <a:lnTo>
                  <a:pt x="386064" y="7873"/>
                </a:lnTo>
                <a:lnTo>
                  <a:pt x="479739" y="144080"/>
                </a:lnTo>
                <a:lnTo>
                  <a:pt x="530801" y="223861"/>
                </a:lnTo>
                <a:lnTo>
                  <a:pt x="758406" y="579475"/>
                </a:lnTo>
                <a:lnTo>
                  <a:pt x="768171" y="594733"/>
                </a:lnTo>
                <a:lnTo>
                  <a:pt x="0" y="594733"/>
                </a:lnTo>
                <a:lnTo>
                  <a:pt x="6654" y="584336"/>
                </a:lnTo>
                <a:close/>
              </a:path>
            </a:pathLst>
          </a:custGeom>
          <a:solidFill>
            <a:srgbClr val="d57053">
              <a:alpha val="35000"/>
            </a:srgbClr>
          </a:solidFill>
          <a:ln>
            <a:solidFill>
              <a:srgbClr val="e6c6b1"/>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42" name="任意多边形 647"/>
          <p:cNvSpPr/>
          <p:nvPr/>
        </p:nvSpPr>
        <p:spPr>
          <a:xfrm flipV="1">
            <a:off x="6694200" y="5122440"/>
            <a:ext cx="767880" cy="594360"/>
          </a:xfrm>
          <a:custGeom>
            <a:avLst/>
            <a:gdLst>
              <a:gd name="textAreaLeft" fmla="*/ 0 w 767880"/>
              <a:gd name="textAreaRight" fmla="*/ 768240 w 767880"/>
              <a:gd name="textAreaTop" fmla="*/ -360 h 594360"/>
              <a:gd name="textAreaBottom" fmla="*/ 594360 h 594360"/>
            </a:gdLst>
            <a:ahLst/>
            <a:rect l="textAreaLeft" t="textAreaTop" r="textAreaRight" b="textAreaBottom"/>
            <a:pathLst>
              <a:path w="768171" h="594733">
                <a:moveTo>
                  <a:pt x="380650" y="0"/>
                </a:moveTo>
                <a:lnTo>
                  <a:pt x="386064" y="7873"/>
                </a:lnTo>
                <a:lnTo>
                  <a:pt x="479739" y="144080"/>
                </a:lnTo>
                <a:lnTo>
                  <a:pt x="530801" y="223861"/>
                </a:lnTo>
                <a:lnTo>
                  <a:pt x="758406" y="579475"/>
                </a:lnTo>
                <a:lnTo>
                  <a:pt x="768171" y="594733"/>
                </a:lnTo>
                <a:lnTo>
                  <a:pt x="0" y="594733"/>
                </a:lnTo>
                <a:lnTo>
                  <a:pt x="6654" y="584336"/>
                </a:lnTo>
                <a:close/>
              </a:path>
            </a:pathLst>
          </a:custGeom>
          <a:solidFill>
            <a:srgbClr val="ed6f65">
              <a:alpha val="35000"/>
            </a:srgbClr>
          </a:solidFill>
          <a:ln>
            <a:solidFill>
              <a:srgbClr val="f2c7ba"/>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43" name="任意多边形 660"/>
          <p:cNvSpPr/>
          <p:nvPr/>
        </p:nvSpPr>
        <p:spPr>
          <a:xfrm flipV="1">
            <a:off x="10822680" y="5494680"/>
            <a:ext cx="767880" cy="594360"/>
          </a:xfrm>
          <a:custGeom>
            <a:avLst/>
            <a:gdLst>
              <a:gd name="textAreaLeft" fmla="*/ 0 w 767880"/>
              <a:gd name="textAreaRight" fmla="*/ 768240 w 767880"/>
              <a:gd name="textAreaTop" fmla="*/ -360 h 594360"/>
              <a:gd name="textAreaBottom" fmla="*/ 594360 h 594360"/>
            </a:gdLst>
            <a:ahLst/>
            <a:rect l="textAreaLeft" t="textAreaTop" r="textAreaRight" b="textAreaBottom"/>
            <a:pathLst>
              <a:path w="768171" h="594733">
                <a:moveTo>
                  <a:pt x="380650" y="0"/>
                </a:moveTo>
                <a:lnTo>
                  <a:pt x="386064" y="7873"/>
                </a:lnTo>
                <a:lnTo>
                  <a:pt x="479739" y="144080"/>
                </a:lnTo>
                <a:lnTo>
                  <a:pt x="530801" y="223861"/>
                </a:lnTo>
                <a:lnTo>
                  <a:pt x="758406" y="579475"/>
                </a:lnTo>
                <a:lnTo>
                  <a:pt x="768171" y="594733"/>
                </a:lnTo>
                <a:lnTo>
                  <a:pt x="0" y="594733"/>
                </a:lnTo>
                <a:lnTo>
                  <a:pt x="6654" y="584336"/>
                </a:lnTo>
                <a:close/>
              </a:path>
            </a:pathLst>
          </a:custGeom>
          <a:solidFill>
            <a:srgbClr val="508799">
              <a:alpha val="35000"/>
            </a:srgbClr>
          </a:solidFill>
          <a:ln>
            <a:solidFill>
              <a:srgbClr val="b5cac1"/>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44" name="任意多边形 665"/>
          <p:cNvSpPr/>
          <p:nvPr/>
        </p:nvSpPr>
        <p:spPr>
          <a:xfrm>
            <a:off x="9861840" y="5495400"/>
            <a:ext cx="1341000" cy="1384200"/>
          </a:xfrm>
          <a:custGeom>
            <a:avLst/>
            <a:gdLst>
              <a:gd name="textAreaLeft" fmla="*/ 0 w 1341000"/>
              <a:gd name="textAreaRight" fmla="*/ 1341360 w 1341000"/>
              <a:gd name="textAreaTop" fmla="*/ 0 h 1384200"/>
              <a:gd name="textAreaBottom" fmla="*/ 1384560 h 1384200"/>
            </a:gdLst>
            <a:ahLst/>
            <a:rect l="textAreaLeft" t="textAreaTop" r="textAreaRight" b="textAreaBottom"/>
            <a:pathLst>
              <a:path w="1341240" h="1384436">
                <a:moveTo>
                  <a:pt x="952127" y="0"/>
                </a:moveTo>
                <a:lnTo>
                  <a:pt x="967244" y="10397"/>
                </a:lnTo>
                <a:lnTo>
                  <a:pt x="1341240" y="594733"/>
                </a:lnTo>
                <a:lnTo>
                  <a:pt x="798132" y="1384436"/>
                </a:lnTo>
                <a:lnTo>
                  <a:pt x="0" y="1384436"/>
                </a:lnTo>
                <a:lnTo>
                  <a:pt x="952127" y="0"/>
                </a:lnTo>
                <a:close/>
              </a:path>
            </a:pathLst>
          </a:custGeom>
          <a:solidFill>
            <a:srgbClr val="508799">
              <a:alpha val="25000"/>
            </a:srgbClr>
          </a:solidFill>
          <a:ln>
            <a:solidFill>
              <a:srgbClr val="c4d5c6"/>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45" name="任意多边形 709"/>
          <p:cNvSpPr/>
          <p:nvPr/>
        </p:nvSpPr>
        <p:spPr>
          <a:xfrm>
            <a:off x="11211840" y="5495400"/>
            <a:ext cx="979560" cy="1384200"/>
          </a:xfrm>
          <a:custGeom>
            <a:avLst/>
            <a:gdLst>
              <a:gd name="textAreaLeft" fmla="*/ 0 w 979560"/>
              <a:gd name="textAreaRight" fmla="*/ 979920 w 979560"/>
              <a:gd name="textAreaTop" fmla="*/ 0 h 1384200"/>
              <a:gd name="textAreaBottom" fmla="*/ 1384560 h 1384200"/>
            </a:gdLst>
            <a:ahLst/>
            <a:rect l="textAreaLeft" t="textAreaTop" r="textAreaRight" b="textAreaBottom"/>
            <a:pathLst>
              <a:path w="980063" h="1384436">
                <a:moveTo>
                  <a:pt x="391161" y="0"/>
                </a:moveTo>
                <a:lnTo>
                  <a:pt x="980063" y="856291"/>
                </a:lnTo>
                <a:lnTo>
                  <a:pt x="980063" y="1384436"/>
                </a:lnTo>
                <a:lnTo>
                  <a:pt x="545157" y="1384436"/>
                </a:lnTo>
                <a:lnTo>
                  <a:pt x="0" y="591754"/>
                </a:lnTo>
                <a:lnTo>
                  <a:pt x="90309" y="450653"/>
                </a:lnTo>
                <a:lnTo>
                  <a:pt x="143955" y="372649"/>
                </a:lnTo>
                <a:lnTo>
                  <a:pt x="141371" y="370872"/>
                </a:lnTo>
                <a:lnTo>
                  <a:pt x="368976" y="15258"/>
                </a:lnTo>
                <a:lnTo>
                  <a:pt x="391161" y="0"/>
                </a:lnTo>
                <a:close/>
              </a:path>
            </a:pathLst>
          </a:custGeom>
          <a:solidFill>
            <a:srgbClr val="508799">
              <a:alpha val="25000"/>
            </a:srgbClr>
          </a:solidFill>
          <a:ln>
            <a:solidFill>
              <a:srgbClr val="bfd1bd"/>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46" name="任意多边形 670"/>
          <p:cNvSpPr/>
          <p:nvPr/>
        </p:nvSpPr>
        <p:spPr>
          <a:xfrm flipV="1">
            <a:off x="9195840" y="5502600"/>
            <a:ext cx="767880" cy="594360"/>
          </a:xfrm>
          <a:custGeom>
            <a:avLst/>
            <a:gdLst>
              <a:gd name="textAreaLeft" fmla="*/ 0 w 767880"/>
              <a:gd name="textAreaRight" fmla="*/ 768240 w 767880"/>
              <a:gd name="textAreaTop" fmla="*/ -360 h 594360"/>
              <a:gd name="textAreaBottom" fmla="*/ 594360 h 594360"/>
            </a:gdLst>
            <a:ahLst/>
            <a:rect l="textAreaLeft" t="textAreaTop" r="textAreaRight" b="textAreaBottom"/>
            <a:pathLst>
              <a:path w="768171" h="594733">
                <a:moveTo>
                  <a:pt x="380650" y="0"/>
                </a:moveTo>
                <a:lnTo>
                  <a:pt x="386064" y="7873"/>
                </a:lnTo>
                <a:lnTo>
                  <a:pt x="479739" y="144080"/>
                </a:lnTo>
                <a:lnTo>
                  <a:pt x="530801" y="223861"/>
                </a:lnTo>
                <a:lnTo>
                  <a:pt x="758406" y="579475"/>
                </a:lnTo>
                <a:lnTo>
                  <a:pt x="768171" y="594733"/>
                </a:lnTo>
                <a:lnTo>
                  <a:pt x="0" y="594733"/>
                </a:lnTo>
                <a:lnTo>
                  <a:pt x="6654" y="584336"/>
                </a:lnTo>
                <a:close/>
              </a:path>
            </a:pathLst>
          </a:custGeom>
          <a:solidFill>
            <a:srgbClr val="e49b35">
              <a:alpha val="35000"/>
            </a:srgbClr>
          </a:solidFill>
          <a:ln>
            <a:solidFill>
              <a:srgbClr val="ebd3a3"/>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47" name="任意多边形 75"/>
          <p:cNvSpPr/>
          <p:nvPr/>
        </p:nvSpPr>
        <p:spPr>
          <a:xfrm>
            <a:off x="8220960" y="5503320"/>
            <a:ext cx="1355040" cy="1404360"/>
          </a:xfrm>
          <a:custGeom>
            <a:avLst/>
            <a:gdLst>
              <a:gd name="textAreaLeft" fmla="*/ 0 w 1355040"/>
              <a:gd name="textAreaRight" fmla="*/ 1355400 w 1355040"/>
              <a:gd name="textAreaTop" fmla="*/ 0 h 1404360"/>
              <a:gd name="textAreaBottom" fmla="*/ 1404720 h 1404360"/>
            </a:gdLst>
            <a:ahLst/>
            <a:rect l="textAreaLeft" t="textAreaTop" r="textAreaRight" b="textAreaBottom"/>
            <a:pathLst>
              <a:path w="1355248" h="1404805">
                <a:moveTo>
                  <a:pt x="966135" y="0"/>
                </a:moveTo>
                <a:lnTo>
                  <a:pt x="981252" y="10397"/>
                </a:lnTo>
                <a:lnTo>
                  <a:pt x="1355248" y="594733"/>
                </a:lnTo>
                <a:lnTo>
                  <a:pt x="798132" y="1404805"/>
                </a:lnTo>
                <a:lnTo>
                  <a:pt x="0" y="1404805"/>
                </a:lnTo>
                <a:lnTo>
                  <a:pt x="966135" y="0"/>
                </a:lnTo>
                <a:close/>
              </a:path>
            </a:pathLst>
          </a:custGeom>
          <a:solidFill>
            <a:srgbClr val="e49b35">
              <a:alpha val="25000"/>
            </a:srgbClr>
          </a:solidFill>
          <a:ln>
            <a:solidFill>
              <a:srgbClr val="ebdcb0"/>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48" name="任意多边形 80"/>
          <p:cNvSpPr/>
          <p:nvPr/>
        </p:nvSpPr>
        <p:spPr>
          <a:xfrm>
            <a:off x="9585000" y="5503320"/>
            <a:ext cx="1351800" cy="1397160"/>
          </a:xfrm>
          <a:custGeom>
            <a:avLst/>
            <a:gdLst>
              <a:gd name="textAreaLeft" fmla="*/ 0 w 1351800"/>
              <a:gd name="textAreaRight" fmla="*/ 1352160 w 1351800"/>
              <a:gd name="textAreaTop" fmla="*/ 0 h 1397160"/>
              <a:gd name="textAreaBottom" fmla="*/ 1397520 h 1397160"/>
            </a:gdLst>
            <a:ahLst/>
            <a:rect l="textAreaLeft" t="textAreaTop" r="textAreaRight" b="textAreaBottom"/>
            <a:pathLst>
              <a:path w="1352191" h="1397381">
                <a:moveTo>
                  <a:pt x="391161" y="0"/>
                </a:moveTo>
                <a:lnTo>
                  <a:pt x="1352191" y="1397381"/>
                </a:lnTo>
                <a:lnTo>
                  <a:pt x="554059" y="1397381"/>
                </a:lnTo>
                <a:lnTo>
                  <a:pt x="0" y="591754"/>
                </a:lnTo>
                <a:lnTo>
                  <a:pt x="90309" y="450653"/>
                </a:lnTo>
                <a:lnTo>
                  <a:pt x="143955" y="372649"/>
                </a:lnTo>
                <a:lnTo>
                  <a:pt x="141371" y="370872"/>
                </a:lnTo>
                <a:lnTo>
                  <a:pt x="368976" y="15258"/>
                </a:lnTo>
                <a:lnTo>
                  <a:pt x="391161" y="0"/>
                </a:lnTo>
                <a:close/>
              </a:path>
            </a:pathLst>
          </a:custGeom>
          <a:solidFill>
            <a:srgbClr val="e49b35">
              <a:alpha val="25000"/>
            </a:srgbClr>
          </a:solidFill>
          <a:ln>
            <a:solidFill>
              <a:srgbClr val="ebdcb2"/>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49" name="任意多边形 788"/>
          <p:cNvSpPr/>
          <p:nvPr/>
        </p:nvSpPr>
        <p:spPr>
          <a:xfrm flipV="1">
            <a:off x="3302640" y="5881680"/>
            <a:ext cx="1086480" cy="1013760"/>
          </a:xfrm>
          <a:custGeom>
            <a:avLst/>
            <a:gdLst>
              <a:gd name="textAreaLeft" fmla="*/ 0 w 1086480"/>
              <a:gd name="textAreaRight" fmla="*/ 1086840 w 1086480"/>
              <a:gd name="textAreaTop" fmla="*/ 360 h 1013760"/>
              <a:gd name="textAreaBottom" fmla="*/ 1014480 h 1013760"/>
            </a:gdLst>
            <a:ahLst/>
            <a:rect l="textAreaLeft" t="textAreaTop" r="textAreaRight" b="textAreaBottom"/>
            <a:pathLst>
              <a:path w="1086681" h="1014296">
                <a:moveTo>
                  <a:pt x="697568" y="1014296"/>
                </a:moveTo>
                <a:lnTo>
                  <a:pt x="712685" y="1003899"/>
                </a:lnTo>
                <a:lnTo>
                  <a:pt x="1086681" y="419563"/>
                </a:lnTo>
                <a:lnTo>
                  <a:pt x="798132" y="0"/>
                </a:lnTo>
                <a:lnTo>
                  <a:pt x="0" y="0"/>
                </a:lnTo>
                <a:lnTo>
                  <a:pt x="697568" y="1014296"/>
                </a:lnTo>
                <a:close/>
              </a:path>
            </a:pathLst>
          </a:custGeom>
          <a:solidFill>
            <a:srgbClr val="d57053">
              <a:alpha val="25000"/>
            </a:srgbClr>
          </a:solidFill>
          <a:ln>
            <a:solidFill>
              <a:srgbClr val="ead3bf"/>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50" name="任意多边形 686"/>
          <p:cNvSpPr/>
          <p:nvPr/>
        </p:nvSpPr>
        <p:spPr>
          <a:xfrm>
            <a:off x="8185320" y="0"/>
            <a:ext cx="2770920" cy="3463560"/>
          </a:xfrm>
          <a:custGeom>
            <a:avLst/>
            <a:gdLst>
              <a:gd name="textAreaLeft" fmla="*/ 0 w 2770920"/>
              <a:gd name="textAreaRight" fmla="*/ 2771280 w 2770920"/>
              <a:gd name="textAreaTop" fmla="*/ 0 h 3463560"/>
              <a:gd name="textAreaBottom" fmla="*/ 3463920 h 3463560"/>
            </a:gdLst>
            <a:ahLst/>
            <a:rect l="textAreaLeft" t="textAreaTop" r="textAreaRight" b="textAreaBottom"/>
            <a:pathLst>
              <a:path w="2771399" h="3463952">
                <a:moveTo>
                  <a:pt x="0" y="0"/>
                </a:moveTo>
                <a:lnTo>
                  <a:pt x="798131" y="0"/>
                </a:lnTo>
                <a:lnTo>
                  <a:pt x="2771399" y="2869219"/>
                </a:lnTo>
                <a:lnTo>
                  <a:pt x="2397403" y="3453555"/>
                </a:lnTo>
                <a:lnTo>
                  <a:pt x="2382286" y="3463952"/>
                </a:lnTo>
                <a:lnTo>
                  <a:pt x="0" y="0"/>
                </a:lnTo>
                <a:close/>
              </a:path>
            </a:pathLst>
          </a:custGeom>
          <a:solidFill>
            <a:srgbClr val="d57053">
              <a:alpha val="30000"/>
            </a:srgbClr>
          </a:solidFill>
          <a:ln>
            <a:solidFill>
              <a:srgbClr val="eacebc"/>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51" name="任意多边形 824"/>
          <p:cNvSpPr/>
          <p:nvPr/>
        </p:nvSpPr>
        <p:spPr>
          <a:xfrm flipH="1" flipV="1">
            <a:off x="6913080" y="1590120"/>
            <a:ext cx="4043520" cy="5305680"/>
          </a:xfrm>
          <a:custGeom>
            <a:avLst/>
            <a:gdLst>
              <a:gd name="textAreaLeft" fmla="*/ 360 w 4043520"/>
              <a:gd name="textAreaRight" fmla="*/ 4044240 w 4043520"/>
              <a:gd name="textAreaTop" fmla="*/ 360 h 5305680"/>
              <a:gd name="textAreaBottom" fmla="*/ 5306400 h 5305680"/>
            </a:gdLst>
            <a:ahLst/>
            <a:rect l="textAreaLeft" t="textAreaTop" r="textAreaRight" b="textAreaBottom"/>
            <a:pathLst>
              <a:path w="4043737" h="5305892">
                <a:moveTo>
                  <a:pt x="389113" y="5305892"/>
                </a:moveTo>
                <a:lnTo>
                  <a:pt x="373996" y="5295495"/>
                </a:lnTo>
                <a:lnTo>
                  <a:pt x="0" y="4711159"/>
                </a:lnTo>
                <a:lnTo>
                  <a:pt x="2281471" y="1393799"/>
                </a:lnTo>
                <a:lnTo>
                  <a:pt x="2285250" y="1396398"/>
                </a:lnTo>
                <a:lnTo>
                  <a:pt x="3245605" y="0"/>
                </a:lnTo>
                <a:lnTo>
                  <a:pt x="4043737" y="0"/>
                </a:lnTo>
                <a:lnTo>
                  <a:pt x="1810872" y="3246685"/>
                </a:lnTo>
                <a:lnTo>
                  <a:pt x="1807092" y="3244086"/>
                </a:lnTo>
                <a:lnTo>
                  <a:pt x="389113" y="5305892"/>
                </a:lnTo>
                <a:close/>
              </a:path>
            </a:pathLst>
          </a:custGeom>
          <a:solidFill>
            <a:srgbClr val="88a378">
              <a:alpha val="30000"/>
            </a:srgbClr>
          </a:solidFill>
          <a:ln>
            <a:solidFill>
              <a:srgbClr val="d3dcc5">
                <a:alpha val="30000"/>
              </a:srgbClr>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52" name="任意多边形 817"/>
          <p:cNvSpPr/>
          <p:nvPr/>
        </p:nvSpPr>
        <p:spPr>
          <a:xfrm flipV="1">
            <a:off x="7083360" y="5123160"/>
            <a:ext cx="1609920" cy="1772640"/>
          </a:xfrm>
          <a:custGeom>
            <a:avLst/>
            <a:gdLst>
              <a:gd name="textAreaLeft" fmla="*/ 0 w 1609920"/>
              <a:gd name="textAreaRight" fmla="*/ 1610280 w 1609920"/>
              <a:gd name="textAreaTop" fmla="*/ 360 h 1772640"/>
              <a:gd name="textAreaBottom" fmla="*/ 1773360 h 1772640"/>
            </a:gdLst>
            <a:ahLst/>
            <a:rect l="textAreaLeft" t="textAreaTop" r="textAreaRight" b="textAreaBottom"/>
            <a:pathLst>
              <a:path w="1610447" h="1772896">
                <a:moveTo>
                  <a:pt x="391161" y="1772896"/>
                </a:moveTo>
                <a:lnTo>
                  <a:pt x="1610447" y="0"/>
                </a:lnTo>
                <a:lnTo>
                  <a:pt x="812315" y="0"/>
                </a:lnTo>
                <a:lnTo>
                  <a:pt x="0" y="1181142"/>
                </a:lnTo>
                <a:lnTo>
                  <a:pt x="90309" y="1322243"/>
                </a:lnTo>
                <a:lnTo>
                  <a:pt x="143955" y="1400247"/>
                </a:lnTo>
                <a:lnTo>
                  <a:pt x="141371" y="1402024"/>
                </a:lnTo>
                <a:lnTo>
                  <a:pt x="368976" y="1757638"/>
                </a:lnTo>
                <a:lnTo>
                  <a:pt x="391161" y="1772896"/>
                </a:lnTo>
                <a:close/>
              </a:path>
            </a:pathLst>
          </a:custGeom>
          <a:solidFill>
            <a:srgbClr val="ed6f65">
              <a:alpha val="25000"/>
            </a:srgbClr>
          </a:solidFill>
          <a:ln>
            <a:solidFill>
              <a:srgbClr val="f1dbcc"/>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53" name="任意多边形 54"/>
          <p:cNvSpPr/>
          <p:nvPr/>
        </p:nvSpPr>
        <p:spPr>
          <a:xfrm flipH="1" flipV="1">
            <a:off x="1561680" y="5458320"/>
            <a:ext cx="767880" cy="594360"/>
          </a:xfrm>
          <a:custGeom>
            <a:avLst/>
            <a:gdLst>
              <a:gd name="textAreaLeft" fmla="*/ -360 w 767880"/>
              <a:gd name="textAreaRight" fmla="*/ 767880 w 767880"/>
              <a:gd name="textAreaTop" fmla="*/ -360 h 594360"/>
              <a:gd name="textAreaBottom" fmla="*/ 594360 h 594360"/>
            </a:gdLst>
            <a:ahLst/>
            <a:rect l="textAreaLeft" t="textAreaTop" r="textAreaRight" b="textAreaBottom"/>
            <a:pathLst>
              <a:path w="768171" h="594733">
                <a:moveTo>
                  <a:pt x="380650" y="0"/>
                </a:moveTo>
                <a:lnTo>
                  <a:pt x="386064" y="7873"/>
                </a:lnTo>
                <a:lnTo>
                  <a:pt x="479739" y="144080"/>
                </a:lnTo>
                <a:lnTo>
                  <a:pt x="530801" y="223861"/>
                </a:lnTo>
                <a:lnTo>
                  <a:pt x="758406" y="579475"/>
                </a:lnTo>
                <a:lnTo>
                  <a:pt x="768171" y="594733"/>
                </a:lnTo>
                <a:lnTo>
                  <a:pt x="0" y="594733"/>
                </a:lnTo>
                <a:lnTo>
                  <a:pt x="6654" y="584336"/>
                </a:lnTo>
                <a:close/>
              </a:path>
            </a:pathLst>
          </a:custGeom>
          <a:solidFill>
            <a:srgbClr val="ed5249">
              <a:alpha val="35000"/>
            </a:srgbClr>
          </a:solidFill>
          <a:ln>
            <a:solidFill>
              <a:srgbClr val="efbbab"/>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54" name="矩形 42"/>
          <p:cNvSpPr/>
          <p:nvPr/>
        </p:nvSpPr>
        <p:spPr>
          <a:xfrm>
            <a:off x="0" y="411480"/>
            <a:ext cx="539280" cy="575640"/>
          </a:xfrm>
          <a:prstGeom prst="rect">
            <a:avLst/>
          </a:prstGeom>
          <a:solidFill>
            <a:srgbClr val="34618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cxnSp>
        <p:nvCxnSpPr>
          <p:cNvPr id="155" name="直接连接符 43"/>
          <p:cNvCxnSpPr/>
          <p:nvPr/>
        </p:nvCxnSpPr>
        <p:spPr>
          <a:xfrm>
            <a:off x="600480" y="411480"/>
            <a:ext cx="360" cy="576360"/>
          </a:xfrm>
          <a:prstGeom prst="straightConnector1">
            <a:avLst/>
          </a:prstGeom>
          <a:ln w="28575">
            <a:solidFill>
              <a:srgbClr val="346182"/>
            </a:solidFill>
          </a:ln>
        </p:spPr>
      </p:cxnSp>
      <p:sp>
        <p:nvSpPr>
          <p:cNvPr id="156" name="TextBox 7"/>
          <p:cNvSpPr/>
          <p:nvPr/>
        </p:nvSpPr>
        <p:spPr>
          <a:xfrm>
            <a:off x="661680" y="349920"/>
            <a:ext cx="1409400" cy="698760"/>
          </a:xfrm>
          <a:prstGeom prst="rect">
            <a:avLst/>
          </a:prstGeom>
          <a:noFill/>
          <a:ln w="0">
            <a:noFill/>
          </a:ln>
        </p:spPr>
        <p:style>
          <a:lnRef idx="0"/>
          <a:fillRef idx="0"/>
          <a:effectRef idx="0"/>
          <a:fontRef idx="minor"/>
        </p:style>
        <p:txBody>
          <a:bodyPr lIns="90000" rIns="90000" tIns="45000" bIns="45000" anchor="ctr">
            <a:spAutoFit/>
          </a:bodyPr>
          <a:p>
            <a:pPr>
              <a:lnSpc>
                <a:spcPct val="100000"/>
              </a:lnSpc>
            </a:pPr>
            <a:r>
              <a:rPr b="1" lang="zh-CN" sz="4000" spc="-1" strike="noStrike">
                <a:solidFill>
                  <a:srgbClr val="346182"/>
                </a:solidFill>
                <a:latin typeface="微软雅黑"/>
                <a:ea typeface="微软雅黑"/>
              </a:rPr>
              <a:t>目 录</a:t>
            </a:r>
            <a:endParaRPr b="0" lang="en-US" sz="4000" spc="-1" strike="noStrike">
              <a:solidFill>
                <a:srgbClr val="000000"/>
              </a:solidFill>
              <a:latin typeface="Arial"/>
            </a:endParaRPr>
          </a:p>
        </p:txBody>
      </p:sp>
      <p:sp>
        <p:nvSpPr>
          <p:cNvPr id="157" name="TextBox 8"/>
          <p:cNvSpPr/>
          <p:nvPr/>
        </p:nvSpPr>
        <p:spPr>
          <a:xfrm>
            <a:off x="2071080" y="574200"/>
            <a:ext cx="228420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400" spc="-1" strike="noStrike">
                <a:solidFill>
                  <a:srgbClr val="808080"/>
                </a:solidFill>
                <a:latin typeface="Arial"/>
              </a:rPr>
              <a:t>CONTENTS</a:t>
            </a:r>
            <a:endParaRPr b="0" lang="en-US" sz="2400" spc="-1" strike="noStrike">
              <a:solidFill>
                <a:srgbClr val="000000"/>
              </a:solidFill>
              <a:latin typeface="Arial"/>
            </a:endParaRPr>
          </a:p>
        </p:txBody>
      </p:sp>
      <p:grpSp>
        <p:nvGrpSpPr>
          <p:cNvPr id="158" name="组合 15"/>
          <p:cNvGrpSpPr/>
          <p:nvPr/>
        </p:nvGrpSpPr>
        <p:grpSpPr>
          <a:xfrm>
            <a:off x="2189520" y="1756080"/>
            <a:ext cx="6332400" cy="516240"/>
            <a:chOff x="2189520" y="1756080"/>
            <a:chExt cx="6332400" cy="516240"/>
          </a:xfrm>
        </p:grpSpPr>
        <p:cxnSp>
          <p:nvCxnSpPr>
            <p:cNvPr id="159" name="直接连接符 5"/>
            <p:cNvCxnSpPr/>
            <p:nvPr/>
          </p:nvCxnSpPr>
          <p:spPr>
            <a:xfrm>
              <a:off x="2624400" y="2249640"/>
              <a:ext cx="5897880" cy="360"/>
            </a:xfrm>
            <a:prstGeom prst="straightConnector1">
              <a:avLst/>
            </a:prstGeom>
            <a:ln>
              <a:solidFill>
                <a:srgbClr val="ffffff">
                  <a:lumMod val="65000"/>
                </a:srgbClr>
              </a:solidFill>
            </a:ln>
          </p:spPr>
        </p:cxnSp>
        <p:grpSp>
          <p:nvGrpSpPr>
            <p:cNvPr id="160" name="组合 14"/>
            <p:cNvGrpSpPr/>
            <p:nvPr/>
          </p:nvGrpSpPr>
          <p:grpSpPr>
            <a:xfrm>
              <a:off x="2189520" y="1756080"/>
              <a:ext cx="590040" cy="516240"/>
              <a:chOff x="2189520" y="1756080"/>
              <a:chExt cx="590040" cy="516240"/>
            </a:xfrm>
          </p:grpSpPr>
          <p:sp>
            <p:nvSpPr>
              <p:cNvPr id="161" name="平行四边形 2"/>
              <p:cNvSpPr/>
              <p:nvPr/>
            </p:nvSpPr>
            <p:spPr>
              <a:xfrm>
                <a:off x="2189520" y="1778040"/>
                <a:ext cx="590040" cy="478800"/>
              </a:xfrm>
              <a:prstGeom prst="parallelogram">
                <a:avLst>
                  <a:gd name="adj" fmla="val 25000"/>
                </a:avLst>
              </a:prstGeom>
              <a:solidFill>
                <a:srgbClr val="34618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62" name="文本框 13"/>
              <p:cNvSpPr/>
              <p:nvPr/>
            </p:nvSpPr>
            <p:spPr>
              <a:xfrm>
                <a:off x="2194560" y="1756080"/>
                <a:ext cx="579960" cy="51624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US" sz="2800" spc="-1" strike="noStrike">
                    <a:solidFill>
                      <a:srgbClr val="ffffff"/>
                    </a:solidFill>
                    <a:latin typeface="微软雅黑"/>
                    <a:ea typeface="微软雅黑"/>
                  </a:rPr>
                  <a:t>1</a:t>
                </a:r>
                <a:endParaRPr b="0" lang="en-US" sz="2800" spc="-1" strike="noStrike">
                  <a:solidFill>
                    <a:srgbClr val="000000"/>
                  </a:solidFill>
                  <a:latin typeface="Arial"/>
                </a:endParaRPr>
              </a:p>
            </p:txBody>
          </p:sp>
        </p:grpSp>
      </p:grpSp>
      <p:grpSp>
        <p:nvGrpSpPr>
          <p:cNvPr id="163" name="组合 74"/>
          <p:cNvGrpSpPr/>
          <p:nvPr/>
        </p:nvGrpSpPr>
        <p:grpSpPr>
          <a:xfrm>
            <a:off x="2189520" y="2806920"/>
            <a:ext cx="6332400" cy="516240"/>
            <a:chOff x="2189520" y="2806920"/>
            <a:chExt cx="6332400" cy="516240"/>
          </a:xfrm>
        </p:grpSpPr>
        <p:cxnSp>
          <p:nvCxnSpPr>
            <p:cNvPr id="164" name="直接连接符 76"/>
            <p:cNvCxnSpPr/>
            <p:nvPr/>
          </p:nvCxnSpPr>
          <p:spPr>
            <a:xfrm>
              <a:off x="2624400" y="3300480"/>
              <a:ext cx="5897880" cy="360"/>
            </a:xfrm>
            <a:prstGeom prst="straightConnector1">
              <a:avLst/>
            </a:prstGeom>
            <a:ln>
              <a:solidFill>
                <a:srgbClr val="ffffff">
                  <a:lumMod val="65000"/>
                </a:srgbClr>
              </a:solidFill>
            </a:ln>
          </p:spPr>
        </p:cxnSp>
        <p:grpSp>
          <p:nvGrpSpPr>
            <p:cNvPr id="165" name="组合 77"/>
            <p:cNvGrpSpPr/>
            <p:nvPr/>
          </p:nvGrpSpPr>
          <p:grpSpPr>
            <a:xfrm>
              <a:off x="2189520" y="2806920"/>
              <a:ext cx="590040" cy="516240"/>
              <a:chOff x="2189520" y="2806920"/>
              <a:chExt cx="590040" cy="516240"/>
            </a:xfrm>
          </p:grpSpPr>
          <p:sp>
            <p:nvSpPr>
              <p:cNvPr id="166" name="平行四边形 78"/>
              <p:cNvSpPr/>
              <p:nvPr/>
            </p:nvSpPr>
            <p:spPr>
              <a:xfrm>
                <a:off x="2189520" y="2828880"/>
                <a:ext cx="590040" cy="478800"/>
              </a:xfrm>
              <a:prstGeom prst="parallelogram">
                <a:avLst>
                  <a:gd name="adj" fmla="val 25000"/>
                </a:avLst>
              </a:prstGeom>
              <a:solidFill>
                <a:srgbClr val="34618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67" name="文本框 79"/>
              <p:cNvSpPr/>
              <p:nvPr/>
            </p:nvSpPr>
            <p:spPr>
              <a:xfrm>
                <a:off x="2194560" y="2806920"/>
                <a:ext cx="579960" cy="51624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US" sz="2800" spc="-1" strike="noStrike">
                    <a:solidFill>
                      <a:srgbClr val="ffffff"/>
                    </a:solidFill>
                    <a:latin typeface="微软雅黑"/>
                    <a:ea typeface="微软雅黑"/>
                  </a:rPr>
                  <a:t>2</a:t>
                </a:r>
                <a:endParaRPr b="0" lang="en-US" sz="2800" spc="-1" strike="noStrike">
                  <a:solidFill>
                    <a:srgbClr val="000000"/>
                  </a:solidFill>
                  <a:latin typeface="Arial"/>
                </a:endParaRPr>
              </a:p>
            </p:txBody>
          </p:sp>
        </p:grpSp>
      </p:grpSp>
      <p:grpSp>
        <p:nvGrpSpPr>
          <p:cNvPr id="168" name="组合 81"/>
          <p:cNvGrpSpPr/>
          <p:nvPr/>
        </p:nvGrpSpPr>
        <p:grpSpPr>
          <a:xfrm>
            <a:off x="2189520" y="3857760"/>
            <a:ext cx="6332400" cy="516240"/>
            <a:chOff x="2189520" y="3857760"/>
            <a:chExt cx="6332400" cy="516240"/>
          </a:xfrm>
        </p:grpSpPr>
        <p:cxnSp>
          <p:nvCxnSpPr>
            <p:cNvPr id="169" name="直接连接符 82"/>
            <p:cNvCxnSpPr/>
            <p:nvPr/>
          </p:nvCxnSpPr>
          <p:spPr>
            <a:xfrm>
              <a:off x="2624400" y="4351320"/>
              <a:ext cx="5897880" cy="360"/>
            </a:xfrm>
            <a:prstGeom prst="straightConnector1">
              <a:avLst/>
            </a:prstGeom>
            <a:ln>
              <a:solidFill>
                <a:srgbClr val="ffffff">
                  <a:lumMod val="65000"/>
                </a:srgbClr>
              </a:solidFill>
            </a:ln>
          </p:spPr>
        </p:cxnSp>
        <p:grpSp>
          <p:nvGrpSpPr>
            <p:cNvPr id="170" name="组合 84"/>
            <p:cNvGrpSpPr/>
            <p:nvPr/>
          </p:nvGrpSpPr>
          <p:grpSpPr>
            <a:xfrm>
              <a:off x="2189520" y="3857760"/>
              <a:ext cx="590040" cy="516240"/>
              <a:chOff x="2189520" y="3857760"/>
              <a:chExt cx="590040" cy="516240"/>
            </a:xfrm>
          </p:grpSpPr>
          <p:sp>
            <p:nvSpPr>
              <p:cNvPr id="171" name="平行四边形 85"/>
              <p:cNvSpPr/>
              <p:nvPr/>
            </p:nvSpPr>
            <p:spPr>
              <a:xfrm>
                <a:off x="2189520" y="3879720"/>
                <a:ext cx="590040" cy="478800"/>
              </a:xfrm>
              <a:prstGeom prst="parallelogram">
                <a:avLst>
                  <a:gd name="adj" fmla="val 25000"/>
                </a:avLst>
              </a:prstGeom>
              <a:solidFill>
                <a:srgbClr val="34618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72" name="文本框 86"/>
              <p:cNvSpPr/>
              <p:nvPr/>
            </p:nvSpPr>
            <p:spPr>
              <a:xfrm>
                <a:off x="2194560" y="3857760"/>
                <a:ext cx="579960" cy="51624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US" sz="2800" spc="-1" strike="noStrike">
                    <a:solidFill>
                      <a:srgbClr val="ffffff"/>
                    </a:solidFill>
                    <a:latin typeface="微软雅黑"/>
                    <a:ea typeface="微软雅黑"/>
                  </a:rPr>
                  <a:t>3</a:t>
                </a:r>
                <a:endParaRPr b="0" lang="en-US" sz="2800" spc="-1" strike="noStrike">
                  <a:solidFill>
                    <a:srgbClr val="000000"/>
                  </a:solidFill>
                  <a:latin typeface="Arial"/>
                </a:endParaRPr>
              </a:p>
            </p:txBody>
          </p:sp>
        </p:grpSp>
      </p:grpSp>
      <p:grpSp>
        <p:nvGrpSpPr>
          <p:cNvPr id="173" name="组合 88"/>
          <p:cNvGrpSpPr/>
          <p:nvPr/>
        </p:nvGrpSpPr>
        <p:grpSpPr>
          <a:xfrm>
            <a:off x="2189520" y="4908600"/>
            <a:ext cx="6332400" cy="516240"/>
            <a:chOff x="2189520" y="4908600"/>
            <a:chExt cx="6332400" cy="516240"/>
          </a:xfrm>
        </p:grpSpPr>
        <p:cxnSp>
          <p:nvCxnSpPr>
            <p:cNvPr id="174" name="直接连接符 89"/>
            <p:cNvCxnSpPr/>
            <p:nvPr/>
          </p:nvCxnSpPr>
          <p:spPr>
            <a:xfrm>
              <a:off x="2624400" y="5401800"/>
              <a:ext cx="5897880" cy="360"/>
            </a:xfrm>
            <a:prstGeom prst="straightConnector1">
              <a:avLst/>
            </a:prstGeom>
            <a:ln>
              <a:solidFill>
                <a:srgbClr val="ffffff">
                  <a:lumMod val="65000"/>
                </a:srgbClr>
              </a:solidFill>
            </a:ln>
          </p:spPr>
        </p:cxnSp>
        <p:grpSp>
          <p:nvGrpSpPr>
            <p:cNvPr id="175" name="组合 90"/>
            <p:cNvGrpSpPr/>
            <p:nvPr/>
          </p:nvGrpSpPr>
          <p:grpSpPr>
            <a:xfrm>
              <a:off x="2189520" y="4908600"/>
              <a:ext cx="590040" cy="516240"/>
              <a:chOff x="2189520" y="4908600"/>
              <a:chExt cx="590040" cy="516240"/>
            </a:xfrm>
          </p:grpSpPr>
          <p:sp>
            <p:nvSpPr>
              <p:cNvPr id="176" name="平行四边形 91"/>
              <p:cNvSpPr/>
              <p:nvPr/>
            </p:nvSpPr>
            <p:spPr>
              <a:xfrm>
                <a:off x="2189520" y="4930560"/>
                <a:ext cx="590040" cy="478800"/>
              </a:xfrm>
              <a:prstGeom prst="parallelogram">
                <a:avLst>
                  <a:gd name="adj" fmla="val 25000"/>
                </a:avLst>
              </a:prstGeom>
              <a:solidFill>
                <a:srgbClr val="34618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77" name="文本框 92"/>
              <p:cNvSpPr/>
              <p:nvPr/>
            </p:nvSpPr>
            <p:spPr>
              <a:xfrm>
                <a:off x="2194560" y="4908600"/>
                <a:ext cx="579960" cy="51624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US" sz="2800" spc="-1" strike="noStrike">
                    <a:solidFill>
                      <a:srgbClr val="ffffff"/>
                    </a:solidFill>
                    <a:latin typeface="微软雅黑"/>
                    <a:ea typeface="微软雅黑"/>
                  </a:rPr>
                  <a:t>4</a:t>
                </a:r>
                <a:endParaRPr b="0" lang="en-US" sz="2800" spc="-1" strike="noStrike">
                  <a:solidFill>
                    <a:srgbClr val="000000"/>
                  </a:solidFill>
                  <a:latin typeface="Arial"/>
                </a:endParaRPr>
              </a:p>
            </p:txBody>
          </p:sp>
        </p:grpSp>
      </p:grpSp>
      <p:sp>
        <p:nvSpPr>
          <p:cNvPr id="178" name="矩形 17"/>
          <p:cNvSpPr/>
          <p:nvPr/>
        </p:nvSpPr>
        <p:spPr>
          <a:xfrm>
            <a:off x="3363480" y="1797120"/>
            <a:ext cx="54684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346182"/>
                </a:solidFill>
                <a:latin typeface="微软雅黑"/>
                <a:ea typeface="微软雅黑"/>
              </a:rPr>
              <a:t>摘要</a:t>
            </a:r>
            <a:endParaRPr b="0" lang="en-US" sz="2400" spc="-1" strike="noStrike">
              <a:solidFill>
                <a:srgbClr val="000000"/>
              </a:solidFill>
              <a:latin typeface="Arial"/>
            </a:endParaRPr>
          </a:p>
        </p:txBody>
      </p:sp>
      <p:sp>
        <p:nvSpPr>
          <p:cNvPr id="179" name="矩形 94"/>
          <p:cNvSpPr/>
          <p:nvPr/>
        </p:nvSpPr>
        <p:spPr>
          <a:xfrm>
            <a:off x="3675960" y="2846880"/>
            <a:ext cx="146124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346182"/>
                </a:solidFill>
                <a:latin typeface="微软雅黑"/>
                <a:ea typeface="微软雅黑"/>
              </a:rPr>
              <a:t>此处输入文本框</a:t>
            </a:r>
            <a:endParaRPr b="0" lang="en-US" sz="2400" spc="-1" strike="noStrike">
              <a:solidFill>
                <a:srgbClr val="000000"/>
              </a:solidFill>
              <a:latin typeface="Arial"/>
            </a:endParaRPr>
          </a:p>
        </p:txBody>
      </p:sp>
      <p:sp>
        <p:nvSpPr>
          <p:cNvPr id="180" name="矩形 19"/>
          <p:cNvSpPr/>
          <p:nvPr/>
        </p:nvSpPr>
        <p:spPr>
          <a:xfrm>
            <a:off x="3675960" y="3767760"/>
            <a:ext cx="1461240" cy="638280"/>
          </a:xfrm>
          <a:prstGeom prst="rect">
            <a:avLst/>
          </a:prstGeom>
          <a:noFill/>
          <a:ln w="0">
            <a:noFill/>
          </a:ln>
        </p:spPr>
        <p:style>
          <a:lnRef idx="0"/>
          <a:fillRef idx="0"/>
          <a:effectRef idx="0"/>
          <a:fontRef idx="minor"/>
        </p:style>
        <p:txBody>
          <a:bodyPr wrap="none" lIns="90000" rIns="90000" tIns="45000" bIns="45000" anchor="t">
            <a:spAutoFit/>
          </a:bodyPr>
          <a:p>
            <a:pPr>
              <a:lnSpc>
                <a:spcPct val="150000"/>
              </a:lnSpc>
            </a:pPr>
            <a:r>
              <a:rPr b="1" lang="zh-CN" sz="2400" spc="-1" strike="noStrike">
                <a:solidFill>
                  <a:srgbClr val="346182"/>
                </a:solidFill>
                <a:latin typeface="微软雅黑"/>
                <a:ea typeface="微软雅黑"/>
              </a:rPr>
              <a:t>此处输入文本框</a:t>
            </a:r>
            <a:endParaRPr b="0" lang="en-US" sz="2400" spc="-1" strike="noStrike">
              <a:solidFill>
                <a:srgbClr val="000000"/>
              </a:solidFill>
              <a:latin typeface="Arial"/>
            </a:endParaRPr>
          </a:p>
        </p:txBody>
      </p:sp>
      <p:sp>
        <p:nvSpPr>
          <p:cNvPr id="181" name="矩形 95"/>
          <p:cNvSpPr/>
          <p:nvPr/>
        </p:nvSpPr>
        <p:spPr>
          <a:xfrm>
            <a:off x="3363480" y="4942440"/>
            <a:ext cx="54684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346182"/>
                </a:solidFill>
                <a:latin typeface="微软雅黑"/>
                <a:ea typeface="微软雅黑"/>
              </a:rPr>
              <a:t>结论</a:t>
            </a:r>
            <a:endParaRPr b="0" lang="en-US" sz="2400" spc="-1" strike="noStrike">
              <a:solidFill>
                <a:srgbClr val="000000"/>
              </a:solidFill>
              <a:latin typeface="Arial"/>
            </a:endParaRPr>
          </a:p>
        </p:txBody>
      </p:sp>
      <p:sp>
        <p:nvSpPr>
          <p:cNvPr id="182" name="任意多边形 62"/>
          <p:cNvSpPr/>
          <p:nvPr/>
        </p:nvSpPr>
        <p:spPr>
          <a:xfrm flipH="1" flipV="1">
            <a:off x="4011840" y="4491000"/>
            <a:ext cx="767880" cy="594360"/>
          </a:xfrm>
          <a:custGeom>
            <a:avLst/>
            <a:gdLst>
              <a:gd name="textAreaLeft" fmla="*/ -360 w 767880"/>
              <a:gd name="textAreaRight" fmla="*/ 767880 w 767880"/>
              <a:gd name="textAreaTop" fmla="*/ -360 h 594360"/>
              <a:gd name="textAreaBottom" fmla="*/ 594360 h 594360"/>
            </a:gdLst>
            <a:ahLst/>
            <a:rect l="textAreaLeft" t="textAreaTop" r="textAreaRight" b="textAreaBottom"/>
            <a:pathLst>
              <a:path w="768171" h="594733">
                <a:moveTo>
                  <a:pt x="380650" y="0"/>
                </a:moveTo>
                <a:lnTo>
                  <a:pt x="386064" y="7873"/>
                </a:lnTo>
                <a:lnTo>
                  <a:pt x="479739" y="144080"/>
                </a:lnTo>
                <a:lnTo>
                  <a:pt x="530801" y="223861"/>
                </a:lnTo>
                <a:lnTo>
                  <a:pt x="758406" y="579475"/>
                </a:lnTo>
                <a:lnTo>
                  <a:pt x="768171" y="594733"/>
                </a:lnTo>
                <a:lnTo>
                  <a:pt x="0" y="594733"/>
                </a:lnTo>
                <a:lnTo>
                  <a:pt x="6654" y="584336"/>
                </a:lnTo>
                <a:close/>
              </a:path>
            </a:pathLst>
          </a:custGeom>
          <a:solidFill>
            <a:srgbClr val="89a67a">
              <a:alpha val="35000"/>
            </a:srgbClr>
          </a:solidFill>
          <a:ln>
            <a:solidFill>
              <a:srgbClr val="cfdac2"/>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2" presetSubtype="8">
                                  <p:stCondLst>
                                    <p:cond delay="0"/>
                                  </p:stCondLst>
                                  <p:childTnLst>
                                    <p:set>
                                      <p:cBhvr>
                                        <p:cTn id="14" dur="1" fill="hold">
                                          <p:stCondLst>
                                            <p:cond delay="0"/>
                                          </p:stCondLst>
                                        </p:cTn>
                                        <p:tgtEl>
                                          <p:spTgt spid="158"/>
                                        </p:tgtEl>
                                        <p:attrNameLst>
                                          <p:attrName>style.visibility</p:attrName>
                                        </p:attrNameLst>
                                      </p:cBhvr>
                                      <p:to>
                                        <p:strVal val="visible"/>
                                      </p:to>
                                    </p:set>
                                    <p:animEffect filter="wipe(left)" transition="in">
                                      <p:cBhvr additive="repl">
                                        <p:cTn id="15" dur="500"/>
                                        <p:tgtEl>
                                          <p:spTgt spid="158"/>
                                        </p:tgtEl>
                                      </p:cBhvr>
                                    </p:animEffect>
                                  </p:childTnLst>
                                </p:cTn>
                              </p:par>
                            </p:childTnLst>
                          </p:cTn>
                        </p:par>
                        <p:par>
                          <p:cTn id="16" fill="hold">
                            <p:stCondLst>
                              <p:cond delay="500"/>
                            </p:stCondLst>
                            <p:childTnLst>
                              <p:par>
                                <p:cTn id="17" nodeType="afterEffect" fill="hold" presetClass="entr" presetID="2" presetSubtype="2">
                                  <p:stCondLst>
                                    <p:cond delay="0"/>
                                  </p:stCondLst>
                                  <p:childTnLst>
                                    <p:set>
                                      <p:cBhvr>
                                        <p:cTn id="18" dur="1" fill="hold">
                                          <p:stCondLst>
                                            <p:cond delay="0"/>
                                          </p:stCondLst>
                                        </p:cTn>
                                        <p:tgtEl>
                                          <p:spTgt spid="178"/>
                                        </p:tgtEl>
                                        <p:attrNameLst>
                                          <p:attrName>style.visibility</p:attrName>
                                        </p:attrNameLst>
                                      </p:cBhvr>
                                      <p:to>
                                        <p:strVal val="visible"/>
                                      </p:to>
                                    </p:set>
                                    <p:anim calcmode="lin" valueType="num">
                                      <p:cBhvr additive="repl">
                                        <p:cTn id="19" dur="500" fill="hold"/>
                                        <p:tgtEl>
                                          <p:spTgt spid="178"/>
                                        </p:tgtEl>
                                        <p:attrNameLst>
                                          <p:attrName>ppt_x</p:attrName>
                                        </p:attrNameLst>
                                      </p:cBhvr>
                                      <p:tavLst>
                                        <p:tav tm="0">
                                          <p:val>
                                            <p:strVal val="1+#ppt_w/2"/>
                                          </p:val>
                                        </p:tav>
                                        <p:tav tm="100000">
                                          <p:val>
                                            <p:strVal val="#ppt_x"/>
                                          </p:val>
                                        </p:tav>
                                      </p:tavLst>
                                    </p:anim>
                                    <p:anim calcmode="lin" valueType="num">
                                      <p:cBhvr additive="repl">
                                        <p:cTn id="20" dur="500" fill="hold"/>
                                        <p:tgtEl>
                                          <p:spTgt spid="178"/>
                                        </p:tgtEl>
                                        <p:attrNameLst>
                                          <p:attrName>ppt_y</p:attrName>
                                        </p:attrNameLst>
                                      </p:cBhvr>
                                      <p:tavLst>
                                        <p:tav tm="0">
                                          <p:val>
                                            <p:strVal val="#ppt_y"/>
                                          </p:val>
                                        </p:tav>
                                        <p:tav tm="100000">
                                          <p:val>
                                            <p:strVal val="#ppt_y"/>
                                          </p:val>
                                        </p:tav>
                                      </p:tavLst>
                                    </p:anim>
                                  </p:childTnLst>
                                </p:cTn>
                              </p:par>
                            </p:childTnLst>
                          </p:cTn>
                        </p:par>
                        <p:par>
                          <p:cTn id="21" fill="hold">
                            <p:stCondLst>
                              <p:cond delay="1000"/>
                            </p:stCondLst>
                            <p:childTnLst>
                              <p:par>
                                <p:cTn id="22" nodeType="afterEffect" fill="hold" presetClass="entr" presetID="22" presetSubtype="8">
                                  <p:stCondLst>
                                    <p:cond delay="0"/>
                                  </p:stCondLst>
                                  <p:childTnLst>
                                    <p:set>
                                      <p:cBhvr>
                                        <p:cTn id="23" dur="1" fill="hold">
                                          <p:stCondLst>
                                            <p:cond delay="0"/>
                                          </p:stCondLst>
                                        </p:cTn>
                                        <p:tgtEl>
                                          <p:spTgt spid="163"/>
                                        </p:tgtEl>
                                        <p:attrNameLst>
                                          <p:attrName>style.visibility</p:attrName>
                                        </p:attrNameLst>
                                      </p:cBhvr>
                                      <p:to>
                                        <p:strVal val="visible"/>
                                      </p:to>
                                    </p:set>
                                    <p:animEffect filter="wipe(left)" transition="in">
                                      <p:cBhvr additive="repl">
                                        <p:cTn id="24" dur="500"/>
                                        <p:tgtEl>
                                          <p:spTgt spid="163"/>
                                        </p:tgtEl>
                                      </p:cBhvr>
                                    </p:animEffect>
                                  </p:childTnLst>
                                </p:cTn>
                              </p:par>
                            </p:childTnLst>
                          </p:cTn>
                        </p:par>
                        <p:par>
                          <p:cTn id="25" fill="hold">
                            <p:stCondLst>
                              <p:cond delay="1500"/>
                            </p:stCondLst>
                            <p:childTnLst>
                              <p:par>
                                <p:cTn id="26" nodeType="afterEffect" fill="hold" presetClass="entr" presetID="2" presetSubtype="2">
                                  <p:stCondLst>
                                    <p:cond delay="0"/>
                                  </p:stCondLst>
                                  <p:childTnLst>
                                    <p:set>
                                      <p:cBhvr>
                                        <p:cTn id="27" dur="1" fill="hold">
                                          <p:stCondLst>
                                            <p:cond delay="0"/>
                                          </p:stCondLst>
                                        </p:cTn>
                                        <p:tgtEl>
                                          <p:spTgt spid="179"/>
                                        </p:tgtEl>
                                        <p:attrNameLst>
                                          <p:attrName>style.visibility</p:attrName>
                                        </p:attrNameLst>
                                      </p:cBhvr>
                                      <p:to>
                                        <p:strVal val="visible"/>
                                      </p:to>
                                    </p:set>
                                    <p:anim calcmode="lin" valueType="num">
                                      <p:cBhvr additive="repl">
                                        <p:cTn id="28" dur="500" fill="hold"/>
                                        <p:tgtEl>
                                          <p:spTgt spid="179"/>
                                        </p:tgtEl>
                                        <p:attrNameLst>
                                          <p:attrName>ppt_x</p:attrName>
                                        </p:attrNameLst>
                                      </p:cBhvr>
                                      <p:tavLst>
                                        <p:tav tm="0">
                                          <p:val>
                                            <p:strVal val="1+#ppt_w/2"/>
                                          </p:val>
                                        </p:tav>
                                        <p:tav tm="100000">
                                          <p:val>
                                            <p:strVal val="#ppt_x"/>
                                          </p:val>
                                        </p:tav>
                                      </p:tavLst>
                                    </p:anim>
                                    <p:anim calcmode="lin" valueType="num">
                                      <p:cBhvr additive="repl">
                                        <p:cTn id="29" dur="500" fill="hold"/>
                                        <p:tgtEl>
                                          <p:spTgt spid="179"/>
                                        </p:tgtEl>
                                        <p:attrNameLst>
                                          <p:attrName>ppt_y</p:attrName>
                                        </p:attrNameLst>
                                      </p:cBhvr>
                                      <p:tavLst>
                                        <p:tav tm="0">
                                          <p:val>
                                            <p:strVal val="#ppt_y"/>
                                          </p:val>
                                        </p:tav>
                                        <p:tav tm="100000">
                                          <p:val>
                                            <p:strVal val="#ppt_y"/>
                                          </p:val>
                                        </p:tav>
                                      </p:tavLst>
                                    </p:anim>
                                  </p:childTnLst>
                                </p:cTn>
                              </p:par>
                            </p:childTnLst>
                          </p:cTn>
                        </p:par>
                        <p:par>
                          <p:cTn id="30" fill="hold">
                            <p:stCondLst>
                              <p:cond delay="2000"/>
                            </p:stCondLst>
                            <p:childTnLst>
                              <p:par>
                                <p:cTn id="31" nodeType="afterEffect" fill="hold" presetClass="entr" presetID="22" presetSubtype="8">
                                  <p:stCondLst>
                                    <p:cond delay="0"/>
                                  </p:stCondLst>
                                  <p:childTnLst>
                                    <p:set>
                                      <p:cBhvr>
                                        <p:cTn id="32" dur="1" fill="hold">
                                          <p:stCondLst>
                                            <p:cond delay="0"/>
                                          </p:stCondLst>
                                        </p:cTn>
                                        <p:tgtEl>
                                          <p:spTgt spid="168"/>
                                        </p:tgtEl>
                                        <p:attrNameLst>
                                          <p:attrName>style.visibility</p:attrName>
                                        </p:attrNameLst>
                                      </p:cBhvr>
                                      <p:to>
                                        <p:strVal val="visible"/>
                                      </p:to>
                                    </p:set>
                                    <p:animEffect filter="wipe(left)" transition="in">
                                      <p:cBhvr additive="repl">
                                        <p:cTn id="33" dur="500"/>
                                        <p:tgtEl>
                                          <p:spTgt spid="168"/>
                                        </p:tgtEl>
                                      </p:cBhvr>
                                    </p:animEffect>
                                  </p:childTnLst>
                                </p:cTn>
                              </p:par>
                            </p:childTnLst>
                          </p:cTn>
                        </p:par>
                        <p:par>
                          <p:cTn id="34" fill="hold">
                            <p:stCondLst>
                              <p:cond delay="2500"/>
                            </p:stCondLst>
                            <p:childTnLst>
                              <p:par>
                                <p:cTn id="35" nodeType="afterEffect" fill="hold" presetClass="entr" presetID="2" presetSubtype="2">
                                  <p:stCondLst>
                                    <p:cond delay="0"/>
                                  </p:stCondLst>
                                  <p:childTnLst>
                                    <p:set>
                                      <p:cBhvr>
                                        <p:cTn id="36" dur="1" fill="hold">
                                          <p:stCondLst>
                                            <p:cond delay="0"/>
                                          </p:stCondLst>
                                        </p:cTn>
                                        <p:tgtEl>
                                          <p:spTgt spid="180"/>
                                        </p:tgtEl>
                                        <p:attrNameLst>
                                          <p:attrName>style.visibility</p:attrName>
                                        </p:attrNameLst>
                                      </p:cBhvr>
                                      <p:to>
                                        <p:strVal val="visible"/>
                                      </p:to>
                                    </p:set>
                                    <p:anim calcmode="lin" valueType="num">
                                      <p:cBhvr additive="repl">
                                        <p:cTn id="37" dur="500" fill="hold"/>
                                        <p:tgtEl>
                                          <p:spTgt spid="180"/>
                                        </p:tgtEl>
                                        <p:attrNameLst>
                                          <p:attrName>ppt_x</p:attrName>
                                        </p:attrNameLst>
                                      </p:cBhvr>
                                      <p:tavLst>
                                        <p:tav tm="0">
                                          <p:val>
                                            <p:strVal val="1+#ppt_w/2"/>
                                          </p:val>
                                        </p:tav>
                                        <p:tav tm="100000">
                                          <p:val>
                                            <p:strVal val="#ppt_x"/>
                                          </p:val>
                                        </p:tav>
                                      </p:tavLst>
                                    </p:anim>
                                    <p:anim calcmode="lin" valueType="num">
                                      <p:cBhvr additive="repl">
                                        <p:cTn id="38" dur="500" fill="hold"/>
                                        <p:tgtEl>
                                          <p:spTgt spid="180"/>
                                        </p:tgtEl>
                                        <p:attrNameLst>
                                          <p:attrName>ppt_y</p:attrName>
                                        </p:attrNameLst>
                                      </p:cBhvr>
                                      <p:tavLst>
                                        <p:tav tm="0">
                                          <p:val>
                                            <p:strVal val="#ppt_y"/>
                                          </p:val>
                                        </p:tav>
                                        <p:tav tm="100000">
                                          <p:val>
                                            <p:strVal val="#ppt_y"/>
                                          </p:val>
                                        </p:tav>
                                      </p:tavLst>
                                    </p:anim>
                                  </p:childTnLst>
                                </p:cTn>
                              </p:par>
                            </p:childTnLst>
                          </p:cTn>
                        </p:par>
                        <p:par>
                          <p:cTn id="39" fill="hold">
                            <p:stCondLst>
                              <p:cond delay="3000"/>
                            </p:stCondLst>
                            <p:childTnLst>
                              <p:par>
                                <p:cTn id="40" nodeType="afterEffect" fill="hold" presetClass="entr" presetID="22" presetSubtype="8">
                                  <p:stCondLst>
                                    <p:cond delay="0"/>
                                  </p:stCondLst>
                                  <p:childTnLst>
                                    <p:set>
                                      <p:cBhvr>
                                        <p:cTn id="41" dur="1" fill="hold">
                                          <p:stCondLst>
                                            <p:cond delay="0"/>
                                          </p:stCondLst>
                                        </p:cTn>
                                        <p:tgtEl>
                                          <p:spTgt spid="173"/>
                                        </p:tgtEl>
                                        <p:attrNameLst>
                                          <p:attrName>style.visibility</p:attrName>
                                        </p:attrNameLst>
                                      </p:cBhvr>
                                      <p:to>
                                        <p:strVal val="visible"/>
                                      </p:to>
                                    </p:set>
                                    <p:animEffect filter="wipe(left)" transition="in">
                                      <p:cBhvr additive="repl">
                                        <p:cTn id="42" dur="500"/>
                                        <p:tgtEl>
                                          <p:spTgt spid="173"/>
                                        </p:tgtEl>
                                      </p:cBhvr>
                                    </p:animEffect>
                                  </p:childTnLst>
                                </p:cTn>
                              </p:par>
                            </p:childTnLst>
                          </p:cTn>
                        </p:par>
                        <p:par>
                          <p:cTn id="43" fill="hold">
                            <p:stCondLst>
                              <p:cond delay="3500"/>
                            </p:stCondLst>
                            <p:childTnLst>
                              <p:par>
                                <p:cTn id="44" nodeType="afterEffect" fill="hold" presetClass="entr" presetID="2" presetSubtype="2">
                                  <p:stCondLst>
                                    <p:cond delay="0"/>
                                  </p:stCondLst>
                                  <p:childTnLst>
                                    <p:set>
                                      <p:cBhvr>
                                        <p:cTn id="45" dur="1" fill="hold">
                                          <p:stCondLst>
                                            <p:cond delay="0"/>
                                          </p:stCondLst>
                                        </p:cTn>
                                        <p:tgtEl>
                                          <p:spTgt spid="181"/>
                                        </p:tgtEl>
                                        <p:attrNameLst>
                                          <p:attrName>style.visibility</p:attrName>
                                        </p:attrNameLst>
                                      </p:cBhvr>
                                      <p:to>
                                        <p:strVal val="visible"/>
                                      </p:to>
                                    </p:set>
                                    <p:anim calcmode="lin" valueType="num">
                                      <p:cBhvr additive="repl">
                                        <p:cTn id="46" dur="500" fill="hold"/>
                                        <p:tgtEl>
                                          <p:spTgt spid="181"/>
                                        </p:tgtEl>
                                        <p:attrNameLst>
                                          <p:attrName>ppt_x</p:attrName>
                                        </p:attrNameLst>
                                      </p:cBhvr>
                                      <p:tavLst>
                                        <p:tav tm="0">
                                          <p:val>
                                            <p:strVal val="1+#ppt_w/2"/>
                                          </p:val>
                                        </p:tav>
                                        <p:tav tm="100000">
                                          <p:val>
                                            <p:strVal val="#ppt_x"/>
                                          </p:val>
                                        </p:tav>
                                      </p:tavLst>
                                    </p:anim>
                                    <p:anim calcmode="lin" valueType="num">
                                      <p:cBhvr additive="repl">
                                        <p:cTn id="47" dur="500" fill="hold"/>
                                        <p:tgtEl>
                                          <p:spTgt spid="18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任意多边形 69"/>
          <p:cNvSpPr/>
          <p:nvPr/>
        </p:nvSpPr>
        <p:spPr>
          <a:xfrm>
            <a:off x="561960" y="5459040"/>
            <a:ext cx="1379160" cy="1436400"/>
          </a:xfrm>
          <a:custGeom>
            <a:avLst/>
            <a:gdLst>
              <a:gd name="textAreaLeft" fmla="*/ 0 w 1379160"/>
              <a:gd name="textAreaRight" fmla="*/ 1379520 w 1379160"/>
              <a:gd name="textAreaTop" fmla="*/ 0 h 1436400"/>
              <a:gd name="textAreaBottom" fmla="*/ 1436760 h 1436400"/>
            </a:gdLst>
            <a:ahLst/>
            <a:rect l="textAreaLeft" t="textAreaTop" r="textAreaRight" b="textAreaBottom"/>
            <a:pathLst>
              <a:path w="1379382" h="1436917">
                <a:moveTo>
                  <a:pt x="988221" y="0"/>
                </a:moveTo>
                <a:lnTo>
                  <a:pt x="1010406" y="15258"/>
                </a:lnTo>
                <a:lnTo>
                  <a:pt x="1238011" y="370872"/>
                </a:lnTo>
                <a:lnTo>
                  <a:pt x="1235427" y="372649"/>
                </a:lnTo>
                <a:lnTo>
                  <a:pt x="1289073" y="450653"/>
                </a:lnTo>
                <a:lnTo>
                  <a:pt x="1379382" y="591754"/>
                </a:lnTo>
                <a:lnTo>
                  <a:pt x="798132" y="1436917"/>
                </a:lnTo>
                <a:lnTo>
                  <a:pt x="0" y="1436917"/>
                </a:lnTo>
                <a:lnTo>
                  <a:pt x="988221" y="0"/>
                </a:lnTo>
                <a:close/>
              </a:path>
            </a:pathLst>
          </a:custGeom>
          <a:solidFill>
            <a:srgbClr val="ee8f82">
              <a:alpha val="25000"/>
            </a:srgbClr>
          </a:solidFill>
          <a:ln>
            <a:solidFill>
              <a:srgbClr val="eed9c6"/>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84" name="任意多边形 68"/>
          <p:cNvSpPr/>
          <p:nvPr/>
        </p:nvSpPr>
        <p:spPr>
          <a:xfrm>
            <a:off x="1950120" y="5459040"/>
            <a:ext cx="1377000" cy="1436400"/>
          </a:xfrm>
          <a:custGeom>
            <a:avLst/>
            <a:gdLst>
              <a:gd name="textAreaLeft" fmla="*/ 0 w 1377000"/>
              <a:gd name="textAreaRight" fmla="*/ 1377360 w 1377000"/>
              <a:gd name="textAreaTop" fmla="*/ 0 h 1436400"/>
              <a:gd name="textAreaBottom" fmla="*/ 1436760 h 1436400"/>
            </a:gdLst>
            <a:ahLst/>
            <a:rect l="textAreaLeft" t="textAreaTop" r="textAreaRight" b="textAreaBottom"/>
            <a:pathLst>
              <a:path w="1377333" h="1436916">
                <a:moveTo>
                  <a:pt x="389113" y="0"/>
                </a:moveTo>
                <a:lnTo>
                  <a:pt x="1377333" y="1436916"/>
                </a:lnTo>
                <a:lnTo>
                  <a:pt x="579200" y="1436916"/>
                </a:lnTo>
                <a:lnTo>
                  <a:pt x="0" y="594733"/>
                </a:lnTo>
                <a:lnTo>
                  <a:pt x="373996" y="10397"/>
                </a:lnTo>
                <a:lnTo>
                  <a:pt x="389113" y="0"/>
                </a:lnTo>
                <a:close/>
              </a:path>
            </a:pathLst>
          </a:custGeom>
          <a:solidFill>
            <a:srgbClr val="f1dbcc"/>
          </a:solidFill>
          <a:ln>
            <a:solidFill>
              <a:srgbClr val="f1dbcc"/>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85" name="任意多边形 818"/>
          <p:cNvSpPr/>
          <p:nvPr/>
        </p:nvSpPr>
        <p:spPr>
          <a:xfrm flipV="1">
            <a:off x="5466240" y="5123160"/>
            <a:ext cx="1608120" cy="1772640"/>
          </a:xfrm>
          <a:custGeom>
            <a:avLst/>
            <a:gdLst>
              <a:gd name="textAreaLeft" fmla="*/ 0 w 1608120"/>
              <a:gd name="textAreaRight" fmla="*/ 1608480 w 1608120"/>
              <a:gd name="textAreaTop" fmla="*/ 360 h 1772640"/>
              <a:gd name="textAreaBottom" fmla="*/ 1773360 h 1772640"/>
            </a:gdLst>
            <a:ahLst/>
            <a:rect l="textAreaLeft" t="textAreaTop" r="textAreaRight" b="textAreaBottom"/>
            <a:pathLst>
              <a:path w="1608398" h="1772896">
                <a:moveTo>
                  <a:pt x="1219285" y="1772896"/>
                </a:moveTo>
                <a:lnTo>
                  <a:pt x="1234402" y="1762499"/>
                </a:lnTo>
                <a:lnTo>
                  <a:pt x="1608398" y="1178163"/>
                </a:lnTo>
                <a:lnTo>
                  <a:pt x="798132" y="0"/>
                </a:lnTo>
                <a:lnTo>
                  <a:pt x="0" y="0"/>
                </a:lnTo>
                <a:lnTo>
                  <a:pt x="1219285" y="1772896"/>
                </a:lnTo>
                <a:close/>
              </a:path>
            </a:pathLst>
          </a:custGeom>
          <a:solidFill>
            <a:srgbClr val="ed6f65">
              <a:alpha val="25000"/>
            </a:srgbClr>
          </a:solidFill>
          <a:ln>
            <a:solidFill>
              <a:srgbClr val="f1dbcc"/>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86" name="任意多边形 519"/>
          <p:cNvSpPr/>
          <p:nvPr/>
        </p:nvSpPr>
        <p:spPr>
          <a:xfrm>
            <a:off x="10576080" y="2869200"/>
            <a:ext cx="767880" cy="594360"/>
          </a:xfrm>
          <a:custGeom>
            <a:avLst/>
            <a:gdLst>
              <a:gd name="textAreaLeft" fmla="*/ 0 w 767880"/>
              <a:gd name="textAreaRight" fmla="*/ 768240 w 767880"/>
              <a:gd name="textAreaTop" fmla="*/ 0 h 594360"/>
              <a:gd name="textAreaBottom" fmla="*/ 594720 h 594360"/>
            </a:gdLst>
            <a:ahLst/>
            <a:rect l="textAreaLeft" t="textAreaTop" r="textAreaRight" b="textAreaBottom"/>
            <a:pathLst>
              <a:path w="768171" h="594733">
                <a:moveTo>
                  <a:pt x="380650" y="0"/>
                </a:moveTo>
                <a:lnTo>
                  <a:pt x="386064" y="7873"/>
                </a:lnTo>
                <a:lnTo>
                  <a:pt x="479739" y="144080"/>
                </a:lnTo>
                <a:lnTo>
                  <a:pt x="530801" y="223861"/>
                </a:lnTo>
                <a:lnTo>
                  <a:pt x="758406" y="579475"/>
                </a:lnTo>
                <a:lnTo>
                  <a:pt x="768171" y="594733"/>
                </a:lnTo>
                <a:lnTo>
                  <a:pt x="0" y="594733"/>
                </a:lnTo>
                <a:lnTo>
                  <a:pt x="6654" y="584336"/>
                </a:lnTo>
                <a:close/>
              </a:path>
            </a:pathLst>
          </a:custGeom>
          <a:solidFill>
            <a:srgbClr val="d57053">
              <a:alpha val="49000"/>
            </a:srgbClr>
          </a:solidFill>
          <a:ln>
            <a:solidFill>
              <a:srgbClr val="df9b83">
                <a:alpha val="49000"/>
              </a:srgbClr>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87" name="任意多边形 685"/>
          <p:cNvSpPr/>
          <p:nvPr/>
        </p:nvSpPr>
        <p:spPr>
          <a:xfrm>
            <a:off x="9482400" y="0"/>
            <a:ext cx="1473840" cy="1577520"/>
          </a:xfrm>
          <a:custGeom>
            <a:avLst/>
            <a:gdLst>
              <a:gd name="textAreaLeft" fmla="*/ 0 w 1473840"/>
              <a:gd name="textAreaRight" fmla="*/ 1474200 w 1473840"/>
              <a:gd name="textAreaTop" fmla="*/ 0 h 1577520"/>
              <a:gd name="textAreaBottom" fmla="*/ 1577880 h 1577520"/>
            </a:gdLst>
            <a:ahLst/>
            <a:rect l="textAreaLeft" t="textAreaTop" r="textAreaRight" b="textAreaBottom"/>
            <a:pathLst>
              <a:path w="1474363" h="1578002">
                <a:moveTo>
                  <a:pt x="0" y="0"/>
                </a:moveTo>
                <a:lnTo>
                  <a:pt x="798133" y="0"/>
                </a:lnTo>
                <a:lnTo>
                  <a:pt x="1474363" y="983269"/>
                </a:lnTo>
                <a:lnTo>
                  <a:pt x="1100367" y="1567605"/>
                </a:lnTo>
                <a:lnTo>
                  <a:pt x="1085250" y="1578002"/>
                </a:lnTo>
                <a:lnTo>
                  <a:pt x="0" y="0"/>
                </a:lnTo>
                <a:close/>
              </a:path>
            </a:pathLst>
          </a:custGeom>
          <a:solidFill>
            <a:srgbClr val="e7b05e">
              <a:alpha val="25000"/>
            </a:srgbClr>
          </a:solidFill>
          <a:ln>
            <a:solidFill>
              <a:srgbClr val="efe3c2"/>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88" name="任意多边形 83"/>
          <p:cNvSpPr/>
          <p:nvPr/>
        </p:nvSpPr>
        <p:spPr>
          <a:xfrm>
            <a:off x="10965600" y="0"/>
            <a:ext cx="1238040" cy="1577520"/>
          </a:xfrm>
          <a:custGeom>
            <a:avLst/>
            <a:gdLst>
              <a:gd name="textAreaLeft" fmla="*/ 0 w 1238040"/>
              <a:gd name="textAreaRight" fmla="*/ 1238400 w 1238040"/>
              <a:gd name="textAreaTop" fmla="*/ 0 h 1577520"/>
              <a:gd name="textAreaBottom" fmla="*/ 1577880 h 1577520"/>
            </a:gdLst>
            <a:ahLst/>
            <a:rect l="textAreaLeft" t="textAreaTop" r="textAreaRight" b="textAreaBottom"/>
            <a:pathLst>
              <a:path w="1238362" h="1578002">
                <a:moveTo>
                  <a:pt x="678279" y="0"/>
                </a:moveTo>
                <a:lnTo>
                  <a:pt x="1238362" y="0"/>
                </a:lnTo>
                <a:lnTo>
                  <a:pt x="1238362" y="346134"/>
                </a:lnTo>
                <a:lnTo>
                  <a:pt x="391161" y="1578002"/>
                </a:lnTo>
                <a:lnTo>
                  <a:pt x="368976" y="1562744"/>
                </a:lnTo>
                <a:lnTo>
                  <a:pt x="141371" y="1207130"/>
                </a:lnTo>
                <a:lnTo>
                  <a:pt x="143955" y="1205353"/>
                </a:lnTo>
                <a:lnTo>
                  <a:pt x="90309" y="1127349"/>
                </a:lnTo>
                <a:lnTo>
                  <a:pt x="0" y="986248"/>
                </a:lnTo>
                <a:lnTo>
                  <a:pt x="678279" y="0"/>
                </a:lnTo>
                <a:close/>
              </a:path>
            </a:pathLst>
          </a:custGeom>
          <a:solidFill>
            <a:srgbClr val="efe3c2">
              <a:alpha val="71000"/>
            </a:srgbClr>
          </a:solidFill>
          <a:ln>
            <a:solidFill>
              <a:srgbClr val="eee6c8"/>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89" name="任意多边形 703"/>
          <p:cNvSpPr/>
          <p:nvPr/>
        </p:nvSpPr>
        <p:spPr>
          <a:xfrm>
            <a:off x="11202840" y="1946880"/>
            <a:ext cx="797760" cy="1160280"/>
          </a:xfrm>
          <a:custGeom>
            <a:avLst/>
            <a:gdLst>
              <a:gd name="textAreaLeft" fmla="*/ 0 w 797760"/>
              <a:gd name="textAreaRight" fmla="*/ 798120 w 797760"/>
              <a:gd name="textAreaTop" fmla="*/ 0 h 1160280"/>
              <a:gd name="textAreaBottom" fmla="*/ 1160640 h 1160280"/>
            </a:gdLst>
            <a:ahLst/>
            <a:rect l="textAreaLeft" t="textAreaTop" r="textAreaRight" b="textAreaBottom"/>
            <a:pathLst>
              <a:path w="798132" h="1160519">
                <a:moveTo>
                  <a:pt x="399066" y="0"/>
                </a:moveTo>
                <a:lnTo>
                  <a:pt x="798132" y="580260"/>
                </a:lnTo>
                <a:lnTo>
                  <a:pt x="399066" y="1160519"/>
                </a:lnTo>
                <a:lnTo>
                  <a:pt x="0" y="580260"/>
                </a:lnTo>
                <a:lnTo>
                  <a:pt x="399066" y="0"/>
                </a:lnTo>
                <a:close/>
              </a:path>
            </a:pathLst>
          </a:custGeom>
          <a:solidFill>
            <a:srgbClr val="d57053">
              <a:alpha val="25000"/>
            </a:srgbClr>
          </a:solidFill>
          <a:ln>
            <a:solidFill>
              <a:srgbClr val="ead3be"/>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90" name="任意多边形 87"/>
          <p:cNvSpPr/>
          <p:nvPr/>
        </p:nvSpPr>
        <p:spPr>
          <a:xfrm>
            <a:off x="11602080" y="1071720"/>
            <a:ext cx="601560" cy="1455120"/>
          </a:xfrm>
          <a:custGeom>
            <a:avLst/>
            <a:gdLst>
              <a:gd name="textAreaLeft" fmla="*/ 0 w 601560"/>
              <a:gd name="textAreaRight" fmla="*/ 601920 w 601560"/>
              <a:gd name="textAreaTop" fmla="*/ 0 h 1455120"/>
              <a:gd name="textAreaBottom" fmla="*/ 1455480 h 1455120"/>
            </a:gdLst>
            <a:ahLst/>
            <a:rect l="textAreaLeft" t="textAreaTop" r="textAreaRight" b="textAreaBottom"/>
            <a:pathLst>
              <a:path w="601946" h="1455517">
                <a:moveTo>
                  <a:pt x="601946" y="0"/>
                </a:moveTo>
                <a:lnTo>
                  <a:pt x="601946" y="1160520"/>
                </a:lnTo>
                <a:lnTo>
                  <a:pt x="399066" y="1455517"/>
                </a:lnTo>
                <a:lnTo>
                  <a:pt x="0" y="875257"/>
                </a:lnTo>
                <a:lnTo>
                  <a:pt x="601946" y="0"/>
                </a:lnTo>
                <a:close/>
              </a:path>
            </a:pathLst>
          </a:custGeom>
          <a:solidFill>
            <a:srgbClr val="ebcebc"/>
          </a:solidFill>
          <a:ln>
            <a:solidFill>
              <a:srgbClr val="eacdba"/>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91" name="任意多边形 699"/>
          <p:cNvSpPr/>
          <p:nvPr/>
        </p:nvSpPr>
        <p:spPr>
          <a:xfrm>
            <a:off x="10965600" y="1590120"/>
            <a:ext cx="636120" cy="936360"/>
          </a:xfrm>
          <a:custGeom>
            <a:avLst/>
            <a:gdLst>
              <a:gd name="textAreaLeft" fmla="*/ 0 w 636120"/>
              <a:gd name="textAreaRight" fmla="*/ 636480 w 636120"/>
              <a:gd name="textAreaTop" fmla="*/ 0 h 936360"/>
              <a:gd name="textAreaBottom" fmla="*/ 936720 h 936360"/>
            </a:gdLst>
            <a:ahLst/>
            <a:rect l="textAreaLeft" t="textAreaTop" r="textAreaRight" b="textAreaBottom"/>
            <a:pathLst>
              <a:path w="636416" h="936872">
                <a:moveTo>
                  <a:pt x="391161" y="0"/>
                </a:moveTo>
                <a:lnTo>
                  <a:pt x="636416" y="356612"/>
                </a:lnTo>
                <a:lnTo>
                  <a:pt x="237350" y="936872"/>
                </a:lnTo>
                <a:lnTo>
                  <a:pt x="0" y="591754"/>
                </a:lnTo>
                <a:lnTo>
                  <a:pt x="90309" y="450653"/>
                </a:lnTo>
                <a:lnTo>
                  <a:pt x="143955" y="372649"/>
                </a:lnTo>
                <a:lnTo>
                  <a:pt x="141371" y="370872"/>
                </a:lnTo>
                <a:lnTo>
                  <a:pt x="368976" y="15258"/>
                </a:lnTo>
                <a:lnTo>
                  <a:pt x="391161" y="0"/>
                </a:lnTo>
                <a:close/>
              </a:path>
            </a:pathLst>
          </a:custGeom>
          <a:solidFill>
            <a:srgbClr val="d2dbc4"/>
          </a:solidFill>
          <a:ln>
            <a:solidFill>
              <a:srgbClr val="d3ddc7"/>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92" name="任意多边形 698"/>
          <p:cNvSpPr/>
          <p:nvPr/>
        </p:nvSpPr>
        <p:spPr>
          <a:xfrm>
            <a:off x="10965600" y="2527200"/>
            <a:ext cx="636120" cy="936360"/>
          </a:xfrm>
          <a:custGeom>
            <a:avLst/>
            <a:gdLst>
              <a:gd name="textAreaLeft" fmla="*/ 0 w 636120"/>
              <a:gd name="textAreaRight" fmla="*/ 636480 w 636120"/>
              <a:gd name="textAreaTop" fmla="*/ 0 h 936360"/>
              <a:gd name="textAreaBottom" fmla="*/ 936720 h 936360"/>
            </a:gdLst>
            <a:ahLst/>
            <a:rect l="textAreaLeft" t="textAreaTop" r="textAreaRight" b="textAreaBottom"/>
            <a:pathLst>
              <a:path w="636416" h="936871">
                <a:moveTo>
                  <a:pt x="237350" y="0"/>
                </a:moveTo>
                <a:lnTo>
                  <a:pt x="636416" y="580259"/>
                </a:lnTo>
                <a:lnTo>
                  <a:pt x="391161" y="936871"/>
                </a:lnTo>
                <a:lnTo>
                  <a:pt x="368976" y="921613"/>
                </a:lnTo>
                <a:lnTo>
                  <a:pt x="141371" y="565999"/>
                </a:lnTo>
                <a:lnTo>
                  <a:pt x="143955" y="564222"/>
                </a:lnTo>
                <a:lnTo>
                  <a:pt x="90309" y="486218"/>
                </a:lnTo>
                <a:lnTo>
                  <a:pt x="0" y="345117"/>
                </a:lnTo>
                <a:lnTo>
                  <a:pt x="237350" y="0"/>
                </a:lnTo>
                <a:close/>
              </a:path>
            </a:pathLst>
          </a:custGeom>
          <a:solidFill>
            <a:srgbClr val="e9ccba"/>
          </a:solidFill>
          <a:ln>
            <a:solidFill>
              <a:srgbClr val="eacdbb"/>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93" name="任意多边形 93"/>
          <p:cNvSpPr/>
          <p:nvPr/>
        </p:nvSpPr>
        <p:spPr>
          <a:xfrm>
            <a:off x="11602080" y="2527200"/>
            <a:ext cx="601560" cy="1455120"/>
          </a:xfrm>
          <a:custGeom>
            <a:avLst/>
            <a:gdLst>
              <a:gd name="textAreaLeft" fmla="*/ 0 w 601560"/>
              <a:gd name="textAreaRight" fmla="*/ 601920 w 601560"/>
              <a:gd name="textAreaTop" fmla="*/ 0 h 1455120"/>
              <a:gd name="textAreaBottom" fmla="*/ 1455480 h 1455120"/>
            </a:gdLst>
            <a:ahLst/>
            <a:rect l="textAreaLeft" t="textAreaTop" r="textAreaRight" b="textAreaBottom"/>
            <a:pathLst>
              <a:path w="601946" h="1455516">
                <a:moveTo>
                  <a:pt x="399066" y="0"/>
                </a:moveTo>
                <a:lnTo>
                  <a:pt x="601946" y="294997"/>
                </a:lnTo>
                <a:lnTo>
                  <a:pt x="601946" y="1455516"/>
                </a:lnTo>
                <a:lnTo>
                  <a:pt x="0" y="580259"/>
                </a:lnTo>
                <a:lnTo>
                  <a:pt x="399066" y="0"/>
                </a:lnTo>
                <a:close/>
              </a:path>
            </a:pathLst>
          </a:custGeom>
          <a:solidFill>
            <a:srgbClr val="d3ddc7"/>
          </a:solidFill>
          <a:ln>
            <a:solidFill>
              <a:srgbClr val="d3dcc6"/>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94" name="任意多边形 522"/>
          <p:cNvSpPr/>
          <p:nvPr/>
        </p:nvSpPr>
        <p:spPr>
          <a:xfrm>
            <a:off x="10576080" y="983160"/>
            <a:ext cx="767880" cy="594360"/>
          </a:xfrm>
          <a:custGeom>
            <a:avLst/>
            <a:gdLst>
              <a:gd name="textAreaLeft" fmla="*/ 0 w 767880"/>
              <a:gd name="textAreaRight" fmla="*/ 768240 w 767880"/>
              <a:gd name="textAreaTop" fmla="*/ 0 h 594360"/>
              <a:gd name="textAreaBottom" fmla="*/ 594720 h 594360"/>
            </a:gdLst>
            <a:ahLst/>
            <a:rect l="textAreaLeft" t="textAreaTop" r="textAreaRight" b="textAreaBottom"/>
            <a:pathLst>
              <a:path w="768171" h="594733">
                <a:moveTo>
                  <a:pt x="380650" y="0"/>
                </a:moveTo>
                <a:lnTo>
                  <a:pt x="386064" y="7873"/>
                </a:lnTo>
                <a:lnTo>
                  <a:pt x="479739" y="144080"/>
                </a:lnTo>
                <a:lnTo>
                  <a:pt x="530801" y="223861"/>
                </a:lnTo>
                <a:lnTo>
                  <a:pt x="758406" y="579475"/>
                </a:lnTo>
                <a:lnTo>
                  <a:pt x="768171" y="594733"/>
                </a:lnTo>
                <a:lnTo>
                  <a:pt x="0" y="594733"/>
                </a:lnTo>
                <a:lnTo>
                  <a:pt x="6654" y="584336"/>
                </a:lnTo>
                <a:close/>
              </a:path>
            </a:pathLst>
          </a:custGeom>
          <a:solidFill>
            <a:srgbClr val="e49b35">
              <a:alpha val="36000"/>
            </a:srgbClr>
          </a:solidFill>
          <a:ln>
            <a:solidFill>
              <a:srgbClr val="ebd3a2"/>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95" name="任意多边形 528"/>
          <p:cNvSpPr/>
          <p:nvPr/>
        </p:nvSpPr>
        <p:spPr>
          <a:xfrm flipV="1">
            <a:off x="10576080" y="1589400"/>
            <a:ext cx="767880" cy="594360"/>
          </a:xfrm>
          <a:custGeom>
            <a:avLst/>
            <a:gdLst>
              <a:gd name="textAreaLeft" fmla="*/ 0 w 767880"/>
              <a:gd name="textAreaRight" fmla="*/ 768240 w 767880"/>
              <a:gd name="textAreaTop" fmla="*/ -360 h 594360"/>
              <a:gd name="textAreaBottom" fmla="*/ 594360 h 594360"/>
            </a:gdLst>
            <a:ahLst/>
            <a:rect l="textAreaLeft" t="textAreaTop" r="textAreaRight" b="textAreaBottom"/>
            <a:pathLst>
              <a:path w="768171" h="594733">
                <a:moveTo>
                  <a:pt x="380650" y="0"/>
                </a:moveTo>
                <a:lnTo>
                  <a:pt x="386064" y="7873"/>
                </a:lnTo>
                <a:lnTo>
                  <a:pt x="479739" y="144080"/>
                </a:lnTo>
                <a:lnTo>
                  <a:pt x="530801" y="223861"/>
                </a:lnTo>
                <a:lnTo>
                  <a:pt x="758406" y="579475"/>
                </a:lnTo>
                <a:lnTo>
                  <a:pt x="768171" y="594733"/>
                </a:lnTo>
                <a:lnTo>
                  <a:pt x="0" y="594733"/>
                </a:lnTo>
                <a:lnTo>
                  <a:pt x="6654" y="584336"/>
                </a:lnTo>
                <a:close/>
              </a:path>
            </a:pathLst>
          </a:custGeom>
          <a:solidFill>
            <a:srgbClr val="88a378">
              <a:alpha val="53000"/>
            </a:srgbClr>
          </a:solidFill>
          <a:ln>
            <a:solidFill>
              <a:srgbClr val="b3c4a5">
                <a:alpha val="53000"/>
              </a:srgbClr>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96" name="任意多边形 50"/>
          <p:cNvSpPr/>
          <p:nvPr/>
        </p:nvSpPr>
        <p:spPr>
          <a:xfrm>
            <a:off x="2444760" y="4491720"/>
            <a:ext cx="1946160" cy="2415960"/>
          </a:xfrm>
          <a:custGeom>
            <a:avLst/>
            <a:gdLst>
              <a:gd name="textAreaLeft" fmla="*/ 0 w 1946160"/>
              <a:gd name="textAreaRight" fmla="*/ 1946520 w 1946160"/>
              <a:gd name="textAreaTop" fmla="*/ 0 h 2415960"/>
              <a:gd name="textAreaBottom" fmla="*/ 2416320 h 2415960"/>
            </a:gdLst>
            <a:ahLst/>
            <a:rect l="textAreaLeft" t="textAreaTop" r="textAreaRight" b="textAreaBottom"/>
            <a:pathLst>
              <a:path w="1946374" h="2416275">
                <a:moveTo>
                  <a:pt x="1555213" y="0"/>
                </a:moveTo>
                <a:lnTo>
                  <a:pt x="1577398" y="15258"/>
                </a:lnTo>
                <a:lnTo>
                  <a:pt x="1805003" y="370872"/>
                </a:lnTo>
                <a:lnTo>
                  <a:pt x="1802419" y="372649"/>
                </a:lnTo>
                <a:lnTo>
                  <a:pt x="1856065" y="450653"/>
                </a:lnTo>
                <a:lnTo>
                  <a:pt x="1946374" y="591754"/>
                </a:lnTo>
                <a:lnTo>
                  <a:pt x="691584" y="2416275"/>
                </a:lnTo>
                <a:lnTo>
                  <a:pt x="106548" y="2416275"/>
                </a:lnTo>
                <a:lnTo>
                  <a:pt x="0" y="2261349"/>
                </a:lnTo>
                <a:lnTo>
                  <a:pt x="1555213" y="0"/>
                </a:lnTo>
                <a:close/>
              </a:path>
            </a:pathLst>
          </a:custGeom>
          <a:solidFill>
            <a:srgbClr val="a2b894">
              <a:alpha val="25000"/>
            </a:srgbClr>
          </a:solidFill>
          <a:ln>
            <a:solidFill>
              <a:srgbClr val="e0e6d3"/>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97" name="任意多边形 49"/>
          <p:cNvSpPr/>
          <p:nvPr/>
        </p:nvSpPr>
        <p:spPr>
          <a:xfrm>
            <a:off x="4399920" y="4491720"/>
            <a:ext cx="2050560" cy="2415960"/>
          </a:xfrm>
          <a:custGeom>
            <a:avLst/>
            <a:gdLst>
              <a:gd name="textAreaLeft" fmla="*/ 0 w 2050560"/>
              <a:gd name="textAreaRight" fmla="*/ 2050920 w 2050560"/>
              <a:gd name="textAreaTop" fmla="*/ 0 h 2415960"/>
              <a:gd name="textAreaBottom" fmla="*/ 2416320 h 2415960"/>
            </a:gdLst>
            <a:ahLst/>
            <a:rect l="textAreaLeft" t="textAreaTop" r="textAreaRight" b="textAreaBottom"/>
            <a:pathLst>
              <a:path w="2050873" h="2416274">
                <a:moveTo>
                  <a:pt x="389113" y="0"/>
                </a:moveTo>
                <a:lnTo>
                  <a:pt x="2050873" y="2416274"/>
                </a:lnTo>
                <a:lnTo>
                  <a:pt x="1252741" y="2416274"/>
                </a:lnTo>
                <a:lnTo>
                  <a:pt x="0" y="594733"/>
                </a:lnTo>
                <a:lnTo>
                  <a:pt x="373996" y="10397"/>
                </a:lnTo>
                <a:lnTo>
                  <a:pt x="389113" y="0"/>
                </a:lnTo>
                <a:close/>
              </a:path>
            </a:pathLst>
          </a:custGeom>
          <a:solidFill>
            <a:srgbClr val="a2b894">
              <a:alpha val="25000"/>
            </a:srgbClr>
          </a:solidFill>
          <a:ln>
            <a:solidFill>
              <a:srgbClr val="e0e6d3"/>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98" name="任意多边形 48"/>
          <p:cNvSpPr/>
          <p:nvPr/>
        </p:nvSpPr>
        <p:spPr>
          <a:xfrm>
            <a:off x="2344680" y="6762240"/>
            <a:ext cx="200160" cy="145440"/>
          </a:xfrm>
          <a:custGeom>
            <a:avLst/>
            <a:gdLst>
              <a:gd name="textAreaLeft" fmla="*/ 0 w 200160"/>
              <a:gd name="textAreaRight" fmla="*/ 200520 w 200160"/>
              <a:gd name="textAreaTop" fmla="*/ 0 h 145440"/>
              <a:gd name="textAreaBottom" fmla="*/ 145800 h 145440"/>
            </a:gdLst>
            <a:ahLst/>
            <a:rect l="textAreaLeft" t="textAreaTop" r="textAreaRight" b="textAreaBottom"/>
            <a:pathLst>
              <a:path w="200534" h="145793">
                <a:moveTo>
                  <a:pt x="100267" y="0"/>
                </a:moveTo>
                <a:lnTo>
                  <a:pt x="200534" y="145793"/>
                </a:lnTo>
                <a:lnTo>
                  <a:pt x="0" y="145793"/>
                </a:lnTo>
                <a:lnTo>
                  <a:pt x="100267" y="0"/>
                </a:lnTo>
                <a:close/>
              </a:path>
            </a:pathLst>
          </a:custGeom>
          <a:solidFill>
            <a:srgbClr val="a2b894">
              <a:alpha val="25000"/>
            </a:srgbClr>
          </a:solidFill>
          <a:ln>
            <a:solidFill>
              <a:srgbClr val="e0e6d3"/>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99" name="任意多边形 61"/>
          <p:cNvSpPr/>
          <p:nvPr/>
        </p:nvSpPr>
        <p:spPr>
          <a:xfrm>
            <a:off x="-35280" y="4818240"/>
            <a:ext cx="1016640" cy="2052000"/>
          </a:xfrm>
          <a:custGeom>
            <a:avLst/>
            <a:gdLst>
              <a:gd name="textAreaLeft" fmla="*/ 0 w 1016640"/>
              <a:gd name="textAreaRight" fmla="*/ 1017000 w 1016640"/>
              <a:gd name="textAreaTop" fmla="*/ 0 h 2052000"/>
              <a:gd name="textAreaBottom" fmla="*/ 2052360 h 2052000"/>
            </a:gdLst>
            <a:ahLst/>
            <a:rect l="textAreaLeft" t="textAreaTop" r="textAreaRight" b="textAreaBottom"/>
            <a:pathLst>
              <a:path w="1017046" h="2052322">
                <a:moveTo>
                  <a:pt x="0" y="0"/>
                </a:moveTo>
                <a:lnTo>
                  <a:pt x="1017046" y="1478830"/>
                </a:lnTo>
                <a:lnTo>
                  <a:pt x="613325" y="2052322"/>
                </a:lnTo>
                <a:lnTo>
                  <a:pt x="0" y="1160520"/>
                </a:lnTo>
                <a:lnTo>
                  <a:pt x="0" y="0"/>
                </a:lnTo>
                <a:close/>
              </a:path>
            </a:pathLst>
          </a:custGeom>
          <a:solidFill>
            <a:srgbClr val="508799">
              <a:alpha val="25000"/>
            </a:srgbClr>
          </a:solidFill>
          <a:ln>
            <a:solidFill>
              <a:srgbClr val="c3d4c3"/>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00" name="任意多边形 811"/>
          <p:cNvSpPr/>
          <p:nvPr/>
        </p:nvSpPr>
        <p:spPr>
          <a:xfrm flipV="1">
            <a:off x="4397400" y="5881680"/>
            <a:ext cx="1088280" cy="1013760"/>
          </a:xfrm>
          <a:custGeom>
            <a:avLst/>
            <a:gdLst>
              <a:gd name="textAreaLeft" fmla="*/ 0 w 1088280"/>
              <a:gd name="textAreaRight" fmla="*/ 1088640 w 1088280"/>
              <a:gd name="textAreaTop" fmla="*/ 360 h 1013760"/>
              <a:gd name="textAreaBottom" fmla="*/ 1014480 h 1013760"/>
            </a:gdLst>
            <a:ahLst/>
            <a:rect l="textAreaLeft" t="textAreaTop" r="textAreaRight" b="textAreaBottom"/>
            <a:pathLst>
              <a:path w="1088729" h="1014296">
                <a:moveTo>
                  <a:pt x="391161" y="1014296"/>
                </a:moveTo>
                <a:lnTo>
                  <a:pt x="1088729" y="0"/>
                </a:lnTo>
                <a:lnTo>
                  <a:pt x="290598" y="0"/>
                </a:lnTo>
                <a:lnTo>
                  <a:pt x="0" y="422542"/>
                </a:lnTo>
                <a:lnTo>
                  <a:pt x="90309" y="563643"/>
                </a:lnTo>
                <a:lnTo>
                  <a:pt x="143955" y="641647"/>
                </a:lnTo>
                <a:lnTo>
                  <a:pt x="141371" y="643424"/>
                </a:lnTo>
                <a:lnTo>
                  <a:pt x="368976" y="999038"/>
                </a:lnTo>
                <a:lnTo>
                  <a:pt x="391161" y="1014296"/>
                </a:lnTo>
                <a:close/>
              </a:path>
            </a:pathLst>
          </a:custGeom>
          <a:solidFill>
            <a:srgbClr val="d57053">
              <a:alpha val="25000"/>
            </a:srgbClr>
          </a:solidFill>
          <a:ln>
            <a:solidFill>
              <a:srgbClr val="ead3bf"/>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01" name="任意多边形 637"/>
          <p:cNvSpPr/>
          <p:nvPr/>
        </p:nvSpPr>
        <p:spPr>
          <a:xfrm flipV="1">
            <a:off x="4007880" y="5880960"/>
            <a:ext cx="767880" cy="594360"/>
          </a:xfrm>
          <a:custGeom>
            <a:avLst/>
            <a:gdLst>
              <a:gd name="textAreaLeft" fmla="*/ 0 w 767880"/>
              <a:gd name="textAreaRight" fmla="*/ 768240 w 767880"/>
              <a:gd name="textAreaTop" fmla="*/ -360 h 594360"/>
              <a:gd name="textAreaBottom" fmla="*/ 594360 h 594360"/>
            </a:gdLst>
            <a:ahLst/>
            <a:rect l="textAreaLeft" t="textAreaTop" r="textAreaRight" b="textAreaBottom"/>
            <a:pathLst>
              <a:path w="768171" h="594733">
                <a:moveTo>
                  <a:pt x="380650" y="0"/>
                </a:moveTo>
                <a:lnTo>
                  <a:pt x="386064" y="7873"/>
                </a:lnTo>
                <a:lnTo>
                  <a:pt x="479739" y="144080"/>
                </a:lnTo>
                <a:lnTo>
                  <a:pt x="530801" y="223861"/>
                </a:lnTo>
                <a:lnTo>
                  <a:pt x="758406" y="579475"/>
                </a:lnTo>
                <a:lnTo>
                  <a:pt x="768171" y="594733"/>
                </a:lnTo>
                <a:lnTo>
                  <a:pt x="0" y="594733"/>
                </a:lnTo>
                <a:lnTo>
                  <a:pt x="6654" y="584336"/>
                </a:lnTo>
                <a:close/>
              </a:path>
            </a:pathLst>
          </a:custGeom>
          <a:solidFill>
            <a:srgbClr val="d57053">
              <a:alpha val="35000"/>
            </a:srgbClr>
          </a:solidFill>
          <a:ln>
            <a:solidFill>
              <a:srgbClr val="e6c6b1"/>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02" name="任意多边形 660"/>
          <p:cNvSpPr/>
          <p:nvPr/>
        </p:nvSpPr>
        <p:spPr>
          <a:xfrm flipV="1">
            <a:off x="10822680" y="5494680"/>
            <a:ext cx="767880" cy="594360"/>
          </a:xfrm>
          <a:custGeom>
            <a:avLst/>
            <a:gdLst>
              <a:gd name="textAreaLeft" fmla="*/ 0 w 767880"/>
              <a:gd name="textAreaRight" fmla="*/ 768240 w 767880"/>
              <a:gd name="textAreaTop" fmla="*/ -360 h 594360"/>
              <a:gd name="textAreaBottom" fmla="*/ 594360 h 594360"/>
            </a:gdLst>
            <a:ahLst/>
            <a:rect l="textAreaLeft" t="textAreaTop" r="textAreaRight" b="textAreaBottom"/>
            <a:pathLst>
              <a:path w="768171" h="594733">
                <a:moveTo>
                  <a:pt x="380650" y="0"/>
                </a:moveTo>
                <a:lnTo>
                  <a:pt x="386064" y="7873"/>
                </a:lnTo>
                <a:lnTo>
                  <a:pt x="479739" y="144080"/>
                </a:lnTo>
                <a:lnTo>
                  <a:pt x="530801" y="223861"/>
                </a:lnTo>
                <a:lnTo>
                  <a:pt x="758406" y="579475"/>
                </a:lnTo>
                <a:lnTo>
                  <a:pt x="768171" y="594733"/>
                </a:lnTo>
                <a:lnTo>
                  <a:pt x="0" y="594733"/>
                </a:lnTo>
                <a:lnTo>
                  <a:pt x="6654" y="584336"/>
                </a:lnTo>
                <a:close/>
              </a:path>
            </a:pathLst>
          </a:custGeom>
          <a:solidFill>
            <a:srgbClr val="508799">
              <a:alpha val="35000"/>
            </a:srgbClr>
          </a:solidFill>
          <a:ln>
            <a:solidFill>
              <a:srgbClr val="b5cac1"/>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03" name="任意多边形 665"/>
          <p:cNvSpPr/>
          <p:nvPr/>
        </p:nvSpPr>
        <p:spPr>
          <a:xfrm>
            <a:off x="9861840" y="5495400"/>
            <a:ext cx="1341000" cy="1384200"/>
          </a:xfrm>
          <a:custGeom>
            <a:avLst/>
            <a:gdLst>
              <a:gd name="textAreaLeft" fmla="*/ 0 w 1341000"/>
              <a:gd name="textAreaRight" fmla="*/ 1341360 w 1341000"/>
              <a:gd name="textAreaTop" fmla="*/ 0 h 1384200"/>
              <a:gd name="textAreaBottom" fmla="*/ 1384560 h 1384200"/>
            </a:gdLst>
            <a:ahLst/>
            <a:rect l="textAreaLeft" t="textAreaTop" r="textAreaRight" b="textAreaBottom"/>
            <a:pathLst>
              <a:path w="1341240" h="1384436">
                <a:moveTo>
                  <a:pt x="952127" y="0"/>
                </a:moveTo>
                <a:lnTo>
                  <a:pt x="967244" y="10397"/>
                </a:lnTo>
                <a:lnTo>
                  <a:pt x="1341240" y="594733"/>
                </a:lnTo>
                <a:lnTo>
                  <a:pt x="798132" y="1384436"/>
                </a:lnTo>
                <a:lnTo>
                  <a:pt x="0" y="1384436"/>
                </a:lnTo>
                <a:lnTo>
                  <a:pt x="952127" y="0"/>
                </a:lnTo>
                <a:close/>
              </a:path>
            </a:pathLst>
          </a:custGeom>
          <a:solidFill>
            <a:srgbClr val="508799">
              <a:alpha val="25000"/>
            </a:srgbClr>
          </a:solidFill>
          <a:ln>
            <a:solidFill>
              <a:srgbClr val="c4d5c6"/>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04" name="任意多边形 709"/>
          <p:cNvSpPr/>
          <p:nvPr/>
        </p:nvSpPr>
        <p:spPr>
          <a:xfrm>
            <a:off x="11211840" y="5495400"/>
            <a:ext cx="979560" cy="1384200"/>
          </a:xfrm>
          <a:custGeom>
            <a:avLst/>
            <a:gdLst>
              <a:gd name="textAreaLeft" fmla="*/ 0 w 979560"/>
              <a:gd name="textAreaRight" fmla="*/ 979920 w 979560"/>
              <a:gd name="textAreaTop" fmla="*/ 0 h 1384200"/>
              <a:gd name="textAreaBottom" fmla="*/ 1384560 h 1384200"/>
            </a:gdLst>
            <a:ahLst/>
            <a:rect l="textAreaLeft" t="textAreaTop" r="textAreaRight" b="textAreaBottom"/>
            <a:pathLst>
              <a:path w="980063" h="1384436">
                <a:moveTo>
                  <a:pt x="391161" y="0"/>
                </a:moveTo>
                <a:lnTo>
                  <a:pt x="980063" y="856291"/>
                </a:lnTo>
                <a:lnTo>
                  <a:pt x="980063" y="1384436"/>
                </a:lnTo>
                <a:lnTo>
                  <a:pt x="545157" y="1384436"/>
                </a:lnTo>
                <a:lnTo>
                  <a:pt x="0" y="591754"/>
                </a:lnTo>
                <a:lnTo>
                  <a:pt x="90309" y="450653"/>
                </a:lnTo>
                <a:lnTo>
                  <a:pt x="143955" y="372649"/>
                </a:lnTo>
                <a:lnTo>
                  <a:pt x="141371" y="370872"/>
                </a:lnTo>
                <a:lnTo>
                  <a:pt x="368976" y="15258"/>
                </a:lnTo>
                <a:lnTo>
                  <a:pt x="391161" y="0"/>
                </a:lnTo>
                <a:close/>
              </a:path>
            </a:pathLst>
          </a:custGeom>
          <a:solidFill>
            <a:srgbClr val="508799">
              <a:alpha val="25000"/>
            </a:srgbClr>
          </a:solidFill>
          <a:ln>
            <a:solidFill>
              <a:srgbClr val="bfd1bd"/>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05" name="任意多边形 670"/>
          <p:cNvSpPr/>
          <p:nvPr/>
        </p:nvSpPr>
        <p:spPr>
          <a:xfrm flipV="1">
            <a:off x="9195840" y="5502600"/>
            <a:ext cx="767880" cy="594360"/>
          </a:xfrm>
          <a:custGeom>
            <a:avLst/>
            <a:gdLst>
              <a:gd name="textAreaLeft" fmla="*/ 0 w 767880"/>
              <a:gd name="textAreaRight" fmla="*/ 768240 w 767880"/>
              <a:gd name="textAreaTop" fmla="*/ -360 h 594360"/>
              <a:gd name="textAreaBottom" fmla="*/ 594360 h 594360"/>
            </a:gdLst>
            <a:ahLst/>
            <a:rect l="textAreaLeft" t="textAreaTop" r="textAreaRight" b="textAreaBottom"/>
            <a:pathLst>
              <a:path w="768171" h="594733">
                <a:moveTo>
                  <a:pt x="380650" y="0"/>
                </a:moveTo>
                <a:lnTo>
                  <a:pt x="386064" y="7873"/>
                </a:lnTo>
                <a:lnTo>
                  <a:pt x="479739" y="144080"/>
                </a:lnTo>
                <a:lnTo>
                  <a:pt x="530801" y="223861"/>
                </a:lnTo>
                <a:lnTo>
                  <a:pt x="758406" y="579475"/>
                </a:lnTo>
                <a:lnTo>
                  <a:pt x="768171" y="594733"/>
                </a:lnTo>
                <a:lnTo>
                  <a:pt x="0" y="594733"/>
                </a:lnTo>
                <a:lnTo>
                  <a:pt x="6654" y="584336"/>
                </a:lnTo>
                <a:close/>
              </a:path>
            </a:pathLst>
          </a:custGeom>
          <a:solidFill>
            <a:srgbClr val="e49b35">
              <a:alpha val="35000"/>
            </a:srgbClr>
          </a:solidFill>
          <a:ln>
            <a:solidFill>
              <a:srgbClr val="ebd3a3"/>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06" name="任意多边形 75"/>
          <p:cNvSpPr/>
          <p:nvPr/>
        </p:nvSpPr>
        <p:spPr>
          <a:xfrm>
            <a:off x="8220960" y="5503320"/>
            <a:ext cx="1355040" cy="1404360"/>
          </a:xfrm>
          <a:custGeom>
            <a:avLst/>
            <a:gdLst>
              <a:gd name="textAreaLeft" fmla="*/ 0 w 1355040"/>
              <a:gd name="textAreaRight" fmla="*/ 1355400 w 1355040"/>
              <a:gd name="textAreaTop" fmla="*/ 0 h 1404360"/>
              <a:gd name="textAreaBottom" fmla="*/ 1404720 h 1404360"/>
            </a:gdLst>
            <a:ahLst/>
            <a:rect l="textAreaLeft" t="textAreaTop" r="textAreaRight" b="textAreaBottom"/>
            <a:pathLst>
              <a:path w="1355248" h="1404805">
                <a:moveTo>
                  <a:pt x="966135" y="0"/>
                </a:moveTo>
                <a:lnTo>
                  <a:pt x="981252" y="10397"/>
                </a:lnTo>
                <a:lnTo>
                  <a:pt x="1355248" y="594733"/>
                </a:lnTo>
                <a:lnTo>
                  <a:pt x="798132" y="1404805"/>
                </a:lnTo>
                <a:lnTo>
                  <a:pt x="0" y="1404805"/>
                </a:lnTo>
                <a:lnTo>
                  <a:pt x="966135" y="0"/>
                </a:lnTo>
                <a:close/>
              </a:path>
            </a:pathLst>
          </a:custGeom>
          <a:solidFill>
            <a:srgbClr val="e49b35">
              <a:alpha val="25000"/>
            </a:srgbClr>
          </a:solidFill>
          <a:ln>
            <a:solidFill>
              <a:srgbClr val="ebdcb0"/>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07" name="任意多边形 80"/>
          <p:cNvSpPr/>
          <p:nvPr/>
        </p:nvSpPr>
        <p:spPr>
          <a:xfrm>
            <a:off x="9585000" y="5503320"/>
            <a:ext cx="1351800" cy="1397160"/>
          </a:xfrm>
          <a:custGeom>
            <a:avLst/>
            <a:gdLst>
              <a:gd name="textAreaLeft" fmla="*/ 0 w 1351800"/>
              <a:gd name="textAreaRight" fmla="*/ 1352160 w 1351800"/>
              <a:gd name="textAreaTop" fmla="*/ 0 h 1397160"/>
              <a:gd name="textAreaBottom" fmla="*/ 1397520 h 1397160"/>
            </a:gdLst>
            <a:ahLst/>
            <a:rect l="textAreaLeft" t="textAreaTop" r="textAreaRight" b="textAreaBottom"/>
            <a:pathLst>
              <a:path w="1352191" h="1397381">
                <a:moveTo>
                  <a:pt x="391161" y="0"/>
                </a:moveTo>
                <a:lnTo>
                  <a:pt x="1352191" y="1397381"/>
                </a:lnTo>
                <a:lnTo>
                  <a:pt x="554059" y="1397381"/>
                </a:lnTo>
                <a:lnTo>
                  <a:pt x="0" y="591754"/>
                </a:lnTo>
                <a:lnTo>
                  <a:pt x="90309" y="450653"/>
                </a:lnTo>
                <a:lnTo>
                  <a:pt x="143955" y="372649"/>
                </a:lnTo>
                <a:lnTo>
                  <a:pt x="141371" y="370872"/>
                </a:lnTo>
                <a:lnTo>
                  <a:pt x="368976" y="15258"/>
                </a:lnTo>
                <a:lnTo>
                  <a:pt x="391161" y="0"/>
                </a:lnTo>
                <a:close/>
              </a:path>
            </a:pathLst>
          </a:custGeom>
          <a:solidFill>
            <a:srgbClr val="e49b35">
              <a:alpha val="25000"/>
            </a:srgbClr>
          </a:solidFill>
          <a:ln>
            <a:solidFill>
              <a:srgbClr val="ebdcb2"/>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08" name="任意多边形 788"/>
          <p:cNvSpPr/>
          <p:nvPr/>
        </p:nvSpPr>
        <p:spPr>
          <a:xfrm flipV="1">
            <a:off x="3302640" y="5881680"/>
            <a:ext cx="1086480" cy="1013760"/>
          </a:xfrm>
          <a:custGeom>
            <a:avLst/>
            <a:gdLst>
              <a:gd name="textAreaLeft" fmla="*/ 0 w 1086480"/>
              <a:gd name="textAreaRight" fmla="*/ 1086840 w 1086480"/>
              <a:gd name="textAreaTop" fmla="*/ 360 h 1013760"/>
              <a:gd name="textAreaBottom" fmla="*/ 1014480 h 1013760"/>
            </a:gdLst>
            <a:ahLst/>
            <a:rect l="textAreaLeft" t="textAreaTop" r="textAreaRight" b="textAreaBottom"/>
            <a:pathLst>
              <a:path w="1086681" h="1014296">
                <a:moveTo>
                  <a:pt x="697568" y="1014296"/>
                </a:moveTo>
                <a:lnTo>
                  <a:pt x="712685" y="1003899"/>
                </a:lnTo>
                <a:lnTo>
                  <a:pt x="1086681" y="419563"/>
                </a:lnTo>
                <a:lnTo>
                  <a:pt x="798132" y="0"/>
                </a:lnTo>
                <a:lnTo>
                  <a:pt x="0" y="0"/>
                </a:lnTo>
                <a:lnTo>
                  <a:pt x="697568" y="1014296"/>
                </a:lnTo>
                <a:close/>
              </a:path>
            </a:pathLst>
          </a:custGeom>
          <a:solidFill>
            <a:srgbClr val="d57053">
              <a:alpha val="25000"/>
            </a:srgbClr>
          </a:solidFill>
          <a:ln>
            <a:solidFill>
              <a:srgbClr val="ead3bf"/>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09" name="任意多边形 686"/>
          <p:cNvSpPr/>
          <p:nvPr/>
        </p:nvSpPr>
        <p:spPr>
          <a:xfrm>
            <a:off x="8185320" y="0"/>
            <a:ext cx="2770920" cy="3463560"/>
          </a:xfrm>
          <a:custGeom>
            <a:avLst/>
            <a:gdLst>
              <a:gd name="textAreaLeft" fmla="*/ 0 w 2770920"/>
              <a:gd name="textAreaRight" fmla="*/ 2771280 w 2770920"/>
              <a:gd name="textAreaTop" fmla="*/ 0 h 3463560"/>
              <a:gd name="textAreaBottom" fmla="*/ 3463920 h 3463560"/>
            </a:gdLst>
            <a:ahLst/>
            <a:rect l="textAreaLeft" t="textAreaTop" r="textAreaRight" b="textAreaBottom"/>
            <a:pathLst>
              <a:path w="2771399" h="3463952">
                <a:moveTo>
                  <a:pt x="0" y="0"/>
                </a:moveTo>
                <a:lnTo>
                  <a:pt x="798131" y="0"/>
                </a:lnTo>
                <a:lnTo>
                  <a:pt x="2771399" y="2869219"/>
                </a:lnTo>
                <a:lnTo>
                  <a:pt x="2397403" y="3453555"/>
                </a:lnTo>
                <a:lnTo>
                  <a:pt x="2382286" y="3463952"/>
                </a:lnTo>
                <a:lnTo>
                  <a:pt x="0" y="0"/>
                </a:lnTo>
                <a:close/>
              </a:path>
            </a:pathLst>
          </a:custGeom>
          <a:solidFill>
            <a:srgbClr val="d57053">
              <a:alpha val="30000"/>
            </a:srgbClr>
          </a:solidFill>
          <a:ln>
            <a:solidFill>
              <a:srgbClr val="eacebc"/>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10" name="任意多边形 824"/>
          <p:cNvSpPr/>
          <p:nvPr/>
        </p:nvSpPr>
        <p:spPr>
          <a:xfrm flipH="1" flipV="1">
            <a:off x="6913080" y="1590120"/>
            <a:ext cx="4043520" cy="5305680"/>
          </a:xfrm>
          <a:custGeom>
            <a:avLst/>
            <a:gdLst>
              <a:gd name="textAreaLeft" fmla="*/ 360 w 4043520"/>
              <a:gd name="textAreaRight" fmla="*/ 4044240 w 4043520"/>
              <a:gd name="textAreaTop" fmla="*/ 360 h 5305680"/>
              <a:gd name="textAreaBottom" fmla="*/ 5306400 h 5305680"/>
            </a:gdLst>
            <a:ahLst/>
            <a:rect l="textAreaLeft" t="textAreaTop" r="textAreaRight" b="textAreaBottom"/>
            <a:pathLst>
              <a:path w="4043737" h="5305892">
                <a:moveTo>
                  <a:pt x="389113" y="5305892"/>
                </a:moveTo>
                <a:lnTo>
                  <a:pt x="373996" y="5295495"/>
                </a:lnTo>
                <a:lnTo>
                  <a:pt x="0" y="4711159"/>
                </a:lnTo>
                <a:lnTo>
                  <a:pt x="2281471" y="1393799"/>
                </a:lnTo>
                <a:lnTo>
                  <a:pt x="2285250" y="1396398"/>
                </a:lnTo>
                <a:lnTo>
                  <a:pt x="3245605" y="0"/>
                </a:lnTo>
                <a:lnTo>
                  <a:pt x="4043737" y="0"/>
                </a:lnTo>
                <a:lnTo>
                  <a:pt x="1810872" y="3246685"/>
                </a:lnTo>
                <a:lnTo>
                  <a:pt x="1807092" y="3244086"/>
                </a:lnTo>
                <a:lnTo>
                  <a:pt x="389113" y="5305892"/>
                </a:lnTo>
                <a:close/>
              </a:path>
            </a:pathLst>
          </a:custGeom>
          <a:solidFill>
            <a:srgbClr val="88a378">
              <a:alpha val="30000"/>
            </a:srgbClr>
          </a:solidFill>
          <a:ln>
            <a:solidFill>
              <a:srgbClr val="d3dcc5">
                <a:alpha val="30000"/>
              </a:srgbClr>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11" name="任意多边形 817"/>
          <p:cNvSpPr/>
          <p:nvPr/>
        </p:nvSpPr>
        <p:spPr>
          <a:xfrm flipV="1">
            <a:off x="7083360" y="5123160"/>
            <a:ext cx="1609920" cy="1772640"/>
          </a:xfrm>
          <a:custGeom>
            <a:avLst/>
            <a:gdLst>
              <a:gd name="textAreaLeft" fmla="*/ 0 w 1609920"/>
              <a:gd name="textAreaRight" fmla="*/ 1610280 w 1609920"/>
              <a:gd name="textAreaTop" fmla="*/ 360 h 1772640"/>
              <a:gd name="textAreaBottom" fmla="*/ 1773360 h 1772640"/>
            </a:gdLst>
            <a:ahLst/>
            <a:rect l="textAreaLeft" t="textAreaTop" r="textAreaRight" b="textAreaBottom"/>
            <a:pathLst>
              <a:path w="1610447" h="1772896">
                <a:moveTo>
                  <a:pt x="391161" y="1772896"/>
                </a:moveTo>
                <a:lnTo>
                  <a:pt x="1610447" y="0"/>
                </a:lnTo>
                <a:lnTo>
                  <a:pt x="812315" y="0"/>
                </a:lnTo>
                <a:lnTo>
                  <a:pt x="0" y="1181142"/>
                </a:lnTo>
                <a:lnTo>
                  <a:pt x="90309" y="1322243"/>
                </a:lnTo>
                <a:lnTo>
                  <a:pt x="143955" y="1400247"/>
                </a:lnTo>
                <a:lnTo>
                  <a:pt x="141371" y="1402024"/>
                </a:lnTo>
                <a:lnTo>
                  <a:pt x="368976" y="1757638"/>
                </a:lnTo>
                <a:lnTo>
                  <a:pt x="391161" y="1772896"/>
                </a:lnTo>
                <a:close/>
              </a:path>
            </a:pathLst>
          </a:custGeom>
          <a:solidFill>
            <a:srgbClr val="ed6f65">
              <a:alpha val="25000"/>
            </a:srgbClr>
          </a:solidFill>
          <a:ln>
            <a:solidFill>
              <a:srgbClr val="f1dbcc"/>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12" name="任意多边形 54"/>
          <p:cNvSpPr/>
          <p:nvPr/>
        </p:nvSpPr>
        <p:spPr>
          <a:xfrm flipH="1" flipV="1">
            <a:off x="1561680" y="5458320"/>
            <a:ext cx="767880" cy="594360"/>
          </a:xfrm>
          <a:custGeom>
            <a:avLst/>
            <a:gdLst>
              <a:gd name="textAreaLeft" fmla="*/ -360 w 767880"/>
              <a:gd name="textAreaRight" fmla="*/ 767880 w 767880"/>
              <a:gd name="textAreaTop" fmla="*/ -360 h 594360"/>
              <a:gd name="textAreaBottom" fmla="*/ 594360 h 594360"/>
            </a:gdLst>
            <a:ahLst/>
            <a:rect l="textAreaLeft" t="textAreaTop" r="textAreaRight" b="textAreaBottom"/>
            <a:pathLst>
              <a:path w="768171" h="594733">
                <a:moveTo>
                  <a:pt x="380650" y="0"/>
                </a:moveTo>
                <a:lnTo>
                  <a:pt x="386064" y="7873"/>
                </a:lnTo>
                <a:lnTo>
                  <a:pt x="479739" y="144080"/>
                </a:lnTo>
                <a:lnTo>
                  <a:pt x="530801" y="223861"/>
                </a:lnTo>
                <a:lnTo>
                  <a:pt x="758406" y="579475"/>
                </a:lnTo>
                <a:lnTo>
                  <a:pt x="768171" y="594733"/>
                </a:lnTo>
                <a:lnTo>
                  <a:pt x="0" y="594733"/>
                </a:lnTo>
                <a:lnTo>
                  <a:pt x="6654" y="584336"/>
                </a:lnTo>
                <a:close/>
              </a:path>
            </a:pathLst>
          </a:custGeom>
          <a:solidFill>
            <a:srgbClr val="ed5249">
              <a:alpha val="35000"/>
            </a:srgbClr>
          </a:solidFill>
          <a:ln>
            <a:solidFill>
              <a:srgbClr val="efbbab"/>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13" name="任意多边形 35"/>
          <p:cNvSpPr/>
          <p:nvPr/>
        </p:nvSpPr>
        <p:spPr>
          <a:xfrm flipH="1" flipV="1">
            <a:off x="4011840" y="4491000"/>
            <a:ext cx="767880" cy="594360"/>
          </a:xfrm>
          <a:custGeom>
            <a:avLst/>
            <a:gdLst>
              <a:gd name="textAreaLeft" fmla="*/ -360 w 767880"/>
              <a:gd name="textAreaRight" fmla="*/ 767880 w 767880"/>
              <a:gd name="textAreaTop" fmla="*/ -360 h 594360"/>
              <a:gd name="textAreaBottom" fmla="*/ 594360 h 594360"/>
            </a:gdLst>
            <a:ahLst/>
            <a:rect l="textAreaLeft" t="textAreaTop" r="textAreaRight" b="textAreaBottom"/>
            <a:pathLst>
              <a:path w="768171" h="594733">
                <a:moveTo>
                  <a:pt x="380650" y="0"/>
                </a:moveTo>
                <a:lnTo>
                  <a:pt x="386064" y="7873"/>
                </a:lnTo>
                <a:lnTo>
                  <a:pt x="479739" y="144080"/>
                </a:lnTo>
                <a:lnTo>
                  <a:pt x="530801" y="223861"/>
                </a:lnTo>
                <a:lnTo>
                  <a:pt x="758406" y="579475"/>
                </a:lnTo>
                <a:lnTo>
                  <a:pt x="768171" y="594733"/>
                </a:lnTo>
                <a:lnTo>
                  <a:pt x="0" y="594733"/>
                </a:lnTo>
                <a:lnTo>
                  <a:pt x="6654" y="584336"/>
                </a:lnTo>
                <a:close/>
              </a:path>
            </a:pathLst>
          </a:custGeom>
          <a:solidFill>
            <a:srgbClr val="89a67a">
              <a:alpha val="35000"/>
            </a:srgbClr>
          </a:solidFill>
          <a:ln>
            <a:solidFill>
              <a:srgbClr val="cfdac2"/>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14" name="任意多边形 36"/>
          <p:cNvSpPr/>
          <p:nvPr/>
        </p:nvSpPr>
        <p:spPr>
          <a:xfrm flipV="1">
            <a:off x="6694200" y="5122440"/>
            <a:ext cx="767880" cy="594360"/>
          </a:xfrm>
          <a:custGeom>
            <a:avLst/>
            <a:gdLst>
              <a:gd name="textAreaLeft" fmla="*/ 0 w 767880"/>
              <a:gd name="textAreaRight" fmla="*/ 768240 w 767880"/>
              <a:gd name="textAreaTop" fmla="*/ -360 h 594360"/>
              <a:gd name="textAreaBottom" fmla="*/ 594360 h 594360"/>
            </a:gdLst>
            <a:ahLst/>
            <a:rect l="textAreaLeft" t="textAreaTop" r="textAreaRight" b="textAreaBottom"/>
            <a:pathLst>
              <a:path w="768171" h="594733">
                <a:moveTo>
                  <a:pt x="380650" y="0"/>
                </a:moveTo>
                <a:lnTo>
                  <a:pt x="386064" y="7873"/>
                </a:lnTo>
                <a:lnTo>
                  <a:pt x="479739" y="144080"/>
                </a:lnTo>
                <a:lnTo>
                  <a:pt x="530801" y="223861"/>
                </a:lnTo>
                <a:lnTo>
                  <a:pt x="758406" y="579475"/>
                </a:lnTo>
                <a:lnTo>
                  <a:pt x="768171" y="594733"/>
                </a:lnTo>
                <a:lnTo>
                  <a:pt x="0" y="594733"/>
                </a:lnTo>
                <a:lnTo>
                  <a:pt x="6654" y="584336"/>
                </a:lnTo>
                <a:close/>
              </a:path>
            </a:pathLst>
          </a:custGeom>
          <a:solidFill>
            <a:srgbClr val="ed6f65">
              <a:alpha val="35000"/>
            </a:srgbClr>
          </a:solidFill>
          <a:ln>
            <a:solidFill>
              <a:srgbClr val="f2c7ba"/>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cxnSp>
        <p:nvCxnSpPr>
          <p:cNvPr id="215" name="直接连接符 38"/>
          <p:cNvCxnSpPr/>
          <p:nvPr/>
        </p:nvCxnSpPr>
        <p:spPr>
          <a:xfrm>
            <a:off x="796320" y="787680"/>
            <a:ext cx="7897680" cy="360"/>
          </a:xfrm>
          <a:prstGeom prst="straightConnector1">
            <a:avLst/>
          </a:prstGeom>
          <a:ln>
            <a:solidFill>
              <a:srgbClr val="ffffff">
                <a:lumMod val="65000"/>
              </a:srgbClr>
            </a:solidFill>
          </a:ln>
        </p:spPr>
      </p:cxnSp>
      <p:sp>
        <p:nvSpPr>
          <p:cNvPr id="216" name="平行四边形 40"/>
          <p:cNvSpPr/>
          <p:nvPr/>
        </p:nvSpPr>
        <p:spPr>
          <a:xfrm>
            <a:off x="361440" y="316080"/>
            <a:ext cx="1038600" cy="478800"/>
          </a:xfrm>
          <a:prstGeom prst="parallelogram">
            <a:avLst>
              <a:gd name="adj" fmla="val 25000"/>
            </a:avLst>
          </a:prstGeom>
          <a:solidFill>
            <a:srgbClr val="34618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17" name="文本框 41"/>
          <p:cNvSpPr/>
          <p:nvPr/>
        </p:nvSpPr>
        <p:spPr>
          <a:xfrm>
            <a:off x="370800" y="294120"/>
            <a:ext cx="1020240" cy="51624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US" sz="2800" spc="-1" strike="noStrike">
                <a:solidFill>
                  <a:srgbClr val="ffffff"/>
                </a:solidFill>
                <a:latin typeface="微软雅黑"/>
                <a:ea typeface="微软雅黑"/>
              </a:rPr>
              <a:t>1</a:t>
            </a:r>
            <a:endParaRPr b="0" lang="en-US" sz="2800" spc="-1" strike="noStrike">
              <a:solidFill>
                <a:srgbClr val="000000"/>
              </a:solidFill>
              <a:latin typeface="Arial"/>
            </a:endParaRPr>
          </a:p>
        </p:txBody>
      </p:sp>
      <p:sp>
        <p:nvSpPr>
          <p:cNvPr id="218" name="矩形 44"/>
          <p:cNvSpPr/>
          <p:nvPr/>
        </p:nvSpPr>
        <p:spPr>
          <a:xfrm>
            <a:off x="1952640" y="344880"/>
            <a:ext cx="54684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346182"/>
                </a:solidFill>
                <a:latin typeface="微软雅黑"/>
                <a:ea typeface="微软雅黑"/>
              </a:rPr>
              <a:t>摘要</a:t>
            </a:r>
            <a:endParaRPr b="0" lang="en-US" sz="2400" spc="-1" strike="noStrike">
              <a:solidFill>
                <a:srgbClr val="000000"/>
              </a:solidFill>
              <a:latin typeface="Arial"/>
            </a:endParaRPr>
          </a:p>
        </p:txBody>
      </p:sp>
      <p:grpSp>
        <p:nvGrpSpPr>
          <p:cNvPr id="219" name="组合 1"/>
          <p:cNvGrpSpPr/>
          <p:nvPr/>
        </p:nvGrpSpPr>
        <p:grpSpPr>
          <a:xfrm>
            <a:off x="1285560" y="1772280"/>
            <a:ext cx="7135200" cy="3572280"/>
            <a:chOff x="1285560" y="1772280"/>
            <a:chExt cx="7135200" cy="3572280"/>
          </a:xfrm>
        </p:grpSpPr>
        <p:sp>
          <p:nvSpPr>
            <p:cNvPr id="220" name="矩形 53"/>
            <p:cNvSpPr/>
            <p:nvPr/>
          </p:nvSpPr>
          <p:spPr>
            <a:xfrm>
              <a:off x="1285560" y="2104560"/>
              <a:ext cx="7135200" cy="3240000"/>
            </a:xfrm>
            <a:prstGeom prst="rect">
              <a:avLst/>
            </a:prstGeom>
            <a:noFill/>
            <a:ln>
              <a:solidFill>
                <a:srgbClr val="346182"/>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21" name="矩形 55"/>
            <p:cNvSpPr/>
            <p:nvPr/>
          </p:nvSpPr>
          <p:spPr>
            <a:xfrm>
              <a:off x="1285560" y="1772280"/>
              <a:ext cx="4388760" cy="338040"/>
            </a:xfrm>
            <a:prstGeom prst="rect">
              <a:avLst/>
            </a:prstGeom>
            <a:solidFill>
              <a:srgbClr val="34618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sp>
        <p:nvSpPr>
          <p:cNvPr id="222" name="TextBox 2063"/>
          <p:cNvSpPr/>
          <p:nvPr/>
        </p:nvSpPr>
        <p:spPr>
          <a:xfrm>
            <a:off x="1356840" y="1764000"/>
            <a:ext cx="4725360" cy="332640"/>
          </a:xfrm>
          <a:prstGeom prst="rect">
            <a:avLst/>
          </a:prstGeom>
          <a:noFill/>
          <a:ln w="0">
            <a:noFill/>
          </a:ln>
        </p:spPr>
        <p:style>
          <a:lnRef idx="0"/>
          <a:fillRef idx="0"/>
          <a:effectRef idx="0"/>
          <a:fontRef idx="minor"/>
        </p:style>
        <p:txBody>
          <a:bodyPr lIns="90000" rIns="90000" tIns="45000" bIns="45000" anchor="ctr">
            <a:spAutoFit/>
          </a:bodyPr>
          <a:p>
            <a:pPr>
              <a:lnSpc>
                <a:spcPct val="100000"/>
              </a:lnSpc>
            </a:pPr>
            <a:r>
              <a:rPr b="1" lang="zh-CN" sz="1600" spc="-1" strike="noStrike">
                <a:solidFill>
                  <a:srgbClr val="ffffff"/>
                </a:solidFill>
                <a:latin typeface="微软雅黑"/>
                <a:ea typeface="微软雅黑"/>
              </a:rPr>
              <a:t>关键词：文本框；文本框；文本框；文本框</a:t>
            </a:r>
            <a:endParaRPr b="0" lang="en-US" sz="1600" spc="-1" strike="noStrike">
              <a:solidFill>
                <a:srgbClr val="000000"/>
              </a:solidFill>
              <a:latin typeface="Arial"/>
            </a:endParaRPr>
          </a:p>
        </p:txBody>
      </p:sp>
      <p:sp>
        <p:nvSpPr>
          <p:cNvPr id="223" name="矩形 4"/>
          <p:cNvSpPr/>
          <p:nvPr/>
        </p:nvSpPr>
        <p:spPr>
          <a:xfrm>
            <a:off x="1485000" y="2524680"/>
            <a:ext cx="6736320" cy="729360"/>
          </a:xfrm>
          <a:prstGeom prst="rect">
            <a:avLst/>
          </a:prstGeom>
          <a:noFill/>
          <a:ln w="0">
            <a:noFill/>
          </a:ln>
        </p:spPr>
        <p:style>
          <a:lnRef idx="0"/>
          <a:fillRef idx="0"/>
          <a:effectRef idx="0"/>
          <a:fontRef idx="minor"/>
        </p:style>
        <p:txBody>
          <a:bodyPr lIns="90000" rIns="90000" tIns="45000" bIns="45000" anchor="t">
            <a:spAutoFit/>
          </a:bodyPr>
          <a:p>
            <a:pPr algn="just">
              <a:lnSpc>
                <a:spcPct val="150000"/>
              </a:lnSpc>
            </a:pPr>
            <a:r>
              <a:rPr b="1" lang="zh-CN" sz="2800" spc="-1" strike="noStrike">
                <a:solidFill>
                  <a:srgbClr val="ed6e64"/>
                </a:solidFill>
                <a:latin typeface="微软雅黑"/>
                <a:ea typeface="微软雅黑"/>
              </a:rPr>
              <a:t>摘要</a:t>
            </a:r>
            <a:r>
              <a:rPr b="0" lang="zh-CN" sz="1800" spc="-1" strike="noStrike">
                <a:solidFill>
                  <a:srgbClr val="404040"/>
                </a:solidFill>
                <a:latin typeface="微软雅黑"/>
                <a:ea typeface="微软雅黑"/>
              </a:rPr>
              <a:t>又称概要、内容提要。摘要是以提供文献内容梗概为目的，不加评论和补充解释，简明、确切地记述文献重要内容的短文。其基本要素包括研究目的、方法、结果和结论。具体地讲就是研究工作的主要对象和范围，采用的手段和方法，得出的结果和重要的结论，有时也包括具有情报价值的其它重要的信息</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22" presetSubtype="1">
                                  <p:stCondLst>
                                    <p:cond delay="0"/>
                                  </p:stCondLst>
                                  <p:childTnLst>
                                    <p:set>
                                      <p:cBhvr>
                                        <p:cTn id="53" dur="1" fill="hold">
                                          <p:stCondLst>
                                            <p:cond delay="0"/>
                                          </p:stCondLst>
                                        </p:cTn>
                                        <p:tgtEl>
                                          <p:spTgt spid="219"/>
                                        </p:tgtEl>
                                        <p:attrNameLst>
                                          <p:attrName>style.visibility</p:attrName>
                                        </p:attrNameLst>
                                      </p:cBhvr>
                                      <p:to>
                                        <p:strVal val="visible"/>
                                      </p:to>
                                    </p:set>
                                    <p:animEffect filter="wipe(up)" transition="in">
                                      <p:cBhvr additive="repl">
                                        <p:cTn id="54" dur="500"/>
                                        <p:tgtEl>
                                          <p:spTgt spid="219"/>
                                        </p:tgtEl>
                                      </p:cBhvr>
                                    </p:animEffect>
                                  </p:childTnLst>
                                </p:cTn>
                              </p:par>
                            </p:childTnLst>
                          </p:cTn>
                        </p:par>
                        <p:par>
                          <p:cTn id="55" fill="hold">
                            <p:stCondLst>
                              <p:cond delay="500"/>
                            </p:stCondLst>
                            <p:childTnLst>
                              <p:par>
                                <p:cTn id="56" nodeType="afterEffect" fill="hold" presetClass="entr" presetID="2" presetSubtype="4">
                                  <p:stCondLst>
                                    <p:cond delay="0"/>
                                  </p:stCondLst>
                                  <p:childTnLst>
                                    <p:set>
                                      <p:cBhvr>
                                        <p:cTn id="57" dur="1" fill="hold">
                                          <p:stCondLst>
                                            <p:cond delay="0"/>
                                          </p:stCondLst>
                                        </p:cTn>
                                        <p:tgtEl>
                                          <p:spTgt spid="222"/>
                                        </p:tgtEl>
                                        <p:attrNameLst>
                                          <p:attrName>style.visibility</p:attrName>
                                        </p:attrNameLst>
                                      </p:cBhvr>
                                      <p:to>
                                        <p:strVal val="visible"/>
                                      </p:to>
                                    </p:set>
                                    <p:anim calcmode="lin" valueType="num">
                                      <p:cBhvr additive="repl">
                                        <p:cTn id="58" dur="500" fill="hold"/>
                                        <p:tgtEl>
                                          <p:spTgt spid="222"/>
                                        </p:tgtEl>
                                        <p:attrNameLst>
                                          <p:attrName>ppt_x</p:attrName>
                                        </p:attrNameLst>
                                      </p:cBhvr>
                                      <p:tavLst>
                                        <p:tav tm="0">
                                          <p:val>
                                            <p:strVal val="#ppt_x"/>
                                          </p:val>
                                        </p:tav>
                                        <p:tav tm="100000">
                                          <p:val>
                                            <p:strVal val="#ppt_x"/>
                                          </p:val>
                                        </p:tav>
                                      </p:tavLst>
                                    </p:anim>
                                    <p:anim calcmode="lin" valueType="num">
                                      <p:cBhvr additive="repl">
                                        <p:cTn id="59" dur="500" fill="hold"/>
                                        <p:tgtEl>
                                          <p:spTgt spid="222"/>
                                        </p:tgtEl>
                                        <p:attrNameLst>
                                          <p:attrName>ppt_y</p:attrName>
                                        </p:attrNameLst>
                                      </p:cBhvr>
                                      <p:tavLst>
                                        <p:tav tm="0">
                                          <p:val>
                                            <p:strVal val="1+#ppt_h/2"/>
                                          </p:val>
                                        </p:tav>
                                        <p:tav tm="100000">
                                          <p:val>
                                            <p:strVal val="#ppt_y"/>
                                          </p:val>
                                        </p:tav>
                                      </p:tavLst>
                                    </p:anim>
                                  </p:childTnLst>
                                </p:cTn>
                              </p:par>
                            </p:childTnLst>
                          </p:cTn>
                        </p:par>
                        <p:par>
                          <p:cTn id="60" fill="hold">
                            <p:stCondLst>
                              <p:cond delay="1000"/>
                            </p:stCondLst>
                            <p:childTnLst>
                              <p:par>
                                <p:cTn id="61" nodeType="afterEffect" fill="hold" presetClass="entr" presetID="2" presetSubtype="4">
                                  <p:stCondLst>
                                    <p:cond delay="0"/>
                                  </p:stCondLst>
                                  <p:childTnLst>
                                    <p:set>
                                      <p:cBhvr>
                                        <p:cTn id="62" dur="1" fill="hold">
                                          <p:stCondLst>
                                            <p:cond delay="0"/>
                                          </p:stCondLst>
                                        </p:cTn>
                                        <p:tgtEl>
                                          <p:spTgt spid="223"/>
                                        </p:tgtEl>
                                        <p:attrNameLst>
                                          <p:attrName>style.visibility</p:attrName>
                                        </p:attrNameLst>
                                      </p:cBhvr>
                                      <p:to>
                                        <p:strVal val="visible"/>
                                      </p:to>
                                    </p:set>
                                    <p:anim calcmode="lin" valueType="num">
                                      <p:cBhvr additive="repl">
                                        <p:cTn id="63" dur="500" fill="hold"/>
                                        <p:tgtEl>
                                          <p:spTgt spid="223"/>
                                        </p:tgtEl>
                                        <p:attrNameLst>
                                          <p:attrName>ppt_x</p:attrName>
                                        </p:attrNameLst>
                                      </p:cBhvr>
                                      <p:tavLst>
                                        <p:tav tm="0">
                                          <p:val>
                                            <p:strVal val="#ppt_x"/>
                                          </p:val>
                                        </p:tav>
                                        <p:tav tm="100000">
                                          <p:val>
                                            <p:strVal val="#ppt_x"/>
                                          </p:val>
                                        </p:tav>
                                      </p:tavLst>
                                    </p:anim>
                                    <p:anim calcmode="lin" valueType="num">
                                      <p:cBhvr additive="repl">
                                        <p:cTn id="64"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任意多边形 69"/>
          <p:cNvSpPr/>
          <p:nvPr/>
        </p:nvSpPr>
        <p:spPr>
          <a:xfrm>
            <a:off x="561960" y="5459040"/>
            <a:ext cx="1379160" cy="1436400"/>
          </a:xfrm>
          <a:custGeom>
            <a:avLst/>
            <a:gdLst>
              <a:gd name="textAreaLeft" fmla="*/ 0 w 1379160"/>
              <a:gd name="textAreaRight" fmla="*/ 1379520 w 1379160"/>
              <a:gd name="textAreaTop" fmla="*/ 0 h 1436400"/>
              <a:gd name="textAreaBottom" fmla="*/ 1436760 h 1436400"/>
            </a:gdLst>
            <a:ahLst/>
            <a:rect l="textAreaLeft" t="textAreaTop" r="textAreaRight" b="textAreaBottom"/>
            <a:pathLst>
              <a:path w="1379382" h="1436917">
                <a:moveTo>
                  <a:pt x="988221" y="0"/>
                </a:moveTo>
                <a:lnTo>
                  <a:pt x="1010406" y="15258"/>
                </a:lnTo>
                <a:lnTo>
                  <a:pt x="1238011" y="370872"/>
                </a:lnTo>
                <a:lnTo>
                  <a:pt x="1235427" y="372649"/>
                </a:lnTo>
                <a:lnTo>
                  <a:pt x="1289073" y="450653"/>
                </a:lnTo>
                <a:lnTo>
                  <a:pt x="1379382" y="591754"/>
                </a:lnTo>
                <a:lnTo>
                  <a:pt x="798132" y="1436917"/>
                </a:lnTo>
                <a:lnTo>
                  <a:pt x="0" y="1436917"/>
                </a:lnTo>
                <a:lnTo>
                  <a:pt x="988221" y="0"/>
                </a:lnTo>
                <a:close/>
              </a:path>
            </a:pathLst>
          </a:custGeom>
          <a:solidFill>
            <a:srgbClr val="ee8f82">
              <a:alpha val="25000"/>
            </a:srgbClr>
          </a:solidFill>
          <a:ln>
            <a:solidFill>
              <a:srgbClr val="eed9c6"/>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25" name="任意多边形 68"/>
          <p:cNvSpPr/>
          <p:nvPr/>
        </p:nvSpPr>
        <p:spPr>
          <a:xfrm>
            <a:off x="1950120" y="5459040"/>
            <a:ext cx="1377000" cy="1436400"/>
          </a:xfrm>
          <a:custGeom>
            <a:avLst/>
            <a:gdLst>
              <a:gd name="textAreaLeft" fmla="*/ 0 w 1377000"/>
              <a:gd name="textAreaRight" fmla="*/ 1377360 w 1377000"/>
              <a:gd name="textAreaTop" fmla="*/ 0 h 1436400"/>
              <a:gd name="textAreaBottom" fmla="*/ 1436760 h 1436400"/>
            </a:gdLst>
            <a:ahLst/>
            <a:rect l="textAreaLeft" t="textAreaTop" r="textAreaRight" b="textAreaBottom"/>
            <a:pathLst>
              <a:path w="1377333" h="1436916">
                <a:moveTo>
                  <a:pt x="389113" y="0"/>
                </a:moveTo>
                <a:lnTo>
                  <a:pt x="1377333" y="1436916"/>
                </a:lnTo>
                <a:lnTo>
                  <a:pt x="579200" y="1436916"/>
                </a:lnTo>
                <a:lnTo>
                  <a:pt x="0" y="594733"/>
                </a:lnTo>
                <a:lnTo>
                  <a:pt x="373996" y="10397"/>
                </a:lnTo>
                <a:lnTo>
                  <a:pt x="389113" y="0"/>
                </a:lnTo>
                <a:close/>
              </a:path>
            </a:pathLst>
          </a:custGeom>
          <a:solidFill>
            <a:srgbClr val="f1dbcc"/>
          </a:solidFill>
          <a:ln>
            <a:solidFill>
              <a:srgbClr val="f1dbcc"/>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26" name="任意多边形 818"/>
          <p:cNvSpPr/>
          <p:nvPr/>
        </p:nvSpPr>
        <p:spPr>
          <a:xfrm flipV="1">
            <a:off x="5466240" y="5123160"/>
            <a:ext cx="1608120" cy="1772640"/>
          </a:xfrm>
          <a:custGeom>
            <a:avLst/>
            <a:gdLst>
              <a:gd name="textAreaLeft" fmla="*/ 0 w 1608120"/>
              <a:gd name="textAreaRight" fmla="*/ 1608480 w 1608120"/>
              <a:gd name="textAreaTop" fmla="*/ 360 h 1772640"/>
              <a:gd name="textAreaBottom" fmla="*/ 1773360 h 1772640"/>
            </a:gdLst>
            <a:ahLst/>
            <a:rect l="textAreaLeft" t="textAreaTop" r="textAreaRight" b="textAreaBottom"/>
            <a:pathLst>
              <a:path w="1608398" h="1772896">
                <a:moveTo>
                  <a:pt x="1219285" y="1772896"/>
                </a:moveTo>
                <a:lnTo>
                  <a:pt x="1234402" y="1762499"/>
                </a:lnTo>
                <a:lnTo>
                  <a:pt x="1608398" y="1178163"/>
                </a:lnTo>
                <a:lnTo>
                  <a:pt x="798132" y="0"/>
                </a:lnTo>
                <a:lnTo>
                  <a:pt x="0" y="0"/>
                </a:lnTo>
                <a:lnTo>
                  <a:pt x="1219285" y="1772896"/>
                </a:lnTo>
                <a:close/>
              </a:path>
            </a:pathLst>
          </a:custGeom>
          <a:solidFill>
            <a:srgbClr val="ed6f65">
              <a:alpha val="25000"/>
            </a:srgbClr>
          </a:solidFill>
          <a:ln>
            <a:solidFill>
              <a:srgbClr val="f1dbcc"/>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27" name="任意多边形 519"/>
          <p:cNvSpPr/>
          <p:nvPr/>
        </p:nvSpPr>
        <p:spPr>
          <a:xfrm>
            <a:off x="10576080" y="2869200"/>
            <a:ext cx="767880" cy="594360"/>
          </a:xfrm>
          <a:custGeom>
            <a:avLst/>
            <a:gdLst>
              <a:gd name="textAreaLeft" fmla="*/ 0 w 767880"/>
              <a:gd name="textAreaRight" fmla="*/ 768240 w 767880"/>
              <a:gd name="textAreaTop" fmla="*/ 0 h 594360"/>
              <a:gd name="textAreaBottom" fmla="*/ 594720 h 594360"/>
            </a:gdLst>
            <a:ahLst/>
            <a:rect l="textAreaLeft" t="textAreaTop" r="textAreaRight" b="textAreaBottom"/>
            <a:pathLst>
              <a:path w="768171" h="594733">
                <a:moveTo>
                  <a:pt x="380650" y="0"/>
                </a:moveTo>
                <a:lnTo>
                  <a:pt x="386064" y="7873"/>
                </a:lnTo>
                <a:lnTo>
                  <a:pt x="479739" y="144080"/>
                </a:lnTo>
                <a:lnTo>
                  <a:pt x="530801" y="223861"/>
                </a:lnTo>
                <a:lnTo>
                  <a:pt x="758406" y="579475"/>
                </a:lnTo>
                <a:lnTo>
                  <a:pt x="768171" y="594733"/>
                </a:lnTo>
                <a:lnTo>
                  <a:pt x="0" y="594733"/>
                </a:lnTo>
                <a:lnTo>
                  <a:pt x="6654" y="584336"/>
                </a:lnTo>
                <a:close/>
              </a:path>
            </a:pathLst>
          </a:custGeom>
          <a:solidFill>
            <a:srgbClr val="d57053">
              <a:alpha val="49000"/>
            </a:srgbClr>
          </a:solidFill>
          <a:ln>
            <a:solidFill>
              <a:srgbClr val="df9b83">
                <a:alpha val="49000"/>
              </a:srgbClr>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28" name="任意多边形 685"/>
          <p:cNvSpPr/>
          <p:nvPr/>
        </p:nvSpPr>
        <p:spPr>
          <a:xfrm>
            <a:off x="9482400" y="0"/>
            <a:ext cx="1473840" cy="1577520"/>
          </a:xfrm>
          <a:custGeom>
            <a:avLst/>
            <a:gdLst>
              <a:gd name="textAreaLeft" fmla="*/ 0 w 1473840"/>
              <a:gd name="textAreaRight" fmla="*/ 1474200 w 1473840"/>
              <a:gd name="textAreaTop" fmla="*/ 0 h 1577520"/>
              <a:gd name="textAreaBottom" fmla="*/ 1577880 h 1577520"/>
            </a:gdLst>
            <a:ahLst/>
            <a:rect l="textAreaLeft" t="textAreaTop" r="textAreaRight" b="textAreaBottom"/>
            <a:pathLst>
              <a:path w="1474363" h="1578002">
                <a:moveTo>
                  <a:pt x="0" y="0"/>
                </a:moveTo>
                <a:lnTo>
                  <a:pt x="798133" y="0"/>
                </a:lnTo>
                <a:lnTo>
                  <a:pt x="1474363" y="983269"/>
                </a:lnTo>
                <a:lnTo>
                  <a:pt x="1100367" y="1567605"/>
                </a:lnTo>
                <a:lnTo>
                  <a:pt x="1085250" y="1578002"/>
                </a:lnTo>
                <a:lnTo>
                  <a:pt x="0" y="0"/>
                </a:lnTo>
                <a:close/>
              </a:path>
            </a:pathLst>
          </a:custGeom>
          <a:solidFill>
            <a:srgbClr val="e7b05e">
              <a:alpha val="25000"/>
            </a:srgbClr>
          </a:solidFill>
          <a:ln>
            <a:solidFill>
              <a:srgbClr val="efe3c2"/>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29" name="任意多边形 83"/>
          <p:cNvSpPr/>
          <p:nvPr/>
        </p:nvSpPr>
        <p:spPr>
          <a:xfrm>
            <a:off x="10965600" y="0"/>
            <a:ext cx="1238040" cy="1577520"/>
          </a:xfrm>
          <a:custGeom>
            <a:avLst/>
            <a:gdLst>
              <a:gd name="textAreaLeft" fmla="*/ 0 w 1238040"/>
              <a:gd name="textAreaRight" fmla="*/ 1238400 w 1238040"/>
              <a:gd name="textAreaTop" fmla="*/ 0 h 1577520"/>
              <a:gd name="textAreaBottom" fmla="*/ 1577880 h 1577520"/>
            </a:gdLst>
            <a:ahLst/>
            <a:rect l="textAreaLeft" t="textAreaTop" r="textAreaRight" b="textAreaBottom"/>
            <a:pathLst>
              <a:path w="1238362" h="1578002">
                <a:moveTo>
                  <a:pt x="678279" y="0"/>
                </a:moveTo>
                <a:lnTo>
                  <a:pt x="1238362" y="0"/>
                </a:lnTo>
                <a:lnTo>
                  <a:pt x="1238362" y="346134"/>
                </a:lnTo>
                <a:lnTo>
                  <a:pt x="391161" y="1578002"/>
                </a:lnTo>
                <a:lnTo>
                  <a:pt x="368976" y="1562744"/>
                </a:lnTo>
                <a:lnTo>
                  <a:pt x="141371" y="1207130"/>
                </a:lnTo>
                <a:lnTo>
                  <a:pt x="143955" y="1205353"/>
                </a:lnTo>
                <a:lnTo>
                  <a:pt x="90309" y="1127349"/>
                </a:lnTo>
                <a:lnTo>
                  <a:pt x="0" y="986248"/>
                </a:lnTo>
                <a:lnTo>
                  <a:pt x="678279" y="0"/>
                </a:lnTo>
                <a:close/>
              </a:path>
            </a:pathLst>
          </a:custGeom>
          <a:solidFill>
            <a:srgbClr val="efe3c2">
              <a:alpha val="71000"/>
            </a:srgbClr>
          </a:solidFill>
          <a:ln>
            <a:solidFill>
              <a:srgbClr val="eee6c8"/>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30" name="任意多边形 703"/>
          <p:cNvSpPr/>
          <p:nvPr/>
        </p:nvSpPr>
        <p:spPr>
          <a:xfrm>
            <a:off x="11202840" y="1946880"/>
            <a:ext cx="797760" cy="1160280"/>
          </a:xfrm>
          <a:custGeom>
            <a:avLst/>
            <a:gdLst>
              <a:gd name="textAreaLeft" fmla="*/ 0 w 797760"/>
              <a:gd name="textAreaRight" fmla="*/ 798120 w 797760"/>
              <a:gd name="textAreaTop" fmla="*/ 0 h 1160280"/>
              <a:gd name="textAreaBottom" fmla="*/ 1160640 h 1160280"/>
            </a:gdLst>
            <a:ahLst/>
            <a:rect l="textAreaLeft" t="textAreaTop" r="textAreaRight" b="textAreaBottom"/>
            <a:pathLst>
              <a:path w="798132" h="1160519">
                <a:moveTo>
                  <a:pt x="399066" y="0"/>
                </a:moveTo>
                <a:lnTo>
                  <a:pt x="798132" y="580260"/>
                </a:lnTo>
                <a:lnTo>
                  <a:pt x="399066" y="1160519"/>
                </a:lnTo>
                <a:lnTo>
                  <a:pt x="0" y="580260"/>
                </a:lnTo>
                <a:lnTo>
                  <a:pt x="399066" y="0"/>
                </a:lnTo>
                <a:close/>
              </a:path>
            </a:pathLst>
          </a:custGeom>
          <a:solidFill>
            <a:srgbClr val="d57053">
              <a:alpha val="25000"/>
            </a:srgbClr>
          </a:solidFill>
          <a:ln>
            <a:solidFill>
              <a:srgbClr val="ead3be"/>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31" name="任意多边形 87"/>
          <p:cNvSpPr/>
          <p:nvPr/>
        </p:nvSpPr>
        <p:spPr>
          <a:xfrm>
            <a:off x="11602080" y="1071720"/>
            <a:ext cx="601560" cy="1455120"/>
          </a:xfrm>
          <a:custGeom>
            <a:avLst/>
            <a:gdLst>
              <a:gd name="textAreaLeft" fmla="*/ 0 w 601560"/>
              <a:gd name="textAreaRight" fmla="*/ 601920 w 601560"/>
              <a:gd name="textAreaTop" fmla="*/ 0 h 1455120"/>
              <a:gd name="textAreaBottom" fmla="*/ 1455480 h 1455120"/>
            </a:gdLst>
            <a:ahLst/>
            <a:rect l="textAreaLeft" t="textAreaTop" r="textAreaRight" b="textAreaBottom"/>
            <a:pathLst>
              <a:path w="601946" h="1455517">
                <a:moveTo>
                  <a:pt x="601946" y="0"/>
                </a:moveTo>
                <a:lnTo>
                  <a:pt x="601946" y="1160520"/>
                </a:lnTo>
                <a:lnTo>
                  <a:pt x="399066" y="1455517"/>
                </a:lnTo>
                <a:lnTo>
                  <a:pt x="0" y="875257"/>
                </a:lnTo>
                <a:lnTo>
                  <a:pt x="601946" y="0"/>
                </a:lnTo>
                <a:close/>
              </a:path>
            </a:pathLst>
          </a:custGeom>
          <a:solidFill>
            <a:srgbClr val="ebcebc"/>
          </a:solidFill>
          <a:ln>
            <a:solidFill>
              <a:srgbClr val="eacdba"/>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32" name="任意多边形 699"/>
          <p:cNvSpPr/>
          <p:nvPr/>
        </p:nvSpPr>
        <p:spPr>
          <a:xfrm>
            <a:off x="10965600" y="1590120"/>
            <a:ext cx="636120" cy="936360"/>
          </a:xfrm>
          <a:custGeom>
            <a:avLst/>
            <a:gdLst>
              <a:gd name="textAreaLeft" fmla="*/ 0 w 636120"/>
              <a:gd name="textAreaRight" fmla="*/ 636480 w 636120"/>
              <a:gd name="textAreaTop" fmla="*/ 0 h 936360"/>
              <a:gd name="textAreaBottom" fmla="*/ 936720 h 936360"/>
            </a:gdLst>
            <a:ahLst/>
            <a:rect l="textAreaLeft" t="textAreaTop" r="textAreaRight" b="textAreaBottom"/>
            <a:pathLst>
              <a:path w="636416" h="936872">
                <a:moveTo>
                  <a:pt x="391161" y="0"/>
                </a:moveTo>
                <a:lnTo>
                  <a:pt x="636416" y="356612"/>
                </a:lnTo>
                <a:lnTo>
                  <a:pt x="237350" y="936872"/>
                </a:lnTo>
                <a:lnTo>
                  <a:pt x="0" y="591754"/>
                </a:lnTo>
                <a:lnTo>
                  <a:pt x="90309" y="450653"/>
                </a:lnTo>
                <a:lnTo>
                  <a:pt x="143955" y="372649"/>
                </a:lnTo>
                <a:lnTo>
                  <a:pt x="141371" y="370872"/>
                </a:lnTo>
                <a:lnTo>
                  <a:pt x="368976" y="15258"/>
                </a:lnTo>
                <a:lnTo>
                  <a:pt x="391161" y="0"/>
                </a:lnTo>
                <a:close/>
              </a:path>
            </a:pathLst>
          </a:custGeom>
          <a:solidFill>
            <a:srgbClr val="d2dbc4"/>
          </a:solidFill>
          <a:ln>
            <a:solidFill>
              <a:srgbClr val="d3ddc7"/>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33" name="任意多边形 698"/>
          <p:cNvSpPr/>
          <p:nvPr/>
        </p:nvSpPr>
        <p:spPr>
          <a:xfrm>
            <a:off x="10965600" y="2527200"/>
            <a:ext cx="636120" cy="936360"/>
          </a:xfrm>
          <a:custGeom>
            <a:avLst/>
            <a:gdLst>
              <a:gd name="textAreaLeft" fmla="*/ 0 w 636120"/>
              <a:gd name="textAreaRight" fmla="*/ 636480 w 636120"/>
              <a:gd name="textAreaTop" fmla="*/ 0 h 936360"/>
              <a:gd name="textAreaBottom" fmla="*/ 936720 h 936360"/>
            </a:gdLst>
            <a:ahLst/>
            <a:rect l="textAreaLeft" t="textAreaTop" r="textAreaRight" b="textAreaBottom"/>
            <a:pathLst>
              <a:path w="636416" h="936871">
                <a:moveTo>
                  <a:pt x="237350" y="0"/>
                </a:moveTo>
                <a:lnTo>
                  <a:pt x="636416" y="580259"/>
                </a:lnTo>
                <a:lnTo>
                  <a:pt x="391161" y="936871"/>
                </a:lnTo>
                <a:lnTo>
                  <a:pt x="368976" y="921613"/>
                </a:lnTo>
                <a:lnTo>
                  <a:pt x="141371" y="565999"/>
                </a:lnTo>
                <a:lnTo>
                  <a:pt x="143955" y="564222"/>
                </a:lnTo>
                <a:lnTo>
                  <a:pt x="90309" y="486218"/>
                </a:lnTo>
                <a:lnTo>
                  <a:pt x="0" y="345117"/>
                </a:lnTo>
                <a:lnTo>
                  <a:pt x="237350" y="0"/>
                </a:lnTo>
                <a:close/>
              </a:path>
            </a:pathLst>
          </a:custGeom>
          <a:solidFill>
            <a:srgbClr val="e9ccba"/>
          </a:solidFill>
          <a:ln>
            <a:solidFill>
              <a:srgbClr val="eacdbb"/>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34" name="任意多边形 93"/>
          <p:cNvSpPr/>
          <p:nvPr/>
        </p:nvSpPr>
        <p:spPr>
          <a:xfrm>
            <a:off x="11602080" y="2527200"/>
            <a:ext cx="601560" cy="1455120"/>
          </a:xfrm>
          <a:custGeom>
            <a:avLst/>
            <a:gdLst>
              <a:gd name="textAreaLeft" fmla="*/ 0 w 601560"/>
              <a:gd name="textAreaRight" fmla="*/ 601920 w 601560"/>
              <a:gd name="textAreaTop" fmla="*/ 0 h 1455120"/>
              <a:gd name="textAreaBottom" fmla="*/ 1455480 h 1455120"/>
            </a:gdLst>
            <a:ahLst/>
            <a:rect l="textAreaLeft" t="textAreaTop" r="textAreaRight" b="textAreaBottom"/>
            <a:pathLst>
              <a:path w="601946" h="1455516">
                <a:moveTo>
                  <a:pt x="399066" y="0"/>
                </a:moveTo>
                <a:lnTo>
                  <a:pt x="601946" y="294997"/>
                </a:lnTo>
                <a:lnTo>
                  <a:pt x="601946" y="1455516"/>
                </a:lnTo>
                <a:lnTo>
                  <a:pt x="0" y="580259"/>
                </a:lnTo>
                <a:lnTo>
                  <a:pt x="399066" y="0"/>
                </a:lnTo>
                <a:close/>
              </a:path>
            </a:pathLst>
          </a:custGeom>
          <a:solidFill>
            <a:srgbClr val="d3ddc7"/>
          </a:solidFill>
          <a:ln>
            <a:solidFill>
              <a:srgbClr val="d3dcc6"/>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35" name="任意多边形 522"/>
          <p:cNvSpPr/>
          <p:nvPr/>
        </p:nvSpPr>
        <p:spPr>
          <a:xfrm>
            <a:off x="10576080" y="983160"/>
            <a:ext cx="767880" cy="594360"/>
          </a:xfrm>
          <a:custGeom>
            <a:avLst/>
            <a:gdLst>
              <a:gd name="textAreaLeft" fmla="*/ 0 w 767880"/>
              <a:gd name="textAreaRight" fmla="*/ 768240 w 767880"/>
              <a:gd name="textAreaTop" fmla="*/ 0 h 594360"/>
              <a:gd name="textAreaBottom" fmla="*/ 594720 h 594360"/>
            </a:gdLst>
            <a:ahLst/>
            <a:rect l="textAreaLeft" t="textAreaTop" r="textAreaRight" b="textAreaBottom"/>
            <a:pathLst>
              <a:path w="768171" h="594733">
                <a:moveTo>
                  <a:pt x="380650" y="0"/>
                </a:moveTo>
                <a:lnTo>
                  <a:pt x="386064" y="7873"/>
                </a:lnTo>
                <a:lnTo>
                  <a:pt x="479739" y="144080"/>
                </a:lnTo>
                <a:lnTo>
                  <a:pt x="530801" y="223861"/>
                </a:lnTo>
                <a:lnTo>
                  <a:pt x="758406" y="579475"/>
                </a:lnTo>
                <a:lnTo>
                  <a:pt x="768171" y="594733"/>
                </a:lnTo>
                <a:lnTo>
                  <a:pt x="0" y="594733"/>
                </a:lnTo>
                <a:lnTo>
                  <a:pt x="6654" y="584336"/>
                </a:lnTo>
                <a:close/>
              </a:path>
            </a:pathLst>
          </a:custGeom>
          <a:solidFill>
            <a:srgbClr val="e49b35">
              <a:alpha val="36000"/>
            </a:srgbClr>
          </a:solidFill>
          <a:ln>
            <a:solidFill>
              <a:srgbClr val="ebd3a2"/>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36" name="任意多边形 528"/>
          <p:cNvSpPr/>
          <p:nvPr/>
        </p:nvSpPr>
        <p:spPr>
          <a:xfrm flipV="1">
            <a:off x="10576080" y="1589400"/>
            <a:ext cx="767880" cy="594360"/>
          </a:xfrm>
          <a:custGeom>
            <a:avLst/>
            <a:gdLst>
              <a:gd name="textAreaLeft" fmla="*/ 0 w 767880"/>
              <a:gd name="textAreaRight" fmla="*/ 768240 w 767880"/>
              <a:gd name="textAreaTop" fmla="*/ -360 h 594360"/>
              <a:gd name="textAreaBottom" fmla="*/ 594360 h 594360"/>
            </a:gdLst>
            <a:ahLst/>
            <a:rect l="textAreaLeft" t="textAreaTop" r="textAreaRight" b="textAreaBottom"/>
            <a:pathLst>
              <a:path w="768171" h="594733">
                <a:moveTo>
                  <a:pt x="380650" y="0"/>
                </a:moveTo>
                <a:lnTo>
                  <a:pt x="386064" y="7873"/>
                </a:lnTo>
                <a:lnTo>
                  <a:pt x="479739" y="144080"/>
                </a:lnTo>
                <a:lnTo>
                  <a:pt x="530801" y="223861"/>
                </a:lnTo>
                <a:lnTo>
                  <a:pt x="758406" y="579475"/>
                </a:lnTo>
                <a:lnTo>
                  <a:pt x="768171" y="594733"/>
                </a:lnTo>
                <a:lnTo>
                  <a:pt x="0" y="594733"/>
                </a:lnTo>
                <a:lnTo>
                  <a:pt x="6654" y="584336"/>
                </a:lnTo>
                <a:close/>
              </a:path>
            </a:pathLst>
          </a:custGeom>
          <a:solidFill>
            <a:srgbClr val="88a378">
              <a:alpha val="53000"/>
            </a:srgbClr>
          </a:solidFill>
          <a:ln>
            <a:solidFill>
              <a:srgbClr val="b3c4a5">
                <a:alpha val="53000"/>
              </a:srgbClr>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37" name="任意多边形 50"/>
          <p:cNvSpPr/>
          <p:nvPr/>
        </p:nvSpPr>
        <p:spPr>
          <a:xfrm>
            <a:off x="2444760" y="4491720"/>
            <a:ext cx="1946160" cy="2415960"/>
          </a:xfrm>
          <a:custGeom>
            <a:avLst/>
            <a:gdLst>
              <a:gd name="textAreaLeft" fmla="*/ 0 w 1946160"/>
              <a:gd name="textAreaRight" fmla="*/ 1946520 w 1946160"/>
              <a:gd name="textAreaTop" fmla="*/ 0 h 2415960"/>
              <a:gd name="textAreaBottom" fmla="*/ 2416320 h 2415960"/>
            </a:gdLst>
            <a:ahLst/>
            <a:rect l="textAreaLeft" t="textAreaTop" r="textAreaRight" b="textAreaBottom"/>
            <a:pathLst>
              <a:path w="1946374" h="2416275">
                <a:moveTo>
                  <a:pt x="1555213" y="0"/>
                </a:moveTo>
                <a:lnTo>
                  <a:pt x="1577398" y="15258"/>
                </a:lnTo>
                <a:lnTo>
                  <a:pt x="1805003" y="370872"/>
                </a:lnTo>
                <a:lnTo>
                  <a:pt x="1802419" y="372649"/>
                </a:lnTo>
                <a:lnTo>
                  <a:pt x="1856065" y="450653"/>
                </a:lnTo>
                <a:lnTo>
                  <a:pt x="1946374" y="591754"/>
                </a:lnTo>
                <a:lnTo>
                  <a:pt x="691584" y="2416275"/>
                </a:lnTo>
                <a:lnTo>
                  <a:pt x="106548" y="2416275"/>
                </a:lnTo>
                <a:lnTo>
                  <a:pt x="0" y="2261349"/>
                </a:lnTo>
                <a:lnTo>
                  <a:pt x="1555213" y="0"/>
                </a:lnTo>
                <a:close/>
              </a:path>
            </a:pathLst>
          </a:custGeom>
          <a:solidFill>
            <a:srgbClr val="a2b894">
              <a:alpha val="25000"/>
            </a:srgbClr>
          </a:solidFill>
          <a:ln>
            <a:solidFill>
              <a:srgbClr val="e0e6d3"/>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38" name="任意多边形 49"/>
          <p:cNvSpPr/>
          <p:nvPr/>
        </p:nvSpPr>
        <p:spPr>
          <a:xfrm>
            <a:off x="4399920" y="4491720"/>
            <a:ext cx="2050560" cy="2415960"/>
          </a:xfrm>
          <a:custGeom>
            <a:avLst/>
            <a:gdLst>
              <a:gd name="textAreaLeft" fmla="*/ 0 w 2050560"/>
              <a:gd name="textAreaRight" fmla="*/ 2050920 w 2050560"/>
              <a:gd name="textAreaTop" fmla="*/ 0 h 2415960"/>
              <a:gd name="textAreaBottom" fmla="*/ 2416320 h 2415960"/>
            </a:gdLst>
            <a:ahLst/>
            <a:rect l="textAreaLeft" t="textAreaTop" r="textAreaRight" b="textAreaBottom"/>
            <a:pathLst>
              <a:path w="2050873" h="2416274">
                <a:moveTo>
                  <a:pt x="389113" y="0"/>
                </a:moveTo>
                <a:lnTo>
                  <a:pt x="2050873" y="2416274"/>
                </a:lnTo>
                <a:lnTo>
                  <a:pt x="1252741" y="2416274"/>
                </a:lnTo>
                <a:lnTo>
                  <a:pt x="0" y="594733"/>
                </a:lnTo>
                <a:lnTo>
                  <a:pt x="373996" y="10397"/>
                </a:lnTo>
                <a:lnTo>
                  <a:pt x="389113" y="0"/>
                </a:lnTo>
                <a:close/>
              </a:path>
            </a:pathLst>
          </a:custGeom>
          <a:solidFill>
            <a:srgbClr val="a2b894">
              <a:alpha val="25000"/>
            </a:srgbClr>
          </a:solidFill>
          <a:ln>
            <a:solidFill>
              <a:srgbClr val="e0e6d3"/>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39" name="任意多边形 48"/>
          <p:cNvSpPr/>
          <p:nvPr/>
        </p:nvSpPr>
        <p:spPr>
          <a:xfrm>
            <a:off x="2344680" y="6762240"/>
            <a:ext cx="200160" cy="145440"/>
          </a:xfrm>
          <a:custGeom>
            <a:avLst/>
            <a:gdLst>
              <a:gd name="textAreaLeft" fmla="*/ 0 w 200160"/>
              <a:gd name="textAreaRight" fmla="*/ 200520 w 200160"/>
              <a:gd name="textAreaTop" fmla="*/ 0 h 145440"/>
              <a:gd name="textAreaBottom" fmla="*/ 145800 h 145440"/>
            </a:gdLst>
            <a:ahLst/>
            <a:rect l="textAreaLeft" t="textAreaTop" r="textAreaRight" b="textAreaBottom"/>
            <a:pathLst>
              <a:path w="200534" h="145793">
                <a:moveTo>
                  <a:pt x="100267" y="0"/>
                </a:moveTo>
                <a:lnTo>
                  <a:pt x="200534" y="145793"/>
                </a:lnTo>
                <a:lnTo>
                  <a:pt x="0" y="145793"/>
                </a:lnTo>
                <a:lnTo>
                  <a:pt x="100267" y="0"/>
                </a:lnTo>
                <a:close/>
              </a:path>
            </a:pathLst>
          </a:custGeom>
          <a:solidFill>
            <a:srgbClr val="a2b894">
              <a:alpha val="25000"/>
            </a:srgbClr>
          </a:solidFill>
          <a:ln>
            <a:solidFill>
              <a:srgbClr val="e0e6d3"/>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40" name="任意多边形 61"/>
          <p:cNvSpPr/>
          <p:nvPr/>
        </p:nvSpPr>
        <p:spPr>
          <a:xfrm>
            <a:off x="-35280" y="4818240"/>
            <a:ext cx="1016640" cy="2052000"/>
          </a:xfrm>
          <a:custGeom>
            <a:avLst/>
            <a:gdLst>
              <a:gd name="textAreaLeft" fmla="*/ 0 w 1016640"/>
              <a:gd name="textAreaRight" fmla="*/ 1017000 w 1016640"/>
              <a:gd name="textAreaTop" fmla="*/ 0 h 2052000"/>
              <a:gd name="textAreaBottom" fmla="*/ 2052360 h 2052000"/>
            </a:gdLst>
            <a:ahLst/>
            <a:rect l="textAreaLeft" t="textAreaTop" r="textAreaRight" b="textAreaBottom"/>
            <a:pathLst>
              <a:path w="1017046" h="2052322">
                <a:moveTo>
                  <a:pt x="0" y="0"/>
                </a:moveTo>
                <a:lnTo>
                  <a:pt x="1017046" y="1478830"/>
                </a:lnTo>
                <a:lnTo>
                  <a:pt x="613325" y="2052322"/>
                </a:lnTo>
                <a:lnTo>
                  <a:pt x="0" y="1160520"/>
                </a:lnTo>
                <a:lnTo>
                  <a:pt x="0" y="0"/>
                </a:lnTo>
                <a:close/>
              </a:path>
            </a:pathLst>
          </a:custGeom>
          <a:solidFill>
            <a:srgbClr val="508799">
              <a:alpha val="25000"/>
            </a:srgbClr>
          </a:solidFill>
          <a:ln>
            <a:solidFill>
              <a:srgbClr val="c3d4c3"/>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41" name="任意多边形 811"/>
          <p:cNvSpPr/>
          <p:nvPr/>
        </p:nvSpPr>
        <p:spPr>
          <a:xfrm flipV="1">
            <a:off x="4397400" y="5881680"/>
            <a:ext cx="1088280" cy="1013760"/>
          </a:xfrm>
          <a:custGeom>
            <a:avLst/>
            <a:gdLst>
              <a:gd name="textAreaLeft" fmla="*/ 0 w 1088280"/>
              <a:gd name="textAreaRight" fmla="*/ 1088640 w 1088280"/>
              <a:gd name="textAreaTop" fmla="*/ 360 h 1013760"/>
              <a:gd name="textAreaBottom" fmla="*/ 1014480 h 1013760"/>
            </a:gdLst>
            <a:ahLst/>
            <a:rect l="textAreaLeft" t="textAreaTop" r="textAreaRight" b="textAreaBottom"/>
            <a:pathLst>
              <a:path w="1088729" h="1014296">
                <a:moveTo>
                  <a:pt x="391161" y="1014296"/>
                </a:moveTo>
                <a:lnTo>
                  <a:pt x="1088729" y="0"/>
                </a:lnTo>
                <a:lnTo>
                  <a:pt x="290598" y="0"/>
                </a:lnTo>
                <a:lnTo>
                  <a:pt x="0" y="422542"/>
                </a:lnTo>
                <a:lnTo>
                  <a:pt x="90309" y="563643"/>
                </a:lnTo>
                <a:lnTo>
                  <a:pt x="143955" y="641647"/>
                </a:lnTo>
                <a:lnTo>
                  <a:pt x="141371" y="643424"/>
                </a:lnTo>
                <a:lnTo>
                  <a:pt x="368976" y="999038"/>
                </a:lnTo>
                <a:lnTo>
                  <a:pt x="391161" y="1014296"/>
                </a:lnTo>
                <a:close/>
              </a:path>
            </a:pathLst>
          </a:custGeom>
          <a:solidFill>
            <a:srgbClr val="d57053">
              <a:alpha val="25000"/>
            </a:srgbClr>
          </a:solidFill>
          <a:ln>
            <a:solidFill>
              <a:srgbClr val="ead3bf"/>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42" name="任意多边形 637"/>
          <p:cNvSpPr/>
          <p:nvPr/>
        </p:nvSpPr>
        <p:spPr>
          <a:xfrm flipV="1">
            <a:off x="4007880" y="5880960"/>
            <a:ext cx="767880" cy="594360"/>
          </a:xfrm>
          <a:custGeom>
            <a:avLst/>
            <a:gdLst>
              <a:gd name="textAreaLeft" fmla="*/ 0 w 767880"/>
              <a:gd name="textAreaRight" fmla="*/ 768240 w 767880"/>
              <a:gd name="textAreaTop" fmla="*/ -360 h 594360"/>
              <a:gd name="textAreaBottom" fmla="*/ 594360 h 594360"/>
            </a:gdLst>
            <a:ahLst/>
            <a:rect l="textAreaLeft" t="textAreaTop" r="textAreaRight" b="textAreaBottom"/>
            <a:pathLst>
              <a:path w="768171" h="594733">
                <a:moveTo>
                  <a:pt x="380650" y="0"/>
                </a:moveTo>
                <a:lnTo>
                  <a:pt x="386064" y="7873"/>
                </a:lnTo>
                <a:lnTo>
                  <a:pt x="479739" y="144080"/>
                </a:lnTo>
                <a:lnTo>
                  <a:pt x="530801" y="223861"/>
                </a:lnTo>
                <a:lnTo>
                  <a:pt x="758406" y="579475"/>
                </a:lnTo>
                <a:lnTo>
                  <a:pt x="768171" y="594733"/>
                </a:lnTo>
                <a:lnTo>
                  <a:pt x="0" y="594733"/>
                </a:lnTo>
                <a:lnTo>
                  <a:pt x="6654" y="584336"/>
                </a:lnTo>
                <a:close/>
              </a:path>
            </a:pathLst>
          </a:custGeom>
          <a:solidFill>
            <a:srgbClr val="d57053">
              <a:alpha val="35000"/>
            </a:srgbClr>
          </a:solidFill>
          <a:ln>
            <a:solidFill>
              <a:srgbClr val="e6c6b1"/>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43" name="任意多边形 660"/>
          <p:cNvSpPr/>
          <p:nvPr/>
        </p:nvSpPr>
        <p:spPr>
          <a:xfrm flipV="1">
            <a:off x="10822680" y="5494680"/>
            <a:ext cx="767880" cy="594360"/>
          </a:xfrm>
          <a:custGeom>
            <a:avLst/>
            <a:gdLst>
              <a:gd name="textAreaLeft" fmla="*/ 0 w 767880"/>
              <a:gd name="textAreaRight" fmla="*/ 768240 w 767880"/>
              <a:gd name="textAreaTop" fmla="*/ -360 h 594360"/>
              <a:gd name="textAreaBottom" fmla="*/ 594360 h 594360"/>
            </a:gdLst>
            <a:ahLst/>
            <a:rect l="textAreaLeft" t="textAreaTop" r="textAreaRight" b="textAreaBottom"/>
            <a:pathLst>
              <a:path w="768171" h="594733">
                <a:moveTo>
                  <a:pt x="380650" y="0"/>
                </a:moveTo>
                <a:lnTo>
                  <a:pt x="386064" y="7873"/>
                </a:lnTo>
                <a:lnTo>
                  <a:pt x="479739" y="144080"/>
                </a:lnTo>
                <a:lnTo>
                  <a:pt x="530801" y="223861"/>
                </a:lnTo>
                <a:lnTo>
                  <a:pt x="758406" y="579475"/>
                </a:lnTo>
                <a:lnTo>
                  <a:pt x="768171" y="594733"/>
                </a:lnTo>
                <a:lnTo>
                  <a:pt x="0" y="594733"/>
                </a:lnTo>
                <a:lnTo>
                  <a:pt x="6654" y="584336"/>
                </a:lnTo>
                <a:close/>
              </a:path>
            </a:pathLst>
          </a:custGeom>
          <a:solidFill>
            <a:srgbClr val="508799">
              <a:alpha val="35000"/>
            </a:srgbClr>
          </a:solidFill>
          <a:ln>
            <a:solidFill>
              <a:srgbClr val="b5cac1"/>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44" name="任意多边形 665"/>
          <p:cNvSpPr/>
          <p:nvPr/>
        </p:nvSpPr>
        <p:spPr>
          <a:xfrm>
            <a:off x="9861840" y="5495400"/>
            <a:ext cx="1341000" cy="1384200"/>
          </a:xfrm>
          <a:custGeom>
            <a:avLst/>
            <a:gdLst>
              <a:gd name="textAreaLeft" fmla="*/ 0 w 1341000"/>
              <a:gd name="textAreaRight" fmla="*/ 1341360 w 1341000"/>
              <a:gd name="textAreaTop" fmla="*/ 0 h 1384200"/>
              <a:gd name="textAreaBottom" fmla="*/ 1384560 h 1384200"/>
            </a:gdLst>
            <a:ahLst/>
            <a:rect l="textAreaLeft" t="textAreaTop" r="textAreaRight" b="textAreaBottom"/>
            <a:pathLst>
              <a:path w="1341240" h="1384436">
                <a:moveTo>
                  <a:pt x="952127" y="0"/>
                </a:moveTo>
                <a:lnTo>
                  <a:pt x="967244" y="10397"/>
                </a:lnTo>
                <a:lnTo>
                  <a:pt x="1341240" y="594733"/>
                </a:lnTo>
                <a:lnTo>
                  <a:pt x="798132" y="1384436"/>
                </a:lnTo>
                <a:lnTo>
                  <a:pt x="0" y="1384436"/>
                </a:lnTo>
                <a:lnTo>
                  <a:pt x="952127" y="0"/>
                </a:lnTo>
                <a:close/>
              </a:path>
            </a:pathLst>
          </a:custGeom>
          <a:solidFill>
            <a:srgbClr val="508799">
              <a:alpha val="25000"/>
            </a:srgbClr>
          </a:solidFill>
          <a:ln>
            <a:solidFill>
              <a:srgbClr val="c4d5c6"/>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45" name="任意多边形 709"/>
          <p:cNvSpPr/>
          <p:nvPr/>
        </p:nvSpPr>
        <p:spPr>
          <a:xfrm>
            <a:off x="11211840" y="5495400"/>
            <a:ext cx="979560" cy="1384200"/>
          </a:xfrm>
          <a:custGeom>
            <a:avLst/>
            <a:gdLst>
              <a:gd name="textAreaLeft" fmla="*/ 0 w 979560"/>
              <a:gd name="textAreaRight" fmla="*/ 979920 w 979560"/>
              <a:gd name="textAreaTop" fmla="*/ 0 h 1384200"/>
              <a:gd name="textAreaBottom" fmla="*/ 1384560 h 1384200"/>
            </a:gdLst>
            <a:ahLst/>
            <a:rect l="textAreaLeft" t="textAreaTop" r="textAreaRight" b="textAreaBottom"/>
            <a:pathLst>
              <a:path w="980063" h="1384436">
                <a:moveTo>
                  <a:pt x="391161" y="0"/>
                </a:moveTo>
                <a:lnTo>
                  <a:pt x="980063" y="856291"/>
                </a:lnTo>
                <a:lnTo>
                  <a:pt x="980063" y="1384436"/>
                </a:lnTo>
                <a:lnTo>
                  <a:pt x="545157" y="1384436"/>
                </a:lnTo>
                <a:lnTo>
                  <a:pt x="0" y="591754"/>
                </a:lnTo>
                <a:lnTo>
                  <a:pt x="90309" y="450653"/>
                </a:lnTo>
                <a:lnTo>
                  <a:pt x="143955" y="372649"/>
                </a:lnTo>
                <a:lnTo>
                  <a:pt x="141371" y="370872"/>
                </a:lnTo>
                <a:lnTo>
                  <a:pt x="368976" y="15258"/>
                </a:lnTo>
                <a:lnTo>
                  <a:pt x="391161" y="0"/>
                </a:lnTo>
                <a:close/>
              </a:path>
            </a:pathLst>
          </a:custGeom>
          <a:solidFill>
            <a:srgbClr val="508799">
              <a:alpha val="25000"/>
            </a:srgbClr>
          </a:solidFill>
          <a:ln>
            <a:solidFill>
              <a:srgbClr val="bfd1bd"/>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46" name="任意多边形 670"/>
          <p:cNvSpPr/>
          <p:nvPr/>
        </p:nvSpPr>
        <p:spPr>
          <a:xfrm flipV="1">
            <a:off x="9195840" y="5502600"/>
            <a:ext cx="767880" cy="594360"/>
          </a:xfrm>
          <a:custGeom>
            <a:avLst/>
            <a:gdLst>
              <a:gd name="textAreaLeft" fmla="*/ 0 w 767880"/>
              <a:gd name="textAreaRight" fmla="*/ 768240 w 767880"/>
              <a:gd name="textAreaTop" fmla="*/ -360 h 594360"/>
              <a:gd name="textAreaBottom" fmla="*/ 594360 h 594360"/>
            </a:gdLst>
            <a:ahLst/>
            <a:rect l="textAreaLeft" t="textAreaTop" r="textAreaRight" b="textAreaBottom"/>
            <a:pathLst>
              <a:path w="768171" h="594733">
                <a:moveTo>
                  <a:pt x="380650" y="0"/>
                </a:moveTo>
                <a:lnTo>
                  <a:pt x="386064" y="7873"/>
                </a:lnTo>
                <a:lnTo>
                  <a:pt x="479739" y="144080"/>
                </a:lnTo>
                <a:lnTo>
                  <a:pt x="530801" y="223861"/>
                </a:lnTo>
                <a:lnTo>
                  <a:pt x="758406" y="579475"/>
                </a:lnTo>
                <a:lnTo>
                  <a:pt x="768171" y="594733"/>
                </a:lnTo>
                <a:lnTo>
                  <a:pt x="0" y="594733"/>
                </a:lnTo>
                <a:lnTo>
                  <a:pt x="6654" y="584336"/>
                </a:lnTo>
                <a:close/>
              </a:path>
            </a:pathLst>
          </a:custGeom>
          <a:solidFill>
            <a:srgbClr val="e49b35">
              <a:alpha val="35000"/>
            </a:srgbClr>
          </a:solidFill>
          <a:ln>
            <a:solidFill>
              <a:srgbClr val="ebd3a3"/>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47" name="任意多边形 75"/>
          <p:cNvSpPr/>
          <p:nvPr/>
        </p:nvSpPr>
        <p:spPr>
          <a:xfrm>
            <a:off x="8220960" y="5503320"/>
            <a:ext cx="1355040" cy="1404360"/>
          </a:xfrm>
          <a:custGeom>
            <a:avLst/>
            <a:gdLst>
              <a:gd name="textAreaLeft" fmla="*/ 0 w 1355040"/>
              <a:gd name="textAreaRight" fmla="*/ 1355400 w 1355040"/>
              <a:gd name="textAreaTop" fmla="*/ 0 h 1404360"/>
              <a:gd name="textAreaBottom" fmla="*/ 1404720 h 1404360"/>
            </a:gdLst>
            <a:ahLst/>
            <a:rect l="textAreaLeft" t="textAreaTop" r="textAreaRight" b="textAreaBottom"/>
            <a:pathLst>
              <a:path w="1355248" h="1404805">
                <a:moveTo>
                  <a:pt x="966135" y="0"/>
                </a:moveTo>
                <a:lnTo>
                  <a:pt x="981252" y="10397"/>
                </a:lnTo>
                <a:lnTo>
                  <a:pt x="1355248" y="594733"/>
                </a:lnTo>
                <a:lnTo>
                  <a:pt x="798132" y="1404805"/>
                </a:lnTo>
                <a:lnTo>
                  <a:pt x="0" y="1404805"/>
                </a:lnTo>
                <a:lnTo>
                  <a:pt x="966135" y="0"/>
                </a:lnTo>
                <a:close/>
              </a:path>
            </a:pathLst>
          </a:custGeom>
          <a:solidFill>
            <a:srgbClr val="e49b35">
              <a:alpha val="25000"/>
            </a:srgbClr>
          </a:solidFill>
          <a:ln>
            <a:solidFill>
              <a:srgbClr val="ebdcb0"/>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48" name="任意多边形 80"/>
          <p:cNvSpPr/>
          <p:nvPr/>
        </p:nvSpPr>
        <p:spPr>
          <a:xfrm>
            <a:off x="9585000" y="5503320"/>
            <a:ext cx="1351800" cy="1397160"/>
          </a:xfrm>
          <a:custGeom>
            <a:avLst/>
            <a:gdLst>
              <a:gd name="textAreaLeft" fmla="*/ 0 w 1351800"/>
              <a:gd name="textAreaRight" fmla="*/ 1352160 w 1351800"/>
              <a:gd name="textAreaTop" fmla="*/ 0 h 1397160"/>
              <a:gd name="textAreaBottom" fmla="*/ 1397520 h 1397160"/>
            </a:gdLst>
            <a:ahLst/>
            <a:rect l="textAreaLeft" t="textAreaTop" r="textAreaRight" b="textAreaBottom"/>
            <a:pathLst>
              <a:path w="1352191" h="1397381">
                <a:moveTo>
                  <a:pt x="391161" y="0"/>
                </a:moveTo>
                <a:lnTo>
                  <a:pt x="1352191" y="1397381"/>
                </a:lnTo>
                <a:lnTo>
                  <a:pt x="554059" y="1397381"/>
                </a:lnTo>
                <a:lnTo>
                  <a:pt x="0" y="591754"/>
                </a:lnTo>
                <a:lnTo>
                  <a:pt x="90309" y="450653"/>
                </a:lnTo>
                <a:lnTo>
                  <a:pt x="143955" y="372649"/>
                </a:lnTo>
                <a:lnTo>
                  <a:pt x="141371" y="370872"/>
                </a:lnTo>
                <a:lnTo>
                  <a:pt x="368976" y="15258"/>
                </a:lnTo>
                <a:lnTo>
                  <a:pt x="391161" y="0"/>
                </a:lnTo>
                <a:close/>
              </a:path>
            </a:pathLst>
          </a:custGeom>
          <a:solidFill>
            <a:srgbClr val="e49b35">
              <a:alpha val="25000"/>
            </a:srgbClr>
          </a:solidFill>
          <a:ln>
            <a:solidFill>
              <a:srgbClr val="ebdcb2"/>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49" name="任意多边形 788"/>
          <p:cNvSpPr/>
          <p:nvPr/>
        </p:nvSpPr>
        <p:spPr>
          <a:xfrm flipV="1">
            <a:off x="3302640" y="5881680"/>
            <a:ext cx="1086480" cy="1013760"/>
          </a:xfrm>
          <a:custGeom>
            <a:avLst/>
            <a:gdLst>
              <a:gd name="textAreaLeft" fmla="*/ 0 w 1086480"/>
              <a:gd name="textAreaRight" fmla="*/ 1086840 w 1086480"/>
              <a:gd name="textAreaTop" fmla="*/ 360 h 1013760"/>
              <a:gd name="textAreaBottom" fmla="*/ 1014480 h 1013760"/>
            </a:gdLst>
            <a:ahLst/>
            <a:rect l="textAreaLeft" t="textAreaTop" r="textAreaRight" b="textAreaBottom"/>
            <a:pathLst>
              <a:path w="1086681" h="1014296">
                <a:moveTo>
                  <a:pt x="697568" y="1014296"/>
                </a:moveTo>
                <a:lnTo>
                  <a:pt x="712685" y="1003899"/>
                </a:lnTo>
                <a:lnTo>
                  <a:pt x="1086681" y="419563"/>
                </a:lnTo>
                <a:lnTo>
                  <a:pt x="798132" y="0"/>
                </a:lnTo>
                <a:lnTo>
                  <a:pt x="0" y="0"/>
                </a:lnTo>
                <a:lnTo>
                  <a:pt x="697568" y="1014296"/>
                </a:lnTo>
                <a:close/>
              </a:path>
            </a:pathLst>
          </a:custGeom>
          <a:solidFill>
            <a:srgbClr val="d57053">
              <a:alpha val="25000"/>
            </a:srgbClr>
          </a:solidFill>
          <a:ln>
            <a:solidFill>
              <a:srgbClr val="ead3bf"/>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50" name="任意多边形 686"/>
          <p:cNvSpPr/>
          <p:nvPr/>
        </p:nvSpPr>
        <p:spPr>
          <a:xfrm>
            <a:off x="8185320" y="0"/>
            <a:ext cx="2770920" cy="3463560"/>
          </a:xfrm>
          <a:custGeom>
            <a:avLst/>
            <a:gdLst>
              <a:gd name="textAreaLeft" fmla="*/ 0 w 2770920"/>
              <a:gd name="textAreaRight" fmla="*/ 2771280 w 2770920"/>
              <a:gd name="textAreaTop" fmla="*/ 0 h 3463560"/>
              <a:gd name="textAreaBottom" fmla="*/ 3463920 h 3463560"/>
            </a:gdLst>
            <a:ahLst/>
            <a:rect l="textAreaLeft" t="textAreaTop" r="textAreaRight" b="textAreaBottom"/>
            <a:pathLst>
              <a:path w="2771399" h="3463952">
                <a:moveTo>
                  <a:pt x="0" y="0"/>
                </a:moveTo>
                <a:lnTo>
                  <a:pt x="798131" y="0"/>
                </a:lnTo>
                <a:lnTo>
                  <a:pt x="2771399" y="2869219"/>
                </a:lnTo>
                <a:lnTo>
                  <a:pt x="2397403" y="3453555"/>
                </a:lnTo>
                <a:lnTo>
                  <a:pt x="2382286" y="3463952"/>
                </a:lnTo>
                <a:lnTo>
                  <a:pt x="0" y="0"/>
                </a:lnTo>
                <a:close/>
              </a:path>
            </a:pathLst>
          </a:custGeom>
          <a:solidFill>
            <a:srgbClr val="d57053">
              <a:alpha val="30000"/>
            </a:srgbClr>
          </a:solidFill>
          <a:ln>
            <a:solidFill>
              <a:srgbClr val="eacebc"/>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51" name="任意多边形 824"/>
          <p:cNvSpPr/>
          <p:nvPr/>
        </p:nvSpPr>
        <p:spPr>
          <a:xfrm flipH="1" flipV="1">
            <a:off x="6913080" y="1590120"/>
            <a:ext cx="4043520" cy="5305680"/>
          </a:xfrm>
          <a:custGeom>
            <a:avLst/>
            <a:gdLst>
              <a:gd name="textAreaLeft" fmla="*/ 360 w 4043520"/>
              <a:gd name="textAreaRight" fmla="*/ 4044240 w 4043520"/>
              <a:gd name="textAreaTop" fmla="*/ 360 h 5305680"/>
              <a:gd name="textAreaBottom" fmla="*/ 5306400 h 5305680"/>
            </a:gdLst>
            <a:ahLst/>
            <a:rect l="textAreaLeft" t="textAreaTop" r="textAreaRight" b="textAreaBottom"/>
            <a:pathLst>
              <a:path w="4043737" h="5305892">
                <a:moveTo>
                  <a:pt x="389113" y="5305892"/>
                </a:moveTo>
                <a:lnTo>
                  <a:pt x="373996" y="5295495"/>
                </a:lnTo>
                <a:lnTo>
                  <a:pt x="0" y="4711159"/>
                </a:lnTo>
                <a:lnTo>
                  <a:pt x="2281471" y="1393799"/>
                </a:lnTo>
                <a:lnTo>
                  <a:pt x="2285250" y="1396398"/>
                </a:lnTo>
                <a:lnTo>
                  <a:pt x="3245605" y="0"/>
                </a:lnTo>
                <a:lnTo>
                  <a:pt x="4043737" y="0"/>
                </a:lnTo>
                <a:lnTo>
                  <a:pt x="1810872" y="3246685"/>
                </a:lnTo>
                <a:lnTo>
                  <a:pt x="1807092" y="3244086"/>
                </a:lnTo>
                <a:lnTo>
                  <a:pt x="389113" y="5305892"/>
                </a:lnTo>
                <a:close/>
              </a:path>
            </a:pathLst>
          </a:custGeom>
          <a:solidFill>
            <a:srgbClr val="88a378">
              <a:alpha val="30000"/>
            </a:srgbClr>
          </a:solidFill>
          <a:ln>
            <a:solidFill>
              <a:srgbClr val="d3dcc5">
                <a:alpha val="30000"/>
              </a:srgbClr>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52" name="任意多边形 817"/>
          <p:cNvSpPr/>
          <p:nvPr/>
        </p:nvSpPr>
        <p:spPr>
          <a:xfrm flipV="1">
            <a:off x="7083360" y="5123160"/>
            <a:ext cx="1609920" cy="1772640"/>
          </a:xfrm>
          <a:custGeom>
            <a:avLst/>
            <a:gdLst>
              <a:gd name="textAreaLeft" fmla="*/ 0 w 1609920"/>
              <a:gd name="textAreaRight" fmla="*/ 1610280 w 1609920"/>
              <a:gd name="textAreaTop" fmla="*/ 360 h 1772640"/>
              <a:gd name="textAreaBottom" fmla="*/ 1773360 h 1772640"/>
            </a:gdLst>
            <a:ahLst/>
            <a:rect l="textAreaLeft" t="textAreaTop" r="textAreaRight" b="textAreaBottom"/>
            <a:pathLst>
              <a:path w="1610447" h="1772896">
                <a:moveTo>
                  <a:pt x="391161" y="1772896"/>
                </a:moveTo>
                <a:lnTo>
                  <a:pt x="1610447" y="0"/>
                </a:lnTo>
                <a:lnTo>
                  <a:pt x="812315" y="0"/>
                </a:lnTo>
                <a:lnTo>
                  <a:pt x="0" y="1181142"/>
                </a:lnTo>
                <a:lnTo>
                  <a:pt x="90309" y="1322243"/>
                </a:lnTo>
                <a:lnTo>
                  <a:pt x="143955" y="1400247"/>
                </a:lnTo>
                <a:lnTo>
                  <a:pt x="141371" y="1402024"/>
                </a:lnTo>
                <a:lnTo>
                  <a:pt x="368976" y="1757638"/>
                </a:lnTo>
                <a:lnTo>
                  <a:pt x="391161" y="1772896"/>
                </a:lnTo>
                <a:close/>
              </a:path>
            </a:pathLst>
          </a:custGeom>
          <a:solidFill>
            <a:srgbClr val="ed6f65">
              <a:alpha val="25000"/>
            </a:srgbClr>
          </a:solidFill>
          <a:ln>
            <a:solidFill>
              <a:srgbClr val="f1dbcc"/>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53" name="任意多边形 54"/>
          <p:cNvSpPr/>
          <p:nvPr/>
        </p:nvSpPr>
        <p:spPr>
          <a:xfrm flipH="1" flipV="1">
            <a:off x="1561680" y="5458320"/>
            <a:ext cx="767880" cy="594360"/>
          </a:xfrm>
          <a:custGeom>
            <a:avLst/>
            <a:gdLst>
              <a:gd name="textAreaLeft" fmla="*/ -360 w 767880"/>
              <a:gd name="textAreaRight" fmla="*/ 767880 w 767880"/>
              <a:gd name="textAreaTop" fmla="*/ -360 h 594360"/>
              <a:gd name="textAreaBottom" fmla="*/ 594360 h 594360"/>
            </a:gdLst>
            <a:ahLst/>
            <a:rect l="textAreaLeft" t="textAreaTop" r="textAreaRight" b="textAreaBottom"/>
            <a:pathLst>
              <a:path w="768171" h="594733">
                <a:moveTo>
                  <a:pt x="380650" y="0"/>
                </a:moveTo>
                <a:lnTo>
                  <a:pt x="386064" y="7873"/>
                </a:lnTo>
                <a:lnTo>
                  <a:pt x="479739" y="144080"/>
                </a:lnTo>
                <a:lnTo>
                  <a:pt x="530801" y="223861"/>
                </a:lnTo>
                <a:lnTo>
                  <a:pt x="758406" y="579475"/>
                </a:lnTo>
                <a:lnTo>
                  <a:pt x="768171" y="594733"/>
                </a:lnTo>
                <a:lnTo>
                  <a:pt x="0" y="594733"/>
                </a:lnTo>
                <a:lnTo>
                  <a:pt x="6654" y="584336"/>
                </a:lnTo>
                <a:close/>
              </a:path>
            </a:pathLst>
          </a:custGeom>
          <a:solidFill>
            <a:srgbClr val="ed5249">
              <a:alpha val="35000"/>
            </a:srgbClr>
          </a:solidFill>
          <a:ln>
            <a:solidFill>
              <a:srgbClr val="efbbab"/>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54" name="任意多边形 35"/>
          <p:cNvSpPr/>
          <p:nvPr/>
        </p:nvSpPr>
        <p:spPr>
          <a:xfrm flipH="1" flipV="1">
            <a:off x="4007160" y="4473360"/>
            <a:ext cx="767880" cy="594360"/>
          </a:xfrm>
          <a:custGeom>
            <a:avLst/>
            <a:gdLst>
              <a:gd name="textAreaLeft" fmla="*/ -360 w 767880"/>
              <a:gd name="textAreaRight" fmla="*/ 767880 w 767880"/>
              <a:gd name="textAreaTop" fmla="*/ -360 h 594360"/>
              <a:gd name="textAreaBottom" fmla="*/ 594360 h 594360"/>
            </a:gdLst>
            <a:ahLst/>
            <a:rect l="textAreaLeft" t="textAreaTop" r="textAreaRight" b="textAreaBottom"/>
            <a:pathLst>
              <a:path w="768171" h="594733">
                <a:moveTo>
                  <a:pt x="380650" y="0"/>
                </a:moveTo>
                <a:lnTo>
                  <a:pt x="386064" y="7873"/>
                </a:lnTo>
                <a:lnTo>
                  <a:pt x="479739" y="144080"/>
                </a:lnTo>
                <a:lnTo>
                  <a:pt x="530801" y="223861"/>
                </a:lnTo>
                <a:lnTo>
                  <a:pt x="758406" y="579475"/>
                </a:lnTo>
                <a:lnTo>
                  <a:pt x="768171" y="594733"/>
                </a:lnTo>
                <a:lnTo>
                  <a:pt x="0" y="594733"/>
                </a:lnTo>
                <a:lnTo>
                  <a:pt x="6654" y="584336"/>
                </a:lnTo>
                <a:close/>
              </a:path>
            </a:pathLst>
          </a:custGeom>
          <a:solidFill>
            <a:srgbClr val="89a67a">
              <a:alpha val="35000"/>
            </a:srgbClr>
          </a:solidFill>
          <a:ln>
            <a:solidFill>
              <a:srgbClr val="cfdac2"/>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55" name="任意多边形 36"/>
          <p:cNvSpPr/>
          <p:nvPr/>
        </p:nvSpPr>
        <p:spPr>
          <a:xfrm flipV="1">
            <a:off x="6694200" y="5122440"/>
            <a:ext cx="767880" cy="594360"/>
          </a:xfrm>
          <a:custGeom>
            <a:avLst/>
            <a:gdLst>
              <a:gd name="textAreaLeft" fmla="*/ 0 w 767880"/>
              <a:gd name="textAreaRight" fmla="*/ 768240 w 767880"/>
              <a:gd name="textAreaTop" fmla="*/ -360 h 594360"/>
              <a:gd name="textAreaBottom" fmla="*/ 594360 h 594360"/>
            </a:gdLst>
            <a:ahLst/>
            <a:rect l="textAreaLeft" t="textAreaTop" r="textAreaRight" b="textAreaBottom"/>
            <a:pathLst>
              <a:path w="768171" h="594733">
                <a:moveTo>
                  <a:pt x="380650" y="0"/>
                </a:moveTo>
                <a:lnTo>
                  <a:pt x="386064" y="7873"/>
                </a:lnTo>
                <a:lnTo>
                  <a:pt x="479739" y="144080"/>
                </a:lnTo>
                <a:lnTo>
                  <a:pt x="530801" y="223861"/>
                </a:lnTo>
                <a:lnTo>
                  <a:pt x="758406" y="579475"/>
                </a:lnTo>
                <a:lnTo>
                  <a:pt x="768171" y="594733"/>
                </a:lnTo>
                <a:lnTo>
                  <a:pt x="0" y="594733"/>
                </a:lnTo>
                <a:lnTo>
                  <a:pt x="6654" y="584336"/>
                </a:lnTo>
                <a:close/>
              </a:path>
            </a:pathLst>
          </a:custGeom>
          <a:solidFill>
            <a:srgbClr val="ed6f65">
              <a:alpha val="35000"/>
            </a:srgbClr>
          </a:solidFill>
          <a:ln>
            <a:solidFill>
              <a:srgbClr val="f2c7ba"/>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cxnSp>
        <p:nvCxnSpPr>
          <p:cNvPr id="256" name="直接连接符 38"/>
          <p:cNvCxnSpPr/>
          <p:nvPr/>
        </p:nvCxnSpPr>
        <p:spPr>
          <a:xfrm>
            <a:off x="796320" y="776880"/>
            <a:ext cx="7897680" cy="360"/>
          </a:xfrm>
          <a:prstGeom prst="straightConnector1">
            <a:avLst/>
          </a:prstGeom>
          <a:ln>
            <a:solidFill>
              <a:srgbClr val="ffffff">
                <a:lumMod val="65000"/>
              </a:srgbClr>
            </a:solidFill>
          </a:ln>
        </p:spPr>
      </p:cxnSp>
      <p:sp>
        <p:nvSpPr>
          <p:cNvPr id="257" name="平行四边形 40"/>
          <p:cNvSpPr/>
          <p:nvPr/>
        </p:nvSpPr>
        <p:spPr>
          <a:xfrm>
            <a:off x="361440" y="316080"/>
            <a:ext cx="1038600" cy="478800"/>
          </a:xfrm>
          <a:prstGeom prst="parallelogram">
            <a:avLst>
              <a:gd name="adj" fmla="val 25000"/>
            </a:avLst>
          </a:prstGeom>
          <a:solidFill>
            <a:srgbClr val="34618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58" name="文本框 41"/>
          <p:cNvSpPr/>
          <p:nvPr/>
        </p:nvSpPr>
        <p:spPr>
          <a:xfrm>
            <a:off x="370800" y="294120"/>
            <a:ext cx="1020240" cy="51624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US" sz="2800" spc="-1" strike="noStrike">
                <a:solidFill>
                  <a:srgbClr val="ffffff"/>
                </a:solidFill>
                <a:latin typeface="微软雅黑"/>
                <a:ea typeface="微软雅黑"/>
              </a:rPr>
              <a:t>2</a:t>
            </a:r>
            <a:endParaRPr b="0" lang="en-US" sz="2800" spc="-1" strike="noStrike">
              <a:solidFill>
                <a:srgbClr val="000000"/>
              </a:solidFill>
              <a:latin typeface="Arial"/>
            </a:endParaRPr>
          </a:p>
        </p:txBody>
      </p:sp>
      <p:sp>
        <p:nvSpPr>
          <p:cNvPr id="259" name="矩形 44"/>
          <p:cNvSpPr/>
          <p:nvPr/>
        </p:nvSpPr>
        <p:spPr>
          <a:xfrm>
            <a:off x="2265120" y="344880"/>
            <a:ext cx="146124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346182"/>
                </a:solidFill>
                <a:latin typeface="微软雅黑"/>
                <a:ea typeface="微软雅黑"/>
              </a:rPr>
              <a:t>此处插入文本框</a:t>
            </a:r>
            <a:endParaRPr b="0" lang="en-US" sz="2400" spc="-1" strike="noStrike">
              <a:solidFill>
                <a:srgbClr val="000000"/>
              </a:solidFill>
              <a:latin typeface="Arial"/>
            </a:endParaRPr>
          </a:p>
        </p:txBody>
      </p:sp>
      <p:sp>
        <p:nvSpPr>
          <p:cNvPr id="260" name="任意多边形 56"/>
          <p:cNvSpPr/>
          <p:nvPr/>
        </p:nvSpPr>
        <p:spPr>
          <a:xfrm>
            <a:off x="3624120" y="2073240"/>
            <a:ext cx="2336400" cy="1601640"/>
          </a:xfrm>
          <a:custGeom>
            <a:avLst/>
            <a:gdLst>
              <a:gd name="textAreaLeft" fmla="*/ 0 w 2336400"/>
              <a:gd name="textAreaRight" fmla="*/ 2336760 w 2336400"/>
              <a:gd name="textAreaTop" fmla="*/ 0 h 1601640"/>
              <a:gd name="textAreaBottom" fmla="*/ 1602000 h 1601640"/>
            </a:gdLst>
            <a:ahLst/>
            <a:rect l="textAreaLeft" t="textAreaTop" r="textAreaRight" b="textAreaBottom"/>
            <a:pathLst>
              <a:path w="2336641" h="1601848">
                <a:moveTo>
                  <a:pt x="492296" y="0"/>
                </a:moveTo>
                <a:lnTo>
                  <a:pt x="1657485" y="0"/>
                </a:lnTo>
                <a:lnTo>
                  <a:pt x="1844345" y="0"/>
                </a:lnTo>
                <a:lnTo>
                  <a:pt x="2336641" y="0"/>
                </a:lnTo>
                <a:lnTo>
                  <a:pt x="2336641" y="340586"/>
                </a:lnTo>
                <a:lnTo>
                  <a:pt x="2336641" y="413428"/>
                </a:lnTo>
                <a:lnTo>
                  <a:pt x="2336641" y="492296"/>
                </a:lnTo>
                <a:lnTo>
                  <a:pt x="2336641" y="557721"/>
                </a:lnTo>
                <a:lnTo>
                  <a:pt x="2336641" y="1109552"/>
                </a:lnTo>
                <a:cubicBezTo>
                  <a:pt x="2336641" y="1381439"/>
                  <a:pt x="2116232" y="1601848"/>
                  <a:pt x="1844345" y="1601848"/>
                </a:cubicBezTo>
                <a:lnTo>
                  <a:pt x="679157" y="1601848"/>
                </a:lnTo>
                <a:lnTo>
                  <a:pt x="492296" y="1601848"/>
                </a:lnTo>
                <a:lnTo>
                  <a:pt x="0" y="1601848"/>
                </a:lnTo>
                <a:lnTo>
                  <a:pt x="0" y="1312171"/>
                </a:lnTo>
                <a:lnTo>
                  <a:pt x="0" y="1188420"/>
                </a:lnTo>
                <a:lnTo>
                  <a:pt x="0" y="1109552"/>
                </a:lnTo>
                <a:lnTo>
                  <a:pt x="0" y="1045713"/>
                </a:lnTo>
                <a:lnTo>
                  <a:pt x="0" y="492296"/>
                </a:lnTo>
                <a:cubicBezTo>
                  <a:pt x="0" y="220409"/>
                  <a:pt x="220409" y="0"/>
                  <a:pt x="492296" y="0"/>
                </a:cubicBezTo>
                <a:close/>
              </a:path>
            </a:pathLst>
          </a:custGeom>
          <a:solidFill>
            <a:srgbClr val="e49b35"/>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nvGrpSpPr>
          <p:cNvPr id="261" name="组合 57"/>
          <p:cNvGrpSpPr/>
          <p:nvPr/>
        </p:nvGrpSpPr>
        <p:grpSpPr>
          <a:xfrm>
            <a:off x="8685720" y="1922040"/>
            <a:ext cx="3403080" cy="1369440"/>
            <a:chOff x="8685720" y="1922040"/>
            <a:chExt cx="3403080" cy="1369440"/>
          </a:xfrm>
        </p:grpSpPr>
        <p:sp>
          <p:nvSpPr>
            <p:cNvPr id="262" name="文本框 58"/>
            <p:cNvSpPr/>
            <p:nvPr/>
          </p:nvSpPr>
          <p:spPr>
            <a:xfrm>
              <a:off x="8685720" y="2489040"/>
              <a:ext cx="3403080" cy="802440"/>
            </a:xfrm>
            <a:prstGeom prst="rect">
              <a:avLst/>
            </a:prstGeom>
            <a:noFill/>
            <a:ln w="0">
              <a:noFill/>
            </a:ln>
          </p:spPr>
          <p:style>
            <a:lnRef idx="0"/>
            <a:fillRef idx="0"/>
            <a:effectRef idx="0"/>
            <a:fontRef idx="minor"/>
          </p:style>
          <p:txBody>
            <a:bodyPr lIns="90000" rIns="90000" tIns="45000" bIns="45000" anchor="t">
              <a:spAutoFit/>
            </a:bodyPr>
            <a:p>
              <a:pPr>
                <a:lnSpc>
                  <a:spcPct val="130000"/>
                </a:lnSpc>
              </a:pPr>
              <a:r>
                <a:rPr b="0" lang="zh-CN" sz="1800" spc="-1" strike="noStrike">
                  <a:solidFill>
                    <a:srgbClr val="404040"/>
                  </a:solidFill>
                  <a:latin typeface="微软雅黑"/>
                  <a:ea typeface="微软雅黑"/>
                </a:rPr>
                <a:t>此处插入文本框此处插入文本框</a:t>
              </a:r>
              <a:endParaRPr b="0" lang="en-US" sz="1800" spc="-1" strike="noStrike">
                <a:solidFill>
                  <a:srgbClr val="000000"/>
                </a:solidFill>
                <a:latin typeface="Arial"/>
              </a:endParaRPr>
            </a:p>
            <a:p>
              <a:pPr>
                <a:lnSpc>
                  <a:spcPct val="130000"/>
                </a:lnSpc>
              </a:pPr>
              <a:r>
                <a:rPr b="0" lang="zh-CN" sz="1800" spc="-1" strike="noStrike">
                  <a:solidFill>
                    <a:srgbClr val="404040"/>
                  </a:solidFill>
                  <a:latin typeface="微软雅黑"/>
                  <a:ea typeface="微软雅黑"/>
                </a:rPr>
                <a:t>此处插入文本框</a:t>
              </a:r>
              <a:endParaRPr b="0" lang="en-US" sz="1800" spc="-1" strike="noStrike">
                <a:solidFill>
                  <a:srgbClr val="000000"/>
                </a:solidFill>
                <a:latin typeface="Arial"/>
              </a:endParaRPr>
            </a:p>
          </p:txBody>
        </p:sp>
        <p:sp>
          <p:nvSpPr>
            <p:cNvPr id="263" name="文本框 59"/>
            <p:cNvSpPr/>
            <p:nvPr/>
          </p:nvSpPr>
          <p:spPr>
            <a:xfrm>
              <a:off x="8704800" y="1922040"/>
              <a:ext cx="1217520" cy="564840"/>
            </a:xfrm>
            <a:prstGeom prst="rect">
              <a:avLst/>
            </a:prstGeom>
            <a:noFill/>
            <a:ln w="0">
              <a:noFill/>
            </a:ln>
          </p:spPr>
          <p:style>
            <a:lnRef idx="0"/>
            <a:fillRef idx="0"/>
            <a:effectRef idx="0"/>
            <a:fontRef idx="minor"/>
          </p:style>
          <p:txBody>
            <a:bodyPr lIns="90000" rIns="90000" tIns="45000" bIns="45000" anchor="t">
              <a:spAutoFit/>
            </a:bodyPr>
            <a:p>
              <a:pPr>
                <a:lnSpc>
                  <a:spcPct val="130000"/>
                </a:lnSpc>
              </a:pPr>
              <a:r>
                <a:rPr b="0" lang="zh-CN" sz="2400" spc="-1" strike="noStrike">
                  <a:solidFill>
                    <a:srgbClr val="ed6f65"/>
                  </a:solidFill>
                  <a:latin typeface="微软雅黑"/>
                  <a:ea typeface="微软雅黑"/>
                </a:rPr>
                <a:t>标题</a:t>
              </a:r>
              <a:endParaRPr b="0" lang="en-US" sz="2400" spc="-1" strike="noStrike">
                <a:solidFill>
                  <a:srgbClr val="000000"/>
                </a:solidFill>
                <a:latin typeface="Arial"/>
              </a:endParaRPr>
            </a:p>
          </p:txBody>
        </p:sp>
      </p:grpSp>
      <p:grpSp>
        <p:nvGrpSpPr>
          <p:cNvPr id="264" name="组合 60"/>
          <p:cNvGrpSpPr/>
          <p:nvPr/>
        </p:nvGrpSpPr>
        <p:grpSpPr>
          <a:xfrm>
            <a:off x="8716680" y="4175280"/>
            <a:ext cx="3403080" cy="1369440"/>
            <a:chOff x="8716680" y="4175280"/>
            <a:chExt cx="3403080" cy="1369440"/>
          </a:xfrm>
        </p:grpSpPr>
        <p:sp>
          <p:nvSpPr>
            <p:cNvPr id="265" name="文本框 62"/>
            <p:cNvSpPr/>
            <p:nvPr/>
          </p:nvSpPr>
          <p:spPr>
            <a:xfrm>
              <a:off x="8716680" y="4742280"/>
              <a:ext cx="3403080" cy="802440"/>
            </a:xfrm>
            <a:prstGeom prst="rect">
              <a:avLst/>
            </a:prstGeom>
            <a:noFill/>
            <a:ln w="0">
              <a:noFill/>
            </a:ln>
          </p:spPr>
          <p:style>
            <a:lnRef idx="0"/>
            <a:fillRef idx="0"/>
            <a:effectRef idx="0"/>
            <a:fontRef idx="minor"/>
          </p:style>
          <p:txBody>
            <a:bodyPr lIns="90000" rIns="90000" tIns="45000" bIns="45000" anchor="t">
              <a:spAutoFit/>
            </a:bodyPr>
            <a:p>
              <a:pPr>
                <a:lnSpc>
                  <a:spcPct val="130000"/>
                </a:lnSpc>
              </a:pPr>
              <a:r>
                <a:rPr b="0" lang="zh-CN" sz="1800" spc="-1" strike="noStrike">
                  <a:solidFill>
                    <a:srgbClr val="404040"/>
                  </a:solidFill>
                  <a:latin typeface="微软雅黑"/>
                  <a:ea typeface="微软雅黑"/>
                </a:rPr>
                <a:t>此处插入文本框此处插入文本框</a:t>
              </a:r>
              <a:endParaRPr b="0" lang="en-US" sz="1800" spc="-1" strike="noStrike">
                <a:solidFill>
                  <a:srgbClr val="000000"/>
                </a:solidFill>
                <a:latin typeface="Arial"/>
              </a:endParaRPr>
            </a:p>
            <a:p>
              <a:pPr>
                <a:lnSpc>
                  <a:spcPct val="130000"/>
                </a:lnSpc>
              </a:pPr>
              <a:r>
                <a:rPr b="0" lang="zh-CN" sz="1800" spc="-1" strike="noStrike">
                  <a:solidFill>
                    <a:srgbClr val="404040"/>
                  </a:solidFill>
                  <a:latin typeface="微软雅黑"/>
                  <a:ea typeface="微软雅黑"/>
                </a:rPr>
                <a:t>此处插入文本框</a:t>
              </a:r>
              <a:endParaRPr b="0" lang="en-US" sz="1800" spc="-1" strike="noStrike">
                <a:solidFill>
                  <a:srgbClr val="000000"/>
                </a:solidFill>
                <a:latin typeface="Arial"/>
              </a:endParaRPr>
            </a:p>
          </p:txBody>
        </p:sp>
        <p:sp>
          <p:nvSpPr>
            <p:cNvPr id="266" name="文本框 63"/>
            <p:cNvSpPr/>
            <p:nvPr/>
          </p:nvSpPr>
          <p:spPr>
            <a:xfrm>
              <a:off x="8735760" y="4175280"/>
              <a:ext cx="1217520" cy="564840"/>
            </a:xfrm>
            <a:prstGeom prst="rect">
              <a:avLst/>
            </a:prstGeom>
            <a:noFill/>
            <a:ln w="0">
              <a:noFill/>
            </a:ln>
          </p:spPr>
          <p:style>
            <a:lnRef idx="0"/>
            <a:fillRef idx="0"/>
            <a:effectRef idx="0"/>
            <a:fontRef idx="minor"/>
          </p:style>
          <p:txBody>
            <a:bodyPr lIns="90000" rIns="90000" tIns="45000" bIns="45000" anchor="t">
              <a:spAutoFit/>
            </a:bodyPr>
            <a:p>
              <a:pPr>
                <a:lnSpc>
                  <a:spcPct val="130000"/>
                </a:lnSpc>
              </a:pPr>
              <a:r>
                <a:rPr b="0" lang="zh-CN" sz="2400" spc="-1" strike="noStrike">
                  <a:solidFill>
                    <a:srgbClr val="508799"/>
                  </a:solidFill>
                  <a:latin typeface="微软雅黑"/>
                  <a:ea typeface="微软雅黑"/>
                </a:rPr>
                <a:t>标题</a:t>
              </a:r>
              <a:endParaRPr b="0" lang="en-US" sz="2400" spc="-1" strike="noStrike">
                <a:solidFill>
                  <a:srgbClr val="000000"/>
                </a:solidFill>
                <a:latin typeface="Arial"/>
              </a:endParaRPr>
            </a:p>
          </p:txBody>
        </p:sp>
      </p:grpSp>
      <p:grpSp>
        <p:nvGrpSpPr>
          <p:cNvPr id="267" name="组合 64"/>
          <p:cNvGrpSpPr/>
          <p:nvPr/>
        </p:nvGrpSpPr>
        <p:grpSpPr>
          <a:xfrm>
            <a:off x="78120" y="1924560"/>
            <a:ext cx="3403080" cy="1352520"/>
            <a:chOff x="78120" y="1924560"/>
            <a:chExt cx="3403080" cy="1352520"/>
          </a:xfrm>
        </p:grpSpPr>
        <p:sp>
          <p:nvSpPr>
            <p:cNvPr id="268" name="文本框 65"/>
            <p:cNvSpPr/>
            <p:nvPr/>
          </p:nvSpPr>
          <p:spPr>
            <a:xfrm>
              <a:off x="78120" y="2474640"/>
              <a:ext cx="3403080" cy="802440"/>
            </a:xfrm>
            <a:prstGeom prst="rect">
              <a:avLst/>
            </a:prstGeom>
            <a:noFill/>
            <a:ln w="0">
              <a:noFill/>
            </a:ln>
          </p:spPr>
          <p:style>
            <a:lnRef idx="0"/>
            <a:fillRef idx="0"/>
            <a:effectRef idx="0"/>
            <a:fontRef idx="minor"/>
          </p:style>
          <p:txBody>
            <a:bodyPr lIns="90000" rIns="90000" tIns="45000" bIns="45000" anchor="t">
              <a:spAutoFit/>
            </a:bodyPr>
            <a:p>
              <a:pPr algn="r">
                <a:lnSpc>
                  <a:spcPct val="130000"/>
                </a:lnSpc>
              </a:pPr>
              <a:r>
                <a:rPr b="0" lang="zh-CN" sz="1800" spc="-1" strike="noStrike">
                  <a:solidFill>
                    <a:srgbClr val="404040"/>
                  </a:solidFill>
                  <a:latin typeface="微软雅黑"/>
                  <a:ea typeface="微软雅黑"/>
                </a:rPr>
                <a:t>此处插入文本框此处插入文本框</a:t>
              </a:r>
              <a:endParaRPr b="0" lang="en-US" sz="1800" spc="-1" strike="noStrike">
                <a:solidFill>
                  <a:srgbClr val="000000"/>
                </a:solidFill>
                <a:latin typeface="Arial"/>
              </a:endParaRPr>
            </a:p>
            <a:p>
              <a:pPr algn="r">
                <a:lnSpc>
                  <a:spcPct val="130000"/>
                </a:lnSpc>
              </a:pPr>
              <a:r>
                <a:rPr b="0" lang="zh-CN" sz="1800" spc="-1" strike="noStrike">
                  <a:solidFill>
                    <a:srgbClr val="404040"/>
                  </a:solidFill>
                  <a:latin typeface="微软雅黑"/>
                  <a:ea typeface="微软雅黑"/>
                </a:rPr>
                <a:t>此处插入文本框</a:t>
              </a:r>
              <a:endParaRPr b="0" lang="en-US" sz="1800" spc="-1" strike="noStrike">
                <a:solidFill>
                  <a:srgbClr val="000000"/>
                </a:solidFill>
                <a:latin typeface="Arial"/>
              </a:endParaRPr>
            </a:p>
          </p:txBody>
        </p:sp>
        <p:sp>
          <p:nvSpPr>
            <p:cNvPr id="269" name="文本框 66"/>
            <p:cNvSpPr/>
            <p:nvPr/>
          </p:nvSpPr>
          <p:spPr>
            <a:xfrm>
              <a:off x="2263680" y="1924560"/>
              <a:ext cx="1217520" cy="564840"/>
            </a:xfrm>
            <a:prstGeom prst="rect">
              <a:avLst/>
            </a:prstGeom>
            <a:noFill/>
            <a:ln w="0">
              <a:noFill/>
            </a:ln>
          </p:spPr>
          <p:style>
            <a:lnRef idx="0"/>
            <a:fillRef idx="0"/>
            <a:effectRef idx="0"/>
            <a:fontRef idx="minor"/>
          </p:style>
          <p:txBody>
            <a:bodyPr lIns="90000" rIns="90000" tIns="45000" bIns="45000" anchor="t">
              <a:spAutoFit/>
            </a:bodyPr>
            <a:p>
              <a:pPr algn="r">
                <a:lnSpc>
                  <a:spcPct val="130000"/>
                </a:lnSpc>
              </a:pPr>
              <a:r>
                <a:rPr b="0" lang="zh-CN" sz="2400" spc="-1" strike="noStrike">
                  <a:solidFill>
                    <a:srgbClr val="e49b35"/>
                  </a:solidFill>
                  <a:latin typeface="微软雅黑"/>
                  <a:ea typeface="微软雅黑"/>
                </a:rPr>
                <a:t>标题</a:t>
              </a:r>
              <a:endParaRPr b="0" lang="en-US" sz="2400" spc="-1" strike="noStrike">
                <a:solidFill>
                  <a:srgbClr val="000000"/>
                </a:solidFill>
                <a:latin typeface="Arial"/>
              </a:endParaRPr>
            </a:p>
          </p:txBody>
        </p:sp>
      </p:grpSp>
      <p:grpSp>
        <p:nvGrpSpPr>
          <p:cNvPr id="270" name="组合 67"/>
          <p:cNvGrpSpPr/>
          <p:nvPr/>
        </p:nvGrpSpPr>
        <p:grpSpPr>
          <a:xfrm>
            <a:off x="72000" y="4175280"/>
            <a:ext cx="3403080" cy="1352160"/>
            <a:chOff x="72000" y="4175280"/>
            <a:chExt cx="3403080" cy="1352160"/>
          </a:xfrm>
        </p:grpSpPr>
        <p:sp>
          <p:nvSpPr>
            <p:cNvPr id="271" name="文本框 70"/>
            <p:cNvSpPr/>
            <p:nvPr/>
          </p:nvSpPr>
          <p:spPr>
            <a:xfrm>
              <a:off x="72000" y="4725000"/>
              <a:ext cx="3403080" cy="802440"/>
            </a:xfrm>
            <a:prstGeom prst="rect">
              <a:avLst/>
            </a:prstGeom>
            <a:noFill/>
            <a:ln w="0">
              <a:noFill/>
            </a:ln>
          </p:spPr>
          <p:style>
            <a:lnRef idx="0"/>
            <a:fillRef idx="0"/>
            <a:effectRef idx="0"/>
            <a:fontRef idx="minor"/>
          </p:style>
          <p:txBody>
            <a:bodyPr lIns="90000" rIns="90000" tIns="45000" bIns="45000" anchor="t">
              <a:spAutoFit/>
            </a:bodyPr>
            <a:p>
              <a:pPr algn="r">
                <a:lnSpc>
                  <a:spcPct val="130000"/>
                </a:lnSpc>
              </a:pPr>
              <a:r>
                <a:rPr b="0" lang="zh-CN" sz="1800" spc="-1" strike="noStrike">
                  <a:solidFill>
                    <a:srgbClr val="404040"/>
                  </a:solidFill>
                  <a:latin typeface="微软雅黑"/>
                  <a:ea typeface="微软雅黑"/>
                </a:rPr>
                <a:t>此处插入文本框此处插入文本框</a:t>
              </a:r>
              <a:endParaRPr b="0" lang="en-US" sz="1800" spc="-1" strike="noStrike">
                <a:solidFill>
                  <a:srgbClr val="000000"/>
                </a:solidFill>
                <a:latin typeface="Arial"/>
              </a:endParaRPr>
            </a:p>
            <a:p>
              <a:pPr algn="r">
                <a:lnSpc>
                  <a:spcPct val="130000"/>
                </a:lnSpc>
              </a:pPr>
              <a:r>
                <a:rPr b="0" lang="zh-CN" sz="1800" spc="-1" strike="noStrike">
                  <a:solidFill>
                    <a:srgbClr val="404040"/>
                  </a:solidFill>
                  <a:latin typeface="微软雅黑"/>
                  <a:ea typeface="微软雅黑"/>
                </a:rPr>
                <a:t>此处插入文本框</a:t>
              </a:r>
              <a:endParaRPr b="0" lang="en-US" sz="1800" spc="-1" strike="noStrike">
                <a:solidFill>
                  <a:srgbClr val="000000"/>
                </a:solidFill>
                <a:latin typeface="Arial"/>
              </a:endParaRPr>
            </a:p>
          </p:txBody>
        </p:sp>
        <p:sp>
          <p:nvSpPr>
            <p:cNvPr id="272" name="文本框 71"/>
            <p:cNvSpPr/>
            <p:nvPr/>
          </p:nvSpPr>
          <p:spPr>
            <a:xfrm>
              <a:off x="2257560" y="4175280"/>
              <a:ext cx="1217520" cy="564840"/>
            </a:xfrm>
            <a:prstGeom prst="rect">
              <a:avLst/>
            </a:prstGeom>
            <a:noFill/>
            <a:ln w="0">
              <a:noFill/>
            </a:ln>
          </p:spPr>
          <p:style>
            <a:lnRef idx="0"/>
            <a:fillRef idx="0"/>
            <a:effectRef idx="0"/>
            <a:fontRef idx="minor"/>
          </p:style>
          <p:txBody>
            <a:bodyPr lIns="90000" rIns="90000" tIns="45000" bIns="45000" anchor="t">
              <a:spAutoFit/>
            </a:bodyPr>
            <a:p>
              <a:pPr algn="r">
                <a:lnSpc>
                  <a:spcPct val="130000"/>
                </a:lnSpc>
              </a:pPr>
              <a:r>
                <a:rPr b="0" lang="zh-CN" sz="2400" spc="-1" strike="noStrike">
                  <a:solidFill>
                    <a:srgbClr val="89a67a"/>
                  </a:solidFill>
                  <a:latin typeface="微软雅黑"/>
                  <a:ea typeface="微软雅黑"/>
                </a:rPr>
                <a:t>标题</a:t>
              </a:r>
              <a:endParaRPr b="0" lang="en-US" sz="2400" spc="-1" strike="noStrike">
                <a:solidFill>
                  <a:srgbClr val="000000"/>
                </a:solidFill>
                <a:latin typeface="Arial"/>
              </a:endParaRPr>
            </a:p>
          </p:txBody>
        </p:sp>
      </p:grpSp>
      <p:sp>
        <p:nvSpPr>
          <p:cNvPr id="273" name="任意多边形 72"/>
          <p:cNvSpPr/>
          <p:nvPr/>
        </p:nvSpPr>
        <p:spPr>
          <a:xfrm>
            <a:off x="3624120" y="3902040"/>
            <a:ext cx="2336400" cy="1601640"/>
          </a:xfrm>
          <a:custGeom>
            <a:avLst/>
            <a:gdLst>
              <a:gd name="textAreaLeft" fmla="*/ 0 w 2336400"/>
              <a:gd name="textAreaRight" fmla="*/ 2336760 w 2336400"/>
              <a:gd name="textAreaTop" fmla="*/ 0 h 1601640"/>
              <a:gd name="textAreaBottom" fmla="*/ 1602000 h 1601640"/>
            </a:gdLst>
            <a:ahLst/>
            <a:rect l="textAreaLeft" t="textAreaTop" r="textAreaRight" b="textAreaBottom"/>
            <a:pathLst>
              <a:path w="2336641" h="1601848">
                <a:moveTo>
                  <a:pt x="0" y="0"/>
                </a:moveTo>
                <a:lnTo>
                  <a:pt x="492296" y="0"/>
                </a:lnTo>
                <a:lnTo>
                  <a:pt x="679156" y="0"/>
                </a:lnTo>
                <a:lnTo>
                  <a:pt x="1844345" y="0"/>
                </a:lnTo>
                <a:cubicBezTo>
                  <a:pt x="2116233" y="0"/>
                  <a:pt x="2336641" y="220409"/>
                  <a:pt x="2336641" y="492296"/>
                </a:cubicBezTo>
                <a:lnTo>
                  <a:pt x="2336641" y="953072"/>
                </a:lnTo>
                <a:lnTo>
                  <a:pt x="2336641" y="1109552"/>
                </a:lnTo>
                <a:lnTo>
                  <a:pt x="2336641" y="1188420"/>
                </a:lnTo>
                <a:lnTo>
                  <a:pt x="2336641" y="1372172"/>
                </a:lnTo>
                <a:lnTo>
                  <a:pt x="2336641" y="1601848"/>
                </a:lnTo>
                <a:lnTo>
                  <a:pt x="1844345" y="1601848"/>
                </a:lnTo>
                <a:lnTo>
                  <a:pt x="1657484" y="1601848"/>
                </a:lnTo>
                <a:lnTo>
                  <a:pt x="492296" y="1601848"/>
                </a:lnTo>
                <a:cubicBezTo>
                  <a:pt x="220409" y="1601848"/>
                  <a:pt x="0" y="1381440"/>
                  <a:pt x="0" y="1109552"/>
                </a:cubicBezTo>
                <a:lnTo>
                  <a:pt x="0" y="614097"/>
                </a:lnTo>
                <a:lnTo>
                  <a:pt x="0" y="492296"/>
                </a:lnTo>
                <a:lnTo>
                  <a:pt x="0" y="413428"/>
                </a:lnTo>
                <a:lnTo>
                  <a:pt x="0" y="347639"/>
                </a:lnTo>
                <a:close/>
              </a:path>
            </a:pathLst>
          </a:custGeom>
          <a:solidFill>
            <a:srgbClr val="89a67a"/>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74" name="任意多边形 73"/>
          <p:cNvSpPr/>
          <p:nvPr/>
        </p:nvSpPr>
        <p:spPr>
          <a:xfrm>
            <a:off x="6253560" y="2073240"/>
            <a:ext cx="2336400" cy="1601640"/>
          </a:xfrm>
          <a:custGeom>
            <a:avLst/>
            <a:gdLst>
              <a:gd name="textAreaLeft" fmla="*/ 0 w 2336400"/>
              <a:gd name="textAreaRight" fmla="*/ 2336760 w 2336400"/>
              <a:gd name="textAreaTop" fmla="*/ 0 h 1601640"/>
              <a:gd name="textAreaBottom" fmla="*/ 1602000 h 1601640"/>
            </a:gdLst>
            <a:ahLst/>
            <a:rect l="textAreaLeft" t="textAreaTop" r="textAreaRight" b="textAreaBottom"/>
            <a:pathLst>
              <a:path w="2336641" h="1601848">
                <a:moveTo>
                  <a:pt x="0" y="0"/>
                </a:moveTo>
                <a:lnTo>
                  <a:pt x="492296" y="0"/>
                </a:lnTo>
                <a:lnTo>
                  <a:pt x="679156" y="0"/>
                </a:lnTo>
                <a:lnTo>
                  <a:pt x="1844345" y="0"/>
                </a:lnTo>
                <a:cubicBezTo>
                  <a:pt x="2116232" y="0"/>
                  <a:pt x="2336641" y="220409"/>
                  <a:pt x="2336641" y="492296"/>
                </a:cubicBezTo>
                <a:lnTo>
                  <a:pt x="2336641" y="1004404"/>
                </a:lnTo>
                <a:lnTo>
                  <a:pt x="2336641" y="1109552"/>
                </a:lnTo>
                <a:lnTo>
                  <a:pt x="2336641" y="1188420"/>
                </a:lnTo>
                <a:lnTo>
                  <a:pt x="2336641" y="1423504"/>
                </a:lnTo>
                <a:lnTo>
                  <a:pt x="2336641" y="1601848"/>
                </a:lnTo>
                <a:lnTo>
                  <a:pt x="1844345" y="1601848"/>
                </a:lnTo>
                <a:lnTo>
                  <a:pt x="1657484" y="1601848"/>
                </a:lnTo>
                <a:lnTo>
                  <a:pt x="492296" y="1601848"/>
                </a:lnTo>
                <a:cubicBezTo>
                  <a:pt x="220408" y="1601848"/>
                  <a:pt x="0" y="1381439"/>
                  <a:pt x="0" y="1109552"/>
                </a:cubicBezTo>
                <a:lnTo>
                  <a:pt x="0" y="588548"/>
                </a:lnTo>
                <a:lnTo>
                  <a:pt x="0" y="492296"/>
                </a:lnTo>
                <a:lnTo>
                  <a:pt x="0" y="413428"/>
                </a:lnTo>
                <a:lnTo>
                  <a:pt x="0" y="371414"/>
                </a:lnTo>
                <a:close/>
              </a:path>
            </a:pathLst>
          </a:custGeom>
          <a:solidFill>
            <a:srgbClr val="ed6f65"/>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75" name="任意多边形 74"/>
          <p:cNvSpPr/>
          <p:nvPr/>
        </p:nvSpPr>
        <p:spPr>
          <a:xfrm>
            <a:off x="6253560" y="3857760"/>
            <a:ext cx="2336400" cy="1601640"/>
          </a:xfrm>
          <a:custGeom>
            <a:avLst/>
            <a:gdLst>
              <a:gd name="textAreaLeft" fmla="*/ 0 w 2336400"/>
              <a:gd name="textAreaRight" fmla="*/ 2336760 w 2336400"/>
              <a:gd name="textAreaTop" fmla="*/ 0 h 1601640"/>
              <a:gd name="textAreaBottom" fmla="*/ 1602000 h 1601640"/>
            </a:gdLst>
            <a:ahLst/>
            <a:rect l="textAreaLeft" t="textAreaTop" r="textAreaRight" b="textAreaBottom"/>
            <a:pathLst>
              <a:path w="2336641" h="1601848">
                <a:moveTo>
                  <a:pt x="492296" y="0"/>
                </a:moveTo>
                <a:lnTo>
                  <a:pt x="1657484" y="0"/>
                </a:lnTo>
                <a:lnTo>
                  <a:pt x="1844345" y="0"/>
                </a:lnTo>
                <a:lnTo>
                  <a:pt x="2336641" y="0"/>
                </a:lnTo>
                <a:lnTo>
                  <a:pt x="2336641" y="297807"/>
                </a:lnTo>
                <a:lnTo>
                  <a:pt x="2336641" y="413429"/>
                </a:lnTo>
                <a:lnTo>
                  <a:pt x="2336641" y="492296"/>
                </a:lnTo>
                <a:lnTo>
                  <a:pt x="2336641" y="716907"/>
                </a:lnTo>
                <a:lnTo>
                  <a:pt x="2336641" y="1109552"/>
                </a:lnTo>
                <a:cubicBezTo>
                  <a:pt x="2336641" y="1381440"/>
                  <a:pt x="2116232" y="1601848"/>
                  <a:pt x="1844345" y="1601848"/>
                </a:cubicBezTo>
                <a:lnTo>
                  <a:pt x="679156" y="1601848"/>
                </a:lnTo>
                <a:lnTo>
                  <a:pt x="492296" y="1601848"/>
                </a:lnTo>
                <a:lnTo>
                  <a:pt x="0" y="1601848"/>
                </a:lnTo>
                <a:lnTo>
                  <a:pt x="0" y="1461527"/>
                </a:lnTo>
                <a:lnTo>
                  <a:pt x="0" y="1188420"/>
                </a:lnTo>
                <a:lnTo>
                  <a:pt x="0" y="1109552"/>
                </a:lnTo>
                <a:lnTo>
                  <a:pt x="0" y="1042427"/>
                </a:lnTo>
                <a:lnTo>
                  <a:pt x="0" y="492296"/>
                </a:lnTo>
                <a:cubicBezTo>
                  <a:pt x="0" y="220409"/>
                  <a:pt x="220408" y="0"/>
                  <a:pt x="492296" y="0"/>
                </a:cubicBezTo>
                <a:close/>
              </a:path>
            </a:pathLst>
          </a:custGeom>
          <a:solidFill>
            <a:srgbClr val="508799"/>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nvGrpSpPr>
          <p:cNvPr id="276" name="组合 76"/>
          <p:cNvGrpSpPr/>
          <p:nvPr/>
        </p:nvGrpSpPr>
        <p:grpSpPr>
          <a:xfrm>
            <a:off x="5135760" y="2817000"/>
            <a:ext cx="1942560" cy="1942560"/>
            <a:chOff x="5135760" y="2817000"/>
            <a:chExt cx="1942560" cy="1942560"/>
          </a:xfrm>
        </p:grpSpPr>
        <p:sp>
          <p:nvSpPr>
            <p:cNvPr id="277" name="椭圆 77"/>
            <p:cNvSpPr/>
            <p:nvPr/>
          </p:nvSpPr>
          <p:spPr>
            <a:xfrm>
              <a:off x="5135760" y="2817000"/>
              <a:ext cx="1942560" cy="1942560"/>
            </a:xfrm>
            <a:prstGeom prst="ellipse">
              <a:avLst/>
            </a:prstGeom>
            <a:solidFill>
              <a:schemeClr val="bg1">
                <a:alpha val="43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78" name="文本框 78"/>
            <p:cNvSpPr/>
            <p:nvPr/>
          </p:nvSpPr>
          <p:spPr>
            <a:xfrm>
              <a:off x="5530320" y="3526920"/>
              <a:ext cx="1153080" cy="51624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zh-CN" sz="2800" spc="-1" strike="noStrike">
                  <a:solidFill>
                    <a:srgbClr val="404040"/>
                  </a:solidFill>
                  <a:latin typeface="微软雅黑"/>
                  <a:ea typeface="微软雅黑"/>
                </a:rPr>
                <a:t>标题</a:t>
              </a:r>
              <a:endParaRPr b="0" lang="en-US" sz="2800" spc="-1" strike="noStrike">
                <a:solidFill>
                  <a:srgbClr val="000000"/>
                </a:solidFill>
                <a:latin typeface="Arial"/>
              </a:endParaRPr>
            </a:p>
          </p:txBody>
        </p:sp>
      </p:grpSp>
      <p:grpSp>
        <p:nvGrpSpPr>
          <p:cNvPr id="279" name="组合 92"/>
          <p:cNvGrpSpPr/>
          <p:nvPr/>
        </p:nvGrpSpPr>
        <p:grpSpPr>
          <a:xfrm>
            <a:off x="4183560" y="4209480"/>
            <a:ext cx="1217520" cy="993600"/>
            <a:chOff x="4183560" y="4209480"/>
            <a:chExt cx="1217520" cy="993600"/>
          </a:xfrm>
        </p:grpSpPr>
        <p:grpSp>
          <p:nvGrpSpPr>
            <p:cNvPr id="280" name="组合 94"/>
            <p:cNvGrpSpPr/>
            <p:nvPr/>
          </p:nvGrpSpPr>
          <p:grpSpPr>
            <a:xfrm>
              <a:off x="4512960" y="4209480"/>
              <a:ext cx="558360" cy="387000"/>
              <a:chOff x="4512960" y="4209480"/>
              <a:chExt cx="558360" cy="387000"/>
            </a:xfrm>
          </p:grpSpPr>
          <p:sp>
            <p:nvSpPr>
              <p:cNvPr id="281" name="Freeform 11034"/>
              <p:cNvSpPr/>
              <p:nvPr/>
            </p:nvSpPr>
            <p:spPr>
              <a:xfrm>
                <a:off x="4570200" y="4209480"/>
                <a:ext cx="442440" cy="315720"/>
              </a:xfrm>
              <a:custGeom>
                <a:avLst/>
                <a:gdLst>
                  <a:gd name="textAreaLeft" fmla="*/ 0 w 442440"/>
                  <a:gd name="textAreaRight" fmla="*/ 442800 w 442440"/>
                  <a:gd name="textAreaTop" fmla="*/ 0 h 315720"/>
                  <a:gd name="textAreaBottom" fmla="*/ 316080 h 315720"/>
                </a:gdLst>
                <a:ahLst/>
                <a:rect l="textAreaLeft" t="textAreaTop" r="textAreaRight" b="textAreaBottom"/>
                <a:pathLst>
                  <a:path w="118" h="84">
                    <a:moveTo>
                      <a:pt x="104" y="0"/>
                    </a:moveTo>
                    <a:cubicBezTo>
                      <a:pt x="14" y="0"/>
                      <a:pt x="14" y="0"/>
                      <a:pt x="14" y="0"/>
                    </a:cubicBezTo>
                    <a:cubicBezTo>
                      <a:pt x="6" y="0"/>
                      <a:pt x="0" y="7"/>
                      <a:pt x="0" y="16"/>
                    </a:cubicBezTo>
                    <a:cubicBezTo>
                      <a:pt x="0" y="68"/>
                      <a:pt x="0" y="68"/>
                      <a:pt x="0" y="68"/>
                    </a:cubicBezTo>
                    <a:cubicBezTo>
                      <a:pt x="0" y="77"/>
                      <a:pt x="6" y="84"/>
                      <a:pt x="14" y="84"/>
                    </a:cubicBezTo>
                    <a:cubicBezTo>
                      <a:pt x="104" y="84"/>
                      <a:pt x="104" y="84"/>
                      <a:pt x="104" y="84"/>
                    </a:cubicBezTo>
                    <a:cubicBezTo>
                      <a:pt x="112" y="84"/>
                      <a:pt x="118" y="77"/>
                      <a:pt x="118" y="68"/>
                    </a:cubicBezTo>
                    <a:cubicBezTo>
                      <a:pt x="118" y="16"/>
                      <a:pt x="118" y="16"/>
                      <a:pt x="118" y="16"/>
                    </a:cubicBezTo>
                    <a:cubicBezTo>
                      <a:pt x="118" y="7"/>
                      <a:pt x="112" y="0"/>
                      <a:pt x="104" y="0"/>
                    </a:cubicBezTo>
                    <a:close/>
                    <a:moveTo>
                      <a:pt x="111" y="63"/>
                    </a:moveTo>
                    <a:cubicBezTo>
                      <a:pt x="111" y="71"/>
                      <a:pt x="106" y="77"/>
                      <a:pt x="99" y="77"/>
                    </a:cubicBezTo>
                    <a:cubicBezTo>
                      <a:pt x="19" y="77"/>
                      <a:pt x="19" y="77"/>
                      <a:pt x="19" y="77"/>
                    </a:cubicBezTo>
                    <a:cubicBezTo>
                      <a:pt x="13" y="77"/>
                      <a:pt x="7" y="71"/>
                      <a:pt x="7" y="63"/>
                    </a:cubicBezTo>
                    <a:cubicBezTo>
                      <a:pt x="7" y="19"/>
                      <a:pt x="7" y="19"/>
                      <a:pt x="7" y="19"/>
                    </a:cubicBezTo>
                    <a:cubicBezTo>
                      <a:pt x="7" y="12"/>
                      <a:pt x="13" y="6"/>
                      <a:pt x="19" y="6"/>
                    </a:cubicBezTo>
                    <a:cubicBezTo>
                      <a:pt x="99" y="6"/>
                      <a:pt x="99" y="6"/>
                      <a:pt x="99" y="6"/>
                    </a:cubicBezTo>
                    <a:cubicBezTo>
                      <a:pt x="106" y="6"/>
                      <a:pt x="111" y="12"/>
                      <a:pt x="111" y="19"/>
                    </a:cubicBezTo>
                    <a:lnTo>
                      <a:pt x="111" y="63"/>
                    </a:lnTo>
                    <a:close/>
                  </a:path>
                </a:pathLst>
              </a:custGeom>
              <a:solidFill>
                <a:srgbClr val="ffffff"/>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282" name="Freeform 11035"/>
              <p:cNvSpPr/>
              <p:nvPr/>
            </p:nvSpPr>
            <p:spPr>
              <a:xfrm>
                <a:off x="4512960" y="4544280"/>
                <a:ext cx="558360" cy="52200"/>
              </a:xfrm>
              <a:custGeom>
                <a:avLst/>
                <a:gdLst>
                  <a:gd name="textAreaLeft" fmla="*/ 0 w 558360"/>
                  <a:gd name="textAreaRight" fmla="*/ 558720 w 558360"/>
                  <a:gd name="textAreaTop" fmla="*/ 0 h 52200"/>
                  <a:gd name="textAreaBottom" fmla="*/ 52560 h 52200"/>
                </a:gdLst>
                <a:ahLst/>
                <a:rect l="textAreaLeft" t="textAreaTop" r="textAreaRight" b="textAreaBottom"/>
                <a:pathLst>
                  <a:path w="149" h="14">
                    <a:moveTo>
                      <a:pt x="0" y="7"/>
                    </a:moveTo>
                    <a:cubicBezTo>
                      <a:pt x="0" y="11"/>
                      <a:pt x="5" y="14"/>
                      <a:pt x="11" y="14"/>
                    </a:cubicBezTo>
                    <a:cubicBezTo>
                      <a:pt x="138" y="14"/>
                      <a:pt x="138" y="14"/>
                      <a:pt x="138" y="14"/>
                    </a:cubicBezTo>
                    <a:cubicBezTo>
                      <a:pt x="144" y="14"/>
                      <a:pt x="149" y="11"/>
                      <a:pt x="149" y="7"/>
                    </a:cubicBezTo>
                    <a:cubicBezTo>
                      <a:pt x="149" y="0"/>
                      <a:pt x="149" y="0"/>
                      <a:pt x="149" y="0"/>
                    </a:cubicBezTo>
                    <a:cubicBezTo>
                      <a:pt x="0" y="0"/>
                      <a:pt x="0" y="0"/>
                      <a:pt x="0" y="0"/>
                    </a:cubicBezTo>
                    <a:lnTo>
                      <a:pt x="0" y="7"/>
                    </a:lnTo>
                    <a:close/>
                    <a:moveTo>
                      <a:pt x="61" y="5"/>
                    </a:moveTo>
                    <a:cubicBezTo>
                      <a:pt x="87" y="5"/>
                      <a:pt x="87" y="5"/>
                      <a:pt x="87" y="5"/>
                    </a:cubicBezTo>
                    <a:cubicBezTo>
                      <a:pt x="87" y="9"/>
                      <a:pt x="87" y="9"/>
                      <a:pt x="87" y="9"/>
                    </a:cubicBezTo>
                    <a:cubicBezTo>
                      <a:pt x="61" y="9"/>
                      <a:pt x="61" y="9"/>
                      <a:pt x="61" y="9"/>
                    </a:cubicBezTo>
                    <a:lnTo>
                      <a:pt x="61" y="5"/>
                    </a:lnTo>
                    <a:close/>
                  </a:path>
                </a:pathLst>
              </a:custGeom>
              <a:solidFill>
                <a:srgbClr val="ffffff"/>
              </a:solidFill>
              <a:ln w="0">
                <a:noFill/>
              </a:ln>
            </p:spPr>
            <p:style>
              <a:lnRef idx="0"/>
              <a:fillRef idx="0"/>
              <a:effectRef idx="0"/>
              <a:fontRef idx="minor"/>
            </p:style>
            <p:txBody>
              <a:bodyPr numCol="1" spcCol="0" tIns="26280" bIns="26280" anchor="t">
                <a:noAutofit/>
              </a:bodyPr>
              <a:p>
                <a:pPr>
                  <a:lnSpc>
                    <a:spcPct val="100000"/>
                  </a:lnSpc>
                </a:pPr>
                <a:endParaRPr b="0" lang="en-US" sz="1800" spc="-1" strike="noStrike">
                  <a:solidFill>
                    <a:srgbClr val="000000"/>
                  </a:solidFill>
                  <a:latin typeface="Calibri"/>
                </a:endParaRPr>
              </a:p>
            </p:txBody>
          </p:sp>
        </p:grpSp>
        <p:sp>
          <p:nvSpPr>
            <p:cNvPr id="283" name="文本框 95"/>
            <p:cNvSpPr/>
            <p:nvPr/>
          </p:nvSpPr>
          <p:spPr>
            <a:xfrm>
              <a:off x="4183560" y="4638240"/>
              <a:ext cx="1217520" cy="564840"/>
            </a:xfrm>
            <a:prstGeom prst="rect">
              <a:avLst/>
            </a:prstGeom>
            <a:noFill/>
            <a:ln w="0">
              <a:noFill/>
            </a:ln>
          </p:spPr>
          <p:style>
            <a:lnRef idx="0"/>
            <a:fillRef idx="0"/>
            <a:effectRef idx="0"/>
            <a:fontRef idx="minor"/>
          </p:style>
          <p:txBody>
            <a:bodyPr lIns="90000" rIns="90000" tIns="45000" bIns="45000" anchor="t">
              <a:spAutoFit/>
            </a:bodyPr>
            <a:p>
              <a:pPr algn="ctr">
                <a:lnSpc>
                  <a:spcPct val="130000"/>
                </a:lnSpc>
              </a:pPr>
              <a:r>
                <a:rPr b="0" lang="zh-CN" sz="2400" spc="-1" strike="noStrike">
                  <a:solidFill>
                    <a:srgbClr val="ffffff"/>
                  </a:solidFill>
                  <a:latin typeface="微软雅黑"/>
                  <a:ea typeface="微软雅黑"/>
                </a:rPr>
                <a:t>标题四</a:t>
              </a:r>
              <a:endParaRPr b="0" lang="en-US" sz="2400" spc="-1" strike="noStrike">
                <a:solidFill>
                  <a:srgbClr val="000000"/>
                </a:solidFill>
                <a:latin typeface="Arial"/>
              </a:endParaRPr>
            </a:p>
          </p:txBody>
        </p:sp>
      </p:grpSp>
      <p:grpSp>
        <p:nvGrpSpPr>
          <p:cNvPr id="284" name="组合 98"/>
          <p:cNvGrpSpPr/>
          <p:nvPr/>
        </p:nvGrpSpPr>
        <p:grpSpPr>
          <a:xfrm>
            <a:off x="6813000" y="4150800"/>
            <a:ext cx="1217520" cy="1008000"/>
            <a:chOff x="6813000" y="4150800"/>
            <a:chExt cx="1217520" cy="1008000"/>
          </a:xfrm>
        </p:grpSpPr>
        <p:grpSp>
          <p:nvGrpSpPr>
            <p:cNvPr id="285" name="组合 99"/>
            <p:cNvGrpSpPr/>
            <p:nvPr/>
          </p:nvGrpSpPr>
          <p:grpSpPr>
            <a:xfrm>
              <a:off x="7156080" y="4150800"/>
              <a:ext cx="531360" cy="461160"/>
              <a:chOff x="7156080" y="4150800"/>
              <a:chExt cx="531360" cy="461160"/>
            </a:xfrm>
          </p:grpSpPr>
          <p:sp>
            <p:nvSpPr>
              <p:cNvPr id="286" name="Rectangle 476"/>
              <p:cNvSpPr/>
              <p:nvPr/>
            </p:nvSpPr>
            <p:spPr>
              <a:xfrm>
                <a:off x="7324200" y="4150800"/>
                <a:ext cx="194760" cy="70920"/>
              </a:xfrm>
              <a:prstGeom prst="rect">
                <a:avLst/>
              </a:prstGeom>
              <a:solidFill>
                <a:srgbClr val="ffffff"/>
              </a:solidFill>
              <a:ln w="0">
                <a:noFill/>
              </a:ln>
            </p:spPr>
            <p:style>
              <a:lnRef idx="0"/>
              <a:fillRef idx="0"/>
              <a:effectRef idx="0"/>
              <a:fontRef idx="minor"/>
            </p:style>
            <p:txBody>
              <a:bodyPr numCol="1" spcCol="0" tIns="35640" bIns="35640" anchor="t">
                <a:noAutofit/>
              </a:bodyPr>
              <a:p>
                <a:pPr>
                  <a:lnSpc>
                    <a:spcPct val="100000"/>
                  </a:lnSpc>
                </a:pPr>
                <a:endParaRPr b="0" lang="en-US" sz="1800" spc="-1" strike="noStrike">
                  <a:solidFill>
                    <a:srgbClr val="000000"/>
                  </a:solidFill>
                  <a:latin typeface="Calibri"/>
                </a:endParaRPr>
              </a:p>
            </p:txBody>
          </p:sp>
          <p:sp>
            <p:nvSpPr>
              <p:cNvPr id="287" name="Freeform 477"/>
              <p:cNvSpPr/>
              <p:nvPr/>
            </p:nvSpPr>
            <p:spPr>
              <a:xfrm>
                <a:off x="7238520" y="4247640"/>
                <a:ext cx="366480" cy="244080"/>
              </a:xfrm>
              <a:custGeom>
                <a:avLst/>
                <a:gdLst>
                  <a:gd name="textAreaLeft" fmla="*/ 0 w 366480"/>
                  <a:gd name="textAreaRight" fmla="*/ 366840 w 366480"/>
                  <a:gd name="textAreaTop" fmla="*/ 0 h 244080"/>
                  <a:gd name="textAreaBottom" fmla="*/ 244440 h 244080"/>
                </a:gdLst>
                <a:ahLst/>
                <a:rect l="textAreaLeft" t="textAreaTop" r="textAreaRight" b="textAreaBottom"/>
                <a:pathLst>
                  <a:path w="231" h="154">
                    <a:moveTo>
                      <a:pt x="177" y="0"/>
                    </a:moveTo>
                    <a:lnTo>
                      <a:pt x="54" y="0"/>
                    </a:lnTo>
                    <a:lnTo>
                      <a:pt x="54" y="41"/>
                    </a:lnTo>
                    <a:lnTo>
                      <a:pt x="0" y="41"/>
                    </a:lnTo>
                    <a:lnTo>
                      <a:pt x="59" y="97"/>
                    </a:lnTo>
                    <a:lnTo>
                      <a:pt x="115" y="154"/>
                    </a:lnTo>
                    <a:lnTo>
                      <a:pt x="172" y="97"/>
                    </a:lnTo>
                    <a:lnTo>
                      <a:pt x="231" y="41"/>
                    </a:lnTo>
                    <a:lnTo>
                      <a:pt x="177" y="41"/>
                    </a:lnTo>
                    <a:lnTo>
                      <a:pt x="177" y="0"/>
                    </a:lnTo>
                    <a:close/>
                  </a:path>
                </a:pathLst>
              </a:custGeom>
              <a:solidFill>
                <a:srgbClr val="ffffff"/>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288" name="Freeform 478"/>
              <p:cNvSpPr/>
              <p:nvPr/>
            </p:nvSpPr>
            <p:spPr>
              <a:xfrm>
                <a:off x="7156080" y="4436280"/>
                <a:ext cx="531360" cy="175680"/>
              </a:xfrm>
              <a:custGeom>
                <a:avLst/>
                <a:gdLst>
                  <a:gd name="textAreaLeft" fmla="*/ 0 w 531360"/>
                  <a:gd name="textAreaRight" fmla="*/ 531720 w 531360"/>
                  <a:gd name="textAreaTop" fmla="*/ 0 h 175680"/>
                  <a:gd name="textAreaBottom" fmla="*/ 176040 h 175680"/>
                </a:gdLst>
                <a:ahLst/>
                <a:rect l="textAreaLeft" t="textAreaTop" r="textAreaRight" b="textAreaBottom"/>
                <a:pathLst>
                  <a:path w="142" h="47">
                    <a:moveTo>
                      <a:pt x="124" y="8"/>
                    </a:moveTo>
                    <a:cubicBezTo>
                      <a:pt x="124" y="26"/>
                      <a:pt x="121" y="30"/>
                      <a:pt x="105" y="30"/>
                    </a:cubicBezTo>
                    <a:cubicBezTo>
                      <a:pt x="37" y="30"/>
                      <a:pt x="37" y="30"/>
                      <a:pt x="37" y="30"/>
                    </a:cubicBezTo>
                    <a:cubicBezTo>
                      <a:pt x="20" y="30"/>
                      <a:pt x="18" y="29"/>
                      <a:pt x="18" y="8"/>
                    </a:cubicBezTo>
                    <a:cubicBezTo>
                      <a:pt x="18" y="0"/>
                      <a:pt x="18" y="0"/>
                      <a:pt x="18" y="0"/>
                    </a:cubicBezTo>
                    <a:cubicBezTo>
                      <a:pt x="0" y="0"/>
                      <a:pt x="0" y="0"/>
                      <a:pt x="0" y="0"/>
                    </a:cubicBezTo>
                    <a:cubicBezTo>
                      <a:pt x="0" y="21"/>
                      <a:pt x="0" y="21"/>
                      <a:pt x="0" y="21"/>
                    </a:cubicBezTo>
                    <a:cubicBezTo>
                      <a:pt x="0" y="35"/>
                      <a:pt x="11" y="47"/>
                      <a:pt x="26" y="47"/>
                    </a:cubicBezTo>
                    <a:cubicBezTo>
                      <a:pt x="116" y="47"/>
                      <a:pt x="116" y="47"/>
                      <a:pt x="116" y="47"/>
                    </a:cubicBezTo>
                    <a:cubicBezTo>
                      <a:pt x="130" y="47"/>
                      <a:pt x="142" y="35"/>
                      <a:pt x="142" y="21"/>
                    </a:cubicBezTo>
                    <a:cubicBezTo>
                      <a:pt x="142" y="0"/>
                      <a:pt x="142" y="0"/>
                      <a:pt x="142" y="0"/>
                    </a:cubicBezTo>
                    <a:cubicBezTo>
                      <a:pt x="124" y="0"/>
                      <a:pt x="124" y="0"/>
                      <a:pt x="124" y="0"/>
                    </a:cubicBezTo>
                    <a:lnTo>
                      <a:pt x="124" y="8"/>
                    </a:lnTo>
                    <a:close/>
                  </a:path>
                </a:pathLst>
              </a:custGeom>
              <a:solidFill>
                <a:srgbClr val="ffffff"/>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grpSp>
        <p:sp>
          <p:nvSpPr>
            <p:cNvPr id="289" name="文本框 100"/>
            <p:cNvSpPr/>
            <p:nvPr/>
          </p:nvSpPr>
          <p:spPr>
            <a:xfrm>
              <a:off x="6813000" y="4593960"/>
              <a:ext cx="1217520" cy="564840"/>
            </a:xfrm>
            <a:prstGeom prst="rect">
              <a:avLst/>
            </a:prstGeom>
            <a:noFill/>
            <a:ln w="0">
              <a:noFill/>
            </a:ln>
          </p:spPr>
          <p:style>
            <a:lnRef idx="0"/>
            <a:fillRef idx="0"/>
            <a:effectRef idx="0"/>
            <a:fontRef idx="minor"/>
          </p:style>
          <p:txBody>
            <a:bodyPr lIns="90000" rIns="90000" tIns="45000" bIns="45000" anchor="t">
              <a:spAutoFit/>
            </a:bodyPr>
            <a:p>
              <a:pPr algn="ctr">
                <a:lnSpc>
                  <a:spcPct val="130000"/>
                </a:lnSpc>
              </a:pPr>
              <a:r>
                <a:rPr b="0" lang="zh-CN" sz="2400" spc="-1" strike="noStrike">
                  <a:solidFill>
                    <a:srgbClr val="ffffff"/>
                  </a:solidFill>
                  <a:latin typeface="微软雅黑"/>
                  <a:ea typeface="微软雅黑"/>
                </a:rPr>
                <a:t>标题三</a:t>
              </a:r>
              <a:endParaRPr b="0" lang="en-US" sz="2400" spc="-1" strike="noStrike">
                <a:solidFill>
                  <a:srgbClr val="000000"/>
                </a:solidFill>
                <a:latin typeface="Arial"/>
              </a:endParaRPr>
            </a:p>
          </p:txBody>
        </p:sp>
      </p:grpSp>
      <p:grpSp>
        <p:nvGrpSpPr>
          <p:cNvPr id="290" name="组合 5"/>
          <p:cNvGrpSpPr/>
          <p:nvPr/>
        </p:nvGrpSpPr>
        <p:grpSpPr>
          <a:xfrm>
            <a:off x="6813000" y="2374200"/>
            <a:ext cx="1217520" cy="999720"/>
            <a:chOff x="6813000" y="2374200"/>
            <a:chExt cx="1217520" cy="999720"/>
          </a:xfrm>
        </p:grpSpPr>
        <p:grpSp>
          <p:nvGrpSpPr>
            <p:cNvPr id="291" name="组合 104"/>
            <p:cNvGrpSpPr/>
            <p:nvPr/>
          </p:nvGrpSpPr>
          <p:grpSpPr>
            <a:xfrm>
              <a:off x="7234200" y="2374200"/>
              <a:ext cx="418680" cy="426960"/>
              <a:chOff x="7234200" y="2374200"/>
              <a:chExt cx="418680" cy="426960"/>
            </a:xfrm>
          </p:grpSpPr>
          <p:sp>
            <p:nvSpPr>
              <p:cNvPr id="292" name="Freeform 281"/>
              <p:cNvSpPr/>
              <p:nvPr/>
            </p:nvSpPr>
            <p:spPr>
              <a:xfrm>
                <a:off x="7234200" y="2374200"/>
                <a:ext cx="418680" cy="104400"/>
              </a:xfrm>
              <a:custGeom>
                <a:avLst/>
                <a:gdLst>
                  <a:gd name="textAreaLeft" fmla="*/ 0 w 418680"/>
                  <a:gd name="textAreaRight" fmla="*/ 419040 w 418680"/>
                  <a:gd name="textAreaTop" fmla="*/ 0 h 104400"/>
                  <a:gd name="textAreaBottom" fmla="*/ 104760 h 104400"/>
                </a:gdLst>
                <a:ahLst/>
                <a:rect l="textAreaLeft" t="textAreaTop" r="textAreaRight" b="textAreaBottom"/>
                <a:pathLst>
                  <a:path w="112" h="28">
                    <a:moveTo>
                      <a:pt x="0" y="28"/>
                    </a:moveTo>
                    <a:cubicBezTo>
                      <a:pt x="112" y="28"/>
                      <a:pt x="112" y="28"/>
                      <a:pt x="112" y="28"/>
                    </a:cubicBezTo>
                    <a:cubicBezTo>
                      <a:pt x="112" y="0"/>
                      <a:pt x="112" y="0"/>
                      <a:pt x="112" y="0"/>
                    </a:cubicBezTo>
                    <a:cubicBezTo>
                      <a:pt x="0" y="0"/>
                      <a:pt x="0" y="0"/>
                      <a:pt x="0" y="0"/>
                    </a:cubicBezTo>
                    <a:lnTo>
                      <a:pt x="0" y="28"/>
                    </a:lnTo>
                    <a:close/>
                    <a:moveTo>
                      <a:pt x="93" y="9"/>
                    </a:moveTo>
                    <a:cubicBezTo>
                      <a:pt x="96" y="9"/>
                      <a:pt x="98" y="11"/>
                      <a:pt x="98" y="14"/>
                    </a:cubicBezTo>
                    <a:cubicBezTo>
                      <a:pt x="98" y="17"/>
                      <a:pt x="96" y="19"/>
                      <a:pt x="93" y="19"/>
                    </a:cubicBezTo>
                    <a:cubicBezTo>
                      <a:pt x="91" y="19"/>
                      <a:pt x="89" y="17"/>
                      <a:pt x="89" y="14"/>
                    </a:cubicBezTo>
                    <a:cubicBezTo>
                      <a:pt x="89" y="11"/>
                      <a:pt x="91" y="9"/>
                      <a:pt x="93" y="9"/>
                    </a:cubicBezTo>
                    <a:close/>
                    <a:moveTo>
                      <a:pt x="20" y="9"/>
                    </a:moveTo>
                    <a:cubicBezTo>
                      <a:pt x="23" y="9"/>
                      <a:pt x="25" y="11"/>
                      <a:pt x="25" y="14"/>
                    </a:cubicBezTo>
                    <a:cubicBezTo>
                      <a:pt x="25" y="17"/>
                      <a:pt x="23" y="19"/>
                      <a:pt x="20" y="19"/>
                    </a:cubicBezTo>
                    <a:cubicBezTo>
                      <a:pt x="17" y="19"/>
                      <a:pt x="15" y="17"/>
                      <a:pt x="15" y="14"/>
                    </a:cubicBezTo>
                    <a:cubicBezTo>
                      <a:pt x="15" y="11"/>
                      <a:pt x="17" y="9"/>
                      <a:pt x="20" y="9"/>
                    </a:cubicBezTo>
                    <a:close/>
                  </a:path>
                </a:pathLst>
              </a:custGeom>
              <a:solidFill>
                <a:srgbClr val="ffffff"/>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293" name="Freeform 282"/>
              <p:cNvSpPr/>
              <p:nvPr/>
            </p:nvSpPr>
            <p:spPr>
              <a:xfrm>
                <a:off x="7234200" y="2523600"/>
                <a:ext cx="418680" cy="277560"/>
              </a:xfrm>
              <a:custGeom>
                <a:avLst/>
                <a:gdLst>
                  <a:gd name="textAreaLeft" fmla="*/ 0 w 418680"/>
                  <a:gd name="textAreaRight" fmla="*/ 419040 w 418680"/>
                  <a:gd name="textAreaTop" fmla="*/ 0 h 277560"/>
                  <a:gd name="textAreaBottom" fmla="*/ 277920 h 277560"/>
                </a:gdLst>
                <a:ahLst/>
                <a:rect l="textAreaLeft" t="textAreaTop" r="textAreaRight" b="textAreaBottom"/>
                <a:pathLst>
                  <a:path w="112" h="74">
                    <a:moveTo>
                      <a:pt x="0" y="74"/>
                    </a:moveTo>
                    <a:cubicBezTo>
                      <a:pt x="112" y="74"/>
                      <a:pt x="112" y="74"/>
                      <a:pt x="112" y="74"/>
                    </a:cubicBezTo>
                    <a:cubicBezTo>
                      <a:pt x="112" y="0"/>
                      <a:pt x="112" y="0"/>
                      <a:pt x="112" y="0"/>
                    </a:cubicBezTo>
                    <a:cubicBezTo>
                      <a:pt x="0" y="0"/>
                      <a:pt x="0" y="0"/>
                      <a:pt x="0" y="0"/>
                    </a:cubicBezTo>
                    <a:lnTo>
                      <a:pt x="0" y="74"/>
                    </a:lnTo>
                    <a:close/>
                    <a:moveTo>
                      <a:pt x="56" y="47"/>
                    </a:moveTo>
                    <a:cubicBezTo>
                      <a:pt x="69" y="47"/>
                      <a:pt x="69" y="47"/>
                      <a:pt x="69" y="47"/>
                    </a:cubicBezTo>
                    <a:cubicBezTo>
                      <a:pt x="69" y="51"/>
                      <a:pt x="69" y="51"/>
                      <a:pt x="69" y="51"/>
                    </a:cubicBezTo>
                    <a:cubicBezTo>
                      <a:pt x="69" y="52"/>
                      <a:pt x="69" y="53"/>
                      <a:pt x="70" y="54"/>
                    </a:cubicBezTo>
                    <a:cubicBezTo>
                      <a:pt x="70" y="55"/>
                      <a:pt x="71" y="55"/>
                      <a:pt x="72" y="55"/>
                    </a:cubicBezTo>
                    <a:cubicBezTo>
                      <a:pt x="73" y="55"/>
                      <a:pt x="74" y="55"/>
                      <a:pt x="75" y="54"/>
                    </a:cubicBezTo>
                    <a:cubicBezTo>
                      <a:pt x="75" y="54"/>
                      <a:pt x="75" y="53"/>
                      <a:pt x="75" y="52"/>
                    </a:cubicBezTo>
                    <a:cubicBezTo>
                      <a:pt x="75" y="41"/>
                      <a:pt x="75" y="41"/>
                      <a:pt x="75" y="41"/>
                    </a:cubicBezTo>
                    <a:cubicBezTo>
                      <a:pt x="75" y="40"/>
                      <a:pt x="75" y="39"/>
                      <a:pt x="75" y="38"/>
                    </a:cubicBezTo>
                    <a:cubicBezTo>
                      <a:pt x="74" y="38"/>
                      <a:pt x="73" y="37"/>
                      <a:pt x="72" y="37"/>
                    </a:cubicBezTo>
                    <a:cubicBezTo>
                      <a:pt x="71" y="37"/>
                      <a:pt x="70" y="38"/>
                      <a:pt x="70" y="38"/>
                    </a:cubicBezTo>
                    <a:cubicBezTo>
                      <a:pt x="69" y="39"/>
                      <a:pt x="69" y="40"/>
                      <a:pt x="69" y="41"/>
                    </a:cubicBezTo>
                    <a:cubicBezTo>
                      <a:pt x="57" y="41"/>
                      <a:pt x="57" y="41"/>
                      <a:pt x="57" y="41"/>
                    </a:cubicBezTo>
                    <a:cubicBezTo>
                      <a:pt x="57" y="14"/>
                      <a:pt x="57" y="14"/>
                      <a:pt x="57" y="14"/>
                    </a:cubicBezTo>
                    <a:cubicBezTo>
                      <a:pt x="88" y="14"/>
                      <a:pt x="88" y="14"/>
                      <a:pt x="88" y="14"/>
                    </a:cubicBezTo>
                    <a:cubicBezTo>
                      <a:pt x="88" y="23"/>
                      <a:pt x="88" y="23"/>
                      <a:pt x="88" y="23"/>
                    </a:cubicBezTo>
                    <a:cubicBezTo>
                      <a:pt x="68" y="23"/>
                      <a:pt x="68" y="23"/>
                      <a:pt x="68" y="23"/>
                    </a:cubicBezTo>
                    <a:cubicBezTo>
                      <a:pt x="68" y="31"/>
                      <a:pt x="68" y="31"/>
                      <a:pt x="68" y="31"/>
                    </a:cubicBezTo>
                    <a:cubicBezTo>
                      <a:pt x="69" y="30"/>
                      <a:pt x="70" y="29"/>
                      <a:pt x="72" y="29"/>
                    </a:cubicBezTo>
                    <a:cubicBezTo>
                      <a:pt x="73" y="29"/>
                      <a:pt x="75" y="29"/>
                      <a:pt x="76" y="29"/>
                    </a:cubicBezTo>
                    <a:cubicBezTo>
                      <a:pt x="80" y="29"/>
                      <a:pt x="84" y="30"/>
                      <a:pt x="86" y="32"/>
                    </a:cubicBezTo>
                    <a:cubicBezTo>
                      <a:pt x="88" y="34"/>
                      <a:pt x="89" y="37"/>
                      <a:pt x="89" y="42"/>
                    </a:cubicBezTo>
                    <a:cubicBezTo>
                      <a:pt x="89" y="48"/>
                      <a:pt x="89" y="48"/>
                      <a:pt x="89" y="48"/>
                    </a:cubicBezTo>
                    <a:cubicBezTo>
                      <a:pt x="89" y="53"/>
                      <a:pt x="88" y="57"/>
                      <a:pt x="85" y="60"/>
                    </a:cubicBezTo>
                    <a:cubicBezTo>
                      <a:pt x="82" y="62"/>
                      <a:pt x="78" y="64"/>
                      <a:pt x="72" y="64"/>
                    </a:cubicBezTo>
                    <a:cubicBezTo>
                      <a:pt x="66" y="64"/>
                      <a:pt x="62" y="62"/>
                      <a:pt x="60" y="60"/>
                    </a:cubicBezTo>
                    <a:cubicBezTo>
                      <a:pt x="57" y="58"/>
                      <a:pt x="56" y="54"/>
                      <a:pt x="56" y="50"/>
                    </a:cubicBezTo>
                    <a:lnTo>
                      <a:pt x="56" y="47"/>
                    </a:lnTo>
                    <a:close/>
                    <a:moveTo>
                      <a:pt x="21" y="19"/>
                    </a:moveTo>
                    <a:cubicBezTo>
                      <a:pt x="21" y="19"/>
                      <a:pt x="21" y="19"/>
                      <a:pt x="21" y="19"/>
                    </a:cubicBezTo>
                    <a:cubicBezTo>
                      <a:pt x="24" y="19"/>
                      <a:pt x="26" y="19"/>
                      <a:pt x="28" y="18"/>
                    </a:cubicBezTo>
                    <a:cubicBezTo>
                      <a:pt x="30" y="17"/>
                      <a:pt x="31" y="16"/>
                      <a:pt x="32" y="14"/>
                    </a:cubicBezTo>
                    <a:cubicBezTo>
                      <a:pt x="44" y="14"/>
                      <a:pt x="44" y="14"/>
                      <a:pt x="44" y="14"/>
                    </a:cubicBezTo>
                    <a:cubicBezTo>
                      <a:pt x="44" y="63"/>
                      <a:pt x="44" y="63"/>
                      <a:pt x="44" y="63"/>
                    </a:cubicBezTo>
                    <a:cubicBezTo>
                      <a:pt x="31" y="63"/>
                      <a:pt x="31" y="63"/>
                      <a:pt x="31" y="63"/>
                    </a:cubicBezTo>
                    <a:cubicBezTo>
                      <a:pt x="31" y="26"/>
                      <a:pt x="31" y="26"/>
                      <a:pt x="31" y="26"/>
                    </a:cubicBezTo>
                    <a:cubicBezTo>
                      <a:pt x="29" y="27"/>
                      <a:pt x="28" y="27"/>
                      <a:pt x="27" y="27"/>
                    </a:cubicBezTo>
                    <a:cubicBezTo>
                      <a:pt x="27" y="27"/>
                      <a:pt x="26" y="27"/>
                      <a:pt x="26" y="27"/>
                    </a:cubicBezTo>
                    <a:cubicBezTo>
                      <a:pt x="21" y="27"/>
                      <a:pt x="21" y="27"/>
                      <a:pt x="21" y="27"/>
                    </a:cubicBezTo>
                    <a:lnTo>
                      <a:pt x="21" y="19"/>
                    </a:lnTo>
                    <a:close/>
                  </a:path>
                </a:pathLst>
              </a:custGeom>
              <a:solidFill>
                <a:srgbClr val="ffffff"/>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grpSp>
        <p:sp>
          <p:nvSpPr>
            <p:cNvPr id="294" name="文本框 82"/>
            <p:cNvSpPr/>
            <p:nvPr/>
          </p:nvSpPr>
          <p:spPr>
            <a:xfrm>
              <a:off x="6813000" y="2809080"/>
              <a:ext cx="1217520" cy="564840"/>
            </a:xfrm>
            <a:prstGeom prst="rect">
              <a:avLst/>
            </a:prstGeom>
            <a:noFill/>
            <a:ln w="0">
              <a:noFill/>
            </a:ln>
          </p:spPr>
          <p:style>
            <a:lnRef idx="0"/>
            <a:fillRef idx="0"/>
            <a:effectRef idx="0"/>
            <a:fontRef idx="minor"/>
          </p:style>
          <p:txBody>
            <a:bodyPr lIns="90000" rIns="90000" tIns="45000" bIns="45000" anchor="t">
              <a:spAutoFit/>
            </a:bodyPr>
            <a:p>
              <a:pPr algn="ctr">
                <a:lnSpc>
                  <a:spcPct val="130000"/>
                </a:lnSpc>
              </a:pPr>
              <a:r>
                <a:rPr b="0" lang="zh-CN" sz="2400" spc="-1" strike="noStrike">
                  <a:solidFill>
                    <a:srgbClr val="ffffff"/>
                  </a:solidFill>
                  <a:latin typeface="微软雅黑"/>
                  <a:ea typeface="微软雅黑"/>
                </a:rPr>
                <a:t>标题二</a:t>
              </a:r>
              <a:endParaRPr b="0" lang="en-US" sz="2400" spc="-1" strike="noStrike">
                <a:solidFill>
                  <a:srgbClr val="000000"/>
                </a:solidFill>
                <a:latin typeface="Arial"/>
              </a:endParaRPr>
            </a:p>
          </p:txBody>
        </p:sp>
      </p:grpSp>
      <p:grpSp>
        <p:nvGrpSpPr>
          <p:cNvPr id="295" name="组合 9"/>
          <p:cNvGrpSpPr/>
          <p:nvPr/>
        </p:nvGrpSpPr>
        <p:grpSpPr>
          <a:xfrm>
            <a:off x="4183560" y="2361240"/>
            <a:ext cx="1217520" cy="1012680"/>
            <a:chOff x="4183560" y="2361240"/>
            <a:chExt cx="1217520" cy="1012680"/>
          </a:xfrm>
        </p:grpSpPr>
        <p:grpSp>
          <p:nvGrpSpPr>
            <p:cNvPr id="296" name="组合 107"/>
            <p:cNvGrpSpPr/>
            <p:nvPr/>
          </p:nvGrpSpPr>
          <p:grpSpPr>
            <a:xfrm>
              <a:off x="4540320" y="2361240"/>
              <a:ext cx="461880" cy="367920"/>
              <a:chOff x="4540320" y="2361240"/>
              <a:chExt cx="461880" cy="367920"/>
            </a:xfrm>
          </p:grpSpPr>
          <p:sp>
            <p:nvSpPr>
              <p:cNvPr id="297" name="Freeform 120"/>
              <p:cNvSpPr/>
              <p:nvPr/>
            </p:nvSpPr>
            <p:spPr>
              <a:xfrm>
                <a:off x="4594320" y="2361240"/>
                <a:ext cx="352080" cy="183960"/>
              </a:xfrm>
              <a:custGeom>
                <a:avLst/>
                <a:gdLst>
                  <a:gd name="textAreaLeft" fmla="*/ 0 w 352080"/>
                  <a:gd name="textAreaRight" fmla="*/ 352440 w 352080"/>
                  <a:gd name="textAreaTop" fmla="*/ 0 h 183960"/>
                  <a:gd name="textAreaBottom" fmla="*/ 184320 h 183960"/>
                </a:gdLst>
                <a:ahLst/>
                <a:rect l="textAreaLeft" t="textAreaTop" r="textAreaRight" b="textAreaBottom"/>
                <a:pathLst>
                  <a:path w="94" h="49">
                    <a:moveTo>
                      <a:pt x="47" y="0"/>
                    </a:moveTo>
                    <a:cubicBezTo>
                      <a:pt x="21" y="0"/>
                      <a:pt x="0" y="22"/>
                      <a:pt x="0" y="49"/>
                    </a:cubicBezTo>
                    <a:cubicBezTo>
                      <a:pt x="10" y="49"/>
                      <a:pt x="10" y="49"/>
                      <a:pt x="10" y="49"/>
                    </a:cubicBezTo>
                    <a:cubicBezTo>
                      <a:pt x="10" y="26"/>
                      <a:pt x="27" y="7"/>
                      <a:pt x="47" y="7"/>
                    </a:cubicBezTo>
                    <a:cubicBezTo>
                      <a:pt x="68" y="7"/>
                      <a:pt x="84" y="26"/>
                      <a:pt x="84" y="49"/>
                    </a:cubicBezTo>
                    <a:cubicBezTo>
                      <a:pt x="94" y="49"/>
                      <a:pt x="94" y="49"/>
                      <a:pt x="94" y="49"/>
                    </a:cubicBezTo>
                    <a:cubicBezTo>
                      <a:pt x="94" y="22"/>
                      <a:pt x="73" y="0"/>
                      <a:pt x="47" y="0"/>
                    </a:cubicBezTo>
                    <a:close/>
                  </a:path>
                </a:pathLst>
              </a:custGeom>
              <a:solidFill>
                <a:srgbClr val="ffffff"/>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298" name="Rectangle 121"/>
              <p:cNvSpPr/>
              <p:nvPr/>
            </p:nvSpPr>
            <p:spPr>
              <a:xfrm>
                <a:off x="4575240" y="2556360"/>
                <a:ext cx="82080" cy="172800"/>
              </a:xfrm>
              <a:prstGeom prst="rect">
                <a:avLst/>
              </a:prstGeom>
              <a:solidFill>
                <a:srgbClr val="ffffff"/>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299" name="Rectangle 122"/>
              <p:cNvSpPr/>
              <p:nvPr/>
            </p:nvSpPr>
            <p:spPr>
              <a:xfrm>
                <a:off x="4889880" y="2556360"/>
                <a:ext cx="75960" cy="167760"/>
              </a:xfrm>
              <a:prstGeom prst="rect">
                <a:avLst/>
              </a:prstGeom>
              <a:solidFill>
                <a:srgbClr val="ffffff"/>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300" name="Rectangle 123"/>
              <p:cNvSpPr/>
              <p:nvPr/>
            </p:nvSpPr>
            <p:spPr>
              <a:xfrm>
                <a:off x="4980240" y="2593080"/>
                <a:ext cx="21960" cy="95040"/>
              </a:xfrm>
              <a:prstGeom prst="rect">
                <a:avLst/>
              </a:prstGeom>
              <a:solidFill>
                <a:srgbClr val="ffffff"/>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301" name="Rectangle 124"/>
              <p:cNvSpPr/>
              <p:nvPr/>
            </p:nvSpPr>
            <p:spPr>
              <a:xfrm>
                <a:off x="4540320" y="2593080"/>
                <a:ext cx="23400" cy="95040"/>
              </a:xfrm>
              <a:prstGeom prst="rect">
                <a:avLst/>
              </a:prstGeom>
              <a:solidFill>
                <a:srgbClr val="ffffff"/>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grpSp>
        <p:sp>
          <p:nvSpPr>
            <p:cNvPr id="302" name="文本框 86"/>
            <p:cNvSpPr/>
            <p:nvPr/>
          </p:nvSpPr>
          <p:spPr>
            <a:xfrm>
              <a:off x="4183560" y="2809080"/>
              <a:ext cx="1217520" cy="564840"/>
            </a:xfrm>
            <a:prstGeom prst="rect">
              <a:avLst/>
            </a:prstGeom>
            <a:noFill/>
            <a:ln w="0">
              <a:noFill/>
            </a:ln>
          </p:spPr>
          <p:style>
            <a:lnRef idx="0"/>
            <a:fillRef idx="0"/>
            <a:effectRef idx="0"/>
            <a:fontRef idx="minor"/>
          </p:style>
          <p:txBody>
            <a:bodyPr lIns="90000" rIns="90000" tIns="45000" bIns="45000" anchor="t">
              <a:spAutoFit/>
            </a:bodyPr>
            <a:p>
              <a:pPr algn="ctr">
                <a:lnSpc>
                  <a:spcPct val="130000"/>
                </a:lnSpc>
              </a:pPr>
              <a:r>
                <a:rPr b="0" lang="zh-CN" sz="2400" spc="-1" strike="noStrike">
                  <a:solidFill>
                    <a:srgbClr val="ffffff"/>
                  </a:solidFill>
                  <a:latin typeface="微软雅黑"/>
                  <a:ea typeface="微软雅黑"/>
                </a:rPr>
                <a:t>标题一</a:t>
              </a:r>
              <a:endParaRPr b="0" lang="en-US" sz="2400" spc="-1" strike="noStrike">
                <a:solidFill>
                  <a:srgbClr val="000000"/>
                </a:solidFill>
                <a:latin typeface="Arial"/>
              </a:endParaRPr>
            </a:p>
          </p:txBody>
        </p:sp>
      </p:grpSp>
      <p:sp>
        <p:nvSpPr>
          <p:cNvPr id="303" name="Text Box 3"/>
          <p:cNvSpPr/>
          <p:nvPr/>
        </p:nvSpPr>
        <p:spPr>
          <a:xfrm>
            <a:off x="811440" y="6527520"/>
            <a:ext cx="5327280" cy="36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600" spc="-1" strike="noStrike">
                <a:solidFill>
                  <a:srgbClr val="000000"/>
                </a:solidFill>
                <a:latin typeface="Arial"/>
                <a:ea typeface="宋体"/>
              </a:rPr>
              <a:t> </a:t>
            </a:r>
            <a:r>
              <a:rPr b="0" lang="zh-CN" sz="1600" spc="-1" strike="noStrike" u="sng">
                <a:solidFill>
                  <a:srgbClr val="0563c1"/>
                </a:solidFill>
                <a:uFillTx/>
                <a:latin typeface="Arial"/>
                <a:ea typeface="宋体"/>
                <a:hlinkClick r:id="rId1"/>
              </a:rPr>
              <a:t>免费ppt模板</a:t>
            </a:r>
            <a:r>
              <a:rPr b="0" lang="en-US" sz="1600" spc="-1" strike="noStrike">
                <a:solidFill>
                  <a:srgbClr val="000000"/>
                </a:solidFill>
                <a:latin typeface="Arial"/>
                <a:ea typeface="宋体"/>
              </a:rPr>
              <a:t> </a:t>
            </a:r>
            <a:r>
              <a:rPr b="0" lang="en-US" sz="1600" spc="-1" strike="noStrike">
                <a:solidFill>
                  <a:srgbClr val="000000"/>
                </a:solidFill>
                <a:latin typeface="Arial"/>
                <a:ea typeface="宋体"/>
              </a:rPr>
              <a:t>http://www.eeppt.com/moba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53" presetSubtype="16">
                                  <p:stCondLst>
                                    <p:cond delay="0"/>
                                  </p:stCondLst>
                                  <p:childTnLst>
                                    <p:set>
                                      <p:cBhvr>
                                        <p:cTn id="70" dur="1" fill="hold">
                                          <p:stCondLst>
                                            <p:cond delay="0"/>
                                          </p:stCondLst>
                                        </p:cTn>
                                        <p:tgtEl>
                                          <p:spTgt spid="276"/>
                                        </p:tgtEl>
                                        <p:attrNameLst>
                                          <p:attrName>style.visibility</p:attrName>
                                        </p:attrNameLst>
                                      </p:cBhvr>
                                      <p:to>
                                        <p:strVal val="visible"/>
                                      </p:to>
                                    </p:set>
                                    <p:anim calcmode="lin" valueType="num">
                                      <p:cBhvr additive="repl">
                                        <p:cTn id="71" dur="500" fill="hold"/>
                                        <p:tgtEl>
                                          <p:spTgt spid="276"/>
                                        </p:tgtEl>
                                        <p:attrNameLst>
                                          <p:attrName>ppt_w</p:attrName>
                                        </p:attrNameLst>
                                      </p:cBhvr>
                                      <p:tavLst>
                                        <p:tav tm="0">
                                          <p:val>
                                            <p:fltVal val="0"/>
                                          </p:val>
                                        </p:tav>
                                        <p:tav tm="100000">
                                          <p:val>
                                            <p:strVal val="#ppt_w"/>
                                          </p:val>
                                        </p:tav>
                                      </p:tavLst>
                                    </p:anim>
                                    <p:anim calcmode="lin" valueType="num">
                                      <p:cBhvr additive="repl">
                                        <p:cTn id="72" dur="500" fill="hold"/>
                                        <p:tgtEl>
                                          <p:spTgt spid="276"/>
                                        </p:tgtEl>
                                        <p:attrNameLst>
                                          <p:attrName>ppt_h</p:attrName>
                                        </p:attrNameLst>
                                      </p:cBhvr>
                                      <p:tavLst>
                                        <p:tav tm="0">
                                          <p:val>
                                            <p:fltVal val="0"/>
                                          </p:val>
                                        </p:tav>
                                        <p:tav tm="100000">
                                          <p:val>
                                            <p:strVal val="#ppt_h"/>
                                          </p:val>
                                        </p:tav>
                                      </p:tavLst>
                                    </p:anim>
                                    <p:animEffect filter="fade" transition="in">
                                      <p:cBhvr additive="repl">
                                        <p:cTn id="73" dur="500"/>
                                        <p:tgtEl>
                                          <p:spTgt spid="276"/>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2" presetSubtype="2">
                                  <p:stCondLst>
                                    <p:cond delay="0"/>
                                  </p:stCondLst>
                                  <p:childTnLst>
                                    <p:set>
                                      <p:cBhvr>
                                        <p:cTn id="77" dur="1" fill="hold">
                                          <p:stCondLst>
                                            <p:cond delay="0"/>
                                          </p:stCondLst>
                                        </p:cTn>
                                        <p:tgtEl>
                                          <p:spTgt spid="260"/>
                                        </p:tgtEl>
                                        <p:attrNameLst>
                                          <p:attrName>style.visibility</p:attrName>
                                        </p:attrNameLst>
                                      </p:cBhvr>
                                      <p:to>
                                        <p:strVal val="visible"/>
                                      </p:to>
                                    </p:set>
                                    <p:animEffect filter="wipe(right)" transition="in">
                                      <p:cBhvr additive="repl">
                                        <p:cTn id="78" dur="500"/>
                                        <p:tgtEl>
                                          <p:spTgt spid="260"/>
                                        </p:tgtEl>
                                      </p:cBhvr>
                                    </p:animEffect>
                                  </p:childTnLst>
                                </p:cTn>
                              </p:par>
                            </p:childTnLst>
                          </p:cTn>
                        </p:par>
                        <p:par>
                          <p:cTn id="79" fill="hold">
                            <p:stCondLst>
                              <p:cond delay="500"/>
                            </p:stCondLst>
                            <p:childTnLst>
                              <p:par>
                                <p:cTn id="80" nodeType="afterEffect" fill="hold" presetClass="entr" presetID="22" presetSubtype="1">
                                  <p:stCondLst>
                                    <p:cond delay="0"/>
                                  </p:stCondLst>
                                  <p:childTnLst>
                                    <p:set>
                                      <p:cBhvr>
                                        <p:cTn id="81" dur="1" fill="hold">
                                          <p:stCondLst>
                                            <p:cond delay="0"/>
                                          </p:stCondLst>
                                        </p:cTn>
                                        <p:tgtEl>
                                          <p:spTgt spid="295"/>
                                        </p:tgtEl>
                                        <p:attrNameLst>
                                          <p:attrName>style.visibility</p:attrName>
                                        </p:attrNameLst>
                                      </p:cBhvr>
                                      <p:to>
                                        <p:strVal val="visible"/>
                                      </p:to>
                                    </p:set>
                                    <p:animEffect filter="wipe(up)" transition="in">
                                      <p:cBhvr additive="repl">
                                        <p:cTn id="82" dur="500"/>
                                        <p:tgtEl>
                                          <p:spTgt spid="295"/>
                                        </p:tgtEl>
                                      </p:cBhvr>
                                    </p:animEffect>
                                  </p:childTnLst>
                                </p:cTn>
                              </p:par>
                            </p:childTnLst>
                          </p:cTn>
                        </p:par>
                        <p:par>
                          <p:cTn id="83" fill="hold">
                            <p:stCondLst>
                              <p:cond delay="1000"/>
                            </p:stCondLst>
                            <p:childTnLst>
                              <p:par>
                                <p:cTn id="84" nodeType="afterEffect" fill="hold" presetClass="entr" presetID="2" presetSubtype="8">
                                  <p:stCondLst>
                                    <p:cond delay="0"/>
                                  </p:stCondLst>
                                  <p:childTnLst>
                                    <p:set>
                                      <p:cBhvr>
                                        <p:cTn id="85" dur="1" fill="hold">
                                          <p:stCondLst>
                                            <p:cond delay="0"/>
                                          </p:stCondLst>
                                        </p:cTn>
                                        <p:tgtEl>
                                          <p:spTgt spid="267"/>
                                        </p:tgtEl>
                                        <p:attrNameLst>
                                          <p:attrName>style.visibility</p:attrName>
                                        </p:attrNameLst>
                                      </p:cBhvr>
                                      <p:to>
                                        <p:strVal val="visible"/>
                                      </p:to>
                                    </p:set>
                                    <p:anim calcmode="lin" valueType="num">
                                      <p:cBhvr additive="repl">
                                        <p:cTn id="86" dur="500" fill="hold"/>
                                        <p:tgtEl>
                                          <p:spTgt spid="267"/>
                                        </p:tgtEl>
                                        <p:attrNameLst>
                                          <p:attrName>ppt_x</p:attrName>
                                        </p:attrNameLst>
                                      </p:cBhvr>
                                      <p:tavLst>
                                        <p:tav tm="0">
                                          <p:val>
                                            <p:strVal val="0-#ppt_w/2"/>
                                          </p:val>
                                        </p:tav>
                                        <p:tav tm="100000">
                                          <p:val>
                                            <p:strVal val="#ppt_x"/>
                                          </p:val>
                                        </p:tav>
                                      </p:tavLst>
                                    </p:anim>
                                    <p:anim calcmode="lin" valueType="num">
                                      <p:cBhvr additive="repl">
                                        <p:cTn id="87" dur="500" fill="hold"/>
                                        <p:tgtEl>
                                          <p:spTgt spid="267"/>
                                        </p:tgtEl>
                                        <p:attrNameLst>
                                          <p:attrName>ppt_y</p:attrName>
                                        </p:attrNameLst>
                                      </p:cBhvr>
                                      <p:tavLst>
                                        <p:tav tm="0">
                                          <p:val>
                                            <p:strVal val="#ppt_y"/>
                                          </p:val>
                                        </p:tav>
                                        <p:tav tm="100000">
                                          <p:val>
                                            <p:strVal val="#ppt_y"/>
                                          </p:val>
                                        </p:tav>
                                      </p:tavLst>
                                    </p:anim>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2" presetSubtype="8">
                                  <p:stCondLst>
                                    <p:cond delay="0"/>
                                  </p:stCondLst>
                                  <p:childTnLst>
                                    <p:set>
                                      <p:cBhvr>
                                        <p:cTn id="91" dur="1" fill="hold">
                                          <p:stCondLst>
                                            <p:cond delay="0"/>
                                          </p:stCondLst>
                                        </p:cTn>
                                        <p:tgtEl>
                                          <p:spTgt spid="274"/>
                                        </p:tgtEl>
                                        <p:attrNameLst>
                                          <p:attrName>style.visibility</p:attrName>
                                        </p:attrNameLst>
                                      </p:cBhvr>
                                      <p:to>
                                        <p:strVal val="visible"/>
                                      </p:to>
                                    </p:set>
                                    <p:animEffect filter="wipe(left)" transition="in">
                                      <p:cBhvr additive="repl">
                                        <p:cTn id="92" dur="500"/>
                                        <p:tgtEl>
                                          <p:spTgt spid="274"/>
                                        </p:tgtEl>
                                      </p:cBhvr>
                                    </p:animEffect>
                                  </p:childTnLst>
                                </p:cTn>
                              </p:par>
                            </p:childTnLst>
                          </p:cTn>
                        </p:par>
                        <p:par>
                          <p:cTn id="93" fill="hold">
                            <p:stCondLst>
                              <p:cond delay="500"/>
                            </p:stCondLst>
                            <p:childTnLst>
                              <p:par>
                                <p:cTn id="94" nodeType="afterEffect" fill="hold" presetClass="entr" presetID="22" presetSubtype="1">
                                  <p:stCondLst>
                                    <p:cond delay="0"/>
                                  </p:stCondLst>
                                  <p:childTnLst>
                                    <p:set>
                                      <p:cBhvr>
                                        <p:cTn id="95" dur="1" fill="hold">
                                          <p:stCondLst>
                                            <p:cond delay="0"/>
                                          </p:stCondLst>
                                        </p:cTn>
                                        <p:tgtEl>
                                          <p:spTgt spid="290"/>
                                        </p:tgtEl>
                                        <p:attrNameLst>
                                          <p:attrName>style.visibility</p:attrName>
                                        </p:attrNameLst>
                                      </p:cBhvr>
                                      <p:to>
                                        <p:strVal val="visible"/>
                                      </p:to>
                                    </p:set>
                                    <p:animEffect filter="wipe(up)" transition="in">
                                      <p:cBhvr additive="repl">
                                        <p:cTn id="96" dur="500"/>
                                        <p:tgtEl>
                                          <p:spTgt spid="290"/>
                                        </p:tgtEl>
                                      </p:cBhvr>
                                    </p:animEffect>
                                  </p:childTnLst>
                                </p:cTn>
                              </p:par>
                            </p:childTnLst>
                          </p:cTn>
                        </p:par>
                        <p:par>
                          <p:cTn id="97" fill="hold">
                            <p:stCondLst>
                              <p:cond delay="1000"/>
                            </p:stCondLst>
                            <p:childTnLst>
                              <p:par>
                                <p:cTn id="98" nodeType="afterEffect" fill="hold" presetClass="entr" presetID="2" presetSubtype="2">
                                  <p:stCondLst>
                                    <p:cond delay="0"/>
                                  </p:stCondLst>
                                  <p:childTnLst>
                                    <p:set>
                                      <p:cBhvr>
                                        <p:cTn id="99" dur="1" fill="hold">
                                          <p:stCondLst>
                                            <p:cond delay="0"/>
                                          </p:stCondLst>
                                        </p:cTn>
                                        <p:tgtEl>
                                          <p:spTgt spid="261"/>
                                        </p:tgtEl>
                                        <p:attrNameLst>
                                          <p:attrName>style.visibility</p:attrName>
                                        </p:attrNameLst>
                                      </p:cBhvr>
                                      <p:to>
                                        <p:strVal val="visible"/>
                                      </p:to>
                                    </p:set>
                                    <p:anim calcmode="lin" valueType="num">
                                      <p:cBhvr additive="repl">
                                        <p:cTn id="100" dur="500" fill="hold"/>
                                        <p:tgtEl>
                                          <p:spTgt spid="261"/>
                                        </p:tgtEl>
                                        <p:attrNameLst>
                                          <p:attrName>ppt_x</p:attrName>
                                        </p:attrNameLst>
                                      </p:cBhvr>
                                      <p:tavLst>
                                        <p:tav tm="0">
                                          <p:val>
                                            <p:strVal val="1+#ppt_w/2"/>
                                          </p:val>
                                        </p:tav>
                                        <p:tav tm="100000">
                                          <p:val>
                                            <p:strVal val="#ppt_x"/>
                                          </p:val>
                                        </p:tav>
                                      </p:tavLst>
                                    </p:anim>
                                    <p:anim calcmode="lin" valueType="num">
                                      <p:cBhvr additive="repl">
                                        <p:cTn id="101" dur="500" fill="hold"/>
                                        <p:tgtEl>
                                          <p:spTgt spid="261"/>
                                        </p:tgtEl>
                                        <p:attrNameLst>
                                          <p:attrName>ppt_y</p:attrName>
                                        </p:attrNameLst>
                                      </p:cBhvr>
                                      <p:tavLst>
                                        <p:tav tm="0">
                                          <p:val>
                                            <p:strVal val="#ppt_y"/>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2" presetSubtype="8">
                                  <p:stCondLst>
                                    <p:cond delay="0"/>
                                  </p:stCondLst>
                                  <p:childTnLst>
                                    <p:set>
                                      <p:cBhvr>
                                        <p:cTn id="105" dur="1" fill="hold">
                                          <p:stCondLst>
                                            <p:cond delay="0"/>
                                          </p:stCondLst>
                                        </p:cTn>
                                        <p:tgtEl>
                                          <p:spTgt spid="275"/>
                                        </p:tgtEl>
                                        <p:attrNameLst>
                                          <p:attrName>style.visibility</p:attrName>
                                        </p:attrNameLst>
                                      </p:cBhvr>
                                      <p:to>
                                        <p:strVal val="visible"/>
                                      </p:to>
                                    </p:set>
                                    <p:animEffect filter="wipe(left)" transition="in">
                                      <p:cBhvr additive="repl">
                                        <p:cTn id="106" dur="500"/>
                                        <p:tgtEl>
                                          <p:spTgt spid="275"/>
                                        </p:tgtEl>
                                      </p:cBhvr>
                                    </p:animEffect>
                                  </p:childTnLst>
                                </p:cTn>
                              </p:par>
                            </p:childTnLst>
                          </p:cTn>
                        </p:par>
                        <p:par>
                          <p:cTn id="107" fill="hold">
                            <p:stCondLst>
                              <p:cond delay="500"/>
                            </p:stCondLst>
                            <p:childTnLst>
                              <p:par>
                                <p:cTn id="108" nodeType="afterEffect" fill="hold" presetClass="entr" presetID="22" presetSubtype="1">
                                  <p:stCondLst>
                                    <p:cond delay="0"/>
                                  </p:stCondLst>
                                  <p:childTnLst>
                                    <p:set>
                                      <p:cBhvr>
                                        <p:cTn id="109" dur="1" fill="hold">
                                          <p:stCondLst>
                                            <p:cond delay="0"/>
                                          </p:stCondLst>
                                        </p:cTn>
                                        <p:tgtEl>
                                          <p:spTgt spid="284"/>
                                        </p:tgtEl>
                                        <p:attrNameLst>
                                          <p:attrName>style.visibility</p:attrName>
                                        </p:attrNameLst>
                                      </p:cBhvr>
                                      <p:to>
                                        <p:strVal val="visible"/>
                                      </p:to>
                                    </p:set>
                                    <p:animEffect filter="wipe(up)" transition="in">
                                      <p:cBhvr additive="repl">
                                        <p:cTn id="110" dur="500"/>
                                        <p:tgtEl>
                                          <p:spTgt spid="284"/>
                                        </p:tgtEl>
                                      </p:cBhvr>
                                    </p:animEffect>
                                  </p:childTnLst>
                                </p:cTn>
                              </p:par>
                            </p:childTnLst>
                          </p:cTn>
                        </p:par>
                        <p:par>
                          <p:cTn id="111" fill="hold">
                            <p:stCondLst>
                              <p:cond delay="1000"/>
                            </p:stCondLst>
                            <p:childTnLst>
                              <p:par>
                                <p:cTn id="112" nodeType="afterEffect" fill="hold" presetClass="entr" presetID="2" presetSubtype="2">
                                  <p:stCondLst>
                                    <p:cond delay="0"/>
                                  </p:stCondLst>
                                  <p:childTnLst>
                                    <p:set>
                                      <p:cBhvr>
                                        <p:cTn id="113" dur="1" fill="hold">
                                          <p:stCondLst>
                                            <p:cond delay="0"/>
                                          </p:stCondLst>
                                        </p:cTn>
                                        <p:tgtEl>
                                          <p:spTgt spid="264"/>
                                        </p:tgtEl>
                                        <p:attrNameLst>
                                          <p:attrName>style.visibility</p:attrName>
                                        </p:attrNameLst>
                                      </p:cBhvr>
                                      <p:to>
                                        <p:strVal val="visible"/>
                                      </p:to>
                                    </p:set>
                                    <p:anim calcmode="lin" valueType="num">
                                      <p:cBhvr additive="repl">
                                        <p:cTn id="114" dur="500" fill="hold"/>
                                        <p:tgtEl>
                                          <p:spTgt spid="264"/>
                                        </p:tgtEl>
                                        <p:attrNameLst>
                                          <p:attrName>ppt_x</p:attrName>
                                        </p:attrNameLst>
                                      </p:cBhvr>
                                      <p:tavLst>
                                        <p:tav tm="0">
                                          <p:val>
                                            <p:strVal val="1+#ppt_w/2"/>
                                          </p:val>
                                        </p:tav>
                                        <p:tav tm="100000">
                                          <p:val>
                                            <p:strVal val="#ppt_x"/>
                                          </p:val>
                                        </p:tav>
                                      </p:tavLst>
                                    </p:anim>
                                    <p:anim calcmode="lin" valueType="num">
                                      <p:cBhvr additive="repl">
                                        <p:cTn id="115" dur="500" fill="hold"/>
                                        <p:tgtEl>
                                          <p:spTgt spid="264"/>
                                        </p:tgtEl>
                                        <p:attrNameLst>
                                          <p:attrName>ppt_y</p:attrName>
                                        </p:attrNameLst>
                                      </p:cBhvr>
                                      <p:tavLst>
                                        <p:tav tm="0">
                                          <p:val>
                                            <p:strVal val="#ppt_y"/>
                                          </p:val>
                                        </p:tav>
                                        <p:tav tm="100000">
                                          <p:val>
                                            <p:strVal val="#ppt_y"/>
                                          </p:val>
                                        </p:tav>
                                      </p:tavLst>
                                    </p:anim>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22" presetSubtype="2">
                                  <p:stCondLst>
                                    <p:cond delay="0"/>
                                  </p:stCondLst>
                                  <p:childTnLst>
                                    <p:set>
                                      <p:cBhvr>
                                        <p:cTn id="119" dur="1" fill="hold">
                                          <p:stCondLst>
                                            <p:cond delay="0"/>
                                          </p:stCondLst>
                                        </p:cTn>
                                        <p:tgtEl>
                                          <p:spTgt spid="273"/>
                                        </p:tgtEl>
                                        <p:attrNameLst>
                                          <p:attrName>style.visibility</p:attrName>
                                        </p:attrNameLst>
                                      </p:cBhvr>
                                      <p:to>
                                        <p:strVal val="visible"/>
                                      </p:to>
                                    </p:set>
                                    <p:animEffect filter="wipe(right)" transition="in">
                                      <p:cBhvr additive="repl">
                                        <p:cTn id="120" dur="500"/>
                                        <p:tgtEl>
                                          <p:spTgt spid="273"/>
                                        </p:tgtEl>
                                      </p:cBhvr>
                                    </p:animEffect>
                                  </p:childTnLst>
                                </p:cTn>
                              </p:par>
                            </p:childTnLst>
                          </p:cTn>
                        </p:par>
                        <p:par>
                          <p:cTn id="121" fill="hold">
                            <p:stCondLst>
                              <p:cond delay="500"/>
                            </p:stCondLst>
                            <p:childTnLst>
                              <p:par>
                                <p:cTn id="122" nodeType="afterEffect" fill="hold" presetClass="entr" presetID="22" presetSubtype="1">
                                  <p:stCondLst>
                                    <p:cond delay="0"/>
                                  </p:stCondLst>
                                  <p:childTnLst>
                                    <p:set>
                                      <p:cBhvr>
                                        <p:cTn id="123" dur="1" fill="hold">
                                          <p:stCondLst>
                                            <p:cond delay="0"/>
                                          </p:stCondLst>
                                        </p:cTn>
                                        <p:tgtEl>
                                          <p:spTgt spid="279"/>
                                        </p:tgtEl>
                                        <p:attrNameLst>
                                          <p:attrName>style.visibility</p:attrName>
                                        </p:attrNameLst>
                                      </p:cBhvr>
                                      <p:to>
                                        <p:strVal val="visible"/>
                                      </p:to>
                                    </p:set>
                                    <p:animEffect filter="wipe(up)" transition="in">
                                      <p:cBhvr additive="repl">
                                        <p:cTn id="124" dur="500"/>
                                        <p:tgtEl>
                                          <p:spTgt spid="279"/>
                                        </p:tgtEl>
                                      </p:cBhvr>
                                    </p:animEffect>
                                  </p:childTnLst>
                                </p:cTn>
                              </p:par>
                            </p:childTnLst>
                          </p:cTn>
                        </p:par>
                        <p:par>
                          <p:cTn id="125" fill="hold">
                            <p:stCondLst>
                              <p:cond delay="1000"/>
                            </p:stCondLst>
                            <p:childTnLst>
                              <p:par>
                                <p:cTn id="126" nodeType="afterEffect" fill="hold" presetClass="entr" presetID="2" presetSubtype="8">
                                  <p:stCondLst>
                                    <p:cond delay="0"/>
                                  </p:stCondLst>
                                  <p:childTnLst>
                                    <p:set>
                                      <p:cBhvr>
                                        <p:cTn id="127" dur="1" fill="hold">
                                          <p:stCondLst>
                                            <p:cond delay="0"/>
                                          </p:stCondLst>
                                        </p:cTn>
                                        <p:tgtEl>
                                          <p:spTgt spid="270"/>
                                        </p:tgtEl>
                                        <p:attrNameLst>
                                          <p:attrName>style.visibility</p:attrName>
                                        </p:attrNameLst>
                                      </p:cBhvr>
                                      <p:to>
                                        <p:strVal val="visible"/>
                                      </p:to>
                                    </p:set>
                                    <p:anim calcmode="lin" valueType="num">
                                      <p:cBhvr additive="repl">
                                        <p:cTn id="128" dur="500" fill="hold"/>
                                        <p:tgtEl>
                                          <p:spTgt spid="270"/>
                                        </p:tgtEl>
                                        <p:attrNameLst>
                                          <p:attrName>ppt_x</p:attrName>
                                        </p:attrNameLst>
                                      </p:cBhvr>
                                      <p:tavLst>
                                        <p:tav tm="0">
                                          <p:val>
                                            <p:strVal val="0-#ppt_w/2"/>
                                          </p:val>
                                        </p:tav>
                                        <p:tav tm="100000">
                                          <p:val>
                                            <p:strVal val="#ppt_x"/>
                                          </p:val>
                                        </p:tav>
                                      </p:tavLst>
                                    </p:anim>
                                    <p:anim calcmode="lin" valueType="num">
                                      <p:cBhvr additive="repl">
                                        <p:cTn id="129" dur="500" fill="hold"/>
                                        <p:tgtEl>
                                          <p:spTgt spid="27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矩形 39"/>
          <p:cNvSpPr/>
          <p:nvPr/>
        </p:nvSpPr>
        <p:spPr>
          <a:xfrm>
            <a:off x="2265120" y="208080"/>
            <a:ext cx="1461240" cy="638280"/>
          </a:xfrm>
          <a:prstGeom prst="rect">
            <a:avLst/>
          </a:prstGeom>
          <a:noFill/>
          <a:ln w="0">
            <a:noFill/>
          </a:ln>
        </p:spPr>
        <p:style>
          <a:lnRef idx="0"/>
          <a:fillRef idx="0"/>
          <a:effectRef idx="0"/>
          <a:fontRef idx="minor"/>
        </p:style>
        <p:txBody>
          <a:bodyPr wrap="none" lIns="90000" rIns="90000" tIns="45000" bIns="45000" anchor="t">
            <a:spAutoFit/>
          </a:bodyPr>
          <a:p>
            <a:pPr>
              <a:lnSpc>
                <a:spcPct val="150000"/>
              </a:lnSpc>
            </a:pPr>
            <a:r>
              <a:rPr b="1" lang="zh-CN" sz="2400" spc="-1" strike="noStrike">
                <a:solidFill>
                  <a:srgbClr val="346182"/>
                </a:solidFill>
                <a:latin typeface="微软雅黑"/>
                <a:ea typeface="微软雅黑"/>
              </a:rPr>
              <a:t>此处插入文本框</a:t>
            </a:r>
            <a:endParaRPr b="0" lang="en-US" sz="2400" spc="-1" strike="noStrike">
              <a:solidFill>
                <a:srgbClr val="000000"/>
              </a:solidFill>
              <a:latin typeface="Arial"/>
            </a:endParaRPr>
          </a:p>
        </p:txBody>
      </p:sp>
      <p:sp>
        <p:nvSpPr>
          <p:cNvPr id="305" name="任意多边形 69"/>
          <p:cNvSpPr/>
          <p:nvPr/>
        </p:nvSpPr>
        <p:spPr>
          <a:xfrm>
            <a:off x="561960" y="5459040"/>
            <a:ext cx="1379160" cy="1436400"/>
          </a:xfrm>
          <a:custGeom>
            <a:avLst/>
            <a:gdLst>
              <a:gd name="textAreaLeft" fmla="*/ 0 w 1379160"/>
              <a:gd name="textAreaRight" fmla="*/ 1379520 w 1379160"/>
              <a:gd name="textAreaTop" fmla="*/ 0 h 1436400"/>
              <a:gd name="textAreaBottom" fmla="*/ 1436760 h 1436400"/>
            </a:gdLst>
            <a:ahLst/>
            <a:rect l="textAreaLeft" t="textAreaTop" r="textAreaRight" b="textAreaBottom"/>
            <a:pathLst>
              <a:path w="1379382" h="1436917">
                <a:moveTo>
                  <a:pt x="988221" y="0"/>
                </a:moveTo>
                <a:lnTo>
                  <a:pt x="1010406" y="15258"/>
                </a:lnTo>
                <a:lnTo>
                  <a:pt x="1238011" y="370872"/>
                </a:lnTo>
                <a:lnTo>
                  <a:pt x="1235427" y="372649"/>
                </a:lnTo>
                <a:lnTo>
                  <a:pt x="1289073" y="450653"/>
                </a:lnTo>
                <a:lnTo>
                  <a:pt x="1379382" y="591754"/>
                </a:lnTo>
                <a:lnTo>
                  <a:pt x="798132" y="1436917"/>
                </a:lnTo>
                <a:lnTo>
                  <a:pt x="0" y="1436917"/>
                </a:lnTo>
                <a:lnTo>
                  <a:pt x="988221" y="0"/>
                </a:lnTo>
                <a:close/>
              </a:path>
            </a:pathLst>
          </a:custGeom>
          <a:solidFill>
            <a:srgbClr val="ee8f82">
              <a:alpha val="25000"/>
            </a:srgbClr>
          </a:solidFill>
          <a:ln>
            <a:solidFill>
              <a:srgbClr val="eed9c6"/>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06" name="任意多边形 68"/>
          <p:cNvSpPr/>
          <p:nvPr/>
        </p:nvSpPr>
        <p:spPr>
          <a:xfrm>
            <a:off x="1950120" y="5459040"/>
            <a:ext cx="1377000" cy="1436400"/>
          </a:xfrm>
          <a:custGeom>
            <a:avLst/>
            <a:gdLst>
              <a:gd name="textAreaLeft" fmla="*/ 0 w 1377000"/>
              <a:gd name="textAreaRight" fmla="*/ 1377360 w 1377000"/>
              <a:gd name="textAreaTop" fmla="*/ 0 h 1436400"/>
              <a:gd name="textAreaBottom" fmla="*/ 1436760 h 1436400"/>
            </a:gdLst>
            <a:ahLst/>
            <a:rect l="textAreaLeft" t="textAreaTop" r="textAreaRight" b="textAreaBottom"/>
            <a:pathLst>
              <a:path w="1377333" h="1436916">
                <a:moveTo>
                  <a:pt x="389113" y="0"/>
                </a:moveTo>
                <a:lnTo>
                  <a:pt x="1377333" y="1436916"/>
                </a:lnTo>
                <a:lnTo>
                  <a:pt x="579200" y="1436916"/>
                </a:lnTo>
                <a:lnTo>
                  <a:pt x="0" y="594733"/>
                </a:lnTo>
                <a:lnTo>
                  <a:pt x="373996" y="10397"/>
                </a:lnTo>
                <a:lnTo>
                  <a:pt x="389113" y="0"/>
                </a:lnTo>
                <a:close/>
              </a:path>
            </a:pathLst>
          </a:custGeom>
          <a:solidFill>
            <a:srgbClr val="f1dbcc"/>
          </a:solidFill>
          <a:ln>
            <a:solidFill>
              <a:srgbClr val="f1dbcc"/>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07" name="任意多边形 818"/>
          <p:cNvSpPr/>
          <p:nvPr/>
        </p:nvSpPr>
        <p:spPr>
          <a:xfrm flipV="1">
            <a:off x="5466240" y="5123160"/>
            <a:ext cx="1608120" cy="1772640"/>
          </a:xfrm>
          <a:custGeom>
            <a:avLst/>
            <a:gdLst>
              <a:gd name="textAreaLeft" fmla="*/ 0 w 1608120"/>
              <a:gd name="textAreaRight" fmla="*/ 1608480 w 1608120"/>
              <a:gd name="textAreaTop" fmla="*/ 360 h 1772640"/>
              <a:gd name="textAreaBottom" fmla="*/ 1773360 h 1772640"/>
            </a:gdLst>
            <a:ahLst/>
            <a:rect l="textAreaLeft" t="textAreaTop" r="textAreaRight" b="textAreaBottom"/>
            <a:pathLst>
              <a:path w="1608398" h="1772896">
                <a:moveTo>
                  <a:pt x="1219285" y="1772896"/>
                </a:moveTo>
                <a:lnTo>
                  <a:pt x="1234402" y="1762499"/>
                </a:lnTo>
                <a:lnTo>
                  <a:pt x="1608398" y="1178163"/>
                </a:lnTo>
                <a:lnTo>
                  <a:pt x="798132" y="0"/>
                </a:lnTo>
                <a:lnTo>
                  <a:pt x="0" y="0"/>
                </a:lnTo>
                <a:lnTo>
                  <a:pt x="1219285" y="1772896"/>
                </a:lnTo>
                <a:close/>
              </a:path>
            </a:pathLst>
          </a:custGeom>
          <a:solidFill>
            <a:srgbClr val="ed6f65">
              <a:alpha val="25000"/>
            </a:srgbClr>
          </a:solidFill>
          <a:ln>
            <a:solidFill>
              <a:srgbClr val="f1dbcc"/>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08" name="任意多边形 519"/>
          <p:cNvSpPr/>
          <p:nvPr/>
        </p:nvSpPr>
        <p:spPr>
          <a:xfrm>
            <a:off x="10576080" y="2869200"/>
            <a:ext cx="767880" cy="594360"/>
          </a:xfrm>
          <a:custGeom>
            <a:avLst/>
            <a:gdLst>
              <a:gd name="textAreaLeft" fmla="*/ 0 w 767880"/>
              <a:gd name="textAreaRight" fmla="*/ 768240 w 767880"/>
              <a:gd name="textAreaTop" fmla="*/ 0 h 594360"/>
              <a:gd name="textAreaBottom" fmla="*/ 594720 h 594360"/>
            </a:gdLst>
            <a:ahLst/>
            <a:rect l="textAreaLeft" t="textAreaTop" r="textAreaRight" b="textAreaBottom"/>
            <a:pathLst>
              <a:path w="768171" h="594733">
                <a:moveTo>
                  <a:pt x="380650" y="0"/>
                </a:moveTo>
                <a:lnTo>
                  <a:pt x="386064" y="7873"/>
                </a:lnTo>
                <a:lnTo>
                  <a:pt x="479739" y="144080"/>
                </a:lnTo>
                <a:lnTo>
                  <a:pt x="530801" y="223861"/>
                </a:lnTo>
                <a:lnTo>
                  <a:pt x="758406" y="579475"/>
                </a:lnTo>
                <a:lnTo>
                  <a:pt x="768171" y="594733"/>
                </a:lnTo>
                <a:lnTo>
                  <a:pt x="0" y="594733"/>
                </a:lnTo>
                <a:lnTo>
                  <a:pt x="6654" y="584336"/>
                </a:lnTo>
                <a:close/>
              </a:path>
            </a:pathLst>
          </a:custGeom>
          <a:solidFill>
            <a:srgbClr val="d57053">
              <a:alpha val="49000"/>
            </a:srgbClr>
          </a:solidFill>
          <a:ln>
            <a:solidFill>
              <a:srgbClr val="df9b83">
                <a:alpha val="49000"/>
              </a:srgbClr>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09" name="任意多边形 685"/>
          <p:cNvSpPr/>
          <p:nvPr/>
        </p:nvSpPr>
        <p:spPr>
          <a:xfrm>
            <a:off x="9482400" y="0"/>
            <a:ext cx="1473840" cy="1577520"/>
          </a:xfrm>
          <a:custGeom>
            <a:avLst/>
            <a:gdLst>
              <a:gd name="textAreaLeft" fmla="*/ 0 w 1473840"/>
              <a:gd name="textAreaRight" fmla="*/ 1474200 w 1473840"/>
              <a:gd name="textAreaTop" fmla="*/ 0 h 1577520"/>
              <a:gd name="textAreaBottom" fmla="*/ 1577880 h 1577520"/>
            </a:gdLst>
            <a:ahLst/>
            <a:rect l="textAreaLeft" t="textAreaTop" r="textAreaRight" b="textAreaBottom"/>
            <a:pathLst>
              <a:path w="1474363" h="1578002">
                <a:moveTo>
                  <a:pt x="0" y="0"/>
                </a:moveTo>
                <a:lnTo>
                  <a:pt x="798133" y="0"/>
                </a:lnTo>
                <a:lnTo>
                  <a:pt x="1474363" y="983269"/>
                </a:lnTo>
                <a:lnTo>
                  <a:pt x="1100367" y="1567605"/>
                </a:lnTo>
                <a:lnTo>
                  <a:pt x="1085250" y="1578002"/>
                </a:lnTo>
                <a:lnTo>
                  <a:pt x="0" y="0"/>
                </a:lnTo>
                <a:close/>
              </a:path>
            </a:pathLst>
          </a:custGeom>
          <a:solidFill>
            <a:srgbClr val="e7b05e">
              <a:alpha val="25000"/>
            </a:srgbClr>
          </a:solidFill>
          <a:ln>
            <a:solidFill>
              <a:srgbClr val="efe3c2"/>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10" name="任意多边形 83"/>
          <p:cNvSpPr/>
          <p:nvPr/>
        </p:nvSpPr>
        <p:spPr>
          <a:xfrm>
            <a:off x="10965600" y="0"/>
            <a:ext cx="1238040" cy="1577520"/>
          </a:xfrm>
          <a:custGeom>
            <a:avLst/>
            <a:gdLst>
              <a:gd name="textAreaLeft" fmla="*/ 0 w 1238040"/>
              <a:gd name="textAreaRight" fmla="*/ 1238400 w 1238040"/>
              <a:gd name="textAreaTop" fmla="*/ 0 h 1577520"/>
              <a:gd name="textAreaBottom" fmla="*/ 1577880 h 1577520"/>
            </a:gdLst>
            <a:ahLst/>
            <a:rect l="textAreaLeft" t="textAreaTop" r="textAreaRight" b="textAreaBottom"/>
            <a:pathLst>
              <a:path w="1238362" h="1578002">
                <a:moveTo>
                  <a:pt x="678279" y="0"/>
                </a:moveTo>
                <a:lnTo>
                  <a:pt x="1238362" y="0"/>
                </a:lnTo>
                <a:lnTo>
                  <a:pt x="1238362" y="346134"/>
                </a:lnTo>
                <a:lnTo>
                  <a:pt x="391161" y="1578002"/>
                </a:lnTo>
                <a:lnTo>
                  <a:pt x="368976" y="1562744"/>
                </a:lnTo>
                <a:lnTo>
                  <a:pt x="141371" y="1207130"/>
                </a:lnTo>
                <a:lnTo>
                  <a:pt x="143955" y="1205353"/>
                </a:lnTo>
                <a:lnTo>
                  <a:pt x="90309" y="1127349"/>
                </a:lnTo>
                <a:lnTo>
                  <a:pt x="0" y="986248"/>
                </a:lnTo>
                <a:lnTo>
                  <a:pt x="678279" y="0"/>
                </a:lnTo>
                <a:close/>
              </a:path>
            </a:pathLst>
          </a:custGeom>
          <a:solidFill>
            <a:srgbClr val="efe3c2">
              <a:alpha val="71000"/>
            </a:srgbClr>
          </a:solidFill>
          <a:ln>
            <a:solidFill>
              <a:srgbClr val="eee6c8"/>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11" name="任意多边形 703"/>
          <p:cNvSpPr/>
          <p:nvPr/>
        </p:nvSpPr>
        <p:spPr>
          <a:xfrm>
            <a:off x="11202840" y="1946880"/>
            <a:ext cx="797760" cy="1160280"/>
          </a:xfrm>
          <a:custGeom>
            <a:avLst/>
            <a:gdLst>
              <a:gd name="textAreaLeft" fmla="*/ 0 w 797760"/>
              <a:gd name="textAreaRight" fmla="*/ 798120 w 797760"/>
              <a:gd name="textAreaTop" fmla="*/ 0 h 1160280"/>
              <a:gd name="textAreaBottom" fmla="*/ 1160640 h 1160280"/>
            </a:gdLst>
            <a:ahLst/>
            <a:rect l="textAreaLeft" t="textAreaTop" r="textAreaRight" b="textAreaBottom"/>
            <a:pathLst>
              <a:path w="798132" h="1160519">
                <a:moveTo>
                  <a:pt x="399066" y="0"/>
                </a:moveTo>
                <a:lnTo>
                  <a:pt x="798132" y="580260"/>
                </a:lnTo>
                <a:lnTo>
                  <a:pt x="399066" y="1160519"/>
                </a:lnTo>
                <a:lnTo>
                  <a:pt x="0" y="580260"/>
                </a:lnTo>
                <a:lnTo>
                  <a:pt x="399066" y="0"/>
                </a:lnTo>
                <a:close/>
              </a:path>
            </a:pathLst>
          </a:custGeom>
          <a:solidFill>
            <a:srgbClr val="d57053">
              <a:alpha val="25000"/>
            </a:srgbClr>
          </a:solidFill>
          <a:ln>
            <a:solidFill>
              <a:srgbClr val="ead3be"/>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12" name="任意多边形 87"/>
          <p:cNvSpPr/>
          <p:nvPr/>
        </p:nvSpPr>
        <p:spPr>
          <a:xfrm>
            <a:off x="11602080" y="1071720"/>
            <a:ext cx="601560" cy="1455120"/>
          </a:xfrm>
          <a:custGeom>
            <a:avLst/>
            <a:gdLst>
              <a:gd name="textAreaLeft" fmla="*/ 0 w 601560"/>
              <a:gd name="textAreaRight" fmla="*/ 601920 w 601560"/>
              <a:gd name="textAreaTop" fmla="*/ 0 h 1455120"/>
              <a:gd name="textAreaBottom" fmla="*/ 1455480 h 1455120"/>
            </a:gdLst>
            <a:ahLst/>
            <a:rect l="textAreaLeft" t="textAreaTop" r="textAreaRight" b="textAreaBottom"/>
            <a:pathLst>
              <a:path w="601946" h="1455517">
                <a:moveTo>
                  <a:pt x="601946" y="0"/>
                </a:moveTo>
                <a:lnTo>
                  <a:pt x="601946" y="1160520"/>
                </a:lnTo>
                <a:lnTo>
                  <a:pt x="399066" y="1455517"/>
                </a:lnTo>
                <a:lnTo>
                  <a:pt x="0" y="875257"/>
                </a:lnTo>
                <a:lnTo>
                  <a:pt x="601946" y="0"/>
                </a:lnTo>
                <a:close/>
              </a:path>
            </a:pathLst>
          </a:custGeom>
          <a:solidFill>
            <a:srgbClr val="ebcebc"/>
          </a:solidFill>
          <a:ln>
            <a:solidFill>
              <a:srgbClr val="eacdba"/>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13" name="任意多边形 699"/>
          <p:cNvSpPr/>
          <p:nvPr/>
        </p:nvSpPr>
        <p:spPr>
          <a:xfrm>
            <a:off x="10965600" y="1590120"/>
            <a:ext cx="636120" cy="936360"/>
          </a:xfrm>
          <a:custGeom>
            <a:avLst/>
            <a:gdLst>
              <a:gd name="textAreaLeft" fmla="*/ 0 w 636120"/>
              <a:gd name="textAreaRight" fmla="*/ 636480 w 636120"/>
              <a:gd name="textAreaTop" fmla="*/ 0 h 936360"/>
              <a:gd name="textAreaBottom" fmla="*/ 936720 h 936360"/>
            </a:gdLst>
            <a:ahLst/>
            <a:rect l="textAreaLeft" t="textAreaTop" r="textAreaRight" b="textAreaBottom"/>
            <a:pathLst>
              <a:path w="636416" h="936872">
                <a:moveTo>
                  <a:pt x="391161" y="0"/>
                </a:moveTo>
                <a:lnTo>
                  <a:pt x="636416" y="356612"/>
                </a:lnTo>
                <a:lnTo>
                  <a:pt x="237350" y="936872"/>
                </a:lnTo>
                <a:lnTo>
                  <a:pt x="0" y="591754"/>
                </a:lnTo>
                <a:lnTo>
                  <a:pt x="90309" y="450653"/>
                </a:lnTo>
                <a:lnTo>
                  <a:pt x="143955" y="372649"/>
                </a:lnTo>
                <a:lnTo>
                  <a:pt x="141371" y="370872"/>
                </a:lnTo>
                <a:lnTo>
                  <a:pt x="368976" y="15258"/>
                </a:lnTo>
                <a:lnTo>
                  <a:pt x="391161" y="0"/>
                </a:lnTo>
                <a:close/>
              </a:path>
            </a:pathLst>
          </a:custGeom>
          <a:solidFill>
            <a:srgbClr val="d2dbc4"/>
          </a:solidFill>
          <a:ln>
            <a:solidFill>
              <a:srgbClr val="d3ddc7"/>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14" name="任意多边形 698"/>
          <p:cNvSpPr/>
          <p:nvPr/>
        </p:nvSpPr>
        <p:spPr>
          <a:xfrm>
            <a:off x="10965600" y="2527200"/>
            <a:ext cx="636120" cy="936360"/>
          </a:xfrm>
          <a:custGeom>
            <a:avLst/>
            <a:gdLst>
              <a:gd name="textAreaLeft" fmla="*/ 0 w 636120"/>
              <a:gd name="textAreaRight" fmla="*/ 636480 w 636120"/>
              <a:gd name="textAreaTop" fmla="*/ 0 h 936360"/>
              <a:gd name="textAreaBottom" fmla="*/ 936720 h 936360"/>
            </a:gdLst>
            <a:ahLst/>
            <a:rect l="textAreaLeft" t="textAreaTop" r="textAreaRight" b="textAreaBottom"/>
            <a:pathLst>
              <a:path w="636416" h="936871">
                <a:moveTo>
                  <a:pt x="237350" y="0"/>
                </a:moveTo>
                <a:lnTo>
                  <a:pt x="636416" y="580259"/>
                </a:lnTo>
                <a:lnTo>
                  <a:pt x="391161" y="936871"/>
                </a:lnTo>
                <a:lnTo>
                  <a:pt x="368976" y="921613"/>
                </a:lnTo>
                <a:lnTo>
                  <a:pt x="141371" y="565999"/>
                </a:lnTo>
                <a:lnTo>
                  <a:pt x="143955" y="564222"/>
                </a:lnTo>
                <a:lnTo>
                  <a:pt x="90309" y="486218"/>
                </a:lnTo>
                <a:lnTo>
                  <a:pt x="0" y="345117"/>
                </a:lnTo>
                <a:lnTo>
                  <a:pt x="237350" y="0"/>
                </a:lnTo>
                <a:close/>
              </a:path>
            </a:pathLst>
          </a:custGeom>
          <a:solidFill>
            <a:srgbClr val="e9ccba"/>
          </a:solidFill>
          <a:ln>
            <a:solidFill>
              <a:srgbClr val="eacdbb"/>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15" name="任意多边形 93"/>
          <p:cNvSpPr/>
          <p:nvPr/>
        </p:nvSpPr>
        <p:spPr>
          <a:xfrm>
            <a:off x="11602080" y="2527200"/>
            <a:ext cx="601560" cy="1455120"/>
          </a:xfrm>
          <a:custGeom>
            <a:avLst/>
            <a:gdLst>
              <a:gd name="textAreaLeft" fmla="*/ 0 w 601560"/>
              <a:gd name="textAreaRight" fmla="*/ 601920 w 601560"/>
              <a:gd name="textAreaTop" fmla="*/ 0 h 1455120"/>
              <a:gd name="textAreaBottom" fmla="*/ 1455480 h 1455120"/>
            </a:gdLst>
            <a:ahLst/>
            <a:rect l="textAreaLeft" t="textAreaTop" r="textAreaRight" b="textAreaBottom"/>
            <a:pathLst>
              <a:path w="601946" h="1455516">
                <a:moveTo>
                  <a:pt x="399066" y="0"/>
                </a:moveTo>
                <a:lnTo>
                  <a:pt x="601946" y="294997"/>
                </a:lnTo>
                <a:lnTo>
                  <a:pt x="601946" y="1455516"/>
                </a:lnTo>
                <a:lnTo>
                  <a:pt x="0" y="580259"/>
                </a:lnTo>
                <a:lnTo>
                  <a:pt x="399066" y="0"/>
                </a:lnTo>
                <a:close/>
              </a:path>
            </a:pathLst>
          </a:custGeom>
          <a:solidFill>
            <a:srgbClr val="d3ddc7"/>
          </a:solidFill>
          <a:ln>
            <a:solidFill>
              <a:srgbClr val="d3dcc6"/>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16" name="任意多边形 522"/>
          <p:cNvSpPr/>
          <p:nvPr/>
        </p:nvSpPr>
        <p:spPr>
          <a:xfrm>
            <a:off x="10576080" y="983160"/>
            <a:ext cx="767880" cy="594360"/>
          </a:xfrm>
          <a:custGeom>
            <a:avLst/>
            <a:gdLst>
              <a:gd name="textAreaLeft" fmla="*/ 0 w 767880"/>
              <a:gd name="textAreaRight" fmla="*/ 768240 w 767880"/>
              <a:gd name="textAreaTop" fmla="*/ 0 h 594360"/>
              <a:gd name="textAreaBottom" fmla="*/ 594720 h 594360"/>
            </a:gdLst>
            <a:ahLst/>
            <a:rect l="textAreaLeft" t="textAreaTop" r="textAreaRight" b="textAreaBottom"/>
            <a:pathLst>
              <a:path w="768171" h="594733">
                <a:moveTo>
                  <a:pt x="380650" y="0"/>
                </a:moveTo>
                <a:lnTo>
                  <a:pt x="386064" y="7873"/>
                </a:lnTo>
                <a:lnTo>
                  <a:pt x="479739" y="144080"/>
                </a:lnTo>
                <a:lnTo>
                  <a:pt x="530801" y="223861"/>
                </a:lnTo>
                <a:lnTo>
                  <a:pt x="758406" y="579475"/>
                </a:lnTo>
                <a:lnTo>
                  <a:pt x="768171" y="594733"/>
                </a:lnTo>
                <a:lnTo>
                  <a:pt x="0" y="594733"/>
                </a:lnTo>
                <a:lnTo>
                  <a:pt x="6654" y="584336"/>
                </a:lnTo>
                <a:close/>
              </a:path>
            </a:pathLst>
          </a:custGeom>
          <a:solidFill>
            <a:srgbClr val="e49b35">
              <a:alpha val="36000"/>
            </a:srgbClr>
          </a:solidFill>
          <a:ln>
            <a:solidFill>
              <a:srgbClr val="ebd3a2"/>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17" name="任意多边形 528"/>
          <p:cNvSpPr/>
          <p:nvPr/>
        </p:nvSpPr>
        <p:spPr>
          <a:xfrm flipV="1">
            <a:off x="10576080" y="1589400"/>
            <a:ext cx="767880" cy="594360"/>
          </a:xfrm>
          <a:custGeom>
            <a:avLst/>
            <a:gdLst>
              <a:gd name="textAreaLeft" fmla="*/ 0 w 767880"/>
              <a:gd name="textAreaRight" fmla="*/ 768240 w 767880"/>
              <a:gd name="textAreaTop" fmla="*/ -360 h 594360"/>
              <a:gd name="textAreaBottom" fmla="*/ 594360 h 594360"/>
            </a:gdLst>
            <a:ahLst/>
            <a:rect l="textAreaLeft" t="textAreaTop" r="textAreaRight" b="textAreaBottom"/>
            <a:pathLst>
              <a:path w="768171" h="594733">
                <a:moveTo>
                  <a:pt x="380650" y="0"/>
                </a:moveTo>
                <a:lnTo>
                  <a:pt x="386064" y="7873"/>
                </a:lnTo>
                <a:lnTo>
                  <a:pt x="479739" y="144080"/>
                </a:lnTo>
                <a:lnTo>
                  <a:pt x="530801" y="223861"/>
                </a:lnTo>
                <a:lnTo>
                  <a:pt x="758406" y="579475"/>
                </a:lnTo>
                <a:lnTo>
                  <a:pt x="768171" y="594733"/>
                </a:lnTo>
                <a:lnTo>
                  <a:pt x="0" y="594733"/>
                </a:lnTo>
                <a:lnTo>
                  <a:pt x="6654" y="584336"/>
                </a:lnTo>
                <a:close/>
              </a:path>
            </a:pathLst>
          </a:custGeom>
          <a:solidFill>
            <a:srgbClr val="88a378">
              <a:alpha val="53000"/>
            </a:srgbClr>
          </a:solidFill>
          <a:ln>
            <a:solidFill>
              <a:srgbClr val="b3c4a5">
                <a:alpha val="53000"/>
              </a:srgbClr>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18" name="任意多边形 50"/>
          <p:cNvSpPr/>
          <p:nvPr/>
        </p:nvSpPr>
        <p:spPr>
          <a:xfrm>
            <a:off x="2444760" y="4491720"/>
            <a:ext cx="1946160" cy="2415960"/>
          </a:xfrm>
          <a:custGeom>
            <a:avLst/>
            <a:gdLst>
              <a:gd name="textAreaLeft" fmla="*/ 0 w 1946160"/>
              <a:gd name="textAreaRight" fmla="*/ 1946520 w 1946160"/>
              <a:gd name="textAreaTop" fmla="*/ 0 h 2415960"/>
              <a:gd name="textAreaBottom" fmla="*/ 2416320 h 2415960"/>
            </a:gdLst>
            <a:ahLst/>
            <a:rect l="textAreaLeft" t="textAreaTop" r="textAreaRight" b="textAreaBottom"/>
            <a:pathLst>
              <a:path w="1946374" h="2416275">
                <a:moveTo>
                  <a:pt x="1555213" y="0"/>
                </a:moveTo>
                <a:lnTo>
                  <a:pt x="1577398" y="15258"/>
                </a:lnTo>
                <a:lnTo>
                  <a:pt x="1805003" y="370872"/>
                </a:lnTo>
                <a:lnTo>
                  <a:pt x="1802419" y="372649"/>
                </a:lnTo>
                <a:lnTo>
                  <a:pt x="1856065" y="450653"/>
                </a:lnTo>
                <a:lnTo>
                  <a:pt x="1946374" y="591754"/>
                </a:lnTo>
                <a:lnTo>
                  <a:pt x="691584" y="2416275"/>
                </a:lnTo>
                <a:lnTo>
                  <a:pt x="106548" y="2416275"/>
                </a:lnTo>
                <a:lnTo>
                  <a:pt x="0" y="2261349"/>
                </a:lnTo>
                <a:lnTo>
                  <a:pt x="1555213" y="0"/>
                </a:lnTo>
                <a:close/>
              </a:path>
            </a:pathLst>
          </a:custGeom>
          <a:solidFill>
            <a:srgbClr val="a2b894">
              <a:alpha val="25000"/>
            </a:srgbClr>
          </a:solidFill>
          <a:ln>
            <a:solidFill>
              <a:srgbClr val="e0e6d3"/>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19" name="任意多边形 49"/>
          <p:cNvSpPr/>
          <p:nvPr/>
        </p:nvSpPr>
        <p:spPr>
          <a:xfrm>
            <a:off x="4399920" y="4491720"/>
            <a:ext cx="2050560" cy="2415960"/>
          </a:xfrm>
          <a:custGeom>
            <a:avLst/>
            <a:gdLst>
              <a:gd name="textAreaLeft" fmla="*/ 0 w 2050560"/>
              <a:gd name="textAreaRight" fmla="*/ 2050920 w 2050560"/>
              <a:gd name="textAreaTop" fmla="*/ 0 h 2415960"/>
              <a:gd name="textAreaBottom" fmla="*/ 2416320 h 2415960"/>
            </a:gdLst>
            <a:ahLst/>
            <a:rect l="textAreaLeft" t="textAreaTop" r="textAreaRight" b="textAreaBottom"/>
            <a:pathLst>
              <a:path w="2050873" h="2416274">
                <a:moveTo>
                  <a:pt x="389113" y="0"/>
                </a:moveTo>
                <a:lnTo>
                  <a:pt x="2050873" y="2416274"/>
                </a:lnTo>
                <a:lnTo>
                  <a:pt x="1252741" y="2416274"/>
                </a:lnTo>
                <a:lnTo>
                  <a:pt x="0" y="594733"/>
                </a:lnTo>
                <a:lnTo>
                  <a:pt x="373996" y="10397"/>
                </a:lnTo>
                <a:lnTo>
                  <a:pt x="389113" y="0"/>
                </a:lnTo>
                <a:close/>
              </a:path>
            </a:pathLst>
          </a:custGeom>
          <a:solidFill>
            <a:srgbClr val="a2b894">
              <a:alpha val="25000"/>
            </a:srgbClr>
          </a:solidFill>
          <a:ln>
            <a:solidFill>
              <a:srgbClr val="e0e6d3"/>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20" name="任意多边形 48"/>
          <p:cNvSpPr/>
          <p:nvPr/>
        </p:nvSpPr>
        <p:spPr>
          <a:xfrm>
            <a:off x="2344680" y="6762240"/>
            <a:ext cx="200160" cy="145440"/>
          </a:xfrm>
          <a:custGeom>
            <a:avLst/>
            <a:gdLst>
              <a:gd name="textAreaLeft" fmla="*/ 0 w 200160"/>
              <a:gd name="textAreaRight" fmla="*/ 200520 w 200160"/>
              <a:gd name="textAreaTop" fmla="*/ 0 h 145440"/>
              <a:gd name="textAreaBottom" fmla="*/ 145800 h 145440"/>
            </a:gdLst>
            <a:ahLst/>
            <a:rect l="textAreaLeft" t="textAreaTop" r="textAreaRight" b="textAreaBottom"/>
            <a:pathLst>
              <a:path w="200534" h="145793">
                <a:moveTo>
                  <a:pt x="100267" y="0"/>
                </a:moveTo>
                <a:lnTo>
                  <a:pt x="200534" y="145793"/>
                </a:lnTo>
                <a:lnTo>
                  <a:pt x="0" y="145793"/>
                </a:lnTo>
                <a:lnTo>
                  <a:pt x="100267" y="0"/>
                </a:lnTo>
                <a:close/>
              </a:path>
            </a:pathLst>
          </a:custGeom>
          <a:solidFill>
            <a:srgbClr val="a2b894">
              <a:alpha val="25000"/>
            </a:srgbClr>
          </a:solidFill>
          <a:ln>
            <a:solidFill>
              <a:srgbClr val="e0e6d3"/>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21" name="任意多边形 61"/>
          <p:cNvSpPr/>
          <p:nvPr/>
        </p:nvSpPr>
        <p:spPr>
          <a:xfrm>
            <a:off x="-35280" y="4818240"/>
            <a:ext cx="1016640" cy="2052000"/>
          </a:xfrm>
          <a:custGeom>
            <a:avLst/>
            <a:gdLst>
              <a:gd name="textAreaLeft" fmla="*/ 0 w 1016640"/>
              <a:gd name="textAreaRight" fmla="*/ 1017000 w 1016640"/>
              <a:gd name="textAreaTop" fmla="*/ 0 h 2052000"/>
              <a:gd name="textAreaBottom" fmla="*/ 2052360 h 2052000"/>
            </a:gdLst>
            <a:ahLst/>
            <a:rect l="textAreaLeft" t="textAreaTop" r="textAreaRight" b="textAreaBottom"/>
            <a:pathLst>
              <a:path w="1017046" h="2052322">
                <a:moveTo>
                  <a:pt x="0" y="0"/>
                </a:moveTo>
                <a:lnTo>
                  <a:pt x="1017046" y="1478830"/>
                </a:lnTo>
                <a:lnTo>
                  <a:pt x="613325" y="2052322"/>
                </a:lnTo>
                <a:lnTo>
                  <a:pt x="0" y="1160520"/>
                </a:lnTo>
                <a:lnTo>
                  <a:pt x="0" y="0"/>
                </a:lnTo>
                <a:close/>
              </a:path>
            </a:pathLst>
          </a:custGeom>
          <a:solidFill>
            <a:srgbClr val="508799">
              <a:alpha val="25000"/>
            </a:srgbClr>
          </a:solidFill>
          <a:ln>
            <a:solidFill>
              <a:srgbClr val="c3d4c3"/>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22" name="任意多边形 811"/>
          <p:cNvSpPr/>
          <p:nvPr/>
        </p:nvSpPr>
        <p:spPr>
          <a:xfrm flipV="1">
            <a:off x="4397400" y="5881680"/>
            <a:ext cx="1088280" cy="1013760"/>
          </a:xfrm>
          <a:custGeom>
            <a:avLst/>
            <a:gdLst>
              <a:gd name="textAreaLeft" fmla="*/ 0 w 1088280"/>
              <a:gd name="textAreaRight" fmla="*/ 1088640 w 1088280"/>
              <a:gd name="textAreaTop" fmla="*/ 360 h 1013760"/>
              <a:gd name="textAreaBottom" fmla="*/ 1014480 h 1013760"/>
            </a:gdLst>
            <a:ahLst/>
            <a:rect l="textAreaLeft" t="textAreaTop" r="textAreaRight" b="textAreaBottom"/>
            <a:pathLst>
              <a:path w="1088729" h="1014296">
                <a:moveTo>
                  <a:pt x="391161" y="1014296"/>
                </a:moveTo>
                <a:lnTo>
                  <a:pt x="1088729" y="0"/>
                </a:lnTo>
                <a:lnTo>
                  <a:pt x="290598" y="0"/>
                </a:lnTo>
                <a:lnTo>
                  <a:pt x="0" y="422542"/>
                </a:lnTo>
                <a:lnTo>
                  <a:pt x="90309" y="563643"/>
                </a:lnTo>
                <a:lnTo>
                  <a:pt x="143955" y="641647"/>
                </a:lnTo>
                <a:lnTo>
                  <a:pt x="141371" y="643424"/>
                </a:lnTo>
                <a:lnTo>
                  <a:pt x="368976" y="999038"/>
                </a:lnTo>
                <a:lnTo>
                  <a:pt x="391161" y="1014296"/>
                </a:lnTo>
                <a:close/>
              </a:path>
            </a:pathLst>
          </a:custGeom>
          <a:solidFill>
            <a:srgbClr val="d57053">
              <a:alpha val="25000"/>
            </a:srgbClr>
          </a:solidFill>
          <a:ln>
            <a:solidFill>
              <a:srgbClr val="ead3bf"/>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23" name="任意多边形 637"/>
          <p:cNvSpPr/>
          <p:nvPr/>
        </p:nvSpPr>
        <p:spPr>
          <a:xfrm flipV="1">
            <a:off x="4007880" y="5880960"/>
            <a:ext cx="767880" cy="594360"/>
          </a:xfrm>
          <a:custGeom>
            <a:avLst/>
            <a:gdLst>
              <a:gd name="textAreaLeft" fmla="*/ 0 w 767880"/>
              <a:gd name="textAreaRight" fmla="*/ 768240 w 767880"/>
              <a:gd name="textAreaTop" fmla="*/ -360 h 594360"/>
              <a:gd name="textAreaBottom" fmla="*/ 594360 h 594360"/>
            </a:gdLst>
            <a:ahLst/>
            <a:rect l="textAreaLeft" t="textAreaTop" r="textAreaRight" b="textAreaBottom"/>
            <a:pathLst>
              <a:path w="768171" h="594733">
                <a:moveTo>
                  <a:pt x="380650" y="0"/>
                </a:moveTo>
                <a:lnTo>
                  <a:pt x="386064" y="7873"/>
                </a:lnTo>
                <a:lnTo>
                  <a:pt x="479739" y="144080"/>
                </a:lnTo>
                <a:lnTo>
                  <a:pt x="530801" y="223861"/>
                </a:lnTo>
                <a:lnTo>
                  <a:pt x="758406" y="579475"/>
                </a:lnTo>
                <a:lnTo>
                  <a:pt x="768171" y="594733"/>
                </a:lnTo>
                <a:lnTo>
                  <a:pt x="0" y="594733"/>
                </a:lnTo>
                <a:lnTo>
                  <a:pt x="6654" y="584336"/>
                </a:lnTo>
                <a:close/>
              </a:path>
            </a:pathLst>
          </a:custGeom>
          <a:solidFill>
            <a:srgbClr val="d57053">
              <a:alpha val="35000"/>
            </a:srgbClr>
          </a:solidFill>
          <a:ln>
            <a:solidFill>
              <a:srgbClr val="e6c6b1"/>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24" name="任意多边形 660"/>
          <p:cNvSpPr/>
          <p:nvPr/>
        </p:nvSpPr>
        <p:spPr>
          <a:xfrm flipV="1">
            <a:off x="10822680" y="5494680"/>
            <a:ext cx="767880" cy="594360"/>
          </a:xfrm>
          <a:custGeom>
            <a:avLst/>
            <a:gdLst>
              <a:gd name="textAreaLeft" fmla="*/ 0 w 767880"/>
              <a:gd name="textAreaRight" fmla="*/ 768240 w 767880"/>
              <a:gd name="textAreaTop" fmla="*/ -360 h 594360"/>
              <a:gd name="textAreaBottom" fmla="*/ 594360 h 594360"/>
            </a:gdLst>
            <a:ahLst/>
            <a:rect l="textAreaLeft" t="textAreaTop" r="textAreaRight" b="textAreaBottom"/>
            <a:pathLst>
              <a:path w="768171" h="594733">
                <a:moveTo>
                  <a:pt x="380650" y="0"/>
                </a:moveTo>
                <a:lnTo>
                  <a:pt x="386064" y="7873"/>
                </a:lnTo>
                <a:lnTo>
                  <a:pt x="479739" y="144080"/>
                </a:lnTo>
                <a:lnTo>
                  <a:pt x="530801" y="223861"/>
                </a:lnTo>
                <a:lnTo>
                  <a:pt x="758406" y="579475"/>
                </a:lnTo>
                <a:lnTo>
                  <a:pt x="768171" y="594733"/>
                </a:lnTo>
                <a:lnTo>
                  <a:pt x="0" y="594733"/>
                </a:lnTo>
                <a:lnTo>
                  <a:pt x="6654" y="584336"/>
                </a:lnTo>
                <a:close/>
              </a:path>
            </a:pathLst>
          </a:custGeom>
          <a:solidFill>
            <a:srgbClr val="508799">
              <a:alpha val="35000"/>
            </a:srgbClr>
          </a:solidFill>
          <a:ln>
            <a:solidFill>
              <a:srgbClr val="b5cac1"/>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25" name="任意多边形 665"/>
          <p:cNvSpPr/>
          <p:nvPr/>
        </p:nvSpPr>
        <p:spPr>
          <a:xfrm>
            <a:off x="9861840" y="5495400"/>
            <a:ext cx="1341000" cy="1384200"/>
          </a:xfrm>
          <a:custGeom>
            <a:avLst/>
            <a:gdLst>
              <a:gd name="textAreaLeft" fmla="*/ 0 w 1341000"/>
              <a:gd name="textAreaRight" fmla="*/ 1341360 w 1341000"/>
              <a:gd name="textAreaTop" fmla="*/ 0 h 1384200"/>
              <a:gd name="textAreaBottom" fmla="*/ 1384560 h 1384200"/>
            </a:gdLst>
            <a:ahLst/>
            <a:rect l="textAreaLeft" t="textAreaTop" r="textAreaRight" b="textAreaBottom"/>
            <a:pathLst>
              <a:path w="1341240" h="1384436">
                <a:moveTo>
                  <a:pt x="952127" y="0"/>
                </a:moveTo>
                <a:lnTo>
                  <a:pt x="967244" y="10397"/>
                </a:lnTo>
                <a:lnTo>
                  <a:pt x="1341240" y="594733"/>
                </a:lnTo>
                <a:lnTo>
                  <a:pt x="798132" y="1384436"/>
                </a:lnTo>
                <a:lnTo>
                  <a:pt x="0" y="1384436"/>
                </a:lnTo>
                <a:lnTo>
                  <a:pt x="952127" y="0"/>
                </a:lnTo>
                <a:close/>
              </a:path>
            </a:pathLst>
          </a:custGeom>
          <a:solidFill>
            <a:srgbClr val="508799">
              <a:alpha val="25000"/>
            </a:srgbClr>
          </a:solidFill>
          <a:ln>
            <a:solidFill>
              <a:srgbClr val="c4d5c6"/>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26" name="任意多边形 709"/>
          <p:cNvSpPr/>
          <p:nvPr/>
        </p:nvSpPr>
        <p:spPr>
          <a:xfrm>
            <a:off x="11211840" y="5495400"/>
            <a:ext cx="979560" cy="1384200"/>
          </a:xfrm>
          <a:custGeom>
            <a:avLst/>
            <a:gdLst>
              <a:gd name="textAreaLeft" fmla="*/ 0 w 979560"/>
              <a:gd name="textAreaRight" fmla="*/ 979920 w 979560"/>
              <a:gd name="textAreaTop" fmla="*/ 0 h 1384200"/>
              <a:gd name="textAreaBottom" fmla="*/ 1384560 h 1384200"/>
            </a:gdLst>
            <a:ahLst/>
            <a:rect l="textAreaLeft" t="textAreaTop" r="textAreaRight" b="textAreaBottom"/>
            <a:pathLst>
              <a:path w="980063" h="1384436">
                <a:moveTo>
                  <a:pt x="391161" y="0"/>
                </a:moveTo>
                <a:lnTo>
                  <a:pt x="980063" y="856291"/>
                </a:lnTo>
                <a:lnTo>
                  <a:pt x="980063" y="1384436"/>
                </a:lnTo>
                <a:lnTo>
                  <a:pt x="545157" y="1384436"/>
                </a:lnTo>
                <a:lnTo>
                  <a:pt x="0" y="591754"/>
                </a:lnTo>
                <a:lnTo>
                  <a:pt x="90309" y="450653"/>
                </a:lnTo>
                <a:lnTo>
                  <a:pt x="143955" y="372649"/>
                </a:lnTo>
                <a:lnTo>
                  <a:pt x="141371" y="370872"/>
                </a:lnTo>
                <a:lnTo>
                  <a:pt x="368976" y="15258"/>
                </a:lnTo>
                <a:lnTo>
                  <a:pt x="391161" y="0"/>
                </a:lnTo>
                <a:close/>
              </a:path>
            </a:pathLst>
          </a:custGeom>
          <a:solidFill>
            <a:srgbClr val="508799">
              <a:alpha val="25000"/>
            </a:srgbClr>
          </a:solidFill>
          <a:ln>
            <a:solidFill>
              <a:srgbClr val="bfd1bd"/>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27" name="任意多边形 670"/>
          <p:cNvSpPr/>
          <p:nvPr/>
        </p:nvSpPr>
        <p:spPr>
          <a:xfrm flipV="1">
            <a:off x="9195840" y="5502600"/>
            <a:ext cx="767880" cy="594360"/>
          </a:xfrm>
          <a:custGeom>
            <a:avLst/>
            <a:gdLst>
              <a:gd name="textAreaLeft" fmla="*/ 0 w 767880"/>
              <a:gd name="textAreaRight" fmla="*/ 768240 w 767880"/>
              <a:gd name="textAreaTop" fmla="*/ -360 h 594360"/>
              <a:gd name="textAreaBottom" fmla="*/ 594360 h 594360"/>
            </a:gdLst>
            <a:ahLst/>
            <a:rect l="textAreaLeft" t="textAreaTop" r="textAreaRight" b="textAreaBottom"/>
            <a:pathLst>
              <a:path w="768171" h="594733">
                <a:moveTo>
                  <a:pt x="380650" y="0"/>
                </a:moveTo>
                <a:lnTo>
                  <a:pt x="386064" y="7873"/>
                </a:lnTo>
                <a:lnTo>
                  <a:pt x="479739" y="144080"/>
                </a:lnTo>
                <a:lnTo>
                  <a:pt x="530801" y="223861"/>
                </a:lnTo>
                <a:lnTo>
                  <a:pt x="758406" y="579475"/>
                </a:lnTo>
                <a:lnTo>
                  <a:pt x="768171" y="594733"/>
                </a:lnTo>
                <a:lnTo>
                  <a:pt x="0" y="594733"/>
                </a:lnTo>
                <a:lnTo>
                  <a:pt x="6654" y="584336"/>
                </a:lnTo>
                <a:close/>
              </a:path>
            </a:pathLst>
          </a:custGeom>
          <a:solidFill>
            <a:srgbClr val="e49b35">
              <a:alpha val="35000"/>
            </a:srgbClr>
          </a:solidFill>
          <a:ln>
            <a:solidFill>
              <a:srgbClr val="ebd3a3"/>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28" name="任意多边形 75"/>
          <p:cNvSpPr/>
          <p:nvPr/>
        </p:nvSpPr>
        <p:spPr>
          <a:xfrm>
            <a:off x="8220960" y="5503320"/>
            <a:ext cx="1355040" cy="1404360"/>
          </a:xfrm>
          <a:custGeom>
            <a:avLst/>
            <a:gdLst>
              <a:gd name="textAreaLeft" fmla="*/ 0 w 1355040"/>
              <a:gd name="textAreaRight" fmla="*/ 1355400 w 1355040"/>
              <a:gd name="textAreaTop" fmla="*/ 0 h 1404360"/>
              <a:gd name="textAreaBottom" fmla="*/ 1404720 h 1404360"/>
            </a:gdLst>
            <a:ahLst/>
            <a:rect l="textAreaLeft" t="textAreaTop" r="textAreaRight" b="textAreaBottom"/>
            <a:pathLst>
              <a:path w="1355248" h="1404805">
                <a:moveTo>
                  <a:pt x="966135" y="0"/>
                </a:moveTo>
                <a:lnTo>
                  <a:pt x="981252" y="10397"/>
                </a:lnTo>
                <a:lnTo>
                  <a:pt x="1355248" y="594733"/>
                </a:lnTo>
                <a:lnTo>
                  <a:pt x="798132" y="1404805"/>
                </a:lnTo>
                <a:lnTo>
                  <a:pt x="0" y="1404805"/>
                </a:lnTo>
                <a:lnTo>
                  <a:pt x="966135" y="0"/>
                </a:lnTo>
                <a:close/>
              </a:path>
            </a:pathLst>
          </a:custGeom>
          <a:solidFill>
            <a:srgbClr val="e49b35">
              <a:alpha val="25000"/>
            </a:srgbClr>
          </a:solidFill>
          <a:ln>
            <a:solidFill>
              <a:srgbClr val="ebdcb0"/>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29" name="任意多边形 80"/>
          <p:cNvSpPr/>
          <p:nvPr/>
        </p:nvSpPr>
        <p:spPr>
          <a:xfrm>
            <a:off x="9585000" y="5503320"/>
            <a:ext cx="1351800" cy="1397160"/>
          </a:xfrm>
          <a:custGeom>
            <a:avLst/>
            <a:gdLst>
              <a:gd name="textAreaLeft" fmla="*/ 0 w 1351800"/>
              <a:gd name="textAreaRight" fmla="*/ 1352160 w 1351800"/>
              <a:gd name="textAreaTop" fmla="*/ 0 h 1397160"/>
              <a:gd name="textAreaBottom" fmla="*/ 1397520 h 1397160"/>
            </a:gdLst>
            <a:ahLst/>
            <a:rect l="textAreaLeft" t="textAreaTop" r="textAreaRight" b="textAreaBottom"/>
            <a:pathLst>
              <a:path w="1352191" h="1397381">
                <a:moveTo>
                  <a:pt x="391161" y="0"/>
                </a:moveTo>
                <a:lnTo>
                  <a:pt x="1352191" y="1397381"/>
                </a:lnTo>
                <a:lnTo>
                  <a:pt x="554059" y="1397381"/>
                </a:lnTo>
                <a:lnTo>
                  <a:pt x="0" y="591754"/>
                </a:lnTo>
                <a:lnTo>
                  <a:pt x="90309" y="450653"/>
                </a:lnTo>
                <a:lnTo>
                  <a:pt x="143955" y="372649"/>
                </a:lnTo>
                <a:lnTo>
                  <a:pt x="141371" y="370872"/>
                </a:lnTo>
                <a:lnTo>
                  <a:pt x="368976" y="15258"/>
                </a:lnTo>
                <a:lnTo>
                  <a:pt x="391161" y="0"/>
                </a:lnTo>
                <a:close/>
              </a:path>
            </a:pathLst>
          </a:custGeom>
          <a:solidFill>
            <a:srgbClr val="e49b35">
              <a:alpha val="25000"/>
            </a:srgbClr>
          </a:solidFill>
          <a:ln>
            <a:solidFill>
              <a:srgbClr val="ebdcb2"/>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30" name="任意多边形 788"/>
          <p:cNvSpPr/>
          <p:nvPr/>
        </p:nvSpPr>
        <p:spPr>
          <a:xfrm flipV="1">
            <a:off x="3302640" y="5881680"/>
            <a:ext cx="1086480" cy="1013760"/>
          </a:xfrm>
          <a:custGeom>
            <a:avLst/>
            <a:gdLst>
              <a:gd name="textAreaLeft" fmla="*/ 0 w 1086480"/>
              <a:gd name="textAreaRight" fmla="*/ 1086840 w 1086480"/>
              <a:gd name="textAreaTop" fmla="*/ 360 h 1013760"/>
              <a:gd name="textAreaBottom" fmla="*/ 1014480 h 1013760"/>
            </a:gdLst>
            <a:ahLst/>
            <a:rect l="textAreaLeft" t="textAreaTop" r="textAreaRight" b="textAreaBottom"/>
            <a:pathLst>
              <a:path w="1086681" h="1014296">
                <a:moveTo>
                  <a:pt x="697568" y="1014296"/>
                </a:moveTo>
                <a:lnTo>
                  <a:pt x="712685" y="1003899"/>
                </a:lnTo>
                <a:lnTo>
                  <a:pt x="1086681" y="419563"/>
                </a:lnTo>
                <a:lnTo>
                  <a:pt x="798132" y="0"/>
                </a:lnTo>
                <a:lnTo>
                  <a:pt x="0" y="0"/>
                </a:lnTo>
                <a:lnTo>
                  <a:pt x="697568" y="1014296"/>
                </a:lnTo>
                <a:close/>
              </a:path>
            </a:pathLst>
          </a:custGeom>
          <a:solidFill>
            <a:srgbClr val="d57053">
              <a:alpha val="25000"/>
            </a:srgbClr>
          </a:solidFill>
          <a:ln>
            <a:solidFill>
              <a:srgbClr val="ead3bf"/>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31" name="任意多边形 686"/>
          <p:cNvSpPr/>
          <p:nvPr/>
        </p:nvSpPr>
        <p:spPr>
          <a:xfrm>
            <a:off x="8185320" y="0"/>
            <a:ext cx="2770920" cy="3463560"/>
          </a:xfrm>
          <a:custGeom>
            <a:avLst/>
            <a:gdLst>
              <a:gd name="textAreaLeft" fmla="*/ 0 w 2770920"/>
              <a:gd name="textAreaRight" fmla="*/ 2771280 w 2770920"/>
              <a:gd name="textAreaTop" fmla="*/ 0 h 3463560"/>
              <a:gd name="textAreaBottom" fmla="*/ 3463920 h 3463560"/>
            </a:gdLst>
            <a:ahLst/>
            <a:rect l="textAreaLeft" t="textAreaTop" r="textAreaRight" b="textAreaBottom"/>
            <a:pathLst>
              <a:path w="2771399" h="3463952">
                <a:moveTo>
                  <a:pt x="0" y="0"/>
                </a:moveTo>
                <a:lnTo>
                  <a:pt x="798131" y="0"/>
                </a:lnTo>
                <a:lnTo>
                  <a:pt x="2771399" y="2869219"/>
                </a:lnTo>
                <a:lnTo>
                  <a:pt x="2397403" y="3453555"/>
                </a:lnTo>
                <a:lnTo>
                  <a:pt x="2382286" y="3463952"/>
                </a:lnTo>
                <a:lnTo>
                  <a:pt x="0" y="0"/>
                </a:lnTo>
                <a:close/>
              </a:path>
            </a:pathLst>
          </a:custGeom>
          <a:solidFill>
            <a:srgbClr val="d57053">
              <a:alpha val="30000"/>
            </a:srgbClr>
          </a:solidFill>
          <a:ln>
            <a:solidFill>
              <a:srgbClr val="eacebc"/>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32" name="任意多边形 824"/>
          <p:cNvSpPr/>
          <p:nvPr/>
        </p:nvSpPr>
        <p:spPr>
          <a:xfrm flipH="1" flipV="1">
            <a:off x="6913080" y="1590120"/>
            <a:ext cx="4043520" cy="5305680"/>
          </a:xfrm>
          <a:custGeom>
            <a:avLst/>
            <a:gdLst>
              <a:gd name="textAreaLeft" fmla="*/ 360 w 4043520"/>
              <a:gd name="textAreaRight" fmla="*/ 4044240 w 4043520"/>
              <a:gd name="textAreaTop" fmla="*/ 360 h 5305680"/>
              <a:gd name="textAreaBottom" fmla="*/ 5306400 h 5305680"/>
            </a:gdLst>
            <a:ahLst/>
            <a:rect l="textAreaLeft" t="textAreaTop" r="textAreaRight" b="textAreaBottom"/>
            <a:pathLst>
              <a:path w="4043737" h="5305892">
                <a:moveTo>
                  <a:pt x="389113" y="5305892"/>
                </a:moveTo>
                <a:lnTo>
                  <a:pt x="373996" y="5295495"/>
                </a:lnTo>
                <a:lnTo>
                  <a:pt x="0" y="4711159"/>
                </a:lnTo>
                <a:lnTo>
                  <a:pt x="2281471" y="1393799"/>
                </a:lnTo>
                <a:lnTo>
                  <a:pt x="2285250" y="1396398"/>
                </a:lnTo>
                <a:lnTo>
                  <a:pt x="3245605" y="0"/>
                </a:lnTo>
                <a:lnTo>
                  <a:pt x="4043737" y="0"/>
                </a:lnTo>
                <a:lnTo>
                  <a:pt x="1810872" y="3246685"/>
                </a:lnTo>
                <a:lnTo>
                  <a:pt x="1807092" y="3244086"/>
                </a:lnTo>
                <a:lnTo>
                  <a:pt x="389113" y="5305892"/>
                </a:lnTo>
                <a:close/>
              </a:path>
            </a:pathLst>
          </a:custGeom>
          <a:solidFill>
            <a:srgbClr val="88a378">
              <a:alpha val="30000"/>
            </a:srgbClr>
          </a:solidFill>
          <a:ln>
            <a:solidFill>
              <a:srgbClr val="d3dcc5">
                <a:alpha val="30000"/>
              </a:srgbClr>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33" name="任意多边形 817"/>
          <p:cNvSpPr/>
          <p:nvPr/>
        </p:nvSpPr>
        <p:spPr>
          <a:xfrm flipV="1">
            <a:off x="7083360" y="5123160"/>
            <a:ext cx="1609920" cy="1772640"/>
          </a:xfrm>
          <a:custGeom>
            <a:avLst/>
            <a:gdLst>
              <a:gd name="textAreaLeft" fmla="*/ 0 w 1609920"/>
              <a:gd name="textAreaRight" fmla="*/ 1610280 w 1609920"/>
              <a:gd name="textAreaTop" fmla="*/ 360 h 1772640"/>
              <a:gd name="textAreaBottom" fmla="*/ 1773360 h 1772640"/>
            </a:gdLst>
            <a:ahLst/>
            <a:rect l="textAreaLeft" t="textAreaTop" r="textAreaRight" b="textAreaBottom"/>
            <a:pathLst>
              <a:path w="1610447" h="1772896">
                <a:moveTo>
                  <a:pt x="391161" y="1772896"/>
                </a:moveTo>
                <a:lnTo>
                  <a:pt x="1610447" y="0"/>
                </a:lnTo>
                <a:lnTo>
                  <a:pt x="812315" y="0"/>
                </a:lnTo>
                <a:lnTo>
                  <a:pt x="0" y="1181142"/>
                </a:lnTo>
                <a:lnTo>
                  <a:pt x="90309" y="1322243"/>
                </a:lnTo>
                <a:lnTo>
                  <a:pt x="143955" y="1400247"/>
                </a:lnTo>
                <a:lnTo>
                  <a:pt x="141371" y="1402024"/>
                </a:lnTo>
                <a:lnTo>
                  <a:pt x="368976" y="1757638"/>
                </a:lnTo>
                <a:lnTo>
                  <a:pt x="391161" y="1772896"/>
                </a:lnTo>
                <a:close/>
              </a:path>
            </a:pathLst>
          </a:custGeom>
          <a:solidFill>
            <a:srgbClr val="ed6f65">
              <a:alpha val="25000"/>
            </a:srgbClr>
          </a:solidFill>
          <a:ln>
            <a:solidFill>
              <a:srgbClr val="f1dbcc"/>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34" name="任意多边形 54"/>
          <p:cNvSpPr/>
          <p:nvPr/>
        </p:nvSpPr>
        <p:spPr>
          <a:xfrm flipH="1" flipV="1">
            <a:off x="1561680" y="5458320"/>
            <a:ext cx="767880" cy="594360"/>
          </a:xfrm>
          <a:custGeom>
            <a:avLst/>
            <a:gdLst>
              <a:gd name="textAreaLeft" fmla="*/ -360 w 767880"/>
              <a:gd name="textAreaRight" fmla="*/ 767880 w 767880"/>
              <a:gd name="textAreaTop" fmla="*/ -360 h 594360"/>
              <a:gd name="textAreaBottom" fmla="*/ 594360 h 594360"/>
            </a:gdLst>
            <a:ahLst/>
            <a:rect l="textAreaLeft" t="textAreaTop" r="textAreaRight" b="textAreaBottom"/>
            <a:pathLst>
              <a:path w="768171" h="594733">
                <a:moveTo>
                  <a:pt x="380650" y="0"/>
                </a:moveTo>
                <a:lnTo>
                  <a:pt x="386064" y="7873"/>
                </a:lnTo>
                <a:lnTo>
                  <a:pt x="479739" y="144080"/>
                </a:lnTo>
                <a:lnTo>
                  <a:pt x="530801" y="223861"/>
                </a:lnTo>
                <a:lnTo>
                  <a:pt x="758406" y="579475"/>
                </a:lnTo>
                <a:lnTo>
                  <a:pt x="768171" y="594733"/>
                </a:lnTo>
                <a:lnTo>
                  <a:pt x="0" y="594733"/>
                </a:lnTo>
                <a:lnTo>
                  <a:pt x="6654" y="584336"/>
                </a:lnTo>
                <a:close/>
              </a:path>
            </a:pathLst>
          </a:custGeom>
          <a:solidFill>
            <a:srgbClr val="ed5249">
              <a:alpha val="35000"/>
            </a:srgbClr>
          </a:solidFill>
          <a:ln>
            <a:solidFill>
              <a:srgbClr val="efbbab"/>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35" name="任意多边形 35"/>
          <p:cNvSpPr/>
          <p:nvPr/>
        </p:nvSpPr>
        <p:spPr>
          <a:xfrm flipH="1" flipV="1">
            <a:off x="4011840" y="4491000"/>
            <a:ext cx="767880" cy="594360"/>
          </a:xfrm>
          <a:custGeom>
            <a:avLst/>
            <a:gdLst>
              <a:gd name="textAreaLeft" fmla="*/ -360 w 767880"/>
              <a:gd name="textAreaRight" fmla="*/ 767880 w 767880"/>
              <a:gd name="textAreaTop" fmla="*/ -360 h 594360"/>
              <a:gd name="textAreaBottom" fmla="*/ 594360 h 594360"/>
            </a:gdLst>
            <a:ahLst/>
            <a:rect l="textAreaLeft" t="textAreaTop" r="textAreaRight" b="textAreaBottom"/>
            <a:pathLst>
              <a:path w="768171" h="594733">
                <a:moveTo>
                  <a:pt x="380650" y="0"/>
                </a:moveTo>
                <a:lnTo>
                  <a:pt x="386064" y="7873"/>
                </a:lnTo>
                <a:lnTo>
                  <a:pt x="479739" y="144080"/>
                </a:lnTo>
                <a:lnTo>
                  <a:pt x="530801" y="223861"/>
                </a:lnTo>
                <a:lnTo>
                  <a:pt x="758406" y="579475"/>
                </a:lnTo>
                <a:lnTo>
                  <a:pt x="768171" y="594733"/>
                </a:lnTo>
                <a:lnTo>
                  <a:pt x="0" y="594733"/>
                </a:lnTo>
                <a:lnTo>
                  <a:pt x="6654" y="584336"/>
                </a:lnTo>
                <a:close/>
              </a:path>
            </a:pathLst>
          </a:custGeom>
          <a:solidFill>
            <a:srgbClr val="89a67a">
              <a:alpha val="35000"/>
            </a:srgbClr>
          </a:solidFill>
          <a:ln>
            <a:solidFill>
              <a:srgbClr val="cfdac2"/>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36" name="任意多边形 36"/>
          <p:cNvSpPr/>
          <p:nvPr/>
        </p:nvSpPr>
        <p:spPr>
          <a:xfrm flipV="1">
            <a:off x="6694200" y="5122440"/>
            <a:ext cx="767880" cy="594360"/>
          </a:xfrm>
          <a:custGeom>
            <a:avLst/>
            <a:gdLst>
              <a:gd name="textAreaLeft" fmla="*/ 0 w 767880"/>
              <a:gd name="textAreaRight" fmla="*/ 768240 w 767880"/>
              <a:gd name="textAreaTop" fmla="*/ -360 h 594360"/>
              <a:gd name="textAreaBottom" fmla="*/ 594360 h 594360"/>
            </a:gdLst>
            <a:ahLst/>
            <a:rect l="textAreaLeft" t="textAreaTop" r="textAreaRight" b="textAreaBottom"/>
            <a:pathLst>
              <a:path w="768171" h="594733">
                <a:moveTo>
                  <a:pt x="380650" y="0"/>
                </a:moveTo>
                <a:lnTo>
                  <a:pt x="386064" y="7873"/>
                </a:lnTo>
                <a:lnTo>
                  <a:pt x="479739" y="144080"/>
                </a:lnTo>
                <a:lnTo>
                  <a:pt x="530801" y="223861"/>
                </a:lnTo>
                <a:lnTo>
                  <a:pt x="758406" y="579475"/>
                </a:lnTo>
                <a:lnTo>
                  <a:pt x="768171" y="594733"/>
                </a:lnTo>
                <a:lnTo>
                  <a:pt x="0" y="594733"/>
                </a:lnTo>
                <a:lnTo>
                  <a:pt x="6654" y="584336"/>
                </a:lnTo>
                <a:close/>
              </a:path>
            </a:pathLst>
          </a:custGeom>
          <a:solidFill>
            <a:srgbClr val="ed6f65">
              <a:alpha val="35000"/>
            </a:srgbClr>
          </a:solidFill>
          <a:ln>
            <a:solidFill>
              <a:srgbClr val="f2c7ba"/>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cxnSp>
        <p:nvCxnSpPr>
          <p:cNvPr id="337" name="直接连接符 38"/>
          <p:cNvCxnSpPr/>
          <p:nvPr/>
        </p:nvCxnSpPr>
        <p:spPr>
          <a:xfrm>
            <a:off x="796320" y="776880"/>
            <a:ext cx="7897680" cy="360"/>
          </a:xfrm>
          <a:prstGeom prst="straightConnector1">
            <a:avLst/>
          </a:prstGeom>
          <a:ln>
            <a:solidFill>
              <a:srgbClr val="ffffff">
                <a:lumMod val="65000"/>
              </a:srgbClr>
            </a:solidFill>
          </a:ln>
        </p:spPr>
      </p:cxnSp>
      <p:sp>
        <p:nvSpPr>
          <p:cNvPr id="338" name="平行四边形 40"/>
          <p:cNvSpPr/>
          <p:nvPr/>
        </p:nvSpPr>
        <p:spPr>
          <a:xfrm>
            <a:off x="361440" y="316080"/>
            <a:ext cx="1038600" cy="478800"/>
          </a:xfrm>
          <a:prstGeom prst="parallelogram">
            <a:avLst>
              <a:gd name="adj" fmla="val 25000"/>
            </a:avLst>
          </a:prstGeom>
          <a:solidFill>
            <a:srgbClr val="34618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39" name="文本框 41"/>
          <p:cNvSpPr/>
          <p:nvPr/>
        </p:nvSpPr>
        <p:spPr>
          <a:xfrm>
            <a:off x="370800" y="294120"/>
            <a:ext cx="1020240" cy="51624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US" sz="2800" spc="-1" strike="noStrike">
                <a:solidFill>
                  <a:srgbClr val="ffffff"/>
                </a:solidFill>
                <a:latin typeface="微软雅黑"/>
                <a:ea typeface="微软雅黑"/>
              </a:rPr>
              <a:t>3</a:t>
            </a:r>
            <a:endParaRPr b="0" lang="en-US" sz="2800" spc="-1" strike="noStrike">
              <a:solidFill>
                <a:srgbClr val="000000"/>
              </a:solidFill>
              <a:latin typeface="Arial"/>
            </a:endParaRPr>
          </a:p>
        </p:txBody>
      </p:sp>
      <p:sp>
        <p:nvSpPr>
          <p:cNvPr id="340" name="矩形 3"/>
          <p:cNvSpPr/>
          <p:nvPr/>
        </p:nvSpPr>
        <p:spPr>
          <a:xfrm>
            <a:off x="1187280" y="2423880"/>
            <a:ext cx="658080" cy="423360"/>
          </a:xfrm>
          <a:prstGeom prst="rect">
            <a:avLst/>
          </a:prstGeom>
          <a:solidFill>
            <a:srgbClr val="ed7167"/>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41" name="矩形 42"/>
          <p:cNvSpPr/>
          <p:nvPr/>
        </p:nvSpPr>
        <p:spPr>
          <a:xfrm>
            <a:off x="1187280" y="3339360"/>
            <a:ext cx="658080" cy="423360"/>
          </a:xfrm>
          <a:prstGeom prst="rect">
            <a:avLst/>
          </a:prstGeom>
          <a:solidFill>
            <a:srgbClr val="89a67a"/>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42" name="矩形 43"/>
          <p:cNvSpPr/>
          <p:nvPr/>
        </p:nvSpPr>
        <p:spPr>
          <a:xfrm>
            <a:off x="1187280" y="5171040"/>
            <a:ext cx="658080" cy="423360"/>
          </a:xfrm>
          <a:prstGeom prst="rect">
            <a:avLst/>
          </a:prstGeom>
          <a:solidFill>
            <a:srgbClr val="d57053"/>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43" name="矩形 45"/>
          <p:cNvSpPr/>
          <p:nvPr/>
        </p:nvSpPr>
        <p:spPr>
          <a:xfrm>
            <a:off x="1187280" y="4255200"/>
            <a:ext cx="658080" cy="423360"/>
          </a:xfrm>
          <a:prstGeom prst="rect">
            <a:avLst/>
          </a:prstGeom>
          <a:solidFill>
            <a:srgbClr val="e49b35"/>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nvGrpSpPr>
          <p:cNvPr id="344" name="组合 2"/>
          <p:cNvGrpSpPr/>
          <p:nvPr/>
        </p:nvGrpSpPr>
        <p:grpSpPr>
          <a:xfrm>
            <a:off x="1188000" y="1551240"/>
            <a:ext cx="2502360" cy="423360"/>
            <a:chOff x="1188000" y="1551240"/>
            <a:chExt cx="2502360" cy="423360"/>
          </a:xfrm>
        </p:grpSpPr>
        <p:sp>
          <p:nvSpPr>
            <p:cNvPr id="345" name="矩形 46"/>
            <p:cNvSpPr/>
            <p:nvPr/>
          </p:nvSpPr>
          <p:spPr>
            <a:xfrm>
              <a:off x="1188000" y="1551240"/>
              <a:ext cx="2502360" cy="423360"/>
            </a:xfrm>
            <a:prstGeom prst="rect">
              <a:avLst/>
            </a:prstGeom>
            <a:solidFill>
              <a:srgbClr val="508799"/>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46" name="矩形 4"/>
            <p:cNvSpPr/>
            <p:nvPr/>
          </p:nvSpPr>
          <p:spPr>
            <a:xfrm>
              <a:off x="1516320" y="1562760"/>
              <a:ext cx="1095480" cy="3945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000" spc="-1" strike="noStrike">
                  <a:solidFill>
                    <a:srgbClr val="ffffff"/>
                  </a:solidFill>
                  <a:latin typeface="微软雅黑"/>
                  <a:ea typeface="微软雅黑"/>
                </a:rPr>
                <a:t>研究结果表明</a:t>
              </a:r>
              <a:endParaRPr b="0" lang="en-US" sz="2000" spc="-1" strike="noStrike">
                <a:solidFill>
                  <a:srgbClr val="000000"/>
                </a:solidFill>
                <a:latin typeface="Arial"/>
              </a:endParaRPr>
            </a:p>
          </p:txBody>
        </p:sp>
      </p:grpSp>
      <p:sp>
        <p:nvSpPr>
          <p:cNvPr id="347" name="矩形 5"/>
          <p:cNvSpPr/>
          <p:nvPr/>
        </p:nvSpPr>
        <p:spPr>
          <a:xfrm>
            <a:off x="1950120" y="2440800"/>
            <a:ext cx="8238240" cy="501120"/>
          </a:xfrm>
          <a:prstGeom prst="rect">
            <a:avLst/>
          </a:prstGeom>
          <a:noFill/>
          <a:ln w="0">
            <a:noFill/>
          </a:ln>
        </p:spPr>
        <p:style>
          <a:lnRef idx="0"/>
          <a:fillRef idx="0"/>
          <a:effectRef idx="0"/>
          <a:fontRef idx="minor"/>
        </p:style>
        <p:txBody>
          <a:bodyPr lIns="90000" rIns="90000" tIns="45000" bIns="45000" anchor="t">
            <a:spAutoFit/>
          </a:bodyPr>
          <a:p>
            <a:pPr>
              <a:lnSpc>
                <a:spcPct val="150000"/>
              </a:lnSpc>
            </a:pPr>
            <a:r>
              <a:rPr b="0" lang="zh-CN" sz="1800" spc="-1" strike="noStrike">
                <a:solidFill>
                  <a:srgbClr val="404040"/>
                </a:solidFill>
                <a:latin typeface="微软雅黑"/>
                <a:ea typeface="微软雅黑"/>
              </a:rPr>
              <a:t>此处插入文本框此处插入文本框此处插入文本框此处插入文本框此处插入文本框</a:t>
            </a:r>
            <a:endParaRPr b="0" lang="en-US" sz="1800" spc="-1" strike="noStrike">
              <a:solidFill>
                <a:srgbClr val="000000"/>
              </a:solidFill>
              <a:latin typeface="Arial"/>
            </a:endParaRPr>
          </a:p>
        </p:txBody>
      </p:sp>
      <p:sp>
        <p:nvSpPr>
          <p:cNvPr id="348" name="矩形 47"/>
          <p:cNvSpPr/>
          <p:nvPr/>
        </p:nvSpPr>
        <p:spPr>
          <a:xfrm>
            <a:off x="1950120" y="3355560"/>
            <a:ext cx="6863400" cy="501120"/>
          </a:xfrm>
          <a:prstGeom prst="rect">
            <a:avLst/>
          </a:prstGeom>
          <a:noFill/>
          <a:ln w="0">
            <a:noFill/>
          </a:ln>
        </p:spPr>
        <p:style>
          <a:lnRef idx="0"/>
          <a:fillRef idx="0"/>
          <a:effectRef idx="0"/>
          <a:fontRef idx="minor"/>
        </p:style>
        <p:txBody>
          <a:bodyPr lIns="90000" rIns="90000" tIns="45000" bIns="45000" anchor="t">
            <a:spAutoFit/>
          </a:bodyPr>
          <a:p>
            <a:pPr>
              <a:lnSpc>
                <a:spcPct val="150000"/>
              </a:lnSpc>
            </a:pPr>
            <a:r>
              <a:rPr b="0" lang="zh-CN" sz="1800" spc="-1" strike="noStrike">
                <a:solidFill>
                  <a:srgbClr val="404040"/>
                </a:solidFill>
                <a:latin typeface="微软雅黑"/>
                <a:ea typeface="微软雅黑"/>
              </a:rPr>
              <a:t>此处插入文本框此处插入文本框此处插入文本框此处插入文本框</a:t>
            </a:r>
            <a:endParaRPr b="0" lang="en-US" sz="1800" spc="-1" strike="noStrike">
              <a:solidFill>
                <a:srgbClr val="000000"/>
              </a:solidFill>
              <a:latin typeface="Arial"/>
            </a:endParaRPr>
          </a:p>
        </p:txBody>
      </p:sp>
      <p:sp>
        <p:nvSpPr>
          <p:cNvPr id="349" name="矩形 51"/>
          <p:cNvSpPr/>
          <p:nvPr/>
        </p:nvSpPr>
        <p:spPr>
          <a:xfrm>
            <a:off x="1950120" y="5184720"/>
            <a:ext cx="8755560" cy="501120"/>
          </a:xfrm>
          <a:prstGeom prst="rect">
            <a:avLst/>
          </a:prstGeom>
          <a:noFill/>
          <a:ln w="0">
            <a:noFill/>
          </a:ln>
        </p:spPr>
        <p:style>
          <a:lnRef idx="0"/>
          <a:fillRef idx="0"/>
          <a:effectRef idx="0"/>
          <a:fontRef idx="minor"/>
        </p:style>
        <p:txBody>
          <a:bodyPr lIns="90000" rIns="90000" tIns="45000" bIns="45000" anchor="t">
            <a:spAutoFit/>
          </a:bodyPr>
          <a:p>
            <a:pPr>
              <a:lnSpc>
                <a:spcPct val="150000"/>
              </a:lnSpc>
            </a:pPr>
            <a:r>
              <a:rPr b="0" lang="zh-CN" sz="1800" spc="-1" strike="noStrike">
                <a:solidFill>
                  <a:srgbClr val="404040"/>
                </a:solidFill>
                <a:latin typeface="微软雅黑"/>
                <a:ea typeface="微软雅黑"/>
              </a:rPr>
              <a:t>此处插入文本框此处插入文本框此处插入文本框此处插入文本框此处插入文本框</a:t>
            </a:r>
            <a:endParaRPr b="0" lang="en-US" sz="1800" spc="-1" strike="noStrike">
              <a:solidFill>
                <a:srgbClr val="000000"/>
              </a:solidFill>
              <a:latin typeface="Arial"/>
            </a:endParaRPr>
          </a:p>
        </p:txBody>
      </p:sp>
      <p:sp>
        <p:nvSpPr>
          <p:cNvPr id="350" name="矩形 52"/>
          <p:cNvSpPr/>
          <p:nvPr/>
        </p:nvSpPr>
        <p:spPr>
          <a:xfrm>
            <a:off x="1950120" y="4269960"/>
            <a:ext cx="5299200" cy="501120"/>
          </a:xfrm>
          <a:prstGeom prst="rect">
            <a:avLst/>
          </a:prstGeom>
          <a:noFill/>
          <a:ln w="0">
            <a:noFill/>
          </a:ln>
        </p:spPr>
        <p:style>
          <a:lnRef idx="0"/>
          <a:fillRef idx="0"/>
          <a:effectRef idx="0"/>
          <a:fontRef idx="minor"/>
        </p:style>
        <p:txBody>
          <a:bodyPr lIns="90000" rIns="90000" tIns="45000" bIns="45000" anchor="t">
            <a:spAutoFit/>
          </a:bodyPr>
          <a:p>
            <a:pPr>
              <a:lnSpc>
                <a:spcPct val="150000"/>
              </a:lnSpc>
            </a:pPr>
            <a:r>
              <a:rPr b="0" lang="zh-CN" sz="1800" spc="-1" strike="noStrike">
                <a:solidFill>
                  <a:srgbClr val="404040"/>
                </a:solidFill>
                <a:latin typeface="微软雅黑"/>
                <a:ea typeface="微软雅黑"/>
              </a:rPr>
              <a:t>此处插入文本框此处插入文本框此处插入文本框</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0" dur="indefinite" restart="never" nodeType="tmRoot">
          <p:childTnLst>
            <p:seq>
              <p:cTn id="131" dur="indefinite" nodeType="mainSeq">
                <p:childTnLst>
                  <p:par>
                    <p:cTn id="132" fill="hold">
                      <p:stCondLst>
                        <p:cond delay="indefinite"/>
                      </p:stCondLst>
                      <p:childTnLst>
                        <p:par>
                          <p:cTn id="133" fill="hold">
                            <p:stCondLst>
                              <p:cond delay="0"/>
                            </p:stCondLst>
                            <p:childTnLst>
                              <p:par>
                                <p:cTn id="134" nodeType="clickEffect" fill="hold" presetClass="entr" presetID="22" presetSubtype="8">
                                  <p:stCondLst>
                                    <p:cond delay="0"/>
                                  </p:stCondLst>
                                  <p:childTnLst>
                                    <p:set>
                                      <p:cBhvr>
                                        <p:cTn id="135" dur="1" fill="hold">
                                          <p:stCondLst>
                                            <p:cond delay="0"/>
                                          </p:stCondLst>
                                        </p:cTn>
                                        <p:tgtEl>
                                          <p:spTgt spid="344"/>
                                        </p:tgtEl>
                                        <p:attrNameLst>
                                          <p:attrName>style.visibility</p:attrName>
                                        </p:attrNameLst>
                                      </p:cBhvr>
                                      <p:to>
                                        <p:strVal val="visible"/>
                                      </p:to>
                                    </p:set>
                                    <p:animEffect filter="wipe(left)" transition="in">
                                      <p:cBhvr additive="repl">
                                        <p:cTn id="136" dur="500"/>
                                        <p:tgtEl>
                                          <p:spTgt spid="344"/>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40"/>
                                        </p:tgtEl>
                                        <p:attrNameLst>
                                          <p:attrName>style.visibility</p:attrName>
                                        </p:attrNameLst>
                                      </p:cBhvr>
                                      <p:to>
                                        <p:strVal val="visible"/>
                                      </p:to>
                                    </p:set>
                                    <p:anim calcmode="lin" valueType="num">
                                      <p:cBhvr additive="repl">
                                        <p:cTn id="141" dur="500" fill="hold"/>
                                        <p:tgtEl>
                                          <p:spTgt spid="340"/>
                                        </p:tgtEl>
                                        <p:attrNameLst>
                                          <p:attrName>ppt_x</p:attrName>
                                        </p:attrNameLst>
                                      </p:cBhvr>
                                      <p:tavLst>
                                        <p:tav tm="0">
                                          <p:val>
                                            <p:strVal val="0-#ppt_w/2"/>
                                          </p:val>
                                        </p:tav>
                                        <p:tav tm="100000">
                                          <p:val>
                                            <p:strVal val="#ppt_x"/>
                                          </p:val>
                                        </p:tav>
                                      </p:tavLst>
                                    </p:anim>
                                    <p:anim calcmode="lin" valueType="num">
                                      <p:cBhvr additive="repl">
                                        <p:cTn id="142" dur="500" fill="hold"/>
                                        <p:tgtEl>
                                          <p:spTgt spid="340"/>
                                        </p:tgtEl>
                                        <p:attrNameLst>
                                          <p:attrName>ppt_y</p:attrName>
                                        </p:attrNameLst>
                                      </p:cBhvr>
                                      <p:tavLst>
                                        <p:tav tm="0">
                                          <p:val>
                                            <p:strVal val="#ppt_y"/>
                                          </p:val>
                                        </p:tav>
                                        <p:tav tm="100000">
                                          <p:val>
                                            <p:strVal val="#ppt_y"/>
                                          </p:val>
                                        </p:tav>
                                      </p:tavLst>
                                    </p:anim>
                                  </p:childTnLst>
                                </p:cTn>
                              </p:par>
                            </p:childTnLst>
                          </p:cTn>
                        </p:par>
                        <p:par>
                          <p:cTn id="143" fill="hold">
                            <p:stCondLst>
                              <p:cond delay="500"/>
                            </p:stCondLst>
                            <p:childTnLst>
                              <p:par>
                                <p:cTn id="144" nodeType="afterEffect" fill="hold" presetClass="entr" presetID="2" presetSubtype="2">
                                  <p:stCondLst>
                                    <p:cond delay="0"/>
                                  </p:stCondLst>
                                  <p:childTnLst>
                                    <p:set>
                                      <p:cBhvr>
                                        <p:cTn id="145" dur="1" fill="hold">
                                          <p:stCondLst>
                                            <p:cond delay="0"/>
                                          </p:stCondLst>
                                        </p:cTn>
                                        <p:tgtEl>
                                          <p:spTgt spid="347"/>
                                        </p:tgtEl>
                                        <p:attrNameLst>
                                          <p:attrName>style.visibility</p:attrName>
                                        </p:attrNameLst>
                                      </p:cBhvr>
                                      <p:to>
                                        <p:strVal val="visible"/>
                                      </p:to>
                                    </p:set>
                                    <p:anim calcmode="lin" valueType="num">
                                      <p:cBhvr additive="repl">
                                        <p:cTn id="146" dur="500" fill="hold"/>
                                        <p:tgtEl>
                                          <p:spTgt spid="347"/>
                                        </p:tgtEl>
                                        <p:attrNameLst>
                                          <p:attrName>ppt_x</p:attrName>
                                        </p:attrNameLst>
                                      </p:cBhvr>
                                      <p:tavLst>
                                        <p:tav tm="0">
                                          <p:val>
                                            <p:strVal val="1+#ppt_w/2"/>
                                          </p:val>
                                        </p:tav>
                                        <p:tav tm="100000">
                                          <p:val>
                                            <p:strVal val="#ppt_x"/>
                                          </p:val>
                                        </p:tav>
                                      </p:tavLst>
                                    </p:anim>
                                    <p:anim calcmode="lin" valueType="num">
                                      <p:cBhvr additive="repl">
                                        <p:cTn id="147" dur="500" fill="hold"/>
                                        <p:tgtEl>
                                          <p:spTgt spid="347"/>
                                        </p:tgtEl>
                                        <p:attrNameLst>
                                          <p:attrName>ppt_y</p:attrName>
                                        </p:attrNameLst>
                                      </p:cBhvr>
                                      <p:tavLst>
                                        <p:tav tm="0">
                                          <p:val>
                                            <p:strVal val="#ppt_y"/>
                                          </p:val>
                                        </p:tav>
                                        <p:tav tm="100000">
                                          <p:val>
                                            <p:strVal val="#ppt_y"/>
                                          </p:val>
                                        </p:tav>
                                      </p:tavLst>
                                    </p:anim>
                                  </p:childTnLst>
                                </p:cTn>
                              </p:par>
                            </p:childTnLst>
                          </p:cTn>
                        </p:par>
                        <p:par>
                          <p:cTn id="148" fill="hold">
                            <p:stCondLst>
                              <p:cond delay="1000"/>
                            </p:stCondLst>
                            <p:childTnLst>
                              <p:par>
                                <p:cTn id="149" nodeType="afterEffect" fill="hold" presetClass="entr" presetID="2" presetSubtype="8">
                                  <p:stCondLst>
                                    <p:cond delay="0"/>
                                  </p:stCondLst>
                                  <p:childTnLst>
                                    <p:set>
                                      <p:cBhvr>
                                        <p:cTn id="150" dur="1" fill="hold">
                                          <p:stCondLst>
                                            <p:cond delay="0"/>
                                          </p:stCondLst>
                                        </p:cTn>
                                        <p:tgtEl>
                                          <p:spTgt spid="341"/>
                                        </p:tgtEl>
                                        <p:attrNameLst>
                                          <p:attrName>style.visibility</p:attrName>
                                        </p:attrNameLst>
                                      </p:cBhvr>
                                      <p:to>
                                        <p:strVal val="visible"/>
                                      </p:to>
                                    </p:set>
                                    <p:anim calcmode="lin" valueType="num">
                                      <p:cBhvr additive="repl">
                                        <p:cTn id="151" dur="500" fill="hold"/>
                                        <p:tgtEl>
                                          <p:spTgt spid="341"/>
                                        </p:tgtEl>
                                        <p:attrNameLst>
                                          <p:attrName>ppt_x</p:attrName>
                                        </p:attrNameLst>
                                      </p:cBhvr>
                                      <p:tavLst>
                                        <p:tav tm="0">
                                          <p:val>
                                            <p:strVal val="0-#ppt_w/2"/>
                                          </p:val>
                                        </p:tav>
                                        <p:tav tm="100000">
                                          <p:val>
                                            <p:strVal val="#ppt_x"/>
                                          </p:val>
                                        </p:tav>
                                      </p:tavLst>
                                    </p:anim>
                                    <p:anim calcmode="lin" valueType="num">
                                      <p:cBhvr additive="repl">
                                        <p:cTn id="152" dur="500" fill="hold"/>
                                        <p:tgtEl>
                                          <p:spTgt spid="341"/>
                                        </p:tgtEl>
                                        <p:attrNameLst>
                                          <p:attrName>ppt_y</p:attrName>
                                        </p:attrNameLst>
                                      </p:cBhvr>
                                      <p:tavLst>
                                        <p:tav tm="0">
                                          <p:val>
                                            <p:strVal val="#ppt_y"/>
                                          </p:val>
                                        </p:tav>
                                        <p:tav tm="100000">
                                          <p:val>
                                            <p:strVal val="#ppt_y"/>
                                          </p:val>
                                        </p:tav>
                                      </p:tavLst>
                                    </p:anim>
                                  </p:childTnLst>
                                </p:cTn>
                              </p:par>
                            </p:childTnLst>
                          </p:cTn>
                        </p:par>
                        <p:par>
                          <p:cTn id="153" fill="hold">
                            <p:stCondLst>
                              <p:cond delay="1500"/>
                            </p:stCondLst>
                            <p:childTnLst>
                              <p:par>
                                <p:cTn id="154" nodeType="afterEffect" fill="hold" presetClass="entr" presetID="2" presetSubtype="2">
                                  <p:stCondLst>
                                    <p:cond delay="0"/>
                                  </p:stCondLst>
                                  <p:childTnLst>
                                    <p:set>
                                      <p:cBhvr>
                                        <p:cTn id="155" dur="1" fill="hold">
                                          <p:stCondLst>
                                            <p:cond delay="0"/>
                                          </p:stCondLst>
                                        </p:cTn>
                                        <p:tgtEl>
                                          <p:spTgt spid="348"/>
                                        </p:tgtEl>
                                        <p:attrNameLst>
                                          <p:attrName>style.visibility</p:attrName>
                                        </p:attrNameLst>
                                      </p:cBhvr>
                                      <p:to>
                                        <p:strVal val="visible"/>
                                      </p:to>
                                    </p:set>
                                    <p:anim calcmode="lin" valueType="num">
                                      <p:cBhvr additive="repl">
                                        <p:cTn id="156" dur="500" fill="hold"/>
                                        <p:tgtEl>
                                          <p:spTgt spid="348"/>
                                        </p:tgtEl>
                                        <p:attrNameLst>
                                          <p:attrName>ppt_x</p:attrName>
                                        </p:attrNameLst>
                                      </p:cBhvr>
                                      <p:tavLst>
                                        <p:tav tm="0">
                                          <p:val>
                                            <p:strVal val="1+#ppt_w/2"/>
                                          </p:val>
                                        </p:tav>
                                        <p:tav tm="100000">
                                          <p:val>
                                            <p:strVal val="#ppt_x"/>
                                          </p:val>
                                        </p:tav>
                                      </p:tavLst>
                                    </p:anim>
                                    <p:anim calcmode="lin" valueType="num">
                                      <p:cBhvr additive="repl">
                                        <p:cTn id="157" dur="500" fill="hold"/>
                                        <p:tgtEl>
                                          <p:spTgt spid="348"/>
                                        </p:tgtEl>
                                        <p:attrNameLst>
                                          <p:attrName>ppt_y</p:attrName>
                                        </p:attrNameLst>
                                      </p:cBhvr>
                                      <p:tavLst>
                                        <p:tav tm="0">
                                          <p:val>
                                            <p:strVal val="#ppt_y"/>
                                          </p:val>
                                        </p:tav>
                                        <p:tav tm="100000">
                                          <p:val>
                                            <p:strVal val="#ppt_y"/>
                                          </p:val>
                                        </p:tav>
                                      </p:tavLst>
                                    </p:anim>
                                  </p:childTnLst>
                                </p:cTn>
                              </p:par>
                            </p:childTnLst>
                          </p:cTn>
                        </p:par>
                        <p:par>
                          <p:cTn id="158" fill="hold">
                            <p:stCondLst>
                              <p:cond delay="2000"/>
                            </p:stCondLst>
                            <p:childTnLst>
                              <p:par>
                                <p:cTn id="159" nodeType="afterEffect" fill="hold" presetClass="entr" presetID="2" presetSubtype="8">
                                  <p:stCondLst>
                                    <p:cond delay="0"/>
                                  </p:stCondLst>
                                  <p:childTnLst>
                                    <p:set>
                                      <p:cBhvr>
                                        <p:cTn id="160" dur="1" fill="hold">
                                          <p:stCondLst>
                                            <p:cond delay="0"/>
                                          </p:stCondLst>
                                        </p:cTn>
                                        <p:tgtEl>
                                          <p:spTgt spid="343"/>
                                        </p:tgtEl>
                                        <p:attrNameLst>
                                          <p:attrName>style.visibility</p:attrName>
                                        </p:attrNameLst>
                                      </p:cBhvr>
                                      <p:to>
                                        <p:strVal val="visible"/>
                                      </p:to>
                                    </p:set>
                                    <p:anim calcmode="lin" valueType="num">
                                      <p:cBhvr additive="repl">
                                        <p:cTn id="161" dur="500" fill="hold"/>
                                        <p:tgtEl>
                                          <p:spTgt spid="343"/>
                                        </p:tgtEl>
                                        <p:attrNameLst>
                                          <p:attrName>ppt_x</p:attrName>
                                        </p:attrNameLst>
                                      </p:cBhvr>
                                      <p:tavLst>
                                        <p:tav tm="0">
                                          <p:val>
                                            <p:strVal val="0-#ppt_w/2"/>
                                          </p:val>
                                        </p:tav>
                                        <p:tav tm="100000">
                                          <p:val>
                                            <p:strVal val="#ppt_x"/>
                                          </p:val>
                                        </p:tav>
                                      </p:tavLst>
                                    </p:anim>
                                    <p:anim calcmode="lin" valueType="num">
                                      <p:cBhvr additive="repl">
                                        <p:cTn id="162" dur="500" fill="hold"/>
                                        <p:tgtEl>
                                          <p:spTgt spid="343"/>
                                        </p:tgtEl>
                                        <p:attrNameLst>
                                          <p:attrName>ppt_y</p:attrName>
                                        </p:attrNameLst>
                                      </p:cBhvr>
                                      <p:tavLst>
                                        <p:tav tm="0">
                                          <p:val>
                                            <p:strVal val="#ppt_y"/>
                                          </p:val>
                                        </p:tav>
                                        <p:tav tm="100000">
                                          <p:val>
                                            <p:strVal val="#ppt_y"/>
                                          </p:val>
                                        </p:tav>
                                      </p:tavLst>
                                    </p:anim>
                                  </p:childTnLst>
                                </p:cTn>
                              </p:par>
                            </p:childTnLst>
                          </p:cTn>
                        </p:par>
                        <p:par>
                          <p:cTn id="163" fill="hold">
                            <p:stCondLst>
                              <p:cond delay="2500"/>
                            </p:stCondLst>
                            <p:childTnLst>
                              <p:par>
                                <p:cTn id="164" nodeType="afterEffect" fill="hold" presetClass="entr" presetID="2" presetSubtype="2">
                                  <p:stCondLst>
                                    <p:cond delay="0"/>
                                  </p:stCondLst>
                                  <p:childTnLst>
                                    <p:set>
                                      <p:cBhvr>
                                        <p:cTn id="165" dur="1" fill="hold">
                                          <p:stCondLst>
                                            <p:cond delay="0"/>
                                          </p:stCondLst>
                                        </p:cTn>
                                        <p:tgtEl>
                                          <p:spTgt spid="350"/>
                                        </p:tgtEl>
                                        <p:attrNameLst>
                                          <p:attrName>style.visibility</p:attrName>
                                        </p:attrNameLst>
                                      </p:cBhvr>
                                      <p:to>
                                        <p:strVal val="visible"/>
                                      </p:to>
                                    </p:set>
                                    <p:anim calcmode="lin" valueType="num">
                                      <p:cBhvr additive="repl">
                                        <p:cTn id="166" dur="500" fill="hold"/>
                                        <p:tgtEl>
                                          <p:spTgt spid="350"/>
                                        </p:tgtEl>
                                        <p:attrNameLst>
                                          <p:attrName>ppt_x</p:attrName>
                                        </p:attrNameLst>
                                      </p:cBhvr>
                                      <p:tavLst>
                                        <p:tav tm="0">
                                          <p:val>
                                            <p:strVal val="1+#ppt_w/2"/>
                                          </p:val>
                                        </p:tav>
                                        <p:tav tm="100000">
                                          <p:val>
                                            <p:strVal val="#ppt_x"/>
                                          </p:val>
                                        </p:tav>
                                      </p:tavLst>
                                    </p:anim>
                                    <p:anim calcmode="lin" valueType="num">
                                      <p:cBhvr additive="repl">
                                        <p:cTn id="167" dur="500" fill="hold"/>
                                        <p:tgtEl>
                                          <p:spTgt spid="350"/>
                                        </p:tgtEl>
                                        <p:attrNameLst>
                                          <p:attrName>ppt_y</p:attrName>
                                        </p:attrNameLst>
                                      </p:cBhvr>
                                      <p:tavLst>
                                        <p:tav tm="0">
                                          <p:val>
                                            <p:strVal val="#ppt_y"/>
                                          </p:val>
                                        </p:tav>
                                        <p:tav tm="100000">
                                          <p:val>
                                            <p:strVal val="#ppt_y"/>
                                          </p:val>
                                        </p:tav>
                                      </p:tavLst>
                                    </p:anim>
                                  </p:childTnLst>
                                </p:cTn>
                              </p:par>
                            </p:childTnLst>
                          </p:cTn>
                        </p:par>
                        <p:par>
                          <p:cTn id="168" fill="hold">
                            <p:stCondLst>
                              <p:cond delay="3000"/>
                            </p:stCondLst>
                            <p:childTnLst>
                              <p:par>
                                <p:cTn id="169" nodeType="afterEffect" fill="hold" presetClass="entr" presetID="2" presetSubtype="8">
                                  <p:stCondLst>
                                    <p:cond delay="0"/>
                                  </p:stCondLst>
                                  <p:childTnLst>
                                    <p:set>
                                      <p:cBhvr>
                                        <p:cTn id="170" dur="1" fill="hold">
                                          <p:stCondLst>
                                            <p:cond delay="0"/>
                                          </p:stCondLst>
                                        </p:cTn>
                                        <p:tgtEl>
                                          <p:spTgt spid="342"/>
                                        </p:tgtEl>
                                        <p:attrNameLst>
                                          <p:attrName>style.visibility</p:attrName>
                                        </p:attrNameLst>
                                      </p:cBhvr>
                                      <p:to>
                                        <p:strVal val="visible"/>
                                      </p:to>
                                    </p:set>
                                    <p:anim calcmode="lin" valueType="num">
                                      <p:cBhvr additive="repl">
                                        <p:cTn id="171" dur="500" fill="hold"/>
                                        <p:tgtEl>
                                          <p:spTgt spid="342"/>
                                        </p:tgtEl>
                                        <p:attrNameLst>
                                          <p:attrName>ppt_x</p:attrName>
                                        </p:attrNameLst>
                                      </p:cBhvr>
                                      <p:tavLst>
                                        <p:tav tm="0">
                                          <p:val>
                                            <p:strVal val="0-#ppt_w/2"/>
                                          </p:val>
                                        </p:tav>
                                        <p:tav tm="100000">
                                          <p:val>
                                            <p:strVal val="#ppt_x"/>
                                          </p:val>
                                        </p:tav>
                                      </p:tavLst>
                                    </p:anim>
                                    <p:anim calcmode="lin" valueType="num">
                                      <p:cBhvr additive="repl">
                                        <p:cTn id="172" dur="500" fill="hold"/>
                                        <p:tgtEl>
                                          <p:spTgt spid="342"/>
                                        </p:tgtEl>
                                        <p:attrNameLst>
                                          <p:attrName>ppt_y</p:attrName>
                                        </p:attrNameLst>
                                      </p:cBhvr>
                                      <p:tavLst>
                                        <p:tav tm="0">
                                          <p:val>
                                            <p:strVal val="#ppt_y"/>
                                          </p:val>
                                        </p:tav>
                                        <p:tav tm="100000">
                                          <p:val>
                                            <p:strVal val="#ppt_y"/>
                                          </p:val>
                                        </p:tav>
                                      </p:tavLst>
                                    </p:anim>
                                  </p:childTnLst>
                                </p:cTn>
                              </p:par>
                            </p:childTnLst>
                          </p:cTn>
                        </p:par>
                        <p:par>
                          <p:cTn id="173" fill="hold">
                            <p:stCondLst>
                              <p:cond delay="3500"/>
                            </p:stCondLst>
                            <p:childTnLst>
                              <p:par>
                                <p:cTn id="174" nodeType="afterEffect" fill="hold" presetClass="entr" presetID="2" presetSubtype="2">
                                  <p:stCondLst>
                                    <p:cond delay="0"/>
                                  </p:stCondLst>
                                  <p:childTnLst>
                                    <p:set>
                                      <p:cBhvr>
                                        <p:cTn id="175" dur="1" fill="hold">
                                          <p:stCondLst>
                                            <p:cond delay="0"/>
                                          </p:stCondLst>
                                        </p:cTn>
                                        <p:tgtEl>
                                          <p:spTgt spid="349"/>
                                        </p:tgtEl>
                                        <p:attrNameLst>
                                          <p:attrName>style.visibility</p:attrName>
                                        </p:attrNameLst>
                                      </p:cBhvr>
                                      <p:to>
                                        <p:strVal val="visible"/>
                                      </p:to>
                                    </p:set>
                                    <p:anim calcmode="lin" valueType="num">
                                      <p:cBhvr additive="repl">
                                        <p:cTn id="176" dur="500" fill="hold"/>
                                        <p:tgtEl>
                                          <p:spTgt spid="349"/>
                                        </p:tgtEl>
                                        <p:attrNameLst>
                                          <p:attrName>ppt_x</p:attrName>
                                        </p:attrNameLst>
                                      </p:cBhvr>
                                      <p:tavLst>
                                        <p:tav tm="0">
                                          <p:val>
                                            <p:strVal val="1+#ppt_w/2"/>
                                          </p:val>
                                        </p:tav>
                                        <p:tav tm="100000">
                                          <p:val>
                                            <p:strVal val="#ppt_x"/>
                                          </p:val>
                                        </p:tav>
                                      </p:tavLst>
                                    </p:anim>
                                    <p:anim calcmode="lin" valueType="num">
                                      <p:cBhvr additive="repl">
                                        <p:cTn id="177" dur="500" fill="hold"/>
                                        <p:tgtEl>
                                          <p:spTgt spid="3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矩形 39"/>
          <p:cNvSpPr/>
          <p:nvPr/>
        </p:nvSpPr>
        <p:spPr>
          <a:xfrm>
            <a:off x="2265120" y="208080"/>
            <a:ext cx="1461240" cy="638280"/>
          </a:xfrm>
          <a:prstGeom prst="rect">
            <a:avLst/>
          </a:prstGeom>
          <a:noFill/>
          <a:ln w="0">
            <a:noFill/>
          </a:ln>
        </p:spPr>
        <p:style>
          <a:lnRef idx="0"/>
          <a:fillRef idx="0"/>
          <a:effectRef idx="0"/>
          <a:fontRef idx="minor"/>
        </p:style>
        <p:txBody>
          <a:bodyPr wrap="none" lIns="90000" rIns="90000" tIns="45000" bIns="45000" anchor="t">
            <a:spAutoFit/>
          </a:bodyPr>
          <a:p>
            <a:pPr>
              <a:lnSpc>
                <a:spcPct val="150000"/>
              </a:lnSpc>
            </a:pPr>
            <a:r>
              <a:rPr b="1" lang="zh-CN" sz="2400" spc="-1" strike="noStrike">
                <a:solidFill>
                  <a:srgbClr val="346182"/>
                </a:solidFill>
                <a:latin typeface="微软雅黑"/>
                <a:ea typeface="微软雅黑"/>
              </a:rPr>
              <a:t>此处插入文本框</a:t>
            </a:r>
            <a:endParaRPr b="0" lang="en-US" sz="2400" spc="-1" strike="noStrike">
              <a:solidFill>
                <a:srgbClr val="000000"/>
              </a:solidFill>
              <a:latin typeface="Arial"/>
            </a:endParaRPr>
          </a:p>
        </p:txBody>
      </p:sp>
      <p:sp>
        <p:nvSpPr>
          <p:cNvPr id="352" name="任意多边形 69"/>
          <p:cNvSpPr/>
          <p:nvPr/>
        </p:nvSpPr>
        <p:spPr>
          <a:xfrm>
            <a:off x="561960" y="5459040"/>
            <a:ext cx="1379160" cy="1436400"/>
          </a:xfrm>
          <a:custGeom>
            <a:avLst/>
            <a:gdLst>
              <a:gd name="textAreaLeft" fmla="*/ 0 w 1379160"/>
              <a:gd name="textAreaRight" fmla="*/ 1379520 w 1379160"/>
              <a:gd name="textAreaTop" fmla="*/ 0 h 1436400"/>
              <a:gd name="textAreaBottom" fmla="*/ 1436760 h 1436400"/>
            </a:gdLst>
            <a:ahLst/>
            <a:rect l="textAreaLeft" t="textAreaTop" r="textAreaRight" b="textAreaBottom"/>
            <a:pathLst>
              <a:path w="1379382" h="1436917">
                <a:moveTo>
                  <a:pt x="988221" y="0"/>
                </a:moveTo>
                <a:lnTo>
                  <a:pt x="1010406" y="15258"/>
                </a:lnTo>
                <a:lnTo>
                  <a:pt x="1238011" y="370872"/>
                </a:lnTo>
                <a:lnTo>
                  <a:pt x="1235427" y="372649"/>
                </a:lnTo>
                <a:lnTo>
                  <a:pt x="1289073" y="450653"/>
                </a:lnTo>
                <a:lnTo>
                  <a:pt x="1379382" y="591754"/>
                </a:lnTo>
                <a:lnTo>
                  <a:pt x="798132" y="1436917"/>
                </a:lnTo>
                <a:lnTo>
                  <a:pt x="0" y="1436917"/>
                </a:lnTo>
                <a:lnTo>
                  <a:pt x="988221" y="0"/>
                </a:lnTo>
                <a:close/>
              </a:path>
            </a:pathLst>
          </a:custGeom>
          <a:solidFill>
            <a:srgbClr val="ee8f82">
              <a:alpha val="25000"/>
            </a:srgbClr>
          </a:solidFill>
          <a:ln>
            <a:solidFill>
              <a:srgbClr val="eed9c6"/>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53" name="任意多边形 68"/>
          <p:cNvSpPr/>
          <p:nvPr/>
        </p:nvSpPr>
        <p:spPr>
          <a:xfrm>
            <a:off x="1950120" y="5459040"/>
            <a:ext cx="1377000" cy="1436400"/>
          </a:xfrm>
          <a:custGeom>
            <a:avLst/>
            <a:gdLst>
              <a:gd name="textAreaLeft" fmla="*/ 0 w 1377000"/>
              <a:gd name="textAreaRight" fmla="*/ 1377360 w 1377000"/>
              <a:gd name="textAreaTop" fmla="*/ 0 h 1436400"/>
              <a:gd name="textAreaBottom" fmla="*/ 1436760 h 1436400"/>
            </a:gdLst>
            <a:ahLst/>
            <a:rect l="textAreaLeft" t="textAreaTop" r="textAreaRight" b="textAreaBottom"/>
            <a:pathLst>
              <a:path w="1377333" h="1436916">
                <a:moveTo>
                  <a:pt x="389113" y="0"/>
                </a:moveTo>
                <a:lnTo>
                  <a:pt x="1377333" y="1436916"/>
                </a:lnTo>
                <a:lnTo>
                  <a:pt x="579200" y="1436916"/>
                </a:lnTo>
                <a:lnTo>
                  <a:pt x="0" y="594733"/>
                </a:lnTo>
                <a:lnTo>
                  <a:pt x="373996" y="10397"/>
                </a:lnTo>
                <a:lnTo>
                  <a:pt x="389113" y="0"/>
                </a:lnTo>
                <a:close/>
              </a:path>
            </a:pathLst>
          </a:custGeom>
          <a:solidFill>
            <a:srgbClr val="f1dbcc"/>
          </a:solidFill>
          <a:ln>
            <a:solidFill>
              <a:srgbClr val="f1dbcc"/>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54" name="任意多边形 818"/>
          <p:cNvSpPr/>
          <p:nvPr/>
        </p:nvSpPr>
        <p:spPr>
          <a:xfrm flipV="1">
            <a:off x="5466240" y="5123160"/>
            <a:ext cx="1608120" cy="1772640"/>
          </a:xfrm>
          <a:custGeom>
            <a:avLst/>
            <a:gdLst>
              <a:gd name="textAreaLeft" fmla="*/ 0 w 1608120"/>
              <a:gd name="textAreaRight" fmla="*/ 1608480 w 1608120"/>
              <a:gd name="textAreaTop" fmla="*/ 360 h 1772640"/>
              <a:gd name="textAreaBottom" fmla="*/ 1773360 h 1772640"/>
            </a:gdLst>
            <a:ahLst/>
            <a:rect l="textAreaLeft" t="textAreaTop" r="textAreaRight" b="textAreaBottom"/>
            <a:pathLst>
              <a:path w="1608398" h="1772896">
                <a:moveTo>
                  <a:pt x="1219285" y="1772896"/>
                </a:moveTo>
                <a:lnTo>
                  <a:pt x="1234402" y="1762499"/>
                </a:lnTo>
                <a:lnTo>
                  <a:pt x="1608398" y="1178163"/>
                </a:lnTo>
                <a:lnTo>
                  <a:pt x="798132" y="0"/>
                </a:lnTo>
                <a:lnTo>
                  <a:pt x="0" y="0"/>
                </a:lnTo>
                <a:lnTo>
                  <a:pt x="1219285" y="1772896"/>
                </a:lnTo>
                <a:close/>
              </a:path>
            </a:pathLst>
          </a:custGeom>
          <a:solidFill>
            <a:srgbClr val="ed6f65">
              <a:alpha val="25000"/>
            </a:srgbClr>
          </a:solidFill>
          <a:ln>
            <a:solidFill>
              <a:srgbClr val="f1dbcc"/>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55" name="任意多边形 519"/>
          <p:cNvSpPr/>
          <p:nvPr/>
        </p:nvSpPr>
        <p:spPr>
          <a:xfrm>
            <a:off x="10576080" y="2869200"/>
            <a:ext cx="767880" cy="594360"/>
          </a:xfrm>
          <a:custGeom>
            <a:avLst/>
            <a:gdLst>
              <a:gd name="textAreaLeft" fmla="*/ 0 w 767880"/>
              <a:gd name="textAreaRight" fmla="*/ 768240 w 767880"/>
              <a:gd name="textAreaTop" fmla="*/ 0 h 594360"/>
              <a:gd name="textAreaBottom" fmla="*/ 594720 h 594360"/>
            </a:gdLst>
            <a:ahLst/>
            <a:rect l="textAreaLeft" t="textAreaTop" r="textAreaRight" b="textAreaBottom"/>
            <a:pathLst>
              <a:path w="768171" h="594733">
                <a:moveTo>
                  <a:pt x="380650" y="0"/>
                </a:moveTo>
                <a:lnTo>
                  <a:pt x="386064" y="7873"/>
                </a:lnTo>
                <a:lnTo>
                  <a:pt x="479739" y="144080"/>
                </a:lnTo>
                <a:lnTo>
                  <a:pt x="530801" y="223861"/>
                </a:lnTo>
                <a:lnTo>
                  <a:pt x="758406" y="579475"/>
                </a:lnTo>
                <a:lnTo>
                  <a:pt x="768171" y="594733"/>
                </a:lnTo>
                <a:lnTo>
                  <a:pt x="0" y="594733"/>
                </a:lnTo>
                <a:lnTo>
                  <a:pt x="6654" y="584336"/>
                </a:lnTo>
                <a:close/>
              </a:path>
            </a:pathLst>
          </a:custGeom>
          <a:solidFill>
            <a:srgbClr val="d57053">
              <a:alpha val="49000"/>
            </a:srgbClr>
          </a:solidFill>
          <a:ln>
            <a:solidFill>
              <a:srgbClr val="df9b83">
                <a:alpha val="49000"/>
              </a:srgbClr>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56" name="任意多边形 685"/>
          <p:cNvSpPr/>
          <p:nvPr/>
        </p:nvSpPr>
        <p:spPr>
          <a:xfrm>
            <a:off x="9482400" y="0"/>
            <a:ext cx="1473840" cy="1577520"/>
          </a:xfrm>
          <a:custGeom>
            <a:avLst/>
            <a:gdLst>
              <a:gd name="textAreaLeft" fmla="*/ 0 w 1473840"/>
              <a:gd name="textAreaRight" fmla="*/ 1474200 w 1473840"/>
              <a:gd name="textAreaTop" fmla="*/ 0 h 1577520"/>
              <a:gd name="textAreaBottom" fmla="*/ 1577880 h 1577520"/>
            </a:gdLst>
            <a:ahLst/>
            <a:rect l="textAreaLeft" t="textAreaTop" r="textAreaRight" b="textAreaBottom"/>
            <a:pathLst>
              <a:path w="1474363" h="1578002">
                <a:moveTo>
                  <a:pt x="0" y="0"/>
                </a:moveTo>
                <a:lnTo>
                  <a:pt x="798133" y="0"/>
                </a:lnTo>
                <a:lnTo>
                  <a:pt x="1474363" y="983269"/>
                </a:lnTo>
                <a:lnTo>
                  <a:pt x="1100367" y="1567605"/>
                </a:lnTo>
                <a:lnTo>
                  <a:pt x="1085250" y="1578002"/>
                </a:lnTo>
                <a:lnTo>
                  <a:pt x="0" y="0"/>
                </a:lnTo>
                <a:close/>
              </a:path>
            </a:pathLst>
          </a:custGeom>
          <a:solidFill>
            <a:srgbClr val="e7b05e">
              <a:alpha val="25000"/>
            </a:srgbClr>
          </a:solidFill>
          <a:ln>
            <a:solidFill>
              <a:srgbClr val="efe3c2"/>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57" name="任意多边形 83"/>
          <p:cNvSpPr/>
          <p:nvPr/>
        </p:nvSpPr>
        <p:spPr>
          <a:xfrm>
            <a:off x="10965600" y="0"/>
            <a:ext cx="1238040" cy="1577520"/>
          </a:xfrm>
          <a:custGeom>
            <a:avLst/>
            <a:gdLst>
              <a:gd name="textAreaLeft" fmla="*/ 0 w 1238040"/>
              <a:gd name="textAreaRight" fmla="*/ 1238400 w 1238040"/>
              <a:gd name="textAreaTop" fmla="*/ 0 h 1577520"/>
              <a:gd name="textAreaBottom" fmla="*/ 1577880 h 1577520"/>
            </a:gdLst>
            <a:ahLst/>
            <a:rect l="textAreaLeft" t="textAreaTop" r="textAreaRight" b="textAreaBottom"/>
            <a:pathLst>
              <a:path w="1238362" h="1578002">
                <a:moveTo>
                  <a:pt x="678279" y="0"/>
                </a:moveTo>
                <a:lnTo>
                  <a:pt x="1238362" y="0"/>
                </a:lnTo>
                <a:lnTo>
                  <a:pt x="1238362" y="346134"/>
                </a:lnTo>
                <a:lnTo>
                  <a:pt x="391161" y="1578002"/>
                </a:lnTo>
                <a:lnTo>
                  <a:pt x="368976" y="1562744"/>
                </a:lnTo>
                <a:lnTo>
                  <a:pt x="141371" y="1207130"/>
                </a:lnTo>
                <a:lnTo>
                  <a:pt x="143955" y="1205353"/>
                </a:lnTo>
                <a:lnTo>
                  <a:pt x="90309" y="1127349"/>
                </a:lnTo>
                <a:lnTo>
                  <a:pt x="0" y="986248"/>
                </a:lnTo>
                <a:lnTo>
                  <a:pt x="678279" y="0"/>
                </a:lnTo>
                <a:close/>
              </a:path>
            </a:pathLst>
          </a:custGeom>
          <a:solidFill>
            <a:srgbClr val="efe3c2">
              <a:alpha val="71000"/>
            </a:srgbClr>
          </a:solidFill>
          <a:ln>
            <a:solidFill>
              <a:srgbClr val="eee6c8"/>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58" name="任意多边形 703"/>
          <p:cNvSpPr/>
          <p:nvPr/>
        </p:nvSpPr>
        <p:spPr>
          <a:xfrm>
            <a:off x="11202840" y="1946880"/>
            <a:ext cx="797760" cy="1160280"/>
          </a:xfrm>
          <a:custGeom>
            <a:avLst/>
            <a:gdLst>
              <a:gd name="textAreaLeft" fmla="*/ 0 w 797760"/>
              <a:gd name="textAreaRight" fmla="*/ 798120 w 797760"/>
              <a:gd name="textAreaTop" fmla="*/ 0 h 1160280"/>
              <a:gd name="textAreaBottom" fmla="*/ 1160640 h 1160280"/>
            </a:gdLst>
            <a:ahLst/>
            <a:rect l="textAreaLeft" t="textAreaTop" r="textAreaRight" b="textAreaBottom"/>
            <a:pathLst>
              <a:path w="798132" h="1160519">
                <a:moveTo>
                  <a:pt x="399066" y="0"/>
                </a:moveTo>
                <a:lnTo>
                  <a:pt x="798132" y="580260"/>
                </a:lnTo>
                <a:lnTo>
                  <a:pt x="399066" y="1160519"/>
                </a:lnTo>
                <a:lnTo>
                  <a:pt x="0" y="580260"/>
                </a:lnTo>
                <a:lnTo>
                  <a:pt x="399066" y="0"/>
                </a:lnTo>
                <a:close/>
              </a:path>
            </a:pathLst>
          </a:custGeom>
          <a:solidFill>
            <a:srgbClr val="d57053">
              <a:alpha val="25000"/>
            </a:srgbClr>
          </a:solidFill>
          <a:ln>
            <a:solidFill>
              <a:srgbClr val="ead3be"/>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59" name="任意多边形 87"/>
          <p:cNvSpPr/>
          <p:nvPr/>
        </p:nvSpPr>
        <p:spPr>
          <a:xfrm>
            <a:off x="11602080" y="1071720"/>
            <a:ext cx="601560" cy="1455120"/>
          </a:xfrm>
          <a:custGeom>
            <a:avLst/>
            <a:gdLst>
              <a:gd name="textAreaLeft" fmla="*/ 0 w 601560"/>
              <a:gd name="textAreaRight" fmla="*/ 601920 w 601560"/>
              <a:gd name="textAreaTop" fmla="*/ 0 h 1455120"/>
              <a:gd name="textAreaBottom" fmla="*/ 1455480 h 1455120"/>
            </a:gdLst>
            <a:ahLst/>
            <a:rect l="textAreaLeft" t="textAreaTop" r="textAreaRight" b="textAreaBottom"/>
            <a:pathLst>
              <a:path w="601946" h="1455517">
                <a:moveTo>
                  <a:pt x="601946" y="0"/>
                </a:moveTo>
                <a:lnTo>
                  <a:pt x="601946" y="1160520"/>
                </a:lnTo>
                <a:lnTo>
                  <a:pt x="399066" y="1455517"/>
                </a:lnTo>
                <a:lnTo>
                  <a:pt x="0" y="875257"/>
                </a:lnTo>
                <a:lnTo>
                  <a:pt x="601946" y="0"/>
                </a:lnTo>
                <a:close/>
              </a:path>
            </a:pathLst>
          </a:custGeom>
          <a:solidFill>
            <a:srgbClr val="ebcebc"/>
          </a:solidFill>
          <a:ln>
            <a:solidFill>
              <a:srgbClr val="eacdba"/>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60" name="任意多边形 699"/>
          <p:cNvSpPr/>
          <p:nvPr/>
        </p:nvSpPr>
        <p:spPr>
          <a:xfrm>
            <a:off x="10965600" y="1590120"/>
            <a:ext cx="636120" cy="936360"/>
          </a:xfrm>
          <a:custGeom>
            <a:avLst/>
            <a:gdLst>
              <a:gd name="textAreaLeft" fmla="*/ 0 w 636120"/>
              <a:gd name="textAreaRight" fmla="*/ 636480 w 636120"/>
              <a:gd name="textAreaTop" fmla="*/ 0 h 936360"/>
              <a:gd name="textAreaBottom" fmla="*/ 936720 h 936360"/>
            </a:gdLst>
            <a:ahLst/>
            <a:rect l="textAreaLeft" t="textAreaTop" r="textAreaRight" b="textAreaBottom"/>
            <a:pathLst>
              <a:path w="636416" h="936872">
                <a:moveTo>
                  <a:pt x="391161" y="0"/>
                </a:moveTo>
                <a:lnTo>
                  <a:pt x="636416" y="356612"/>
                </a:lnTo>
                <a:lnTo>
                  <a:pt x="237350" y="936872"/>
                </a:lnTo>
                <a:lnTo>
                  <a:pt x="0" y="591754"/>
                </a:lnTo>
                <a:lnTo>
                  <a:pt x="90309" y="450653"/>
                </a:lnTo>
                <a:lnTo>
                  <a:pt x="143955" y="372649"/>
                </a:lnTo>
                <a:lnTo>
                  <a:pt x="141371" y="370872"/>
                </a:lnTo>
                <a:lnTo>
                  <a:pt x="368976" y="15258"/>
                </a:lnTo>
                <a:lnTo>
                  <a:pt x="391161" y="0"/>
                </a:lnTo>
                <a:close/>
              </a:path>
            </a:pathLst>
          </a:custGeom>
          <a:solidFill>
            <a:srgbClr val="d2dbc4"/>
          </a:solidFill>
          <a:ln>
            <a:solidFill>
              <a:srgbClr val="d3ddc7"/>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61" name="任意多边形 698"/>
          <p:cNvSpPr/>
          <p:nvPr/>
        </p:nvSpPr>
        <p:spPr>
          <a:xfrm>
            <a:off x="10965600" y="2527200"/>
            <a:ext cx="636120" cy="936360"/>
          </a:xfrm>
          <a:custGeom>
            <a:avLst/>
            <a:gdLst>
              <a:gd name="textAreaLeft" fmla="*/ 0 w 636120"/>
              <a:gd name="textAreaRight" fmla="*/ 636480 w 636120"/>
              <a:gd name="textAreaTop" fmla="*/ 0 h 936360"/>
              <a:gd name="textAreaBottom" fmla="*/ 936720 h 936360"/>
            </a:gdLst>
            <a:ahLst/>
            <a:rect l="textAreaLeft" t="textAreaTop" r="textAreaRight" b="textAreaBottom"/>
            <a:pathLst>
              <a:path w="636416" h="936871">
                <a:moveTo>
                  <a:pt x="237350" y="0"/>
                </a:moveTo>
                <a:lnTo>
                  <a:pt x="636416" y="580259"/>
                </a:lnTo>
                <a:lnTo>
                  <a:pt x="391161" y="936871"/>
                </a:lnTo>
                <a:lnTo>
                  <a:pt x="368976" y="921613"/>
                </a:lnTo>
                <a:lnTo>
                  <a:pt x="141371" y="565999"/>
                </a:lnTo>
                <a:lnTo>
                  <a:pt x="143955" y="564222"/>
                </a:lnTo>
                <a:lnTo>
                  <a:pt x="90309" y="486218"/>
                </a:lnTo>
                <a:lnTo>
                  <a:pt x="0" y="345117"/>
                </a:lnTo>
                <a:lnTo>
                  <a:pt x="237350" y="0"/>
                </a:lnTo>
                <a:close/>
              </a:path>
            </a:pathLst>
          </a:custGeom>
          <a:solidFill>
            <a:srgbClr val="e9ccba"/>
          </a:solidFill>
          <a:ln>
            <a:solidFill>
              <a:srgbClr val="eacdbb"/>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62" name="任意多边形 93"/>
          <p:cNvSpPr/>
          <p:nvPr/>
        </p:nvSpPr>
        <p:spPr>
          <a:xfrm>
            <a:off x="11602080" y="2527200"/>
            <a:ext cx="601560" cy="1455120"/>
          </a:xfrm>
          <a:custGeom>
            <a:avLst/>
            <a:gdLst>
              <a:gd name="textAreaLeft" fmla="*/ 0 w 601560"/>
              <a:gd name="textAreaRight" fmla="*/ 601920 w 601560"/>
              <a:gd name="textAreaTop" fmla="*/ 0 h 1455120"/>
              <a:gd name="textAreaBottom" fmla="*/ 1455480 h 1455120"/>
            </a:gdLst>
            <a:ahLst/>
            <a:rect l="textAreaLeft" t="textAreaTop" r="textAreaRight" b="textAreaBottom"/>
            <a:pathLst>
              <a:path w="601946" h="1455516">
                <a:moveTo>
                  <a:pt x="399066" y="0"/>
                </a:moveTo>
                <a:lnTo>
                  <a:pt x="601946" y="294997"/>
                </a:lnTo>
                <a:lnTo>
                  <a:pt x="601946" y="1455516"/>
                </a:lnTo>
                <a:lnTo>
                  <a:pt x="0" y="580259"/>
                </a:lnTo>
                <a:lnTo>
                  <a:pt x="399066" y="0"/>
                </a:lnTo>
                <a:close/>
              </a:path>
            </a:pathLst>
          </a:custGeom>
          <a:solidFill>
            <a:srgbClr val="d3ddc7"/>
          </a:solidFill>
          <a:ln>
            <a:solidFill>
              <a:srgbClr val="d3dcc6"/>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63" name="任意多边形 522"/>
          <p:cNvSpPr/>
          <p:nvPr/>
        </p:nvSpPr>
        <p:spPr>
          <a:xfrm>
            <a:off x="10576080" y="983160"/>
            <a:ext cx="767880" cy="594360"/>
          </a:xfrm>
          <a:custGeom>
            <a:avLst/>
            <a:gdLst>
              <a:gd name="textAreaLeft" fmla="*/ 0 w 767880"/>
              <a:gd name="textAreaRight" fmla="*/ 768240 w 767880"/>
              <a:gd name="textAreaTop" fmla="*/ 0 h 594360"/>
              <a:gd name="textAreaBottom" fmla="*/ 594720 h 594360"/>
            </a:gdLst>
            <a:ahLst/>
            <a:rect l="textAreaLeft" t="textAreaTop" r="textAreaRight" b="textAreaBottom"/>
            <a:pathLst>
              <a:path w="768171" h="594733">
                <a:moveTo>
                  <a:pt x="380650" y="0"/>
                </a:moveTo>
                <a:lnTo>
                  <a:pt x="386064" y="7873"/>
                </a:lnTo>
                <a:lnTo>
                  <a:pt x="479739" y="144080"/>
                </a:lnTo>
                <a:lnTo>
                  <a:pt x="530801" y="223861"/>
                </a:lnTo>
                <a:lnTo>
                  <a:pt x="758406" y="579475"/>
                </a:lnTo>
                <a:lnTo>
                  <a:pt x="768171" y="594733"/>
                </a:lnTo>
                <a:lnTo>
                  <a:pt x="0" y="594733"/>
                </a:lnTo>
                <a:lnTo>
                  <a:pt x="6654" y="584336"/>
                </a:lnTo>
                <a:close/>
              </a:path>
            </a:pathLst>
          </a:custGeom>
          <a:solidFill>
            <a:srgbClr val="e49b35">
              <a:alpha val="36000"/>
            </a:srgbClr>
          </a:solidFill>
          <a:ln>
            <a:solidFill>
              <a:srgbClr val="ebd3a2"/>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64" name="任意多边形 528"/>
          <p:cNvSpPr/>
          <p:nvPr/>
        </p:nvSpPr>
        <p:spPr>
          <a:xfrm flipV="1">
            <a:off x="10576080" y="1589400"/>
            <a:ext cx="767880" cy="594360"/>
          </a:xfrm>
          <a:custGeom>
            <a:avLst/>
            <a:gdLst>
              <a:gd name="textAreaLeft" fmla="*/ 0 w 767880"/>
              <a:gd name="textAreaRight" fmla="*/ 768240 w 767880"/>
              <a:gd name="textAreaTop" fmla="*/ -360 h 594360"/>
              <a:gd name="textAreaBottom" fmla="*/ 594360 h 594360"/>
            </a:gdLst>
            <a:ahLst/>
            <a:rect l="textAreaLeft" t="textAreaTop" r="textAreaRight" b="textAreaBottom"/>
            <a:pathLst>
              <a:path w="768171" h="594733">
                <a:moveTo>
                  <a:pt x="380650" y="0"/>
                </a:moveTo>
                <a:lnTo>
                  <a:pt x="386064" y="7873"/>
                </a:lnTo>
                <a:lnTo>
                  <a:pt x="479739" y="144080"/>
                </a:lnTo>
                <a:lnTo>
                  <a:pt x="530801" y="223861"/>
                </a:lnTo>
                <a:lnTo>
                  <a:pt x="758406" y="579475"/>
                </a:lnTo>
                <a:lnTo>
                  <a:pt x="768171" y="594733"/>
                </a:lnTo>
                <a:lnTo>
                  <a:pt x="0" y="594733"/>
                </a:lnTo>
                <a:lnTo>
                  <a:pt x="6654" y="584336"/>
                </a:lnTo>
                <a:close/>
              </a:path>
            </a:pathLst>
          </a:custGeom>
          <a:solidFill>
            <a:srgbClr val="88a378">
              <a:alpha val="53000"/>
            </a:srgbClr>
          </a:solidFill>
          <a:ln>
            <a:solidFill>
              <a:srgbClr val="b3c4a5">
                <a:alpha val="53000"/>
              </a:srgbClr>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65" name="任意多边形 50"/>
          <p:cNvSpPr/>
          <p:nvPr/>
        </p:nvSpPr>
        <p:spPr>
          <a:xfrm>
            <a:off x="2444760" y="4491720"/>
            <a:ext cx="1946160" cy="2415960"/>
          </a:xfrm>
          <a:custGeom>
            <a:avLst/>
            <a:gdLst>
              <a:gd name="textAreaLeft" fmla="*/ 0 w 1946160"/>
              <a:gd name="textAreaRight" fmla="*/ 1946520 w 1946160"/>
              <a:gd name="textAreaTop" fmla="*/ 0 h 2415960"/>
              <a:gd name="textAreaBottom" fmla="*/ 2416320 h 2415960"/>
            </a:gdLst>
            <a:ahLst/>
            <a:rect l="textAreaLeft" t="textAreaTop" r="textAreaRight" b="textAreaBottom"/>
            <a:pathLst>
              <a:path w="1946374" h="2416275">
                <a:moveTo>
                  <a:pt x="1555213" y="0"/>
                </a:moveTo>
                <a:lnTo>
                  <a:pt x="1577398" y="15258"/>
                </a:lnTo>
                <a:lnTo>
                  <a:pt x="1805003" y="370872"/>
                </a:lnTo>
                <a:lnTo>
                  <a:pt x="1802419" y="372649"/>
                </a:lnTo>
                <a:lnTo>
                  <a:pt x="1856065" y="450653"/>
                </a:lnTo>
                <a:lnTo>
                  <a:pt x="1946374" y="591754"/>
                </a:lnTo>
                <a:lnTo>
                  <a:pt x="691584" y="2416275"/>
                </a:lnTo>
                <a:lnTo>
                  <a:pt x="106548" y="2416275"/>
                </a:lnTo>
                <a:lnTo>
                  <a:pt x="0" y="2261349"/>
                </a:lnTo>
                <a:lnTo>
                  <a:pt x="1555213" y="0"/>
                </a:lnTo>
                <a:close/>
              </a:path>
            </a:pathLst>
          </a:custGeom>
          <a:solidFill>
            <a:srgbClr val="a2b894">
              <a:alpha val="25000"/>
            </a:srgbClr>
          </a:solidFill>
          <a:ln>
            <a:solidFill>
              <a:srgbClr val="e0e6d3"/>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66" name="任意多边形 49"/>
          <p:cNvSpPr/>
          <p:nvPr/>
        </p:nvSpPr>
        <p:spPr>
          <a:xfrm>
            <a:off x="4399920" y="4491720"/>
            <a:ext cx="2050560" cy="2415960"/>
          </a:xfrm>
          <a:custGeom>
            <a:avLst/>
            <a:gdLst>
              <a:gd name="textAreaLeft" fmla="*/ 0 w 2050560"/>
              <a:gd name="textAreaRight" fmla="*/ 2050920 w 2050560"/>
              <a:gd name="textAreaTop" fmla="*/ 0 h 2415960"/>
              <a:gd name="textAreaBottom" fmla="*/ 2416320 h 2415960"/>
            </a:gdLst>
            <a:ahLst/>
            <a:rect l="textAreaLeft" t="textAreaTop" r="textAreaRight" b="textAreaBottom"/>
            <a:pathLst>
              <a:path w="2050873" h="2416274">
                <a:moveTo>
                  <a:pt x="389113" y="0"/>
                </a:moveTo>
                <a:lnTo>
                  <a:pt x="2050873" y="2416274"/>
                </a:lnTo>
                <a:lnTo>
                  <a:pt x="1252741" y="2416274"/>
                </a:lnTo>
                <a:lnTo>
                  <a:pt x="0" y="594733"/>
                </a:lnTo>
                <a:lnTo>
                  <a:pt x="373996" y="10397"/>
                </a:lnTo>
                <a:lnTo>
                  <a:pt x="389113" y="0"/>
                </a:lnTo>
                <a:close/>
              </a:path>
            </a:pathLst>
          </a:custGeom>
          <a:solidFill>
            <a:srgbClr val="a2b894">
              <a:alpha val="25000"/>
            </a:srgbClr>
          </a:solidFill>
          <a:ln>
            <a:solidFill>
              <a:srgbClr val="e0e6d3"/>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67" name="任意多边形 48"/>
          <p:cNvSpPr/>
          <p:nvPr/>
        </p:nvSpPr>
        <p:spPr>
          <a:xfrm>
            <a:off x="2344680" y="6762240"/>
            <a:ext cx="200160" cy="145440"/>
          </a:xfrm>
          <a:custGeom>
            <a:avLst/>
            <a:gdLst>
              <a:gd name="textAreaLeft" fmla="*/ 0 w 200160"/>
              <a:gd name="textAreaRight" fmla="*/ 200520 w 200160"/>
              <a:gd name="textAreaTop" fmla="*/ 0 h 145440"/>
              <a:gd name="textAreaBottom" fmla="*/ 145800 h 145440"/>
            </a:gdLst>
            <a:ahLst/>
            <a:rect l="textAreaLeft" t="textAreaTop" r="textAreaRight" b="textAreaBottom"/>
            <a:pathLst>
              <a:path w="200534" h="145793">
                <a:moveTo>
                  <a:pt x="100267" y="0"/>
                </a:moveTo>
                <a:lnTo>
                  <a:pt x="200534" y="145793"/>
                </a:lnTo>
                <a:lnTo>
                  <a:pt x="0" y="145793"/>
                </a:lnTo>
                <a:lnTo>
                  <a:pt x="100267" y="0"/>
                </a:lnTo>
                <a:close/>
              </a:path>
            </a:pathLst>
          </a:custGeom>
          <a:solidFill>
            <a:srgbClr val="a2b894">
              <a:alpha val="25000"/>
            </a:srgbClr>
          </a:solidFill>
          <a:ln>
            <a:solidFill>
              <a:srgbClr val="e0e6d3"/>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68" name="任意多边形 61"/>
          <p:cNvSpPr/>
          <p:nvPr/>
        </p:nvSpPr>
        <p:spPr>
          <a:xfrm>
            <a:off x="-35280" y="4818240"/>
            <a:ext cx="1016640" cy="2052000"/>
          </a:xfrm>
          <a:custGeom>
            <a:avLst/>
            <a:gdLst>
              <a:gd name="textAreaLeft" fmla="*/ 0 w 1016640"/>
              <a:gd name="textAreaRight" fmla="*/ 1017000 w 1016640"/>
              <a:gd name="textAreaTop" fmla="*/ 0 h 2052000"/>
              <a:gd name="textAreaBottom" fmla="*/ 2052360 h 2052000"/>
            </a:gdLst>
            <a:ahLst/>
            <a:rect l="textAreaLeft" t="textAreaTop" r="textAreaRight" b="textAreaBottom"/>
            <a:pathLst>
              <a:path w="1017046" h="2052322">
                <a:moveTo>
                  <a:pt x="0" y="0"/>
                </a:moveTo>
                <a:lnTo>
                  <a:pt x="1017046" y="1478830"/>
                </a:lnTo>
                <a:lnTo>
                  <a:pt x="613325" y="2052322"/>
                </a:lnTo>
                <a:lnTo>
                  <a:pt x="0" y="1160520"/>
                </a:lnTo>
                <a:lnTo>
                  <a:pt x="0" y="0"/>
                </a:lnTo>
                <a:close/>
              </a:path>
            </a:pathLst>
          </a:custGeom>
          <a:solidFill>
            <a:srgbClr val="508799">
              <a:alpha val="25000"/>
            </a:srgbClr>
          </a:solidFill>
          <a:ln>
            <a:solidFill>
              <a:srgbClr val="c3d4c3"/>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69" name="任意多边形 811"/>
          <p:cNvSpPr/>
          <p:nvPr/>
        </p:nvSpPr>
        <p:spPr>
          <a:xfrm flipV="1">
            <a:off x="4397400" y="5881680"/>
            <a:ext cx="1088280" cy="1013760"/>
          </a:xfrm>
          <a:custGeom>
            <a:avLst/>
            <a:gdLst>
              <a:gd name="textAreaLeft" fmla="*/ 0 w 1088280"/>
              <a:gd name="textAreaRight" fmla="*/ 1088640 w 1088280"/>
              <a:gd name="textAreaTop" fmla="*/ 360 h 1013760"/>
              <a:gd name="textAreaBottom" fmla="*/ 1014480 h 1013760"/>
            </a:gdLst>
            <a:ahLst/>
            <a:rect l="textAreaLeft" t="textAreaTop" r="textAreaRight" b="textAreaBottom"/>
            <a:pathLst>
              <a:path w="1088729" h="1014296">
                <a:moveTo>
                  <a:pt x="391161" y="1014296"/>
                </a:moveTo>
                <a:lnTo>
                  <a:pt x="1088729" y="0"/>
                </a:lnTo>
                <a:lnTo>
                  <a:pt x="290598" y="0"/>
                </a:lnTo>
                <a:lnTo>
                  <a:pt x="0" y="422542"/>
                </a:lnTo>
                <a:lnTo>
                  <a:pt x="90309" y="563643"/>
                </a:lnTo>
                <a:lnTo>
                  <a:pt x="143955" y="641647"/>
                </a:lnTo>
                <a:lnTo>
                  <a:pt x="141371" y="643424"/>
                </a:lnTo>
                <a:lnTo>
                  <a:pt x="368976" y="999038"/>
                </a:lnTo>
                <a:lnTo>
                  <a:pt x="391161" y="1014296"/>
                </a:lnTo>
                <a:close/>
              </a:path>
            </a:pathLst>
          </a:custGeom>
          <a:solidFill>
            <a:srgbClr val="d57053">
              <a:alpha val="25000"/>
            </a:srgbClr>
          </a:solidFill>
          <a:ln>
            <a:solidFill>
              <a:srgbClr val="ead3bf"/>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70" name="任意多边形 637"/>
          <p:cNvSpPr/>
          <p:nvPr/>
        </p:nvSpPr>
        <p:spPr>
          <a:xfrm flipV="1">
            <a:off x="4007880" y="5880960"/>
            <a:ext cx="767880" cy="594360"/>
          </a:xfrm>
          <a:custGeom>
            <a:avLst/>
            <a:gdLst>
              <a:gd name="textAreaLeft" fmla="*/ 0 w 767880"/>
              <a:gd name="textAreaRight" fmla="*/ 768240 w 767880"/>
              <a:gd name="textAreaTop" fmla="*/ -360 h 594360"/>
              <a:gd name="textAreaBottom" fmla="*/ 594360 h 594360"/>
            </a:gdLst>
            <a:ahLst/>
            <a:rect l="textAreaLeft" t="textAreaTop" r="textAreaRight" b="textAreaBottom"/>
            <a:pathLst>
              <a:path w="768171" h="594733">
                <a:moveTo>
                  <a:pt x="380650" y="0"/>
                </a:moveTo>
                <a:lnTo>
                  <a:pt x="386064" y="7873"/>
                </a:lnTo>
                <a:lnTo>
                  <a:pt x="479739" y="144080"/>
                </a:lnTo>
                <a:lnTo>
                  <a:pt x="530801" y="223861"/>
                </a:lnTo>
                <a:lnTo>
                  <a:pt x="758406" y="579475"/>
                </a:lnTo>
                <a:lnTo>
                  <a:pt x="768171" y="594733"/>
                </a:lnTo>
                <a:lnTo>
                  <a:pt x="0" y="594733"/>
                </a:lnTo>
                <a:lnTo>
                  <a:pt x="6654" y="584336"/>
                </a:lnTo>
                <a:close/>
              </a:path>
            </a:pathLst>
          </a:custGeom>
          <a:solidFill>
            <a:srgbClr val="d57053">
              <a:alpha val="35000"/>
            </a:srgbClr>
          </a:solidFill>
          <a:ln>
            <a:solidFill>
              <a:srgbClr val="e6c6b1"/>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71" name="任意多边形 660"/>
          <p:cNvSpPr/>
          <p:nvPr/>
        </p:nvSpPr>
        <p:spPr>
          <a:xfrm flipV="1">
            <a:off x="10822680" y="5494680"/>
            <a:ext cx="767880" cy="594360"/>
          </a:xfrm>
          <a:custGeom>
            <a:avLst/>
            <a:gdLst>
              <a:gd name="textAreaLeft" fmla="*/ 0 w 767880"/>
              <a:gd name="textAreaRight" fmla="*/ 768240 w 767880"/>
              <a:gd name="textAreaTop" fmla="*/ -360 h 594360"/>
              <a:gd name="textAreaBottom" fmla="*/ 594360 h 594360"/>
            </a:gdLst>
            <a:ahLst/>
            <a:rect l="textAreaLeft" t="textAreaTop" r="textAreaRight" b="textAreaBottom"/>
            <a:pathLst>
              <a:path w="768171" h="594733">
                <a:moveTo>
                  <a:pt x="380650" y="0"/>
                </a:moveTo>
                <a:lnTo>
                  <a:pt x="386064" y="7873"/>
                </a:lnTo>
                <a:lnTo>
                  <a:pt x="479739" y="144080"/>
                </a:lnTo>
                <a:lnTo>
                  <a:pt x="530801" y="223861"/>
                </a:lnTo>
                <a:lnTo>
                  <a:pt x="758406" y="579475"/>
                </a:lnTo>
                <a:lnTo>
                  <a:pt x="768171" y="594733"/>
                </a:lnTo>
                <a:lnTo>
                  <a:pt x="0" y="594733"/>
                </a:lnTo>
                <a:lnTo>
                  <a:pt x="6654" y="584336"/>
                </a:lnTo>
                <a:close/>
              </a:path>
            </a:pathLst>
          </a:custGeom>
          <a:solidFill>
            <a:srgbClr val="508799">
              <a:alpha val="35000"/>
            </a:srgbClr>
          </a:solidFill>
          <a:ln>
            <a:solidFill>
              <a:srgbClr val="b5cac1"/>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72" name="任意多边形 665"/>
          <p:cNvSpPr/>
          <p:nvPr/>
        </p:nvSpPr>
        <p:spPr>
          <a:xfrm>
            <a:off x="9861840" y="5495400"/>
            <a:ext cx="1341000" cy="1384200"/>
          </a:xfrm>
          <a:custGeom>
            <a:avLst/>
            <a:gdLst>
              <a:gd name="textAreaLeft" fmla="*/ 0 w 1341000"/>
              <a:gd name="textAreaRight" fmla="*/ 1341360 w 1341000"/>
              <a:gd name="textAreaTop" fmla="*/ 0 h 1384200"/>
              <a:gd name="textAreaBottom" fmla="*/ 1384560 h 1384200"/>
            </a:gdLst>
            <a:ahLst/>
            <a:rect l="textAreaLeft" t="textAreaTop" r="textAreaRight" b="textAreaBottom"/>
            <a:pathLst>
              <a:path w="1341240" h="1384436">
                <a:moveTo>
                  <a:pt x="952127" y="0"/>
                </a:moveTo>
                <a:lnTo>
                  <a:pt x="967244" y="10397"/>
                </a:lnTo>
                <a:lnTo>
                  <a:pt x="1341240" y="594733"/>
                </a:lnTo>
                <a:lnTo>
                  <a:pt x="798132" y="1384436"/>
                </a:lnTo>
                <a:lnTo>
                  <a:pt x="0" y="1384436"/>
                </a:lnTo>
                <a:lnTo>
                  <a:pt x="952127" y="0"/>
                </a:lnTo>
                <a:close/>
              </a:path>
            </a:pathLst>
          </a:custGeom>
          <a:solidFill>
            <a:srgbClr val="508799">
              <a:alpha val="25000"/>
            </a:srgbClr>
          </a:solidFill>
          <a:ln>
            <a:solidFill>
              <a:srgbClr val="c4d5c6"/>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73" name="任意多边形 709"/>
          <p:cNvSpPr/>
          <p:nvPr/>
        </p:nvSpPr>
        <p:spPr>
          <a:xfrm>
            <a:off x="11211840" y="5495400"/>
            <a:ext cx="979560" cy="1384200"/>
          </a:xfrm>
          <a:custGeom>
            <a:avLst/>
            <a:gdLst>
              <a:gd name="textAreaLeft" fmla="*/ 0 w 979560"/>
              <a:gd name="textAreaRight" fmla="*/ 979920 w 979560"/>
              <a:gd name="textAreaTop" fmla="*/ 0 h 1384200"/>
              <a:gd name="textAreaBottom" fmla="*/ 1384560 h 1384200"/>
            </a:gdLst>
            <a:ahLst/>
            <a:rect l="textAreaLeft" t="textAreaTop" r="textAreaRight" b="textAreaBottom"/>
            <a:pathLst>
              <a:path w="980063" h="1384436">
                <a:moveTo>
                  <a:pt x="391161" y="0"/>
                </a:moveTo>
                <a:lnTo>
                  <a:pt x="980063" y="856291"/>
                </a:lnTo>
                <a:lnTo>
                  <a:pt x="980063" y="1384436"/>
                </a:lnTo>
                <a:lnTo>
                  <a:pt x="545157" y="1384436"/>
                </a:lnTo>
                <a:lnTo>
                  <a:pt x="0" y="591754"/>
                </a:lnTo>
                <a:lnTo>
                  <a:pt x="90309" y="450653"/>
                </a:lnTo>
                <a:lnTo>
                  <a:pt x="143955" y="372649"/>
                </a:lnTo>
                <a:lnTo>
                  <a:pt x="141371" y="370872"/>
                </a:lnTo>
                <a:lnTo>
                  <a:pt x="368976" y="15258"/>
                </a:lnTo>
                <a:lnTo>
                  <a:pt x="391161" y="0"/>
                </a:lnTo>
                <a:close/>
              </a:path>
            </a:pathLst>
          </a:custGeom>
          <a:solidFill>
            <a:srgbClr val="508799">
              <a:alpha val="25000"/>
            </a:srgbClr>
          </a:solidFill>
          <a:ln>
            <a:solidFill>
              <a:srgbClr val="bfd1bd"/>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74" name="任意多边形 670"/>
          <p:cNvSpPr/>
          <p:nvPr/>
        </p:nvSpPr>
        <p:spPr>
          <a:xfrm flipV="1">
            <a:off x="9195840" y="5502600"/>
            <a:ext cx="767880" cy="594360"/>
          </a:xfrm>
          <a:custGeom>
            <a:avLst/>
            <a:gdLst>
              <a:gd name="textAreaLeft" fmla="*/ 0 w 767880"/>
              <a:gd name="textAreaRight" fmla="*/ 768240 w 767880"/>
              <a:gd name="textAreaTop" fmla="*/ -360 h 594360"/>
              <a:gd name="textAreaBottom" fmla="*/ 594360 h 594360"/>
            </a:gdLst>
            <a:ahLst/>
            <a:rect l="textAreaLeft" t="textAreaTop" r="textAreaRight" b="textAreaBottom"/>
            <a:pathLst>
              <a:path w="768171" h="594733">
                <a:moveTo>
                  <a:pt x="380650" y="0"/>
                </a:moveTo>
                <a:lnTo>
                  <a:pt x="386064" y="7873"/>
                </a:lnTo>
                <a:lnTo>
                  <a:pt x="479739" y="144080"/>
                </a:lnTo>
                <a:lnTo>
                  <a:pt x="530801" y="223861"/>
                </a:lnTo>
                <a:lnTo>
                  <a:pt x="758406" y="579475"/>
                </a:lnTo>
                <a:lnTo>
                  <a:pt x="768171" y="594733"/>
                </a:lnTo>
                <a:lnTo>
                  <a:pt x="0" y="594733"/>
                </a:lnTo>
                <a:lnTo>
                  <a:pt x="6654" y="584336"/>
                </a:lnTo>
                <a:close/>
              </a:path>
            </a:pathLst>
          </a:custGeom>
          <a:solidFill>
            <a:srgbClr val="e49b35">
              <a:alpha val="35000"/>
            </a:srgbClr>
          </a:solidFill>
          <a:ln>
            <a:solidFill>
              <a:srgbClr val="ebd3a3"/>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75" name="任意多边形 75"/>
          <p:cNvSpPr/>
          <p:nvPr/>
        </p:nvSpPr>
        <p:spPr>
          <a:xfrm>
            <a:off x="8220960" y="5503320"/>
            <a:ext cx="1355040" cy="1404360"/>
          </a:xfrm>
          <a:custGeom>
            <a:avLst/>
            <a:gdLst>
              <a:gd name="textAreaLeft" fmla="*/ 0 w 1355040"/>
              <a:gd name="textAreaRight" fmla="*/ 1355400 w 1355040"/>
              <a:gd name="textAreaTop" fmla="*/ 0 h 1404360"/>
              <a:gd name="textAreaBottom" fmla="*/ 1404720 h 1404360"/>
            </a:gdLst>
            <a:ahLst/>
            <a:rect l="textAreaLeft" t="textAreaTop" r="textAreaRight" b="textAreaBottom"/>
            <a:pathLst>
              <a:path w="1355248" h="1404805">
                <a:moveTo>
                  <a:pt x="966135" y="0"/>
                </a:moveTo>
                <a:lnTo>
                  <a:pt x="981252" y="10397"/>
                </a:lnTo>
                <a:lnTo>
                  <a:pt x="1355248" y="594733"/>
                </a:lnTo>
                <a:lnTo>
                  <a:pt x="798132" y="1404805"/>
                </a:lnTo>
                <a:lnTo>
                  <a:pt x="0" y="1404805"/>
                </a:lnTo>
                <a:lnTo>
                  <a:pt x="966135" y="0"/>
                </a:lnTo>
                <a:close/>
              </a:path>
            </a:pathLst>
          </a:custGeom>
          <a:solidFill>
            <a:srgbClr val="e49b35">
              <a:alpha val="25000"/>
            </a:srgbClr>
          </a:solidFill>
          <a:ln>
            <a:solidFill>
              <a:srgbClr val="ebdcb0"/>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76" name="任意多边形 80"/>
          <p:cNvSpPr/>
          <p:nvPr/>
        </p:nvSpPr>
        <p:spPr>
          <a:xfrm>
            <a:off x="9585000" y="5503320"/>
            <a:ext cx="1351800" cy="1397160"/>
          </a:xfrm>
          <a:custGeom>
            <a:avLst/>
            <a:gdLst>
              <a:gd name="textAreaLeft" fmla="*/ 0 w 1351800"/>
              <a:gd name="textAreaRight" fmla="*/ 1352160 w 1351800"/>
              <a:gd name="textAreaTop" fmla="*/ 0 h 1397160"/>
              <a:gd name="textAreaBottom" fmla="*/ 1397520 h 1397160"/>
            </a:gdLst>
            <a:ahLst/>
            <a:rect l="textAreaLeft" t="textAreaTop" r="textAreaRight" b="textAreaBottom"/>
            <a:pathLst>
              <a:path w="1352191" h="1397381">
                <a:moveTo>
                  <a:pt x="391161" y="0"/>
                </a:moveTo>
                <a:lnTo>
                  <a:pt x="1352191" y="1397381"/>
                </a:lnTo>
                <a:lnTo>
                  <a:pt x="554059" y="1397381"/>
                </a:lnTo>
                <a:lnTo>
                  <a:pt x="0" y="591754"/>
                </a:lnTo>
                <a:lnTo>
                  <a:pt x="90309" y="450653"/>
                </a:lnTo>
                <a:lnTo>
                  <a:pt x="143955" y="372649"/>
                </a:lnTo>
                <a:lnTo>
                  <a:pt x="141371" y="370872"/>
                </a:lnTo>
                <a:lnTo>
                  <a:pt x="368976" y="15258"/>
                </a:lnTo>
                <a:lnTo>
                  <a:pt x="391161" y="0"/>
                </a:lnTo>
                <a:close/>
              </a:path>
            </a:pathLst>
          </a:custGeom>
          <a:solidFill>
            <a:srgbClr val="e49b35">
              <a:alpha val="25000"/>
            </a:srgbClr>
          </a:solidFill>
          <a:ln>
            <a:solidFill>
              <a:srgbClr val="ebdcb2"/>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77" name="任意多边形 788"/>
          <p:cNvSpPr/>
          <p:nvPr/>
        </p:nvSpPr>
        <p:spPr>
          <a:xfrm flipV="1">
            <a:off x="3302640" y="5881680"/>
            <a:ext cx="1086480" cy="1013760"/>
          </a:xfrm>
          <a:custGeom>
            <a:avLst/>
            <a:gdLst>
              <a:gd name="textAreaLeft" fmla="*/ 0 w 1086480"/>
              <a:gd name="textAreaRight" fmla="*/ 1086840 w 1086480"/>
              <a:gd name="textAreaTop" fmla="*/ 360 h 1013760"/>
              <a:gd name="textAreaBottom" fmla="*/ 1014480 h 1013760"/>
            </a:gdLst>
            <a:ahLst/>
            <a:rect l="textAreaLeft" t="textAreaTop" r="textAreaRight" b="textAreaBottom"/>
            <a:pathLst>
              <a:path w="1086681" h="1014296">
                <a:moveTo>
                  <a:pt x="697568" y="1014296"/>
                </a:moveTo>
                <a:lnTo>
                  <a:pt x="712685" y="1003899"/>
                </a:lnTo>
                <a:lnTo>
                  <a:pt x="1086681" y="419563"/>
                </a:lnTo>
                <a:lnTo>
                  <a:pt x="798132" y="0"/>
                </a:lnTo>
                <a:lnTo>
                  <a:pt x="0" y="0"/>
                </a:lnTo>
                <a:lnTo>
                  <a:pt x="697568" y="1014296"/>
                </a:lnTo>
                <a:close/>
              </a:path>
            </a:pathLst>
          </a:custGeom>
          <a:solidFill>
            <a:srgbClr val="d57053">
              <a:alpha val="25000"/>
            </a:srgbClr>
          </a:solidFill>
          <a:ln>
            <a:solidFill>
              <a:srgbClr val="ead3bf"/>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78" name="任意多边形 686"/>
          <p:cNvSpPr/>
          <p:nvPr/>
        </p:nvSpPr>
        <p:spPr>
          <a:xfrm>
            <a:off x="8185320" y="0"/>
            <a:ext cx="2770920" cy="3463560"/>
          </a:xfrm>
          <a:custGeom>
            <a:avLst/>
            <a:gdLst>
              <a:gd name="textAreaLeft" fmla="*/ 0 w 2770920"/>
              <a:gd name="textAreaRight" fmla="*/ 2771280 w 2770920"/>
              <a:gd name="textAreaTop" fmla="*/ 0 h 3463560"/>
              <a:gd name="textAreaBottom" fmla="*/ 3463920 h 3463560"/>
            </a:gdLst>
            <a:ahLst/>
            <a:rect l="textAreaLeft" t="textAreaTop" r="textAreaRight" b="textAreaBottom"/>
            <a:pathLst>
              <a:path w="2771399" h="3463952">
                <a:moveTo>
                  <a:pt x="0" y="0"/>
                </a:moveTo>
                <a:lnTo>
                  <a:pt x="798131" y="0"/>
                </a:lnTo>
                <a:lnTo>
                  <a:pt x="2771399" y="2869219"/>
                </a:lnTo>
                <a:lnTo>
                  <a:pt x="2397403" y="3453555"/>
                </a:lnTo>
                <a:lnTo>
                  <a:pt x="2382286" y="3463952"/>
                </a:lnTo>
                <a:lnTo>
                  <a:pt x="0" y="0"/>
                </a:lnTo>
                <a:close/>
              </a:path>
            </a:pathLst>
          </a:custGeom>
          <a:solidFill>
            <a:srgbClr val="d57053">
              <a:alpha val="30000"/>
            </a:srgbClr>
          </a:solidFill>
          <a:ln>
            <a:solidFill>
              <a:srgbClr val="eacebc"/>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79" name="任意多边形 824"/>
          <p:cNvSpPr/>
          <p:nvPr/>
        </p:nvSpPr>
        <p:spPr>
          <a:xfrm flipH="1" flipV="1">
            <a:off x="6913080" y="1590120"/>
            <a:ext cx="4043520" cy="5305680"/>
          </a:xfrm>
          <a:custGeom>
            <a:avLst/>
            <a:gdLst>
              <a:gd name="textAreaLeft" fmla="*/ 360 w 4043520"/>
              <a:gd name="textAreaRight" fmla="*/ 4044240 w 4043520"/>
              <a:gd name="textAreaTop" fmla="*/ 360 h 5305680"/>
              <a:gd name="textAreaBottom" fmla="*/ 5306400 h 5305680"/>
            </a:gdLst>
            <a:ahLst/>
            <a:rect l="textAreaLeft" t="textAreaTop" r="textAreaRight" b="textAreaBottom"/>
            <a:pathLst>
              <a:path w="4043737" h="5305892">
                <a:moveTo>
                  <a:pt x="389113" y="5305892"/>
                </a:moveTo>
                <a:lnTo>
                  <a:pt x="373996" y="5295495"/>
                </a:lnTo>
                <a:lnTo>
                  <a:pt x="0" y="4711159"/>
                </a:lnTo>
                <a:lnTo>
                  <a:pt x="2281471" y="1393799"/>
                </a:lnTo>
                <a:lnTo>
                  <a:pt x="2285250" y="1396398"/>
                </a:lnTo>
                <a:lnTo>
                  <a:pt x="3245605" y="0"/>
                </a:lnTo>
                <a:lnTo>
                  <a:pt x="4043737" y="0"/>
                </a:lnTo>
                <a:lnTo>
                  <a:pt x="1810872" y="3246685"/>
                </a:lnTo>
                <a:lnTo>
                  <a:pt x="1807092" y="3244086"/>
                </a:lnTo>
                <a:lnTo>
                  <a:pt x="389113" y="5305892"/>
                </a:lnTo>
                <a:close/>
              </a:path>
            </a:pathLst>
          </a:custGeom>
          <a:solidFill>
            <a:srgbClr val="88a378">
              <a:alpha val="30000"/>
            </a:srgbClr>
          </a:solidFill>
          <a:ln>
            <a:solidFill>
              <a:srgbClr val="d3dcc5">
                <a:alpha val="30000"/>
              </a:srgbClr>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80" name="任意多边形 817"/>
          <p:cNvSpPr/>
          <p:nvPr/>
        </p:nvSpPr>
        <p:spPr>
          <a:xfrm flipV="1">
            <a:off x="7083360" y="5123160"/>
            <a:ext cx="1609920" cy="1772640"/>
          </a:xfrm>
          <a:custGeom>
            <a:avLst/>
            <a:gdLst>
              <a:gd name="textAreaLeft" fmla="*/ 0 w 1609920"/>
              <a:gd name="textAreaRight" fmla="*/ 1610280 w 1609920"/>
              <a:gd name="textAreaTop" fmla="*/ 360 h 1772640"/>
              <a:gd name="textAreaBottom" fmla="*/ 1773360 h 1772640"/>
            </a:gdLst>
            <a:ahLst/>
            <a:rect l="textAreaLeft" t="textAreaTop" r="textAreaRight" b="textAreaBottom"/>
            <a:pathLst>
              <a:path w="1610447" h="1772896">
                <a:moveTo>
                  <a:pt x="391161" y="1772896"/>
                </a:moveTo>
                <a:lnTo>
                  <a:pt x="1610447" y="0"/>
                </a:lnTo>
                <a:lnTo>
                  <a:pt x="812315" y="0"/>
                </a:lnTo>
                <a:lnTo>
                  <a:pt x="0" y="1181142"/>
                </a:lnTo>
                <a:lnTo>
                  <a:pt x="90309" y="1322243"/>
                </a:lnTo>
                <a:lnTo>
                  <a:pt x="143955" y="1400247"/>
                </a:lnTo>
                <a:lnTo>
                  <a:pt x="141371" y="1402024"/>
                </a:lnTo>
                <a:lnTo>
                  <a:pt x="368976" y="1757638"/>
                </a:lnTo>
                <a:lnTo>
                  <a:pt x="391161" y="1772896"/>
                </a:lnTo>
                <a:close/>
              </a:path>
            </a:pathLst>
          </a:custGeom>
          <a:solidFill>
            <a:srgbClr val="ed6f65">
              <a:alpha val="25000"/>
            </a:srgbClr>
          </a:solidFill>
          <a:ln>
            <a:solidFill>
              <a:srgbClr val="f1dbcc"/>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81" name="任意多边形 54"/>
          <p:cNvSpPr/>
          <p:nvPr/>
        </p:nvSpPr>
        <p:spPr>
          <a:xfrm flipH="1" flipV="1">
            <a:off x="1561680" y="5458320"/>
            <a:ext cx="767880" cy="594360"/>
          </a:xfrm>
          <a:custGeom>
            <a:avLst/>
            <a:gdLst>
              <a:gd name="textAreaLeft" fmla="*/ -360 w 767880"/>
              <a:gd name="textAreaRight" fmla="*/ 767880 w 767880"/>
              <a:gd name="textAreaTop" fmla="*/ -360 h 594360"/>
              <a:gd name="textAreaBottom" fmla="*/ 594360 h 594360"/>
            </a:gdLst>
            <a:ahLst/>
            <a:rect l="textAreaLeft" t="textAreaTop" r="textAreaRight" b="textAreaBottom"/>
            <a:pathLst>
              <a:path w="768171" h="594733">
                <a:moveTo>
                  <a:pt x="380650" y="0"/>
                </a:moveTo>
                <a:lnTo>
                  <a:pt x="386064" y="7873"/>
                </a:lnTo>
                <a:lnTo>
                  <a:pt x="479739" y="144080"/>
                </a:lnTo>
                <a:lnTo>
                  <a:pt x="530801" y="223861"/>
                </a:lnTo>
                <a:lnTo>
                  <a:pt x="758406" y="579475"/>
                </a:lnTo>
                <a:lnTo>
                  <a:pt x="768171" y="594733"/>
                </a:lnTo>
                <a:lnTo>
                  <a:pt x="0" y="594733"/>
                </a:lnTo>
                <a:lnTo>
                  <a:pt x="6654" y="584336"/>
                </a:lnTo>
                <a:close/>
              </a:path>
            </a:pathLst>
          </a:custGeom>
          <a:solidFill>
            <a:srgbClr val="ed5249">
              <a:alpha val="35000"/>
            </a:srgbClr>
          </a:solidFill>
          <a:ln>
            <a:solidFill>
              <a:srgbClr val="efbbab"/>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82" name="任意多边形 35"/>
          <p:cNvSpPr/>
          <p:nvPr/>
        </p:nvSpPr>
        <p:spPr>
          <a:xfrm flipH="1" flipV="1">
            <a:off x="4011840" y="4491000"/>
            <a:ext cx="767880" cy="594360"/>
          </a:xfrm>
          <a:custGeom>
            <a:avLst/>
            <a:gdLst>
              <a:gd name="textAreaLeft" fmla="*/ -360 w 767880"/>
              <a:gd name="textAreaRight" fmla="*/ 767880 w 767880"/>
              <a:gd name="textAreaTop" fmla="*/ -360 h 594360"/>
              <a:gd name="textAreaBottom" fmla="*/ 594360 h 594360"/>
            </a:gdLst>
            <a:ahLst/>
            <a:rect l="textAreaLeft" t="textAreaTop" r="textAreaRight" b="textAreaBottom"/>
            <a:pathLst>
              <a:path w="768171" h="594733">
                <a:moveTo>
                  <a:pt x="380650" y="0"/>
                </a:moveTo>
                <a:lnTo>
                  <a:pt x="386064" y="7873"/>
                </a:lnTo>
                <a:lnTo>
                  <a:pt x="479739" y="144080"/>
                </a:lnTo>
                <a:lnTo>
                  <a:pt x="530801" y="223861"/>
                </a:lnTo>
                <a:lnTo>
                  <a:pt x="758406" y="579475"/>
                </a:lnTo>
                <a:lnTo>
                  <a:pt x="768171" y="594733"/>
                </a:lnTo>
                <a:lnTo>
                  <a:pt x="0" y="594733"/>
                </a:lnTo>
                <a:lnTo>
                  <a:pt x="6654" y="584336"/>
                </a:lnTo>
                <a:close/>
              </a:path>
            </a:pathLst>
          </a:custGeom>
          <a:solidFill>
            <a:srgbClr val="89a67a">
              <a:alpha val="35000"/>
            </a:srgbClr>
          </a:solidFill>
          <a:ln>
            <a:solidFill>
              <a:srgbClr val="cfdac2"/>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83" name="任意多边形 36"/>
          <p:cNvSpPr/>
          <p:nvPr/>
        </p:nvSpPr>
        <p:spPr>
          <a:xfrm flipV="1">
            <a:off x="6694200" y="5122440"/>
            <a:ext cx="767880" cy="594360"/>
          </a:xfrm>
          <a:custGeom>
            <a:avLst/>
            <a:gdLst>
              <a:gd name="textAreaLeft" fmla="*/ 0 w 767880"/>
              <a:gd name="textAreaRight" fmla="*/ 768240 w 767880"/>
              <a:gd name="textAreaTop" fmla="*/ -360 h 594360"/>
              <a:gd name="textAreaBottom" fmla="*/ 594360 h 594360"/>
            </a:gdLst>
            <a:ahLst/>
            <a:rect l="textAreaLeft" t="textAreaTop" r="textAreaRight" b="textAreaBottom"/>
            <a:pathLst>
              <a:path w="768171" h="594733">
                <a:moveTo>
                  <a:pt x="380650" y="0"/>
                </a:moveTo>
                <a:lnTo>
                  <a:pt x="386064" y="7873"/>
                </a:lnTo>
                <a:lnTo>
                  <a:pt x="479739" y="144080"/>
                </a:lnTo>
                <a:lnTo>
                  <a:pt x="530801" y="223861"/>
                </a:lnTo>
                <a:lnTo>
                  <a:pt x="758406" y="579475"/>
                </a:lnTo>
                <a:lnTo>
                  <a:pt x="768171" y="594733"/>
                </a:lnTo>
                <a:lnTo>
                  <a:pt x="0" y="594733"/>
                </a:lnTo>
                <a:lnTo>
                  <a:pt x="6654" y="584336"/>
                </a:lnTo>
                <a:close/>
              </a:path>
            </a:pathLst>
          </a:custGeom>
          <a:solidFill>
            <a:srgbClr val="ed6f65">
              <a:alpha val="35000"/>
            </a:srgbClr>
          </a:solidFill>
          <a:ln>
            <a:solidFill>
              <a:srgbClr val="f2c7ba"/>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cxnSp>
        <p:nvCxnSpPr>
          <p:cNvPr id="384" name="直接连接符 38"/>
          <p:cNvCxnSpPr/>
          <p:nvPr/>
        </p:nvCxnSpPr>
        <p:spPr>
          <a:xfrm>
            <a:off x="796320" y="776880"/>
            <a:ext cx="7897680" cy="360"/>
          </a:xfrm>
          <a:prstGeom prst="straightConnector1">
            <a:avLst/>
          </a:prstGeom>
          <a:ln>
            <a:solidFill>
              <a:srgbClr val="ffffff">
                <a:lumMod val="65000"/>
              </a:srgbClr>
            </a:solidFill>
          </a:ln>
        </p:spPr>
      </p:cxnSp>
      <p:sp>
        <p:nvSpPr>
          <p:cNvPr id="385" name="平行四边形 40"/>
          <p:cNvSpPr/>
          <p:nvPr/>
        </p:nvSpPr>
        <p:spPr>
          <a:xfrm>
            <a:off x="361440" y="316080"/>
            <a:ext cx="1038600" cy="478800"/>
          </a:xfrm>
          <a:prstGeom prst="parallelogram">
            <a:avLst>
              <a:gd name="adj" fmla="val 25000"/>
            </a:avLst>
          </a:prstGeom>
          <a:solidFill>
            <a:srgbClr val="34618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86" name="文本框 41"/>
          <p:cNvSpPr/>
          <p:nvPr/>
        </p:nvSpPr>
        <p:spPr>
          <a:xfrm>
            <a:off x="370800" y="294120"/>
            <a:ext cx="1020240" cy="51624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US" sz="2800" spc="-1" strike="noStrike">
                <a:solidFill>
                  <a:srgbClr val="ffffff"/>
                </a:solidFill>
                <a:latin typeface="微软雅黑"/>
                <a:ea typeface="微软雅黑"/>
              </a:rPr>
              <a:t>3</a:t>
            </a:r>
            <a:endParaRPr b="0" lang="en-US" sz="2800" spc="-1" strike="noStrike">
              <a:solidFill>
                <a:srgbClr val="000000"/>
              </a:solidFill>
              <a:latin typeface="Arial"/>
            </a:endParaRPr>
          </a:p>
        </p:txBody>
      </p:sp>
      <p:grpSp>
        <p:nvGrpSpPr>
          <p:cNvPr id="387" name="组合 1"/>
          <p:cNvGrpSpPr/>
          <p:nvPr/>
        </p:nvGrpSpPr>
        <p:grpSpPr>
          <a:xfrm>
            <a:off x="5164920" y="1025280"/>
            <a:ext cx="1981800" cy="4713480"/>
            <a:chOff x="5164920" y="1025280"/>
            <a:chExt cx="1981800" cy="4713480"/>
          </a:xfrm>
        </p:grpSpPr>
        <p:grpSp>
          <p:nvGrpSpPr>
            <p:cNvPr id="388" name="组合 53"/>
            <p:cNvGrpSpPr/>
            <p:nvPr/>
          </p:nvGrpSpPr>
          <p:grpSpPr>
            <a:xfrm>
              <a:off x="5165280" y="1025280"/>
              <a:ext cx="1981440" cy="4713480"/>
              <a:chOff x="5165280" y="1025280"/>
              <a:chExt cx="1981440" cy="4713480"/>
            </a:xfrm>
          </p:grpSpPr>
          <p:sp>
            <p:nvSpPr>
              <p:cNvPr id="389" name="等腰三角形 55"/>
              <p:cNvSpPr/>
              <p:nvPr/>
            </p:nvSpPr>
            <p:spPr>
              <a:xfrm rot="10800000">
                <a:off x="5449320" y="5357160"/>
                <a:ext cx="468720" cy="381600"/>
              </a:xfrm>
              <a:prstGeom prst="triangle">
                <a:avLst>
                  <a:gd name="adj" fmla="val 50000"/>
                </a:avLst>
              </a:prstGeom>
              <a:solidFill>
                <a:srgbClr val="324554"/>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90" name="流程图: 手动操作 56"/>
              <p:cNvSpPr/>
              <p:nvPr/>
            </p:nvSpPr>
            <p:spPr>
              <a:xfrm>
                <a:off x="5165280" y="4903920"/>
                <a:ext cx="1036800" cy="376920"/>
              </a:xfrm>
              <a:prstGeom prst="flowChartManualOperation">
                <a:avLst/>
              </a:prstGeom>
              <a:solidFill>
                <a:srgbClr val="c79b6c"/>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91" name="任意多边形 57"/>
              <p:cNvSpPr/>
              <p:nvPr/>
            </p:nvSpPr>
            <p:spPr>
              <a:xfrm>
                <a:off x="5165280" y="2008080"/>
                <a:ext cx="1036800" cy="2820600"/>
              </a:xfrm>
              <a:custGeom>
                <a:avLst/>
                <a:gdLst>
                  <a:gd name="textAreaLeft" fmla="*/ 0 w 1036800"/>
                  <a:gd name="textAreaRight" fmla="*/ 1037160 w 1036800"/>
                  <a:gd name="textAreaTop" fmla="*/ 0 h 2820600"/>
                  <a:gd name="textAreaBottom" fmla="*/ 2820960 h 2820600"/>
                </a:gdLst>
                <a:ahLst/>
                <a:rect l="textAreaLeft" t="textAreaTop" r="textAreaRight" b="textAreaBottom"/>
                <a:pathLst>
                  <a:path w="1037229" h="2820972">
                    <a:moveTo>
                      <a:pt x="0" y="0"/>
                    </a:moveTo>
                    <a:lnTo>
                      <a:pt x="486988" y="0"/>
                    </a:lnTo>
                    <a:lnTo>
                      <a:pt x="486988" y="532263"/>
                    </a:lnTo>
                    <a:lnTo>
                      <a:pt x="1037229" y="532263"/>
                    </a:lnTo>
                    <a:lnTo>
                      <a:pt x="1037229" y="2820972"/>
                    </a:lnTo>
                    <a:lnTo>
                      <a:pt x="0" y="2820972"/>
                    </a:lnTo>
                    <a:lnTo>
                      <a:pt x="0" y="0"/>
                    </a:lnTo>
                    <a:close/>
                  </a:path>
                </a:pathLst>
              </a:custGeom>
              <a:solidFill>
                <a:srgbClr val="e49b35"/>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92" name="矩形 58"/>
              <p:cNvSpPr/>
              <p:nvPr/>
            </p:nvSpPr>
            <p:spPr>
              <a:xfrm>
                <a:off x="5804280" y="1898640"/>
                <a:ext cx="549720" cy="532080"/>
              </a:xfrm>
              <a:prstGeom prst="rect">
                <a:avLst/>
              </a:prstGeom>
              <a:solidFill>
                <a:srgbClr val="e49b35"/>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93" name="矩形 59"/>
              <p:cNvSpPr/>
              <p:nvPr/>
            </p:nvSpPr>
            <p:spPr>
              <a:xfrm>
                <a:off x="6156720" y="1480680"/>
                <a:ext cx="197280" cy="190800"/>
              </a:xfrm>
              <a:prstGeom prst="rect">
                <a:avLst/>
              </a:prstGeom>
              <a:solidFill>
                <a:srgbClr val="89a67a"/>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94" name="矩形 60"/>
              <p:cNvSpPr/>
              <p:nvPr/>
            </p:nvSpPr>
            <p:spPr>
              <a:xfrm>
                <a:off x="6944400" y="1025280"/>
                <a:ext cx="202320" cy="195480"/>
              </a:xfrm>
              <a:prstGeom prst="rect">
                <a:avLst/>
              </a:prstGeom>
              <a:solidFill>
                <a:srgbClr val="c79b6c"/>
              </a:solidFill>
              <a:ln>
                <a:noFill/>
              </a:ln>
              <a:effectLst>
                <a:softEdge rad="25560"/>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95" name="矩形 62"/>
              <p:cNvSpPr/>
              <p:nvPr/>
            </p:nvSpPr>
            <p:spPr>
              <a:xfrm>
                <a:off x="6480360" y="1200960"/>
                <a:ext cx="274680" cy="265680"/>
              </a:xfrm>
              <a:prstGeom prst="rect">
                <a:avLst/>
              </a:prstGeom>
              <a:solidFill>
                <a:srgbClr val="324554">
                  <a:alpha val="89000"/>
                </a:srgbClr>
              </a:solidFill>
              <a:ln>
                <a:noFill/>
              </a:ln>
              <a:effectLst>
                <a:softEdge rad="25560"/>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96" name="矩形 63"/>
              <p:cNvSpPr/>
              <p:nvPr/>
            </p:nvSpPr>
            <p:spPr>
              <a:xfrm>
                <a:off x="6566400" y="1825200"/>
                <a:ext cx="377640" cy="365400"/>
              </a:xfrm>
              <a:prstGeom prst="rect">
                <a:avLst/>
              </a:prstGeom>
              <a:solidFill>
                <a:srgbClr val="508799">
                  <a:alpha val="92000"/>
                </a:srgb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cxnSp>
            <p:nvCxnSpPr>
              <p:cNvPr id="397" name="直接连接符 64"/>
              <p:cNvCxnSpPr/>
              <p:nvPr/>
            </p:nvCxnSpPr>
            <p:spPr>
              <a:xfrm>
                <a:off x="5962680" y="5738400"/>
                <a:ext cx="1184400" cy="360"/>
              </a:xfrm>
              <a:prstGeom prst="straightConnector1">
                <a:avLst/>
              </a:prstGeom>
              <a:ln w="57150">
                <a:solidFill>
                  <a:srgbClr val="324554"/>
                </a:solidFill>
              </a:ln>
            </p:spPr>
          </p:cxnSp>
        </p:grpSp>
        <p:sp>
          <p:nvSpPr>
            <p:cNvPr id="398" name="矩形 65"/>
            <p:cNvSpPr/>
            <p:nvPr/>
          </p:nvSpPr>
          <p:spPr>
            <a:xfrm>
              <a:off x="5165280" y="4171680"/>
              <a:ext cx="1036800" cy="653760"/>
            </a:xfrm>
            <a:prstGeom prst="rect">
              <a:avLst/>
            </a:prstGeom>
            <a:solidFill>
              <a:srgbClr val="ed6f65"/>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99" name="矩形 66"/>
            <p:cNvSpPr/>
            <p:nvPr/>
          </p:nvSpPr>
          <p:spPr>
            <a:xfrm>
              <a:off x="5164920" y="3517560"/>
              <a:ext cx="1036800" cy="653760"/>
            </a:xfrm>
            <a:prstGeom prst="rect">
              <a:avLst/>
            </a:prstGeom>
            <a:solidFill>
              <a:srgbClr val="89a67a"/>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400" name="矩形 67"/>
            <p:cNvSpPr/>
            <p:nvPr/>
          </p:nvSpPr>
          <p:spPr>
            <a:xfrm>
              <a:off x="5164920" y="2865240"/>
              <a:ext cx="1036800" cy="653760"/>
            </a:xfrm>
            <a:prstGeom prst="rect">
              <a:avLst/>
            </a:prstGeom>
            <a:solidFill>
              <a:srgbClr val="287184"/>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cxnSp>
        <p:nvCxnSpPr>
          <p:cNvPr id="401" name="直接连接符 70"/>
          <p:cNvCxnSpPr/>
          <p:nvPr/>
        </p:nvCxnSpPr>
        <p:spPr>
          <a:xfrm>
            <a:off x="1439640" y="2361600"/>
            <a:ext cx="3966480" cy="360"/>
          </a:xfrm>
          <a:prstGeom prst="straightConnector1">
            <a:avLst/>
          </a:prstGeom>
          <a:ln w="19050">
            <a:solidFill>
              <a:srgbClr val="e49b35"/>
            </a:solidFill>
            <a:prstDash val="dash"/>
          </a:ln>
        </p:spPr>
      </p:cxnSp>
      <p:sp>
        <p:nvSpPr>
          <p:cNvPr id="402" name="文本框 71"/>
          <p:cNvSpPr/>
          <p:nvPr/>
        </p:nvSpPr>
        <p:spPr>
          <a:xfrm>
            <a:off x="1083960" y="2419920"/>
            <a:ext cx="3685680" cy="802440"/>
          </a:xfrm>
          <a:prstGeom prst="rect">
            <a:avLst/>
          </a:prstGeom>
          <a:noFill/>
          <a:ln w="0">
            <a:noFill/>
          </a:ln>
        </p:spPr>
        <p:style>
          <a:lnRef idx="0"/>
          <a:fillRef idx="0"/>
          <a:effectRef idx="0"/>
          <a:fontRef idx="minor"/>
        </p:style>
        <p:txBody>
          <a:bodyPr lIns="90000" rIns="90000" tIns="45000" bIns="45000" anchor="t">
            <a:spAutoFit/>
          </a:bodyPr>
          <a:p>
            <a:pPr algn="r">
              <a:lnSpc>
                <a:spcPct val="130000"/>
              </a:lnSpc>
            </a:pPr>
            <a:r>
              <a:rPr b="0" lang="zh-CN" sz="1800" spc="-1" strike="noStrike">
                <a:solidFill>
                  <a:srgbClr val="404040"/>
                </a:solidFill>
                <a:latin typeface="微软雅黑"/>
                <a:ea typeface="微软雅黑"/>
              </a:rPr>
              <a:t>此处插入文本框此处插入文本框</a:t>
            </a:r>
            <a:endParaRPr b="0" lang="en-US" sz="1800" spc="-1" strike="noStrike">
              <a:solidFill>
                <a:srgbClr val="000000"/>
              </a:solidFill>
              <a:latin typeface="Arial"/>
            </a:endParaRPr>
          </a:p>
          <a:p>
            <a:pPr algn="r">
              <a:lnSpc>
                <a:spcPct val="130000"/>
              </a:lnSpc>
            </a:pPr>
            <a:r>
              <a:rPr b="0" lang="zh-CN" sz="1800" spc="-1" strike="noStrike">
                <a:solidFill>
                  <a:srgbClr val="404040"/>
                </a:solidFill>
                <a:latin typeface="微软雅黑"/>
                <a:ea typeface="微软雅黑"/>
              </a:rPr>
              <a:t>此处插入文本框</a:t>
            </a:r>
            <a:endParaRPr b="0" lang="en-US" sz="1800" spc="-1" strike="noStrike">
              <a:solidFill>
                <a:srgbClr val="000000"/>
              </a:solidFill>
              <a:latin typeface="Arial"/>
            </a:endParaRPr>
          </a:p>
        </p:txBody>
      </p:sp>
      <p:cxnSp>
        <p:nvCxnSpPr>
          <p:cNvPr id="403" name="直接连接符 72"/>
          <p:cNvCxnSpPr/>
          <p:nvPr/>
        </p:nvCxnSpPr>
        <p:spPr>
          <a:xfrm>
            <a:off x="1439640" y="3841920"/>
            <a:ext cx="3966480" cy="360"/>
          </a:xfrm>
          <a:prstGeom prst="straightConnector1">
            <a:avLst/>
          </a:prstGeom>
          <a:ln w="19050">
            <a:solidFill>
              <a:srgbClr val="89a67a"/>
            </a:solidFill>
            <a:prstDash val="dash"/>
          </a:ln>
        </p:spPr>
      </p:cxnSp>
      <p:sp>
        <p:nvSpPr>
          <p:cNvPr id="404" name="文本框 73"/>
          <p:cNvSpPr/>
          <p:nvPr/>
        </p:nvSpPr>
        <p:spPr>
          <a:xfrm>
            <a:off x="1083960" y="3900240"/>
            <a:ext cx="3685680" cy="802440"/>
          </a:xfrm>
          <a:prstGeom prst="rect">
            <a:avLst/>
          </a:prstGeom>
          <a:noFill/>
          <a:ln w="0">
            <a:noFill/>
          </a:ln>
        </p:spPr>
        <p:style>
          <a:lnRef idx="0"/>
          <a:fillRef idx="0"/>
          <a:effectRef idx="0"/>
          <a:fontRef idx="minor"/>
        </p:style>
        <p:txBody>
          <a:bodyPr lIns="90000" rIns="90000" tIns="45000" bIns="45000" anchor="t">
            <a:spAutoFit/>
          </a:bodyPr>
          <a:p>
            <a:pPr algn="r">
              <a:lnSpc>
                <a:spcPct val="130000"/>
              </a:lnSpc>
            </a:pPr>
            <a:r>
              <a:rPr b="0" lang="zh-CN" sz="1800" spc="-1" strike="noStrike">
                <a:solidFill>
                  <a:srgbClr val="404040"/>
                </a:solidFill>
                <a:latin typeface="微软雅黑"/>
                <a:ea typeface="微软雅黑"/>
              </a:rPr>
              <a:t>此处插入文本框此处插入文本框</a:t>
            </a:r>
            <a:endParaRPr b="0" lang="en-US" sz="1800" spc="-1" strike="noStrike">
              <a:solidFill>
                <a:srgbClr val="000000"/>
              </a:solidFill>
              <a:latin typeface="Arial"/>
            </a:endParaRPr>
          </a:p>
          <a:p>
            <a:pPr algn="r">
              <a:lnSpc>
                <a:spcPct val="130000"/>
              </a:lnSpc>
            </a:pPr>
            <a:r>
              <a:rPr b="0" lang="zh-CN" sz="1800" spc="-1" strike="noStrike">
                <a:solidFill>
                  <a:srgbClr val="404040"/>
                </a:solidFill>
                <a:latin typeface="微软雅黑"/>
                <a:ea typeface="微软雅黑"/>
              </a:rPr>
              <a:t>此处插入文本框</a:t>
            </a:r>
            <a:endParaRPr b="0" lang="en-US" sz="1800" spc="-1" strike="noStrike">
              <a:solidFill>
                <a:srgbClr val="000000"/>
              </a:solidFill>
              <a:latin typeface="Arial"/>
            </a:endParaRPr>
          </a:p>
        </p:txBody>
      </p:sp>
      <p:cxnSp>
        <p:nvCxnSpPr>
          <p:cNvPr id="405" name="直接连接符 74"/>
          <p:cNvCxnSpPr/>
          <p:nvPr/>
        </p:nvCxnSpPr>
        <p:spPr>
          <a:xfrm flipH="1">
            <a:off x="5933160" y="3159720"/>
            <a:ext cx="3966480" cy="360"/>
          </a:xfrm>
          <a:prstGeom prst="straightConnector1">
            <a:avLst/>
          </a:prstGeom>
          <a:ln w="19050">
            <a:solidFill>
              <a:srgbClr val="287184"/>
            </a:solidFill>
            <a:prstDash val="dash"/>
          </a:ln>
        </p:spPr>
      </p:cxnSp>
      <p:sp>
        <p:nvSpPr>
          <p:cNvPr id="406" name="文本框 76"/>
          <p:cNvSpPr/>
          <p:nvPr/>
        </p:nvSpPr>
        <p:spPr>
          <a:xfrm flipH="1">
            <a:off x="6580800" y="3228120"/>
            <a:ext cx="3685680" cy="802440"/>
          </a:xfrm>
          <a:prstGeom prst="rect">
            <a:avLst/>
          </a:prstGeom>
          <a:noFill/>
          <a:ln w="0">
            <a:noFill/>
          </a:ln>
        </p:spPr>
        <p:style>
          <a:lnRef idx="0"/>
          <a:fillRef idx="0"/>
          <a:effectRef idx="0"/>
          <a:fontRef idx="minor"/>
        </p:style>
        <p:txBody>
          <a:bodyPr lIns="90000" rIns="90000" tIns="45000" bIns="45000" anchor="t">
            <a:spAutoFit/>
          </a:bodyPr>
          <a:p>
            <a:pPr>
              <a:lnSpc>
                <a:spcPct val="130000"/>
              </a:lnSpc>
            </a:pPr>
            <a:r>
              <a:rPr b="0" lang="zh-CN" sz="1800" spc="-1" strike="noStrike">
                <a:solidFill>
                  <a:srgbClr val="404040"/>
                </a:solidFill>
                <a:latin typeface="微软雅黑"/>
                <a:ea typeface="微软雅黑"/>
              </a:rPr>
              <a:t>此处插入文本框此处插入文本框</a:t>
            </a:r>
            <a:endParaRPr b="0" lang="en-US" sz="1800" spc="-1" strike="noStrike">
              <a:solidFill>
                <a:srgbClr val="000000"/>
              </a:solidFill>
              <a:latin typeface="Arial"/>
            </a:endParaRPr>
          </a:p>
          <a:p>
            <a:pPr>
              <a:lnSpc>
                <a:spcPct val="130000"/>
              </a:lnSpc>
            </a:pPr>
            <a:r>
              <a:rPr b="0" lang="zh-CN" sz="1800" spc="-1" strike="noStrike">
                <a:solidFill>
                  <a:srgbClr val="404040"/>
                </a:solidFill>
                <a:latin typeface="微软雅黑"/>
                <a:ea typeface="微软雅黑"/>
              </a:rPr>
              <a:t>此处插入文本框</a:t>
            </a:r>
            <a:endParaRPr b="0" lang="en-US" sz="1800" spc="-1" strike="noStrike">
              <a:solidFill>
                <a:srgbClr val="000000"/>
              </a:solidFill>
              <a:latin typeface="Arial"/>
            </a:endParaRPr>
          </a:p>
        </p:txBody>
      </p:sp>
      <p:cxnSp>
        <p:nvCxnSpPr>
          <p:cNvPr id="407" name="直接连接符 77"/>
          <p:cNvCxnSpPr/>
          <p:nvPr/>
        </p:nvCxnSpPr>
        <p:spPr>
          <a:xfrm flipH="1">
            <a:off x="5940360" y="4458600"/>
            <a:ext cx="3966480" cy="360"/>
          </a:xfrm>
          <a:prstGeom prst="straightConnector1">
            <a:avLst/>
          </a:prstGeom>
          <a:ln w="19050">
            <a:solidFill>
              <a:srgbClr val="ed6f65"/>
            </a:solidFill>
            <a:prstDash val="dash"/>
          </a:ln>
        </p:spPr>
      </p:cxnSp>
      <p:sp>
        <p:nvSpPr>
          <p:cNvPr id="408" name="文本框 78"/>
          <p:cNvSpPr/>
          <p:nvPr/>
        </p:nvSpPr>
        <p:spPr>
          <a:xfrm flipH="1">
            <a:off x="6588000" y="4527360"/>
            <a:ext cx="3685680" cy="802440"/>
          </a:xfrm>
          <a:prstGeom prst="rect">
            <a:avLst/>
          </a:prstGeom>
          <a:noFill/>
          <a:ln w="0">
            <a:noFill/>
          </a:ln>
        </p:spPr>
        <p:style>
          <a:lnRef idx="0"/>
          <a:fillRef idx="0"/>
          <a:effectRef idx="0"/>
          <a:fontRef idx="minor"/>
        </p:style>
        <p:txBody>
          <a:bodyPr lIns="90000" rIns="90000" tIns="45000" bIns="45000" anchor="t">
            <a:spAutoFit/>
          </a:bodyPr>
          <a:p>
            <a:pPr>
              <a:lnSpc>
                <a:spcPct val="130000"/>
              </a:lnSpc>
            </a:pPr>
            <a:r>
              <a:rPr b="0" lang="zh-CN" sz="1800" spc="-1" strike="noStrike">
                <a:solidFill>
                  <a:srgbClr val="404040"/>
                </a:solidFill>
                <a:latin typeface="微软雅黑"/>
                <a:ea typeface="微软雅黑"/>
              </a:rPr>
              <a:t>此处插入文本框此处插入文本框</a:t>
            </a:r>
            <a:endParaRPr b="0" lang="en-US" sz="1800" spc="-1" strike="noStrike">
              <a:solidFill>
                <a:srgbClr val="000000"/>
              </a:solidFill>
              <a:latin typeface="Arial"/>
            </a:endParaRPr>
          </a:p>
          <a:p>
            <a:pPr>
              <a:lnSpc>
                <a:spcPct val="130000"/>
              </a:lnSpc>
            </a:pPr>
            <a:r>
              <a:rPr b="0" lang="zh-CN" sz="1800" spc="-1" strike="noStrike">
                <a:solidFill>
                  <a:srgbClr val="404040"/>
                </a:solidFill>
                <a:latin typeface="微软雅黑"/>
                <a:ea typeface="微软雅黑"/>
              </a:rPr>
              <a:t>此处插入文本框</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8" dur="indefinite" restart="never" nodeType="tmRoot">
          <p:childTnLst>
            <p:seq>
              <p:cTn id="179" dur="indefinite" nodeType="mainSeq">
                <p:childTnLst>
                  <p:par>
                    <p:cTn id="180" fill="hold">
                      <p:stCondLst>
                        <p:cond delay="indefinite"/>
                      </p:stCondLst>
                      <p:childTnLst>
                        <p:par>
                          <p:cTn id="181" fill="hold">
                            <p:stCondLst>
                              <p:cond delay="0"/>
                            </p:stCondLst>
                            <p:childTnLst>
                              <p:par>
                                <p:cTn id="182" nodeType="clickEffect" fill="hold" presetClass="entr" presetID="37">
                                  <p:stCondLst>
                                    <p:cond delay="0"/>
                                  </p:stCondLst>
                                  <p:childTnLst>
                                    <p:set>
                                      <p:cBhvr>
                                        <p:cTn id="183" dur="1" fill="hold">
                                          <p:stCondLst>
                                            <p:cond delay="0"/>
                                          </p:stCondLst>
                                        </p:cTn>
                                        <p:tgtEl>
                                          <p:spTgt spid="387"/>
                                        </p:tgtEl>
                                        <p:attrNameLst>
                                          <p:attrName>style.visibility</p:attrName>
                                        </p:attrNameLst>
                                      </p:cBhvr>
                                      <p:to>
                                        <p:strVal val="visible"/>
                                      </p:to>
                                    </p:set>
                                    <p:animEffect filter="fade" transition="in">
                                      <p:cBhvr additive="repl">
                                        <p:cTn id="184" dur="1000"/>
                                        <p:tgtEl>
                                          <p:spTgt spid="387"/>
                                        </p:tgtEl>
                                      </p:cBhvr>
                                    </p:animEffect>
                                    <p:anim calcmode="lin" valueType="num">
                                      <p:cBhvr additive="repl">
                                        <p:cTn id="185" dur="1000" fill="hold"/>
                                        <p:tgtEl>
                                          <p:spTgt spid="387"/>
                                        </p:tgtEl>
                                        <p:attrNameLst>
                                          <p:attrName>ppt_x</p:attrName>
                                        </p:attrNameLst>
                                      </p:cBhvr>
                                      <p:tavLst>
                                        <p:tav tm="0">
                                          <p:val>
                                            <p:strVal val="#ppt_x"/>
                                          </p:val>
                                        </p:tav>
                                        <p:tav tm="100000">
                                          <p:val>
                                            <p:strVal val="#ppt_x"/>
                                          </p:val>
                                        </p:tav>
                                      </p:tavLst>
                                    </p:anim>
                                    <p:anim calcmode="lin" valueType="num">
                                      <p:cBhvr additive="repl">
                                        <p:cTn id="186" dur="900" fill="hold"/>
                                        <p:tgtEl>
                                          <p:spTgt spid="387"/>
                                        </p:tgtEl>
                                        <p:attrNameLst>
                                          <p:attrName>ppt_y</p:attrName>
                                        </p:attrNameLst>
                                      </p:cBhvr>
                                      <p:tavLst>
                                        <p:tav tm="0">
                                          <p:val>
                                            <p:strVal val="#ppt_y+1"/>
                                          </p:val>
                                        </p:tav>
                                        <p:tav tm="100000">
                                          <p:val>
                                            <p:strVal val="#ppt_y-.03"/>
                                          </p:val>
                                        </p:tav>
                                      </p:tavLst>
                                    </p:anim>
                                    <p:anim calcmode="lin" valueType="num">
                                      <p:cBhvr additive="repl">
                                        <p:cTn id="187" dur="100" fill="hold">
                                          <p:stCondLst>
                                            <p:cond delay="900"/>
                                          </p:stCondLst>
                                        </p:cTn>
                                        <p:tgtEl>
                                          <p:spTgt spid="387"/>
                                        </p:tgtEl>
                                        <p:attrNameLst>
                                          <p:attrName>ppt_y</p:attrName>
                                        </p:attrNameLst>
                                      </p:cBhvr>
                                      <p:tavLst>
                                        <p:tav tm="0">
                                          <p:val>
                                            <p:strVal val="#ppt_y-.03"/>
                                          </p:val>
                                        </p:tav>
                                        <p:tav tm="100000">
                                          <p:val>
                                            <p:strVal val="#ppt_y"/>
                                          </p:val>
                                        </p:tav>
                                      </p:tavLst>
                                    </p:anim>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22" presetSubtype="2">
                                  <p:stCondLst>
                                    <p:cond delay="0"/>
                                  </p:stCondLst>
                                  <p:childTnLst>
                                    <p:set>
                                      <p:cBhvr>
                                        <p:cTn id="191" dur="1" fill="hold">
                                          <p:stCondLst>
                                            <p:cond delay="0"/>
                                          </p:stCondLst>
                                        </p:cTn>
                                        <p:tgtEl>
                                          <p:spTgt spid="401"/>
                                        </p:tgtEl>
                                        <p:attrNameLst>
                                          <p:attrName>style.visibility</p:attrName>
                                        </p:attrNameLst>
                                      </p:cBhvr>
                                      <p:to>
                                        <p:strVal val="visible"/>
                                      </p:to>
                                    </p:set>
                                    <p:animEffect filter="wipe(right)" transition="in">
                                      <p:cBhvr additive="repl">
                                        <p:cTn id="192" dur="500"/>
                                        <p:tgtEl>
                                          <p:spTgt spid="401"/>
                                        </p:tgtEl>
                                      </p:cBhvr>
                                    </p:animEffect>
                                  </p:childTnLst>
                                </p:cTn>
                              </p:par>
                              <p:par>
                                <p:cTn id="193" nodeType="withEffect" fill="hold" presetClass="entr" presetID="22" presetSubtype="2">
                                  <p:stCondLst>
                                    <p:cond delay="0"/>
                                  </p:stCondLst>
                                  <p:childTnLst>
                                    <p:set>
                                      <p:cBhvr>
                                        <p:cTn id="194" dur="1" fill="hold">
                                          <p:stCondLst>
                                            <p:cond delay="0"/>
                                          </p:stCondLst>
                                        </p:cTn>
                                        <p:tgtEl>
                                          <p:spTgt spid="402"/>
                                        </p:tgtEl>
                                        <p:attrNameLst>
                                          <p:attrName>style.visibility</p:attrName>
                                        </p:attrNameLst>
                                      </p:cBhvr>
                                      <p:to>
                                        <p:strVal val="visible"/>
                                      </p:to>
                                    </p:set>
                                    <p:animEffect filter="wipe(right)" transition="in">
                                      <p:cBhvr additive="repl">
                                        <p:cTn id="195" dur="500"/>
                                        <p:tgtEl>
                                          <p:spTgt spid="402"/>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22" presetSubtype="8">
                                  <p:stCondLst>
                                    <p:cond delay="0"/>
                                  </p:stCondLst>
                                  <p:childTnLst>
                                    <p:set>
                                      <p:cBhvr>
                                        <p:cTn id="199" dur="1" fill="hold">
                                          <p:stCondLst>
                                            <p:cond delay="0"/>
                                          </p:stCondLst>
                                        </p:cTn>
                                        <p:tgtEl>
                                          <p:spTgt spid="405"/>
                                        </p:tgtEl>
                                        <p:attrNameLst>
                                          <p:attrName>style.visibility</p:attrName>
                                        </p:attrNameLst>
                                      </p:cBhvr>
                                      <p:to>
                                        <p:strVal val="visible"/>
                                      </p:to>
                                    </p:set>
                                    <p:animEffect filter="wipe(left)" transition="in">
                                      <p:cBhvr additive="repl">
                                        <p:cTn id="200" dur="500"/>
                                        <p:tgtEl>
                                          <p:spTgt spid="405"/>
                                        </p:tgtEl>
                                      </p:cBhvr>
                                    </p:animEffect>
                                  </p:childTnLst>
                                </p:cTn>
                              </p:par>
                              <p:par>
                                <p:cTn id="201" nodeType="withEffect" fill="hold" presetClass="entr" presetID="22" presetSubtype="8">
                                  <p:stCondLst>
                                    <p:cond delay="0"/>
                                  </p:stCondLst>
                                  <p:childTnLst>
                                    <p:set>
                                      <p:cBhvr>
                                        <p:cTn id="202" dur="1" fill="hold">
                                          <p:stCondLst>
                                            <p:cond delay="0"/>
                                          </p:stCondLst>
                                        </p:cTn>
                                        <p:tgtEl>
                                          <p:spTgt spid="406"/>
                                        </p:tgtEl>
                                        <p:attrNameLst>
                                          <p:attrName>style.visibility</p:attrName>
                                        </p:attrNameLst>
                                      </p:cBhvr>
                                      <p:to>
                                        <p:strVal val="visible"/>
                                      </p:to>
                                    </p:set>
                                    <p:animEffect filter="wipe(left)" transition="in">
                                      <p:cBhvr additive="repl">
                                        <p:cTn id="203" dur="500"/>
                                        <p:tgtEl>
                                          <p:spTgt spid="406"/>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22" presetSubtype="2">
                                  <p:stCondLst>
                                    <p:cond delay="0"/>
                                  </p:stCondLst>
                                  <p:childTnLst>
                                    <p:set>
                                      <p:cBhvr>
                                        <p:cTn id="207" dur="1" fill="hold">
                                          <p:stCondLst>
                                            <p:cond delay="0"/>
                                          </p:stCondLst>
                                        </p:cTn>
                                        <p:tgtEl>
                                          <p:spTgt spid="403"/>
                                        </p:tgtEl>
                                        <p:attrNameLst>
                                          <p:attrName>style.visibility</p:attrName>
                                        </p:attrNameLst>
                                      </p:cBhvr>
                                      <p:to>
                                        <p:strVal val="visible"/>
                                      </p:to>
                                    </p:set>
                                    <p:animEffect filter="wipe(right)" transition="in">
                                      <p:cBhvr additive="repl">
                                        <p:cTn id="208" dur="500"/>
                                        <p:tgtEl>
                                          <p:spTgt spid="403"/>
                                        </p:tgtEl>
                                      </p:cBhvr>
                                    </p:animEffect>
                                  </p:childTnLst>
                                </p:cTn>
                              </p:par>
                              <p:par>
                                <p:cTn id="209" nodeType="withEffect" fill="hold" presetClass="entr" presetID="22" presetSubtype="2">
                                  <p:stCondLst>
                                    <p:cond delay="0"/>
                                  </p:stCondLst>
                                  <p:childTnLst>
                                    <p:set>
                                      <p:cBhvr>
                                        <p:cTn id="210" dur="1" fill="hold">
                                          <p:stCondLst>
                                            <p:cond delay="0"/>
                                          </p:stCondLst>
                                        </p:cTn>
                                        <p:tgtEl>
                                          <p:spTgt spid="404"/>
                                        </p:tgtEl>
                                        <p:attrNameLst>
                                          <p:attrName>style.visibility</p:attrName>
                                        </p:attrNameLst>
                                      </p:cBhvr>
                                      <p:to>
                                        <p:strVal val="visible"/>
                                      </p:to>
                                    </p:set>
                                    <p:animEffect filter="wipe(right)" transition="in">
                                      <p:cBhvr additive="repl">
                                        <p:cTn id="211" dur="500"/>
                                        <p:tgtEl>
                                          <p:spTgt spid="404"/>
                                        </p:tgtEl>
                                      </p:cBhvr>
                                    </p:animEffec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22" presetSubtype="8">
                                  <p:stCondLst>
                                    <p:cond delay="0"/>
                                  </p:stCondLst>
                                  <p:childTnLst>
                                    <p:set>
                                      <p:cBhvr>
                                        <p:cTn id="215" dur="1" fill="hold">
                                          <p:stCondLst>
                                            <p:cond delay="0"/>
                                          </p:stCondLst>
                                        </p:cTn>
                                        <p:tgtEl>
                                          <p:spTgt spid="407"/>
                                        </p:tgtEl>
                                        <p:attrNameLst>
                                          <p:attrName>style.visibility</p:attrName>
                                        </p:attrNameLst>
                                      </p:cBhvr>
                                      <p:to>
                                        <p:strVal val="visible"/>
                                      </p:to>
                                    </p:set>
                                    <p:animEffect filter="wipe(left)" transition="in">
                                      <p:cBhvr additive="repl">
                                        <p:cTn id="216" dur="500"/>
                                        <p:tgtEl>
                                          <p:spTgt spid="407"/>
                                        </p:tgtEl>
                                      </p:cBhvr>
                                    </p:animEffect>
                                  </p:childTnLst>
                                </p:cTn>
                              </p:par>
                              <p:par>
                                <p:cTn id="217" nodeType="withEffect" fill="hold" presetClass="entr" presetID="22" presetSubtype="8">
                                  <p:stCondLst>
                                    <p:cond delay="0"/>
                                  </p:stCondLst>
                                  <p:childTnLst>
                                    <p:set>
                                      <p:cBhvr>
                                        <p:cTn id="218" dur="1" fill="hold">
                                          <p:stCondLst>
                                            <p:cond delay="0"/>
                                          </p:stCondLst>
                                        </p:cTn>
                                        <p:tgtEl>
                                          <p:spTgt spid="408"/>
                                        </p:tgtEl>
                                        <p:attrNameLst>
                                          <p:attrName>style.visibility</p:attrName>
                                        </p:attrNameLst>
                                      </p:cBhvr>
                                      <p:to>
                                        <p:strVal val="visible"/>
                                      </p:to>
                                    </p:set>
                                    <p:animEffect filter="wipe(left)" transition="in">
                                      <p:cBhvr additive="repl">
                                        <p:cTn id="219" dur="500"/>
                                        <p:tgtEl>
                                          <p:spTgt spid="4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任意多边形 69"/>
          <p:cNvSpPr/>
          <p:nvPr/>
        </p:nvSpPr>
        <p:spPr>
          <a:xfrm>
            <a:off x="561960" y="5459040"/>
            <a:ext cx="1379160" cy="1436400"/>
          </a:xfrm>
          <a:custGeom>
            <a:avLst/>
            <a:gdLst>
              <a:gd name="textAreaLeft" fmla="*/ 0 w 1379160"/>
              <a:gd name="textAreaRight" fmla="*/ 1379520 w 1379160"/>
              <a:gd name="textAreaTop" fmla="*/ 0 h 1436400"/>
              <a:gd name="textAreaBottom" fmla="*/ 1436760 h 1436400"/>
            </a:gdLst>
            <a:ahLst/>
            <a:rect l="textAreaLeft" t="textAreaTop" r="textAreaRight" b="textAreaBottom"/>
            <a:pathLst>
              <a:path w="1379382" h="1436917">
                <a:moveTo>
                  <a:pt x="988221" y="0"/>
                </a:moveTo>
                <a:lnTo>
                  <a:pt x="1010406" y="15258"/>
                </a:lnTo>
                <a:lnTo>
                  <a:pt x="1238011" y="370872"/>
                </a:lnTo>
                <a:lnTo>
                  <a:pt x="1235427" y="372649"/>
                </a:lnTo>
                <a:lnTo>
                  <a:pt x="1289073" y="450653"/>
                </a:lnTo>
                <a:lnTo>
                  <a:pt x="1379382" y="591754"/>
                </a:lnTo>
                <a:lnTo>
                  <a:pt x="798132" y="1436917"/>
                </a:lnTo>
                <a:lnTo>
                  <a:pt x="0" y="1436917"/>
                </a:lnTo>
                <a:lnTo>
                  <a:pt x="988221" y="0"/>
                </a:lnTo>
                <a:close/>
              </a:path>
            </a:pathLst>
          </a:custGeom>
          <a:solidFill>
            <a:srgbClr val="ee8f82"/>
          </a:solidFill>
          <a:ln>
            <a:solidFill>
              <a:srgbClr val="ee8f82"/>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410" name="任意多边形 68"/>
          <p:cNvSpPr/>
          <p:nvPr/>
        </p:nvSpPr>
        <p:spPr>
          <a:xfrm>
            <a:off x="1950120" y="5459040"/>
            <a:ext cx="1377000" cy="1436400"/>
          </a:xfrm>
          <a:custGeom>
            <a:avLst/>
            <a:gdLst>
              <a:gd name="textAreaLeft" fmla="*/ 0 w 1377000"/>
              <a:gd name="textAreaRight" fmla="*/ 1377360 w 1377000"/>
              <a:gd name="textAreaTop" fmla="*/ 0 h 1436400"/>
              <a:gd name="textAreaBottom" fmla="*/ 1436760 h 1436400"/>
            </a:gdLst>
            <a:ahLst/>
            <a:rect l="textAreaLeft" t="textAreaTop" r="textAreaRight" b="textAreaBottom"/>
            <a:pathLst>
              <a:path w="1377333" h="1436916">
                <a:moveTo>
                  <a:pt x="389113" y="0"/>
                </a:moveTo>
                <a:lnTo>
                  <a:pt x="1377333" y="1436916"/>
                </a:lnTo>
                <a:lnTo>
                  <a:pt x="579200" y="1436916"/>
                </a:lnTo>
                <a:lnTo>
                  <a:pt x="0" y="594733"/>
                </a:lnTo>
                <a:lnTo>
                  <a:pt x="373996" y="10397"/>
                </a:lnTo>
                <a:lnTo>
                  <a:pt x="389113" y="0"/>
                </a:lnTo>
                <a:close/>
              </a:path>
            </a:pathLst>
          </a:custGeom>
          <a:solidFill>
            <a:srgbClr val="ee8f82"/>
          </a:solidFill>
          <a:ln>
            <a:solidFill>
              <a:srgbClr val="ee8f82"/>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411" name="任意多边形 818"/>
          <p:cNvSpPr/>
          <p:nvPr/>
        </p:nvSpPr>
        <p:spPr>
          <a:xfrm flipV="1">
            <a:off x="5466240" y="5123160"/>
            <a:ext cx="1608120" cy="1772640"/>
          </a:xfrm>
          <a:custGeom>
            <a:avLst/>
            <a:gdLst>
              <a:gd name="textAreaLeft" fmla="*/ 0 w 1608120"/>
              <a:gd name="textAreaRight" fmla="*/ 1608480 w 1608120"/>
              <a:gd name="textAreaTop" fmla="*/ 360 h 1772640"/>
              <a:gd name="textAreaBottom" fmla="*/ 1773360 h 1772640"/>
            </a:gdLst>
            <a:ahLst/>
            <a:rect l="textAreaLeft" t="textAreaTop" r="textAreaRight" b="textAreaBottom"/>
            <a:pathLst>
              <a:path w="1608398" h="1772896">
                <a:moveTo>
                  <a:pt x="1219285" y="1772896"/>
                </a:moveTo>
                <a:lnTo>
                  <a:pt x="1234402" y="1762499"/>
                </a:lnTo>
                <a:lnTo>
                  <a:pt x="1608398" y="1178163"/>
                </a:lnTo>
                <a:lnTo>
                  <a:pt x="798132" y="0"/>
                </a:lnTo>
                <a:lnTo>
                  <a:pt x="0" y="0"/>
                </a:lnTo>
                <a:lnTo>
                  <a:pt x="1219285" y="1772896"/>
                </a:lnTo>
                <a:close/>
              </a:path>
            </a:pathLst>
          </a:custGeom>
          <a:solidFill>
            <a:srgbClr val="ef756b">
              <a:alpha val="88000"/>
            </a:srgbClr>
          </a:solidFill>
          <a:ln>
            <a:solidFill>
              <a:srgbClr val="ee8f82"/>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412" name="任意多边形 823"/>
          <p:cNvSpPr/>
          <p:nvPr/>
        </p:nvSpPr>
        <p:spPr>
          <a:xfrm flipH="1" flipV="1">
            <a:off x="4399200" y="4205160"/>
            <a:ext cx="2238840" cy="2689560"/>
          </a:xfrm>
          <a:custGeom>
            <a:avLst/>
            <a:gdLst>
              <a:gd name="textAreaLeft" fmla="*/ -360 w 2238840"/>
              <a:gd name="textAreaRight" fmla="*/ 2238840 w 2238840"/>
              <a:gd name="textAreaTop" fmla="*/ -360 h 2689560"/>
              <a:gd name="textAreaBottom" fmla="*/ 2689560 h 2689560"/>
            </a:gdLst>
            <a:ahLst/>
            <a:rect l="textAreaLeft" t="textAreaTop" r="textAreaRight" b="textAreaBottom"/>
            <a:pathLst>
              <a:path w="2239155" h="2690045">
                <a:moveTo>
                  <a:pt x="1850042" y="2690045"/>
                </a:moveTo>
                <a:lnTo>
                  <a:pt x="0" y="0"/>
                </a:lnTo>
                <a:lnTo>
                  <a:pt x="798132" y="0"/>
                </a:lnTo>
                <a:lnTo>
                  <a:pt x="2239155" y="2095312"/>
                </a:lnTo>
                <a:lnTo>
                  <a:pt x="1865159" y="2679648"/>
                </a:lnTo>
                <a:lnTo>
                  <a:pt x="1850042" y="2690045"/>
                </a:lnTo>
                <a:close/>
              </a:path>
            </a:pathLst>
          </a:custGeom>
          <a:solidFill>
            <a:srgbClr val="a9bd9c"/>
          </a:solidFill>
          <a:ln>
            <a:solidFill>
              <a:srgbClr val="a9bd9c"/>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413" name="任意多边形 519"/>
          <p:cNvSpPr/>
          <p:nvPr/>
        </p:nvSpPr>
        <p:spPr>
          <a:xfrm>
            <a:off x="10576080" y="2869200"/>
            <a:ext cx="767880" cy="594360"/>
          </a:xfrm>
          <a:custGeom>
            <a:avLst/>
            <a:gdLst>
              <a:gd name="textAreaLeft" fmla="*/ 0 w 767880"/>
              <a:gd name="textAreaRight" fmla="*/ 768240 w 767880"/>
              <a:gd name="textAreaTop" fmla="*/ 0 h 594360"/>
              <a:gd name="textAreaBottom" fmla="*/ 594720 h 594360"/>
            </a:gdLst>
            <a:ahLst/>
            <a:rect l="textAreaLeft" t="textAreaTop" r="textAreaRight" b="textAreaBottom"/>
            <a:pathLst>
              <a:path w="768171" h="594733">
                <a:moveTo>
                  <a:pt x="380650" y="0"/>
                </a:moveTo>
                <a:lnTo>
                  <a:pt x="386064" y="7873"/>
                </a:lnTo>
                <a:lnTo>
                  <a:pt x="479739" y="144080"/>
                </a:lnTo>
                <a:lnTo>
                  <a:pt x="530801" y="223861"/>
                </a:lnTo>
                <a:lnTo>
                  <a:pt x="758406" y="579475"/>
                </a:lnTo>
                <a:lnTo>
                  <a:pt x="768171" y="594733"/>
                </a:lnTo>
                <a:lnTo>
                  <a:pt x="0" y="594733"/>
                </a:lnTo>
                <a:lnTo>
                  <a:pt x="6654" y="584336"/>
                </a:lnTo>
                <a:close/>
              </a:path>
            </a:pathLst>
          </a:custGeom>
          <a:solidFill>
            <a:srgbClr val="d57053">
              <a:alpha val="49000"/>
            </a:srgbClr>
          </a:solidFill>
          <a:ln>
            <a:solidFill>
              <a:srgbClr val="df9b83">
                <a:alpha val="49000"/>
              </a:srgbClr>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414" name="任意多边形 685"/>
          <p:cNvSpPr/>
          <p:nvPr/>
        </p:nvSpPr>
        <p:spPr>
          <a:xfrm>
            <a:off x="9482400" y="0"/>
            <a:ext cx="1473840" cy="1577520"/>
          </a:xfrm>
          <a:custGeom>
            <a:avLst/>
            <a:gdLst>
              <a:gd name="textAreaLeft" fmla="*/ 0 w 1473840"/>
              <a:gd name="textAreaRight" fmla="*/ 1474200 w 1473840"/>
              <a:gd name="textAreaTop" fmla="*/ 0 h 1577520"/>
              <a:gd name="textAreaBottom" fmla="*/ 1577880 h 1577520"/>
            </a:gdLst>
            <a:ahLst/>
            <a:rect l="textAreaLeft" t="textAreaTop" r="textAreaRight" b="textAreaBottom"/>
            <a:pathLst>
              <a:path w="1474363" h="1578002">
                <a:moveTo>
                  <a:pt x="0" y="0"/>
                </a:moveTo>
                <a:lnTo>
                  <a:pt x="798133" y="0"/>
                </a:lnTo>
                <a:lnTo>
                  <a:pt x="1474363" y="983269"/>
                </a:lnTo>
                <a:lnTo>
                  <a:pt x="1100367" y="1567605"/>
                </a:lnTo>
                <a:lnTo>
                  <a:pt x="1085250" y="1578002"/>
                </a:lnTo>
                <a:lnTo>
                  <a:pt x="0" y="0"/>
                </a:lnTo>
                <a:close/>
              </a:path>
            </a:pathLst>
          </a:custGeom>
          <a:solidFill>
            <a:srgbClr val="e7b05e">
              <a:alpha val="25000"/>
            </a:srgbClr>
          </a:solidFill>
          <a:ln>
            <a:solidFill>
              <a:srgbClr val="efe3c2"/>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415" name="任意多边形 83"/>
          <p:cNvSpPr/>
          <p:nvPr/>
        </p:nvSpPr>
        <p:spPr>
          <a:xfrm>
            <a:off x="10965600" y="0"/>
            <a:ext cx="1238040" cy="1577520"/>
          </a:xfrm>
          <a:custGeom>
            <a:avLst/>
            <a:gdLst>
              <a:gd name="textAreaLeft" fmla="*/ 0 w 1238040"/>
              <a:gd name="textAreaRight" fmla="*/ 1238400 w 1238040"/>
              <a:gd name="textAreaTop" fmla="*/ 0 h 1577520"/>
              <a:gd name="textAreaBottom" fmla="*/ 1577880 h 1577520"/>
            </a:gdLst>
            <a:ahLst/>
            <a:rect l="textAreaLeft" t="textAreaTop" r="textAreaRight" b="textAreaBottom"/>
            <a:pathLst>
              <a:path w="1238362" h="1578002">
                <a:moveTo>
                  <a:pt x="678279" y="0"/>
                </a:moveTo>
                <a:lnTo>
                  <a:pt x="1238362" y="0"/>
                </a:lnTo>
                <a:lnTo>
                  <a:pt x="1238362" y="346134"/>
                </a:lnTo>
                <a:lnTo>
                  <a:pt x="391161" y="1578002"/>
                </a:lnTo>
                <a:lnTo>
                  <a:pt x="368976" y="1562744"/>
                </a:lnTo>
                <a:lnTo>
                  <a:pt x="141371" y="1207130"/>
                </a:lnTo>
                <a:lnTo>
                  <a:pt x="143955" y="1205353"/>
                </a:lnTo>
                <a:lnTo>
                  <a:pt x="90309" y="1127349"/>
                </a:lnTo>
                <a:lnTo>
                  <a:pt x="0" y="986248"/>
                </a:lnTo>
                <a:lnTo>
                  <a:pt x="678279" y="0"/>
                </a:lnTo>
                <a:close/>
              </a:path>
            </a:pathLst>
          </a:custGeom>
          <a:solidFill>
            <a:srgbClr val="efe3c2">
              <a:alpha val="71000"/>
            </a:srgbClr>
          </a:solidFill>
          <a:ln>
            <a:solidFill>
              <a:srgbClr val="eee6c8"/>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416" name="任意多边形 703"/>
          <p:cNvSpPr/>
          <p:nvPr/>
        </p:nvSpPr>
        <p:spPr>
          <a:xfrm>
            <a:off x="11202840" y="1946880"/>
            <a:ext cx="797760" cy="1160280"/>
          </a:xfrm>
          <a:custGeom>
            <a:avLst/>
            <a:gdLst>
              <a:gd name="textAreaLeft" fmla="*/ 0 w 797760"/>
              <a:gd name="textAreaRight" fmla="*/ 798120 w 797760"/>
              <a:gd name="textAreaTop" fmla="*/ 0 h 1160280"/>
              <a:gd name="textAreaBottom" fmla="*/ 1160640 h 1160280"/>
            </a:gdLst>
            <a:ahLst/>
            <a:rect l="textAreaLeft" t="textAreaTop" r="textAreaRight" b="textAreaBottom"/>
            <a:pathLst>
              <a:path w="798132" h="1160519">
                <a:moveTo>
                  <a:pt x="399066" y="0"/>
                </a:moveTo>
                <a:lnTo>
                  <a:pt x="798132" y="580260"/>
                </a:lnTo>
                <a:lnTo>
                  <a:pt x="399066" y="1160519"/>
                </a:lnTo>
                <a:lnTo>
                  <a:pt x="0" y="580260"/>
                </a:lnTo>
                <a:lnTo>
                  <a:pt x="399066" y="0"/>
                </a:lnTo>
                <a:close/>
              </a:path>
            </a:pathLst>
          </a:custGeom>
          <a:solidFill>
            <a:srgbClr val="d57053">
              <a:alpha val="25000"/>
            </a:srgbClr>
          </a:solidFill>
          <a:ln>
            <a:solidFill>
              <a:srgbClr val="ead3be"/>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417" name="任意多边形 87"/>
          <p:cNvSpPr/>
          <p:nvPr/>
        </p:nvSpPr>
        <p:spPr>
          <a:xfrm>
            <a:off x="11602080" y="1071720"/>
            <a:ext cx="601560" cy="1455120"/>
          </a:xfrm>
          <a:custGeom>
            <a:avLst/>
            <a:gdLst>
              <a:gd name="textAreaLeft" fmla="*/ 0 w 601560"/>
              <a:gd name="textAreaRight" fmla="*/ 601920 w 601560"/>
              <a:gd name="textAreaTop" fmla="*/ 0 h 1455120"/>
              <a:gd name="textAreaBottom" fmla="*/ 1455480 h 1455120"/>
            </a:gdLst>
            <a:ahLst/>
            <a:rect l="textAreaLeft" t="textAreaTop" r="textAreaRight" b="textAreaBottom"/>
            <a:pathLst>
              <a:path w="601946" h="1455517">
                <a:moveTo>
                  <a:pt x="601946" y="0"/>
                </a:moveTo>
                <a:lnTo>
                  <a:pt x="601946" y="1160520"/>
                </a:lnTo>
                <a:lnTo>
                  <a:pt x="399066" y="1455517"/>
                </a:lnTo>
                <a:lnTo>
                  <a:pt x="0" y="875257"/>
                </a:lnTo>
                <a:lnTo>
                  <a:pt x="601946" y="0"/>
                </a:lnTo>
                <a:close/>
              </a:path>
            </a:pathLst>
          </a:custGeom>
          <a:solidFill>
            <a:srgbClr val="ebcebc"/>
          </a:solidFill>
          <a:ln>
            <a:solidFill>
              <a:srgbClr val="eacdba"/>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418" name="任意多边形 699"/>
          <p:cNvSpPr/>
          <p:nvPr/>
        </p:nvSpPr>
        <p:spPr>
          <a:xfrm>
            <a:off x="10965600" y="1590120"/>
            <a:ext cx="636120" cy="936360"/>
          </a:xfrm>
          <a:custGeom>
            <a:avLst/>
            <a:gdLst>
              <a:gd name="textAreaLeft" fmla="*/ 0 w 636120"/>
              <a:gd name="textAreaRight" fmla="*/ 636480 w 636120"/>
              <a:gd name="textAreaTop" fmla="*/ 0 h 936360"/>
              <a:gd name="textAreaBottom" fmla="*/ 936720 h 936360"/>
            </a:gdLst>
            <a:ahLst/>
            <a:rect l="textAreaLeft" t="textAreaTop" r="textAreaRight" b="textAreaBottom"/>
            <a:pathLst>
              <a:path w="636416" h="936872">
                <a:moveTo>
                  <a:pt x="391161" y="0"/>
                </a:moveTo>
                <a:lnTo>
                  <a:pt x="636416" y="356612"/>
                </a:lnTo>
                <a:lnTo>
                  <a:pt x="237350" y="936872"/>
                </a:lnTo>
                <a:lnTo>
                  <a:pt x="0" y="591754"/>
                </a:lnTo>
                <a:lnTo>
                  <a:pt x="90309" y="450653"/>
                </a:lnTo>
                <a:lnTo>
                  <a:pt x="143955" y="372649"/>
                </a:lnTo>
                <a:lnTo>
                  <a:pt x="141371" y="370872"/>
                </a:lnTo>
                <a:lnTo>
                  <a:pt x="368976" y="15258"/>
                </a:lnTo>
                <a:lnTo>
                  <a:pt x="391161" y="0"/>
                </a:lnTo>
                <a:close/>
              </a:path>
            </a:pathLst>
          </a:custGeom>
          <a:solidFill>
            <a:srgbClr val="d2dbc4"/>
          </a:solidFill>
          <a:ln>
            <a:solidFill>
              <a:srgbClr val="d3ddc7"/>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419" name="任意多边形 698"/>
          <p:cNvSpPr/>
          <p:nvPr/>
        </p:nvSpPr>
        <p:spPr>
          <a:xfrm>
            <a:off x="10965600" y="2527200"/>
            <a:ext cx="636120" cy="936360"/>
          </a:xfrm>
          <a:custGeom>
            <a:avLst/>
            <a:gdLst>
              <a:gd name="textAreaLeft" fmla="*/ 0 w 636120"/>
              <a:gd name="textAreaRight" fmla="*/ 636480 w 636120"/>
              <a:gd name="textAreaTop" fmla="*/ 0 h 936360"/>
              <a:gd name="textAreaBottom" fmla="*/ 936720 h 936360"/>
            </a:gdLst>
            <a:ahLst/>
            <a:rect l="textAreaLeft" t="textAreaTop" r="textAreaRight" b="textAreaBottom"/>
            <a:pathLst>
              <a:path w="636416" h="936871">
                <a:moveTo>
                  <a:pt x="237350" y="0"/>
                </a:moveTo>
                <a:lnTo>
                  <a:pt x="636416" y="580259"/>
                </a:lnTo>
                <a:lnTo>
                  <a:pt x="391161" y="936871"/>
                </a:lnTo>
                <a:lnTo>
                  <a:pt x="368976" y="921613"/>
                </a:lnTo>
                <a:lnTo>
                  <a:pt x="141371" y="565999"/>
                </a:lnTo>
                <a:lnTo>
                  <a:pt x="143955" y="564222"/>
                </a:lnTo>
                <a:lnTo>
                  <a:pt x="90309" y="486218"/>
                </a:lnTo>
                <a:lnTo>
                  <a:pt x="0" y="345117"/>
                </a:lnTo>
                <a:lnTo>
                  <a:pt x="237350" y="0"/>
                </a:lnTo>
                <a:close/>
              </a:path>
            </a:pathLst>
          </a:custGeom>
          <a:solidFill>
            <a:srgbClr val="e9ccba"/>
          </a:solidFill>
          <a:ln>
            <a:solidFill>
              <a:srgbClr val="eacdbb"/>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420" name="任意多边形 93"/>
          <p:cNvSpPr/>
          <p:nvPr/>
        </p:nvSpPr>
        <p:spPr>
          <a:xfrm>
            <a:off x="11602080" y="2527200"/>
            <a:ext cx="601560" cy="1455120"/>
          </a:xfrm>
          <a:custGeom>
            <a:avLst/>
            <a:gdLst>
              <a:gd name="textAreaLeft" fmla="*/ 0 w 601560"/>
              <a:gd name="textAreaRight" fmla="*/ 601920 w 601560"/>
              <a:gd name="textAreaTop" fmla="*/ 0 h 1455120"/>
              <a:gd name="textAreaBottom" fmla="*/ 1455480 h 1455120"/>
            </a:gdLst>
            <a:ahLst/>
            <a:rect l="textAreaLeft" t="textAreaTop" r="textAreaRight" b="textAreaBottom"/>
            <a:pathLst>
              <a:path w="601946" h="1455516">
                <a:moveTo>
                  <a:pt x="399066" y="0"/>
                </a:moveTo>
                <a:lnTo>
                  <a:pt x="601946" y="294997"/>
                </a:lnTo>
                <a:lnTo>
                  <a:pt x="601946" y="1455516"/>
                </a:lnTo>
                <a:lnTo>
                  <a:pt x="0" y="580259"/>
                </a:lnTo>
                <a:lnTo>
                  <a:pt x="399066" y="0"/>
                </a:lnTo>
                <a:close/>
              </a:path>
            </a:pathLst>
          </a:custGeom>
          <a:solidFill>
            <a:srgbClr val="d3ddc7"/>
          </a:solidFill>
          <a:ln>
            <a:solidFill>
              <a:srgbClr val="d3dcc6"/>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421" name="任意多边形 522"/>
          <p:cNvSpPr/>
          <p:nvPr/>
        </p:nvSpPr>
        <p:spPr>
          <a:xfrm>
            <a:off x="10576080" y="983160"/>
            <a:ext cx="767880" cy="594360"/>
          </a:xfrm>
          <a:custGeom>
            <a:avLst/>
            <a:gdLst>
              <a:gd name="textAreaLeft" fmla="*/ 0 w 767880"/>
              <a:gd name="textAreaRight" fmla="*/ 768240 w 767880"/>
              <a:gd name="textAreaTop" fmla="*/ 0 h 594360"/>
              <a:gd name="textAreaBottom" fmla="*/ 594720 h 594360"/>
            </a:gdLst>
            <a:ahLst/>
            <a:rect l="textAreaLeft" t="textAreaTop" r="textAreaRight" b="textAreaBottom"/>
            <a:pathLst>
              <a:path w="768171" h="594733">
                <a:moveTo>
                  <a:pt x="380650" y="0"/>
                </a:moveTo>
                <a:lnTo>
                  <a:pt x="386064" y="7873"/>
                </a:lnTo>
                <a:lnTo>
                  <a:pt x="479739" y="144080"/>
                </a:lnTo>
                <a:lnTo>
                  <a:pt x="530801" y="223861"/>
                </a:lnTo>
                <a:lnTo>
                  <a:pt x="758406" y="579475"/>
                </a:lnTo>
                <a:lnTo>
                  <a:pt x="768171" y="594733"/>
                </a:lnTo>
                <a:lnTo>
                  <a:pt x="0" y="594733"/>
                </a:lnTo>
                <a:lnTo>
                  <a:pt x="6654" y="584336"/>
                </a:lnTo>
                <a:close/>
              </a:path>
            </a:pathLst>
          </a:custGeom>
          <a:solidFill>
            <a:srgbClr val="e49b35">
              <a:alpha val="36000"/>
            </a:srgbClr>
          </a:solidFill>
          <a:ln>
            <a:solidFill>
              <a:srgbClr val="ebd09d">
                <a:alpha val="36000"/>
              </a:srgbClr>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422" name="任意多边形 528"/>
          <p:cNvSpPr/>
          <p:nvPr/>
        </p:nvSpPr>
        <p:spPr>
          <a:xfrm flipV="1">
            <a:off x="10576080" y="1589400"/>
            <a:ext cx="767880" cy="594360"/>
          </a:xfrm>
          <a:custGeom>
            <a:avLst/>
            <a:gdLst>
              <a:gd name="textAreaLeft" fmla="*/ 0 w 767880"/>
              <a:gd name="textAreaRight" fmla="*/ 768240 w 767880"/>
              <a:gd name="textAreaTop" fmla="*/ -360 h 594360"/>
              <a:gd name="textAreaBottom" fmla="*/ 594360 h 594360"/>
            </a:gdLst>
            <a:ahLst/>
            <a:rect l="textAreaLeft" t="textAreaTop" r="textAreaRight" b="textAreaBottom"/>
            <a:pathLst>
              <a:path w="768171" h="594733">
                <a:moveTo>
                  <a:pt x="380650" y="0"/>
                </a:moveTo>
                <a:lnTo>
                  <a:pt x="386064" y="7873"/>
                </a:lnTo>
                <a:lnTo>
                  <a:pt x="479739" y="144080"/>
                </a:lnTo>
                <a:lnTo>
                  <a:pt x="530801" y="223861"/>
                </a:lnTo>
                <a:lnTo>
                  <a:pt x="758406" y="579475"/>
                </a:lnTo>
                <a:lnTo>
                  <a:pt x="768171" y="594733"/>
                </a:lnTo>
                <a:lnTo>
                  <a:pt x="0" y="594733"/>
                </a:lnTo>
                <a:lnTo>
                  <a:pt x="6654" y="584336"/>
                </a:lnTo>
                <a:close/>
              </a:path>
            </a:pathLst>
          </a:custGeom>
          <a:solidFill>
            <a:srgbClr val="88a378">
              <a:alpha val="53000"/>
            </a:srgbClr>
          </a:solidFill>
          <a:ln>
            <a:solidFill>
              <a:srgbClr val="b3c4a5">
                <a:alpha val="53000"/>
              </a:srgbClr>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423" name="椭圆 41"/>
          <p:cNvSpPr/>
          <p:nvPr/>
        </p:nvSpPr>
        <p:spPr>
          <a:xfrm flipV="1">
            <a:off x="1822320" y="2099880"/>
            <a:ext cx="8895960" cy="50760"/>
          </a:xfrm>
          <a:prstGeom prst="ellipse">
            <a:avLst/>
          </a:prstGeom>
          <a:gradFill rotWithShape="0">
            <a:gsLst>
              <a:gs pos="0">
                <a:srgbClr val="000000">
                  <a:alpha val="39215"/>
                </a:srgbClr>
              </a:gs>
              <a:gs pos="100000">
                <a:srgbClr val="ffffff"/>
              </a:gs>
            </a:gsLst>
            <a:path path="rect">
              <a:fillToRect l="50000" t="50000" r="50000" b="50000"/>
            </a:path>
          </a:gradFill>
          <a:ln>
            <a:noFill/>
          </a:ln>
        </p:spPr>
        <p:style>
          <a:lnRef idx="2">
            <a:schemeClr val="accent1">
              <a:shade val="50000"/>
            </a:schemeClr>
          </a:lnRef>
          <a:fillRef idx="1">
            <a:schemeClr val="accent1"/>
          </a:fillRef>
          <a:effectRef idx="0">
            <a:schemeClr val="accent1"/>
          </a:effectRef>
          <a:fontRef idx="minor"/>
        </p:style>
        <p:txBody>
          <a:bodyPr lIns="90000" rIns="90000" tIns="-8640" bIns="-8640" anchor="ctr">
            <a:noAutofit/>
          </a:bodyPr>
          <a:p>
            <a:pPr algn="ctr">
              <a:lnSpc>
                <a:spcPct val="100000"/>
              </a:lnSpc>
            </a:pPr>
            <a:endParaRPr b="0" lang="en-US" sz="1800" spc="-1" strike="noStrike">
              <a:solidFill>
                <a:schemeClr val="lt1"/>
              </a:solidFill>
              <a:latin typeface="Calibri"/>
            </a:endParaRPr>
          </a:p>
        </p:txBody>
      </p:sp>
      <p:sp>
        <p:nvSpPr>
          <p:cNvPr id="424" name="椭圆 44"/>
          <p:cNvSpPr/>
          <p:nvPr/>
        </p:nvSpPr>
        <p:spPr>
          <a:xfrm flipV="1">
            <a:off x="500040" y="3462120"/>
            <a:ext cx="8895960" cy="50760"/>
          </a:xfrm>
          <a:prstGeom prst="ellipse">
            <a:avLst/>
          </a:prstGeom>
          <a:gradFill rotWithShape="0">
            <a:gsLst>
              <a:gs pos="0">
                <a:srgbClr val="000000">
                  <a:alpha val="39215"/>
                </a:srgbClr>
              </a:gs>
              <a:gs pos="100000">
                <a:srgbClr val="ffffff"/>
              </a:gs>
            </a:gsLst>
            <a:path path="rect">
              <a:fillToRect l="50000" t="50000" r="50000" b="50000"/>
            </a:path>
          </a:gradFill>
          <a:ln>
            <a:noFill/>
          </a:ln>
        </p:spPr>
        <p:style>
          <a:lnRef idx="2">
            <a:schemeClr val="accent1">
              <a:shade val="50000"/>
            </a:schemeClr>
          </a:lnRef>
          <a:fillRef idx="1">
            <a:schemeClr val="accent1"/>
          </a:fillRef>
          <a:effectRef idx="0">
            <a:schemeClr val="accent1"/>
          </a:effectRef>
          <a:fontRef idx="minor"/>
        </p:style>
        <p:txBody>
          <a:bodyPr lIns="90000" rIns="90000" tIns="-8640" bIns="-8640" anchor="ctr">
            <a:noAutofit/>
          </a:bodyPr>
          <a:p>
            <a:pPr algn="ctr">
              <a:lnSpc>
                <a:spcPct val="100000"/>
              </a:lnSpc>
            </a:pPr>
            <a:endParaRPr b="0" lang="en-US" sz="1800" spc="-1" strike="noStrike">
              <a:solidFill>
                <a:schemeClr val="lt1"/>
              </a:solidFill>
              <a:latin typeface="Calibri"/>
            </a:endParaRPr>
          </a:p>
        </p:txBody>
      </p:sp>
      <p:pic>
        <p:nvPicPr>
          <p:cNvPr id="425" name="图片 40" descr=""/>
          <p:cNvPicPr/>
          <p:nvPr/>
        </p:nvPicPr>
        <p:blipFill>
          <a:blip r:embed="rId1"/>
          <a:srcRect l="157" t="30900" r="26793" b="49215"/>
          <a:stretch/>
        </p:blipFill>
        <p:spPr>
          <a:xfrm>
            <a:off x="495000" y="2123280"/>
            <a:ext cx="8906040" cy="1371240"/>
          </a:xfrm>
          <a:prstGeom prst="rect">
            <a:avLst/>
          </a:prstGeom>
          <a:ln w="0">
            <a:noFill/>
          </a:ln>
        </p:spPr>
      </p:pic>
      <p:sp>
        <p:nvSpPr>
          <p:cNvPr id="426" name="任意多边形 533"/>
          <p:cNvSpPr/>
          <p:nvPr/>
        </p:nvSpPr>
        <p:spPr>
          <a:xfrm flipH="1" flipV="1">
            <a:off x="4011840" y="4205160"/>
            <a:ext cx="767880" cy="594360"/>
          </a:xfrm>
          <a:custGeom>
            <a:avLst/>
            <a:gdLst>
              <a:gd name="textAreaLeft" fmla="*/ -360 w 767880"/>
              <a:gd name="textAreaRight" fmla="*/ 767880 w 767880"/>
              <a:gd name="textAreaTop" fmla="*/ -360 h 594360"/>
              <a:gd name="textAreaBottom" fmla="*/ 594360 h 594360"/>
            </a:gdLst>
            <a:ahLst/>
            <a:rect l="textAreaLeft" t="textAreaTop" r="textAreaRight" b="textAreaBottom"/>
            <a:pathLst>
              <a:path w="768171" h="594733">
                <a:moveTo>
                  <a:pt x="380650" y="0"/>
                </a:moveTo>
                <a:lnTo>
                  <a:pt x="386064" y="7873"/>
                </a:lnTo>
                <a:lnTo>
                  <a:pt x="479739" y="144080"/>
                </a:lnTo>
                <a:lnTo>
                  <a:pt x="530801" y="223861"/>
                </a:lnTo>
                <a:lnTo>
                  <a:pt x="758406" y="579475"/>
                </a:lnTo>
                <a:lnTo>
                  <a:pt x="768171" y="594733"/>
                </a:lnTo>
                <a:lnTo>
                  <a:pt x="0" y="594733"/>
                </a:lnTo>
                <a:lnTo>
                  <a:pt x="6654" y="584336"/>
                </a:lnTo>
                <a:close/>
              </a:path>
            </a:pathLst>
          </a:custGeom>
          <a:solidFill>
            <a:srgbClr val="89a67a"/>
          </a:solidFill>
          <a:ln>
            <a:solidFill>
              <a:srgbClr val="89a67a"/>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427" name="任意多边形 72"/>
          <p:cNvSpPr/>
          <p:nvPr/>
        </p:nvSpPr>
        <p:spPr>
          <a:xfrm>
            <a:off x="2148120" y="4205880"/>
            <a:ext cx="2242800" cy="2701800"/>
          </a:xfrm>
          <a:custGeom>
            <a:avLst/>
            <a:gdLst>
              <a:gd name="textAreaLeft" fmla="*/ 0 w 2242800"/>
              <a:gd name="textAreaRight" fmla="*/ 2243160 w 2242800"/>
              <a:gd name="textAreaTop" fmla="*/ 0 h 2701800"/>
              <a:gd name="textAreaBottom" fmla="*/ 2702160 h 2701800"/>
            </a:gdLst>
            <a:ahLst/>
            <a:rect l="textAreaLeft" t="textAreaTop" r="textAreaRight" b="textAreaBottom"/>
            <a:pathLst>
              <a:path w="2243162" h="2702024">
                <a:moveTo>
                  <a:pt x="296787" y="2270482"/>
                </a:moveTo>
                <a:lnTo>
                  <a:pt x="593574" y="2702024"/>
                </a:lnTo>
                <a:lnTo>
                  <a:pt x="0" y="2702024"/>
                </a:lnTo>
                <a:close/>
                <a:moveTo>
                  <a:pt x="1852001" y="0"/>
                </a:moveTo>
                <a:lnTo>
                  <a:pt x="1874186" y="15258"/>
                </a:lnTo>
                <a:lnTo>
                  <a:pt x="2101791" y="370872"/>
                </a:lnTo>
                <a:lnTo>
                  <a:pt x="2099207" y="372649"/>
                </a:lnTo>
                <a:lnTo>
                  <a:pt x="2152853" y="450653"/>
                </a:lnTo>
                <a:lnTo>
                  <a:pt x="2243162" y="591754"/>
                </a:lnTo>
                <a:lnTo>
                  <a:pt x="800090" y="2690045"/>
                </a:lnTo>
                <a:lnTo>
                  <a:pt x="591618" y="2690045"/>
                </a:lnTo>
                <a:lnTo>
                  <a:pt x="296788" y="2261349"/>
                </a:lnTo>
                <a:close/>
              </a:path>
            </a:pathLst>
          </a:custGeom>
          <a:solidFill>
            <a:srgbClr val="a2b894">
              <a:alpha val="91000"/>
            </a:srgbClr>
          </a:solidFill>
          <a:ln>
            <a:solidFill>
              <a:srgbClr val="a9bd9c"/>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428" name="任意多边形 61"/>
          <p:cNvSpPr/>
          <p:nvPr/>
        </p:nvSpPr>
        <p:spPr>
          <a:xfrm>
            <a:off x="-35280" y="4818240"/>
            <a:ext cx="1016640" cy="2052000"/>
          </a:xfrm>
          <a:custGeom>
            <a:avLst/>
            <a:gdLst>
              <a:gd name="textAreaLeft" fmla="*/ 0 w 1016640"/>
              <a:gd name="textAreaRight" fmla="*/ 1017000 w 1016640"/>
              <a:gd name="textAreaTop" fmla="*/ 0 h 2052000"/>
              <a:gd name="textAreaBottom" fmla="*/ 2052360 h 2052000"/>
            </a:gdLst>
            <a:ahLst/>
            <a:rect l="textAreaLeft" t="textAreaTop" r="textAreaRight" b="textAreaBottom"/>
            <a:pathLst>
              <a:path w="1017046" h="2052322">
                <a:moveTo>
                  <a:pt x="0" y="0"/>
                </a:moveTo>
                <a:lnTo>
                  <a:pt x="1017046" y="1478830"/>
                </a:lnTo>
                <a:lnTo>
                  <a:pt x="613325" y="2052322"/>
                </a:lnTo>
                <a:lnTo>
                  <a:pt x="0" y="1160520"/>
                </a:lnTo>
                <a:lnTo>
                  <a:pt x="0" y="0"/>
                </a:lnTo>
                <a:close/>
              </a:path>
            </a:pathLst>
          </a:custGeom>
          <a:solidFill>
            <a:srgbClr val="508799"/>
          </a:solidFill>
          <a:ln>
            <a:solidFill>
              <a:srgbClr val="508799"/>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429" name="任意多边形 811"/>
          <p:cNvSpPr/>
          <p:nvPr/>
        </p:nvSpPr>
        <p:spPr>
          <a:xfrm flipV="1">
            <a:off x="4397400" y="5881680"/>
            <a:ext cx="1088280" cy="1013760"/>
          </a:xfrm>
          <a:custGeom>
            <a:avLst/>
            <a:gdLst>
              <a:gd name="textAreaLeft" fmla="*/ 0 w 1088280"/>
              <a:gd name="textAreaRight" fmla="*/ 1088640 w 1088280"/>
              <a:gd name="textAreaTop" fmla="*/ 360 h 1013760"/>
              <a:gd name="textAreaBottom" fmla="*/ 1014480 h 1013760"/>
            </a:gdLst>
            <a:ahLst/>
            <a:rect l="textAreaLeft" t="textAreaTop" r="textAreaRight" b="textAreaBottom"/>
            <a:pathLst>
              <a:path w="1088729" h="1014296">
                <a:moveTo>
                  <a:pt x="391161" y="1014296"/>
                </a:moveTo>
                <a:lnTo>
                  <a:pt x="1088729" y="0"/>
                </a:lnTo>
                <a:lnTo>
                  <a:pt x="290598" y="0"/>
                </a:lnTo>
                <a:lnTo>
                  <a:pt x="0" y="422542"/>
                </a:lnTo>
                <a:lnTo>
                  <a:pt x="90309" y="563643"/>
                </a:lnTo>
                <a:lnTo>
                  <a:pt x="143955" y="641647"/>
                </a:lnTo>
                <a:lnTo>
                  <a:pt x="141371" y="643424"/>
                </a:lnTo>
                <a:lnTo>
                  <a:pt x="368976" y="999038"/>
                </a:lnTo>
                <a:lnTo>
                  <a:pt x="391161" y="1014296"/>
                </a:lnTo>
                <a:close/>
              </a:path>
            </a:pathLst>
          </a:custGeom>
          <a:solidFill>
            <a:srgbClr val="dd957c"/>
          </a:solidFill>
          <a:ln>
            <a:solidFill>
              <a:srgbClr val="dd957c"/>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430" name="任意多边形 637"/>
          <p:cNvSpPr/>
          <p:nvPr/>
        </p:nvSpPr>
        <p:spPr>
          <a:xfrm flipV="1">
            <a:off x="4007880" y="5880960"/>
            <a:ext cx="767880" cy="594360"/>
          </a:xfrm>
          <a:custGeom>
            <a:avLst/>
            <a:gdLst>
              <a:gd name="textAreaLeft" fmla="*/ 0 w 767880"/>
              <a:gd name="textAreaRight" fmla="*/ 768240 w 767880"/>
              <a:gd name="textAreaTop" fmla="*/ -360 h 594360"/>
              <a:gd name="textAreaBottom" fmla="*/ 594360 h 594360"/>
            </a:gdLst>
            <a:ahLst/>
            <a:rect l="textAreaLeft" t="textAreaTop" r="textAreaRight" b="textAreaBottom"/>
            <a:pathLst>
              <a:path w="768171" h="594733">
                <a:moveTo>
                  <a:pt x="380650" y="0"/>
                </a:moveTo>
                <a:lnTo>
                  <a:pt x="386064" y="7873"/>
                </a:lnTo>
                <a:lnTo>
                  <a:pt x="479739" y="144080"/>
                </a:lnTo>
                <a:lnTo>
                  <a:pt x="530801" y="223861"/>
                </a:lnTo>
                <a:lnTo>
                  <a:pt x="758406" y="579475"/>
                </a:lnTo>
                <a:lnTo>
                  <a:pt x="768171" y="594733"/>
                </a:lnTo>
                <a:lnTo>
                  <a:pt x="0" y="594733"/>
                </a:lnTo>
                <a:lnTo>
                  <a:pt x="6654" y="584336"/>
                </a:lnTo>
                <a:close/>
              </a:path>
            </a:pathLst>
          </a:custGeom>
          <a:solidFill>
            <a:srgbClr val="d57053"/>
          </a:solidFill>
          <a:ln>
            <a:solidFill>
              <a:srgbClr val="d57053"/>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431" name="任意多边形 647"/>
          <p:cNvSpPr/>
          <p:nvPr/>
        </p:nvSpPr>
        <p:spPr>
          <a:xfrm flipV="1">
            <a:off x="6694200" y="5122440"/>
            <a:ext cx="767880" cy="594360"/>
          </a:xfrm>
          <a:custGeom>
            <a:avLst/>
            <a:gdLst>
              <a:gd name="textAreaLeft" fmla="*/ 0 w 767880"/>
              <a:gd name="textAreaRight" fmla="*/ 768240 w 767880"/>
              <a:gd name="textAreaTop" fmla="*/ -360 h 594360"/>
              <a:gd name="textAreaBottom" fmla="*/ 594360 h 594360"/>
            </a:gdLst>
            <a:ahLst/>
            <a:rect l="textAreaLeft" t="textAreaTop" r="textAreaRight" b="textAreaBottom"/>
            <a:pathLst>
              <a:path w="768171" h="594733">
                <a:moveTo>
                  <a:pt x="380650" y="0"/>
                </a:moveTo>
                <a:lnTo>
                  <a:pt x="386064" y="7873"/>
                </a:lnTo>
                <a:lnTo>
                  <a:pt x="479739" y="144080"/>
                </a:lnTo>
                <a:lnTo>
                  <a:pt x="530801" y="223861"/>
                </a:lnTo>
                <a:lnTo>
                  <a:pt x="758406" y="579475"/>
                </a:lnTo>
                <a:lnTo>
                  <a:pt x="768171" y="594733"/>
                </a:lnTo>
                <a:lnTo>
                  <a:pt x="0" y="594733"/>
                </a:lnTo>
                <a:lnTo>
                  <a:pt x="6654" y="584336"/>
                </a:lnTo>
                <a:close/>
              </a:path>
            </a:pathLst>
          </a:custGeom>
          <a:solidFill>
            <a:srgbClr val="ed6f65"/>
          </a:solidFill>
          <a:ln>
            <a:solidFill>
              <a:srgbClr val="ed6f65"/>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432" name="任意多边形 660"/>
          <p:cNvSpPr/>
          <p:nvPr/>
        </p:nvSpPr>
        <p:spPr>
          <a:xfrm flipV="1">
            <a:off x="10822680" y="5494680"/>
            <a:ext cx="767880" cy="594360"/>
          </a:xfrm>
          <a:custGeom>
            <a:avLst/>
            <a:gdLst>
              <a:gd name="textAreaLeft" fmla="*/ 0 w 767880"/>
              <a:gd name="textAreaRight" fmla="*/ 768240 w 767880"/>
              <a:gd name="textAreaTop" fmla="*/ -360 h 594360"/>
              <a:gd name="textAreaBottom" fmla="*/ 594360 h 594360"/>
            </a:gdLst>
            <a:ahLst/>
            <a:rect l="textAreaLeft" t="textAreaTop" r="textAreaRight" b="textAreaBottom"/>
            <a:pathLst>
              <a:path w="768171" h="594733">
                <a:moveTo>
                  <a:pt x="380650" y="0"/>
                </a:moveTo>
                <a:lnTo>
                  <a:pt x="386064" y="7873"/>
                </a:lnTo>
                <a:lnTo>
                  <a:pt x="479739" y="144080"/>
                </a:lnTo>
                <a:lnTo>
                  <a:pt x="530801" y="223861"/>
                </a:lnTo>
                <a:lnTo>
                  <a:pt x="758406" y="579475"/>
                </a:lnTo>
                <a:lnTo>
                  <a:pt x="768171" y="594733"/>
                </a:lnTo>
                <a:lnTo>
                  <a:pt x="0" y="594733"/>
                </a:lnTo>
                <a:lnTo>
                  <a:pt x="6654" y="584336"/>
                </a:lnTo>
                <a:close/>
              </a:path>
            </a:pathLst>
          </a:custGeom>
          <a:solidFill>
            <a:srgbClr val="508799"/>
          </a:solidFill>
          <a:ln>
            <a:solidFill>
              <a:srgbClr val="377894"/>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433" name="任意多边形 665"/>
          <p:cNvSpPr/>
          <p:nvPr/>
        </p:nvSpPr>
        <p:spPr>
          <a:xfrm>
            <a:off x="9861840" y="5495400"/>
            <a:ext cx="1341000" cy="1384200"/>
          </a:xfrm>
          <a:custGeom>
            <a:avLst/>
            <a:gdLst>
              <a:gd name="textAreaLeft" fmla="*/ 0 w 1341000"/>
              <a:gd name="textAreaRight" fmla="*/ 1341360 w 1341000"/>
              <a:gd name="textAreaTop" fmla="*/ 0 h 1384200"/>
              <a:gd name="textAreaBottom" fmla="*/ 1384560 h 1384200"/>
            </a:gdLst>
            <a:ahLst/>
            <a:rect l="textAreaLeft" t="textAreaTop" r="textAreaRight" b="textAreaBottom"/>
            <a:pathLst>
              <a:path w="1341240" h="1384436">
                <a:moveTo>
                  <a:pt x="952127" y="0"/>
                </a:moveTo>
                <a:lnTo>
                  <a:pt x="967244" y="10397"/>
                </a:lnTo>
                <a:lnTo>
                  <a:pt x="1341240" y="594733"/>
                </a:lnTo>
                <a:lnTo>
                  <a:pt x="798132" y="1384436"/>
                </a:lnTo>
                <a:lnTo>
                  <a:pt x="0" y="1384436"/>
                </a:lnTo>
                <a:lnTo>
                  <a:pt x="952127" y="0"/>
                </a:lnTo>
                <a:close/>
              </a:path>
            </a:pathLst>
          </a:custGeom>
          <a:solidFill>
            <a:srgbClr val="30728c">
              <a:alpha val="59000"/>
            </a:srgbClr>
          </a:solidFill>
          <a:ln>
            <a:solidFill>
              <a:srgbClr val="7ca5a8"/>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434" name="任意多边形 709"/>
          <p:cNvSpPr/>
          <p:nvPr/>
        </p:nvSpPr>
        <p:spPr>
          <a:xfrm>
            <a:off x="11211840" y="5495400"/>
            <a:ext cx="979560" cy="1384200"/>
          </a:xfrm>
          <a:custGeom>
            <a:avLst/>
            <a:gdLst>
              <a:gd name="textAreaLeft" fmla="*/ 0 w 979560"/>
              <a:gd name="textAreaRight" fmla="*/ 979920 w 979560"/>
              <a:gd name="textAreaTop" fmla="*/ 0 h 1384200"/>
              <a:gd name="textAreaBottom" fmla="*/ 1384560 h 1384200"/>
            </a:gdLst>
            <a:ahLst/>
            <a:rect l="textAreaLeft" t="textAreaTop" r="textAreaRight" b="textAreaBottom"/>
            <a:pathLst>
              <a:path w="980063" h="1384436">
                <a:moveTo>
                  <a:pt x="391161" y="0"/>
                </a:moveTo>
                <a:lnTo>
                  <a:pt x="980063" y="856291"/>
                </a:lnTo>
                <a:lnTo>
                  <a:pt x="980063" y="1384436"/>
                </a:lnTo>
                <a:lnTo>
                  <a:pt x="545157" y="1384436"/>
                </a:lnTo>
                <a:lnTo>
                  <a:pt x="0" y="591754"/>
                </a:lnTo>
                <a:lnTo>
                  <a:pt x="90309" y="450653"/>
                </a:lnTo>
                <a:lnTo>
                  <a:pt x="143955" y="372649"/>
                </a:lnTo>
                <a:lnTo>
                  <a:pt x="141371" y="370872"/>
                </a:lnTo>
                <a:lnTo>
                  <a:pt x="368976" y="15258"/>
                </a:lnTo>
                <a:lnTo>
                  <a:pt x="391161" y="0"/>
                </a:lnTo>
                <a:close/>
              </a:path>
            </a:pathLst>
          </a:custGeom>
          <a:solidFill>
            <a:srgbClr val="7ca5a8"/>
          </a:solidFill>
          <a:ln>
            <a:solidFill>
              <a:srgbClr val="7ba3a6"/>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435" name="任意多边形 670"/>
          <p:cNvSpPr/>
          <p:nvPr/>
        </p:nvSpPr>
        <p:spPr>
          <a:xfrm flipV="1">
            <a:off x="9195840" y="5502600"/>
            <a:ext cx="767880" cy="594360"/>
          </a:xfrm>
          <a:custGeom>
            <a:avLst/>
            <a:gdLst>
              <a:gd name="textAreaLeft" fmla="*/ 0 w 767880"/>
              <a:gd name="textAreaRight" fmla="*/ 768240 w 767880"/>
              <a:gd name="textAreaTop" fmla="*/ -360 h 594360"/>
              <a:gd name="textAreaBottom" fmla="*/ 594360 h 594360"/>
            </a:gdLst>
            <a:ahLst/>
            <a:rect l="textAreaLeft" t="textAreaTop" r="textAreaRight" b="textAreaBottom"/>
            <a:pathLst>
              <a:path w="768171" h="594733">
                <a:moveTo>
                  <a:pt x="380650" y="0"/>
                </a:moveTo>
                <a:lnTo>
                  <a:pt x="386064" y="7873"/>
                </a:lnTo>
                <a:lnTo>
                  <a:pt x="479739" y="144080"/>
                </a:lnTo>
                <a:lnTo>
                  <a:pt x="530801" y="223861"/>
                </a:lnTo>
                <a:lnTo>
                  <a:pt x="758406" y="579475"/>
                </a:lnTo>
                <a:lnTo>
                  <a:pt x="768171" y="594733"/>
                </a:lnTo>
                <a:lnTo>
                  <a:pt x="0" y="594733"/>
                </a:lnTo>
                <a:lnTo>
                  <a:pt x="6654" y="584336"/>
                </a:lnTo>
                <a:close/>
              </a:path>
            </a:pathLst>
          </a:custGeom>
          <a:solidFill>
            <a:srgbClr val="e49b35"/>
          </a:solidFill>
          <a:ln>
            <a:solidFill>
              <a:srgbClr val="e49b35"/>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436" name="任意多边形 75"/>
          <p:cNvSpPr/>
          <p:nvPr/>
        </p:nvSpPr>
        <p:spPr>
          <a:xfrm>
            <a:off x="8220960" y="5503320"/>
            <a:ext cx="1355040" cy="1404360"/>
          </a:xfrm>
          <a:custGeom>
            <a:avLst/>
            <a:gdLst>
              <a:gd name="textAreaLeft" fmla="*/ 0 w 1355040"/>
              <a:gd name="textAreaRight" fmla="*/ 1355400 w 1355040"/>
              <a:gd name="textAreaTop" fmla="*/ 0 h 1404360"/>
              <a:gd name="textAreaBottom" fmla="*/ 1404720 h 1404360"/>
            </a:gdLst>
            <a:ahLst/>
            <a:rect l="textAreaLeft" t="textAreaTop" r="textAreaRight" b="textAreaBottom"/>
            <a:pathLst>
              <a:path w="1355248" h="1404805">
                <a:moveTo>
                  <a:pt x="966135" y="0"/>
                </a:moveTo>
                <a:lnTo>
                  <a:pt x="981252" y="10397"/>
                </a:lnTo>
                <a:lnTo>
                  <a:pt x="1355248" y="594733"/>
                </a:lnTo>
                <a:lnTo>
                  <a:pt x="798132" y="1404805"/>
                </a:lnTo>
                <a:lnTo>
                  <a:pt x="0" y="1404805"/>
                </a:lnTo>
                <a:lnTo>
                  <a:pt x="966135" y="0"/>
                </a:lnTo>
                <a:close/>
              </a:path>
            </a:pathLst>
          </a:custGeom>
          <a:solidFill>
            <a:srgbClr val="e49b35">
              <a:alpha val="87000"/>
            </a:srgbClr>
          </a:solidFill>
          <a:ln>
            <a:solidFill>
              <a:srgbClr val="e5a64a"/>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437" name="任意多边形 80"/>
          <p:cNvSpPr/>
          <p:nvPr/>
        </p:nvSpPr>
        <p:spPr>
          <a:xfrm>
            <a:off x="9585000" y="5503320"/>
            <a:ext cx="1351800" cy="1397160"/>
          </a:xfrm>
          <a:custGeom>
            <a:avLst/>
            <a:gdLst>
              <a:gd name="textAreaLeft" fmla="*/ 0 w 1351800"/>
              <a:gd name="textAreaRight" fmla="*/ 1352160 w 1351800"/>
              <a:gd name="textAreaTop" fmla="*/ 0 h 1397160"/>
              <a:gd name="textAreaBottom" fmla="*/ 1397520 h 1397160"/>
            </a:gdLst>
            <a:ahLst/>
            <a:rect l="textAreaLeft" t="textAreaTop" r="textAreaRight" b="textAreaBottom"/>
            <a:pathLst>
              <a:path w="1352191" h="1397381">
                <a:moveTo>
                  <a:pt x="391161" y="0"/>
                </a:moveTo>
                <a:lnTo>
                  <a:pt x="1352191" y="1397381"/>
                </a:lnTo>
                <a:lnTo>
                  <a:pt x="554059" y="1397381"/>
                </a:lnTo>
                <a:lnTo>
                  <a:pt x="0" y="591754"/>
                </a:lnTo>
                <a:lnTo>
                  <a:pt x="90309" y="450653"/>
                </a:lnTo>
                <a:lnTo>
                  <a:pt x="143955" y="372649"/>
                </a:lnTo>
                <a:lnTo>
                  <a:pt x="141371" y="370872"/>
                </a:lnTo>
                <a:lnTo>
                  <a:pt x="368976" y="15258"/>
                </a:lnTo>
                <a:lnTo>
                  <a:pt x="391161" y="0"/>
                </a:lnTo>
                <a:close/>
              </a:path>
            </a:pathLst>
          </a:custGeom>
          <a:solidFill>
            <a:srgbClr val="e49b35">
              <a:alpha val="87000"/>
            </a:srgbClr>
          </a:solidFill>
          <a:ln>
            <a:solidFill>
              <a:srgbClr val="e5a64a"/>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438" name="任意多边形 788"/>
          <p:cNvSpPr/>
          <p:nvPr/>
        </p:nvSpPr>
        <p:spPr>
          <a:xfrm flipV="1">
            <a:off x="3302640" y="5881680"/>
            <a:ext cx="1086480" cy="1013760"/>
          </a:xfrm>
          <a:custGeom>
            <a:avLst/>
            <a:gdLst>
              <a:gd name="textAreaLeft" fmla="*/ 0 w 1086480"/>
              <a:gd name="textAreaRight" fmla="*/ 1086840 w 1086480"/>
              <a:gd name="textAreaTop" fmla="*/ 360 h 1013760"/>
              <a:gd name="textAreaBottom" fmla="*/ 1014480 h 1013760"/>
            </a:gdLst>
            <a:ahLst/>
            <a:rect l="textAreaLeft" t="textAreaTop" r="textAreaRight" b="textAreaBottom"/>
            <a:pathLst>
              <a:path w="1086681" h="1014296">
                <a:moveTo>
                  <a:pt x="697568" y="1014296"/>
                </a:moveTo>
                <a:lnTo>
                  <a:pt x="712685" y="1003899"/>
                </a:lnTo>
                <a:lnTo>
                  <a:pt x="1086681" y="419563"/>
                </a:lnTo>
                <a:lnTo>
                  <a:pt x="798132" y="0"/>
                </a:lnTo>
                <a:lnTo>
                  <a:pt x="0" y="0"/>
                </a:lnTo>
                <a:lnTo>
                  <a:pt x="697568" y="1014296"/>
                </a:lnTo>
                <a:close/>
              </a:path>
            </a:pathLst>
          </a:custGeom>
          <a:solidFill>
            <a:srgbClr val="dd957c">
              <a:alpha val="76000"/>
            </a:srgbClr>
          </a:solidFill>
          <a:ln>
            <a:solidFill>
              <a:srgbClr val="e2ab94"/>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439" name="矩形 712"/>
          <p:cNvSpPr/>
          <p:nvPr/>
        </p:nvSpPr>
        <p:spPr>
          <a:xfrm>
            <a:off x="0" y="453600"/>
            <a:ext cx="686520" cy="462960"/>
          </a:xfrm>
          <a:prstGeom prst="rect">
            <a:avLst/>
          </a:prstGeom>
          <a:solidFill>
            <a:srgbClr val="34618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cxnSp>
        <p:nvCxnSpPr>
          <p:cNvPr id="440" name="直接连接符 714"/>
          <p:cNvCxnSpPr/>
          <p:nvPr/>
        </p:nvCxnSpPr>
        <p:spPr>
          <a:xfrm>
            <a:off x="789480" y="452520"/>
            <a:ext cx="360" cy="465480"/>
          </a:xfrm>
          <a:prstGeom prst="straightConnector1">
            <a:avLst/>
          </a:prstGeom>
          <a:ln w="19050">
            <a:solidFill>
              <a:srgbClr val="346182"/>
            </a:solidFill>
          </a:ln>
        </p:spPr>
      </p:cxnSp>
      <p:sp>
        <p:nvSpPr>
          <p:cNvPr id="441" name="矩形 827"/>
          <p:cNvSpPr/>
          <p:nvPr/>
        </p:nvSpPr>
        <p:spPr>
          <a:xfrm>
            <a:off x="4605120" y="2434320"/>
            <a:ext cx="3186360" cy="759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4400" spc="-1" strike="noStrike">
                <a:solidFill>
                  <a:srgbClr val="315b7b"/>
                </a:solidFill>
                <a:latin typeface="微软雅黑"/>
                <a:ea typeface="微软雅黑"/>
              </a:rPr>
              <a:t>THE END</a:t>
            </a:r>
            <a:endParaRPr b="0" lang="en-US" sz="4400" spc="-1" strike="noStrike">
              <a:solidFill>
                <a:srgbClr val="000000"/>
              </a:solidFill>
              <a:latin typeface="Arial"/>
            </a:endParaRPr>
          </a:p>
        </p:txBody>
      </p:sp>
      <p:sp>
        <p:nvSpPr>
          <p:cNvPr id="442" name="任意多边形 686"/>
          <p:cNvSpPr/>
          <p:nvPr/>
        </p:nvSpPr>
        <p:spPr>
          <a:xfrm>
            <a:off x="8185320" y="0"/>
            <a:ext cx="2770920" cy="3463560"/>
          </a:xfrm>
          <a:custGeom>
            <a:avLst/>
            <a:gdLst>
              <a:gd name="textAreaLeft" fmla="*/ 0 w 2770920"/>
              <a:gd name="textAreaRight" fmla="*/ 2771280 w 2770920"/>
              <a:gd name="textAreaTop" fmla="*/ 0 h 3463560"/>
              <a:gd name="textAreaBottom" fmla="*/ 3463920 h 3463560"/>
            </a:gdLst>
            <a:ahLst/>
            <a:rect l="textAreaLeft" t="textAreaTop" r="textAreaRight" b="textAreaBottom"/>
            <a:pathLst>
              <a:path w="2771399" h="3463952">
                <a:moveTo>
                  <a:pt x="0" y="0"/>
                </a:moveTo>
                <a:lnTo>
                  <a:pt x="798131" y="0"/>
                </a:lnTo>
                <a:lnTo>
                  <a:pt x="2771399" y="2869219"/>
                </a:lnTo>
                <a:lnTo>
                  <a:pt x="2397403" y="3453555"/>
                </a:lnTo>
                <a:lnTo>
                  <a:pt x="2382286" y="3463952"/>
                </a:lnTo>
                <a:lnTo>
                  <a:pt x="0" y="0"/>
                </a:lnTo>
                <a:close/>
              </a:path>
            </a:pathLst>
          </a:custGeom>
          <a:solidFill>
            <a:srgbClr val="d57053">
              <a:alpha val="30000"/>
            </a:srgbClr>
          </a:solidFill>
          <a:ln>
            <a:solidFill>
              <a:srgbClr val="eacebc"/>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443" name="任意多边形 824"/>
          <p:cNvSpPr/>
          <p:nvPr/>
        </p:nvSpPr>
        <p:spPr>
          <a:xfrm flipH="1" flipV="1">
            <a:off x="6913080" y="1590120"/>
            <a:ext cx="4043520" cy="5305680"/>
          </a:xfrm>
          <a:custGeom>
            <a:avLst/>
            <a:gdLst>
              <a:gd name="textAreaLeft" fmla="*/ 360 w 4043520"/>
              <a:gd name="textAreaRight" fmla="*/ 4044240 w 4043520"/>
              <a:gd name="textAreaTop" fmla="*/ 360 h 5305680"/>
              <a:gd name="textAreaBottom" fmla="*/ 5306400 h 5305680"/>
            </a:gdLst>
            <a:ahLst/>
            <a:rect l="textAreaLeft" t="textAreaTop" r="textAreaRight" b="textAreaBottom"/>
            <a:pathLst>
              <a:path w="4043737" h="5305892">
                <a:moveTo>
                  <a:pt x="389113" y="5305892"/>
                </a:moveTo>
                <a:lnTo>
                  <a:pt x="373996" y="5295495"/>
                </a:lnTo>
                <a:lnTo>
                  <a:pt x="0" y="4711159"/>
                </a:lnTo>
                <a:lnTo>
                  <a:pt x="2281471" y="1393799"/>
                </a:lnTo>
                <a:lnTo>
                  <a:pt x="2285250" y="1396398"/>
                </a:lnTo>
                <a:lnTo>
                  <a:pt x="3245605" y="0"/>
                </a:lnTo>
                <a:lnTo>
                  <a:pt x="4043737" y="0"/>
                </a:lnTo>
                <a:lnTo>
                  <a:pt x="1810872" y="3246685"/>
                </a:lnTo>
                <a:lnTo>
                  <a:pt x="1807092" y="3244086"/>
                </a:lnTo>
                <a:lnTo>
                  <a:pt x="389113" y="5305892"/>
                </a:lnTo>
                <a:close/>
              </a:path>
            </a:pathLst>
          </a:custGeom>
          <a:solidFill>
            <a:srgbClr val="88a378">
              <a:alpha val="30000"/>
            </a:srgbClr>
          </a:solidFill>
          <a:ln>
            <a:solidFill>
              <a:srgbClr val="d3dcc5">
                <a:alpha val="30000"/>
              </a:srgbClr>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444" name="任意多边形 817"/>
          <p:cNvSpPr/>
          <p:nvPr/>
        </p:nvSpPr>
        <p:spPr>
          <a:xfrm flipV="1">
            <a:off x="7083360" y="5123160"/>
            <a:ext cx="1609920" cy="1772640"/>
          </a:xfrm>
          <a:custGeom>
            <a:avLst/>
            <a:gdLst>
              <a:gd name="textAreaLeft" fmla="*/ 0 w 1609920"/>
              <a:gd name="textAreaRight" fmla="*/ 1610280 w 1609920"/>
              <a:gd name="textAreaTop" fmla="*/ 360 h 1772640"/>
              <a:gd name="textAreaBottom" fmla="*/ 1773360 h 1772640"/>
            </a:gdLst>
            <a:ahLst/>
            <a:rect l="textAreaLeft" t="textAreaTop" r="textAreaRight" b="textAreaBottom"/>
            <a:pathLst>
              <a:path w="1610447" h="1772896">
                <a:moveTo>
                  <a:pt x="391161" y="1772896"/>
                </a:moveTo>
                <a:lnTo>
                  <a:pt x="1610447" y="0"/>
                </a:lnTo>
                <a:lnTo>
                  <a:pt x="812315" y="0"/>
                </a:lnTo>
                <a:lnTo>
                  <a:pt x="0" y="1181142"/>
                </a:lnTo>
                <a:lnTo>
                  <a:pt x="90309" y="1322243"/>
                </a:lnTo>
                <a:lnTo>
                  <a:pt x="143955" y="1400247"/>
                </a:lnTo>
                <a:lnTo>
                  <a:pt x="141371" y="1402024"/>
                </a:lnTo>
                <a:lnTo>
                  <a:pt x="368976" y="1757638"/>
                </a:lnTo>
                <a:lnTo>
                  <a:pt x="391161" y="1772896"/>
                </a:lnTo>
                <a:close/>
              </a:path>
            </a:pathLst>
          </a:custGeom>
          <a:solidFill>
            <a:srgbClr val="ed6f65">
              <a:alpha val="88000"/>
            </a:srgbClr>
          </a:solidFill>
          <a:ln>
            <a:solidFill>
              <a:srgbClr val="ed8075"/>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445" name="文本框 4"/>
          <p:cNvSpPr/>
          <p:nvPr/>
        </p:nvSpPr>
        <p:spPr>
          <a:xfrm>
            <a:off x="5748120" y="3711240"/>
            <a:ext cx="90072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zh-CN" sz="1800" spc="-1" strike="noStrike">
                <a:solidFill>
                  <a:srgbClr val="346182"/>
                </a:solidFill>
                <a:latin typeface="微软雅黑"/>
                <a:ea typeface="微软雅黑"/>
              </a:rPr>
              <a:t>梦</a:t>
            </a:r>
            <a:endParaRPr b="0" lang="en-US" sz="1800" spc="-1" strike="noStrike">
              <a:solidFill>
                <a:srgbClr val="000000"/>
              </a:solidFill>
              <a:latin typeface="Arial"/>
            </a:endParaRPr>
          </a:p>
        </p:txBody>
      </p:sp>
      <p:sp>
        <p:nvSpPr>
          <p:cNvPr id="446" name="任意多边形 54"/>
          <p:cNvSpPr/>
          <p:nvPr/>
        </p:nvSpPr>
        <p:spPr>
          <a:xfrm flipH="1" flipV="1">
            <a:off x="1561680" y="5458320"/>
            <a:ext cx="767880" cy="594360"/>
          </a:xfrm>
          <a:custGeom>
            <a:avLst/>
            <a:gdLst>
              <a:gd name="textAreaLeft" fmla="*/ -360 w 767880"/>
              <a:gd name="textAreaRight" fmla="*/ 767880 w 767880"/>
              <a:gd name="textAreaTop" fmla="*/ -360 h 594360"/>
              <a:gd name="textAreaBottom" fmla="*/ 594360 h 594360"/>
            </a:gdLst>
            <a:ahLst/>
            <a:rect l="textAreaLeft" t="textAreaTop" r="textAreaRight" b="textAreaBottom"/>
            <a:pathLst>
              <a:path w="768171" h="594733">
                <a:moveTo>
                  <a:pt x="380650" y="0"/>
                </a:moveTo>
                <a:lnTo>
                  <a:pt x="386064" y="7873"/>
                </a:lnTo>
                <a:lnTo>
                  <a:pt x="479739" y="144080"/>
                </a:lnTo>
                <a:lnTo>
                  <a:pt x="530801" y="223861"/>
                </a:lnTo>
                <a:lnTo>
                  <a:pt x="758406" y="579475"/>
                </a:lnTo>
                <a:lnTo>
                  <a:pt x="768171" y="594733"/>
                </a:lnTo>
                <a:lnTo>
                  <a:pt x="0" y="594733"/>
                </a:lnTo>
                <a:lnTo>
                  <a:pt x="6654" y="584336"/>
                </a:lnTo>
                <a:close/>
              </a:path>
            </a:pathLst>
          </a:custGeom>
          <a:solidFill>
            <a:srgbClr val="ed5249">
              <a:alpha val="82000"/>
            </a:srgbClr>
          </a:solidFill>
          <a:ln>
            <a:solidFill>
              <a:srgbClr val="ee6f65"/>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447" name="TextBox 40"/>
          <p:cNvSpPr/>
          <p:nvPr/>
        </p:nvSpPr>
        <p:spPr>
          <a:xfrm>
            <a:off x="832680" y="457200"/>
            <a:ext cx="2494440" cy="455040"/>
          </a:xfrm>
          <a:prstGeom prst="rect">
            <a:avLst/>
          </a:prstGeom>
          <a:noFill/>
          <a:ln w="0">
            <a:noFill/>
          </a:ln>
        </p:spPr>
        <p:style>
          <a:lnRef idx="0"/>
          <a:fillRef idx="0"/>
          <a:effectRef idx="0"/>
          <a:fontRef idx="minor"/>
        </p:style>
        <p:txBody>
          <a:bodyPr lIns="90000" rIns="90000" tIns="45000" bIns="45000" anchor="ctr">
            <a:spAutoFit/>
          </a:bodyPr>
          <a:p>
            <a:pPr>
              <a:lnSpc>
                <a:spcPct val="100000"/>
              </a:lnSpc>
            </a:pPr>
            <a:r>
              <a:rPr b="0" lang="en-US" sz="2400" spc="-1" strike="noStrike">
                <a:solidFill>
                  <a:srgbClr val="346182"/>
                </a:solidFill>
                <a:latin typeface="微软雅黑"/>
                <a:ea typeface="微软雅黑"/>
              </a:rPr>
              <a:t>XX</a:t>
            </a:r>
            <a:r>
              <a:rPr b="0" lang="zh-CN" sz="2400" spc="-1" strike="noStrike">
                <a:solidFill>
                  <a:srgbClr val="346182"/>
                </a:solidFill>
                <a:latin typeface="微软雅黑"/>
                <a:ea typeface="微软雅黑"/>
              </a:rPr>
              <a:t>大学</a:t>
            </a:r>
            <a:r>
              <a:rPr b="0" lang="en-US" sz="2400" spc="-1" strike="noStrike">
                <a:solidFill>
                  <a:srgbClr val="346182"/>
                </a:solidFill>
                <a:latin typeface="微软雅黑"/>
                <a:ea typeface="微软雅黑"/>
              </a:rPr>
              <a:t>XX</a:t>
            </a:r>
            <a:r>
              <a:rPr b="0" lang="zh-CN" sz="2400" spc="-1" strike="noStrike">
                <a:solidFill>
                  <a:srgbClr val="346182"/>
                </a:solidFill>
                <a:latin typeface="微软雅黑"/>
                <a:ea typeface="微软雅黑"/>
              </a:rPr>
              <a:t>学院</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0" dur="indefinite" restart="never" nodeType="tmRoot">
          <p:childTnLst>
            <p:seq>
              <p:cTn id="221" dur="indefinite" nodeType="mainSeq">
                <p:childTnLst>
                  <p:par>
                    <p:cTn id="222" fill="hold">
                      <p:stCondLst>
                        <p:cond delay="indefinite"/>
                      </p:stCondLst>
                      <p:childTnLst>
                        <p:par>
                          <p:cTn id="223" fill="hold">
                            <p:stCondLst>
                              <p:cond delay="0"/>
                            </p:stCondLst>
                            <p:childTnLst>
                              <p:par>
                                <p:cTn id="224" nodeType="clickEffect" fill="hold" presetClass="entr" presetID="42">
                                  <p:stCondLst>
                                    <p:cond delay="0"/>
                                  </p:stCondLst>
                                  <p:childTnLst>
                                    <p:set>
                                      <p:cBhvr>
                                        <p:cTn id="225" dur="1" fill="hold">
                                          <p:stCondLst>
                                            <p:cond delay="0"/>
                                          </p:stCondLst>
                                        </p:cTn>
                                        <p:tgtEl>
                                          <p:spTgt spid="441"/>
                                        </p:tgtEl>
                                        <p:attrNameLst>
                                          <p:attrName>style.visibility</p:attrName>
                                        </p:attrNameLst>
                                      </p:cBhvr>
                                      <p:to>
                                        <p:strVal val="visible"/>
                                      </p:to>
                                    </p:set>
                                    <p:animEffect filter="fade" transition="in">
                                      <p:cBhvr additive="repl">
                                        <p:cTn id="226" dur="1000"/>
                                        <p:tgtEl>
                                          <p:spTgt spid="441"/>
                                        </p:tgtEl>
                                      </p:cBhvr>
                                    </p:animEffect>
                                    <p:anim calcmode="lin" valueType="num">
                                      <p:cBhvr additive="repl">
                                        <p:cTn id="227" dur="1000" fill="hold"/>
                                        <p:tgtEl>
                                          <p:spTgt spid="441"/>
                                        </p:tgtEl>
                                        <p:attrNameLst>
                                          <p:attrName>ppt_x</p:attrName>
                                        </p:attrNameLst>
                                      </p:cBhvr>
                                      <p:tavLst>
                                        <p:tav tm="0">
                                          <p:val>
                                            <p:strVal val="#ppt_x"/>
                                          </p:val>
                                        </p:tav>
                                        <p:tav tm="100000">
                                          <p:val>
                                            <p:strVal val="#ppt_x"/>
                                          </p:val>
                                        </p:tav>
                                      </p:tavLst>
                                    </p:anim>
                                    <p:anim calcmode="lin" valueType="num">
                                      <p:cBhvr additive="repl">
                                        <p:cTn id="228" dur="1000" fill="hold"/>
                                        <p:tgtEl>
                                          <p:spTgt spid="441"/>
                                        </p:tgtEl>
                                        <p:attrNameLst>
                                          <p:attrName>ppt_y</p:attrName>
                                        </p:attrNameLst>
                                      </p:cBhvr>
                                      <p:tavLst>
                                        <p:tav tm="0">
                                          <p:val>
                                            <p:strVal val="#ppt_y+.1"/>
                                          </p:val>
                                        </p:tav>
                                        <p:tav tm="100000">
                                          <p:val>
                                            <p:strVal val="#ppt_y"/>
                                          </p:val>
                                        </p:tav>
                                      </p:tavLst>
                                    </p:anim>
                                  </p:childTnLst>
                                </p:cTn>
                              </p:par>
                            </p:childTnLst>
                          </p:cTn>
                        </p:par>
                        <p:par>
                          <p:cTn id="229" fill="hold">
                            <p:stCondLst>
                              <p:cond delay="1000"/>
                            </p:stCondLst>
                            <p:childTnLst>
                              <p:par>
                                <p:cTn id="230" nodeType="afterEffect" fill="hold" presetClass="entr" presetID="42">
                                  <p:stCondLst>
                                    <p:cond delay="0"/>
                                  </p:stCondLst>
                                  <p:childTnLst>
                                    <p:set>
                                      <p:cBhvr>
                                        <p:cTn id="231" dur="1" fill="hold">
                                          <p:stCondLst>
                                            <p:cond delay="0"/>
                                          </p:stCondLst>
                                        </p:cTn>
                                        <p:tgtEl>
                                          <p:spTgt spid="445"/>
                                        </p:tgtEl>
                                        <p:attrNameLst>
                                          <p:attrName>style.visibility</p:attrName>
                                        </p:attrNameLst>
                                      </p:cBhvr>
                                      <p:to>
                                        <p:strVal val="visible"/>
                                      </p:to>
                                    </p:set>
                                    <p:animEffect filter="fade" transition="in">
                                      <p:cBhvr additive="repl">
                                        <p:cTn id="232" dur="1000"/>
                                        <p:tgtEl>
                                          <p:spTgt spid="445"/>
                                        </p:tgtEl>
                                      </p:cBhvr>
                                    </p:animEffect>
                                    <p:anim calcmode="lin" valueType="num">
                                      <p:cBhvr additive="repl">
                                        <p:cTn id="233" dur="1000" fill="hold"/>
                                        <p:tgtEl>
                                          <p:spTgt spid="445"/>
                                        </p:tgtEl>
                                        <p:attrNameLst>
                                          <p:attrName>ppt_x</p:attrName>
                                        </p:attrNameLst>
                                      </p:cBhvr>
                                      <p:tavLst>
                                        <p:tav tm="0">
                                          <p:val>
                                            <p:strVal val="#ppt_x"/>
                                          </p:val>
                                        </p:tav>
                                        <p:tav tm="100000">
                                          <p:val>
                                            <p:strVal val="#ppt_x"/>
                                          </p:val>
                                        </p:tav>
                                      </p:tavLst>
                                    </p:anim>
                                    <p:anim calcmode="lin" valueType="num">
                                      <p:cBhvr additive="repl">
                                        <p:cTn id="234" dur="1000" fill="hold"/>
                                        <p:tgtEl>
                                          <p:spTgt spid="44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title"/>
          </p:nvPr>
        </p:nvSpPr>
        <p:spPr>
          <a:xfrm>
            <a:off x="1992240" y="189000"/>
            <a:ext cx="8206920" cy="574200"/>
          </a:xfrm>
          <a:prstGeom prst="rect">
            <a:avLst/>
          </a:prstGeom>
          <a:noFill/>
          <a:ln w="0">
            <a:noFill/>
          </a:ln>
        </p:spPr>
        <p:txBody>
          <a:bodyPr anchor="ctr">
            <a:noAutofit/>
          </a:bodyPr>
          <a:p>
            <a:pPr indent="0">
              <a:lnSpc>
                <a:spcPct val="90000"/>
              </a:lnSpc>
              <a:buNone/>
            </a:pPr>
            <a:r>
              <a:rPr b="0" lang="zh-CN" sz="4400" spc="-1" strike="noStrike">
                <a:solidFill>
                  <a:srgbClr val="000000"/>
                </a:solidFill>
                <a:latin typeface="Calibri Light"/>
              </a:rPr>
              <a:t>使用规范说明</a:t>
            </a:r>
            <a:endParaRPr b="0" lang="en-US" sz="4400" spc="-1" strike="noStrike">
              <a:solidFill>
                <a:srgbClr val="000000"/>
              </a:solidFill>
              <a:latin typeface="Calibri"/>
            </a:endParaRPr>
          </a:p>
        </p:txBody>
      </p:sp>
      <p:sp>
        <p:nvSpPr>
          <p:cNvPr id="449" name="PlaceHolder 2"/>
          <p:cNvSpPr>
            <a:spLocks noGrp="1"/>
          </p:cNvSpPr>
          <p:nvPr>
            <p:ph/>
          </p:nvPr>
        </p:nvSpPr>
        <p:spPr>
          <a:xfrm>
            <a:off x="1631880" y="1270080"/>
            <a:ext cx="8927640" cy="5219280"/>
          </a:xfrm>
          <a:prstGeom prst="rect">
            <a:avLst/>
          </a:prstGeom>
          <a:noFill/>
          <a:ln w="0">
            <a:noFill/>
          </a:ln>
        </p:spPr>
        <p:txBody>
          <a:bodyPr anchor="t">
            <a:noAutofit/>
          </a:bodyPr>
          <a:p>
            <a:pPr indent="0">
              <a:lnSpc>
                <a:spcPct val="90000"/>
              </a:lnSpc>
              <a:buNone/>
              <a:tabLst>
                <a:tab algn="l" pos="0"/>
              </a:tabLst>
            </a:pPr>
            <a:r>
              <a:rPr b="1" lang="zh-CN" sz="1400" spc="-1" strike="noStrike">
                <a:solidFill>
                  <a:srgbClr val="ededed"/>
                </a:solidFill>
                <a:latin typeface="Calibri"/>
              </a:rPr>
              <a:t>站点介绍：</a:t>
            </a:r>
            <a:endParaRPr b="0" lang="en-US" sz="1400" spc="-1" strike="noStrike">
              <a:solidFill>
                <a:srgbClr val="000000"/>
              </a:solidFill>
              <a:latin typeface="Calibri"/>
            </a:endParaRPr>
          </a:p>
          <a:p>
            <a:pPr indent="0">
              <a:lnSpc>
                <a:spcPct val="90000"/>
              </a:lnSpc>
              <a:buNone/>
              <a:tabLst>
                <a:tab algn="l" pos="0"/>
              </a:tabLst>
            </a:pPr>
            <a:endParaRPr b="0" lang="en-US" sz="1400" spc="-1" strike="noStrike">
              <a:solidFill>
                <a:srgbClr val="000000"/>
              </a:solidFill>
              <a:latin typeface="Calibri"/>
            </a:endParaRPr>
          </a:p>
          <a:p>
            <a:pPr indent="0">
              <a:lnSpc>
                <a:spcPct val="90000"/>
              </a:lnSpc>
              <a:buNone/>
              <a:tabLst>
                <a:tab algn="l" pos="0"/>
              </a:tabLst>
            </a:pPr>
            <a:r>
              <a:rPr b="1" lang="en-US" sz="1400" spc="-1" strike="noStrike">
                <a:solidFill>
                  <a:srgbClr val="ededed"/>
                </a:solidFill>
                <a:latin typeface="Calibri"/>
              </a:rPr>
              <a:t>PPT</a:t>
            </a:r>
            <a:r>
              <a:rPr b="1" lang="zh-CN" sz="1400" spc="-1" strike="noStrike">
                <a:solidFill>
                  <a:srgbClr val="ededed"/>
                </a:solidFill>
                <a:latin typeface="Calibri"/>
              </a:rPr>
              <a:t>模板下载网站</a:t>
            </a:r>
            <a:r>
              <a:rPr b="1" lang="en-US" sz="1400" spc="-1" strike="noStrike">
                <a:solidFill>
                  <a:srgbClr val="e8eff7"/>
                </a:solidFill>
                <a:latin typeface="Calibri"/>
              </a:rPr>
              <a:t>www.eeppt.com</a:t>
            </a:r>
            <a:r>
              <a:rPr b="1" lang="zh-CN" sz="1400" spc="-1" strike="noStrike">
                <a:solidFill>
                  <a:srgbClr val="ededed"/>
                </a:solidFill>
                <a:latin typeface="Calibri"/>
              </a:rPr>
              <a:t>为您提供免费</a:t>
            </a:r>
            <a:r>
              <a:rPr b="1" lang="en-US" sz="1400" spc="-1" strike="noStrike">
                <a:solidFill>
                  <a:srgbClr val="ededed"/>
                </a:solidFill>
                <a:latin typeface="Calibri"/>
              </a:rPr>
              <a:t>ppt</a:t>
            </a:r>
            <a:r>
              <a:rPr b="1" lang="zh-CN" sz="1400" spc="-1" strike="noStrike">
                <a:solidFill>
                  <a:srgbClr val="ededed"/>
                </a:solidFill>
                <a:latin typeface="Calibri"/>
              </a:rPr>
              <a:t>模板下载，有好看的</a:t>
            </a:r>
            <a:r>
              <a:rPr b="1" lang="en-US" sz="1400" spc="-1" strike="noStrike">
                <a:solidFill>
                  <a:srgbClr val="ededed"/>
                </a:solidFill>
                <a:latin typeface="Calibri"/>
              </a:rPr>
              <a:t>ppt</a:t>
            </a:r>
            <a:r>
              <a:rPr b="1" lang="zh-CN" sz="1400" spc="-1" strike="noStrike">
                <a:solidFill>
                  <a:srgbClr val="ededed"/>
                </a:solidFill>
                <a:latin typeface="Calibri"/>
              </a:rPr>
              <a:t>模板，</a:t>
            </a:r>
            <a:r>
              <a:rPr b="1" lang="en-US" sz="1400" spc="-1" strike="noStrike">
                <a:solidFill>
                  <a:srgbClr val="ededed"/>
                </a:solidFill>
                <a:latin typeface="Calibri"/>
              </a:rPr>
              <a:t>ppt</a:t>
            </a:r>
            <a:r>
              <a:rPr b="1" lang="zh-CN" sz="1400" spc="-1" strike="noStrike">
                <a:solidFill>
                  <a:srgbClr val="ededed"/>
                </a:solidFill>
                <a:latin typeface="Calibri"/>
              </a:rPr>
              <a:t>背景图片，</a:t>
            </a:r>
            <a:r>
              <a:rPr b="1" lang="en-US" sz="1400" spc="-1" strike="noStrike">
                <a:solidFill>
                  <a:srgbClr val="ededed"/>
                </a:solidFill>
                <a:latin typeface="Calibri"/>
              </a:rPr>
              <a:t>ppt</a:t>
            </a:r>
            <a:r>
              <a:rPr b="1" lang="zh-CN" sz="1400" spc="-1" strike="noStrike">
                <a:solidFill>
                  <a:srgbClr val="ededed"/>
                </a:solidFill>
                <a:latin typeface="Calibri"/>
              </a:rPr>
              <a:t>素材，</a:t>
            </a:r>
            <a:r>
              <a:rPr b="1" lang="en-US" sz="1400" spc="-1" strike="noStrike">
                <a:solidFill>
                  <a:srgbClr val="ededed"/>
                </a:solidFill>
                <a:latin typeface="Calibri"/>
              </a:rPr>
              <a:t>ppt</a:t>
            </a:r>
            <a:r>
              <a:rPr b="1" lang="zh-CN" sz="1400" spc="-1" strike="noStrike">
                <a:solidFill>
                  <a:srgbClr val="ededed"/>
                </a:solidFill>
                <a:latin typeface="Calibri"/>
              </a:rPr>
              <a:t>图表，动态</a:t>
            </a:r>
            <a:r>
              <a:rPr b="1" lang="en-US" sz="1400" spc="-1" strike="noStrike">
                <a:solidFill>
                  <a:srgbClr val="ededed"/>
                </a:solidFill>
                <a:latin typeface="Calibri"/>
              </a:rPr>
              <a:t>ppt</a:t>
            </a:r>
            <a:r>
              <a:rPr b="1" lang="zh-CN" sz="1400" spc="-1" strike="noStrike">
                <a:solidFill>
                  <a:srgbClr val="ededed"/>
                </a:solidFill>
                <a:latin typeface="Calibri"/>
              </a:rPr>
              <a:t>模板大全，幻灯片模板，</a:t>
            </a:r>
            <a:r>
              <a:rPr b="1" lang="en-US" sz="1400" spc="-1" strike="noStrike">
                <a:solidFill>
                  <a:srgbClr val="ededed"/>
                </a:solidFill>
                <a:latin typeface="Calibri"/>
              </a:rPr>
              <a:t>Powe</a:t>
            </a:r>
            <a:r>
              <a:rPr b="1" lang="en-US" sz="1400" spc="-1" strike="noStrike">
                <a:solidFill>
                  <a:srgbClr val="e8eff7"/>
                </a:solidFill>
                <a:latin typeface="Calibri"/>
              </a:rPr>
              <a:t>rPoint</a:t>
            </a:r>
            <a:r>
              <a:rPr b="1" lang="zh-CN" sz="1400" spc="-1" strike="noStrike">
                <a:solidFill>
                  <a:srgbClr val="e8eff7"/>
                </a:solidFill>
                <a:latin typeface="Calibri"/>
              </a:rPr>
              <a:t>模板等各类</a:t>
            </a:r>
            <a:r>
              <a:rPr b="1" lang="en-US" sz="1400" spc="-1" strike="noStrike">
                <a:solidFill>
                  <a:srgbClr val="e8eff7"/>
                </a:solidFill>
                <a:latin typeface="Calibri"/>
              </a:rPr>
              <a:t>ppt</a:t>
            </a:r>
            <a:r>
              <a:rPr b="1" lang="zh-CN" sz="1400" spc="-1" strike="noStrike">
                <a:solidFill>
                  <a:srgbClr val="e8eff7"/>
                </a:solidFill>
                <a:latin typeface="Calibri"/>
              </a:rPr>
              <a:t>模板免费下载。助您轻松制作出精美</a:t>
            </a:r>
            <a:r>
              <a:rPr b="1" lang="en-US" sz="1400" spc="-1" strike="noStrike">
                <a:solidFill>
                  <a:srgbClr val="e8eff7"/>
                </a:solidFill>
                <a:latin typeface="Calibri"/>
              </a:rPr>
              <a:t>PPT</a:t>
            </a:r>
            <a:r>
              <a:rPr b="1" lang="zh-CN" sz="1400" spc="-1" strike="noStrike">
                <a:solidFill>
                  <a:srgbClr val="e8eff7"/>
                </a:solidFill>
                <a:latin typeface="Calibri"/>
              </a:rPr>
              <a:t>模板！</a:t>
            </a:r>
            <a:r>
              <a:rPr b="1" lang="zh-CN" sz="1400" spc="-1" strike="noStrike">
                <a:solidFill>
                  <a:srgbClr val="ededed"/>
                </a:solidFill>
                <a:latin typeface="Calibri"/>
              </a:rPr>
              <a:t>最新更新</a:t>
            </a:r>
            <a:r>
              <a:rPr b="1" lang="en-US" sz="1400" spc="-1" strike="noStrike">
                <a:solidFill>
                  <a:srgbClr val="ededed"/>
                </a:solidFill>
                <a:latin typeface="Calibri"/>
              </a:rPr>
              <a:t>ppt</a:t>
            </a:r>
            <a:r>
              <a:rPr b="1" lang="zh-CN" sz="1400" spc="-1" strike="noStrike">
                <a:solidFill>
                  <a:srgbClr val="ededed"/>
                </a:solidFill>
                <a:latin typeface="Calibri"/>
              </a:rPr>
              <a:t>模板</a:t>
            </a:r>
            <a:r>
              <a:rPr b="0" lang="en-US" sz="1400" spc="-1" strike="noStrike">
                <a:solidFill>
                  <a:srgbClr val="ededed"/>
                </a:solidFill>
                <a:latin typeface="Calibri"/>
              </a:rPr>
              <a:t> </a:t>
            </a:r>
            <a:r>
              <a:rPr b="1" lang="en-US" sz="1400" spc="-1" strike="noStrike" u="sng">
                <a:solidFill>
                  <a:srgbClr val="0563c1"/>
                </a:solidFill>
                <a:uFillTx/>
                <a:latin typeface="Calibri"/>
                <a:hlinkClick r:id="rId1"/>
              </a:rPr>
              <a:t>http://</a:t>
            </a:r>
            <a:r>
              <a:rPr b="1" lang="en-US" sz="1400" spc="-1" strike="noStrike" u="sng">
                <a:solidFill>
                  <a:srgbClr val="0563c1"/>
                </a:solidFill>
                <a:uFillTx/>
                <a:latin typeface="Calibri"/>
                <a:hlinkClick r:id="rId2"/>
              </a:rPr>
              <a:t>www.eeppt.com/new.html</a:t>
            </a:r>
            <a:r>
              <a:rPr b="1" lang="en-US" sz="1400" spc="-1" strike="noStrike">
                <a:solidFill>
                  <a:srgbClr val="ededed"/>
                </a:solidFill>
                <a:latin typeface="Calibri"/>
              </a:rPr>
              <a:t> </a:t>
            </a:r>
            <a:endParaRPr b="0" lang="en-US" sz="1400" spc="-1" strike="noStrike">
              <a:solidFill>
                <a:srgbClr val="000000"/>
              </a:solidFill>
              <a:latin typeface="Calibri"/>
            </a:endParaRPr>
          </a:p>
          <a:p>
            <a:pPr indent="0">
              <a:lnSpc>
                <a:spcPct val="90000"/>
              </a:lnSpc>
              <a:buNone/>
              <a:tabLst>
                <a:tab algn="l" pos="0"/>
              </a:tabLst>
            </a:pPr>
            <a:endParaRPr b="0" lang="en-US" sz="1400" spc="-1" strike="noStrike">
              <a:solidFill>
                <a:srgbClr val="000000"/>
              </a:solidFill>
              <a:latin typeface="Calibri"/>
            </a:endParaRPr>
          </a:p>
          <a:p>
            <a:pPr indent="0">
              <a:lnSpc>
                <a:spcPct val="90000"/>
              </a:lnSpc>
              <a:buNone/>
              <a:tabLst>
                <a:tab algn="l" pos="0"/>
              </a:tabLst>
            </a:pPr>
            <a:endParaRPr b="0" lang="en-US" sz="800" spc="-1" strike="noStrike">
              <a:solidFill>
                <a:srgbClr val="000000"/>
              </a:solidFill>
              <a:latin typeface="Calibri"/>
            </a:endParaRPr>
          </a:p>
          <a:p>
            <a:pPr indent="0">
              <a:lnSpc>
                <a:spcPct val="90000"/>
              </a:lnSpc>
              <a:buNone/>
              <a:tabLst>
                <a:tab algn="l" pos="0"/>
              </a:tabLst>
            </a:pPr>
            <a:r>
              <a:rPr b="1" lang="zh-CN" sz="1400" spc="-1" strike="noStrike">
                <a:solidFill>
                  <a:srgbClr val="ededed"/>
                </a:solidFill>
                <a:latin typeface="Calibri"/>
              </a:rPr>
              <a:t>特别说明：</a:t>
            </a:r>
            <a:endParaRPr b="0" lang="en-US" sz="1400" spc="-1" strike="noStrike">
              <a:solidFill>
                <a:srgbClr val="000000"/>
              </a:solidFill>
              <a:latin typeface="Calibri"/>
            </a:endParaRPr>
          </a:p>
          <a:p>
            <a:pPr indent="0">
              <a:lnSpc>
                <a:spcPct val="90000"/>
              </a:lnSpc>
              <a:buNone/>
              <a:tabLst>
                <a:tab algn="l" pos="0"/>
              </a:tabLst>
            </a:pPr>
            <a:endParaRPr b="0" lang="en-US" sz="1200" spc="-1" strike="noStrike">
              <a:solidFill>
                <a:srgbClr val="000000"/>
              </a:solidFill>
              <a:latin typeface="Calibri"/>
            </a:endParaRPr>
          </a:p>
          <a:p>
            <a:pPr indent="0">
              <a:lnSpc>
                <a:spcPct val="90000"/>
              </a:lnSpc>
              <a:buNone/>
              <a:tabLst>
                <a:tab algn="l" pos="0"/>
              </a:tabLst>
            </a:pPr>
            <a:r>
              <a:rPr b="1" lang="zh-CN" sz="1400" spc="-1" strike="noStrike">
                <a:solidFill>
                  <a:srgbClr val="ededed"/>
                </a:solidFill>
                <a:latin typeface="Calibri"/>
              </a:rPr>
              <a:t>该</a:t>
            </a:r>
            <a:r>
              <a:rPr b="1" lang="en-US" sz="1400" spc="-1" strike="noStrike">
                <a:solidFill>
                  <a:srgbClr val="ededed"/>
                </a:solidFill>
                <a:latin typeface="Calibri"/>
              </a:rPr>
              <a:t>PPT</a:t>
            </a:r>
            <a:r>
              <a:rPr b="1" lang="zh-CN" sz="1400" spc="-1" strike="noStrike">
                <a:solidFill>
                  <a:srgbClr val="ededed"/>
                </a:solidFill>
                <a:latin typeface="Calibri"/>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Calibri"/>
            </a:endParaRPr>
          </a:p>
          <a:p>
            <a:pPr indent="0">
              <a:lnSpc>
                <a:spcPct val="90000"/>
              </a:lnSpc>
              <a:buNone/>
              <a:tabLst>
                <a:tab algn="l" pos="0"/>
              </a:tabLst>
            </a:pPr>
            <a:endParaRPr b="0" lang="en-US" sz="800" spc="-1" strike="noStrike">
              <a:solidFill>
                <a:srgbClr val="000000"/>
              </a:solidFill>
              <a:latin typeface="Calibri"/>
            </a:endParaRPr>
          </a:p>
          <a:p>
            <a:pPr indent="0">
              <a:lnSpc>
                <a:spcPct val="90000"/>
              </a:lnSpc>
              <a:buNone/>
              <a:tabLst>
                <a:tab algn="l" pos="0"/>
              </a:tabLst>
            </a:pPr>
            <a:endParaRPr b="0" lang="en-US" sz="800" spc="-1" strike="noStrike">
              <a:solidFill>
                <a:srgbClr val="000000"/>
              </a:solidFill>
              <a:latin typeface="Calibri"/>
            </a:endParaRPr>
          </a:p>
          <a:p>
            <a:pPr indent="0">
              <a:lnSpc>
                <a:spcPct val="90000"/>
              </a:lnSpc>
              <a:buNone/>
              <a:tabLst>
                <a:tab algn="l" pos="0"/>
              </a:tabLst>
            </a:pPr>
            <a:endParaRPr b="0" lang="en-US" sz="800" spc="-1" strike="noStrike">
              <a:solidFill>
                <a:srgbClr val="000000"/>
              </a:solidFill>
              <a:latin typeface="Calibri"/>
            </a:endParaRPr>
          </a:p>
          <a:p>
            <a:pPr indent="0">
              <a:lnSpc>
                <a:spcPct val="90000"/>
              </a:lnSpc>
              <a:spcBef>
                <a:spcPts val="1001"/>
              </a:spcBef>
              <a:buNone/>
              <a:tabLst>
                <a:tab algn="l" pos="0"/>
              </a:tabLst>
            </a:pPr>
            <a:r>
              <a:rPr b="1" lang="zh-CN" sz="1400" spc="-1" strike="noStrike">
                <a:solidFill>
                  <a:srgbClr val="ededed"/>
                </a:solidFill>
                <a:latin typeface="Calibri"/>
              </a:rPr>
              <a:t>栏目推荐：</a:t>
            </a:r>
            <a:endParaRPr b="0" lang="en-US" sz="1400" spc="-1" strike="noStrike">
              <a:solidFill>
                <a:srgbClr val="000000"/>
              </a:solidFill>
              <a:latin typeface="Calibri"/>
            </a:endParaRPr>
          </a:p>
          <a:p>
            <a:pPr indent="0">
              <a:lnSpc>
                <a:spcPct val="90000"/>
              </a:lnSpc>
              <a:spcBef>
                <a:spcPts val="1001"/>
              </a:spcBef>
              <a:buNone/>
              <a:tabLst>
                <a:tab algn="l" pos="0"/>
              </a:tabLst>
            </a:pPr>
            <a:r>
              <a:rPr b="0" lang="zh-CN" sz="1200" spc="-1" strike="noStrike" u="sng">
                <a:solidFill>
                  <a:srgbClr val="0563c1"/>
                </a:solidFill>
                <a:uFillTx/>
                <a:latin typeface="Calibri"/>
                <a:hlinkClick r:id="rId3"/>
              </a:rPr>
              <a:t>好看的ppt背景图片</a:t>
            </a:r>
            <a:r>
              <a:rPr b="0" lang="en-US" sz="1200" spc="-1" strike="noStrike">
                <a:solidFill>
                  <a:srgbClr val="ededed"/>
                </a:solidFill>
                <a:latin typeface="Calibri"/>
              </a:rPr>
              <a:t>  </a:t>
            </a:r>
            <a:r>
              <a:rPr b="0" lang="en-US" sz="1200" spc="-1" strike="noStrike">
                <a:solidFill>
                  <a:srgbClr val="ededed"/>
                </a:solidFill>
                <a:latin typeface="Calibri"/>
              </a:rPr>
              <a:t>http://www.eeppt.com/beijing/         </a:t>
            </a:r>
            <a:r>
              <a:rPr b="0" lang="en-US" sz="1200" spc="-1" strike="noStrike">
                <a:solidFill>
                  <a:srgbClr val="ededed"/>
                </a:solidFill>
                <a:latin typeface="Calibri"/>
              </a:rPr>
              <a:t>	</a:t>
            </a:r>
            <a:r>
              <a:rPr b="0" lang="en-US" sz="1200" spc="-1" strike="noStrike">
                <a:solidFill>
                  <a:srgbClr val="ededed"/>
                </a:solidFill>
                <a:latin typeface="Calibri"/>
              </a:rPr>
              <a:t>             </a:t>
            </a:r>
            <a:r>
              <a:rPr b="0" lang="zh-CN" sz="1200" spc="-1" strike="noStrike" u="sng">
                <a:solidFill>
                  <a:srgbClr val="0563c1"/>
                </a:solidFill>
                <a:uFillTx/>
                <a:latin typeface="Calibri"/>
                <a:hlinkClick r:id="rId4"/>
              </a:rPr>
              <a:t>动态ppt模板下载</a:t>
            </a:r>
            <a:r>
              <a:rPr b="0" lang="en-US" sz="1200" spc="-1" strike="noStrike">
                <a:solidFill>
                  <a:srgbClr val="ededed"/>
                </a:solidFill>
                <a:latin typeface="Calibri"/>
              </a:rPr>
              <a:t>  </a:t>
            </a:r>
            <a:r>
              <a:rPr b="0" lang="en-US" sz="1200" spc="-1" strike="noStrike">
                <a:solidFill>
                  <a:srgbClr val="ededed"/>
                </a:solidFill>
                <a:latin typeface="Calibri"/>
              </a:rPr>
              <a:t>http://www.eeppt.com/dongtai/</a:t>
            </a:r>
            <a:endParaRPr b="0" lang="en-US" sz="1200" spc="-1" strike="noStrike">
              <a:solidFill>
                <a:srgbClr val="000000"/>
              </a:solidFill>
              <a:latin typeface="Calibri"/>
            </a:endParaRPr>
          </a:p>
          <a:p>
            <a:pPr indent="0">
              <a:lnSpc>
                <a:spcPct val="90000"/>
              </a:lnSpc>
              <a:spcBef>
                <a:spcPts val="1001"/>
              </a:spcBef>
              <a:buNone/>
              <a:tabLst>
                <a:tab algn="l" pos="0"/>
              </a:tabLst>
            </a:pPr>
            <a:r>
              <a:rPr b="0" lang="en-US" sz="1200" spc="-1" strike="noStrike" u="sng">
                <a:solidFill>
                  <a:srgbClr val="0563c1"/>
                </a:solidFill>
                <a:uFillTx/>
                <a:latin typeface="Calibri"/>
                <a:hlinkClick r:id="rId5"/>
              </a:rPr>
              <a:t>ppt模板下载 免费完整版</a:t>
            </a:r>
            <a:r>
              <a:rPr b="0" lang="en-US" sz="1200" spc="-1" strike="noStrike">
                <a:solidFill>
                  <a:srgbClr val="ededed"/>
                </a:solidFill>
                <a:latin typeface="Calibri"/>
              </a:rPr>
              <a:t>  </a:t>
            </a:r>
            <a:r>
              <a:rPr b="0" lang="en-US" sz="1200" spc="-1" strike="noStrike">
                <a:solidFill>
                  <a:srgbClr val="ededed"/>
                </a:solidFill>
                <a:latin typeface="Calibri"/>
              </a:rPr>
              <a:t>http://www.eeppt.com/moban/           </a:t>
            </a:r>
            <a:r>
              <a:rPr b="0" lang="en-US" sz="1200" spc="-1" strike="noStrike" u="sng">
                <a:solidFill>
                  <a:srgbClr val="0563c1"/>
                </a:solidFill>
                <a:uFillTx/>
                <a:latin typeface="Calibri"/>
                <a:hlinkClick r:id="rId6"/>
              </a:rPr>
              <a:t> 毕业设计ppt模板下载</a:t>
            </a:r>
            <a:r>
              <a:rPr b="0" lang="en-US" sz="1200" spc="-1" strike="noStrike">
                <a:solidFill>
                  <a:srgbClr val="ededed"/>
                </a:solidFill>
                <a:latin typeface="Calibri"/>
              </a:rPr>
              <a:t>  </a:t>
            </a:r>
            <a:r>
              <a:rPr b="0" lang="en-US" sz="1200" spc="-1" strike="noStrike">
                <a:solidFill>
                  <a:srgbClr val="ededed"/>
                </a:solidFill>
                <a:latin typeface="Calibri"/>
              </a:rPr>
              <a:t>http://www.eeppt.com/moban/chuangyi/</a:t>
            </a:r>
            <a:endParaRPr b="0" lang="en-US" sz="1200" spc="-1" strike="noStrike">
              <a:solidFill>
                <a:srgbClr val="000000"/>
              </a:solidFill>
              <a:latin typeface="Calibri"/>
            </a:endParaRPr>
          </a:p>
          <a:p>
            <a:pPr indent="0">
              <a:lnSpc>
                <a:spcPct val="90000"/>
              </a:lnSpc>
              <a:spcBef>
                <a:spcPts val="1001"/>
              </a:spcBef>
              <a:buNone/>
              <a:tabLst>
                <a:tab algn="l" pos="0"/>
              </a:tabLst>
            </a:pPr>
            <a:r>
              <a:rPr b="0" lang="zh-CN" sz="1200" spc="-1" strike="noStrike" u="sng">
                <a:solidFill>
                  <a:srgbClr val="0563c1"/>
                </a:solidFill>
                <a:uFillTx/>
                <a:latin typeface="Calibri"/>
                <a:hlinkClick r:id="rId7"/>
              </a:rPr>
              <a:t>答辩ppt模板下载</a:t>
            </a:r>
            <a:r>
              <a:rPr b="0" lang="en-US" sz="1200" spc="-1" strike="noStrike">
                <a:solidFill>
                  <a:srgbClr val="ededed"/>
                </a:solidFill>
                <a:latin typeface="Calibri"/>
              </a:rPr>
              <a:t>  </a:t>
            </a:r>
            <a:r>
              <a:rPr b="0" lang="en-US" sz="1200" spc="-1" strike="noStrike">
                <a:solidFill>
                  <a:srgbClr val="ededed"/>
                </a:solidFill>
                <a:latin typeface="Calibri"/>
              </a:rPr>
              <a:t>http://www.eeppt.com/moban/dabian/            </a:t>
            </a:r>
            <a:r>
              <a:rPr b="0" lang="zh-CN" sz="1200" spc="-1" strike="noStrike" u="sng">
                <a:solidFill>
                  <a:srgbClr val="0563c1"/>
                </a:solidFill>
                <a:uFillTx/>
                <a:latin typeface="Calibri"/>
                <a:hlinkClick r:id="rId8"/>
              </a:rPr>
              <a:t>月总结ppt模板</a:t>
            </a:r>
            <a:r>
              <a:rPr b="0" lang="en-US" sz="1200" spc="-1" strike="noStrike">
                <a:solidFill>
                  <a:srgbClr val="ededed"/>
                </a:solidFill>
                <a:latin typeface="Calibri"/>
              </a:rPr>
              <a:t>  </a:t>
            </a:r>
            <a:r>
              <a:rPr b="0" lang="en-US" sz="1200" spc="-1" strike="noStrike">
                <a:solidFill>
                  <a:srgbClr val="ededed"/>
                </a:solidFill>
                <a:latin typeface="Calibri"/>
              </a:rPr>
              <a:t>http://www.eeppt.com/moban/gongzuo/</a:t>
            </a:r>
            <a:endParaRPr b="0" lang="en-US" sz="1200" spc="-1" strike="noStrike">
              <a:solidFill>
                <a:srgbClr val="000000"/>
              </a:solidFill>
              <a:latin typeface="Calibri"/>
            </a:endParaRPr>
          </a:p>
          <a:p>
            <a:pPr indent="0">
              <a:lnSpc>
                <a:spcPct val="90000"/>
              </a:lnSpc>
              <a:spcBef>
                <a:spcPts val="1001"/>
              </a:spcBef>
              <a:buNone/>
              <a:tabLst>
                <a:tab algn="l" pos="0"/>
              </a:tabLst>
            </a:pPr>
            <a:r>
              <a:rPr b="0" lang="zh-CN" sz="1200" spc="-1" strike="noStrike" u="sng">
                <a:solidFill>
                  <a:srgbClr val="0563c1"/>
                </a:solidFill>
                <a:uFillTx/>
                <a:latin typeface="Calibri"/>
                <a:hlinkClick r:id="rId9"/>
              </a:rPr>
              <a:t>精美ppt模板下载</a:t>
            </a:r>
            <a:r>
              <a:rPr b="0" lang="en-US" sz="1200" spc="-1" strike="noStrike">
                <a:solidFill>
                  <a:srgbClr val="ededed"/>
                </a:solidFill>
                <a:latin typeface="Calibri"/>
              </a:rPr>
              <a:t>  </a:t>
            </a:r>
            <a:r>
              <a:rPr b="0" lang="en-US" sz="1200" spc="-1" strike="noStrike">
                <a:solidFill>
                  <a:srgbClr val="ededed"/>
                </a:solidFill>
                <a:latin typeface="Calibri"/>
              </a:rPr>
              <a:t>http://www.eeppt.com/moban/jingpin/            </a:t>
            </a:r>
            <a:r>
              <a:rPr b="0" lang="zh-CN" sz="1200" spc="-1" strike="noStrike" u="sng">
                <a:solidFill>
                  <a:srgbClr val="0563c1"/>
                </a:solidFill>
                <a:uFillTx/>
                <a:latin typeface="Calibri"/>
                <a:hlinkClick r:id="rId10"/>
              </a:rPr>
              <a:t>说课ppt模板</a:t>
            </a:r>
            <a:r>
              <a:rPr b="0" lang="en-US" sz="1200" spc="-1" strike="noStrike">
                <a:solidFill>
                  <a:srgbClr val="ededed"/>
                </a:solidFill>
                <a:latin typeface="Calibri"/>
              </a:rPr>
              <a:t>  </a:t>
            </a:r>
            <a:r>
              <a:rPr b="0" lang="en-US" sz="1200" spc="-1" strike="noStrike">
                <a:solidFill>
                  <a:srgbClr val="ededed"/>
                </a:solidFill>
                <a:latin typeface="Calibri"/>
              </a:rPr>
              <a:t>http://www.eeppt.com/moban/kejian/</a:t>
            </a:r>
            <a:endParaRPr b="0" lang="en-US" sz="1200" spc="-1" strike="noStrike">
              <a:solidFill>
                <a:srgbClr val="000000"/>
              </a:solidFill>
              <a:latin typeface="Calibri"/>
            </a:endParaRPr>
          </a:p>
          <a:p>
            <a:pPr indent="0">
              <a:lnSpc>
                <a:spcPct val="90000"/>
              </a:lnSpc>
              <a:spcBef>
                <a:spcPts val="1001"/>
              </a:spcBef>
              <a:buNone/>
              <a:tabLst>
                <a:tab algn="l" pos="0"/>
              </a:tabLst>
            </a:pPr>
            <a:r>
              <a:rPr b="0" lang="zh-CN" sz="1200" spc="-1" strike="noStrike" u="sng">
                <a:solidFill>
                  <a:srgbClr val="0563c1"/>
                </a:solidFill>
                <a:uFillTx/>
                <a:latin typeface="Calibri"/>
                <a:hlinkClick r:id="rId11"/>
              </a:rPr>
              <a:t>企业介绍ppt模板</a:t>
            </a:r>
            <a:r>
              <a:rPr b="0" lang="en-US" sz="1200" spc="-1" strike="noStrike">
                <a:solidFill>
                  <a:srgbClr val="ededed"/>
                </a:solidFill>
                <a:latin typeface="Calibri"/>
              </a:rPr>
              <a:t>  </a:t>
            </a:r>
            <a:r>
              <a:rPr b="0" lang="en-US" sz="1200" spc="-1" strike="noStrike">
                <a:solidFill>
                  <a:srgbClr val="ededed"/>
                </a:solidFill>
                <a:latin typeface="Calibri"/>
              </a:rPr>
              <a:t>http://www.eeppt.com/moban/qiye/                 </a:t>
            </a:r>
            <a:r>
              <a:rPr b="0" lang="zh-CN" sz="1200" spc="-1" strike="noStrike" u="sng">
                <a:solidFill>
                  <a:srgbClr val="0563c1"/>
                </a:solidFill>
                <a:uFillTx/>
                <a:latin typeface="Calibri"/>
                <a:hlinkClick r:id="rId12"/>
              </a:rPr>
              <a:t>商务ppt模板下载</a:t>
            </a:r>
            <a:r>
              <a:rPr b="0" lang="en-US" sz="1200" spc="-1" strike="noStrike">
                <a:solidFill>
                  <a:srgbClr val="ededed"/>
                </a:solidFill>
                <a:latin typeface="Calibri"/>
              </a:rPr>
              <a:t>  </a:t>
            </a:r>
            <a:r>
              <a:rPr b="0" lang="en-US" sz="1200" spc="-1" strike="noStrike">
                <a:solidFill>
                  <a:srgbClr val="ededed"/>
                </a:solidFill>
                <a:latin typeface="Calibri"/>
              </a:rPr>
              <a:t>http://www.eeppt.com/moban/shangwu/</a:t>
            </a:r>
            <a:endParaRPr b="0" lang="en-US" sz="1200" spc="-1" strike="noStrike">
              <a:solidFill>
                <a:srgbClr val="000000"/>
              </a:solidFill>
              <a:latin typeface="Calibri"/>
            </a:endParaRPr>
          </a:p>
          <a:p>
            <a:pPr indent="0">
              <a:lnSpc>
                <a:spcPct val="90000"/>
              </a:lnSpc>
              <a:spcBef>
                <a:spcPts val="1001"/>
              </a:spcBef>
              <a:buNone/>
              <a:tabLst>
                <a:tab algn="l" pos="0"/>
              </a:tabLst>
            </a:pPr>
            <a:r>
              <a:rPr b="0" lang="zh-CN" sz="1200" spc="-1" strike="noStrike" u="sng">
                <a:solidFill>
                  <a:srgbClr val="0563c1"/>
                </a:solidFill>
                <a:uFillTx/>
                <a:latin typeface="Calibri"/>
                <a:hlinkClick r:id="rId13"/>
              </a:rPr>
              <a:t>市场营销策划ppt</a:t>
            </a:r>
            <a:r>
              <a:rPr b="0" lang="en-US" sz="1200" spc="-1" strike="noStrike">
                <a:solidFill>
                  <a:srgbClr val="ededed"/>
                </a:solidFill>
                <a:latin typeface="Calibri"/>
              </a:rPr>
              <a:t>  </a:t>
            </a:r>
            <a:r>
              <a:rPr b="0" lang="en-US" sz="1200" spc="-1" strike="noStrike">
                <a:solidFill>
                  <a:srgbClr val="ededed"/>
                </a:solidFill>
                <a:latin typeface="Calibri"/>
              </a:rPr>
              <a:t>http://www.eeppt.com/moban/yingxiao/           </a:t>
            </a:r>
            <a:r>
              <a:rPr b="0" lang="en-US" sz="1200" spc="-1" strike="noStrike" u="sng">
                <a:solidFill>
                  <a:srgbClr val="0563c1"/>
                </a:solidFill>
                <a:uFillTx/>
                <a:latin typeface="Calibri"/>
                <a:hlinkClick r:id="rId14"/>
              </a:rPr>
              <a:t>ppt素材图片</a:t>
            </a:r>
            <a:r>
              <a:rPr b="0" lang="en-US" sz="1200" spc="-1" strike="noStrike">
                <a:solidFill>
                  <a:srgbClr val="ededed"/>
                </a:solidFill>
                <a:latin typeface="Calibri"/>
              </a:rPr>
              <a:t>  </a:t>
            </a:r>
            <a:r>
              <a:rPr b="0" lang="en-US" sz="1200" spc="-1" strike="noStrike">
                <a:solidFill>
                  <a:srgbClr val="ededed"/>
                </a:solidFill>
                <a:latin typeface="Calibri"/>
              </a:rPr>
              <a:t>http://www.eeppt.com/sucai/</a:t>
            </a:r>
            <a:endParaRPr b="0" lang="en-US" sz="1200" spc="-1" strike="noStrike">
              <a:solidFill>
                <a:srgbClr val="000000"/>
              </a:solidFill>
              <a:latin typeface="Calibri"/>
            </a:endParaRPr>
          </a:p>
          <a:p>
            <a:pPr indent="0">
              <a:lnSpc>
                <a:spcPct val="90000"/>
              </a:lnSpc>
              <a:spcBef>
                <a:spcPts val="1001"/>
              </a:spcBef>
              <a:buNone/>
              <a:tabLst>
                <a:tab algn="l" pos="0"/>
              </a:tabLst>
            </a:pPr>
            <a:r>
              <a:rPr b="0" lang="en-US" sz="1200" spc="-1" strike="noStrike" u="sng">
                <a:solidFill>
                  <a:srgbClr val="0563c1"/>
                </a:solidFill>
                <a:uFillTx/>
                <a:latin typeface="Calibri"/>
                <a:hlinkClick r:id="rId15"/>
              </a:rPr>
              <a:t>ppt图表下载</a:t>
            </a:r>
            <a:r>
              <a:rPr b="0" lang="en-US" sz="1200" spc="-1" strike="noStrike">
                <a:solidFill>
                  <a:srgbClr val="ededed"/>
                </a:solidFill>
                <a:latin typeface="Calibri"/>
              </a:rPr>
              <a:t>  </a:t>
            </a:r>
            <a:r>
              <a:rPr b="0" lang="en-US" sz="1200" spc="-1" strike="noStrike">
                <a:solidFill>
                  <a:srgbClr val="ededed"/>
                </a:solidFill>
                <a:latin typeface="Calibri"/>
              </a:rPr>
              <a:t>http://www.eeppt.com/tubiao/                                    </a:t>
            </a:r>
            <a:r>
              <a:rPr b="0" lang="zh-CN" sz="1200" spc="-1" strike="noStrike" u="sng">
                <a:solidFill>
                  <a:srgbClr val="0563c1"/>
                </a:solidFill>
                <a:uFillTx/>
                <a:latin typeface="Calibri"/>
                <a:hlinkClick r:id="rId16"/>
              </a:rPr>
              <a:t>自然风景ppt模板</a:t>
            </a:r>
            <a:r>
              <a:rPr b="0" lang="en-US" sz="1200" spc="-1" strike="noStrike">
                <a:solidFill>
                  <a:srgbClr val="ededed"/>
                </a:solidFill>
                <a:latin typeface="Calibri"/>
              </a:rPr>
              <a:t>  </a:t>
            </a:r>
            <a:r>
              <a:rPr b="0" lang="en-US" sz="1200" spc="-1" strike="noStrike">
                <a:solidFill>
                  <a:srgbClr val="ededed"/>
                </a:solidFill>
                <a:latin typeface="Calibri"/>
              </a:rPr>
              <a:t>http://www.eeppt.com/moban/fengjing/</a:t>
            </a:r>
            <a:endParaRPr b="0" lang="en-US" sz="1200" spc="-1" strike="noStrike">
              <a:solidFill>
                <a:srgbClr val="000000"/>
              </a:solidFill>
              <a:latin typeface="Calibri"/>
            </a:endParaRPr>
          </a:p>
          <a:p>
            <a:pPr indent="0">
              <a:lnSpc>
                <a:spcPct val="90000"/>
              </a:lnSpc>
              <a:spcBef>
                <a:spcPts val="1001"/>
              </a:spcBef>
              <a:buNone/>
              <a:tabLst>
                <a:tab algn="l" pos="0"/>
              </a:tabLst>
            </a:pPr>
            <a:r>
              <a:rPr b="0" lang="zh-CN" sz="1200" spc="-1" strike="noStrike" u="sng">
                <a:solidFill>
                  <a:srgbClr val="0563c1"/>
                </a:solidFill>
                <a:uFillTx/>
                <a:latin typeface="Calibri"/>
                <a:hlinkClick r:id="rId17"/>
              </a:rPr>
              <a:t>国外ppt模板下载</a:t>
            </a:r>
            <a:r>
              <a:rPr b="0" lang="en-US" sz="1200" spc="-1" strike="noStrike">
                <a:solidFill>
                  <a:srgbClr val="ededed"/>
                </a:solidFill>
                <a:latin typeface="Calibri"/>
              </a:rPr>
              <a:t>  </a:t>
            </a:r>
            <a:r>
              <a:rPr b="0" lang="en-US" sz="1200" spc="-1" strike="noStrike">
                <a:solidFill>
                  <a:srgbClr val="ededed"/>
                </a:solidFill>
                <a:latin typeface="Calibri"/>
              </a:rPr>
              <a:t>http://www.eeppt.com/moban/guowai/            </a:t>
            </a:r>
            <a:r>
              <a:rPr b="0" lang="zh-CN" sz="1200" spc="-1" strike="noStrike" u="sng">
                <a:solidFill>
                  <a:srgbClr val="0563c1"/>
                </a:solidFill>
                <a:uFillTx/>
                <a:latin typeface="Calibri"/>
                <a:hlinkClick r:id="rId18"/>
              </a:rPr>
              <a:t>简洁ppt模板</a:t>
            </a:r>
            <a:r>
              <a:rPr b="0" lang="en-US" sz="1200" spc="-1" strike="noStrike">
                <a:solidFill>
                  <a:srgbClr val="ededed"/>
                </a:solidFill>
                <a:latin typeface="Calibri"/>
              </a:rPr>
              <a:t>  </a:t>
            </a:r>
            <a:r>
              <a:rPr b="0" lang="en-US" sz="1200" spc="-1" strike="noStrike">
                <a:solidFill>
                  <a:srgbClr val="ededed"/>
                </a:solidFill>
                <a:latin typeface="Calibri"/>
              </a:rPr>
              <a:t>http://www.eeppt.com/moban/jianjie/</a:t>
            </a:r>
            <a:endParaRPr b="0" lang="en-US" sz="1200" spc="-1" strike="noStrike">
              <a:solidFill>
                <a:srgbClr val="000000"/>
              </a:solidFill>
              <a:latin typeface="Calibri"/>
            </a:endParaRPr>
          </a:p>
          <a:p>
            <a:pPr indent="0">
              <a:lnSpc>
                <a:spcPct val="90000"/>
              </a:lnSpc>
              <a:spcBef>
                <a:spcPts val="1001"/>
              </a:spcBef>
              <a:buNone/>
              <a:tabLst>
                <a:tab algn="l" pos="0"/>
              </a:tabLst>
            </a:pPr>
            <a:r>
              <a:rPr b="0" lang="zh-CN" sz="1200" spc="-1" strike="noStrike" u="sng">
                <a:solidFill>
                  <a:srgbClr val="0563c1"/>
                </a:solidFill>
                <a:uFillTx/>
                <a:latin typeface="Calibri"/>
                <a:hlinkClick r:id="rId19"/>
              </a:rPr>
              <a:t>公司会议ppt模板</a:t>
            </a:r>
            <a:r>
              <a:rPr b="0" lang="en-US" sz="1200" spc="-1" strike="noStrike">
                <a:solidFill>
                  <a:srgbClr val="ededed"/>
                </a:solidFill>
                <a:latin typeface="Calibri"/>
              </a:rPr>
              <a:t>  </a:t>
            </a:r>
            <a:r>
              <a:rPr b="0" lang="en-US" sz="1200" spc="-1" strike="noStrike">
                <a:solidFill>
                  <a:srgbClr val="ededed"/>
                </a:solidFill>
                <a:latin typeface="Calibri"/>
              </a:rPr>
              <a:t>http://www.eeppt.com/moban/huiyi/                </a:t>
            </a:r>
            <a:r>
              <a:rPr b="0" lang="zh-CN" sz="1200" spc="-1" strike="noStrike" u="sng">
                <a:solidFill>
                  <a:srgbClr val="0563c1"/>
                </a:solidFill>
                <a:uFillTx/>
                <a:latin typeface="Calibri"/>
                <a:hlinkClick r:id="rId20"/>
              </a:rPr>
              <a:t>教育教学ppt模板</a:t>
            </a:r>
            <a:r>
              <a:rPr b="0" lang="en-US" sz="1200" spc="-1" strike="noStrike">
                <a:solidFill>
                  <a:srgbClr val="ededed"/>
                </a:solidFill>
                <a:latin typeface="Calibri"/>
              </a:rPr>
              <a:t>  </a:t>
            </a:r>
            <a:r>
              <a:rPr b="0" lang="en-US" sz="1200" spc="-1" strike="noStrike">
                <a:solidFill>
                  <a:srgbClr val="ededed"/>
                </a:solidFill>
                <a:latin typeface="Calibri"/>
              </a:rPr>
              <a:t>http://www.eeppt.com/moban/jiaoyu/</a:t>
            </a:r>
            <a:endParaRPr b="0" lang="en-US" sz="1200" spc="-1" strike="noStrike">
              <a:solidFill>
                <a:srgbClr val="000000"/>
              </a:solidFill>
              <a:latin typeface="Calibri"/>
            </a:endParaRPr>
          </a:p>
          <a:p>
            <a:pPr indent="0">
              <a:lnSpc>
                <a:spcPct val="90000"/>
              </a:lnSpc>
              <a:spcBef>
                <a:spcPts val="1001"/>
              </a:spcBef>
              <a:buNone/>
              <a:tabLst>
                <a:tab algn="l" pos="0"/>
              </a:tabLst>
            </a:pPr>
            <a:r>
              <a:rPr b="0" lang="zh-CN" sz="1200" spc="-1" strike="noStrike" u="sng">
                <a:solidFill>
                  <a:srgbClr val="0563c1"/>
                </a:solidFill>
                <a:uFillTx/>
                <a:latin typeface="Calibri"/>
                <a:hlinkClick r:id="rId21"/>
              </a:rPr>
              <a:t>网络科技ppt模板</a:t>
            </a:r>
            <a:r>
              <a:rPr b="0" lang="en-US" sz="1200" spc="-1" strike="noStrike">
                <a:solidFill>
                  <a:srgbClr val="ededed"/>
                </a:solidFill>
                <a:latin typeface="Calibri"/>
              </a:rPr>
              <a:t>  </a:t>
            </a:r>
            <a:r>
              <a:rPr b="0" lang="en-US" sz="1200" spc="-1" strike="noStrike">
                <a:solidFill>
                  <a:srgbClr val="ededed"/>
                </a:solidFill>
                <a:latin typeface="Calibri"/>
              </a:rPr>
              <a:t>http://www.eeppt.com/moban/keji/                  </a:t>
            </a:r>
            <a:r>
              <a:rPr b="0" lang="zh-CN" sz="1200" spc="-1" strike="noStrike" u="sng">
                <a:solidFill>
                  <a:srgbClr val="0563c1"/>
                </a:solidFill>
                <a:uFillTx/>
                <a:latin typeface="Calibri"/>
                <a:hlinkClick r:id="rId22"/>
              </a:rPr>
              <a:t>论文答辩ppt模板免费下载</a:t>
            </a:r>
            <a:r>
              <a:rPr b="0" lang="en-US" sz="1200" spc="-1" strike="noStrike">
                <a:solidFill>
                  <a:srgbClr val="ededed"/>
                </a:solidFill>
                <a:latin typeface="Calibri"/>
              </a:rPr>
              <a:t>  </a:t>
            </a:r>
            <a:r>
              <a:rPr b="0" lang="en-US" sz="1200" spc="-1" strike="noStrike">
                <a:solidFill>
                  <a:srgbClr val="ededed"/>
                </a:solidFill>
                <a:latin typeface="Calibri"/>
              </a:rPr>
              <a:t>http://www.eeppt.com/moban/lunwen/</a:t>
            </a:r>
            <a:endParaRPr b="0" lang="en-US" sz="1200" spc="-1" strike="noStrike">
              <a:solidFill>
                <a:srgbClr val="000000"/>
              </a:solidFill>
              <a:latin typeface="Calibri"/>
            </a:endParaRPr>
          </a:p>
          <a:p>
            <a:pPr indent="0">
              <a:lnSpc>
                <a:spcPct val="90000"/>
              </a:lnSpc>
              <a:spcBef>
                <a:spcPts val="1001"/>
              </a:spcBef>
              <a:buNone/>
              <a:tabLst>
                <a:tab algn="l" pos="0"/>
              </a:tabLst>
            </a:pPr>
            <a:r>
              <a:rPr b="0" lang="zh-CN" sz="1200" spc="-1" strike="noStrike" u="sng">
                <a:solidFill>
                  <a:srgbClr val="0563c1"/>
                </a:solidFill>
                <a:uFillTx/>
                <a:latin typeface="Calibri"/>
                <a:hlinkClick r:id="rId23"/>
              </a:rPr>
              <a:t>通用ppt模板</a:t>
            </a:r>
            <a:r>
              <a:rPr b="0" lang="en-US" sz="1200" spc="-1" strike="noStrike">
                <a:solidFill>
                  <a:srgbClr val="ededed"/>
                </a:solidFill>
                <a:latin typeface="Calibri"/>
              </a:rPr>
              <a:t>  </a:t>
            </a:r>
            <a:r>
              <a:rPr b="0" lang="en-US" sz="1200" spc="-1" strike="noStrike">
                <a:solidFill>
                  <a:srgbClr val="ededed"/>
                </a:solidFill>
                <a:latin typeface="Calibri"/>
              </a:rPr>
              <a:t>http://www.eeppt.com/moban/tongyong/                 </a:t>
            </a:r>
            <a:r>
              <a:rPr b="0" lang="zh-CN" sz="1200" spc="-1" strike="noStrike" u="sng">
                <a:solidFill>
                  <a:srgbClr val="0563c1"/>
                </a:solidFill>
                <a:uFillTx/>
                <a:latin typeface="Calibri"/>
                <a:hlinkClick r:id="rId24"/>
              </a:rPr>
              <a:t>医疗卫生ppt模板</a:t>
            </a:r>
            <a:r>
              <a:rPr b="0" lang="en-US" sz="1200" spc="-1" strike="noStrike">
                <a:solidFill>
                  <a:srgbClr val="ededed"/>
                </a:solidFill>
                <a:latin typeface="Calibri"/>
              </a:rPr>
              <a:t>  </a:t>
            </a:r>
            <a:r>
              <a:rPr b="0" lang="en-US" sz="1200" spc="-1" strike="noStrike">
                <a:solidFill>
                  <a:srgbClr val="ededed"/>
                </a:solidFill>
                <a:latin typeface="Calibri"/>
              </a:rPr>
              <a:t>http://www.eeppt.com/moban/yiliao/</a:t>
            </a:r>
            <a:endParaRPr b="0" lang="en-US" sz="1200" spc="-1" strike="noStrike">
              <a:solidFill>
                <a:srgbClr val="000000"/>
              </a:solidFill>
              <a:latin typeface="Calibri"/>
            </a:endParaRPr>
          </a:p>
          <a:p>
            <a:pPr indent="0">
              <a:lnSpc>
                <a:spcPct val="90000"/>
              </a:lnSpc>
              <a:spcBef>
                <a:spcPts val="1001"/>
              </a:spcBef>
              <a:buNone/>
              <a:tabLst>
                <a:tab algn="l" pos="0"/>
              </a:tabLst>
            </a:pPr>
            <a:endParaRPr b="0" lang="en-US" sz="1200" spc="-1" strike="noStrike">
              <a:solidFill>
                <a:srgbClr val="000000"/>
              </a:solidFill>
              <a:latin typeface="Calibri"/>
            </a:endParaRPr>
          </a:p>
          <a:p>
            <a:pPr indent="0">
              <a:lnSpc>
                <a:spcPct val="90000"/>
              </a:lnSpc>
              <a:spcBef>
                <a:spcPts val="1001"/>
              </a:spcBef>
              <a:buNone/>
              <a:tabLst>
                <a:tab algn="l" pos="0"/>
              </a:tabLst>
            </a:pPr>
            <a:endParaRPr b="0" lang="en-US" sz="1200" spc="-1" strike="noStrike">
              <a:solidFill>
                <a:srgbClr val="000000"/>
              </a:solidFill>
              <a:latin typeface="Calibri"/>
            </a:endParaRPr>
          </a:p>
          <a:p>
            <a:pPr indent="0">
              <a:lnSpc>
                <a:spcPct val="90000"/>
              </a:lnSpc>
              <a:spcBef>
                <a:spcPts val="1001"/>
              </a:spcBef>
              <a:buNone/>
              <a:tabLst>
                <a:tab algn="l" pos="0"/>
              </a:tabLst>
            </a:pPr>
            <a:endParaRPr b="0" lang="en-US" sz="1200" spc="-1" strike="noStrike">
              <a:solidFill>
                <a:srgbClr val="000000"/>
              </a:solidFill>
              <a:latin typeface="Calibri"/>
            </a:endParaRPr>
          </a:p>
          <a:p>
            <a:pPr indent="0">
              <a:lnSpc>
                <a:spcPct val="90000"/>
              </a:lnSpc>
              <a:spcBef>
                <a:spcPts val="1001"/>
              </a:spcBef>
              <a:buNone/>
              <a:tabLst>
                <a:tab algn="l" pos="0"/>
              </a:tabLst>
            </a:pPr>
            <a:endParaRPr b="0" lang="en-US" sz="1200" spc="-1" strike="noStrike">
              <a:solidFill>
                <a:srgbClr val="000000"/>
              </a:solidFill>
              <a:latin typeface="Calibri"/>
            </a:endParaRPr>
          </a:p>
          <a:p>
            <a:pPr indent="0">
              <a:lnSpc>
                <a:spcPct val="90000"/>
              </a:lnSpc>
              <a:spcBef>
                <a:spcPts val="1001"/>
              </a:spcBef>
              <a:buNone/>
              <a:tabLst>
                <a:tab algn="l" pos="0"/>
              </a:tabLst>
            </a:pPr>
            <a:endParaRPr b="0" lang="en-US" sz="1200" spc="-1" strike="noStrike">
              <a:solidFill>
                <a:srgbClr val="000000"/>
              </a:solidFill>
              <a:latin typeface="Calibri"/>
            </a:endParaRPr>
          </a:p>
          <a:p>
            <a:pPr indent="0">
              <a:lnSpc>
                <a:spcPct val="90000"/>
              </a:lnSpc>
              <a:spcBef>
                <a:spcPts val="1001"/>
              </a:spcBef>
              <a:buNone/>
              <a:tabLst>
                <a:tab algn="l" pos="0"/>
              </a:tabLst>
            </a:pPr>
            <a:endParaRPr b="0" lang="en-US" sz="1200" spc="-1" strike="noStrike">
              <a:solidFill>
                <a:srgbClr val="000000"/>
              </a:solidFill>
              <a:latin typeface="Calibri"/>
            </a:endParaRPr>
          </a:p>
        </p:txBody>
      </p:sp>
      <p:sp>
        <p:nvSpPr>
          <p:cNvPr id="450" name="Rectangle 7"/>
          <p:cNvSpPr/>
          <p:nvPr/>
        </p:nvSpPr>
        <p:spPr>
          <a:xfrm>
            <a:off x="8810640" y="333360"/>
            <a:ext cx="1388880" cy="348840"/>
          </a:xfrm>
          <a:prstGeom prst="rect">
            <a:avLst/>
          </a:prstGeom>
          <a:gradFill rotWithShape="0">
            <a:gsLst>
              <a:gs pos="0">
                <a:srgbClr val="ffffff"/>
              </a:gs>
              <a:gs pos="100000">
                <a:srgbClr val="dddddd"/>
              </a:gs>
            </a:gsLst>
            <a:lin ang="0"/>
          </a:gradFill>
          <a:ln w="9525">
            <a:solidFill>
              <a:srgbClr val="969696"/>
            </a:solidFill>
            <a:prstDash val="dash"/>
            <a:miter/>
          </a:ln>
        </p:spPr>
        <p:style>
          <a:lnRef idx="0"/>
          <a:fillRef idx="0"/>
          <a:effectRef idx="0"/>
          <a:fontRef idx="minor"/>
        </p:style>
        <p:txBody>
          <a:bodyPr wrap="none" lIns="90000" rIns="90000" tIns="45000" bIns="45000" anchor="ctr">
            <a:noAutofit/>
          </a:bodyPr>
          <a:p>
            <a:pPr algn="ctr">
              <a:lnSpc>
                <a:spcPct val="100000"/>
              </a:lnSpc>
            </a:pPr>
            <a:r>
              <a:rPr b="1" lang="en-US" sz="1400" spc="-1" strike="noStrike">
                <a:solidFill>
                  <a:srgbClr val="000000"/>
                </a:solidFill>
                <a:latin typeface="Arial"/>
                <a:ea typeface="宋体"/>
              </a:rPr>
              <a:t>www.eeppt.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主题">
  <a:themeElements>
    <a:clrScheme name="Office">
      <a:dk1>
        <a:srgbClr val="000000"/>
      </a:dk1>
      <a:lt1>
        <a:srgbClr val="ffffff"/>
      </a:lt1>
      <a:dk2>
        <a:srgbClr val="44546a"/>
      </a:dk2>
      <a:lt2>
        <a:srgbClr val="e7e6e6"/>
      </a:lt2>
      <a:accent1>
        <a:srgbClr val="5b9bd5"/>
      </a:accent1>
      <a:accent2>
        <a:srgbClr val="ed7d31"/>
      </a:accent2>
      <a:accent3>
        <a:srgbClr val="a5a5a5"/>
      </a:accent3>
      <a:accent4>
        <a:srgbClr val="ffc000"/>
      </a:accent4>
      <a:accent5>
        <a:srgbClr val="4472c4"/>
      </a:accent5>
      <a:accent6>
        <a:srgbClr val="70ad47"/>
      </a:accent6>
      <a:hlink>
        <a:srgbClr val="0563c1"/>
      </a:hlink>
      <a:folHlink>
        <a:srgbClr val="954f7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主题">
  <a:themeElements>
    <a:clrScheme name="Office">
      <a:dk1>
        <a:srgbClr val="000000"/>
      </a:dk1>
      <a:lt1>
        <a:srgbClr val="ffffff"/>
      </a:lt1>
      <a:dk2>
        <a:srgbClr val="44546a"/>
      </a:dk2>
      <a:lt2>
        <a:srgbClr val="e7e6e6"/>
      </a:lt2>
      <a:accent1>
        <a:srgbClr val="5b9bd5"/>
      </a:accent1>
      <a:accent2>
        <a:srgbClr val="ed7d31"/>
      </a:accent2>
      <a:accent3>
        <a:srgbClr val="a5a5a5"/>
      </a:accent3>
      <a:accent4>
        <a:srgbClr val="ffc000"/>
      </a:accent4>
      <a:accent5>
        <a:srgbClr val="4472c4"/>
      </a:accent5>
      <a:accent6>
        <a:srgbClr val="70ad47"/>
      </a:accent6>
      <a:hlink>
        <a:srgbClr val="0563c1"/>
      </a:hlink>
      <a:folHlink>
        <a:srgbClr val="954f7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0</TotalTime>
  <Application>LibreOffice/7.4.7.2$Linux_X86_64 LibreOffice_project/40$Build-2</Application>
  <AppVersion>15.0000</AppVersion>
  <Words>448</Words>
  <Paragraphs>86</Paragraphs>
  <Company>Microsoft</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2-17T13:36:09Z</dcterms:created>
  <dc:creator>dell</dc:creator>
  <dc:description/>
  <dc:language>en-US</dc:language>
  <cp:lastModifiedBy>yu wang</cp:lastModifiedBy>
  <dcterms:modified xsi:type="dcterms:W3CDTF">2015-08-14T12:50:39Z</dcterms:modified>
  <cp:revision>68</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宽屏</vt:lpwstr>
  </property>
  <property fmtid="{D5CDD505-2E9C-101B-9397-08002B2CF9AE}" pid="3" name="Slides">
    <vt:r8>8</vt:r8>
  </property>
</Properties>
</file>