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AEB-386F-4186-87FA-07DACE5C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436-EAAD-4D00-A794-2C490DD5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D92-A232-413D-A1FF-9824EFBC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ACE-FDEA-4C36-83B2-A48DDF3E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D07E-B439-4767-B405-2D5A6A5A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69B5-4CF4-4F3B-857D-0CE1504D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00EB-5640-42EA-89B6-701D6AED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24C7-FE52-4F97-AD11-13750C21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D135-FE05-47CF-8CB8-08A4DF21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F6F9-F0F1-477E-A031-1F197D0E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E3C9-429E-4001-970E-898CE113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4E2-F000-4E29-AB1E-5C657D8A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6954-B063-48CF-8DBC-619D72FE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5DA7-D590-468E-8F44-C8F9E0DF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1967-B06D-4CAE-928C-A6F65FA6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E9C8-19FE-4373-A220-70F837B1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870A-44BC-4D64-BD97-22376F3B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754-F1E6-408E-BBD9-6845B4A4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924-D93D-4514-B209-8795099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4DF-7B13-4EC3-A661-36CC6F39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757-FA92-4284-8123-F60D5794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C31-5F45-4F15-BE61-55A91B23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12C-20F5-454A-8BB4-4CD568B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883-5790-4E59-8889-08738D15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BC37-6061-4962-965F-CA81DD513237}" type="slidenum">
              <a:rPr b="0" lang="en-US" sz="10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0" descr="C:\Documents and Settings\Administrator\Desktop\work from home\the_fine_print\elements\magnifying_glass_contract_hg_clr.gif"/>
          <p:cNvPicPr/>
          <p:nvPr/>
        </p:nvPicPr>
        <p:blipFill>
          <a:blip r:embed="rId3"/>
          <a:stretch/>
        </p:blipFill>
        <p:spPr>
          <a:xfrm>
            <a:off x="6248520" y="407664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B9EE-EA75-4EC2-9CCA-137C3C77F947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放大镜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企业模板在线下载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479520"/>
            <a:ext cx="9144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795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pic>
        <p:nvPicPr>
          <p:cNvPr id="90" name="Picture 10" descr="magnifying_glass_contract_hg_clr"/>
          <p:cNvPicPr/>
          <p:nvPr/>
        </p:nvPicPr>
        <p:blipFill>
          <a:blip r:embed="rId2"/>
          <a:stretch/>
        </p:blipFill>
        <p:spPr>
          <a:xfrm>
            <a:off x="2666880" y="190512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80880" y="60958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 Black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03:21:05Z</dcterms:created>
  <dc:creator>Administrator</dc:creator>
  <dc:description/>
  <dc:language>en-US</dc:language>
  <cp:lastModifiedBy>yu wang</cp:lastModifiedBy>
  <dcterms:modified xsi:type="dcterms:W3CDTF">2015-08-14T12:51:06Z</dcterms:modified>
  <cp:revision>5</cp:revision>
  <dc:subject/>
  <dc:title>Chiller</dc:title>
</cp:coreProperties>
</file>