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644-BC07-4809-8F63-1CDBF823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872-161B-410B-99EB-ED8A07B6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ADC-50E8-42F4-9B52-B377A227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149-49A0-481B-B3DF-AFD2129D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345-2A91-40D8-99D7-997EAB7D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8E4-0CAB-4F7B-BB62-45893CF4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2A4-BD1D-42C6-BDD8-4190CE29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A9D-770B-4A57-905C-AC3FA8C7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A5D-843A-4200-BB9B-77F9AF3F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91E-999B-4FA5-A458-58775AB9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FD4-3B21-4513-B214-59E05301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C85-C33E-44D2-9D0D-6B39DD8B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26A9-462D-4BDE-9184-8C3663127B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幻灯封面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ce7d7"/>
            </a:outerShdw>
          </a:effectLst>
        </p:spPr>
      </p:pic>
      <p:sp>
        <p:nvSpPr>
          <p:cNvPr id="42" name="Text Box 3"/>
          <p:cNvSpPr/>
          <p:nvPr/>
        </p:nvSpPr>
        <p:spPr>
          <a:xfrm>
            <a:off x="6410160" y="868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946840" y="3260520"/>
            <a:ext cx="546120" cy="27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52280" y="25560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迷你繁智楷"/>
              </a:rPr>
              <a:t>古典汉语言文学毕业论文答辩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迷你繁智楷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迷你繁智楷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39723_QWPEJYA4ikvK"/>
          <p:cNvPicPr/>
          <p:nvPr/>
        </p:nvPicPr>
        <p:blipFill>
          <a:blip r:embed="rId1"/>
          <a:srcRect l="9307" t="39004" r="50857" b="29995"/>
          <a:stretch/>
        </p:blipFill>
        <p:spPr>
          <a:xfrm>
            <a:off x="4191120" y="4495680"/>
            <a:ext cx="3035160" cy="2362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439723_QWPEJYA4ikvK"/>
          <p:cNvPicPr/>
          <p:nvPr/>
        </p:nvPicPr>
        <p:blipFill>
          <a:blip r:embed="rId2"/>
          <a:srcRect l="4016" t="0" r="52001" b="12992"/>
          <a:stretch/>
        </p:blipFill>
        <p:spPr>
          <a:xfrm>
            <a:off x="5792760" y="304920"/>
            <a:ext cx="3351240" cy="6629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幻灯封面no2"/>
          <p:cNvPicPr/>
          <p:nvPr/>
        </p:nvPicPr>
        <p:blipFill>
          <a:blip r:embed="rId3"/>
          <a:stretch/>
        </p:blipFill>
        <p:spPr>
          <a:xfrm>
            <a:off x="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434680" y="1219320"/>
            <a:ext cx="14108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内容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之一二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439723_QWPEJYA4ikvK"/>
          <p:cNvPicPr/>
          <p:nvPr/>
        </p:nvPicPr>
        <p:blipFill>
          <a:blip r:embed="rId4"/>
          <a:srcRect l="4016" t="0" r="66982" b="62999"/>
          <a:stretch/>
        </p:blipFill>
        <p:spPr>
          <a:xfrm>
            <a:off x="5791320" y="304920"/>
            <a:ext cx="2209680" cy="2819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96160" y="380880"/>
            <a:ext cx="127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行楷"/>
              </a:rPr>
              <a:t>相关主要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幻灯封面2"/>
          <p:cNvPicPr/>
          <p:nvPr/>
        </p:nvPicPr>
        <p:blipFill>
          <a:blip r:embed="rId1"/>
          <a:stretch/>
        </p:blipFill>
        <p:spPr>
          <a:xfrm>
            <a:off x="304920" y="0"/>
            <a:ext cx="784836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lip_2"/>
          <p:cNvPicPr/>
          <p:nvPr/>
        </p:nvPicPr>
        <p:blipFill>
          <a:blip r:embed="rId2"/>
          <a:srcRect l="1245" t="5757" r="74858" b="-3640"/>
          <a:stretch/>
        </p:blipFill>
        <p:spPr>
          <a:xfrm>
            <a:off x="7315200" y="0"/>
            <a:ext cx="1465200" cy="6477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380880"/>
            <a:ext cx="3767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加入相关内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迷你繁智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幻灯no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457200" y="685800"/>
            <a:ext cx="361332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加入相关内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492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幻灯封面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39640" y="549360"/>
            <a:ext cx="480060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加入相关内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2:22:02Z</dcterms:created>
  <dc:creator/>
  <dc:description/>
  <cp:keywords/>
  <dc:language>en-US</dc:language>
  <cp:lastModifiedBy>yu wang</cp:lastModifiedBy>
  <dcterms:modified xsi:type="dcterms:W3CDTF">2015-08-12T14:51:29Z</dcterms:modified>
  <cp:revision>126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