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92D-A35E-4E0D-94C4-1A6CA5E8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703-92BB-45B4-867B-8107E2B9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B6A-4684-438B-801E-7D5C8136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F34-22EE-4AD4-8933-59EE9D1E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8C2F-A371-44A0-8221-2FDFCD9D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DCEC-5D5F-4849-9A07-864CE6A3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EA59-BFAE-4A6D-8CFF-EABF1887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B071-5671-4E4D-BB0E-4BB98A78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2F95-CA1F-4A18-B201-82BCD28E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B363-D218-4005-980F-9627D803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6778-5997-4B9F-B8A9-E9EE6465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97B-A8C6-42EC-AECE-1D793630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8CA9-F135-4AC6-BB98-63A78320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A750-43A2-4700-9D40-3564B842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D52A-64A7-4B91-93C8-68D5BF3E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E451-C81E-4465-80A1-1E886BC2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9798-4CD9-48D8-845D-68AD23B4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A1E-08D0-4128-9199-B08B9FFC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27B-CFB4-4319-B5F1-FAF6B771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34F-5A1B-4B63-8B30-0F33595F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BB8-B781-4D84-80F4-91667DB5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E93-459B-4769-99D8-577E1C8F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209-34AB-4867-BD91-19991817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C39-2705-4FA6-B07E-A4C5C2CB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891F-B264-40BF-88DE-D808E29977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3CCB-C506-443A-99F9-7BC1BF4ABD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 1" descr=""/>
          <p:cNvPicPr/>
          <p:nvPr/>
        </p:nvPicPr>
        <p:blipFill>
          <a:blip r:embed="rId2"/>
          <a:stretch/>
        </p:blipFill>
        <p:spPr>
          <a:xfrm>
            <a:off x="585720" y="4443480"/>
            <a:ext cx="2486160" cy="1433520"/>
          </a:xfrm>
          <a:prstGeom prst="rect">
            <a:avLst/>
          </a:prstGeom>
          <a:ln w="0">
            <a:noFill/>
          </a:ln>
        </p:spPr>
      </p:pic>
      <p:grpSp>
        <p:nvGrpSpPr>
          <p:cNvPr id="83" name="矩形 2"/>
          <p:cNvGrpSpPr/>
          <p:nvPr/>
        </p:nvGrpSpPr>
        <p:grpSpPr>
          <a:xfrm>
            <a:off x="738360" y="5078520"/>
            <a:ext cx="4778280" cy="480960"/>
            <a:chOff x="738360" y="5078520"/>
            <a:chExt cx="4778280" cy="480960"/>
          </a:xfrm>
        </p:grpSpPr>
        <p:pic>
          <p:nvPicPr>
            <p:cNvPr id="84" name="矩形 2" descr=""/>
            <p:cNvPicPr/>
            <p:nvPr/>
          </p:nvPicPr>
          <p:blipFill>
            <a:blip r:embed="rId3"/>
            <a:stretch/>
          </p:blipFill>
          <p:spPr>
            <a:xfrm>
              <a:off x="738360" y="5078520"/>
              <a:ext cx="47782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38080" y="5181480"/>
              <a:ext cx="457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tencil"/>
                  <a:ea typeface="Sakkal Majalla"/>
                </a:rPr>
                <a:t>Creativity bring more exci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3"/>
          <p:cNvSpPr/>
          <p:nvPr/>
        </p:nvSpPr>
        <p:spPr>
          <a:xfrm>
            <a:off x="2221200" y="12193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黄白线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矩形 1" descr=""/>
          <p:cNvPicPr/>
          <p:nvPr/>
        </p:nvPicPr>
        <p:blipFill>
          <a:blip r:embed="rId2"/>
          <a:stretch/>
        </p:blipFill>
        <p:spPr>
          <a:xfrm>
            <a:off x="3664080" y="1743120"/>
            <a:ext cx="3236760" cy="920880"/>
          </a:xfrm>
          <a:prstGeom prst="rect">
            <a:avLst/>
          </a:prstGeom>
          <a:ln w="0">
            <a:noFill/>
          </a:ln>
        </p:spPr>
      </p:pic>
      <p:sp>
        <p:nvSpPr>
          <p:cNvPr id="89" name="矩形 3"/>
          <p:cNvSpPr/>
          <p:nvPr/>
        </p:nvSpPr>
        <p:spPr>
          <a:xfrm>
            <a:off x="3730680" y="2257560"/>
            <a:ext cx="49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Modern No. 20"/>
                <a:ea typeface="宋体"/>
              </a:rPr>
              <a:t>As long as you have a dream, just work hard for you, everything can be achie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矩形 3" descr=""/>
          <p:cNvPicPr/>
          <p:nvPr/>
        </p:nvPicPr>
        <p:blipFill>
          <a:blip r:embed="rId2"/>
          <a:stretch/>
        </p:blipFill>
        <p:spPr>
          <a:xfrm>
            <a:off x="3432240" y="1895400"/>
            <a:ext cx="2730600" cy="920880"/>
          </a:xfrm>
          <a:prstGeom prst="rect">
            <a:avLst/>
          </a:prstGeom>
          <a:ln w="0">
            <a:noFill/>
          </a:ln>
        </p:spPr>
      </p:pic>
      <p:sp>
        <p:nvSpPr>
          <p:cNvPr id="91" name="矩形 5"/>
          <p:cNvSpPr/>
          <p:nvPr/>
        </p:nvSpPr>
        <p:spPr>
          <a:xfrm>
            <a:off x="3505320" y="259092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Modern No. 20"/>
                <a:ea typeface="宋体"/>
              </a:rPr>
              <a:t>The details of the decision we specifically induced specialization will determine our success or failure, the key to success lies in whether you choos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4900320" y="4800600"/>
            <a:ext cx="34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Mongolian Baiti"/>
                <a:ea typeface="宋体"/>
              </a:rPr>
              <a:t>Every work is the first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eclipse</dc:creator>
  <dc:description/>
  <dc:language>en-US</dc:language>
  <cp:lastModifiedBy>yu wang</cp:lastModifiedBy>
  <dcterms:modified xsi:type="dcterms:W3CDTF">2015-08-14T12:54:39Z</dcterms:modified>
  <cp:revision>72</cp:revision>
  <dc:subject/>
  <dc:title>Golden Globe</dc:title>
</cp:coreProperties>
</file>