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964-F90E-4F29-8A83-B1509417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4B6-34DD-4E73-B847-B29A6113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A3D-AC61-42A3-A142-A505C6ED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ACF-FD35-49DA-9E99-1EAC5D9B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0D67-0EEF-4196-86AE-C49676BC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AF3E-61BE-4820-98B0-5A2772C4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CF10-8F08-45F9-BECE-CEB67928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92F5-EC8A-4265-9988-EC3A7BDB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125F-81E1-46D9-B81D-CEBE4755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5A3D-A704-4F8E-A4AC-46EBA1DF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A743-BAFD-48E5-B7DD-F8B9AEC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5BC-C6B9-4425-BF77-E11A6CFE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4984-5428-4860-BA39-150349BA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7C64-4285-4005-895C-4A0C2C93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A723-7096-481D-9E20-14929D2F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D853-0A13-4A18-BEC6-74F287B4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A3A7-E3AC-4ED7-9CD0-2FD4F9E1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D1B-58EF-4331-B329-EA4F9BEC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647-EBDD-45FB-ADF2-CACB2DC3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AB4-72A2-4C86-A2DB-AD941802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609-F2EB-44EF-B076-63821F3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96F-E422-4965-ADC2-C2374E16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781-195D-4BB8-B321-3C02A4F2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08D-3278-465B-94C9-06D589EE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E64AD3-7A7F-4A43-A81F-97A6B95702DB}" type="slidenum"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TheSerif 2-ExtraLight"/>
              <a:buChar char="•"/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마스터 텍스트 스타일을 편집합니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heSerif 2-ExtraLight"/>
              <a:buChar char="–"/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둘째 수준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TheSerif 2-ExtraLight"/>
              <a:buChar char="•"/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셋째 수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heSerif 2-ExtraLight"/>
              <a:buChar char="–"/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넷째 수준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heSerif 2-ExtraLight"/>
              <a:buChar char="»"/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다섯째 수준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04BF31-EB64-4174-B1DC-925DE30CAF1C}" type="slidenum"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83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84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403640" y="2133000"/>
            <a:ext cx="69433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TheSerif 2-ExtraLight"/>
                <a:ea typeface="맑은 고딕"/>
              </a:rPr>
              <a:t>韩国创意设计商务</a:t>
            </a:r>
            <a:r>
              <a:rPr b="0" lang="en-US" sz="4000" spc="-1" strike="noStrike">
                <a:solidFill>
                  <a:srgbClr val="000000"/>
                </a:solidFill>
                <a:latin typeface="TheSerif 2-ExtraLight"/>
                <a:ea typeface="맑은 고딕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heSerif 2-ExtraLight"/>
                <a:ea typeface="맑은 고딕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88" name="Picture 2" descr="C:\Documents and Settings\Administrator\바탕 화면\집단창의성\이미지\cropped_business_team_work_jpg.jpg"/>
          <p:cNvPicPr/>
          <p:nvPr/>
        </p:nvPicPr>
        <p:blipFill>
          <a:blip r:embed="rId1"/>
          <a:stretch/>
        </p:blipFill>
        <p:spPr>
          <a:xfrm>
            <a:off x="0" y="1785960"/>
            <a:ext cx="7488000" cy="4560480"/>
          </a:xfrm>
          <a:prstGeom prst="rect">
            <a:avLst/>
          </a:prstGeom>
          <a:ln w="9525">
            <a:noFill/>
          </a:ln>
        </p:spPr>
      </p:pic>
      <p:sp>
        <p:nvSpPr>
          <p:cNvPr id="189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90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192" name="직사각형 8"/>
          <p:cNvSpPr/>
          <p:nvPr/>
        </p:nvSpPr>
        <p:spPr>
          <a:xfrm>
            <a:off x="4603320" y="785880"/>
            <a:ext cx="2144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643280" y="1371240"/>
            <a:ext cx="44287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구성원 개개인에 잠재해 있는 창의성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최대한 발현하게 하는 것은 리더들의 몫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의사결정을 주도하는 리더들이 일상 업무 수행 과정에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어떤 방식으로 구성원들을 이끌어 가느냐에 따라 창의성이 좌우된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95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96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198" name="직사각형 8"/>
          <p:cNvSpPr/>
          <p:nvPr/>
        </p:nvSpPr>
        <p:spPr>
          <a:xfrm>
            <a:off x="763560" y="1143000"/>
            <a:ext cx="2602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</a:t>
            </a:r>
            <a:r>
              <a:rPr b="1" lang="ko-KR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의성을 살리는 리더</a:t>
            </a:r>
            <a:r>
              <a:rPr b="1" lang="en-US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285840" y="2292120"/>
            <a:ext cx="4428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리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더가 창의적인 아이디어의 잠재 가치를 간파하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활용하지 못하면 무용지물이 된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9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85840" y="3139560"/>
            <a:ext cx="4428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상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사가 지나치게 일 중심으로 움직이고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부하의 정서에 무감각하면 창의성이 저해된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285840" y="3987000"/>
            <a:ext cx="4428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리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더들은 실패를 두려워하지 않고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모험을 감수하도록 하는 역동적인 문화를 창조해야 한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285840" y="4834440"/>
            <a:ext cx="4428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리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더는 기존에 없었던 참신한 아이디어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과감하게 실행할 수 있는 용기가 있어야 한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14"/>
          <p:cNvSpPr/>
          <p:nvPr/>
        </p:nvSpPr>
        <p:spPr>
          <a:xfrm>
            <a:off x="5621760" y="1143000"/>
            <a:ext cx="2561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현</a:t>
            </a:r>
            <a:r>
              <a:rPr b="1" lang="ko-KR" sz="28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대카드의 리더쉽 사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그림 15" descr="현대카드.jpg"/>
          <p:cNvPicPr/>
          <p:nvPr/>
        </p:nvPicPr>
        <p:blipFill>
          <a:blip r:embed="rId2"/>
          <a:stretch/>
        </p:blipFill>
        <p:spPr>
          <a:xfrm>
            <a:off x="5143680" y="2144880"/>
            <a:ext cx="2504880" cy="16822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06" name="그림 16" descr="현대카드 책상.jpeg"/>
          <p:cNvPicPr/>
          <p:nvPr/>
        </p:nvPicPr>
        <p:blipFill>
          <a:blip r:embed="rId3"/>
          <a:srcRect l="0" t="0" r="2707" b="0"/>
          <a:stretch/>
        </p:blipFill>
        <p:spPr>
          <a:xfrm>
            <a:off x="7429680" y="3357720"/>
            <a:ext cx="1549080" cy="20314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07" name="Picture 2" descr="http://www.immd.co.kr/xe/files/attach/images/617/258/023/%ED%98%84%EB%8C%80%EC%B9%B4%EB%93%9C2.jpg"/>
          <p:cNvPicPr/>
          <p:nvPr/>
        </p:nvPicPr>
        <p:blipFill>
          <a:blip r:embed="rId4"/>
          <a:stretch/>
        </p:blipFill>
        <p:spPr>
          <a:xfrm>
            <a:off x="5357880" y="4572000"/>
            <a:ext cx="2106360" cy="157140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09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10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12" name="직사각형 9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13" name="직사각형 14"/>
          <p:cNvSpPr/>
          <p:nvPr/>
        </p:nvSpPr>
        <p:spPr>
          <a:xfrm>
            <a:off x="5621760" y="1143000"/>
            <a:ext cx="2561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현</a:t>
            </a:r>
            <a:r>
              <a:rPr b="1" lang="ko-KR" sz="28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대카드의 리더쉽 사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그림 18" descr="현대카드 점유.png"/>
          <p:cNvPicPr/>
          <p:nvPr/>
        </p:nvPicPr>
        <p:blipFill>
          <a:blip r:embed="rId2"/>
          <a:stretch/>
        </p:blipFill>
        <p:spPr>
          <a:xfrm>
            <a:off x="793800" y="3112920"/>
            <a:ext cx="2633400" cy="3244320"/>
          </a:xfrm>
          <a:prstGeom prst="rect">
            <a:avLst/>
          </a:prstGeom>
          <a:ln w="9525">
            <a:noFill/>
          </a:ln>
        </p:spPr>
      </p:pic>
      <p:pic>
        <p:nvPicPr>
          <p:cNvPr id="215" name="내용 개체 틀 3" descr="현대카드 브랜드인지도.png"/>
          <p:cNvPicPr/>
          <p:nvPr/>
        </p:nvPicPr>
        <p:blipFill>
          <a:blip r:embed="rId3"/>
          <a:srcRect l="0" t="1427" r="0" b="40606"/>
          <a:stretch/>
        </p:blipFill>
        <p:spPr>
          <a:xfrm>
            <a:off x="865080" y="903240"/>
            <a:ext cx="2647440" cy="1882440"/>
          </a:xfrm>
          <a:prstGeom prst="rect">
            <a:avLst/>
          </a:prstGeom>
          <a:ln w="9525">
            <a:noFill/>
          </a:ln>
        </p:spPr>
      </p:pic>
      <p:pic>
        <p:nvPicPr>
          <p:cNvPr id="216" name="그림 19" descr="현대카드.jpg"/>
          <p:cNvPicPr/>
          <p:nvPr/>
        </p:nvPicPr>
        <p:blipFill>
          <a:blip r:embed="rId4"/>
          <a:stretch/>
        </p:blipFill>
        <p:spPr>
          <a:xfrm>
            <a:off x="5143680" y="2144880"/>
            <a:ext cx="2504880" cy="16822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17" name="그림 20" descr="현대카드 책상.jpeg"/>
          <p:cNvPicPr/>
          <p:nvPr/>
        </p:nvPicPr>
        <p:blipFill>
          <a:blip r:embed="rId5"/>
          <a:srcRect l="0" t="0" r="2707" b="0"/>
          <a:stretch/>
        </p:blipFill>
        <p:spPr>
          <a:xfrm>
            <a:off x="7429680" y="3357720"/>
            <a:ext cx="1549080" cy="20314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18" name="Picture 2" descr="http://www.immd.co.kr/xe/files/attach/images/617/258/023/%ED%98%84%EB%8C%80%EC%B9%B4%EB%93%9C2.jpg"/>
          <p:cNvPicPr/>
          <p:nvPr/>
        </p:nvPicPr>
        <p:blipFill>
          <a:blip r:embed="rId6"/>
          <a:stretch/>
        </p:blipFill>
        <p:spPr>
          <a:xfrm>
            <a:off x="5357880" y="4572000"/>
            <a:ext cx="2106360" cy="157140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sp>
        <p:nvSpPr>
          <p:cNvPr id="219" name="모서리가 둥근 직사각형 22"/>
          <p:cNvSpPr/>
          <p:nvPr/>
        </p:nvSpPr>
        <p:spPr>
          <a:xfrm>
            <a:off x="932040" y="858960"/>
            <a:ext cx="1136160" cy="282240"/>
          </a:xfrm>
          <a:prstGeom prst="roundRect">
            <a:avLst>
              <a:gd name="adj" fmla="val 16667"/>
            </a:avLst>
          </a:prstGeom>
          <a:noFill/>
          <a:ln w="3175">
            <a:solidFill>
              <a:srgbClr val="e53d0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20" name="모서리가 둥근 직사각형 23"/>
          <p:cNvSpPr/>
          <p:nvPr/>
        </p:nvSpPr>
        <p:spPr>
          <a:xfrm>
            <a:off x="932040" y="3095640"/>
            <a:ext cx="1136160" cy="282240"/>
          </a:xfrm>
          <a:prstGeom prst="roundRect">
            <a:avLst>
              <a:gd name="adj" fmla="val 16667"/>
            </a:avLst>
          </a:prstGeom>
          <a:noFill/>
          <a:ln w="3175">
            <a:solidFill>
              <a:srgbClr val="e53d0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20760" y="65156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23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546120" y="1184760"/>
            <a:ext cx="3009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51160" y="1770480"/>
            <a:ext cx="50918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다양한 사람들의 생각과 아이디어를 융합시키는 것은 바로 커뮤니케이션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직에서 생각의 속도로 실천하기 위해서는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유기적이고 빠른 커뮤니케이션이 필요하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http://mtbbusinesscommunication.files.wordpress.com/2009/04/carevolution_personal_communication.jpg"/>
          <p:cNvPicPr/>
          <p:nvPr/>
        </p:nvPicPr>
        <p:blipFill>
          <a:blip r:embed="rId1"/>
          <a:stretch/>
        </p:blipFill>
        <p:spPr>
          <a:xfrm>
            <a:off x="4762440" y="2657520"/>
            <a:ext cx="4381200" cy="3704760"/>
          </a:xfrm>
          <a:prstGeom prst="rect">
            <a:avLst/>
          </a:prstGeom>
          <a:ln w="9525">
            <a:noFill/>
          </a:ln>
        </p:spPr>
      </p:pic>
      <p:sp>
        <p:nvSpPr>
          <p:cNvPr id="227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30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31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33" name="직사각형 8"/>
          <p:cNvSpPr/>
          <p:nvPr/>
        </p:nvSpPr>
        <p:spPr>
          <a:xfrm>
            <a:off x="757080" y="1143000"/>
            <a:ext cx="2509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</a:t>
            </a:r>
            <a:r>
              <a:rPr b="1" lang="ko-KR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적 커뮤니케이션</a:t>
            </a:r>
            <a:r>
              <a:rPr b="1" lang="en-US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285840" y="229212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비공식적 대화의 장을 만들어라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직사각형 9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285840" y="313956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건설적 충돌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비판을 피하지 마라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285840" y="3987000"/>
            <a:ext cx="442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직급을 떠나 상대방의 생각을 존중하라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85840" y="4834440"/>
            <a:ext cx="442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불필요한 문서화는 아이디어를 막는 장벽이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14"/>
          <p:cNvSpPr/>
          <p:nvPr/>
        </p:nvSpPr>
        <p:spPr>
          <a:xfrm>
            <a:off x="5621760" y="1143000"/>
            <a:ext cx="2561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구</a:t>
            </a:r>
            <a:r>
              <a:rPr b="1" lang="ko-KR" sz="28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글 커뮤니케이션 사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41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42" name="직사각형 8"/>
          <p:cNvSpPr/>
          <p:nvPr/>
        </p:nvSpPr>
        <p:spPr>
          <a:xfrm>
            <a:off x="563400" y="857160"/>
            <a:ext cx="457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Design for Creative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551160" y="1442880"/>
            <a:ext cx="537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최근에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회사 내 공간을 디자인하여 창조성을 늘리려는 노력이 이루어 지고 있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편안하고 자유로운 환경에서 더욱 참신하고 다양한 아이디어가 나온다는 주장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pic>
        <p:nvPicPr>
          <p:cNvPr id="246" name="_x93241800" descr="EMB0000b080a85d"/>
          <p:cNvPicPr/>
          <p:nvPr/>
        </p:nvPicPr>
        <p:blipFill>
          <a:blip r:embed="rId2"/>
          <a:stretch/>
        </p:blipFill>
        <p:spPr>
          <a:xfrm>
            <a:off x="2071800" y="2786040"/>
            <a:ext cx="2285640" cy="170460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47" name="_x93244360" descr="EMB0000b080a85e"/>
          <p:cNvPicPr/>
          <p:nvPr/>
        </p:nvPicPr>
        <p:blipFill>
          <a:blip r:embed="rId3"/>
          <a:stretch/>
        </p:blipFill>
        <p:spPr>
          <a:xfrm>
            <a:off x="4143240" y="3143160"/>
            <a:ext cx="4547880" cy="30286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48" name="_x93196264" descr="EMB0000b080a85a"/>
          <p:cNvPicPr/>
          <p:nvPr/>
        </p:nvPicPr>
        <p:blipFill>
          <a:blip r:embed="rId4"/>
          <a:stretch/>
        </p:blipFill>
        <p:spPr>
          <a:xfrm>
            <a:off x="357120" y="4286160"/>
            <a:ext cx="2857320" cy="19108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49" name="_x93243640" descr="EMB0000b080a857"/>
          <p:cNvPicPr/>
          <p:nvPr/>
        </p:nvPicPr>
        <p:blipFill>
          <a:blip r:embed="rId5"/>
          <a:stretch/>
        </p:blipFill>
        <p:spPr>
          <a:xfrm>
            <a:off x="6643800" y="1643040"/>
            <a:ext cx="2206440" cy="166176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51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52" name="직사각형 8"/>
          <p:cNvSpPr/>
          <p:nvPr/>
        </p:nvSpPr>
        <p:spPr>
          <a:xfrm>
            <a:off x="3855960" y="857160"/>
            <a:ext cx="423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Organization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3765960" y="1442880"/>
            <a:ext cx="537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직 문화란 구성원들의 사고와 행동 에  방향과 힘을 주는 바탕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조적 조직문화는 기업의 미래를 위한 필수적인 핵심 역량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Documents and Settings\Administrator\바탕 화면\집단창의성\이미지\employee.jpg"/>
          <p:cNvPicPr/>
          <p:nvPr/>
        </p:nvPicPr>
        <p:blipFill>
          <a:blip r:embed="rId1"/>
          <a:stretch/>
        </p:blipFill>
        <p:spPr>
          <a:xfrm flipH="1">
            <a:off x="360" y="2362680"/>
            <a:ext cx="6677640" cy="417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55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58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59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61" name="직사각형 8"/>
          <p:cNvSpPr/>
          <p:nvPr/>
        </p:nvSpPr>
        <p:spPr>
          <a:xfrm>
            <a:off x="902880" y="1143000"/>
            <a:ext cx="277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</a:t>
            </a:r>
            <a:r>
              <a:rPr b="1" lang="ko-KR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의성을 살리는 조직문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85840" y="229212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일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체감 형성을 통한 집합적 창의성 창출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직사각형 9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64" name="TextBox 11"/>
          <p:cNvSpPr/>
          <p:nvPr/>
        </p:nvSpPr>
        <p:spPr>
          <a:xfrm>
            <a:off x="285840" y="295128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기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존 업무 관행 및 타성 뛰어넘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"/>
          <p:cNvSpPr/>
          <p:nvPr/>
        </p:nvSpPr>
        <p:spPr>
          <a:xfrm>
            <a:off x="285840" y="361080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K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now-Where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를 강화하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285840" y="426996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실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천를 두려워하지 않는 도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직사각형 14"/>
          <p:cNvSpPr/>
          <p:nvPr/>
        </p:nvSpPr>
        <p:spPr>
          <a:xfrm>
            <a:off x="5459400" y="1143000"/>
            <a:ext cx="1828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픽</a:t>
            </a:r>
            <a:r>
              <a:rPr b="1" lang="ko-KR" sz="28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사의 조직문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7"/>
          <p:cNvSpPr/>
          <p:nvPr/>
        </p:nvSpPr>
        <p:spPr>
          <a:xfrm>
            <a:off x="285840" y="492912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고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객 중심적 사고와 문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김범진\Desktop\29esqp4.jpg"/>
          <p:cNvPicPr/>
          <p:nvPr/>
        </p:nvPicPr>
        <p:blipFill>
          <a:blip r:embed="rId2"/>
          <a:stretch/>
        </p:blipFill>
        <p:spPr>
          <a:xfrm>
            <a:off x="4857840" y="2336760"/>
            <a:ext cx="4044600" cy="3044520"/>
          </a:xfrm>
          <a:prstGeom prst="rect">
            <a:avLst/>
          </a:prstGeom>
          <a:ln w="3175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71" name="Picture 2" descr="http://www.psdgraphics.com/file/blue-business-graph.jpg"/>
          <p:cNvPicPr/>
          <p:nvPr/>
        </p:nvPicPr>
        <p:blipFill>
          <a:blip r:embed="rId1"/>
          <a:srcRect l="0" t="1983" r="11830" b="0"/>
          <a:stretch/>
        </p:blipFill>
        <p:spPr>
          <a:xfrm>
            <a:off x="2357280" y="1127160"/>
            <a:ext cx="6786360" cy="5478120"/>
          </a:xfrm>
          <a:prstGeom prst="rect">
            <a:avLst/>
          </a:prstGeom>
          <a:ln w="9525">
            <a:noFill/>
          </a:ln>
        </p:spPr>
      </p:pic>
      <p:sp>
        <p:nvSpPr>
          <p:cNvPr id="272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73" name="직사각형 8"/>
          <p:cNvSpPr/>
          <p:nvPr/>
        </p:nvSpPr>
        <p:spPr>
          <a:xfrm>
            <a:off x="943560" y="1173600"/>
            <a:ext cx="2130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908280" y="1759320"/>
            <a:ext cx="5377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의성이 발현되기 위해서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의적으로 사고할 수 있는 능력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(creative thinking skill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열정과 같은 동기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(intrinsic motivation)</a:t>
            </a: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가 필요하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76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77" name="TextBox 9"/>
          <p:cNvSpPr/>
          <p:nvPr/>
        </p:nvSpPr>
        <p:spPr>
          <a:xfrm>
            <a:off x="2622960" y="2396880"/>
            <a:ext cx="5377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- Richard Luecke(Harvard Uni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79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80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81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rcRect l="10254" t="24409" r="9179" b="8789"/>
          <a:stretch/>
        </p:blipFill>
        <p:spPr>
          <a:xfrm>
            <a:off x="1500120" y="1785960"/>
            <a:ext cx="6163920" cy="383184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sp>
        <p:nvSpPr>
          <p:cNvPr id="283" name="직사각형 13"/>
          <p:cNvSpPr/>
          <p:nvPr/>
        </p:nvSpPr>
        <p:spPr>
          <a:xfrm>
            <a:off x="1680120" y="1096200"/>
            <a:ext cx="578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C</a:t>
            </a:r>
            <a:r>
              <a:rPr b="1" lang="en-US" sz="2000" spc="-1" strike="noStrike">
                <a:solidFill>
                  <a:srgbClr val="e53d09"/>
                </a:solidFill>
                <a:latin typeface="TheMix 5-Regular Caps"/>
              </a:rPr>
              <a:t>reativity/Innovation </a:t>
            </a:r>
            <a:r>
              <a:rPr b="1" lang="ko-KR" sz="1600" spc="-1" strike="noStrike">
                <a:solidFill>
                  <a:srgbClr val="e53d09"/>
                </a:solidFill>
                <a:latin typeface="TheMix 5-Regular Caps"/>
              </a:rPr>
              <a:t>을 위한  </a:t>
            </a:r>
            <a:r>
              <a:rPr b="1" lang="en-US" sz="1600" spc="-1" strike="noStrike">
                <a:solidFill>
                  <a:srgbClr val="e53d09"/>
                </a:solidFill>
                <a:latin typeface="TheMix 5-Regular Caps"/>
              </a:rPr>
              <a:t>4</a:t>
            </a:r>
            <a:r>
              <a:rPr b="1" lang="ko-KR" sz="1600" spc="-1" strike="noStrike">
                <a:solidFill>
                  <a:srgbClr val="e53d09"/>
                </a:solidFill>
                <a:latin typeface="TheMix 5-Regular Caps"/>
              </a:rPr>
              <a:t>가지 차원 </a:t>
            </a:r>
            <a:r>
              <a:rPr b="1" lang="en-US" sz="1400" spc="-1" strike="noStrike">
                <a:solidFill>
                  <a:srgbClr val="e53d09"/>
                </a:solidFill>
                <a:latin typeface="TheMix 5-Regular Caps"/>
              </a:rPr>
              <a:t>(Prather, 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89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90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928800" y="1100160"/>
            <a:ext cx="1999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b0f0"/>
                </a:solidFill>
                <a:latin typeface="TheSerif 5-Regular"/>
                <a:ea typeface="맑은 고딕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5857920" y="5889600"/>
            <a:ext cx="3071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TheSerif 2-ExtraLight"/>
              </a:rPr>
              <a:t>@ Analysis of Organization Behavior Perspectiv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직선 연결선 32"/>
          <p:cNvCxnSpPr/>
          <p:nvPr/>
        </p:nvCxnSpPr>
        <p:spPr>
          <a:xfrm>
            <a:off x="214200" y="1500120"/>
            <a:ext cx="2000520" cy="1800"/>
          </a:xfrm>
          <a:prstGeom prst="straightConnector1">
            <a:avLst/>
          </a:prstGeom>
          <a:ln w="3175">
            <a:solidFill>
              <a:srgbClr val="e53d09"/>
            </a:solidFill>
            <a:round/>
            <a:headEnd len="sm" type="oval" w="sm"/>
            <a:tailEnd len="sm" type="oval" w="sm"/>
          </a:ln>
        </p:spPr>
      </p:cxnSp>
      <p:sp>
        <p:nvSpPr>
          <p:cNvPr id="94" name="TextBox 33"/>
          <p:cNvSpPr/>
          <p:nvPr/>
        </p:nvSpPr>
        <p:spPr>
          <a:xfrm>
            <a:off x="2214720" y="1643040"/>
            <a:ext cx="5101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1.1   </a:t>
            </a:r>
            <a:r>
              <a:rPr b="0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창의성이란</a:t>
            </a: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1.2   </a:t>
            </a:r>
            <a:r>
              <a:rPr b="0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개인 창의성과 집단 창의성의 차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직선 연결선 34"/>
          <p:cNvCxnSpPr/>
          <p:nvPr/>
        </p:nvCxnSpPr>
        <p:spPr>
          <a:xfrm>
            <a:off x="2215800" y="2427120"/>
            <a:ext cx="3599280" cy="1800"/>
          </a:xfrm>
          <a:prstGeom prst="straightConnector1">
            <a:avLst/>
          </a:prstGeom>
          <a:ln w="3175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cxnSp>
        <p:nvCxnSpPr>
          <p:cNvPr id="96" name="직선 연결선 36"/>
          <p:cNvCxnSpPr/>
          <p:nvPr/>
        </p:nvCxnSpPr>
        <p:spPr>
          <a:xfrm>
            <a:off x="2215800" y="4370040"/>
            <a:ext cx="3599280" cy="2160"/>
          </a:xfrm>
          <a:prstGeom prst="straightConnector1">
            <a:avLst/>
          </a:prstGeom>
          <a:ln w="3175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sp>
        <p:nvSpPr>
          <p:cNvPr id="97" name="TextBox 37"/>
          <p:cNvSpPr/>
          <p:nvPr/>
        </p:nvSpPr>
        <p:spPr>
          <a:xfrm>
            <a:off x="2214720" y="2548440"/>
            <a:ext cx="5101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2.1   </a:t>
            </a:r>
            <a:r>
              <a:rPr b="0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집단 창의성의 중요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2.2   </a:t>
            </a:r>
            <a:r>
              <a:rPr b="0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집단 창의성을 위한 요소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8"/>
          <p:cNvSpPr/>
          <p:nvPr/>
        </p:nvSpPr>
        <p:spPr>
          <a:xfrm>
            <a:off x="2571840" y="3209760"/>
            <a:ext cx="51012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리더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커뮤니케이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공간적 요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조직 문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동기 부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9"/>
          <p:cNvSpPr/>
          <p:nvPr/>
        </p:nvSpPr>
        <p:spPr>
          <a:xfrm>
            <a:off x="2214720" y="4487040"/>
            <a:ext cx="5101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3.1   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3.2   Q&amp;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85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86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87" name="TextBox 21"/>
          <p:cNvSpPr/>
          <p:nvPr/>
        </p:nvSpPr>
        <p:spPr>
          <a:xfrm>
            <a:off x="3643200" y="3000240"/>
            <a:ext cx="1856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맑은 고딕"/>
              </a:rPr>
              <a:t>S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90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91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92" name="직사각형 5"/>
          <p:cNvSpPr/>
          <p:nvPr/>
        </p:nvSpPr>
        <p:spPr>
          <a:xfrm>
            <a:off x="-9360" y="500040"/>
            <a:ext cx="292860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93" name="직사각형 19"/>
          <p:cNvSpPr/>
          <p:nvPr/>
        </p:nvSpPr>
        <p:spPr>
          <a:xfrm>
            <a:off x="249120" y="1071720"/>
            <a:ext cx="2287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d9d9d9"/>
                </a:solidFill>
                <a:latin typeface="TheMix 5-Regular Cap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95" name="직사각형 22"/>
          <p:cNvSpPr/>
          <p:nvPr/>
        </p:nvSpPr>
        <p:spPr>
          <a:xfrm>
            <a:off x="3643200" y="3714840"/>
            <a:ext cx="4627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3500280" y="1214280"/>
            <a:ext cx="507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ko-KR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구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슬이 서 말이라도 꿰어야 보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24"/>
          <p:cNvSpPr/>
          <p:nvPr/>
        </p:nvSpPr>
        <p:spPr>
          <a:xfrm>
            <a:off x="3500280" y="1833120"/>
            <a:ext cx="51048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창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의력이 뛰어난 인재를 뽑는 것이 중요한 것이 아니라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개인의 창의성이‘기업 창의성’으로 발전되도록 하기 위해서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직 환경에 대한 적극적인 관리가 필요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하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4124160" y="3214800"/>
            <a:ext cx="3711240" cy="2704680"/>
          </a:xfrm>
          <a:prstGeom prst="rect">
            <a:avLst/>
          </a:prstGeom>
          <a:ln w="9525">
            <a:noFill/>
          </a:ln>
        </p:spPr>
      </p:pic>
      <p:pic>
        <p:nvPicPr>
          <p:cNvPr id="299" name="Picture 4" descr="http://www.clker.com/cliparts/e/6/f/8/1194986818603360813target_with_arrow_virgin_01.svg.hi.png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14240" y="2500200"/>
            <a:ext cx="1649160" cy="1536480"/>
          </a:xfrm>
          <a:prstGeom prst="rect">
            <a:avLst/>
          </a:prstGeom>
          <a:ln w="9525">
            <a:noFill/>
          </a:ln>
        </p:spPr>
      </p:pic>
      <p:sp>
        <p:nvSpPr>
          <p:cNvPr id="300" name="Text Box 7"/>
          <p:cNvSpPr/>
          <p:nvPr/>
        </p:nvSpPr>
        <p:spPr>
          <a:xfrm>
            <a:off x="443520" y="63716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맑은 고딕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맑은 고딕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맑은 고딕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맑은 고딕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맑은 고딕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맑은 고딕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맑은 고딕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맑은 고딕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맑은 고딕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맑은 고딕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맑은 고딕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맑은 고딕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2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3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3643200" y="3000240"/>
            <a:ext cx="18568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맑은 고딕"/>
              </a:rPr>
              <a:t>_What is Cre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7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8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-9360" y="500040"/>
            <a:ext cx="292860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10" name="Picture 1" descr="C:\Documents and Settings\Administrator\바탕 화면\psd-light-bulb-icon.png"/>
          <p:cNvPicPr/>
          <p:nvPr/>
        </p:nvPicPr>
        <p:blipFill>
          <a:blip r:embed="rId1"/>
          <a:srcRect l="18019" t="0" r="14164" b="0"/>
          <a:stretch/>
        </p:blipFill>
        <p:spPr>
          <a:xfrm>
            <a:off x="500040" y="2357280"/>
            <a:ext cx="1999800" cy="23587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11" name="TextBox 10"/>
          <p:cNvSpPr/>
          <p:nvPr/>
        </p:nvSpPr>
        <p:spPr>
          <a:xfrm>
            <a:off x="3500280" y="996840"/>
            <a:ext cx="50716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ko-KR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과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거의 경험과 지식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정보를 통합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분해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연결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재해석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분리하여 새로운 관점의 해결책을 내놓는 과정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19"/>
          <p:cNvSpPr/>
          <p:nvPr/>
        </p:nvSpPr>
        <p:spPr>
          <a:xfrm>
            <a:off x="213120" y="1071720"/>
            <a:ext cx="170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d9d9d9"/>
                </a:solidFill>
                <a:latin typeface="TheMix 5-Regular Caps"/>
              </a:rPr>
              <a:t>What i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0"/>
          <p:cNvSpPr/>
          <p:nvPr/>
        </p:nvSpPr>
        <p:spPr>
          <a:xfrm>
            <a:off x="204120" y="1440720"/>
            <a:ext cx="264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d9d9d9"/>
                </a:solidFill>
                <a:latin typeface="TheMix 5-Regular Caps"/>
              </a:rPr>
              <a:t>Cre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25"/>
          <p:cNvSpPr/>
          <p:nvPr/>
        </p:nvSpPr>
        <p:spPr>
          <a:xfrm>
            <a:off x="3483000" y="2959920"/>
            <a:ext cx="89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반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응적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28"/>
          <p:cNvSpPr/>
          <p:nvPr/>
        </p:nvSpPr>
        <p:spPr>
          <a:xfrm>
            <a:off x="3483000" y="3707640"/>
            <a:ext cx="89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예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상된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29"/>
          <p:cNvSpPr/>
          <p:nvPr/>
        </p:nvSpPr>
        <p:spPr>
          <a:xfrm>
            <a:off x="3483000" y="4455360"/>
            <a:ext cx="89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능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동적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사각형 30"/>
          <p:cNvSpPr/>
          <p:nvPr/>
        </p:nvSpPr>
        <p:spPr>
          <a:xfrm>
            <a:off x="3483000" y="5202720"/>
            <a:ext cx="89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기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여적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1"/>
          <p:cNvSpPr/>
          <p:nvPr/>
        </p:nvSpPr>
        <p:spPr>
          <a:xfrm>
            <a:off x="4401000" y="3286080"/>
            <a:ext cx="342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주어진 특정한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(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폐쇄적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)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를 해결하기 위한 팀 구성원들의 활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2"/>
          <p:cNvSpPr/>
          <p:nvPr/>
        </p:nvSpPr>
        <p:spPr>
          <a:xfrm>
            <a:off x="4499640" y="4028760"/>
            <a:ext cx="3223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회사의 요구에 대해 이전에 없던 새로운 아이디어를 생성에 내는 경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3"/>
          <p:cNvSpPr/>
          <p:nvPr/>
        </p:nvSpPr>
        <p:spPr>
          <a:xfrm>
            <a:off x="4516200" y="4771800"/>
            <a:ext cx="336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요구하지 않았지만 새로운 제품에 대한 아이디어를 스스로 제안하는 경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4"/>
          <p:cNvSpPr/>
          <p:nvPr/>
        </p:nvSpPr>
        <p:spPr>
          <a:xfrm>
            <a:off x="4424400" y="5514480"/>
            <a:ext cx="3511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분명하게 정의된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(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폐쇄적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)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에 대해 자발적으로 도움을 주는 행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123" name="TextBox 36"/>
          <p:cNvSpPr/>
          <p:nvPr/>
        </p:nvSpPr>
        <p:spPr>
          <a:xfrm>
            <a:off x="3500280" y="1928880"/>
            <a:ext cx="507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ko-KR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상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황에 적절하고 유용한 새로운 아이디어의 생성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7"/>
          <p:cNvSpPr/>
          <p:nvPr/>
        </p:nvSpPr>
        <p:spPr>
          <a:xfrm>
            <a:off x="5000760" y="2357280"/>
            <a:ext cx="3785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262626"/>
                </a:solidFill>
                <a:latin typeface="TheSerif 2-ExtraLight"/>
                <a:ea typeface="Yoon 윤고딕 520_TT"/>
              </a:rPr>
              <a:t>- K. Unsworth(Academy of Management Revie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31560" y="64695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27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28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30" name="직사각형 19"/>
          <p:cNvSpPr/>
          <p:nvPr/>
        </p:nvSpPr>
        <p:spPr>
          <a:xfrm>
            <a:off x="4857480" y="3071880"/>
            <a:ext cx="3094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d9d9d9"/>
                </a:solidFill>
                <a:latin typeface="TheMix 5-Regular Caps"/>
              </a:rPr>
              <a:t>Group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857840" y="3857760"/>
            <a:ext cx="3071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개인을 넘어 조직 차원에서 발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단순한 개인의 합 이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직사각형 12"/>
          <p:cNvSpPr/>
          <p:nvPr/>
        </p:nvSpPr>
        <p:spPr>
          <a:xfrm>
            <a:off x="360360" y="3071880"/>
            <a:ext cx="3555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TheMix 5-Regular Caps"/>
              </a:rPr>
              <a:t>Personal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357120" y="3857760"/>
            <a:ext cx="4071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개인이 어떤 새롭고 가치 있는 것을 창출하는 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4857840" y="4603320"/>
            <a:ext cx="4142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“</a:t>
            </a: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지속적인 혁신은 한 명의 천재로 이루어지는 것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아니다</a:t>
            </a:r>
            <a:r>
              <a:rPr b="1" lang="en-US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. </a:t>
            </a: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모든 직원들이 창의적인 아이디어를 지속적으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제안하고 과감하게 실천할 수 있는 제도와 시스템 등이 갖추어져 있어야 진정한 창의적 기업이 될 수 있다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사각형 23"/>
          <p:cNvSpPr/>
          <p:nvPr/>
        </p:nvSpPr>
        <p:spPr>
          <a:xfrm>
            <a:off x="6892560" y="5524920"/>
            <a:ext cx="1848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d9d9d9"/>
                </a:solidFill>
                <a:latin typeface="TheMix 5-Regular Caps"/>
              </a:rPr>
              <a:t>- </a:t>
            </a:r>
            <a:r>
              <a:rPr b="0" lang="ko-KR" sz="1100" spc="-1" strike="noStrike">
                <a:solidFill>
                  <a:srgbClr val="d9d9d9"/>
                </a:solidFill>
                <a:latin typeface="TheMix 5-Regular Caps"/>
              </a:rPr>
              <a:t>샘 서튼 교수 </a:t>
            </a:r>
            <a:r>
              <a:rPr b="0" lang="en-US" sz="1100" spc="-1" strike="noStrike">
                <a:solidFill>
                  <a:srgbClr val="d9d9d9"/>
                </a:solidFill>
                <a:latin typeface="TheMix 5-Regular Caps"/>
              </a:rPr>
              <a:t>(Stanford Univ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357120" y="4476600"/>
            <a:ext cx="4071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‘</a:t>
            </a:r>
            <a:r>
              <a:rPr b="1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한 사람의 천재가 </a:t>
            </a:r>
            <a:r>
              <a:rPr b="1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1</a:t>
            </a:r>
            <a:r>
              <a:rPr b="1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만명을 먹여 살린다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Documents and Settings\Administrator\바탕 화면\User.png"/>
          <p:cNvPicPr/>
          <p:nvPr/>
        </p:nvPicPr>
        <p:blipFill>
          <a:blip r:embed="rId1"/>
          <a:stretch/>
        </p:blipFill>
        <p:spPr>
          <a:xfrm>
            <a:off x="928800" y="608040"/>
            <a:ext cx="2249280" cy="2249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138" name="Picture 3" descr="C:\Documents and Settings\Administrator\바탕 화면\Group.png"/>
          <p:cNvPicPr/>
          <p:nvPr/>
        </p:nvPicPr>
        <p:blipFill>
          <a:blip r:embed="rId2"/>
          <a:stretch/>
        </p:blipFill>
        <p:spPr>
          <a:xfrm>
            <a:off x="5734080" y="608040"/>
            <a:ext cx="2247480" cy="2249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139" name="Picture 8" descr=""/>
          <p:cNvPicPr/>
          <p:nvPr/>
        </p:nvPicPr>
        <p:blipFill>
          <a:blip r:embed="rId3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1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2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3571920" y="2876400"/>
            <a:ext cx="1856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맑은 고딕"/>
              </a:rPr>
              <a:t>_Group Crea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6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7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8" name="직사각형 5"/>
          <p:cNvSpPr/>
          <p:nvPr/>
        </p:nvSpPr>
        <p:spPr>
          <a:xfrm>
            <a:off x="-9360" y="500040"/>
            <a:ext cx="265212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36000" y="928800"/>
            <a:ext cx="2561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ko-KR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집단 창의성</a:t>
            </a: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 </a:t>
            </a:r>
            <a:r>
              <a:rPr b="1" lang="ko-KR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왜 중요한가</a:t>
            </a: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직사각형 25"/>
          <p:cNvSpPr/>
          <p:nvPr/>
        </p:nvSpPr>
        <p:spPr>
          <a:xfrm>
            <a:off x="3830400" y="3714840"/>
            <a:ext cx="279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천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재는 찾기도 힘들며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조직에서 떠나면 소멸된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직사각형 28"/>
          <p:cNvSpPr/>
          <p:nvPr/>
        </p:nvSpPr>
        <p:spPr>
          <a:xfrm>
            <a:off x="3835080" y="4354560"/>
            <a:ext cx="2841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업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무가 다양해짐에 따라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전문적 창의성 뿐 아니라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평범한 사람들의 일상적 창의성도 중요해졌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직사각형 29"/>
          <p:cNvSpPr/>
          <p:nvPr/>
        </p:nvSpPr>
        <p:spPr>
          <a:xfrm>
            <a:off x="3818520" y="5209920"/>
            <a:ext cx="249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집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단 창조성은 교육을 통해서 개발할 수 있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154" name="TextBox 36"/>
          <p:cNvSpPr/>
          <p:nvPr/>
        </p:nvSpPr>
        <p:spPr>
          <a:xfrm>
            <a:off x="3500280" y="2253960"/>
            <a:ext cx="50716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ko-KR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개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인의 창의력과 조직 간의 조화가 필요하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조적 기업 생태계를 조성하는 것이 중요하다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7"/>
          <p:cNvSpPr/>
          <p:nvPr/>
        </p:nvSpPr>
        <p:spPr>
          <a:xfrm>
            <a:off x="6215040" y="2896920"/>
            <a:ext cx="22143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262626"/>
                </a:solidFill>
                <a:latin typeface="TheSerif 2-ExtraLight"/>
                <a:ea typeface="Yoon 윤고딕 520_TT"/>
              </a:rPr>
              <a:t>- Theofore Levitt(Harvard Uni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Documents and Settings\Administrator\바탕 화면\Group.png"/>
          <p:cNvPicPr/>
          <p:nvPr/>
        </p:nvPicPr>
        <p:blipFill>
          <a:blip r:embed="rId2"/>
          <a:stretch/>
        </p:blipFill>
        <p:spPr>
          <a:xfrm>
            <a:off x="611280" y="2214720"/>
            <a:ext cx="1455480" cy="14554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157" name="Picture 2" descr="C:\Documents and Settings\Administrator\바탕 화면\User.png"/>
          <p:cNvPicPr/>
          <p:nvPr/>
        </p:nvPicPr>
        <p:blipFill>
          <a:blip r:embed="rId3"/>
          <a:stretch/>
        </p:blipFill>
        <p:spPr>
          <a:xfrm>
            <a:off x="4038480" y="1071720"/>
            <a:ext cx="1104480" cy="11044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158" name="Picture 3" descr="C:\Documents and Settings\Administrator\바탕 화면\Group.png"/>
          <p:cNvPicPr/>
          <p:nvPr/>
        </p:nvPicPr>
        <p:blipFill>
          <a:blip r:embed="rId4"/>
          <a:stretch/>
        </p:blipFill>
        <p:spPr>
          <a:xfrm>
            <a:off x="6643800" y="1071720"/>
            <a:ext cx="1104480" cy="11044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159" name="L 도형 24"/>
          <p:cNvSpPr/>
          <p:nvPr/>
        </p:nvSpPr>
        <p:spPr>
          <a:xfrm rot="2700000">
            <a:off x="5853960" y="1501920"/>
            <a:ext cx="439200" cy="441000"/>
          </a:xfrm>
          <a:prstGeom prst="corner">
            <a:avLst>
              <a:gd name="adj1" fmla="val 26247"/>
              <a:gd name="adj2" fmla="val 27066"/>
            </a:avLst>
          </a:prstGeom>
          <a:solidFill>
            <a:srgbClr val="e53d0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61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62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63" name="직사각형 5"/>
          <p:cNvSpPr/>
          <p:nvPr/>
        </p:nvSpPr>
        <p:spPr>
          <a:xfrm>
            <a:off x="-9360" y="500040"/>
            <a:ext cx="265212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C:\Documents and Settings\Administrator\바탕 화면\Group.png"/>
          <p:cNvPicPr/>
          <p:nvPr/>
        </p:nvPicPr>
        <p:blipFill>
          <a:blip r:embed="rId2"/>
          <a:stretch/>
        </p:blipFill>
        <p:spPr>
          <a:xfrm>
            <a:off x="611280" y="2214720"/>
            <a:ext cx="1455480" cy="14554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166" name="TextBox 18"/>
          <p:cNvSpPr/>
          <p:nvPr/>
        </p:nvSpPr>
        <p:spPr>
          <a:xfrm>
            <a:off x="-27000" y="928800"/>
            <a:ext cx="2561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 </a:t>
            </a:r>
            <a:r>
              <a:rPr b="1" lang="ko-KR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집단 창의성</a:t>
            </a: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주요 요소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그룹 44"/>
          <p:cNvGrpSpPr/>
          <p:nvPr/>
        </p:nvGrpSpPr>
        <p:grpSpPr>
          <a:xfrm>
            <a:off x="3857760" y="1714680"/>
            <a:ext cx="3915720" cy="3474360"/>
            <a:chOff x="3857760" y="1714680"/>
            <a:chExt cx="3915720" cy="3474360"/>
          </a:xfrm>
        </p:grpSpPr>
        <p:grpSp>
          <p:nvGrpSpPr>
            <p:cNvPr id="168" name="그룹 43"/>
            <p:cNvGrpSpPr/>
            <p:nvPr/>
          </p:nvGrpSpPr>
          <p:grpSpPr>
            <a:xfrm>
              <a:off x="3857760" y="1714680"/>
              <a:ext cx="3915720" cy="3474360"/>
              <a:chOff x="3857760" y="1714680"/>
              <a:chExt cx="3915720" cy="3474360"/>
            </a:xfrm>
          </p:grpSpPr>
          <p:sp>
            <p:nvSpPr>
              <p:cNvPr id="169" name="타원 41"/>
              <p:cNvSpPr/>
              <p:nvPr/>
            </p:nvSpPr>
            <p:spPr>
              <a:xfrm>
                <a:off x="4299120" y="2100240"/>
                <a:ext cx="3088800" cy="308880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e53d09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chemeClr val="lt1"/>
                    </a:solidFill>
                    <a:latin typeface="맑은 고딕"/>
                    <a:ea typeface="宋体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그룹 40"/>
              <p:cNvGrpSpPr/>
              <p:nvPr/>
            </p:nvGrpSpPr>
            <p:grpSpPr>
              <a:xfrm>
                <a:off x="3857760" y="1714680"/>
                <a:ext cx="3915720" cy="3454200"/>
                <a:chOff x="3857760" y="1714680"/>
                <a:chExt cx="3915720" cy="3454200"/>
              </a:xfrm>
            </p:grpSpPr>
            <p:sp>
              <p:nvSpPr>
                <p:cNvPr id="171" name="Picture 2"/>
                <p:cNvSpPr/>
                <p:nvPr/>
              </p:nvSpPr>
              <p:spPr>
                <a:xfrm>
                  <a:off x="5347080" y="1714680"/>
                  <a:ext cx="972360" cy="97236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solidFill>
                    <a:srgbClr val="e53d0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Picture 2"/>
                <p:cNvSpPr/>
                <p:nvPr/>
              </p:nvSpPr>
              <p:spPr>
                <a:xfrm>
                  <a:off x="6801120" y="2707200"/>
                  <a:ext cx="972360" cy="97236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solidFill>
                    <a:srgbClr val="e53d0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Picture 2"/>
                <p:cNvSpPr/>
                <p:nvPr/>
              </p:nvSpPr>
              <p:spPr>
                <a:xfrm flipH="1">
                  <a:off x="4298040" y="4196520"/>
                  <a:ext cx="972360" cy="9723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solidFill>
                    <a:srgbClr val="e53d0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Picture 3"/>
                <p:cNvSpPr/>
                <p:nvPr/>
              </p:nvSpPr>
              <p:spPr>
                <a:xfrm>
                  <a:off x="3857760" y="2707200"/>
                  <a:ext cx="972360" cy="97236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9525">
                  <a:solidFill>
                    <a:srgbClr val="e53d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_x93244360"/>
                <p:cNvSpPr/>
                <p:nvPr/>
              </p:nvSpPr>
              <p:spPr>
                <a:xfrm>
                  <a:off x="6505200" y="4196520"/>
                  <a:ext cx="972360" cy="97236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solidFill>
                    <a:srgbClr val="e53d0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6" name="Picture 3" descr="C:\Documents and Settings\Administrator\바탕 화면\Group.png"/>
            <p:cNvPicPr/>
            <p:nvPr/>
          </p:nvPicPr>
          <p:blipFill>
            <a:blip r:embed="rId8"/>
            <a:stretch/>
          </p:blipFill>
          <p:spPr>
            <a:xfrm>
              <a:off x="5500800" y="3267000"/>
              <a:ext cx="649080" cy="649080"/>
            </a:xfrm>
            <a:prstGeom prst="rect">
              <a:avLst/>
            </a:prstGeom>
            <a:ln w="0"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77" name="TextBox 36"/>
          <p:cNvSpPr/>
          <p:nvPr/>
        </p:nvSpPr>
        <p:spPr>
          <a:xfrm>
            <a:off x="4929120" y="1273680"/>
            <a:ext cx="178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5"/>
          <p:cNvSpPr/>
          <p:nvPr/>
        </p:nvSpPr>
        <p:spPr>
          <a:xfrm>
            <a:off x="7072200" y="2273760"/>
            <a:ext cx="192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6"/>
          <p:cNvSpPr/>
          <p:nvPr/>
        </p:nvSpPr>
        <p:spPr>
          <a:xfrm>
            <a:off x="6643800" y="5214960"/>
            <a:ext cx="192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7"/>
          <p:cNvSpPr/>
          <p:nvPr/>
        </p:nvSpPr>
        <p:spPr>
          <a:xfrm>
            <a:off x="3571920" y="5263200"/>
            <a:ext cx="1928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Organizational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8"/>
          <p:cNvSpPr/>
          <p:nvPr/>
        </p:nvSpPr>
        <p:spPr>
          <a:xfrm>
            <a:off x="2786040" y="2345400"/>
            <a:ext cx="192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83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84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85" name="TextBox 21"/>
          <p:cNvSpPr/>
          <p:nvPr/>
        </p:nvSpPr>
        <p:spPr>
          <a:xfrm>
            <a:off x="3571920" y="2876400"/>
            <a:ext cx="1856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맑은 고딕"/>
              </a:rPr>
              <a:t>_How  Cre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테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테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  <Words>767</Words>
  <Paragraphs>144</Paragraphs>
  <Company>Chung-Ang Univ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6:02:12Z</dcterms:created>
  <dc:creator>KSH</dc:creator>
  <dc:description/>
  <dc:language>en-US</dc:language>
  <cp:lastModifiedBy>yu wang</cp:lastModifiedBy>
  <dcterms:modified xsi:type="dcterms:W3CDTF">2015-08-14T12:54:28Z</dcterms:modified>
  <cp:revision>150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2</vt:r8>
  </property>
</Properties>
</file>