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2FF-A329-4415-89DF-AD185EB8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A37-1E17-46EB-A87B-E8BE6071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CEDD-BF0B-485F-B3E6-D4911F29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256-B1A4-4DE4-84CB-2E6AF5CF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B94-427B-4CC1-989C-D4C07BE4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AB7-F09A-4154-A600-D2ED80ED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ED3E-0132-450C-ADB4-5FBE85E0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DECC-54BA-4932-85D6-D52CA202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427F-6755-4025-9FB5-90E80745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9A91-5DDB-4852-BFB0-398530E9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DE3E-7D9A-41B3-8A7B-1A2AE7EB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BF3-D383-4A5A-9745-7C419C9B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883D-7AE7-4618-9B2C-41C688F0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B2A4-AF7E-4BB7-B74B-118A2A7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E36-DE84-4D0F-AC55-BCB43D4D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428-6BD9-43DD-8D3A-6541C9CB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D53B-F2C0-4C2A-895E-3CFB7876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9EF-27FD-4A75-9DA0-6E6799B8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252-D8D8-490C-8439-E41BCED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F06-6ADE-4A49-81AB-E001B52C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81A-2655-425E-900D-0312A00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DA9-93E7-4247-A3CB-FB5C5D00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8C7-6EE5-437B-AD4D-F616705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79E-D68C-4A74-A3BC-22F256B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3823-555C-42DD-93A8-52AAA06F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4" descr="1226-2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1226-2-2"/>
          <p:cNvPicPr/>
          <p:nvPr/>
        </p:nvPicPr>
        <p:blipFill>
          <a:blip r:embed="rId3"/>
          <a:stretch/>
        </p:blipFill>
        <p:spPr>
          <a:xfrm>
            <a:off x="7483320" y="5454720"/>
            <a:ext cx="155916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1226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37CB-E81A-4E2F-BBE0-FA621D6BE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5.png"/><Relationship Id="rId17" Type="http://schemas.openxmlformats.org/officeDocument/2006/relationships/hyperlink" Target="http://www.51pptmoban.com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441520" y="42876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70bb"/>
                </a:solidFill>
                <a:latin typeface="HY견고딕"/>
                <a:ea typeface="HY견고딕"/>
              </a:rPr>
              <a:t>韩国卡通商务</a:t>
            </a:r>
            <a:r>
              <a:rPr b="0" lang="en-US" sz="4000" spc="-1" strike="noStrike">
                <a:solidFill>
                  <a:srgbClr val="1170bb"/>
                </a:solidFill>
                <a:latin typeface="HY견고딕"/>
                <a:ea typeface="HY견고딕"/>
              </a:rPr>
              <a:t>PPT</a:t>
            </a:r>
            <a:r>
              <a:rPr b="0" lang="zh-CN" sz="4000" spc="-1" strike="noStrike">
                <a:solidFill>
                  <a:srgbClr val="1170bb"/>
                </a:solidFill>
                <a:latin typeface="HY견고딕"/>
                <a:ea typeface="HY견고딕"/>
              </a:rPr>
              <a:t>模板完整版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86" name="Picture 1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859880" y="13500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226-2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logo copy"/>
          <p:cNvPicPr/>
          <p:nvPr/>
        </p:nvPicPr>
        <p:blipFill>
          <a:blip r:embed="rId2"/>
          <a:srcRect l="5485" t="7252" r="13477" b="59952"/>
          <a:stretch/>
        </p:blipFill>
        <p:spPr>
          <a:xfrm>
            <a:off x="7859880" y="13500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7" descr="2222222222222"/>
          <p:cNvPicPr/>
          <p:nvPr/>
        </p:nvPicPr>
        <p:blipFill>
          <a:blip r:embed="rId3"/>
          <a:srcRect l="60244" t="22110" r="8854" b="61554"/>
          <a:stretch/>
        </p:blipFill>
        <p:spPr>
          <a:xfrm>
            <a:off x="4681440" y="1428840"/>
            <a:ext cx="2113200" cy="8380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5"/>
          <p:cNvGrpSpPr/>
          <p:nvPr/>
        </p:nvGrpSpPr>
        <p:grpSpPr>
          <a:xfrm>
            <a:off x="4605480" y="2004840"/>
            <a:ext cx="4000320" cy="474480"/>
            <a:chOff x="4605480" y="2004840"/>
            <a:chExt cx="4000320" cy="474480"/>
          </a:xfrm>
        </p:grpSpPr>
        <p:pic>
          <p:nvPicPr>
            <p:cNvPr id="93" name="Picture 35" descr="그림2copy"/>
            <p:cNvPicPr/>
            <p:nvPr/>
          </p:nvPicPr>
          <p:blipFill>
            <a:blip r:embed="rId4"/>
            <a:stretch/>
          </p:blipFill>
          <p:spPr>
            <a:xfrm>
              <a:off x="4605480" y="2004840"/>
              <a:ext cx="4000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37"/>
            <p:cNvSpPr/>
            <p:nvPr/>
          </p:nvSpPr>
          <p:spPr>
            <a:xfrm>
              <a:off x="4737240" y="2136600"/>
              <a:ext cx="204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95" name="Picture 63" descr="바코드"/>
            <p:cNvPicPr/>
            <p:nvPr/>
          </p:nvPicPr>
          <p:blipFill>
            <a:blip r:embed="rId5"/>
            <a:srcRect l="16490" t="10435" r="20719" b="6957"/>
            <a:stretch/>
          </p:blipFill>
          <p:spPr>
            <a:xfrm>
              <a:off x="8332920" y="2319120"/>
              <a:ext cx="107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36"/>
            <p:cNvSpPr/>
            <p:nvPr/>
          </p:nvSpPr>
          <p:spPr>
            <a:xfrm>
              <a:off x="5019840" y="2047680"/>
              <a:ext cx="3541680" cy="38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7" name="Group 66"/>
          <p:cNvGrpSpPr/>
          <p:nvPr/>
        </p:nvGrpSpPr>
        <p:grpSpPr>
          <a:xfrm>
            <a:off x="4605480" y="2611440"/>
            <a:ext cx="4000320" cy="474480"/>
            <a:chOff x="4605480" y="2611440"/>
            <a:chExt cx="4000320" cy="474480"/>
          </a:xfrm>
        </p:grpSpPr>
        <p:pic>
          <p:nvPicPr>
            <p:cNvPr id="98" name="Picture 40" descr="그림2copy"/>
            <p:cNvPicPr/>
            <p:nvPr/>
          </p:nvPicPr>
          <p:blipFill>
            <a:blip r:embed="rId6">
              <a:lum bright="12000"/>
            </a:blip>
            <a:stretch/>
          </p:blipFill>
          <p:spPr>
            <a:xfrm>
              <a:off x="4605480" y="2611440"/>
              <a:ext cx="4000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42"/>
            <p:cNvSpPr/>
            <p:nvPr/>
          </p:nvSpPr>
          <p:spPr>
            <a:xfrm>
              <a:off x="4737240" y="2743200"/>
              <a:ext cx="204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00" name="Picture 64" descr="바코드"/>
            <p:cNvPicPr/>
            <p:nvPr/>
          </p:nvPicPr>
          <p:blipFill>
            <a:blip r:embed="rId7"/>
            <a:srcRect l="16490" t="10435" r="20719" b="6957"/>
            <a:stretch/>
          </p:blipFill>
          <p:spPr>
            <a:xfrm>
              <a:off x="8332920" y="2938320"/>
              <a:ext cx="107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AutoShape 41"/>
            <p:cNvSpPr/>
            <p:nvPr/>
          </p:nvSpPr>
          <p:spPr>
            <a:xfrm>
              <a:off x="5019840" y="2654280"/>
              <a:ext cx="3541680" cy="38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2" name="Group 67"/>
          <p:cNvGrpSpPr/>
          <p:nvPr/>
        </p:nvGrpSpPr>
        <p:grpSpPr>
          <a:xfrm>
            <a:off x="4605480" y="3218040"/>
            <a:ext cx="4000320" cy="474480"/>
            <a:chOff x="4605480" y="3218040"/>
            <a:chExt cx="4000320" cy="474480"/>
          </a:xfrm>
        </p:grpSpPr>
        <p:pic>
          <p:nvPicPr>
            <p:cNvPr id="103" name="Picture 68" descr="그림2copy"/>
            <p:cNvPicPr/>
            <p:nvPr/>
          </p:nvPicPr>
          <p:blipFill>
            <a:blip r:embed="rId8"/>
            <a:stretch/>
          </p:blipFill>
          <p:spPr>
            <a:xfrm>
              <a:off x="4605480" y="3218040"/>
              <a:ext cx="4000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9"/>
            <p:cNvSpPr/>
            <p:nvPr/>
          </p:nvSpPr>
          <p:spPr>
            <a:xfrm>
              <a:off x="4737240" y="3349800"/>
              <a:ext cx="204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05" name="Picture 70" descr="바코드"/>
            <p:cNvPicPr/>
            <p:nvPr/>
          </p:nvPicPr>
          <p:blipFill>
            <a:blip r:embed="rId9"/>
            <a:srcRect l="16490" t="10435" r="20719" b="6957"/>
            <a:stretch/>
          </p:blipFill>
          <p:spPr>
            <a:xfrm>
              <a:off x="8332920" y="3532320"/>
              <a:ext cx="107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AutoShape 71"/>
            <p:cNvSpPr/>
            <p:nvPr/>
          </p:nvSpPr>
          <p:spPr>
            <a:xfrm>
              <a:off x="5019840" y="3260880"/>
              <a:ext cx="3541680" cy="38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7" name="Group 72"/>
          <p:cNvGrpSpPr/>
          <p:nvPr/>
        </p:nvGrpSpPr>
        <p:grpSpPr>
          <a:xfrm>
            <a:off x="4605480" y="3824280"/>
            <a:ext cx="4000320" cy="474480"/>
            <a:chOff x="4605480" y="3824280"/>
            <a:chExt cx="4000320" cy="474480"/>
          </a:xfrm>
        </p:grpSpPr>
        <p:pic>
          <p:nvPicPr>
            <p:cNvPr id="108" name="Picture 73" descr="그림2copy"/>
            <p:cNvPicPr/>
            <p:nvPr/>
          </p:nvPicPr>
          <p:blipFill>
            <a:blip r:embed="rId10">
              <a:lum bright="12000"/>
            </a:blip>
            <a:stretch/>
          </p:blipFill>
          <p:spPr>
            <a:xfrm>
              <a:off x="4605480" y="3824280"/>
              <a:ext cx="4000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4"/>
            <p:cNvSpPr/>
            <p:nvPr/>
          </p:nvSpPr>
          <p:spPr>
            <a:xfrm>
              <a:off x="4737240" y="3956040"/>
              <a:ext cx="204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10" name="Picture 75" descr="바코드"/>
            <p:cNvPicPr/>
            <p:nvPr/>
          </p:nvPicPr>
          <p:blipFill>
            <a:blip r:embed="rId11"/>
            <a:srcRect l="16490" t="10435" r="20719" b="6957"/>
            <a:stretch/>
          </p:blipFill>
          <p:spPr>
            <a:xfrm>
              <a:off x="8332920" y="4151160"/>
              <a:ext cx="107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AutoShape 76"/>
            <p:cNvSpPr/>
            <p:nvPr/>
          </p:nvSpPr>
          <p:spPr>
            <a:xfrm>
              <a:off x="5019840" y="3867120"/>
              <a:ext cx="3541680" cy="38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2" name="Group 77"/>
          <p:cNvGrpSpPr/>
          <p:nvPr/>
        </p:nvGrpSpPr>
        <p:grpSpPr>
          <a:xfrm>
            <a:off x="4605480" y="4430880"/>
            <a:ext cx="4000320" cy="474480"/>
            <a:chOff x="4605480" y="4430880"/>
            <a:chExt cx="4000320" cy="474480"/>
          </a:xfrm>
        </p:grpSpPr>
        <p:pic>
          <p:nvPicPr>
            <p:cNvPr id="113" name="Picture 78" descr="그림2copy"/>
            <p:cNvPicPr/>
            <p:nvPr/>
          </p:nvPicPr>
          <p:blipFill>
            <a:blip r:embed="rId12"/>
            <a:stretch/>
          </p:blipFill>
          <p:spPr>
            <a:xfrm>
              <a:off x="4605480" y="4430880"/>
              <a:ext cx="4000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9"/>
            <p:cNvSpPr/>
            <p:nvPr/>
          </p:nvSpPr>
          <p:spPr>
            <a:xfrm>
              <a:off x="4737240" y="4562640"/>
              <a:ext cx="204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15" name="Picture 80" descr="바코드"/>
            <p:cNvPicPr/>
            <p:nvPr/>
          </p:nvPicPr>
          <p:blipFill>
            <a:blip r:embed="rId13"/>
            <a:srcRect l="16490" t="10435" r="20719" b="6957"/>
            <a:stretch/>
          </p:blipFill>
          <p:spPr>
            <a:xfrm>
              <a:off x="8332920" y="4745160"/>
              <a:ext cx="107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81"/>
            <p:cNvSpPr/>
            <p:nvPr/>
          </p:nvSpPr>
          <p:spPr>
            <a:xfrm>
              <a:off x="5019840" y="4473720"/>
              <a:ext cx="3541680" cy="38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7" name="Group 82"/>
          <p:cNvGrpSpPr/>
          <p:nvPr/>
        </p:nvGrpSpPr>
        <p:grpSpPr>
          <a:xfrm>
            <a:off x="4605480" y="5038560"/>
            <a:ext cx="4000320" cy="474480"/>
            <a:chOff x="4605480" y="5038560"/>
            <a:chExt cx="4000320" cy="474480"/>
          </a:xfrm>
        </p:grpSpPr>
        <p:pic>
          <p:nvPicPr>
            <p:cNvPr id="118" name="Picture 83" descr="그림2copy"/>
            <p:cNvPicPr/>
            <p:nvPr/>
          </p:nvPicPr>
          <p:blipFill>
            <a:blip r:embed="rId14">
              <a:lum bright="12000"/>
            </a:blip>
            <a:stretch/>
          </p:blipFill>
          <p:spPr>
            <a:xfrm>
              <a:off x="4605480" y="5038560"/>
              <a:ext cx="400032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84"/>
            <p:cNvSpPr/>
            <p:nvPr/>
          </p:nvSpPr>
          <p:spPr>
            <a:xfrm>
              <a:off x="4737240" y="5170320"/>
              <a:ext cx="20448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0" name="Picture 85" descr="바코드"/>
            <p:cNvPicPr/>
            <p:nvPr/>
          </p:nvPicPr>
          <p:blipFill>
            <a:blip r:embed="rId15"/>
            <a:srcRect l="16490" t="10435" r="20719" b="6957"/>
            <a:stretch/>
          </p:blipFill>
          <p:spPr>
            <a:xfrm>
              <a:off x="8332920" y="5365440"/>
              <a:ext cx="107640" cy="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86"/>
            <p:cNvSpPr/>
            <p:nvPr/>
          </p:nvSpPr>
          <p:spPr>
            <a:xfrm>
              <a:off x="5019840" y="5081400"/>
              <a:ext cx="3541680" cy="38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22" name="TextBox 2" descr=""/>
          <p:cNvPicPr/>
          <p:nvPr/>
        </p:nvPicPr>
        <p:blipFill>
          <a:blip r:embed="rId16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3632040" y="6593040"/>
            <a:ext cx="5507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1935000" y="843120"/>
            <a:ext cx="335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ulim"/>
                <a:hlinkClick r:id="rId17"/>
              </a:rPr>
              <a:t>www.51pptmoban.com</a:t>
            </a:r>
            <a:r>
              <a:rPr b="1" lang="en-US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Gulim"/>
              </a:rPr>
              <a:t>搜集整理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859880" y="13500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226-2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1096920" y="2651040"/>
            <a:ext cx="755640" cy="755640"/>
            <a:chOff x="1096920" y="2651040"/>
            <a:chExt cx="755640" cy="755640"/>
          </a:xfrm>
        </p:grpSpPr>
        <p:sp>
          <p:nvSpPr>
            <p:cNvPr id="128" name="AutoShape 5"/>
            <p:cNvSpPr/>
            <p:nvPr/>
          </p:nvSpPr>
          <p:spPr>
            <a:xfrm>
              <a:off x="1096920" y="2651040"/>
              <a:ext cx="755640" cy="755640"/>
            </a:xfrm>
            <a:prstGeom prst="roundRect">
              <a:avLst>
                <a:gd name="adj" fmla="val 5699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dddddd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1137240" y="2691360"/>
              <a:ext cx="675000" cy="675000"/>
            </a:xfrm>
            <a:prstGeom prst="roundRect">
              <a:avLst>
                <a:gd name="adj" fmla="val 5144"/>
              </a:avLst>
            </a:prstGeom>
            <a:gradFill rotWithShape="0">
              <a:gsLst>
                <a:gs pos="0">
                  <a:srgbClr val="0065b6"/>
                </a:gs>
                <a:gs pos="100000">
                  <a:srgbClr val="004c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30" name="Picture 7" descr="바코드"/>
            <p:cNvPicPr/>
            <p:nvPr/>
          </p:nvPicPr>
          <p:blipFill>
            <a:blip r:embed="rId3"/>
            <a:srcRect l="15904" t="10145" r="20000" b="5797"/>
            <a:stretch/>
          </p:blipFill>
          <p:spPr>
            <a:xfrm>
              <a:off x="1676160" y="2723040"/>
              <a:ext cx="93960" cy="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8"/>
            <p:cNvSpPr/>
            <p:nvPr/>
          </p:nvSpPr>
          <p:spPr>
            <a:xfrm>
              <a:off x="1149480" y="2707920"/>
              <a:ext cx="650160" cy="96840"/>
            </a:xfrm>
            <a:prstGeom prst="roundRect">
              <a:avLst>
                <a:gd name="adj" fmla="val 22856"/>
              </a:avLst>
            </a:prstGeom>
            <a:gradFill rotWithShape="0">
              <a:gsLst>
                <a:gs pos="0">
                  <a:srgbClr val="7dc4ff"/>
                </a:gs>
                <a:gs pos="100000">
                  <a:srgbClr val="0082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2" name="AutoShape 9"/>
          <p:cNvSpPr/>
          <p:nvPr/>
        </p:nvSpPr>
        <p:spPr>
          <a:xfrm>
            <a:off x="1935000" y="2651040"/>
            <a:ext cx="6012000" cy="755640"/>
          </a:xfrm>
          <a:prstGeom prst="roundRect">
            <a:avLst>
              <a:gd name="adj" fmla="val 5699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343160" y="2860560"/>
            <a:ext cx="2044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810160" y="27464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대제목을 입력하세요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5" name="TextBox 2" descr=""/>
          <p:cNvPicPr/>
          <p:nvPr/>
        </p:nvPicPr>
        <p:blipFill>
          <a:blip r:embed="rId4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3632040" y="6593040"/>
            <a:ext cx="5507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6488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36720" y="237960"/>
            <a:ext cx="6545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Text Box 62"/>
          <p:cNvSpPr/>
          <p:nvPr/>
        </p:nvSpPr>
        <p:spPr>
          <a:xfrm>
            <a:off x="376200" y="360360"/>
            <a:ext cx="204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0" name="Picture 151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783560" y="374760"/>
            <a:ext cx="1176120" cy="293400"/>
          </a:xfrm>
          <a:prstGeom prst="rect">
            <a:avLst/>
          </a:prstGeom>
          <a:ln w="0">
            <a:noFill/>
          </a:ln>
        </p:spPr>
      </p:pic>
      <p:pic>
        <p:nvPicPr>
          <p:cNvPr id="141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3632040" y="6593040"/>
            <a:ext cx="5507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logo copy"/>
          <p:cNvPicPr/>
          <p:nvPr/>
        </p:nvPicPr>
        <p:blipFill>
          <a:blip r:embed="rId1"/>
          <a:srcRect l="5485" t="7252" r="13477" b="59952"/>
          <a:stretch/>
        </p:blipFill>
        <p:spPr>
          <a:xfrm>
            <a:off x="7859880" y="135000"/>
            <a:ext cx="1176120" cy="293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4518000" y="2540160"/>
            <a:ext cx="24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HY견고딕"/>
                <a:ea typeface="HY견고딕"/>
              </a:rPr>
              <a:t>감 사 합 니 다</a:t>
            </a:r>
            <a:r>
              <a:rPr b="0" lang="en-US" sz="4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6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3632040" y="6593040"/>
            <a:ext cx="5507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Gulim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Gulim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Gulim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Gulim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cacao</dc:creator>
  <dc:description/>
  <dc:language>en-US</dc:language>
  <cp:lastModifiedBy>yu wang</cp:lastModifiedBy>
  <dcterms:modified xsi:type="dcterms:W3CDTF">2015-08-12T14:56:42Z</dcterms:modified>
  <cp:revision>21</cp:revision>
  <dc:subject/>
  <dc:title>슬라이드 1</dc:title>
</cp:coreProperties>
</file>