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066680" y="838080"/>
            <a:ext cx="365724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Denmark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1392840" y="260640"/>
            <a:ext cx="445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灰色创意设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5333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Denmark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391160" cy="533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Denmar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403812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Denmark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44953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808080"/>
                </a:solidFill>
                <a:latin typeface="Denmark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467120" cy="5409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Denmar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al_in">
  <a:themeElements>
    <a:clrScheme name="goodvsevi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al_in">
  <a:themeElements>
    <a:clrScheme name="goodvsevi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ial_in</Template>
  <TotalTime>4</TotalTime>
  <Application>LibreOffice/7.4.7.2$Linux_X86_64 LibreOffice_project/40$Build-2</Application>
  <AppVersion>15.0000</AppVersion>
  <Words>173</Words>
  <Paragraphs>37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10:07Z</dcterms:created>
  <dc:creator>微软中国</dc:creator>
  <dc:description/>
  <dc:language>en-US</dc:language>
  <cp:lastModifiedBy>yu wang</cp:lastModifiedBy>
  <dcterms:modified xsi:type="dcterms:W3CDTF">2015-08-12T14:53:2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