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CC84-85AB-4D3E-9B67-34199FA3D486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CCDC-8AD9-4CD8-AFE1-3877E749E12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2147484240" y="17640"/>
            <a:ext cx="0" cy="21474842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2147483880" y="214748388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首先配置一系列浓度的聚合物的芘溶液。分别测定芘的激发强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206-C78C-4B15-8286-E1E6D0DC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8B0-C340-4A4C-ACFE-1A39BBF1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277-F1D4-4F7B-9388-7A64AFD0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9D7-F765-4D77-851E-32B2A7BF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C2A-171E-4991-BF49-BDEB9AB5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0C3-253D-43F1-882B-A9D84A77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6D6-A59A-4BF4-8DE1-D8A09ECB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8BB-DD5A-448A-974E-127FC607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EE2-8256-4B95-BA6D-44494723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F1D-123B-4565-B437-BCEED972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C51-81DD-4934-8789-0D7E1E88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3FA-AA5C-4489-AE68-38ECAFC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9FBE-548F-4F70-9F39-BEF207963C9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7CBE-8DDB-4ADF-B0F5-0213F96F92D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hyperlink" Target="http://www.eeppt.com/" TargetMode="External"/><Relationship Id="rId14" Type="http://schemas.openxmlformats.org/officeDocument/2006/relationships/hyperlink" Target="http://www.eeppt.com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6" descr=""/>
          <p:cNvPicPr/>
          <p:nvPr/>
        </p:nvPicPr>
        <p:blipFill>
          <a:blip r:embed="rId1"/>
          <a:stretch/>
        </p:blipFill>
        <p:spPr>
          <a:xfrm>
            <a:off x="6778800" y="4838760"/>
            <a:ext cx="1384200" cy="1400040"/>
          </a:xfrm>
          <a:prstGeom prst="rect">
            <a:avLst/>
          </a:prstGeom>
          <a:ln w="0">
            <a:noFill/>
          </a:ln>
        </p:spPr>
      </p:pic>
      <p:sp>
        <p:nvSpPr>
          <p:cNvPr id="50" name="矩形​​ 15"/>
          <p:cNvSpPr/>
          <p:nvPr/>
        </p:nvSpPr>
        <p:spPr>
          <a:xfrm>
            <a:off x="4762440" y="20080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聚</a:t>
            </a:r>
            <a:r>
              <a:rPr b="0" lang="en-US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​​ 28"/>
          <p:cNvSpPr/>
          <p:nvPr/>
        </p:nvSpPr>
        <p:spPr>
          <a:xfrm>
            <a:off x="-1393920" y="866880"/>
            <a:ext cx="720720" cy="6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​​ 4"/>
          <p:cNvSpPr/>
          <p:nvPr/>
        </p:nvSpPr>
        <p:spPr>
          <a:xfrm>
            <a:off x="4908600" y="966960"/>
            <a:ext cx="26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双单体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​​ 2"/>
          <p:cNvSpPr/>
          <p:nvPr/>
        </p:nvSpPr>
        <p:spPr>
          <a:xfrm>
            <a:off x="1090440" y="2008080"/>
            <a:ext cx="210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两亲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​​ 7"/>
          <p:cNvSpPr/>
          <p:nvPr/>
        </p:nvSpPr>
        <p:spPr>
          <a:xfrm>
            <a:off x="3124080" y="2008080"/>
            <a:ext cx="201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超支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​​ 9"/>
          <p:cNvSpPr/>
          <p:nvPr/>
        </p:nvSpPr>
        <p:spPr>
          <a:xfrm>
            <a:off x="5985000" y="2008080"/>
            <a:ext cx="271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β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环糊精</a:t>
            </a:r>
            <a:r>
              <a:rPr b="0" lang="en-US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​​ 11"/>
          <p:cNvSpPr/>
          <p:nvPr/>
        </p:nvSpPr>
        <p:spPr>
          <a:xfrm>
            <a:off x="5826600" y="30132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及其性能研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​​ 13"/>
          <p:cNvSpPr/>
          <p:nvPr/>
        </p:nvSpPr>
        <p:spPr>
          <a:xfrm>
            <a:off x="7789320" y="966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合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​​ 22"/>
          <p:cNvSpPr/>
          <p:nvPr/>
        </p:nvSpPr>
        <p:spPr>
          <a:xfrm>
            <a:off x="-139680" y="871560"/>
            <a:ext cx="9505800" cy="58680"/>
          </a:xfrm>
          <a:prstGeom prst="rect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2"/>
          <a:stretch/>
        </p:blipFill>
        <p:spPr>
          <a:xfrm>
            <a:off x="1955880" y="1073160"/>
            <a:ext cx="5146560" cy="5443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"/>
          <p:cNvPicPr/>
          <p:nvPr/>
        </p:nvPicPr>
        <p:blipFill>
          <a:blip r:embed="rId3"/>
          <a:stretch/>
        </p:blipFill>
        <p:spPr>
          <a:xfrm>
            <a:off x="10296360" y="2103480"/>
            <a:ext cx="6096240" cy="34416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0" descr=""/>
          <p:cNvPicPr/>
          <p:nvPr/>
        </p:nvPicPr>
        <p:blipFill>
          <a:blip r:embed="rId4"/>
          <a:srcRect l="0" t="0" r="0" b="55965"/>
          <a:stretch/>
        </p:blipFill>
        <p:spPr>
          <a:xfrm>
            <a:off x="9144000" y="3354480"/>
            <a:ext cx="9112320" cy="9334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4" descr=""/>
          <p:cNvPicPr/>
          <p:nvPr/>
        </p:nvPicPr>
        <p:blipFill>
          <a:blip r:embed="rId5"/>
          <a:srcRect l="0" t="-1278" r="70133" b="0"/>
          <a:stretch/>
        </p:blipFill>
        <p:spPr>
          <a:xfrm>
            <a:off x="449280" y="2301840"/>
            <a:ext cx="2476440" cy="29196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6" descr=""/>
          <p:cNvPicPr/>
          <p:nvPr/>
        </p:nvPicPr>
        <p:blipFill>
          <a:blip r:embed="rId6"/>
          <a:srcRect l="63316" t="0" r="0" b="0"/>
          <a:stretch/>
        </p:blipFill>
        <p:spPr>
          <a:xfrm>
            <a:off x="5959440" y="2368440"/>
            <a:ext cx="3041640" cy="28828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7" descr=""/>
          <p:cNvPicPr/>
          <p:nvPr/>
        </p:nvPicPr>
        <p:blipFill>
          <a:blip r:embed="rId7"/>
          <a:srcRect l="29688" t="0" r="36136" b="0"/>
          <a:stretch/>
        </p:blipFill>
        <p:spPr>
          <a:xfrm>
            <a:off x="3094200" y="2414520"/>
            <a:ext cx="2833560" cy="2882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4" descr=""/>
          <p:cNvPicPr/>
          <p:nvPr/>
        </p:nvPicPr>
        <p:blipFill>
          <a:blip r:embed="rId8"/>
          <a:srcRect l="28668" t="0" r="36668" b="0"/>
          <a:stretch/>
        </p:blipFill>
        <p:spPr>
          <a:xfrm>
            <a:off x="3048120" y="1384200"/>
            <a:ext cx="2712960" cy="43563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" descr="C:\Users\Paralife\Desktop\b819748b-ga.gif"/>
          <p:cNvPicPr/>
          <p:nvPr/>
        </p:nvPicPr>
        <p:blipFill>
          <a:blip r:embed="rId9"/>
          <a:stretch/>
        </p:blipFill>
        <p:spPr>
          <a:xfrm>
            <a:off x="3044880" y="2219400"/>
            <a:ext cx="8507520" cy="2879640"/>
          </a:xfrm>
          <a:prstGeom prst="rect">
            <a:avLst/>
          </a:prstGeom>
          <a:ln w="0">
            <a:noFill/>
          </a:ln>
        </p:spPr>
      </p:pic>
      <p:sp>
        <p:nvSpPr>
          <p:cNvPr id="67" name="矩形​​ 31"/>
          <p:cNvSpPr/>
          <p:nvPr/>
        </p:nvSpPr>
        <p:spPr>
          <a:xfrm>
            <a:off x="5295960" y="2255760"/>
            <a:ext cx="6446880" cy="2909880"/>
          </a:xfrm>
          <a:prstGeom prst="rect">
            <a:avLst/>
          </a:prstGeom>
          <a:solidFill>
            <a:srgbClr val="dc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21"/>
          <p:cNvGrpSpPr/>
          <p:nvPr/>
        </p:nvGrpSpPr>
        <p:grpSpPr>
          <a:xfrm>
            <a:off x="1926000" y="2101680"/>
            <a:ext cx="2998080" cy="2888640"/>
            <a:chOff x="1926000" y="2101680"/>
            <a:chExt cx="2998080" cy="2888640"/>
          </a:xfrm>
        </p:grpSpPr>
        <p:pic>
          <p:nvPicPr>
            <p:cNvPr id="69" name="图片 38" descr=""/>
            <p:cNvPicPr/>
            <p:nvPr/>
          </p:nvPicPr>
          <p:blipFill>
            <a:blip r:embed="rId10"/>
            <a:stretch/>
          </p:blipFill>
          <p:spPr>
            <a:xfrm rot="19650600">
              <a:off x="2269440" y="2569320"/>
              <a:ext cx="2310840" cy="19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椭圆​​ 51"/>
            <p:cNvSpPr/>
            <p:nvPr/>
          </p:nvSpPr>
          <p:spPr>
            <a:xfrm>
              <a:off x="2217600" y="2149560"/>
              <a:ext cx="2583000" cy="25826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prstDash val="dash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24"/>
          <p:cNvGrpSpPr/>
          <p:nvPr/>
        </p:nvGrpSpPr>
        <p:grpSpPr>
          <a:xfrm>
            <a:off x="1230120" y="1167480"/>
            <a:ext cx="4638960" cy="4643640"/>
            <a:chOff x="1230120" y="1167480"/>
            <a:chExt cx="4638960" cy="4643640"/>
          </a:xfrm>
        </p:grpSpPr>
        <p:grpSp>
          <p:nvGrpSpPr>
            <p:cNvPr id="72" name="Group 25"/>
            <p:cNvGrpSpPr/>
            <p:nvPr/>
          </p:nvGrpSpPr>
          <p:grpSpPr>
            <a:xfrm>
              <a:off x="3965400" y="4018320"/>
              <a:ext cx="1740240" cy="1792800"/>
              <a:chOff x="3965400" y="4018320"/>
              <a:chExt cx="1740240" cy="1792800"/>
            </a:xfrm>
          </p:grpSpPr>
          <p:grpSp>
            <p:nvGrpSpPr>
              <p:cNvPr id="73" name="Group 26"/>
              <p:cNvGrpSpPr/>
              <p:nvPr/>
            </p:nvGrpSpPr>
            <p:grpSpPr>
              <a:xfrm>
                <a:off x="3965400" y="4018320"/>
                <a:ext cx="497520" cy="497520"/>
                <a:chOff x="3965400" y="4018320"/>
                <a:chExt cx="497520" cy="497520"/>
              </a:xfrm>
            </p:grpSpPr>
            <p:sp>
              <p:nvSpPr>
                <p:cNvPr id="74" name="椭圆​​ 129"/>
                <p:cNvSpPr/>
                <p:nvPr/>
              </p:nvSpPr>
              <p:spPr>
                <a:xfrm rot="2808000">
                  <a:off x="4038120" y="409068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椭圆​​ 130"/>
                <p:cNvSpPr/>
                <p:nvPr/>
              </p:nvSpPr>
              <p:spPr>
                <a:xfrm rot="2808000">
                  <a:off x="4101120" y="407736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6" name="Group 29"/>
              <p:cNvGrpSpPr/>
              <p:nvPr/>
            </p:nvGrpSpPr>
            <p:grpSpPr>
              <a:xfrm>
                <a:off x="4097880" y="4158000"/>
                <a:ext cx="559080" cy="559080"/>
                <a:chOff x="4097880" y="4158000"/>
                <a:chExt cx="559080" cy="559080"/>
              </a:xfrm>
            </p:grpSpPr>
            <p:sp>
              <p:nvSpPr>
                <p:cNvPr id="77" name="椭圆​​ 127"/>
                <p:cNvSpPr/>
                <p:nvPr/>
              </p:nvSpPr>
              <p:spPr>
                <a:xfrm rot="2808000">
                  <a:off x="4179600" y="4239720"/>
                  <a:ext cx="39564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椭圆​​ 128"/>
                <p:cNvSpPr/>
                <p:nvPr/>
              </p:nvSpPr>
              <p:spPr>
                <a:xfrm rot="2808000">
                  <a:off x="4250520" y="4224960"/>
                  <a:ext cx="31896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9" name="Group 32"/>
              <p:cNvGrpSpPr/>
              <p:nvPr/>
            </p:nvGrpSpPr>
            <p:grpSpPr>
              <a:xfrm>
                <a:off x="4248000" y="4316400"/>
                <a:ext cx="622440" cy="622440"/>
                <a:chOff x="4248000" y="4316400"/>
                <a:chExt cx="622440" cy="622440"/>
              </a:xfrm>
            </p:grpSpPr>
            <p:sp>
              <p:nvSpPr>
                <p:cNvPr id="80" name="椭圆​​ 125"/>
                <p:cNvSpPr/>
                <p:nvPr/>
              </p:nvSpPr>
              <p:spPr>
                <a:xfrm rot="2808000">
                  <a:off x="4338720" y="4407120"/>
                  <a:ext cx="44028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椭圆​​ 126"/>
                <p:cNvSpPr/>
                <p:nvPr/>
              </p:nvSpPr>
              <p:spPr>
                <a:xfrm rot="2808000">
                  <a:off x="4417920" y="439056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" name="Group 35"/>
              <p:cNvGrpSpPr/>
              <p:nvPr/>
            </p:nvGrpSpPr>
            <p:grpSpPr>
              <a:xfrm>
                <a:off x="4370400" y="4439520"/>
                <a:ext cx="739080" cy="739080"/>
                <a:chOff x="4370400" y="4439520"/>
                <a:chExt cx="739080" cy="739080"/>
              </a:xfrm>
            </p:grpSpPr>
            <p:sp>
              <p:nvSpPr>
                <p:cNvPr id="83" name="椭圆​​ 123"/>
                <p:cNvSpPr/>
                <p:nvPr/>
              </p:nvSpPr>
              <p:spPr>
                <a:xfrm rot="2808000">
                  <a:off x="4478400" y="454752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椭圆​​ 124"/>
                <p:cNvSpPr/>
                <p:nvPr/>
              </p:nvSpPr>
              <p:spPr>
                <a:xfrm rot="2808000">
                  <a:off x="4572360" y="452736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5" name="Group 38"/>
              <p:cNvGrpSpPr/>
              <p:nvPr/>
            </p:nvGrpSpPr>
            <p:grpSpPr>
              <a:xfrm>
                <a:off x="4613040" y="4696200"/>
                <a:ext cx="800280" cy="800280"/>
                <a:chOff x="4613040" y="4696200"/>
                <a:chExt cx="800280" cy="800280"/>
              </a:xfrm>
            </p:grpSpPr>
            <p:sp>
              <p:nvSpPr>
                <p:cNvPr id="86" name="椭圆​​ 121"/>
                <p:cNvSpPr/>
                <p:nvPr/>
              </p:nvSpPr>
              <p:spPr>
                <a:xfrm rot="2808000">
                  <a:off x="4730040" y="4812840"/>
                  <a:ext cx="56592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椭圆​​ 122"/>
                <p:cNvSpPr/>
                <p:nvPr/>
              </p:nvSpPr>
              <p:spPr>
                <a:xfrm rot="2808000">
                  <a:off x="4831920" y="4791600"/>
                  <a:ext cx="45612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" name="Group 41"/>
              <p:cNvGrpSpPr/>
              <p:nvPr/>
            </p:nvGrpSpPr>
            <p:grpSpPr>
              <a:xfrm>
                <a:off x="4803480" y="4908960"/>
                <a:ext cx="902160" cy="902160"/>
                <a:chOff x="4803480" y="4908960"/>
                <a:chExt cx="902160" cy="902160"/>
              </a:xfrm>
            </p:grpSpPr>
            <p:sp>
              <p:nvSpPr>
                <p:cNvPr id="89" name="椭圆​​ 119"/>
                <p:cNvSpPr/>
                <p:nvPr/>
              </p:nvSpPr>
              <p:spPr>
                <a:xfrm rot="2808000">
                  <a:off x="4935240" y="5040720"/>
                  <a:ext cx="63828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椭圆​​ 120"/>
                <p:cNvSpPr/>
                <p:nvPr/>
              </p:nvSpPr>
              <p:spPr>
                <a:xfrm rot="2808000">
                  <a:off x="5037840" y="5016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1" name="Group 44"/>
            <p:cNvGrpSpPr/>
            <p:nvPr/>
          </p:nvGrpSpPr>
          <p:grpSpPr>
            <a:xfrm>
              <a:off x="1230120" y="3988800"/>
              <a:ext cx="1794960" cy="1713600"/>
              <a:chOff x="1230120" y="3988800"/>
              <a:chExt cx="1794960" cy="1713600"/>
            </a:xfrm>
          </p:grpSpPr>
          <p:grpSp>
            <p:nvGrpSpPr>
              <p:cNvPr id="92" name="Group 45"/>
              <p:cNvGrpSpPr/>
              <p:nvPr/>
            </p:nvGrpSpPr>
            <p:grpSpPr>
              <a:xfrm>
                <a:off x="2536200" y="3988800"/>
                <a:ext cx="488880" cy="488880"/>
                <a:chOff x="2536200" y="3988800"/>
                <a:chExt cx="488880" cy="488880"/>
              </a:xfrm>
            </p:grpSpPr>
            <p:sp>
              <p:nvSpPr>
                <p:cNvPr id="93" name="椭圆​​ 111"/>
                <p:cNvSpPr/>
                <p:nvPr/>
              </p:nvSpPr>
              <p:spPr>
                <a:xfrm flipV="1" rot="8208000">
                  <a:off x="2604600" y="406296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椭圆​​ 112"/>
                <p:cNvSpPr/>
                <p:nvPr/>
              </p:nvSpPr>
              <p:spPr>
                <a:xfrm flipV="1" rot="8208000">
                  <a:off x="2614320" y="404820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Group 48"/>
              <p:cNvGrpSpPr/>
              <p:nvPr/>
            </p:nvGrpSpPr>
            <p:grpSpPr>
              <a:xfrm>
                <a:off x="2331720" y="4118040"/>
                <a:ext cx="550080" cy="550080"/>
                <a:chOff x="2331720" y="4118040"/>
                <a:chExt cx="550080" cy="550080"/>
              </a:xfrm>
            </p:grpSpPr>
            <p:sp>
              <p:nvSpPr>
                <p:cNvPr id="96" name="椭圆​​ 109"/>
                <p:cNvSpPr/>
                <p:nvPr/>
              </p:nvSpPr>
              <p:spPr>
                <a:xfrm flipV="1" rot="8208000">
                  <a:off x="2408760" y="4201920"/>
                  <a:ext cx="39564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椭圆​​ 110"/>
                <p:cNvSpPr/>
                <p:nvPr/>
              </p:nvSpPr>
              <p:spPr>
                <a:xfrm flipV="1" rot="8208000">
                  <a:off x="2419200" y="4185360"/>
                  <a:ext cx="31896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8" name="Group 51"/>
              <p:cNvGrpSpPr/>
              <p:nvPr/>
            </p:nvGrpSpPr>
            <p:grpSpPr>
              <a:xfrm>
                <a:off x="2107800" y="4266000"/>
                <a:ext cx="612000" cy="611640"/>
                <a:chOff x="2107800" y="4266000"/>
                <a:chExt cx="612000" cy="611640"/>
              </a:xfrm>
            </p:grpSpPr>
            <p:sp>
              <p:nvSpPr>
                <p:cNvPr id="99" name="椭圆​​ 107"/>
                <p:cNvSpPr/>
                <p:nvPr/>
              </p:nvSpPr>
              <p:spPr>
                <a:xfrm flipV="1" rot="8208000">
                  <a:off x="2193480" y="4359240"/>
                  <a:ext cx="44028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椭圆​​ 108"/>
                <p:cNvSpPr/>
                <p:nvPr/>
              </p:nvSpPr>
              <p:spPr>
                <a:xfrm flipV="1" rot="8208000">
                  <a:off x="2205360" y="434016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1" name="Group 54"/>
              <p:cNvGrpSpPr/>
              <p:nvPr/>
            </p:nvGrpSpPr>
            <p:grpSpPr>
              <a:xfrm>
                <a:off x="1858680" y="4377960"/>
                <a:ext cx="726840" cy="726840"/>
                <a:chOff x="1858680" y="4377960"/>
                <a:chExt cx="726840" cy="726840"/>
              </a:xfrm>
            </p:grpSpPr>
            <p:sp>
              <p:nvSpPr>
                <p:cNvPr id="102" name="椭圆​​ 105"/>
                <p:cNvSpPr/>
                <p:nvPr/>
              </p:nvSpPr>
              <p:spPr>
                <a:xfrm flipV="1" rot="8208000">
                  <a:off x="1960200" y="448884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椭圆​​ 106"/>
                <p:cNvSpPr/>
                <p:nvPr/>
              </p:nvSpPr>
              <p:spPr>
                <a:xfrm flipV="1" rot="8208000">
                  <a:off x="1974600" y="446652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4" name="Group 57"/>
              <p:cNvGrpSpPr/>
              <p:nvPr/>
            </p:nvGrpSpPr>
            <p:grpSpPr>
              <a:xfrm>
                <a:off x="1537560" y="4617720"/>
                <a:ext cx="786600" cy="786600"/>
                <a:chOff x="1537560" y="4617720"/>
                <a:chExt cx="786600" cy="786600"/>
              </a:xfrm>
            </p:grpSpPr>
            <p:sp>
              <p:nvSpPr>
                <p:cNvPr id="105" name="椭圆​​ 103"/>
                <p:cNvSpPr/>
                <p:nvPr/>
              </p:nvSpPr>
              <p:spPr>
                <a:xfrm flipV="1" rot="8208000">
                  <a:off x="1647720" y="4737600"/>
                  <a:ext cx="56592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" name="椭圆​​ 104"/>
                <p:cNvSpPr/>
                <p:nvPr/>
              </p:nvSpPr>
              <p:spPr>
                <a:xfrm flipV="1" rot="8208000">
                  <a:off x="1663200" y="4713840"/>
                  <a:ext cx="456120" cy="44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7" name="Group 60"/>
              <p:cNvGrpSpPr/>
              <p:nvPr/>
            </p:nvGrpSpPr>
            <p:grpSpPr>
              <a:xfrm>
                <a:off x="1230120" y="4815720"/>
                <a:ext cx="887040" cy="886680"/>
                <a:chOff x="1230120" y="4815720"/>
                <a:chExt cx="887040" cy="886680"/>
              </a:xfrm>
            </p:grpSpPr>
            <p:sp>
              <p:nvSpPr>
                <p:cNvPr id="108" name="椭圆​​ 101"/>
                <p:cNvSpPr/>
                <p:nvPr/>
              </p:nvSpPr>
              <p:spPr>
                <a:xfrm flipV="1" rot="8208000">
                  <a:off x="1354320" y="4951080"/>
                  <a:ext cx="63828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椭圆​​ 102"/>
                <p:cNvSpPr/>
                <p:nvPr/>
              </p:nvSpPr>
              <p:spPr>
                <a:xfrm flipV="1" rot="8208000">
                  <a:off x="1383480" y="4923720"/>
                  <a:ext cx="51444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10" name="Group 63"/>
            <p:cNvGrpSpPr/>
            <p:nvPr/>
          </p:nvGrpSpPr>
          <p:grpSpPr>
            <a:xfrm>
              <a:off x="1291680" y="1167480"/>
              <a:ext cx="1713600" cy="1794960"/>
              <a:chOff x="1291680" y="1167480"/>
              <a:chExt cx="1713600" cy="1794960"/>
            </a:xfrm>
          </p:grpSpPr>
          <p:grpSp>
            <p:nvGrpSpPr>
              <p:cNvPr id="111" name="Group 64"/>
              <p:cNvGrpSpPr/>
              <p:nvPr/>
            </p:nvGrpSpPr>
            <p:grpSpPr>
              <a:xfrm>
                <a:off x="2516400" y="2473560"/>
                <a:ext cx="488880" cy="488880"/>
                <a:chOff x="2516400" y="2473560"/>
                <a:chExt cx="488880" cy="488880"/>
              </a:xfrm>
            </p:grpSpPr>
            <p:sp>
              <p:nvSpPr>
                <p:cNvPr id="112" name="椭圆​​ 93"/>
                <p:cNvSpPr/>
                <p:nvPr/>
              </p:nvSpPr>
              <p:spPr>
                <a:xfrm flipV="1" rot="13608000">
                  <a:off x="2584800" y="254772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" name="椭圆​​ 94"/>
                <p:cNvSpPr/>
                <p:nvPr/>
              </p:nvSpPr>
              <p:spPr>
                <a:xfrm flipV="1" rot="13608000">
                  <a:off x="2666880" y="255636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4" name="Group 67"/>
              <p:cNvGrpSpPr/>
              <p:nvPr/>
            </p:nvGrpSpPr>
            <p:grpSpPr>
              <a:xfrm>
                <a:off x="2325960" y="2269440"/>
                <a:ext cx="550080" cy="550080"/>
                <a:chOff x="2325960" y="2269440"/>
                <a:chExt cx="550080" cy="550080"/>
              </a:xfrm>
            </p:grpSpPr>
            <p:sp>
              <p:nvSpPr>
                <p:cNvPr id="115" name="椭圆​​ 91"/>
                <p:cNvSpPr/>
                <p:nvPr/>
              </p:nvSpPr>
              <p:spPr>
                <a:xfrm flipV="1" rot="13608000">
                  <a:off x="2402640" y="2353320"/>
                  <a:ext cx="39564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椭圆​​ 92"/>
                <p:cNvSpPr/>
                <p:nvPr/>
              </p:nvSpPr>
              <p:spPr>
                <a:xfrm flipV="1" rot="13608000">
                  <a:off x="2495160" y="2361960"/>
                  <a:ext cx="31896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7" name="Group 70"/>
              <p:cNvGrpSpPr/>
              <p:nvPr/>
            </p:nvGrpSpPr>
            <p:grpSpPr>
              <a:xfrm>
                <a:off x="2116440" y="2045160"/>
                <a:ext cx="611640" cy="612000"/>
                <a:chOff x="2116440" y="2045160"/>
                <a:chExt cx="611640" cy="612000"/>
              </a:xfrm>
            </p:grpSpPr>
            <p:sp>
              <p:nvSpPr>
                <p:cNvPr id="118" name="椭圆​​ 89"/>
                <p:cNvSpPr/>
                <p:nvPr/>
              </p:nvSpPr>
              <p:spPr>
                <a:xfrm flipV="1" rot="13608000">
                  <a:off x="2201760" y="2138400"/>
                  <a:ext cx="44028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椭圆​​ 90"/>
                <p:cNvSpPr/>
                <p:nvPr/>
              </p:nvSpPr>
              <p:spPr>
                <a:xfrm flipV="1" rot="13608000">
                  <a:off x="2304360" y="214884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" name="Group 73"/>
              <p:cNvGrpSpPr/>
              <p:nvPr/>
            </p:nvGrpSpPr>
            <p:grpSpPr>
              <a:xfrm>
                <a:off x="1889280" y="1796040"/>
                <a:ext cx="726840" cy="726840"/>
                <a:chOff x="1889280" y="1796040"/>
                <a:chExt cx="726840" cy="726840"/>
              </a:xfrm>
            </p:grpSpPr>
            <p:sp>
              <p:nvSpPr>
                <p:cNvPr id="121" name="椭圆​​ 87"/>
                <p:cNvSpPr/>
                <p:nvPr/>
              </p:nvSpPr>
              <p:spPr>
                <a:xfrm flipV="1" rot="13608000">
                  <a:off x="1990800" y="190656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椭圆​​ 88"/>
                <p:cNvSpPr/>
                <p:nvPr/>
              </p:nvSpPr>
              <p:spPr>
                <a:xfrm flipV="1" rot="13608000">
                  <a:off x="2112840" y="191916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3" name="Group 76"/>
              <p:cNvGrpSpPr/>
              <p:nvPr/>
            </p:nvGrpSpPr>
            <p:grpSpPr>
              <a:xfrm>
                <a:off x="1589760" y="1475280"/>
                <a:ext cx="786600" cy="786600"/>
                <a:chOff x="1589760" y="1475280"/>
                <a:chExt cx="786600" cy="786600"/>
              </a:xfrm>
            </p:grpSpPr>
            <p:sp>
              <p:nvSpPr>
                <p:cNvPr id="124" name="椭圆​​ 85"/>
                <p:cNvSpPr/>
                <p:nvPr/>
              </p:nvSpPr>
              <p:spPr>
                <a:xfrm flipV="1" rot="13608000">
                  <a:off x="1699560" y="1594800"/>
                  <a:ext cx="56592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椭圆​​ 86"/>
                <p:cNvSpPr/>
                <p:nvPr/>
              </p:nvSpPr>
              <p:spPr>
                <a:xfrm flipV="1" rot="13608000">
                  <a:off x="1831680" y="1607760"/>
                  <a:ext cx="456120" cy="44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6" name="Group 79"/>
              <p:cNvGrpSpPr/>
              <p:nvPr/>
            </p:nvGrpSpPr>
            <p:grpSpPr>
              <a:xfrm>
                <a:off x="1291680" y="1167480"/>
                <a:ext cx="886680" cy="887040"/>
                <a:chOff x="1291680" y="1167480"/>
                <a:chExt cx="886680" cy="887040"/>
              </a:xfrm>
            </p:grpSpPr>
            <p:sp>
              <p:nvSpPr>
                <p:cNvPr id="127" name="椭圆​​ 81"/>
                <p:cNvSpPr/>
                <p:nvPr/>
              </p:nvSpPr>
              <p:spPr>
                <a:xfrm flipV="1" rot="13608000">
                  <a:off x="1415520" y="1302840"/>
                  <a:ext cx="63828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椭圆​​ 82"/>
                <p:cNvSpPr/>
                <p:nvPr/>
              </p:nvSpPr>
              <p:spPr>
                <a:xfrm flipV="1" rot="13608000">
                  <a:off x="1563840" y="1330200"/>
                  <a:ext cx="51444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9" name="Group 82"/>
            <p:cNvGrpSpPr/>
            <p:nvPr/>
          </p:nvGrpSpPr>
          <p:grpSpPr>
            <a:xfrm>
              <a:off x="4076280" y="1292760"/>
              <a:ext cx="1792800" cy="1740600"/>
              <a:chOff x="4076280" y="1292760"/>
              <a:chExt cx="1792800" cy="1740600"/>
            </a:xfrm>
          </p:grpSpPr>
          <p:grpSp>
            <p:nvGrpSpPr>
              <p:cNvPr id="130" name="Group 83"/>
              <p:cNvGrpSpPr/>
              <p:nvPr/>
            </p:nvGrpSpPr>
            <p:grpSpPr>
              <a:xfrm>
                <a:off x="4076280" y="2535840"/>
                <a:ext cx="497520" cy="497520"/>
                <a:chOff x="4076280" y="2535840"/>
                <a:chExt cx="497520" cy="497520"/>
              </a:xfrm>
            </p:grpSpPr>
            <p:sp>
              <p:nvSpPr>
                <p:cNvPr id="131" name="椭圆​​ 73"/>
                <p:cNvSpPr/>
                <p:nvPr/>
              </p:nvSpPr>
              <p:spPr>
                <a:xfrm rot="19008600">
                  <a:off x="4149000" y="260856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椭圆​​ 74"/>
                <p:cNvSpPr/>
                <p:nvPr/>
              </p:nvSpPr>
              <p:spPr>
                <a:xfrm rot="19008600">
                  <a:off x="4135680" y="261324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3" name="Group 86"/>
              <p:cNvGrpSpPr/>
              <p:nvPr/>
            </p:nvGrpSpPr>
            <p:grpSpPr>
              <a:xfrm>
                <a:off x="4215600" y="2341440"/>
                <a:ext cx="559080" cy="559080"/>
                <a:chOff x="4215600" y="2341440"/>
                <a:chExt cx="559080" cy="559080"/>
              </a:xfrm>
            </p:grpSpPr>
            <p:sp>
              <p:nvSpPr>
                <p:cNvPr id="134" name="椭圆​​ 67"/>
                <p:cNvSpPr/>
                <p:nvPr/>
              </p:nvSpPr>
              <p:spPr>
                <a:xfrm rot="19008600">
                  <a:off x="4297320" y="2422800"/>
                  <a:ext cx="39564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椭圆​​ 70"/>
                <p:cNvSpPr/>
                <p:nvPr/>
              </p:nvSpPr>
              <p:spPr>
                <a:xfrm rot="19008600">
                  <a:off x="4282560" y="2428560"/>
                  <a:ext cx="31896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6" name="Group 89"/>
              <p:cNvGrpSpPr/>
              <p:nvPr/>
            </p:nvGrpSpPr>
            <p:grpSpPr>
              <a:xfrm>
                <a:off x="4374360" y="2127960"/>
                <a:ext cx="622440" cy="622440"/>
                <a:chOff x="4374360" y="2127960"/>
                <a:chExt cx="622440" cy="622440"/>
              </a:xfrm>
            </p:grpSpPr>
            <p:sp>
              <p:nvSpPr>
                <p:cNvPr id="137" name="椭圆​​ 58"/>
                <p:cNvSpPr/>
                <p:nvPr/>
              </p:nvSpPr>
              <p:spPr>
                <a:xfrm rot="19008600">
                  <a:off x="4465440" y="2218680"/>
                  <a:ext cx="44028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椭圆​​ 66"/>
                <p:cNvSpPr/>
                <p:nvPr/>
              </p:nvSpPr>
              <p:spPr>
                <a:xfrm rot="19008600">
                  <a:off x="4448520" y="222552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9" name="Group 92"/>
              <p:cNvGrpSpPr/>
              <p:nvPr/>
            </p:nvGrpSpPr>
            <p:grpSpPr>
              <a:xfrm>
                <a:off x="4497120" y="1888920"/>
                <a:ext cx="739080" cy="739080"/>
                <a:chOff x="4497120" y="1888920"/>
                <a:chExt cx="739080" cy="739080"/>
              </a:xfrm>
            </p:grpSpPr>
            <p:sp>
              <p:nvSpPr>
                <p:cNvPr id="140" name="椭圆​​ 55"/>
                <p:cNvSpPr/>
                <p:nvPr/>
              </p:nvSpPr>
              <p:spPr>
                <a:xfrm rot="19008600">
                  <a:off x="4605120" y="199692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椭圆​​ 56"/>
                <p:cNvSpPr/>
                <p:nvPr/>
              </p:nvSpPr>
              <p:spPr>
                <a:xfrm rot="19008600">
                  <a:off x="4585320" y="200448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2" name="Group 95"/>
              <p:cNvGrpSpPr/>
              <p:nvPr/>
            </p:nvGrpSpPr>
            <p:grpSpPr>
              <a:xfrm>
                <a:off x="4754160" y="1585080"/>
                <a:ext cx="800280" cy="800280"/>
                <a:chOff x="4754160" y="1585080"/>
                <a:chExt cx="800280" cy="800280"/>
              </a:xfrm>
            </p:grpSpPr>
            <p:sp>
              <p:nvSpPr>
                <p:cNvPr id="143" name="椭圆​​ 53"/>
                <p:cNvSpPr/>
                <p:nvPr/>
              </p:nvSpPr>
              <p:spPr>
                <a:xfrm rot="19008600">
                  <a:off x="4871160" y="1701720"/>
                  <a:ext cx="56592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椭圆​​ 54"/>
                <p:cNvSpPr/>
                <p:nvPr/>
              </p:nvSpPr>
              <p:spPr>
                <a:xfrm rot="19008600">
                  <a:off x="4849560" y="1710000"/>
                  <a:ext cx="45612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5" name="Group 98"/>
              <p:cNvGrpSpPr/>
              <p:nvPr/>
            </p:nvGrpSpPr>
            <p:grpSpPr>
              <a:xfrm>
                <a:off x="4966920" y="1292760"/>
                <a:ext cx="902160" cy="902160"/>
                <a:chOff x="4966920" y="1292760"/>
                <a:chExt cx="902160" cy="902160"/>
              </a:xfrm>
            </p:grpSpPr>
            <p:sp>
              <p:nvSpPr>
                <p:cNvPr id="146" name="椭圆​​ 49"/>
                <p:cNvSpPr/>
                <p:nvPr/>
              </p:nvSpPr>
              <p:spPr>
                <a:xfrm rot="19008600">
                  <a:off x="5098680" y="1424520"/>
                  <a:ext cx="63828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椭圆​​ 50"/>
                <p:cNvSpPr/>
                <p:nvPr/>
              </p:nvSpPr>
              <p:spPr>
                <a:xfrm rot="19008600">
                  <a:off x="5074200" y="14461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8" name="Group 101"/>
          <p:cNvGrpSpPr/>
          <p:nvPr/>
        </p:nvGrpSpPr>
        <p:grpSpPr>
          <a:xfrm>
            <a:off x="2205000" y="2006640"/>
            <a:ext cx="2617920" cy="2763720"/>
            <a:chOff x="2205000" y="2006640"/>
            <a:chExt cx="2617920" cy="2763720"/>
          </a:xfrm>
        </p:grpSpPr>
        <p:sp>
          <p:nvSpPr>
            <p:cNvPr id="149" name="椭圆​​ 132"/>
            <p:cNvSpPr/>
            <p:nvPr/>
          </p:nvSpPr>
          <p:spPr>
            <a:xfrm>
              <a:off x="2205000" y="2152080"/>
              <a:ext cx="2617920" cy="26182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椭圆​​ 133"/>
            <p:cNvSpPr/>
            <p:nvPr/>
          </p:nvSpPr>
          <p:spPr>
            <a:xfrm>
              <a:off x="2350440" y="2006640"/>
              <a:ext cx="2108880" cy="210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04"/>
          <p:cNvGrpSpPr/>
          <p:nvPr/>
        </p:nvGrpSpPr>
        <p:grpSpPr>
          <a:xfrm>
            <a:off x="590040" y="568440"/>
            <a:ext cx="5780520" cy="5771880"/>
            <a:chOff x="590040" y="568440"/>
            <a:chExt cx="5780520" cy="5771880"/>
          </a:xfrm>
        </p:grpSpPr>
        <p:grpSp>
          <p:nvGrpSpPr>
            <p:cNvPr id="152" name="Group 105"/>
            <p:cNvGrpSpPr/>
            <p:nvPr/>
          </p:nvGrpSpPr>
          <p:grpSpPr>
            <a:xfrm>
              <a:off x="4366440" y="3135240"/>
              <a:ext cx="2004120" cy="664560"/>
              <a:chOff x="4366440" y="3135240"/>
              <a:chExt cx="2004120" cy="664560"/>
            </a:xfrm>
          </p:grpSpPr>
          <p:grpSp>
            <p:nvGrpSpPr>
              <p:cNvPr id="153" name="Group 106"/>
              <p:cNvGrpSpPr/>
              <p:nvPr/>
            </p:nvGrpSpPr>
            <p:grpSpPr>
              <a:xfrm>
                <a:off x="4366440" y="3295800"/>
                <a:ext cx="351720" cy="371160"/>
                <a:chOff x="4366440" y="3295800"/>
                <a:chExt cx="351720" cy="371160"/>
              </a:xfrm>
            </p:grpSpPr>
            <p:sp>
              <p:nvSpPr>
                <p:cNvPr id="154" name="椭圆​​ 209"/>
                <p:cNvSpPr/>
                <p:nvPr/>
              </p:nvSpPr>
              <p:spPr>
                <a:xfrm>
                  <a:off x="4366440" y="3315240"/>
                  <a:ext cx="351720" cy="3517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椭圆​​ 210"/>
                <p:cNvSpPr/>
                <p:nvPr/>
              </p:nvSpPr>
              <p:spPr>
                <a:xfrm>
                  <a:off x="4385880" y="3295800"/>
                  <a:ext cx="283320" cy="28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6" name="Group 109"/>
              <p:cNvGrpSpPr/>
              <p:nvPr/>
            </p:nvGrpSpPr>
            <p:grpSpPr>
              <a:xfrm>
                <a:off x="4580640" y="3268800"/>
                <a:ext cx="395640" cy="417240"/>
                <a:chOff x="4580640" y="3268800"/>
                <a:chExt cx="395640" cy="417240"/>
              </a:xfrm>
            </p:grpSpPr>
            <p:sp>
              <p:nvSpPr>
                <p:cNvPr id="157" name="椭圆​​ 207"/>
                <p:cNvSpPr/>
                <p:nvPr/>
              </p:nvSpPr>
              <p:spPr>
                <a:xfrm>
                  <a:off x="4580640" y="3290760"/>
                  <a:ext cx="395640" cy="395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椭圆​​ 208"/>
                <p:cNvSpPr/>
                <p:nvPr/>
              </p:nvSpPr>
              <p:spPr>
                <a:xfrm>
                  <a:off x="4602600" y="3268800"/>
                  <a:ext cx="318960" cy="31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9" name="Group 112"/>
              <p:cNvGrpSpPr/>
              <p:nvPr/>
            </p:nvGrpSpPr>
            <p:grpSpPr>
              <a:xfrm>
                <a:off x="4821480" y="3242160"/>
                <a:ext cx="440280" cy="464400"/>
                <a:chOff x="4821480" y="3242160"/>
                <a:chExt cx="440280" cy="464400"/>
              </a:xfrm>
            </p:grpSpPr>
            <p:sp>
              <p:nvSpPr>
                <p:cNvPr id="160" name="椭圆​​ 205"/>
                <p:cNvSpPr/>
                <p:nvPr/>
              </p:nvSpPr>
              <p:spPr>
                <a:xfrm>
                  <a:off x="4821480" y="3266280"/>
                  <a:ext cx="440280" cy="440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椭圆​​ 206"/>
                <p:cNvSpPr/>
                <p:nvPr/>
              </p:nvSpPr>
              <p:spPr>
                <a:xfrm>
                  <a:off x="4845600" y="324216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2" name="Group 115"/>
              <p:cNvGrpSpPr/>
              <p:nvPr/>
            </p:nvGrpSpPr>
            <p:grpSpPr>
              <a:xfrm>
                <a:off x="5036040" y="3188520"/>
                <a:ext cx="522720" cy="551520"/>
                <a:chOff x="5036040" y="3188520"/>
                <a:chExt cx="522720" cy="551520"/>
              </a:xfrm>
            </p:grpSpPr>
            <p:sp>
              <p:nvSpPr>
                <p:cNvPr id="163" name="椭圆​​ 203"/>
                <p:cNvSpPr/>
                <p:nvPr/>
              </p:nvSpPr>
              <p:spPr>
                <a:xfrm>
                  <a:off x="5036040" y="3217320"/>
                  <a:ext cx="522720" cy="5227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4" name="椭圆​​ 204"/>
                <p:cNvSpPr/>
                <p:nvPr/>
              </p:nvSpPr>
              <p:spPr>
                <a:xfrm>
                  <a:off x="5064840" y="3188520"/>
                  <a:ext cx="421200" cy="42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5" name="Group 118"/>
              <p:cNvGrpSpPr/>
              <p:nvPr/>
            </p:nvGrpSpPr>
            <p:grpSpPr>
              <a:xfrm>
                <a:off x="5411160" y="3161880"/>
                <a:ext cx="565920" cy="597240"/>
                <a:chOff x="5411160" y="3161880"/>
                <a:chExt cx="565920" cy="597240"/>
              </a:xfrm>
            </p:grpSpPr>
            <p:sp>
              <p:nvSpPr>
                <p:cNvPr id="166" name="椭圆​​ 201"/>
                <p:cNvSpPr/>
                <p:nvPr/>
              </p:nvSpPr>
              <p:spPr>
                <a:xfrm>
                  <a:off x="5411160" y="3193200"/>
                  <a:ext cx="565920" cy="565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椭圆​​ 202"/>
                <p:cNvSpPr/>
                <p:nvPr/>
              </p:nvSpPr>
              <p:spPr>
                <a:xfrm>
                  <a:off x="5442480" y="3161880"/>
                  <a:ext cx="456120" cy="45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8" name="Group 121"/>
              <p:cNvGrpSpPr/>
              <p:nvPr/>
            </p:nvGrpSpPr>
            <p:grpSpPr>
              <a:xfrm>
                <a:off x="5732280" y="3135240"/>
                <a:ext cx="638280" cy="664560"/>
                <a:chOff x="5732280" y="3135240"/>
                <a:chExt cx="638280" cy="664560"/>
              </a:xfrm>
            </p:grpSpPr>
            <p:sp>
              <p:nvSpPr>
                <p:cNvPr id="169" name="椭圆​​ 199"/>
                <p:cNvSpPr/>
                <p:nvPr/>
              </p:nvSpPr>
              <p:spPr>
                <a:xfrm>
                  <a:off x="5732280" y="3161880"/>
                  <a:ext cx="638280" cy="637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椭圆​​ 200"/>
                <p:cNvSpPr/>
                <p:nvPr/>
              </p:nvSpPr>
              <p:spPr>
                <a:xfrm>
                  <a:off x="5758920" y="3135240"/>
                  <a:ext cx="514440" cy="51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71" name="Group 124"/>
            <p:cNvGrpSpPr/>
            <p:nvPr/>
          </p:nvGrpSpPr>
          <p:grpSpPr>
            <a:xfrm>
              <a:off x="3192840" y="4336560"/>
              <a:ext cx="641880" cy="2003760"/>
              <a:chOff x="3192840" y="4336560"/>
              <a:chExt cx="641880" cy="2003760"/>
            </a:xfrm>
          </p:grpSpPr>
          <p:grpSp>
            <p:nvGrpSpPr>
              <p:cNvPr id="172" name="Group 125"/>
              <p:cNvGrpSpPr/>
              <p:nvPr/>
            </p:nvGrpSpPr>
            <p:grpSpPr>
              <a:xfrm>
                <a:off x="3348000" y="4336560"/>
                <a:ext cx="358560" cy="351720"/>
                <a:chOff x="3348000" y="4336560"/>
                <a:chExt cx="358560" cy="351720"/>
              </a:xfrm>
            </p:grpSpPr>
            <p:sp>
              <p:nvSpPr>
                <p:cNvPr id="173" name="椭圆​​ 191"/>
                <p:cNvSpPr/>
                <p:nvPr/>
              </p:nvSpPr>
              <p:spPr>
                <a:xfrm flipV="1" rot="5400000">
                  <a:off x="3360600" y="434196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椭圆​​ 192"/>
                <p:cNvSpPr/>
                <p:nvPr/>
              </p:nvSpPr>
              <p:spPr>
                <a:xfrm flipV="1" rot="5400000">
                  <a:off x="3342960" y="436032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5" name="Group 128"/>
              <p:cNvGrpSpPr/>
              <p:nvPr/>
            </p:nvGrpSpPr>
            <p:grpSpPr>
              <a:xfrm>
                <a:off x="3322080" y="4550760"/>
                <a:ext cx="403200" cy="395280"/>
                <a:chOff x="3322080" y="4550760"/>
                <a:chExt cx="403200" cy="395280"/>
              </a:xfrm>
            </p:grpSpPr>
            <p:sp>
              <p:nvSpPr>
                <p:cNvPr id="176" name="椭圆​​ 189"/>
                <p:cNvSpPr/>
                <p:nvPr/>
              </p:nvSpPr>
              <p:spPr>
                <a:xfrm flipV="1" rot="5400000">
                  <a:off x="3336480" y="4557240"/>
                  <a:ext cx="39528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" name="椭圆​​ 190"/>
                <p:cNvSpPr/>
                <p:nvPr/>
              </p:nvSpPr>
              <p:spPr>
                <a:xfrm flipV="1" rot="5400000">
                  <a:off x="3316680" y="4577760"/>
                  <a:ext cx="31860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8" name="Group 131"/>
              <p:cNvGrpSpPr/>
              <p:nvPr/>
            </p:nvGrpSpPr>
            <p:grpSpPr>
              <a:xfrm>
                <a:off x="3296160" y="4791600"/>
                <a:ext cx="448560" cy="439920"/>
                <a:chOff x="3296160" y="4791600"/>
                <a:chExt cx="448560" cy="439920"/>
              </a:xfrm>
            </p:grpSpPr>
            <p:sp>
              <p:nvSpPr>
                <p:cNvPr id="179" name="椭圆​​ 187"/>
                <p:cNvSpPr/>
                <p:nvPr/>
              </p:nvSpPr>
              <p:spPr>
                <a:xfrm flipV="1" rot="5400000">
                  <a:off x="3312000" y="4798800"/>
                  <a:ext cx="43992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椭圆​​ 188"/>
                <p:cNvSpPr/>
                <p:nvPr/>
              </p:nvSpPr>
              <p:spPr>
                <a:xfrm flipV="1" rot="5400000">
                  <a:off x="3290040" y="482148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1" name="Group 134"/>
              <p:cNvGrpSpPr/>
              <p:nvPr/>
            </p:nvGrpSpPr>
            <p:grpSpPr>
              <a:xfrm>
                <a:off x="3244320" y="5005800"/>
                <a:ext cx="532800" cy="522720"/>
                <a:chOff x="3244320" y="5005800"/>
                <a:chExt cx="532800" cy="522720"/>
              </a:xfrm>
            </p:grpSpPr>
            <p:sp>
              <p:nvSpPr>
                <p:cNvPr id="182" name="椭圆​​ 185"/>
                <p:cNvSpPr/>
                <p:nvPr/>
              </p:nvSpPr>
              <p:spPr>
                <a:xfrm flipV="1" rot="5400000">
                  <a:off x="3263040" y="501444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椭圆​​ 186"/>
                <p:cNvSpPr/>
                <p:nvPr/>
              </p:nvSpPr>
              <p:spPr>
                <a:xfrm flipV="1" rot="5400000">
                  <a:off x="3237120" y="504180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4" name="Group 137"/>
              <p:cNvGrpSpPr/>
              <p:nvPr/>
            </p:nvGrpSpPr>
            <p:grpSpPr>
              <a:xfrm>
                <a:off x="3218400" y="5380920"/>
                <a:ext cx="576720" cy="565560"/>
                <a:chOff x="3218400" y="5380920"/>
                <a:chExt cx="576720" cy="565560"/>
              </a:xfrm>
            </p:grpSpPr>
            <p:sp>
              <p:nvSpPr>
                <p:cNvPr id="185" name="椭圆​​ 183"/>
                <p:cNvSpPr/>
                <p:nvPr/>
              </p:nvSpPr>
              <p:spPr>
                <a:xfrm flipV="1" rot="5400000">
                  <a:off x="3238920" y="5389920"/>
                  <a:ext cx="56556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椭圆​​ 184"/>
                <p:cNvSpPr/>
                <p:nvPr/>
              </p:nvSpPr>
              <p:spPr>
                <a:xfrm flipV="1" rot="5400000">
                  <a:off x="3210480" y="5419800"/>
                  <a:ext cx="455760" cy="44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7" name="Group 140"/>
              <p:cNvGrpSpPr/>
              <p:nvPr/>
            </p:nvGrpSpPr>
            <p:grpSpPr>
              <a:xfrm>
                <a:off x="3192840" y="5702400"/>
                <a:ext cx="641880" cy="637920"/>
                <a:chOff x="3192840" y="5702400"/>
                <a:chExt cx="641880" cy="637920"/>
              </a:xfrm>
            </p:grpSpPr>
            <p:sp>
              <p:nvSpPr>
                <p:cNvPr id="188" name="椭圆​​ 181"/>
                <p:cNvSpPr/>
                <p:nvPr/>
              </p:nvSpPr>
              <p:spPr>
                <a:xfrm flipV="1" rot="5400000">
                  <a:off x="3207600" y="5713200"/>
                  <a:ext cx="63792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" name="椭圆​​ 182"/>
                <p:cNvSpPr/>
                <p:nvPr/>
              </p:nvSpPr>
              <p:spPr>
                <a:xfrm flipV="1" rot="5400000">
                  <a:off x="3183840" y="5737680"/>
                  <a:ext cx="51408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90" name="Group 143"/>
            <p:cNvGrpSpPr/>
            <p:nvPr/>
          </p:nvGrpSpPr>
          <p:grpSpPr>
            <a:xfrm>
              <a:off x="590040" y="3146760"/>
              <a:ext cx="2004120" cy="641520"/>
              <a:chOff x="590040" y="3146760"/>
              <a:chExt cx="2004120" cy="641520"/>
            </a:xfrm>
          </p:grpSpPr>
          <p:grpSp>
            <p:nvGrpSpPr>
              <p:cNvPr id="191" name="Group 144"/>
              <p:cNvGrpSpPr/>
              <p:nvPr/>
            </p:nvGrpSpPr>
            <p:grpSpPr>
              <a:xfrm>
                <a:off x="2242440" y="3301560"/>
                <a:ext cx="351720" cy="358560"/>
                <a:chOff x="2242440" y="3301560"/>
                <a:chExt cx="351720" cy="358560"/>
              </a:xfrm>
            </p:grpSpPr>
            <p:sp>
              <p:nvSpPr>
                <p:cNvPr id="192" name="椭圆​​ 173"/>
                <p:cNvSpPr/>
                <p:nvPr/>
              </p:nvSpPr>
              <p:spPr>
                <a:xfrm flipV="1" rot="10800000">
                  <a:off x="2242440" y="332028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椭圆​​ 174"/>
                <p:cNvSpPr/>
                <p:nvPr/>
              </p:nvSpPr>
              <p:spPr>
                <a:xfrm flipV="1" rot="10800000">
                  <a:off x="2291400" y="330156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4" name="Group 147"/>
              <p:cNvGrpSpPr/>
              <p:nvPr/>
            </p:nvGrpSpPr>
            <p:grpSpPr>
              <a:xfrm>
                <a:off x="1984320" y="3276000"/>
                <a:ext cx="395640" cy="402840"/>
                <a:chOff x="1984320" y="3276000"/>
                <a:chExt cx="395640" cy="402840"/>
              </a:xfrm>
            </p:grpSpPr>
            <p:sp>
              <p:nvSpPr>
                <p:cNvPr id="195" name="椭圆​​ 171"/>
                <p:cNvSpPr/>
                <p:nvPr/>
              </p:nvSpPr>
              <p:spPr>
                <a:xfrm flipV="1" rot="10800000">
                  <a:off x="1984320" y="3296520"/>
                  <a:ext cx="395640" cy="3819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椭圆​​ 172"/>
                <p:cNvSpPr/>
                <p:nvPr/>
              </p:nvSpPr>
              <p:spPr>
                <a:xfrm flipV="1" rot="10800000">
                  <a:off x="2039040" y="3276000"/>
                  <a:ext cx="318960" cy="30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7" name="Group 150"/>
              <p:cNvGrpSpPr/>
              <p:nvPr/>
            </p:nvGrpSpPr>
            <p:grpSpPr>
              <a:xfrm>
                <a:off x="1698840" y="3250080"/>
                <a:ext cx="440280" cy="448200"/>
                <a:chOff x="1698840" y="3250080"/>
                <a:chExt cx="440280" cy="448200"/>
              </a:xfrm>
            </p:grpSpPr>
            <p:sp>
              <p:nvSpPr>
                <p:cNvPr id="198" name="椭圆​​ 169"/>
                <p:cNvSpPr/>
                <p:nvPr/>
              </p:nvSpPr>
              <p:spPr>
                <a:xfrm flipV="1" rot="10800000">
                  <a:off x="1698840" y="3273480"/>
                  <a:ext cx="440280" cy="424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椭圆​​ 170"/>
                <p:cNvSpPr/>
                <p:nvPr/>
              </p:nvSpPr>
              <p:spPr>
                <a:xfrm flipV="1" rot="10800000">
                  <a:off x="1760400" y="3250080"/>
                  <a:ext cx="354600" cy="34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0" name="Group 153"/>
              <p:cNvGrpSpPr/>
              <p:nvPr/>
            </p:nvGrpSpPr>
            <p:grpSpPr>
              <a:xfrm>
                <a:off x="1401840" y="3198240"/>
                <a:ext cx="522720" cy="532440"/>
                <a:chOff x="1401840" y="3198240"/>
                <a:chExt cx="522720" cy="532440"/>
              </a:xfrm>
            </p:grpSpPr>
            <p:sp>
              <p:nvSpPr>
                <p:cNvPr id="201" name="椭圆​​ 167"/>
                <p:cNvSpPr/>
                <p:nvPr/>
              </p:nvSpPr>
              <p:spPr>
                <a:xfrm flipV="1" rot="10800000">
                  <a:off x="1401840" y="3225960"/>
                  <a:ext cx="522720" cy="5047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" name="椭圆​​ 168"/>
                <p:cNvSpPr/>
                <p:nvPr/>
              </p:nvSpPr>
              <p:spPr>
                <a:xfrm flipV="1" rot="10800000">
                  <a:off x="1474560" y="3197880"/>
                  <a:ext cx="421200" cy="40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3" name="Group 156"/>
              <p:cNvGrpSpPr/>
              <p:nvPr/>
            </p:nvGrpSpPr>
            <p:grpSpPr>
              <a:xfrm>
                <a:off x="983520" y="3172320"/>
                <a:ext cx="565920" cy="576360"/>
                <a:chOff x="983520" y="3172320"/>
                <a:chExt cx="565920" cy="576360"/>
              </a:xfrm>
            </p:grpSpPr>
            <p:sp>
              <p:nvSpPr>
                <p:cNvPr id="204" name="椭圆​​ 165"/>
                <p:cNvSpPr/>
                <p:nvPr/>
              </p:nvSpPr>
              <p:spPr>
                <a:xfrm flipV="1" rot="10800000">
                  <a:off x="983520" y="3202200"/>
                  <a:ext cx="565920" cy="5461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" name="椭圆​​ 166"/>
                <p:cNvSpPr/>
                <p:nvPr/>
              </p:nvSpPr>
              <p:spPr>
                <a:xfrm flipV="1" rot="10800000">
                  <a:off x="1062000" y="3172320"/>
                  <a:ext cx="456120" cy="43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6" name="Group 159"/>
              <p:cNvGrpSpPr/>
              <p:nvPr/>
            </p:nvGrpSpPr>
            <p:grpSpPr>
              <a:xfrm>
                <a:off x="590040" y="3146760"/>
                <a:ext cx="638280" cy="641520"/>
                <a:chOff x="590040" y="3146760"/>
                <a:chExt cx="638280" cy="641520"/>
              </a:xfrm>
            </p:grpSpPr>
            <p:sp>
              <p:nvSpPr>
                <p:cNvPr id="207" name="椭圆​​ 163"/>
                <p:cNvSpPr/>
                <p:nvPr/>
              </p:nvSpPr>
              <p:spPr>
                <a:xfrm flipV="1" rot="10800000">
                  <a:off x="590040" y="3171960"/>
                  <a:ext cx="638280" cy="6159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" name="椭圆​​ 164"/>
                <p:cNvSpPr/>
                <p:nvPr/>
              </p:nvSpPr>
              <p:spPr>
                <a:xfrm flipV="1" rot="10800000">
                  <a:off x="687240" y="3146760"/>
                  <a:ext cx="514440" cy="49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09" name="Group 162"/>
            <p:cNvGrpSpPr/>
            <p:nvPr/>
          </p:nvGrpSpPr>
          <p:grpSpPr>
            <a:xfrm>
              <a:off x="3181320" y="568440"/>
              <a:ext cx="664920" cy="2003760"/>
              <a:chOff x="3181320" y="568440"/>
              <a:chExt cx="664920" cy="2003760"/>
            </a:xfrm>
          </p:grpSpPr>
          <p:grpSp>
            <p:nvGrpSpPr>
              <p:cNvPr id="210" name="Group 163"/>
              <p:cNvGrpSpPr/>
              <p:nvPr/>
            </p:nvGrpSpPr>
            <p:grpSpPr>
              <a:xfrm>
                <a:off x="3341880" y="2220480"/>
                <a:ext cx="371520" cy="351720"/>
                <a:chOff x="3341880" y="2220480"/>
                <a:chExt cx="371520" cy="351720"/>
              </a:xfrm>
            </p:grpSpPr>
            <p:sp>
              <p:nvSpPr>
                <p:cNvPr id="211" name="椭圆​​ 155"/>
                <p:cNvSpPr/>
                <p:nvPr/>
              </p:nvSpPr>
              <p:spPr>
                <a:xfrm rot="16200000">
                  <a:off x="3361320" y="222012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" name="椭圆​​ 156"/>
                <p:cNvSpPr/>
                <p:nvPr/>
              </p:nvSpPr>
              <p:spPr>
                <a:xfrm rot="16200000">
                  <a:off x="3341880" y="226908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3" name="Group 166"/>
              <p:cNvGrpSpPr/>
              <p:nvPr/>
            </p:nvGrpSpPr>
            <p:grpSpPr>
              <a:xfrm>
                <a:off x="3315240" y="1962720"/>
                <a:ext cx="417600" cy="395280"/>
                <a:chOff x="3315240" y="1962720"/>
                <a:chExt cx="417600" cy="395280"/>
              </a:xfrm>
            </p:grpSpPr>
            <p:sp>
              <p:nvSpPr>
                <p:cNvPr id="214" name="椭圆​​ 153"/>
                <p:cNvSpPr/>
                <p:nvPr/>
              </p:nvSpPr>
              <p:spPr>
                <a:xfrm rot="16200000">
                  <a:off x="3337200" y="1962360"/>
                  <a:ext cx="39528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" name="椭圆​​ 154"/>
                <p:cNvSpPr/>
                <p:nvPr/>
              </p:nvSpPr>
              <p:spPr>
                <a:xfrm rot="16200000">
                  <a:off x="3315240" y="2017080"/>
                  <a:ext cx="31860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6" name="Group 169"/>
              <p:cNvGrpSpPr/>
              <p:nvPr/>
            </p:nvGrpSpPr>
            <p:grpSpPr>
              <a:xfrm>
                <a:off x="3288240" y="1677240"/>
                <a:ext cx="464760" cy="439920"/>
                <a:chOff x="3288240" y="1677240"/>
                <a:chExt cx="464760" cy="439920"/>
              </a:xfrm>
            </p:grpSpPr>
            <p:sp>
              <p:nvSpPr>
                <p:cNvPr id="217" name="椭圆​​ 151"/>
                <p:cNvSpPr/>
                <p:nvPr/>
              </p:nvSpPr>
              <p:spPr>
                <a:xfrm rot="16200000">
                  <a:off x="3312720" y="1676880"/>
                  <a:ext cx="43992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椭圆​​ 152"/>
                <p:cNvSpPr/>
                <p:nvPr/>
              </p:nvSpPr>
              <p:spPr>
                <a:xfrm rot="16200000">
                  <a:off x="3288240" y="173844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9" name="Group 172"/>
              <p:cNvGrpSpPr/>
              <p:nvPr/>
            </p:nvGrpSpPr>
            <p:grpSpPr>
              <a:xfrm>
                <a:off x="3234600" y="1380240"/>
                <a:ext cx="551880" cy="522720"/>
                <a:chOff x="3234600" y="1380240"/>
                <a:chExt cx="551880" cy="522720"/>
              </a:xfrm>
            </p:grpSpPr>
            <p:sp>
              <p:nvSpPr>
                <p:cNvPr id="220" name="椭圆​​ 149"/>
                <p:cNvSpPr/>
                <p:nvPr/>
              </p:nvSpPr>
              <p:spPr>
                <a:xfrm rot="16200000">
                  <a:off x="3263400" y="137988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" name="椭圆​​ 150"/>
                <p:cNvSpPr/>
                <p:nvPr/>
              </p:nvSpPr>
              <p:spPr>
                <a:xfrm rot="16200000">
                  <a:off x="3234600" y="145296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2" name="Group 175"/>
              <p:cNvGrpSpPr/>
              <p:nvPr/>
            </p:nvGrpSpPr>
            <p:grpSpPr>
              <a:xfrm>
                <a:off x="3207960" y="962280"/>
                <a:ext cx="597600" cy="565560"/>
                <a:chOff x="3207960" y="962280"/>
                <a:chExt cx="597600" cy="565560"/>
              </a:xfrm>
            </p:grpSpPr>
            <p:sp>
              <p:nvSpPr>
                <p:cNvPr id="223" name="椭圆​​ 147"/>
                <p:cNvSpPr/>
                <p:nvPr/>
              </p:nvSpPr>
              <p:spPr>
                <a:xfrm rot="16200000">
                  <a:off x="3239640" y="961920"/>
                  <a:ext cx="56556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" name="椭圆​​ 148"/>
                <p:cNvSpPr/>
                <p:nvPr/>
              </p:nvSpPr>
              <p:spPr>
                <a:xfrm rot="16200000">
                  <a:off x="3207960" y="1040400"/>
                  <a:ext cx="45576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5" name="Group 178"/>
              <p:cNvGrpSpPr/>
              <p:nvPr/>
            </p:nvGrpSpPr>
            <p:grpSpPr>
              <a:xfrm>
                <a:off x="3181320" y="568440"/>
                <a:ext cx="664920" cy="637920"/>
                <a:chOff x="3181320" y="568440"/>
                <a:chExt cx="664920" cy="637920"/>
              </a:xfrm>
            </p:grpSpPr>
            <p:sp>
              <p:nvSpPr>
                <p:cNvPr id="226" name="椭圆​​ 145"/>
                <p:cNvSpPr/>
                <p:nvPr/>
              </p:nvSpPr>
              <p:spPr>
                <a:xfrm rot="16200000">
                  <a:off x="3207960" y="568080"/>
                  <a:ext cx="63792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" name="椭圆​​ 146"/>
                <p:cNvSpPr/>
                <p:nvPr/>
              </p:nvSpPr>
              <p:spPr>
                <a:xfrm rot="16200000">
                  <a:off x="3181320" y="665640"/>
                  <a:ext cx="51408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28" name="Group 181"/>
          <p:cNvGrpSpPr/>
          <p:nvPr/>
        </p:nvGrpSpPr>
        <p:grpSpPr>
          <a:xfrm>
            <a:off x="1230840" y="1259280"/>
            <a:ext cx="4558320" cy="4424400"/>
            <a:chOff x="1230840" y="1259280"/>
            <a:chExt cx="4558320" cy="4424400"/>
          </a:xfrm>
        </p:grpSpPr>
        <p:grpSp>
          <p:nvGrpSpPr>
            <p:cNvPr id="229" name="Group 182"/>
            <p:cNvGrpSpPr/>
            <p:nvPr/>
          </p:nvGrpSpPr>
          <p:grpSpPr>
            <a:xfrm>
              <a:off x="3793680" y="3466440"/>
              <a:ext cx="1995480" cy="1409400"/>
              <a:chOff x="3793680" y="3466440"/>
              <a:chExt cx="1995480" cy="1409400"/>
            </a:xfrm>
          </p:grpSpPr>
          <p:grpSp>
            <p:nvGrpSpPr>
              <p:cNvPr id="230" name="Group 183"/>
              <p:cNvGrpSpPr/>
              <p:nvPr/>
            </p:nvGrpSpPr>
            <p:grpSpPr>
              <a:xfrm>
                <a:off x="3793680" y="3466440"/>
                <a:ext cx="478800" cy="486360"/>
                <a:chOff x="3793680" y="3466440"/>
                <a:chExt cx="478800" cy="486360"/>
              </a:xfrm>
            </p:grpSpPr>
            <p:sp>
              <p:nvSpPr>
                <p:cNvPr id="231" name="椭圆​​ 286"/>
                <p:cNvSpPr/>
                <p:nvPr/>
              </p:nvSpPr>
              <p:spPr>
                <a:xfrm rot="1753200">
                  <a:off x="3857040" y="353736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椭圆​​ 287"/>
                <p:cNvSpPr/>
                <p:nvPr/>
              </p:nvSpPr>
              <p:spPr>
                <a:xfrm rot="1753200">
                  <a:off x="3904200" y="351720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Group 186"/>
              <p:cNvGrpSpPr/>
              <p:nvPr/>
            </p:nvGrpSpPr>
            <p:grpSpPr>
              <a:xfrm>
                <a:off x="3971160" y="3549240"/>
                <a:ext cx="538200" cy="546840"/>
                <a:chOff x="3971160" y="3549240"/>
                <a:chExt cx="538200" cy="546840"/>
              </a:xfrm>
            </p:grpSpPr>
            <p:sp>
              <p:nvSpPr>
                <p:cNvPr id="234" name="椭圆​​ 284"/>
                <p:cNvSpPr/>
                <p:nvPr/>
              </p:nvSpPr>
              <p:spPr>
                <a:xfrm rot="1753200">
                  <a:off x="4042080" y="3628800"/>
                  <a:ext cx="39564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椭圆​​ 285"/>
                <p:cNvSpPr/>
                <p:nvPr/>
              </p:nvSpPr>
              <p:spPr>
                <a:xfrm rot="1753200">
                  <a:off x="4095720" y="3606480"/>
                  <a:ext cx="31896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6" name="Group 189"/>
              <p:cNvGrpSpPr/>
              <p:nvPr/>
            </p:nvGrpSpPr>
            <p:grpSpPr>
              <a:xfrm>
                <a:off x="4170960" y="3644280"/>
                <a:ext cx="599400" cy="608760"/>
                <a:chOff x="4170960" y="3644280"/>
                <a:chExt cx="599400" cy="608760"/>
              </a:xfrm>
            </p:grpSpPr>
            <p:sp>
              <p:nvSpPr>
                <p:cNvPr id="237" name="椭圆​​ 282"/>
                <p:cNvSpPr/>
                <p:nvPr/>
              </p:nvSpPr>
              <p:spPr>
                <a:xfrm rot="1753200">
                  <a:off x="4250520" y="3732840"/>
                  <a:ext cx="44028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椭圆​​ 283"/>
                <p:cNvSpPr/>
                <p:nvPr/>
              </p:nvSpPr>
              <p:spPr>
                <a:xfrm rot="1753200">
                  <a:off x="4309560" y="370800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9" name="Group 192"/>
              <p:cNvGrpSpPr/>
              <p:nvPr/>
            </p:nvGrpSpPr>
            <p:grpSpPr>
              <a:xfrm>
                <a:off x="4342320" y="3704400"/>
                <a:ext cx="711360" cy="722880"/>
                <a:chOff x="4342320" y="3704400"/>
                <a:chExt cx="711360" cy="722880"/>
              </a:xfrm>
            </p:grpSpPr>
            <p:sp>
              <p:nvSpPr>
                <p:cNvPr id="240" name="椭圆​​ 280"/>
                <p:cNvSpPr/>
                <p:nvPr/>
              </p:nvSpPr>
              <p:spPr>
                <a:xfrm rot="1753200">
                  <a:off x="4436280" y="380952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椭圆​​ 281"/>
                <p:cNvSpPr/>
                <p:nvPr/>
              </p:nvSpPr>
              <p:spPr>
                <a:xfrm rot="1753200">
                  <a:off x="4506840" y="378036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2" name="Group 195"/>
              <p:cNvGrpSpPr/>
              <p:nvPr/>
            </p:nvGrpSpPr>
            <p:grpSpPr>
              <a:xfrm>
                <a:off x="4660200" y="3865680"/>
                <a:ext cx="770400" cy="782280"/>
                <a:chOff x="4660200" y="3865680"/>
                <a:chExt cx="770400" cy="782280"/>
              </a:xfrm>
            </p:grpSpPr>
            <p:sp>
              <p:nvSpPr>
                <p:cNvPr id="243" name="椭圆​​ 278"/>
                <p:cNvSpPr/>
                <p:nvPr/>
              </p:nvSpPr>
              <p:spPr>
                <a:xfrm rot="1753200">
                  <a:off x="4762440" y="3979440"/>
                  <a:ext cx="56592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椭圆​​ 279"/>
                <p:cNvSpPr/>
                <p:nvPr/>
              </p:nvSpPr>
              <p:spPr>
                <a:xfrm rot="1753200">
                  <a:off x="4838760" y="3947760"/>
                  <a:ext cx="45612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5" name="Group 198"/>
              <p:cNvGrpSpPr/>
              <p:nvPr/>
            </p:nvGrpSpPr>
            <p:grpSpPr>
              <a:xfrm>
                <a:off x="4920480" y="3996720"/>
                <a:ext cx="868680" cy="879120"/>
                <a:chOff x="4920480" y="3996720"/>
                <a:chExt cx="868680" cy="879120"/>
              </a:xfrm>
            </p:grpSpPr>
            <p:sp>
              <p:nvSpPr>
                <p:cNvPr id="246" name="椭圆​​ 276"/>
                <p:cNvSpPr/>
                <p:nvPr/>
              </p:nvSpPr>
              <p:spPr>
                <a:xfrm rot="1753200">
                  <a:off x="5035680" y="4122000"/>
                  <a:ext cx="63828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" name="椭圆​​ 277"/>
                <p:cNvSpPr/>
                <p:nvPr/>
              </p:nvSpPr>
              <p:spPr>
                <a:xfrm rot="1753200">
                  <a:off x="5110200" y="4089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48" name="Group 201"/>
            <p:cNvGrpSpPr/>
            <p:nvPr/>
          </p:nvGrpSpPr>
          <p:grpSpPr>
            <a:xfrm>
              <a:off x="2106360" y="3706560"/>
              <a:ext cx="1404360" cy="1977120"/>
              <a:chOff x="2106360" y="3706560"/>
              <a:chExt cx="1404360" cy="1977120"/>
            </a:xfrm>
          </p:grpSpPr>
          <p:grpSp>
            <p:nvGrpSpPr>
              <p:cNvPr id="249" name="Group 202"/>
              <p:cNvGrpSpPr/>
              <p:nvPr/>
            </p:nvGrpSpPr>
            <p:grpSpPr>
              <a:xfrm>
                <a:off x="3042360" y="3706560"/>
                <a:ext cx="468360" cy="473040"/>
                <a:chOff x="3042360" y="3706560"/>
                <a:chExt cx="468360" cy="473040"/>
              </a:xfrm>
            </p:grpSpPr>
            <p:sp>
              <p:nvSpPr>
                <p:cNvPr id="250" name="椭圆​​ 268"/>
                <p:cNvSpPr/>
                <p:nvPr/>
              </p:nvSpPr>
              <p:spPr>
                <a:xfrm flipV="1" rot="7153800">
                  <a:off x="3100680" y="377316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椭圆​​ 269"/>
                <p:cNvSpPr/>
                <p:nvPr/>
              </p:nvSpPr>
              <p:spPr>
                <a:xfrm flipV="1" rot="7153800">
                  <a:off x="3096720" y="376812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2" name="Group 205"/>
              <p:cNvGrpSpPr/>
              <p:nvPr/>
            </p:nvGrpSpPr>
            <p:grpSpPr>
              <a:xfrm>
                <a:off x="2895840" y="3881880"/>
                <a:ext cx="526680" cy="531720"/>
                <a:chOff x="2895840" y="3881880"/>
                <a:chExt cx="526680" cy="531720"/>
              </a:xfrm>
            </p:grpSpPr>
            <p:sp>
              <p:nvSpPr>
                <p:cNvPr id="253" name="椭圆​​ 266"/>
                <p:cNvSpPr/>
                <p:nvPr/>
              </p:nvSpPr>
              <p:spPr>
                <a:xfrm flipV="1" rot="7153800">
                  <a:off x="2961360" y="3956040"/>
                  <a:ext cx="39528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椭圆​​ 267"/>
                <p:cNvSpPr/>
                <p:nvPr/>
              </p:nvSpPr>
              <p:spPr>
                <a:xfrm flipV="1" rot="7153800">
                  <a:off x="2956680" y="3951000"/>
                  <a:ext cx="31860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5" name="Group 208"/>
              <p:cNvGrpSpPr/>
              <p:nvPr/>
            </p:nvGrpSpPr>
            <p:grpSpPr>
              <a:xfrm>
                <a:off x="2735640" y="4080600"/>
                <a:ext cx="586080" cy="591480"/>
                <a:chOff x="2735640" y="4080600"/>
                <a:chExt cx="586080" cy="591480"/>
              </a:xfrm>
            </p:grpSpPr>
            <p:sp>
              <p:nvSpPr>
                <p:cNvPr id="256" name="椭圆​​ 264"/>
                <p:cNvSpPr/>
                <p:nvPr/>
              </p:nvSpPr>
              <p:spPr>
                <a:xfrm flipV="1" rot="7153800">
                  <a:off x="2808360" y="4163040"/>
                  <a:ext cx="43992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" name="椭圆​​ 265"/>
                <p:cNvSpPr/>
                <p:nvPr/>
              </p:nvSpPr>
              <p:spPr>
                <a:xfrm flipV="1" rot="7153800">
                  <a:off x="2804040" y="415728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8" name="Group 211"/>
              <p:cNvGrpSpPr/>
              <p:nvPr/>
            </p:nvGrpSpPr>
            <p:grpSpPr>
              <a:xfrm>
                <a:off x="2549520" y="4244400"/>
                <a:ext cx="695880" cy="702720"/>
                <a:chOff x="2549520" y="4244400"/>
                <a:chExt cx="695880" cy="702720"/>
              </a:xfrm>
            </p:grpSpPr>
            <p:sp>
              <p:nvSpPr>
                <p:cNvPr id="259" name="椭圆​​ 262"/>
                <p:cNvSpPr/>
                <p:nvPr/>
              </p:nvSpPr>
              <p:spPr>
                <a:xfrm flipV="1" rot="7153800">
                  <a:off x="2635920" y="434304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椭圆​​ 263"/>
                <p:cNvSpPr/>
                <p:nvPr/>
              </p:nvSpPr>
              <p:spPr>
                <a:xfrm flipV="1" rot="7153800">
                  <a:off x="2630160" y="433512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214"/>
              <p:cNvGrpSpPr/>
              <p:nvPr/>
            </p:nvGrpSpPr>
            <p:grpSpPr>
              <a:xfrm>
                <a:off x="2324880" y="4560480"/>
                <a:ext cx="753120" cy="760320"/>
                <a:chOff x="2324880" y="4560480"/>
                <a:chExt cx="753120" cy="760320"/>
              </a:xfrm>
            </p:grpSpPr>
            <p:sp>
              <p:nvSpPr>
                <p:cNvPr id="262" name="椭圆​​ 260"/>
                <p:cNvSpPr/>
                <p:nvPr/>
              </p:nvSpPr>
              <p:spPr>
                <a:xfrm flipV="1" rot="7153800">
                  <a:off x="2418480" y="4667040"/>
                  <a:ext cx="56556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椭圆​​ 261"/>
                <p:cNvSpPr/>
                <p:nvPr/>
              </p:nvSpPr>
              <p:spPr>
                <a:xfrm flipV="1" rot="7153800">
                  <a:off x="2412000" y="4658760"/>
                  <a:ext cx="455760" cy="44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4" name="Group 217"/>
              <p:cNvGrpSpPr/>
              <p:nvPr/>
            </p:nvGrpSpPr>
            <p:grpSpPr>
              <a:xfrm>
                <a:off x="2106360" y="4826160"/>
                <a:ext cx="849240" cy="857520"/>
                <a:chOff x="2106360" y="4826160"/>
                <a:chExt cx="849240" cy="857520"/>
              </a:xfrm>
            </p:grpSpPr>
            <p:sp>
              <p:nvSpPr>
                <p:cNvPr id="265" name="椭圆​​ 258"/>
                <p:cNvSpPr/>
                <p:nvPr/>
              </p:nvSpPr>
              <p:spPr>
                <a:xfrm flipV="1" rot="7153800">
                  <a:off x="2211840" y="4946400"/>
                  <a:ext cx="63792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椭圆​​ 259"/>
                <p:cNvSpPr/>
                <p:nvPr/>
              </p:nvSpPr>
              <p:spPr>
                <a:xfrm flipV="1" rot="7153800">
                  <a:off x="2216520" y="4933440"/>
                  <a:ext cx="51408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67" name="Group 220"/>
            <p:cNvGrpSpPr/>
            <p:nvPr/>
          </p:nvGrpSpPr>
          <p:grpSpPr>
            <a:xfrm>
              <a:off x="1230840" y="1999080"/>
              <a:ext cx="1977480" cy="1404720"/>
              <a:chOff x="1230840" y="1999080"/>
              <a:chExt cx="1977480" cy="1404720"/>
            </a:xfrm>
          </p:grpSpPr>
          <p:grpSp>
            <p:nvGrpSpPr>
              <p:cNvPr id="268" name="Group 221"/>
              <p:cNvGrpSpPr/>
              <p:nvPr/>
            </p:nvGrpSpPr>
            <p:grpSpPr>
              <a:xfrm>
                <a:off x="2735280" y="2935440"/>
                <a:ext cx="473040" cy="468360"/>
                <a:chOff x="2735280" y="2935440"/>
                <a:chExt cx="473040" cy="468360"/>
              </a:xfrm>
            </p:grpSpPr>
            <p:sp>
              <p:nvSpPr>
                <p:cNvPr id="269" name="椭圆​​ 250"/>
                <p:cNvSpPr/>
                <p:nvPr/>
              </p:nvSpPr>
              <p:spPr>
                <a:xfrm flipV="1" rot="12553800">
                  <a:off x="2795760" y="299916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椭圆​​ 251"/>
                <p:cNvSpPr/>
                <p:nvPr/>
              </p:nvSpPr>
              <p:spPr>
                <a:xfrm flipV="1" rot="12553800">
                  <a:off x="2868120" y="299412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1" name="Group 224"/>
              <p:cNvGrpSpPr/>
              <p:nvPr/>
            </p:nvGrpSpPr>
            <p:grpSpPr>
              <a:xfrm>
                <a:off x="2500920" y="2788560"/>
                <a:ext cx="532080" cy="527040"/>
                <a:chOff x="2500920" y="2788560"/>
                <a:chExt cx="532080" cy="527040"/>
              </a:xfrm>
            </p:grpSpPr>
            <p:sp>
              <p:nvSpPr>
                <p:cNvPr id="272" name="椭圆​​ 248"/>
                <p:cNvSpPr/>
                <p:nvPr/>
              </p:nvSpPr>
              <p:spPr>
                <a:xfrm flipV="1" rot="12553800">
                  <a:off x="2568960" y="2860920"/>
                  <a:ext cx="39564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" name="椭圆​​ 249"/>
                <p:cNvSpPr/>
                <p:nvPr/>
              </p:nvSpPr>
              <p:spPr>
                <a:xfrm flipV="1" rot="12553800">
                  <a:off x="2649960" y="2854800"/>
                  <a:ext cx="31896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4" name="Group 227"/>
              <p:cNvGrpSpPr/>
              <p:nvPr/>
            </p:nvGrpSpPr>
            <p:grpSpPr>
              <a:xfrm>
                <a:off x="2242440" y="2628720"/>
                <a:ext cx="591840" cy="586080"/>
                <a:chOff x="2242440" y="2628720"/>
                <a:chExt cx="591840" cy="586080"/>
              </a:xfrm>
            </p:grpSpPr>
            <p:sp>
              <p:nvSpPr>
                <p:cNvPr id="275" name="椭圆​​ 246"/>
                <p:cNvSpPr/>
                <p:nvPr/>
              </p:nvSpPr>
              <p:spPr>
                <a:xfrm flipV="1" rot="12553800">
                  <a:off x="2318040" y="2709000"/>
                  <a:ext cx="44028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椭圆​​ 247"/>
                <p:cNvSpPr/>
                <p:nvPr/>
              </p:nvSpPr>
              <p:spPr>
                <a:xfrm flipV="1" rot="12553800">
                  <a:off x="2408760" y="270252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7" name="Group 230"/>
              <p:cNvGrpSpPr/>
              <p:nvPr/>
            </p:nvGrpSpPr>
            <p:grpSpPr>
              <a:xfrm>
                <a:off x="1967400" y="2442240"/>
                <a:ext cx="702720" cy="695880"/>
                <a:chOff x="1967400" y="2442240"/>
                <a:chExt cx="702720" cy="695880"/>
              </a:xfrm>
            </p:grpSpPr>
            <p:sp>
              <p:nvSpPr>
                <p:cNvPr id="278" name="椭圆​​ 244"/>
                <p:cNvSpPr/>
                <p:nvPr/>
              </p:nvSpPr>
              <p:spPr>
                <a:xfrm flipV="1" rot="12553800">
                  <a:off x="2057040" y="253692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椭圆​​ 245"/>
                <p:cNvSpPr/>
                <p:nvPr/>
              </p:nvSpPr>
              <p:spPr>
                <a:xfrm flipV="1" rot="12553800">
                  <a:off x="2164680" y="253008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0" name="Group 233"/>
              <p:cNvGrpSpPr/>
              <p:nvPr/>
            </p:nvGrpSpPr>
            <p:grpSpPr>
              <a:xfrm>
                <a:off x="1593720" y="2217600"/>
                <a:ext cx="760680" cy="753120"/>
                <a:chOff x="1593720" y="2217600"/>
                <a:chExt cx="760680" cy="753120"/>
              </a:xfrm>
            </p:grpSpPr>
            <p:sp>
              <p:nvSpPr>
                <p:cNvPr id="281" name="椭圆​​ 242"/>
                <p:cNvSpPr/>
                <p:nvPr/>
              </p:nvSpPr>
              <p:spPr>
                <a:xfrm flipV="1" rot="12553800">
                  <a:off x="1690920" y="2320560"/>
                  <a:ext cx="56592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2" name="椭圆​​ 243"/>
                <p:cNvSpPr/>
                <p:nvPr/>
              </p:nvSpPr>
              <p:spPr>
                <a:xfrm flipV="1" rot="12553800">
                  <a:off x="1806840" y="2312280"/>
                  <a:ext cx="456120" cy="44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236"/>
              <p:cNvGrpSpPr/>
              <p:nvPr/>
            </p:nvGrpSpPr>
            <p:grpSpPr>
              <a:xfrm>
                <a:off x="1230840" y="1999080"/>
                <a:ext cx="857880" cy="849600"/>
                <a:chOff x="1230840" y="1999080"/>
                <a:chExt cx="857880" cy="849600"/>
              </a:xfrm>
            </p:grpSpPr>
            <p:sp>
              <p:nvSpPr>
                <p:cNvPr id="284" name="椭圆​​ 240"/>
                <p:cNvSpPr/>
                <p:nvPr/>
              </p:nvSpPr>
              <p:spPr>
                <a:xfrm flipV="1" rot="12553800">
                  <a:off x="1340280" y="2115720"/>
                  <a:ext cx="63828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5" name="椭圆​​ 241"/>
                <p:cNvSpPr/>
                <p:nvPr/>
              </p:nvSpPr>
              <p:spPr>
                <a:xfrm flipV="1" rot="12553800">
                  <a:off x="1474920" y="2117520"/>
                  <a:ext cx="51444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86" name="Group 239"/>
            <p:cNvGrpSpPr/>
            <p:nvPr/>
          </p:nvGrpSpPr>
          <p:grpSpPr>
            <a:xfrm>
              <a:off x="3573720" y="1259280"/>
              <a:ext cx="1409040" cy="1995480"/>
              <a:chOff x="3573720" y="1259280"/>
              <a:chExt cx="1409040" cy="1995480"/>
            </a:xfrm>
          </p:grpSpPr>
          <p:grpSp>
            <p:nvGrpSpPr>
              <p:cNvPr id="287" name="Group 240"/>
              <p:cNvGrpSpPr/>
              <p:nvPr/>
            </p:nvGrpSpPr>
            <p:grpSpPr>
              <a:xfrm>
                <a:off x="3573720" y="2775960"/>
                <a:ext cx="486360" cy="478800"/>
                <a:chOff x="3573720" y="2775960"/>
                <a:chExt cx="486360" cy="478800"/>
              </a:xfrm>
            </p:grpSpPr>
            <p:sp>
              <p:nvSpPr>
                <p:cNvPr id="288" name="椭圆​​ 232"/>
                <p:cNvSpPr/>
                <p:nvPr/>
              </p:nvSpPr>
              <p:spPr>
                <a:xfrm rot="17953200">
                  <a:off x="3644640" y="283932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9" name="椭圆​​ 233"/>
                <p:cNvSpPr/>
                <p:nvPr/>
              </p:nvSpPr>
              <p:spPr>
                <a:xfrm rot="17953200">
                  <a:off x="3624840" y="286020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0" name="Group 243"/>
              <p:cNvGrpSpPr/>
              <p:nvPr/>
            </p:nvGrpSpPr>
            <p:grpSpPr>
              <a:xfrm>
                <a:off x="3656520" y="2539440"/>
                <a:ext cx="546480" cy="537840"/>
                <a:chOff x="3656520" y="2539440"/>
                <a:chExt cx="546480" cy="537840"/>
              </a:xfrm>
            </p:grpSpPr>
            <p:sp>
              <p:nvSpPr>
                <p:cNvPr id="291" name="椭圆​​ 230"/>
                <p:cNvSpPr/>
                <p:nvPr/>
              </p:nvSpPr>
              <p:spPr>
                <a:xfrm rot="17953200">
                  <a:off x="3736080" y="2610360"/>
                  <a:ext cx="39528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2" name="椭圆​​ 231"/>
                <p:cNvSpPr/>
                <p:nvPr/>
              </p:nvSpPr>
              <p:spPr>
                <a:xfrm rot="17953200">
                  <a:off x="3714120" y="2633760"/>
                  <a:ext cx="31860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3" name="Group 246"/>
              <p:cNvGrpSpPr/>
              <p:nvPr/>
            </p:nvGrpSpPr>
            <p:grpSpPr>
              <a:xfrm>
                <a:off x="3751560" y="2278080"/>
                <a:ext cx="608760" cy="599400"/>
                <a:chOff x="3751560" y="2278080"/>
                <a:chExt cx="608760" cy="599400"/>
              </a:xfrm>
            </p:grpSpPr>
            <p:sp>
              <p:nvSpPr>
                <p:cNvPr id="294" name="椭圆​​ 228"/>
                <p:cNvSpPr/>
                <p:nvPr/>
              </p:nvSpPr>
              <p:spPr>
                <a:xfrm rot="17953200">
                  <a:off x="3840480" y="2357280"/>
                  <a:ext cx="43992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5" name="椭圆​​ 229"/>
                <p:cNvSpPr/>
                <p:nvPr/>
              </p:nvSpPr>
              <p:spPr>
                <a:xfrm rot="17953200">
                  <a:off x="3815280" y="238392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6" name="Group 249"/>
              <p:cNvGrpSpPr/>
              <p:nvPr/>
            </p:nvGrpSpPr>
            <p:grpSpPr>
              <a:xfrm>
                <a:off x="3811680" y="1995120"/>
                <a:ext cx="722520" cy="711360"/>
                <a:chOff x="3811680" y="1995120"/>
                <a:chExt cx="722520" cy="711360"/>
              </a:xfrm>
            </p:grpSpPr>
            <p:sp>
              <p:nvSpPr>
                <p:cNvPr id="297" name="椭圆​​ 226"/>
                <p:cNvSpPr/>
                <p:nvPr/>
              </p:nvSpPr>
              <p:spPr>
                <a:xfrm rot="17953200">
                  <a:off x="3916800" y="208908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8" name="椭圆​​ 227"/>
                <p:cNvSpPr/>
                <p:nvPr/>
              </p:nvSpPr>
              <p:spPr>
                <a:xfrm rot="17953200">
                  <a:off x="3887640" y="212040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9" name="Group 252"/>
              <p:cNvGrpSpPr/>
              <p:nvPr/>
            </p:nvGrpSpPr>
            <p:grpSpPr>
              <a:xfrm>
                <a:off x="3972600" y="1618560"/>
                <a:ext cx="782640" cy="770040"/>
                <a:chOff x="3972600" y="1618560"/>
                <a:chExt cx="782640" cy="770040"/>
              </a:xfrm>
            </p:grpSpPr>
            <p:sp>
              <p:nvSpPr>
                <p:cNvPr id="300" name="椭圆​​ 224"/>
                <p:cNvSpPr/>
                <p:nvPr/>
              </p:nvSpPr>
              <p:spPr>
                <a:xfrm rot="17953200">
                  <a:off x="4087080" y="1720080"/>
                  <a:ext cx="56556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1" name="椭圆​​ 225"/>
                <p:cNvSpPr/>
                <p:nvPr/>
              </p:nvSpPr>
              <p:spPr>
                <a:xfrm rot="17953200">
                  <a:off x="4054680" y="1753920"/>
                  <a:ext cx="45576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2" name="Group 255"/>
              <p:cNvGrpSpPr/>
              <p:nvPr/>
            </p:nvGrpSpPr>
            <p:grpSpPr>
              <a:xfrm>
                <a:off x="4104000" y="1259280"/>
                <a:ext cx="878760" cy="868680"/>
                <a:chOff x="4104000" y="1259280"/>
                <a:chExt cx="878760" cy="868680"/>
              </a:xfrm>
            </p:grpSpPr>
            <p:sp>
              <p:nvSpPr>
                <p:cNvPr id="303" name="椭圆​​ 222"/>
                <p:cNvSpPr/>
                <p:nvPr/>
              </p:nvSpPr>
              <p:spPr>
                <a:xfrm rot="17953200">
                  <a:off x="4229640" y="1374120"/>
                  <a:ext cx="63792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4" name="椭圆​​ 223"/>
                <p:cNvSpPr/>
                <p:nvPr/>
              </p:nvSpPr>
              <p:spPr>
                <a:xfrm rot="17953200">
                  <a:off x="4196520" y="1423800"/>
                  <a:ext cx="51408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305" name="图片 1" descr=""/>
          <p:cNvPicPr/>
          <p:nvPr/>
        </p:nvPicPr>
        <p:blipFill>
          <a:blip r:embed="rId11"/>
          <a:stretch/>
        </p:blipFill>
        <p:spPr>
          <a:xfrm>
            <a:off x="1481040" y="1560600"/>
            <a:ext cx="4302360" cy="41320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83" descr=""/>
          <p:cNvPicPr/>
          <p:nvPr/>
        </p:nvPicPr>
        <p:blipFill>
          <a:blip r:embed="rId12"/>
          <a:srcRect l="36611" t="12582" r="-688" b="13556"/>
          <a:stretch/>
        </p:blipFill>
        <p:spPr>
          <a:xfrm>
            <a:off x="-12942720" y="-17640"/>
            <a:ext cx="12920400" cy="6856560"/>
          </a:xfrm>
          <a:prstGeom prst="rect">
            <a:avLst/>
          </a:prstGeom>
          <a:ln w="0">
            <a:noFill/>
          </a:ln>
        </p:spPr>
      </p:pic>
      <p:sp>
        <p:nvSpPr>
          <p:cNvPr id="307" name="矩形 1"/>
          <p:cNvSpPr/>
          <p:nvPr/>
        </p:nvSpPr>
        <p:spPr>
          <a:xfrm>
            <a:off x="2202480" y="2246400"/>
            <a:ext cx="54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化学简洁毕业答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019E-006 L -0.29601 -0.13274 E">
                                      <p:cBhvr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96855E-006 L 0.6066 -0.28723 E">
                                      <p:cBhvr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951E-006 L -0.30468 -0.28291 E">
                                      <p:cBhvr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3951E-006 L -0.1809 -0.28407 E">
                                      <p:cBhvr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-999"/>
                            </p:stCondLst>
                            <p:childTnLst>
                              <p:par>
                                <p:cTn id="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-1999"/>
                            </p:stCondLst>
                            <p:childTnLst>
                              <p:par>
                                <p:cTn id="4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1 -2.39241E-006 L 0.25903 -2.39241E-006 E">
                                      <p:cBhvr>
                                        <p:cTn id="54" dur="7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6" dur="700" fill="hold"/>
                                        <p:tgtEl>
                                          <p:spTgt spid="51"/>
                                        </p:tgtEl>
                                      </p:cBhvr>
                                      <p:to x="2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98524 -0.00093 E">
                                      <p:cBhvr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00347 L -0.96406 -0.0044 E">
                                      <p:cBhvr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03 -5.55556E-006 L 0.49861 -5.55556E-006 E">
                                      <p:cBhvr>
                                        <p:cTn id="74" dur="7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8" dur="7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-199"/>
                            </p:stCondLst>
                            <p:childTnLst>
                              <p:par>
                                <p:cTn id="8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-1.00295 -0.00394 E">
                                      <p:cBhvr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6406 -0.0044 L -1.92032 -0.01273 E">
                                      <p:cBhvr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862 -1.85185E-006 L 0.7474 0.00023 E">
                                      <p:cBhvr>
                                        <p:cTn id="93" dur="7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97" dur="700" fill="hold"/>
                                        <p:tgtEl>
                                          <p:spTgt spid="5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-199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739 0.00023 L 0.96197 0.00023 E">
                                      <p:cBhvr>
                                        <p:cTn id="134" dur="7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38" dur="700" fill="hold"/>
                                        <p:tgtEl>
                                          <p:spTgt spid="51"/>
                                        </p:tgtEl>
                                      </p:cBhvr>
                                      <p:to x="72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1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-0.28177 1.48148E-006 E">
                                      <p:cBhvr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148E-006 L -0.27674 -0.00208 E">
                                      <p:cBhvr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74 -0.00208 L 0.04757 -0.00324 E">
                                      <p:cBhvr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57 -0.00324 L 0.45573 -0.00208 E">
                                      <p:cBhvr>
                                        <p:cTn id="162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6198 0.00023 L 1.21198 0.00023 E">
                                      <p:cBhvr>
                                        <p:cTn id="173" dur="7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68 -0.283 L -0.06632 0.16185 E">
                                      <p:cBhvr>
                                        <p:cTn id="183" dur="1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09 -0.28416 L -0.41094 0.16301 E">
                                      <p:cBhvr>
                                        <p:cTn id="185" dur="1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601 -0.13272 L -0.29428 0.3156 E">
                                      <p:cBhvr>
                                        <p:cTn id="187" dur="1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1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1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59362E-006 L 1.40591 0.00278 E">
                                      <p:cBhvr>
                                        <p:cTn id="25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1" name="自选图形 3"/>
          <p:cNvSpPr/>
          <p:nvPr/>
        </p:nvSpPr>
        <p:spPr>
          <a:xfrm>
            <a:off x="638280" y="716040"/>
            <a:ext cx="786744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6"/>
          <p:cNvSpPr/>
          <p:nvPr/>
        </p:nvSpPr>
        <p:spPr>
          <a:xfrm>
            <a:off x="2017440" y="5905440"/>
            <a:ext cx="30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</a:rPr>
              <a:t>0.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矩形 7"/>
          <p:cNvSpPr/>
          <p:nvPr/>
        </p:nvSpPr>
        <p:spPr>
          <a:xfrm>
            <a:off x="2972880" y="5905440"/>
            <a:ext cx="30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</a:rPr>
              <a:t>0.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矩形 8"/>
          <p:cNvSpPr/>
          <p:nvPr/>
        </p:nvSpPr>
        <p:spPr>
          <a:xfrm>
            <a:off x="392832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矩形 9"/>
          <p:cNvSpPr/>
          <p:nvPr/>
        </p:nvSpPr>
        <p:spPr>
          <a:xfrm>
            <a:off x="488556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矩形 10"/>
          <p:cNvSpPr/>
          <p:nvPr/>
        </p:nvSpPr>
        <p:spPr>
          <a:xfrm>
            <a:off x="583812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矩形 11"/>
          <p:cNvSpPr/>
          <p:nvPr/>
        </p:nvSpPr>
        <p:spPr>
          <a:xfrm>
            <a:off x="679536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矩形 12"/>
          <p:cNvSpPr/>
          <p:nvPr/>
        </p:nvSpPr>
        <p:spPr>
          <a:xfrm>
            <a:off x="775080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矩形 13"/>
          <p:cNvSpPr/>
          <p:nvPr/>
        </p:nvSpPr>
        <p:spPr>
          <a:xfrm>
            <a:off x="1140840" y="570384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</a:rPr>
              <a:t>86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14"/>
          <p:cNvSpPr/>
          <p:nvPr/>
        </p:nvSpPr>
        <p:spPr>
          <a:xfrm>
            <a:off x="1140840" y="465624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</a:rPr>
              <a:t>88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矩形 15"/>
          <p:cNvSpPr/>
          <p:nvPr/>
        </p:nvSpPr>
        <p:spPr>
          <a:xfrm>
            <a:off x="1140840" y="360684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</a:rPr>
              <a:t>90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矩形 16"/>
          <p:cNvSpPr/>
          <p:nvPr/>
        </p:nvSpPr>
        <p:spPr>
          <a:xfrm>
            <a:off x="1140840" y="2558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</a:rPr>
              <a:t>92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17"/>
          <p:cNvSpPr/>
          <p:nvPr/>
        </p:nvSpPr>
        <p:spPr>
          <a:xfrm>
            <a:off x="1140840" y="15112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</a:rPr>
              <a:t>94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4" name="Group 16"/>
          <p:cNvGrpSpPr/>
          <p:nvPr/>
        </p:nvGrpSpPr>
        <p:grpSpPr>
          <a:xfrm>
            <a:off x="1673280" y="844200"/>
            <a:ext cx="6691320" cy="4980240"/>
            <a:chOff x="1673280" y="844200"/>
            <a:chExt cx="6691320" cy="4980240"/>
          </a:xfrm>
        </p:grpSpPr>
        <p:sp>
          <p:nvSpPr>
            <p:cNvPr id="1135" name="矩形 5"/>
            <p:cNvSpPr/>
            <p:nvPr/>
          </p:nvSpPr>
          <p:spPr>
            <a:xfrm>
              <a:off x="1673280" y="844560"/>
              <a:ext cx="6691320" cy="497988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直线 18"/>
            <p:cNvSpPr/>
            <p:nvPr/>
          </p:nvSpPr>
          <p:spPr>
            <a:xfrm flipV="1">
              <a:off x="1673280" y="5776920"/>
              <a:ext cx="0" cy="47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直线 19"/>
            <p:cNvSpPr/>
            <p:nvPr/>
          </p:nvSpPr>
          <p:spPr>
            <a:xfrm flipV="1">
              <a:off x="2151000" y="5729400"/>
              <a:ext cx="0" cy="9504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直线 20"/>
            <p:cNvSpPr/>
            <p:nvPr/>
          </p:nvSpPr>
          <p:spPr>
            <a:xfrm flipV="1">
              <a:off x="2628720" y="5776920"/>
              <a:ext cx="0" cy="47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直线 21"/>
            <p:cNvSpPr/>
            <p:nvPr/>
          </p:nvSpPr>
          <p:spPr>
            <a:xfrm flipV="1">
              <a:off x="3108240" y="5729400"/>
              <a:ext cx="0" cy="9504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直线 22"/>
            <p:cNvSpPr/>
            <p:nvPr/>
          </p:nvSpPr>
          <p:spPr>
            <a:xfrm flipV="1">
              <a:off x="3586320" y="5776920"/>
              <a:ext cx="0" cy="47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直线 23"/>
            <p:cNvSpPr/>
            <p:nvPr/>
          </p:nvSpPr>
          <p:spPr>
            <a:xfrm flipV="1">
              <a:off x="4064040" y="5729400"/>
              <a:ext cx="0" cy="9504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直线 24"/>
            <p:cNvSpPr/>
            <p:nvPr/>
          </p:nvSpPr>
          <p:spPr>
            <a:xfrm flipV="1">
              <a:off x="4541760" y="5776920"/>
              <a:ext cx="0" cy="47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直线 25"/>
            <p:cNvSpPr/>
            <p:nvPr/>
          </p:nvSpPr>
          <p:spPr>
            <a:xfrm flipV="1">
              <a:off x="5019840" y="5729400"/>
              <a:ext cx="0" cy="9504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直线 26"/>
            <p:cNvSpPr/>
            <p:nvPr/>
          </p:nvSpPr>
          <p:spPr>
            <a:xfrm flipV="1">
              <a:off x="5496120" y="5776920"/>
              <a:ext cx="0" cy="47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直线 27"/>
            <p:cNvSpPr/>
            <p:nvPr/>
          </p:nvSpPr>
          <p:spPr>
            <a:xfrm flipV="1">
              <a:off x="5973840" y="5729400"/>
              <a:ext cx="0" cy="9504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直线 28"/>
            <p:cNvSpPr/>
            <p:nvPr/>
          </p:nvSpPr>
          <p:spPr>
            <a:xfrm flipV="1">
              <a:off x="6451560" y="5776920"/>
              <a:ext cx="0" cy="47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直线 29"/>
            <p:cNvSpPr/>
            <p:nvPr/>
          </p:nvSpPr>
          <p:spPr>
            <a:xfrm flipV="1">
              <a:off x="6929640" y="5729400"/>
              <a:ext cx="0" cy="9504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直线 30"/>
            <p:cNvSpPr/>
            <p:nvPr/>
          </p:nvSpPr>
          <p:spPr>
            <a:xfrm flipV="1">
              <a:off x="7407360" y="5776920"/>
              <a:ext cx="0" cy="47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直线 31"/>
            <p:cNvSpPr/>
            <p:nvPr/>
          </p:nvSpPr>
          <p:spPr>
            <a:xfrm flipV="1">
              <a:off x="7885440" y="5729400"/>
              <a:ext cx="0" cy="9504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直线 32"/>
            <p:cNvSpPr/>
            <p:nvPr/>
          </p:nvSpPr>
          <p:spPr>
            <a:xfrm flipV="1">
              <a:off x="8364600" y="5776920"/>
              <a:ext cx="0" cy="47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直线 33"/>
            <p:cNvSpPr/>
            <p:nvPr/>
          </p:nvSpPr>
          <p:spPr>
            <a:xfrm>
              <a:off x="1673280" y="5824440"/>
              <a:ext cx="66913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直线 34"/>
            <p:cNvSpPr/>
            <p:nvPr/>
          </p:nvSpPr>
          <p:spPr>
            <a:xfrm>
              <a:off x="1673280" y="5824440"/>
              <a:ext cx="9504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直线 35"/>
            <p:cNvSpPr/>
            <p:nvPr/>
          </p:nvSpPr>
          <p:spPr>
            <a:xfrm>
              <a:off x="1673280" y="5300640"/>
              <a:ext cx="47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直线 36"/>
            <p:cNvSpPr/>
            <p:nvPr/>
          </p:nvSpPr>
          <p:spPr>
            <a:xfrm>
              <a:off x="1673280" y="4775400"/>
              <a:ext cx="9504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直线 37"/>
            <p:cNvSpPr/>
            <p:nvPr/>
          </p:nvSpPr>
          <p:spPr>
            <a:xfrm>
              <a:off x="1673280" y="4253040"/>
              <a:ext cx="47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直线 38"/>
            <p:cNvSpPr/>
            <p:nvPr/>
          </p:nvSpPr>
          <p:spPr>
            <a:xfrm>
              <a:off x="1673280" y="3727440"/>
              <a:ext cx="9504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直线 39"/>
            <p:cNvSpPr/>
            <p:nvPr/>
          </p:nvSpPr>
          <p:spPr>
            <a:xfrm>
              <a:off x="1673280" y="3205080"/>
              <a:ext cx="47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直线 40"/>
            <p:cNvSpPr/>
            <p:nvPr/>
          </p:nvSpPr>
          <p:spPr>
            <a:xfrm>
              <a:off x="1673280" y="2679480"/>
              <a:ext cx="9504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直线 41"/>
            <p:cNvSpPr/>
            <p:nvPr/>
          </p:nvSpPr>
          <p:spPr>
            <a:xfrm>
              <a:off x="1673280" y="2155680"/>
              <a:ext cx="47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直线 42"/>
            <p:cNvSpPr/>
            <p:nvPr/>
          </p:nvSpPr>
          <p:spPr>
            <a:xfrm>
              <a:off x="1673280" y="1630080"/>
              <a:ext cx="9504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直线 43"/>
            <p:cNvSpPr/>
            <p:nvPr/>
          </p:nvSpPr>
          <p:spPr>
            <a:xfrm>
              <a:off x="1673280" y="1108080"/>
              <a:ext cx="47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直线 44"/>
            <p:cNvSpPr/>
            <p:nvPr/>
          </p:nvSpPr>
          <p:spPr>
            <a:xfrm flipV="1">
              <a:off x="1673280" y="844200"/>
              <a:ext cx="0" cy="497988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3" name="直线 45"/>
          <p:cNvSpPr/>
          <p:nvPr/>
        </p:nvSpPr>
        <p:spPr>
          <a:xfrm flipH="1" flipV="1">
            <a:off x="2235240" y="1449360"/>
            <a:ext cx="2706480" cy="120816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直线 47"/>
          <p:cNvSpPr/>
          <p:nvPr/>
        </p:nvSpPr>
        <p:spPr>
          <a:xfrm flipH="1" flipV="1">
            <a:off x="5084280" y="2765520"/>
            <a:ext cx="824040" cy="71280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直线 48"/>
          <p:cNvSpPr/>
          <p:nvPr/>
        </p:nvSpPr>
        <p:spPr>
          <a:xfrm flipH="1" flipV="1">
            <a:off x="6037200" y="3587400"/>
            <a:ext cx="828720" cy="67932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直线 49"/>
          <p:cNvSpPr/>
          <p:nvPr/>
        </p:nvSpPr>
        <p:spPr>
          <a:xfrm flipH="1" flipV="1">
            <a:off x="6985080" y="4381560"/>
            <a:ext cx="844560" cy="90792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矩形 50"/>
          <p:cNvSpPr/>
          <p:nvPr/>
        </p:nvSpPr>
        <p:spPr>
          <a:xfrm>
            <a:off x="2101680" y="1401840"/>
            <a:ext cx="100080" cy="9684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矩形 52"/>
          <p:cNvSpPr/>
          <p:nvPr/>
        </p:nvSpPr>
        <p:spPr>
          <a:xfrm>
            <a:off x="4970520" y="2658960"/>
            <a:ext cx="100080" cy="9864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矩形 53"/>
          <p:cNvSpPr/>
          <p:nvPr/>
        </p:nvSpPr>
        <p:spPr>
          <a:xfrm>
            <a:off x="5923080" y="3484440"/>
            <a:ext cx="101520" cy="9684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矩形 54"/>
          <p:cNvSpPr/>
          <p:nvPr/>
        </p:nvSpPr>
        <p:spPr>
          <a:xfrm>
            <a:off x="6878520" y="4268880"/>
            <a:ext cx="101880" cy="9828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矩形 55"/>
          <p:cNvSpPr/>
          <p:nvPr/>
        </p:nvSpPr>
        <p:spPr>
          <a:xfrm>
            <a:off x="7835760" y="5300640"/>
            <a:ext cx="100080" cy="9828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矩形 56"/>
          <p:cNvSpPr/>
          <p:nvPr/>
        </p:nvSpPr>
        <p:spPr>
          <a:xfrm>
            <a:off x="5218920" y="1116000"/>
            <a:ext cx="268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acc6"/>
                </a:solidFill>
                <a:latin typeface="Arabic Transparent"/>
              </a:rPr>
              <a:t>Wavelength=457.8 n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矩形 57"/>
          <p:cNvSpPr/>
          <p:nvPr/>
        </p:nvSpPr>
        <p:spPr>
          <a:xfrm rot="16200000">
            <a:off x="-507960" y="3113640"/>
            <a:ext cx="281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acc6"/>
                </a:solidFill>
                <a:latin typeface="Arabic Transparent"/>
              </a:rPr>
              <a:t>emission intensity (a.u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矩形 58"/>
          <p:cNvSpPr/>
          <p:nvPr/>
        </p:nvSpPr>
        <p:spPr>
          <a:xfrm>
            <a:off x="3635280" y="6149880"/>
            <a:ext cx="271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acc6"/>
                </a:solidFill>
                <a:latin typeface="Arabic Transparent"/>
              </a:rPr>
              <a:t>Concentration (mg/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5"/>
          <p:cNvSpPr/>
          <p:nvPr/>
        </p:nvSpPr>
        <p:spPr>
          <a:xfrm rot="18943800">
            <a:off x="-786960" y="36828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包合</a:t>
            </a: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荧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2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2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2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2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2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2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2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2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2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97E2-008F-4D32-86D9-6B7D26DE1E0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7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8" name="椭圆​​ 1"/>
          <p:cNvSpPr/>
          <p:nvPr/>
        </p:nvSpPr>
        <p:spPr>
          <a:xfrm rot="20874600">
            <a:off x="1660320" y="1668240"/>
            <a:ext cx="1692000" cy="1690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体改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单体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9" name="Group 4"/>
          <p:cNvGrpSpPr/>
          <p:nvPr/>
        </p:nvGrpSpPr>
        <p:grpSpPr>
          <a:xfrm>
            <a:off x="181080" y="2249640"/>
            <a:ext cx="1498320" cy="876240"/>
            <a:chOff x="181080" y="2249640"/>
            <a:chExt cx="1498320" cy="876240"/>
          </a:xfrm>
        </p:grpSpPr>
        <p:sp>
          <p:nvSpPr>
            <p:cNvPr id="1180" name="椭圆​​ 2"/>
            <p:cNvSpPr/>
            <p:nvPr/>
          </p:nvSpPr>
          <p:spPr>
            <a:xfrm>
              <a:off x="181080" y="2249640"/>
              <a:ext cx="876960" cy="87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红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直接连接符​​ 8"/>
            <p:cNvSpPr/>
            <p:nvPr/>
          </p:nvSpPr>
          <p:spPr>
            <a:xfrm flipH="1" flipV="1">
              <a:off x="1058040" y="2687760"/>
              <a:ext cx="621360" cy="36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2" name="Group 7"/>
          <p:cNvGrpSpPr/>
          <p:nvPr/>
        </p:nvGrpSpPr>
        <p:grpSpPr>
          <a:xfrm>
            <a:off x="436680" y="976320"/>
            <a:ext cx="1360080" cy="1079280"/>
            <a:chOff x="436680" y="976320"/>
            <a:chExt cx="1360080" cy="1079280"/>
          </a:xfrm>
        </p:grpSpPr>
        <p:sp>
          <p:nvSpPr>
            <p:cNvPr id="1183" name="椭圆​​ 3"/>
            <p:cNvSpPr/>
            <p:nvPr/>
          </p:nvSpPr>
          <p:spPr>
            <a:xfrm>
              <a:off x="436680" y="976320"/>
              <a:ext cx="877320" cy="878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核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直接连接符​​ 10"/>
            <p:cNvSpPr/>
            <p:nvPr/>
          </p:nvSpPr>
          <p:spPr>
            <a:xfrm flipH="1" flipV="1">
              <a:off x="1185120" y="1725480"/>
              <a:ext cx="611640" cy="3301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5" name="Group 10"/>
          <p:cNvGrpSpPr/>
          <p:nvPr/>
        </p:nvGrpSpPr>
        <p:grpSpPr>
          <a:xfrm>
            <a:off x="1667880" y="247320"/>
            <a:ext cx="926280" cy="1440360"/>
            <a:chOff x="1667880" y="247320"/>
            <a:chExt cx="926280" cy="1440360"/>
          </a:xfrm>
        </p:grpSpPr>
        <p:sp>
          <p:nvSpPr>
            <p:cNvPr id="1186" name="椭圆​​ 4"/>
            <p:cNvSpPr/>
            <p:nvPr/>
          </p:nvSpPr>
          <p:spPr>
            <a:xfrm rot="21403200">
              <a:off x="1692000" y="271440"/>
              <a:ext cx="877680" cy="877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GP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直接连接符​​ 13"/>
            <p:cNvSpPr/>
            <p:nvPr/>
          </p:nvSpPr>
          <p:spPr>
            <a:xfrm>
              <a:off x="2156400" y="1148040"/>
              <a:ext cx="172800" cy="53964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8" name="Group 13"/>
          <p:cNvGrpSpPr/>
          <p:nvPr/>
        </p:nvGrpSpPr>
        <p:grpSpPr>
          <a:xfrm>
            <a:off x="2940120" y="425520"/>
            <a:ext cx="876240" cy="1379520"/>
            <a:chOff x="2940120" y="425520"/>
            <a:chExt cx="876240" cy="1379520"/>
          </a:xfrm>
        </p:grpSpPr>
        <p:sp>
          <p:nvSpPr>
            <p:cNvPr id="1189" name="椭圆​​ 5"/>
            <p:cNvSpPr/>
            <p:nvPr/>
          </p:nvSpPr>
          <p:spPr>
            <a:xfrm>
              <a:off x="2940120" y="425520"/>
              <a:ext cx="876240" cy="877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S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直接连接符​​ 15"/>
            <p:cNvSpPr/>
            <p:nvPr/>
          </p:nvSpPr>
          <p:spPr>
            <a:xfrm flipH="1">
              <a:off x="2965320" y="1284840"/>
              <a:ext cx="232200" cy="5202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1" name="Group 16"/>
          <p:cNvGrpSpPr/>
          <p:nvPr/>
        </p:nvGrpSpPr>
        <p:grpSpPr>
          <a:xfrm>
            <a:off x="3333600" y="1265400"/>
            <a:ext cx="1343160" cy="1071360"/>
            <a:chOff x="3333600" y="1265400"/>
            <a:chExt cx="1343160" cy="1071360"/>
          </a:xfrm>
        </p:grpSpPr>
        <p:sp>
          <p:nvSpPr>
            <p:cNvPr id="1192" name="椭圆​​ 6"/>
            <p:cNvSpPr/>
            <p:nvPr/>
          </p:nvSpPr>
          <p:spPr>
            <a:xfrm>
              <a:off x="3800160" y="1265400"/>
              <a:ext cx="876600" cy="87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直接连接符​​ 17"/>
            <p:cNvSpPr/>
            <p:nvPr/>
          </p:nvSpPr>
          <p:spPr>
            <a:xfrm flipV="1">
              <a:off x="3333600" y="2013480"/>
              <a:ext cx="595080" cy="32328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4" name="Group 19"/>
          <p:cNvGrpSpPr/>
          <p:nvPr/>
        </p:nvGrpSpPr>
        <p:grpSpPr>
          <a:xfrm>
            <a:off x="1731960" y="3605040"/>
            <a:ext cx="3151080" cy="3151440"/>
            <a:chOff x="1731960" y="3605040"/>
            <a:chExt cx="3151080" cy="3151440"/>
          </a:xfrm>
        </p:grpSpPr>
        <p:sp>
          <p:nvSpPr>
            <p:cNvPr id="1195" name="椭圆​​ 65"/>
            <p:cNvSpPr/>
            <p:nvPr/>
          </p:nvSpPr>
          <p:spPr>
            <a:xfrm>
              <a:off x="1731960" y="3605040"/>
              <a:ext cx="3151080" cy="315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96" name="图片 64" descr=""/>
            <p:cNvPicPr/>
            <p:nvPr/>
          </p:nvPicPr>
          <p:blipFill>
            <a:blip r:embed="rId2"/>
            <a:srcRect l="0" t="4974" r="66426" b="8915"/>
            <a:stretch/>
          </p:blipFill>
          <p:spPr>
            <a:xfrm>
              <a:off x="1888200" y="3790800"/>
              <a:ext cx="2890080" cy="28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椭圆​​ 81"/>
          <p:cNvSpPr/>
          <p:nvPr/>
        </p:nvSpPr>
        <p:spPr>
          <a:xfrm>
            <a:off x="5018040" y="2027160"/>
            <a:ext cx="1690560" cy="1690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C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8" name="Group 23"/>
          <p:cNvGrpSpPr/>
          <p:nvPr/>
        </p:nvGrpSpPr>
        <p:grpSpPr>
          <a:xfrm>
            <a:off x="5411880" y="558720"/>
            <a:ext cx="930240" cy="1468440"/>
            <a:chOff x="5411880" y="558720"/>
            <a:chExt cx="930240" cy="1468440"/>
          </a:xfrm>
        </p:grpSpPr>
        <p:sp>
          <p:nvSpPr>
            <p:cNvPr id="1199" name="椭圆​​ 82"/>
            <p:cNvSpPr/>
            <p:nvPr/>
          </p:nvSpPr>
          <p:spPr>
            <a:xfrm rot="218400">
              <a:off x="5438880" y="585360"/>
              <a:ext cx="876240" cy="876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紫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直接连接符​​ 86"/>
            <p:cNvSpPr/>
            <p:nvPr/>
          </p:nvSpPr>
          <p:spPr>
            <a:xfrm>
              <a:off x="5849280" y="1461960"/>
              <a:ext cx="14760" cy="5652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1" name="Group 26"/>
          <p:cNvGrpSpPr/>
          <p:nvPr/>
        </p:nvGrpSpPr>
        <p:grpSpPr>
          <a:xfrm>
            <a:off x="6422040" y="836280"/>
            <a:ext cx="1191240" cy="1438560"/>
            <a:chOff x="6422040" y="836280"/>
            <a:chExt cx="1191240" cy="1438560"/>
          </a:xfrm>
        </p:grpSpPr>
        <p:sp>
          <p:nvSpPr>
            <p:cNvPr id="1202" name="椭圆​​ 83"/>
            <p:cNvSpPr/>
            <p:nvPr/>
          </p:nvSpPr>
          <p:spPr>
            <a:xfrm rot="1732200">
              <a:off x="6579000" y="993240"/>
              <a:ext cx="876960" cy="876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粒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直接连接符​​ 92"/>
            <p:cNvSpPr/>
            <p:nvPr/>
          </p:nvSpPr>
          <p:spPr>
            <a:xfrm flipH="1">
              <a:off x="6461280" y="1815840"/>
              <a:ext cx="344880" cy="4590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4" name="Group 29"/>
          <p:cNvGrpSpPr/>
          <p:nvPr/>
        </p:nvGrpSpPr>
        <p:grpSpPr>
          <a:xfrm>
            <a:off x="6708600" y="1852560"/>
            <a:ext cx="1495440" cy="1020960"/>
            <a:chOff x="6708600" y="1852560"/>
            <a:chExt cx="1495440" cy="1020960"/>
          </a:xfrm>
        </p:grpSpPr>
        <p:sp>
          <p:nvSpPr>
            <p:cNvPr id="1205" name="椭圆​​ 84"/>
            <p:cNvSpPr/>
            <p:nvPr/>
          </p:nvSpPr>
          <p:spPr>
            <a:xfrm rot="355800">
              <a:off x="7283160" y="1895400"/>
              <a:ext cx="877680" cy="876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S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直接连接符​​ 105"/>
            <p:cNvSpPr/>
            <p:nvPr/>
          </p:nvSpPr>
          <p:spPr>
            <a:xfrm flipH="1">
              <a:off x="6708600" y="2610360"/>
              <a:ext cx="673200" cy="2631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7" name="椭圆​​ 117"/>
          <p:cNvSpPr/>
          <p:nvPr/>
        </p:nvSpPr>
        <p:spPr>
          <a:xfrm>
            <a:off x="5737320" y="4334040"/>
            <a:ext cx="1690560" cy="169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体包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8" name="Group 33"/>
          <p:cNvGrpSpPr/>
          <p:nvPr/>
        </p:nvGrpSpPr>
        <p:grpSpPr>
          <a:xfrm>
            <a:off x="7178760" y="3400560"/>
            <a:ext cx="1179720" cy="1180800"/>
            <a:chOff x="7178760" y="3400560"/>
            <a:chExt cx="1179720" cy="1180800"/>
          </a:xfrm>
        </p:grpSpPr>
        <p:sp>
          <p:nvSpPr>
            <p:cNvPr id="1209" name="椭圆​​ 118"/>
            <p:cNvSpPr/>
            <p:nvPr/>
          </p:nvSpPr>
          <p:spPr>
            <a:xfrm rot="21394800">
              <a:off x="7455240" y="3425760"/>
              <a:ext cx="877680" cy="876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紫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直接连接符​​ 121"/>
            <p:cNvSpPr/>
            <p:nvPr/>
          </p:nvSpPr>
          <p:spPr>
            <a:xfrm flipH="1">
              <a:off x="7178760" y="4192200"/>
              <a:ext cx="424080" cy="3891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1" name="Group 36"/>
          <p:cNvGrpSpPr/>
          <p:nvPr/>
        </p:nvGrpSpPr>
        <p:grpSpPr>
          <a:xfrm>
            <a:off x="7426440" y="4741920"/>
            <a:ext cx="1344600" cy="876240"/>
            <a:chOff x="7426440" y="4741920"/>
            <a:chExt cx="1344600" cy="876240"/>
          </a:xfrm>
        </p:grpSpPr>
        <p:sp>
          <p:nvSpPr>
            <p:cNvPr id="1212" name="椭圆​​ 119"/>
            <p:cNvSpPr/>
            <p:nvPr/>
          </p:nvSpPr>
          <p:spPr>
            <a:xfrm>
              <a:off x="7893720" y="4741920"/>
              <a:ext cx="877320" cy="87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荧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直接连接符​​ 122"/>
            <p:cNvSpPr/>
            <p:nvPr/>
          </p:nvSpPr>
          <p:spPr>
            <a:xfrm flipH="1">
              <a:off x="7426440" y="5180040"/>
              <a:ext cx="46728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4" name="直接连接符​​ 200"/>
          <p:cNvSpPr/>
          <p:nvPr/>
        </p:nvSpPr>
        <p:spPr>
          <a:xfrm flipH="1" flipV="1">
            <a:off x="2682720" y="3341160"/>
            <a:ext cx="130320" cy="365400"/>
          </a:xfrm>
          <a:prstGeom prst="line">
            <a:avLst/>
          </a:prstGeom>
          <a:ln w="57240">
            <a:solidFill>
              <a:srgbClr val="4bacc6"/>
            </a:solidFill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直接连接符​​ 202"/>
          <p:cNvSpPr/>
          <p:nvPr/>
        </p:nvSpPr>
        <p:spPr>
          <a:xfrm flipH="1">
            <a:off x="4421160" y="3470400"/>
            <a:ext cx="844560" cy="595080"/>
          </a:xfrm>
          <a:prstGeom prst="line">
            <a:avLst/>
          </a:prstGeom>
          <a:ln w="57240">
            <a:solidFill>
              <a:srgbClr val="4bacc6"/>
            </a:solidFill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直接连接符​​ 207"/>
          <p:cNvSpPr/>
          <p:nvPr/>
        </p:nvSpPr>
        <p:spPr>
          <a:xfrm flipH="1">
            <a:off x="4882680" y="5180040"/>
            <a:ext cx="854280" cy="1440"/>
          </a:xfrm>
          <a:prstGeom prst="line">
            <a:avLst/>
          </a:prstGeom>
          <a:ln w="57240">
            <a:solidFill>
              <a:srgbClr val="4bacc6"/>
            </a:solidFill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5"/>
          <p:cNvSpPr/>
          <p:nvPr/>
        </p:nvSpPr>
        <p:spPr>
          <a:xfrm rot="2743800">
            <a:off x="6930000" y="440280"/>
            <a:ext cx="28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3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5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3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3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3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3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7" dur="3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3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3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3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3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3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0" dur="3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3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3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F86F-FD5C-4C02-8603-9DF75A5C5F2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5"/>
          <p:cNvSpPr/>
          <p:nvPr/>
        </p:nvSpPr>
        <p:spPr>
          <a:xfrm rot="2655600">
            <a:off x="7027200" y="42264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合成路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5"/>
          <p:cNvGrpSpPr/>
          <p:nvPr/>
        </p:nvGrpSpPr>
        <p:grpSpPr>
          <a:xfrm>
            <a:off x="5221440" y="4479840"/>
            <a:ext cx="3458880" cy="505080"/>
            <a:chOff x="5221440" y="4479840"/>
            <a:chExt cx="3458880" cy="505080"/>
          </a:xfrm>
        </p:grpSpPr>
        <p:sp>
          <p:nvSpPr>
            <p:cNvPr id="313" name="燕尾形 4"/>
            <p:cNvSpPr/>
            <p:nvPr/>
          </p:nvSpPr>
          <p:spPr>
            <a:xfrm>
              <a:off x="5221440" y="4479840"/>
              <a:ext cx="3458880" cy="505080"/>
            </a:xfrm>
            <a:custGeom>
              <a:avLst/>
              <a:gdLst>
                <a:gd name="textAreaLeft" fmla="*/ 0 w 3458880"/>
                <a:gd name="textAreaRight" fmla="*/ 3459240 w 34588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4" y="0"/>
                  </a:lnTo>
                  <a:lnTo>
                    <a:pt x="21600" y="10800"/>
                  </a:lnTo>
                  <a:lnTo>
                    <a:pt x="20024" y="21600"/>
                  </a:lnTo>
                  <a:lnTo>
                    <a:pt x="0" y="21600"/>
                  </a:lnTo>
                  <a:lnTo>
                    <a:pt x="1576" y="10800"/>
                  </a:lnTo>
                  <a:close/>
                </a:path>
              </a:pathLst>
            </a:cu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矩形​​ 11"/>
            <p:cNvSpPr/>
            <p:nvPr/>
          </p:nvSpPr>
          <p:spPr>
            <a:xfrm>
              <a:off x="5950080" y="4578480"/>
              <a:ext cx="17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d+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透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8"/>
          <p:cNvGrpSpPr/>
          <p:nvPr/>
        </p:nvGrpSpPr>
        <p:grpSpPr>
          <a:xfrm>
            <a:off x="684360" y="1587600"/>
            <a:ext cx="897480" cy="596160"/>
            <a:chOff x="684360" y="1587600"/>
            <a:chExt cx="897480" cy="596160"/>
          </a:xfrm>
        </p:grpSpPr>
        <p:sp>
          <p:nvSpPr>
            <p:cNvPr id="316" name="燕尾形 10"/>
            <p:cNvSpPr/>
            <p:nvPr/>
          </p:nvSpPr>
          <p:spPr>
            <a:xfrm>
              <a:off x="684360" y="1645560"/>
              <a:ext cx="897480" cy="50508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532" y="0"/>
                  </a:lnTo>
                  <a:lnTo>
                    <a:pt x="21600" y="10800"/>
                  </a:lnTo>
                  <a:lnTo>
                    <a:pt x="15532" y="21600"/>
                  </a:lnTo>
                  <a:lnTo>
                    <a:pt x="0" y="21600"/>
                  </a:lnTo>
                  <a:lnTo>
                    <a:pt x="6068" y="10800"/>
                  </a:lnTo>
                  <a:close/>
                </a:path>
              </a:pathLst>
            </a:custGeom>
            <a:solidFill>
              <a:srgbClr val="7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矩形​​ 8"/>
            <p:cNvSpPr/>
            <p:nvPr/>
          </p:nvSpPr>
          <p:spPr>
            <a:xfrm>
              <a:off x="918720" y="1587600"/>
              <a:ext cx="550080" cy="59616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596160"/>
                <a:gd name="textAreaBottom" fmla="*/ 596520 h 59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h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沉降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11"/>
          <p:cNvGrpSpPr/>
          <p:nvPr/>
        </p:nvGrpSpPr>
        <p:grpSpPr>
          <a:xfrm>
            <a:off x="3730680" y="3505320"/>
            <a:ext cx="1711440" cy="520200"/>
            <a:chOff x="3730680" y="3505320"/>
            <a:chExt cx="1711440" cy="520200"/>
          </a:xfrm>
        </p:grpSpPr>
        <p:sp>
          <p:nvSpPr>
            <p:cNvPr id="319" name="燕尾形 20"/>
            <p:cNvSpPr/>
            <p:nvPr/>
          </p:nvSpPr>
          <p:spPr>
            <a:xfrm>
              <a:off x="3730680" y="3514320"/>
              <a:ext cx="1711440" cy="5036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17" y="0"/>
                  </a:lnTo>
                  <a:lnTo>
                    <a:pt x="21600" y="10800"/>
                  </a:lnTo>
                  <a:lnTo>
                    <a:pt x="18417" y="21600"/>
                  </a:lnTo>
                  <a:lnTo>
                    <a:pt x="0" y="21600"/>
                  </a:lnTo>
                  <a:lnTo>
                    <a:pt x="3183" y="10800"/>
                  </a:lnTo>
                  <a:close/>
                </a:path>
              </a:pathLst>
            </a:custGeom>
            <a:solidFill>
              <a:srgbClr val="70b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​​ 7"/>
            <p:cNvSpPr/>
            <p:nvPr/>
          </p:nvSpPr>
          <p:spPr>
            <a:xfrm>
              <a:off x="4029480" y="3505320"/>
              <a:ext cx="1077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d+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沉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直接连接符​​ 39"/>
          <p:cNvSpPr/>
          <p:nvPr/>
        </p:nvSpPr>
        <p:spPr>
          <a:xfrm>
            <a:off x="674640" y="722160"/>
            <a:ext cx="28800" cy="5359680"/>
          </a:xfrm>
          <a:prstGeom prst="line">
            <a:avLst/>
          </a:prstGeom>
          <a:ln w="9360">
            <a:solidFill>
              <a:srgbClr val="4f8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​​ 40"/>
          <p:cNvSpPr/>
          <p:nvPr/>
        </p:nvSpPr>
        <p:spPr>
          <a:xfrm>
            <a:off x="1306440" y="722160"/>
            <a:ext cx="27000" cy="5359680"/>
          </a:xfrm>
          <a:prstGeom prst="line">
            <a:avLst/>
          </a:prstGeom>
          <a:ln w="9360">
            <a:solidFill>
              <a:srgbClr val="4f8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接连接符​​ 41"/>
          <p:cNvSpPr/>
          <p:nvPr/>
        </p:nvSpPr>
        <p:spPr>
          <a:xfrm>
            <a:off x="5186520" y="722160"/>
            <a:ext cx="27000" cy="5359680"/>
          </a:xfrm>
          <a:prstGeom prst="line">
            <a:avLst/>
          </a:prstGeom>
          <a:ln w="9360">
            <a:solidFill>
              <a:srgbClr val="4f8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4" name="直接箭头​​连接符 44"/>
          <p:cNvCxnSpPr/>
          <p:nvPr/>
        </p:nvCxnSpPr>
        <p:spPr>
          <a:xfrm>
            <a:off x="0" y="6030720"/>
            <a:ext cx="9144720" cy="14760"/>
          </a:xfrm>
          <a:prstGeom prst="straightConnector1">
            <a:avLst/>
          </a:prstGeom>
          <a:ln w="76320">
            <a:solidFill>
              <a:srgbClr val="31859b"/>
            </a:solidFill>
            <a:bevel/>
            <a:tailEnd len="med" type="triangle" w="med"/>
          </a:ln>
        </p:spPr>
      </p:cxnSp>
      <p:sp>
        <p:nvSpPr>
          <p:cNvPr id="325" name="直接连接符​​ 47"/>
          <p:cNvSpPr/>
          <p:nvPr/>
        </p:nvSpPr>
        <p:spPr>
          <a:xfrm>
            <a:off x="8405640" y="720720"/>
            <a:ext cx="27000" cy="5359320"/>
          </a:xfrm>
          <a:prstGeom prst="line">
            <a:avLst/>
          </a:prstGeom>
          <a:ln w="9360">
            <a:solidFill>
              <a:srgbClr val="4f8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6" name="Group 19"/>
          <p:cNvGrpSpPr/>
          <p:nvPr/>
        </p:nvGrpSpPr>
        <p:grpSpPr>
          <a:xfrm>
            <a:off x="4022640" y="5996160"/>
            <a:ext cx="4446720" cy="663480"/>
            <a:chOff x="4022640" y="5996160"/>
            <a:chExt cx="4446720" cy="663480"/>
          </a:xfrm>
        </p:grpSpPr>
        <p:sp>
          <p:nvSpPr>
            <p:cNvPr id="327" name="椭圆​​ 51"/>
            <p:cNvSpPr/>
            <p:nvPr/>
          </p:nvSpPr>
          <p:spPr>
            <a:xfrm flipH="1">
              <a:off x="8346240" y="5996160"/>
              <a:ext cx="123120" cy="111960"/>
            </a:xfrm>
            <a:prstGeom prst="ellipse">
              <a:avLst/>
            </a:prstGeom>
            <a:solidFill>
              <a:srgbClr val="31859b"/>
            </a:solidFill>
            <a:ln w="25560">
              <a:solidFill>
                <a:srgbClr val="3185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线形标注 2(带强调线) 52"/>
            <p:cNvSpPr/>
            <p:nvPr/>
          </p:nvSpPr>
          <p:spPr>
            <a:xfrm flipH="1">
              <a:off x="4022640" y="6306480"/>
              <a:ext cx="3377520" cy="353160"/>
            </a:xfrm>
            <a:noFill/>
            <a:ln w="25560">
              <a:solidFill>
                <a:srgbClr val="3185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接枝核壳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HB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Group 22"/>
          <p:cNvGrpSpPr/>
          <p:nvPr/>
        </p:nvGrpSpPr>
        <p:grpSpPr>
          <a:xfrm>
            <a:off x="1282680" y="5996160"/>
            <a:ext cx="2603520" cy="612720"/>
            <a:chOff x="1282680" y="5996160"/>
            <a:chExt cx="2603520" cy="612720"/>
          </a:xfrm>
        </p:grpSpPr>
        <p:sp>
          <p:nvSpPr>
            <p:cNvPr id="330" name="椭圆​​ 54"/>
            <p:cNvSpPr/>
            <p:nvPr/>
          </p:nvSpPr>
          <p:spPr>
            <a:xfrm>
              <a:off x="1282680" y="5996160"/>
              <a:ext cx="111960" cy="111960"/>
            </a:xfrm>
            <a:prstGeom prst="ellipse">
              <a:avLst/>
            </a:prstGeom>
            <a:solidFill>
              <a:srgbClr val="31859b"/>
            </a:solidFill>
            <a:ln w="25560">
              <a:solidFill>
                <a:srgbClr val="3185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线形标注 2(带强调线) 55"/>
            <p:cNvSpPr/>
            <p:nvPr/>
          </p:nvSpPr>
          <p:spPr>
            <a:xfrm>
              <a:off x="1378440" y="6287760"/>
              <a:ext cx="2507760" cy="321120"/>
            </a:xfrm>
            <a:noFill/>
            <a:ln w="25560">
              <a:solidFill>
                <a:srgbClr val="3185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N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体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Group 25"/>
          <p:cNvGrpSpPr/>
          <p:nvPr/>
        </p:nvGrpSpPr>
        <p:grpSpPr>
          <a:xfrm>
            <a:off x="647640" y="5421240"/>
            <a:ext cx="2814840" cy="677880"/>
            <a:chOff x="647640" y="5421240"/>
            <a:chExt cx="2814840" cy="677880"/>
          </a:xfrm>
        </p:grpSpPr>
        <p:sp>
          <p:nvSpPr>
            <p:cNvPr id="333" name="椭圆​​ 57"/>
            <p:cNvSpPr/>
            <p:nvPr/>
          </p:nvSpPr>
          <p:spPr>
            <a:xfrm>
              <a:off x="647640" y="5987160"/>
              <a:ext cx="111960" cy="111960"/>
            </a:xfrm>
            <a:prstGeom prst="ellipse">
              <a:avLst/>
            </a:prstGeom>
            <a:solidFill>
              <a:srgbClr val="31859b"/>
            </a:solidFill>
            <a:ln w="25560">
              <a:solidFill>
                <a:srgbClr val="3185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线形标注 2(带强调线) 58"/>
            <p:cNvSpPr/>
            <p:nvPr/>
          </p:nvSpPr>
          <p:spPr>
            <a:xfrm>
              <a:off x="954360" y="5421240"/>
              <a:ext cx="2508120" cy="321120"/>
            </a:xfrm>
            <a:noFill/>
            <a:ln w="25560">
              <a:solidFill>
                <a:srgbClr val="3185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OTs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体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Group 28"/>
          <p:cNvGrpSpPr/>
          <p:nvPr/>
        </p:nvGrpSpPr>
        <p:grpSpPr>
          <a:xfrm>
            <a:off x="5160960" y="5172120"/>
            <a:ext cx="3525840" cy="920880"/>
            <a:chOff x="5160960" y="5172120"/>
            <a:chExt cx="3525840" cy="920880"/>
          </a:xfrm>
        </p:grpSpPr>
        <p:sp>
          <p:nvSpPr>
            <p:cNvPr id="336" name="线形标注 2(带强调线) 31"/>
            <p:cNvSpPr/>
            <p:nvPr/>
          </p:nvSpPr>
          <p:spPr>
            <a:xfrm>
              <a:off x="6177240" y="5172120"/>
              <a:ext cx="2509560" cy="548640"/>
            </a:xfrm>
            <a:noFill/>
            <a:ln w="25560">
              <a:solidFill>
                <a:srgbClr val="3185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HB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NIPAm-COO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椭圆​​ 67"/>
            <p:cNvSpPr/>
            <p:nvPr/>
          </p:nvSpPr>
          <p:spPr>
            <a:xfrm flipH="1">
              <a:off x="5160960" y="5981040"/>
              <a:ext cx="123120" cy="111960"/>
            </a:xfrm>
            <a:prstGeom prst="ellipse">
              <a:avLst/>
            </a:prstGeom>
            <a:solidFill>
              <a:srgbClr val="31859b"/>
            </a:solidFill>
            <a:ln w="25560">
              <a:solidFill>
                <a:srgbClr val="3185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Group 31"/>
          <p:cNvGrpSpPr/>
          <p:nvPr/>
        </p:nvGrpSpPr>
        <p:grpSpPr>
          <a:xfrm>
            <a:off x="1328760" y="2602080"/>
            <a:ext cx="4103640" cy="504720"/>
            <a:chOff x="1328760" y="2602080"/>
            <a:chExt cx="4103640" cy="504720"/>
          </a:xfrm>
        </p:grpSpPr>
        <p:sp>
          <p:nvSpPr>
            <p:cNvPr id="339" name="燕尾形 7"/>
            <p:cNvSpPr/>
            <p:nvPr/>
          </p:nvSpPr>
          <p:spPr>
            <a:xfrm>
              <a:off x="1328760" y="2602080"/>
              <a:ext cx="4103640" cy="504720"/>
            </a:xfrm>
            <a:custGeom>
              <a:avLst/>
              <a:gdLst>
                <a:gd name="textAreaLeft" fmla="*/ 0 w 4103640"/>
                <a:gd name="textAreaRight" fmla="*/ 4104000 w 41036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72" y="0"/>
                  </a:lnTo>
                  <a:lnTo>
                    <a:pt x="21600" y="10800"/>
                  </a:lnTo>
                  <a:lnTo>
                    <a:pt x="20272" y="21600"/>
                  </a:lnTo>
                  <a:lnTo>
                    <a:pt x="0" y="21600"/>
                  </a:lnTo>
                  <a:lnTo>
                    <a:pt x="1328" y="10800"/>
                  </a:lnTo>
                  <a:close/>
                </a:path>
              </a:pathLst>
            </a:cu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​​ 11"/>
            <p:cNvSpPr/>
            <p:nvPr/>
          </p:nvSpPr>
          <p:spPr>
            <a:xfrm>
              <a:off x="2314080" y="2700360"/>
              <a:ext cx="17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d+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透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Group 34"/>
          <p:cNvGrpSpPr/>
          <p:nvPr/>
        </p:nvGrpSpPr>
        <p:grpSpPr>
          <a:xfrm>
            <a:off x="-8280" y="733320"/>
            <a:ext cx="972000" cy="505080"/>
            <a:chOff x="-8280" y="733320"/>
            <a:chExt cx="972000" cy="505080"/>
          </a:xfrm>
        </p:grpSpPr>
        <p:sp>
          <p:nvSpPr>
            <p:cNvPr id="342" name="五边形 13"/>
            <p:cNvSpPr/>
            <p:nvPr/>
          </p:nvSpPr>
          <p:spPr>
            <a:xfrm>
              <a:off x="1800" y="733320"/>
              <a:ext cx="961920" cy="50508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​​ 8"/>
            <p:cNvSpPr/>
            <p:nvPr/>
          </p:nvSpPr>
          <p:spPr>
            <a:xfrm>
              <a:off x="-8280" y="772920"/>
              <a:ext cx="886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沉降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4D72-3501-472B-9FC0-DA90B91B41E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-79200" y="519444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346" name="直接箭头​​连接符 4"/>
          <p:cNvCxnSpPr/>
          <p:nvPr/>
        </p:nvCxnSpPr>
        <p:spPr>
          <a:xfrm>
            <a:off x="0" y="6400440"/>
            <a:ext cx="9144720" cy="13320"/>
          </a:xfrm>
          <a:prstGeom prst="straightConnector1">
            <a:avLst/>
          </a:prstGeom>
          <a:ln w="76320">
            <a:solidFill>
              <a:srgbClr val="31859b"/>
            </a:solidFill>
            <a:bevel/>
            <a:tailEnd len="med" type="triangle" w="med"/>
          </a:ln>
        </p:spPr>
      </p:cxnSp>
      <p:sp>
        <p:nvSpPr>
          <p:cNvPr id="347" name="椭圆​​ 5"/>
          <p:cNvSpPr/>
          <p:nvPr/>
        </p:nvSpPr>
        <p:spPr>
          <a:xfrm flipH="1">
            <a:off x="8344800" y="6351480"/>
            <a:ext cx="122040" cy="112680"/>
          </a:xfrm>
          <a:prstGeom prst="ellipse">
            <a:avLst/>
          </a:prstGeom>
          <a:solidFill>
            <a:srgbClr val="31859b"/>
          </a:solidFill>
          <a:ln w="25560">
            <a:solidFill>
              <a:srgbClr val="3185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椭圆​​ 6"/>
          <p:cNvSpPr/>
          <p:nvPr/>
        </p:nvSpPr>
        <p:spPr>
          <a:xfrm>
            <a:off x="1282680" y="6351480"/>
            <a:ext cx="111240" cy="112680"/>
          </a:xfrm>
          <a:prstGeom prst="ellipse">
            <a:avLst/>
          </a:prstGeom>
          <a:solidFill>
            <a:srgbClr val="31859b"/>
          </a:solidFill>
          <a:ln w="25560">
            <a:solidFill>
              <a:srgbClr val="3185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椭圆​​ 7"/>
          <p:cNvSpPr/>
          <p:nvPr/>
        </p:nvSpPr>
        <p:spPr>
          <a:xfrm>
            <a:off x="647640" y="6351480"/>
            <a:ext cx="111240" cy="112680"/>
          </a:xfrm>
          <a:prstGeom prst="ellipse">
            <a:avLst/>
          </a:prstGeom>
          <a:solidFill>
            <a:srgbClr val="31859b"/>
          </a:solidFill>
          <a:ln w="25560">
            <a:solidFill>
              <a:srgbClr val="3185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椭圆​​ 8"/>
          <p:cNvSpPr/>
          <p:nvPr/>
        </p:nvSpPr>
        <p:spPr>
          <a:xfrm flipH="1">
            <a:off x="5160960" y="6351480"/>
            <a:ext cx="123840" cy="112680"/>
          </a:xfrm>
          <a:prstGeom prst="ellipse">
            <a:avLst/>
          </a:prstGeom>
          <a:solidFill>
            <a:srgbClr val="31859b"/>
          </a:solidFill>
          <a:ln w="25560">
            <a:solidFill>
              <a:srgbClr val="3185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5"/>
          <p:cNvSpPr/>
          <p:nvPr/>
        </p:nvSpPr>
        <p:spPr>
          <a:xfrm rot="2655600">
            <a:off x="7027200" y="42264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合成路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图片 3" descr=""/>
          <p:cNvPicPr/>
          <p:nvPr/>
        </p:nvPicPr>
        <p:blipFill>
          <a:blip r:embed="rId2"/>
          <a:stretch/>
        </p:blipFill>
        <p:spPr>
          <a:xfrm>
            <a:off x="10288440" y="1258920"/>
            <a:ext cx="6953400" cy="468792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3" descr=""/>
          <p:cNvPicPr/>
          <p:nvPr/>
        </p:nvPicPr>
        <p:blipFill>
          <a:blip r:embed="rId3"/>
          <a:stretch/>
        </p:blipFill>
        <p:spPr>
          <a:xfrm>
            <a:off x="13265280" y="1235160"/>
            <a:ext cx="493560" cy="130968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3" descr=""/>
          <p:cNvPicPr/>
          <p:nvPr/>
        </p:nvPicPr>
        <p:blipFill>
          <a:blip r:embed="rId4"/>
          <a:srcRect l="90267" t="51749" r="0" b="0"/>
          <a:stretch/>
        </p:blipFill>
        <p:spPr>
          <a:xfrm>
            <a:off x="16563960" y="3684600"/>
            <a:ext cx="676440" cy="226224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3" descr=""/>
          <p:cNvPicPr/>
          <p:nvPr/>
        </p:nvPicPr>
        <p:blipFill>
          <a:blip r:embed="rId5"/>
          <a:srcRect l="48459" t="51749" r="46669" b="33998"/>
          <a:stretch/>
        </p:blipFill>
        <p:spPr>
          <a:xfrm>
            <a:off x="13657320" y="3684600"/>
            <a:ext cx="339840" cy="66816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1" descr=""/>
          <p:cNvPicPr/>
          <p:nvPr/>
        </p:nvPicPr>
        <p:blipFill>
          <a:blip r:embed="rId6"/>
          <a:srcRect l="24042" t="0" r="61143" b="0"/>
          <a:stretch/>
        </p:blipFill>
        <p:spPr>
          <a:xfrm>
            <a:off x="3079800" y="-2363760"/>
            <a:ext cx="1209600" cy="188280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1" descr=""/>
          <p:cNvPicPr/>
          <p:nvPr/>
        </p:nvPicPr>
        <p:blipFill>
          <a:blip r:embed="rId7"/>
          <a:stretch/>
        </p:blipFill>
        <p:spPr>
          <a:xfrm>
            <a:off x="3559320" y="2189160"/>
            <a:ext cx="2709720" cy="188280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11" descr=""/>
          <p:cNvPicPr/>
          <p:nvPr/>
        </p:nvPicPr>
        <p:blipFill>
          <a:blip r:embed="rId8"/>
          <a:stretch/>
        </p:blipFill>
        <p:spPr>
          <a:xfrm>
            <a:off x="4251240" y="-2589120"/>
            <a:ext cx="1987560" cy="1646280"/>
          </a:xfrm>
          <a:prstGeom prst="rect">
            <a:avLst/>
          </a:prstGeom>
          <a:ln w="0">
            <a:noFill/>
          </a:ln>
        </p:spPr>
      </p:pic>
      <p:sp>
        <p:nvSpPr>
          <p:cNvPr id="359" name="矩形​​ 12"/>
          <p:cNvSpPr/>
          <p:nvPr/>
        </p:nvSpPr>
        <p:spPr>
          <a:xfrm>
            <a:off x="3917880" y="2444760"/>
            <a:ext cx="506520" cy="30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3898800" y="24192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Group 19"/>
          <p:cNvGrpSpPr/>
          <p:nvPr/>
        </p:nvGrpSpPr>
        <p:grpSpPr>
          <a:xfrm>
            <a:off x="4402440" y="1757520"/>
            <a:ext cx="766080" cy="591840"/>
            <a:chOff x="4402440" y="1757520"/>
            <a:chExt cx="766080" cy="591840"/>
          </a:xfrm>
        </p:grpSpPr>
        <p:sp>
          <p:nvSpPr>
            <p:cNvPr id="362" name="TextBox 15"/>
            <p:cNvSpPr/>
            <p:nvPr/>
          </p:nvSpPr>
          <p:spPr>
            <a:xfrm>
              <a:off x="4402440" y="17575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MA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63" name="直接箭头​​连接符 16"/>
            <p:cNvCxnSpPr/>
            <p:nvPr/>
          </p:nvCxnSpPr>
          <p:spPr>
            <a:xfrm flipH="1">
              <a:off x="4414680" y="2072880"/>
              <a:ext cx="155520" cy="276840"/>
            </a:xfrm>
            <a:prstGeom prst="straightConnector1">
              <a:avLst/>
            </a:prstGeom>
            <a:ln w="12600">
              <a:solidFill>
                <a:srgbClr val="000000"/>
              </a:solidFill>
              <a:bevel/>
              <a:tailEnd len="med" type="arrow" w="med"/>
            </a:ln>
          </p:spPr>
        </p:cxnSp>
      </p:grpSp>
      <p:sp>
        <p:nvSpPr>
          <p:cNvPr id="364" name="TextBox 17"/>
          <p:cNvSpPr/>
          <p:nvPr/>
        </p:nvSpPr>
        <p:spPr>
          <a:xfrm>
            <a:off x="2755080" y="408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吡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​​ 18"/>
          <p:cNvSpPr/>
          <p:nvPr/>
        </p:nvSpPr>
        <p:spPr>
          <a:xfrm>
            <a:off x="2698920" y="4046400"/>
            <a:ext cx="1209600" cy="484200"/>
          </a:xfrm>
          <a:prstGeom prst="rect">
            <a:avLst/>
          </a:prstGeom>
          <a:noFill/>
          <a:ln w="255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图片 1" descr=""/>
          <p:cNvPicPr/>
          <p:nvPr/>
        </p:nvPicPr>
        <p:blipFill>
          <a:blip r:embed="rId9"/>
          <a:srcRect l="65742" t="0" r="0" b="0"/>
          <a:stretch/>
        </p:blipFill>
        <p:spPr>
          <a:xfrm>
            <a:off x="3397320" y="2128680"/>
            <a:ext cx="2873160" cy="1935360"/>
          </a:xfrm>
          <a:prstGeom prst="rect">
            <a:avLst/>
          </a:prstGeom>
          <a:ln w="0">
            <a:noFill/>
          </a:ln>
        </p:spPr>
      </p:pic>
      <p:grpSp>
        <p:nvGrpSpPr>
          <p:cNvPr id="367" name="Group 25"/>
          <p:cNvGrpSpPr/>
          <p:nvPr/>
        </p:nvGrpSpPr>
        <p:grpSpPr>
          <a:xfrm>
            <a:off x="523800" y="-1716120"/>
            <a:ext cx="1930320" cy="1458000"/>
            <a:chOff x="523800" y="-1716120"/>
            <a:chExt cx="1930320" cy="1458000"/>
          </a:xfrm>
        </p:grpSpPr>
        <p:grpSp>
          <p:nvGrpSpPr>
            <p:cNvPr id="368" name="Group 26"/>
            <p:cNvGrpSpPr/>
            <p:nvPr/>
          </p:nvGrpSpPr>
          <p:grpSpPr>
            <a:xfrm>
              <a:off x="523800" y="-985680"/>
              <a:ext cx="1930320" cy="727560"/>
              <a:chOff x="523800" y="-985680"/>
              <a:chExt cx="1930320" cy="727560"/>
            </a:xfrm>
          </p:grpSpPr>
          <p:sp>
            <p:nvSpPr>
              <p:cNvPr id="369" name="椭圆​​ 24"/>
              <p:cNvSpPr/>
              <p:nvPr/>
            </p:nvSpPr>
            <p:spPr>
              <a:xfrm>
                <a:off x="747720" y="-985680"/>
                <a:ext cx="218520" cy="218520"/>
              </a:xfrm>
              <a:prstGeom prst="ellipse">
                <a:avLst/>
              </a:prstGeom>
              <a:noFill/>
              <a:ln w="57240">
                <a:solidFill>
                  <a:srgbClr val="538cd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椭圆​​ 25"/>
              <p:cNvSpPr/>
              <p:nvPr/>
            </p:nvSpPr>
            <p:spPr>
              <a:xfrm>
                <a:off x="2031480" y="-985680"/>
                <a:ext cx="218520" cy="218520"/>
              </a:xfrm>
              <a:prstGeom prst="ellipse">
                <a:avLst/>
              </a:prstGeom>
              <a:noFill/>
              <a:ln w="57240">
                <a:solidFill>
                  <a:srgbClr val="538cd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圆角矩形​​ 26"/>
              <p:cNvSpPr/>
              <p:nvPr/>
            </p:nvSpPr>
            <p:spPr>
              <a:xfrm>
                <a:off x="523800" y="-853560"/>
                <a:ext cx="1930320" cy="595440"/>
              </a:xfrm>
              <a:prstGeom prst="roundRect">
                <a:avLst>
                  <a:gd name="adj" fmla="val 10329"/>
                </a:avLst>
              </a:prstGeom>
              <a:solidFill>
                <a:srgbClr val="ffffff"/>
              </a:solidFill>
              <a:ln w="25560">
                <a:solidFill>
                  <a:srgbClr val="538cd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Box 27"/>
              <p:cNvSpPr/>
              <p:nvPr/>
            </p:nvSpPr>
            <p:spPr>
              <a:xfrm>
                <a:off x="784800" y="-781920"/>
                <a:ext cx="143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DMF, </a:t>
                </a:r>
                <a:r>
                  <a:rPr b="0" lang="zh-CN" sz="24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冰浴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3" name="直接连接符​​ 22"/>
            <p:cNvSpPr/>
            <p:nvPr/>
          </p:nvSpPr>
          <p:spPr>
            <a:xfrm flipV="1">
              <a:off x="856800" y="-1716120"/>
              <a:ext cx="10080" cy="730080"/>
            </a:xfrm>
            <a:prstGeom prst="line">
              <a:avLst/>
            </a:prstGeom>
            <a:ln w="284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直接连接符​​ 23"/>
            <p:cNvSpPr/>
            <p:nvPr/>
          </p:nvSpPr>
          <p:spPr>
            <a:xfrm flipV="1">
              <a:off x="2140560" y="-1716120"/>
              <a:ext cx="3600" cy="730080"/>
            </a:xfrm>
            <a:prstGeom prst="line">
              <a:avLst/>
            </a:prstGeom>
            <a:ln w="284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5" name="Group 33"/>
          <p:cNvGrpSpPr/>
          <p:nvPr/>
        </p:nvGrpSpPr>
        <p:grpSpPr>
          <a:xfrm>
            <a:off x="515880" y="-1700280"/>
            <a:ext cx="1930320" cy="1458000"/>
            <a:chOff x="515880" y="-1700280"/>
            <a:chExt cx="1930320" cy="1458000"/>
          </a:xfrm>
        </p:grpSpPr>
        <p:grpSp>
          <p:nvGrpSpPr>
            <p:cNvPr id="376" name="Group 34"/>
            <p:cNvGrpSpPr/>
            <p:nvPr/>
          </p:nvGrpSpPr>
          <p:grpSpPr>
            <a:xfrm>
              <a:off x="515880" y="-969840"/>
              <a:ext cx="1930320" cy="727560"/>
              <a:chOff x="515880" y="-969840"/>
              <a:chExt cx="1930320" cy="727560"/>
            </a:xfrm>
          </p:grpSpPr>
          <p:sp>
            <p:nvSpPr>
              <p:cNvPr id="377" name="椭圆​​ 32"/>
              <p:cNvSpPr/>
              <p:nvPr/>
            </p:nvSpPr>
            <p:spPr>
              <a:xfrm>
                <a:off x="739800" y="-969840"/>
                <a:ext cx="218520" cy="218520"/>
              </a:xfrm>
              <a:prstGeom prst="ellipse">
                <a:avLst/>
              </a:prstGeom>
              <a:noFill/>
              <a:ln w="57240">
                <a:solidFill>
                  <a:srgbClr val="538cd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椭圆​​ 33"/>
              <p:cNvSpPr/>
              <p:nvPr/>
            </p:nvSpPr>
            <p:spPr>
              <a:xfrm>
                <a:off x="2023560" y="-969840"/>
                <a:ext cx="218520" cy="218520"/>
              </a:xfrm>
              <a:prstGeom prst="ellipse">
                <a:avLst/>
              </a:prstGeom>
              <a:noFill/>
              <a:ln w="57240">
                <a:solidFill>
                  <a:srgbClr val="538cd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圆角矩形​​ 34"/>
              <p:cNvSpPr/>
              <p:nvPr/>
            </p:nvSpPr>
            <p:spPr>
              <a:xfrm>
                <a:off x="515880" y="-837720"/>
                <a:ext cx="1930320" cy="595440"/>
              </a:xfrm>
              <a:prstGeom prst="roundRect">
                <a:avLst>
                  <a:gd name="adj" fmla="val 10329"/>
                </a:avLst>
              </a:prstGeom>
              <a:solidFill>
                <a:srgbClr val="ffffff"/>
              </a:solidFill>
              <a:ln w="25560">
                <a:solidFill>
                  <a:srgbClr val="538cd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TextBox 35"/>
              <p:cNvSpPr/>
              <p:nvPr/>
            </p:nvSpPr>
            <p:spPr>
              <a:xfrm>
                <a:off x="917280" y="-788760"/>
                <a:ext cx="1086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24:0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1" name="直接连接符​​ 30"/>
            <p:cNvSpPr/>
            <p:nvPr/>
          </p:nvSpPr>
          <p:spPr>
            <a:xfrm flipV="1">
              <a:off x="848880" y="-1700280"/>
              <a:ext cx="10080" cy="730080"/>
            </a:xfrm>
            <a:prstGeom prst="line">
              <a:avLst/>
            </a:prstGeom>
            <a:ln w="284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直接连接符​​ 31"/>
            <p:cNvSpPr/>
            <p:nvPr/>
          </p:nvSpPr>
          <p:spPr>
            <a:xfrm flipV="1">
              <a:off x="2132640" y="-1700280"/>
              <a:ext cx="3600" cy="730080"/>
            </a:xfrm>
            <a:prstGeom prst="line">
              <a:avLst/>
            </a:prstGeom>
            <a:ln w="284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3" name="图片 4" descr=""/>
          <p:cNvPicPr/>
          <p:nvPr/>
        </p:nvPicPr>
        <p:blipFill>
          <a:blip r:embed="rId10"/>
          <a:stretch/>
        </p:blipFill>
        <p:spPr>
          <a:xfrm>
            <a:off x="12347640" y="1498680"/>
            <a:ext cx="6091200" cy="425268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4" descr=""/>
          <p:cNvPicPr/>
          <p:nvPr/>
        </p:nvPicPr>
        <p:blipFill>
          <a:blip r:embed="rId11"/>
          <a:srcRect l="86246" t="0" r="0" b="0"/>
          <a:stretch/>
        </p:blipFill>
        <p:spPr>
          <a:xfrm>
            <a:off x="17600760" y="1498680"/>
            <a:ext cx="838080" cy="4252680"/>
          </a:xfrm>
          <a:prstGeom prst="rect">
            <a:avLst/>
          </a:prstGeom>
          <a:ln w="0">
            <a:noFill/>
          </a:ln>
        </p:spPr>
      </p:pic>
      <p:pic>
        <p:nvPicPr>
          <p:cNvPr id="385" name="图片 4" descr=""/>
          <p:cNvPicPr/>
          <p:nvPr/>
        </p:nvPicPr>
        <p:blipFill>
          <a:blip r:embed="rId12"/>
          <a:srcRect l="43744" t="0" r="36401" b="71389"/>
          <a:stretch/>
        </p:blipFill>
        <p:spPr>
          <a:xfrm>
            <a:off x="15008400" y="1500120"/>
            <a:ext cx="1209600" cy="1217520"/>
          </a:xfrm>
          <a:prstGeom prst="rect">
            <a:avLst/>
          </a:prstGeom>
          <a:ln w="0">
            <a:noFill/>
          </a:ln>
        </p:spPr>
      </p:pic>
      <p:sp>
        <p:nvSpPr>
          <p:cNvPr id="386" name="矩形​​ 39"/>
          <p:cNvSpPr/>
          <p:nvPr/>
        </p:nvSpPr>
        <p:spPr>
          <a:xfrm>
            <a:off x="0" y="6419880"/>
            <a:ext cx="746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O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​​ 40"/>
          <p:cNvSpPr/>
          <p:nvPr/>
        </p:nvSpPr>
        <p:spPr>
          <a:xfrm>
            <a:off x="695160" y="6419880"/>
            <a:ext cx="73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​​ 41"/>
          <p:cNvSpPr/>
          <p:nvPr/>
        </p:nvSpPr>
        <p:spPr>
          <a:xfrm>
            <a:off x="2476800" y="6419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​​ 42"/>
          <p:cNvSpPr/>
          <p:nvPr/>
        </p:nvSpPr>
        <p:spPr>
          <a:xfrm>
            <a:off x="6402960" y="64198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枝核壳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515880" y="5865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indefinite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indefinite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96296E-006 L 2.77778E-006 0.22014 E">
                                      <p:cBhvr>
                                        <p:cTn id="330" dur="1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0.22014 L 5.55556E-007 -0.02986 E">
                                      <p:cBhvr>
                                        <p:cTn id="333" dur="1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72477 L -0.00416 0.025 E">
                                      <p:cBhvr>
                                        <p:cTn id="337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209 0.575 L 0.00209 0.03357 E">
                                      <p:cBhvr>
                                        <p:cTn id="339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01"/>
                            </p:stCondLst>
                            <p:childTnLst>
                              <p:par>
                                <p:cTn id="3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57519 L 0.02743 0.57543 E">
                                      <p:cBhvr>
                                        <p:cTn id="355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601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02"/>
                            </p:stCondLst>
                            <p:childTnLst>
                              <p:par>
                                <p:cTn id="3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7037E-007 L -0.05833 0.24444 E">
                                      <p:cBhvr>
                                        <p:cTn id="367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602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603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603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103"/>
                            </p:stCondLst>
                            <p:childTnLst>
                              <p:par>
                                <p:cTn id="38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96296E-006 L 2.77778E-006 0.22014 E">
                                      <p:cBhvr>
                                        <p:cTn id="400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22014 L 5.55556E-007 -0.02986 E">
                                      <p:cBhvr>
                                        <p:cTn id="410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28923 0 -0.5783 0 -0.86753 0 E">
                                      <p:cBhvr>
                                        <p:cTn id="414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41 -0.00231 C -0.21094 -0.00924 -0.28055 0.00323 -0.35729 0.00393 C -0.58003 0.00554 -0.80295 0.00393 -1.02569 0.00393 E">
                                      <p:cBhvr>
                                        <p:cTn id="416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25 -0.00231 C -0.21077 -0.00924 -0.28039 0.00324 -0.35712 0.00393 C -0.57986 0.00555 -0.80278 0.00393 -1.02552 0.00393 E">
                                      <p:cBhvr>
                                        <p:cTn id="418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25 -0.00231 C -0.21077 -0.00924 -0.28038 0.00324 -0.35712 0.00393 C -0.57986 0.00555 -0.80278 0.00393 -1.02552 0.00393 E">
                                      <p:cBhvr>
                                        <p:cTn id="420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24 -0.00231 C -0.21076 -0.00924 -0.28038 0.00324 -0.35712 0.00393 C -0.57986 0.00555 -0.80277 0.00393 -1.02552 0.00393 E">
                                      <p:cBhvr>
                                        <p:cTn id="422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indefinite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43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2569 0.00393 L -2.04514 0.00485 E">
                                      <p:cBhvr>
                                        <p:cTn id="437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8524 0.01181 C -0.82448 0.01181 -0.46354 0.01181 -0.10277 0.01181 E">
                                      <p:cBhvr>
                                        <p:cTn id="439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8524 0.01181 C -0.82448 0.01181 -0.46354 0.01181 -0.10278 0.01181 E">
                                      <p:cBhvr>
                                        <p:cTn id="441" dur="1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8525 0.0118 C -0.82447 0.0118 -0.46354 0.0118 -0.10277 0.0118 E">
                                      <p:cBhvr>
                                        <p:cTn id="443" dur="1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indefinite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753 1.11111E-006 L -0.00278 -0.00093 E">
                                      <p:cBhvr>
                                        <p:cTn id="458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8333 0.0088 C -0.82448 0.0088 -0.4658 0.0088 -0.10694 0.0088 E">
                                      <p:cBhvr>
                                        <p:cTn id="460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indefinite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indefinite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B414-BF53-4B9C-AED7-2EE2ABEC39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同侧圆角矩形 5"/>
          <p:cNvSpPr/>
          <p:nvPr/>
        </p:nvSpPr>
        <p:spPr>
          <a:xfrm>
            <a:off x="8121600" y="3460680"/>
            <a:ext cx="209520" cy="2189160"/>
          </a:xfrm>
          <a:custGeom>
            <a:avLst/>
            <a:gdLst>
              <a:gd name="textAreaLeft" fmla="*/ 0 w 209520"/>
              <a:gd name="textAreaRight" fmla="*/ 209880 w 209520"/>
              <a:gd name="textAreaTop" fmla="*/ 0 h 2189160"/>
              <a:gd name="textAreaBottom" fmla="*/ 2189520 h 2189160"/>
            </a:gdLst>
            <a:ahLst/>
            <a:rect l="textAreaLeft" t="textAreaTop" r="textAreaRight" b="textAreaBottom"/>
            <a:pathLst>
              <a:path w="417006" h="3491805">
                <a:moveTo>
                  <a:pt x="0" y="3486780"/>
                </a:moveTo>
                <a:lnTo>
                  <a:pt x="936" y="112887"/>
                </a:lnTo>
                <a:cubicBezTo>
                  <a:pt x="936" y="50541"/>
                  <a:pt x="51477" y="0"/>
                  <a:pt x="113823" y="0"/>
                </a:cubicBezTo>
                <a:lnTo>
                  <a:pt x="303183" y="0"/>
                </a:lnTo>
                <a:cubicBezTo>
                  <a:pt x="365529" y="0"/>
                  <a:pt x="416070" y="50541"/>
                  <a:pt x="416070" y="112887"/>
                </a:cubicBezTo>
                <a:lnTo>
                  <a:pt x="417006" y="3491805"/>
                </a:lnTo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Group 4"/>
          <p:cNvGrpSpPr/>
          <p:nvPr/>
        </p:nvGrpSpPr>
        <p:grpSpPr>
          <a:xfrm>
            <a:off x="7940520" y="665280"/>
            <a:ext cx="571680" cy="5518080"/>
            <a:chOff x="7940520" y="665280"/>
            <a:chExt cx="571680" cy="5518080"/>
          </a:xfrm>
        </p:grpSpPr>
        <p:sp>
          <p:nvSpPr>
            <p:cNvPr id="395" name="同侧圆角矩形 5"/>
            <p:cNvSpPr/>
            <p:nvPr/>
          </p:nvSpPr>
          <p:spPr>
            <a:xfrm>
              <a:off x="8121960" y="665280"/>
              <a:ext cx="208800" cy="498456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4984560"/>
                <a:gd name="textAreaBottom" fmla="*/ 4984920 h 4984560"/>
              </a:gdLst>
              <a:ahLst/>
              <a:rect l="textAreaLeft" t="textAreaTop" r="textAreaRight" b="textAreaBottom"/>
              <a:pathLst>
                <a:path w="417006" h="3491805">
                  <a:moveTo>
                    <a:pt x="0" y="3486780"/>
                  </a:moveTo>
                  <a:lnTo>
                    <a:pt x="936" y="112887"/>
                  </a:lnTo>
                  <a:cubicBezTo>
                    <a:pt x="936" y="50541"/>
                    <a:pt x="51477" y="0"/>
                    <a:pt x="113823" y="0"/>
                  </a:cubicBezTo>
                  <a:lnTo>
                    <a:pt x="303183" y="0"/>
                  </a:lnTo>
                  <a:cubicBezTo>
                    <a:pt x="365529" y="0"/>
                    <a:pt x="416070" y="50541"/>
                    <a:pt x="416070" y="112887"/>
                  </a:cubicBezTo>
                  <a:lnTo>
                    <a:pt x="417006" y="3491805"/>
                  </a:lnTo>
                </a:path>
              </a:pathLst>
            </a:custGeom>
            <a:noFill/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椭圆​​ 9"/>
            <p:cNvSpPr/>
            <p:nvPr/>
          </p:nvSpPr>
          <p:spPr>
            <a:xfrm>
              <a:off x="7940520" y="5628960"/>
              <a:ext cx="571680" cy="554400"/>
            </a:xfrm>
            <a:custGeom>
              <a:avLst/>
              <a:gdLst>
                <a:gd name="textAreaLeft" fmla="*/ 0 w 571680"/>
                <a:gd name="textAreaRight" fmla="*/ 571680 w 57168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1140605" h="1109338">
                  <a:moveTo>
                    <a:pt x="776352" y="4019"/>
                  </a:moveTo>
                  <a:cubicBezTo>
                    <a:pt x="935539" y="64309"/>
                    <a:pt x="1140605" y="224157"/>
                    <a:pt x="1140605" y="539094"/>
                  </a:cubicBezTo>
                  <a:cubicBezTo>
                    <a:pt x="1140605" y="854031"/>
                    <a:pt x="885298" y="1109338"/>
                    <a:pt x="570361" y="1109338"/>
                  </a:cubicBezTo>
                  <a:cubicBezTo>
                    <a:pt x="255424" y="1109338"/>
                    <a:pt x="6649" y="874709"/>
                    <a:pt x="117" y="539094"/>
                  </a:cubicBezTo>
                  <a:cubicBezTo>
                    <a:pt x="-6415" y="203479"/>
                    <a:pt x="260448" y="69334"/>
                    <a:pt x="350302" y="0"/>
                  </a:cubicBezTo>
                </a:path>
              </a:pathLst>
            </a:custGeom>
            <a:solidFill>
              <a:srgbClr val="e36c09"/>
            </a:solidFill>
            <a:ln w="2556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Group 7"/>
          <p:cNvGrpSpPr/>
          <p:nvPr/>
        </p:nvGrpSpPr>
        <p:grpSpPr>
          <a:xfrm>
            <a:off x="7859520" y="700200"/>
            <a:ext cx="262080" cy="4949640"/>
            <a:chOff x="7859520" y="700200"/>
            <a:chExt cx="262080" cy="4949640"/>
          </a:xfrm>
        </p:grpSpPr>
        <p:sp>
          <p:nvSpPr>
            <p:cNvPr id="398" name="直线 34"/>
            <p:cNvSpPr/>
            <p:nvPr/>
          </p:nvSpPr>
          <p:spPr>
            <a:xfrm flipH="1">
              <a:off x="7990560" y="5649840"/>
              <a:ext cx="13104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直线 35"/>
            <p:cNvSpPr/>
            <p:nvPr/>
          </p:nvSpPr>
          <p:spPr>
            <a:xfrm flipH="1">
              <a:off x="7859520" y="5238360"/>
              <a:ext cx="261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直线 36"/>
            <p:cNvSpPr/>
            <p:nvPr/>
          </p:nvSpPr>
          <p:spPr>
            <a:xfrm flipH="1">
              <a:off x="7990560" y="4823280"/>
              <a:ext cx="13104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直线 37"/>
            <p:cNvSpPr/>
            <p:nvPr/>
          </p:nvSpPr>
          <p:spPr>
            <a:xfrm flipH="1">
              <a:off x="7859520" y="4413240"/>
              <a:ext cx="261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直线 38"/>
            <p:cNvSpPr/>
            <p:nvPr/>
          </p:nvSpPr>
          <p:spPr>
            <a:xfrm flipH="1">
              <a:off x="7990560" y="3998520"/>
              <a:ext cx="13104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直线 39"/>
            <p:cNvSpPr/>
            <p:nvPr/>
          </p:nvSpPr>
          <p:spPr>
            <a:xfrm flipH="1">
              <a:off x="7859520" y="3588480"/>
              <a:ext cx="261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直线 40"/>
            <p:cNvSpPr/>
            <p:nvPr/>
          </p:nvSpPr>
          <p:spPr>
            <a:xfrm flipH="1">
              <a:off x="7990560" y="3176640"/>
              <a:ext cx="13104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直线 41"/>
            <p:cNvSpPr/>
            <p:nvPr/>
          </p:nvSpPr>
          <p:spPr>
            <a:xfrm flipH="1">
              <a:off x="7859520" y="2761560"/>
              <a:ext cx="261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直线 42"/>
            <p:cNvSpPr/>
            <p:nvPr/>
          </p:nvSpPr>
          <p:spPr>
            <a:xfrm flipH="1">
              <a:off x="7990560" y="2351520"/>
              <a:ext cx="13104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直线 43"/>
            <p:cNvSpPr/>
            <p:nvPr/>
          </p:nvSpPr>
          <p:spPr>
            <a:xfrm flipH="1">
              <a:off x="7859520" y="1936800"/>
              <a:ext cx="261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直线 44"/>
            <p:cNvSpPr/>
            <p:nvPr/>
          </p:nvSpPr>
          <p:spPr>
            <a:xfrm flipH="1">
              <a:off x="7990560" y="1526760"/>
              <a:ext cx="13104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直线 45"/>
            <p:cNvSpPr/>
            <p:nvPr/>
          </p:nvSpPr>
          <p:spPr>
            <a:xfrm flipH="1">
              <a:off x="7859520" y="1111680"/>
              <a:ext cx="261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直线 46"/>
            <p:cNvSpPr/>
            <p:nvPr/>
          </p:nvSpPr>
          <p:spPr>
            <a:xfrm flipH="1">
              <a:off x="7990560" y="700200"/>
              <a:ext cx="13104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直线 179"/>
            <p:cNvSpPr/>
            <p:nvPr/>
          </p:nvSpPr>
          <p:spPr>
            <a:xfrm flipH="1">
              <a:off x="8082360" y="1531440"/>
              <a:ext cx="2160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直线 180"/>
            <p:cNvSpPr/>
            <p:nvPr/>
          </p:nvSpPr>
          <p:spPr>
            <a:xfrm flipH="1">
              <a:off x="7960320" y="1531440"/>
              <a:ext cx="2160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TextBox 52"/>
          <p:cNvSpPr/>
          <p:nvPr/>
        </p:nvSpPr>
        <p:spPr>
          <a:xfrm>
            <a:off x="6807960" y="326556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C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4" name="Group 24"/>
          <p:cNvGrpSpPr/>
          <p:nvPr/>
        </p:nvGrpSpPr>
        <p:grpSpPr>
          <a:xfrm>
            <a:off x="1024560" y="843840"/>
            <a:ext cx="4673160" cy="4748400"/>
            <a:chOff x="1024560" y="843840"/>
            <a:chExt cx="4673160" cy="4748400"/>
          </a:xfrm>
        </p:grpSpPr>
        <p:grpSp>
          <p:nvGrpSpPr>
            <p:cNvPr id="415" name="Group 25"/>
            <p:cNvGrpSpPr/>
            <p:nvPr/>
          </p:nvGrpSpPr>
          <p:grpSpPr>
            <a:xfrm>
              <a:off x="3405960" y="3510720"/>
              <a:ext cx="1442160" cy="2081520"/>
              <a:chOff x="3405960" y="3510720"/>
              <a:chExt cx="1442160" cy="2081520"/>
            </a:xfrm>
          </p:grpSpPr>
          <p:grpSp>
            <p:nvGrpSpPr>
              <p:cNvPr id="416" name="Group 26"/>
              <p:cNvGrpSpPr/>
              <p:nvPr/>
            </p:nvGrpSpPr>
            <p:grpSpPr>
              <a:xfrm>
                <a:off x="3405960" y="3510720"/>
                <a:ext cx="495720" cy="495360"/>
                <a:chOff x="3405960" y="3510720"/>
                <a:chExt cx="495720" cy="495360"/>
              </a:xfrm>
            </p:grpSpPr>
            <p:sp>
              <p:nvSpPr>
                <p:cNvPr id="417" name="椭圆​​ 363"/>
                <p:cNvSpPr/>
                <p:nvPr/>
              </p:nvSpPr>
              <p:spPr>
                <a:xfrm rot="3726600">
                  <a:off x="3470400" y="357480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" name="椭圆​​ 364"/>
                <p:cNvSpPr/>
                <p:nvPr/>
              </p:nvSpPr>
              <p:spPr>
                <a:xfrm rot="3726600">
                  <a:off x="3547800" y="35701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9" name="Group 29"/>
              <p:cNvGrpSpPr/>
              <p:nvPr/>
            </p:nvGrpSpPr>
            <p:grpSpPr>
              <a:xfrm>
                <a:off x="3492720" y="3696120"/>
                <a:ext cx="556920" cy="556920"/>
                <a:chOff x="3492720" y="3696120"/>
                <a:chExt cx="556920" cy="556920"/>
              </a:xfrm>
            </p:grpSpPr>
            <p:sp>
              <p:nvSpPr>
                <p:cNvPr id="420" name="椭圆​​ 361"/>
                <p:cNvSpPr/>
                <p:nvPr/>
              </p:nvSpPr>
              <p:spPr>
                <a:xfrm rot="3726600">
                  <a:off x="3565080" y="376812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1" name="椭圆​​ 362"/>
                <p:cNvSpPr/>
                <p:nvPr/>
              </p:nvSpPr>
              <p:spPr>
                <a:xfrm rot="3726600">
                  <a:off x="3652920" y="376344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2" name="Group 32"/>
              <p:cNvGrpSpPr/>
              <p:nvPr/>
            </p:nvGrpSpPr>
            <p:grpSpPr>
              <a:xfrm>
                <a:off x="3591000" y="3906000"/>
                <a:ext cx="619920" cy="619920"/>
                <a:chOff x="3591000" y="3906000"/>
                <a:chExt cx="619920" cy="619920"/>
              </a:xfrm>
            </p:grpSpPr>
            <p:sp>
              <p:nvSpPr>
                <p:cNvPr id="423" name="椭圆​​ 359"/>
                <p:cNvSpPr/>
                <p:nvPr/>
              </p:nvSpPr>
              <p:spPr>
                <a:xfrm rot="3726600">
                  <a:off x="3671640" y="398628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4" name="椭圆​​ 360"/>
                <p:cNvSpPr/>
                <p:nvPr/>
              </p:nvSpPr>
              <p:spPr>
                <a:xfrm rot="3726600">
                  <a:off x="3769200" y="398124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5" name="Group 35"/>
              <p:cNvGrpSpPr/>
              <p:nvPr/>
            </p:nvGrpSpPr>
            <p:grpSpPr>
              <a:xfrm>
                <a:off x="3664800" y="4079160"/>
                <a:ext cx="735840" cy="735840"/>
                <a:chOff x="3664800" y="4079160"/>
                <a:chExt cx="735840" cy="735840"/>
              </a:xfrm>
            </p:grpSpPr>
            <p:sp>
              <p:nvSpPr>
                <p:cNvPr id="426" name="椭圆​​ 357"/>
                <p:cNvSpPr/>
                <p:nvPr/>
              </p:nvSpPr>
              <p:spPr>
                <a:xfrm rot="3726600">
                  <a:off x="3760560" y="417456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7" name="椭圆​​ 358"/>
                <p:cNvSpPr/>
                <p:nvPr/>
              </p:nvSpPr>
              <p:spPr>
                <a:xfrm rot="3726600">
                  <a:off x="3876480" y="416880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8" name="Group 38"/>
              <p:cNvGrpSpPr/>
              <p:nvPr/>
            </p:nvGrpSpPr>
            <p:grpSpPr>
              <a:xfrm>
                <a:off x="3830040" y="4412520"/>
                <a:ext cx="797040" cy="796680"/>
                <a:chOff x="3830040" y="4412520"/>
                <a:chExt cx="797040" cy="796680"/>
              </a:xfrm>
            </p:grpSpPr>
            <p:sp>
              <p:nvSpPr>
                <p:cNvPr id="429" name="椭圆​​ 355"/>
                <p:cNvSpPr/>
                <p:nvPr/>
              </p:nvSpPr>
              <p:spPr>
                <a:xfrm rot="3726600">
                  <a:off x="3933720" y="451584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0" name="椭圆​​ 356"/>
                <p:cNvSpPr/>
                <p:nvPr/>
              </p:nvSpPr>
              <p:spPr>
                <a:xfrm rot="3726600">
                  <a:off x="4059000" y="450936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1" name="Group 41"/>
              <p:cNvGrpSpPr/>
              <p:nvPr/>
            </p:nvGrpSpPr>
            <p:grpSpPr>
              <a:xfrm>
                <a:off x="3949560" y="4693680"/>
                <a:ext cx="898560" cy="898560"/>
                <a:chOff x="3949560" y="4693680"/>
                <a:chExt cx="898560" cy="898560"/>
              </a:xfrm>
            </p:grpSpPr>
            <p:sp>
              <p:nvSpPr>
                <p:cNvPr id="432" name="椭圆​​ 353"/>
                <p:cNvSpPr/>
                <p:nvPr/>
              </p:nvSpPr>
              <p:spPr>
                <a:xfrm rot="3726600">
                  <a:off x="4066200" y="481032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3" name="椭圆​​ 354"/>
                <p:cNvSpPr/>
                <p:nvPr/>
              </p:nvSpPr>
              <p:spPr>
                <a:xfrm rot="3726600">
                  <a:off x="4195080" y="479916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34" name="Group 44"/>
            <p:cNvGrpSpPr/>
            <p:nvPr/>
          </p:nvGrpSpPr>
          <p:grpSpPr>
            <a:xfrm>
              <a:off x="1024560" y="3281400"/>
              <a:ext cx="2083320" cy="1414800"/>
              <a:chOff x="1024560" y="3281400"/>
              <a:chExt cx="2083320" cy="1414800"/>
            </a:xfrm>
          </p:grpSpPr>
          <p:grpSp>
            <p:nvGrpSpPr>
              <p:cNvPr id="435" name="Group 45"/>
              <p:cNvGrpSpPr/>
              <p:nvPr/>
            </p:nvGrpSpPr>
            <p:grpSpPr>
              <a:xfrm>
                <a:off x="2618280" y="3281400"/>
                <a:ext cx="489600" cy="492480"/>
                <a:chOff x="2618280" y="3281400"/>
                <a:chExt cx="489600" cy="492480"/>
              </a:xfrm>
            </p:grpSpPr>
            <p:sp>
              <p:nvSpPr>
                <p:cNvPr id="436" name="椭圆​​ 345"/>
                <p:cNvSpPr/>
                <p:nvPr/>
              </p:nvSpPr>
              <p:spPr>
                <a:xfrm flipV="1" rot="9127200">
                  <a:off x="2679840" y="3353760"/>
                  <a:ext cx="366480" cy="354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7" name="椭圆​​ 346"/>
                <p:cNvSpPr/>
                <p:nvPr/>
              </p:nvSpPr>
              <p:spPr>
                <a:xfrm flipV="1" rot="9127200">
                  <a:off x="2703600" y="333324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8" name="Group 48"/>
              <p:cNvGrpSpPr/>
              <p:nvPr/>
            </p:nvGrpSpPr>
            <p:grpSpPr>
              <a:xfrm>
                <a:off x="2369520" y="3363120"/>
                <a:ext cx="550080" cy="552960"/>
                <a:chOff x="2369520" y="3363120"/>
                <a:chExt cx="550080" cy="552960"/>
              </a:xfrm>
            </p:grpSpPr>
            <p:sp>
              <p:nvSpPr>
                <p:cNvPr id="439" name="椭圆​​ 343"/>
                <p:cNvSpPr/>
                <p:nvPr/>
              </p:nvSpPr>
              <p:spPr>
                <a:xfrm flipV="1" rot="9127200">
                  <a:off x="2438280" y="3444120"/>
                  <a:ext cx="41184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0" name="椭圆​​ 344"/>
                <p:cNvSpPr/>
                <p:nvPr/>
              </p:nvSpPr>
              <p:spPr>
                <a:xfrm flipV="1" rot="9127200">
                  <a:off x="2465280" y="3421800"/>
                  <a:ext cx="331920" cy="32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1" name="Group 51"/>
              <p:cNvGrpSpPr/>
              <p:nvPr/>
            </p:nvGrpSpPr>
            <p:grpSpPr>
              <a:xfrm>
                <a:off x="2095200" y="3457080"/>
                <a:ext cx="612360" cy="615960"/>
                <a:chOff x="2095200" y="3457080"/>
                <a:chExt cx="612360" cy="615960"/>
              </a:xfrm>
            </p:grpSpPr>
            <p:sp>
              <p:nvSpPr>
                <p:cNvPr id="442" name="椭圆​​ 341"/>
                <p:cNvSpPr/>
                <p:nvPr/>
              </p:nvSpPr>
              <p:spPr>
                <a:xfrm flipV="1" rot="9127200">
                  <a:off x="2171880" y="3547800"/>
                  <a:ext cx="45828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3" name="椭圆​​ 342"/>
                <p:cNvSpPr/>
                <p:nvPr/>
              </p:nvSpPr>
              <p:spPr>
                <a:xfrm flipV="1" rot="9127200">
                  <a:off x="2201760" y="352260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4" name="Group 54"/>
              <p:cNvGrpSpPr/>
              <p:nvPr/>
            </p:nvGrpSpPr>
            <p:grpSpPr>
              <a:xfrm>
                <a:off x="1798920" y="3516120"/>
                <a:ext cx="726480" cy="731520"/>
                <a:chOff x="1798920" y="3516120"/>
                <a:chExt cx="726480" cy="731520"/>
              </a:xfrm>
            </p:grpSpPr>
            <p:sp>
              <p:nvSpPr>
                <p:cNvPr id="445" name="椭圆​​ 339"/>
                <p:cNvSpPr/>
                <p:nvPr/>
              </p:nvSpPr>
              <p:spPr>
                <a:xfrm flipV="1" rot="9127200">
                  <a:off x="1890360" y="3625200"/>
                  <a:ext cx="54396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6" name="椭圆​​ 340"/>
                <p:cNvSpPr/>
                <p:nvPr/>
              </p:nvSpPr>
              <p:spPr>
                <a:xfrm flipV="1" rot="9127200">
                  <a:off x="1925280" y="359424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7" name="Group 57"/>
              <p:cNvGrpSpPr/>
              <p:nvPr/>
            </p:nvGrpSpPr>
            <p:grpSpPr>
              <a:xfrm>
                <a:off x="1402200" y="3676320"/>
                <a:ext cx="786960" cy="791280"/>
                <a:chOff x="1402200" y="3676320"/>
                <a:chExt cx="786960" cy="791280"/>
              </a:xfrm>
            </p:grpSpPr>
            <p:sp>
              <p:nvSpPr>
                <p:cNvPr id="448" name="椭圆​​ 337"/>
                <p:cNvSpPr/>
                <p:nvPr/>
              </p:nvSpPr>
              <p:spPr>
                <a:xfrm flipV="1" rot="9127200">
                  <a:off x="1500840" y="3793680"/>
                  <a:ext cx="589320" cy="569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9" name="椭圆​​ 338"/>
                <p:cNvSpPr/>
                <p:nvPr/>
              </p:nvSpPr>
              <p:spPr>
                <a:xfrm flipV="1" rot="9127200">
                  <a:off x="1539720" y="376020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0" name="Group 60"/>
              <p:cNvGrpSpPr/>
              <p:nvPr/>
            </p:nvGrpSpPr>
            <p:grpSpPr>
              <a:xfrm>
                <a:off x="1024560" y="3807720"/>
                <a:ext cx="887760" cy="888480"/>
                <a:chOff x="1024560" y="3807720"/>
                <a:chExt cx="887760" cy="888480"/>
              </a:xfrm>
            </p:grpSpPr>
            <p:sp>
              <p:nvSpPr>
                <p:cNvPr id="451" name="椭圆​​ 335"/>
                <p:cNvSpPr/>
                <p:nvPr/>
              </p:nvSpPr>
              <p:spPr>
                <a:xfrm flipV="1" rot="9127200">
                  <a:off x="1136160" y="393552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2" name="椭圆​​ 336"/>
                <p:cNvSpPr/>
                <p:nvPr/>
              </p:nvSpPr>
              <p:spPr>
                <a:xfrm flipV="1" rot="9127200">
                  <a:off x="1191600" y="390240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53" name="Group 63"/>
            <p:cNvGrpSpPr/>
            <p:nvPr/>
          </p:nvGrpSpPr>
          <p:grpSpPr>
            <a:xfrm>
              <a:off x="1869120" y="843840"/>
              <a:ext cx="1414800" cy="2083320"/>
              <a:chOff x="1869120" y="843840"/>
              <a:chExt cx="1414800" cy="2083320"/>
            </a:xfrm>
          </p:grpSpPr>
          <p:grpSp>
            <p:nvGrpSpPr>
              <p:cNvPr id="454" name="Group 64"/>
              <p:cNvGrpSpPr/>
              <p:nvPr/>
            </p:nvGrpSpPr>
            <p:grpSpPr>
              <a:xfrm>
                <a:off x="2791440" y="2437560"/>
                <a:ext cx="492480" cy="489600"/>
                <a:chOff x="2791440" y="2437560"/>
                <a:chExt cx="492480" cy="489600"/>
              </a:xfrm>
            </p:grpSpPr>
            <p:sp>
              <p:nvSpPr>
                <p:cNvPr id="455" name="椭圆​​ 327"/>
                <p:cNvSpPr/>
                <p:nvPr/>
              </p:nvSpPr>
              <p:spPr>
                <a:xfrm flipV="1" rot="14526600">
                  <a:off x="2850480" y="2504880"/>
                  <a:ext cx="366480" cy="354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6" name="椭圆​​ 328"/>
                <p:cNvSpPr/>
                <p:nvPr/>
              </p:nvSpPr>
              <p:spPr>
                <a:xfrm flipV="1" rot="14526600">
                  <a:off x="2941200" y="252756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7" name="Group 67"/>
              <p:cNvGrpSpPr/>
              <p:nvPr/>
            </p:nvGrpSpPr>
            <p:grpSpPr>
              <a:xfrm>
                <a:off x="2649240" y="2188800"/>
                <a:ext cx="552960" cy="550080"/>
                <a:chOff x="2649240" y="2188800"/>
                <a:chExt cx="552960" cy="550080"/>
              </a:xfrm>
            </p:grpSpPr>
            <p:sp>
              <p:nvSpPr>
                <p:cNvPr id="458" name="椭圆​​ 325"/>
                <p:cNvSpPr/>
                <p:nvPr/>
              </p:nvSpPr>
              <p:spPr>
                <a:xfrm flipV="1" rot="14526600">
                  <a:off x="2715480" y="2264760"/>
                  <a:ext cx="41184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" name="椭圆​​ 326"/>
                <p:cNvSpPr/>
                <p:nvPr/>
              </p:nvSpPr>
              <p:spPr>
                <a:xfrm flipV="1" rot="14526600">
                  <a:off x="2817000" y="2289960"/>
                  <a:ext cx="331920" cy="32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0" name="Group 70"/>
              <p:cNvGrpSpPr/>
              <p:nvPr/>
            </p:nvGrpSpPr>
            <p:grpSpPr>
              <a:xfrm>
                <a:off x="2492280" y="1914120"/>
                <a:ext cx="615960" cy="612360"/>
                <a:chOff x="2492280" y="1914120"/>
                <a:chExt cx="615960" cy="612360"/>
              </a:xfrm>
            </p:grpSpPr>
            <p:sp>
              <p:nvSpPr>
                <p:cNvPr id="461" name="椭圆​​ 323"/>
                <p:cNvSpPr/>
                <p:nvPr/>
              </p:nvSpPr>
              <p:spPr>
                <a:xfrm flipV="1" rot="14526600">
                  <a:off x="2565720" y="1998360"/>
                  <a:ext cx="45828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2" name="椭圆​​ 324"/>
                <p:cNvSpPr/>
                <p:nvPr/>
              </p:nvSpPr>
              <p:spPr>
                <a:xfrm flipV="1" rot="14526600">
                  <a:off x="2679480" y="202716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3" name="Group 73"/>
              <p:cNvGrpSpPr/>
              <p:nvPr/>
            </p:nvGrpSpPr>
            <p:grpSpPr>
              <a:xfrm>
                <a:off x="2317680" y="1618200"/>
                <a:ext cx="731520" cy="726480"/>
                <a:chOff x="2317680" y="1618200"/>
                <a:chExt cx="731520" cy="726480"/>
              </a:xfrm>
            </p:grpSpPr>
            <p:sp>
              <p:nvSpPr>
                <p:cNvPr id="464" name="椭圆​​ 321"/>
                <p:cNvSpPr/>
                <p:nvPr/>
              </p:nvSpPr>
              <p:spPr>
                <a:xfrm flipV="1" rot="14526600">
                  <a:off x="2405160" y="1718280"/>
                  <a:ext cx="54396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5" name="椭圆​​ 322"/>
                <p:cNvSpPr/>
                <p:nvPr/>
              </p:nvSpPr>
              <p:spPr>
                <a:xfrm flipV="1" rot="14526600">
                  <a:off x="2540160" y="175176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6" name="Group 76"/>
              <p:cNvGrpSpPr/>
              <p:nvPr/>
            </p:nvGrpSpPr>
            <p:grpSpPr>
              <a:xfrm>
                <a:off x="2097720" y="1221120"/>
                <a:ext cx="791280" cy="786960"/>
                <a:chOff x="2097720" y="1221120"/>
                <a:chExt cx="791280" cy="786960"/>
              </a:xfrm>
            </p:grpSpPr>
            <p:sp>
              <p:nvSpPr>
                <p:cNvPr id="467" name="椭圆​​ 319"/>
                <p:cNvSpPr/>
                <p:nvPr/>
              </p:nvSpPr>
              <p:spPr>
                <a:xfrm flipV="1" rot="14526600">
                  <a:off x="2192040" y="1329840"/>
                  <a:ext cx="589320" cy="569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" name="椭圆​​ 320"/>
                <p:cNvSpPr/>
                <p:nvPr/>
              </p:nvSpPr>
              <p:spPr>
                <a:xfrm flipV="1" rot="14526600">
                  <a:off x="2337840" y="136692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9" name="Group 79"/>
              <p:cNvGrpSpPr/>
              <p:nvPr/>
            </p:nvGrpSpPr>
            <p:grpSpPr>
              <a:xfrm>
                <a:off x="1869120" y="843840"/>
                <a:ext cx="888480" cy="887760"/>
                <a:chOff x="1869120" y="843840"/>
                <a:chExt cx="888480" cy="887760"/>
              </a:xfrm>
            </p:grpSpPr>
            <p:sp>
              <p:nvSpPr>
                <p:cNvPr id="470" name="椭圆​​ 317"/>
                <p:cNvSpPr/>
                <p:nvPr/>
              </p:nvSpPr>
              <p:spPr>
                <a:xfrm flipV="1" rot="14526600">
                  <a:off x="1975680" y="96660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1" name="椭圆​​ 318"/>
                <p:cNvSpPr/>
                <p:nvPr/>
              </p:nvSpPr>
              <p:spPr>
                <a:xfrm flipV="1" rot="14526600">
                  <a:off x="2136240" y="101988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72" name="Group 82"/>
            <p:cNvGrpSpPr/>
            <p:nvPr/>
          </p:nvGrpSpPr>
          <p:grpSpPr>
            <a:xfrm>
              <a:off x="3616200" y="1833120"/>
              <a:ext cx="2081520" cy="1442160"/>
              <a:chOff x="3616200" y="1833120"/>
              <a:chExt cx="2081520" cy="1442160"/>
            </a:xfrm>
          </p:grpSpPr>
          <p:grpSp>
            <p:nvGrpSpPr>
              <p:cNvPr id="473" name="Group 83"/>
              <p:cNvGrpSpPr/>
              <p:nvPr/>
            </p:nvGrpSpPr>
            <p:grpSpPr>
              <a:xfrm>
                <a:off x="3616200" y="2779560"/>
                <a:ext cx="495360" cy="495720"/>
                <a:chOff x="3616200" y="2779560"/>
                <a:chExt cx="495360" cy="495720"/>
              </a:xfrm>
            </p:grpSpPr>
            <p:sp>
              <p:nvSpPr>
                <p:cNvPr id="474" name="椭圆​​ 309"/>
                <p:cNvSpPr/>
                <p:nvPr/>
              </p:nvSpPr>
              <p:spPr>
                <a:xfrm rot="19927200">
                  <a:off x="3680640" y="284364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5" name="椭圆​​ 310"/>
                <p:cNvSpPr/>
                <p:nvPr/>
              </p:nvSpPr>
              <p:spPr>
                <a:xfrm rot="19927200">
                  <a:off x="3675960" y="28375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6" name="Group 86"/>
              <p:cNvGrpSpPr/>
              <p:nvPr/>
            </p:nvGrpSpPr>
            <p:grpSpPr>
              <a:xfrm>
                <a:off x="3801600" y="2631600"/>
                <a:ext cx="556920" cy="556920"/>
                <a:chOff x="3801600" y="2631600"/>
                <a:chExt cx="556920" cy="556920"/>
              </a:xfrm>
            </p:grpSpPr>
            <p:sp>
              <p:nvSpPr>
                <p:cNvPr id="477" name="椭圆​​ 307"/>
                <p:cNvSpPr/>
                <p:nvPr/>
              </p:nvSpPr>
              <p:spPr>
                <a:xfrm rot="19927200">
                  <a:off x="3873960" y="270360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8" name="椭圆​​ 308"/>
                <p:cNvSpPr/>
                <p:nvPr/>
              </p:nvSpPr>
              <p:spPr>
                <a:xfrm rot="19927200">
                  <a:off x="3869280" y="269604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9" name="Group 89"/>
              <p:cNvGrpSpPr/>
              <p:nvPr/>
            </p:nvGrpSpPr>
            <p:grpSpPr>
              <a:xfrm>
                <a:off x="4011480" y="2470320"/>
                <a:ext cx="619920" cy="619920"/>
                <a:chOff x="4011480" y="2470320"/>
                <a:chExt cx="619920" cy="619920"/>
              </a:xfrm>
            </p:grpSpPr>
            <p:sp>
              <p:nvSpPr>
                <p:cNvPr id="480" name="椭圆​​ 305"/>
                <p:cNvSpPr/>
                <p:nvPr/>
              </p:nvSpPr>
              <p:spPr>
                <a:xfrm rot="19927200">
                  <a:off x="4092120" y="255060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1" name="椭圆​​ 306"/>
                <p:cNvSpPr/>
                <p:nvPr/>
              </p:nvSpPr>
              <p:spPr>
                <a:xfrm rot="19927200">
                  <a:off x="4086720" y="254232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2" name="Group 92"/>
              <p:cNvGrpSpPr/>
              <p:nvPr/>
            </p:nvGrpSpPr>
            <p:grpSpPr>
              <a:xfrm>
                <a:off x="4184640" y="2280600"/>
                <a:ext cx="735840" cy="735840"/>
                <a:chOff x="4184640" y="2280600"/>
                <a:chExt cx="735840" cy="735840"/>
              </a:xfrm>
            </p:grpSpPr>
            <p:sp>
              <p:nvSpPr>
                <p:cNvPr id="483" name="椭圆​​ 303"/>
                <p:cNvSpPr/>
                <p:nvPr/>
              </p:nvSpPr>
              <p:spPr>
                <a:xfrm rot="19927200">
                  <a:off x="4280400" y="237600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4" name="椭圆​​ 304"/>
                <p:cNvSpPr/>
                <p:nvPr/>
              </p:nvSpPr>
              <p:spPr>
                <a:xfrm rot="19927200">
                  <a:off x="4274640" y="236592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5" name="Group 95"/>
              <p:cNvGrpSpPr/>
              <p:nvPr/>
            </p:nvGrpSpPr>
            <p:grpSpPr>
              <a:xfrm>
                <a:off x="4518360" y="2054160"/>
                <a:ext cx="796680" cy="797040"/>
                <a:chOff x="4518360" y="2054160"/>
                <a:chExt cx="796680" cy="797040"/>
              </a:xfrm>
            </p:grpSpPr>
            <p:sp>
              <p:nvSpPr>
                <p:cNvPr id="486" name="椭圆​​ 301"/>
                <p:cNvSpPr/>
                <p:nvPr/>
              </p:nvSpPr>
              <p:spPr>
                <a:xfrm rot="19927200">
                  <a:off x="4622040" y="215748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7" name="椭圆​​ 302"/>
                <p:cNvSpPr/>
                <p:nvPr/>
              </p:nvSpPr>
              <p:spPr>
                <a:xfrm rot="19927200">
                  <a:off x="4615200" y="214668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8" name="Group 98"/>
              <p:cNvGrpSpPr/>
              <p:nvPr/>
            </p:nvGrpSpPr>
            <p:grpSpPr>
              <a:xfrm>
                <a:off x="4799160" y="1833120"/>
                <a:ext cx="898560" cy="898560"/>
                <a:chOff x="4799160" y="1833120"/>
                <a:chExt cx="898560" cy="898560"/>
              </a:xfrm>
            </p:grpSpPr>
            <p:sp>
              <p:nvSpPr>
                <p:cNvPr id="489" name="椭圆​​ 299"/>
                <p:cNvSpPr/>
                <p:nvPr/>
              </p:nvSpPr>
              <p:spPr>
                <a:xfrm rot="19927200">
                  <a:off x="4915800" y="194976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0" name="椭圆​​ 300"/>
                <p:cNvSpPr/>
                <p:nvPr/>
              </p:nvSpPr>
              <p:spPr>
                <a:xfrm rot="19927200">
                  <a:off x="4904640" y="195012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91" name="Group 101"/>
          <p:cNvGrpSpPr/>
          <p:nvPr/>
        </p:nvGrpSpPr>
        <p:grpSpPr>
          <a:xfrm>
            <a:off x="1974960" y="1893960"/>
            <a:ext cx="2728800" cy="2879640"/>
            <a:chOff x="1974960" y="1893960"/>
            <a:chExt cx="2728800" cy="2879640"/>
          </a:xfrm>
        </p:grpSpPr>
        <p:sp>
          <p:nvSpPr>
            <p:cNvPr id="492" name="椭圆​​ 287"/>
            <p:cNvSpPr/>
            <p:nvPr/>
          </p:nvSpPr>
          <p:spPr>
            <a:xfrm>
              <a:off x="1974960" y="2045520"/>
              <a:ext cx="2728800" cy="27280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椭圆​​ 288"/>
            <p:cNvSpPr/>
            <p:nvPr/>
          </p:nvSpPr>
          <p:spPr>
            <a:xfrm>
              <a:off x="2126520" y="1893960"/>
              <a:ext cx="2198160" cy="219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4" name="Group 104"/>
          <p:cNvGrpSpPr/>
          <p:nvPr/>
        </p:nvGrpSpPr>
        <p:grpSpPr>
          <a:xfrm>
            <a:off x="295200" y="394920"/>
            <a:ext cx="6019920" cy="6013800"/>
            <a:chOff x="295200" y="394920"/>
            <a:chExt cx="6019920" cy="6013800"/>
          </a:xfrm>
        </p:grpSpPr>
        <p:grpSp>
          <p:nvGrpSpPr>
            <p:cNvPr id="495" name="Group 105"/>
            <p:cNvGrpSpPr/>
            <p:nvPr/>
          </p:nvGrpSpPr>
          <p:grpSpPr>
            <a:xfrm>
              <a:off x="4227840" y="3069360"/>
              <a:ext cx="2087280" cy="692640"/>
              <a:chOff x="4227840" y="3069360"/>
              <a:chExt cx="2087280" cy="692640"/>
            </a:xfrm>
          </p:grpSpPr>
          <p:grpSp>
            <p:nvGrpSpPr>
              <p:cNvPr id="496" name="Group 106"/>
              <p:cNvGrpSpPr/>
              <p:nvPr/>
            </p:nvGrpSpPr>
            <p:grpSpPr>
              <a:xfrm>
                <a:off x="4227840" y="3236760"/>
                <a:ext cx="366480" cy="387000"/>
                <a:chOff x="4227840" y="3236760"/>
                <a:chExt cx="366480" cy="387000"/>
              </a:xfrm>
            </p:grpSpPr>
            <p:sp>
              <p:nvSpPr>
                <p:cNvPr id="497" name="椭圆​​ 285"/>
                <p:cNvSpPr/>
                <p:nvPr/>
              </p:nvSpPr>
              <p:spPr>
                <a:xfrm>
                  <a:off x="4227840" y="325692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8" name="椭圆​​ 286"/>
                <p:cNvSpPr/>
                <p:nvPr/>
              </p:nvSpPr>
              <p:spPr>
                <a:xfrm>
                  <a:off x="4248000" y="323676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9" name="Group 109"/>
              <p:cNvGrpSpPr/>
              <p:nvPr/>
            </p:nvGrpSpPr>
            <p:grpSpPr>
              <a:xfrm>
                <a:off x="4450680" y="3208680"/>
                <a:ext cx="411840" cy="434880"/>
                <a:chOff x="4450680" y="3208680"/>
                <a:chExt cx="411840" cy="434880"/>
              </a:xfrm>
            </p:grpSpPr>
            <p:sp>
              <p:nvSpPr>
                <p:cNvPr id="500" name="椭圆​​ 283"/>
                <p:cNvSpPr/>
                <p:nvPr/>
              </p:nvSpPr>
              <p:spPr>
                <a:xfrm>
                  <a:off x="4450680" y="323136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1" name="椭圆​​ 284"/>
                <p:cNvSpPr/>
                <p:nvPr/>
              </p:nvSpPr>
              <p:spPr>
                <a:xfrm>
                  <a:off x="4473360" y="320868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2" name="Group 112"/>
              <p:cNvGrpSpPr/>
              <p:nvPr/>
            </p:nvGrpSpPr>
            <p:grpSpPr>
              <a:xfrm>
                <a:off x="4701960" y="3180960"/>
                <a:ext cx="458280" cy="484200"/>
                <a:chOff x="4701960" y="3180960"/>
                <a:chExt cx="458280" cy="484200"/>
              </a:xfrm>
            </p:grpSpPr>
            <p:sp>
              <p:nvSpPr>
                <p:cNvPr id="503" name="椭圆​​ 281"/>
                <p:cNvSpPr/>
                <p:nvPr/>
              </p:nvSpPr>
              <p:spPr>
                <a:xfrm>
                  <a:off x="4701960" y="320616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4" name="椭圆​​ 282"/>
                <p:cNvSpPr/>
                <p:nvPr/>
              </p:nvSpPr>
              <p:spPr>
                <a:xfrm>
                  <a:off x="4727160" y="318096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5" name="Group 115"/>
              <p:cNvGrpSpPr/>
              <p:nvPr/>
            </p:nvGrpSpPr>
            <p:grpSpPr>
              <a:xfrm>
                <a:off x="4925160" y="3125160"/>
                <a:ext cx="544320" cy="574920"/>
                <a:chOff x="4925160" y="3125160"/>
                <a:chExt cx="544320" cy="574920"/>
              </a:xfrm>
            </p:grpSpPr>
            <p:sp>
              <p:nvSpPr>
                <p:cNvPr id="506" name="椭圆​​ 279"/>
                <p:cNvSpPr/>
                <p:nvPr/>
              </p:nvSpPr>
              <p:spPr>
                <a:xfrm>
                  <a:off x="4925160" y="315540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7" name="椭圆​​ 280"/>
                <p:cNvSpPr/>
                <p:nvPr/>
              </p:nvSpPr>
              <p:spPr>
                <a:xfrm>
                  <a:off x="4955400" y="312516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8" name="Group 118"/>
              <p:cNvGrpSpPr/>
              <p:nvPr/>
            </p:nvGrpSpPr>
            <p:grpSpPr>
              <a:xfrm>
                <a:off x="5315760" y="3097080"/>
                <a:ext cx="589320" cy="622440"/>
                <a:chOff x="5315760" y="3097080"/>
                <a:chExt cx="589320" cy="622440"/>
              </a:xfrm>
            </p:grpSpPr>
            <p:sp>
              <p:nvSpPr>
                <p:cNvPr id="509" name="椭圆​​ 277"/>
                <p:cNvSpPr/>
                <p:nvPr/>
              </p:nvSpPr>
              <p:spPr>
                <a:xfrm>
                  <a:off x="5315760" y="312984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0" name="椭圆​​ 278"/>
                <p:cNvSpPr/>
                <p:nvPr/>
              </p:nvSpPr>
              <p:spPr>
                <a:xfrm>
                  <a:off x="5348160" y="309708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1" name="Group 121"/>
              <p:cNvGrpSpPr/>
              <p:nvPr/>
            </p:nvGrpSpPr>
            <p:grpSpPr>
              <a:xfrm>
                <a:off x="5650560" y="3069360"/>
                <a:ext cx="664560" cy="692640"/>
                <a:chOff x="5650560" y="3069360"/>
                <a:chExt cx="664560" cy="692640"/>
              </a:xfrm>
            </p:grpSpPr>
            <p:sp>
              <p:nvSpPr>
                <p:cNvPr id="512" name="椭圆​​ 275"/>
                <p:cNvSpPr/>
                <p:nvPr/>
              </p:nvSpPr>
              <p:spPr>
                <a:xfrm>
                  <a:off x="5650560" y="309708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3" name="椭圆​​ 276"/>
                <p:cNvSpPr/>
                <p:nvPr/>
              </p:nvSpPr>
              <p:spPr>
                <a:xfrm>
                  <a:off x="5678280" y="306936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14" name="Group 124"/>
            <p:cNvGrpSpPr/>
            <p:nvPr/>
          </p:nvGrpSpPr>
          <p:grpSpPr>
            <a:xfrm>
              <a:off x="3005640" y="4321080"/>
              <a:ext cx="668520" cy="2087640"/>
              <a:chOff x="3005640" y="4321080"/>
              <a:chExt cx="668520" cy="2087640"/>
            </a:xfrm>
          </p:grpSpPr>
          <p:grpSp>
            <p:nvGrpSpPr>
              <p:cNvPr id="515" name="Group 125"/>
              <p:cNvGrpSpPr/>
              <p:nvPr/>
            </p:nvGrpSpPr>
            <p:grpSpPr>
              <a:xfrm>
                <a:off x="3167280" y="4321080"/>
                <a:ext cx="373680" cy="366480"/>
                <a:chOff x="3167280" y="4321080"/>
                <a:chExt cx="373680" cy="366480"/>
              </a:xfrm>
            </p:grpSpPr>
            <p:sp>
              <p:nvSpPr>
                <p:cNvPr id="516" name="椭圆​​ 267"/>
                <p:cNvSpPr/>
                <p:nvPr/>
              </p:nvSpPr>
              <p:spPr>
                <a:xfrm flipV="1" rot="5400000">
                  <a:off x="3180600" y="4327200"/>
                  <a:ext cx="366480" cy="354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7" name="椭圆​​ 268"/>
                <p:cNvSpPr/>
                <p:nvPr/>
              </p:nvSpPr>
              <p:spPr>
                <a:xfrm flipV="1" rot="5400000">
                  <a:off x="3162240" y="434628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8" name="Group 128"/>
              <p:cNvGrpSpPr/>
              <p:nvPr/>
            </p:nvGrpSpPr>
            <p:grpSpPr>
              <a:xfrm>
                <a:off x="3140280" y="4544280"/>
                <a:ext cx="419760" cy="411840"/>
                <a:chOff x="3140280" y="4544280"/>
                <a:chExt cx="419760" cy="411840"/>
              </a:xfrm>
            </p:grpSpPr>
            <p:sp>
              <p:nvSpPr>
                <p:cNvPr id="519" name="椭圆​​ 265"/>
                <p:cNvSpPr/>
                <p:nvPr/>
              </p:nvSpPr>
              <p:spPr>
                <a:xfrm flipV="1" rot="5400000">
                  <a:off x="3155040" y="4551120"/>
                  <a:ext cx="411840" cy="397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0" name="椭圆​​ 266"/>
                <p:cNvSpPr/>
                <p:nvPr/>
              </p:nvSpPr>
              <p:spPr>
                <a:xfrm flipV="1" rot="5400000">
                  <a:off x="3134520" y="4572720"/>
                  <a:ext cx="33192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1" name="Group 131"/>
              <p:cNvGrpSpPr/>
              <p:nvPr/>
            </p:nvGrpSpPr>
            <p:grpSpPr>
              <a:xfrm>
                <a:off x="3113280" y="4795200"/>
                <a:ext cx="467280" cy="458280"/>
                <a:chOff x="3113280" y="4795200"/>
                <a:chExt cx="467280" cy="458280"/>
              </a:xfrm>
            </p:grpSpPr>
            <p:sp>
              <p:nvSpPr>
                <p:cNvPr id="522" name="椭圆​​ 263"/>
                <p:cNvSpPr/>
                <p:nvPr/>
              </p:nvSpPr>
              <p:spPr>
                <a:xfrm flipV="1" rot="5400000">
                  <a:off x="3129840" y="4802400"/>
                  <a:ext cx="458280" cy="442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3" name="椭圆​​ 264"/>
                <p:cNvSpPr/>
                <p:nvPr/>
              </p:nvSpPr>
              <p:spPr>
                <a:xfrm flipV="1" rot="5400000">
                  <a:off x="3106800" y="482652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4" name="Group 134"/>
              <p:cNvGrpSpPr/>
              <p:nvPr/>
            </p:nvGrpSpPr>
            <p:grpSpPr>
              <a:xfrm>
                <a:off x="3059280" y="5018400"/>
                <a:ext cx="554760" cy="544320"/>
                <a:chOff x="3059280" y="5018400"/>
                <a:chExt cx="554760" cy="544320"/>
              </a:xfrm>
            </p:grpSpPr>
            <p:sp>
              <p:nvSpPr>
                <p:cNvPr id="525" name="椭圆​​ 261"/>
                <p:cNvSpPr/>
                <p:nvPr/>
              </p:nvSpPr>
              <p:spPr>
                <a:xfrm flipV="1" rot="5400000">
                  <a:off x="3079080" y="5027760"/>
                  <a:ext cx="54432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6" name="椭圆​​ 262"/>
                <p:cNvSpPr/>
                <p:nvPr/>
              </p:nvSpPr>
              <p:spPr>
                <a:xfrm flipV="1" rot="5400000">
                  <a:off x="3051720" y="505620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7" name="Group 137"/>
              <p:cNvGrpSpPr/>
              <p:nvPr/>
            </p:nvGrpSpPr>
            <p:grpSpPr>
              <a:xfrm>
                <a:off x="3032280" y="5409000"/>
                <a:ext cx="600840" cy="589320"/>
                <a:chOff x="3032280" y="5409000"/>
                <a:chExt cx="600840" cy="589320"/>
              </a:xfrm>
            </p:grpSpPr>
            <p:sp>
              <p:nvSpPr>
                <p:cNvPr id="528" name="椭圆​​ 259"/>
                <p:cNvSpPr/>
                <p:nvPr/>
              </p:nvSpPr>
              <p:spPr>
                <a:xfrm flipV="1" rot="5400000">
                  <a:off x="3053520" y="5418360"/>
                  <a:ext cx="589320" cy="5695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9" name="椭圆​​ 260"/>
                <p:cNvSpPr/>
                <p:nvPr/>
              </p:nvSpPr>
              <p:spPr>
                <a:xfrm flipV="1" rot="5400000">
                  <a:off x="3024000" y="544896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0" name="Group 140"/>
              <p:cNvGrpSpPr/>
              <p:nvPr/>
            </p:nvGrpSpPr>
            <p:grpSpPr>
              <a:xfrm>
                <a:off x="3005640" y="5744160"/>
                <a:ext cx="668520" cy="664560"/>
                <a:chOff x="3005640" y="5744160"/>
                <a:chExt cx="668520" cy="664560"/>
              </a:xfrm>
            </p:grpSpPr>
            <p:sp>
              <p:nvSpPr>
                <p:cNvPr id="531" name="椭圆​​ 257"/>
                <p:cNvSpPr/>
                <p:nvPr/>
              </p:nvSpPr>
              <p:spPr>
                <a:xfrm flipV="1" rot="5400000">
                  <a:off x="3020760" y="575532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椭圆​​ 258"/>
                <p:cNvSpPr/>
                <p:nvPr/>
              </p:nvSpPr>
              <p:spPr>
                <a:xfrm flipV="1" rot="5400000">
                  <a:off x="2996280" y="578052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33" name="Group 143"/>
            <p:cNvGrpSpPr/>
            <p:nvPr/>
          </p:nvGrpSpPr>
          <p:grpSpPr>
            <a:xfrm>
              <a:off x="295200" y="3081240"/>
              <a:ext cx="2087280" cy="668520"/>
              <a:chOff x="295200" y="3081240"/>
              <a:chExt cx="2087280" cy="668520"/>
            </a:xfrm>
          </p:grpSpPr>
          <p:grpSp>
            <p:nvGrpSpPr>
              <p:cNvPr id="534" name="Group 144"/>
              <p:cNvGrpSpPr/>
              <p:nvPr/>
            </p:nvGrpSpPr>
            <p:grpSpPr>
              <a:xfrm>
                <a:off x="2016000" y="3242880"/>
                <a:ext cx="366480" cy="373680"/>
                <a:chOff x="2016000" y="3242880"/>
                <a:chExt cx="366480" cy="373680"/>
              </a:xfrm>
            </p:grpSpPr>
            <p:sp>
              <p:nvSpPr>
                <p:cNvPr id="535" name="椭圆​​ 249"/>
                <p:cNvSpPr/>
                <p:nvPr/>
              </p:nvSpPr>
              <p:spPr>
                <a:xfrm flipV="1" rot="10800000">
                  <a:off x="2016000" y="3262320"/>
                  <a:ext cx="366480" cy="354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6" name="椭圆​​ 250"/>
                <p:cNvSpPr/>
                <p:nvPr/>
              </p:nvSpPr>
              <p:spPr>
                <a:xfrm flipV="1" rot="10800000">
                  <a:off x="2067120" y="324288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7" name="Group 147"/>
              <p:cNvGrpSpPr/>
              <p:nvPr/>
            </p:nvGrpSpPr>
            <p:grpSpPr>
              <a:xfrm>
                <a:off x="1747800" y="3215880"/>
                <a:ext cx="411840" cy="419760"/>
                <a:chOff x="1747800" y="3215880"/>
                <a:chExt cx="411840" cy="419760"/>
              </a:xfrm>
            </p:grpSpPr>
            <p:sp>
              <p:nvSpPr>
                <p:cNvPr id="538" name="椭圆​​ 247"/>
                <p:cNvSpPr/>
                <p:nvPr/>
              </p:nvSpPr>
              <p:spPr>
                <a:xfrm flipV="1" rot="10800000">
                  <a:off x="1747800" y="3237480"/>
                  <a:ext cx="411840" cy="397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椭圆​​ 248"/>
                <p:cNvSpPr/>
                <p:nvPr/>
              </p:nvSpPr>
              <p:spPr>
                <a:xfrm flipV="1" rot="10800000">
                  <a:off x="1805040" y="3215880"/>
                  <a:ext cx="33192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0" name="Group 150"/>
              <p:cNvGrpSpPr/>
              <p:nvPr/>
            </p:nvGrpSpPr>
            <p:grpSpPr>
              <a:xfrm>
                <a:off x="1450080" y="3188880"/>
                <a:ext cx="458280" cy="467280"/>
                <a:chOff x="1450080" y="3188880"/>
                <a:chExt cx="458280" cy="467280"/>
              </a:xfrm>
            </p:grpSpPr>
            <p:sp>
              <p:nvSpPr>
                <p:cNvPr id="541" name="椭圆​​ 245"/>
                <p:cNvSpPr/>
                <p:nvPr/>
              </p:nvSpPr>
              <p:spPr>
                <a:xfrm flipV="1" rot="10800000">
                  <a:off x="1450080" y="3213360"/>
                  <a:ext cx="458280" cy="442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2" name="椭圆​​ 246"/>
                <p:cNvSpPr/>
                <p:nvPr/>
              </p:nvSpPr>
              <p:spPr>
                <a:xfrm flipV="1" rot="10800000">
                  <a:off x="1513800" y="318852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3" name="Group 153"/>
              <p:cNvGrpSpPr/>
              <p:nvPr/>
            </p:nvGrpSpPr>
            <p:grpSpPr>
              <a:xfrm>
                <a:off x="1140840" y="3134880"/>
                <a:ext cx="544320" cy="554760"/>
                <a:chOff x="1140840" y="3134880"/>
                <a:chExt cx="544320" cy="554760"/>
              </a:xfrm>
            </p:grpSpPr>
            <p:sp>
              <p:nvSpPr>
                <p:cNvPr id="544" name="椭圆​​ 243"/>
                <p:cNvSpPr/>
                <p:nvPr/>
              </p:nvSpPr>
              <p:spPr>
                <a:xfrm flipV="1" rot="10800000">
                  <a:off x="1140840" y="3164040"/>
                  <a:ext cx="54432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5" name="椭圆​​ 244"/>
                <p:cNvSpPr/>
                <p:nvPr/>
              </p:nvSpPr>
              <p:spPr>
                <a:xfrm flipV="1" rot="10800000">
                  <a:off x="1216440" y="313488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6" name="Group 156"/>
              <p:cNvGrpSpPr/>
              <p:nvPr/>
            </p:nvGrpSpPr>
            <p:grpSpPr>
              <a:xfrm>
                <a:off x="705240" y="3107880"/>
                <a:ext cx="589320" cy="600840"/>
                <a:chOff x="705240" y="3107880"/>
                <a:chExt cx="589320" cy="600840"/>
              </a:xfrm>
            </p:grpSpPr>
            <p:sp>
              <p:nvSpPr>
                <p:cNvPr id="547" name="椭圆​​ 241"/>
                <p:cNvSpPr/>
                <p:nvPr/>
              </p:nvSpPr>
              <p:spPr>
                <a:xfrm flipV="1" rot="10800000">
                  <a:off x="705240" y="3139200"/>
                  <a:ext cx="589320" cy="5695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8" name="椭圆​​ 242"/>
                <p:cNvSpPr/>
                <p:nvPr/>
              </p:nvSpPr>
              <p:spPr>
                <a:xfrm flipV="1" rot="10800000">
                  <a:off x="787320" y="310788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9" name="Group 159"/>
              <p:cNvGrpSpPr/>
              <p:nvPr/>
            </p:nvGrpSpPr>
            <p:grpSpPr>
              <a:xfrm>
                <a:off x="295200" y="3081240"/>
                <a:ext cx="664560" cy="668520"/>
                <a:chOff x="295200" y="3081240"/>
                <a:chExt cx="664560" cy="668520"/>
              </a:xfrm>
            </p:grpSpPr>
            <p:sp>
              <p:nvSpPr>
                <p:cNvPr id="550" name="椭圆​​ 239"/>
                <p:cNvSpPr/>
                <p:nvPr/>
              </p:nvSpPr>
              <p:spPr>
                <a:xfrm flipV="1" rot="10800000">
                  <a:off x="295200" y="310752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1" name="椭圆​​ 240"/>
                <p:cNvSpPr/>
                <p:nvPr/>
              </p:nvSpPr>
              <p:spPr>
                <a:xfrm flipV="1" rot="10800000">
                  <a:off x="396720" y="308124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52" name="Group 162"/>
            <p:cNvGrpSpPr/>
            <p:nvPr/>
          </p:nvGrpSpPr>
          <p:grpSpPr>
            <a:xfrm>
              <a:off x="2993400" y="394920"/>
              <a:ext cx="692280" cy="2087640"/>
              <a:chOff x="2993400" y="394920"/>
              <a:chExt cx="692280" cy="2087640"/>
            </a:xfrm>
          </p:grpSpPr>
          <p:grpSp>
            <p:nvGrpSpPr>
              <p:cNvPr id="553" name="Group 163"/>
              <p:cNvGrpSpPr/>
              <p:nvPr/>
            </p:nvGrpSpPr>
            <p:grpSpPr>
              <a:xfrm>
                <a:off x="3160440" y="2116080"/>
                <a:ext cx="386640" cy="366480"/>
                <a:chOff x="3160440" y="2116080"/>
                <a:chExt cx="386640" cy="366480"/>
              </a:xfrm>
            </p:grpSpPr>
            <p:sp>
              <p:nvSpPr>
                <p:cNvPr id="554" name="椭圆​​ 231"/>
                <p:cNvSpPr/>
                <p:nvPr/>
              </p:nvSpPr>
              <p:spPr>
                <a:xfrm rot="16200000">
                  <a:off x="3180600" y="2116080"/>
                  <a:ext cx="366480" cy="36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5" name="椭圆​​ 232"/>
                <p:cNvSpPr/>
                <p:nvPr/>
              </p:nvSpPr>
              <p:spPr>
                <a:xfrm rot="16200000">
                  <a:off x="3160440" y="2167200"/>
                  <a:ext cx="295200" cy="29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56" name="Group 166"/>
              <p:cNvGrpSpPr/>
              <p:nvPr/>
            </p:nvGrpSpPr>
            <p:grpSpPr>
              <a:xfrm>
                <a:off x="3132720" y="1847520"/>
                <a:ext cx="434880" cy="411840"/>
                <a:chOff x="3132720" y="1847520"/>
                <a:chExt cx="434880" cy="411840"/>
              </a:xfrm>
            </p:grpSpPr>
            <p:sp>
              <p:nvSpPr>
                <p:cNvPr id="557" name="椭圆​​ 229"/>
                <p:cNvSpPr/>
                <p:nvPr/>
              </p:nvSpPr>
              <p:spPr>
                <a:xfrm rot="16200000">
                  <a:off x="3155400" y="184716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椭圆​​ 230"/>
                <p:cNvSpPr/>
                <p:nvPr/>
              </p:nvSpPr>
              <p:spPr>
                <a:xfrm rot="16200000">
                  <a:off x="3132720" y="190476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59" name="Group 169"/>
              <p:cNvGrpSpPr/>
              <p:nvPr/>
            </p:nvGrpSpPr>
            <p:grpSpPr>
              <a:xfrm>
                <a:off x="3104640" y="1550160"/>
                <a:ext cx="483840" cy="458280"/>
                <a:chOff x="3104640" y="1550160"/>
                <a:chExt cx="483840" cy="458280"/>
              </a:xfrm>
            </p:grpSpPr>
            <p:sp>
              <p:nvSpPr>
                <p:cNvPr id="560" name="椭圆​​ 227"/>
                <p:cNvSpPr/>
                <p:nvPr/>
              </p:nvSpPr>
              <p:spPr>
                <a:xfrm rot="16200000">
                  <a:off x="3129840" y="1549800"/>
                  <a:ext cx="458280" cy="458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1" name="椭圆​​ 228"/>
                <p:cNvSpPr/>
                <p:nvPr/>
              </p:nvSpPr>
              <p:spPr>
                <a:xfrm rot="16200000">
                  <a:off x="3104640" y="1613880"/>
                  <a:ext cx="369360" cy="36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2" name="Group 172"/>
              <p:cNvGrpSpPr/>
              <p:nvPr/>
            </p:nvGrpSpPr>
            <p:grpSpPr>
              <a:xfrm>
                <a:off x="3048840" y="1240920"/>
                <a:ext cx="574560" cy="544320"/>
                <a:chOff x="3048840" y="1240920"/>
                <a:chExt cx="574560" cy="544320"/>
              </a:xfrm>
            </p:grpSpPr>
            <p:sp>
              <p:nvSpPr>
                <p:cNvPr id="563" name="椭圆​​ 225"/>
                <p:cNvSpPr/>
                <p:nvPr/>
              </p:nvSpPr>
              <p:spPr>
                <a:xfrm rot="16200000">
                  <a:off x="3079080" y="1240920"/>
                  <a:ext cx="544320" cy="544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椭圆​​ 226"/>
                <p:cNvSpPr/>
                <p:nvPr/>
              </p:nvSpPr>
              <p:spPr>
                <a:xfrm rot="16200000">
                  <a:off x="3048840" y="1316520"/>
                  <a:ext cx="438480" cy="43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5" name="Group 175"/>
              <p:cNvGrpSpPr/>
              <p:nvPr/>
            </p:nvGrpSpPr>
            <p:grpSpPr>
              <a:xfrm>
                <a:off x="3021120" y="805320"/>
                <a:ext cx="622080" cy="589320"/>
                <a:chOff x="3021120" y="805320"/>
                <a:chExt cx="622080" cy="589320"/>
              </a:xfrm>
            </p:grpSpPr>
            <p:sp>
              <p:nvSpPr>
                <p:cNvPr id="566" name="椭圆​​ 223"/>
                <p:cNvSpPr/>
                <p:nvPr/>
              </p:nvSpPr>
              <p:spPr>
                <a:xfrm rot="16200000">
                  <a:off x="3053520" y="80496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椭圆​​ 224"/>
                <p:cNvSpPr/>
                <p:nvPr/>
              </p:nvSpPr>
              <p:spPr>
                <a:xfrm rot="16200000">
                  <a:off x="3021120" y="887400"/>
                  <a:ext cx="4748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8" name="Group 178"/>
              <p:cNvGrpSpPr/>
              <p:nvPr/>
            </p:nvGrpSpPr>
            <p:grpSpPr>
              <a:xfrm>
                <a:off x="2993400" y="394920"/>
                <a:ext cx="692280" cy="664560"/>
                <a:chOff x="2993400" y="394920"/>
                <a:chExt cx="692280" cy="664560"/>
              </a:xfrm>
            </p:grpSpPr>
            <p:sp>
              <p:nvSpPr>
                <p:cNvPr id="569" name="椭圆​​ 221"/>
                <p:cNvSpPr/>
                <p:nvPr/>
              </p:nvSpPr>
              <p:spPr>
                <a:xfrm rot="16200000">
                  <a:off x="3021120" y="394920"/>
                  <a:ext cx="664560" cy="6645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椭圆​​ 222"/>
                <p:cNvSpPr/>
                <p:nvPr/>
              </p:nvSpPr>
              <p:spPr>
                <a:xfrm rot="16200000">
                  <a:off x="2993400" y="496440"/>
                  <a:ext cx="535320" cy="535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oup 181"/>
          <p:cNvGrpSpPr/>
          <p:nvPr/>
        </p:nvGrpSpPr>
        <p:grpSpPr>
          <a:xfrm>
            <a:off x="960120" y="1019160"/>
            <a:ext cx="4832640" cy="4837680"/>
            <a:chOff x="960120" y="1019160"/>
            <a:chExt cx="4832640" cy="4837680"/>
          </a:xfrm>
        </p:grpSpPr>
        <p:grpSp>
          <p:nvGrpSpPr>
            <p:cNvPr id="572" name="Group 182"/>
            <p:cNvGrpSpPr/>
            <p:nvPr/>
          </p:nvGrpSpPr>
          <p:grpSpPr>
            <a:xfrm>
              <a:off x="3809520" y="3988800"/>
              <a:ext cx="1813320" cy="1868040"/>
              <a:chOff x="3809520" y="3988800"/>
              <a:chExt cx="1813320" cy="1868040"/>
            </a:xfrm>
          </p:grpSpPr>
          <p:grpSp>
            <p:nvGrpSpPr>
              <p:cNvPr id="573" name="Group 183"/>
              <p:cNvGrpSpPr/>
              <p:nvPr/>
            </p:nvGrpSpPr>
            <p:grpSpPr>
              <a:xfrm>
                <a:off x="3809520" y="3988800"/>
                <a:ext cx="518400" cy="518400"/>
                <a:chOff x="3809520" y="3988800"/>
                <a:chExt cx="518400" cy="518400"/>
              </a:xfrm>
            </p:grpSpPr>
            <p:sp>
              <p:nvSpPr>
                <p:cNvPr id="574" name="椭圆​​ 209"/>
                <p:cNvSpPr/>
                <p:nvPr/>
              </p:nvSpPr>
              <p:spPr>
                <a:xfrm rot="2808000">
                  <a:off x="3885480" y="406440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5" name="椭圆​​ 210"/>
                <p:cNvSpPr/>
                <p:nvPr/>
              </p:nvSpPr>
              <p:spPr>
                <a:xfrm rot="2808000">
                  <a:off x="3951000" y="40507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76" name="Group 186"/>
              <p:cNvGrpSpPr/>
              <p:nvPr/>
            </p:nvGrpSpPr>
            <p:grpSpPr>
              <a:xfrm>
                <a:off x="3947760" y="4134240"/>
                <a:ext cx="582840" cy="582480"/>
                <a:chOff x="3947760" y="4134240"/>
                <a:chExt cx="582840" cy="582480"/>
              </a:xfrm>
            </p:grpSpPr>
            <p:sp>
              <p:nvSpPr>
                <p:cNvPr id="577" name="椭圆​​ 207"/>
                <p:cNvSpPr/>
                <p:nvPr/>
              </p:nvSpPr>
              <p:spPr>
                <a:xfrm rot="2808000">
                  <a:off x="4033080" y="4219200"/>
                  <a:ext cx="41220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椭圆​​ 208"/>
                <p:cNvSpPr/>
                <p:nvPr/>
              </p:nvSpPr>
              <p:spPr>
                <a:xfrm rot="2808000">
                  <a:off x="4106880" y="4203360"/>
                  <a:ext cx="33228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79" name="Group 189"/>
              <p:cNvGrpSpPr/>
              <p:nvPr/>
            </p:nvGrpSpPr>
            <p:grpSpPr>
              <a:xfrm>
                <a:off x="4104000" y="4299840"/>
                <a:ext cx="648360" cy="648720"/>
                <a:chOff x="4104000" y="4299840"/>
                <a:chExt cx="648360" cy="648720"/>
              </a:xfrm>
            </p:grpSpPr>
            <p:sp>
              <p:nvSpPr>
                <p:cNvPr id="580" name="椭圆​​ 205"/>
                <p:cNvSpPr/>
                <p:nvPr/>
              </p:nvSpPr>
              <p:spPr>
                <a:xfrm rot="2808000">
                  <a:off x="4198680" y="4394520"/>
                  <a:ext cx="45864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1" name="椭圆​​ 206"/>
                <p:cNvSpPr/>
                <p:nvPr/>
              </p:nvSpPr>
              <p:spPr>
                <a:xfrm rot="2808000">
                  <a:off x="4280760" y="4377240"/>
                  <a:ext cx="36972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2" name="Group 192"/>
              <p:cNvGrpSpPr/>
              <p:nvPr/>
            </p:nvGrpSpPr>
            <p:grpSpPr>
              <a:xfrm>
                <a:off x="4231440" y="4428000"/>
                <a:ext cx="770040" cy="770040"/>
                <a:chOff x="4231440" y="4428000"/>
                <a:chExt cx="770040" cy="770040"/>
              </a:xfrm>
            </p:grpSpPr>
            <p:sp>
              <p:nvSpPr>
                <p:cNvPr id="583" name="椭圆​​ 203"/>
                <p:cNvSpPr/>
                <p:nvPr/>
              </p:nvSpPr>
              <p:spPr>
                <a:xfrm rot="2808000">
                  <a:off x="4343760" y="4540320"/>
                  <a:ext cx="54468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4" name="椭圆​​ 204"/>
                <p:cNvSpPr/>
                <p:nvPr/>
              </p:nvSpPr>
              <p:spPr>
                <a:xfrm rot="2808000">
                  <a:off x="4442040" y="4520160"/>
                  <a:ext cx="43884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5" name="Group 195"/>
              <p:cNvGrpSpPr/>
              <p:nvPr/>
            </p:nvGrpSpPr>
            <p:grpSpPr>
              <a:xfrm>
                <a:off x="4484880" y="4695120"/>
                <a:ext cx="833400" cy="833400"/>
                <a:chOff x="4484880" y="4695120"/>
                <a:chExt cx="833400" cy="833400"/>
              </a:xfrm>
            </p:grpSpPr>
            <p:sp>
              <p:nvSpPr>
                <p:cNvPr id="586" name="椭圆​​ 201"/>
                <p:cNvSpPr/>
                <p:nvPr/>
              </p:nvSpPr>
              <p:spPr>
                <a:xfrm rot="2808000">
                  <a:off x="4606560" y="4816800"/>
                  <a:ext cx="58968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7" name="椭圆​​ 202"/>
                <p:cNvSpPr/>
                <p:nvPr/>
              </p:nvSpPr>
              <p:spPr>
                <a:xfrm rot="2808000">
                  <a:off x="4712400" y="4794480"/>
                  <a:ext cx="47520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8" name="Group 198"/>
              <p:cNvGrpSpPr/>
              <p:nvPr/>
            </p:nvGrpSpPr>
            <p:grpSpPr>
              <a:xfrm>
                <a:off x="4683240" y="4916880"/>
                <a:ext cx="939600" cy="939960"/>
                <a:chOff x="4683240" y="4916880"/>
                <a:chExt cx="939600" cy="939960"/>
              </a:xfrm>
            </p:grpSpPr>
            <p:sp>
              <p:nvSpPr>
                <p:cNvPr id="589" name="椭圆​​ 199"/>
                <p:cNvSpPr/>
                <p:nvPr/>
              </p:nvSpPr>
              <p:spPr>
                <a:xfrm rot="2808000">
                  <a:off x="4820400" y="5054040"/>
                  <a:ext cx="66492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0" name="椭圆​​ 200"/>
                <p:cNvSpPr/>
                <p:nvPr/>
              </p:nvSpPr>
              <p:spPr>
                <a:xfrm rot="2808000">
                  <a:off x="4926600" y="5028480"/>
                  <a:ext cx="53568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91" name="Group 201"/>
            <p:cNvGrpSpPr/>
            <p:nvPr/>
          </p:nvGrpSpPr>
          <p:grpSpPr>
            <a:xfrm>
              <a:off x="960120" y="3958200"/>
              <a:ext cx="1870560" cy="1784880"/>
              <a:chOff x="960120" y="3958200"/>
              <a:chExt cx="1870560" cy="1784880"/>
            </a:xfrm>
          </p:grpSpPr>
          <p:grpSp>
            <p:nvGrpSpPr>
              <p:cNvPr id="592" name="Group 202"/>
              <p:cNvGrpSpPr/>
              <p:nvPr/>
            </p:nvGrpSpPr>
            <p:grpSpPr>
              <a:xfrm>
                <a:off x="2320920" y="3958200"/>
                <a:ext cx="509760" cy="509040"/>
                <a:chOff x="2320920" y="3958200"/>
                <a:chExt cx="509760" cy="509040"/>
              </a:xfrm>
            </p:grpSpPr>
            <p:sp>
              <p:nvSpPr>
                <p:cNvPr id="593" name="椭圆​​ 191"/>
                <p:cNvSpPr/>
                <p:nvPr/>
              </p:nvSpPr>
              <p:spPr>
                <a:xfrm flipV="1" rot="8208000">
                  <a:off x="2392200" y="4035240"/>
                  <a:ext cx="366480" cy="354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4" name="椭圆​​ 192"/>
                <p:cNvSpPr/>
                <p:nvPr/>
              </p:nvSpPr>
              <p:spPr>
                <a:xfrm flipV="1" rot="8208000">
                  <a:off x="2402280" y="402012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95" name="Group 205"/>
              <p:cNvGrpSpPr/>
              <p:nvPr/>
            </p:nvGrpSpPr>
            <p:grpSpPr>
              <a:xfrm>
                <a:off x="2108160" y="4092840"/>
                <a:ext cx="572760" cy="572760"/>
                <a:chOff x="2108160" y="4092840"/>
                <a:chExt cx="572760" cy="572760"/>
              </a:xfrm>
            </p:grpSpPr>
            <p:sp>
              <p:nvSpPr>
                <p:cNvPr id="596" name="椭圆​​ 189"/>
                <p:cNvSpPr/>
                <p:nvPr/>
              </p:nvSpPr>
              <p:spPr>
                <a:xfrm flipV="1" rot="8208000">
                  <a:off x="2188440" y="4180320"/>
                  <a:ext cx="412200" cy="397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7" name="椭圆​​ 190"/>
                <p:cNvSpPr/>
                <p:nvPr/>
              </p:nvSpPr>
              <p:spPr>
                <a:xfrm flipV="1" rot="8208000">
                  <a:off x="2199240" y="4162680"/>
                  <a:ext cx="33228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98" name="Group 208"/>
              <p:cNvGrpSpPr/>
              <p:nvPr/>
            </p:nvGrpSpPr>
            <p:grpSpPr>
              <a:xfrm>
                <a:off x="1874520" y="4246560"/>
                <a:ext cx="637560" cy="637560"/>
                <a:chOff x="1874520" y="4246560"/>
                <a:chExt cx="637560" cy="637560"/>
              </a:xfrm>
            </p:grpSpPr>
            <p:sp>
              <p:nvSpPr>
                <p:cNvPr id="599" name="椭圆​​ 187"/>
                <p:cNvSpPr/>
                <p:nvPr/>
              </p:nvSpPr>
              <p:spPr>
                <a:xfrm flipV="1" rot="8208000">
                  <a:off x="1963800" y="4343760"/>
                  <a:ext cx="458640" cy="442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椭圆​​ 188"/>
                <p:cNvSpPr/>
                <p:nvPr/>
              </p:nvSpPr>
              <p:spPr>
                <a:xfrm flipV="1" rot="8208000">
                  <a:off x="1976400" y="4323960"/>
                  <a:ext cx="36972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01" name="Group 211"/>
              <p:cNvGrpSpPr/>
              <p:nvPr/>
            </p:nvGrpSpPr>
            <p:grpSpPr>
              <a:xfrm>
                <a:off x="1614960" y="4363920"/>
                <a:ext cx="756720" cy="756360"/>
                <a:chOff x="1614960" y="4363920"/>
                <a:chExt cx="756720" cy="756360"/>
              </a:xfrm>
            </p:grpSpPr>
            <p:sp>
              <p:nvSpPr>
                <p:cNvPr id="602" name="椭圆​​ 185"/>
                <p:cNvSpPr/>
                <p:nvPr/>
              </p:nvSpPr>
              <p:spPr>
                <a:xfrm flipV="1" rot="8208000">
                  <a:off x="1720800" y="4479120"/>
                  <a:ext cx="54468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3" name="椭圆​​ 186"/>
                <p:cNvSpPr/>
                <p:nvPr/>
              </p:nvSpPr>
              <p:spPr>
                <a:xfrm flipV="1" rot="8208000">
                  <a:off x="1735560" y="4456080"/>
                  <a:ext cx="43884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04" name="Group 214"/>
              <p:cNvGrpSpPr/>
              <p:nvPr/>
            </p:nvGrpSpPr>
            <p:grpSpPr>
              <a:xfrm>
                <a:off x="1280520" y="4613040"/>
                <a:ext cx="819720" cy="819360"/>
                <a:chOff x="1280520" y="4613040"/>
                <a:chExt cx="819720" cy="819360"/>
              </a:xfrm>
            </p:grpSpPr>
            <p:sp>
              <p:nvSpPr>
                <p:cNvPr id="605" name="椭圆​​ 183"/>
                <p:cNvSpPr/>
                <p:nvPr/>
              </p:nvSpPr>
              <p:spPr>
                <a:xfrm flipV="1" rot="8208000">
                  <a:off x="1395360" y="4737960"/>
                  <a:ext cx="589680" cy="5695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椭圆​​ 184"/>
                <p:cNvSpPr/>
                <p:nvPr/>
              </p:nvSpPr>
              <p:spPr>
                <a:xfrm flipV="1" rot="8208000">
                  <a:off x="1410840" y="4713120"/>
                  <a:ext cx="47520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07" name="Group 217"/>
              <p:cNvGrpSpPr/>
              <p:nvPr/>
            </p:nvGrpSpPr>
            <p:grpSpPr>
              <a:xfrm>
                <a:off x="960120" y="4819320"/>
                <a:ext cx="924120" cy="923760"/>
                <a:chOff x="960120" y="4819320"/>
                <a:chExt cx="924120" cy="923760"/>
              </a:xfrm>
            </p:grpSpPr>
            <p:sp>
              <p:nvSpPr>
                <p:cNvPr id="608" name="椭圆​​ 181"/>
                <p:cNvSpPr/>
                <p:nvPr/>
              </p:nvSpPr>
              <p:spPr>
                <a:xfrm flipV="1" rot="8208000">
                  <a:off x="1089360" y="4960440"/>
                  <a:ext cx="66492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椭圆​​ 182"/>
                <p:cNvSpPr/>
                <p:nvPr/>
              </p:nvSpPr>
              <p:spPr>
                <a:xfrm flipV="1" rot="8208000">
                  <a:off x="1120320" y="4932720"/>
                  <a:ext cx="53568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0" name="Group 220"/>
            <p:cNvGrpSpPr/>
            <p:nvPr/>
          </p:nvGrpSpPr>
          <p:grpSpPr>
            <a:xfrm>
              <a:off x="1024920" y="1019160"/>
              <a:ext cx="1784880" cy="1870560"/>
              <a:chOff x="1024920" y="1019160"/>
              <a:chExt cx="1784880" cy="1870560"/>
            </a:xfrm>
          </p:grpSpPr>
          <p:grpSp>
            <p:nvGrpSpPr>
              <p:cNvPr id="611" name="Group 221"/>
              <p:cNvGrpSpPr/>
              <p:nvPr/>
            </p:nvGrpSpPr>
            <p:grpSpPr>
              <a:xfrm>
                <a:off x="2300400" y="2379960"/>
                <a:ext cx="509400" cy="509760"/>
                <a:chOff x="2300400" y="2379960"/>
                <a:chExt cx="509400" cy="509760"/>
              </a:xfrm>
            </p:grpSpPr>
            <p:sp>
              <p:nvSpPr>
                <p:cNvPr id="612" name="椭圆​​ 173"/>
                <p:cNvSpPr/>
                <p:nvPr/>
              </p:nvSpPr>
              <p:spPr>
                <a:xfrm flipV="1" rot="13608000">
                  <a:off x="2371320" y="2457720"/>
                  <a:ext cx="366480" cy="354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椭圆​​ 174"/>
                <p:cNvSpPr/>
                <p:nvPr/>
              </p:nvSpPr>
              <p:spPr>
                <a:xfrm flipV="1" rot="13608000">
                  <a:off x="2457000" y="246636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4" name="Group 224"/>
              <p:cNvGrpSpPr/>
              <p:nvPr/>
            </p:nvGrpSpPr>
            <p:grpSpPr>
              <a:xfrm>
                <a:off x="2102400" y="2167200"/>
                <a:ext cx="572760" cy="573120"/>
                <a:chOff x="2102400" y="2167200"/>
                <a:chExt cx="572760" cy="573120"/>
              </a:xfrm>
            </p:grpSpPr>
            <p:sp>
              <p:nvSpPr>
                <p:cNvPr id="615" name="椭圆​​ 171"/>
                <p:cNvSpPr/>
                <p:nvPr/>
              </p:nvSpPr>
              <p:spPr>
                <a:xfrm flipV="1" rot="13608000">
                  <a:off x="2182320" y="2254320"/>
                  <a:ext cx="41220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椭圆​​ 172"/>
                <p:cNvSpPr/>
                <p:nvPr/>
              </p:nvSpPr>
              <p:spPr>
                <a:xfrm flipV="1" rot="13608000">
                  <a:off x="2278080" y="2263680"/>
                  <a:ext cx="332280" cy="32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7" name="Group 227"/>
              <p:cNvGrpSpPr/>
              <p:nvPr/>
            </p:nvGrpSpPr>
            <p:grpSpPr>
              <a:xfrm>
                <a:off x="1883880" y="1933560"/>
                <a:ext cx="637560" cy="637560"/>
                <a:chOff x="1883880" y="1933560"/>
                <a:chExt cx="637560" cy="637560"/>
              </a:xfrm>
            </p:grpSpPr>
            <p:sp>
              <p:nvSpPr>
                <p:cNvPr id="618" name="椭圆​​ 169"/>
                <p:cNvSpPr/>
                <p:nvPr/>
              </p:nvSpPr>
              <p:spPr>
                <a:xfrm flipV="1" rot="13608000">
                  <a:off x="1972800" y="2030040"/>
                  <a:ext cx="45864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椭圆​​ 170"/>
                <p:cNvSpPr/>
                <p:nvPr/>
              </p:nvSpPr>
              <p:spPr>
                <a:xfrm flipV="1" rot="13608000">
                  <a:off x="2079720" y="2041560"/>
                  <a:ext cx="369720" cy="35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0" name="Group 230"/>
              <p:cNvGrpSpPr/>
              <p:nvPr/>
            </p:nvGrpSpPr>
            <p:grpSpPr>
              <a:xfrm>
                <a:off x="1647360" y="1674000"/>
                <a:ext cx="756720" cy="757080"/>
                <a:chOff x="1647360" y="1674000"/>
                <a:chExt cx="756720" cy="757080"/>
              </a:xfrm>
            </p:grpSpPr>
            <p:sp>
              <p:nvSpPr>
                <p:cNvPr id="621" name="椭圆​​ 167"/>
                <p:cNvSpPr/>
                <p:nvPr/>
              </p:nvSpPr>
              <p:spPr>
                <a:xfrm flipV="1" rot="13608000">
                  <a:off x="1753200" y="1788840"/>
                  <a:ext cx="544680" cy="5259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2" name="椭圆​​ 168"/>
                <p:cNvSpPr/>
                <p:nvPr/>
              </p:nvSpPr>
              <p:spPr>
                <a:xfrm flipV="1" rot="13608000">
                  <a:off x="1879920" y="1801800"/>
                  <a:ext cx="438840" cy="42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3" name="Group 233"/>
              <p:cNvGrpSpPr/>
              <p:nvPr/>
            </p:nvGrpSpPr>
            <p:grpSpPr>
              <a:xfrm>
                <a:off x="1335240" y="1339560"/>
                <a:ext cx="819720" cy="820080"/>
                <a:chOff x="1335240" y="1339560"/>
                <a:chExt cx="819720" cy="820080"/>
              </a:xfrm>
            </p:grpSpPr>
            <p:sp>
              <p:nvSpPr>
                <p:cNvPr id="624" name="椭圆​​ 165"/>
                <p:cNvSpPr/>
                <p:nvPr/>
              </p:nvSpPr>
              <p:spPr>
                <a:xfrm flipV="1" rot="13608000">
                  <a:off x="1449720" y="1464480"/>
                  <a:ext cx="589680" cy="569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椭圆​​ 166"/>
                <p:cNvSpPr/>
                <p:nvPr/>
              </p:nvSpPr>
              <p:spPr>
                <a:xfrm flipV="1" rot="13608000">
                  <a:off x="1587240" y="1478160"/>
                  <a:ext cx="475200" cy="45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6" name="Group 236"/>
              <p:cNvGrpSpPr/>
              <p:nvPr/>
            </p:nvGrpSpPr>
            <p:grpSpPr>
              <a:xfrm>
                <a:off x="1024920" y="1019160"/>
                <a:ext cx="923760" cy="924480"/>
                <a:chOff x="1024920" y="1019160"/>
                <a:chExt cx="923760" cy="924480"/>
              </a:xfrm>
            </p:grpSpPr>
            <p:sp>
              <p:nvSpPr>
                <p:cNvPr id="627" name="椭圆​​ 163"/>
                <p:cNvSpPr/>
                <p:nvPr/>
              </p:nvSpPr>
              <p:spPr>
                <a:xfrm flipV="1" rot="13608000">
                  <a:off x="1153800" y="1160280"/>
                  <a:ext cx="664920" cy="642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椭圆​​ 164"/>
                <p:cNvSpPr/>
                <p:nvPr/>
              </p:nvSpPr>
              <p:spPr>
                <a:xfrm flipV="1" rot="13608000">
                  <a:off x="1308600" y="1188360"/>
                  <a:ext cx="535680" cy="51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29" name="Group 239"/>
            <p:cNvGrpSpPr/>
            <p:nvPr/>
          </p:nvGrpSpPr>
          <p:grpSpPr>
            <a:xfrm>
              <a:off x="3924720" y="1149840"/>
              <a:ext cx="1868040" cy="1813320"/>
              <a:chOff x="3924720" y="1149840"/>
              <a:chExt cx="1868040" cy="1813320"/>
            </a:xfrm>
          </p:grpSpPr>
          <p:grpSp>
            <p:nvGrpSpPr>
              <p:cNvPr id="630" name="Group 240"/>
              <p:cNvGrpSpPr/>
              <p:nvPr/>
            </p:nvGrpSpPr>
            <p:grpSpPr>
              <a:xfrm>
                <a:off x="3924720" y="2444760"/>
                <a:ext cx="518400" cy="518400"/>
                <a:chOff x="3924720" y="2444760"/>
                <a:chExt cx="518400" cy="518400"/>
              </a:xfrm>
            </p:grpSpPr>
            <p:sp>
              <p:nvSpPr>
                <p:cNvPr id="631" name="椭圆​​ 155"/>
                <p:cNvSpPr/>
                <p:nvPr/>
              </p:nvSpPr>
              <p:spPr>
                <a:xfrm rot="19008600">
                  <a:off x="4000320" y="252036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椭圆​​ 156"/>
                <p:cNvSpPr/>
                <p:nvPr/>
              </p:nvSpPr>
              <p:spPr>
                <a:xfrm rot="19008600">
                  <a:off x="3986640" y="25261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" name="Group 243"/>
              <p:cNvGrpSpPr/>
              <p:nvPr/>
            </p:nvGrpSpPr>
            <p:grpSpPr>
              <a:xfrm>
                <a:off x="4070160" y="2242080"/>
                <a:ext cx="582480" cy="582840"/>
                <a:chOff x="4070160" y="2242080"/>
                <a:chExt cx="582480" cy="582840"/>
              </a:xfrm>
            </p:grpSpPr>
            <p:sp>
              <p:nvSpPr>
                <p:cNvPr id="634" name="椭圆​​ 153"/>
                <p:cNvSpPr/>
                <p:nvPr/>
              </p:nvSpPr>
              <p:spPr>
                <a:xfrm rot="19008600">
                  <a:off x="4155120" y="2327040"/>
                  <a:ext cx="41220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5" name="椭圆​​ 154"/>
                <p:cNvSpPr/>
                <p:nvPr/>
              </p:nvSpPr>
              <p:spPr>
                <a:xfrm rot="19008600">
                  <a:off x="4139280" y="2333520"/>
                  <a:ext cx="33228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6" name="Group 246"/>
              <p:cNvGrpSpPr/>
              <p:nvPr/>
            </p:nvGrpSpPr>
            <p:grpSpPr>
              <a:xfrm>
                <a:off x="4235760" y="2020320"/>
                <a:ext cx="648720" cy="648360"/>
                <a:chOff x="4235760" y="2020320"/>
                <a:chExt cx="648720" cy="648360"/>
              </a:xfrm>
            </p:grpSpPr>
            <p:sp>
              <p:nvSpPr>
                <p:cNvPr id="637" name="椭圆​​ 151"/>
                <p:cNvSpPr/>
                <p:nvPr/>
              </p:nvSpPr>
              <p:spPr>
                <a:xfrm rot="19008600">
                  <a:off x="4330440" y="2115000"/>
                  <a:ext cx="45864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8" name="椭圆​​ 152"/>
                <p:cNvSpPr/>
                <p:nvPr/>
              </p:nvSpPr>
              <p:spPr>
                <a:xfrm rot="19008600">
                  <a:off x="4313160" y="2121840"/>
                  <a:ext cx="36972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9" name="Group 249"/>
              <p:cNvGrpSpPr/>
              <p:nvPr/>
            </p:nvGrpSpPr>
            <p:grpSpPr>
              <a:xfrm>
                <a:off x="4363920" y="1771200"/>
                <a:ext cx="770040" cy="770040"/>
                <a:chOff x="4363920" y="1771200"/>
                <a:chExt cx="770040" cy="770040"/>
              </a:xfrm>
            </p:grpSpPr>
            <p:sp>
              <p:nvSpPr>
                <p:cNvPr id="640" name="椭圆​​ 149"/>
                <p:cNvSpPr/>
                <p:nvPr/>
              </p:nvSpPr>
              <p:spPr>
                <a:xfrm rot="19008600">
                  <a:off x="4476240" y="1883880"/>
                  <a:ext cx="54468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1" name="椭圆​​ 150"/>
                <p:cNvSpPr/>
                <p:nvPr/>
              </p:nvSpPr>
              <p:spPr>
                <a:xfrm rot="19008600">
                  <a:off x="4456080" y="1891440"/>
                  <a:ext cx="43884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2" name="Group 252"/>
              <p:cNvGrpSpPr/>
              <p:nvPr/>
            </p:nvGrpSpPr>
            <p:grpSpPr>
              <a:xfrm>
                <a:off x="4631040" y="1454400"/>
                <a:ext cx="833400" cy="833400"/>
                <a:chOff x="4631040" y="1454400"/>
                <a:chExt cx="833400" cy="833400"/>
              </a:xfrm>
            </p:grpSpPr>
            <p:sp>
              <p:nvSpPr>
                <p:cNvPr id="643" name="椭圆​​ 147"/>
                <p:cNvSpPr/>
                <p:nvPr/>
              </p:nvSpPr>
              <p:spPr>
                <a:xfrm rot="19008600">
                  <a:off x="4752720" y="1576080"/>
                  <a:ext cx="58968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4" name="椭圆​​ 148"/>
                <p:cNvSpPr/>
                <p:nvPr/>
              </p:nvSpPr>
              <p:spPr>
                <a:xfrm rot="19008600">
                  <a:off x="4730400" y="1584720"/>
                  <a:ext cx="47520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5" name="Group 255"/>
              <p:cNvGrpSpPr/>
              <p:nvPr/>
            </p:nvGrpSpPr>
            <p:grpSpPr>
              <a:xfrm>
                <a:off x="4852800" y="1149840"/>
                <a:ext cx="939960" cy="939600"/>
                <a:chOff x="4852800" y="1149840"/>
                <a:chExt cx="939960" cy="939600"/>
              </a:xfrm>
            </p:grpSpPr>
            <p:sp>
              <p:nvSpPr>
                <p:cNvPr id="646" name="椭圆​​ 145"/>
                <p:cNvSpPr/>
                <p:nvPr/>
              </p:nvSpPr>
              <p:spPr>
                <a:xfrm rot="19008600">
                  <a:off x="4989960" y="1287000"/>
                  <a:ext cx="66492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7" name="椭圆​​ 146"/>
                <p:cNvSpPr/>
                <p:nvPr/>
              </p:nvSpPr>
              <p:spPr>
                <a:xfrm rot="19008600">
                  <a:off x="4964400" y="1309680"/>
                  <a:ext cx="53568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48" name="Group 258"/>
          <p:cNvGrpSpPr/>
          <p:nvPr/>
        </p:nvGrpSpPr>
        <p:grpSpPr>
          <a:xfrm>
            <a:off x="961560" y="1115280"/>
            <a:ext cx="4747680" cy="4609440"/>
            <a:chOff x="961560" y="1115280"/>
            <a:chExt cx="4747680" cy="4609440"/>
          </a:xfrm>
        </p:grpSpPr>
        <p:grpSp>
          <p:nvGrpSpPr>
            <p:cNvPr id="649" name="Group 259"/>
            <p:cNvGrpSpPr/>
            <p:nvPr/>
          </p:nvGrpSpPr>
          <p:grpSpPr>
            <a:xfrm>
              <a:off x="3630240" y="3415320"/>
              <a:ext cx="2079000" cy="1467720"/>
              <a:chOff x="3630240" y="3415320"/>
              <a:chExt cx="2079000" cy="1467720"/>
            </a:xfrm>
          </p:grpSpPr>
          <p:grpSp>
            <p:nvGrpSpPr>
              <p:cNvPr id="650" name="Group 260"/>
              <p:cNvGrpSpPr/>
              <p:nvPr/>
            </p:nvGrpSpPr>
            <p:grpSpPr>
              <a:xfrm>
                <a:off x="3630240" y="3415320"/>
                <a:ext cx="498600" cy="506880"/>
                <a:chOff x="3630240" y="3415320"/>
                <a:chExt cx="498600" cy="506880"/>
              </a:xfrm>
            </p:grpSpPr>
            <p:sp>
              <p:nvSpPr>
                <p:cNvPr id="651" name="椭圆​​ 133"/>
                <p:cNvSpPr/>
                <p:nvPr/>
              </p:nvSpPr>
              <p:spPr>
                <a:xfrm rot="1753200">
                  <a:off x="3696120" y="348912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椭圆​​ 134"/>
                <p:cNvSpPr/>
                <p:nvPr/>
              </p:nvSpPr>
              <p:spPr>
                <a:xfrm rot="1753200">
                  <a:off x="3745440" y="346824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3" name="Group 263"/>
              <p:cNvGrpSpPr/>
              <p:nvPr/>
            </p:nvGrpSpPr>
            <p:grpSpPr>
              <a:xfrm>
                <a:off x="3815280" y="3501000"/>
                <a:ext cx="560520" cy="569880"/>
                <a:chOff x="3815280" y="3501000"/>
                <a:chExt cx="560520" cy="569880"/>
              </a:xfrm>
            </p:grpSpPr>
            <p:sp>
              <p:nvSpPr>
                <p:cNvPr id="654" name="椭圆​​ 131"/>
                <p:cNvSpPr/>
                <p:nvPr/>
              </p:nvSpPr>
              <p:spPr>
                <a:xfrm rot="1753200">
                  <a:off x="3889440" y="358416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5" name="椭圆​​ 132"/>
                <p:cNvSpPr/>
                <p:nvPr/>
              </p:nvSpPr>
              <p:spPr>
                <a:xfrm rot="1753200">
                  <a:off x="3945240" y="356076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6" name="Group 266"/>
              <p:cNvGrpSpPr/>
              <p:nvPr/>
            </p:nvGrpSpPr>
            <p:grpSpPr>
              <a:xfrm>
                <a:off x="4023720" y="3600720"/>
                <a:ext cx="623880" cy="633960"/>
                <a:chOff x="4023720" y="3600720"/>
                <a:chExt cx="623880" cy="633960"/>
              </a:xfrm>
            </p:grpSpPr>
            <p:sp>
              <p:nvSpPr>
                <p:cNvPr id="657" name="椭圆​​ 129"/>
                <p:cNvSpPr/>
                <p:nvPr/>
              </p:nvSpPr>
              <p:spPr>
                <a:xfrm rot="1753200">
                  <a:off x="4106160" y="369288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椭圆​​ 130"/>
                <p:cNvSpPr/>
                <p:nvPr/>
              </p:nvSpPr>
              <p:spPr>
                <a:xfrm rot="1753200">
                  <a:off x="4168440" y="366732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9" name="Group 269"/>
              <p:cNvGrpSpPr/>
              <p:nvPr/>
            </p:nvGrpSpPr>
            <p:grpSpPr>
              <a:xfrm>
                <a:off x="4201200" y="3663360"/>
                <a:ext cx="741240" cy="752760"/>
                <a:chOff x="4201200" y="3663360"/>
                <a:chExt cx="741240" cy="752760"/>
              </a:xfrm>
            </p:grpSpPr>
            <p:sp>
              <p:nvSpPr>
                <p:cNvPr id="660" name="椭圆​​ 127"/>
                <p:cNvSpPr/>
                <p:nvPr/>
              </p:nvSpPr>
              <p:spPr>
                <a:xfrm rot="1753200">
                  <a:off x="4299480" y="377280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1" name="椭圆​​ 128"/>
                <p:cNvSpPr/>
                <p:nvPr/>
              </p:nvSpPr>
              <p:spPr>
                <a:xfrm rot="1753200">
                  <a:off x="4373280" y="374220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2" name="Group 272"/>
              <p:cNvGrpSpPr/>
              <p:nvPr/>
            </p:nvGrpSpPr>
            <p:grpSpPr>
              <a:xfrm>
                <a:off x="4532760" y="3830760"/>
                <a:ext cx="802440" cy="815040"/>
                <a:chOff x="4532760" y="3830760"/>
                <a:chExt cx="802440" cy="815040"/>
              </a:xfrm>
            </p:grpSpPr>
            <p:sp>
              <p:nvSpPr>
                <p:cNvPr id="663" name="椭圆​​ 125"/>
                <p:cNvSpPr/>
                <p:nvPr/>
              </p:nvSpPr>
              <p:spPr>
                <a:xfrm rot="1753200">
                  <a:off x="4639320" y="394956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椭圆​​ 126"/>
                <p:cNvSpPr/>
                <p:nvPr/>
              </p:nvSpPr>
              <p:spPr>
                <a:xfrm rot="1753200">
                  <a:off x="4718520" y="391608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5" name="Group 275"/>
              <p:cNvGrpSpPr/>
              <p:nvPr/>
            </p:nvGrpSpPr>
            <p:grpSpPr>
              <a:xfrm>
                <a:off x="4804560" y="3967920"/>
                <a:ext cx="904680" cy="915120"/>
                <a:chOff x="4804560" y="3967920"/>
                <a:chExt cx="904680" cy="915120"/>
              </a:xfrm>
            </p:grpSpPr>
            <p:sp>
              <p:nvSpPr>
                <p:cNvPr id="666" name="椭圆​​ 123"/>
                <p:cNvSpPr/>
                <p:nvPr/>
              </p:nvSpPr>
              <p:spPr>
                <a:xfrm rot="1753200">
                  <a:off x="4924440" y="409824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7" name="椭圆​​ 124"/>
                <p:cNvSpPr/>
                <p:nvPr/>
              </p:nvSpPr>
              <p:spPr>
                <a:xfrm rot="1753200">
                  <a:off x="5002200" y="406440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68" name="Group 278"/>
            <p:cNvGrpSpPr/>
            <p:nvPr/>
          </p:nvGrpSpPr>
          <p:grpSpPr>
            <a:xfrm>
              <a:off x="1873080" y="3665160"/>
              <a:ext cx="1463760" cy="2059560"/>
              <a:chOff x="1873080" y="3665160"/>
              <a:chExt cx="1463760" cy="2059560"/>
            </a:xfrm>
          </p:grpSpPr>
          <p:grpSp>
            <p:nvGrpSpPr>
              <p:cNvPr id="669" name="Group 279"/>
              <p:cNvGrpSpPr/>
              <p:nvPr/>
            </p:nvGrpSpPr>
            <p:grpSpPr>
              <a:xfrm>
                <a:off x="2848320" y="3665160"/>
                <a:ext cx="488520" cy="492840"/>
                <a:chOff x="2848320" y="3665160"/>
                <a:chExt cx="488520" cy="492840"/>
              </a:xfrm>
            </p:grpSpPr>
            <p:sp>
              <p:nvSpPr>
                <p:cNvPr id="670" name="椭圆​​ 115"/>
                <p:cNvSpPr/>
                <p:nvPr/>
              </p:nvSpPr>
              <p:spPr>
                <a:xfrm flipV="1" rot="7153800">
                  <a:off x="2909160" y="3733560"/>
                  <a:ext cx="366480" cy="354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椭圆​​ 116"/>
                <p:cNvSpPr/>
                <p:nvPr/>
              </p:nvSpPr>
              <p:spPr>
                <a:xfrm flipV="1" rot="7153800">
                  <a:off x="2904840" y="372852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Group 282"/>
              <p:cNvGrpSpPr/>
              <p:nvPr/>
            </p:nvGrpSpPr>
            <p:grpSpPr>
              <a:xfrm>
                <a:off x="2695680" y="3847680"/>
                <a:ext cx="548640" cy="553680"/>
                <a:chOff x="2695680" y="3847680"/>
                <a:chExt cx="548640" cy="553680"/>
              </a:xfrm>
            </p:grpSpPr>
            <p:sp>
              <p:nvSpPr>
                <p:cNvPr id="673" name="椭圆​​ 113"/>
                <p:cNvSpPr/>
                <p:nvPr/>
              </p:nvSpPr>
              <p:spPr>
                <a:xfrm flipV="1" rot="7153800">
                  <a:off x="2763720" y="3925080"/>
                  <a:ext cx="41184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椭圆​​ 114"/>
                <p:cNvSpPr/>
                <p:nvPr/>
              </p:nvSpPr>
              <p:spPr>
                <a:xfrm flipV="1" rot="7153800">
                  <a:off x="2759400" y="3919680"/>
                  <a:ext cx="331920" cy="32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5" name="Group 285"/>
              <p:cNvGrpSpPr/>
              <p:nvPr/>
            </p:nvGrpSpPr>
            <p:grpSpPr>
              <a:xfrm>
                <a:off x="2529000" y="4054680"/>
                <a:ext cx="610560" cy="616320"/>
                <a:chOff x="2529000" y="4054680"/>
                <a:chExt cx="610560" cy="616320"/>
              </a:xfrm>
            </p:grpSpPr>
            <p:sp>
              <p:nvSpPr>
                <p:cNvPr id="676" name="椭圆​​ 111"/>
                <p:cNvSpPr/>
                <p:nvPr/>
              </p:nvSpPr>
              <p:spPr>
                <a:xfrm flipV="1" rot="7153800">
                  <a:off x="2604960" y="4141080"/>
                  <a:ext cx="45828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椭圆​​ 112"/>
                <p:cNvSpPr/>
                <p:nvPr/>
              </p:nvSpPr>
              <p:spPr>
                <a:xfrm flipV="1" rot="7153800">
                  <a:off x="2599560" y="413388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8" name="Group 288"/>
              <p:cNvGrpSpPr/>
              <p:nvPr/>
            </p:nvGrpSpPr>
            <p:grpSpPr>
              <a:xfrm>
                <a:off x="2335320" y="4225680"/>
                <a:ext cx="724320" cy="731520"/>
                <a:chOff x="2335320" y="4225680"/>
                <a:chExt cx="724320" cy="731520"/>
              </a:xfrm>
            </p:grpSpPr>
            <p:sp>
              <p:nvSpPr>
                <p:cNvPr id="679" name="椭圆​​ 109"/>
                <p:cNvSpPr/>
                <p:nvPr/>
              </p:nvSpPr>
              <p:spPr>
                <a:xfrm flipV="1" rot="7153800">
                  <a:off x="2425320" y="4328640"/>
                  <a:ext cx="54396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椭圆​​ 110"/>
                <p:cNvSpPr/>
                <p:nvPr/>
              </p:nvSpPr>
              <p:spPr>
                <a:xfrm flipV="1" rot="7153800">
                  <a:off x="2418840" y="432000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1" name="Group 291"/>
              <p:cNvGrpSpPr/>
              <p:nvPr/>
            </p:nvGrpSpPr>
            <p:grpSpPr>
              <a:xfrm>
                <a:off x="2100960" y="4554360"/>
                <a:ext cx="784440" cy="792360"/>
                <a:chOff x="2100960" y="4554360"/>
                <a:chExt cx="784440" cy="792360"/>
              </a:xfrm>
            </p:grpSpPr>
            <p:sp>
              <p:nvSpPr>
                <p:cNvPr id="682" name="椭圆​​ 107"/>
                <p:cNvSpPr/>
                <p:nvPr/>
              </p:nvSpPr>
              <p:spPr>
                <a:xfrm flipV="1" rot="7153800">
                  <a:off x="2198520" y="4665600"/>
                  <a:ext cx="589320" cy="569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3" name="椭圆​​ 108"/>
                <p:cNvSpPr/>
                <p:nvPr/>
              </p:nvSpPr>
              <p:spPr>
                <a:xfrm flipV="1" rot="7153800">
                  <a:off x="2192040" y="465660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4" name="Group 294"/>
              <p:cNvGrpSpPr/>
              <p:nvPr/>
            </p:nvGrpSpPr>
            <p:grpSpPr>
              <a:xfrm>
                <a:off x="1873080" y="4831560"/>
                <a:ext cx="884520" cy="893160"/>
                <a:chOff x="1873080" y="4831560"/>
                <a:chExt cx="884520" cy="893160"/>
              </a:xfrm>
            </p:grpSpPr>
            <p:sp>
              <p:nvSpPr>
                <p:cNvPr id="685" name="椭圆​​ 105"/>
                <p:cNvSpPr/>
                <p:nvPr/>
              </p:nvSpPr>
              <p:spPr>
                <a:xfrm flipV="1" rot="7153800">
                  <a:off x="1982880" y="495648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椭圆​​ 106"/>
                <p:cNvSpPr/>
                <p:nvPr/>
              </p:nvSpPr>
              <p:spPr>
                <a:xfrm flipV="1" rot="7153800">
                  <a:off x="1987920" y="494352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87" name="Group 297"/>
            <p:cNvGrpSpPr/>
            <p:nvPr/>
          </p:nvGrpSpPr>
          <p:grpSpPr>
            <a:xfrm>
              <a:off x="961560" y="1886400"/>
              <a:ext cx="2059560" cy="1463760"/>
              <a:chOff x="961560" y="1886400"/>
              <a:chExt cx="2059560" cy="1463760"/>
            </a:xfrm>
          </p:grpSpPr>
          <p:grpSp>
            <p:nvGrpSpPr>
              <p:cNvPr id="688" name="Group 298"/>
              <p:cNvGrpSpPr/>
              <p:nvPr/>
            </p:nvGrpSpPr>
            <p:grpSpPr>
              <a:xfrm>
                <a:off x="2528280" y="2861640"/>
                <a:ext cx="492840" cy="488520"/>
                <a:chOff x="2528280" y="2861640"/>
                <a:chExt cx="492840" cy="488520"/>
              </a:xfrm>
            </p:grpSpPr>
            <p:sp>
              <p:nvSpPr>
                <p:cNvPr id="689" name="椭圆​​ 97"/>
                <p:cNvSpPr/>
                <p:nvPr/>
              </p:nvSpPr>
              <p:spPr>
                <a:xfrm flipV="1" rot="12553800">
                  <a:off x="2591280" y="2928240"/>
                  <a:ext cx="366480" cy="354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椭圆​​ 98"/>
                <p:cNvSpPr/>
                <p:nvPr/>
              </p:nvSpPr>
              <p:spPr>
                <a:xfrm flipV="1" rot="12553800">
                  <a:off x="2666880" y="292284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1" name="Group 301"/>
              <p:cNvGrpSpPr/>
              <p:nvPr/>
            </p:nvGrpSpPr>
            <p:grpSpPr>
              <a:xfrm>
                <a:off x="2284920" y="2709000"/>
                <a:ext cx="553680" cy="548640"/>
                <a:chOff x="2284920" y="2709000"/>
                <a:chExt cx="553680" cy="548640"/>
              </a:xfrm>
            </p:grpSpPr>
            <p:sp>
              <p:nvSpPr>
                <p:cNvPr id="692" name="椭圆​​ 95"/>
                <p:cNvSpPr/>
                <p:nvPr/>
              </p:nvSpPr>
              <p:spPr>
                <a:xfrm flipV="1" rot="12553800">
                  <a:off x="2355480" y="2784240"/>
                  <a:ext cx="41184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椭圆​​ 96"/>
                <p:cNvSpPr/>
                <p:nvPr/>
              </p:nvSpPr>
              <p:spPr>
                <a:xfrm flipV="1" rot="12553800">
                  <a:off x="2440080" y="2778480"/>
                  <a:ext cx="331920" cy="32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4" name="Group 304"/>
              <p:cNvGrpSpPr/>
              <p:nvPr/>
            </p:nvGrpSpPr>
            <p:grpSpPr>
              <a:xfrm>
                <a:off x="2015280" y="2542320"/>
                <a:ext cx="616320" cy="610560"/>
                <a:chOff x="2015280" y="2542320"/>
                <a:chExt cx="616320" cy="610560"/>
              </a:xfrm>
            </p:grpSpPr>
            <p:sp>
              <p:nvSpPr>
                <p:cNvPr id="695" name="椭圆​​ 93"/>
                <p:cNvSpPr/>
                <p:nvPr/>
              </p:nvSpPr>
              <p:spPr>
                <a:xfrm flipV="1" rot="12553800">
                  <a:off x="2094120" y="2625840"/>
                  <a:ext cx="45828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椭圆​​ 94"/>
                <p:cNvSpPr/>
                <p:nvPr/>
              </p:nvSpPr>
              <p:spPr>
                <a:xfrm flipV="1" rot="12553800">
                  <a:off x="2188440" y="261936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7" name="Group 307"/>
              <p:cNvGrpSpPr/>
              <p:nvPr/>
            </p:nvGrpSpPr>
            <p:grpSpPr>
              <a:xfrm>
                <a:off x="1729080" y="2348640"/>
                <a:ext cx="731520" cy="724320"/>
                <a:chOff x="1729080" y="2348640"/>
                <a:chExt cx="731520" cy="724320"/>
              </a:xfrm>
            </p:grpSpPr>
            <p:sp>
              <p:nvSpPr>
                <p:cNvPr id="698" name="椭圆​​ 91"/>
                <p:cNvSpPr/>
                <p:nvPr/>
              </p:nvSpPr>
              <p:spPr>
                <a:xfrm flipV="1" rot="12553800">
                  <a:off x="1822680" y="2447640"/>
                  <a:ext cx="54396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9" name="椭圆​​ 92"/>
                <p:cNvSpPr/>
                <p:nvPr/>
              </p:nvSpPr>
              <p:spPr>
                <a:xfrm flipV="1" rot="12553800">
                  <a:off x="1934640" y="243936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00" name="Group 310"/>
              <p:cNvGrpSpPr/>
              <p:nvPr/>
            </p:nvGrpSpPr>
            <p:grpSpPr>
              <a:xfrm>
                <a:off x="1339560" y="2114280"/>
                <a:ext cx="792360" cy="784440"/>
                <a:chOff x="1339560" y="2114280"/>
                <a:chExt cx="792360" cy="784440"/>
              </a:xfrm>
            </p:grpSpPr>
            <p:sp>
              <p:nvSpPr>
                <p:cNvPr id="701" name="椭圆​​ 89"/>
                <p:cNvSpPr/>
                <p:nvPr/>
              </p:nvSpPr>
              <p:spPr>
                <a:xfrm flipV="1" rot="12553800">
                  <a:off x="1441080" y="2221200"/>
                  <a:ext cx="589320" cy="569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椭圆​​ 90"/>
                <p:cNvSpPr/>
                <p:nvPr/>
              </p:nvSpPr>
              <p:spPr>
                <a:xfrm flipV="1" rot="12553800">
                  <a:off x="1562040" y="221364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03" name="Group 313"/>
              <p:cNvGrpSpPr/>
              <p:nvPr/>
            </p:nvGrpSpPr>
            <p:grpSpPr>
              <a:xfrm>
                <a:off x="961560" y="1886400"/>
                <a:ext cx="893160" cy="884520"/>
                <a:chOff x="961560" y="1886400"/>
                <a:chExt cx="893160" cy="884520"/>
              </a:xfrm>
            </p:grpSpPr>
            <p:sp>
              <p:nvSpPr>
                <p:cNvPr id="704" name="椭圆​​ 87"/>
                <p:cNvSpPr/>
                <p:nvPr/>
              </p:nvSpPr>
              <p:spPr>
                <a:xfrm flipV="1" rot="12553800">
                  <a:off x="1075680" y="200736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5" name="椭圆​​ 88"/>
                <p:cNvSpPr/>
                <p:nvPr/>
              </p:nvSpPr>
              <p:spPr>
                <a:xfrm flipV="1" rot="12553800">
                  <a:off x="1216080" y="200988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06" name="Group 316"/>
            <p:cNvGrpSpPr/>
            <p:nvPr/>
          </p:nvGrpSpPr>
          <p:grpSpPr>
            <a:xfrm>
              <a:off x="3401640" y="1115280"/>
              <a:ext cx="1467720" cy="2079000"/>
              <a:chOff x="3401640" y="1115280"/>
              <a:chExt cx="1467720" cy="2079000"/>
            </a:xfrm>
          </p:grpSpPr>
          <p:grpSp>
            <p:nvGrpSpPr>
              <p:cNvPr id="707" name="Group 317"/>
              <p:cNvGrpSpPr/>
              <p:nvPr/>
            </p:nvGrpSpPr>
            <p:grpSpPr>
              <a:xfrm>
                <a:off x="3401640" y="2695680"/>
                <a:ext cx="506880" cy="498600"/>
                <a:chOff x="3401640" y="2695680"/>
                <a:chExt cx="506880" cy="498600"/>
              </a:xfrm>
            </p:grpSpPr>
            <p:sp>
              <p:nvSpPr>
                <p:cNvPr id="708" name="椭圆​​ 79"/>
                <p:cNvSpPr/>
                <p:nvPr/>
              </p:nvSpPr>
              <p:spPr>
                <a:xfrm rot="17953200">
                  <a:off x="3475800" y="276120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9" name="椭圆​​ 80"/>
                <p:cNvSpPr/>
                <p:nvPr/>
              </p:nvSpPr>
              <p:spPr>
                <a:xfrm rot="17953200">
                  <a:off x="3454920" y="27835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0" name="Group 320"/>
              <p:cNvGrpSpPr/>
              <p:nvPr/>
            </p:nvGrpSpPr>
            <p:grpSpPr>
              <a:xfrm>
                <a:off x="3487320" y="2448720"/>
                <a:ext cx="569880" cy="560520"/>
                <a:chOff x="3487320" y="2448720"/>
                <a:chExt cx="569880" cy="560520"/>
              </a:xfrm>
            </p:grpSpPr>
            <p:sp>
              <p:nvSpPr>
                <p:cNvPr id="711" name="椭圆​​ 77"/>
                <p:cNvSpPr/>
                <p:nvPr/>
              </p:nvSpPr>
              <p:spPr>
                <a:xfrm rot="17953200">
                  <a:off x="3570480" y="252252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2" name="椭圆​​ 78"/>
                <p:cNvSpPr/>
                <p:nvPr/>
              </p:nvSpPr>
              <p:spPr>
                <a:xfrm rot="17953200">
                  <a:off x="3547080" y="254700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3" name="Group 323"/>
              <p:cNvGrpSpPr/>
              <p:nvPr/>
            </p:nvGrpSpPr>
            <p:grpSpPr>
              <a:xfrm>
                <a:off x="3587040" y="2176920"/>
                <a:ext cx="633960" cy="623880"/>
                <a:chOff x="3587040" y="2176920"/>
                <a:chExt cx="633960" cy="623880"/>
              </a:xfrm>
            </p:grpSpPr>
            <p:sp>
              <p:nvSpPr>
                <p:cNvPr id="714" name="椭圆​​ 75"/>
                <p:cNvSpPr/>
                <p:nvPr/>
              </p:nvSpPr>
              <p:spPr>
                <a:xfrm rot="17953200">
                  <a:off x="3679560" y="225936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5" name="椭圆​​ 76"/>
                <p:cNvSpPr/>
                <p:nvPr/>
              </p:nvSpPr>
              <p:spPr>
                <a:xfrm rot="17953200">
                  <a:off x="3653640" y="228636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6" name="Group 326"/>
              <p:cNvGrpSpPr/>
              <p:nvPr/>
            </p:nvGrpSpPr>
            <p:grpSpPr>
              <a:xfrm>
                <a:off x="3649680" y="1882080"/>
                <a:ext cx="752760" cy="741240"/>
                <a:chOff x="3649680" y="1882080"/>
                <a:chExt cx="752760" cy="741240"/>
              </a:xfrm>
            </p:grpSpPr>
            <p:sp>
              <p:nvSpPr>
                <p:cNvPr id="717" name="椭圆​​ 73"/>
                <p:cNvSpPr/>
                <p:nvPr/>
              </p:nvSpPr>
              <p:spPr>
                <a:xfrm rot="17953200">
                  <a:off x="3759480" y="198000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8" name="椭圆​​ 74"/>
                <p:cNvSpPr/>
                <p:nvPr/>
              </p:nvSpPr>
              <p:spPr>
                <a:xfrm rot="17953200">
                  <a:off x="3728880" y="201204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9" name="Group 329"/>
              <p:cNvGrpSpPr/>
              <p:nvPr/>
            </p:nvGrpSpPr>
            <p:grpSpPr>
              <a:xfrm>
                <a:off x="3817080" y="1489320"/>
                <a:ext cx="815040" cy="802440"/>
                <a:chOff x="3817080" y="1489320"/>
                <a:chExt cx="815040" cy="802440"/>
              </a:xfrm>
            </p:grpSpPr>
            <p:sp>
              <p:nvSpPr>
                <p:cNvPr id="720" name="椭圆​​ 71"/>
                <p:cNvSpPr/>
                <p:nvPr/>
              </p:nvSpPr>
              <p:spPr>
                <a:xfrm rot="17953200">
                  <a:off x="3935880" y="159552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椭圆​​ 72"/>
                <p:cNvSpPr/>
                <p:nvPr/>
              </p:nvSpPr>
              <p:spPr>
                <a:xfrm rot="17953200">
                  <a:off x="3902760" y="163044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2" name="Group 332"/>
              <p:cNvGrpSpPr/>
              <p:nvPr/>
            </p:nvGrpSpPr>
            <p:grpSpPr>
              <a:xfrm>
                <a:off x="3954240" y="1115280"/>
                <a:ext cx="915120" cy="904680"/>
                <a:chOff x="3954240" y="1115280"/>
                <a:chExt cx="915120" cy="904680"/>
              </a:xfrm>
            </p:grpSpPr>
            <p:sp>
              <p:nvSpPr>
                <p:cNvPr id="723" name="椭圆​​ 69"/>
                <p:cNvSpPr/>
                <p:nvPr/>
              </p:nvSpPr>
              <p:spPr>
                <a:xfrm rot="17953200">
                  <a:off x="4084560" y="123480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4" name="椭圆​​ 70"/>
                <p:cNvSpPr/>
                <p:nvPr/>
              </p:nvSpPr>
              <p:spPr>
                <a:xfrm rot="17953200">
                  <a:off x="4050720" y="128664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725" name="图片 1" descr=""/>
          <p:cNvPicPr/>
          <p:nvPr/>
        </p:nvPicPr>
        <p:blipFill>
          <a:blip r:embed="rId2"/>
          <a:stretch/>
        </p:blipFill>
        <p:spPr>
          <a:xfrm>
            <a:off x="1284120" y="1341360"/>
            <a:ext cx="4302360" cy="4132440"/>
          </a:xfrm>
          <a:prstGeom prst="rect">
            <a:avLst/>
          </a:prstGeom>
          <a:ln w="0">
            <a:noFill/>
          </a:ln>
        </p:spPr>
      </p:pic>
      <p:sp>
        <p:nvSpPr>
          <p:cNvPr id="726" name="TextBox 365"/>
          <p:cNvSpPr/>
          <p:nvPr/>
        </p:nvSpPr>
        <p:spPr>
          <a:xfrm>
            <a:off x="6807960" y="326700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C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5"/>
          <p:cNvSpPr/>
          <p:nvPr/>
        </p:nvSpPr>
        <p:spPr>
          <a:xfrm rot="18943800">
            <a:off x="-768960" y="422640"/>
            <a:ext cx="28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LC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xit" presetID="10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6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B13D-569C-434E-8AC0-D768D199B51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直线 96"/>
          <p:cNvSpPr/>
          <p:nvPr/>
        </p:nvSpPr>
        <p:spPr>
          <a:xfrm flipH="1">
            <a:off x="1967040" y="5489640"/>
            <a:ext cx="374400" cy="612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直线 97"/>
          <p:cNvSpPr/>
          <p:nvPr/>
        </p:nvSpPr>
        <p:spPr>
          <a:xfrm flipH="1">
            <a:off x="2341080" y="5489640"/>
            <a:ext cx="373320" cy="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直线 98"/>
          <p:cNvSpPr/>
          <p:nvPr/>
        </p:nvSpPr>
        <p:spPr>
          <a:xfrm flipH="1">
            <a:off x="2714760" y="5489640"/>
            <a:ext cx="374400" cy="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直线 99"/>
          <p:cNvSpPr/>
          <p:nvPr/>
        </p:nvSpPr>
        <p:spPr>
          <a:xfrm flipH="1" flipV="1">
            <a:off x="3088800" y="5489280"/>
            <a:ext cx="373320" cy="324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直线 100"/>
          <p:cNvSpPr/>
          <p:nvPr/>
        </p:nvSpPr>
        <p:spPr>
          <a:xfrm flipH="1" flipV="1">
            <a:off x="3462480" y="5492880"/>
            <a:ext cx="372960" cy="288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直线 101"/>
          <p:cNvSpPr/>
          <p:nvPr/>
        </p:nvSpPr>
        <p:spPr>
          <a:xfrm flipH="1">
            <a:off x="3835080" y="5489640"/>
            <a:ext cx="374760" cy="612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直线 102"/>
          <p:cNvSpPr/>
          <p:nvPr/>
        </p:nvSpPr>
        <p:spPr>
          <a:xfrm flipH="1">
            <a:off x="4210200" y="5489640"/>
            <a:ext cx="372960" cy="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直线 103"/>
          <p:cNvSpPr/>
          <p:nvPr/>
        </p:nvSpPr>
        <p:spPr>
          <a:xfrm flipH="1">
            <a:off x="4583160" y="5353200"/>
            <a:ext cx="371520" cy="13644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直线 104"/>
          <p:cNvSpPr/>
          <p:nvPr/>
        </p:nvSpPr>
        <p:spPr>
          <a:xfrm flipH="1">
            <a:off x="4954680" y="5143680"/>
            <a:ext cx="372960" cy="20952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直线 105"/>
          <p:cNvSpPr/>
          <p:nvPr/>
        </p:nvSpPr>
        <p:spPr>
          <a:xfrm flipH="1" flipV="1">
            <a:off x="5327280" y="5143320"/>
            <a:ext cx="374760" cy="25380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直线 106"/>
          <p:cNvSpPr/>
          <p:nvPr/>
        </p:nvSpPr>
        <p:spPr>
          <a:xfrm flipH="1" flipV="1">
            <a:off x="5702400" y="5397120"/>
            <a:ext cx="372960" cy="324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直线 107"/>
          <p:cNvSpPr/>
          <p:nvPr/>
        </p:nvSpPr>
        <p:spPr>
          <a:xfrm flipH="1">
            <a:off x="6075000" y="5396040"/>
            <a:ext cx="374760" cy="468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直线 108"/>
          <p:cNvSpPr/>
          <p:nvPr/>
        </p:nvSpPr>
        <p:spPr>
          <a:xfrm flipH="1">
            <a:off x="6450120" y="5396040"/>
            <a:ext cx="372960" cy="144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直线 109"/>
          <p:cNvSpPr/>
          <p:nvPr/>
        </p:nvSpPr>
        <p:spPr>
          <a:xfrm flipH="1">
            <a:off x="6823080" y="5396040"/>
            <a:ext cx="372960" cy="144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直线 110"/>
          <p:cNvSpPr/>
          <p:nvPr/>
        </p:nvSpPr>
        <p:spPr>
          <a:xfrm flipH="1">
            <a:off x="7195680" y="5392800"/>
            <a:ext cx="374760" cy="3240"/>
          </a:xfrm>
          <a:prstGeom prst="line">
            <a:avLst/>
          </a:prstGeom>
          <a:ln w="2844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椭圆 111"/>
          <p:cNvSpPr/>
          <p:nvPr/>
        </p:nvSpPr>
        <p:spPr>
          <a:xfrm>
            <a:off x="1905120" y="5433840"/>
            <a:ext cx="122040" cy="12096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椭圆 112"/>
          <p:cNvSpPr/>
          <p:nvPr/>
        </p:nvSpPr>
        <p:spPr>
          <a:xfrm>
            <a:off x="2278080" y="5427720"/>
            <a:ext cx="1224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113"/>
          <p:cNvSpPr/>
          <p:nvPr/>
        </p:nvSpPr>
        <p:spPr>
          <a:xfrm>
            <a:off x="2652840" y="5427720"/>
            <a:ext cx="1206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椭圆 114"/>
          <p:cNvSpPr/>
          <p:nvPr/>
        </p:nvSpPr>
        <p:spPr>
          <a:xfrm>
            <a:off x="3025800" y="5427720"/>
            <a:ext cx="12204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椭圆 115"/>
          <p:cNvSpPr/>
          <p:nvPr/>
        </p:nvSpPr>
        <p:spPr>
          <a:xfrm>
            <a:off x="3400560" y="5430960"/>
            <a:ext cx="120600" cy="1206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椭圆 116"/>
          <p:cNvSpPr/>
          <p:nvPr/>
        </p:nvSpPr>
        <p:spPr>
          <a:xfrm>
            <a:off x="3773520" y="5433840"/>
            <a:ext cx="122040" cy="12096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椭圆 117"/>
          <p:cNvSpPr/>
          <p:nvPr/>
        </p:nvSpPr>
        <p:spPr>
          <a:xfrm>
            <a:off x="4148280" y="5427720"/>
            <a:ext cx="1206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椭圆 118"/>
          <p:cNvSpPr/>
          <p:nvPr/>
        </p:nvSpPr>
        <p:spPr>
          <a:xfrm>
            <a:off x="4521240" y="5427720"/>
            <a:ext cx="12204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椭圆 119"/>
          <p:cNvSpPr/>
          <p:nvPr/>
        </p:nvSpPr>
        <p:spPr>
          <a:xfrm>
            <a:off x="4892760" y="5291280"/>
            <a:ext cx="1206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椭圆 121"/>
          <p:cNvSpPr/>
          <p:nvPr/>
        </p:nvSpPr>
        <p:spPr>
          <a:xfrm>
            <a:off x="5638680" y="5335560"/>
            <a:ext cx="1224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椭圆 122"/>
          <p:cNvSpPr/>
          <p:nvPr/>
        </p:nvSpPr>
        <p:spPr>
          <a:xfrm>
            <a:off x="6013440" y="5338800"/>
            <a:ext cx="1206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椭圆 123"/>
          <p:cNvSpPr/>
          <p:nvPr/>
        </p:nvSpPr>
        <p:spPr>
          <a:xfrm>
            <a:off x="6386400" y="5332320"/>
            <a:ext cx="1224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椭圆 124"/>
          <p:cNvSpPr/>
          <p:nvPr/>
        </p:nvSpPr>
        <p:spPr>
          <a:xfrm>
            <a:off x="6761160" y="5332320"/>
            <a:ext cx="1206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椭圆 125"/>
          <p:cNvSpPr/>
          <p:nvPr/>
        </p:nvSpPr>
        <p:spPr>
          <a:xfrm>
            <a:off x="7134120" y="5332320"/>
            <a:ext cx="1224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椭圆 126"/>
          <p:cNvSpPr/>
          <p:nvPr/>
        </p:nvSpPr>
        <p:spPr>
          <a:xfrm>
            <a:off x="7508880" y="5329080"/>
            <a:ext cx="1206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椭圆 126"/>
          <p:cNvSpPr/>
          <p:nvPr/>
        </p:nvSpPr>
        <p:spPr>
          <a:xfrm>
            <a:off x="5265720" y="5076720"/>
            <a:ext cx="1206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矩形 6"/>
          <p:cNvSpPr/>
          <p:nvPr/>
        </p:nvSpPr>
        <p:spPr>
          <a:xfrm>
            <a:off x="147852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矩形 7"/>
          <p:cNvSpPr/>
          <p:nvPr/>
        </p:nvSpPr>
        <p:spPr>
          <a:xfrm>
            <a:off x="222624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矩形 8"/>
          <p:cNvSpPr/>
          <p:nvPr/>
        </p:nvSpPr>
        <p:spPr>
          <a:xfrm>
            <a:off x="297396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矩形 9"/>
          <p:cNvSpPr/>
          <p:nvPr/>
        </p:nvSpPr>
        <p:spPr>
          <a:xfrm>
            <a:off x="371988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4</a:t>
            </a: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矩形 10"/>
          <p:cNvSpPr/>
          <p:nvPr/>
        </p:nvSpPr>
        <p:spPr>
          <a:xfrm>
            <a:off x="446760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矩形 11"/>
          <p:cNvSpPr/>
          <p:nvPr/>
        </p:nvSpPr>
        <p:spPr>
          <a:xfrm>
            <a:off x="521208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2"/>
          <p:cNvSpPr/>
          <p:nvPr/>
        </p:nvSpPr>
        <p:spPr>
          <a:xfrm>
            <a:off x="595980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矩形 13"/>
          <p:cNvSpPr/>
          <p:nvPr/>
        </p:nvSpPr>
        <p:spPr>
          <a:xfrm>
            <a:off x="670752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14"/>
          <p:cNvSpPr/>
          <p:nvPr/>
        </p:nvSpPr>
        <p:spPr>
          <a:xfrm>
            <a:off x="745524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15"/>
          <p:cNvSpPr/>
          <p:nvPr/>
        </p:nvSpPr>
        <p:spPr>
          <a:xfrm>
            <a:off x="8201880" y="621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16"/>
          <p:cNvSpPr/>
          <p:nvPr/>
        </p:nvSpPr>
        <p:spPr>
          <a:xfrm>
            <a:off x="700920" y="6004080"/>
            <a:ext cx="46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-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17"/>
          <p:cNvSpPr/>
          <p:nvPr/>
        </p:nvSpPr>
        <p:spPr>
          <a:xfrm>
            <a:off x="995400" y="5381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矩形 18"/>
          <p:cNvSpPr/>
          <p:nvPr/>
        </p:nvSpPr>
        <p:spPr>
          <a:xfrm>
            <a:off x="766800" y="47624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19"/>
          <p:cNvSpPr/>
          <p:nvPr/>
        </p:nvSpPr>
        <p:spPr>
          <a:xfrm>
            <a:off x="766800" y="41385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矩形 20"/>
          <p:cNvSpPr/>
          <p:nvPr/>
        </p:nvSpPr>
        <p:spPr>
          <a:xfrm>
            <a:off x="766800" y="35193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矩形 21"/>
          <p:cNvSpPr/>
          <p:nvPr/>
        </p:nvSpPr>
        <p:spPr>
          <a:xfrm>
            <a:off x="766800" y="2897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22"/>
          <p:cNvSpPr/>
          <p:nvPr/>
        </p:nvSpPr>
        <p:spPr>
          <a:xfrm>
            <a:off x="652680" y="22780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矩形 23"/>
          <p:cNvSpPr/>
          <p:nvPr/>
        </p:nvSpPr>
        <p:spPr>
          <a:xfrm>
            <a:off x="652680" y="16542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24"/>
          <p:cNvSpPr/>
          <p:nvPr/>
        </p:nvSpPr>
        <p:spPr>
          <a:xfrm>
            <a:off x="652680" y="10350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1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0" name="Group 53"/>
          <p:cNvGrpSpPr/>
          <p:nvPr/>
        </p:nvGrpSpPr>
        <p:grpSpPr>
          <a:xfrm>
            <a:off x="1219320" y="848880"/>
            <a:ext cx="7099200" cy="5281920"/>
            <a:chOff x="1219320" y="848880"/>
            <a:chExt cx="7099200" cy="5281920"/>
          </a:xfrm>
        </p:grpSpPr>
        <p:sp>
          <p:nvSpPr>
            <p:cNvPr id="781" name="矩形 5"/>
            <p:cNvSpPr/>
            <p:nvPr/>
          </p:nvSpPr>
          <p:spPr>
            <a:xfrm>
              <a:off x="1219320" y="849240"/>
              <a:ext cx="7099200" cy="528156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直线 25"/>
            <p:cNvSpPr/>
            <p:nvPr/>
          </p:nvSpPr>
          <p:spPr>
            <a:xfrm flipV="1">
              <a:off x="1219320" y="6079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直线 26"/>
            <p:cNvSpPr/>
            <p:nvPr/>
          </p:nvSpPr>
          <p:spPr>
            <a:xfrm flipV="1">
              <a:off x="1593720" y="6029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直线 27"/>
            <p:cNvSpPr/>
            <p:nvPr/>
          </p:nvSpPr>
          <p:spPr>
            <a:xfrm flipV="1">
              <a:off x="1967040" y="6079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直线 28"/>
            <p:cNvSpPr/>
            <p:nvPr/>
          </p:nvSpPr>
          <p:spPr>
            <a:xfrm flipV="1">
              <a:off x="2341440" y="6029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直线 29"/>
            <p:cNvSpPr/>
            <p:nvPr/>
          </p:nvSpPr>
          <p:spPr>
            <a:xfrm flipV="1">
              <a:off x="2714760" y="6079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直线 30"/>
            <p:cNvSpPr/>
            <p:nvPr/>
          </p:nvSpPr>
          <p:spPr>
            <a:xfrm flipV="1">
              <a:off x="3089160" y="6029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直线 31"/>
            <p:cNvSpPr/>
            <p:nvPr/>
          </p:nvSpPr>
          <p:spPr>
            <a:xfrm flipV="1">
              <a:off x="3462480" y="6079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直线 32"/>
            <p:cNvSpPr/>
            <p:nvPr/>
          </p:nvSpPr>
          <p:spPr>
            <a:xfrm flipV="1">
              <a:off x="3835440" y="6029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线 33"/>
            <p:cNvSpPr/>
            <p:nvPr/>
          </p:nvSpPr>
          <p:spPr>
            <a:xfrm flipV="1">
              <a:off x="4210200" y="6079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直线 34"/>
            <p:cNvSpPr/>
            <p:nvPr/>
          </p:nvSpPr>
          <p:spPr>
            <a:xfrm flipV="1">
              <a:off x="4583160" y="6029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直线 35"/>
            <p:cNvSpPr/>
            <p:nvPr/>
          </p:nvSpPr>
          <p:spPr>
            <a:xfrm flipV="1">
              <a:off x="4954680" y="6079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直线 36"/>
            <p:cNvSpPr/>
            <p:nvPr/>
          </p:nvSpPr>
          <p:spPr>
            <a:xfrm flipV="1">
              <a:off x="5327640" y="6029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直线 37"/>
            <p:cNvSpPr/>
            <p:nvPr/>
          </p:nvSpPr>
          <p:spPr>
            <a:xfrm flipV="1">
              <a:off x="5702400" y="6079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直线 38"/>
            <p:cNvSpPr/>
            <p:nvPr/>
          </p:nvSpPr>
          <p:spPr>
            <a:xfrm flipV="1">
              <a:off x="6075360" y="6029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直线 39"/>
            <p:cNvSpPr/>
            <p:nvPr/>
          </p:nvSpPr>
          <p:spPr>
            <a:xfrm flipV="1">
              <a:off x="6450120" y="6079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直线 40"/>
            <p:cNvSpPr/>
            <p:nvPr/>
          </p:nvSpPr>
          <p:spPr>
            <a:xfrm flipV="1">
              <a:off x="6823080" y="6029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直线 41"/>
            <p:cNvSpPr/>
            <p:nvPr/>
          </p:nvSpPr>
          <p:spPr>
            <a:xfrm flipV="1">
              <a:off x="7196400" y="6079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直线 42"/>
            <p:cNvSpPr/>
            <p:nvPr/>
          </p:nvSpPr>
          <p:spPr>
            <a:xfrm flipV="1">
              <a:off x="7570800" y="6029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直线 43"/>
            <p:cNvSpPr/>
            <p:nvPr/>
          </p:nvSpPr>
          <p:spPr>
            <a:xfrm flipV="1">
              <a:off x="7944120" y="6079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直线 44"/>
            <p:cNvSpPr/>
            <p:nvPr/>
          </p:nvSpPr>
          <p:spPr>
            <a:xfrm flipV="1">
              <a:off x="8318520" y="6029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直线 45"/>
            <p:cNvSpPr/>
            <p:nvPr/>
          </p:nvSpPr>
          <p:spPr>
            <a:xfrm>
              <a:off x="1219320" y="6130800"/>
              <a:ext cx="709920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直线 46"/>
            <p:cNvSpPr/>
            <p:nvPr/>
          </p:nvSpPr>
          <p:spPr>
            <a:xfrm>
              <a:off x="1219320" y="613080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直线 47"/>
            <p:cNvSpPr/>
            <p:nvPr/>
          </p:nvSpPr>
          <p:spPr>
            <a:xfrm>
              <a:off x="1219320" y="581976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直线 48"/>
            <p:cNvSpPr/>
            <p:nvPr/>
          </p:nvSpPr>
          <p:spPr>
            <a:xfrm>
              <a:off x="1219320" y="550692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直线 49"/>
            <p:cNvSpPr/>
            <p:nvPr/>
          </p:nvSpPr>
          <p:spPr>
            <a:xfrm>
              <a:off x="1219320" y="519912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直线 50"/>
            <p:cNvSpPr/>
            <p:nvPr/>
          </p:nvSpPr>
          <p:spPr>
            <a:xfrm>
              <a:off x="1219320" y="488772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直线 51"/>
            <p:cNvSpPr/>
            <p:nvPr/>
          </p:nvSpPr>
          <p:spPr>
            <a:xfrm>
              <a:off x="1219320" y="457668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直线 52"/>
            <p:cNvSpPr/>
            <p:nvPr/>
          </p:nvSpPr>
          <p:spPr>
            <a:xfrm>
              <a:off x="1219320" y="426564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直线 53"/>
            <p:cNvSpPr/>
            <p:nvPr/>
          </p:nvSpPr>
          <p:spPr>
            <a:xfrm>
              <a:off x="1219320" y="395748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直线 54"/>
            <p:cNvSpPr/>
            <p:nvPr/>
          </p:nvSpPr>
          <p:spPr>
            <a:xfrm>
              <a:off x="1219320" y="364644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直线 55"/>
            <p:cNvSpPr/>
            <p:nvPr/>
          </p:nvSpPr>
          <p:spPr>
            <a:xfrm>
              <a:off x="1219320" y="333360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直线 56"/>
            <p:cNvSpPr/>
            <p:nvPr/>
          </p:nvSpPr>
          <p:spPr>
            <a:xfrm>
              <a:off x="1219320" y="302256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直线 57"/>
            <p:cNvSpPr/>
            <p:nvPr/>
          </p:nvSpPr>
          <p:spPr>
            <a:xfrm>
              <a:off x="1219320" y="271440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直线 58"/>
            <p:cNvSpPr/>
            <p:nvPr/>
          </p:nvSpPr>
          <p:spPr>
            <a:xfrm>
              <a:off x="1219320" y="240336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直线 59"/>
            <p:cNvSpPr/>
            <p:nvPr/>
          </p:nvSpPr>
          <p:spPr>
            <a:xfrm>
              <a:off x="1219320" y="209232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直线 60"/>
            <p:cNvSpPr/>
            <p:nvPr/>
          </p:nvSpPr>
          <p:spPr>
            <a:xfrm>
              <a:off x="1219320" y="178092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直线 61"/>
            <p:cNvSpPr/>
            <p:nvPr/>
          </p:nvSpPr>
          <p:spPr>
            <a:xfrm>
              <a:off x="1219320" y="147312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直线 62"/>
            <p:cNvSpPr/>
            <p:nvPr/>
          </p:nvSpPr>
          <p:spPr>
            <a:xfrm>
              <a:off x="1219320" y="116028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线 63"/>
            <p:cNvSpPr/>
            <p:nvPr/>
          </p:nvSpPr>
          <p:spPr>
            <a:xfrm>
              <a:off x="1219320" y="84924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直线 64"/>
            <p:cNvSpPr/>
            <p:nvPr/>
          </p:nvSpPr>
          <p:spPr>
            <a:xfrm flipV="1">
              <a:off x="1219320" y="848880"/>
              <a:ext cx="0" cy="52815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直线 73"/>
          <p:cNvSpPr/>
          <p:nvPr/>
        </p:nvSpPr>
        <p:spPr>
          <a:xfrm flipH="1">
            <a:off x="4954680" y="2370240"/>
            <a:ext cx="372960" cy="148896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矩形 127"/>
          <p:cNvSpPr/>
          <p:nvPr/>
        </p:nvSpPr>
        <p:spPr>
          <a:xfrm rot="16200000">
            <a:off x="-135720" y="3390480"/>
            <a:ext cx="1310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bacc6"/>
                </a:solidFill>
                <a:latin typeface="Arabic Transparent"/>
              </a:rPr>
              <a:t>Diam (</a:t>
            </a:r>
            <a:r>
              <a:rPr b="0" lang="zh-CN" sz="2100" spc="-1" strike="noStrike">
                <a:solidFill>
                  <a:srgbClr val="4bacc6"/>
                </a:solidFill>
                <a:latin typeface="Arabic Transparent"/>
              </a:rPr>
              <a:t>n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128"/>
          <p:cNvSpPr/>
          <p:nvPr/>
        </p:nvSpPr>
        <p:spPr>
          <a:xfrm>
            <a:off x="4175640" y="6416640"/>
            <a:ext cx="645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</a:rPr>
              <a:t>T (℃</a:t>
            </a:r>
            <a:r>
              <a:rPr b="0" lang="en-US" sz="2100" spc="-1" strike="noStrike">
                <a:solidFill>
                  <a:srgbClr val="4bacc6"/>
                </a:solidFill>
                <a:latin typeface="Arabic Transparent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5" name="Group 98"/>
          <p:cNvGrpSpPr/>
          <p:nvPr/>
        </p:nvGrpSpPr>
        <p:grpSpPr>
          <a:xfrm>
            <a:off x="7093800" y="2039760"/>
            <a:ext cx="519120" cy="277200"/>
            <a:chOff x="7093800" y="2039760"/>
            <a:chExt cx="519120" cy="277200"/>
          </a:xfrm>
        </p:grpSpPr>
        <p:sp>
          <p:nvSpPr>
            <p:cNvPr id="826" name="矩形 133"/>
            <p:cNvSpPr/>
            <p:nvPr/>
          </p:nvSpPr>
          <p:spPr>
            <a:xfrm>
              <a:off x="7093800" y="2039760"/>
              <a:ext cx="6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abic Transparen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矩形 134"/>
            <p:cNvSpPr/>
            <p:nvPr/>
          </p:nvSpPr>
          <p:spPr>
            <a:xfrm>
              <a:off x="7155000" y="203976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abic Transparent"/>
                </a:rPr>
                <a:t>HB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矩形 135"/>
            <p:cNvSpPr/>
            <p:nvPr/>
          </p:nvSpPr>
          <p:spPr>
            <a:xfrm>
              <a:off x="7520040" y="2039760"/>
              <a:ext cx="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9" name="矩形 146"/>
          <p:cNvSpPr/>
          <p:nvPr/>
        </p:nvSpPr>
        <p:spPr>
          <a:xfrm>
            <a:off x="6037560" y="4956120"/>
            <a:ext cx="107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枝核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0" name="Group 103"/>
          <p:cNvGrpSpPr/>
          <p:nvPr/>
        </p:nvGrpSpPr>
        <p:grpSpPr>
          <a:xfrm>
            <a:off x="3995280" y="5240160"/>
            <a:ext cx="584280" cy="244800"/>
            <a:chOff x="3995280" y="5240160"/>
            <a:chExt cx="584280" cy="244800"/>
          </a:xfrm>
        </p:grpSpPr>
        <p:sp>
          <p:nvSpPr>
            <p:cNvPr id="831" name="直线 147"/>
            <p:cNvSpPr/>
            <p:nvPr/>
          </p:nvSpPr>
          <p:spPr>
            <a:xfrm flipH="1" flipV="1">
              <a:off x="3995280" y="5240160"/>
              <a:ext cx="584280" cy="24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任意多边形 148"/>
            <p:cNvSpPr/>
            <p:nvPr/>
          </p:nvSpPr>
          <p:spPr>
            <a:xfrm>
              <a:off x="3995640" y="5240160"/>
              <a:ext cx="131760" cy="77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3" h="49">
                  <a:moveTo>
                    <a:pt x="0" y="0"/>
                  </a:moveTo>
                  <a:lnTo>
                    <a:pt x="83" y="13"/>
                  </a:lnTo>
                  <a:lnTo>
                    <a:pt x="75" y="32"/>
                  </a:lnTo>
                  <a:lnTo>
                    <a:pt x="68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3" name="矩形 149"/>
          <p:cNvSpPr/>
          <p:nvPr/>
        </p:nvSpPr>
        <p:spPr>
          <a:xfrm>
            <a:off x="2595600" y="5029200"/>
            <a:ext cx="1326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abic Transparent"/>
              </a:rPr>
              <a:t>LCST=</a:t>
            </a:r>
            <a:r>
              <a:rPr b="0" lang="en-US" sz="2100" spc="-1" strike="noStrike">
                <a:solidFill>
                  <a:srgbClr val="000000"/>
                </a:solidFill>
                <a:latin typeface="Arabic Transparent"/>
              </a:rPr>
              <a:t>5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</a:rPr>
              <a:t>2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直线 65"/>
          <p:cNvSpPr/>
          <p:nvPr/>
        </p:nvSpPr>
        <p:spPr>
          <a:xfrm flipH="1" flipV="1">
            <a:off x="1967040" y="5489280"/>
            <a:ext cx="374400" cy="324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直线 66"/>
          <p:cNvSpPr/>
          <p:nvPr/>
        </p:nvSpPr>
        <p:spPr>
          <a:xfrm flipH="1">
            <a:off x="2341080" y="5489640"/>
            <a:ext cx="373320" cy="324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直线 67"/>
          <p:cNvSpPr/>
          <p:nvPr/>
        </p:nvSpPr>
        <p:spPr>
          <a:xfrm flipH="1">
            <a:off x="2714760" y="5486400"/>
            <a:ext cx="374400" cy="324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直线 68"/>
          <p:cNvSpPr/>
          <p:nvPr/>
        </p:nvSpPr>
        <p:spPr>
          <a:xfrm flipH="1" flipV="1">
            <a:off x="3088800" y="5486400"/>
            <a:ext cx="373320" cy="936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直线 69"/>
          <p:cNvSpPr/>
          <p:nvPr/>
        </p:nvSpPr>
        <p:spPr>
          <a:xfrm flipH="1">
            <a:off x="3462480" y="5489640"/>
            <a:ext cx="372960" cy="612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直线 70"/>
          <p:cNvSpPr/>
          <p:nvPr/>
        </p:nvSpPr>
        <p:spPr>
          <a:xfrm flipH="1" flipV="1">
            <a:off x="3835080" y="5489280"/>
            <a:ext cx="374760" cy="324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直线 71"/>
          <p:cNvSpPr/>
          <p:nvPr/>
        </p:nvSpPr>
        <p:spPr>
          <a:xfrm flipH="1" flipV="1">
            <a:off x="4210200" y="5492880"/>
            <a:ext cx="372960" cy="288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线 72"/>
          <p:cNvSpPr/>
          <p:nvPr/>
        </p:nvSpPr>
        <p:spPr>
          <a:xfrm flipH="1">
            <a:off x="4583160" y="3859200"/>
            <a:ext cx="371520" cy="163656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直线 74"/>
          <p:cNvSpPr/>
          <p:nvPr/>
        </p:nvSpPr>
        <p:spPr>
          <a:xfrm flipH="1">
            <a:off x="5327280" y="1501920"/>
            <a:ext cx="374760" cy="86832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直线 75"/>
          <p:cNvSpPr/>
          <p:nvPr/>
        </p:nvSpPr>
        <p:spPr>
          <a:xfrm flipH="1">
            <a:off x="5702400" y="1316160"/>
            <a:ext cx="372960" cy="18576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直线 76"/>
          <p:cNvSpPr/>
          <p:nvPr/>
        </p:nvSpPr>
        <p:spPr>
          <a:xfrm flipH="1" flipV="1">
            <a:off x="6075000" y="1316160"/>
            <a:ext cx="374760" cy="15696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线 77"/>
          <p:cNvSpPr/>
          <p:nvPr/>
        </p:nvSpPr>
        <p:spPr>
          <a:xfrm flipH="1" flipV="1">
            <a:off x="6450120" y="1473120"/>
            <a:ext cx="372960" cy="27792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直线 78"/>
          <p:cNvSpPr/>
          <p:nvPr/>
        </p:nvSpPr>
        <p:spPr>
          <a:xfrm flipH="1" flipV="1">
            <a:off x="6823080" y="1751040"/>
            <a:ext cx="372960" cy="3024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线 79"/>
          <p:cNvSpPr/>
          <p:nvPr/>
        </p:nvSpPr>
        <p:spPr>
          <a:xfrm flipH="1" flipV="1">
            <a:off x="7195680" y="1781280"/>
            <a:ext cx="374760" cy="61920"/>
          </a:xfrm>
          <a:prstGeom prst="line">
            <a:avLst/>
          </a:prstGeom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矩形 80"/>
          <p:cNvSpPr/>
          <p:nvPr/>
        </p:nvSpPr>
        <p:spPr>
          <a:xfrm>
            <a:off x="1914480" y="5437080"/>
            <a:ext cx="10332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矩形 81"/>
          <p:cNvSpPr/>
          <p:nvPr/>
        </p:nvSpPr>
        <p:spPr>
          <a:xfrm>
            <a:off x="2287440" y="5440320"/>
            <a:ext cx="10332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矩形 82"/>
          <p:cNvSpPr/>
          <p:nvPr/>
        </p:nvSpPr>
        <p:spPr>
          <a:xfrm>
            <a:off x="2660760" y="5437080"/>
            <a:ext cx="1047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矩形 83"/>
          <p:cNvSpPr/>
          <p:nvPr/>
        </p:nvSpPr>
        <p:spPr>
          <a:xfrm>
            <a:off x="3035160" y="5433840"/>
            <a:ext cx="10332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矩形 84"/>
          <p:cNvSpPr/>
          <p:nvPr/>
        </p:nvSpPr>
        <p:spPr>
          <a:xfrm>
            <a:off x="3408480" y="5442120"/>
            <a:ext cx="10476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矩形 85"/>
          <p:cNvSpPr/>
          <p:nvPr/>
        </p:nvSpPr>
        <p:spPr>
          <a:xfrm>
            <a:off x="3782880" y="5437080"/>
            <a:ext cx="10332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矩形 86"/>
          <p:cNvSpPr/>
          <p:nvPr/>
        </p:nvSpPr>
        <p:spPr>
          <a:xfrm>
            <a:off x="4156200" y="5440320"/>
            <a:ext cx="1047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矩形 87"/>
          <p:cNvSpPr/>
          <p:nvPr/>
        </p:nvSpPr>
        <p:spPr>
          <a:xfrm>
            <a:off x="4530600" y="5442120"/>
            <a:ext cx="10332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矩形 88"/>
          <p:cNvSpPr/>
          <p:nvPr/>
        </p:nvSpPr>
        <p:spPr>
          <a:xfrm>
            <a:off x="4900680" y="3805200"/>
            <a:ext cx="10476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矩形 89"/>
          <p:cNvSpPr/>
          <p:nvPr/>
        </p:nvSpPr>
        <p:spPr>
          <a:xfrm>
            <a:off x="5275440" y="2317680"/>
            <a:ext cx="1029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矩形 90"/>
          <p:cNvSpPr/>
          <p:nvPr/>
        </p:nvSpPr>
        <p:spPr>
          <a:xfrm>
            <a:off x="5648400" y="1449360"/>
            <a:ext cx="1029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矩形 91"/>
          <p:cNvSpPr/>
          <p:nvPr/>
        </p:nvSpPr>
        <p:spPr>
          <a:xfrm>
            <a:off x="6021360" y="1262160"/>
            <a:ext cx="104760" cy="1029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矩形 92"/>
          <p:cNvSpPr/>
          <p:nvPr/>
        </p:nvSpPr>
        <p:spPr>
          <a:xfrm>
            <a:off x="6396120" y="1419120"/>
            <a:ext cx="1029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矩形 93"/>
          <p:cNvSpPr/>
          <p:nvPr/>
        </p:nvSpPr>
        <p:spPr>
          <a:xfrm>
            <a:off x="6769080" y="1698480"/>
            <a:ext cx="1047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矩形 94"/>
          <p:cNvSpPr/>
          <p:nvPr/>
        </p:nvSpPr>
        <p:spPr>
          <a:xfrm>
            <a:off x="7143840" y="1727280"/>
            <a:ext cx="10296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矩形 95"/>
          <p:cNvSpPr/>
          <p:nvPr/>
        </p:nvSpPr>
        <p:spPr>
          <a:xfrm>
            <a:off x="7516800" y="1789200"/>
            <a:ext cx="10476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5"/>
          <p:cNvSpPr/>
          <p:nvPr/>
        </p:nvSpPr>
        <p:spPr>
          <a:xfrm rot="18943800">
            <a:off x="-753120" y="387720"/>
            <a:ext cx="28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粒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51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601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651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751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801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851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901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951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51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101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151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201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2251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301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351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401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451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551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2601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651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2701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751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851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901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951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3051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101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3102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3602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BA1C-B289-4B93-A5EA-99FFB589E63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7" name="TextBox 5"/>
          <p:cNvSpPr/>
          <p:nvPr/>
        </p:nvSpPr>
        <p:spPr>
          <a:xfrm rot="18943800">
            <a:off x="-818280" y="371880"/>
            <a:ext cx="28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CM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8" name="图片 3" descr=""/>
          <p:cNvPicPr/>
          <p:nvPr/>
        </p:nvPicPr>
        <p:blipFill>
          <a:blip r:embed="rId2"/>
          <a:srcRect l="0" t="0" r="66426" b="0"/>
          <a:stretch/>
        </p:blipFill>
        <p:spPr>
          <a:xfrm>
            <a:off x="1563840" y="946080"/>
            <a:ext cx="2068200" cy="239868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4" descr=""/>
          <p:cNvPicPr/>
          <p:nvPr/>
        </p:nvPicPr>
        <p:blipFill>
          <a:blip r:embed="rId3"/>
          <a:srcRect l="55099" t="0" r="0" b="0"/>
          <a:stretch/>
        </p:blipFill>
        <p:spPr>
          <a:xfrm>
            <a:off x="4729320" y="1895400"/>
            <a:ext cx="4097160" cy="3554640"/>
          </a:xfrm>
          <a:prstGeom prst="rect">
            <a:avLst/>
          </a:prstGeom>
          <a:ln w="0">
            <a:noFill/>
          </a:ln>
        </p:spPr>
      </p:pic>
      <p:cxnSp>
        <p:nvCxnSpPr>
          <p:cNvPr id="870" name="直接箭头​​连接符 5"/>
          <p:cNvCxnSpPr/>
          <p:nvPr/>
        </p:nvCxnSpPr>
        <p:spPr>
          <a:xfrm>
            <a:off x="3631680" y="3357360"/>
            <a:ext cx="956520" cy="1080"/>
          </a:xfrm>
          <a:prstGeom prst="straightConnector1">
            <a:avLst/>
          </a:prstGeom>
          <a:ln w="28440">
            <a:solidFill>
              <a:srgbClr val="000000"/>
            </a:solidFill>
            <a:bevel/>
            <a:tailEnd len="med" type="triangle" w="med"/>
          </a:ln>
        </p:spPr>
      </p:cxnSp>
      <p:sp>
        <p:nvSpPr>
          <p:cNvPr id="871" name="矩形 68"/>
          <p:cNvSpPr/>
          <p:nvPr/>
        </p:nvSpPr>
        <p:spPr>
          <a:xfrm>
            <a:off x="3862080" y="304164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C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直接连接符​​ 9"/>
          <p:cNvSpPr/>
          <p:nvPr/>
        </p:nvSpPr>
        <p:spPr>
          <a:xfrm>
            <a:off x="4010040" y="-493560"/>
            <a:ext cx="0" cy="7770600"/>
          </a:xfrm>
          <a:prstGeom prst="line">
            <a:avLst/>
          </a:prstGeom>
          <a:ln w="9360">
            <a:solidFill>
              <a:srgbClr val="4f81bd"/>
            </a:solidFill>
            <a:prstDash val="dash"/>
            <a:bevel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3" name="图片 8" descr=""/>
          <p:cNvPicPr/>
          <p:nvPr/>
        </p:nvPicPr>
        <p:blipFill>
          <a:blip r:embed="rId4"/>
          <a:srcRect l="0" t="0" r="66426" b="0"/>
          <a:stretch/>
        </p:blipFill>
        <p:spPr>
          <a:xfrm>
            <a:off x="20520" y="2449440"/>
            <a:ext cx="2068560" cy="239868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10" descr=""/>
          <p:cNvPicPr/>
          <p:nvPr/>
        </p:nvPicPr>
        <p:blipFill>
          <a:blip r:embed="rId5"/>
          <a:srcRect l="0" t="0" r="66426" b="0"/>
          <a:stretch/>
        </p:blipFill>
        <p:spPr>
          <a:xfrm>
            <a:off x="1779480" y="4127400"/>
            <a:ext cx="206856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6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3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3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3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7073-A204-4EBB-97F5-91F4FB3C733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6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7" name="任意多边形 257"/>
          <p:cNvSpPr/>
          <p:nvPr/>
        </p:nvSpPr>
        <p:spPr>
          <a:xfrm>
            <a:off x="2228760" y="1133640"/>
            <a:ext cx="5662800" cy="437328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4373280"/>
              <a:gd name="textAreaBottom" fmla="*/ 4373640 h 4373280"/>
            </a:gdLst>
            <a:ahLst/>
            <a:rect l="textAreaLeft" t="textAreaTop" r="textAreaRight" b="textAreaBottom"/>
            <a:pathLst>
              <a:path w="3567" h="2755">
                <a:moveTo>
                  <a:pt x="0" y="2171"/>
                </a:moveTo>
                <a:lnTo>
                  <a:pt x="9" y="2173"/>
                </a:lnTo>
                <a:lnTo>
                  <a:pt x="18" y="2175"/>
                </a:lnTo>
                <a:lnTo>
                  <a:pt x="28" y="2177"/>
                </a:lnTo>
                <a:lnTo>
                  <a:pt x="35" y="2181"/>
                </a:lnTo>
                <a:lnTo>
                  <a:pt x="44" y="2184"/>
                </a:lnTo>
                <a:lnTo>
                  <a:pt x="54" y="2190"/>
                </a:lnTo>
                <a:lnTo>
                  <a:pt x="63" y="2194"/>
                </a:lnTo>
                <a:lnTo>
                  <a:pt x="72" y="2199"/>
                </a:lnTo>
                <a:lnTo>
                  <a:pt x="80" y="2205"/>
                </a:lnTo>
                <a:lnTo>
                  <a:pt x="89" y="2210"/>
                </a:lnTo>
                <a:lnTo>
                  <a:pt x="99" y="2216"/>
                </a:lnTo>
                <a:lnTo>
                  <a:pt x="108" y="2222"/>
                </a:lnTo>
                <a:lnTo>
                  <a:pt x="117" y="2227"/>
                </a:lnTo>
                <a:lnTo>
                  <a:pt x="125" y="2231"/>
                </a:lnTo>
                <a:lnTo>
                  <a:pt x="134" y="2236"/>
                </a:lnTo>
                <a:lnTo>
                  <a:pt x="143" y="2240"/>
                </a:lnTo>
                <a:lnTo>
                  <a:pt x="153" y="2246"/>
                </a:lnTo>
                <a:lnTo>
                  <a:pt x="160" y="2250"/>
                </a:lnTo>
                <a:lnTo>
                  <a:pt x="169" y="2255"/>
                </a:lnTo>
                <a:lnTo>
                  <a:pt x="179" y="2259"/>
                </a:lnTo>
                <a:lnTo>
                  <a:pt x="188" y="2263"/>
                </a:lnTo>
                <a:lnTo>
                  <a:pt x="197" y="2266"/>
                </a:lnTo>
                <a:lnTo>
                  <a:pt x="205" y="2270"/>
                </a:lnTo>
                <a:lnTo>
                  <a:pt x="214" y="2274"/>
                </a:lnTo>
                <a:lnTo>
                  <a:pt x="223" y="2277"/>
                </a:lnTo>
                <a:lnTo>
                  <a:pt x="233" y="2279"/>
                </a:lnTo>
                <a:lnTo>
                  <a:pt x="242" y="2283"/>
                </a:lnTo>
                <a:lnTo>
                  <a:pt x="249" y="2285"/>
                </a:lnTo>
                <a:lnTo>
                  <a:pt x="259" y="2289"/>
                </a:lnTo>
                <a:lnTo>
                  <a:pt x="268" y="2291"/>
                </a:lnTo>
                <a:lnTo>
                  <a:pt x="277" y="2292"/>
                </a:lnTo>
                <a:lnTo>
                  <a:pt x="285" y="2292"/>
                </a:lnTo>
                <a:lnTo>
                  <a:pt x="294" y="2294"/>
                </a:lnTo>
                <a:lnTo>
                  <a:pt x="303" y="2294"/>
                </a:lnTo>
                <a:lnTo>
                  <a:pt x="313" y="2294"/>
                </a:lnTo>
                <a:lnTo>
                  <a:pt x="322" y="2294"/>
                </a:lnTo>
                <a:lnTo>
                  <a:pt x="330" y="2294"/>
                </a:lnTo>
                <a:lnTo>
                  <a:pt x="339" y="2294"/>
                </a:lnTo>
                <a:lnTo>
                  <a:pt x="348" y="2294"/>
                </a:lnTo>
                <a:lnTo>
                  <a:pt x="357" y="2292"/>
                </a:lnTo>
                <a:lnTo>
                  <a:pt x="367" y="2292"/>
                </a:lnTo>
                <a:lnTo>
                  <a:pt x="374" y="2291"/>
                </a:lnTo>
                <a:lnTo>
                  <a:pt x="384" y="2289"/>
                </a:lnTo>
                <a:lnTo>
                  <a:pt x="393" y="2289"/>
                </a:lnTo>
                <a:lnTo>
                  <a:pt x="402" y="2287"/>
                </a:lnTo>
                <a:lnTo>
                  <a:pt x="410" y="2285"/>
                </a:lnTo>
                <a:lnTo>
                  <a:pt x="419" y="2283"/>
                </a:lnTo>
                <a:lnTo>
                  <a:pt x="428" y="2279"/>
                </a:lnTo>
                <a:lnTo>
                  <a:pt x="438" y="2277"/>
                </a:lnTo>
                <a:lnTo>
                  <a:pt x="447" y="2276"/>
                </a:lnTo>
                <a:lnTo>
                  <a:pt x="454" y="2272"/>
                </a:lnTo>
                <a:lnTo>
                  <a:pt x="464" y="2270"/>
                </a:lnTo>
                <a:lnTo>
                  <a:pt x="473" y="2266"/>
                </a:lnTo>
                <a:lnTo>
                  <a:pt x="482" y="2264"/>
                </a:lnTo>
                <a:lnTo>
                  <a:pt x="492" y="2263"/>
                </a:lnTo>
                <a:lnTo>
                  <a:pt x="499" y="2259"/>
                </a:lnTo>
                <a:lnTo>
                  <a:pt x="508" y="2257"/>
                </a:lnTo>
                <a:lnTo>
                  <a:pt x="518" y="2253"/>
                </a:lnTo>
                <a:lnTo>
                  <a:pt x="527" y="2250"/>
                </a:lnTo>
                <a:lnTo>
                  <a:pt x="534" y="2248"/>
                </a:lnTo>
                <a:lnTo>
                  <a:pt x="544" y="2244"/>
                </a:lnTo>
                <a:lnTo>
                  <a:pt x="553" y="2242"/>
                </a:lnTo>
                <a:lnTo>
                  <a:pt x="562" y="2240"/>
                </a:lnTo>
                <a:lnTo>
                  <a:pt x="572" y="2238"/>
                </a:lnTo>
                <a:lnTo>
                  <a:pt x="579" y="2235"/>
                </a:lnTo>
                <a:lnTo>
                  <a:pt x="588" y="2235"/>
                </a:lnTo>
                <a:lnTo>
                  <a:pt x="598" y="2231"/>
                </a:lnTo>
                <a:lnTo>
                  <a:pt x="607" y="2229"/>
                </a:lnTo>
                <a:lnTo>
                  <a:pt x="616" y="2227"/>
                </a:lnTo>
                <a:lnTo>
                  <a:pt x="624" y="2225"/>
                </a:lnTo>
                <a:lnTo>
                  <a:pt x="633" y="2223"/>
                </a:lnTo>
                <a:lnTo>
                  <a:pt x="642" y="2223"/>
                </a:lnTo>
                <a:lnTo>
                  <a:pt x="652" y="2220"/>
                </a:lnTo>
                <a:lnTo>
                  <a:pt x="659" y="2220"/>
                </a:lnTo>
                <a:lnTo>
                  <a:pt x="669" y="2218"/>
                </a:lnTo>
                <a:lnTo>
                  <a:pt x="678" y="2216"/>
                </a:lnTo>
                <a:lnTo>
                  <a:pt x="687" y="2214"/>
                </a:lnTo>
                <a:lnTo>
                  <a:pt x="697" y="2212"/>
                </a:lnTo>
                <a:lnTo>
                  <a:pt x="704" y="2210"/>
                </a:lnTo>
                <a:lnTo>
                  <a:pt x="713" y="2209"/>
                </a:lnTo>
                <a:lnTo>
                  <a:pt x="723" y="2205"/>
                </a:lnTo>
                <a:lnTo>
                  <a:pt x="732" y="2203"/>
                </a:lnTo>
                <a:lnTo>
                  <a:pt x="741" y="2201"/>
                </a:lnTo>
                <a:lnTo>
                  <a:pt x="749" y="2197"/>
                </a:lnTo>
                <a:lnTo>
                  <a:pt x="758" y="2195"/>
                </a:lnTo>
                <a:lnTo>
                  <a:pt x="767" y="2192"/>
                </a:lnTo>
                <a:lnTo>
                  <a:pt x="777" y="2188"/>
                </a:lnTo>
                <a:lnTo>
                  <a:pt x="784" y="2186"/>
                </a:lnTo>
                <a:lnTo>
                  <a:pt x="793" y="2181"/>
                </a:lnTo>
                <a:lnTo>
                  <a:pt x="803" y="2177"/>
                </a:lnTo>
                <a:lnTo>
                  <a:pt x="812" y="2171"/>
                </a:lnTo>
                <a:lnTo>
                  <a:pt x="821" y="2166"/>
                </a:lnTo>
                <a:lnTo>
                  <a:pt x="829" y="2160"/>
                </a:lnTo>
                <a:lnTo>
                  <a:pt x="838" y="2154"/>
                </a:lnTo>
                <a:lnTo>
                  <a:pt x="847" y="2147"/>
                </a:lnTo>
                <a:lnTo>
                  <a:pt x="857" y="2140"/>
                </a:lnTo>
                <a:lnTo>
                  <a:pt x="866" y="2130"/>
                </a:lnTo>
                <a:lnTo>
                  <a:pt x="873" y="2123"/>
                </a:lnTo>
                <a:lnTo>
                  <a:pt x="883" y="2113"/>
                </a:lnTo>
                <a:lnTo>
                  <a:pt x="892" y="2106"/>
                </a:lnTo>
                <a:lnTo>
                  <a:pt x="901" y="2097"/>
                </a:lnTo>
                <a:lnTo>
                  <a:pt x="909" y="2086"/>
                </a:lnTo>
                <a:lnTo>
                  <a:pt x="918" y="2074"/>
                </a:lnTo>
                <a:lnTo>
                  <a:pt x="928" y="2065"/>
                </a:lnTo>
                <a:lnTo>
                  <a:pt x="937" y="2052"/>
                </a:lnTo>
                <a:lnTo>
                  <a:pt x="946" y="2041"/>
                </a:lnTo>
                <a:lnTo>
                  <a:pt x="954" y="2028"/>
                </a:lnTo>
                <a:lnTo>
                  <a:pt x="963" y="2015"/>
                </a:lnTo>
                <a:lnTo>
                  <a:pt x="972" y="2002"/>
                </a:lnTo>
                <a:lnTo>
                  <a:pt x="982" y="1989"/>
                </a:lnTo>
                <a:lnTo>
                  <a:pt x="991" y="1976"/>
                </a:lnTo>
                <a:lnTo>
                  <a:pt x="998" y="1962"/>
                </a:lnTo>
                <a:lnTo>
                  <a:pt x="1008" y="1949"/>
                </a:lnTo>
                <a:lnTo>
                  <a:pt x="1017" y="1935"/>
                </a:lnTo>
                <a:lnTo>
                  <a:pt x="1026" y="1921"/>
                </a:lnTo>
                <a:lnTo>
                  <a:pt x="1034" y="1908"/>
                </a:lnTo>
                <a:lnTo>
                  <a:pt x="1043" y="1895"/>
                </a:lnTo>
                <a:lnTo>
                  <a:pt x="1052" y="1880"/>
                </a:lnTo>
                <a:lnTo>
                  <a:pt x="1062" y="1869"/>
                </a:lnTo>
                <a:lnTo>
                  <a:pt x="1071" y="1856"/>
                </a:lnTo>
                <a:lnTo>
                  <a:pt x="1078" y="1843"/>
                </a:lnTo>
                <a:lnTo>
                  <a:pt x="1088" y="1832"/>
                </a:lnTo>
                <a:lnTo>
                  <a:pt x="1097" y="1821"/>
                </a:lnTo>
                <a:lnTo>
                  <a:pt x="1106" y="1810"/>
                </a:lnTo>
                <a:lnTo>
                  <a:pt x="1116" y="1800"/>
                </a:lnTo>
                <a:lnTo>
                  <a:pt x="1123" y="1791"/>
                </a:lnTo>
                <a:lnTo>
                  <a:pt x="1132" y="1782"/>
                </a:lnTo>
                <a:lnTo>
                  <a:pt x="1142" y="1774"/>
                </a:lnTo>
                <a:lnTo>
                  <a:pt x="1151" y="1767"/>
                </a:lnTo>
                <a:lnTo>
                  <a:pt x="1159" y="1761"/>
                </a:lnTo>
                <a:lnTo>
                  <a:pt x="1168" y="1756"/>
                </a:lnTo>
                <a:lnTo>
                  <a:pt x="1177" y="1750"/>
                </a:lnTo>
                <a:lnTo>
                  <a:pt x="1186" y="1746"/>
                </a:lnTo>
                <a:lnTo>
                  <a:pt x="1196" y="1743"/>
                </a:lnTo>
                <a:lnTo>
                  <a:pt x="1203" y="1741"/>
                </a:lnTo>
                <a:lnTo>
                  <a:pt x="1213" y="1739"/>
                </a:lnTo>
                <a:lnTo>
                  <a:pt x="1222" y="1735"/>
                </a:lnTo>
                <a:lnTo>
                  <a:pt x="1231" y="1735"/>
                </a:lnTo>
                <a:lnTo>
                  <a:pt x="1240" y="1735"/>
                </a:lnTo>
                <a:lnTo>
                  <a:pt x="1248" y="1735"/>
                </a:lnTo>
                <a:lnTo>
                  <a:pt x="1257" y="1735"/>
                </a:lnTo>
                <a:lnTo>
                  <a:pt x="1267" y="1735"/>
                </a:lnTo>
                <a:lnTo>
                  <a:pt x="1276" y="1737"/>
                </a:lnTo>
                <a:lnTo>
                  <a:pt x="1283" y="1737"/>
                </a:lnTo>
                <a:lnTo>
                  <a:pt x="1293" y="1737"/>
                </a:lnTo>
                <a:lnTo>
                  <a:pt x="1302" y="1739"/>
                </a:lnTo>
                <a:lnTo>
                  <a:pt x="1311" y="1739"/>
                </a:lnTo>
                <a:lnTo>
                  <a:pt x="1321" y="1739"/>
                </a:lnTo>
                <a:lnTo>
                  <a:pt x="1328" y="1739"/>
                </a:lnTo>
                <a:lnTo>
                  <a:pt x="1337" y="1737"/>
                </a:lnTo>
                <a:lnTo>
                  <a:pt x="1347" y="1737"/>
                </a:lnTo>
                <a:lnTo>
                  <a:pt x="1356" y="1733"/>
                </a:lnTo>
                <a:lnTo>
                  <a:pt x="1365" y="1731"/>
                </a:lnTo>
                <a:lnTo>
                  <a:pt x="1373" y="1728"/>
                </a:lnTo>
                <a:lnTo>
                  <a:pt x="1382" y="1722"/>
                </a:lnTo>
                <a:lnTo>
                  <a:pt x="1391" y="1718"/>
                </a:lnTo>
                <a:lnTo>
                  <a:pt x="1401" y="1711"/>
                </a:lnTo>
                <a:lnTo>
                  <a:pt x="1408" y="1703"/>
                </a:lnTo>
                <a:lnTo>
                  <a:pt x="1417" y="1694"/>
                </a:lnTo>
                <a:lnTo>
                  <a:pt x="1427" y="1683"/>
                </a:lnTo>
                <a:lnTo>
                  <a:pt x="1436" y="1670"/>
                </a:lnTo>
                <a:lnTo>
                  <a:pt x="1445" y="1657"/>
                </a:lnTo>
                <a:lnTo>
                  <a:pt x="1453" y="1640"/>
                </a:lnTo>
                <a:lnTo>
                  <a:pt x="1462" y="1625"/>
                </a:lnTo>
                <a:lnTo>
                  <a:pt x="1472" y="1607"/>
                </a:lnTo>
                <a:lnTo>
                  <a:pt x="1481" y="1586"/>
                </a:lnTo>
                <a:lnTo>
                  <a:pt x="1490" y="1566"/>
                </a:lnTo>
                <a:lnTo>
                  <a:pt x="1498" y="1541"/>
                </a:lnTo>
                <a:lnTo>
                  <a:pt x="1507" y="1519"/>
                </a:lnTo>
                <a:lnTo>
                  <a:pt x="1516" y="1493"/>
                </a:lnTo>
                <a:lnTo>
                  <a:pt x="1526" y="1467"/>
                </a:lnTo>
                <a:lnTo>
                  <a:pt x="1533" y="1439"/>
                </a:lnTo>
                <a:lnTo>
                  <a:pt x="1542" y="1411"/>
                </a:lnTo>
                <a:lnTo>
                  <a:pt x="1552" y="1381"/>
                </a:lnTo>
                <a:lnTo>
                  <a:pt x="1561" y="1349"/>
                </a:lnTo>
                <a:lnTo>
                  <a:pt x="1570" y="1316"/>
                </a:lnTo>
                <a:lnTo>
                  <a:pt x="1578" y="1282"/>
                </a:lnTo>
                <a:lnTo>
                  <a:pt x="1587" y="1247"/>
                </a:lnTo>
                <a:lnTo>
                  <a:pt x="1596" y="1213"/>
                </a:lnTo>
                <a:lnTo>
                  <a:pt x="1606" y="1178"/>
                </a:lnTo>
                <a:lnTo>
                  <a:pt x="1615" y="1142"/>
                </a:lnTo>
                <a:lnTo>
                  <a:pt x="1622" y="1107"/>
                </a:lnTo>
                <a:lnTo>
                  <a:pt x="1632" y="1072"/>
                </a:lnTo>
                <a:lnTo>
                  <a:pt x="1641" y="1036"/>
                </a:lnTo>
                <a:lnTo>
                  <a:pt x="1650" y="1001"/>
                </a:lnTo>
                <a:lnTo>
                  <a:pt x="1658" y="967"/>
                </a:lnTo>
                <a:lnTo>
                  <a:pt x="1667" y="934"/>
                </a:lnTo>
                <a:lnTo>
                  <a:pt x="1676" y="902"/>
                </a:lnTo>
                <a:lnTo>
                  <a:pt x="1686" y="874"/>
                </a:lnTo>
                <a:lnTo>
                  <a:pt x="1695" y="846"/>
                </a:lnTo>
                <a:lnTo>
                  <a:pt x="1703" y="820"/>
                </a:lnTo>
                <a:lnTo>
                  <a:pt x="1712" y="796"/>
                </a:lnTo>
                <a:lnTo>
                  <a:pt x="1721" y="775"/>
                </a:lnTo>
                <a:lnTo>
                  <a:pt x="1730" y="755"/>
                </a:lnTo>
                <a:lnTo>
                  <a:pt x="1740" y="738"/>
                </a:lnTo>
                <a:lnTo>
                  <a:pt x="1747" y="725"/>
                </a:lnTo>
                <a:lnTo>
                  <a:pt x="1757" y="712"/>
                </a:lnTo>
                <a:lnTo>
                  <a:pt x="1766" y="703"/>
                </a:lnTo>
                <a:lnTo>
                  <a:pt x="1775" y="697"/>
                </a:lnTo>
                <a:lnTo>
                  <a:pt x="1784" y="693"/>
                </a:lnTo>
                <a:lnTo>
                  <a:pt x="1792" y="691"/>
                </a:lnTo>
                <a:lnTo>
                  <a:pt x="1801" y="693"/>
                </a:lnTo>
                <a:lnTo>
                  <a:pt x="1811" y="699"/>
                </a:lnTo>
                <a:lnTo>
                  <a:pt x="1820" y="706"/>
                </a:lnTo>
                <a:lnTo>
                  <a:pt x="1827" y="716"/>
                </a:lnTo>
                <a:lnTo>
                  <a:pt x="1837" y="727"/>
                </a:lnTo>
                <a:lnTo>
                  <a:pt x="1846" y="742"/>
                </a:lnTo>
                <a:lnTo>
                  <a:pt x="1855" y="759"/>
                </a:lnTo>
                <a:lnTo>
                  <a:pt x="1865" y="777"/>
                </a:lnTo>
                <a:lnTo>
                  <a:pt x="1872" y="796"/>
                </a:lnTo>
                <a:lnTo>
                  <a:pt x="1881" y="816"/>
                </a:lnTo>
                <a:lnTo>
                  <a:pt x="1891" y="839"/>
                </a:lnTo>
                <a:lnTo>
                  <a:pt x="1900" y="863"/>
                </a:lnTo>
                <a:lnTo>
                  <a:pt x="1909" y="887"/>
                </a:lnTo>
                <a:lnTo>
                  <a:pt x="1917" y="913"/>
                </a:lnTo>
                <a:lnTo>
                  <a:pt x="1926" y="939"/>
                </a:lnTo>
                <a:lnTo>
                  <a:pt x="1935" y="967"/>
                </a:lnTo>
                <a:lnTo>
                  <a:pt x="1945" y="995"/>
                </a:lnTo>
                <a:lnTo>
                  <a:pt x="1952" y="1021"/>
                </a:lnTo>
                <a:lnTo>
                  <a:pt x="1961" y="1049"/>
                </a:lnTo>
                <a:lnTo>
                  <a:pt x="1971" y="1075"/>
                </a:lnTo>
                <a:lnTo>
                  <a:pt x="1980" y="1100"/>
                </a:lnTo>
                <a:lnTo>
                  <a:pt x="1989" y="1126"/>
                </a:lnTo>
                <a:lnTo>
                  <a:pt x="1997" y="1148"/>
                </a:lnTo>
                <a:lnTo>
                  <a:pt x="2006" y="1170"/>
                </a:lnTo>
                <a:lnTo>
                  <a:pt x="2015" y="1191"/>
                </a:lnTo>
                <a:lnTo>
                  <a:pt x="2025" y="1210"/>
                </a:lnTo>
                <a:lnTo>
                  <a:pt x="2034" y="1226"/>
                </a:lnTo>
                <a:lnTo>
                  <a:pt x="2042" y="1239"/>
                </a:lnTo>
                <a:lnTo>
                  <a:pt x="2051" y="1252"/>
                </a:lnTo>
                <a:lnTo>
                  <a:pt x="2060" y="1262"/>
                </a:lnTo>
                <a:lnTo>
                  <a:pt x="2070" y="1269"/>
                </a:lnTo>
                <a:lnTo>
                  <a:pt x="2077" y="1273"/>
                </a:lnTo>
                <a:lnTo>
                  <a:pt x="2086" y="1275"/>
                </a:lnTo>
                <a:lnTo>
                  <a:pt x="2096" y="1275"/>
                </a:lnTo>
                <a:lnTo>
                  <a:pt x="2105" y="1271"/>
                </a:lnTo>
                <a:lnTo>
                  <a:pt x="2114" y="1267"/>
                </a:lnTo>
                <a:lnTo>
                  <a:pt x="2122" y="1258"/>
                </a:lnTo>
                <a:lnTo>
                  <a:pt x="2131" y="1249"/>
                </a:lnTo>
                <a:lnTo>
                  <a:pt x="2140" y="1234"/>
                </a:lnTo>
                <a:lnTo>
                  <a:pt x="2150" y="1217"/>
                </a:lnTo>
                <a:lnTo>
                  <a:pt x="2159" y="1197"/>
                </a:lnTo>
                <a:lnTo>
                  <a:pt x="2166" y="1176"/>
                </a:lnTo>
                <a:lnTo>
                  <a:pt x="2176" y="1152"/>
                </a:lnTo>
                <a:lnTo>
                  <a:pt x="2185" y="1124"/>
                </a:lnTo>
                <a:lnTo>
                  <a:pt x="2194" y="1094"/>
                </a:lnTo>
                <a:lnTo>
                  <a:pt x="2202" y="1060"/>
                </a:lnTo>
                <a:lnTo>
                  <a:pt x="2211" y="1023"/>
                </a:lnTo>
                <a:lnTo>
                  <a:pt x="2220" y="984"/>
                </a:lnTo>
                <a:lnTo>
                  <a:pt x="2230" y="943"/>
                </a:lnTo>
                <a:lnTo>
                  <a:pt x="2239" y="900"/>
                </a:lnTo>
                <a:lnTo>
                  <a:pt x="2246" y="857"/>
                </a:lnTo>
                <a:lnTo>
                  <a:pt x="2256" y="811"/>
                </a:lnTo>
                <a:lnTo>
                  <a:pt x="2265" y="764"/>
                </a:lnTo>
                <a:lnTo>
                  <a:pt x="2274" y="714"/>
                </a:lnTo>
                <a:lnTo>
                  <a:pt x="2284" y="664"/>
                </a:lnTo>
                <a:lnTo>
                  <a:pt x="2291" y="611"/>
                </a:lnTo>
                <a:lnTo>
                  <a:pt x="2301" y="561"/>
                </a:lnTo>
                <a:lnTo>
                  <a:pt x="2310" y="511"/>
                </a:lnTo>
                <a:lnTo>
                  <a:pt x="2319" y="460"/>
                </a:lnTo>
                <a:lnTo>
                  <a:pt x="2327" y="410"/>
                </a:lnTo>
                <a:lnTo>
                  <a:pt x="2336" y="362"/>
                </a:lnTo>
                <a:lnTo>
                  <a:pt x="2345" y="315"/>
                </a:lnTo>
                <a:lnTo>
                  <a:pt x="2355" y="268"/>
                </a:lnTo>
                <a:lnTo>
                  <a:pt x="2364" y="226"/>
                </a:lnTo>
                <a:lnTo>
                  <a:pt x="2371" y="185"/>
                </a:lnTo>
                <a:lnTo>
                  <a:pt x="2381" y="147"/>
                </a:lnTo>
                <a:lnTo>
                  <a:pt x="2390" y="112"/>
                </a:lnTo>
                <a:lnTo>
                  <a:pt x="2399" y="82"/>
                </a:lnTo>
                <a:lnTo>
                  <a:pt x="2409" y="56"/>
                </a:lnTo>
                <a:lnTo>
                  <a:pt x="2416" y="34"/>
                </a:lnTo>
                <a:lnTo>
                  <a:pt x="2425" y="17"/>
                </a:lnTo>
                <a:lnTo>
                  <a:pt x="2435" y="6"/>
                </a:lnTo>
                <a:lnTo>
                  <a:pt x="2444" y="0"/>
                </a:lnTo>
                <a:lnTo>
                  <a:pt x="2451" y="0"/>
                </a:lnTo>
                <a:lnTo>
                  <a:pt x="2461" y="4"/>
                </a:lnTo>
                <a:lnTo>
                  <a:pt x="2470" y="11"/>
                </a:lnTo>
                <a:lnTo>
                  <a:pt x="2479" y="26"/>
                </a:lnTo>
                <a:lnTo>
                  <a:pt x="2489" y="47"/>
                </a:lnTo>
                <a:lnTo>
                  <a:pt x="2496" y="75"/>
                </a:lnTo>
                <a:lnTo>
                  <a:pt x="2505" y="104"/>
                </a:lnTo>
                <a:lnTo>
                  <a:pt x="2515" y="142"/>
                </a:lnTo>
                <a:lnTo>
                  <a:pt x="2524" y="181"/>
                </a:lnTo>
                <a:lnTo>
                  <a:pt x="2533" y="222"/>
                </a:lnTo>
                <a:lnTo>
                  <a:pt x="2541" y="268"/>
                </a:lnTo>
                <a:lnTo>
                  <a:pt x="2550" y="321"/>
                </a:lnTo>
                <a:lnTo>
                  <a:pt x="2559" y="375"/>
                </a:lnTo>
                <a:lnTo>
                  <a:pt x="2569" y="432"/>
                </a:lnTo>
                <a:lnTo>
                  <a:pt x="2576" y="494"/>
                </a:lnTo>
                <a:lnTo>
                  <a:pt x="2586" y="557"/>
                </a:lnTo>
                <a:lnTo>
                  <a:pt x="2595" y="623"/>
                </a:lnTo>
                <a:lnTo>
                  <a:pt x="2604" y="688"/>
                </a:lnTo>
                <a:lnTo>
                  <a:pt x="2613" y="753"/>
                </a:lnTo>
                <a:lnTo>
                  <a:pt x="2621" y="822"/>
                </a:lnTo>
                <a:lnTo>
                  <a:pt x="2630" y="889"/>
                </a:lnTo>
                <a:lnTo>
                  <a:pt x="2640" y="958"/>
                </a:lnTo>
                <a:lnTo>
                  <a:pt x="2649" y="1027"/>
                </a:lnTo>
                <a:lnTo>
                  <a:pt x="2658" y="1096"/>
                </a:lnTo>
                <a:lnTo>
                  <a:pt x="2666" y="1165"/>
                </a:lnTo>
                <a:lnTo>
                  <a:pt x="2675" y="1230"/>
                </a:lnTo>
                <a:lnTo>
                  <a:pt x="2684" y="1295"/>
                </a:lnTo>
                <a:lnTo>
                  <a:pt x="2694" y="1359"/>
                </a:lnTo>
                <a:lnTo>
                  <a:pt x="2701" y="1422"/>
                </a:lnTo>
                <a:lnTo>
                  <a:pt x="2710" y="1484"/>
                </a:lnTo>
                <a:lnTo>
                  <a:pt x="2720" y="1545"/>
                </a:lnTo>
                <a:lnTo>
                  <a:pt x="2729" y="1603"/>
                </a:lnTo>
                <a:lnTo>
                  <a:pt x="2738" y="1659"/>
                </a:lnTo>
                <a:lnTo>
                  <a:pt x="2746" y="1713"/>
                </a:lnTo>
                <a:lnTo>
                  <a:pt x="2755" y="1765"/>
                </a:lnTo>
                <a:lnTo>
                  <a:pt x="2764" y="1813"/>
                </a:lnTo>
                <a:lnTo>
                  <a:pt x="2774" y="1862"/>
                </a:lnTo>
                <a:lnTo>
                  <a:pt x="2783" y="1907"/>
                </a:lnTo>
                <a:lnTo>
                  <a:pt x="2790" y="1951"/>
                </a:lnTo>
                <a:lnTo>
                  <a:pt x="2800" y="1992"/>
                </a:lnTo>
                <a:lnTo>
                  <a:pt x="2809" y="2033"/>
                </a:lnTo>
                <a:lnTo>
                  <a:pt x="2818" y="2071"/>
                </a:lnTo>
                <a:lnTo>
                  <a:pt x="2826" y="2106"/>
                </a:lnTo>
                <a:lnTo>
                  <a:pt x="2835" y="2141"/>
                </a:lnTo>
                <a:lnTo>
                  <a:pt x="2845" y="2173"/>
                </a:lnTo>
                <a:lnTo>
                  <a:pt x="2854" y="2205"/>
                </a:lnTo>
                <a:lnTo>
                  <a:pt x="2863" y="2235"/>
                </a:lnTo>
                <a:lnTo>
                  <a:pt x="2871" y="2263"/>
                </a:lnTo>
                <a:lnTo>
                  <a:pt x="2880" y="2289"/>
                </a:lnTo>
                <a:lnTo>
                  <a:pt x="2889" y="2315"/>
                </a:lnTo>
                <a:lnTo>
                  <a:pt x="2899" y="2337"/>
                </a:lnTo>
                <a:lnTo>
                  <a:pt x="2908" y="2361"/>
                </a:lnTo>
                <a:lnTo>
                  <a:pt x="2915" y="2382"/>
                </a:lnTo>
                <a:lnTo>
                  <a:pt x="2925" y="2402"/>
                </a:lnTo>
                <a:lnTo>
                  <a:pt x="2934" y="2423"/>
                </a:lnTo>
                <a:lnTo>
                  <a:pt x="2943" y="2441"/>
                </a:lnTo>
                <a:lnTo>
                  <a:pt x="2951" y="2458"/>
                </a:lnTo>
                <a:lnTo>
                  <a:pt x="2960" y="2475"/>
                </a:lnTo>
                <a:lnTo>
                  <a:pt x="2969" y="2490"/>
                </a:lnTo>
                <a:lnTo>
                  <a:pt x="2979" y="2505"/>
                </a:lnTo>
                <a:lnTo>
                  <a:pt x="2988" y="2518"/>
                </a:lnTo>
                <a:lnTo>
                  <a:pt x="2995" y="2531"/>
                </a:lnTo>
                <a:lnTo>
                  <a:pt x="3005" y="2542"/>
                </a:lnTo>
                <a:lnTo>
                  <a:pt x="3014" y="2555"/>
                </a:lnTo>
                <a:lnTo>
                  <a:pt x="3023" y="2564"/>
                </a:lnTo>
                <a:lnTo>
                  <a:pt x="3033" y="2576"/>
                </a:lnTo>
                <a:lnTo>
                  <a:pt x="3040" y="2585"/>
                </a:lnTo>
                <a:lnTo>
                  <a:pt x="3049" y="2594"/>
                </a:lnTo>
                <a:lnTo>
                  <a:pt x="3059" y="2602"/>
                </a:lnTo>
                <a:lnTo>
                  <a:pt x="3068" y="2611"/>
                </a:lnTo>
                <a:lnTo>
                  <a:pt x="3076" y="2619"/>
                </a:lnTo>
                <a:lnTo>
                  <a:pt x="3085" y="2626"/>
                </a:lnTo>
                <a:lnTo>
                  <a:pt x="3094" y="2632"/>
                </a:lnTo>
                <a:lnTo>
                  <a:pt x="3103" y="2639"/>
                </a:lnTo>
                <a:lnTo>
                  <a:pt x="3113" y="2645"/>
                </a:lnTo>
                <a:lnTo>
                  <a:pt x="3120" y="2650"/>
                </a:lnTo>
                <a:lnTo>
                  <a:pt x="3130" y="2654"/>
                </a:lnTo>
                <a:lnTo>
                  <a:pt x="3139" y="2660"/>
                </a:lnTo>
                <a:lnTo>
                  <a:pt x="3148" y="2663"/>
                </a:lnTo>
                <a:lnTo>
                  <a:pt x="3157" y="2669"/>
                </a:lnTo>
                <a:lnTo>
                  <a:pt x="3165" y="2673"/>
                </a:lnTo>
                <a:lnTo>
                  <a:pt x="3174" y="2676"/>
                </a:lnTo>
                <a:lnTo>
                  <a:pt x="3184" y="2680"/>
                </a:lnTo>
                <a:lnTo>
                  <a:pt x="3193" y="2684"/>
                </a:lnTo>
                <a:lnTo>
                  <a:pt x="3200" y="2687"/>
                </a:lnTo>
                <a:lnTo>
                  <a:pt x="3210" y="2689"/>
                </a:lnTo>
                <a:lnTo>
                  <a:pt x="3219" y="2693"/>
                </a:lnTo>
                <a:lnTo>
                  <a:pt x="3228" y="2697"/>
                </a:lnTo>
                <a:lnTo>
                  <a:pt x="3238" y="2699"/>
                </a:lnTo>
                <a:lnTo>
                  <a:pt x="3245" y="2702"/>
                </a:lnTo>
                <a:lnTo>
                  <a:pt x="3254" y="2704"/>
                </a:lnTo>
                <a:lnTo>
                  <a:pt x="3264" y="2706"/>
                </a:lnTo>
                <a:lnTo>
                  <a:pt x="3273" y="2710"/>
                </a:lnTo>
                <a:lnTo>
                  <a:pt x="3282" y="2712"/>
                </a:lnTo>
                <a:lnTo>
                  <a:pt x="3290" y="2714"/>
                </a:lnTo>
                <a:lnTo>
                  <a:pt x="3299" y="2715"/>
                </a:lnTo>
                <a:lnTo>
                  <a:pt x="3308" y="2717"/>
                </a:lnTo>
                <a:lnTo>
                  <a:pt x="3318" y="2719"/>
                </a:lnTo>
                <a:lnTo>
                  <a:pt x="3325" y="2721"/>
                </a:lnTo>
                <a:lnTo>
                  <a:pt x="3334" y="2723"/>
                </a:lnTo>
                <a:lnTo>
                  <a:pt x="3344" y="2725"/>
                </a:lnTo>
                <a:lnTo>
                  <a:pt x="3353" y="2727"/>
                </a:lnTo>
                <a:lnTo>
                  <a:pt x="3362" y="2728"/>
                </a:lnTo>
                <a:lnTo>
                  <a:pt x="3370" y="2730"/>
                </a:lnTo>
                <a:lnTo>
                  <a:pt x="3379" y="2732"/>
                </a:lnTo>
                <a:lnTo>
                  <a:pt x="3388" y="2732"/>
                </a:lnTo>
                <a:lnTo>
                  <a:pt x="3398" y="2734"/>
                </a:lnTo>
                <a:lnTo>
                  <a:pt x="3407" y="2736"/>
                </a:lnTo>
                <a:lnTo>
                  <a:pt x="3415" y="2738"/>
                </a:lnTo>
                <a:lnTo>
                  <a:pt x="3424" y="2738"/>
                </a:lnTo>
                <a:lnTo>
                  <a:pt x="3433" y="2740"/>
                </a:lnTo>
                <a:lnTo>
                  <a:pt x="3443" y="2742"/>
                </a:lnTo>
                <a:lnTo>
                  <a:pt x="3450" y="2743"/>
                </a:lnTo>
                <a:lnTo>
                  <a:pt x="3459" y="2743"/>
                </a:lnTo>
                <a:lnTo>
                  <a:pt x="3469" y="2745"/>
                </a:lnTo>
                <a:lnTo>
                  <a:pt x="3478" y="2745"/>
                </a:lnTo>
                <a:lnTo>
                  <a:pt x="3487" y="2747"/>
                </a:lnTo>
                <a:lnTo>
                  <a:pt x="3495" y="2747"/>
                </a:lnTo>
                <a:lnTo>
                  <a:pt x="3504" y="2749"/>
                </a:lnTo>
                <a:lnTo>
                  <a:pt x="3513" y="2749"/>
                </a:lnTo>
                <a:lnTo>
                  <a:pt x="3523" y="2751"/>
                </a:lnTo>
                <a:lnTo>
                  <a:pt x="3532" y="2751"/>
                </a:lnTo>
                <a:lnTo>
                  <a:pt x="3539" y="2753"/>
                </a:lnTo>
                <a:lnTo>
                  <a:pt x="3549" y="2753"/>
                </a:lnTo>
                <a:lnTo>
                  <a:pt x="3558" y="2753"/>
                </a:lnTo>
                <a:lnTo>
                  <a:pt x="3567" y="275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任意多边形 258"/>
          <p:cNvSpPr/>
          <p:nvPr/>
        </p:nvSpPr>
        <p:spPr>
          <a:xfrm>
            <a:off x="2228760" y="2233440"/>
            <a:ext cx="5662800" cy="328464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3284640"/>
              <a:gd name="textAreaBottom" fmla="*/ 3285000 h 3284640"/>
            </a:gdLst>
            <a:ahLst/>
            <a:rect l="textAreaLeft" t="textAreaTop" r="textAreaRight" b="textAreaBottom"/>
            <a:pathLst>
              <a:path w="3567" h="2069">
                <a:moveTo>
                  <a:pt x="0" y="1607"/>
                </a:moveTo>
                <a:lnTo>
                  <a:pt x="9" y="1607"/>
                </a:lnTo>
                <a:lnTo>
                  <a:pt x="18" y="1609"/>
                </a:lnTo>
                <a:lnTo>
                  <a:pt x="28" y="1611"/>
                </a:lnTo>
                <a:lnTo>
                  <a:pt x="35" y="1614"/>
                </a:lnTo>
                <a:lnTo>
                  <a:pt x="44" y="1616"/>
                </a:lnTo>
                <a:lnTo>
                  <a:pt x="54" y="1620"/>
                </a:lnTo>
                <a:lnTo>
                  <a:pt x="63" y="1624"/>
                </a:lnTo>
                <a:lnTo>
                  <a:pt x="72" y="1627"/>
                </a:lnTo>
                <a:lnTo>
                  <a:pt x="80" y="1631"/>
                </a:lnTo>
                <a:lnTo>
                  <a:pt x="89" y="1635"/>
                </a:lnTo>
                <a:lnTo>
                  <a:pt x="99" y="1640"/>
                </a:lnTo>
                <a:lnTo>
                  <a:pt x="108" y="1644"/>
                </a:lnTo>
                <a:lnTo>
                  <a:pt x="117" y="1648"/>
                </a:lnTo>
                <a:lnTo>
                  <a:pt x="125" y="1652"/>
                </a:lnTo>
                <a:lnTo>
                  <a:pt x="134" y="1655"/>
                </a:lnTo>
                <a:lnTo>
                  <a:pt x="143" y="1659"/>
                </a:lnTo>
                <a:lnTo>
                  <a:pt x="153" y="1663"/>
                </a:lnTo>
                <a:lnTo>
                  <a:pt x="160" y="1666"/>
                </a:lnTo>
                <a:lnTo>
                  <a:pt x="169" y="1670"/>
                </a:lnTo>
                <a:lnTo>
                  <a:pt x="179" y="1674"/>
                </a:lnTo>
                <a:lnTo>
                  <a:pt x="188" y="1678"/>
                </a:lnTo>
                <a:lnTo>
                  <a:pt x="197" y="1680"/>
                </a:lnTo>
                <a:lnTo>
                  <a:pt x="205" y="1683"/>
                </a:lnTo>
                <a:lnTo>
                  <a:pt x="214" y="1687"/>
                </a:lnTo>
                <a:lnTo>
                  <a:pt x="223" y="1689"/>
                </a:lnTo>
                <a:lnTo>
                  <a:pt x="233" y="1691"/>
                </a:lnTo>
                <a:lnTo>
                  <a:pt x="242" y="1694"/>
                </a:lnTo>
                <a:lnTo>
                  <a:pt x="249" y="1696"/>
                </a:lnTo>
                <a:lnTo>
                  <a:pt x="259" y="1696"/>
                </a:lnTo>
                <a:lnTo>
                  <a:pt x="268" y="1700"/>
                </a:lnTo>
                <a:lnTo>
                  <a:pt x="277" y="1700"/>
                </a:lnTo>
                <a:lnTo>
                  <a:pt x="285" y="1702"/>
                </a:lnTo>
                <a:lnTo>
                  <a:pt x="294" y="1704"/>
                </a:lnTo>
                <a:lnTo>
                  <a:pt x="303" y="1704"/>
                </a:lnTo>
                <a:lnTo>
                  <a:pt x="313" y="1706"/>
                </a:lnTo>
                <a:lnTo>
                  <a:pt x="322" y="1706"/>
                </a:lnTo>
                <a:lnTo>
                  <a:pt x="330" y="1706"/>
                </a:lnTo>
                <a:lnTo>
                  <a:pt x="339" y="1706"/>
                </a:lnTo>
                <a:lnTo>
                  <a:pt x="348" y="1706"/>
                </a:lnTo>
                <a:lnTo>
                  <a:pt x="357" y="1706"/>
                </a:lnTo>
                <a:lnTo>
                  <a:pt x="367" y="1704"/>
                </a:lnTo>
                <a:lnTo>
                  <a:pt x="374" y="1704"/>
                </a:lnTo>
                <a:lnTo>
                  <a:pt x="384" y="1704"/>
                </a:lnTo>
                <a:lnTo>
                  <a:pt x="393" y="1702"/>
                </a:lnTo>
                <a:lnTo>
                  <a:pt x="402" y="1702"/>
                </a:lnTo>
                <a:lnTo>
                  <a:pt x="410" y="1700"/>
                </a:lnTo>
                <a:lnTo>
                  <a:pt x="419" y="1698"/>
                </a:lnTo>
                <a:lnTo>
                  <a:pt x="428" y="1698"/>
                </a:lnTo>
                <a:lnTo>
                  <a:pt x="438" y="1696"/>
                </a:lnTo>
                <a:lnTo>
                  <a:pt x="447" y="1694"/>
                </a:lnTo>
                <a:lnTo>
                  <a:pt x="454" y="1693"/>
                </a:lnTo>
                <a:lnTo>
                  <a:pt x="464" y="1691"/>
                </a:lnTo>
                <a:lnTo>
                  <a:pt x="473" y="1689"/>
                </a:lnTo>
                <a:lnTo>
                  <a:pt x="482" y="1687"/>
                </a:lnTo>
                <a:lnTo>
                  <a:pt x="492" y="1685"/>
                </a:lnTo>
                <a:lnTo>
                  <a:pt x="499" y="1683"/>
                </a:lnTo>
                <a:lnTo>
                  <a:pt x="508" y="1681"/>
                </a:lnTo>
                <a:lnTo>
                  <a:pt x="518" y="1680"/>
                </a:lnTo>
                <a:lnTo>
                  <a:pt x="527" y="1678"/>
                </a:lnTo>
                <a:lnTo>
                  <a:pt x="534" y="1676"/>
                </a:lnTo>
                <a:lnTo>
                  <a:pt x="544" y="1674"/>
                </a:lnTo>
                <a:lnTo>
                  <a:pt x="553" y="1672"/>
                </a:lnTo>
                <a:lnTo>
                  <a:pt x="562" y="1670"/>
                </a:lnTo>
                <a:lnTo>
                  <a:pt x="572" y="1668"/>
                </a:lnTo>
                <a:lnTo>
                  <a:pt x="579" y="1666"/>
                </a:lnTo>
                <a:lnTo>
                  <a:pt x="588" y="1665"/>
                </a:lnTo>
                <a:lnTo>
                  <a:pt x="598" y="1663"/>
                </a:lnTo>
                <a:lnTo>
                  <a:pt x="607" y="1663"/>
                </a:lnTo>
                <a:lnTo>
                  <a:pt x="616" y="1661"/>
                </a:lnTo>
                <a:lnTo>
                  <a:pt x="624" y="1659"/>
                </a:lnTo>
                <a:lnTo>
                  <a:pt x="633" y="1659"/>
                </a:lnTo>
                <a:lnTo>
                  <a:pt x="642" y="1657"/>
                </a:lnTo>
                <a:lnTo>
                  <a:pt x="652" y="1655"/>
                </a:lnTo>
                <a:lnTo>
                  <a:pt x="659" y="1655"/>
                </a:lnTo>
                <a:lnTo>
                  <a:pt x="669" y="1653"/>
                </a:lnTo>
                <a:lnTo>
                  <a:pt x="678" y="1652"/>
                </a:lnTo>
                <a:lnTo>
                  <a:pt x="687" y="1652"/>
                </a:lnTo>
                <a:lnTo>
                  <a:pt x="697" y="1650"/>
                </a:lnTo>
                <a:lnTo>
                  <a:pt x="704" y="1648"/>
                </a:lnTo>
                <a:lnTo>
                  <a:pt x="713" y="1646"/>
                </a:lnTo>
                <a:lnTo>
                  <a:pt x="723" y="1644"/>
                </a:lnTo>
                <a:lnTo>
                  <a:pt x="732" y="1644"/>
                </a:lnTo>
                <a:lnTo>
                  <a:pt x="741" y="1642"/>
                </a:lnTo>
                <a:lnTo>
                  <a:pt x="749" y="1640"/>
                </a:lnTo>
                <a:lnTo>
                  <a:pt x="758" y="1639"/>
                </a:lnTo>
                <a:lnTo>
                  <a:pt x="767" y="1637"/>
                </a:lnTo>
                <a:lnTo>
                  <a:pt x="777" y="1633"/>
                </a:lnTo>
                <a:lnTo>
                  <a:pt x="784" y="1631"/>
                </a:lnTo>
                <a:lnTo>
                  <a:pt x="793" y="1627"/>
                </a:lnTo>
                <a:lnTo>
                  <a:pt x="803" y="1625"/>
                </a:lnTo>
                <a:lnTo>
                  <a:pt x="812" y="1622"/>
                </a:lnTo>
                <a:lnTo>
                  <a:pt x="821" y="1618"/>
                </a:lnTo>
                <a:lnTo>
                  <a:pt x="829" y="1614"/>
                </a:lnTo>
                <a:lnTo>
                  <a:pt x="838" y="1609"/>
                </a:lnTo>
                <a:lnTo>
                  <a:pt x="847" y="1603"/>
                </a:lnTo>
                <a:lnTo>
                  <a:pt x="857" y="1599"/>
                </a:lnTo>
                <a:lnTo>
                  <a:pt x="866" y="1594"/>
                </a:lnTo>
                <a:lnTo>
                  <a:pt x="873" y="1586"/>
                </a:lnTo>
                <a:lnTo>
                  <a:pt x="883" y="1581"/>
                </a:lnTo>
                <a:lnTo>
                  <a:pt x="892" y="1573"/>
                </a:lnTo>
                <a:lnTo>
                  <a:pt x="901" y="1566"/>
                </a:lnTo>
                <a:lnTo>
                  <a:pt x="909" y="1558"/>
                </a:lnTo>
                <a:lnTo>
                  <a:pt x="918" y="1551"/>
                </a:lnTo>
                <a:lnTo>
                  <a:pt x="928" y="1543"/>
                </a:lnTo>
                <a:lnTo>
                  <a:pt x="937" y="1534"/>
                </a:lnTo>
                <a:lnTo>
                  <a:pt x="946" y="1527"/>
                </a:lnTo>
                <a:lnTo>
                  <a:pt x="954" y="1517"/>
                </a:lnTo>
                <a:lnTo>
                  <a:pt x="963" y="1508"/>
                </a:lnTo>
                <a:lnTo>
                  <a:pt x="972" y="1499"/>
                </a:lnTo>
                <a:lnTo>
                  <a:pt x="982" y="1488"/>
                </a:lnTo>
                <a:lnTo>
                  <a:pt x="991" y="1478"/>
                </a:lnTo>
                <a:lnTo>
                  <a:pt x="998" y="1467"/>
                </a:lnTo>
                <a:lnTo>
                  <a:pt x="1008" y="1458"/>
                </a:lnTo>
                <a:lnTo>
                  <a:pt x="1017" y="1447"/>
                </a:lnTo>
                <a:lnTo>
                  <a:pt x="1026" y="1437"/>
                </a:lnTo>
                <a:lnTo>
                  <a:pt x="1034" y="1426"/>
                </a:lnTo>
                <a:lnTo>
                  <a:pt x="1043" y="1417"/>
                </a:lnTo>
                <a:lnTo>
                  <a:pt x="1052" y="1407"/>
                </a:lnTo>
                <a:lnTo>
                  <a:pt x="1062" y="1398"/>
                </a:lnTo>
                <a:lnTo>
                  <a:pt x="1071" y="1389"/>
                </a:lnTo>
                <a:lnTo>
                  <a:pt x="1078" y="1379"/>
                </a:lnTo>
                <a:lnTo>
                  <a:pt x="1088" y="1370"/>
                </a:lnTo>
                <a:lnTo>
                  <a:pt x="1097" y="1363"/>
                </a:lnTo>
                <a:lnTo>
                  <a:pt x="1106" y="1355"/>
                </a:lnTo>
                <a:lnTo>
                  <a:pt x="1116" y="1348"/>
                </a:lnTo>
                <a:lnTo>
                  <a:pt x="1123" y="1340"/>
                </a:lnTo>
                <a:lnTo>
                  <a:pt x="1132" y="1333"/>
                </a:lnTo>
                <a:lnTo>
                  <a:pt x="1142" y="1327"/>
                </a:lnTo>
                <a:lnTo>
                  <a:pt x="1151" y="1322"/>
                </a:lnTo>
                <a:lnTo>
                  <a:pt x="1159" y="1318"/>
                </a:lnTo>
                <a:lnTo>
                  <a:pt x="1168" y="1314"/>
                </a:lnTo>
                <a:lnTo>
                  <a:pt x="1177" y="1310"/>
                </a:lnTo>
                <a:lnTo>
                  <a:pt x="1186" y="1307"/>
                </a:lnTo>
                <a:lnTo>
                  <a:pt x="1196" y="1303"/>
                </a:lnTo>
                <a:lnTo>
                  <a:pt x="1203" y="1301"/>
                </a:lnTo>
                <a:lnTo>
                  <a:pt x="1213" y="1299"/>
                </a:lnTo>
                <a:lnTo>
                  <a:pt x="1222" y="1297"/>
                </a:lnTo>
                <a:lnTo>
                  <a:pt x="1231" y="1296"/>
                </a:lnTo>
                <a:lnTo>
                  <a:pt x="1240" y="1296"/>
                </a:lnTo>
                <a:lnTo>
                  <a:pt x="1248" y="1296"/>
                </a:lnTo>
                <a:lnTo>
                  <a:pt x="1257" y="1296"/>
                </a:lnTo>
                <a:lnTo>
                  <a:pt x="1267" y="1296"/>
                </a:lnTo>
                <a:lnTo>
                  <a:pt x="1276" y="1297"/>
                </a:lnTo>
                <a:lnTo>
                  <a:pt x="1283" y="1297"/>
                </a:lnTo>
                <a:lnTo>
                  <a:pt x="1293" y="1297"/>
                </a:lnTo>
                <a:lnTo>
                  <a:pt x="1302" y="1299"/>
                </a:lnTo>
                <a:lnTo>
                  <a:pt x="1311" y="1299"/>
                </a:lnTo>
                <a:lnTo>
                  <a:pt x="1321" y="1299"/>
                </a:lnTo>
                <a:lnTo>
                  <a:pt x="1328" y="1299"/>
                </a:lnTo>
                <a:lnTo>
                  <a:pt x="1337" y="1299"/>
                </a:lnTo>
                <a:lnTo>
                  <a:pt x="1347" y="1297"/>
                </a:lnTo>
                <a:lnTo>
                  <a:pt x="1356" y="1296"/>
                </a:lnTo>
                <a:lnTo>
                  <a:pt x="1365" y="1294"/>
                </a:lnTo>
                <a:lnTo>
                  <a:pt x="1373" y="1292"/>
                </a:lnTo>
                <a:lnTo>
                  <a:pt x="1382" y="1288"/>
                </a:lnTo>
                <a:lnTo>
                  <a:pt x="1391" y="1284"/>
                </a:lnTo>
                <a:lnTo>
                  <a:pt x="1401" y="1281"/>
                </a:lnTo>
                <a:lnTo>
                  <a:pt x="1408" y="1273"/>
                </a:lnTo>
                <a:lnTo>
                  <a:pt x="1417" y="1268"/>
                </a:lnTo>
                <a:lnTo>
                  <a:pt x="1427" y="1260"/>
                </a:lnTo>
                <a:lnTo>
                  <a:pt x="1436" y="1251"/>
                </a:lnTo>
                <a:lnTo>
                  <a:pt x="1445" y="1242"/>
                </a:lnTo>
                <a:lnTo>
                  <a:pt x="1453" y="1228"/>
                </a:lnTo>
                <a:lnTo>
                  <a:pt x="1462" y="1217"/>
                </a:lnTo>
                <a:lnTo>
                  <a:pt x="1472" y="1204"/>
                </a:lnTo>
                <a:lnTo>
                  <a:pt x="1481" y="1189"/>
                </a:lnTo>
                <a:lnTo>
                  <a:pt x="1490" y="1174"/>
                </a:lnTo>
                <a:lnTo>
                  <a:pt x="1498" y="1158"/>
                </a:lnTo>
                <a:lnTo>
                  <a:pt x="1507" y="1141"/>
                </a:lnTo>
                <a:lnTo>
                  <a:pt x="1516" y="1122"/>
                </a:lnTo>
                <a:lnTo>
                  <a:pt x="1526" y="1102"/>
                </a:lnTo>
                <a:lnTo>
                  <a:pt x="1533" y="1083"/>
                </a:lnTo>
                <a:lnTo>
                  <a:pt x="1542" y="1061"/>
                </a:lnTo>
                <a:lnTo>
                  <a:pt x="1552" y="1038"/>
                </a:lnTo>
                <a:lnTo>
                  <a:pt x="1561" y="1016"/>
                </a:lnTo>
                <a:lnTo>
                  <a:pt x="1570" y="992"/>
                </a:lnTo>
                <a:lnTo>
                  <a:pt x="1578" y="966"/>
                </a:lnTo>
                <a:lnTo>
                  <a:pt x="1587" y="940"/>
                </a:lnTo>
                <a:lnTo>
                  <a:pt x="1596" y="914"/>
                </a:lnTo>
                <a:lnTo>
                  <a:pt x="1606" y="887"/>
                </a:lnTo>
                <a:lnTo>
                  <a:pt x="1615" y="861"/>
                </a:lnTo>
                <a:lnTo>
                  <a:pt x="1622" y="833"/>
                </a:lnTo>
                <a:lnTo>
                  <a:pt x="1632" y="807"/>
                </a:lnTo>
                <a:lnTo>
                  <a:pt x="1641" y="781"/>
                </a:lnTo>
                <a:lnTo>
                  <a:pt x="1650" y="755"/>
                </a:lnTo>
                <a:lnTo>
                  <a:pt x="1658" y="731"/>
                </a:lnTo>
                <a:lnTo>
                  <a:pt x="1667" y="707"/>
                </a:lnTo>
                <a:lnTo>
                  <a:pt x="1676" y="682"/>
                </a:lnTo>
                <a:lnTo>
                  <a:pt x="1686" y="660"/>
                </a:lnTo>
                <a:lnTo>
                  <a:pt x="1695" y="640"/>
                </a:lnTo>
                <a:lnTo>
                  <a:pt x="1703" y="619"/>
                </a:lnTo>
                <a:lnTo>
                  <a:pt x="1712" y="600"/>
                </a:lnTo>
                <a:lnTo>
                  <a:pt x="1721" y="584"/>
                </a:lnTo>
                <a:lnTo>
                  <a:pt x="1730" y="569"/>
                </a:lnTo>
                <a:lnTo>
                  <a:pt x="1740" y="556"/>
                </a:lnTo>
                <a:lnTo>
                  <a:pt x="1747" y="545"/>
                </a:lnTo>
                <a:lnTo>
                  <a:pt x="1757" y="535"/>
                </a:lnTo>
                <a:lnTo>
                  <a:pt x="1766" y="528"/>
                </a:lnTo>
                <a:lnTo>
                  <a:pt x="1775" y="524"/>
                </a:lnTo>
                <a:lnTo>
                  <a:pt x="1784" y="520"/>
                </a:lnTo>
                <a:lnTo>
                  <a:pt x="1792" y="520"/>
                </a:lnTo>
                <a:lnTo>
                  <a:pt x="1801" y="520"/>
                </a:lnTo>
                <a:lnTo>
                  <a:pt x="1811" y="524"/>
                </a:lnTo>
                <a:lnTo>
                  <a:pt x="1820" y="528"/>
                </a:lnTo>
                <a:lnTo>
                  <a:pt x="1827" y="535"/>
                </a:lnTo>
                <a:lnTo>
                  <a:pt x="1837" y="543"/>
                </a:lnTo>
                <a:lnTo>
                  <a:pt x="1846" y="554"/>
                </a:lnTo>
                <a:lnTo>
                  <a:pt x="1855" y="565"/>
                </a:lnTo>
                <a:lnTo>
                  <a:pt x="1865" y="578"/>
                </a:lnTo>
                <a:lnTo>
                  <a:pt x="1872" y="593"/>
                </a:lnTo>
                <a:lnTo>
                  <a:pt x="1881" y="608"/>
                </a:lnTo>
                <a:lnTo>
                  <a:pt x="1891" y="625"/>
                </a:lnTo>
                <a:lnTo>
                  <a:pt x="1900" y="641"/>
                </a:lnTo>
                <a:lnTo>
                  <a:pt x="1909" y="660"/>
                </a:lnTo>
                <a:lnTo>
                  <a:pt x="1917" y="679"/>
                </a:lnTo>
                <a:lnTo>
                  <a:pt x="1926" y="699"/>
                </a:lnTo>
                <a:lnTo>
                  <a:pt x="1935" y="720"/>
                </a:lnTo>
                <a:lnTo>
                  <a:pt x="1945" y="740"/>
                </a:lnTo>
                <a:lnTo>
                  <a:pt x="1952" y="761"/>
                </a:lnTo>
                <a:lnTo>
                  <a:pt x="1961" y="781"/>
                </a:lnTo>
                <a:lnTo>
                  <a:pt x="1971" y="800"/>
                </a:lnTo>
                <a:lnTo>
                  <a:pt x="1980" y="820"/>
                </a:lnTo>
                <a:lnTo>
                  <a:pt x="1989" y="839"/>
                </a:lnTo>
                <a:lnTo>
                  <a:pt x="1997" y="856"/>
                </a:lnTo>
                <a:lnTo>
                  <a:pt x="2006" y="873"/>
                </a:lnTo>
                <a:lnTo>
                  <a:pt x="2015" y="887"/>
                </a:lnTo>
                <a:lnTo>
                  <a:pt x="2025" y="902"/>
                </a:lnTo>
                <a:lnTo>
                  <a:pt x="2034" y="914"/>
                </a:lnTo>
                <a:lnTo>
                  <a:pt x="2042" y="925"/>
                </a:lnTo>
                <a:lnTo>
                  <a:pt x="2051" y="934"/>
                </a:lnTo>
                <a:lnTo>
                  <a:pt x="2060" y="941"/>
                </a:lnTo>
                <a:lnTo>
                  <a:pt x="2070" y="947"/>
                </a:lnTo>
                <a:lnTo>
                  <a:pt x="2077" y="951"/>
                </a:lnTo>
                <a:lnTo>
                  <a:pt x="2086" y="953"/>
                </a:lnTo>
                <a:lnTo>
                  <a:pt x="2096" y="953"/>
                </a:lnTo>
                <a:lnTo>
                  <a:pt x="2105" y="951"/>
                </a:lnTo>
                <a:lnTo>
                  <a:pt x="2114" y="949"/>
                </a:lnTo>
                <a:lnTo>
                  <a:pt x="2122" y="943"/>
                </a:lnTo>
                <a:lnTo>
                  <a:pt x="2131" y="936"/>
                </a:lnTo>
                <a:lnTo>
                  <a:pt x="2140" y="925"/>
                </a:lnTo>
                <a:lnTo>
                  <a:pt x="2150" y="914"/>
                </a:lnTo>
                <a:lnTo>
                  <a:pt x="2159" y="899"/>
                </a:lnTo>
                <a:lnTo>
                  <a:pt x="2166" y="882"/>
                </a:lnTo>
                <a:lnTo>
                  <a:pt x="2176" y="865"/>
                </a:lnTo>
                <a:lnTo>
                  <a:pt x="2185" y="845"/>
                </a:lnTo>
                <a:lnTo>
                  <a:pt x="2194" y="822"/>
                </a:lnTo>
                <a:lnTo>
                  <a:pt x="2202" y="798"/>
                </a:lnTo>
                <a:lnTo>
                  <a:pt x="2211" y="772"/>
                </a:lnTo>
                <a:lnTo>
                  <a:pt x="2220" y="744"/>
                </a:lnTo>
                <a:lnTo>
                  <a:pt x="2230" y="712"/>
                </a:lnTo>
                <a:lnTo>
                  <a:pt x="2239" y="682"/>
                </a:lnTo>
                <a:lnTo>
                  <a:pt x="2246" y="649"/>
                </a:lnTo>
                <a:lnTo>
                  <a:pt x="2256" y="615"/>
                </a:lnTo>
                <a:lnTo>
                  <a:pt x="2265" y="580"/>
                </a:lnTo>
                <a:lnTo>
                  <a:pt x="2274" y="543"/>
                </a:lnTo>
                <a:lnTo>
                  <a:pt x="2284" y="505"/>
                </a:lnTo>
                <a:lnTo>
                  <a:pt x="2291" y="468"/>
                </a:lnTo>
                <a:lnTo>
                  <a:pt x="2301" y="429"/>
                </a:lnTo>
                <a:lnTo>
                  <a:pt x="2310" y="392"/>
                </a:lnTo>
                <a:lnTo>
                  <a:pt x="2319" y="354"/>
                </a:lnTo>
                <a:lnTo>
                  <a:pt x="2327" y="317"/>
                </a:lnTo>
                <a:lnTo>
                  <a:pt x="2336" y="280"/>
                </a:lnTo>
                <a:lnTo>
                  <a:pt x="2345" y="246"/>
                </a:lnTo>
                <a:lnTo>
                  <a:pt x="2355" y="211"/>
                </a:lnTo>
                <a:lnTo>
                  <a:pt x="2364" y="179"/>
                </a:lnTo>
                <a:lnTo>
                  <a:pt x="2371" y="148"/>
                </a:lnTo>
                <a:lnTo>
                  <a:pt x="2381" y="118"/>
                </a:lnTo>
                <a:lnTo>
                  <a:pt x="2390" y="92"/>
                </a:lnTo>
                <a:lnTo>
                  <a:pt x="2399" y="67"/>
                </a:lnTo>
                <a:lnTo>
                  <a:pt x="2409" y="47"/>
                </a:lnTo>
                <a:lnTo>
                  <a:pt x="2416" y="30"/>
                </a:lnTo>
                <a:lnTo>
                  <a:pt x="2425" y="15"/>
                </a:lnTo>
                <a:lnTo>
                  <a:pt x="2435" y="8"/>
                </a:lnTo>
                <a:lnTo>
                  <a:pt x="2444" y="2"/>
                </a:lnTo>
                <a:lnTo>
                  <a:pt x="2451" y="0"/>
                </a:lnTo>
                <a:lnTo>
                  <a:pt x="2461" y="2"/>
                </a:lnTo>
                <a:lnTo>
                  <a:pt x="2470" y="8"/>
                </a:lnTo>
                <a:lnTo>
                  <a:pt x="2479" y="19"/>
                </a:lnTo>
                <a:lnTo>
                  <a:pt x="2489" y="32"/>
                </a:lnTo>
                <a:lnTo>
                  <a:pt x="2496" y="53"/>
                </a:lnTo>
                <a:lnTo>
                  <a:pt x="2505" y="75"/>
                </a:lnTo>
                <a:lnTo>
                  <a:pt x="2515" y="101"/>
                </a:lnTo>
                <a:lnTo>
                  <a:pt x="2524" y="129"/>
                </a:lnTo>
                <a:lnTo>
                  <a:pt x="2533" y="161"/>
                </a:lnTo>
                <a:lnTo>
                  <a:pt x="2541" y="194"/>
                </a:lnTo>
                <a:lnTo>
                  <a:pt x="2550" y="231"/>
                </a:lnTo>
                <a:lnTo>
                  <a:pt x="2559" y="272"/>
                </a:lnTo>
                <a:lnTo>
                  <a:pt x="2569" y="315"/>
                </a:lnTo>
                <a:lnTo>
                  <a:pt x="2576" y="360"/>
                </a:lnTo>
                <a:lnTo>
                  <a:pt x="2586" y="408"/>
                </a:lnTo>
                <a:lnTo>
                  <a:pt x="2595" y="455"/>
                </a:lnTo>
                <a:lnTo>
                  <a:pt x="2604" y="504"/>
                </a:lnTo>
                <a:lnTo>
                  <a:pt x="2613" y="554"/>
                </a:lnTo>
                <a:lnTo>
                  <a:pt x="2621" y="604"/>
                </a:lnTo>
                <a:lnTo>
                  <a:pt x="2630" y="654"/>
                </a:lnTo>
                <a:lnTo>
                  <a:pt x="2640" y="705"/>
                </a:lnTo>
                <a:lnTo>
                  <a:pt x="2649" y="757"/>
                </a:lnTo>
                <a:lnTo>
                  <a:pt x="2658" y="809"/>
                </a:lnTo>
                <a:lnTo>
                  <a:pt x="2666" y="859"/>
                </a:lnTo>
                <a:lnTo>
                  <a:pt x="2675" y="910"/>
                </a:lnTo>
                <a:lnTo>
                  <a:pt x="2684" y="958"/>
                </a:lnTo>
                <a:lnTo>
                  <a:pt x="2694" y="1005"/>
                </a:lnTo>
                <a:lnTo>
                  <a:pt x="2701" y="1053"/>
                </a:lnTo>
                <a:lnTo>
                  <a:pt x="2710" y="1100"/>
                </a:lnTo>
                <a:lnTo>
                  <a:pt x="2720" y="1145"/>
                </a:lnTo>
                <a:lnTo>
                  <a:pt x="2729" y="1187"/>
                </a:lnTo>
                <a:lnTo>
                  <a:pt x="2738" y="1230"/>
                </a:lnTo>
                <a:lnTo>
                  <a:pt x="2746" y="1271"/>
                </a:lnTo>
                <a:lnTo>
                  <a:pt x="2755" y="1310"/>
                </a:lnTo>
                <a:lnTo>
                  <a:pt x="2764" y="1348"/>
                </a:lnTo>
                <a:lnTo>
                  <a:pt x="2774" y="1383"/>
                </a:lnTo>
                <a:lnTo>
                  <a:pt x="2783" y="1419"/>
                </a:lnTo>
                <a:lnTo>
                  <a:pt x="2790" y="1450"/>
                </a:lnTo>
                <a:lnTo>
                  <a:pt x="2800" y="1482"/>
                </a:lnTo>
                <a:lnTo>
                  <a:pt x="2809" y="1512"/>
                </a:lnTo>
                <a:lnTo>
                  <a:pt x="2818" y="1542"/>
                </a:lnTo>
                <a:lnTo>
                  <a:pt x="2826" y="1568"/>
                </a:lnTo>
                <a:lnTo>
                  <a:pt x="2835" y="1594"/>
                </a:lnTo>
                <a:lnTo>
                  <a:pt x="2845" y="1618"/>
                </a:lnTo>
                <a:lnTo>
                  <a:pt x="2854" y="1642"/>
                </a:lnTo>
                <a:lnTo>
                  <a:pt x="2863" y="1665"/>
                </a:lnTo>
                <a:lnTo>
                  <a:pt x="2871" y="1685"/>
                </a:lnTo>
                <a:lnTo>
                  <a:pt x="2880" y="1706"/>
                </a:lnTo>
                <a:lnTo>
                  <a:pt x="2889" y="1726"/>
                </a:lnTo>
                <a:lnTo>
                  <a:pt x="2899" y="1745"/>
                </a:lnTo>
                <a:lnTo>
                  <a:pt x="2908" y="1762"/>
                </a:lnTo>
                <a:lnTo>
                  <a:pt x="2915" y="1778"/>
                </a:lnTo>
                <a:lnTo>
                  <a:pt x="2925" y="1793"/>
                </a:lnTo>
                <a:lnTo>
                  <a:pt x="2934" y="1808"/>
                </a:lnTo>
                <a:lnTo>
                  <a:pt x="2943" y="1823"/>
                </a:lnTo>
                <a:lnTo>
                  <a:pt x="2951" y="1836"/>
                </a:lnTo>
                <a:lnTo>
                  <a:pt x="2960" y="1849"/>
                </a:lnTo>
                <a:lnTo>
                  <a:pt x="2969" y="1860"/>
                </a:lnTo>
                <a:lnTo>
                  <a:pt x="2979" y="1871"/>
                </a:lnTo>
                <a:lnTo>
                  <a:pt x="2988" y="1883"/>
                </a:lnTo>
                <a:lnTo>
                  <a:pt x="2995" y="1892"/>
                </a:lnTo>
                <a:lnTo>
                  <a:pt x="3005" y="1901"/>
                </a:lnTo>
                <a:lnTo>
                  <a:pt x="3014" y="1911"/>
                </a:lnTo>
                <a:lnTo>
                  <a:pt x="3023" y="1918"/>
                </a:lnTo>
                <a:lnTo>
                  <a:pt x="3033" y="1927"/>
                </a:lnTo>
                <a:lnTo>
                  <a:pt x="3040" y="1935"/>
                </a:lnTo>
                <a:lnTo>
                  <a:pt x="3049" y="1940"/>
                </a:lnTo>
                <a:lnTo>
                  <a:pt x="3059" y="1948"/>
                </a:lnTo>
                <a:lnTo>
                  <a:pt x="3068" y="1953"/>
                </a:lnTo>
                <a:lnTo>
                  <a:pt x="3076" y="1959"/>
                </a:lnTo>
                <a:lnTo>
                  <a:pt x="3085" y="1965"/>
                </a:lnTo>
                <a:lnTo>
                  <a:pt x="3094" y="1970"/>
                </a:lnTo>
                <a:lnTo>
                  <a:pt x="3103" y="1976"/>
                </a:lnTo>
                <a:lnTo>
                  <a:pt x="3113" y="1980"/>
                </a:lnTo>
                <a:lnTo>
                  <a:pt x="3120" y="1985"/>
                </a:lnTo>
                <a:lnTo>
                  <a:pt x="3130" y="1989"/>
                </a:lnTo>
                <a:lnTo>
                  <a:pt x="3139" y="1993"/>
                </a:lnTo>
                <a:lnTo>
                  <a:pt x="3148" y="1996"/>
                </a:lnTo>
                <a:lnTo>
                  <a:pt x="3157" y="2000"/>
                </a:lnTo>
                <a:lnTo>
                  <a:pt x="3165" y="2002"/>
                </a:lnTo>
                <a:lnTo>
                  <a:pt x="3174" y="2006"/>
                </a:lnTo>
                <a:lnTo>
                  <a:pt x="3184" y="2009"/>
                </a:lnTo>
                <a:lnTo>
                  <a:pt x="3193" y="2011"/>
                </a:lnTo>
                <a:lnTo>
                  <a:pt x="3200" y="2015"/>
                </a:lnTo>
                <a:lnTo>
                  <a:pt x="3210" y="2017"/>
                </a:lnTo>
                <a:lnTo>
                  <a:pt x="3219" y="2019"/>
                </a:lnTo>
                <a:lnTo>
                  <a:pt x="3228" y="2021"/>
                </a:lnTo>
                <a:lnTo>
                  <a:pt x="3238" y="2024"/>
                </a:lnTo>
                <a:lnTo>
                  <a:pt x="3245" y="2026"/>
                </a:lnTo>
                <a:lnTo>
                  <a:pt x="3254" y="2028"/>
                </a:lnTo>
                <a:lnTo>
                  <a:pt x="3264" y="2030"/>
                </a:lnTo>
                <a:lnTo>
                  <a:pt x="3273" y="2032"/>
                </a:lnTo>
                <a:lnTo>
                  <a:pt x="3282" y="2034"/>
                </a:lnTo>
                <a:lnTo>
                  <a:pt x="3290" y="2035"/>
                </a:lnTo>
                <a:lnTo>
                  <a:pt x="3299" y="2037"/>
                </a:lnTo>
                <a:lnTo>
                  <a:pt x="3308" y="2039"/>
                </a:lnTo>
                <a:lnTo>
                  <a:pt x="3318" y="2041"/>
                </a:lnTo>
                <a:lnTo>
                  <a:pt x="3325" y="2043"/>
                </a:lnTo>
                <a:lnTo>
                  <a:pt x="3334" y="2043"/>
                </a:lnTo>
                <a:lnTo>
                  <a:pt x="3344" y="2045"/>
                </a:lnTo>
                <a:lnTo>
                  <a:pt x="3353" y="2047"/>
                </a:lnTo>
                <a:lnTo>
                  <a:pt x="3362" y="2049"/>
                </a:lnTo>
                <a:lnTo>
                  <a:pt x="3370" y="2049"/>
                </a:lnTo>
                <a:lnTo>
                  <a:pt x="3379" y="2050"/>
                </a:lnTo>
                <a:lnTo>
                  <a:pt x="3388" y="2052"/>
                </a:lnTo>
                <a:lnTo>
                  <a:pt x="3398" y="2052"/>
                </a:lnTo>
                <a:lnTo>
                  <a:pt x="3407" y="2054"/>
                </a:lnTo>
                <a:lnTo>
                  <a:pt x="3415" y="2054"/>
                </a:lnTo>
                <a:lnTo>
                  <a:pt x="3424" y="2056"/>
                </a:lnTo>
                <a:lnTo>
                  <a:pt x="3433" y="2058"/>
                </a:lnTo>
                <a:lnTo>
                  <a:pt x="3443" y="2058"/>
                </a:lnTo>
                <a:lnTo>
                  <a:pt x="3450" y="2060"/>
                </a:lnTo>
                <a:lnTo>
                  <a:pt x="3459" y="2060"/>
                </a:lnTo>
                <a:lnTo>
                  <a:pt x="3469" y="2062"/>
                </a:lnTo>
                <a:lnTo>
                  <a:pt x="3478" y="2062"/>
                </a:lnTo>
                <a:lnTo>
                  <a:pt x="3487" y="2063"/>
                </a:lnTo>
                <a:lnTo>
                  <a:pt x="3495" y="2063"/>
                </a:lnTo>
                <a:lnTo>
                  <a:pt x="3504" y="2063"/>
                </a:lnTo>
                <a:lnTo>
                  <a:pt x="3513" y="2065"/>
                </a:lnTo>
                <a:lnTo>
                  <a:pt x="3523" y="2065"/>
                </a:lnTo>
                <a:lnTo>
                  <a:pt x="3532" y="2065"/>
                </a:lnTo>
                <a:lnTo>
                  <a:pt x="3539" y="2067"/>
                </a:lnTo>
                <a:lnTo>
                  <a:pt x="3549" y="2067"/>
                </a:lnTo>
                <a:lnTo>
                  <a:pt x="3558" y="2067"/>
                </a:lnTo>
                <a:lnTo>
                  <a:pt x="3567" y="2069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任意多边形 259"/>
          <p:cNvSpPr/>
          <p:nvPr/>
        </p:nvSpPr>
        <p:spPr>
          <a:xfrm>
            <a:off x="2228760" y="1517760"/>
            <a:ext cx="5662800" cy="399096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3990960"/>
              <a:gd name="textAreaBottom" fmla="*/ 3991320 h 3990960"/>
            </a:gdLst>
            <a:ahLst/>
            <a:rect l="textAreaLeft" t="textAreaTop" r="textAreaRight" b="textAreaBottom"/>
            <a:pathLst>
              <a:path w="3567" h="2514">
                <a:moveTo>
                  <a:pt x="0" y="1978"/>
                </a:moveTo>
                <a:lnTo>
                  <a:pt x="9" y="1980"/>
                </a:lnTo>
                <a:lnTo>
                  <a:pt x="18" y="1981"/>
                </a:lnTo>
                <a:lnTo>
                  <a:pt x="28" y="1983"/>
                </a:lnTo>
                <a:lnTo>
                  <a:pt x="35" y="1987"/>
                </a:lnTo>
                <a:lnTo>
                  <a:pt x="44" y="1989"/>
                </a:lnTo>
                <a:lnTo>
                  <a:pt x="54" y="1993"/>
                </a:lnTo>
                <a:lnTo>
                  <a:pt x="63" y="1996"/>
                </a:lnTo>
                <a:lnTo>
                  <a:pt x="72" y="2002"/>
                </a:lnTo>
                <a:lnTo>
                  <a:pt x="80" y="2006"/>
                </a:lnTo>
                <a:lnTo>
                  <a:pt x="89" y="2009"/>
                </a:lnTo>
                <a:lnTo>
                  <a:pt x="99" y="2015"/>
                </a:lnTo>
                <a:lnTo>
                  <a:pt x="108" y="2019"/>
                </a:lnTo>
                <a:lnTo>
                  <a:pt x="117" y="2022"/>
                </a:lnTo>
                <a:lnTo>
                  <a:pt x="125" y="2028"/>
                </a:lnTo>
                <a:lnTo>
                  <a:pt x="134" y="2032"/>
                </a:lnTo>
                <a:lnTo>
                  <a:pt x="143" y="2035"/>
                </a:lnTo>
                <a:lnTo>
                  <a:pt x="153" y="2039"/>
                </a:lnTo>
                <a:lnTo>
                  <a:pt x="160" y="2045"/>
                </a:lnTo>
                <a:lnTo>
                  <a:pt x="169" y="2049"/>
                </a:lnTo>
                <a:lnTo>
                  <a:pt x="179" y="2052"/>
                </a:lnTo>
                <a:lnTo>
                  <a:pt x="188" y="2058"/>
                </a:lnTo>
                <a:lnTo>
                  <a:pt x="197" y="2060"/>
                </a:lnTo>
                <a:lnTo>
                  <a:pt x="205" y="2063"/>
                </a:lnTo>
                <a:lnTo>
                  <a:pt x="214" y="2067"/>
                </a:lnTo>
                <a:lnTo>
                  <a:pt x="223" y="2069"/>
                </a:lnTo>
                <a:lnTo>
                  <a:pt x="233" y="2073"/>
                </a:lnTo>
                <a:lnTo>
                  <a:pt x="242" y="2075"/>
                </a:lnTo>
                <a:lnTo>
                  <a:pt x="249" y="2076"/>
                </a:lnTo>
                <a:lnTo>
                  <a:pt x="259" y="2078"/>
                </a:lnTo>
                <a:lnTo>
                  <a:pt x="268" y="2080"/>
                </a:lnTo>
                <a:lnTo>
                  <a:pt x="277" y="2082"/>
                </a:lnTo>
                <a:lnTo>
                  <a:pt x="285" y="2084"/>
                </a:lnTo>
                <a:lnTo>
                  <a:pt x="294" y="2084"/>
                </a:lnTo>
                <a:lnTo>
                  <a:pt x="303" y="2086"/>
                </a:lnTo>
                <a:lnTo>
                  <a:pt x="313" y="2086"/>
                </a:lnTo>
                <a:lnTo>
                  <a:pt x="322" y="2086"/>
                </a:lnTo>
                <a:lnTo>
                  <a:pt x="330" y="2086"/>
                </a:lnTo>
                <a:lnTo>
                  <a:pt x="339" y="2086"/>
                </a:lnTo>
                <a:lnTo>
                  <a:pt x="348" y="2086"/>
                </a:lnTo>
                <a:lnTo>
                  <a:pt x="357" y="2086"/>
                </a:lnTo>
                <a:lnTo>
                  <a:pt x="367" y="2084"/>
                </a:lnTo>
                <a:lnTo>
                  <a:pt x="374" y="2084"/>
                </a:lnTo>
                <a:lnTo>
                  <a:pt x="384" y="2082"/>
                </a:lnTo>
                <a:lnTo>
                  <a:pt x="393" y="2080"/>
                </a:lnTo>
                <a:lnTo>
                  <a:pt x="402" y="2080"/>
                </a:lnTo>
                <a:lnTo>
                  <a:pt x="410" y="2078"/>
                </a:lnTo>
                <a:lnTo>
                  <a:pt x="419" y="2076"/>
                </a:lnTo>
                <a:lnTo>
                  <a:pt x="428" y="2073"/>
                </a:lnTo>
                <a:lnTo>
                  <a:pt x="438" y="2071"/>
                </a:lnTo>
                <a:lnTo>
                  <a:pt x="447" y="2069"/>
                </a:lnTo>
                <a:lnTo>
                  <a:pt x="454" y="2065"/>
                </a:lnTo>
                <a:lnTo>
                  <a:pt x="464" y="2063"/>
                </a:lnTo>
                <a:lnTo>
                  <a:pt x="473" y="2062"/>
                </a:lnTo>
                <a:lnTo>
                  <a:pt x="482" y="2060"/>
                </a:lnTo>
                <a:lnTo>
                  <a:pt x="492" y="2056"/>
                </a:lnTo>
                <a:lnTo>
                  <a:pt x="499" y="2054"/>
                </a:lnTo>
                <a:lnTo>
                  <a:pt x="508" y="2052"/>
                </a:lnTo>
                <a:lnTo>
                  <a:pt x="518" y="2049"/>
                </a:lnTo>
                <a:lnTo>
                  <a:pt x="527" y="2047"/>
                </a:lnTo>
                <a:lnTo>
                  <a:pt x="534" y="2045"/>
                </a:lnTo>
                <a:lnTo>
                  <a:pt x="544" y="2043"/>
                </a:lnTo>
                <a:lnTo>
                  <a:pt x="553" y="2039"/>
                </a:lnTo>
                <a:lnTo>
                  <a:pt x="562" y="2037"/>
                </a:lnTo>
                <a:lnTo>
                  <a:pt x="572" y="2035"/>
                </a:lnTo>
                <a:lnTo>
                  <a:pt x="579" y="2034"/>
                </a:lnTo>
                <a:lnTo>
                  <a:pt x="588" y="2032"/>
                </a:lnTo>
                <a:lnTo>
                  <a:pt x="598" y="2030"/>
                </a:lnTo>
                <a:lnTo>
                  <a:pt x="607" y="2028"/>
                </a:lnTo>
                <a:lnTo>
                  <a:pt x="616" y="2026"/>
                </a:lnTo>
                <a:lnTo>
                  <a:pt x="624" y="2024"/>
                </a:lnTo>
                <a:lnTo>
                  <a:pt x="633" y="2022"/>
                </a:lnTo>
                <a:lnTo>
                  <a:pt x="642" y="2022"/>
                </a:lnTo>
                <a:lnTo>
                  <a:pt x="652" y="2021"/>
                </a:lnTo>
                <a:lnTo>
                  <a:pt x="659" y="2019"/>
                </a:lnTo>
                <a:lnTo>
                  <a:pt x="669" y="2017"/>
                </a:lnTo>
                <a:lnTo>
                  <a:pt x="678" y="2017"/>
                </a:lnTo>
                <a:lnTo>
                  <a:pt x="687" y="2015"/>
                </a:lnTo>
                <a:lnTo>
                  <a:pt x="697" y="2013"/>
                </a:lnTo>
                <a:lnTo>
                  <a:pt x="704" y="2011"/>
                </a:lnTo>
                <a:lnTo>
                  <a:pt x="713" y="2009"/>
                </a:lnTo>
                <a:lnTo>
                  <a:pt x="723" y="2008"/>
                </a:lnTo>
                <a:lnTo>
                  <a:pt x="732" y="2006"/>
                </a:lnTo>
                <a:lnTo>
                  <a:pt x="741" y="2004"/>
                </a:lnTo>
                <a:lnTo>
                  <a:pt x="749" y="2002"/>
                </a:lnTo>
                <a:lnTo>
                  <a:pt x="758" y="2000"/>
                </a:lnTo>
                <a:lnTo>
                  <a:pt x="767" y="1996"/>
                </a:lnTo>
                <a:lnTo>
                  <a:pt x="777" y="1994"/>
                </a:lnTo>
                <a:lnTo>
                  <a:pt x="784" y="1991"/>
                </a:lnTo>
                <a:lnTo>
                  <a:pt x="793" y="1987"/>
                </a:lnTo>
                <a:lnTo>
                  <a:pt x="803" y="1981"/>
                </a:lnTo>
                <a:lnTo>
                  <a:pt x="812" y="1978"/>
                </a:lnTo>
                <a:lnTo>
                  <a:pt x="821" y="1974"/>
                </a:lnTo>
                <a:lnTo>
                  <a:pt x="829" y="1968"/>
                </a:lnTo>
                <a:lnTo>
                  <a:pt x="838" y="1963"/>
                </a:lnTo>
                <a:lnTo>
                  <a:pt x="847" y="1955"/>
                </a:lnTo>
                <a:lnTo>
                  <a:pt x="857" y="1950"/>
                </a:lnTo>
                <a:lnTo>
                  <a:pt x="866" y="1942"/>
                </a:lnTo>
                <a:lnTo>
                  <a:pt x="873" y="1935"/>
                </a:lnTo>
                <a:lnTo>
                  <a:pt x="883" y="1927"/>
                </a:lnTo>
                <a:lnTo>
                  <a:pt x="892" y="1918"/>
                </a:lnTo>
                <a:lnTo>
                  <a:pt x="901" y="1911"/>
                </a:lnTo>
                <a:lnTo>
                  <a:pt x="909" y="1899"/>
                </a:lnTo>
                <a:lnTo>
                  <a:pt x="918" y="1890"/>
                </a:lnTo>
                <a:lnTo>
                  <a:pt x="928" y="1881"/>
                </a:lnTo>
                <a:lnTo>
                  <a:pt x="937" y="1870"/>
                </a:lnTo>
                <a:lnTo>
                  <a:pt x="946" y="1858"/>
                </a:lnTo>
                <a:lnTo>
                  <a:pt x="954" y="1847"/>
                </a:lnTo>
                <a:lnTo>
                  <a:pt x="963" y="1836"/>
                </a:lnTo>
                <a:lnTo>
                  <a:pt x="972" y="1825"/>
                </a:lnTo>
                <a:lnTo>
                  <a:pt x="982" y="1814"/>
                </a:lnTo>
                <a:lnTo>
                  <a:pt x="991" y="1801"/>
                </a:lnTo>
                <a:lnTo>
                  <a:pt x="998" y="1788"/>
                </a:lnTo>
                <a:lnTo>
                  <a:pt x="1008" y="1775"/>
                </a:lnTo>
                <a:lnTo>
                  <a:pt x="1017" y="1761"/>
                </a:lnTo>
                <a:lnTo>
                  <a:pt x="1026" y="1748"/>
                </a:lnTo>
                <a:lnTo>
                  <a:pt x="1034" y="1737"/>
                </a:lnTo>
                <a:lnTo>
                  <a:pt x="1043" y="1724"/>
                </a:lnTo>
                <a:lnTo>
                  <a:pt x="1052" y="1713"/>
                </a:lnTo>
                <a:lnTo>
                  <a:pt x="1062" y="1702"/>
                </a:lnTo>
                <a:lnTo>
                  <a:pt x="1071" y="1689"/>
                </a:lnTo>
                <a:lnTo>
                  <a:pt x="1078" y="1678"/>
                </a:lnTo>
                <a:lnTo>
                  <a:pt x="1088" y="1666"/>
                </a:lnTo>
                <a:lnTo>
                  <a:pt x="1097" y="1657"/>
                </a:lnTo>
                <a:lnTo>
                  <a:pt x="1106" y="1648"/>
                </a:lnTo>
                <a:lnTo>
                  <a:pt x="1116" y="1638"/>
                </a:lnTo>
                <a:lnTo>
                  <a:pt x="1123" y="1629"/>
                </a:lnTo>
                <a:lnTo>
                  <a:pt x="1132" y="1622"/>
                </a:lnTo>
                <a:lnTo>
                  <a:pt x="1142" y="1616"/>
                </a:lnTo>
                <a:lnTo>
                  <a:pt x="1151" y="1609"/>
                </a:lnTo>
                <a:lnTo>
                  <a:pt x="1159" y="1603"/>
                </a:lnTo>
                <a:lnTo>
                  <a:pt x="1168" y="1597"/>
                </a:lnTo>
                <a:lnTo>
                  <a:pt x="1177" y="1594"/>
                </a:lnTo>
                <a:lnTo>
                  <a:pt x="1186" y="1590"/>
                </a:lnTo>
                <a:lnTo>
                  <a:pt x="1196" y="1588"/>
                </a:lnTo>
                <a:lnTo>
                  <a:pt x="1203" y="1586"/>
                </a:lnTo>
                <a:lnTo>
                  <a:pt x="1213" y="1584"/>
                </a:lnTo>
                <a:lnTo>
                  <a:pt x="1222" y="1583"/>
                </a:lnTo>
                <a:lnTo>
                  <a:pt x="1231" y="1583"/>
                </a:lnTo>
                <a:lnTo>
                  <a:pt x="1240" y="1581"/>
                </a:lnTo>
                <a:lnTo>
                  <a:pt x="1248" y="1581"/>
                </a:lnTo>
                <a:lnTo>
                  <a:pt x="1257" y="1581"/>
                </a:lnTo>
                <a:lnTo>
                  <a:pt x="1267" y="1581"/>
                </a:lnTo>
                <a:lnTo>
                  <a:pt x="1276" y="1583"/>
                </a:lnTo>
                <a:lnTo>
                  <a:pt x="1283" y="1583"/>
                </a:lnTo>
                <a:lnTo>
                  <a:pt x="1293" y="1583"/>
                </a:lnTo>
                <a:lnTo>
                  <a:pt x="1302" y="1583"/>
                </a:lnTo>
                <a:lnTo>
                  <a:pt x="1311" y="1583"/>
                </a:lnTo>
                <a:lnTo>
                  <a:pt x="1321" y="1583"/>
                </a:lnTo>
                <a:lnTo>
                  <a:pt x="1328" y="1583"/>
                </a:lnTo>
                <a:lnTo>
                  <a:pt x="1337" y="1583"/>
                </a:lnTo>
                <a:lnTo>
                  <a:pt x="1347" y="1583"/>
                </a:lnTo>
                <a:lnTo>
                  <a:pt x="1356" y="1581"/>
                </a:lnTo>
                <a:lnTo>
                  <a:pt x="1365" y="1577"/>
                </a:lnTo>
                <a:lnTo>
                  <a:pt x="1373" y="1573"/>
                </a:lnTo>
                <a:lnTo>
                  <a:pt x="1382" y="1570"/>
                </a:lnTo>
                <a:lnTo>
                  <a:pt x="1391" y="1564"/>
                </a:lnTo>
                <a:lnTo>
                  <a:pt x="1401" y="1558"/>
                </a:lnTo>
                <a:lnTo>
                  <a:pt x="1408" y="1551"/>
                </a:lnTo>
                <a:lnTo>
                  <a:pt x="1417" y="1543"/>
                </a:lnTo>
                <a:lnTo>
                  <a:pt x="1427" y="1532"/>
                </a:lnTo>
                <a:lnTo>
                  <a:pt x="1436" y="1521"/>
                </a:lnTo>
                <a:lnTo>
                  <a:pt x="1445" y="1508"/>
                </a:lnTo>
                <a:lnTo>
                  <a:pt x="1453" y="1495"/>
                </a:lnTo>
                <a:lnTo>
                  <a:pt x="1462" y="1478"/>
                </a:lnTo>
                <a:lnTo>
                  <a:pt x="1472" y="1461"/>
                </a:lnTo>
                <a:lnTo>
                  <a:pt x="1481" y="1445"/>
                </a:lnTo>
                <a:lnTo>
                  <a:pt x="1490" y="1424"/>
                </a:lnTo>
                <a:lnTo>
                  <a:pt x="1498" y="1404"/>
                </a:lnTo>
                <a:lnTo>
                  <a:pt x="1507" y="1383"/>
                </a:lnTo>
                <a:lnTo>
                  <a:pt x="1516" y="1359"/>
                </a:lnTo>
                <a:lnTo>
                  <a:pt x="1526" y="1335"/>
                </a:lnTo>
                <a:lnTo>
                  <a:pt x="1533" y="1310"/>
                </a:lnTo>
                <a:lnTo>
                  <a:pt x="1542" y="1284"/>
                </a:lnTo>
                <a:lnTo>
                  <a:pt x="1552" y="1256"/>
                </a:lnTo>
                <a:lnTo>
                  <a:pt x="1561" y="1228"/>
                </a:lnTo>
                <a:lnTo>
                  <a:pt x="1570" y="1199"/>
                </a:lnTo>
                <a:lnTo>
                  <a:pt x="1578" y="1169"/>
                </a:lnTo>
                <a:lnTo>
                  <a:pt x="1587" y="1137"/>
                </a:lnTo>
                <a:lnTo>
                  <a:pt x="1596" y="1104"/>
                </a:lnTo>
                <a:lnTo>
                  <a:pt x="1606" y="1072"/>
                </a:lnTo>
                <a:lnTo>
                  <a:pt x="1615" y="1040"/>
                </a:lnTo>
                <a:lnTo>
                  <a:pt x="1622" y="1007"/>
                </a:lnTo>
                <a:lnTo>
                  <a:pt x="1632" y="975"/>
                </a:lnTo>
                <a:lnTo>
                  <a:pt x="1641" y="943"/>
                </a:lnTo>
                <a:lnTo>
                  <a:pt x="1650" y="912"/>
                </a:lnTo>
                <a:lnTo>
                  <a:pt x="1658" y="880"/>
                </a:lnTo>
                <a:lnTo>
                  <a:pt x="1667" y="852"/>
                </a:lnTo>
                <a:lnTo>
                  <a:pt x="1676" y="824"/>
                </a:lnTo>
                <a:lnTo>
                  <a:pt x="1686" y="798"/>
                </a:lnTo>
                <a:lnTo>
                  <a:pt x="1695" y="772"/>
                </a:lnTo>
                <a:lnTo>
                  <a:pt x="1703" y="748"/>
                </a:lnTo>
                <a:lnTo>
                  <a:pt x="1712" y="725"/>
                </a:lnTo>
                <a:lnTo>
                  <a:pt x="1721" y="705"/>
                </a:lnTo>
                <a:lnTo>
                  <a:pt x="1730" y="688"/>
                </a:lnTo>
                <a:lnTo>
                  <a:pt x="1740" y="671"/>
                </a:lnTo>
                <a:lnTo>
                  <a:pt x="1747" y="656"/>
                </a:lnTo>
                <a:lnTo>
                  <a:pt x="1757" y="647"/>
                </a:lnTo>
                <a:lnTo>
                  <a:pt x="1766" y="638"/>
                </a:lnTo>
                <a:lnTo>
                  <a:pt x="1775" y="632"/>
                </a:lnTo>
                <a:lnTo>
                  <a:pt x="1784" y="628"/>
                </a:lnTo>
                <a:lnTo>
                  <a:pt x="1792" y="628"/>
                </a:lnTo>
                <a:lnTo>
                  <a:pt x="1801" y="630"/>
                </a:lnTo>
                <a:lnTo>
                  <a:pt x="1811" y="634"/>
                </a:lnTo>
                <a:lnTo>
                  <a:pt x="1820" y="640"/>
                </a:lnTo>
                <a:lnTo>
                  <a:pt x="1827" y="649"/>
                </a:lnTo>
                <a:lnTo>
                  <a:pt x="1837" y="658"/>
                </a:lnTo>
                <a:lnTo>
                  <a:pt x="1846" y="671"/>
                </a:lnTo>
                <a:lnTo>
                  <a:pt x="1855" y="688"/>
                </a:lnTo>
                <a:lnTo>
                  <a:pt x="1865" y="705"/>
                </a:lnTo>
                <a:lnTo>
                  <a:pt x="1872" y="722"/>
                </a:lnTo>
                <a:lnTo>
                  <a:pt x="1881" y="742"/>
                </a:lnTo>
                <a:lnTo>
                  <a:pt x="1891" y="763"/>
                </a:lnTo>
                <a:lnTo>
                  <a:pt x="1900" y="783"/>
                </a:lnTo>
                <a:lnTo>
                  <a:pt x="1909" y="805"/>
                </a:lnTo>
                <a:lnTo>
                  <a:pt x="1917" y="830"/>
                </a:lnTo>
                <a:lnTo>
                  <a:pt x="1926" y="856"/>
                </a:lnTo>
                <a:lnTo>
                  <a:pt x="1935" y="880"/>
                </a:lnTo>
                <a:lnTo>
                  <a:pt x="1945" y="906"/>
                </a:lnTo>
                <a:lnTo>
                  <a:pt x="1952" y="930"/>
                </a:lnTo>
                <a:lnTo>
                  <a:pt x="1961" y="955"/>
                </a:lnTo>
                <a:lnTo>
                  <a:pt x="1971" y="979"/>
                </a:lnTo>
                <a:lnTo>
                  <a:pt x="1980" y="1001"/>
                </a:lnTo>
                <a:lnTo>
                  <a:pt x="1989" y="1023"/>
                </a:lnTo>
                <a:lnTo>
                  <a:pt x="1997" y="1046"/>
                </a:lnTo>
                <a:lnTo>
                  <a:pt x="2006" y="1064"/>
                </a:lnTo>
                <a:lnTo>
                  <a:pt x="2015" y="1083"/>
                </a:lnTo>
                <a:lnTo>
                  <a:pt x="2025" y="1100"/>
                </a:lnTo>
                <a:lnTo>
                  <a:pt x="2034" y="1115"/>
                </a:lnTo>
                <a:lnTo>
                  <a:pt x="2042" y="1128"/>
                </a:lnTo>
                <a:lnTo>
                  <a:pt x="2051" y="1139"/>
                </a:lnTo>
                <a:lnTo>
                  <a:pt x="2060" y="1146"/>
                </a:lnTo>
                <a:lnTo>
                  <a:pt x="2070" y="1154"/>
                </a:lnTo>
                <a:lnTo>
                  <a:pt x="2077" y="1158"/>
                </a:lnTo>
                <a:lnTo>
                  <a:pt x="2086" y="1160"/>
                </a:lnTo>
                <a:lnTo>
                  <a:pt x="2096" y="1161"/>
                </a:lnTo>
                <a:lnTo>
                  <a:pt x="2105" y="1160"/>
                </a:lnTo>
                <a:lnTo>
                  <a:pt x="2114" y="1154"/>
                </a:lnTo>
                <a:lnTo>
                  <a:pt x="2122" y="1148"/>
                </a:lnTo>
                <a:lnTo>
                  <a:pt x="2131" y="1139"/>
                </a:lnTo>
                <a:lnTo>
                  <a:pt x="2140" y="1126"/>
                </a:lnTo>
                <a:lnTo>
                  <a:pt x="2150" y="1111"/>
                </a:lnTo>
                <a:lnTo>
                  <a:pt x="2159" y="1094"/>
                </a:lnTo>
                <a:lnTo>
                  <a:pt x="2166" y="1074"/>
                </a:lnTo>
                <a:lnTo>
                  <a:pt x="2176" y="1051"/>
                </a:lnTo>
                <a:lnTo>
                  <a:pt x="2185" y="1027"/>
                </a:lnTo>
                <a:lnTo>
                  <a:pt x="2194" y="999"/>
                </a:lnTo>
                <a:lnTo>
                  <a:pt x="2202" y="969"/>
                </a:lnTo>
                <a:lnTo>
                  <a:pt x="2211" y="936"/>
                </a:lnTo>
                <a:lnTo>
                  <a:pt x="2220" y="900"/>
                </a:lnTo>
                <a:lnTo>
                  <a:pt x="2230" y="861"/>
                </a:lnTo>
                <a:lnTo>
                  <a:pt x="2239" y="822"/>
                </a:lnTo>
                <a:lnTo>
                  <a:pt x="2246" y="783"/>
                </a:lnTo>
                <a:lnTo>
                  <a:pt x="2256" y="740"/>
                </a:lnTo>
                <a:lnTo>
                  <a:pt x="2265" y="697"/>
                </a:lnTo>
                <a:lnTo>
                  <a:pt x="2274" y="653"/>
                </a:lnTo>
                <a:lnTo>
                  <a:pt x="2284" y="606"/>
                </a:lnTo>
                <a:lnTo>
                  <a:pt x="2291" y="559"/>
                </a:lnTo>
                <a:lnTo>
                  <a:pt x="2301" y="513"/>
                </a:lnTo>
                <a:lnTo>
                  <a:pt x="2310" y="466"/>
                </a:lnTo>
                <a:lnTo>
                  <a:pt x="2319" y="420"/>
                </a:lnTo>
                <a:lnTo>
                  <a:pt x="2327" y="377"/>
                </a:lnTo>
                <a:lnTo>
                  <a:pt x="2336" y="330"/>
                </a:lnTo>
                <a:lnTo>
                  <a:pt x="2345" y="289"/>
                </a:lnTo>
                <a:lnTo>
                  <a:pt x="2355" y="246"/>
                </a:lnTo>
                <a:lnTo>
                  <a:pt x="2364" y="207"/>
                </a:lnTo>
                <a:lnTo>
                  <a:pt x="2371" y="168"/>
                </a:lnTo>
                <a:lnTo>
                  <a:pt x="2381" y="135"/>
                </a:lnTo>
                <a:lnTo>
                  <a:pt x="2390" y="103"/>
                </a:lnTo>
                <a:lnTo>
                  <a:pt x="2399" y="75"/>
                </a:lnTo>
                <a:lnTo>
                  <a:pt x="2409" y="51"/>
                </a:lnTo>
                <a:lnTo>
                  <a:pt x="2416" y="30"/>
                </a:lnTo>
                <a:lnTo>
                  <a:pt x="2425" y="17"/>
                </a:lnTo>
                <a:lnTo>
                  <a:pt x="2435" y="6"/>
                </a:lnTo>
                <a:lnTo>
                  <a:pt x="2444" y="0"/>
                </a:lnTo>
                <a:lnTo>
                  <a:pt x="2451" y="0"/>
                </a:lnTo>
                <a:lnTo>
                  <a:pt x="2461" y="4"/>
                </a:lnTo>
                <a:lnTo>
                  <a:pt x="2470" y="13"/>
                </a:lnTo>
                <a:lnTo>
                  <a:pt x="2479" y="26"/>
                </a:lnTo>
                <a:lnTo>
                  <a:pt x="2489" y="45"/>
                </a:lnTo>
                <a:lnTo>
                  <a:pt x="2496" y="69"/>
                </a:lnTo>
                <a:lnTo>
                  <a:pt x="2505" y="99"/>
                </a:lnTo>
                <a:lnTo>
                  <a:pt x="2515" y="131"/>
                </a:lnTo>
                <a:lnTo>
                  <a:pt x="2524" y="166"/>
                </a:lnTo>
                <a:lnTo>
                  <a:pt x="2533" y="205"/>
                </a:lnTo>
                <a:lnTo>
                  <a:pt x="2541" y="248"/>
                </a:lnTo>
                <a:lnTo>
                  <a:pt x="2550" y="293"/>
                </a:lnTo>
                <a:lnTo>
                  <a:pt x="2559" y="343"/>
                </a:lnTo>
                <a:lnTo>
                  <a:pt x="2569" y="397"/>
                </a:lnTo>
                <a:lnTo>
                  <a:pt x="2576" y="451"/>
                </a:lnTo>
                <a:lnTo>
                  <a:pt x="2586" y="509"/>
                </a:lnTo>
                <a:lnTo>
                  <a:pt x="2595" y="569"/>
                </a:lnTo>
                <a:lnTo>
                  <a:pt x="2604" y="628"/>
                </a:lnTo>
                <a:lnTo>
                  <a:pt x="2613" y="688"/>
                </a:lnTo>
                <a:lnTo>
                  <a:pt x="2621" y="750"/>
                </a:lnTo>
                <a:lnTo>
                  <a:pt x="2630" y="811"/>
                </a:lnTo>
                <a:lnTo>
                  <a:pt x="2640" y="874"/>
                </a:lnTo>
                <a:lnTo>
                  <a:pt x="2649" y="938"/>
                </a:lnTo>
                <a:lnTo>
                  <a:pt x="2658" y="999"/>
                </a:lnTo>
                <a:lnTo>
                  <a:pt x="2666" y="1063"/>
                </a:lnTo>
                <a:lnTo>
                  <a:pt x="2675" y="1122"/>
                </a:lnTo>
                <a:lnTo>
                  <a:pt x="2684" y="1182"/>
                </a:lnTo>
                <a:lnTo>
                  <a:pt x="2694" y="1240"/>
                </a:lnTo>
                <a:lnTo>
                  <a:pt x="2701" y="1296"/>
                </a:lnTo>
                <a:lnTo>
                  <a:pt x="2710" y="1353"/>
                </a:lnTo>
                <a:lnTo>
                  <a:pt x="2720" y="1407"/>
                </a:lnTo>
                <a:lnTo>
                  <a:pt x="2729" y="1461"/>
                </a:lnTo>
                <a:lnTo>
                  <a:pt x="2738" y="1512"/>
                </a:lnTo>
                <a:lnTo>
                  <a:pt x="2746" y="1562"/>
                </a:lnTo>
                <a:lnTo>
                  <a:pt x="2755" y="1609"/>
                </a:lnTo>
                <a:lnTo>
                  <a:pt x="2764" y="1653"/>
                </a:lnTo>
                <a:lnTo>
                  <a:pt x="2774" y="1698"/>
                </a:lnTo>
                <a:lnTo>
                  <a:pt x="2783" y="1739"/>
                </a:lnTo>
                <a:lnTo>
                  <a:pt x="2790" y="1778"/>
                </a:lnTo>
                <a:lnTo>
                  <a:pt x="2800" y="1817"/>
                </a:lnTo>
                <a:lnTo>
                  <a:pt x="2809" y="1853"/>
                </a:lnTo>
                <a:lnTo>
                  <a:pt x="2818" y="1888"/>
                </a:lnTo>
                <a:lnTo>
                  <a:pt x="2826" y="1920"/>
                </a:lnTo>
                <a:lnTo>
                  <a:pt x="2835" y="1952"/>
                </a:lnTo>
                <a:lnTo>
                  <a:pt x="2845" y="1981"/>
                </a:lnTo>
                <a:lnTo>
                  <a:pt x="2854" y="2009"/>
                </a:lnTo>
                <a:lnTo>
                  <a:pt x="2863" y="2037"/>
                </a:lnTo>
                <a:lnTo>
                  <a:pt x="2871" y="2063"/>
                </a:lnTo>
                <a:lnTo>
                  <a:pt x="2880" y="2088"/>
                </a:lnTo>
                <a:lnTo>
                  <a:pt x="2889" y="2110"/>
                </a:lnTo>
                <a:lnTo>
                  <a:pt x="2899" y="2132"/>
                </a:lnTo>
                <a:lnTo>
                  <a:pt x="2908" y="2153"/>
                </a:lnTo>
                <a:lnTo>
                  <a:pt x="2915" y="2173"/>
                </a:lnTo>
                <a:lnTo>
                  <a:pt x="2925" y="2192"/>
                </a:lnTo>
                <a:lnTo>
                  <a:pt x="2934" y="2209"/>
                </a:lnTo>
                <a:lnTo>
                  <a:pt x="2943" y="2226"/>
                </a:lnTo>
                <a:lnTo>
                  <a:pt x="2951" y="2242"/>
                </a:lnTo>
                <a:lnTo>
                  <a:pt x="2960" y="2257"/>
                </a:lnTo>
                <a:lnTo>
                  <a:pt x="2969" y="2270"/>
                </a:lnTo>
                <a:lnTo>
                  <a:pt x="2979" y="2283"/>
                </a:lnTo>
                <a:lnTo>
                  <a:pt x="2988" y="2296"/>
                </a:lnTo>
                <a:lnTo>
                  <a:pt x="2995" y="2308"/>
                </a:lnTo>
                <a:lnTo>
                  <a:pt x="3005" y="2319"/>
                </a:lnTo>
                <a:lnTo>
                  <a:pt x="3014" y="2330"/>
                </a:lnTo>
                <a:lnTo>
                  <a:pt x="3023" y="2339"/>
                </a:lnTo>
                <a:lnTo>
                  <a:pt x="3033" y="2349"/>
                </a:lnTo>
                <a:lnTo>
                  <a:pt x="3040" y="2358"/>
                </a:lnTo>
                <a:lnTo>
                  <a:pt x="3049" y="2365"/>
                </a:lnTo>
                <a:lnTo>
                  <a:pt x="3059" y="2375"/>
                </a:lnTo>
                <a:lnTo>
                  <a:pt x="3068" y="2382"/>
                </a:lnTo>
                <a:lnTo>
                  <a:pt x="3076" y="2388"/>
                </a:lnTo>
                <a:lnTo>
                  <a:pt x="3085" y="2395"/>
                </a:lnTo>
                <a:lnTo>
                  <a:pt x="3094" y="2401"/>
                </a:lnTo>
                <a:lnTo>
                  <a:pt x="3103" y="2406"/>
                </a:lnTo>
                <a:lnTo>
                  <a:pt x="3113" y="2412"/>
                </a:lnTo>
                <a:lnTo>
                  <a:pt x="3120" y="2418"/>
                </a:lnTo>
                <a:lnTo>
                  <a:pt x="3130" y="2421"/>
                </a:lnTo>
                <a:lnTo>
                  <a:pt x="3139" y="2427"/>
                </a:lnTo>
                <a:lnTo>
                  <a:pt x="3148" y="2431"/>
                </a:lnTo>
                <a:lnTo>
                  <a:pt x="3157" y="2434"/>
                </a:lnTo>
                <a:lnTo>
                  <a:pt x="3165" y="2438"/>
                </a:lnTo>
                <a:lnTo>
                  <a:pt x="3174" y="2442"/>
                </a:lnTo>
                <a:lnTo>
                  <a:pt x="3184" y="2445"/>
                </a:lnTo>
                <a:lnTo>
                  <a:pt x="3193" y="2449"/>
                </a:lnTo>
                <a:lnTo>
                  <a:pt x="3200" y="2451"/>
                </a:lnTo>
                <a:lnTo>
                  <a:pt x="3210" y="2455"/>
                </a:lnTo>
                <a:lnTo>
                  <a:pt x="3219" y="2457"/>
                </a:lnTo>
                <a:lnTo>
                  <a:pt x="3228" y="2460"/>
                </a:lnTo>
                <a:lnTo>
                  <a:pt x="3238" y="2462"/>
                </a:lnTo>
                <a:lnTo>
                  <a:pt x="3245" y="2466"/>
                </a:lnTo>
                <a:lnTo>
                  <a:pt x="3254" y="2468"/>
                </a:lnTo>
                <a:lnTo>
                  <a:pt x="3264" y="2470"/>
                </a:lnTo>
                <a:lnTo>
                  <a:pt x="3273" y="2472"/>
                </a:lnTo>
                <a:lnTo>
                  <a:pt x="3282" y="2473"/>
                </a:lnTo>
                <a:lnTo>
                  <a:pt x="3290" y="2475"/>
                </a:lnTo>
                <a:lnTo>
                  <a:pt x="3299" y="2477"/>
                </a:lnTo>
                <a:lnTo>
                  <a:pt x="3308" y="2481"/>
                </a:lnTo>
                <a:lnTo>
                  <a:pt x="3318" y="2483"/>
                </a:lnTo>
                <a:lnTo>
                  <a:pt x="3325" y="2483"/>
                </a:lnTo>
                <a:lnTo>
                  <a:pt x="3334" y="2485"/>
                </a:lnTo>
                <a:lnTo>
                  <a:pt x="3344" y="2486"/>
                </a:lnTo>
                <a:lnTo>
                  <a:pt x="3353" y="2488"/>
                </a:lnTo>
                <a:lnTo>
                  <a:pt x="3362" y="2490"/>
                </a:lnTo>
                <a:lnTo>
                  <a:pt x="3370" y="2492"/>
                </a:lnTo>
                <a:lnTo>
                  <a:pt x="3379" y="2494"/>
                </a:lnTo>
                <a:lnTo>
                  <a:pt x="3388" y="2494"/>
                </a:lnTo>
                <a:lnTo>
                  <a:pt x="3398" y="2496"/>
                </a:lnTo>
                <a:lnTo>
                  <a:pt x="3407" y="2498"/>
                </a:lnTo>
                <a:lnTo>
                  <a:pt x="3415" y="2500"/>
                </a:lnTo>
                <a:lnTo>
                  <a:pt x="3424" y="2500"/>
                </a:lnTo>
                <a:lnTo>
                  <a:pt x="3433" y="2501"/>
                </a:lnTo>
                <a:lnTo>
                  <a:pt x="3443" y="2503"/>
                </a:lnTo>
                <a:lnTo>
                  <a:pt x="3450" y="2503"/>
                </a:lnTo>
                <a:lnTo>
                  <a:pt x="3459" y="2505"/>
                </a:lnTo>
                <a:lnTo>
                  <a:pt x="3469" y="2505"/>
                </a:lnTo>
                <a:lnTo>
                  <a:pt x="3478" y="2507"/>
                </a:lnTo>
                <a:lnTo>
                  <a:pt x="3487" y="2507"/>
                </a:lnTo>
                <a:lnTo>
                  <a:pt x="3495" y="2509"/>
                </a:lnTo>
                <a:lnTo>
                  <a:pt x="3504" y="2509"/>
                </a:lnTo>
                <a:lnTo>
                  <a:pt x="3513" y="2511"/>
                </a:lnTo>
                <a:lnTo>
                  <a:pt x="3523" y="2511"/>
                </a:lnTo>
                <a:lnTo>
                  <a:pt x="3532" y="2513"/>
                </a:lnTo>
                <a:lnTo>
                  <a:pt x="3539" y="2513"/>
                </a:lnTo>
                <a:lnTo>
                  <a:pt x="3549" y="2513"/>
                </a:lnTo>
                <a:lnTo>
                  <a:pt x="3558" y="2514"/>
                </a:lnTo>
                <a:lnTo>
                  <a:pt x="3567" y="25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任意多边形 260"/>
          <p:cNvSpPr/>
          <p:nvPr/>
        </p:nvSpPr>
        <p:spPr>
          <a:xfrm>
            <a:off x="2228760" y="2147760"/>
            <a:ext cx="5662800" cy="336708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3367080"/>
              <a:gd name="textAreaBottom" fmla="*/ 3367440 h 3367080"/>
            </a:gdLst>
            <a:ahLst/>
            <a:rect l="textAreaLeft" t="textAreaTop" r="textAreaRight" b="textAreaBottom"/>
            <a:pathLst>
              <a:path w="3567" h="2121">
                <a:moveTo>
                  <a:pt x="0" y="1657"/>
                </a:moveTo>
                <a:lnTo>
                  <a:pt x="9" y="1657"/>
                </a:lnTo>
                <a:lnTo>
                  <a:pt x="18" y="1659"/>
                </a:lnTo>
                <a:lnTo>
                  <a:pt x="28" y="1661"/>
                </a:lnTo>
                <a:lnTo>
                  <a:pt x="35" y="1665"/>
                </a:lnTo>
                <a:lnTo>
                  <a:pt x="44" y="1666"/>
                </a:lnTo>
                <a:lnTo>
                  <a:pt x="54" y="1670"/>
                </a:lnTo>
                <a:lnTo>
                  <a:pt x="63" y="1672"/>
                </a:lnTo>
                <a:lnTo>
                  <a:pt x="72" y="1676"/>
                </a:lnTo>
                <a:lnTo>
                  <a:pt x="80" y="1679"/>
                </a:lnTo>
                <a:lnTo>
                  <a:pt x="89" y="1683"/>
                </a:lnTo>
                <a:lnTo>
                  <a:pt x="99" y="1687"/>
                </a:lnTo>
                <a:lnTo>
                  <a:pt x="108" y="1691"/>
                </a:lnTo>
                <a:lnTo>
                  <a:pt x="117" y="1694"/>
                </a:lnTo>
                <a:lnTo>
                  <a:pt x="125" y="1698"/>
                </a:lnTo>
                <a:lnTo>
                  <a:pt x="134" y="1704"/>
                </a:lnTo>
                <a:lnTo>
                  <a:pt x="143" y="1707"/>
                </a:lnTo>
                <a:lnTo>
                  <a:pt x="153" y="1709"/>
                </a:lnTo>
                <a:lnTo>
                  <a:pt x="160" y="1713"/>
                </a:lnTo>
                <a:lnTo>
                  <a:pt x="169" y="1717"/>
                </a:lnTo>
                <a:lnTo>
                  <a:pt x="179" y="1720"/>
                </a:lnTo>
                <a:lnTo>
                  <a:pt x="188" y="1724"/>
                </a:lnTo>
                <a:lnTo>
                  <a:pt x="197" y="1728"/>
                </a:lnTo>
                <a:lnTo>
                  <a:pt x="205" y="1730"/>
                </a:lnTo>
                <a:lnTo>
                  <a:pt x="214" y="1732"/>
                </a:lnTo>
                <a:lnTo>
                  <a:pt x="223" y="1735"/>
                </a:lnTo>
                <a:lnTo>
                  <a:pt x="233" y="1737"/>
                </a:lnTo>
                <a:lnTo>
                  <a:pt x="242" y="1739"/>
                </a:lnTo>
                <a:lnTo>
                  <a:pt x="249" y="1741"/>
                </a:lnTo>
                <a:lnTo>
                  <a:pt x="259" y="1743"/>
                </a:lnTo>
                <a:lnTo>
                  <a:pt x="268" y="1745"/>
                </a:lnTo>
                <a:lnTo>
                  <a:pt x="277" y="1747"/>
                </a:lnTo>
                <a:lnTo>
                  <a:pt x="285" y="1747"/>
                </a:lnTo>
                <a:lnTo>
                  <a:pt x="294" y="1748"/>
                </a:lnTo>
                <a:lnTo>
                  <a:pt x="303" y="1750"/>
                </a:lnTo>
                <a:lnTo>
                  <a:pt x="313" y="1750"/>
                </a:lnTo>
                <a:lnTo>
                  <a:pt x="322" y="1750"/>
                </a:lnTo>
                <a:lnTo>
                  <a:pt x="330" y="1750"/>
                </a:lnTo>
                <a:lnTo>
                  <a:pt x="339" y="1752"/>
                </a:lnTo>
                <a:lnTo>
                  <a:pt x="348" y="1752"/>
                </a:lnTo>
                <a:lnTo>
                  <a:pt x="357" y="1750"/>
                </a:lnTo>
                <a:lnTo>
                  <a:pt x="367" y="1750"/>
                </a:lnTo>
                <a:lnTo>
                  <a:pt x="374" y="1750"/>
                </a:lnTo>
                <a:lnTo>
                  <a:pt x="384" y="1748"/>
                </a:lnTo>
                <a:lnTo>
                  <a:pt x="393" y="1748"/>
                </a:lnTo>
                <a:lnTo>
                  <a:pt x="402" y="1747"/>
                </a:lnTo>
                <a:lnTo>
                  <a:pt x="410" y="1745"/>
                </a:lnTo>
                <a:lnTo>
                  <a:pt x="419" y="1745"/>
                </a:lnTo>
                <a:lnTo>
                  <a:pt x="428" y="1743"/>
                </a:lnTo>
                <a:lnTo>
                  <a:pt x="438" y="1741"/>
                </a:lnTo>
                <a:lnTo>
                  <a:pt x="447" y="1739"/>
                </a:lnTo>
                <a:lnTo>
                  <a:pt x="454" y="1737"/>
                </a:lnTo>
                <a:lnTo>
                  <a:pt x="464" y="1735"/>
                </a:lnTo>
                <a:lnTo>
                  <a:pt x="473" y="1734"/>
                </a:lnTo>
                <a:lnTo>
                  <a:pt x="482" y="1732"/>
                </a:lnTo>
                <a:lnTo>
                  <a:pt x="492" y="1730"/>
                </a:lnTo>
                <a:lnTo>
                  <a:pt x="499" y="1728"/>
                </a:lnTo>
                <a:lnTo>
                  <a:pt x="508" y="1726"/>
                </a:lnTo>
                <a:lnTo>
                  <a:pt x="518" y="1724"/>
                </a:lnTo>
                <a:lnTo>
                  <a:pt x="527" y="1722"/>
                </a:lnTo>
                <a:lnTo>
                  <a:pt x="534" y="1720"/>
                </a:lnTo>
                <a:lnTo>
                  <a:pt x="544" y="1719"/>
                </a:lnTo>
                <a:lnTo>
                  <a:pt x="553" y="1717"/>
                </a:lnTo>
                <a:lnTo>
                  <a:pt x="562" y="1715"/>
                </a:lnTo>
                <a:lnTo>
                  <a:pt x="572" y="1713"/>
                </a:lnTo>
                <a:lnTo>
                  <a:pt x="579" y="1711"/>
                </a:lnTo>
                <a:lnTo>
                  <a:pt x="588" y="1709"/>
                </a:lnTo>
                <a:lnTo>
                  <a:pt x="598" y="1707"/>
                </a:lnTo>
                <a:lnTo>
                  <a:pt x="607" y="1706"/>
                </a:lnTo>
                <a:lnTo>
                  <a:pt x="616" y="1706"/>
                </a:lnTo>
                <a:lnTo>
                  <a:pt x="624" y="1704"/>
                </a:lnTo>
                <a:lnTo>
                  <a:pt x="633" y="1702"/>
                </a:lnTo>
                <a:lnTo>
                  <a:pt x="642" y="1702"/>
                </a:lnTo>
                <a:lnTo>
                  <a:pt x="652" y="1700"/>
                </a:lnTo>
                <a:lnTo>
                  <a:pt x="659" y="1700"/>
                </a:lnTo>
                <a:lnTo>
                  <a:pt x="669" y="1698"/>
                </a:lnTo>
                <a:lnTo>
                  <a:pt x="678" y="1696"/>
                </a:lnTo>
                <a:lnTo>
                  <a:pt x="687" y="1694"/>
                </a:lnTo>
                <a:lnTo>
                  <a:pt x="697" y="1694"/>
                </a:lnTo>
                <a:lnTo>
                  <a:pt x="704" y="1693"/>
                </a:lnTo>
                <a:lnTo>
                  <a:pt x="713" y="1691"/>
                </a:lnTo>
                <a:lnTo>
                  <a:pt x="723" y="1689"/>
                </a:lnTo>
                <a:lnTo>
                  <a:pt x="732" y="1687"/>
                </a:lnTo>
                <a:lnTo>
                  <a:pt x="741" y="1685"/>
                </a:lnTo>
                <a:lnTo>
                  <a:pt x="749" y="1683"/>
                </a:lnTo>
                <a:lnTo>
                  <a:pt x="758" y="1681"/>
                </a:lnTo>
                <a:lnTo>
                  <a:pt x="767" y="1679"/>
                </a:lnTo>
                <a:lnTo>
                  <a:pt x="777" y="1678"/>
                </a:lnTo>
                <a:lnTo>
                  <a:pt x="784" y="1674"/>
                </a:lnTo>
                <a:lnTo>
                  <a:pt x="793" y="1672"/>
                </a:lnTo>
                <a:lnTo>
                  <a:pt x="803" y="1668"/>
                </a:lnTo>
                <a:lnTo>
                  <a:pt x="812" y="1665"/>
                </a:lnTo>
                <a:lnTo>
                  <a:pt x="821" y="1661"/>
                </a:lnTo>
                <a:lnTo>
                  <a:pt x="829" y="1657"/>
                </a:lnTo>
                <a:lnTo>
                  <a:pt x="838" y="1652"/>
                </a:lnTo>
                <a:lnTo>
                  <a:pt x="847" y="1648"/>
                </a:lnTo>
                <a:lnTo>
                  <a:pt x="857" y="1642"/>
                </a:lnTo>
                <a:lnTo>
                  <a:pt x="866" y="1637"/>
                </a:lnTo>
                <a:lnTo>
                  <a:pt x="873" y="1629"/>
                </a:lnTo>
                <a:lnTo>
                  <a:pt x="883" y="1624"/>
                </a:lnTo>
                <a:lnTo>
                  <a:pt x="892" y="1616"/>
                </a:lnTo>
                <a:lnTo>
                  <a:pt x="901" y="1609"/>
                </a:lnTo>
                <a:lnTo>
                  <a:pt x="909" y="1601"/>
                </a:lnTo>
                <a:lnTo>
                  <a:pt x="918" y="1592"/>
                </a:lnTo>
                <a:lnTo>
                  <a:pt x="928" y="1584"/>
                </a:lnTo>
                <a:lnTo>
                  <a:pt x="937" y="1575"/>
                </a:lnTo>
                <a:lnTo>
                  <a:pt x="946" y="1566"/>
                </a:lnTo>
                <a:lnTo>
                  <a:pt x="954" y="1556"/>
                </a:lnTo>
                <a:lnTo>
                  <a:pt x="963" y="1547"/>
                </a:lnTo>
                <a:lnTo>
                  <a:pt x="972" y="1538"/>
                </a:lnTo>
                <a:lnTo>
                  <a:pt x="982" y="1529"/>
                </a:lnTo>
                <a:lnTo>
                  <a:pt x="991" y="1517"/>
                </a:lnTo>
                <a:lnTo>
                  <a:pt x="998" y="1506"/>
                </a:lnTo>
                <a:lnTo>
                  <a:pt x="1008" y="1497"/>
                </a:lnTo>
                <a:lnTo>
                  <a:pt x="1017" y="1486"/>
                </a:lnTo>
                <a:lnTo>
                  <a:pt x="1026" y="1476"/>
                </a:lnTo>
                <a:lnTo>
                  <a:pt x="1034" y="1465"/>
                </a:lnTo>
                <a:lnTo>
                  <a:pt x="1043" y="1456"/>
                </a:lnTo>
                <a:lnTo>
                  <a:pt x="1052" y="1445"/>
                </a:lnTo>
                <a:lnTo>
                  <a:pt x="1062" y="1435"/>
                </a:lnTo>
                <a:lnTo>
                  <a:pt x="1071" y="1426"/>
                </a:lnTo>
                <a:lnTo>
                  <a:pt x="1078" y="1415"/>
                </a:lnTo>
                <a:lnTo>
                  <a:pt x="1088" y="1407"/>
                </a:lnTo>
                <a:lnTo>
                  <a:pt x="1097" y="1398"/>
                </a:lnTo>
                <a:lnTo>
                  <a:pt x="1106" y="1391"/>
                </a:lnTo>
                <a:lnTo>
                  <a:pt x="1116" y="1381"/>
                </a:lnTo>
                <a:lnTo>
                  <a:pt x="1123" y="1374"/>
                </a:lnTo>
                <a:lnTo>
                  <a:pt x="1132" y="1368"/>
                </a:lnTo>
                <a:lnTo>
                  <a:pt x="1142" y="1363"/>
                </a:lnTo>
                <a:lnTo>
                  <a:pt x="1151" y="1357"/>
                </a:lnTo>
                <a:lnTo>
                  <a:pt x="1159" y="1351"/>
                </a:lnTo>
                <a:lnTo>
                  <a:pt x="1168" y="1348"/>
                </a:lnTo>
                <a:lnTo>
                  <a:pt x="1177" y="1344"/>
                </a:lnTo>
                <a:lnTo>
                  <a:pt x="1186" y="1340"/>
                </a:lnTo>
                <a:lnTo>
                  <a:pt x="1196" y="1338"/>
                </a:lnTo>
                <a:lnTo>
                  <a:pt x="1203" y="1335"/>
                </a:lnTo>
                <a:lnTo>
                  <a:pt x="1213" y="1335"/>
                </a:lnTo>
                <a:lnTo>
                  <a:pt x="1222" y="1333"/>
                </a:lnTo>
                <a:lnTo>
                  <a:pt x="1231" y="1331"/>
                </a:lnTo>
                <a:lnTo>
                  <a:pt x="1240" y="1331"/>
                </a:lnTo>
                <a:lnTo>
                  <a:pt x="1248" y="1331"/>
                </a:lnTo>
                <a:lnTo>
                  <a:pt x="1257" y="1331"/>
                </a:lnTo>
                <a:lnTo>
                  <a:pt x="1267" y="1331"/>
                </a:lnTo>
                <a:lnTo>
                  <a:pt x="1276" y="1331"/>
                </a:lnTo>
                <a:lnTo>
                  <a:pt x="1283" y="1333"/>
                </a:lnTo>
                <a:lnTo>
                  <a:pt x="1293" y="1333"/>
                </a:lnTo>
                <a:lnTo>
                  <a:pt x="1302" y="1333"/>
                </a:lnTo>
                <a:lnTo>
                  <a:pt x="1311" y="1333"/>
                </a:lnTo>
                <a:lnTo>
                  <a:pt x="1321" y="1333"/>
                </a:lnTo>
                <a:lnTo>
                  <a:pt x="1328" y="1333"/>
                </a:lnTo>
                <a:lnTo>
                  <a:pt x="1337" y="1333"/>
                </a:lnTo>
                <a:lnTo>
                  <a:pt x="1347" y="1331"/>
                </a:lnTo>
                <a:lnTo>
                  <a:pt x="1356" y="1331"/>
                </a:lnTo>
                <a:lnTo>
                  <a:pt x="1365" y="1327"/>
                </a:lnTo>
                <a:lnTo>
                  <a:pt x="1373" y="1325"/>
                </a:lnTo>
                <a:lnTo>
                  <a:pt x="1382" y="1322"/>
                </a:lnTo>
                <a:lnTo>
                  <a:pt x="1391" y="1318"/>
                </a:lnTo>
                <a:lnTo>
                  <a:pt x="1401" y="1312"/>
                </a:lnTo>
                <a:lnTo>
                  <a:pt x="1408" y="1307"/>
                </a:lnTo>
                <a:lnTo>
                  <a:pt x="1417" y="1299"/>
                </a:lnTo>
                <a:lnTo>
                  <a:pt x="1427" y="1292"/>
                </a:lnTo>
                <a:lnTo>
                  <a:pt x="1436" y="1282"/>
                </a:lnTo>
                <a:lnTo>
                  <a:pt x="1445" y="1271"/>
                </a:lnTo>
                <a:lnTo>
                  <a:pt x="1453" y="1260"/>
                </a:lnTo>
                <a:lnTo>
                  <a:pt x="1462" y="1249"/>
                </a:lnTo>
                <a:lnTo>
                  <a:pt x="1472" y="1234"/>
                </a:lnTo>
                <a:lnTo>
                  <a:pt x="1481" y="1219"/>
                </a:lnTo>
                <a:lnTo>
                  <a:pt x="1490" y="1204"/>
                </a:lnTo>
                <a:lnTo>
                  <a:pt x="1498" y="1187"/>
                </a:lnTo>
                <a:lnTo>
                  <a:pt x="1507" y="1169"/>
                </a:lnTo>
                <a:lnTo>
                  <a:pt x="1516" y="1148"/>
                </a:lnTo>
                <a:lnTo>
                  <a:pt x="1526" y="1130"/>
                </a:lnTo>
                <a:lnTo>
                  <a:pt x="1533" y="1107"/>
                </a:lnTo>
                <a:lnTo>
                  <a:pt x="1542" y="1087"/>
                </a:lnTo>
                <a:lnTo>
                  <a:pt x="1552" y="1064"/>
                </a:lnTo>
                <a:lnTo>
                  <a:pt x="1561" y="1040"/>
                </a:lnTo>
                <a:lnTo>
                  <a:pt x="1570" y="1016"/>
                </a:lnTo>
                <a:lnTo>
                  <a:pt x="1578" y="990"/>
                </a:lnTo>
                <a:lnTo>
                  <a:pt x="1587" y="964"/>
                </a:lnTo>
                <a:lnTo>
                  <a:pt x="1596" y="938"/>
                </a:lnTo>
                <a:lnTo>
                  <a:pt x="1606" y="910"/>
                </a:lnTo>
                <a:lnTo>
                  <a:pt x="1615" y="884"/>
                </a:lnTo>
                <a:lnTo>
                  <a:pt x="1622" y="856"/>
                </a:lnTo>
                <a:lnTo>
                  <a:pt x="1632" y="830"/>
                </a:lnTo>
                <a:lnTo>
                  <a:pt x="1641" y="802"/>
                </a:lnTo>
                <a:lnTo>
                  <a:pt x="1650" y="776"/>
                </a:lnTo>
                <a:lnTo>
                  <a:pt x="1658" y="751"/>
                </a:lnTo>
                <a:lnTo>
                  <a:pt x="1667" y="725"/>
                </a:lnTo>
                <a:lnTo>
                  <a:pt x="1676" y="701"/>
                </a:lnTo>
                <a:lnTo>
                  <a:pt x="1686" y="679"/>
                </a:lnTo>
                <a:lnTo>
                  <a:pt x="1695" y="658"/>
                </a:lnTo>
                <a:lnTo>
                  <a:pt x="1703" y="636"/>
                </a:lnTo>
                <a:lnTo>
                  <a:pt x="1712" y="617"/>
                </a:lnTo>
                <a:lnTo>
                  <a:pt x="1721" y="600"/>
                </a:lnTo>
                <a:lnTo>
                  <a:pt x="1730" y="585"/>
                </a:lnTo>
                <a:lnTo>
                  <a:pt x="1740" y="571"/>
                </a:lnTo>
                <a:lnTo>
                  <a:pt x="1747" y="559"/>
                </a:lnTo>
                <a:lnTo>
                  <a:pt x="1757" y="550"/>
                </a:lnTo>
                <a:lnTo>
                  <a:pt x="1766" y="543"/>
                </a:lnTo>
                <a:lnTo>
                  <a:pt x="1775" y="537"/>
                </a:lnTo>
                <a:lnTo>
                  <a:pt x="1784" y="533"/>
                </a:lnTo>
                <a:lnTo>
                  <a:pt x="1792" y="531"/>
                </a:lnTo>
                <a:lnTo>
                  <a:pt x="1801" y="533"/>
                </a:lnTo>
                <a:lnTo>
                  <a:pt x="1811" y="535"/>
                </a:lnTo>
                <a:lnTo>
                  <a:pt x="1820" y="541"/>
                </a:lnTo>
                <a:lnTo>
                  <a:pt x="1827" y="546"/>
                </a:lnTo>
                <a:lnTo>
                  <a:pt x="1837" y="556"/>
                </a:lnTo>
                <a:lnTo>
                  <a:pt x="1846" y="565"/>
                </a:lnTo>
                <a:lnTo>
                  <a:pt x="1855" y="576"/>
                </a:lnTo>
                <a:lnTo>
                  <a:pt x="1865" y="591"/>
                </a:lnTo>
                <a:lnTo>
                  <a:pt x="1872" y="606"/>
                </a:lnTo>
                <a:lnTo>
                  <a:pt x="1881" y="621"/>
                </a:lnTo>
                <a:lnTo>
                  <a:pt x="1891" y="640"/>
                </a:lnTo>
                <a:lnTo>
                  <a:pt x="1900" y="656"/>
                </a:lnTo>
                <a:lnTo>
                  <a:pt x="1909" y="675"/>
                </a:lnTo>
                <a:lnTo>
                  <a:pt x="1917" y="695"/>
                </a:lnTo>
                <a:lnTo>
                  <a:pt x="1926" y="716"/>
                </a:lnTo>
                <a:lnTo>
                  <a:pt x="1935" y="736"/>
                </a:lnTo>
                <a:lnTo>
                  <a:pt x="1945" y="759"/>
                </a:lnTo>
                <a:lnTo>
                  <a:pt x="1952" y="779"/>
                </a:lnTo>
                <a:lnTo>
                  <a:pt x="1961" y="800"/>
                </a:lnTo>
                <a:lnTo>
                  <a:pt x="1971" y="820"/>
                </a:lnTo>
                <a:lnTo>
                  <a:pt x="1980" y="841"/>
                </a:lnTo>
                <a:lnTo>
                  <a:pt x="1989" y="859"/>
                </a:lnTo>
                <a:lnTo>
                  <a:pt x="1997" y="878"/>
                </a:lnTo>
                <a:lnTo>
                  <a:pt x="2006" y="893"/>
                </a:lnTo>
                <a:lnTo>
                  <a:pt x="2015" y="910"/>
                </a:lnTo>
                <a:lnTo>
                  <a:pt x="2025" y="923"/>
                </a:lnTo>
                <a:lnTo>
                  <a:pt x="2034" y="936"/>
                </a:lnTo>
                <a:lnTo>
                  <a:pt x="2042" y="947"/>
                </a:lnTo>
                <a:lnTo>
                  <a:pt x="2051" y="958"/>
                </a:lnTo>
                <a:lnTo>
                  <a:pt x="2060" y="966"/>
                </a:lnTo>
                <a:lnTo>
                  <a:pt x="2070" y="971"/>
                </a:lnTo>
                <a:lnTo>
                  <a:pt x="2077" y="975"/>
                </a:lnTo>
                <a:lnTo>
                  <a:pt x="2086" y="977"/>
                </a:lnTo>
                <a:lnTo>
                  <a:pt x="2096" y="979"/>
                </a:lnTo>
                <a:lnTo>
                  <a:pt x="2105" y="977"/>
                </a:lnTo>
                <a:lnTo>
                  <a:pt x="2114" y="973"/>
                </a:lnTo>
                <a:lnTo>
                  <a:pt x="2122" y="968"/>
                </a:lnTo>
                <a:lnTo>
                  <a:pt x="2131" y="960"/>
                </a:lnTo>
                <a:lnTo>
                  <a:pt x="2140" y="949"/>
                </a:lnTo>
                <a:lnTo>
                  <a:pt x="2150" y="936"/>
                </a:lnTo>
                <a:lnTo>
                  <a:pt x="2159" y="921"/>
                </a:lnTo>
                <a:lnTo>
                  <a:pt x="2166" y="906"/>
                </a:lnTo>
                <a:lnTo>
                  <a:pt x="2176" y="887"/>
                </a:lnTo>
                <a:lnTo>
                  <a:pt x="2185" y="867"/>
                </a:lnTo>
                <a:lnTo>
                  <a:pt x="2194" y="845"/>
                </a:lnTo>
                <a:lnTo>
                  <a:pt x="2202" y="820"/>
                </a:lnTo>
                <a:lnTo>
                  <a:pt x="2211" y="792"/>
                </a:lnTo>
                <a:lnTo>
                  <a:pt x="2220" y="763"/>
                </a:lnTo>
                <a:lnTo>
                  <a:pt x="2230" y="733"/>
                </a:lnTo>
                <a:lnTo>
                  <a:pt x="2239" y="699"/>
                </a:lnTo>
                <a:lnTo>
                  <a:pt x="2246" y="667"/>
                </a:lnTo>
                <a:lnTo>
                  <a:pt x="2256" y="632"/>
                </a:lnTo>
                <a:lnTo>
                  <a:pt x="2265" y="597"/>
                </a:lnTo>
                <a:lnTo>
                  <a:pt x="2274" y="559"/>
                </a:lnTo>
                <a:lnTo>
                  <a:pt x="2284" y="520"/>
                </a:lnTo>
                <a:lnTo>
                  <a:pt x="2291" y="481"/>
                </a:lnTo>
                <a:lnTo>
                  <a:pt x="2301" y="440"/>
                </a:lnTo>
                <a:lnTo>
                  <a:pt x="2310" y="401"/>
                </a:lnTo>
                <a:lnTo>
                  <a:pt x="2319" y="364"/>
                </a:lnTo>
                <a:lnTo>
                  <a:pt x="2327" y="325"/>
                </a:lnTo>
                <a:lnTo>
                  <a:pt x="2336" y="287"/>
                </a:lnTo>
                <a:lnTo>
                  <a:pt x="2345" y="250"/>
                </a:lnTo>
                <a:lnTo>
                  <a:pt x="2355" y="215"/>
                </a:lnTo>
                <a:lnTo>
                  <a:pt x="2364" y="183"/>
                </a:lnTo>
                <a:lnTo>
                  <a:pt x="2371" y="149"/>
                </a:lnTo>
                <a:lnTo>
                  <a:pt x="2381" y="121"/>
                </a:lnTo>
                <a:lnTo>
                  <a:pt x="2390" y="93"/>
                </a:lnTo>
                <a:lnTo>
                  <a:pt x="2399" y="69"/>
                </a:lnTo>
                <a:lnTo>
                  <a:pt x="2409" y="49"/>
                </a:lnTo>
                <a:lnTo>
                  <a:pt x="2416" y="30"/>
                </a:lnTo>
                <a:lnTo>
                  <a:pt x="2425" y="17"/>
                </a:lnTo>
                <a:lnTo>
                  <a:pt x="2435" y="8"/>
                </a:lnTo>
                <a:lnTo>
                  <a:pt x="2444" y="2"/>
                </a:lnTo>
                <a:lnTo>
                  <a:pt x="2451" y="0"/>
                </a:lnTo>
                <a:lnTo>
                  <a:pt x="2461" y="2"/>
                </a:lnTo>
                <a:lnTo>
                  <a:pt x="2470" y="8"/>
                </a:lnTo>
                <a:lnTo>
                  <a:pt x="2479" y="17"/>
                </a:lnTo>
                <a:lnTo>
                  <a:pt x="2489" y="32"/>
                </a:lnTo>
                <a:lnTo>
                  <a:pt x="2496" y="51"/>
                </a:lnTo>
                <a:lnTo>
                  <a:pt x="2505" y="73"/>
                </a:lnTo>
                <a:lnTo>
                  <a:pt x="2515" y="99"/>
                </a:lnTo>
                <a:lnTo>
                  <a:pt x="2524" y="131"/>
                </a:lnTo>
                <a:lnTo>
                  <a:pt x="2533" y="161"/>
                </a:lnTo>
                <a:lnTo>
                  <a:pt x="2541" y="196"/>
                </a:lnTo>
                <a:lnTo>
                  <a:pt x="2550" y="235"/>
                </a:lnTo>
                <a:lnTo>
                  <a:pt x="2559" y="276"/>
                </a:lnTo>
                <a:lnTo>
                  <a:pt x="2569" y="321"/>
                </a:lnTo>
                <a:lnTo>
                  <a:pt x="2576" y="367"/>
                </a:lnTo>
                <a:lnTo>
                  <a:pt x="2586" y="416"/>
                </a:lnTo>
                <a:lnTo>
                  <a:pt x="2595" y="466"/>
                </a:lnTo>
                <a:lnTo>
                  <a:pt x="2604" y="515"/>
                </a:lnTo>
                <a:lnTo>
                  <a:pt x="2613" y="565"/>
                </a:lnTo>
                <a:lnTo>
                  <a:pt x="2621" y="617"/>
                </a:lnTo>
                <a:lnTo>
                  <a:pt x="2630" y="669"/>
                </a:lnTo>
                <a:lnTo>
                  <a:pt x="2640" y="723"/>
                </a:lnTo>
                <a:lnTo>
                  <a:pt x="2649" y="776"/>
                </a:lnTo>
                <a:lnTo>
                  <a:pt x="2658" y="828"/>
                </a:lnTo>
                <a:lnTo>
                  <a:pt x="2666" y="880"/>
                </a:lnTo>
                <a:lnTo>
                  <a:pt x="2675" y="932"/>
                </a:lnTo>
                <a:lnTo>
                  <a:pt x="2684" y="982"/>
                </a:lnTo>
                <a:lnTo>
                  <a:pt x="2694" y="1031"/>
                </a:lnTo>
                <a:lnTo>
                  <a:pt x="2701" y="1079"/>
                </a:lnTo>
                <a:lnTo>
                  <a:pt x="2710" y="1128"/>
                </a:lnTo>
                <a:lnTo>
                  <a:pt x="2720" y="1174"/>
                </a:lnTo>
                <a:lnTo>
                  <a:pt x="2729" y="1219"/>
                </a:lnTo>
                <a:lnTo>
                  <a:pt x="2738" y="1262"/>
                </a:lnTo>
                <a:lnTo>
                  <a:pt x="2746" y="1305"/>
                </a:lnTo>
                <a:lnTo>
                  <a:pt x="2755" y="1344"/>
                </a:lnTo>
                <a:lnTo>
                  <a:pt x="2764" y="1381"/>
                </a:lnTo>
                <a:lnTo>
                  <a:pt x="2774" y="1419"/>
                </a:lnTo>
                <a:lnTo>
                  <a:pt x="2783" y="1454"/>
                </a:lnTo>
                <a:lnTo>
                  <a:pt x="2790" y="1489"/>
                </a:lnTo>
                <a:lnTo>
                  <a:pt x="2800" y="1521"/>
                </a:lnTo>
                <a:lnTo>
                  <a:pt x="2809" y="1551"/>
                </a:lnTo>
                <a:lnTo>
                  <a:pt x="2818" y="1581"/>
                </a:lnTo>
                <a:lnTo>
                  <a:pt x="2826" y="1609"/>
                </a:lnTo>
                <a:lnTo>
                  <a:pt x="2835" y="1635"/>
                </a:lnTo>
                <a:lnTo>
                  <a:pt x="2845" y="1661"/>
                </a:lnTo>
                <a:lnTo>
                  <a:pt x="2854" y="1685"/>
                </a:lnTo>
                <a:lnTo>
                  <a:pt x="2863" y="1709"/>
                </a:lnTo>
                <a:lnTo>
                  <a:pt x="2871" y="1730"/>
                </a:lnTo>
                <a:lnTo>
                  <a:pt x="2880" y="1752"/>
                </a:lnTo>
                <a:lnTo>
                  <a:pt x="2889" y="1771"/>
                </a:lnTo>
                <a:lnTo>
                  <a:pt x="2899" y="1789"/>
                </a:lnTo>
                <a:lnTo>
                  <a:pt x="2908" y="1808"/>
                </a:lnTo>
                <a:lnTo>
                  <a:pt x="2915" y="1825"/>
                </a:lnTo>
                <a:lnTo>
                  <a:pt x="2925" y="1842"/>
                </a:lnTo>
                <a:lnTo>
                  <a:pt x="2934" y="1857"/>
                </a:lnTo>
                <a:lnTo>
                  <a:pt x="2943" y="1870"/>
                </a:lnTo>
                <a:lnTo>
                  <a:pt x="2951" y="1884"/>
                </a:lnTo>
                <a:lnTo>
                  <a:pt x="2960" y="1898"/>
                </a:lnTo>
                <a:lnTo>
                  <a:pt x="2969" y="1909"/>
                </a:lnTo>
                <a:lnTo>
                  <a:pt x="2979" y="1920"/>
                </a:lnTo>
                <a:lnTo>
                  <a:pt x="2988" y="1931"/>
                </a:lnTo>
                <a:lnTo>
                  <a:pt x="2995" y="1942"/>
                </a:lnTo>
                <a:lnTo>
                  <a:pt x="3005" y="1952"/>
                </a:lnTo>
                <a:lnTo>
                  <a:pt x="3014" y="1961"/>
                </a:lnTo>
                <a:lnTo>
                  <a:pt x="3023" y="1968"/>
                </a:lnTo>
                <a:lnTo>
                  <a:pt x="3033" y="1978"/>
                </a:lnTo>
                <a:lnTo>
                  <a:pt x="3040" y="1985"/>
                </a:lnTo>
                <a:lnTo>
                  <a:pt x="3049" y="1991"/>
                </a:lnTo>
                <a:lnTo>
                  <a:pt x="3059" y="1998"/>
                </a:lnTo>
                <a:lnTo>
                  <a:pt x="3068" y="2006"/>
                </a:lnTo>
                <a:lnTo>
                  <a:pt x="3076" y="2011"/>
                </a:lnTo>
                <a:lnTo>
                  <a:pt x="3085" y="2017"/>
                </a:lnTo>
                <a:lnTo>
                  <a:pt x="3094" y="2022"/>
                </a:lnTo>
                <a:lnTo>
                  <a:pt x="3103" y="2028"/>
                </a:lnTo>
                <a:lnTo>
                  <a:pt x="3113" y="2032"/>
                </a:lnTo>
                <a:lnTo>
                  <a:pt x="3120" y="2035"/>
                </a:lnTo>
                <a:lnTo>
                  <a:pt x="3130" y="2041"/>
                </a:lnTo>
                <a:lnTo>
                  <a:pt x="3139" y="2045"/>
                </a:lnTo>
                <a:lnTo>
                  <a:pt x="3148" y="2048"/>
                </a:lnTo>
                <a:lnTo>
                  <a:pt x="3157" y="2052"/>
                </a:lnTo>
                <a:lnTo>
                  <a:pt x="3165" y="2054"/>
                </a:lnTo>
                <a:lnTo>
                  <a:pt x="3174" y="2058"/>
                </a:lnTo>
                <a:lnTo>
                  <a:pt x="3184" y="2062"/>
                </a:lnTo>
                <a:lnTo>
                  <a:pt x="3193" y="2063"/>
                </a:lnTo>
                <a:lnTo>
                  <a:pt x="3200" y="2067"/>
                </a:lnTo>
                <a:lnTo>
                  <a:pt x="3210" y="2069"/>
                </a:lnTo>
                <a:lnTo>
                  <a:pt x="3219" y="2071"/>
                </a:lnTo>
                <a:lnTo>
                  <a:pt x="3228" y="2075"/>
                </a:lnTo>
                <a:lnTo>
                  <a:pt x="3238" y="2076"/>
                </a:lnTo>
                <a:lnTo>
                  <a:pt x="3245" y="2078"/>
                </a:lnTo>
                <a:lnTo>
                  <a:pt x="3254" y="2080"/>
                </a:lnTo>
                <a:lnTo>
                  <a:pt x="3264" y="2082"/>
                </a:lnTo>
                <a:lnTo>
                  <a:pt x="3273" y="2084"/>
                </a:lnTo>
                <a:lnTo>
                  <a:pt x="3282" y="2086"/>
                </a:lnTo>
                <a:lnTo>
                  <a:pt x="3290" y="2088"/>
                </a:lnTo>
                <a:lnTo>
                  <a:pt x="3299" y="2089"/>
                </a:lnTo>
                <a:lnTo>
                  <a:pt x="3308" y="2091"/>
                </a:lnTo>
                <a:lnTo>
                  <a:pt x="3318" y="2093"/>
                </a:lnTo>
                <a:lnTo>
                  <a:pt x="3325" y="2095"/>
                </a:lnTo>
                <a:lnTo>
                  <a:pt x="3334" y="2097"/>
                </a:lnTo>
                <a:lnTo>
                  <a:pt x="3344" y="2097"/>
                </a:lnTo>
                <a:lnTo>
                  <a:pt x="3353" y="2099"/>
                </a:lnTo>
                <a:lnTo>
                  <a:pt x="3362" y="2101"/>
                </a:lnTo>
                <a:lnTo>
                  <a:pt x="3370" y="2103"/>
                </a:lnTo>
                <a:lnTo>
                  <a:pt x="3379" y="2103"/>
                </a:lnTo>
                <a:lnTo>
                  <a:pt x="3388" y="2104"/>
                </a:lnTo>
                <a:lnTo>
                  <a:pt x="3398" y="2106"/>
                </a:lnTo>
                <a:lnTo>
                  <a:pt x="3407" y="2106"/>
                </a:lnTo>
                <a:lnTo>
                  <a:pt x="3415" y="2108"/>
                </a:lnTo>
                <a:lnTo>
                  <a:pt x="3424" y="2110"/>
                </a:lnTo>
                <a:lnTo>
                  <a:pt x="3433" y="2110"/>
                </a:lnTo>
                <a:lnTo>
                  <a:pt x="3443" y="2112"/>
                </a:lnTo>
                <a:lnTo>
                  <a:pt x="3450" y="2112"/>
                </a:lnTo>
                <a:lnTo>
                  <a:pt x="3459" y="2114"/>
                </a:lnTo>
                <a:lnTo>
                  <a:pt x="3469" y="2114"/>
                </a:lnTo>
                <a:lnTo>
                  <a:pt x="3478" y="2116"/>
                </a:lnTo>
                <a:lnTo>
                  <a:pt x="3487" y="2116"/>
                </a:lnTo>
                <a:lnTo>
                  <a:pt x="3495" y="2117"/>
                </a:lnTo>
                <a:lnTo>
                  <a:pt x="3504" y="2117"/>
                </a:lnTo>
                <a:lnTo>
                  <a:pt x="3513" y="2117"/>
                </a:lnTo>
                <a:lnTo>
                  <a:pt x="3523" y="2119"/>
                </a:lnTo>
                <a:lnTo>
                  <a:pt x="3532" y="2119"/>
                </a:lnTo>
                <a:lnTo>
                  <a:pt x="3539" y="2119"/>
                </a:lnTo>
                <a:lnTo>
                  <a:pt x="3549" y="2121"/>
                </a:lnTo>
                <a:lnTo>
                  <a:pt x="3558" y="2121"/>
                </a:lnTo>
                <a:lnTo>
                  <a:pt x="3567" y="2121"/>
                </a:lnTo>
              </a:path>
            </a:pathLst>
          </a:cu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任意多边形 261"/>
          <p:cNvSpPr/>
          <p:nvPr/>
        </p:nvSpPr>
        <p:spPr>
          <a:xfrm>
            <a:off x="2228760" y="1447920"/>
            <a:ext cx="5662800" cy="406080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4060800"/>
              <a:gd name="textAreaBottom" fmla="*/ 4061160 h 4060800"/>
            </a:gdLst>
            <a:ahLst/>
            <a:rect l="textAreaLeft" t="textAreaTop" r="textAreaRight" b="textAreaBottom"/>
            <a:pathLst>
              <a:path w="3567" h="2558">
                <a:moveTo>
                  <a:pt x="0" y="2012"/>
                </a:moveTo>
                <a:lnTo>
                  <a:pt x="9" y="2014"/>
                </a:lnTo>
                <a:lnTo>
                  <a:pt x="18" y="2016"/>
                </a:lnTo>
                <a:lnTo>
                  <a:pt x="28" y="2018"/>
                </a:lnTo>
                <a:lnTo>
                  <a:pt x="35" y="2022"/>
                </a:lnTo>
                <a:lnTo>
                  <a:pt x="44" y="2025"/>
                </a:lnTo>
                <a:lnTo>
                  <a:pt x="54" y="2029"/>
                </a:lnTo>
                <a:lnTo>
                  <a:pt x="63" y="2033"/>
                </a:lnTo>
                <a:lnTo>
                  <a:pt x="72" y="2037"/>
                </a:lnTo>
                <a:lnTo>
                  <a:pt x="80" y="2042"/>
                </a:lnTo>
                <a:lnTo>
                  <a:pt x="89" y="2048"/>
                </a:lnTo>
                <a:lnTo>
                  <a:pt x="99" y="2052"/>
                </a:lnTo>
                <a:lnTo>
                  <a:pt x="108" y="2057"/>
                </a:lnTo>
                <a:lnTo>
                  <a:pt x="117" y="2061"/>
                </a:lnTo>
                <a:lnTo>
                  <a:pt x="125" y="2066"/>
                </a:lnTo>
                <a:lnTo>
                  <a:pt x="134" y="2070"/>
                </a:lnTo>
                <a:lnTo>
                  <a:pt x="143" y="2074"/>
                </a:lnTo>
                <a:lnTo>
                  <a:pt x="153" y="2079"/>
                </a:lnTo>
                <a:lnTo>
                  <a:pt x="160" y="2083"/>
                </a:lnTo>
                <a:lnTo>
                  <a:pt x="169" y="2089"/>
                </a:lnTo>
                <a:lnTo>
                  <a:pt x="179" y="2093"/>
                </a:lnTo>
                <a:lnTo>
                  <a:pt x="188" y="2096"/>
                </a:lnTo>
                <a:lnTo>
                  <a:pt x="197" y="2100"/>
                </a:lnTo>
                <a:lnTo>
                  <a:pt x="205" y="2102"/>
                </a:lnTo>
                <a:lnTo>
                  <a:pt x="214" y="2106"/>
                </a:lnTo>
                <a:lnTo>
                  <a:pt x="223" y="2109"/>
                </a:lnTo>
                <a:lnTo>
                  <a:pt x="233" y="2111"/>
                </a:lnTo>
                <a:lnTo>
                  <a:pt x="242" y="2113"/>
                </a:lnTo>
                <a:lnTo>
                  <a:pt x="249" y="2115"/>
                </a:lnTo>
                <a:lnTo>
                  <a:pt x="259" y="2117"/>
                </a:lnTo>
                <a:lnTo>
                  <a:pt x="268" y="2119"/>
                </a:lnTo>
                <a:lnTo>
                  <a:pt x="277" y="2120"/>
                </a:lnTo>
                <a:lnTo>
                  <a:pt x="285" y="2122"/>
                </a:lnTo>
                <a:lnTo>
                  <a:pt x="294" y="2122"/>
                </a:lnTo>
                <a:lnTo>
                  <a:pt x="303" y="2124"/>
                </a:lnTo>
                <a:lnTo>
                  <a:pt x="313" y="2124"/>
                </a:lnTo>
                <a:lnTo>
                  <a:pt x="322" y="2124"/>
                </a:lnTo>
                <a:lnTo>
                  <a:pt x="330" y="2124"/>
                </a:lnTo>
                <a:lnTo>
                  <a:pt x="339" y="2124"/>
                </a:lnTo>
                <a:lnTo>
                  <a:pt x="348" y="2124"/>
                </a:lnTo>
                <a:lnTo>
                  <a:pt x="357" y="2124"/>
                </a:lnTo>
                <a:lnTo>
                  <a:pt x="367" y="2124"/>
                </a:lnTo>
                <a:lnTo>
                  <a:pt x="374" y="2122"/>
                </a:lnTo>
                <a:lnTo>
                  <a:pt x="384" y="2120"/>
                </a:lnTo>
                <a:lnTo>
                  <a:pt x="393" y="2120"/>
                </a:lnTo>
                <a:lnTo>
                  <a:pt x="402" y="2119"/>
                </a:lnTo>
                <a:lnTo>
                  <a:pt x="410" y="2117"/>
                </a:lnTo>
                <a:lnTo>
                  <a:pt x="419" y="2115"/>
                </a:lnTo>
                <a:lnTo>
                  <a:pt x="428" y="2113"/>
                </a:lnTo>
                <a:lnTo>
                  <a:pt x="438" y="2109"/>
                </a:lnTo>
                <a:lnTo>
                  <a:pt x="447" y="2107"/>
                </a:lnTo>
                <a:lnTo>
                  <a:pt x="454" y="2106"/>
                </a:lnTo>
                <a:lnTo>
                  <a:pt x="464" y="2104"/>
                </a:lnTo>
                <a:lnTo>
                  <a:pt x="473" y="2100"/>
                </a:lnTo>
                <a:lnTo>
                  <a:pt x="482" y="2098"/>
                </a:lnTo>
                <a:lnTo>
                  <a:pt x="492" y="2094"/>
                </a:lnTo>
                <a:lnTo>
                  <a:pt x="499" y="2093"/>
                </a:lnTo>
                <a:lnTo>
                  <a:pt x="508" y="2091"/>
                </a:lnTo>
                <a:lnTo>
                  <a:pt x="518" y="2087"/>
                </a:lnTo>
                <a:lnTo>
                  <a:pt x="527" y="2085"/>
                </a:lnTo>
                <a:lnTo>
                  <a:pt x="534" y="2083"/>
                </a:lnTo>
                <a:lnTo>
                  <a:pt x="544" y="2079"/>
                </a:lnTo>
                <a:lnTo>
                  <a:pt x="553" y="2078"/>
                </a:lnTo>
                <a:lnTo>
                  <a:pt x="562" y="2076"/>
                </a:lnTo>
                <a:lnTo>
                  <a:pt x="572" y="2074"/>
                </a:lnTo>
                <a:lnTo>
                  <a:pt x="579" y="2070"/>
                </a:lnTo>
                <a:lnTo>
                  <a:pt x="588" y="2068"/>
                </a:lnTo>
                <a:lnTo>
                  <a:pt x="598" y="2068"/>
                </a:lnTo>
                <a:lnTo>
                  <a:pt x="607" y="2066"/>
                </a:lnTo>
                <a:lnTo>
                  <a:pt x="616" y="2065"/>
                </a:lnTo>
                <a:lnTo>
                  <a:pt x="624" y="2063"/>
                </a:lnTo>
                <a:lnTo>
                  <a:pt x="633" y="2061"/>
                </a:lnTo>
                <a:lnTo>
                  <a:pt x="642" y="2059"/>
                </a:lnTo>
                <a:lnTo>
                  <a:pt x="652" y="2057"/>
                </a:lnTo>
                <a:lnTo>
                  <a:pt x="659" y="2055"/>
                </a:lnTo>
                <a:lnTo>
                  <a:pt x="669" y="2055"/>
                </a:lnTo>
                <a:lnTo>
                  <a:pt x="678" y="2053"/>
                </a:lnTo>
                <a:lnTo>
                  <a:pt x="687" y="2052"/>
                </a:lnTo>
                <a:lnTo>
                  <a:pt x="697" y="2050"/>
                </a:lnTo>
                <a:lnTo>
                  <a:pt x="704" y="2048"/>
                </a:lnTo>
                <a:lnTo>
                  <a:pt x="713" y="2046"/>
                </a:lnTo>
                <a:lnTo>
                  <a:pt x="723" y="2044"/>
                </a:lnTo>
                <a:lnTo>
                  <a:pt x="732" y="2042"/>
                </a:lnTo>
                <a:lnTo>
                  <a:pt x="741" y="2038"/>
                </a:lnTo>
                <a:lnTo>
                  <a:pt x="749" y="2037"/>
                </a:lnTo>
                <a:lnTo>
                  <a:pt x="758" y="2035"/>
                </a:lnTo>
                <a:lnTo>
                  <a:pt x="767" y="2031"/>
                </a:lnTo>
                <a:lnTo>
                  <a:pt x="777" y="2029"/>
                </a:lnTo>
                <a:lnTo>
                  <a:pt x="784" y="2025"/>
                </a:lnTo>
                <a:lnTo>
                  <a:pt x="793" y="2022"/>
                </a:lnTo>
                <a:lnTo>
                  <a:pt x="803" y="2018"/>
                </a:lnTo>
                <a:lnTo>
                  <a:pt x="812" y="2014"/>
                </a:lnTo>
                <a:lnTo>
                  <a:pt x="821" y="2009"/>
                </a:lnTo>
                <a:lnTo>
                  <a:pt x="829" y="2005"/>
                </a:lnTo>
                <a:lnTo>
                  <a:pt x="838" y="1999"/>
                </a:lnTo>
                <a:lnTo>
                  <a:pt x="847" y="1992"/>
                </a:lnTo>
                <a:lnTo>
                  <a:pt x="857" y="1986"/>
                </a:lnTo>
                <a:lnTo>
                  <a:pt x="866" y="1979"/>
                </a:lnTo>
                <a:lnTo>
                  <a:pt x="873" y="1971"/>
                </a:lnTo>
                <a:lnTo>
                  <a:pt x="883" y="1962"/>
                </a:lnTo>
                <a:lnTo>
                  <a:pt x="892" y="1955"/>
                </a:lnTo>
                <a:lnTo>
                  <a:pt x="901" y="1945"/>
                </a:lnTo>
                <a:lnTo>
                  <a:pt x="909" y="1936"/>
                </a:lnTo>
                <a:lnTo>
                  <a:pt x="918" y="1925"/>
                </a:lnTo>
                <a:lnTo>
                  <a:pt x="928" y="1915"/>
                </a:lnTo>
                <a:lnTo>
                  <a:pt x="937" y="1904"/>
                </a:lnTo>
                <a:lnTo>
                  <a:pt x="946" y="1893"/>
                </a:lnTo>
                <a:lnTo>
                  <a:pt x="954" y="1880"/>
                </a:lnTo>
                <a:lnTo>
                  <a:pt x="963" y="1869"/>
                </a:lnTo>
                <a:lnTo>
                  <a:pt x="972" y="1858"/>
                </a:lnTo>
                <a:lnTo>
                  <a:pt x="982" y="1845"/>
                </a:lnTo>
                <a:lnTo>
                  <a:pt x="991" y="1833"/>
                </a:lnTo>
                <a:lnTo>
                  <a:pt x="998" y="1820"/>
                </a:lnTo>
                <a:lnTo>
                  <a:pt x="1008" y="1807"/>
                </a:lnTo>
                <a:lnTo>
                  <a:pt x="1017" y="1792"/>
                </a:lnTo>
                <a:lnTo>
                  <a:pt x="1026" y="1781"/>
                </a:lnTo>
                <a:lnTo>
                  <a:pt x="1034" y="1768"/>
                </a:lnTo>
                <a:lnTo>
                  <a:pt x="1043" y="1755"/>
                </a:lnTo>
                <a:lnTo>
                  <a:pt x="1052" y="1744"/>
                </a:lnTo>
                <a:lnTo>
                  <a:pt x="1062" y="1733"/>
                </a:lnTo>
                <a:lnTo>
                  <a:pt x="1071" y="1720"/>
                </a:lnTo>
                <a:lnTo>
                  <a:pt x="1078" y="1709"/>
                </a:lnTo>
                <a:lnTo>
                  <a:pt x="1088" y="1697"/>
                </a:lnTo>
                <a:lnTo>
                  <a:pt x="1097" y="1688"/>
                </a:lnTo>
                <a:lnTo>
                  <a:pt x="1106" y="1679"/>
                </a:lnTo>
                <a:lnTo>
                  <a:pt x="1116" y="1669"/>
                </a:lnTo>
                <a:lnTo>
                  <a:pt x="1123" y="1660"/>
                </a:lnTo>
                <a:lnTo>
                  <a:pt x="1132" y="1653"/>
                </a:lnTo>
                <a:lnTo>
                  <a:pt x="1142" y="1645"/>
                </a:lnTo>
                <a:lnTo>
                  <a:pt x="1151" y="1638"/>
                </a:lnTo>
                <a:lnTo>
                  <a:pt x="1159" y="1632"/>
                </a:lnTo>
                <a:lnTo>
                  <a:pt x="1168" y="1627"/>
                </a:lnTo>
                <a:lnTo>
                  <a:pt x="1177" y="1623"/>
                </a:lnTo>
                <a:lnTo>
                  <a:pt x="1186" y="1619"/>
                </a:lnTo>
                <a:lnTo>
                  <a:pt x="1196" y="1615"/>
                </a:lnTo>
                <a:lnTo>
                  <a:pt x="1203" y="1614"/>
                </a:lnTo>
                <a:lnTo>
                  <a:pt x="1213" y="1612"/>
                </a:lnTo>
                <a:lnTo>
                  <a:pt x="1222" y="1610"/>
                </a:lnTo>
                <a:lnTo>
                  <a:pt x="1231" y="1608"/>
                </a:lnTo>
                <a:lnTo>
                  <a:pt x="1240" y="1608"/>
                </a:lnTo>
                <a:lnTo>
                  <a:pt x="1248" y="1608"/>
                </a:lnTo>
                <a:lnTo>
                  <a:pt x="1257" y="1608"/>
                </a:lnTo>
                <a:lnTo>
                  <a:pt x="1267" y="1608"/>
                </a:lnTo>
                <a:lnTo>
                  <a:pt x="1276" y="1610"/>
                </a:lnTo>
                <a:lnTo>
                  <a:pt x="1283" y="1610"/>
                </a:lnTo>
                <a:lnTo>
                  <a:pt x="1293" y="1610"/>
                </a:lnTo>
                <a:lnTo>
                  <a:pt x="1302" y="1612"/>
                </a:lnTo>
                <a:lnTo>
                  <a:pt x="1311" y="1612"/>
                </a:lnTo>
                <a:lnTo>
                  <a:pt x="1321" y="1612"/>
                </a:lnTo>
                <a:lnTo>
                  <a:pt x="1328" y="1612"/>
                </a:lnTo>
                <a:lnTo>
                  <a:pt x="1337" y="1612"/>
                </a:lnTo>
                <a:lnTo>
                  <a:pt x="1347" y="1610"/>
                </a:lnTo>
                <a:lnTo>
                  <a:pt x="1356" y="1608"/>
                </a:lnTo>
                <a:lnTo>
                  <a:pt x="1365" y="1604"/>
                </a:lnTo>
                <a:lnTo>
                  <a:pt x="1373" y="1600"/>
                </a:lnTo>
                <a:lnTo>
                  <a:pt x="1382" y="1597"/>
                </a:lnTo>
                <a:lnTo>
                  <a:pt x="1391" y="1591"/>
                </a:lnTo>
                <a:lnTo>
                  <a:pt x="1401" y="1586"/>
                </a:lnTo>
                <a:lnTo>
                  <a:pt x="1408" y="1578"/>
                </a:lnTo>
                <a:lnTo>
                  <a:pt x="1417" y="1571"/>
                </a:lnTo>
                <a:lnTo>
                  <a:pt x="1427" y="1559"/>
                </a:lnTo>
                <a:lnTo>
                  <a:pt x="1436" y="1548"/>
                </a:lnTo>
                <a:lnTo>
                  <a:pt x="1445" y="1535"/>
                </a:lnTo>
                <a:lnTo>
                  <a:pt x="1453" y="1520"/>
                </a:lnTo>
                <a:lnTo>
                  <a:pt x="1462" y="1505"/>
                </a:lnTo>
                <a:lnTo>
                  <a:pt x="1472" y="1489"/>
                </a:lnTo>
                <a:lnTo>
                  <a:pt x="1481" y="1470"/>
                </a:lnTo>
                <a:lnTo>
                  <a:pt x="1490" y="1450"/>
                </a:lnTo>
                <a:lnTo>
                  <a:pt x="1498" y="1429"/>
                </a:lnTo>
                <a:lnTo>
                  <a:pt x="1507" y="1407"/>
                </a:lnTo>
                <a:lnTo>
                  <a:pt x="1516" y="1382"/>
                </a:lnTo>
                <a:lnTo>
                  <a:pt x="1526" y="1358"/>
                </a:lnTo>
                <a:lnTo>
                  <a:pt x="1533" y="1332"/>
                </a:lnTo>
                <a:lnTo>
                  <a:pt x="1542" y="1306"/>
                </a:lnTo>
                <a:lnTo>
                  <a:pt x="1552" y="1280"/>
                </a:lnTo>
                <a:lnTo>
                  <a:pt x="1561" y="1250"/>
                </a:lnTo>
                <a:lnTo>
                  <a:pt x="1570" y="1220"/>
                </a:lnTo>
                <a:lnTo>
                  <a:pt x="1578" y="1189"/>
                </a:lnTo>
                <a:lnTo>
                  <a:pt x="1587" y="1157"/>
                </a:lnTo>
                <a:lnTo>
                  <a:pt x="1596" y="1125"/>
                </a:lnTo>
                <a:lnTo>
                  <a:pt x="1606" y="1092"/>
                </a:lnTo>
                <a:lnTo>
                  <a:pt x="1615" y="1058"/>
                </a:lnTo>
                <a:lnTo>
                  <a:pt x="1622" y="1025"/>
                </a:lnTo>
                <a:lnTo>
                  <a:pt x="1632" y="993"/>
                </a:lnTo>
                <a:lnTo>
                  <a:pt x="1641" y="959"/>
                </a:lnTo>
                <a:lnTo>
                  <a:pt x="1650" y="928"/>
                </a:lnTo>
                <a:lnTo>
                  <a:pt x="1658" y="896"/>
                </a:lnTo>
                <a:lnTo>
                  <a:pt x="1667" y="866"/>
                </a:lnTo>
                <a:lnTo>
                  <a:pt x="1676" y="836"/>
                </a:lnTo>
                <a:lnTo>
                  <a:pt x="1686" y="810"/>
                </a:lnTo>
                <a:lnTo>
                  <a:pt x="1695" y="784"/>
                </a:lnTo>
                <a:lnTo>
                  <a:pt x="1703" y="760"/>
                </a:lnTo>
                <a:lnTo>
                  <a:pt x="1712" y="738"/>
                </a:lnTo>
                <a:lnTo>
                  <a:pt x="1721" y="717"/>
                </a:lnTo>
                <a:lnTo>
                  <a:pt x="1730" y="700"/>
                </a:lnTo>
                <a:lnTo>
                  <a:pt x="1740" y="684"/>
                </a:lnTo>
                <a:lnTo>
                  <a:pt x="1747" y="669"/>
                </a:lnTo>
                <a:lnTo>
                  <a:pt x="1757" y="657"/>
                </a:lnTo>
                <a:lnTo>
                  <a:pt x="1766" y="648"/>
                </a:lnTo>
                <a:lnTo>
                  <a:pt x="1775" y="643"/>
                </a:lnTo>
                <a:lnTo>
                  <a:pt x="1784" y="639"/>
                </a:lnTo>
                <a:lnTo>
                  <a:pt x="1792" y="639"/>
                </a:lnTo>
                <a:lnTo>
                  <a:pt x="1801" y="641"/>
                </a:lnTo>
                <a:lnTo>
                  <a:pt x="1811" y="644"/>
                </a:lnTo>
                <a:lnTo>
                  <a:pt x="1820" y="652"/>
                </a:lnTo>
                <a:lnTo>
                  <a:pt x="1827" y="661"/>
                </a:lnTo>
                <a:lnTo>
                  <a:pt x="1837" y="672"/>
                </a:lnTo>
                <a:lnTo>
                  <a:pt x="1846" y="685"/>
                </a:lnTo>
                <a:lnTo>
                  <a:pt x="1855" y="700"/>
                </a:lnTo>
                <a:lnTo>
                  <a:pt x="1865" y="717"/>
                </a:lnTo>
                <a:lnTo>
                  <a:pt x="1872" y="736"/>
                </a:lnTo>
                <a:lnTo>
                  <a:pt x="1881" y="756"/>
                </a:lnTo>
                <a:lnTo>
                  <a:pt x="1891" y="777"/>
                </a:lnTo>
                <a:lnTo>
                  <a:pt x="1900" y="799"/>
                </a:lnTo>
                <a:lnTo>
                  <a:pt x="1909" y="821"/>
                </a:lnTo>
                <a:lnTo>
                  <a:pt x="1917" y="846"/>
                </a:lnTo>
                <a:lnTo>
                  <a:pt x="1926" y="872"/>
                </a:lnTo>
                <a:lnTo>
                  <a:pt x="1935" y="896"/>
                </a:lnTo>
                <a:lnTo>
                  <a:pt x="1945" y="922"/>
                </a:lnTo>
                <a:lnTo>
                  <a:pt x="1952" y="948"/>
                </a:lnTo>
                <a:lnTo>
                  <a:pt x="1961" y="972"/>
                </a:lnTo>
                <a:lnTo>
                  <a:pt x="1971" y="997"/>
                </a:lnTo>
                <a:lnTo>
                  <a:pt x="1980" y="1021"/>
                </a:lnTo>
                <a:lnTo>
                  <a:pt x="1989" y="1043"/>
                </a:lnTo>
                <a:lnTo>
                  <a:pt x="1997" y="1066"/>
                </a:lnTo>
                <a:lnTo>
                  <a:pt x="2006" y="1084"/>
                </a:lnTo>
                <a:lnTo>
                  <a:pt x="2015" y="1103"/>
                </a:lnTo>
                <a:lnTo>
                  <a:pt x="2025" y="1120"/>
                </a:lnTo>
                <a:lnTo>
                  <a:pt x="2034" y="1135"/>
                </a:lnTo>
                <a:lnTo>
                  <a:pt x="2042" y="1149"/>
                </a:lnTo>
                <a:lnTo>
                  <a:pt x="2051" y="1161"/>
                </a:lnTo>
                <a:lnTo>
                  <a:pt x="2060" y="1168"/>
                </a:lnTo>
                <a:lnTo>
                  <a:pt x="2070" y="1176"/>
                </a:lnTo>
                <a:lnTo>
                  <a:pt x="2077" y="1179"/>
                </a:lnTo>
                <a:lnTo>
                  <a:pt x="2086" y="1181"/>
                </a:lnTo>
                <a:lnTo>
                  <a:pt x="2096" y="1181"/>
                </a:lnTo>
                <a:lnTo>
                  <a:pt x="2105" y="1179"/>
                </a:lnTo>
                <a:lnTo>
                  <a:pt x="2114" y="1176"/>
                </a:lnTo>
                <a:lnTo>
                  <a:pt x="2122" y="1168"/>
                </a:lnTo>
                <a:lnTo>
                  <a:pt x="2131" y="1159"/>
                </a:lnTo>
                <a:lnTo>
                  <a:pt x="2140" y="1146"/>
                </a:lnTo>
                <a:lnTo>
                  <a:pt x="2150" y="1129"/>
                </a:lnTo>
                <a:lnTo>
                  <a:pt x="2159" y="1112"/>
                </a:lnTo>
                <a:lnTo>
                  <a:pt x="2166" y="1092"/>
                </a:lnTo>
                <a:lnTo>
                  <a:pt x="2176" y="1069"/>
                </a:lnTo>
                <a:lnTo>
                  <a:pt x="2185" y="1045"/>
                </a:lnTo>
                <a:lnTo>
                  <a:pt x="2194" y="1017"/>
                </a:lnTo>
                <a:lnTo>
                  <a:pt x="2202" y="987"/>
                </a:lnTo>
                <a:lnTo>
                  <a:pt x="2211" y="952"/>
                </a:lnTo>
                <a:lnTo>
                  <a:pt x="2220" y="917"/>
                </a:lnTo>
                <a:lnTo>
                  <a:pt x="2230" y="877"/>
                </a:lnTo>
                <a:lnTo>
                  <a:pt x="2239" y="838"/>
                </a:lnTo>
                <a:lnTo>
                  <a:pt x="2246" y="797"/>
                </a:lnTo>
                <a:lnTo>
                  <a:pt x="2256" y="754"/>
                </a:lnTo>
                <a:lnTo>
                  <a:pt x="2265" y="710"/>
                </a:lnTo>
                <a:lnTo>
                  <a:pt x="2274" y="665"/>
                </a:lnTo>
                <a:lnTo>
                  <a:pt x="2284" y="618"/>
                </a:lnTo>
                <a:lnTo>
                  <a:pt x="2291" y="570"/>
                </a:lnTo>
                <a:lnTo>
                  <a:pt x="2301" y="521"/>
                </a:lnTo>
                <a:lnTo>
                  <a:pt x="2310" y="473"/>
                </a:lnTo>
                <a:lnTo>
                  <a:pt x="2319" y="426"/>
                </a:lnTo>
                <a:lnTo>
                  <a:pt x="2327" y="382"/>
                </a:lnTo>
                <a:lnTo>
                  <a:pt x="2336" y="335"/>
                </a:lnTo>
                <a:lnTo>
                  <a:pt x="2345" y="292"/>
                </a:lnTo>
                <a:lnTo>
                  <a:pt x="2355" y="249"/>
                </a:lnTo>
                <a:lnTo>
                  <a:pt x="2364" y="208"/>
                </a:lnTo>
                <a:lnTo>
                  <a:pt x="2371" y="171"/>
                </a:lnTo>
                <a:lnTo>
                  <a:pt x="2381" y="136"/>
                </a:lnTo>
                <a:lnTo>
                  <a:pt x="2390" y="104"/>
                </a:lnTo>
                <a:lnTo>
                  <a:pt x="2399" y="76"/>
                </a:lnTo>
                <a:lnTo>
                  <a:pt x="2409" y="52"/>
                </a:lnTo>
                <a:lnTo>
                  <a:pt x="2416" y="31"/>
                </a:lnTo>
                <a:lnTo>
                  <a:pt x="2425" y="16"/>
                </a:lnTo>
                <a:lnTo>
                  <a:pt x="2435" y="5"/>
                </a:lnTo>
                <a:lnTo>
                  <a:pt x="2444" y="0"/>
                </a:lnTo>
                <a:lnTo>
                  <a:pt x="2451" y="0"/>
                </a:lnTo>
                <a:lnTo>
                  <a:pt x="2461" y="3"/>
                </a:lnTo>
                <a:lnTo>
                  <a:pt x="2470" y="13"/>
                </a:lnTo>
                <a:lnTo>
                  <a:pt x="2479" y="24"/>
                </a:lnTo>
                <a:lnTo>
                  <a:pt x="2489" y="44"/>
                </a:lnTo>
                <a:lnTo>
                  <a:pt x="2496" y="69"/>
                </a:lnTo>
                <a:lnTo>
                  <a:pt x="2505" y="97"/>
                </a:lnTo>
                <a:lnTo>
                  <a:pt x="2515" y="130"/>
                </a:lnTo>
                <a:lnTo>
                  <a:pt x="2524" y="167"/>
                </a:lnTo>
                <a:lnTo>
                  <a:pt x="2533" y="206"/>
                </a:lnTo>
                <a:lnTo>
                  <a:pt x="2541" y="251"/>
                </a:lnTo>
                <a:lnTo>
                  <a:pt x="2550" y="296"/>
                </a:lnTo>
                <a:lnTo>
                  <a:pt x="2559" y="346"/>
                </a:lnTo>
                <a:lnTo>
                  <a:pt x="2569" y="400"/>
                </a:lnTo>
                <a:lnTo>
                  <a:pt x="2576" y="458"/>
                </a:lnTo>
                <a:lnTo>
                  <a:pt x="2586" y="516"/>
                </a:lnTo>
                <a:lnTo>
                  <a:pt x="2595" y="575"/>
                </a:lnTo>
                <a:lnTo>
                  <a:pt x="2604" y="637"/>
                </a:lnTo>
                <a:lnTo>
                  <a:pt x="2613" y="698"/>
                </a:lnTo>
                <a:lnTo>
                  <a:pt x="2621" y="760"/>
                </a:lnTo>
                <a:lnTo>
                  <a:pt x="2630" y="823"/>
                </a:lnTo>
                <a:lnTo>
                  <a:pt x="2640" y="889"/>
                </a:lnTo>
                <a:lnTo>
                  <a:pt x="2649" y="952"/>
                </a:lnTo>
                <a:lnTo>
                  <a:pt x="2658" y="1015"/>
                </a:lnTo>
                <a:lnTo>
                  <a:pt x="2666" y="1079"/>
                </a:lnTo>
                <a:lnTo>
                  <a:pt x="2675" y="1140"/>
                </a:lnTo>
                <a:lnTo>
                  <a:pt x="2684" y="1200"/>
                </a:lnTo>
                <a:lnTo>
                  <a:pt x="2694" y="1259"/>
                </a:lnTo>
                <a:lnTo>
                  <a:pt x="2701" y="1317"/>
                </a:lnTo>
                <a:lnTo>
                  <a:pt x="2710" y="1375"/>
                </a:lnTo>
                <a:lnTo>
                  <a:pt x="2720" y="1431"/>
                </a:lnTo>
                <a:lnTo>
                  <a:pt x="2729" y="1485"/>
                </a:lnTo>
                <a:lnTo>
                  <a:pt x="2738" y="1537"/>
                </a:lnTo>
                <a:lnTo>
                  <a:pt x="2746" y="1587"/>
                </a:lnTo>
                <a:lnTo>
                  <a:pt x="2755" y="1636"/>
                </a:lnTo>
                <a:lnTo>
                  <a:pt x="2764" y="1681"/>
                </a:lnTo>
                <a:lnTo>
                  <a:pt x="2774" y="1725"/>
                </a:lnTo>
                <a:lnTo>
                  <a:pt x="2783" y="1768"/>
                </a:lnTo>
                <a:lnTo>
                  <a:pt x="2790" y="1809"/>
                </a:lnTo>
                <a:lnTo>
                  <a:pt x="2800" y="1848"/>
                </a:lnTo>
                <a:lnTo>
                  <a:pt x="2809" y="1884"/>
                </a:lnTo>
                <a:lnTo>
                  <a:pt x="2818" y="1919"/>
                </a:lnTo>
                <a:lnTo>
                  <a:pt x="2826" y="1953"/>
                </a:lnTo>
                <a:lnTo>
                  <a:pt x="2835" y="1984"/>
                </a:lnTo>
                <a:lnTo>
                  <a:pt x="2845" y="2014"/>
                </a:lnTo>
                <a:lnTo>
                  <a:pt x="2854" y="2044"/>
                </a:lnTo>
                <a:lnTo>
                  <a:pt x="2863" y="2072"/>
                </a:lnTo>
                <a:lnTo>
                  <a:pt x="2871" y="2098"/>
                </a:lnTo>
                <a:lnTo>
                  <a:pt x="2880" y="2122"/>
                </a:lnTo>
                <a:lnTo>
                  <a:pt x="2889" y="2147"/>
                </a:lnTo>
                <a:lnTo>
                  <a:pt x="2899" y="2169"/>
                </a:lnTo>
                <a:lnTo>
                  <a:pt x="2908" y="2189"/>
                </a:lnTo>
                <a:lnTo>
                  <a:pt x="2915" y="2210"/>
                </a:lnTo>
                <a:lnTo>
                  <a:pt x="2925" y="2229"/>
                </a:lnTo>
                <a:lnTo>
                  <a:pt x="2934" y="2247"/>
                </a:lnTo>
                <a:lnTo>
                  <a:pt x="2943" y="2264"/>
                </a:lnTo>
                <a:lnTo>
                  <a:pt x="2951" y="2281"/>
                </a:lnTo>
                <a:lnTo>
                  <a:pt x="2960" y="2296"/>
                </a:lnTo>
                <a:lnTo>
                  <a:pt x="2969" y="2311"/>
                </a:lnTo>
                <a:lnTo>
                  <a:pt x="2979" y="2324"/>
                </a:lnTo>
                <a:lnTo>
                  <a:pt x="2988" y="2337"/>
                </a:lnTo>
                <a:lnTo>
                  <a:pt x="2995" y="2348"/>
                </a:lnTo>
                <a:lnTo>
                  <a:pt x="3005" y="2361"/>
                </a:lnTo>
                <a:lnTo>
                  <a:pt x="3014" y="2370"/>
                </a:lnTo>
                <a:lnTo>
                  <a:pt x="3023" y="2381"/>
                </a:lnTo>
                <a:lnTo>
                  <a:pt x="3033" y="2391"/>
                </a:lnTo>
                <a:lnTo>
                  <a:pt x="3040" y="2400"/>
                </a:lnTo>
                <a:lnTo>
                  <a:pt x="3049" y="2407"/>
                </a:lnTo>
                <a:lnTo>
                  <a:pt x="3059" y="2415"/>
                </a:lnTo>
                <a:lnTo>
                  <a:pt x="3068" y="2422"/>
                </a:lnTo>
                <a:lnTo>
                  <a:pt x="3076" y="2430"/>
                </a:lnTo>
                <a:lnTo>
                  <a:pt x="3085" y="2437"/>
                </a:lnTo>
                <a:lnTo>
                  <a:pt x="3094" y="2443"/>
                </a:lnTo>
                <a:lnTo>
                  <a:pt x="3103" y="2448"/>
                </a:lnTo>
                <a:lnTo>
                  <a:pt x="3113" y="2454"/>
                </a:lnTo>
                <a:lnTo>
                  <a:pt x="3120" y="2460"/>
                </a:lnTo>
                <a:lnTo>
                  <a:pt x="3130" y="2463"/>
                </a:lnTo>
                <a:lnTo>
                  <a:pt x="3139" y="2469"/>
                </a:lnTo>
                <a:lnTo>
                  <a:pt x="3148" y="2473"/>
                </a:lnTo>
                <a:lnTo>
                  <a:pt x="3157" y="2476"/>
                </a:lnTo>
                <a:lnTo>
                  <a:pt x="3165" y="2480"/>
                </a:lnTo>
                <a:lnTo>
                  <a:pt x="3174" y="2484"/>
                </a:lnTo>
                <a:lnTo>
                  <a:pt x="3184" y="2488"/>
                </a:lnTo>
                <a:lnTo>
                  <a:pt x="3193" y="2491"/>
                </a:lnTo>
                <a:lnTo>
                  <a:pt x="3200" y="2495"/>
                </a:lnTo>
                <a:lnTo>
                  <a:pt x="3210" y="2497"/>
                </a:lnTo>
                <a:lnTo>
                  <a:pt x="3219" y="2501"/>
                </a:lnTo>
                <a:lnTo>
                  <a:pt x="3228" y="2503"/>
                </a:lnTo>
                <a:lnTo>
                  <a:pt x="3238" y="2506"/>
                </a:lnTo>
                <a:lnTo>
                  <a:pt x="3245" y="2508"/>
                </a:lnTo>
                <a:lnTo>
                  <a:pt x="3254" y="2510"/>
                </a:lnTo>
                <a:lnTo>
                  <a:pt x="3264" y="2514"/>
                </a:lnTo>
                <a:lnTo>
                  <a:pt x="3273" y="2516"/>
                </a:lnTo>
                <a:lnTo>
                  <a:pt x="3282" y="2517"/>
                </a:lnTo>
                <a:lnTo>
                  <a:pt x="3290" y="2519"/>
                </a:lnTo>
                <a:lnTo>
                  <a:pt x="3299" y="2521"/>
                </a:lnTo>
                <a:lnTo>
                  <a:pt x="3308" y="2523"/>
                </a:lnTo>
                <a:lnTo>
                  <a:pt x="3318" y="2525"/>
                </a:lnTo>
                <a:lnTo>
                  <a:pt x="3325" y="2527"/>
                </a:lnTo>
                <a:lnTo>
                  <a:pt x="3334" y="2529"/>
                </a:lnTo>
                <a:lnTo>
                  <a:pt x="3344" y="2530"/>
                </a:lnTo>
                <a:lnTo>
                  <a:pt x="3353" y="2532"/>
                </a:lnTo>
                <a:lnTo>
                  <a:pt x="3362" y="2534"/>
                </a:lnTo>
                <a:lnTo>
                  <a:pt x="3370" y="2534"/>
                </a:lnTo>
                <a:lnTo>
                  <a:pt x="3379" y="2536"/>
                </a:lnTo>
                <a:lnTo>
                  <a:pt x="3388" y="2538"/>
                </a:lnTo>
                <a:lnTo>
                  <a:pt x="3398" y="2540"/>
                </a:lnTo>
                <a:lnTo>
                  <a:pt x="3407" y="2542"/>
                </a:lnTo>
                <a:lnTo>
                  <a:pt x="3415" y="2542"/>
                </a:lnTo>
                <a:lnTo>
                  <a:pt x="3424" y="2544"/>
                </a:lnTo>
                <a:lnTo>
                  <a:pt x="3433" y="2545"/>
                </a:lnTo>
                <a:lnTo>
                  <a:pt x="3443" y="2545"/>
                </a:lnTo>
                <a:lnTo>
                  <a:pt x="3450" y="2547"/>
                </a:lnTo>
                <a:lnTo>
                  <a:pt x="3459" y="2549"/>
                </a:lnTo>
                <a:lnTo>
                  <a:pt x="3469" y="2549"/>
                </a:lnTo>
                <a:lnTo>
                  <a:pt x="3478" y="2551"/>
                </a:lnTo>
                <a:lnTo>
                  <a:pt x="3487" y="2551"/>
                </a:lnTo>
                <a:lnTo>
                  <a:pt x="3495" y="2553"/>
                </a:lnTo>
                <a:lnTo>
                  <a:pt x="3504" y="2553"/>
                </a:lnTo>
                <a:lnTo>
                  <a:pt x="3513" y="2555"/>
                </a:lnTo>
                <a:lnTo>
                  <a:pt x="3523" y="2555"/>
                </a:lnTo>
                <a:lnTo>
                  <a:pt x="3532" y="2555"/>
                </a:lnTo>
                <a:lnTo>
                  <a:pt x="3539" y="2557"/>
                </a:lnTo>
                <a:lnTo>
                  <a:pt x="3549" y="2557"/>
                </a:lnTo>
                <a:lnTo>
                  <a:pt x="3558" y="2557"/>
                </a:lnTo>
                <a:lnTo>
                  <a:pt x="3567" y="2558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任意多边形 262"/>
          <p:cNvSpPr/>
          <p:nvPr/>
        </p:nvSpPr>
        <p:spPr>
          <a:xfrm>
            <a:off x="2228760" y="3089160"/>
            <a:ext cx="5662800" cy="244008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2440080"/>
              <a:gd name="textAreaBottom" fmla="*/ 2440440 h 2440080"/>
            </a:gdLst>
            <a:ahLst/>
            <a:rect l="textAreaLeft" t="textAreaTop" r="textAreaRight" b="textAreaBottom"/>
            <a:pathLst>
              <a:path w="3567" h="1537">
                <a:moveTo>
                  <a:pt x="0" y="1176"/>
                </a:moveTo>
                <a:lnTo>
                  <a:pt x="9" y="1176"/>
                </a:lnTo>
                <a:lnTo>
                  <a:pt x="18" y="1178"/>
                </a:lnTo>
                <a:lnTo>
                  <a:pt x="28" y="1180"/>
                </a:lnTo>
                <a:lnTo>
                  <a:pt x="35" y="1182"/>
                </a:lnTo>
                <a:lnTo>
                  <a:pt x="44" y="1185"/>
                </a:lnTo>
                <a:lnTo>
                  <a:pt x="54" y="1187"/>
                </a:lnTo>
                <a:lnTo>
                  <a:pt x="63" y="1189"/>
                </a:lnTo>
                <a:lnTo>
                  <a:pt x="72" y="1193"/>
                </a:lnTo>
                <a:lnTo>
                  <a:pt x="80" y="1195"/>
                </a:lnTo>
                <a:lnTo>
                  <a:pt x="89" y="1198"/>
                </a:lnTo>
                <a:lnTo>
                  <a:pt x="99" y="1202"/>
                </a:lnTo>
                <a:lnTo>
                  <a:pt x="108" y="1206"/>
                </a:lnTo>
                <a:lnTo>
                  <a:pt x="117" y="1208"/>
                </a:lnTo>
                <a:lnTo>
                  <a:pt x="125" y="1211"/>
                </a:lnTo>
                <a:lnTo>
                  <a:pt x="134" y="1215"/>
                </a:lnTo>
                <a:lnTo>
                  <a:pt x="143" y="1217"/>
                </a:lnTo>
                <a:lnTo>
                  <a:pt x="153" y="1221"/>
                </a:lnTo>
                <a:lnTo>
                  <a:pt x="160" y="1223"/>
                </a:lnTo>
                <a:lnTo>
                  <a:pt x="169" y="1226"/>
                </a:lnTo>
                <a:lnTo>
                  <a:pt x="179" y="1228"/>
                </a:lnTo>
                <a:lnTo>
                  <a:pt x="188" y="1230"/>
                </a:lnTo>
                <a:lnTo>
                  <a:pt x="197" y="1234"/>
                </a:lnTo>
                <a:lnTo>
                  <a:pt x="205" y="1236"/>
                </a:lnTo>
                <a:lnTo>
                  <a:pt x="214" y="1237"/>
                </a:lnTo>
                <a:lnTo>
                  <a:pt x="223" y="1239"/>
                </a:lnTo>
                <a:lnTo>
                  <a:pt x="233" y="1243"/>
                </a:lnTo>
                <a:lnTo>
                  <a:pt x="242" y="1245"/>
                </a:lnTo>
                <a:lnTo>
                  <a:pt x="249" y="1245"/>
                </a:lnTo>
                <a:lnTo>
                  <a:pt x="259" y="1247"/>
                </a:lnTo>
                <a:lnTo>
                  <a:pt x="268" y="1249"/>
                </a:lnTo>
                <a:lnTo>
                  <a:pt x="277" y="1249"/>
                </a:lnTo>
                <a:lnTo>
                  <a:pt x="285" y="1250"/>
                </a:lnTo>
                <a:lnTo>
                  <a:pt x="294" y="1250"/>
                </a:lnTo>
                <a:lnTo>
                  <a:pt x="303" y="1250"/>
                </a:lnTo>
                <a:lnTo>
                  <a:pt x="313" y="1252"/>
                </a:lnTo>
                <a:lnTo>
                  <a:pt x="322" y="1252"/>
                </a:lnTo>
                <a:lnTo>
                  <a:pt x="330" y="1252"/>
                </a:lnTo>
                <a:lnTo>
                  <a:pt x="339" y="1252"/>
                </a:lnTo>
                <a:lnTo>
                  <a:pt x="348" y="1252"/>
                </a:lnTo>
                <a:lnTo>
                  <a:pt x="357" y="1252"/>
                </a:lnTo>
                <a:lnTo>
                  <a:pt x="367" y="1252"/>
                </a:lnTo>
                <a:lnTo>
                  <a:pt x="374" y="1252"/>
                </a:lnTo>
                <a:lnTo>
                  <a:pt x="384" y="1252"/>
                </a:lnTo>
                <a:lnTo>
                  <a:pt x="393" y="1250"/>
                </a:lnTo>
                <a:lnTo>
                  <a:pt x="402" y="1250"/>
                </a:lnTo>
                <a:lnTo>
                  <a:pt x="410" y="1250"/>
                </a:lnTo>
                <a:lnTo>
                  <a:pt x="419" y="1249"/>
                </a:lnTo>
                <a:lnTo>
                  <a:pt x="428" y="1249"/>
                </a:lnTo>
                <a:lnTo>
                  <a:pt x="438" y="1247"/>
                </a:lnTo>
                <a:lnTo>
                  <a:pt x="447" y="1247"/>
                </a:lnTo>
                <a:lnTo>
                  <a:pt x="454" y="1245"/>
                </a:lnTo>
                <a:lnTo>
                  <a:pt x="464" y="1243"/>
                </a:lnTo>
                <a:lnTo>
                  <a:pt x="473" y="1241"/>
                </a:lnTo>
                <a:lnTo>
                  <a:pt x="482" y="1241"/>
                </a:lnTo>
                <a:lnTo>
                  <a:pt x="492" y="1239"/>
                </a:lnTo>
                <a:lnTo>
                  <a:pt x="499" y="1237"/>
                </a:lnTo>
                <a:lnTo>
                  <a:pt x="508" y="1237"/>
                </a:lnTo>
                <a:lnTo>
                  <a:pt x="518" y="1236"/>
                </a:lnTo>
                <a:lnTo>
                  <a:pt x="527" y="1234"/>
                </a:lnTo>
                <a:lnTo>
                  <a:pt x="534" y="1234"/>
                </a:lnTo>
                <a:lnTo>
                  <a:pt x="544" y="1232"/>
                </a:lnTo>
                <a:lnTo>
                  <a:pt x="553" y="1230"/>
                </a:lnTo>
                <a:lnTo>
                  <a:pt x="562" y="1230"/>
                </a:lnTo>
                <a:lnTo>
                  <a:pt x="572" y="1228"/>
                </a:lnTo>
                <a:lnTo>
                  <a:pt x="579" y="1228"/>
                </a:lnTo>
                <a:lnTo>
                  <a:pt x="588" y="1226"/>
                </a:lnTo>
                <a:lnTo>
                  <a:pt x="598" y="1226"/>
                </a:lnTo>
                <a:lnTo>
                  <a:pt x="607" y="1224"/>
                </a:lnTo>
                <a:lnTo>
                  <a:pt x="616" y="1224"/>
                </a:lnTo>
                <a:lnTo>
                  <a:pt x="624" y="1223"/>
                </a:lnTo>
                <a:lnTo>
                  <a:pt x="633" y="1223"/>
                </a:lnTo>
                <a:lnTo>
                  <a:pt x="642" y="1221"/>
                </a:lnTo>
                <a:lnTo>
                  <a:pt x="652" y="1221"/>
                </a:lnTo>
                <a:lnTo>
                  <a:pt x="659" y="1219"/>
                </a:lnTo>
                <a:lnTo>
                  <a:pt x="669" y="1219"/>
                </a:lnTo>
                <a:lnTo>
                  <a:pt x="678" y="1217"/>
                </a:lnTo>
                <a:lnTo>
                  <a:pt x="687" y="1217"/>
                </a:lnTo>
                <a:lnTo>
                  <a:pt x="697" y="1215"/>
                </a:lnTo>
                <a:lnTo>
                  <a:pt x="704" y="1215"/>
                </a:lnTo>
                <a:lnTo>
                  <a:pt x="713" y="1213"/>
                </a:lnTo>
                <a:lnTo>
                  <a:pt x="723" y="1213"/>
                </a:lnTo>
                <a:lnTo>
                  <a:pt x="732" y="1211"/>
                </a:lnTo>
                <a:lnTo>
                  <a:pt x="741" y="1209"/>
                </a:lnTo>
                <a:lnTo>
                  <a:pt x="749" y="1209"/>
                </a:lnTo>
                <a:lnTo>
                  <a:pt x="758" y="1208"/>
                </a:lnTo>
                <a:lnTo>
                  <a:pt x="767" y="1206"/>
                </a:lnTo>
                <a:lnTo>
                  <a:pt x="777" y="1204"/>
                </a:lnTo>
                <a:lnTo>
                  <a:pt x="784" y="1202"/>
                </a:lnTo>
                <a:lnTo>
                  <a:pt x="793" y="1200"/>
                </a:lnTo>
                <a:lnTo>
                  <a:pt x="803" y="1198"/>
                </a:lnTo>
                <a:lnTo>
                  <a:pt x="812" y="1195"/>
                </a:lnTo>
                <a:lnTo>
                  <a:pt x="821" y="1193"/>
                </a:lnTo>
                <a:lnTo>
                  <a:pt x="829" y="1189"/>
                </a:lnTo>
                <a:lnTo>
                  <a:pt x="838" y="1187"/>
                </a:lnTo>
                <a:lnTo>
                  <a:pt x="847" y="1183"/>
                </a:lnTo>
                <a:lnTo>
                  <a:pt x="857" y="1180"/>
                </a:lnTo>
                <a:lnTo>
                  <a:pt x="866" y="1176"/>
                </a:lnTo>
                <a:lnTo>
                  <a:pt x="873" y="1170"/>
                </a:lnTo>
                <a:lnTo>
                  <a:pt x="883" y="1167"/>
                </a:lnTo>
                <a:lnTo>
                  <a:pt x="892" y="1161"/>
                </a:lnTo>
                <a:lnTo>
                  <a:pt x="901" y="1155"/>
                </a:lnTo>
                <a:lnTo>
                  <a:pt x="909" y="1150"/>
                </a:lnTo>
                <a:lnTo>
                  <a:pt x="918" y="1144"/>
                </a:lnTo>
                <a:lnTo>
                  <a:pt x="928" y="1139"/>
                </a:lnTo>
                <a:lnTo>
                  <a:pt x="937" y="1131"/>
                </a:lnTo>
                <a:lnTo>
                  <a:pt x="946" y="1126"/>
                </a:lnTo>
                <a:lnTo>
                  <a:pt x="954" y="1118"/>
                </a:lnTo>
                <a:lnTo>
                  <a:pt x="963" y="1111"/>
                </a:lnTo>
                <a:lnTo>
                  <a:pt x="972" y="1103"/>
                </a:lnTo>
                <a:lnTo>
                  <a:pt x="982" y="1098"/>
                </a:lnTo>
                <a:lnTo>
                  <a:pt x="991" y="1090"/>
                </a:lnTo>
                <a:lnTo>
                  <a:pt x="998" y="1083"/>
                </a:lnTo>
                <a:lnTo>
                  <a:pt x="1008" y="1073"/>
                </a:lnTo>
                <a:lnTo>
                  <a:pt x="1017" y="1066"/>
                </a:lnTo>
                <a:lnTo>
                  <a:pt x="1026" y="1059"/>
                </a:lnTo>
                <a:lnTo>
                  <a:pt x="1034" y="1051"/>
                </a:lnTo>
                <a:lnTo>
                  <a:pt x="1043" y="1045"/>
                </a:lnTo>
                <a:lnTo>
                  <a:pt x="1052" y="1038"/>
                </a:lnTo>
                <a:lnTo>
                  <a:pt x="1062" y="1031"/>
                </a:lnTo>
                <a:lnTo>
                  <a:pt x="1071" y="1023"/>
                </a:lnTo>
                <a:lnTo>
                  <a:pt x="1078" y="1016"/>
                </a:lnTo>
                <a:lnTo>
                  <a:pt x="1088" y="1010"/>
                </a:lnTo>
                <a:lnTo>
                  <a:pt x="1097" y="1004"/>
                </a:lnTo>
                <a:lnTo>
                  <a:pt x="1106" y="999"/>
                </a:lnTo>
                <a:lnTo>
                  <a:pt x="1116" y="993"/>
                </a:lnTo>
                <a:lnTo>
                  <a:pt x="1123" y="988"/>
                </a:lnTo>
                <a:lnTo>
                  <a:pt x="1132" y="984"/>
                </a:lnTo>
                <a:lnTo>
                  <a:pt x="1142" y="978"/>
                </a:lnTo>
                <a:lnTo>
                  <a:pt x="1151" y="975"/>
                </a:lnTo>
                <a:lnTo>
                  <a:pt x="1159" y="971"/>
                </a:lnTo>
                <a:lnTo>
                  <a:pt x="1168" y="969"/>
                </a:lnTo>
                <a:lnTo>
                  <a:pt x="1177" y="965"/>
                </a:lnTo>
                <a:lnTo>
                  <a:pt x="1186" y="963"/>
                </a:lnTo>
                <a:lnTo>
                  <a:pt x="1196" y="962"/>
                </a:lnTo>
                <a:lnTo>
                  <a:pt x="1203" y="960"/>
                </a:lnTo>
                <a:lnTo>
                  <a:pt x="1213" y="960"/>
                </a:lnTo>
                <a:lnTo>
                  <a:pt x="1222" y="958"/>
                </a:lnTo>
                <a:lnTo>
                  <a:pt x="1231" y="958"/>
                </a:lnTo>
                <a:lnTo>
                  <a:pt x="1240" y="958"/>
                </a:lnTo>
                <a:lnTo>
                  <a:pt x="1248" y="958"/>
                </a:lnTo>
                <a:lnTo>
                  <a:pt x="1257" y="958"/>
                </a:lnTo>
                <a:lnTo>
                  <a:pt x="1267" y="958"/>
                </a:lnTo>
                <a:lnTo>
                  <a:pt x="1276" y="958"/>
                </a:lnTo>
                <a:lnTo>
                  <a:pt x="1283" y="958"/>
                </a:lnTo>
                <a:lnTo>
                  <a:pt x="1293" y="960"/>
                </a:lnTo>
                <a:lnTo>
                  <a:pt x="1302" y="960"/>
                </a:lnTo>
                <a:lnTo>
                  <a:pt x="1311" y="960"/>
                </a:lnTo>
                <a:lnTo>
                  <a:pt x="1321" y="960"/>
                </a:lnTo>
                <a:lnTo>
                  <a:pt x="1328" y="960"/>
                </a:lnTo>
                <a:lnTo>
                  <a:pt x="1337" y="960"/>
                </a:lnTo>
                <a:lnTo>
                  <a:pt x="1347" y="960"/>
                </a:lnTo>
                <a:lnTo>
                  <a:pt x="1356" y="958"/>
                </a:lnTo>
                <a:lnTo>
                  <a:pt x="1365" y="956"/>
                </a:lnTo>
                <a:lnTo>
                  <a:pt x="1373" y="954"/>
                </a:lnTo>
                <a:lnTo>
                  <a:pt x="1382" y="952"/>
                </a:lnTo>
                <a:lnTo>
                  <a:pt x="1391" y="949"/>
                </a:lnTo>
                <a:lnTo>
                  <a:pt x="1401" y="945"/>
                </a:lnTo>
                <a:lnTo>
                  <a:pt x="1408" y="941"/>
                </a:lnTo>
                <a:lnTo>
                  <a:pt x="1417" y="936"/>
                </a:lnTo>
                <a:lnTo>
                  <a:pt x="1427" y="930"/>
                </a:lnTo>
                <a:lnTo>
                  <a:pt x="1436" y="922"/>
                </a:lnTo>
                <a:lnTo>
                  <a:pt x="1445" y="915"/>
                </a:lnTo>
                <a:lnTo>
                  <a:pt x="1453" y="908"/>
                </a:lnTo>
                <a:lnTo>
                  <a:pt x="1462" y="898"/>
                </a:lnTo>
                <a:lnTo>
                  <a:pt x="1472" y="887"/>
                </a:lnTo>
                <a:lnTo>
                  <a:pt x="1481" y="878"/>
                </a:lnTo>
                <a:lnTo>
                  <a:pt x="1490" y="867"/>
                </a:lnTo>
                <a:lnTo>
                  <a:pt x="1498" y="854"/>
                </a:lnTo>
                <a:lnTo>
                  <a:pt x="1507" y="840"/>
                </a:lnTo>
                <a:lnTo>
                  <a:pt x="1516" y="826"/>
                </a:lnTo>
                <a:lnTo>
                  <a:pt x="1526" y="811"/>
                </a:lnTo>
                <a:lnTo>
                  <a:pt x="1533" y="796"/>
                </a:lnTo>
                <a:lnTo>
                  <a:pt x="1542" y="781"/>
                </a:lnTo>
                <a:lnTo>
                  <a:pt x="1552" y="766"/>
                </a:lnTo>
                <a:lnTo>
                  <a:pt x="1561" y="747"/>
                </a:lnTo>
                <a:lnTo>
                  <a:pt x="1570" y="730"/>
                </a:lnTo>
                <a:lnTo>
                  <a:pt x="1578" y="712"/>
                </a:lnTo>
                <a:lnTo>
                  <a:pt x="1587" y="693"/>
                </a:lnTo>
                <a:lnTo>
                  <a:pt x="1596" y="673"/>
                </a:lnTo>
                <a:lnTo>
                  <a:pt x="1606" y="654"/>
                </a:lnTo>
                <a:lnTo>
                  <a:pt x="1615" y="635"/>
                </a:lnTo>
                <a:lnTo>
                  <a:pt x="1622" y="615"/>
                </a:lnTo>
                <a:lnTo>
                  <a:pt x="1632" y="596"/>
                </a:lnTo>
                <a:lnTo>
                  <a:pt x="1641" y="576"/>
                </a:lnTo>
                <a:lnTo>
                  <a:pt x="1650" y="555"/>
                </a:lnTo>
                <a:lnTo>
                  <a:pt x="1658" y="537"/>
                </a:lnTo>
                <a:lnTo>
                  <a:pt x="1667" y="518"/>
                </a:lnTo>
                <a:lnTo>
                  <a:pt x="1676" y="501"/>
                </a:lnTo>
                <a:lnTo>
                  <a:pt x="1686" y="484"/>
                </a:lnTo>
                <a:lnTo>
                  <a:pt x="1695" y="470"/>
                </a:lnTo>
                <a:lnTo>
                  <a:pt x="1703" y="455"/>
                </a:lnTo>
                <a:lnTo>
                  <a:pt x="1712" y="442"/>
                </a:lnTo>
                <a:lnTo>
                  <a:pt x="1721" y="430"/>
                </a:lnTo>
                <a:lnTo>
                  <a:pt x="1730" y="419"/>
                </a:lnTo>
                <a:lnTo>
                  <a:pt x="1740" y="408"/>
                </a:lnTo>
                <a:lnTo>
                  <a:pt x="1747" y="401"/>
                </a:lnTo>
                <a:lnTo>
                  <a:pt x="1757" y="393"/>
                </a:lnTo>
                <a:lnTo>
                  <a:pt x="1766" y="388"/>
                </a:lnTo>
                <a:lnTo>
                  <a:pt x="1775" y="384"/>
                </a:lnTo>
                <a:lnTo>
                  <a:pt x="1784" y="380"/>
                </a:lnTo>
                <a:lnTo>
                  <a:pt x="1792" y="380"/>
                </a:lnTo>
                <a:lnTo>
                  <a:pt x="1801" y="380"/>
                </a:lnTo>
                <a:lnTo>
                  <a:pt x="1811" y="382"/>
                </a:lnTo>
                <a:lnTo>
                  <a:pt x="1820" y="388"/>
                </a:lnTo>
                <a:lnTo>
                  <a:pt x="1827" y="391"/>
                </a:lnTo>
                <a:lnTo>
                  <a:pt x="1837" y="399"/>
                </a:lnTo>
                <a:lnTo>
                  <a:pt x="1846" y="406"/>
                </a:lnTo>
                <a:lnTo>
                  <a:pt x="1855" y="416"/>
                </a:lnTo>
                <a:lnTo>
                  <a:pt x="1865" y="425"/>
                </a:lnTo>
                <a:lnTo>
                  <a:pt x="1872" y="436"/>
                </a:lnTo>
                <a:lnTo>
                  <a:pt x="1881" y="447"/>
                </a:lnTo>
                <a:lnTo>
                  <a:pt x="1891" y="460"/>
                </a:lnTo>
                <a:lnTo>
                  <a:pt x="1900" y="473"/>
                </a:lnTo>
                <a:lnTo>
                  <a:pt x="1909" y="486"/>
                </a:lnTo>
                <a:lnTo>
                  <a:pt x="1917" y="501"/>
                </a:lnTo>
                <a:lnTo>
                  <a:pt x="1926" y="516"/>
                </a:lnTo>
                <a:lnTo>
                  <a:pt x="1935" y="531"/>
                </a:lnTo>
                <a:lnTo>
                  <a:pt x="1945" y="546"/>
                </a:lnTo>
                <a:lnTo>
                  <a:pt x="1952" y="561"/>
                </a:lnTo>
                <a:lnTo>
                  <a:pt x="1961" y="576"/>
                </a:lnTo>
                <a:lnTo>
                  <a:pt x="1971" y="591"/>
                </a:lnTo>
                <a:lnTo>
                  <a:pt x="1980" y="606"/>
                </a:lnTo>
                <a:lnTo>
                  <a:pt x="1989" y="619"/>
                </a:lnTo>
                <a:lnTo>
                  <a:pt x="1997" y="632"/>
                </a:lnTo>
                <a:lnTo>
                  <a:pt x="2006" y="645"/>
                </a:lnTo>
                <a:lnTo>
                  <a:pt x="2015" y="656"/>
                </a:lnTo>
                <a:lnTo>
                  <a:pt x="2025" y="665"/>
                </a:lnTo>
                <a:lnTo>
                  <a:pt x="2034" y="675"/>
                </a:lnTo>
                <a:lnTo>
                  <a:pt x="2042" y="684"/>
                </a:lnTo>
                <a:lnTo>
                  <a:pt x="2051" y="689"/>
                </a:lnTo>
                <a:lnTo>
                  <a:pt x="2060" y="697"/>
                </a:lnTo>
                <a:lnTo>
                  <a:pt x="2070" y="701"/>
                </a:lnTo>
                <a:lnTo>
                  <a:pt x="2077" y="703"/>
                </a:lnTo>
                <a:lnTo>
                  <a:pt x="2086" y="704"/>
                </a:lnTo>
                <a:lnTo>
                  <a:pt x="2096" y="704"/>
                </a:lnTo>
                <a:lnTo>
                  <a:pt x="2105" y="704"/>
                </a:lnTo>
                <a:lnTo>
                  <a:pt x="2114" y="703"/>
                </a:lnTo>
                <a:lnTo>
                  <a:pt x="2122" y="699"/>
                </a:lnTo>
                <a:lnTo>
                  <a:pt x="2131" y="691"/>
                </a:lnTo>
                <a:lnTo>
                  <a:pt x="2140" y="684"/>
                </a:lnTo>
                <a:lnTo>
                  <a:pt x="2150" y="675"/>
                </a:lnTo>
                <a:lnTo>
                  <a:pt x="2159" y="663"/>
                </a:lnTo>
                <a:lnTo>
                  <a:pt x="2166" y="650"/>
                </a:lnTo>
                <a:lnTo>
                  <a:pt x="2176" y="637"/>
                </a:lnTo>
                <a:lnTo>
                  <a:pt x="2185" y="622"/>
                </a:lnTo>
                <a:lnTo>
                  <a:pt x="2194" y="607"/>
                </a:lnTo>
                <a:lnTo>
                  <a:pt x="2202" y="589"/>
                </a:lnTo>
                <a:lnTo>
                  <a:pt x="2211" y="568"/>
                </a:lnTo>
                <a:lnTo>
                  <a:pt x="2220" y="548"/>
                </a:lnTo>
                <a:lnTo>
                  <a:pt x="2230" y="524"/>
                </a:lnTo>
                <a:lnTo>
                  <a:pt x="2239" y="501"/>
                </a:lnTo>
                <a:lnTo>
                  <a:pt x="2246" y="477"/>
                </a:lnTo>
                <a:lnTo>
                  <a:pt x="2256" y="453"/>
                </a:lnTo>
                <a:lnTo>
                  <a:pt x="2265" y="427"/>
                </a:lnTo>
                <a:lnTo>
                  <a:pt x="2274" y="401"/>
                </a:lnTo>
                <a:lnTo>
                  <a:pt x="2284" y="373"/>
                </a:lnTo>
                <a:lnTo>
                  <a:pt x="2291" y="343"/>
                </a:lnTo>
                <a:lnTo>
                  <a:pt x="2301" y="315"/>
                </a:lnTo>
                <a:lnTo>
                  <a:pt x="2310" y="287"/>
                </a:lnTo>
                <a:lnTo>
                  <a:pt x="2319" y="259"/>
                </a:lnTo>
                <a:lnTo>
                  <a:pt x="2327" y="231"/>
                </a:lnTo>
                <a:lnTo>
                  <a:pt x="2336" y="205"/>
                </a:lnTo>
                <a:lnTo>
                  <a:pt x="2345" y="177"/>
                </a:lnTo>
                <a:lnTo>
                  <a:pt x="2355" y="153"/>
                </a:lnTo>
                <a:lnTo>
                  <a:pt x="2364" y="129"/>
                </a:lnTo>
                <a:lnTo>
                  <a:pt x="2371" y="106"/>
                </a:lnTo>
                <a:lnTo>
                  <a:pt x="2381" y="86"/>
                </a:lnTo>
                <a:lnTo>
                  <a:pt x="2390" y="65"/>
                </a:lnTo>
                <a:lnTo>
                  <a:pt x="2399" y="48"/>
                </a:lnTo>
                <a:lnTo>
                  <a:pt x="2409" y="33"/>
                </a:lnTo>
                <a:lnTo>
                  <a:pt x="2416" y="20"/>
                </a:lnTo>
                <a:lnTo>
                  <a:pt x="2425" y="11"/>
                </a:lnTo>
                <a:lnTo>
                  <a:pt x="2435" y="6"/>
                </a:lnTo>
                <a:lnTo>
                  <a:pt x="2444" y="2"/>
                </a:lnTo>
                <a:lnTo>
                  <a:pt x="2451" y="0"/>
                </a:lnTo>
                <a:lnTo>
                  <a:pt x="2461" y="2"/>
                </a:lnTo>
                <a:lnTo>
                  <a:pt x="2470" y="6"/>
                </a:lnTo>
                <a:lnTo>
                  <a:pt x="2479" y="13"/>
                </a:lnTo>
                <a:lnTo>
                  <a:pt x="2489" y="24"/>
                </a:lnTo>
                <a:lnTo>
                  <a:pt x="2496" y="39"/>
                </a:lnTo>
                <a:lnTo>
                  <a:pt x="2505" y="56"/>
                </a:lnTo>
                <a:lnTo>
                  <a:pt x="2515" y="74"/>
                </a:lnTo>
                <a:lnTo>
                  <a:pt x="2524" y="95"/>
                </a:lnTo>
                <a:lnTo>
                  <a:pt x="2533" y="119"/>
                </a:lnTo>
                <a:lnTo>
                  <a:pt x="2541" y="145"/>
                </a:lnTo>
                <a:lnTo>
                  <a:pt x="2550" y="173"/>
                </a:lnTo>
                <a:lnTo>
                  <a:pt x="2559" y="203"/>
                </a:lnTo>
                <a:lnTo>
                  <a:pt x="2569" y="235"/>
                </a:lnTo>
                <a:lnTo>
                  <a:pt x="2576" y="266"/>
                </a:lnTo>
                <a:lnTo>
                  <a:pt x="2586" y="302"/>
                </a:lnTo>
                <a:lnTo>
                  <a:pt x="2595" y="337"/>
                </a:lnTo>
                <a:lnTo>
                  <a:pt x="2604" y="373"/>
                </a:lnTo>
                <a:lnTo>
                  <a:pt x="2613" y="410"/>
                </a:lnTo>
                <a:lnTo>
                  <a:pt x="2621" y="445"/>
                </a:lnTo>
                <a:lnTo>
                  <a:pt x="2630" y="484"/>
                </a:lnTo>
                <a:lnTo>
                  <a:pt x="2640" y="522"/>
                </a:lnTo>
                <a:lnTo>
                  <a:pt x="2649" y="561"/>
                </a:lnTo>
                <a:lnTo>
                  <a:pt x="2658" y="598"/>
                </a:lnTo>
                <a:lnTo>
                  <a:pt x="2666" y="635"/>
                </a:lnTo>
                <a:lnTo>
                  <a:pt x="2675" y="673"/>
                </a:lnTo>
                <a:lnTo>
                  <a:pt x="2684" y="708"/>
                </a:lnTo>
                <a:lnTo>
                  <a:pt x="2694" y="744"/>
                </a:lnTo>
                <a:lnTo>
                  <a:pt x="2701" y="779"/>
                </a:lnTo>
                <a:lnTo>
                  <a:pt x="2710" y="812"/>
                </a:lnTo>
                <a:lnTo>
                  <a:pt x="2720" y="846"/>
                </a:lnTo>
                <a:lnTo>
                  <a:pt x="2729" y="880"/>
                </a:lnTo>
                <a:lnTo>
                  <a:pt x="2738" y="911"/>
                </a:lnTo>
                <a:lnTo>
                  <a:pt x="2746" y="941"/>
                </a:lnTo>
                <a:lnTo>
                  <a:pt x="2755" y="969"/>
                </a:lnTo>
                <a:lnTo>
                  <a:pt x="2764" y="997"/>
                </a:lnTo>
                <a:lnTo>
                  <a:pt x="2774" y="1023"/>
                </a:lnTo>
                <a:lnTo>
                  <a:pt x="2783" y="1049"/>
                </a:lnTo>
                <a:lnTo>
                  <a:pt x="2790" y="1073"/>
                </a:lnTo>
                <a:lnTo>
                  <a:pt x="2800" y="1098"/>
                </a:lnTo>
                <a:lnTo>
                  <a:pt x="2809" y="1118"/>
                </a:lnTo>
                <a:lnTo>
                  <a:pt x="2818" y="1141"/>
                </a:lnTo>
                <a:lnTo>
                  <a:pt x="2826" y="1161"/>
                </a:lnTo>
                <a:lnTo>
                  <a:pt x="2835" y="1180"/>
                </a:lnTo>
                <a:lnTo>
                  <a:pt x="2845" y="1198"/>
                </a:lnTo>
                <a:lnTo>
                  <a:pt x="2854" y="1215"/>
                </a:lnTo>
                <a:lnTo>
                  <a:pt x="2863" y="1232"/>
                </a:lnTo>
                <a:lnTo>
                  <a:pt x="2871" y="1247"/>
                </a:lnTo>
                <a:lnTo>
                  <a:pt x="2880" y="1262"/>
                </a:lnTo>
                <a:lnTo>
                  <a:pt x="2889" y="1277"/>
                </a:lnTo>
                <a:lnTo>
                  <a:pt x="2899" y="1291"/>
                </a:lnTo>
                <a:lnTo>
                  <a:pt x="2908" y="1303"/>
                </a:lnTo>
                <a:lnTo>
                  <a:pt x="2915" y="1316"/>
                </a:lnTo>
                <a:lnTo>
                  <a:pt x="2925" y="1327"/>
                </a:lnTo>
                <a:lnTo>
                  <a:pt x="2934" y="1338"/>
                </a:lnTo>
                <a:lnTo>
                  <a:pt x="2943" y="1349"/>
                </a:lnTo>
                <a:lnTo>
                  <a:pt x="2951" y="1359"/>
                </a:lnTo>
                <a:lnTo>
                  <a:pt x="2960" y="1368"/>
                </a:lnTo>
                <a:lnTo>
                  <a:pt x="2969" y="1377"/>
                </a:lnTo>
                <a:lnTo>
                  <a:pt x="2979" y="1387"/>
                </a:lnTo>
                <a:lnTo>
                  <a:pt x="2988" y="1394"/>
                </a:lnTo>
                <a:lnTo>
                  <a:pt x="2995" y="1401"/>
                </a:lnTo>
                <a:lnTo>
                  <a:pt x="3005" y="1409"/>
                </a:lnTo>
                <a:lnTo>
                  <a:pt x="3014" y="1414"/>
                </a:lnTo>
                <a:lnTo>
                  <a:pt x="3023" y="1422"/>
                </a:lnTo>
                <a:lnTo>
                  <a:pt x="3033" y="1428"/>
                </a:lnTo>
                <a:lnTo>
                  <a:pt x="3040" y="1433"/>
                </a:lnTo>
                <a:lnTo>
                  <a:pt x="3049" y="1439"/>
                </a:lnTo>
                <a:lnTo>
                  <a:pt x="3059" y="1444"/>
                </a:lnTo>
                <a:lnTo>
                  <a:pt x="3068" y="1448"/>
                </a:lnTo>
                <a:lnTo>
                  <a:pt x="3076" y="1454"/>
                </a:lnTo>
                <a:lnTo>
                  <a:pt x="3085" y="1457"/>
                </a:lnTo>
                <a:lnTo>
                  <a:pt x="3094" y="1461"/>
                </a:lnTo>
                <a:lnTo>
                  <a:pt x="3103" y="1465"/>
                </a:lnTo>
                <a:lnTo>
                  <a:pt x="3113" y="1469"/>
                </a:lnTo>
                <a:lnTo>
                  <a:pt x="3120" y="1472"/>
                </a:lnTo>
                <a:lnTo>
                  <a:pt x="3130" y="1474"/>
                </a:lnTo>
                <a:lnTo>
                  <a:pt x="3139" y="1478"/>
                </a:lnTo>
                <a:lnTo>
                  <a:pt x="3148" y="1482"/>
                </a:lnTo>
                <a:lnTo>
                  <a:pt x="3157" y="1483"/>
                </a:lnTo>
                <a:lnTo>
                  <a:pt x="3165" y="1485"/>
                </a:lnTo>
                <a:lnTo>
                  <a:pt x="3174" y="1489"/>
                </a:lnTo>
                <a:lnTo>
                  <a:pt x="3184" y="1491"/>
                </a:lnTo>
                <a:lnTo>
                  <a:pt x="3193" y="1493"/>
                </a:lnTo>
                <a:lnTo>
                  <a:pt x="3200" y="1495"/>
                </a:lnTo>
                <a:lnTo>
                  <a:pt x="3210" y="1496"/>
                </a:lnTo>
                <a:lnTo>
                  <a:pt x="3219" y="1498"/>
                </a:lnTo>
                <a:lnTo>
                  <a:pt x="3228" y="1500"/>
                </a:lnTo>
                <a:lnTo>
                  <a:pt x="3238" y="1502"/>
                </a:lnTo>
                <a:lnTo>
                  <a:pt x="3245" y="1504"/>
                </a:lnTo>
                <a:lnTo>
                  <a:pt x="3254" y="1506"/>
                </a:lnTo>
                <a:lnTo>
                  <a:pt x="3264" y="1508"/>
                </a:lnTo>
                <a:lnTo>
                  <a:pt x="3273" y="1508"/>
                </a:lnTo>
                <a:lnTo>
                  <a:pt x="3282" y="1510"/>
                </a:lnTo>
                <a:lnTo>
                  <a:pt x="3290" y="1511"/>
                </a:lnTo>
                <a:lnTo>
                  <a:pt x="3299" y="1513"/>
                </a:lnTo>
                <a:lnTo>
                  <a:pt x="3308" y="1513"/>
                </a:lnTo>
                <a:lnTo>
                  <a:pt x="3318" y="1515"/>
                </a:lnTo>
                <a:lnTo>
                  <a:pt x="3325" y="1517"/>
                </a:lnTo>
                <a:lnTo>
                  <a:pt x="3334" y="1517"/>
                </a:lnTo>
                <a:lnTo>
                  <a:pt x="3344" y="1519"/>
                </a:lnTo>
                <a:lnTo>
                  <a:pt x="3353" y="1519"/>
                </a:lnTo>
                <a:lnTo>
                  <a:pt x="3362" y="1521"/>
                </a:lnTo>
                <a:lnTo>
                  <a:pt x="3370" y="1523"/>
                </a:lnTo>
                <a:lnTo>
                  <a:pt x="3379" y="1523"/>
                </a:lnTo>
                <a:lnTo>
                  <a:pt x="3388" y="1524"/>
                </a:lnTo>
                <a:lnTo>
                  <a:pt x="3398" y="1524"/>
                </a:lnTo>
                <a:lnTo>
                  <a:pt x="3407" y="1526"/>
                </a:lnTo>
                <a:lnTo>
                  <a:pt x="3415" y="1526"/>
                </a:lnTo>
                <a:lnTo>
                  <a:pt x="3424" y="1528"/>
                </a:lnTo>
                <a:lnTo>
                  <a:pt x="3433" y="1528"/>
                </a:lnTo>
                <a:lnTo>
                  <a:pt x="3443" y="1528"/>
                </a:lnTo>
                <a:lnTo>
                  <a:pt x="3450" y="1530"/>
                </a:lnTo>
                <a:lnTo>
                  <a:pt x="3459" y="1530"/>
                </a:lnTo>
                <a:lnTo>
                  <a:pt x="3469" y="1532"/>
                </a:lnTo>
                <a:lnTo>
                  <a:pt x="3478" y="1532"/>
                </a:lnTo>
                <a:lnTo>
                  <a:pt x="3487" y="1532"/>
                </a:lnTo>
                <a:lnTo>
                  <a:pt x="3495" y="1534"/>
                </a:lnTo>
                <a:lnTo>
                  <a:pt x="3504" y="1534"/>
                </a:lnTo>
                <a:lnTo>
                  <a:pt x="3513" y="1534"/>
                </a:lnTo>
                <a:lnTo>
                  <a:pt x="3523" y="1536"/>
                </a:lnTo>
                <a:lnTo>
                  <a:pt x="3532" y="1536"/>
                </a:lnTo>
                <a:lnTo>
                  <a:pt x="3539" y="1536"/>
                </a:lnTo>
                <a:lnTo>
                  <a:pt x="3549" y="1536"/>
                </a:lnTo>
                <a:lnTo>
                  <a:pt x="3558" y="1537"/>
                </a:lnTo>
                <a:lnTo>
                  <a:pt x="3567" y="1537"/>
                </a:lnTo>
              </a:path>
            </a:pathLst>
          </a:cu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任意多边形 263"/>
          <p:cNvSpPr/>
          <p:nvPr/>
        </p:nvSpPr>
        <p:spPr>
          <a:xfrm>
            <a:off x="2228760" y="1494000"/>
            <a:ext cx="5662800" cy="401472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4014720"/>
              <a:gd name="textAreaBottom" fmla="*/ 4015080 h 4014720"/>
            </a:gdLst>
            <a:ahLst/>
            <a:rect l="textAreaLeft" t="textAreaTop" r="textAreaRight" b="textAreaBottom"/>
            <a:pathLst>
              <a:path w="3567" h="2529">
                <a:moveTo>
                  <a:pt x="0" y="1983"/>
                </a:moveTo>
                <a:lnTo>
                  <a:pt x="9" y="1985"/>
                </a:lnTo>
                <a:lnTo>
                  <a:pt x="18" y="1987"/>
                </a:lnTo>
                <a:lnTo>
                  <a:pt x="28" y="1989"/>
                </a:lnTo>
                <a:lnTo>
                  <a:pt x="35" y="1993"/>
                </a:lnTo>
                <a:lnTo>
                  <a:pt x="44" y="1996"/>
                </a:lnTo>
                <a:lnTo>
                  <a:pt x="54" y="2000"/>
                </a:lnTo>
                <a:lnTo>
                  <a:pt x="63" y="2004"/>
                </a:lnTo>
                <a:lnTo>
                  <a:pt x="72" y="2009"/>
                </a:lnTo>
                <a:lnTo>
                  <a:pt x="80" y="2013"/>
                </a:lnTo>
                <a:lnTo>
                  <a:pt x="89" y="2019"/>
                </a:lnTo>
                <a:lnTo>
                  <a:pt x="99" y="2024"/>
                </a:lnTo>
                <a:lnTo>
                  <a:pt x="108" y="2028"/>
                </a:lnTo>
                <a:lnTo>
                  <a:pt x="117" y="2034"/>
                </a:lnTo>
                <a:lnTo>
                  <a:pt x="125" y="2039"/>
                </a:lnTo>
                <a:lnTo>
                  <a:pt x="134" y="2043"/>
                </a:lnTo>
                <a:lnTo>
                  <a:pt x="143" y="2047"/>
                </a:lnTo>
                <a:lnTo>
                  <a:pt x="153" y="2052"/>
                </a:lnTo>
                <a:lnTo>
                  <a:pt x="160" y="2056"/>
                </a:lnTo>
                <a:lnTo>
                  <a:pt x="169" y="2060"/>
                </a:lnTo>
                <a:lnTo>
                  <a:pt x="179" y="2065"/>
                </a:lnTo>
                <a:lnTo>
                  <a:pt x="188" y="2069"/>
                </a:lnTo>
                <a:lnTo>
                  <a:pt x="197" y="2073"/>
                </a:lnTo>
                <a:lnTo>
                  <a:pt x="205" y="2077"/>
                </a:lnTo>
                <a:lnTo>
                  <a:pt x="214" y="2080"/>
                </a:lnTo>
                <a:lnTo>
                  <a:pt x="223" y="2082"/>
                </a:lnTo>
                <a:lnTo>
                  <a:pt x="233" y="2084"/>
                </a:lnTo>
                <a:lnTo>
                  <a:pt x="242" y="2086"/>
                </a:lnTo>
                <a:lnTo>
                  <a:pt x="249" y="2090"/>
                </a:lnTo>
                <a:lnTo>
                  <a:pt x="259" y="2091"/>
                </a:lnTo>
                <a:lnTo>
                  <a:pt x="268" y="2093"/>
                </a:lnTo>
                <a:lnTo>
                  <a:pt x="277" y="2095"/>
                </a:lnTo>
                <a:lnTo>
                  <a:pt x="285" y="2095"/>
                </a:lnTo>
                <a:lnTo>
                  <a:pt x="294" y="2097"/>
                </a:lnTo>
                <a:lnTo>
                  <a:pt x="303" y="2097"/>
                </a:lnTo>
                <a:lnTo>
                  <a:pt x="313" y="2097"/>
                </a:lnTo>
                <a:lnTo>
                  <a:pt x="322" y="2097"/>
                </a:lnTo>
                <a:lnTo>
                  <a:pt x="330" y="2097"/>
                </a:lnTo>
                <a:lnTo>
                  <a:pt x="339" y="2099"/>
                </a:lnTo>
                <a:lnTo>
                  <a:pt x="348" y="2099"/>
                </a:lnTo>
                <a:lnTo>
                  <a:pt x="357" y="2097"/>
                </a:lnTo>
                <a:lnTo>
                  <a:pt x="367" y="2097"/>
                </a:lnTo>
                <a:lnTo>
                  <a:pt x="374" y="2095"/>
                </a:lnTo>
                <a:lnTo>
                  <a:pt x="384" y="2095"/>
                </a:lnTo>
                <a:lnTo>
                  <a:pt x="393" y="2091"/>
                </a:lnTo>
                <a:lnTo>
                  <a:pt x="402" y="2091"/>
                </a:lnTo>
                <a:lnTo>
                  <a:pt x="410" y="2090"/>
                </a:lnTo>
                <a:lnTo>
                  <a:pt x="419" y="2088"/>
                </a:lnTo>
                <a:lnTo>
                  <a:pt x="428" y="2086"/>
                </a:lnTo>
                <a:lnTo>
                  <a:pt x="438" y="2084"/>
                </a:lnTo>
                <a:lnTo>
                  <a:pt x="447" y="2082"/>
                </a:lnTo>
                <a:lnTo>
                  <a:pt x="454" y="2078"/>
                </a:lnTo>
                <a:lnTo>
                  <a:pt x="464" y="2077"/>
                </a:lnTo>
                <a:lnTo>
                  <a:pt x="473" y="2075"/>
                </a:lnTo>
                <a:lnTo>
                  <a:pt x="482" y="2073"/>
                </a:lnTo>
                <a:lnTo>
                  <a:pt x="492" y="2069"/>
                </a:lnTo>
                <a:lnTo>
                  <a:pt x="499" y="2067"/>
                </a:lnTo>
                <a:lnTo>
                  <a:pt x="508" y="2065"/>
                </a:lnTo>
                <a:lnTo>
                  <a:pt x="518" y="2062"/>
                </a:lnTo>
                <a:lnTo>
                  <a:pt x="527" y="2060"/>
                </a:lnTo>
                <a:lnTo>
                  <a:pt x="534" y="2058"/>
                </a:lnTo>
                <a:lnTo>
                  <a:pt x="544" y="2056"/>
                </a:lnTo>
                <a:lnTo>
                  <a:pt x="553" y="2054"/>
                </a:lnTo>
                <a:lnTo>
                  <a:pt x="562" y="2050"/>
                </a:lnTo>
                <a:lnTo>
                  <a:pt x="572" y="2049"/>
                </a:lnTo>
                <a:lnTo>
                  <a:pt x="579" y="2047"/>
                </a:lnTo>
                <a:lnTo>
                  <a:pt x="588" y="2043"/>
                </a:lnTo>
                <a:lnTo>
                  <a:pt x="598" y="2041"/>
                </a:lnTo>
                <a:lnTo>
                  <a:pt x="607" y="2039"/>
                </a:lnTo>
                <a:lnTo>
                  <a:pt x="616" y="2037"/>
                </a:lnTo>
                <a:lnTo>
                  <a:pt x="624" y="2036"/>
                </a:lnTo>
                <a:lnTo>
                  <a:pt x="633" y="2036"/>
                </a:lnTo>
                <a:lnTo>
                  <a:pt x="642" y="2034"/>
                </a:lnTo>
                <a:lnTo>
                  <a:pt x="652" y="2032"/>
                </a:lnTo>
                <a:lnTo>
                  <a:pt x="659" y="2030"/>
                </a:lnTo>
                <a:lnTo>
                  <a:pt x="669" y="2028"/>
                </a:lnTo>
                <a:lnTo>
                  <a:pt x="678" y="2028"/>
                </a:lnTo>
                <a:lnTo>
                  <a:pt x="687" y="2026"/>
                </a:lnTo>
                <a:lnTo>
                  <a:pt x="697" y="2024"/>
                </a:lnTo>
                <a:lnTo>
                  <a:pt x="704" y="2023"/>
                </a:lnTo>
                <a:lnTo>
                  <a:pt x="713" y="2021"/>
                </a:lnTo>
                <a:lnTo>
                  <a:pt x="723" y="2019"/>
                </a:lnTo>
                <a:lnTo>
                  <a:pt x="732" y="2015"/>
                </a:lnTo>
                <a:lnTo>
                  <a:pt x="741" y="2013"/>
                </a:lnTo>
                <a:lnTo>
                  <a:pt x="749" y="2011"/>
                </a:lnTo>
                <a:lnTo>
                  <a:pt x="758" y="2008"/>
                </a:lnTo>
                <a:lnTo>
                  <a:pt x="767" y="2006"/>
                </a:lnTo>
                <a:lnTo>
                  <a:pt x="777" y="2004"/>
                </a:lnTo>
                <a:lnTo>
                  <a:pt x="784" y="2000"/>
                </a:lnTo>
                <a:lnTo>
                  <a:pt x="793" y="1996"/>
                </a:lnTo>
                <a:lnTo>
                  <a:pt x="803" y="1993"/>
                </a:lnTo>
                <a:lnTo>
                  <a:pt x="812" y="1987"/>
                </a:lnTo>
                <a:lnTo>
                  <a:pt x="821" y="1983"/>
                </a:lnTo>
                <a:lnTo>
                  <a:pt x="829" y="1978"/>
                </a:lnTo>
                <a:lnTo>
                  <a:pt x="838" y="1972"/>
                </a:lnTo>
                <a:lnTo>
                  <a:pt x="847" y="1967"/>
                </a:lnTo>
                <a:lnTo>
                  <a:pt x="857" y="1959"/>
                </a:lnTo>
                <a:lnTo>
                  <a:pt x="866" y="1954"/>
                </a:lnTo>
                <a:lnTo>
                  <a:pt x="873" y="1944"/>
                </a:lnTo>
                <a:lnTo>
                  <a:pt x="883" y="1937"/>
                </a:lnTo>
                <a:lnTo>
                  <a:pt x="892" y="1929"/>
                </a:lnTo>
                <a:lnTo>
                  <a:pt x="901" y="1920"/>
                </a:lnTo>
                <a:lnTo>
                  <a:pt x="909" y="1911"/>
                </a:lnTo>
                <a:lnTo>
                  <a:pt x="918" y="1901"/>
                </a:lnTo>
                <a:lnTo>
                  <a:pt x="928" y="1890"/>
                </a:lnTo>
                <a:lnTo>
                  <a:pt x="937" y="1879"/>
                </a:lnTo>
                <a:lnTo>
                  <a:pt x="946" y="1868"/>
                </a:lnTo>
                <a:lnTo>
                  <a:pt x="954" y="1857"/>
                </a:lnTo>
                <a:lnTo>
                  <a:pt x="963" y="1845"/>
                </a:lnTo>
                <a:lnTo>
                  <a:pt x="972" y="1834"/>
                </a:lnTo>
                <a:lnTo>
                  <a:pt x="982" y="1819"/>
                </a:lnTo>
                <a:lnTo>
                  <a:pt x="991" y="1808"/>
                </a:lnTo>
                <a:lnTo>
                  <a:pt x="998" y="1797"/>
                </a:lnTo>
                <a:lnTo>
                  <a:pt x="1008" y="1784"/>
                </a:lnTo>
                <a:lnTo>
                  <a:pt x="1017" y="1771"/>
                </a:lnTo>
                <a:lnTo>
                  <a:pt x="1026" y="1758"/>
                </a:lnTo>
                <a:lnTo>
                  <a:pt x="1034" y="1745"/>
                </a:lnTo>
                <a:lnTo>
                  <a:pt x="1043" y="1734"/>
                </a:lnTo>
                <a:lnTo>
                  <a:pt x="1052" y="1721"/>
                </a:lnTo>
                <a:lnTo>
                  <a:pt x="1062" y="1708"/>
                </a:lnTo>
                <a:lnTo>
                  <a:pt x="1071" y="1696"/>
                </a:lnTo>
                <a:lnTo>
                  <a:pt x="1078" y="1685"/>
                </a:lnTo>
                <a:lnTo>
                  <a:pt x="1088" y="1674"/>
                </a:lnTo>
                <a:lnTo>
                  <a:pt x="1097" y="1665"/>
                </a:lnTo>
                <a:lnTo>
                  <a:pt x="1106" y="1655"/>
                </a:lnTo>
                <a:lnTo>
                  <a:pt x="1116" y="1646"/>
                </a:lnTo>
                <a:lnTo>
                  <a:pt x="1123" y="1637"/>
                </a:lnTo>
                <a:lnTo>
                  <a:pt x="1132" y="1629"/>
                </a:lnTo>
                <a:lnTo>
                  <a:pt x="1142" y="1622"/>
                </a:lnTo>
                <a:lnTo>
                  <a:pt x="1151" y="1616"/>
                </a:lnTo>
                <a:lnTo>
                  <a:pt x="1159" y="1611"/>
                </a:lnTo>
                <a:lnTo>
                  <a:pt x="1168" y="1605"/>
                </a:lnTo>
                <a:lnTo>
                  <a:pt x="1177" y="1601"/>
                </a:lnTo>
                <a:lnTo>
                  <a:pt x="1186" y="1598"/>
                </a:lnTo>
                <a:lnTo>
                  <a:pt x="1196" y="1594"/>
                </a:lnTo>
                <a:lnTo>
                  <a:pt x="1203" y="1590"/>
                </a:lnTo>
                <a:lnTo>
                  <a:pt x="1213" y="1588"/>
                </a:lnTo>
                <a:lnTo>
                  <a:pt x="1222" y="1588"/>
                </a:lnTo>
                <a:lnTo>
                  <a:pt x="1231" y="1586"/>
                </a:lnTo>
                <a:lnTo>
                  <a:pt x="1240" y="1586"/>
                </a:lnTo>
                <a:lnTo>
                  <a:pt x="1248" y="1586"/>
                </a:lnTo>
                <a:lnTo>
                  <a:pt x="1257" y="1586"/>
                </a:lnTo>
                <a:lnTo>
                  <a:pt x="1267" y="1586"/>
                </a:lnTo>
                <a:lnTo>
                  <a:pt x="1276" y="1586"/>
                </a:lnTo>
                <a:lnTo>
                  <a:pt x="1283" y="1586"/>
                </a:lnTo>
                <a:lnTo>
                  <a:pt x="1293" y="1588"/>
                </a:lnTo>
                <a:lnTo>
                  <a:pt x="1302" y="1588"/>
                </a:lnTo>
                <a:lnTo>
                  <a:pt x="1311" y="1588"/>
                </a:lnTo>
                <a:lnTo>
                  <a:pt x="1321" y="1588"/>
                </a:lnTo>
                <a:lnTo>
                  <a:pt x="1328" y="1590"/>
                </a:lnTo>
                <a:lnTo>
                  <a:pt x="1337" y="1590"/>
                </a:lnTo>
                <a:lnTo>
                  <a:pt x="1347" y="1588"/>
                </a:lnTo>
                <a:lnTo>
                  <a:pt x="1356" y="1586"/>
                </a:lnTo>
                <a:lnTo>
                  <a:pt x="1365" y="1583"/>
                </a:lnTo>
                <a:lnTo>
                  <a:pt x="1373" y="1581"/>
                </a:lnTo>
                <a:lnTo>
                  <a:pt x="1382" y="1575"/>
                </a:lnTo>
                <a:lnTo>
                  <a:pt x="1391" y="1571"/>
                </a:lnTo>
                <a:lnTo>
                  <a:pt x="1401" y="1566"/>
                </a:lnTo>
                <a:lnTo>
                  <a:pt x="1408" y="1558"/>
                </a:lnTo>
                <a:lnTo>
                  <a:pt x="1417" y="1551"/>
                </a:lnTo>
                <a:lnTo>
                  <a:pt x="1427" y="1540"/>
                </a:lnTo>
                <a:lnTo>
                  <a:pt x="1436" y="1529"/>
                </a:lnTo>
                <a:lnTo>
                  <a:pt x="1445" y="1516"/>
                </a:lnTo>
                <a:lnTo>
                  <a:pt x="1453" y="1501"/>
                </a:lnTo>
                <a:lnTo>
                  <a:pt x="1462" y="1486"/>
                </a:lnTo>
                <a:lnTo>
                  <a:pt x="1472" y="1469"/>
                </a:lnTo>
                <a:lnTo>
                  <a:pt x="1481" y="1450"/>
                </a:lnTo>
                <a:lnTo>
                  <a:pt x="1490" y="1432"/>
                </a:lnTo>
                <a:lnTo>
                  <a:pt x="1498" y="1411"/>
                </a:lnTo>
                <a:lnTo>
                  <a:pt x="1507" y="1389"/>
                </a:lnTo>
                <a:lnTo>
                  <a:pt x="1516" y="1366"/>
                </a:lnTo>
                <a:lnTo>
                  <a:pt x="1526" y="1342"/>
                </a:lnTo>
                <a:lnTo>
                  <a:pt x="1533" y="1318"/>
                </a:lnTo>
                <a:lnTo>
                  <a:pt x="1542" y="1290"/>
                </a:lnTo>
                <a:lnTo>
                  <a:pt x="1552" y="1262"/>
                </a:lnTo>
                <a:lnTo>
                  <a:pt x="1561" y="1234"/>
                </a:lnTo>
                <a:lnTo>
                  <a:pt x="1570" y="1202"/>
                </a:lnTo>
                <a:lnTo>
                  <a:pt x="1578" y="1173"/>
                </a:lnTo>
                <a:lnTo>
                  <a:pt x="1587" y="1141"/>
                </a:lnTo>
                <a:lnTo>
                  <a:pt x="1596" y="1109"/>
                </a:lnTo>
                <a:lnTo>
                  <a:pt x="1606" y="1078"/>
                </a:lnTo>
                <a:lnTo>
                  <a:pt x="1615" y="1044"/>
                </a:lnTo>
                <a:lnTo>
                  <a:pt x="1622" y="1011"/>
                </a:lnTo>
                <a:lnTo>
                  <a:pt x="1632" y="979"/>
                </a:lnTo>
                <a:lnTo>
                  <a:pt x="1641" y="945"/>
                </a:lnTo>
                <a:lnTo>
                  <a:pt x="1650" y="915"/>
                </a:lnTo>
                <a:lnTo>
                  <a:pt x="1658" y="884"/>
                </a:lnTo>
                <a:lnTo>
                  <a:pt x="1667" y="854"/>
                </a:lnTo>
                <a:lnTo>
                  <a:pt x="1676" y="824"/>
                </a:lnTo>
                <a:lnTo>
                  <a:pt x="1686" y="798"/>
                </a:lnTo>
                <a:lnTo>
                  <a:pt x="1695" y="772"/>
                </a:lnTo>
                <a:lnTo>
                  <a:pt x="1703" y="748"/>
                </a:lnTo>
                <a:lnTo>
                  <a:pt x="1712" y="727"/>
                </a:lnTo>
                <a:lnTo>
                  <a:pt x="1721" y="707"/>
                </a:lnTo>
                <a:lnTo>
                  <a:pt x="1730" y="688"/>
                </a:lnTo>
                <a:lnTo>
                  <a:pt x="1740" y="673"/>
                </a:lnTo>
                <a:lnTo>
                  <a:pt x="1747" y="658"/>
                </a:lnTo>
                <a:lnTo>
                  <a:pt x="1757" y="647"/>
                </a:lnTo>
                <a:lnTo>
                  <a:pt x="1766" y="640"/>
                </a:lnTo>
                <a:lnTo>
                  <a:pt x="1775" y="634"/>
                </a:lnTo>
                <a:lnTo>
                  <a:pt x="1784" y="630"/>
                </a:lnTo>
                <a:lnTo>
                  <a:pt x="1792" y="628"/>
                </a:lnTo>
                <a:lnTo>
                  <a:pt x="1801" y="630"/>
                </a:lnTo>
                <a:lnTo>
                  <a:pt x="1811" y="634"/>
                </a:lnTo>
                <a:lnTo>
                  <a:pt x="1820" y="642"/>
                </a:lnTo>
                <a:lnTo>
                  <a:pt x="1827" y="649"/>
                </a:lnTo>
                <a:lnTo>
                  <a:pt x="1837" y="660"/>
                </a:lnTo>
                <a:lnTo>
                  <a:pt x="1846" y="673"/>
                </a:lnTo>
                <a:lnTo>
                  <a:pt x="1855" y="688"/>
                </a:lnTo>
                <a:lnTo>
                  <a:pt x="1865" y="705"/>
                </a:lnTo>
                <a:lnTo>
                  <a:pt x="1872" y="724"/>
                </a:lnTo>
                <a:lnTo>
                  <a:pt x="1881" y="742"/>
                </a:lnTo>
                <a:lnTo>
                  <a:pt x="1891" y="765"/>
                </a:lnTo>
                <a:lnTo>
                  <a:pt x="1900" y="785"/>
                </a:lnTo>
                <a:lnTo>
                  <a:pt x="1909" y="809"/>
                </a:lnTo>
                <a:lnTo>
                  <a:pt x="1917" y="832"/>
                </a:lnTo>
                <a:lnTo>
                  <a:pt x="1926" y="858"/>
                </a:lnTo>
                <a:lnTo>
                  <a:pt x="1935" y="882"/>
                </a:lnTo>
                <a:lnTo>
                  <a:pt x="1945" y="908"/>
                </a:lnTo>
                <a:lnTo>
                  <a:pt x="1952" y="932"/>
                </a:lnTo>
                <a:lnTo>
                  <a:pt x="1961" y="958"/>
                </a:lnTo>
                <a:lnTo>
                  <a:pt x="1971" y="983"/>
                </a:lnTo>
                <a:lnTo>
                  <a:pt x="1980" y="1005"/>
                </a:lnTo>
                <a:lnTo>
                  <a:pt x="1989" y="1029"/>
                </a:lnTo>
                <a:lnTo>
                  <a:pt x="1997" y="1050"/>
                </a:lnTo>
                <a:lnTo>
                  <a:pt x="2006" y="1070"/>
                </a:lnTo>
                <a:lnTo>
                  <a:pt x="2015" y="1089"/>
                </a:lnTo>
                <a:lnTo>
                  <a:pt x="2025" y="1106"/>
                </a:lnTo>
                <a:lnTo>
                  <a:pt x="2034" y="1120"/>
                </a:lnTo>
                <a:lnTo>
                  <a:pt x="2042" y="1134"/>
                </a:lnTo>
                <a:lnTo>
                  <a:pt x="2051" y="1145"/>
                </a:lnTo>
                <a:lnTo>
                  <a:pt x="2060" y="1154"/>
                </a:lnTo>
                <a:lnTo>
                  <a:pt x="2070" y="1161"/>
                </a:lnTo>
                <a:lnTo>
                  <a:pt x="2077" y="1165"/>
                </a:lnTo>
                <a:lnTo>
                  <a:pt x="2086" y="1167"/>
                </a:lnTo>
                <a:lnTo>
                  <a:pt x="2096" y="1167"/>
                </a:lnTo>
                <a:lnTo>
                  <a:pt x="2105" y="1165"/>
                </a:lnTo>
                <a:lnTo>
                  <a:pt x="2114" y="1161"/>
                </a:lnTo>
                <a:lnTo>
                  <a:pt x="2122" y="1154"/>
                </a:lnTo>
                <a:lnTo>
                  <a:pt x="2131" y="1145"/>
                </a:lnTo>
                <a:lnTo>
                  <a:pt x="2140" y="1132"/>
                </a:lnTo>
                <a:lnTo>
                  <a:pt x="2150" y="1117"/>
                </a:lnTo>
                <a:lnTo>
                  <a:pt x="2159" y="1098"/>
                </a:lnTo>
                <a:lnTo>
                  <a:pt x="2166" y="1078"/>
                </a:lnTo>
                <a:lnTo>
                  <a:pt x="2176" y="1055"/>
                </a:lnTo>
                <a:lnTo>
                  <a:pt x="2185" y="1031"/>
                </a:lnTo>
                <a:lnTo>
                  <a:pt x="2194" y="1003"/>
                </a:lnTo>
                <a:lnTo>
                  <a:pt x="2202" y="973"/>
                </a:lnTo>
                <a:lnTo>
                  <a:pt x="2211" y="940"/>
                </a:lnTo>
                <a:lnTo>
                  <a:pt x="2220" y="904"/>
                </a:lnTo>
                <a:lnTo>
                  <a:pt x="2230" y="865"/>
                </a:lnTo>
                <a:lnTo>
                  <a:pt x="2239" y="828"/>
                </a:lnTo>
                <a:lnTo>
                  <a:pt x="2246" y="787"/>
                </a:lnTo>
                <a:lnTo>
                  <a:pt x="2256" y="746"/>
                </a:lnTo>
                <a:lnTo>
                  <a:pt x="2265" y="703"/>
                </a:lnTo>
                <a:lnTo>
                  <a:pt x="2274" y="658"/>
                </a:lnTo>
                <a:lnTo>
                  <a:pt x="2284" y="612"/>
                </a:lnTo>
                <a:lnTo>
                  <a:pt x="2291" y="565"/>
                </a:lnTo>
                <a:lnTo>
                  <a:pt x="2301" y="519"/>
                </a:lnTo>
                <a:lnTo>
                  <a:pt x="2310" y="472"/>
                </a:lnTo>
                <a:lnTo>
                  <a:pt x="2319" y="425"/>
                </a:lnTo>
                <a:lnTo>
                  <a:pt x="2327" y="381"/>
                </a:lnTo>
                <a:lnTo>
                  <a:pt x="2336" y="336"/>
                </a:lnTo>
                <a:lnTo>
                  <a:pt x="2345" y="293"/>
                </a:lnTo>
                <a:lnTo>
                  <a:pt x="2355" y="250"/>
                </a:lnTo>
                <a:lnTo>
                  <a:pt x="2364" y="211"/>
                </a:lnTo>
                <a:lnTo>
                  <a:pt x="2371" y="172"/>
                </a:lnTo>
                <a:lnTo>
                  <a:pt x="2381" y="138"/>
                </a:lnTo>
                <a:lnTo>
                  <a:pt x="2390" y="107"/>
                </a:lnTo>
                <a:lnTo>
                  <a:pt x="2399" y="79"/>
                </a:lnTo>
                <a:lnTo>
                  <a:pt x="2409" y="53"/>
                </a:lnTo>
                <a:lnTo>
                  <a:pt x="2416" y="32"/>
                </a:lnTo>
                <a:lnTo>
                  <a:pt x="2425" y="19"/>
                </a:lnTo>
                <a:lnTo>
                  <a:pt x="2435" y="8"/>
                </a:lnTo>
                <a:lnTo>
                  <a:pt x="2444" y="2"/>
                </a:lnTo>
                <a:lnTo>
                  <a:pt x="2451" y="0"/>
                </a:lnTo>
                <a:lnTo>
                  <a:pt x="2461" y="4"/>
                </a:lnTo>
                <a:lnTo>
                  <a:pt x="2470" y="13"/>
                </a:lnTo>
                <a:lnTo>
                  <a:pt x="2479" y="27"/>
                </a:lnTo>
                <a:lnTo>
                  <a:pt x="2489" y="45"/>
                </a:lnTo>
                <a:lnTo>
                  <a:pt x="2496" y="69"/>
                </a:lnTo>
                <a:lnTo>
                  <a:pt x="2505" y="97"/>
                </a:lnTo>
                <a:lnTo>
                  <a:pt x="2515" y="131"/>
                </a:lnTo>
                <a:lnTo>
                  <a:pt x="2524" y="168"/>
                </a:lnTo>
                <a:lnTo>
                  <a:pt x="2533" y="207"/>
                </a:lnTo>
                <a:lnTo>
                  <a:pt x="2541" y="250"/>
                </a:lnTo>
                <a:lnTo>
                  <a:pt x="2550" y="295"/>
                </a:lnTo>
                <a:lnTo>
                  <a:pt x="2559" y="345"/>
                </a:lnTo>
                <a:lnTo>
                  <a:pt x="2569" y="399"/>
                </a:lnTo>
                <a:lnTo>
                  <a:pt x="2576" y="455"/>
                </a:lnTo>
                <a:lnTo>
                  <a:pt x="2586" y="513"/>
                </a:lnTo>
                <a:lnTo>
                  <a:pt x="2595" y="571"/>
                </a:lnTo>
                <a:lnTo>
                  <a:pt x="2604" y="630"/>
                </a:lnTo>
                <a:lnTo>
                  <a:pt x="2613" y="692"/>
                </a:lnTo>
                <a:lnTo>
                  <a:pt x="2621" y="753"/>
                </a:lnTo>
                <a:lnTo>
                  <a:pt x="2630" y="817"/>
                </a:lnTo>
                <a:lnTo>
                  <a:pt x="2640" y="880"/>
                </a:lnTo>
                <a:lnTo>
                  <a:pt x="2649" y="942"/>
                </a:lnTo>
                <a:lnTo>
                  <a:pt x="2658" y="1005"/>
                </a:lnTo>
                <a:lnTo>
                  <a:pt x="2666" y="1066"/>
                </a:lnTo>
                <a:lnTo>
                  <a:pt x="2675" y="1128"/>
                </a:lnTo>
                <a:lnTo>
                  <a:pt x="2684" y="1188"/>
                </a:lnTo>
                <a:lnTo>
                  <a:pt x="2694" y="1245"/>
                </a:lnTo>
                <a:lnTo>
                  <a:pt x="2701" y="1303"/>
                </a:lnTo>
                <a:lnTo>
                  <a:pt x="2710" y="1361"/>
                </a:lnTo>
                <a:lnTo>
                  <a:pt x="2720" y="1417"/>
                </a:lnTo>
                <a:lnTo>
                  <a:pt x="2729" y="1469"/>
                </a:lnTo>
                <a:lnTo>
                  <a:pt x="2738" y="1521"/>
                </a:lnTo>
                <a:lnTo>
                  <a:pt x="2746" y="1570"/>
                </a:lnTo>
                <a:lnTo>
                  <a:pt x="2755" y="1618"/>
                </a:lnTo>
                <a:lnTo>
                  <a:pt x="2764" y="1663"/>
                </a:lnTo>
                <a:lnTo>
                  <a:pt x="2774" y="1708"/>
                </a:lnTo>
                <a:lnTo>
                  <a:pt x="2783" y="1749"/>
                </a:lnTo>
                <a:lnTo>
                  <a:pt x="2790" y="1790"/>
                </a:lnTo>
                <a:lnTo>
                  <a:pt x="2800" y="1827"/>
                </a:lnTo>
                <a:lnTo>
                  <a:pt x="2809" y="1864"/>
                </a:lnTo>
                <a:lnTo>
                  <a:pt x="2818" y="1898"/>
                </a:lnTo>
                <a:lnTo>
                  <a:pt x="2826" y="1931"/>
                </a:lnTo>
                <a:lnTo>
                  <a:pt x="2835" y="1963"/>
                </a:lnTo>
                <a:lnTo>
                  <a:pt x="2845" y="1993"/>
                </a:lnTo>
                <a:lnTo>
                  <a:pt x="2854" y="2021"/>
                </a:lnTo>
                <a:lnTo>
                  <a:pt x="2863" y="2049"/>
                </a:lnTo>
                <a:lnTo>
                  <a:pt x="2871" y="2075"/>
                </a:lnTo>
                <a:lnTo>
                  <a:pt x="2880" y="2099"/>
                </a:lnTo>
                <a:lnTo>
                  <a:pt x="2889" y="2121"/>
                </a:lnTo>
                <a:lnTo>
                  <a:pt x="2899" y="2144"/>
                </a:lnTo>
                <a:lnTo>
                  <a:pt x="2908" y="2164"/>
                </a:lnTo>
                <a:lnTo>
                  <a:pt x="2915" y="2185"/>
                </a:lnTo>
                <a:lnTo>
                  <a:pt x="2925" y="2203"/>
                </a:lnTo>
                <a:lnTo>
                  <a:pt x="2934" y="2222"/>
                </a:lnTo>
                <a:lnTo>
                  <a:pt x="2943" y="2239"/>
                </a:lnTo>
                <a:lnTo>
                  <a:pt x="2951" y="2254"/>
                </a:lnTo>
                <a:lnTo>
                  <a:pt x="2960" y="2269"/>
                </a:lnTo>
                <a:lnTo>
                  <a:pt x="2969" y="2283"/>
                </a:lnTo>
                <a:lnTo>
                  <a:pt x="2979" y="2296"/>
                </a:lnTo>
                <a:lnTo>
                  <a:pt x="2988" y="2310"/>
                </a:lnTo>
                <a:lnTo>
                  <a:pt x="2995" y="2321"/>
                </a:lnTo>
                <a:lnTo>
                  <a:pt x="3005" y="2332"/>
                </a:lnTo>
                <a:lnTo>
                  <a:pt x="3014" y="2343"/>
                </a:lnTo>
                <a:lnTo>
                  <a:pt x="3023" y="2352"/>
                </a:lnTo>
                <a:lnTo>
                  <a:pt x="3033" y="2362"/>
                </a:lnTo>
                <a:lnTo>
                  <a:pt x="3040" y="2371"/>
                </a:lnTo>
                <a:lnTo>
                  <a:pt x="3049" y="2380"/>
                </a:lnTo>
                <a:lnTo>
                  <a:pt x="3059" y="2388"/>
                </a:lnTo>
                <a:lnTo>
                  <a:pt x="3068" y="2395"/>
                </a:lnTo>
                <a:lnTo>
                  <a:pt x="3076" y="2403"/>
                </a:lnTo>
                <a:lnTo>
                  <a:pt x="3085" y="2408"/>
                </a:lnTo>
                <a:lnTo>
                  <a:pt x="3094" y="2414"/>
                </a:lnTo>
                <a:lnTo>
                  <a:pt x="3103" y="2421"/>
                </a:lnTo>
                <a:lnTo>
                  <a:pt x="3113" y="2425"/>
                </a:lnTo>
                <a:lnTo>
                  <a:pt x="3120" y="2431"/>
                </a:lnTo>
                <a:lnTo>
                  <a:pt x="3130" y="2436"/>
                </a:lnTo>
                <a:lnTo>
                  <a:pt x="3139" y="2440"/>
                </a:lnTo>
                <a:lnTo>
                  <a:pt x="3148" y="2446"/>
                </a:lnTo>
                <a:lnTo>
                  <a:pt x="3157" y="2449"/>
                </a:lnTo>
                <a:lnTo>
                  <a:pt x="3165" y="2453"/>
                </a:lnTo>
                <a:lnTo>
                  <a:pt x="3174" y="2457"/>
                </a:lnTo>
                <a:lnTo>
                  <a:pt x="3184" y="2460"/>
                </a:lnTo>
                <a:lnTo>
                  <a:pt x="3193" y="2462"/>
                </a:lnTo>
                <a:lnTo>
                  <a:pt x="3200" y="2466"/>
                </a:lnTo>
                <a:lnTo>
                  <a:pt x="3210" y="2470"/>
                </a:lnTo>
                <a:lnTo>
                  <a:pt x="3219" y="2472"/>
                </a:lnTo>
                <a:lnTo>
                  <a:pt x="3228" y="2475"/>
                </a:lnTo>
                <a:lnTo>
                  <a:pt x="3238" y="2477"/>
                </a:lnTo>
                <a:lnTo>
                  <a:pt x="3245" y="2479"/>
                </a:lnTo>
                <a:lnTo>
                  <a:pt x="3254" y="2483"/>
                </a:lnTo>
                <a:lnTo>
                  <a:pt x="3264" y="2485"/>
                </a:lnTo>
                <a:lnTo>
                  <a:pt x="3273" y="2487"/>
                </a:lnTo>
                <a:lnTo>
                  <a:pt x="3282" y="2488"/>
                </a:lnTo>
                <a:lnTo>
                  <a:pt x="3290" y="2490"/>
                </a:lnTo>
                <a:lnTo>
                  <a:pt x="3299" y="2492"/>
                </a:lnTo>
                <a:lnTo>
                  <a:pt x="3308" y="2494"/>
                </a:lnTo>
                <a:lnTo>
                  <a:pt x="3318" y="2496"/>
                </a:lnTo>
                <a:lnTo>
                  <a:pt x="3325" y="2498"/>
                </a:lnTo>
                <a:lnTo>
                  <a:pt x="3334" y="2500"/>
                </a:lnTo>
                <a:lnTo>
                  <a:pt x="3344" y="2501"/>
                </a:lnTo>
                <a:lnTo>
                  <a:pt x="3353" y="2503"/>
                </a:lnTo>
                <a:lnTo>
                  <a:pt x="3362" y="2505"/>
                </a:lnTo>
                <a:lnTo>
                  <a:pt x="3370" y="2507"/>
                </a:lnTo>
                <a:lnTo>
                  <a:pt x="3379" y="2507"/>
                </a:lnTo>
                <a:lnTo>
                  <a:pt x="3388" y="2509"/>
                </a:lnTo>
                <a:lnTo>
                  <a:pt x="3398" y="2511"/>
                </a:lnTo>
                <a:lnTo>
                  <a:pt x="3407" y="2513"/>
                </a:lnTo>
                <a:lnTo>
                  <a:pt x="3415" y="2513"/>
                </a:lnTo>
                <a:lnTo>
                  <a:pt x="3424" y="2515"/>
                </a:lnTo>
                <a:lnTo>
                  <a:pt x="3433" y="2516"/>
                </a:lnTo>
                <a:lnTo>
                  <a:pt x="3443" y="2516"/>
                </a:lnTo>
                <a:lnTo>
                  <a:pt x="3450" y="2518"/>
                </a:lnTo>
                <a:lnTo>
                  <a:pt x="3459" y="2520"/>
                </a:lnTo>
                <a:lnTo>
                  <a:pt x="3469" y="2520"/>
                </a:lnTo>
                <a:lnTo>
                  <a:pt x="3478" y="2522"/>
                </a:lnTo>
                <a:lnTo>
                  <a:pt x="3487" y="2522"/>
                </a:lnTo>
                <a:lnTo>
                  <a:pt x="3495" y="2524"/>
                </a:lnTo>
                <a:lnTo>
                  <a:pt x="3504" y="2524"/>
                </a:lnTo>
                <a:lnTo>
                  <a:pt x="3513" y="2526"/>
                </a:lnTo>
                <a:lnTo>
                  <a:pt x="3523" y="2526"/>
                </a:lnTo>
                <a:lnTo>
                  <a:pt x="3532" y="2526"/>
                </a:lnTo>
                <a:lnTo>
                  <a:pt x="3539" y="2528"/>
                </a:lnTo>
                <a:lnTo>
                  <a:pt x="3549" y="2528"/>
                </a:lnTo>
                <a:lnTo>
                  <a:pt x="3558" y="2529"/>
                </a:lnTo>
                <a:lnTo>
                  <a:pt x="3567" y="2529"/>
                </a:lnTo>
              </a:path>
            </a:pathLst>
          </a:custGeom>
          <a:noFill/>
          <a:ln w="0">
            <a:solidFill>
              <a:srgbClr val="8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任意多边形 264"/>
          <p:cNvSpPr/>
          <p:nvPr/>
        </p:nvSpPr>
        <p:spPr>
          <a:xfrm>
            <a:off x="2228760" y="2819520"/>
            <a:ext cx="5662800" cy="270504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2705040"/>
              <a:gd name="textAreaBottom" fmla="*/ 2705400 h 2705040"/>
            </a:gdLst>
            <a:ahLst/>
            <a:rect l="textAreaLeft" t="textAreaTop" r="textAreaRight" b="textAreaBottom"/>
            <a:pathLst>
              <a:path w="3567" h="1704">
                <a:moveTo>
                  <a:pt x="0" y="1320"/>
                </a:moveTo>
                <a:lnTo>
                  <a:pt x="9" y="1320"/>
                </a:lnTo>
                <a:lnTo>
                  <a:pt x="18" y="1320"/>
                </a:lnTo>
                <a:lnTo>
                  <a:pt x="28" y="1322"/>
                </a:lnTo>
                <a:lnTo>
                  <a:pt x="35" y="1325"/>
                </a:lnTo>
                <a:lnTo>
                  <a:pt x="44" y="1327"/>
                </a:lnTo>
                <a:lnTo>
                  <a:pt x="54" y="1329"/>
                </a:lnTo>
                <a:lnTo>
                  <a:pt x="63" y="1333"/>
                </a:lnTo>
                <a:lnTo>
                  <a:pt x="72" y="1335"/>
                </a:lnTo>
                <a:lnTo>
                  <a:pt x="80" y="1338"/>
                </a:lnTo>
                <a:lnTo>
                  <a:pt x="89" y="1340"/>
                </a:lnTo>
                <a:lnTo>
                  <a:pt x="99" y="1344"/>
                </a:lnTo>
                <a:lnTo>
                  <a:pt x="108" y="1348"/>
                </a:lnTo>
                <a:lnTo>
                  <a:pt x="117" y="1350"/>
                </a:lnTo>
                <a:lnTo>
                  <a:pt x="125" y="1353"/>
                </a:lnTo>
                <a:lnTo>
                  <a:pt x="134" y="1357"/>
                </a:lnTo>
                <a:lnTo>
                  <a:pt x="143" y="1361"/>
                </a:lnTo>
                <a:lnTo>
                  <a:pt x="153" y="1363"/>
                </a:lnTo>
                <a:lnTo>
                  <a:pt x="160" y="1366"/>
                </a:lnTo>
                <a:lnTo>
                  <a:pt x="169" y="1370"/>
                </a:lnTo>
                <a:lnTo>
                  <a:pt x="179" y="1372"/>
                </a:lnTo>
                <a:lnTo>
                  <a:pt x="188" y="1376"/>
                </a:lnTo>
                <a:lnTo>
                  <a:pt x="197" y="1378"/>
                </a:lnTo>
                <a:lnTo>
                  <a:pt x="205" y="1379"/>
                </a:lnTo>
                <a:lnTo>
                  <a:pt x="214" y="1383"/>
                </a:lnTo>
                <a:lnTo>
                  <a:pt x="223" y="1385"/>
                </a:lnTo>
                <a:lnTo>
                  <a:pt x="233" y="1387"/>
                </a:lnTo>
                <a:lnTo>
                  <a:pt x="242" y="1389"/>
                </a:lnTo>
                <a:lnTo>
                  <a:pt x="249" y="1391"/>
                </a:lnTo>
                <a:lnTo>
                  <a:pt x="259" y="1393"/>
                </a:lnTo>
                <a:lnTo>
                  <a:pt x="268" y="1394"/>
                </a:lnTo>
                <a:lnTo>
                  <a:pt x="277" y="1394"/>
                </a:lnTo>
                <a:lnTo>
                  <a:pt x="285" y="1396"/>
                </a:lnTo>
                <a:lnTo>
                  <a:pt x="294" y="1396"/>
                </a:lnTo>
                <a:lnTo>
                  <a:pt x="303" y="1396"/>
                </a:lnTo>
                <a:lnTo>
                  <a:pt x="313" y="1396"/>
                </a:lnTo>
                <a:lnTo>
                  <a:pt x="322" y="1398"/>
                </a:lnTo>
                <a:lnTo>
                  <a:pt x="330" y="1398"/>
                </a:lnTo>
                <a:lnTo>
                  <a:pt x="339" y="1398"/>
                </a:lnTo>
                <a:lnTo>
                  <a:pt x="348" y="1398"/>
                </a:lnTo>
                <a:lnTo>
                  <a:pt x="357" y="1398"/>
                </a:lnTo>
                <a:lnTo>
                  <a:pt x="367" y="1398"/>
                </a:lnTo>
                <a:lnTo>
                  <a:pt x="374" y="1396"/>
                </a:lnTo>
                <a:lnTo>
                  <a:pt x="384" y="1396"/>
                </a:lnTo>
                <a:lnTo>
                  <a:pt x="393" y="1394"/>
                </a:lnTo>
                <a:lnTo>
                  <a:pt x="402" y="1394"/>
                </a:lnTo>
                <a:lnTo>
                  <a:pt x="410" y="1393"/>
                </a:lnTo>
                <a:lnTo>
                  <a:pt x="419" y="1393"/>
                </a:lnTo>
                <a:lnTo>
                  <a:pt x="428" y="1393"/>
                </a:lnTo>
                <a:lnTo>
                  <a:pt x="438" y="1391"/>
                </a:lnTo>
                <a:lnTo>
                  <a:pt x="447" y="1389"/>
                </a:lnTo>
                <a:lnTo>
                  <a:pt x="454" y="1387"/>
                </a:lnTo>
                <a:lnTo>
                  <a:pt x="464" y="1385"/>
                </a:lnTo>
                <a:lnTo>
                  <a:pt x="473" y="1383"/>
                </a:lnTo>
                <a:lnTo>
                  <a:pt x="482" y="1383"/>
                </a:lnTo>
                <a:lnTo>
                  <a:pt x="492" y="1381"/>
                </a:lnTo>
                <a:lnTo>
                  <a:pt x="499" y="1379"/>
                </a:lnTo>
                <a:lnTo>
                  <a:pt x="508" y="1378"/>
                </a:lnTo>
                <a:lnTo>
                  <a:pt x="518" y="1376"/>
                </a:lnTo>
                <a:lnTo>
                  <a:pt x="527" y="1374"/>
                </a:lnTo>
                <a:lnTo>
                  <a:pt x="534" y="1374"/>
                </a:lnTo>
                <a:lnTo>
                  <a:pt x="544" y="1372"/>
                </a:lnTo>
                <a:lnTo>
                  <a:pt x="553" y="1370"/>
                </a:lnTo>
                <a:lnTo>
                  <a:pt x="562" y="1368"/>
                </a:lnTo>
                <a:lnTo>
                  <a:pt x="572" y="1368"/>
                </a:lnTo>
                <a:lnTo>
                  <a:pt x="579" y="1366"/>
                </a:lnTo>
                <a:lnTo>
                  <a:pt x="588" y="1366"/>
                </a:lnTo>
                <a:lnTo>
                  <a:pt x="598" y="1365"/>
                </a:lnTo>
                <a:lnTo>
                  <a:pt x="607" y="1363"/>
                </a:lnTo>
                <a:lnTo>
                  <a:pt x="616" y="1361"/>
                </a:lnTo>
                <a:lnTo>
                  <a:pt x="624" y="1361"/>
                </a:lnTo>
                <a:lnTo>
                  <a:pt x="633" y="1359"/>
                </a:lnTo>
                <a:lnTo>
                  <a:pt x="642" y="1359"/>
                </a:lnTo>
                <a:lnTo>
                  <a:pt x="652" y="1357"/>
                </a:lnTo>
                <a:lnTo>
                  <a:pt x="659" y="1357"/>
                </a:lnTo>
                <a:lnTo>
                  <a:pt x="669" y="1355"/>
                </a:lnTo>
                <a:lnTo>
                  <a:pt x="678" y="1355"/>
                </a:lnTo>
                <a:lnTo>
                  <a:pt x="687" y="1353"/>
                </a:lnTo>
                <a:lnTo>
                  <a:pt x="697" y="1353"/>
                </a:lnTo>
                <a:lnTo>
                  <a:pt x="704" y="1352"/>
                </a:lnTo>
                <a:lnTo>
                  <a:pt x="713" y="1350"/>
                </a:lnTo>
                <a:lnTo>
                  <a:pt x="723" y="1350"/>
                </a:lnTo>
                <a:lnTo>
                  <a:pt x="732" y="1348"/>
                </a:lnTo>
                <a:lnTo>
                  <a:pt x="741" y="1346"/>
                </a:lnTo>
                <a:lnTo>
                  <a:pt x="749" y="1346"/>
                </a:lnTo>
                <a:lnTo>
                  <a:pt x="758" y="1344"/>
                </a:lnTo>
                <a:lnTo>
                  <a:pt x="767" y="1342"/>
                </a:lnTo>
                <a:lnTo>
                  <a:pt x="777" y="1340"/>
                </a:lnTo>
                <a:lnTo>
                  <a:pt x="784" y="1338"/>
                </a:lnTo>
                <a:lnTo>
                  <a:pt x="793" y="1337"/>
                </a:lnTo>
                <a:lnTo>
                  <a:pt x="803" y="1333"/>
                </a:lnTo>
                <a:lnTo>
                  <a:pt x="812" y="1331"/>
                </a:lnTo>
                <a:lnTo>
                  <a:pt x="821" y="1327"/>
                </a:lnTo>
                <a:lnTo>
                  <a:pt x="829" y="1324"/>
                </a:lnTo>
                <a:lnTo>
                  <a:pt x="838" y="1320"/>
                </a:lnTo>
                <a:lnTo>
                  <a:pt x="847" y="1316"/>
                </a:lnTo>
                <a:lnTo>
                  <a:pt x="857" y="1312"/>
                </a:lnTo>
                <a:lnTo>
                  <a:pt x="866" y="1307"/>
                </a:lnTo>
                <a:lnTo>
                  <a:pt x="873" y="1303"/>
                </a:lnTo>
                <a:lnTo>
                  <a:pt x="883" y="1297"/>
                </a:lnTo>
                <a:lnTo>
                  <a:pt x="892" y="1292"/>
                </a:lnTo>
                <a:lnTo>
                  <a:pt x="901" y="1286"/>
                </a:lnTo>
                <a:lnTo>
                  <a:pt x="909" y="1281"/>
                </a:lnTo>
                <a:lnTo>
                  <a:pt x="918" y="1273"/>
                </a:lnTo>
                <a:lnTo>
                  <a:pt x="928" y="1268"/>
                </a:lnTo>
                <a:lnTo>
                  <a:pt x="937" y="1260"/>
                </a:lnTo>
                <a:lnTo>
                  <a:pt x="946" y="1253"/>
                </a:lnTo>
                <a:lnTo>
                  <a:pt x="954" y="1245"/>
                </a:lnTo>
                <a:lnTo>
                  <a:pt x="963" y="1238"/>
                </a:lnTo>
                <a:lnTo>
                  <a:pt x="972" y="1230"/>
                </a:lnTo>
                <a:lnTo>
                  <a:pt x="982" y="1221"/>
                </a:lnTo>
                <a:lnTo>
                  <a:pt x="991" y="1214"/>
                </a:lnTo>
                <a:lnTo>
                  <a:pt x="998" y="1206"/>
                </a:lnTo>
                <a:lnTo>
                  <a:pt x="1008" y="1197"/>
                </a:lnTo>
                <a:lnTo>
                  <a:pt x="1017" y="1189"/>
                </a:lnTo>
                <a:lnTo>
                  <a:pt x="1026" y="1180"/>
                </a:lnTo>
                <a:lnTo>
                  <a:pt x="1034" y="1173"/>
                </a:lnTo>
                <a:lnTo>
                  <a:pt x="1043" y="1163"/>
                </a:lnTo>
                <a:lnTo>
                  <a:pt x="1052" y="1156"/>
                </a:lnTo>
                <a:lnTo>
                  <a:pt x="1062" y="1147"/>
                </a:lnTo>
                <a:lnTo>
                  <a:pt x="1071" y="1139"/>
                </a:lnTo>
                <a:lnTo>
                  <a:pt x="1078" y="1132"/>
                </a:lnTo>
                <a:lnTo>
                  <a:pt x="1088" y="1126"/>
                </a:lnTo>
                <a:lnTo>
                  <a:pt x="1097" y="1119"/>
                </a:lnTo>
                <a:lnTo>
                  <a:pt x="1106" y="1113"/>
                </a:lnTo>
                <a:lnTo>
                  <a:pt x="1116" y="1106"/>
                </a:lnTo>
                <a:lnTo>
                  <a:pt x="1123" y="1100"/>
                </a:lnTo>
                <a:lnTo>
                  <a:pt x="1132" y="1094"/>
                </a:lnTo>
                <a:lnTo>
                  <a:pt x="1142" y="1091"/>
                </a:lnTo>
                <a:lnTo>
                  <a:pt x="1151" y="1087"/>
                </a:lnTo>
                <a:lnTo>
                  <a:pt x="1159" y="1081"/>
                </a:lnTo>
                <a:lnTo>
                  <a:pt x="1168" y="1079"/>
                </a:lnTo>
                <a:lnTo>
                  <a:pt x="1177" y="1076"/>
                </a:lnTo>
                <a:lnTo>
                  <a:pt x="1186" y="1072"/>
                </a:lnTo>
                <a:lnTo>
                  <a:pt x="1196" y="1072"/>
                </a:lnTo>
                <a:lnTo>
                  <a:pt x="1203" y="1070"/>
                </a:lnTo>
                <a:lnTo>
                  <a:pt x="1213" y="1068"/>
                </a:lnTo>
                <a:lnTo>
                  <a:pt x="1222" y="1066"/>
                </a:lnTo>
                <a:lnTo>
                  <a:pt x="1231" y="1066"/>
                </a:lnTo>
                <a:lnTo>
                  <a:pt x="1240" y="1066"/>
                </a:lnTo>
                <a:lnTo>
                  <a:pt x="1248" y="1066"/>
                </a:lnTo>
                <a:lnTo>
                  <a:pt x="1257" y="1066"/>
                </a:lnTo>
                <a:lnTo>
                  <a:pt x="1267" y="1066"/>
                </a:lnTo>
                <a:lnTo>
                  <a:pt x="1276" y="1066"/>
                </a:lnTo>
                <a:lnTo>
                  <a:pt x="1283" y="1068"/>
                </a:lnTo>
                <a:lnTo>
                  <a:pt x="1293" y="1068"/>
                </a:lnTo>
                <a:lnTo>
                  <a:pt x="1302" y="1068"/>
                </a:lnTo>
                <a:lnTo>
                  <a:pt x="1311" y="1068"/>
                </a:lnTo>
                <a:lnTo>
                  <a:pt x="1321" y="1068"/>
                </a:lnTo>
                <a:lnTo>
                  <a:pt x="1328" y="1068"/>
                </a:lnTo>
                <a:lnTo>
                  <a:pt x="1337" y="1068"/>
                </a:lnTo>
                <a:lnTo>
                  <a:pt x="1347" y="1066"/>
                </a:lnTo>
                <a:lnTo>
                  <a:pt x="1356" y="1065"/>
                </a:lnTo>
                <a:lnTo>
                  <a:pt x="1365" y="1063"/>
                </a:lnTo>
                <a:lnTo>
                  <a:pt x="1373" y="1061"/>
                </a:lnTo>
                <a:lnTo>
                  <a:pt x="1382" y="1059"/>
                </a:lnTo>
                <a:lnTo>
                  <a:pt x="1391" y="1055"/>
                </a:lnTo>
                <a:lnTo>
                  <a:pt x="1401" y="1051"/>
                </a:lnTo>
                <a:lnTo>
                  <a:pt x="1408" y="1048"/>
                </a:lnTo>
                <a:lnTo>
                  <a:pt x="1417" y="1042"/>
                </a:lnTo>
                <a:lnTo>
                  <a:pt x="1427" y="1035"/>
                </a:lnTo>
                <a:lnTo>
                  <a:pt x="1436" y="1027"/>
                </a:lnTo>
                <a:lnTo>
                  <a:pt x="1445" y="1020"/>
                </a:lnTo>
                <a:lnTo>
                  <a:pt x="1453" y="1010"/>
                </a:lnTo>
                <a:lnTo>
                  <a:pt x="1462" y="999"/>
                </a:lnTo>
                <a:lnTo>
                  <a:pt x="1472" y="988"/>
                </a:lnTo>
                <a:lnTo>
                  <a:pt x="1481" y="977"/>
                </a:lnTo>
                <a:lnTo>
                  <a:pt x="1490" y="964"/>
                </a:lnTo>
                <a:lnTo>
                  <a:pt x="1498" y="951"/>
                </a:lnTo>
                <a:lnTo>
                  <a:pt x="1507" y="936"/>
                </a:lnTo>
                <a:lnTo>
                  <a:pt x="1516" y="921"/>
                </a:lnTo>
                <a:lnTo>
                  <a:pt x="1526" y="904"/>
                </a:lnTo>
                <a:lnTo>
                  <a:pt x="1533" y="887"/>
                </a:lnTo>
                <a:lnTo>
                  <a:pt x="1542" y="871"/>
                </a:lnTo>
                <a:lnTo>
                  <a:pt x="1552" y="852"/>
                </a:lnTo>
                <a:lnTo>
                  <a:pt x="1561" y="833"/>
                </a:lnTo>
                <a:lnTo>
                  <a:pt x="1570" y="813"/>
                </a:lnTo>
                <a:lnTo>
                  <a:pt x="1578" y="792"/>
                </a:lnTo>
                <a:lnTo>
                  <a:pt x="1587" y="772"/>
                </a:lnTo>
                <a:lnTo>
                  <a:pt x="1596" y="750"/>
                </a:lnTo>
                <a:lnTo>
                  <a:pt x="1606" y="729"/>
                </a:lnTo>
                <a:lnTo>
                  <a:pt x="1615" y="707"/>
                </a:lnTo>
                <a:lnTo>
                  <a:pt x="1622" y="684"/>
                </a:lnTo>
                <a:lnTo>
                  <a:pt x="1632" y="662"/>
                </a:lnTo>
                <a:lnTo>
                  <a:pt x="1641" y="641"/>
                </a:lnTo>
                <a:lnTo>
                  <a:pt x="1650" y="619"/>
                </a:lnTo>
                <a:lnTo>
                  <a:pt x="1658" y="599"/>
                </a:lnTo>
                <a:lnTo>
                  <a:pt x="1667" y="580"/>
                </a:lnTo>
                <a:lnTo>
                  <a:pt x="1676" y="561"/>
                </a:lnTo>
                <a:lnTo>
                  <a:pt x="1686" y="543"/>
                </a:lnTo>
                <a:lnTo>
                  <a:pt x="1695" y="526"/>
                </a:lnTo>
                <a:lnTo>
                  <a:pt x="1703" y="509"/>
                </a:lnTo>
                <a:lnTo>
                  <a:pt x="1712" y="494"/>
                </a:lnTo>
                <a:lnTo>
                  <a:pt x="1721" y="479"/>
                </a:lnTo>
                <a:lnTo>
                  <a:pt x="1730" y="468"/>
                </a:lnTo>
                <a:lnTo>
                  <a:pt x="1740" y="457"/>
                </a:lnTo>
                <a:lnTo>
                  <a:pt x="1747" y="448"/>
                </a:lnTo>
                <a:lnTo>
                  <a:pt x="1757" y="440"/>
                </a:lnTo>
                <a:lnTo>
                  <a:pt x="1766" y="433"/>
                </a:lnTo>
                <a:lnTo>
                  <a:pt x="1775" y="429"/>
                </a:lnTo>
                <a:lnTo>
                  <a:pt x="1784" y="427"/>
                </a:lnTo>
                <a:lnTo>
                  <a:pt x="1792" y="427"/>
                </a:lnTo>
                <a:lnTo>
                  <a:pt x="1801" y="427"/>
                </a:lnTo>
                <a:lnTo>
                  <a:pt x="1811" y="429"/>
                </a:lnTo>
                <a:lnTo>
                  <a:pt x="1820" y="435"/>
                </a:lnTo>
                <a:lnTo>
                  <a:pt x="1827" y="438"/>
                </a:lnTo>
                <a:lnTo>
                  <a:pt x="1837" y="446"/>
                </a:lnTo>
                <a:lnTo>
                  <a:pt x="1846" y="453"/>
                </a:lnTo>
                <a:lnTo>
                  <a:pt x="1855" y="463"/>
                </a:lnTo>
                <a:lnTo>
                  <a:pt x="1865" y="474"/>
                </a:lnTo>
                <a:lnTo>
                  <a:pt x="1872" y="487"/>
                </a:lnTo>
                <a:lnTo>
                  <a:pt x="1881" y="498"/>
                </a:lnTo>
                <a:lnTo>
                  <a:pt x="1891" y="513"/>
                </a:lnTo>
                <a:lnTo>
                  <a:pt x="1900" y="528"/>
                </a:lnTo>
                <a:lnTo>
                  <a:pt x="1909" y="543"/>
                </a:lnTo>
                <a:lnTo>
                  <a:pt x="1917" y="559"/>
                </a:lnTo>
                <a:lnTo>
                  <a:pt x="1926" y="576"/>
                </a:lnTo>
                <a:lnTo>
                  <a:pt x="1935" y="593"/>
                </a:lnTo>
                <a:lnTo>
                  <a:pt x="1945" y="610"/>
                </a:lnTo>
                <a:lnTo>
                  <a:pt x="1952" y="627"/>
                </a:lnTo>
                <a:lnTo>
                  <a:pt x="1961" y="641"/>
                </a:lnTo>
                <a:lnTo>
                  <a:pt x="1971" y="658"/>
                </a:lnTo>
                <a:lnTo>
                  <a:pt x="1980" y="673"/>
                </a:lnTo>
                <a:lnTo>
                  <a:pt x="1989" y="690"/>
                </a:lnTo>
                <a:lnTo>
                  <a:pt x="1997" y="703"/>
                </a:lnTo>
                <a:lnTo>
                  <a:pt x="2006" y="718"/>
                </a:lnTo>
                <a:lnTo>
                  <a:pt x="2015" y="729"/>
                </a:lnTo>
                <a:lnTo>
                  <a:pt x="2025" y="740"/>
                </a:lnTo>
                <a:lnTo>
                  <a:pt x="2034" y="750"/>
                </a:lnTo>
                <a:lnTo>
                  <a:pt x="2042" y="759"/>
                </a:lnTo>
                <a:lnTo>
                  <a:pt x="2051" y="766"/>
                </a:lnTo>
                <a:lnTo>
                  <a:pt x="2060" y="774"/>
                </a:lnTo>
                <a:lnTo>
                  <a:pt x="2070" y="777"/>
                </a:lnTo>
                <a:lnTo>
                  <a:pt x="2077" y="781"/>
                </a:lnTo>
                <a:lnTo>
                  <a:pt x="2086" y="781"/>
                </a:lnTo>
                <a:lnTo>
                  <a:pt x="2096" y="783"/>
                </a:lnTo>
                <a:lnTo>
                  <a:pt x="2105" y="781"/>
                </a:lnTo>
                <a:lnTo>
                  <a:pt x="2114" y="779"/>
                </a:lnTo>
                <a:lnTo>
                  <a:pt x="2122" y="774"/>
                </a:lnTo>
                <a:lnTo>
                  <a:pt x="2131" y="768"/>
                </a:lnTo>
                <a:lnTo>
                  <a:pt x="2140" y="759"/>
                </a:lnTo>
                <a:lnTo>
                  <a:pt x="2150" y="750"/>
                </a:lnTo>
                <a:lnTo>
                  <a:pt x="2159" y="738"/>
                </a:lnTo>
                <a:lnTo>
                  <a:pt x="2166" y="725"/>
                </a:lnTo>
                <a:lnTo>
                  <a:pt x="2176" y="710"/>
                </a:lnTo>
                <a:lnTo>
                  <a:pt x="2185" y="694"/>
                </a:lnTo>
                <a:lnTo>
                  <a:pt x="2194" y="675"/>
                </a:lnTo>
                <a:lnTo>
                  <a:pt x="2202" y="654"/>
                </a:lnTo>
                <a:lnTo>
                  <a:pt x="2211" y="634"/>
                </a:lnTo>
                <a:lnTo>
                  <a:pt x="2220" y="610"/>
                </a:lnTo>
                <a:lnTo>
                  <a:pt x="2230" y="584"/>
                </a:lnTo>
                <a:lnTo>
                  <a:pt x="2239" y="558"/>
                </a:lnTo>
                <a:lnTo>
                  <a:pt x="2246" y="531"/>
                </a:lnTo>
                <a:lnTo>
                  <a:pt x="2256" y="504"/>
                </a:lnTo>
                <a:lnTo>
                  <a:pt x="2265" y="474"/>
                </a:lnTo>
                <a:lnTo>
                  <a:pt x="2274" y="446"/>
                </a:lnTo>
                <a:lnTo>
                  <a:pt x="2284" y="414"/>
                </a:lnTo>
                <a:lnTo>
                  <a:pt x="2291" y="382"/>
                </a:lnTo>
                <a:lnTo>
                  <a:pt x="2301" y="351"/>
                </a:lnTo>
                <a:lnTo>
                  <a:pt x="2310" y="321"/>
                </a:lnTo>
                <a:lnTo>
                  <a:pt x="2319" y="289"/>
                </a:lnTo>
                <a:lnTo>
                  <a:pt x="2327" y="259"/>
                </a:lnTo>
                <a:lnTo>
                  <a:pt x="2336" y="230"/>
                </a:lnTo>
                <a:lnTo>
                  <a:pt x="2345" y="200"/>
                </a:lnTo>
                <a:lnTo>
                  <a:pt x="2355" y="172"/>
                </a:lnTo>
                <a:lnTo>
                  <a:pt x="2364" y="144"/>
                </a:lnTo>
                <a:lnTo>
                  <a:pt x="2371" y="120"/>
                </a:lnTo>
                <a:lnTo>
                  <a:pt x="2381" y="95"/>
                </a:lnTo>
                <a:lnTo>
                  <a:pt x="2390" y="73"/>
                </a:lnTo>
                <a:lnTo>
                  <a:pt x="2399" y="54"/>
                </a:lnTo>
                <a:lnTo>
                  <a:pt x="2409" y="38"/>
                </a:lnTo>
                <a:lnTo>
                  <a:pt x="2416" y="25"/>
                </a:lnTo>
                <a:lnTo>
                  <a:pt x="2425" y="13"/>
                </a:lnTo>
                <a:lnTo>
                  <a:pt x="2435" y="6"/>
                </a:lnTo>
                <a:lnTo>
                  <a:pt x="2444" y="0"/>
                </a:lnTo>
                <a:lnTo>
                  <a:pt x="2451" y="0"/>
                </a:lnTo>
                <a:lnTo>
                  <a:pt x="2461" y="0"/>
                </a:lnTo>
                <a:lnTo>
                  <a:pt x="2470" y="6"/>
                </a:lnTo>
                <a:lnTo>
                  <a:pt x="2479" y="15"/>
                </a:lnTo>
                <a:lnTo>
                  <a:pt x="2489" y="26"/>
                </a:lnTo>
                <a:lnTo>
                  <a:pt x="2496" y="41"/>
                </a:lnTo>
                <a:lnTo>
                  <a:pt x="2505" y="60"/>
                </a:lnTo>
                <a:lnTo>
                  <a:pt x="2515" y="80"/>
                </a:lnTo>
                <a:lnTo>
                  <a:pt x="2524" y="105"/>
                </a:lnTo>
                <a:lnTo>
                  <a:pt x="2533" y="131"/>
                </a:lnTo>
                <a:lnTo>
                  <a:pt x="2541" y="159"/>
                </a:lnTo>
                <a:lnTo>
                  <a:pt x="2550" y="189"/>
                </a:lnTo>
                <a:lnTo>
                  <a:pt x="2559" y="222"/>
                </a:lnTo>
                <a:lnTo>
                  <a:pt x="2569" y="258"/>
                </a:lnTo>
                <a:lnTo>
                  <a:pt x="2576" y="295"/>
                </a:lnTo>
                <a:lnTo>
                  <a:pt x="2586" y="332"/>
                </a:lnTo>
                <a:lnTo>
                  <a:pt x="2595" y="373"/>
                </a:lnTo>
                <a:lnTo>
                  <a:pt x="2604" y="412"/>
                </a:lnTo>
                <a:lnTo>
                  <a:pt x="2613" y="453"/>
                </a:lnTo>
                <a:lnTo>
                  <a:pt x="2621" y="494"/>
                </a:lnTo>
                <a:lnTo>
                  <a:pt x="2630" y="535"/>
                </a:lnTo>
                <a:lnTo>
                  <a:pt x="2640" y="578"/>
                </a:lnTo>
                <a:lnTo>
                  <a:pt x="2649" y="621"/>
                </a:lnTo>
                <a:lnTo>
                  <a:pt x="2658" y="664"/>
                </a:lnTo>
                <a:lnTo>
                  <a:pt x="2666" y="705"/>
                </a:lnTo>
                <a:lnTo>
                  <a:pt x="2675" y="746"/>
                </a:lnTo>
                <a:lnTo>
                  <a:pt x="2684" y="785"/>
                </a:lnTo>
                <a:lnTo>
                  <a:pt x="2694" y="826"/>
                </a:lnTo>
                <a:lnTo>
                  <a:pt x="2701" y="863"/>
                </a:lnTo>
                <a:lnTo>
                  <a:pt x="2710" y="902"/>
                </a:lnTo>
                <a:lnTo>
                  <a:pt x="2720" y="940"/>
                </a:lnTo>
                <a:lnTo>
                  <a:pt x="2729" y="975"/>
                </a:lnTo>
                <a:lnTo>
                  <a:pt x="2738" y="1010"/>
                </a:lnTo>
                <a:lnTo>
                  <a:pt x="2746" y="1044"/>
                </a:lnTo>
                <a:lnTo>
                  <a:pt x="2755" y="1076"/>
                </a:lnTo>
                <a:lnTo>
                  <a:pt x="2764" y="1106"/>
                </a:lnTo>
                <a:lnTo>
                  <a:pt x="2774" y="1135"/>
                </a:lnTo>
                <a:lnTo>
                  <a:pt x="2783" y="1163"/>
                </a:lnTo>
                <a:lnTo>
                  <a:pt x="2790" y="1191"/>
                </a:lnTo>
                <a:lnTo>
                  <a:pt x="2800" y="1217"/>
                </a:lnTo>
                <a:lnTo>
                  <a:pt x="2809" y="1242"/>
                </a:lnTo>
                <a:lnTo>
                  <a:pt x="2818" y="1266"/>
                </a:lnTo>
                <a:lnTo>
                  <a:pt x="2826" y="1288"/>
                </a:lnTo>
                <a:lnTo>
                  <a:pt x="2835" y="1309"/>
                </a:lnTo>
                <a:lnTo>
                  <a:pt x="2845" y="1329"/>
                </a:lnTo>
                <a:lnTo>
                  <a:pt x="2854" y="1350"/>
                </a:lnTo>
                <a:lnTo>
                  <a:pt x="2863" y="1366"/>
                </a:lnTo>
                <a:lnTo>
                  <a:pt x="2871" y="1385"/>
                </a:lnTo>
                <a:lnTo>
                  <a:pt x="2880" y="1402"/>
                </a:lnTo>
                <a:lnTo>
                  <a:pt x="2889" y="1419"/>
                </a:lnTo>
                <a:lnTo>
                  <a:pt x="2899" y="1434"/>
                </a:lnTo>
                <a:lnTo>
                  <a:pt x="2908" y="1447"/>
                </a:lnTo>
                <a:lnTo>
                  <a:pt x="2915" y="1461"/>
                </a:lnTo>
                <a:lnTo>
                  <a:pt x="2925" y="1475"/>
                </a:lnTo>
                <a:lnTo>
                  <a:pt x="2934" y="1486"/>
                </a:lnTo>
                <a:lnTo>
                  <a:pt x="2943" y="1497"/>
                </a:lnTo>
                <a:lnTo>
                  <a:pt x="2951" y="1508"/>
                </a:lnTo>
                <a:lnTo>
                  <a:pt x="2960" y="1519"/>
                </a:lnTo>
                <a:lnTo>
                  <a:pt x="2969" y="1529"/>
                </a:lnTo>
                <a:lnTo>
                  <a:pt x="2979" y="1538"/>
                </a:lnTo>
                <a:lnTo>
                  <a:pt x="2988" y="1547"/>
                </a:lnTo>
                <a:lnTo>
                  <a:pt x="2995" y="1555"/>
                </a:lnTo>
                <a:lnTo>
                  <a:pt x="3005" y="1564"/>
                </a:lnTo>
                <a:lnTo>
                  <a:pt x="3014" y="1570"/>
                </a:lnTo>
                <a:lnTo>
                  <a:pt x="3023" y="1577"/>
                </a:lnTo>
                <a:lnTo>
                  <a:pt x="3033" y="1584"/>
                </a:lnTo>
                <a:lnTo>
                  <a:pt x="3040" y="1590"/>
                </a:lnTo>
                <a:lnTo>
                  <a:pt x="3049" y="1596"/>
                </a:lnTo>
                <a:lnTo>
                  <a:pt x="3059" y="1601"/>
                </a:lnTo>
                <a:lnTo>
                  <a:pt x="3068" y="1607"/>
                </a:lnTo>
                <a:lnTo>
                  <a:pt x="3076" y="1612"/>
                </a:lnTo>
                <a:lnTo>
                  <a:pt x="3085" y="1616"/>
                </a:lnTo>
                <a:lnTo>
                  <a:pt x="3094" y="1622"/>
                </a:lnTo>
                <a:lnTo>
                  <a:pt x="3103" y="1625"/>
                </a:lnTo>
                <a:lnTo>
                  <a:pt x="3113" y="1629"/>
                </a:lnTo>
                <a:lnTo>
                  <a:pt x="3120" y="1633"/>
                </a:lnTo>
                <a:lnTo>
                  <a:pt x="3130" y="1637"/>
                </a:lnTo>
                <a:lnTo>
                  <a:pt x="3139" y="1639"/>
                </a:lnTo>
                <a:lnTo>
                  <a:pt x="3148" y="1642"/>
                </a:lnTo>
                <a:lnTo>
                  <a:pt x="3157" y="1646"/>
                </a:lnTo>
                <a:lnTo>
                  <a:pt x="3165" y="1648"/>
                </a:lnTo>
                <a:lnTo>
                  <a:pt x="3174" y="1650"/>
                </a:lnTo>
                <a:lnTo>
                  <a:pt x="3184" y="1653"/>
                </a:lnTo>
                <a:lnTo>
                  <a:pt x="3193" y="1655"/>
                </a:lnTo>
                <a:lnTo>
                  <a:pt x="3200" y="1657"/>
                </a:lnTo>
                <a:lnTo>
                  <a:pt x="3210" y="1659"/>
                </a:lnTo>
                <a:lnTo>
                  <a:pt x="3219" y="1661"/>
                </a:lnTo>
                <a:lnTo>
                  <a:pt x="3228" y="1665"/>
                </a:lnTo>
                <a:lnTo>
                  <a:pt x="3238" y="1666"/>
                </a:lnTo>
                <a:lnTo>
                  <a:pt x="3245" y="1668"/>
                </a:lnTo>
                <a:lnTo>
                  <a:pt x="3254" y="1668"/>
                </a:lnTo>
                <a:lnTo>
                  <a:pt x="3264" y="1670"/>
                </a:lnTo>
                <a:lnTo>
                  <a:pt x="3273" y="1672"/>
                </a:lnTo>
                <a:lnTo>
                  <a:pt x="3282" y="1674"/>
                </a:lnTo>
                <a:lnTo>
                  <a:pt x="3290" y="1676"/>
                </a:lnTo>
                <a:lnTo>
                  <a:pt x="3299" y="1678"/>
                </a:lnTo>
                <a:lnTo>
                  <a:pt x="3308" y="1678"/>
                </a:lnTo>
                <a:lnTo>
                  <a:pt x="3318" y="1680"/>
                </a:lnTo>
                <a:lnTo>
                  <a:pt x="3325" y="1681"/>
                </a:lnTo>
                <a:lnTo>
                  <a:pt x="3334" y="1681"/>
                </a:lnTo>
                <a:lnTo>
                  <a:pt x="3344" y="1683"/>
                </a:lnTo>
                <a:lnTo>
                  <a:pt x="3353" y="1685"/>
                </a:lnTo>
                <a:lnTo>
                  <a:pt x="3362" y="1685"/>
                </a:lnTo>
                <a:lnTo>
                  <a:pt x="3370" y="1687"/>
                </a:lnTo>
                <a:lnTo>
                  <a:pt x="3379" y="1689"/>
                </a:lnTo>
                <a:lnTo>
                  <a:pt x="3388" y="1689"/>
                </a:lnTo>
                <a:lnTo>
                  <a:pt x="3398" y="1691"/>
                </a:lnTo>
                <a:lnTo>
                  <a:pt x="3407" y="1691"/>
                </a:lnTo>
                <a:lnTo>
                  <a:pt x="3415" y="1693"/>
                </a:lnTo>
                <a:lnTo>
                  <a:pt x="3424" y="1693"/>
                </a:lnTo>
                <a:lnTo>
                  <a:pt x="3433" y="1694"/>
                </a:lnTo>
                <a:lnTo>
                  <a:pt x="3443" y="1694"/>
                </a:lnTo>
                <a:lnTo>
                  <a:pt x="3450" y="1696"/>
                </a:lnTo>
                <a:lnTo>
                  <a:pt x="3459" y="1696"/>
                </a:lnTo>
                <a:lnTo>
                  <a:pt x="3469" y="1696"/>
                </a:lnTo>
                <a:lnTo>
                  <a:pt x="3478" y="1698"/>
                </a:lnTo>
                <a:lnTo>
                  <a:pt x="3487" y="1698"/>
                </a:lnTo>
                <a:lnTo>
                  <a:pt x="3495" y="1700"/>
                </a:lnTo>
                <a:lnTo>
                  <a:pt x="3504" y="1700"/>
                </a:lnTo>
                <a:lnTo>
                  <a:pt x="3513" y="1700"/>
                </a:lnTo>
                <a:lnTo>
                  <a:pt x="3523" y="1702"/>
                </a:lnTo>
                <a:lnTo>
                  <a:pt x="3532" y="1702"/>
                </a:lnTo>
                <a:lnTo>
                  <a:pt x="3539" y="1702"/>
                </a:lnTo>
                <a:lnTo>
                  <a:pt x="3549" y="1702"/>
                </a:lnTo>
                <a:lnTo>
                  <a:pt x="3558" y="1704"/>
                </a:lnTo>
                <a:lnTo>
                  <a:pt x="3567" y="1704"/>
                </a:lnTo>
              </a:path>
            </a:pathLst>
          </a:custGeom>
          <a:noFill/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任意多边形 265"/>
          <p:cNvSpPr/>
          <p:nvPr/>
        </p:nvSpPr>
        <p:spPr>
          <a:xfrm>
            <a:off x="2228760" y="1722600"/>
            <a:ext cx="5662800" cy="378432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3784320"/>
              <a:gd name="textAreaBottom" fmla="*/ 3784680 h 3784320"/>
            </a:gdLst>
            <a:ahLst/>
            <a:rect l="textAreaLeft" t="textAreaTop" r="textAreaRight" b="textAreaBottom"/>
            <a:pathLst>
              <a:path w="3567" h="2384">
                <a:moveTo>
                  <a:pt x="0" y="1867"/>
                </a:moveTo>
                <a:lnTo>
                  <a:pt x="9" y="1869"/>
                </a:lnTo>
                <a:lnTo>
                  <a:pt x="18" y="1871"/>
                </a:lnTo>
                <a:lnTo>
                  <a:pt x="28" y="1875"/>
                </a:lnTo>
                <a:lnTo>
                  <a:pt x="35" y="1877"/>
                </a:lnTo>
                <a:lnTo>
                  <a:pt x="44" y="1880"/>
                </a:lnTo>
                <a:lnTo>
                  <a:pt x="54" y="1884"/>
                </a:lnTo>
                <a:lnTo>
                  <a:pt x="63" y="1888"/>
                </a:lnTo>
                <a:lnTo>
                  <a:pt x="72" y="1892"/>
                </a:lnTo>
                <a:lnTo>
                  <a:pt x="80" y="1897"/>
                </a:lnTo>
                <a:lnTo>
                  <a:pt x="89" y="1901"/>
                </a:lnTo>
                <a:lnTo>
                  <a:pt x="99" y="1905"/>
                </a:lnTo>
                <a:lnTo>
                  <a:pt x="108" y="1910"/>
                </a:lnTo>
                <a:lnTo>
                  <a:pt x="117" y="1914"/>
                </a:lnTo>
                <a:lnTo>
                  <a:pt x="125" y="1920"/>
                </a:lnTo>
                <a:lnTo>
                  <a:pt x="134" y="1923"/>
                </a:lnTo>
                <a:lnTo>
                  <a:pt x="143" y="1929"/>
                </a:lnTo>
                <a:lnTo>
                  <a:pt x="153" y="1933"/>
                </a:lnTo>
                <a:lnTo>
                  <a:pt x="160" y="1936"/>
                </a:lnTo>
                <a:lnTo>
                  <a:pt x="169" y="1940"/>
                </a:lnTo>
                <a:lnTo>
                  <a:pt x="179" y="1944"/>
                </a:lnTo>
                <a:lnTo>
                  <a:pt x="188" y="1947"/>
                </a:lnTo>
                <a:lnTo>
                  <a:pt x="197" y="1951"/>
                </a:lnTo>
                <a:lnTo>
                  <a:pt x="205" y="1955"/>
                </a:lnTo>
                <a:lnTo>
                  <a:pt x="214" y="1959"/>
                </a:lnTo>
                <a:lnTo>
                  <a:pt x="223" y="1961"/>
                </a:lnTo>
                <a:lnTo>
                  <a:pt x="233" y="1964"/>
                </a:lnTo>
                <a:lnTo>
                  <a:pt x="242" y="1966"/>
                </a:lnTo>
                <a:lnTo>
                  <a:pt x="249" y="1968"/>
                </a:lnTo>
                <a:lnTo>
                  <a:pt x="259" y="1970"/>
                </a:lnTo>
                <a:lnTo>
                  <a:pt x="268" y="1972"/>
                </a:lnTo>
                <a:lnTo>
                  <a:pt x="277" y="1974"/>
                </a:lnTo>
                <a:lnTo>
                  <a:pt x="285" y="1974"/>
                </a:lnTo>
                <a:lnTo>
                  <a:pt x="294" y="1975"/>
                </a:lnTo>
                <a:lnTo>
                  <a:pt x="303" y="1977"/>
                </a:lnTo>
                <a:lnTo>
                  <a:pt x="313" y="1977"/>
                </a:lnTo>
                <a:lnTo>
                  <a:pt x="322" y="1977"/>
                </a:lnTo>
                <a:lnTo>
                  <a:pt x="330" y="1977"/>
                </a:lnTo>
                <a:lnTo>
                  <a:pt x="339" y="1977"/>
                </a:lnTo>
                <a:lnTo>
                  <a:pt x="348" y="1977"/>
                </a:lnTo>
                <a:lnTo>
                  <a:pt x="357" y="1977"/>
                </a:lnTo>
                <a:lnTo>
                  <a:pt x="367" y="1975"/>
                </a:lnTo>
                <a:lnTo>
                  <a:pt x="374" y="1974"/>
                </a:lnTo>
                <a:lnTo>
                  <a:pt x="384" y="1974"/>
                </a:lnTo>
                <a:lnTo>
                  <a:pt x="393" y="1972"/>
                </a:lnTo>
                <a:lnTo>
                  <a:pt x="402" y="1970"/>
                </a:lnTo>
                <a:lnTo>
                  <a:pt x="410" y="1970"/>
                </a:lnTo>
                <a:lnTo>
                  <a:pt x="419" y="1966"/>
                </a:lnTo>
                <a:lnTo>
                  <a:pt x="428" y="1964"/>
                </a:lnTo>
                <a:lnTo>
                  <a:pt x="438" y="1962"/>
                </a:lnTo>
                <a:lnTo>
                  <a:pt x="447" y="1961"/>
                </a:lnTo>
                <a:lnTo>
                  <a:pt x="454" y="1959"/>
                </a:lnTo>
                <a:lnTo>
                  <a:pt x="464" y="1955"/>
                </a:lnTo>
                <a:lnTo>
                  <a:pt x="473" y="1953"/>
                </a:lnTo>
                <a:lnTo>
                  <a:pt x="482" y="1951"/>
                </a:lnTo>
                <a:lnTo>
                  <a:pt x="492" y="1949"/>
                </a:lnTo>
                <a:lnTo>
                  <a:pt x="499" y="1947"/>
                </a:lnTo>
                <a:lnTo>
                  <a:pt x="508" y="1946"/>
                </a:lnTo>
                <a:lnTo>
                  <a:pt x="518" y="1944"/>
                </a:lnTo>
                <a:lnTo>
                  <a:pt x="527" y="1940"/>
                </a:lnTo>
                <a:lnTo>
                  <a:pt x="534" y="1938"/>
                </a:lnTo>
                <a:lnTo>
                  <a:pt x="544" y="1936"/>
                </a:lnTo>
                <a:lnTo>
                  <a:pt x="553" y="1934"/>
                </a:lnTo>
                <a:lnTo>
                  <a:pt x="562" y="1933"/>
                </a:lnTo>
                <a:lnTo>
                  <a:pt x="572" y="1931"/>
                </a:lnTo>
                <a:lnTo>
                  <a:pt x="579" y="1929"/>
                </a:lnTo>
                <a:lnTo>
                  <a:pt x="588" y="1927"/>
                </a:lnTo>
                <a:lnTo>
                  <a:pt x="598" y="1925"/>
                </a:lnTo>
                <a:lnTo>
                  <a:pt x="607" y="1923"/>
                </a:lnTo>
                <a:lnTo>
                  <a:pt x="616" y="1921"/>
                </a:lnTo>
                <a:lnTo>
                  <a:pt x="624" y="1920"/>
                </a:lnTo>
                <a:lnTo>
                  <a:pt x="633" y="1918"/>
                </a:lnTo>
                <a:lnTo>
                  <a:pt x="642" y="1918"/>
                </a:lnTo>
                <a:lnTo>
                  <a:pt x="652" y="1916"/>
                </a:lnTo>
                <a:lnTo>
                  <a:pt x="659" y="1914"/>
                </a:lnTo>
                <a:lnTo>
                  <a:pt x="669" y="1912"/>
                </a:lnTo>
                <a:lnTo>
                  <a:pt x="678" y="1910"/>
                </a:lnTo>
                <a:lnTo>
                  <a:pt x="687" y="1910"/>
                </a:lnTo>
                <a:lnTo>
                  <a:pt x="697" y="1908"/>
                </a:lnTo>
                <a:lnTo>
                  <a:pt x="704" y="1906"/>
                </a:lnTo>
                <a:lnTo>
                  <a:pt x="713" y="1906"/>
                </a:lnTo>
                <a:lnTo>
                  <a:pt x="723" y="1905"/>
                </a:lnTo>
                <a:lnTo>
                  <a:pt x="732" y="1903"/>
                </a:lnTo>
                <a:lnTo>
                  <a:pt x="741" y="1901"/>
                </a:lnTo>
                <a:lnTo>
                  <a:pt x="749" y="1899"/>
                </a:lnTo>
                <a:lnTo>
                  <a:pt x="758" y="1895"/>
                </a:lnTo>
                <a:lnTo>
                  <a:pt x="767" y="1893"/>
                </a:lnTo>
                <a:lnTo>
                  <a:pt x="777" y="1892"/>
                </a:lnTo>
                <a:lnTo>
                  <a:pt x="784" y="1888"/>
                </a:lnTo>
                <a:lnTo>
                  <a:pt x="793" y="1884"/>
                </a:lnTo>
                <a:lnTo>
                  <a:pt x="803" y="1880"/>
                </a:lnTo>
                <a:lnTo>
                  <a:pt x="812" y="1877"/>
                </a:lnTo>
                <a:lnTo>
                  <a:pt x="821" y="1871"/>
                </a:lnTo>
                <a:lnTo>
                  <a:pt x="829" y="1867"/>
                </a:lnTo>
                <a:lnTo>
                  <a:pt x="838" y="1860"/>
                </a:lnTo>
                <a:lnTo>
                  <a:pt x="847" y="1854"/>
                </a:lnTo>
                <a:lnTo>
                  <a:pt x="857" y="1849"/>
                </a:lnTo>
                <a:lnTo>
                  <a:pt x="866" y="1841"/>
                </a:lnTo>
                <a:lnTo>
                  <a:pt x="873" y="1834"/>
                </a:lnTo>
                <a:lnTo>
                  <a:pt x="883" y="1826"/>
                </a:lnTo>
                <a:lnTo>
                  <a:pt x="892" y="1819"/>
                </a:lnTo>
                <a:lnTo>
                  <a:pt x="901" y="1811"/>
                </a:lnTo>
                <a:lnTo>
                  <a:pt x="909" y="1802"/>
                </a:lnTo>
                <a:lnTo>
                  <a:pt x="918" y="1793"/>
                </a:lnTo>
                <a:lnTo>
                  <a:pt x="928" y="1782"/>
                </a:lnTo>
                <a:lnTo>
                  <a:pt x="937" y="1772"/>
                </a:lnTo>
                <a:lnTo>
                  <a:pt x="946" y="1763"/>
                </a:lnTo>
                <a:lnTo>
                  <a:pt x="954" y="1752"/>
                </a:lnTo>
                <a:lnTo>
                  <a:pt x="963" y="1741"/>
                </a:lnTo>
                <a:lnTo>
                  <a:pt x="972" y="1729"/>
                </a:lnTo>
                <a:lnTo>
                  <a:pt x="982" y="1718"/>
                </a:lnTo>
                <a:lnTo>
                  <a:pt x="991" y="1705"/>
                </a:lnTo>
                <a:lnTo>
                  <a:pt x="998" y="1694"/>
                </a:lnTo>
                <a:lnTo>
                  <a:pt x="1008" y="1683"/>
                </a:lnTo>
                <a:lnTo>
                  <a:pt x="1017" y="1670"/>
                </a:lnTo>
                <a:lnTo>
                  <a:pt x="1026" y="1659"/>
                </a:lnTo>
                <a:lnTo>
                  <a:pt x="1034" y="1647"/>
                </a:lnTo>
                <a:lnTo>
                  <a:pt x="1043" y="1634"/>
                </a:lnTo>
                <a:lnTo>
                  <a:pt x="1052" y="1623"/>
                </a:lnTo>
                <a:lnTo>
                  <a:pt x="1062" y="1614"/>
                </a:lnTo>
                <a:lnTo>
                  <a:pt x="1071" y="1603"/>
                </a:lnTo>
                <a:lnTo>
                  <a:pt x="1078" y="1591"/>
                </a:lnTo>
                <a:lnTo>
                  <a:pt x="1088" y="1582"/>
                </a:lnTo>
                <a:lnTo>
                  <a:pt x="1097" y="1573"/>
                </a:lnTo>
                <a:lnTo>
                  <a:pt x="1106" y="1564"/>
                </a:lnTo>
                <a:lnTo>
                  <a:pt x="1116" y="1556"/>
                </a:lnTo>
                <a:lnTo>
                  <a:pt x="1123" y="1549"/>
                </a:lnTo>
                <a:lnTo>
                  <a:pt x="1132" y="1541"/>
                </a:lnTo>
                <a:lnTo>
                  <a:pt x="1142" y="1534"/>
                </a:lnTo>
                <a:lnTo>
                  <a:pt x="1151" y="1528"/>
                </a:lnTo>
                <a:lnTo>
                  <a:pt x="1159" y="1523"/>
                </a:lnTo>
                <a:lnTo>
                  <a:pt x="1168" y="1519"/>
                </a:lnTo>
                <a:lnTo>
                  <a:pt x="1177" y="1515"/>
                </a:lnTo>
                <a:lnTo>
                  <a:pt x="1186" y="1509"/>
                </a:lnTo>
                <a:lnTo>
                  <a:pt x="1196" y="1508"/>
                </a:lnTo>
                <a:lnTo>
                  <a:pt x="1203" y="1504"/>
                </a:lnTo>
                <a:lnTo>
                  <a:pt x="1213" y="1502"/>
                </a:lnTo>
                <a:lnTo>
                  <a:pt x="1222" y="1502"/>
                </a:lnTo>
                <a:lnTo>
                  <a:pt x="1231" y="1500"/>
                </a:lnTo>
                <a:lnTo>
                  <a:pt x="1240" y="1498"/>
                </a:lnTo>
                <a:lnTo>
                  <a:pt x="1248" y="1498"/>
                </a:lnTo>
                <a:lnTo>
                  <a:pt x="1257" y="1500"/>
                </a:lnTo>
                <a:lnTo>
                  <a:pt x="1267" y="1500"/>
                </a:lnTo>
                <a:lnTo>
                  <a:pt x="1276" y="1500"/>
                </a:lnTo>
                <a:lnTo>
                  <a:pt x="1283" y="1502"/>
                </a:lnTo>
                <a:lnTo>
                  <a:pt x="1293" y="1502"/>
                </a:lnTo>
                <a:lnTo>
                  <a:pt x="1302" y="1502"/>
                </a:lnTo>
                <a:lnTo>
                  <a:pt x="1311" y="1502"/>
                </a:lnTo>
                <a:lnTo>
                  <a:pt x="1321" y="1502"/>
                </a:lnTo>
                <a:lnTo>
                  <a:pt x="1328" y="1502"/>
                </a:lnTo>
                <a:lnTo>
                  <a:pt x="1337" y="1502"/>
                </a:lnTo>
                <a:lnTo>
                  <a:pt x="1347" y="1500"/>
                </a:lnTo>
                <a:lnTo>
                  <a:pt x="1356" y="1498"/>
                </a:lnTo>
                <a:lnTo>
                  <a:pt x="1365" y="1496"/>
                </a:lnTo>
                <a:lnTo>
                  <a:pt x="1373" y="1493"/>
                </a:lnTo>
                <a:lnTo>
                  <a:pt x="1382" y="1489"/>
                </a:lnTo>
                <a:lnTo>
                  <a:pt x="1391" y="1483"/>
                </a:lnTo>
                <a:lnTo>
                  <a:pt x="1401" y="1480"/>
                </a:lnTo>
                <a:lnTo>
                  <a:pt x="1408" y="1472"/>
                </a:lnTo>
                <a:lnTo>
                  <a:pt x="1417" y="1465"/>
                </a:lnTo>
                <a:lnTo>
                  <a:pt x="1427" y="1455"/>
                </a:lnTo>
                <a:lnTo>
                  <a:pt x="1436" y="1444"/>
                </a:lnTo>
                <a:lnTo>
                  <a:pt x="1445" y="1433"/>
                </a:lnTo>
                <a:lnTo>
                  <a:pt x="1453" y="1420"/>
                </a:lnTo>
                <a:lnTo>
                  <a:pt x="1462" y="1407"/>
                </a:lnTo>
                <a:lnTo>
                  <a:pt x="1472" y="1390"/>
                </a:lnTo>
                <a:lnTo>
                  <a:pt x="1481" y="1373"/>
                </a:lnTo>
                <a:lnTo>
                  <a:pt x="1490" y="1355"/>
                </a:lnTo>
                <a:lnTo>
                  <a:pt x="1498" y="1334"/>
                </a:lnTo>
                <a:lnTo>
                  <a:pt x="1507" y="1314"/>
                </a:lnTo>
                <a:lnTo>
                  <a:pt x="1516" y="1293"/>
                </a:lnTo>
                <a:lnTo>
                  <a:pt x="1526" y="1271"/>
                </a:lnTo>
                <a:lnTo>
                  <a:pt x="1533" y="1247"/>
                </a:lnTo>
                <a:lnTo>
                  <a:pt x="1542" y="1222"/>
                </a:lnTo>
                <a:lnTo>
                  <a:pt x="1552" y="1196"/>
                </a:lnTo>
                <a:lnTo>
                  <a:pt x="1561" y="1170"/>
                </a:lnTo>
                <a:lnTo>
                  <a:pt x="1570" y="1142"/>
                </a:lnTo>
                <a:lnTo>
                  <a:pt x="1578" y="1113"/>
                </a:lnTo>
                <a:lnTo>
                  <a:pt x="1587" y="1083"/>
                </a:lnTo>
                <a:lnTo>
                  <a:pt x="1596" y="1053"/>
                </a:lnTo>
                <a:lnTo>
                  <a:pt x="1606" y="1023"/>
                </a:lnTo>
                <a:lnTo>
                  <a:pt x="1615" y="991"/>
                </a:lnTo>
                <a:lnTo>
                  <a:pt x="1622" y="960"/>
                </a:lnTo>
                <a:lnTo>
                  <a:pt x="1632" y="930"/>
                </a:lnTo>
                <a:lnTo>
                  <a:pt x="1641" y="900"/>
                </a:lnTo>
                <a:lnTo>
                  <a:pt x="1650" y="868"/>
                </a:lnTo>
                <a:lnTo>
                  <a:pt x="1658" y="840"/>
                </a:lnTo>
                <a:lnTo>
                  <a:pt x="1667" y="812"/>
                </a:lnTo>
                <a:lnTo>
                  <a:pt x="1676" y="785"/>
                </a:lnTo>
                <a:lnTo>
                  <a:pt x="1686" y="760"/>
                </a:lnTo>
                <a:lnTo>
                  <a:pt x="1695" y="734"/>
                </a:lnTo>
                <a:lnTo>
                  <a:pt x="1703" y="712"/>
                </a:lnTo>
                <a:lnTo>
                  <a:pt x="1712" y="691"/>
                </a:lnTo>
                <a:lnTo>
                  <a:pt x="1721" y="673"/>
                </a:lnTo>
                <a:lnTo>
                  <a:pt x="1730" y="656"/>
                </a:lnTo>
                <a:lnTo>
                  <a:pt x="1740" y="641"/>
                </a:lnTo>
                <a:lnTo>
                  <a:pt x="1747" y="628"/>
                </a:lnTo>
                <a:lnTo>
                  <a:pt x="1757" y="617"/>
                </a:lnTo>
                <a:lnTo>
                  <a:pt x="1766" y="607"/>
                </a:lnTo>
                <a:lnTo>
                  <a:pt x="1775" y="602"/>
                </a:lnTo>
                <a:lnTo>
                  <a:pt x="1784" y="600"/>
                </a:lnTo>
                <a:lnTo>
                  <a:pt x="1792" y="598"/>
                </a:lnTo>
                <a:lnTo>
                  <a:pt x="1801" y="600"/>
                </a:lnTo>
                <a:lnTo>
                  <a:pt x="1811" y="604"/>
                </a:lnTo>
                <a:lnTo>
                  <a:pt x="1820" y="609"/>
                </a:lnTo>
                <a:lnTo>
                  <a:pt x="1827" y="619"/>
                </a:lnTo>
                <a:lnTo>
                  <a:pt x="1837" y="628"/>
                </a:lnTo>
                <a:lnTo>
                  <a:pt x="1846" y="639"/>
                </a:lnTo>
                <a:lnTo>
                  <a:pt x="1855" y="654"/>
                </a:lnTo>
                <a:lnTo>
                  <a:pt x="1865" y="669"/>
                </a:lnTo>
                <a:lnTo>
                  <a:pt x="1872" y="686"/>
                </a:lnTo>
                <a:lnTo>
                  <a:pt x="1881" y="704"/>
                </a:lnTo>
                <a:lnTo>
                  <a:pt x="1891" y="723"/>
                </a:lnTo>
                <a:lnTo>
                  <a:pt x="1900" y="745"/>
                </a:lnTo>
                <a:lnTo>
                  <a:pt x="1909" y="766"/>
                </a:lnTo>
                <a:lnTo>
                  <a:pt x="1917" y="788"/>
                </a:lnTo>
                <a:lnTo>
                  <a:pt x="1926" y="811"/>
                </a:lnTo>
                <a:lnTo>
                  <a:pt x="1935" y="835"/>
                </a:lnTo>
                <a:lnTo>
                  <a:pt x="1945" y="857"/>
                </a:lnTo>
                <a:lnTo>
                  <a:pt x="1952" y="881"/>
                </a:lnTo>
                <a:lnTo>
                  <a:pt x="1961" y="904"/>
                </a:lnTo>
                <a:lnTo>
                  <a:pt x="1971" y="928"/>
                </a:lnTo>
                <a:lnTo>
                  <a:pt x="1980" y="950"/>
                </a:lnTo>
                <a:lnTo>
                  <a:pt x="1989" y="971"/>
                </a:lnTo>
                <a:lnTo>
                  <a:pt x="1997" y="991"/>
                </a:lnTo>
                <a:lnTo>
                  <a:pt x="2006" y="1010"/>
                </a:lnTo>
                <a:lnTo>
                  <a:pt x="2015" y="1027"/>
                </a:lnTo>
                <a:lnTo>
                  <a:pt x="2025" y="1042"/>
                </a:lnTo>
                <a:lnTo>
                  <a:pt x="2034" y="1057"/>
                </a:lnTo>
                <a:lnTo>
                  <a:pt x="2042" y="1070"/>
                </a:lnTo>
                <a:lnTo>
                  <a:pt x="2051" y="1081"/>
                </a:lnTo>
                <a:lnTo>
                  <a:pt x="2060" y="1088"/>
                </a:lnTo>
                <a:lnTo>
                  <a:pt x="2070" y="1096"/>
                </a:lnTo>
                <a:lnTo>
                  <a:pt x="2077" y="1099"/>
                </a:lnTo>
                <a:lnTo>
                  <a:pt x="2086" y="1101"/>
                </a:lnTo>
                <a:lnTo>
                  <a:pt x="2096" y="1101"/>
                </a:lnTo>
                <a:lnTo>
                  <a:pt x="2105" y="1099"/>
                </a:lnTo>
                <a:lnTo>
                  <a:pt x="2114" y="1096"/>
                </a:lnTo>
                <a:lnTo>
                  <a:pt x="2122" y="1090"/>
                </a:lnTo>
                <a:lnTo>
                  <a:pt x="2131" y="1081"/>
                </a:lnTo>
                <a:lnTo>
                  <a:pt x="2140" y="1070"/>
                </a:lnTo>
                <a:lnTo>
                  <a:pt x="2150" y="1055"/>
                </a:lnTo>
                <a:lnTo>
                  <a:pt x="2159" y="1038"/>
                </a:lnTo>
                <a:lnTo>
                  <a:pt x="2166" y="1019"/>
                </a:lnTo>
                <a:lnTo>
                  <a:pt x="2176" y="997"/>
                </a:lnTo>
                <a:lnTo>
                  <a:pt x="2185" y="975"/>
                </a:lnTo>
                <a:lnTo>
                  <a:pt x="2194" y="949"/>
                </a:lnTo>
                <a:lnTo>
                  <a:pt x="2202" y="921"/>
                </a:lnTo>
                <a:lnTo>
                  <a:pt x="2211" y="889"/>
                </a:lnTo>
                <a:lnTo>
                  <a:pt x="2220" y="855"/>
                </a:lnTo>
                <a:lnTo>
                  <a:pt x="2230" y="820"/>
                </a:lnTo>
                <a:lnTo>
                  <a:pt x="2239" y="783"/>
                </a:lnTo>
                <a:lnTo>
                  <a:pt x="2246" y="745"/>
                </a:lnTo>
                <a:lnTo>
                  <a:pt x="2256" y="704"/>
                </a:lnTo>
                <a:lnTo>
                  <a:pt x="2265" y="663"/>
                </a:lnTo>
                <a:lnTo>
                  <a:pt x="2274" y="622"/>
                </a:lnTo>
                <a:lnTo>
                  <a:pt x="2284" y="580"/>
                </a:lnTo>
                <a:lnTo>
                  <a:pt x="2291" y="535"/>
                </a:lnTo>
                <a:lnTo>
                  <a:pt x="2301" y="490"/>
                </a:lnTo>
                <a:lnTo>
                  <a:pt x="2310" y="445"/>
                </a:lnTo>
                <a:lnTo>
                  <a:pt x="2319" y="402"/>
                </a:lnTo>
                <a:lnTo>
                  <a:pt x="2327" y="360"/>
                </a:lnTo>
                <a:lnTo>
                  <a:pt x="2336" y="317"/>
                </a:lnTo>
                <a:lnTo>
                  <a:pt x="2345" y="276"/>
                </a:lnTo>
                <a:lnTo>
                  <a:pt x="2355" y="237"/>
                </a:lnTo>
                <a:lnTo>
                  <a:pt x="2364" y="199"/>
                </a:lnTo>
                <a:lnTo>
                  <a:pt x="2371" y="164"/>
                </a:lnTo>
                <a:lnTo>
                  <a:pt x="2381" y="130"/>
                </a:lnTo>
                <a:lnTo>
                  <a:pt x="2390" y="101"/>
                </a:lnTo>
                <a:lnTo>
                  <a:pt x="2399" y="74"/>
                </a:lnTo>
                <a:lnTo>
                  <a:pt x="2409" y="50"/>
                </a:lnTo>
                <a:lnTo>
                  <a:pt x="2416" y="32"/>
                </a:lnTo>
                <a:lnTo>
                  <a:pt x="2425" y="17"/>
                </a:lnTo>
                <a:lnTo>
                  <a:pt x="2435" y="6"/>
                </a:lnTo>
                <a:lnTo>
                  <a:pt x="2444" y="2"/>
                </a:lnTo>
                <a:lnTo>
                  <a:pt x="2451" y="0"/>
                </a:lnTo>
                <a:lnTo>
                  <a:pt x="2461" y="2"/>
                </a:lnTo>
                <a:lnTo>
                  <a:pt x="2470" y="11"/>
                </a:lnTo>
                <a:lnTo>
                  <a:pt x="2479" y="24"/>
                </a:lnTo>
                <a:lnTo>
                  <a:pt x="2489" y="41"/>
                </a:lnTo>
                <a:lnTo>
                  <a:pt x="2496" y="63"/>
                </a:lnTo>
                <a:lnTo>
                  <a:pt x="2505" y="89"/>
                </a:lnTo>
                <a:lnTo>
                  <a:pt x="2515" y="121"/>
                </a:lnTo>
                <a:lnTo>
                  <a:pt x="2524" y="155"/>
                </a:lnTo>
                <a:lnTo>
                  <a:pt x="2533" y="190"/>
                </a:lnTo>
                <a:lnTo>
                  <a:pt x="2541" y="231"/>
                </a:lnTo>
                <a:lnTo>
                  <a:pt x="2550" y="274"/>
                </a:lnTo>
                <a:lnTo>
                  <a:pt x="2559" y="322"/>
                </a:lnTo>
                <a:lnTo>
                  <a:pt x="2569" y="373"/>
                </a:lnTo>
                <a:lnTo>
                  <a:pt x="2576" y="425"/>
                </a:lnTo>
                <a:lnTo>
                  <a:pt x="2586" y="481"/>
                </a:lnTo>
                <a:lnTo>
                  <a:pt x="2595" y="537"/>
                </a:lnTo>
                <a:lnTo>
                  <a:pt x="2604" y="593"/>
                </a:lnTo>
                <a:lnTo>
                  <a:pt x="2613" y="648"/>
                </a:lnTo>
                <a:lnTo>
                  <a:pt x="2621" y="706"/>
                </a:lnTo>
                <a:lnTo>
                  <a:pt x="2630" y="766"/>
                </a:lnTo>
                <a:lnTo>
                  <a:pt x="2640" y="826"/>
                </a:lnTo>
                <a:lnTo>
                  <a:pt x="2649" y="885"/>
                </a:lnTo>
                <a:lnTo>
                  <a:pt x="2658" y="945"/>
                </a:lnTo>
                <a:lnTo>
                  <a:pt x="2666" y="1003"/>
                </a:lnTo>
                <a:lnTo>
                  <a:pt x="2675" y="1060"/>
                </a:lnTo>
                <a:lnTo>
                  <a:pt x="2684" y="1116"/>
                </a:lnTo>
                <a:lnTo>
                  <a:pt x="2694" y="1172"/>
                </a:lnTo>
                <a:lnTo>
                  <a:pt x="2701" y="1226"/>
                </a:lnTo>
                <a:lnTo>
                  <a:pt x="2710" y="1280"/>
                </a:lnTo>
                <a:lnTo>
                  <a:pt x="2720" y="1332"/>
                </a:lnTo>
                <a:lnTo>
                  <a:pt x="2729" y="1383"/>
                </a:lnTo>
                <a:lnTo>
                  <a:pt x="2738" y="1431"/>
                </a:lnTo>
                <a:lnTo>
                  <a:pt x="2746" y="1478"/>
                </a:lnTo>
                <a:lnTo>
                  <a:pt x="2755" y="1523"/>
                </a:lnTo>
                <a:lnTo>
                  <a:pt x="2764" y="1565"/>
                </a:lnTo>
                <a:lnTo>
                  <a:pt x="2774" y="1606"/>
                </a:lnTo>
                <a:lnTo>
                  <a:pt x="2783" y="1646"/>
                </a:lnTo>
                <a:lnTo>
                  <a:pt x="2790" y="1683"/>
                </a:lnTo>
                <a:lnTo>
                  <a:pt x="2800" y="1720"/>
                </a:lnTo>
                <a:lnTo>
                  <a:pt x="2809" y="1754"/>
                </a:lnTo>
                <a:lnTo>
                  <a:pt x="2818" y="1787"/>
                </a:lnTo>
                <a:lnTo>
                  <a:pt x="2826" y="1819"/>
                </a:lnTo>
                <a:lnTo>
                  <a:pt x="2835" y="1847"/>
                </a:lnTo>
                <a:lnTo>
                  <a:pt x="2845" y="1875"/>
                </a:lnTo>
                <a:lnTo>
                  <a:pt x="2854" y="1903"/>
                </a:lnTo>
                <a:lnTo>
                  <a:pt x="2863" y="1929"/>
                </a:lnTo>
                <a:lnTo>
                  <a:pt x="2871" y="1953"/>
                </a:lnTo>
                <a:lnTo>
                  <a:pt x="2880" y="1975"/>
                </a:lnTo>
                <a:lnTo>
                  <a:pt x="2889" y="1998"/>
                </a:lnTo>
                <a:lnTo>
                  <a:pt x="2899" y="2018"/>
                </a:lnTo>
                <a:lnTo>
                  <a:pt x="2908" y="2039"/>
                </a:lnTo>
                <a:lnTo>
                  <a:pt x="2915" y="2057"/>
                </a:lnTo>
                <a:lnTo>
                  <a:pt x="2925" y="2076"/>
                </a:lnTo>
                <a:lnTo>
                  <a:pt x="2934" y="2091"/>
                </a:lnTo>
                <a:lnTo>
                  <a:pt x="2943" y="2108"/>
                </a:lnTo>
                <a:lnTo>
                  <a:pt x="2951" y="2123"/>
                </a:lnTo>
                <a:lnTo>
                  <a:pt x="2960" y="2138"/>
                </a:lnTo>
                <a:lnTo>
                  <a:pt x="2969" y="2151"/>
                </a:lnTo>
                <a:lnTo>
                  <a:pt x="2979" y="2164"/>
                </a:lnTo>
                <a:lnTo>
                  <a:pt x="2988" y="2175"/>
                </a:lnTo>
                <a:lnTo>
                  <a:pt x="2995" y="2186"/>
                </a:lnTo>
                <a:lnTo>
                  <a:pt x="3005" y="2197"/>
                </a:lnTo>
                <a:lnTo>
                  <a:pt x="3014" y="2207"/>
                </a:lnTo>
                <a:lnTo>
                  <a:pt x="3023" y="2216"/>
                </a:lnTo>
                <a:lnTo>
                  <a:pt x="3033" y="2225"/>
                </a:lnTo>
                <a:lnTo>
                  <a:pt x="3040" y="2234"/>
                </a:lnTo>
                <a:lnTo>
                  <a:pt x="3049" y="2242"/>
                </a:lnTo>
                <a:lnTo>
                  <a:pt x="3059" y="2249"/>
                </a:lnTo>
                <a:lnTo>
                  <a:pt x="3068" y="2257"/>
                </a:lnTo>
                <a:lnTo>
                  <a:pt x="3076" y="2262"/>
                </a:lnTo>
                <a:lnTo>
                  <a:pt x="3085" y="2270"/>
                </a:lnTo>
                <a:lnTo>
                  <a:pt x="3094" y="2275"/>
                </a:lnTo>
                <a:lnTo>
                  <a:pt x="3103" y="2281"/>
                </a:lnTo>
                <a:lnTo>
                  <a:pt x="3113" y="2285"/>
                </a:lnTo>
                <a:lnTo>
                  <a:pt x="3120" y="2290"/>
                </a:lnTo>
                <a:lnTo>
                  <a:pt x="3130" y="2296"/>
                </a:lnTo>
                <a:lnTo>
                  <a:pt x="3139" y="2300"/>
                </a:lnTo>
                <a:lnTo>
                  <a:pt x="3148" y="2303"/>
                </a:lnTo>
                <a:lnTo>
                  <a:pt x="3157" y="2307"/>
                </a:lnTo>
                <a:lnTo>
                  <a:pt x="3165" y="2311"/>
                </a:lnTo>
                <a:lnTo>
                  <a:pt x="3174" y="2315"/>
                </a:lnTo>
                <a:lnTo>
                  <a:pt x="3184" y="2318"/>
                </a:lnTo>
                <a:lnTo>
                  <a:pt x="3193" y="2320"/>
                </a:lnTo>
                <a:lnTo>
                  <a:pt x="3200" y="2324"/>
                </a:lnTo>
                <a:lnTo>
                  <a:pt x="3210" y="2326"/>
                </a:lnTo>
                <a:lnTo>
                  <a:pt x="3219" y="2330"/>
                </a:lnTo>
                <a:lnTo>
                  <a:pt x="3228" y="2331"/>
                </a:lnTo>
                <a:lnTo>
                  <a:pt x="3238" y="2335"/>
                </a:lnTo>
                <a:lnTo>
                  <a:pt x="3245" y="2337"/>
                </a:lnTo>
                <a:lnTo>
                  <a:pt x="3254" y="2339"/>
                </a:lnTo>
                <a:lnTo>
                  <a:pt x="3264" y="2341"/>
                </a:lnTo>
                <a:lnTo>
                  <a:pt x="3273" y="2344"/>
                </a:lnTo>
                <a:lnTo>
                  <a:pt x="3282" y="2346"/>
                </a:lnTo>
                <a:lnTo>
                  <a:pt x="3290" y="2348"/>
                </a:lnTo>
                <a:lnTo>
                  <a:pt x="3299" y="2350"/>
                </a:lnTo>
                <a:lnTo>
                  <a:pt x="3308" y="2352"/>
                </a:lnTo>
                <a:lnTo>
                  <a:pt x="3318" y="2354"/>
                </a:lnTo>
                <a:lnTo>
                  <a:pt x="3325" y="2354"/>
                </a:lnTo>
                <a:lnTo>
                  <a:pt x="3334" y="2356"/>
                </a:lnTo>
                <a:lnTo>
                  <a:pt x="3344" y="2357"/>
                </a:lnTo>
                <a:lnTo>
                  <a:pt x="3353" y="2359"/>
                </a:lnTo>
                <a:lnTo>
                  <a:pt x="3362" y="2361"/>
                </a:lnTo>
                <a:lnTo>
                  <a:pt x="3370" y="2363"/>
                </a:lnTo>
                <a:lnTo>
                  <a:pt x="3379" y="2363"/>
                </a:lnTo>
                <a:lnTo>
                  <a:pt x="3388" y="2365"/>
                </a:lnTo>
                <a:lnTo>
                  <a:pt x="3398" y="2367"/>
                </a:lnTo>
                <a:lnTo>
                  <a:pt x="3407" y="2369"/>
                </a:lnTo>
                <a:lnTo>
                  <a:pt x="3415" y="2369"/>
                </a:lnTo>
                <a:lnTo>
                  <a:pt x="3424" y="2371"/>
                </a:lnTo>
                <a:lnTo>
                  <a:pt x="3433" y="2372"/>
                </a:lnTo>
                <a:lnTo>
                  <a:pt x="3443" y="2372"/>
                </a:lnTo>
                <a:lnTo>
                  <a:pt x="3450" y="2374"/>
                </a:lnTo>
                <a:lnTo>
                  <a:pt x="3459" y="2374"/>
                </a:lnTo>
                <a:lnTo>
                  <a:pt x="3469" y="2376"/>
                </a:lnTo>
                <a:lnTo>
                  <a:pt x="3478" y="2376"/>
                </a:lnTo>
                <a:lnTo>
                  <a:pt x="3487" y="2378"/>
                </a:lnTo>
                <a:lnTo>
                  <a:pt x="3495" y="2378"/>
                </a:lnTo>
                <a:lnTo>
                  <a:pt x="3504" y="2380"/>
                </a:lnTo>
                <a:lnTo>
                  <a:pt x="3513" y="2380"/>
                </a:lnTo>
                <a:lnTo>
                  <a:pt x="3523" y="2382"/>
                </a:lnTo>
                <a:lnTo>
                  <a:pt x="3532" y="2382"/>
                </a:lnTo>
                <a:lnTo>
                  <a:pt x="3539" y="2382"/>
                </a:lnTo>
                <a:lnTo>
                  <a:pt x="3549" y="2384"/>
                </a:lnTo>
                <a:lnTo>
                  <a:pt x="3558" y="2384"/>
                </a:lnTo>
                <a:lnTo>
                  <a:pt x="3567" y="2384"/>
                </a:lnTo>
              </a:path>
            </a:pathLst>
          </a:custGeom>
          <a:noFill/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任意多边形 266"/>
          <p:cNvSpPr/>
          <p:nvPr/>
        </p:nvSpPr>
        <p:spPr>
          <a:xfrm>
            <a:off x="2228760" y="2257560"/>
            <a:ext cx="5662800" cy="325116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3251160"/>
              <a:gd name="textAreaBottom" fmla="*/ 3251520 h 3251160"/>
            </a:gdLst>
            <a:ahLst/>
            <a:rect l="textAreaLeft" t="textAreaTop" r="textAreaRight" b="textAreaBottom"/>
            <a:pathLst>
              <a:path w="3567" h="2048">
                <a:moveTo>
                  <a:pt x="0" y="1586"/>
                </a:moveTo>
                <a:lnTo>
                  <a:pt x="9" y="1586"/>
                </a:lnTo>
                <a:lnTo>
                  <a:pt x="18" y="1588"/>
                </a:lnTo>
                <a:lnTo>
                  <a:pt x="28" y="1590"/>
                </a:lnTo>
                <a:lnTo>
                  <a:pt x="35" y="1594"/>
                </a:lnTo>
                <a:lnTo>
                  <a:pt x="44" y="1596"/>
                </a:lnTo>
                <a:lnTo>
                  <a:pt x="54" y="1599"/>
                </a:lnTo>
                <a:lnTo>
                  <a:pt x="63" y="1603"/>
                </a:lnTo>
                <a:lnTo>
                  <a:pt x="72" y="1607"/>
                </a:lnTo>
                <a:lnTo>
                  <a:pt x="80" y="1612"/>
                </a:lnTo>
                <a:lnTo>
                  <a:pt x="89" y="1616"/>
                </a:lnTo>
                <a:lnTo>
                  <a:pt x="99" y="1620"/>
                </a:lnTo>
                <a:lnTo>
                  <a:pt x="108" y="1625"/>
                </a:lnTo>
                <a:lnTo>
                  <a:pt x="117" y="1629"/>
                </a:lnTo>
                <a:lnTo>
                  <a:pt x="125" y="1633"/>
                </a:lnTo>
                <a:lnTo>
                  <a:pt x="134" y="1637"/>
                </a:lnTo>
                <a:lnTo>
                  <a:pt x="143" y="1640"/>
                </a:lnTo>
                <a:lnTo>
                  <a:pt x="153" y="1644"/>
                </a:lnTo>
                <a:lnTo>
                  <a:pt x="160" y="1648"/>
                </a:lnTo>
                <a:lnTo>
                  <a:pt x="169" y="1651"/>
                </a:lnTo>
                <a:lnTo>
                  <a:pt x="179" y="1655"/>
                </a:lnTo>
                <a:lnTo>
                  <a:pt x="188" y="1657"/>
                </a:lnTo>
                <a:lnTo>
                  <a:pt x="197" y="1661"/>
                </a:lnTo>
                <a:lnTo>
                  <a:pt x="205" y="1665"/>
                </a:lnTo>
                <a:lnTo>
                  <a:pt x="214" y="1666"/>
                </a:lnTo>
                <a:lnTo>
                  <a:pt x="223" y="1670"/>
                </a:lnTo>
                <a:lnTo>
                  <a:pt x="233" y="1672"/>
                </a:lnTo>
                <a:lnTo>
                  <a:pt x="242" y="1676"/>
                </a:lnTo>
                <a:lnTo>
                  <a:pt x="249" y="1678"/>
                </a:lnTo>
                <a:lnTo>
                  <a:pt x="259" y="1679"/>
                </a:lnTo>
                <a:lnTo>
                  <a:pt x="268" y="1681"/>
                </a:lnTo>
                <a:lnTo>
                  <a:pt x="277" y="1683"/>
                </a:lnTo>
                <a:lnTo>
                  <a:pt x="285" y="1683"/>
                </a:lnTo>
                <a:lnTo>
                  <a:pt x="294" y="1685"/>
                </a:lnTo>
                <a:lnTo>
                  <a:pt x="303" y="1687"/>
                </a:lnTo>
                <a:lnTo>
                  <a:pt x="313" y="1687"/>
                </a:lnTo>
                <a:lnTo>
                  <a:pt x="322" y="1687"/>
                </a:lnTo>
                <a:lnTo>
                  <a:pt x="330" y="1687"/>
                </a:lnTo>
                <a:lnTo>
                  <a:pt x="339" y="1687"/>
                </a:lnTo>
                <a:lnTo>
                  <a:pt x="348" y="1689"/>
                </a:lnTo>
                <a:lnTo>
                  <a:pt x="357" y="1687"/>
                </a:lnTo>
                <a:lnTo>
                  <a:pt x="367" y="1687"/>
                </a:lnTo>
                <a:lnTo>
                  <a:pt x="374" y="1687"/>
                </a:lnTo>
                <a:lnTo>
                  <a:pt x="384" y="1685"/>
                </a:lnTo>
                <a:lnTo>
                  <a:pt x="393" y="1685"/>
                </a:lnTo>
                <a:lnTo>
                  <a:pt x="402" y="1683"/>
                </a:lnTo>
                <a:lnTo>
                  <a:pt x="410" y="1683"/>
                </a:lnTo>
                <a:lnTo>
                  <a:pt x="419" y="1681"/>
                </a:lnTo>
                <a:lnTo>
                  <a:pt x="428" y="1679"/>
                </a:lnTo>
                <a:lnTo>
                  <a:pt x="438" y="1678"/>
                </a:lnTo>
                <a:lnTo>
                  <a:pt x="447" y="1676"/>
                </a:lnTo>
                <a:lnTo>
                  <a:pt x="454" y="1674"/>
                </a:lnTo>
                <a:lnTo>
                  <a:pt x="464" y="1672"/>
                </a:lnTo>
                <a:lnTo>
                  <a:pt x="473" y="1670"/>
                </a:lnTo>
                <a:lnTo>
                  <a:pt x="482" y="1668"/>
                </a:lnTo>
                <a:lnTo>
                  <a:pt x="492" y="1666"/>
                </a:lnTo>
                <a:lnTo>
                  <a:pt x="499" y="1665"/>
                </a:lnTo>
                <a:lnTo>
                  <a:pt x="508" y="1663"/>
                </a:lnTo>
                <a:lnTo>
                  <a:pt x="518" y="1661"/>
                </a:lnTo>
                <a:lnTo>
                  <a:pt x="527" y="1659"/>
                </a:lnTo>
                <a:lnTo>
                  <a:pt x="534" y="1657"/>
                </a:lnTo>
                <a:lnTo>
                  <a:pt x="544" y="1655"/>
                </a:lnTo>
                <a:lnTo>
                  <a:pt x="553" y="1653"/>
                </a:lnTo>
                <a:lnTo>
                  <a:pt x="562" y="1651"/>
                </a:lnTo>
                <a:lnTo>
                  <a:pt x="572" y="1650"/>
                </a:lnTo>
                <a:lnTo>
                  <a:pt x="579" y="1648"/>
                </a:lnTo>
                <a:lnTo>
                  <a:pt x="588" y="1648"/>
                </a:lnTo>
                <a:lnTo>
                  <a:pt x="598" y="1646"/>
                </a:lnTo>
                <a:lnTo>
                  <a:pt x="607" y="1644"/>
                </a:lnTo>
                <a:lnTo>
                  <a:pt x="616" y="1642"/>
                </a:lnTo>
                <a:lnTo>
                  <a:pt x="624" y="1640"/>
                </a:lnTo>
                <a:lnTo>
                  <a:pt x="633" y="1640"/>
                </a:lnTo>
                <a:lnTo>
                  <a:pt x="642" y="1638"/>
                </a:lnTo>
                <a:lnTo>
                  <a:pt x="652" y="1637"/>
                </a:lnTo>
                <a:lnTo>
                  <a:pt x="659" y="1637"/>
                </a:lnTo>
                <a:lnTo>
                  <a:pt x="669" y="1635"/>
                </a:lnTo>
                <a:lnTo>
                  <a:pt x="678" y="1633"/>
                </a:lnTo>
                <a:lnTo>
                  <a:pt x="687" y="1633"/>
                </a:lnTo>
                <a:lnTo>
                  <a:pt x="697" y="1631"/>
                </a:lnTo>
                <a:lnTo>
                  <a:pt x="704" y="1629"/>
                </a:lnTo>
                <a:lnTo>
                  <a:pt x="713" y="1629"/>
                </a:lnTo>
                <a:lnTo>
                  <a:pt x="723" y="1627"/>
                </a:lnTo>
                <a:lnTo>
                  <a:pt x="732" y="1625"/>
                </a:lnTo>
                <a:lnTo>
                  <a:pt x="741" y="1624"/>
                </a:lnTo>
                <a:lnTo>
                  <a:pt x="749" y="1622"/>
                </a:lnTo>
                <a:lnTo>
                  <a:pt x="758" y="1620"/>
                </a:lnTo>
                <a:lnTo>
                  <a:pt x="767" y="1618"/>
                </a:lnTo>
                <a:lnTo>
                  <a:pt x="777" y="1616"/>
                </a:lnTo>
                <a:lnTo>
                  <a:pt x="784" y="1612"/>
                </a:lnTo>
                <a:lnTo>
                  <a:pt x="793" y="1610"/>
                </a:lnTo>
                <a:lnTo>
                  <a:pt x="803" y="1607"/>
                </a:lnTo>
                <a:lnTo>
                  <a:pt x="812" y="1605"/>
                </a:lnTo>
                <a:lnTo>
                  <a:pt x="821" y="1601"/>
                </a:lnTo>
                <a:lnTo>
                  <a:pt x="829" y="1597"/>
                </a:lnTo>
                <a:lnTo>
                  <a:pt x="838" y="1592"/>
                </a:lnTo>
                <a:lnTo>
                  <a:pt x="847" y="1588"/>
                </a:lnTo>
                <a:lnTo>
                  <a:pt x="857" y="1583"/>
                </a:lnTo>
                <a:lnTo>
                  <a:pt x="866" y="1577"/>
                </a:lnTo>
                <a:lnTo>
                  <a:pt x="873" y="1571"/>
                </a:lnTo>
                <a:lnTo>
                  <a:pt x="883" y="1564"/>
                </a:lnTo>
                <a:lnTo>
                  <a:pt x="892" y="1558"/>
                </a:lnTo>
                <a:lnTo>
                  <a:pt x="901" y="1551"/>
                </a:lnTo>
                <a:lnTo>
                  <a:pt x="909" y="1543"/>
                </a:lnTo>
                <a:lnTo>
                  <a:pt x="918" y="1534"/>
                </a:lnTo>
                <a:lnTo>
                  <a:pt x="928" y="1527"/>
                </a:lnTo>
                <a:lnTo>
                  <a:pt x="937" y="1517"/>
                </a:lnTo>
                <a:lnTo>
                  <a:pt x="946" y="1510"/>
                </a:lnTo>
                <a:lnTo>
                  <a:pt x="954" y="1501"/>
                </a:lnTo>
                <a:lnTo>
                  <a:pt x="963" y="1491"/>
                </a:lnTo>
                <a:lnTo>
                  <a:pt x="972" y="1482"/>
                </a:lnTo>
                <a:lnTo>
                  <a:pt x="982" y="1473"/>
                </a:lnTo>
                <a:lnTo>
                  <a:pt x="991" y="1463"/>
                </a:lnTo>
                <a:lnTo>
                  <a:pt x="998" y="1454"/>
                </a:lnTo>
                <a:lnTo>
                  <a:pt x="1008" y="1443"/>
                </a:lnTo>
                <a:lnTo>
                  <a:pt x="1017" y="1433"/>
                </a:lnTo>
                <a:lnTo>
                  <a:pt x="1026" y="1422"/>
                </a:lnTo>
                <a:lnTo>
                  <a:pt x="1034" y="1413"/>
                </a:lnTo>
                <a:lnTo>
                  <a:pt x="1043" y="1402"/>
                </a:lnTo>
                <a:lnTo>
                  <a:pt x="1052" y="1392"/>
                </a:lnTo>
                <a:lnTo>
                  <a:pt x="1062" y="1383"/>
                </a:lnTo>
                <a:lnTo>
                  <a:pt x="1071" y="1372"/>
                </a:lnTo>
                <a:lnTo>
                  <a:pt x="1078" y="1364"/>
                </a:lnTo>
                <a:lnTo>
                  <a:pt x="1088" y="1355"/>
                </a:lnTo>
                <a:lnTo>
                  <a:pt x="1097" y="1348"/>
                </a:lnTo>
                <a:lnTo>
                  <a:pt x="1106" y="1338"/>
                </a:lnTo>
                <a:lnTo>
                  <a:pt x="1116" y="1331"/>
                </a:lnTo>
                <a:lnTo>
                  <a:pt x="1123" y="1325"/>
                </a:lnTo>
                <a:lnTo>
                  <a:pt x="1132" y="1318"/>
                </a:lnTo>
                <a:lnTo>
                  <a:pt x="1142" y="1312"/>
                </a:lnTo>
                <a:lnTo>
                  <a:pt x="1151" y="1307"/>
                </a:lnTo>
                <a:lnTo>
                  <a:pt x="1159" y="1301"/>
                </a:lnTo>
                <a:lnTo>
                  <a:pt x="1168" y="1297"/>
                </a:lnTo>
                <a:lnTo>
                  <a:pt x="1177" y="1294"/>
                </a:lnTo>
                <a:lnTo>
                  <a:pt x="1186" y="1290"/>
                </a:lnTo>
                <a:lnTo>
                  <a:pt x="1196" y="1288"/>
                </a:lnTo>
                <a:lnTo>
                  <a:pt x="1203" y="1286"/>
                </a:lnTo>
                <a:lnTo>
                  <a:pt x="1213" y="1284"/>
                </a:lnTo>
                <a:lnTo>
                  <a:pt x="1222" y="1282"/>
                </a:lnTo>
                <a:lnTo>
                  <a:pt x="1231" y="1282"/>
                </a:lnTo>
                <a:lnTo>
                  <a:pt x="1240" y="1281"/>
                </a:lnTo>
                <a:lnTo>
                  <a:pt x="1248" y="1281"/>
                </a:lnTo>
                <a:lnTo>
                  <a:pt x="1257" y="1281"/>
                </a:lnTo>
                <a:lnTo>
                  <a:pt x="1267" y="1281"/>
                </a:lnTo>
                <a:lnTo>
                  <a:pt x="1276" y="1282"/>
                </a:lnTo>
                <a:lnTo>
                  <a:pt x="1283" y="1282"/>
                </a:lnTo>
                <a:lnTo>
                  <a:pt x="1293" y="1282"/>
                </a:lnTo>
                <a:lnTo>
                  <a:pt x="1302" y="1282"/>
                </a:lnTo>
                <a:lnTo>
                  <a:pt x="1311" y="1282"/>
                </a:lnTo>
                <a:lnTo>
                  <a:pt x="1321" y="1284"/>
                </a:lnTo>
                <a:lnTo>
                  <a:pt x="1328" y="1284"/>
                </a:lnTo>
                <a:lnTo>
                  <a:pt x="1337" y="1284"/>
                </a:lnTo>
                <a:lnTo>
                  <a:pt x="1347" y="1282"/>
                </a:lnTo>
                <a:lnTo>
                  <a:pt x="1356" y="1282"/>
                </a:lnTo>
                <a:lnTo>
                  <a:pt x="1365" y="1279"/>
                </a:lnTo>
                <a:lnTo>
                  <a:pt x="1373" y="1277"/>
                </a:lnTo>
                <a:lnTo>
                  <a:pt x="1382" y="1275"/>
                </a:lnTo>
                <a:lnTo>
                  <a:pt x="1391" y="1271"/>
                </a:lnTo>
                <a:lnTo>
                  <a:pt x="1401" y="1266"/>
                </a:lnTo>
                <a:lnTo>
                  <a:pt x="1408" y="1260"/>
                </a:lnTo>
                <a:lnTo>
                  <a:pt x="1417" y="1254"/>
                </a:lnTo>
                <a:lnTo>
                  <a:pt x="1427" y="1247"/>
                </a:lnTo>
                <a:lnTo>
                  <a:pt x="1436" y="1238"/>
                </a:lnTo>
                <a:lnTo>
                  <a:pt x="1445" y="1228"/>
                </a:lnTo>
                <a:lnTo>
                  <a:pt x="1453" y="1217"/>
                </a:lnTo>
                <a:lnTo>
                  <a:pt x="1462" y="1204"/>
                </a:lnTo>
                <a:lnTo>
                  <a:pt x="1472" y="1191"/>
                </a:lnTo>
                <a:lnTo>
                  <a:pt x="1481" y="1178"/>
                </a:lnTo>
                <a:lnTo>
                  <a:pt x="1490" y="1161"/>
                </a:lnTo>
                <a:lnTo>
                  <a:pt x="1498" y="1146"/>
                </a:lnTo>
                <a:lnTo>
                  <a:pt x="1507" y="1128"/>
                </a:lnTo>
                <a:lnTo>
                  <a:pt x="1516" y="1111"/>
                </a:lnTo>
                <a:lnTo>
                  <a:pt x="1526" y="1092"/>
                </a:lnTo>
                <a:lnTo>
                  <a:pt x="1533" y="1072"/>
                </a:lnTo>
                <a:lnTo>
                  <a:pt x="1542" y="1049"/>
                </a:lnTo>
                <a:lnTo>
                  <a:pt x="1552" y="1029"/>
                </a:lnTo>
                <a:lnTo>
                  <a:pt x="1561" y="1005"/>
                </a:lnTo>
                <a:lnTo>
                  <a:pt x="1570" y="981"/>
                </a:lnTo>
                <a:lnTo>
                  <a:pt x="1578" y="958"/>
                </a:lnTo>
                <a:lnTo>
                  <a:pt x="1587" y="932"/>
                </a:lnTo>
                <a:lnTo>
                  <a:pt x="1596" y="906"/>
                </a:lnTo>
                <a:lnTo>
                  <a:pt x="1606" y="882"/>
                </a:lnTo>
                <a:lnTo>
                  <a:pt x="1615" y="856"/>
                </a:lnTo>
                <a:lnTo>
                  <a:pt x="1622" y="830"/>
                </a:lnTo>
                <a:lnTo>
                  <a:pt x="1632" y="803"/>
                </a:lnTo>
                <a:lnTo>
                  <a:pt x="1641" y="777"/>
                </a:lnTo>
                <a:lnTo>
                  <a:pt x="1650" y="751"/>
                </a:lnTo>
                <a:lnTo>
                  <a:pt x="1658" y="725"/>
                </a:lnTo>
                <a:lnTo>
                  <a:pt x="1667" y="701"/>
                </a:lnTo>
                <a:lnTo>
                  <a:pt x="1676" y="679"/>
                </a:lnTo>
                <a:lnTo>
                  <a:pt x="1686" y="656"/>
                </a:lnTo>
                <a:lnTo>
                  <a:pt x="1695" y="634"/>
                </a:lnTo>
                <a:lnTo>
                  <a:pt x="1703" y="615"/>
                </a:lnTo>
                <a:lnTo>
                  <a:pt x="1712" y="597"/>
                </a:lnTo>
                <a:lnTo>
                  <a:pt x="1721" y="580"/>
                </a:lnTo>
                <a:lnTo>
                  <a:pt x="1730" y="565"/>
                </a:lnTo>
                <a:lnTo>
                  <a:pt x="1740" y="550"/>
                </a:lnTo>
                <a:lnTo>
                  <a:pt x="1747" y="539"/>
                </a:lnTo>
                <a:lnTo>
                  <a:pt x="1757" y="530"/>
                </a:lnTo>
                <a:lnTo>
                  <a:pt x="1766" y="520"/>
                </a:lnTo>
                <a:lnTo>
                  <a:pt x="1775" y="516"/>
                </a:lnTo>
                <a:lnTo>
                  <a:pt x="1784" y="513"/>
                </a:lnTo>
                <a:lnTo>
                  <a:pt x="1792" y="511"/>
                </a:lnTo>
                <a:lnTo>
                  <a:pt x="1801" y="513"/>
                </a:lnTo>
                <a:lnTo>
                  <a:pt x="1811" y="515"/>
                </a:lnTo>
                <a:lnTo>
                  <a:pt x="1820" y="520"/>
                </a:lnTo>
                <a:lnTo>
                  <a:pt x="1827" y="526"/>
                </a:lnTo>
                <a:lnTo>
                  <a:pt x="1837" y="535"/>
                </a:lnTo>
                <a:lnTo>
                  <a:pt x="1846" y="544"/>
                </a:lnTo>
                <a:lnTo>
                  <a:pt x="1855" y="556"/>
                </a:lnTo>
                <a:lnTo>
                  <a:pt x="1865" y="569"/>
                </a:lnTo>
                <a:lnTo>
                  <a:pt x="1872" y="582"/>
                </a:lnTo>
                <a:lnTo>
                  <a:pt x="1881" y="597"/>
                </a:lnTo>
                <a:lnTo>
                  <a:pt x="1891" y="613"/>
                </a:lnTo>
                <a:lnTo>
                  <a:pt x="1900" y="630"/>
                </a:lnTo>
                <a:lnTo>
                  <a:pt x="1909" y="649"/>
                </a:lnTo>
                <a:lnTo>
                  <a:pt x="1917" y="667"/>
                </a:lnTo>
                <a:lnTo>
                  <a:pt x="1926" y="686"/>
                </a:lnTo>
                <a:lnTo>
                  <a:pt x="1935" y="707"/>
                </a:lnTo>
                <a:lnTo>
                  <a:pt x="1945" y="725"/>
                </a:lnTo>
                <a:lnTo>
                  <a:pt x="1952" y="746"/>
                </a:lnTo>
                <a:lnTo>
                  <a:pt x="1961" y="766"/>
                </a:lnTo>
                <a:lnTo>
                  <a:pt x="1971" y="787"/>
                </a:lnTo>
                <a:lnTo>
                  <a:pt x="1980" y="805"/>
                </a:lnTo>
                <a:lnTo>
                  <a:pt x="1989" y="824"/>
                </a:lnTo>
                <a:lnTo>
                  <a:pt x="1997" y="841"/>
                </a:lnTo>
                <a:lnTo>
                  <a:pt x="2006" y="858"/>
                </a:lnTo>
                <a:lnTo>
                  <a:pt x="2015" y="872"/>
                </a:lnTo>
                <a:lnTo>
                  <a:pt x="2025" y="887"/>
                </a:lnTo>
                <a:lnTo>
                  <a:pt x="2034" y="900"/>
                </a:lnTo>
                <a:lnTo>
                  <a:pt x="2042" y="912"/>
                </a:lnTo>
                <a:lnTo>
                  <a:pt x="2051" y="921"/>
                </a:lnTo>
                <a:lnTo>
                  <a:pt x="2060" y="928"/>
                </a:lnTo>
                <a:lnTo>
                  <a:pt x="2070" y="936"/>
                </a:lnTo>
                <a:lnTo>
                  <a:pt x="2077" y="940"/>
                </a:lnTo>
                <a:lnTo>
                  <a:pt x="2086" y="941"/>
                </a:lnTo>
                <a:lnTo>
                  <a:pt x="2096" y="941"/>
                </a:lnTo>
                <a:lnTo>
                  <a:pt x="2105" y="941"/>
                </a:lnTo>
                <a:lnTo>
                  <a:pt x="2114" y="938"/>
                </a:lnTo>
                <a:lnTo>
                  <a:pt x="2122" y="934"/>
                </a:lnTo>
                <a:lnTo>
                  <a:pt x="2131" y="926"/>
                </a:lnTo>
                <a:lnTo>
                  <a:pt x="2140" y="915"/>
                </a:lnTo>
                <a:lnTo>
                  <a:pt x="2150" y="904"/>
                </a:lnTo>
                <a:lnTo>
                  <a:pt x="2159" y="891"/>
                </a:lnTo>
                <a:lnTo>
                  <a:pt x="2166" y="874"/>
                </a:lnTo>
                <a:lnTo>
                  <a:pt x="2176" y="858"/>
                </a:lnTo>
                <a:lnTo>
                  <a:pt x="2185" y="839"/>
                </a:lnTo>
                <a:lnTo>
                  <a:pt x="2194" y="817"/>
                </a:lnTo>
                <a:lnTo>
                  <a:pt x="2202" y="792"/>
                </a:lnTo>
                <a:lnTo>
                  <a:pt x="2211" y="766"/>
                </a:lnTo>
                <a:lnTo>
                  <a:pt x="2220" y="738"/>
                </a:lnTo>
                <a:lnTo>
                  <a:pt x="2230" y="708"/>
                </a:lnTo>
                <a:lnTo>
                  <a:pt x="2239" y="677"/>
                </a:lnTo>
                <a:lnTo>
                  <a:pt x="2246" y="645"/>
                </a:lnTo>
                <a:lnTo>
                  <a:pt x="2256" y="612"/>
                </a:lnTo>
                <a:lnTo>
                  <a:pt x="2265" y="578"/>
                </a:lnTo>
                <a:lnTo>
                  <a:pt x="2274" y="543"/>
                </a:lnTo>
                <a:lnTo>
                  <a:pt x="2284" y="505"/>
                </a:lnTo>
                <a:lnTo>
                  <a:pt x="2291" y="466"/>
                </a:lnTo>
                <a:lnTo>
                  <a:pt x="2301" y="429"/>
                </a:lnTo>
                <a:lnTo>
                  <a:pt x="2310" y="392"/>
                </a:lnTo>
                <a:lnTo>
                  <a:pt x="2319" y="354"/>
                </a:lnTo>
                <a:lnTo>
                  <a:pt x="2327" y="317"/>
                </a:lnTo>
                <a:lnTo>
                  <a:pt x="2336" y="282"/>
                </a:lnTo>
                <a:lnTo>
                  <a:pt x="2345" y="246"/>
                </a:lnTo>
                <a:lnTo>
                  <a:pt x="2355" y="213"/>
                </a:lnTo>
                <a:lnTo>
                  <a:pt x="2364" y="179"/>
                </a:lnTo>
                <a:lnTo>
                  <a:pt x="2371" y="149"/>
                </a:lnTo>
                <a:lnTo>
                  <a:pt x="2381" y="120"/>
                </a:lnTo>
                <a:lnTo>
                  <a:pt x="2390" y="93"/>
                </a:lnTo>
                <a:lnTo>
                  <a:pt x="2399" y="69"/>
                </a:lnTo>
                <a:lnTo>
                  <a:pt x="2409" y="49"/>
                </a:lnTo>
                <a:lnTo>
                  <a:pt x="2416" y="30"/>
                </a:lnTo>
                <a:lnTo>
                  <a:pt x="2425" y="17"/>
                </a:lnTo>
                <a:lnTo>
                  <a:pt x="2435" y="8"/>
                </a:lnTo>
                <a:lnTo>
                  <a:pt x="2444" y="4"/>
                </a:lnTo>
                <a:lnTo>
                  <a:pt x="2451" y="0"/>
                </a:lnTo>
                <a:lnTo>
                  <a:pt x="2461" y="4"/>
                </a:lnTo>
                <a:lnTo>
                  <a:pt x="2470" y="10"/>
                </a:lnTo>
                <a:lnTo>
                  <a:pt x="2479" y="19"/>
                </a:lnTo>
                <a:lnTo>
                  <a:pt x="2489" y="32"/>
                </a:lnTo>
                <a:lnTo>
                  <a:pt x="2496" y="49"/>
                </a:lnTo>
                <a:lnTo>
                  <a:pt x="2505" y="71"/>
                </a:lnTo>
                <a:lnTo>
                  <a:pt x="2515" y="97"/>
                </a:lnTo>
                <a:lnTo>
                  <a:pt x="2524" y="125"/>
                </a:lnTo>
                <a:lnTo>
                  <a:pt x="2533" y="157"/>
                </a:lnTo>
                <a:lnTo>
                  <a:pt x="2541" y="190"/>
                </a:lnTo>
                <a:lnTo>
                  <a:pt x="2550" y="226"/>
                </a:lnTo>
                <a:lnTo>
                  <a:pt x="2559" y="265"/>
                </a:lnTo>
                <a:lnTo>
                  <a:pt x="2569" y="308"/>
                </a:lnTo>
                <a:lnTo>
                  <a:pt x="2576" y="352"/>
                </a:lnTo>
                <a:lnTo>
                  <a:pt x="2586" y="399"/>
                </a:lnTo>
                <a:lnTo>
                  <a:pt x="2595" y="446"/>
                </a:lnTo>
                <a:lnTo>
                  <a:pt x="2604" y="494"/>
                </a:lnTo>
                <a:lnTo>
                  <a:pt x="2613" y="543"/>
                </a:lnTo>
                <a:lnTo>
                  <a:pt x="2621" y="591"/>
                </a:lnTo>
                <a:lnTo>
                  <a:pt x="2630" y="641"/>
                </a:lnTo>
                <a:lnTo>
                  <a:pt x="2640" y="692"/>
                </a:lnTo>
                <a:lnTo>
                  <a:pt x="2649" y="744"/>
                </a:lnTo>
                <a:lnTo>
                  <a:pt x="2658" y="794"/>
                </a:lnTo>
                <a:lnTo>
                  <a:pt x="2666" y="844"/>
                </a:lnTo>
                <a:lnTo>
                  <a:pt x="2675" y="893"/>
                </a:lnTo>
                <a:lnTo>
                  <a:pt x="2684" y="941"/>
                </a:lnTo>
                <a:lnTo>
                  <a:pt x="2694" y="990"/>
                </a:lnTo>
                <a:lnTo>
                  <a:pt x="2701" y="1036"/>
                </a:lnTo>
                <a:lnTo>
                  <a:pt x="2710" y="1083"/>
                </a:lnTo>
                <a:lnTo>
                  <a:pt x="2720" y="1128"/>
                </a:lnTo>
                <a:lnTo>
                  <a:pt x="2729" y="1171"/>
                </a:lnTo>
                <a:lnTo>
                  <a:pt x="2738" y="1212"/>
                </a:lnTo>
                <a:lnTo>
                  <a:pt x="2746" y="1253"/>
                </a:lnTo>
                <a:lnTo>
                  <a:pt x="2755" y="1292"/>
                </a:lnTo>
                <a:lnTo>
                  <a:pt x="2764" y="1329"/>
                </a:lnTo>
                <a:lnTo>
                  <a:pt x="2774" y="1364"/>
                </a:lnTo>
                <a:lnTo>
                  <a:pt x="2783" y="1400"/>
                </a:lnTo>
                <a:lnTo>
                  <a:pt x="2790" y="1432"/>
                </a:lnTo>
                <a:lnTo>
                  <a:pt x="2800" y="1463"/>
                </a:lnTo>
                <a:lnTo>
                  <a:pt x="2809" y="1493"/>
                </a:lnTo>
                <a:lnTo>
                  <a:pt x="2818" y="1521"/>
                </a:lnTo>
                <a:lnTo>
                  <a:pt x="2826" y="1547"/>
                </a:lnTo>
                <a:lnTo>
                  <a:pt x="2835" y="1573"/>
                </a:lnTo>
                <a:lnTo>
                  <a:pt x="2845" y="1599"/>
                </a:lnTo>
                <a:lnTo>
                  <a:pt x="2854" y="1622"/>
                </a:lnTo>
                <a:lnTo>
                  <a:pt x="2863" y="1644"/>
                </a:lnTo>
                <a:lnTo>
                  <a:pt x="2871" y="1666"/>
                </a:lnTo>
                <a:lnTo>
                  <a:pt x="2880" y="1687"/>
                </a:lnTo>
                <a:lnTo>
                  <a:pt x="2889" y="1706"/>
                </a:lnTo>
                <a:lnTo>
                  <a:pt x="2899" y="1724"/>
                </a:lnTo>
                <a:lnTo>
                  <a:pt x="2908" y="1741"/>
                </a:lnTo>
                <a:lnTo>
                  <a:pt x="2915" y="1758"/>
                </a:lnTo>
                <a:lnTo>
                  <a:pt x="2925" y="1773"/>
                </a:lnTo>
                <a:lnTo>
                  <a:pt x="2934" y="1788"/>
                </a:lnTo>
                <a:lnTo>
                  <a:pt x="2943" y="1802"/>
                </a:lnTo>
                <a:lnTo>
                  <a:pt x="2951" y="1815"/>
                </a:lnTo>
                <a:lnTo>
                  <a:pt x="2960" y="1829"/>
                </a:lnTo>
                <a:lnTo>
                  <a:pt x="2969" y="1840"/>
                </a:lnTo>
                <a:lnTo>
                  <a:pt x="2979" y="1851"/>
                </a:lnTo>
                <a:lnTo>
                  <a:pt x="2988" y="1862"/>
                </a:lnTo>
                <a:lnTo>
                  <a:pt x="2995" y="1871"/>
                </a:lnTo>
                <a:lnTo>
                  <a:pt x="3005" y="1881"/>
                </a:lnTo>
                <a:lnTo>
                  <a:pt x="3014" y="1890"/>
                </a:lnTo>
                <a:lnTo>
                  <a:pt x="3023" y="1897"/>
                </a:lnTo>
                <a:lnTo>
                  <a:pt x="3033" y="1907"/>
                </a:lnTo>
                <a:lnTo>
                  <a:pt x="3040" y="1914"/>
                </a:lnTo>
                <a:lnTo>
                  <a:pt x="3049" y="1920"/>
                </a:lnTo>
                <a:lnTo>
                  <a:pt x="3059" y="1927"/>
                </a:lnTo>
                <a:lnTo>
                  <a:pt x="3068" y="1933"/>
                </a:lnTo>
                <a:lnTo>
                  <a:pt x="3076" y="1938"/>
                </a:lnTo>
                <a:lnTo>
                  <a:pt x="3085" y="1944"/>
                </a:lnTo>
                <a:lnTo>
                  <a:pt x="3094" y="1950"/>
                </a:lnTo>
                <a:lnTo>
                  <a:pt x="3103" y="1955"/>
                </a:lnTo>
                <a:lnTo>
                  <a:pt x="3113" y="1959"/>
                </a:lnTo>
                <a:lnTo>
                  <a:pt x="3120" y="1965"/>
                </a:lnTo>
                <a:lnTo>
                  <a:pt x="3130" y="1968"/>
                </a:lnTo>
                <a:lnTo>
                  <a:pt x="3139" y="1972"/>
                </a:lnTo>
                <a:lnTo>
                  <a:pt x="3148" y="1976"/>
                </a:lnTo>
                <a:lnTo>
                  <a:pt x="3157" y="1979"/>
                </a:lnTo>
                <a:lnTo>
                  <a:pt x="3165" y="1981"/>
                </a:lnTo>
                <a:lnTo>
                  <a:pt x="3174" y="1985"/>
                </a:lnTo>
                <a:lnTo>
                  <a:pt x="3184" y="1989"/>
                </a:lnTo>
                <a:lnTo>
                  <a:pt x="3193" y="1991"/>
                </a:lnTo>
                <a:lnTo>
                  <a:pt x="3200" y="1994"/>
                </a:lnTo>
                <a:lnTo>
                  <a:pt x="3210" y="1996"/>
                </a:lnTo>
                <a:lnTo>
                  <a:pt x="3219" y="1998"/>
                </a:lnTo>
                <a:lnTo>
                  <a:pt x="3228" y="2002"/>
                </a:lnTo>
                <a:lnTo>
                  <a:pt x="3238" y="2004"/>
                </a:lnTo>
                <a:lnTo>
                  <a:pt x="3245" y="2006"/>
                </a:lnTo>
                <a:lnTo>
                  <a:pt x="3254" y="2007"/>
                </a:lnTo>
                <a:lnTo>
                  <a:pt x="3264" y="2009"/>
                </a:lnTo>
                <a:lnTo>
                  <a:pt x="3273" y="2011"/>
                </a:lnTo>
                <a:lnTo>
                  <a:pt x="3282" y="2013"/>
                </a:lnTo>
                <a:lnTo>
                  <a:pt x="3290" y="2015"/>
                </a:lnTo>
                <a:lnTo>
                  <a:pt x="3299" y="2017"/>
                </a:lnTo>
                <a:lnTo>
                  <a:pt x="3308" y="2019"/>
                </a:lnTo>
                <a:lnTo>
                  <a:pt x="3318" y="2020"/>
                </a:lnTo>
                <a:lnTo>
                  <a:pt x="3325" y="2022"/>
                </a:lnTo>
                <a:lnTo>
                  <a:pt x="3334" y="2022"/>
                </a:lnTo>
                <a:lnTo>
                  <a:pt x="3344" y="2024"/>
                </a:lnTo>
                <a:lnTo>
                  <a:pt x="3353" y="2026"/>
                </a:lnTo>
                <a:lnTo>
                  <a:pt x="3362" y="2028"/>
                </a:lnTo>
                <a:lnTo>
                  <a:pt x="3370" y="2028"/>
                </a:lnTo>
                <a:lnTo>
                  <a:pt x="3379" y="2030"/>
                </a:lnTo>
                <a:lnTo>
                  <a:pt x="3388" y="2032"/>
                </a:lnTo>
                <a:lnTo>
                  <a:pt x="3398" y="2032"/>
                </a:lnTo>
                <a:lnTo>
                  <a:pt x="3407" y="2034"/>
                </a:lnTo>
                <a:lnTo>
                  <a:pt x="3415" y="2035"/>
                </a:lnTo>
                <a:lnTo>
                  <a:pt x="3424" y="2035"/>
                </a:lnTo>
                <a:lnTo>
                  <a:pt x="3433" y="2037"/>
                </a:lnTo>
                <a:lnTo>
                  <a:pt x="3443" y="2037"/>
                </a:lnTo>
                <a:lnTo>
                  <a:pt x="3450" y="2039"/>
                </a:lnTo>
                <a:lnTo>
                  <a:pt x="3459" y="2039"/>
                </a:lnTo>
                <a:lnTo>
                  <a:pt x="3469" y="2041"/>
                </a:lnTo>
                <a:lnTo>
                  <a:pt x="3478" y="2041"/>
                </a:lnTo>
                <a:lnTo>
                  <a:pt x="3487" y="2043"/>
                </a:lnTo>
                <a:lnTo>
                  <a:pt x="3495" y="2043"/>
                </a:lnTo>
                <a:lnTo>
                  <a:pt x="3504" y="2045"/>
                </a:lnTo>
                <a:lnTo>
                  <a:pt x="3513" y="2045"/>
                </a:lnTo>
                <a:lnTo>
                  <a:pt x="3523" y="2047"/>
                </a:lnTo>
                <a:lnTo>
                  <a:pt x="3532" y="2047"/>
                </a:lnTo>
                <a:lnTo>
                  <a:pt x="3539" y="2047"/>
                </a:lnTo>
                <a:lnTo>
                  <a:pt x="3549" y="2048"/>
                </a:lnTo>
                <a:lnTo>
                  <a:pt x="3558" y="2048"/>
                </a:lnTo>
                <a:lnTo>
                  <a:pt x="3567" y="2048"/>
                </a:lnTo>
              </a:path>
            </a:pathLst>
          </a:custGeom>
          <a:noFill/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任意多边形 267"/>
          <p:cNvSpPr/>
          <p:nvPr/>
        </p:nvSpPr>
        <p:spPr>
          <a:xfrm>
            <a:off x="2228760" y="1884240"/>
            <a:ext cx="5662800" cy="361008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3610080"/>
              <a:gd name="textAreaBottom" fmla="*/ 3610440 h 3610080"/>
            </a:gdLst>
            <a:ahLst/>
            <a:rect l="textAreaLeft" t="textAreaTop" r="textAreaRight" b="textAreaBottom"/>
            <a:pathLst>
              <a:path w="3567" h="2274">
                <a:moveTo>
                  <a:pt x="0" y="1769"/>
                </a:moveTo>
                <a:lnTo>
                  <a:pt x="9" y="1769"/>
                </a:lnTo>
                <a:lnTo>
                  <a:pt x="18" y="1773"/>
                </a:lnTo>
                <a:lnTo>
                  <a:pt x="28" y="1775"/>
                </a:lnTo>
                <a:lnTo>
                  <a:pt x="35" y="1778"/>
                </a:lnTo>
                <a:lnTo>
                  <a:pt x="44" y="1780"/>
                </a:lnTo>
                <a:lnTo>
                  <a:pt x="54" y="1786"/>
                </a:lnTo>
                <a:lnTo>
                  <a:pt x="63" y="1790"/>
                </a:lnTo>
                <a:lnTo>
                  <a:pt x="72" y="1793"/>
                </a:lnTo>
                <a:lnTo>
                  <a:pt x="80" y="1797"/>
                </a:lnTo>
                <a:lnTo>
                  <a:pt x="89" y="1803"/>
                </a:lnTo>
                <a:lnTo>
                  <a:pt x="99" y="1806"/>
                </a:lnTo>
                <a:lnTo>
                  <a:pt x="108" y="1812"/>
                </a:lnTo>
                <a:lnTo>
                  <a:pt x="117" y="1816"/>
                </a:lnTo>
                <a:lnTo>
                  <a:pt x="125" y="1819"/>
                </a:lnTo>
                <a:lnTo>
                  <a:pt x="134" y="1825"/>
                </a:lnTo>
                <a:lnTo>
                  <a:pt x="143" y="1829"/>
                </a:lnTo>
                <a:lnTo>
                  <a:pt x="153" y="1832"/>
                </a:lnTo>
                <a:lnTo>
                  <a:pt x="160" y="1836"/>
                </a:lnTo>
                <a:lnTo>
                  <a:pt x="169" y="1840"/>
                </a:lnTo>
                <a:lnTo>
                  <a:pt x="179" y="1844"/>
                </a:lnTo>
                <a:lnTo>
                  <a:pt x="188" y="1847"/>
                </a:lnTo>
                <a:lnTo>
                  <a:pt x="197" y="1851"/>
                </a:lnTo>
                <a:lnTo>
                  <a:pt x="205" y="1853"/>
                </a:lnTo>
                <a:lnTo>
                  <a:pt x="214" y="1857"/>
                </a:lnTo>
                <a:lnTo>
                  <a:pt x="223" y="1860"/>
                </a:lnTo>
                <a:lnTo>
                  <a:pt x="233" y="1862"/>
                </a:lnTo>
                <a:lnTo>
                  <a:pt x="242" y="1864"/>
                </a:lnTo>
                <a:lnTo>
                  <a:pt x="249" y="1868"/>
                </a:lnTo>
                <a:lnTo>
                  <a:pt x="259" y="1870"/>
                </a:lnTo>
                <a:lnTo>
                  <a:pt x="268" y="1872"/>
                </a:lnTo>
                <a:lnTo>
                  <a:pt x="277" y="1872"/>
                </a:lnTo>
                <a:lnTo>
                  <a:pt x="285" y="1873"/>
                </a:lnTo>
                <a:lnTo>
                  <a:pt x="294" y="1873"/>
                </a:lnTo>
                <a:lnTo>
                  <a:pt x="303" y="1875"/>
                </a:lnTo>
                <a:lnTo>
                  <a:pt x="313" y="1875"/>
                </a:lnTo>
                <a:lnTo>
                  <a:pt x="322" y="1875"/>
                </a:lnTo>
                <a:lnTo>
                  <a:pt x="330" y="1875"/>
                </a:lnTo>
                <a:lnTo>
                  <a:pt x="339" y="1875"/>
                </a:lnTo>
                <a:lnTo>
                  <a:pt x="348" y="1875"/>
                </a:lnTo>
                <a:lnTo>
                  <a:pt x="357" y="1875"/>
                </a:lnTo>
                <a:lnTo>
                  <a:pt x="367" y="1875"/>
                </a:lnTo>
                <a:lnTo>
                  <a:pt x="374" y="1873"/>
                </a:lnTo>
                <a:lnTo>
                  <a:pt x="384" y="1873"/>
                </a:lnTo>
                <a:lnTo>
                  <a:pt x="393" y="1872"/>
                </a:lnTo>
                <a:lnTo>
                  <a:pt x="402" y="1872"/>
                </a:lnTo>
                <a:lnTo>
                  <a:pt x="410" y="1870"/>
                </a:lnTo>
                <a:lnTo>
                  <a:pt x="419" y="1868"/>
                </a:lnTo>
                <a:lnTo>
                  <a:pt x="428" y="1866"/>
                </a:lnTo>
                <a:lnTo>
                  <a:pt x="438" y="1864"/>
                </a:lnTo>
                <a:lnTo>
                  <a:pt x="447" y="1862"/>
                </a:lnTo>
                <a:lnTo>
                  <a:pt x="454" y="1860"/>
                </a:lnTo>
                <a:lnTo>
                  <a:pt x="464" y="1857"/>
                </a:lnTo>
                <a:lnTo>
                  <a:pt x="473" y="1855"/>
                </a:lnTo>
                <a:lnTo>
                  <a:pt x="482" y="1853"/>
                </a:lnTo>
                <a:lnTo>
                  <a:pt x="492" y="1851"/>
                </a:lnTo>
                <a:lnTo>
                  <a:pt x="499" y="1849"/>
                </a:lnTo>
                <a:lnTo>
                  <a:pt x="508" y="1847"/>
                </a:lnTo>
                <a:lnTo>
                  <a:pt x="518" y="1845"/>
                </a:lnTo>
                <a:lnTo>
                  <a:pt x="527" y="1844"/>
                </a:lnTo>
                <a:lnTo>
                  <a:pt x="534" y="1842"/>
                </a:lnTo>
                <a:lnTo>
                  <a:pt x="544" y="1840"/>
                </a:lnTo>
                <a:lnTo>
                  <a:pt x="553" y="1838"/>
                </a:lnTo>
                <a:lnTo>
                  <a:pt x="562" y="1836"/>
                </a:lnTo>
                <a:lnTo>
                  <a:pt x="572" y="1834"/>
                </a:lnTo>
                <a:lnTo>
                  <a:pt x="579" y="1832"/>
                </a:lnTo>
                <a:lnTo>
                  <a:pt x="588" y="1831"/>
                </a:lnTo>
                <a:lnTo>
                  <a:pt x="598" y="1829"/>
                </a:lnTo>
                <a:lnTo>
                  <a:pt x="607" y="1827"/>
                </a:lnTo>
                <a:lnTo>
                  <a:pt x="616" y="1827"/>
                </a:lnTo>
                <a:lnTo>
                  <a:pt x="624" y="1825"/>
                </a:lnTo>
                <a:lnTo>
                  <a:pt x="633" y="1823"/>
                </a:lnTo>
                <a:lnTo>
                  <a:pt x="642" y="1821"/>
                </a:lnTo>
                <a:lnTo>
                  <a:pt x="652" y="1819"/>
                </a:lnTo>
                <a:lnTo>
                  <a:pt x="659" y="1819"/>
                </a:lnTo>
                <a:lnTo>
                  <a:pt x="669" y="1818"/>
                </a:lnTo>
                <a:lnTo>
                  <a:pt x="678" y="1816"/>
                </a:lnTo>
                <a:lnTo>
                  <a:pt x="687" y="1814"/>
                </a:lnTo>
                <a:lnTo>
                  <a:pt x="697" y="1812"/>
                </a:lnTo>
                <a:lnTo>
                  <a:pt x="704" y="1812"/>
                </a:lnTo>
                <a:lnTo>
                  <a:pt x="713" y="1810"/>
                </a:lnTo>
                <a:lnTo>
                  <a:pt x="723" y="1808"/>
                </a:lnTo>
                <a:lnTo>
                  <a:pt x="732" y="1806"/>
                </a:lnTo>
                <a:lnTo>
                  <a:pt x="741" y="1804"/>
                </a:lnTo>
                <a:lnTo>
                  <a:pt x="749" y="1803"/>
                </a:lnTo>
                <a:lnTo>
                  <a:pt x="758" y="1801"/>
                </a:lnTo>
                <a:lnTo>
                  <a:pt x="767" y="1797"/>
                </a:lnTo>
                <a:lnTo>
                  <a:pt x="777" y="1795"/>
                </a:lnTo>
                <a:lnTo>
                  <a:pt x="784" y="1793"/>
                </a:lnTo>
                <a:lnTo>
                  <a:pt x="793" y="1790"/>
                </a:lnTo>
                <a:lnTo>
                  <a:pt x="803" y="1786"/>
                </a:lnTo>
                <a:lnTo>
                  <a:pt x="812" y="1780"/>
                </a:lnTo>
                <a:lnTo>
                  <a:pt x="821" y="1777"/>
                </a:lnTo>
                <a:lnTo>
                  <a:pt x="829" y="1773"/>
                </a:lnTo>
                <a:lnTo>
                  <a:pt x="838" y="1767"/>
                </a:lnTo>
                <a:lnTo>
                  <a:pt x="847" y="1762"/>
                </a:lnTo>
                <a:lnTo>
                  <a:pt x="857" y="1756"/>
                </a:lnTo>
                <a:lnTo>
                  <a:pt x="866" y="1749"/>
                </a:lnTo>
                <a:lnTo>
                  <a:pt x="873" y="1743"/>
                </a:lnTo>
                <a:lnTo>
                  <a:pt x="883" y="1736"/>
                </a:lnTo>
                <a:lnTo>
                  <a:pt x="892" y="1728"/>
                </a:lnTo>
                <a:lnTo>
                  <a:pt x="901" y="1721"/>
                </a:lnTo>
                <a:lnTo>
                  <a:pt x="909" y="1711"/>
                </a:lnTo>
                <a:lnTo>
                  <a:pt x="918" y="1704"/>
                </a:lnTo>
                <a:lnTo>
                  <a:pt x="928" y="1695"/>
                </a:lnTo>
                <a:lnTo>
                  <a:pt x="937" y="1683"/>
                </a:lnTo>
                <a:lnTo>
                  <a:pt x="946" y="1674"/>
                </a:lnTo>
                <a:lnTo>
                  <a:pt x="954" y="1665"/>
                </a:lnTo>
                <a:lnTo>
                  <a:pt x="963" y="1655"/>
                </a:lnTo>
                <a:lnTo>
                  <a:pt x="972" y="1644"/>
                </a:lnTo>
                <a:lnTo>
                  <a:pt x="982" y="1633"/>
                </a:lnTo>
                <a:lnTo>
                  <a:pt x="991" y="1622"/>
                </a:lnTo>
                <a:lnTo>
                  <a:pt x="998" y="1611"/>
                </a:lnTo>
                <a:lnTo>
                  <a:pt x="1008" y="1599"/>
                </a:lnTo>
                <a:lnTo>
                  <a:pt x="1017" y="1588"/>
                </a:lnTo>
                <a:lnTo>
                  <a:pt x="1026" y="1577"/>
                </a:lnTo>
                <a:lnTo>
                  <a:pt x="1034" y="1566"/>
                </a:lnTo>
                <a:lnTo>
                  <a:pt x="1043" y="1555"/>
                </a:lnTo>
                <a:lnTo>
                  <a:pt x="1052" y="1544"/>
                </a:lnTo>
                <a:lnTo>
                  <a:pt x="1062" y="1534"/>
                </a:lnTo>
                <a:lnTo>
                  <a:pt x="1071" y="1523"/>
                </a:lnTo>
                <a:lnTo>
                  <a:pt x="1078" y="1514"/>
                </a:lnTo>
                <a:lnTo>
                  <a:pt x="1088" y="1504"/>
                </a:lnTo>
                <a:lnTo>
                  <a:pt x="1097" y="1495"/>
                </a:lnTo>
                <a:lnTo>
                  <a:pt x="1106" y="1486"/>
                </a:lnTo>
                <a:lnTo>
                  <a:pt x="1116" y="1478"/>
                </a:lnTo>
                <a:lnTo>
                  <a:pt x="1123" y="1471"/>
                </a:lnTo>
                <a:lnTo>
                  <a:pt x="1132" y="1463"/>
                </a:lnTo>
                <a:lnTo>
                  <a:pt x="1142" y="1458"/>
                </a:lnTo>
                <a:lnTo>
                  <a:pt x="1151" y="1450"/>
                </a:lnTo>
                <a:lnTo>
                  <a:pt x="1159" y="1447"/>
                </a:lnTo>
                <a:lnTo>
                  <a:pt x="1168" y="1441"/>
                </a:lnTo>
                <a:lnTo>
                  <a:pt x="1177" y="1437"/>
                </a:lnTo>
                <a:lnTo>
                  <a:pt x="1186" y="1434"/>
                </a:lnTo>
                <a:lnTo>
                  <a:pt x="1196" y="1432"/>
                </a:lnTo>
                <a:lnTo>
                  <a:pt x="1203" y="1428"/>
                </a:lnTo>
                <a:lnTo>
                  <a:pt x="1213" y="1426"/>
                </a:lnTo>
                <a:lnTo>
                  <a:pt x="1222" y="1426"/>
                </a:lnTo>
                <a:lnTo>
                  <a:pt x="1231" y="1424"/>
                </a:lnTo>
                <a:lnTo>
                  <a:pt x="1240" y="1424"/>
                </a:lnTo>
                <a:lnTo>
                  <a:pt x="1248" y="1424"/>
                </a:lnTo>
                <a:lnTo>
                  <a:pt x="1257" y="1424"/>
                </a:lnTo>
                <a:lnTo>
                  <a:pt x="1267" y="1424"/>
                </a:lnTo>
                <a:lnTo>
                  <a:pt x="1276" y="1426"/>
                </a:lnTo>
                <a:lnTo>
                  <a:pt x="1283" y="1426"/>
                </a:lnTo>
                <a:lnTo>
                  <a:pt x="1293" y="1426"/>
                </a:lnTo>
                <a:lnTo>
                  <a:pt x="1302" y="1426"/>
                </a:lnTo>
                <a:lnTo>
                  <a:pt x="1311" y="1428"/>
                </a:lnTo>
                <a:lnTo>
                  <a:pt x="1321" y="1428"/>
                </a:lnTo>
                <a:lnTo>
                  <a:pt x="1328" y="1428"/>
                </a:lnTo>
                <a:lnTo>
                  <a:pt x="1337" y="1426"/>
                </a:lnTo>
                <a:lnTo>
                  <a:pt x="1347" y="1426"/>
                </a:lnTo>
                <a:lnTo>
                  <a:pt x="1356" y="1424"/>
                </a:lnTo>
                <a:lnTo>
                  <a:pt x="1365" y="1422"/>
                </a:lnTo>
                <a:lnTo>
                  <a:pt x="1373" y="1419"/>
                </a:lnTo>
                <a:lnTo>
                  <a:pt x="1382" y="1415"/>
                </a:lnTo>
                <a:lnTo>
                  <a:pt x="1391" y="1411"/>
                </a:lnTo>
                <a:lnTo>
                  <a:pt x="1401" y="1406"/>
                </a:lnTo>
                <a:lnTo>
                  <a:pt x="1408" y="1400"/>
                </a:lnTo>
                <a:lnTo>
                  <a:pt x="1417" y="1393"/>
                </a:lnTo>
                <a:lnTo>
                  <a:pt x="1427" y="1383"/>
                </a:lnTo>
                <a:lnTo>
                  <a:pt x="1436" y="1374"/>
                </a:lnTo>
                <a:lnTo>
                  <a:pt x="1445" y="1363"/>
                </a:lnTo>
                <a:lnTo>
                  <a:pt x="1453" y="1350"/>
                </a:lnTo>
                <a:lnTo>
                  <a:pt x="1462" y="1337"/>
                </a:lnTo>
                <a:lnTo>
                  <a:pt x="1472" y="1322"/>
                </a:lnTo>
                <a:lnTo>
                  <a:pt x="1481" y="1305"/>
                </a:lnTo>
                <a:lnTo>
                  <a:pt x="1490" y="1288"/>
                </a:lnTo>
                <a:lnTo>
                  <a:pt x="1498" y="1270"/>
                </a:lnTo>
                <a:lnTo>
                  <a:pt x="1507" y="1251"/>
                </a:lnTo>
                <a:lnTo>
                  <a:pt x="1516" y="1230"/>
                </a:lnTo>
                <a:lnTo>
                  <a:pt x="1526" y="1208"/>
                </a:lnTo>
                <a:lnTo>
                  <a:pt x="1533" y="1188"/>
                </a:lnTo>
                <a:lnTo>
                  <a:pt x="1542" y="1163"/>
                </a:lnTo>
                <a:lnTo>
                  <a:pt x="1552" y="1139"/>
                </a:lnTo>
                <a:lnTo>
                  <a:pt x="1561" y="1113"/>
                </a:lnTo>
                <a:lnTo>
                  <a:pt x="1570" y="1087"/>
                </a:lnTo>
                <a:lnTo>
                  <a:pt x="1578" y="1059"/>
                </a:lnTo>
                <a:lnTo>
                  <a:pt x="1587" y="1031"/>
                </a:lnTo>
                <a:lnTo>
                  <a:pt x="1596" y="1003"/>
                </a:lnTo>
                <a:lnTo>
                  <a:pt x="1606" y="973"/>
                </a:lnTo>
                <a:lnTo>
                  <a:pt x="1615" y="943"/>
                </a:lnTo>
                <a:lnTo>
                  <a:pt x="1622" y="915"/>
                </a:lnTo>
                <a:lnTo>
                  <a:pt x="1632" y="886"/>
                </a:lnTo>
                <a:lnTo>
                  <a:pt x="1641" y="858"/>
                </a:lnTo>
                <a:lnTo>
                  <a:pt x="1650" y="830"/>
                </a:lnTo>
                <a:lnTo>
                  <a:pt x="1658" y="802"/>
                </a:lnTo>
                <a:lnTo>
                  <a:pt x="1667" y="774"/>
                </a:lnTo>
                <a:lnTo>
                  <a:pt x="1676" y="748"/>
                </a:lnTo>
                <a:lnTo>
                  <a:pt x="1686" y="724"/>
                </a:lnTo>
                <a:lnTo>
                  <a:pt x="1695" y="701"/>
                </a:lnTo>
                <a:lnTo>
                  <a:pt x="1703" y="679"/>
                </a:lnTo>
                <a:lnTo>
                  <a:pt x="1712" y="660"/>
                </a:lnTo>
                <a:lnTo>
                  <a:pt x="1721" y="642"/>
                </a:lnTo>
                <a:lnTo>
                  <a:pt x="1730" y="625"/>
                </a:lnTo>
                <a:lnTo>
                  <a:pt x="1740" y="610"/>
                </a:lnTo>
                <a:lnTo>
                  <a:pt x="1747" y="597"/>
                </a:lnTo>
                <a:lnTo>
                  <a:pt x="1757" y="587"/>
                </a:lnTo>
                <a:lnTo>
                  <a:pt x="1766" y="580"/>
                </a:lnTo>
                <a:lnTo>
                  <a:pt x="1775" y="573"/>
                </a:lnTo>
                <a:lnTo>
                  <a:pt x="1784" y="571"/>
                </a:lnTo>
                <a:lnTo>
                  <a:pt x="1792" y="571"/>
                </a:lnTo>
                <a:lnTo>
                  <a:pt x="1801" y="571"/>
                </a:lnTo>
                <a:lnTo>
                  <a:pt x="1811" y="574"/>
                </a:lnTo>
                <a:lnTo>
                  <a:pt x="1820" y="580"/>
                </a:lnTo>
                <a:lnTo>
                  <a:pt x="1827" y="587"/>
                </a:lnTo>
                <a:lnTo>
                  <a:pt x="1837" y="595"/>
                </a:lnTo>
                <a:lnTo>
                  <a:pt x="1846" y="606"/>
                </a:lnTo>
                <a:lnTo>
                  <a:pt x="1855" y="619"/>
                </a:lnTo>
                <a:lnTo>
                  <a:pt x="1865" y="634"/>
                </a:lnTo>
                <a:lnTo>
                  <a:pt x="1872" y="651"/>
                </a:lnTo>
                <a:lnTo>
                  <a:pt x="1881" y="668"/>
                </a:lnTo>
                <a:lnTo>
                  <a:pt x="1891" y="686"/>
                </a:lnTo>
                <a:lnTo>
                  <a:pt x="1900" y="705"/>
                </a:lnTo>
                <a:lnTo>
                  <a:pt x="1909" y="725"/>
                </a:lnTo>
                <a:lnTo>
                  <a:pt x="1917" y="748"/>
                </a:lnTo>
                <a:lnTo>
                  <a:pt x="1926" y="768"/>
                </a:lnTo>
                <a:lnTo>
                  <a:pt x="1935" y="792"/>
                </a:lnTo>
                <a:lnTo>
                  <a:pt x="1945" y="815"/>
                </a:lnTo>
                <a:lnTo>
                  <a:pt x="1952" y="837"/>
                </a:lnTo>
                <a:lnTo>
                  <a:pt x="1961" y="860"/>
                </a:lnTo>
                <a:lnTo>
                  <a:pt x="1971" y="880"/>
                </a:lnTo>
                <a:lnTo>
                  <a:pt x="1980" y="901"/>
                </a:lnTo>
                <a:lnTo>
                  <a:pt x="1989" y="921"/>
                </a:lnTo>
                <a:lnTo>
                  <a:pt x="1997" y="940"/>
                </a:lnTo>
                <a:lnTo>
                  <a:pt x="2006" y="956"/>
                </a:lnTo>
                <a:lnTo>
                  <a:pt x="2015" y="973"/>
                </a:lnTo>
                <a:lnTo>
                  <a:pt x="2025" y="988"/>
                </a:lnTo>
                <a:lnTo>
                  <a:pt x="2034" y="1003"/>
                </a:lnTo>
                <a:lnTo>
                  <a:pt x="2042" y="1016"/>
                </a:lnTo>
                <a:lnTo>
                  <a:pt x="2051" y="1025"/>
                </a:lnTo>
                <a:lnTo>
                  <a:pt x="2060" y="1035"/>
                </a:lnTo>
                <a:lnTo>
                  <a:pt x="2070" y="1040"/>
                </a:lnTo>
                <a:lnTo>
                  <a:pt x="2077" y="1044"/>
                </a:lnTo>
                <a:lnTo>
                  <a:pt x="2086" y="1046"/>
                </a:lnTo>
                <a:lnTo>
                  <a:pt x="2096" y="1046"/>
                </a:lnTo>
                <a:lnTo>
                  <a:pt x="2105" y="1044"/>
                </a:lnTo>
                <a:lnTo>
                  <a:pt x="2114" y="1040"/>
                </a:lnTo>
                <a:lnTo>
                  <a:pt x="2122" y="1035"/>
                </a:lnTo>
                <a:lnTo>
                  <a:pt x="2131" y="1025"/>
                </a:lnTo>
                <a:lnTo>
                  <a:pt x="2140" y="1014"/>
                </a:lnTo>
                <a:lnTo>
                  <a:pt x="2150" y="1001"/>
                </a:lnTo>
                <a:lnTo>
                  <a:pt x="2159" y="984"/>
                </a:lnTo>
                <a:lnTo>
                  <a:pt x="2166" y="968"/>
                </a:lnTo>
                <a:lnTo>
                  <a:pt x="2176" y="947"/>
                </a:lnTo>
                <a:lnTo>
                  <a:pt x="2185" y="925"/>
                </a:lnTo>
                <a:lnTo>
                  <a:pt x="2194" y="902"/>
                </a:lnTo>
                <a:lnTo>
                  <a:pt x="2202" y="876"/>
                </a:lnTo>
                <a:lnTo>
                  <a:pt x="2211" y="847"/>
                </a:lnTo>
                <a:lnTo>
                  <a:pt x="2220" y="815"/>
                </a:lnTo>
                <a:lnTo>
                  <a:pt x="2230" y="779"/>
                </a:lnTo>
                <a:lnTo>
                  <a:pt x="2239" y="746"/>
                </a:lnTo>
                <a:lnTo>
                  <a:pt x="2246" y="709"/>
                </a:lnTo>
                <a:lnTo>
                  <a:pt x="2256" y="671"/>
                </a:lnTo>
                <a:lnTo>
                  <a:pt x="2265" y="634"/>
                </a:lnTo>
                <a:lnTo>
                  <a:pt x="2274" y="593"/>
                </a:lnTo>
                <a:lnTo>
                  <a:pt x="2284" y="552"/>
                </a:lnTo>
                <a:lnTo>
                  <a:pt x="2291" y="511"/>
                </a:lnTo>
                <a:lnTo>
                  <a:pt x="2301" y="468"/>
                </a:lnTo>
                <a:lnTo>
                  <a:pt x="2310" y="425"/>
                </a:lnTo>
                <a:lnTo>
                  <a:pt x="2319" y="384"/>
                </a:lnTo>
                <a:lnTo>
                  <a:pt x="2327" y="341"/>
                </a:lnTo>
                <a:lnTo>
                  <a:pt x="2336" y="302"/>
                </a:lnTo>
                <a:lnTo>
                  <a:pt x="2345" y="263"/>
                </a:lnTo>
                <a:lnTo>
                  <a:pt x="2355" y="226"/>
                </a:lnTo>
                <a:lnTo>
                  <a:pt x="2364" y="192"/>
                </a:lnTo>
                <a:lnTo>
                  <a:pt x="2371" y="157"/>
                </a:lnTo>
                <a:lnTo>
                  <a:pt x="2381" y="125"/>
                </a:lnTo>
                <a:lnTo>
                  <a:pt x="2390" y="97"/>
                </a:lnTo>
                <a:lnTo>
                  <a:pt x="2399" y="73"/>
                </a:lnTo>
                <a:lnTo>
                  <a:pt x="2409" y="49"/>
                </a:lnTo>
                <a:lnTo>
                  <a:pt x="2416" y="30"/>
                </a:lnTo>
                <a:lnTo>
                  <a:pt x="2425" y="17"/>
                </a:lnTo>
                <a:lnTo>
                  <a:pt x="2435" y="6"/>
                </a:lnTo>
                <a:lnTo>
                  <a:pt x="2444" y="2"/>
                </a:lnTo>
                <a:lnTo>
                  <a:pt x="2451" y="0"/>
                </a:lnTo>
                <a:lnTo>
                  <a:pt x="2461" y="2"/>
                </a:lnTo>
                <a:lnTo>
                  <a:pt x="2470" y="10"/>
                </a:lnTo>
                <a:lnTo>
                  <a:pt x="2479" y="21"/>
                </a:lnTo>
                <a:lnTo>
                  <a:pt x="2489" y="36"/>
                </a:lnTo>
                <a:lnTo>
                  <a:pt x="2496" y="56"/>
                </a:lnTo>
                <a:lnTo>
                  <a:pt x="2505" y="82"/>
                </a:lnTo>
                <a:lnTo>
                  <a:pt x="2515" y="110"/>
                </a:lnTo>
                <a:lnTo>
                  <a:pt x="2524" y="142"/>
                </a:lnTo>
                <a:lnTo>
                  <a:pt x="2533" y="177"/>
                </a:lnTo>
                <a:lnTo>
                  <a:pt x="2541" y="217"/>
                </a:lnTo>
                <a:lnTo>
                  <a:pt x="2550" y="256"/>
                </a:lnTo>
                <a:lnTo>
                  <a:pt x="2559" y="300"/>
                </a:lnTo>
                <a:lnTo>
                  <a:pt x="2569" y="349"/>
                </a:lnTo>
                <a:lnTo>
                  <a:pt x="2576" y="397"/>
                </a:lnTo>
                <a:lnTo>
                  <a:pt x="2586" y="450"/>
                </a:lnTo>
                <a:lnTo>
                  <a:pt x="2595" y="502"/>
                </a:lnTo>
                <a:lnTo>
                  <a:pt x="2604" y="556"/>
                </a:lnTo>
                <a:lnTo>
                  <a:pt x="2613" y="610"/>
                </a:lnTo>
                <a:lnTo>
                  <a:pt x="2621" y="664"/>
                </a:lnTo>
                <a:lnTo>
                  <a:pt x="2630" y="720"/>
                </a:lnTo>
                <a:lnTo>
                  <a:pt x="2640" y="778"/>
                </a:lnTo>
                <a:lnTo>
                  <a:pt x="2649" y="833"/>
                </a:lnTo>
                <a:lnTo>
                  <a:pt x="2658" y="889"/>
                </a:lnTo>
                <a:lnTo>
                  <a:pt x="2666" y="945"/>
                </a:lnTo>
                <a:lnTo>
                  <a:pt x="2675" y="999"/>
                </a:lnTo>
                <a:lnTo>
                  <a:pt x="2684" y="1053"/>
                </a:lnTo>
                <a:lnTo>
                  <a:pt x="2694" y="1106"/>
                </a:lnTo>
                <a:lnTo>
                  <a:pt x="2701" y="1158"/>
                </a:lnTo>
                <a:lnTo>
                  <a:pt x="2710" y="1208"/>
                </a:lnTo>
                <a:lnTo>
                  <a:pt x="2720" y="1257"/>
                </a:lnTo>
                <a:lnTo>
                  <a:pt x="2729" y="1305"/>
                </a:lnTo>
                <a:lnTo>
                  <a:pt x="2738" y="1352"/>
                </a:lnTo>
                <a:lnTo>
                  <a:pt x="2746" y="1396"/>
                </a:lnTo>
                <a:lnTo>
                  <a:pt x="2755" y="1439"/>
                </a:lnTo>
                <a:lnTo>
                  <a:pt x="2764" y="1480"/>
                </a:lnTo>
                <a:lnTo>
                  <a:pt x="2774" y="1519"/>
                </a:lnTo>
                <a:lnTo>
                  <a:pt x="2783" y="1557"/>
                </a:lnTo>
                <a:lnTo>
                  <a:pt x="2790" y="1594"/>
                </a:lnTo>
                <a:lnTo>
                  <a:pt x="2800" y="1627"/>
                </a:lnTo>
                <a:lnTo>
                  <a:pt x="2809" y="1661"/>
                </a:lnTo>
                <a:lnTo>
                  <a:pt x="2818" y="1693"/>
                </a:lnTo>
                <a:lnTo>
                  <a:pt x="2826" y="1722"/>
                </a:lnTo>
                <a:lnTo>
                  <a:pt x="2835" y="1750"/>
                </a:lnTo>
                <a:lnTo>
                  <a:pt x="2845" y="1778"/>
                </a:lnTo>
                <a:lnTo>
                  <a:pt x="2854" y="1804"/>
                </a:lnTo>
                <a:lnTo>
                  <a:pt x="2863" y="1829"/>
                </a:lnTo>
                <a:lnTo>
                  <a:pt x="2871" y="1853"/>
                </a:lnTo>
                <a:lnTo>
                  <a:pt x="2880" y="1875"/>
                </a:lnTo>
                <a:lnTo>
                  <a:pt x="2889" y="1896"/>
                </a:lnTo>
                <a:lnTo>
                  <a:pt x="2899" y="1916"/>
                </a:lnTo>
                <a:lnTo>
                  <a:pt x="2908" y="1935"/>
                </a:lnTo>
                <a:lnTo>
                  <a:pt x="2915" y="1954"/>
                </a:lnTo>
                <a:lnTo>
                  <a:pt x="2925" y="1970"/>
                </a:lnTo>
                <a:lnTo>
                  <a:pt x="2934" y="1987"/>
                </a:lnTo>
                <a:lnTo>
                  <a:pt x="2943" y="2002"/>
                </a:lnTo>
                <a:lnTo>
                  <a:pt x="2951" y="2017"/>
                </a:lnTo>
                <a:lnTo>
                  <a:pt x="2960" y="2030"/>
                </a:lnTo>
                <a:lnTo>
                  <a:pt x="2969" y="2043"/>
                </a:lnTo>
                <a:lnTo>
                  <a:pt x="2979" y="2056"/>
                </a:lnTo>
                <a:lnTo>
                  <a:pt x="2988" y="2067"/>
                </a:lnTo>
                <a:lnTo>
                  <a:pt x="2995" y="2078"/>
                </a:lnTo>
                <a:lnTo>
                  <a:pt x="3005" y="2090"/>
                </a:lnTo>
                <a:lnTo>
                  <a:pt x="3014" y="2099"/>
                </a:lnTo>
                <a:lnTo>
                  <a:pt x="3023" y="2108"/>
                </a:lnTo>
                <a:lnTo>
                  <a:pt x="3033" y="2116"/>
                </a:lnTo>
                <a:lnTo>
                  <a:pt x="3040" y="2125"/>
                </a:lnTo>
                <a:lnTo>
                  <a:pt x="3049" y="2132"/>
                </a:lnTo>
                <a:lnTo>
                  <a:pt x="3059" y="2140"/>
                </a:lnTo>
                <a:lnTo>
                  <a:pt x="3068" y="2146"/>
                </a:lnTo>
                <a:lnTo>
                  <a:pt x="3076" y="2153"/>
                </a:lnTo>
                <a:lnTo>
                  <a:pt x="3085" y="2159"/>
                </a:lnTo>
                <a:lnTo>
                  <a:pt x="3094" y="2164"/>
                </a:lnTo>
                <a:lnTo>
                  <a:pt x="3103" y="2170"/>
                </a:lnTo>
                <a:lnTo>
                  <a:pt x="3113" y="2175"/>
                </a:lnTo>
                <a:lnTo>
                  <a:pt x="3120" y="2179"/>
                </a:lnTo>
                <a:lnTo>
                  <a:pt x="3130" y="2185"/>
                </a:lnTo>
                <a:lnTo>
                  <a:pt x="3139" y="2188"/>
                </a:lnTo>
                <a:lnTo>
                  <a:pt x="3148" y="2192"/>
                </a:lnTo>
                <a:lnTo>
                  <a:pt x="3157" y="2196"/>
                </a:lnTo>
                <a:lnTo>
                  <a:pt x="3165" y="2200"/>
                </a:lnTo>
                <a:lnTo>
                  <a:pt x="3174" y="2203"/>
                </a:lnTo>
                <a:lnTo>
                  <a:pt x="3184" y="2207"/>
                </a:lnTo>
                <a:lnTo>
                  <a:pt x="3193" y="2209"/>
                </a:lnTo>
                <a:lnTo>
                  <a:pt x="3200" y="2213"/>
                </a:lnTo>
                <a:lnTo>
                  <a:pt x="3210" y="2214"/>
                </a:lnTo>
                <a:lnTo>
                  <a:pt x="3219" y="2218"/>
                </a:lnTo>
                <a:lnTo>
                  <a:pt x="3228" y="2220"/>
                </a:lnTo>
                <a:lnTo>
                  <a:pt x="3238" y="2222"/>
                </a:lnTo>
                <a:lnTo>
                  <a:pt x="3245" y="2226"/>
                </a:lnTo>
                <a:lnTo>
                  <a:pt x="3254" y="2228"/>
                </a:lnTo>
                <a:lnTo>
                  <a:pt x="3264" y="2229"/>
                </a:lnTo>
                <a:lnTo>
                  <a:pt x="3273" y="2231"/>
                </a:lnTo>
                <a:lnTo>
                  <a:pt x="3282" y="2233"/>
                </a:lnTo>
                <a:lnTo>
                  <a:pt x="3290" y="2237"/>
                </a:lnTo>
                <a:lnTo>
                  <a:pt x="3299" y="2239"/>
                </a:lnTo>
                <a:lnTo>
                  <a:pt x="3308" y="2241"/>
                </a:lnTo>
                <a:lnTo>
                  <a:pt x="3318" y="2242"/>
                </a:lnTo>
                <a:lnTo>
                  <a:pt x="3325" y="2242"/>
                </a:lnTo>
                <a:lnTo>
                  <a:pt x="3334" y="2244"/>
                </a:lnTo>
                <a:lnTo>
                  <a:pt x="3344" y="2246"/>
                </a:lnTo>
                <a:lnTo>
                  <a:pt x="3353" y="2248"/>
                </a:lnTo>
                <a:lnTo>
                  <a:pt x="3362" y="2250"/>
                </a:lnTo>
                <a:lnTo>
                  <a:pt x="3370" y="2252"/>
                </a:lnTo>
                <a:lnTo>
                  <a:pt x="3379" y="2254"/>
                </a:lnTo>
                <a:lnTo>
                  <a:pt x="3388" y="2254"/>
                </a:lnTo>
                <a:lnTo>
                  <a:pt x="3398" y="2255"/>
                </a:lnTo>
                <a:lnTo>
                  <a:pt x="3407" y="2257"/>
                </a:lnTo>
                <a:lnTo>
                  <a:pt x="3415" y="2259"/>
                </a:lnTo>
                <a:lnTo>
                  <a:pt x="3424" y="2259"/>
                </a:lnTo>
                <a:lnTo>
                  <a:pt x="3433" y="2261"/>
                </a:lnTo>
                <a:lnTo>
                  <a:pt x="3443" y="2261"/>
                </a:lnTo>
                <a:lnTo>
                  <a:pt x="3450" y="2263"/>
                </a:lnTo>
                <a:lnTo>
                  <a:pt x="3459" y="2265"/>
                </a:lnTo>
                <a:lnTo>
                  <a:pt x="3469" y="2265"/>
                </a:lnTo>
                <a:lnTo>
                  <a:pt x="3478" y="2267"/>
                </a:lnTo>
                <a:lnTo>
                  <a:pt x="3487" y="2267"/>
                </a:lnTo>
                <a:lnTo>
                  <a:pt x="3495" y="2269"/>
                </a:lnTo>
                <a:lnTo>
                  <a:pt x="3504" y="2269"/>
                </a:lnTo>
                <a:lnTo>
                  <a:pt x="3513" y="2270"/>
                </a:lnTo>
                <a:lnTo>
                  <a:pt x="3523" y="2270"/>
                </a:lnTo>
                <a:lnTo>
                  <a:pt x="3532" y="2272"/>
                </a:lnTo>
                <a:lnTo>
                  <a:pt x="3539" y="2272"/>
                </a:lnTo>
                <a:lnTo>
                  <a:pt x="3549" y="2272"/>
                </a:lnTo>
                <a:lnTo>
                  <a:pt x="3558" y="2274"/>
                </a:lnTo>
                <a:lnTo>
                  <a:pt x="3567" y="2274"/>
                </a:lnTo>
              </a:path>
            </a:pathLst>
          </a:cu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任意多边形 268"/>
          <p:cNvSpPr/>
          <p:nvPr/>
        </p:nvSpPr>
        <p:spPr>
          <a:xfrm>
            <a:off x="2228760" y="3071880"/>
            <a:ext cx="5662800" cy="239076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2390760"/>
              <a:gd name="textAreaBottom" fmla="*/ 2390760 h 2390760"/>
            </a:gdLst>
            <a:ahLst/>
            <a:rect l="textAreaLeft" t="textAreaTop" r="textAreaRight" b="textAreaBottom"/>
            <a:pathLst>
              <a:path w="3567" h="1506">
                <a:moveTo>
                  <a:pt x="0" y="1140"/>
                </a:moveTo>
                <a:lnTo>
                  <a:pt x="9" y="1142"/>
                </a:lnTo>
                <a:lnTo>
                  <a:pt x="18" y="1142"/>
                </a:lnTo>
                <a:lnTo>
                  <a:pt x="28" y="1144"/>
                </a:lnTo>
                <a:lnTo>
                  <a:pt x="35" y="1146"/>
                </a:lnTo>
                <a:lnTo>
                  <a:pt x="44" y="1148"/>
                </a:lnTo>
                <a:lnTo>
                  <a:pt x="54" y="1150"/>
                </a:lnTo>
                <a:lnTo>
                  <a:pt x="63" y="1153"/>
                </a:lnTo>
                <a:lnTo>
                  <a:pt x="72" y="1157"/>
                </a:lnTo>
                <a:lnTo>
                  <a:pt x="80" y="1159"/>
                </a:lnTo>
                <a:lnTo>
                  <a:pt x="89" y="1163"/>
                </a:lnTo>
                <a:lnTo>
                  <a:pt x="99" y="1165"/>
                </a:lnTo>
                <a:lnTo>
                  <a:pt x="108" y="1168"/>
                </a:lnTo>
                <a:lnTo>
                  <a:pt x="117" y="1172"/>
                </a:lnTo>
                <a:lnTo>
                  <a:pt x="125" y="1174"/>
                </a:lnTo>
                <a:lnTo>
                  <a:pt x="134" y="1178"/>
                </a:lnTo>
                <a:lnTo>
                  <a:pt x="143" y="1181"/>
                </a:lnTo>
                <a:lnTo>
                  <a:pt x="153" y="1183"/>
                </a:lnTo>
                <a:lnTo>
                  <a:pt x="160" y="1187"/>
                </a:lnTo>
                <a:lnTo>
                  <a:pt x="169" y="1189"/>
                </a:lnTo>
                <a:lnTo>
                  <a:pt x="179" y="1191"/>
                </a:lnTo>
                <a:lnTo>
                  <a:pt x="188" y="1194"/>
                </a:lnTo>
                <a:lnTo>
                  <a:pt x="197" y="1196"/>
                </a:lnTo>
                <a:lnTo>
                  <a:pt x="205" y="1198"/>
                </a:lnTo>
                <a:lnTo>
                  <a:pt x="214" y="1200"/>
                </a:lnTo>
                <a:lnTo>
                  <a:pt x="223" y="1202"/>
                </a:lnTo>
                <a:lnTo>
                  <a:pt x="233" y="1204"/>
                </a:lnTo>
                <a:lnTo>
                  <a:pt x="242" y="1206"/>
                </a:lnTo>
                <a:lnTo>
                  <a:pt x="249" y="1207"/>
                </a:lnTo>
                <a:lnTo>
                  <a:pt x="259" y="1209"/>
                </a:lnTo>
                <a:lnTo>
                  <a:pt x="268" y="1211"/>
                </a:lnTo>
                <a:lnTo>
                  <a:pt x="277" y="1211"/>
                </a:lnTo>
                <a:lnTo>
                  <a:pt x="285" y="1211"/>
                </a:lnTo>
                <a:lnTo>
                  <a:pt x="294" y="1213"/>
                </a:lnTo>
                <a:lnTo>
                  <a:pt x="303" y="1213"/>
                </a:lnTo>
                <a:lnTo>
                  <a:pt x="313" y="1215"/>
                </a:lnTo>
                <a:lnTo>
                  <a:pt x="322" y="1215"/>
                </a:lnTo>
                <a:lnTo>
                  <a:pt x="330" y="1215"/>
                </a:lnTo>
                <a:lnTo>
                  <a:pt x="339" y="1215"/>
                </a:lnTo>
                <a:lnTo>
                  <a:pt x="348" y="1215"/>
                </a:lnTo>
                <a:lnTo>
                  <a:pt x="357" y="1215"/>
                </a:lnTo>
                <a:lnTo>
                  <a:pt x="367" y="1215"/>
                </a:lnTo>
                <a:lnTo>
                  <a:pt x="374" y="1215"/>
                </a:lnTo>
                <a:lnTo>
                  <a:pt x="384" y="1213"/>
                </a:lnTo>
                <a:lnTo>
                  <a:pt x="393" y="1213"/>
                </a:lnTo>
                <a:lnTo>
                  <a:pt x="402" y="1213"/>
                </a:lnTo>
                <a:lnTo>
                  <a:pt x="410" y="1211"/>
                </a:lnTo>
                <a:lnTo>
                  <a:pt x="419" y="1211"/>
                </a:lnTo>
                <a:lnTo>
                  <a:pt x="428" y="1209"/>
                </a:lnTo>
                <a:lnTo>
                  <a:pt x="438" y="1209"/>
                </a:lnTo>
                <a:lnTo>
                  <a:pt x="447" y="1209"/>
                </a:lnTo>
                <a:lnTo>
                  <a:pt x="454" y="1207"/>
                </a:lnTo>
                <a:lnTo>
                  <a:pt x="464" y="1206"/>
                </a:lnTo>
                <a:lnTo>
                  <a:pt x="473" y="1206"/>
                </a:lnTo>
                <a:lnTo>
                  <a:pt x="482" y="1204"/>
                </a:lnTo>
                <a:lnTo>
                  <a:pt x="492" y="1202"/>
                </a:lnTo>
                <a:lnTo>
                  <a:pt x="499" y="1202"/>
                </a:lnTo>
                <a:lnTo>
                  <a:pt x="508" y="1200"/>
                </a:lnTo>
                <a:lnTo>
                  <a:pt x="518" y="1200"/>
                </a:lnTo>
                <a:lnTo>
                  <a:pt x="527" y="1198"/>
                </a:lnTo>
                <a:lnTo>
                  <a:pt x="534" y="1196"/>
                </a:lnTo>
                <a:lnTo>
                  <a:pt x="544" y="1194"/>
                </a:lnTo>
                <a:lnTo>
                  <a:pt x="553" y="1194"/>
                </a:lnTo>
                <a:lnTo>
                  <a:pt x="562" y="1193"/>
                </a:lnTo>
                <a:lnTo>
                  <a:pt x="572" y="1193"/>
                </a:lnTo>
                <a:lnTo>
                  <a:pt x="579" y="1191"/>
                </a:lnTo>
                <a:lnTo>
                  <a:pt x="588" y="1191"/>
                </a:lnTo>
                <a:lnTo>
                  <a:pt x="598" y="1189"/>
                </a:lnTo>
                <a:lnTo>
                  <a:pt x="607" y="1187"/>
                </a:lnTo>
                <a:lnTo>
                  <a:pt x="616" y="1187"/>
                </a:lnTo>
                <a:lnTo>
                  <a:pt x="624" y="1187"/>
                </a:lnTo>
                <a:lnTo>
                  <a:pt x="633" y="1185"/>
                </a:lnTo>
                <a:lnTo>
                  <a:pt x="642" y="1185"/>
                </a:lnTo>
                <a:lnTo>
                  <a:pt x="652" y="1183"/>
                </a:lnTo>
                <a:lnTo>
                  <a:pt x="659" y="1183"/>
                </a:lnTo>
                <a:lnTo>
                  <a:pt x="669" y="1181"/>
                </a:lnTo>
                <a:lnTo>
                  <a:pt x="678" y="1181"/>
                </a:lnTo>
                <a:lnTo>
                  <a:pt x="687" y="1181"/>
                </a:lnTo>
                <a:lnTo>
                  <a:pt x="697" y="1179"/>
                </a:lnTo>
                <a:lnTo>
                  <a:pt x="704" y="1179"/>
                </a:lnTo>
                <a:lnTo>
                  <a:pt x="713" y="1178"/>
                </a:lnTo>
                <a:lnTo>
                  <a:pt x="723" y="1178"/>
                </a:lnTo>
                <a:lnTo>
                  <a:pt x="732" y="1176"/>
                </a:lnTo>
                <a:lnTo>
                  <a:pt x="741" y="1176"/>
                </a:lnTo>
                <a:lnTo>
                  <a:pt x="749" y="1174"/>
                </a:lnTo>
                <a:lnTo>
                  <a:pt x="758" y="1172"/>
                </a:lnTo>
                <a:lnTo>
                  <a:pt x="767" y="1172"/>
                </a:lnTo>
                <a:lnTo>
                  <a:pt x="777" y="1170"/>
                </a:lnTo>
                <a:lnTo>
                  <a:pt x="784" y="1168"/>
                </a:lnTo>
                <a:lnTo>
                  <a:pt x="793" y="1165"/>
                </a:lnTo>
                <a:lnTo>
                  <a:pt x="803" y="1163"/>
                </a:lnTo>
                <a:lnTo>
                  <a:pt x="812" y="1161"/>
                </a:lnTo>
                <a:lnTo>
                  <a:pt x="821" y="1157"/>
                </a:lnTo>
                <a:lnTo>
                  <a:pt x="829" y="1155"/>
                </a:lnTo>
                <a:lnTo>
                  <a:pt x="838" y="1153"/>
                </a:lnTo>
                <a:lnTo>
                  <a:pt x="847" y="1150"/>
                </a:lnTo>
                <a:lnTo>
                  <a:pt x="857" y="1146"/>
                </a:lnTo>
                <a:lnTo>
                  <a:pt x="866" y="1142"/>
                </a:lnTo>
                <a:lnTo>
                  <a:pt x="873" y="1137"/>
                </a:lnTo>
                <a:lnTo>
                  <a:pt x="883" y="1133"/>
                </a:lnTo>
                <a:lnTo>
                  <a:pt x="892" y="1129"/>
                </a:lnTo>
                <a:lnTo>
                  <a:pt x="901" y="1124"/>
                </a:lnTo>
                <a:lnTo>
                  <a:pt x="909" y="1118"/>
                </a:lnTo>
                <a:lnTo>
                  <a:pt x="918" y="1112"/>
                </a:lnTo>
                <a:lnTo>
                  <a:pt x="928" y="1107"/>
                </a:lnTo>
                <a:lnTo>
                  <a:pt x="937" y="1101"/>
                </a:lnTo>
                <a:lnTo>
                  <a:pt x="946" y="1096"/>
                </a:lnTo>
                <a:lnTo>
                  <a:pt x="954" y="1088"/>
                </a:lnTo>
                <a:lnTo>
                  <a:pt x="963" y="1083"/>
                </a:lnTo>
                <a:lnTo>
                  <a:pt x="972" y="1075"/>
                </a:lnTo>
                <a:lnTo>
                  <a:pt x="982" y="1070"/>
                </a:lnTo>
                <a:lnTo>
                  <a:pt x="991" y="1062"/>
                </a:lnTo>
                <a:lnTo>
                  <a:pt x="998" y="1055"/>
                </a:lnTo>
                <a:lnTo>
                  <a:pt x="1008" y="1047"/>
                </a:lnTo>
                <a:lnTo>
                  <a:pt x="1017" y="1042"/>
                </a:lnTo>
                <a:lnTo>
                  <a:pt x="1026" y="1034"/>
                </a:lnTo>
                <a:lnTo>
                  <a:pt x="1034" y="1027"/>
                </a:lnTo>
                <a:lnTo>
                  <a:pt x="1043" y="1019"/>
                </a:lnTo>
                <a:lnTo>
                  <a:pt x="1052" y="1012"/>
                </a:lnTo>
                <a:lnTo>
                  <a:pt x="1062" y="1006"/>
                </a:lnTo>
                <a:lnTo>
                  <a:pt x="1071" y="999"/>
                </a:lnTo>
                <a:lnTo>
                  <a:pt x="1078" y="991"/>
                </a:lnTo>
                <a:lnTo>
                  <a:pt x="1088" y="986"/>
                </a:lnTo>
                <a:lnTo>
                  <a:pt x="1097" y="980"/>
                </a:lnTo>
                <a:lnTo>
                  <a:pt x="1106" y="974"/>
                </a:lnTo>
                <a:lnTo>
                  <a:pt x="1116" y="969"/>
                </a:lnTo>
                <a:lnTo>
                  <a:pt x="1123" y="965"/>
                </a:lnTo>
                <a:lnTo>
                  <a:pt x="1132" y="960"/>
                </a:lnTo>
                <a:lnTo>
                  <a:pt x="1142" y="956"/>
                </a:lnTo>
                <a:lnTo>
                  <a:pt x="1151" y="952"/>
                </a:lnTo>
                <a:lnTo>
                  <a:pt x="1159" y="948"/>
                </a:lnTo>
                <a:lnTo>
                  <a:pt x="1168" y="945"/>
                </a:lnTo>
                <a:lnTo>
                  <a:pt x="1177" y="943"/>
                </a:lnTo>
                <a:lnTo>
                  <a:pt x="1186" y="939"/>
                </a:lnTo>
                <a:lnTo>
                  <a:pt x="1196" y="937"/>
                </a:lnTo>
                <a:lnTo>
                  <a:pt x="1203" y="935"/>
                </a:lnTo>
                <a:lnTo>
                  <a:pt x="1213" y="935"/>
                </a:lnTo>
                <a:lnTo>
                  <a:pt x="1222" y="933"/>
                </a:lnTo>
                <a:lnTo>
                  <a:pt x="1231" y="933"/>
                </a:lnTo>
                <a:lnTo>
                  <a:pt x="1240" y="932"/>
                </a:lnTo>
                <a:lnTo>
                  <a:pt x="1248" y="932"/>
                </a:lnTo>
                <a:lnTo>
                  <a:pt x="1257" y="932"/>
                </a:lnTo>
                <a:lnTo>
                  <a:pt x="1267" y="932"/>
                </a:lnTo>
                <a:lnTo>
                  <a:pt x="1276" y="932"/>
                </a:lnTo>
                <a:lnTo>
                  <a:pt x="1283" y="932"/>
                </a:lnTo>
                <a:lnTo>
                  <a:pt x="1293" y="932"/>
                </a:lnTo>
                <a:lnTo>
                  <a:pt x="1302" y="932"/>
                </a:lnTo>
                <a:lnTo>
                  <a:pt x="1311" y="933"/>
                </a:lnTo>
                <a:lnTo>
                  <a:pt x="1321" y="933"/>
                </a:lnTo>
                <a:lnTo>
                  <a:pt x="1328" y="933"/>
                </a:lnTo>
                <a:lnTo>
                  <a:pt x="1337" y="932"/>
                </a:lnTo>
                <a:lnTo>
                  <a:pt x="1347" y="932"/>
                </a:lnTo>
                <a:lnTo>
                  <a:pt x="1356" y="932"/>
                </a:lnTo>
                <a:lnTo>
                  <a:pt x="1365" y="930"/>
                </a:lnTo>
                <a:lnTo>
                  <a:pt x="1373" y="928"/>
                </a:lnTo>
                <a:lnTo>
                  <a:pt x="1382" y="924"/>
                </a:lnTo>
                <a:lnTo>
                  <a:pt x="1391" y="922"/>
                </a:lnTo>
                <a:lnTo>
                  <a:pt x="1401" y="919"/>
                </a:lnTo>
                <a:lnTo>
                  <a:pt x="1408" y="915"/>
                </a:lnTo>
                <a:lnTo>
                  <a:pt x="1417" y="911"/>
                </a:lnTo>
                <a:lnTo>
                  <a:pt x="1427" y="906"/>
                </a:lnTo>
                <a:lnTo>
                  <a:pt x="1436" y="900"/>
                </a:lnTo>
                <a:lnTo>
                  <a:pt x="1445" y="892"/>
                </a:lnTo>
                <a:lnTo>
                  <a:pt x="1453" y="885"/>
                </a:lnTo>
                <a:lnTo>
                  <a:pt x="1462" y="878"/>
                </a:lnTo>
                <a:lnTo>
                  <a:pt x="1472" y="868"/>
                </a:lnTo>
                <a:lnTo>
                  <a:pt x="1481" y="857"/>
                </a:lnTo>
                <a:lnTo>
                  <a:pt x="1490" y="846"/>
                </a:lnTo>
                <a:lnTo>
                  <a:pt x="1498" y="835"/>
                </a:lnTo>
                <a:lnTo>
                  <a:pt x="1507" y="822"/>
                </a:lnTo>
                <a:lnTo>
                  <a:pt x="1516" y="809"/>
                </a:lnTo>
                <a:lnTo>
                  <a:pt x="1526" y="796"/>
                </a:lnTo>
                <a:lnTo>
                  <a:pt x="1533" y="781"/>
                </a:lnTo>
                <a:lnTo>
                  <a:pt x="1542" y="766"/>
                </a:lnTo>
                <a:lnTo>
                  <a:pt x="1552" y="751"/>
                </a:lnTo>
                <a:lnTo>
                  <a:pt x="1561" y="736"/>
                </a:lnTo>
                <a:lnTo>
                  <a:pt x="1570" y="717"/>
                </a:lnTo>
                <a:lnTo>
                  <a:pt x="1578" y="700"/>
                </a:lnTo>
                <a:lnTo>
                  <a:pt x="1587" y="682"/>
                </a:lnTo>
                <a:lnTo>
                  <a:pt x="1596" y="663"/>
                </a:lnTo>
                <a:lnTo>
                  <a:pt x="1606" y="646"/>
                </a:lnTo>
                <a:lnTo>
                  <a:pt x="1615" y="626"/>
                </a:lnTo>
                <a:lnTo>
                  <a:pt x="1622" y="607"/>
                </a:lnTo>
                <a:lnTo>
                  <a:pt x="1632" y="589"/>
                </a:lnTo>
                <a:lnTo>
                  <a:pt x="1641" y="570"/>
                </a:lnTo>
                <a:lnTo>
                  <a:pt x="1650" y="551"/>
                </a:lnTo>
                <a:lnTo>
                  <a:pt x="1658" y="533"/>
                </a:lnTo>
                <a:lnTo>
                  <a:pt x="1667" y="514"/>
                </a:lnTo>
                <a:lnTo>
                  <a:pt x="1676" y="497"/>
                </a:lnTo>
                <a:lnTo>
                  <a:pt x="1686" y="482"/>
                </a:lnTo>
                <a:lnTo>
                  <a:pt x="1695" y="468"/>
                </a:lnTo>
                <a:lnTo>
                  <a:pt x="1703" y="453"/>
                </a:lnTo>
                <a:lnTo>
                  <a:pt x="1712" y="440"/>
                </a:lnTo>
                <a:lnTo>
                  <a:pt x="1721" y="427"/>
                </a:lnTo>
                <a:lnTo>
                  <a:pt x="1730" y="417"/>
                </a:lnTo>
                <a:lnTo>
                  <a:pt x="1740" y="406"/>
                </a:lnTo>
                <a:lnTo>
                  <a:pt x="1747" y="399"/>
                </a:lnTo>
                <a:lnTo>
                  <a:pt x="1757" y="391"/>
                </a:lnTo>
                <a:lnTo>
                  <a:pt x="1766" y="384"/>
                </a:lnTo>
                <a:lnTo>
                  <a:pt x="1775" y="380"/>
                </a:lnTo>
                <a:lnTo>
                  <a:pt x="1784" y="376"/>
                </a:lnTo>
                <a:lnTo>
                  <a:pt x="1792" y="374"/>
                </a:lnTo>
                <a:lnTo>
                  <a:pt x="1801" y="374"/>
                </a:lnTo>
                <a:lnTo>
                  <a:pt x="1811" y="374"/>
                </a:lnTo>
                <a:lnTo>
                  <a:pt x="1820" y="376"/>
                </a:lnTo>
                <a:lnTo>
                  <a:pt x="1827" y="382"/>
                </a:lnTo>
                <a:lnTo>
                  <a:pt x="1837" y="386"/>
                </a:lnTo>
                <a:lnTo>
                  <a:pt x="1846" y="393"/>
                </a:lnTo>
                <a:lnTo>
                  <a:pt x="1855" y="400"/>
                </a:lnTo>
                <a:lnTo>
                  <a:pt x="1865" y="410"/>
                </a:lnTo>
                <a:lnTo>
                  <a:pt x="1872" y="419"/>
                </a:lnTo>
                <a:lnTo>
                  <a:pt x="1881" y="430"/>
                </a:lnTo>
                <a:lnTo>
                  <a:pt x="1891" y="441"/>
                </a:lnTo>
                <a:lnTo>
                  <a:pt x="1900" y="453"/>
                </a:lnTo>
                <a:lnTo>
                  <a:pt x="1909" y="466"/>
                </a:lnTo>
                <a:lnTo>
                  <a:pt x="1917" y="479"/>
                </a:lnTo>
                <a:lnTo>
                  <a:pt x="1926" y="492"/>
                </a:lnTo>
                <a:lnTo>
                  <a:pt x="1935" y="507"/>
                </a:lnTo>
                <a:lnTo>
                  <a:pt x="1945" y="520"/>
                </a:lnTo>
                <a:lnTo>
                  <a:pt x="1952" y="535"/>
                </a:lnTo>
                <a:lnTo>
                  <a:pt x="1961" y="550"/>
                </a:lnTo>
                <a:lnTo>
                  <a:pt x="1971" y="563"/>
                </a:lnTo>
                <a:lnTo>
                  <a:pt x="1980" y="576"/>
                </a:lnTo>
                <a:lnTo>
                  <a:pt x="1989" y="589"/>
                </a:lnTo>
                <a:lnTo>
                  <a:pt x="1997" y="602"/>
                </a:lnTo>
                <a:lnTo>
                  <a:pt x="2006" y="613"/>
                </a:lnTo>
                <a:lnTo>
                  <a:pt x="2015" y="624"/>
                </a:lnTo>
                <a:lnTo>
                  <a:pt x="2025" y="633"/>
                </a:lnTo>
                <a:lnTo>
                  <a:pt x="2034" y="643"/>
                </a:lnTo>
                <a:lnTo>
                  <a:pt x="2042" y="652"/>
                </a:lnTo>
                <a:lnTo>
                  <a:pt x="2051" y="659"/>
                </a:lnTo>
                <a:lnTo>
                  <a:pt x="2060" y="665"/>
                </a:lnTo>
                <a:lnTo>
                  <a:pt x="2070" y="669"/>
                </a:lnTo>
                <a:lnTo>
                  <a:pt x="2077" y="671"/>
                </a:lnTo>
                <a:lnTo>
                  <a:pt x="2086" y="673"/>
                </a:lnTo>
                <a:lnTo>
                  <a:pt x="2096" y="674"/>
                </a:lnTo>
                <a:lnTo>
                  <a:pt x="2105" y="674"/>
                </a:lnTo>
                <a:lnTo>
                  <a:pt x="2114" y="673"/>
                </a:lnTo>
                <a:lnTo>
                  <a:pt x="2122" y="669"/>
                </a:lnTo>
                <a:lnTo>
                  <a:pt x="2131" y="663"/>
                </a:lnTo>
                <a:lnTo>
                  <a:pt x="2140" y="658"/>
                </a:lnTo>
                <a:lnTo>
                  <a:pt x="2150" y="650"/>
                </a:lnTo>
                <a:lnTo>
                  <a:pt x="2159" y="639"/>
                </a:lnTo>
                <a:lnTo>
                  <a:pt x="2166" y="630"/>
                </a:lnTo>
                <a:lnTo>
                  <a:pt x="2176" y="617"/>
                </a:lnTo>
                <a:lnTo>
                  <a:pt x="2185" y="602"/>
                </a:lnTo>
                <a:lnTo>
                  <a:pt x="2194" y="587"/>
                </a:lnTo>
                <a:lnTo>
                  <a:pt x="2202" y="570"/>
                </a:lnTo>
                <a:lnTo>
                  <a:pt x="2211" y="551"/>
                </a:lnTo>
                <a:lnTo>
                  <a:pt x="2220" y="533"/>
                </a:lnTo>
                <a:lnTo>
                  <a:pt x="2230" y="510"/>
                </a:lnTo>
                <a:lnTo>
                  <a:pt x="2239" y="490"/>
                </a:lnTo>
                <a:lnTo>
                  <a:pt x="2246" y="468"/>
                </a:lnTo>
                <a:lnTo>
                  <a:pt x="2256" y="441"/>
                </a:lnTo>
                <a:lnTo>
                  <a:pt x="2265" y="417"/>
                </a:lnTo>
                <a:lnTo>
                  <a:pt x="2274" y="391"/>
                </a:lnTo>
                <a:lnTo>
                  <a:pt x="2284" y="363"/>
                </a:lnTo>
                <a:lnTo>
                  <a:pt x="2291" y="337"/>
                </a:lnTo>
                <a:lnTo>
                  <a:pt x="2301" y="309"/>
                </a:lnTo>
                <a:lnTo>
                  <a:pt x="2310" y="283"/>
                </a:lnTo>
                <a:lnTo>
                  <a:pt x="2319" y="255"/>
                </a:lnTo>
                <a:lnTo>
                  <a:pt x="2327" y="231"/>
                </a:lnTo>
                <a:lnTo>
                  <a:pt x="2336" y="205"/>
                </a:lnTo>
                <a:lnTo>
                  <a:pt x="2345" y="179"/>
                </a:lnTo>
                <a:lnTo>
                  <a:pt x="2355" y="154"/>
                </a:lnTo>
                <a:lnTo>
                  <a:pt x="2364" y="130"/>
                </a:lnTo>
                <a:lnTo>
                  <a:pt x="2371" y="108"/>
                </a:lnTo>
                <a:lnTo>
                  <a:pt x="2381" y="87"/>
                </a:lnTo>
                <a:lnTo>
                  <a:pt x="2390" y="69"/>
                </a:lnTo>
                <a:lnTo>
                  <a:pt x="2399" y="50"/>
                </a:lnTo>
                <a:lnTo>
                  <a:pt x="2409" y="35"/>
                </a:lnTo>
                <a:lnTo>
                  <a:pt x="2416" y="22"/>
                </a:lnTo>
                <a:lnTo>
                  <a:pt x="2425" y="13"/>
                </a:lnTo>
                <a:lnTo>
                  <a:pt x="2435" y="5"/>
                </a:lnTo>
                <a:lnTo>
                  <a:pt x="2444" y="2"/>
                </a:lnTo>
                <a:lnTo>
                  <a:pt x="2451" y="0"/>
                </a:lnTo>
                <a:lnTo>
                  <a:pt x="2461" y="0"/>
                </a:lnTo>
                <a:lnTo>
                  <a:pt x="2470" y="2"/>
                </a:lnTo>
                <a:lnTo>
                  <a:pt x="2479" y="9"/>
                </a:lnTo>
                <a:lnTo>
                  <a:pt x="2489" y="18"/>
                </a:lnTo>
                <a:lnTo>
                  <a:pt x="2496" y="30"/>
                </a:lnTo>
                <a:lnTo>
                  <a:pt x="2505" y="44"/>
                </a:lnTo>
                <a:lnTo>
                  <a:pt x="2515" y="61"/>
                </a:lnTo>
                <a:lnTo>
                  <a:pt x="2524" y="80"/>
                </a:lnTo>
                <a:lnTo>
                  <a:pt x="2533" y="102"/>
                </a:lnTo>
                <a:lnTo>
                  <a:pt x="2541" y="125"/>
                </a:lnTo>
                <a:lnTo>
                  <a:pt x="2550" y="151"/>
                </a:lnTo>
                <a:lnTo>
                  <a:pt x="2559" y="177"/>
                </a:lnTo>
                <a:lnTo>
                  <a:pt x="2569" y="207"/>
                </a:lnTo>
                <a:lnTo>
                  <a:pt x="2576" y="238"/>
                </a:lnTo>
                <a:lnTo>
                  <a:pt x="2586" y="270"/>
                </a:lnTo>
                <a:lnTo>
                  <a:pt x="2595" y="304"/>
                </a:lnTo>
                <a:lnTo>
                  <a:pt x="2604" y="337"/>
                </a:lnTo>
                <a:lnTo>
                  <a:pt x="2613" y="372"/>
                </a:lnTo>
                <a:lnTo>
                  <a:pt x="2621" y="408"/>
                </a:lnTo>
                <a:lnTo>
                  <a:pt x="2630" y="443"/>
                </a:lnTo>
                <a:lnTo>
                  <a:pt x="2640" y="481"/>
                </a:lnTo>
                <a:lnTo>
                  <a:pt x="2649" y="516"/>
                </a:lnTo>
                <a:lnTo>
                  <a:pt x="2658" y="553"/>
                </a:lnTo>
                <a:lnTo>
                  <a:pt x="2666" y="589"/>
                </a:lnTo>
                <a:lnTo>
                  <a:pt x="2675" y="624"/>
                </a:lnTo>
                <a:lnTo>
                  <a:pt x="2684" y="659"/>
                </a:lnTo>
                <a:lnTo>
                  <a:pt x="2694" y="693"/>
                </a:lnTo>
                <a:lnTo>
                  <a:pt x="2701" y="727"/>
                </a:lnTo>
                <a:lnTo>
                  <a:pt x="2710" y="760"/>
                </a:lnTo>
                <a:lnTo>
                  <a:pt x="2720" y="794"/>
                </a:lnTo>
                <a:lnTo>
                  <a:pt x="2729" y="825"/>
                </a:lnTo>
                <a:lnTo>
                  <a:pt x="2738" y="855"/>
                </a:lnTo>
                <a:lnTo>
                  <a:pt x="2746" y="887"/>
                </a:lnTo>
                <a:lnTo>
                  <a:pt x="2755" y="915"/>
                </a:lnTo>
                <a:lnTo>
                  <a:pt x="2764" y="943"/>
                </a:lnTo>
                <a:lnTo>
                  <a:pt x="2774" y="969"/>
                </a:lnTo>
                <a:lnTo>
                  <a:pt x="2783" y="993"/>
                </a:lnTo>
                <a:lnTo>
                  <a:pt x="2790" y="1017"/>
                </a:lnTo>
                <a:lnTo>
                  <a:pt x="2800" y="1042"/>
                </a:lnTo>
                <a:lnTo>
                  <a:pt x="2809" y="1064"/>
                </a:lnTo>
                <a:lnTo>
                  <a:pt x="2818" y="1084"/>
                </a:lnTo>
                <a:lnTo>
                  <a:pt x="2826" y="1105"/>
                </a:lnTo>
                <a:lnTo>
                  <a:pt x="2835" y="1124"/>
                </a:lnTo>
                <a:lnTo>
                  <a:pt x="2845" y="1142"/>
                </a:lnTo>
                <a:lnTo>
                  <a:pt x="2854" y="1161"/>
                </a:lnTo>
                <a:lnTo>
                  <a:pt x="2863" y="1178"/>
                </a:lnTo>
                <a:lnTo>
                  <a:pt x="2871" y="1194"/>
                </a:lnTo>
                <a:lnTo>
                  <a:pt x="2880" y="1209"/>
                </a:lnTo>
                <a:lnTo>
                  <a:pt x="2889" y="1224"/>
                </a:lnTo>
                <a:lnTo>
                  <a:pt x="2899" y="1237"/>
                </a:lnTo>
                <a:lnTo>
                  <a:pt x="2908" y="1250"/>
                </a:lnTo>
                <a:lnTo>
                  <a:pt x="2915" y="1263"/>
                </a:lnTo>
                <a:lnTo>
                  <a:pt x="2925" y="1276"/>
                </a:lnTo>
                <a:lnTo>
                  <a:pt x="2934" y="1288"/>
                </a:lnTo>
                <a:lnTo>
                  <a:pt x="2943" y="1297"/>
                </a:lnTo>
                <a:lnTo>
                  <a:pt x="2951" y="1308"/>
                </a:lnTo>
                <a:lnTo>
                  <a:pt x="2960" y="1317"/>
                </a:lnTo>
                <a:lnTo>
                  <a:pt x="2969" y="1327"/>
                </a:lnTo>
                <a:lnTo>
                  <a:pt x="2979" y="1336"/>
                </a:lnTo>
                <a:lnTo>
                  <a:pt x="2988" y="1343"/>
                </a:lnTo>
                <a:lnTo>
                  <a:pt x="2995" y="1351"/>
                </a:lnTo>
                <a:lnTo>
                  <a:pt x="3005" y="1358"/>
                </a:lnTo>
                <a:lnTo>
                  <a:pt x="3014" y="1366"/>
                </a:lnTo>
                <a:lnTo>
                  <a:pt x="3023" y="1371"/>
                </a:lnTo>
                <a:lnTo>
                  <a:pt x="3033" y="1379"/>
                </a:lnTo>
                <a:lnTo>
                  <a:pt x="3040" y="1384"/>
                </a:lnTo>
                <a:lnTo>
                  <a:pt x="3049" y="1390"/>
                </a:lnTo>
                <a:lnTo>
                  <a:pt x="3059" y="1396"/>
                </a:lnTo>
                <a:lnTo>
                  <a:pt x="3068" y="1399"/>
                </a:lnTo>
                <a:lnTo>
                  <a:pt x="3076" y="1405"/>
                </a:lnTo>
                <a:lnTo>
                  <a:pt x="3085" y="1409"/>
                </a:lnTo>
                <a:lnTo>
                  <a:pt x="3094" y="1414"/>
                </a:lnTo>
                <a:lnTo>
                  <a:pt x="3103" y="1418"/>
                </a:lnTo>
                <a:lnTo>
                  <a:pt x="3113" y="1422"/>
                </a:lnTo>
                <a:lnTo>
                  <a:pt x="3120" y="1425"/>
                </a:lnTo>
                <a:lnTo>
                  <a:pt x="3130" y="1429"/>
                </a:lnTo>
                <a:lnTo>
                  <a:pt x="3139" y="1431"/>
                </a:lnTo>
                <a:lnTo>
                  <a:pt x="3148" y="1435"/>
                </a:lnTo>
                <a:lnTo>
                  <a:pt x="3157" y="1437"/>
                </a:lnTo>
                <a:lnTo>
                  <a:pt x="3165" y="1440"/>
                </a:lnTo>
                <a:lnTo>
                  <a:pt x="3174" y="1442"/>
                </a:lnTo>
                <a:lnTo>
                  <a:pt x="3184" y="1446"/>
                </a:lnTo>
                <a:lnTo>
                  <a:pt x="3193" y="1448"/>
                </a:lnTo>
                <a:lnTo>
                  <a:pt x="3200" y="1450"/>
                </a:lnTo>
                <a:lnTo>
                  <a:pt x="3210" y="1453"/>
                </a:lnTo>
                <a:lnTo>
                  <a:pt x="3219" y="1455"/>
                </a:lnTo>
                <a:lnTo>
                  <a:pt x="3228" y="1457"/>
                </a:lnTo>
                <a:lnTo>
                  <a:pt x="3238" y="1459"/>
                </a:lnTo>
                <a:lnTo>
                  <a:pt x="3245" y="1461"/>
                </a:lnTo>
                <a:lnTo>
                  <a:pt x="3254" y="1463"/>
                </a:lnTo>
                <a:lnTo>
                  <a:pt x="3264" y="1465"/>
                </a:lnTo>
                <a:lnTo>
                  <a:pt x="3273" y="1466"/>
                </a:lnTo>
                <a:lnTo>
                  <a:pt x="3282" y="1468"/>
                </a:lnTo>
                <a:lnTo>
                  <a:pt x="3290" y="1470"/>
                </a:lnTo>
                <a:lnTo>
                  <a:pt x="3299" y="1472"/>
                </a:lnTo>
                <a:lnTo>
                  <a:pt x="3308" y="1472"/>
                </a:lnTo>
                <a:lnTo>
                  <a:pt x="3318" y="1474"/>
                </a:lnTo>
                <a:lnTo>
                  <a:pt x="3325" y="1476"/>
                </a:lnTo>
                <a:lnTo>
                  <a:pt x="3334" y="1478"/>
                </a:lnTo>
                <a:lnTo>
                  <a:pt x="3344" y="1480"/>
                </a:lnTo>
                <a:lnTo>
                  <a:pt x="3353" y="1480"/>
                </a:lnTo>
                <a:lnTo>
                  <a:pt x="3362" y="1481"/>
                </a:lnTo>
                <a:lnTo>
                  <a:pt x="3370" y="1483"/>
                </a:lnTo>
                <a:lnTo>
                  <a:pt x="3379" y="1485"/>
                </a:lnTo>
                <a:lnTo>
                  <a:pt x="3388" y="1485"/>
                </a:lnTo>
                <a:lnTo>
                  <a:pt x="3398" y="1487"/>
                </a:lnTo>
                <a:lnTo>
                  <a:pt x="3407" y="1489"/>
                </a:lnTo>
                <a:lnTo>
                  <a:pt x="3415" y="1489"/>
                </a:lnTo>
                <a:lnTo>
                  <a:pt x="3424" y="1491"/>
                </a:lnTo>
                <a:lnTo>
                  <a:pt x="3433" y="1491"/>
                </a:lnTo>
                <a:lnTo>
                  <a:pt x="3443" y="1493"/>
                </a:lnTo>
                <a:lnTo>
                  <a:pt x="3450" y="1494"/>
                </a:lnTo>
                <a:lnTo>
                  <a:pt x="3459" y="1494"/>
                </a:lnTo>
                <a:lnTo>
                  <a:pt x="3469" y="1496"/>
                </a:lnTo>
                <a:lnTo>
                  <a:pt x="3478" y="1496"/>
                </a:lnTo>
                <a:lnTo>
                  <a:pt x="3487" y="1498"/>
                </a:lnTo>
                <a:lnTo>
                  <a:pt x="3495" y="1498"/>
                </a:lnTo>
                <a:lnTo>
                  <a:pt x="3504" y="1500"/>
                </a:lnTo>
                <a:lnTo>
                  <a:pt x="3513" y="1500"/>
                </a:lnTo>
                <a:lnTo>
                  <a:pt x="3523" y="1502"/>
                </a:lnTo>
                <a:lnTo>
                  <a:pt x="3532" y="1502"/>
                </a:lnTo>
                <a:lnTo>
                  <a:pt x="3539" y="1504"/>
                </a:lnTo>
                <a:lnTo>
                  <a:pt x="3549" y="1504"/>
                </a:lnTo>
                <a:lnTo>
                  <a:pt x="3558" y="1504"/>
                </a:lnTo>
                <a:lnTo>
                  <a:pt x="3567" y="1506"/>
                </a:lnTo>
              </a:path>
            </a:pathLst>
          </a:custGeom>
          <a:noFill/>
          <a:ln w="0">
            <a:solidFill>
              <a:srgbClr val="0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任意多边形 269"/>
          <p:cNvSpPr/>
          <p:nvPr/>
        </p:nvSpPr>
        <p:spPr>
          <a:xfrm>
            <a:off x="2228760" y="2325600"/>
            <a:ext cx="5662800" cy="305928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3059280"/>
              <a:gd name="textAreaBottom" fmla="*/ 3059640 h 3059280"/>
            </a:gdLst>
            <a:ahLst/>
            <a:rect l="textAreaLeft" t="textAreaTop" r="textAreaRight" b="textAreaBottom"/>
            <a:pathLst>
              <a:path w="3567" h="1927">
                <a:moveTo>
                  <a:pt x="0" y="1456"/>
                </a:moveTo>
                <a:lnTo>
                  <a:pt x="9" y="1456"/>
                </a:lnTo>
                <a:lnTo>
                  <a:pt x="18" y="1458"/>
                </a:lnTo>
                <a:lnTo>
                  <a:pt x="28" y="1459"/>
                </a:lnTo>
                <a:lnTo>
                  <a:pt x="35" y="1463"/>
                </a:lnTo>
                <a:lnTo>
                  <a:pt x="44" y="1465"/>
                </a:lnTo>
                <a:lnTo>
                  <a:pt x="54" y="1469"/>
                </a:lnTo>
                <a:lnTo>
                  <a:pt x="63" y="1471"/>
                </a:lnTo>
                <a:lnTo>
                  <a:pt x="72" y="1474"/>
                </a:lnTo>
                <a:lnTo>
                  <a:pt x="80" y="1478"/>
                </a:lnTo>
                <a:lnTo>
                  <a:pt x="89" y="1482"/>
                </a:lnTo>
                <a:lnTo>
                  <a:pt x="99" y="1485"/>
                </a:lnTo>
                <a:lnTo>
                  <a:pt x="108" y="1489"/>
                </a:lnTo>
                <a:lnTo>
                  <a:pt x="117" y="1495"/>
                </a:lnTo>
                <a:lnTo>
                  <a:pt x="125" y="1499"/>
                </a:lnTo>
                <a:lnTo>
                  <a:pt x="134" y="1502"/>
                </a:lnTo>
                <a:lnTo>
                  <a:pt x="143" y="1506"/>
                </a:lnTo>
                <a:lnTo>
                  <a:pt x="153" y="1510"/>
                </a:lnTo>
                <a:lnTo>
                  <a:pt x="160" y="1513"/>
                </a:lnTo>
                <a:lnTo>
                  <a:pt x="169" y="1517"/>
                </a:lnTo>
                <a:lnTo>
                  <a:pt x="179" y="1521"/>
                </a:lnTo>
                <a:lnTo>
                  <a:pt x="188" y="1523"/>
                </a:lnTo>
                <a:lnTo>
                  <a:pt x="197" y="1526"/>
                </a:lnTo>
                <a:lnTo>
                  <a:pt x="205" y="1528"/>
                </a:lnTo>
                <a:lnTo>
                  <a:pt x="214" y="1532"/>
                </a:lnTo>
                <a:lnTo>
                  <a:pt x="223" y="1534"/>
                </a:lnTo>
                <a:lnTo>
                  <a:pt x="233" y="1538"/>
                </a:lnTo>
                <a:lnTo>
                  <a:pt x="242" y="1540"/>
                </a:lnTo>
                <a:lnTo>
                  <a:pt x="249" y="1541"/>
                </a:lnTo>
                <a:lnTo>
                  <a:pt x="259" y="1543"/>
                </a:lnTo>
                <a:lnTo>
                  <a:pt x="268" y="1545"/>
                </a:lnTo>
                <a:lnTo>
                  <a:pt x="277" y="1547"/>
                </a:lnTo>
                <a:lnTo>
                  <a:pt x="285" y="1549"/>
                </a:lnTo>
                <a:lnTo>
                  <a:pt x="294" y="1549"/>
                </a:lnTo>
                <a:lnTo>
                  <a:pt x="303" y="1551"/>
                </a:lnTo>
                <a:lnTo>
                  <a:pt x="313" y="1551"/>
                </a:lnTo>
                <a:lnTo>
                  <a:pt x="322" y="1551"/>
                </a:lnTo>
                <a:lnTo>
                  <a:pt x="330" y="1553"/>
                </a:lnTo>
                <a:lnTo>
                  <a:pt x="339" y="1553"/>
                </a:lnTo>
                <a:lnTo>
                  <a:pt x="348" y="1553"/>
                </a:lnTo>
                <a:lnTo>
                  <a:pt x="357" y="1553"/>
                </a:lnTo>
                <a:lnTo>
                  <a:pt x="367" y="1553"/>
                </a:lnTo>
                <a:lnTo>
                  <a:pt x="374" y="1551"/>
                </a:lnTo>
                <a:lnTo>
                  <a:pt x="384" y="1551"/>
                </a:lnTo>
                <a:lnTo>
                  <a:pt x="393" y="1549"/>
                </a:lnTo>
                <a:lnTo>
                  <a:pt x="402" y="1549"/>
                </a:lnTo>
                <a:lnTo>
                  <a:pt x="410" y="1547"/>
                </a:lnTo>
                <a:lnTo>
                  <a:pt x="419" y="1547"/>
                </a:lnTo>
                <a:lnTo>
                  <a:pt x="428" y="1545"/>
                </a:lnTo>
                <a:lnTo>
                  <a:pt x="438" y="1545"/>
                </a:lnTo>
                <a:lnTo>
                  <a:pt x="447" y="1543"/>
                </a:lnTo>
                <a:lnTo>
                  <a:pt x="454" y="1541"/>
                </a:lnTo>
                <a:lnTo>
                  <a:pt x="464" y="1540"/>
                </a:lnTo>
                <a:lnTo>
                  <a:pt x="473" y="1538"/>
                </a:lnTo>
                <a:lnTo>
                  <a:pt x="482" y="1536"/>
                </a:lnTo>
                <a:lnTo>
                  <a:pt x="492" y="1534"/>
                </a:lnTo>
                <a:lnTo>
                  <a:pt x="499" y="1534"/>
                </a:lnTo>
                <a:lnTo>
                  <a:pt x="508" y="1532"/>
                </a:lnTo>
                <a:lnTo>
                  <a:pt x="518" y="1530"/>
                </a:lnTo>
                <a:lnTo>
                  <a:pt x="527" y="1528"/>
                </a:lnTo>
                <a:lnTo>
                  <a:pt x="534" y="1526"/>
                </a:lnTo>
                <a:lnTo>
                  <a:pt x="544" y="1525"/>
                </a:lnTo>
                <a:lnTo>
                  <a:pt x="553" y="1523"/>
                </a:lnTo>
                <a:lnTo>
                  <a:pt x="562" y="1521"/>
                </a:lnTo>
                <a:lnTo>
                  <a:pt x="572" y="1519"/>
                </a:lnTo>
                <a:lnTo>
                  <a:pt x="579" y="1517"/>
                </a:lnTo>
                <a:lnTo>
                  <a:pt x="588" y="1515"/>
                </a:lnTo>
                <a:lnTo>
                  <a:pt x="598" y="1515"/>
                </a:lnTo>
                <a:lnTo>
                  <a:pt x="607" y="1513"/>
                </a:lnTo>
                <a:lnTo>
                  <a:pt x="616" y="1512"/>
                </a:lnTo>
                <a:lnTo>
                  <a:pt x="624" y="1512"/>
                </a:lnTo>
                <a:lnTo>
                  <a:pt x="633" y="1510"/>
                </a:lnTo>
                <a:lnTo>
                  <a:pt x="642" y="1508"/>
                </a:lnTo>
                <a:lnTo>
                  <a:pt x="652" y="1508"/>
                </a:lnTo>
                <a:lnTo>
                  <a:pt x="659" y="1508"/>
                </a:lnTo>
                <a:lnTo>
                  <a:pt x="669" y="1506"/>
                </a:lnTo>
                <a:lnTo>
                  <a:pt x="678" y="1506"/>
                </a:lnTo>
                <a:lnTo>
                  <a:pt x="687" y="1504"/>
                </a:lnTo>
                <a:lnTo>
                  <a:pt x="697" y="1502"/>
                </a:lnTo>
                <a:lnTo>
                  <a:pt x="704" y="1502"/>
                </a:lnTo>
                <a:lnTo>
                  <a:pt x="713" y="1500"/>
                </a:lnTo>
                <a:lnTo>
                  <a:pt x="723" y="1499"/>
                </a:lnTo>
                <a:lnTo>
                  <a:pt x="732" y="1497"/>
                </a:lnTo>
                <a:lnTo>
                  <a:pt x="741" y="1495"/>
                </a:lnTo>
                <a:lnTo>
                  <a:pt x="749" y="1495"/>
                </a:lnTo>
                <a:lnTo>
                  <a:pt x="758" y="1493"/>
                </a:lnTo>
                <a:lnTo>
                  <a:pt x="767" y="1491"/>
                </a:lnTo>
                <a:lnTo>
                  <a:pt x="777" y="1489"/>
                </a:lnTo>
                <a:lnTo>
                  <a:pt x="784" y="1487"/>
                </a:lnTo>
                <a:lnTo>
                  <a:pt x="793" y="1484"/>
                </a:lnTo>
                <a:lnTo>
                  <a:pt x="803" y="1482"/>
                </a:lnTo>
                <a:lnTo>
                  <a:pt x="812" y="1480"/>
                </a:lnTo>
                <a:lnTo>
                  <a:pt x="821" y="1476"/>
                </a:lnTo>
                <a:lnTo>
                  <a:pt x="829" y="1472"/>
                </a:lnTo>
                <a:lnTo>
                  <a:pt x="838" y="1469"/>
                </a:lnTo>
                <a:lnTo>
                  <a:pt x="847" y="1463"/>
                </a:lnTo>
                <a:lnTo>
                  <a:pt x="857" y="1459"/>
                </a:lnTo>
                <a:lnTo>
                  <a:pt x="866" y="1454"/>
                </a:lnTo>
                <a:lnTo>
                  <a:pt x="873" y="1448"/>
                </a:lnTo>
                <a:lnTo>
                  <a:pt x="883" y="1443"/>
                </a:lnTo>
                <a:lnTo>
                  <a:pt x="892" y="1437"/>
                </a:lnTo>
                <a:lnTo>
                  <a:pt x="901" y="1431"/>
                </a:lnTo>
                <a:lnTo>
                  <a:pt x="909" y="1424"/>
                </a:lnTo>
                <a:lnTo>
                  <a:pt x="918" y="1417"/>
                </a:lnTo>
                <a:lnTo>
                  <a:pt x="928" y="1409"/>
                </a:lnTo>
                <a:lnTo>
                  <a:pt x="937" y="1402"/>
                </a:lnTo>
                <a:lnTo>
                  <a:pt x="946" y="1394"/>
                </a:lnTo>
                <a:lnTo>
                  <a:pt x="954" y="1385"/>
                </a:lnTo>
                <a:lnTo>
                  <a:pt x="963" y="1377"/>
                </a:lnTo>
                <a:lnTo>
                  <a:pt x="972" y="1368"/>
                </a:lnTo>
                <a:lnTo>
                  <a:pt x="982" y="1361"/>
                </a:lnTo>
                <a:lnTo>
                  <a:pt x="991" y="1351"/>
                </a:lnTo>
                <a:lnTo>
                  <a:pt x="998" y="1342"/>
                </a:lnTo>
                <a:lnTo>
                  <a:pt x="1008" y="1335"/>
                </a:lnTo>
                <a:lnTo>
                  <a:pt x="1017" y="1325"/>
                </a:lnTo>
                <a:lnTo>
                  <a:pt x="1026" y="1316"/>
                </a:lnTo>
                <a:lnTo>
                  <a:pt x="1034" y="1307"/>
                </a:lnTo>
                <a:lnTo>
                  <a:pt x="1043" y="1297"/>
                </a:lnTo>
                <a:lnTo>
                  <a:pt x="1052" y="1290"/>
                </a:lnTo>
                <a:lnTo>
                  <a:pt x="1062" y="1280"/>
                </a:lnTo>
                <a:lnTo>
                  <a:pt x="1071" y="1273"/>
                </a:lnTo>
                <a:lnTo>
                  <a:pt x="1078" y="1264"/>
                </a:lnTo>
                <a:lnTo>
                  <a:pt x="1088" y="1256"/>
                </a:lnTo>
                <a:lnTo>
                  <a:pt x="1097" y="1249"/>
                </a:lnTo>
                <a:lnTo>
                  <a:pt x="1106" y="1241"/>
                </a:lnTo>
                <a:lnTo>
                  <a:pt x="1116" y="1236"/>
                </a:lnTo>
                <a:lnTo>
                  <a:pt x="1123" y="1228"/>
                </a:lnTo>
                <a:lnTo>
                  <a:pt x="1132" y="1223"/>
                </a:lnTo>
                <a:lnTo>
                  <a:pt x="1142" y="1217"/>
                </a:lnTo>
                <a:lnTo>
                  <a:pt x="1151" y="1213"/>
                </a:lnTo>
                <a:lnTo>
                  <a:pt x="1159" y="1208"/>
                </a:lnTo>
                <a:lnTo>
                  <a:pt x="1168" y="1204"/>
                </a:lnTo>
                <a:lnTo>
                  <a:pt x="1177" y="1200"/>
                </a:lnTo>
                <a:lnTo>
                  <a:pt x="1186" y="1197"/>
                </a:lnTo>
                <a:lnTo>
                  <a:pt x="1196" y="1195"/>
                </a:lnTo>
                <a:lnTo>
                  <a:pt x="1203" y="1193"/>
                </a:lnTo>
                <a:lnTo>
                  <a:pt x="1213" y="1191"/>
                </a:lnTo>
                <a:lnTo>
                  <a:pt x="1222" y="1189"/>
                </a:lnTo>
                <a:lnTo>
                  <a:pt x="1231" y="1189"/>
                </a:lnTo>
                <a:lnTo>
                  <a:pt x="1240" y="1187"/>
                </a:lnTo>
                <a:lnTo>
                  <a:pt x="1248" y="1187"/>
                </a:lnTo>
                <a:lnTo>
                  <a:pt x="1257" y="1187"/>
                </a:lnTo>
                <a:lnTo>
                  <a:pt x="1267" y="1187"/>
                </a:lnTo>
                <a:lnTo>
                  <a:pt x="1276" y="1187"/>
                </a:lnTo>
                <a:lnTo>
                  <a:pt x="1283" y="1187"/>
                </a:lnTo>
                <a:lnTo>
                  <a:pt x="1293" y="1187"/>
                </a:lnTo>
                <a:lnTo>
                  <a:pt x="1302" y="1187"/>
                </a:lnTo>
                <a:lnTo>
                  <a:pt x="1311" y="1187"/>
                </a:lnTo>
                <a:lnTo>
                  <a:pt x="1321" y="1187"/>
                </a:lnTo>
                <a:lnTo>
                  <a:pt x="1328" y="1187"/>
                </a:lnTo>
                <a:lnTo>
                  <a:pt x="1337" y="1187"/>
                </a:lnTo>
                <a:lnTo>
                  <a:pt x="1347" y="1187"/>
                </a:lnTo>
                <a:lnTo>
                  <a:pt x="1356" y="1185"/>
                </a:lnTo>
                <a:lnTo>
                  <a:pt x="1365" y="1184"/>
                </a:lnTo>
                <a:lnTo>
                  <a:pt x="1373" y="1180"/>
                </a:lnTo>
                <a:lnTo>
                  <a:pt x="1382" y="1178"/>
                </a:lnTo>
                <a:lnTo>
                  <a:pt x="1391" y="1176"/>
                </a:lnTo>
                <a:lnTo>
                  <a:pt x="1401" y="1170"/>
                </a:lnTo>
                <a:lnTo>
                  <a:pt x="1408" y="1167"/>
                </a:lnTo>
                <a:lnTo>
                  <a:pt x="1417" y="1159"/>
                </a:lnTo>
                <a:lnTo>
                  <a:pt x="1427" y="1154"/>
                </a:lnTo>
                <a:lnTo>
                  <a:pt x="1436" y="1146"/>
                </a:lnTo>
                <a:lnTo>
                  <a:pt x="1445" y="1137"/>
                </a:lnTo>
                <a:lnTo>
                  <a:pt x="1453" y="1126"/>
                </a:lnTo>
                <a:lnTo>
                  <a:pt x="1462" y="1115"/>
                </a:lnTo>
                <a:lnTo>
                  <a:pt x="1472" y="1103"/>
                </a:lnTo>
                <a:lnTo>
                  <a:pt x="1481" y="1090"/>
                </a:lnTo>
                <a:lnTo>
                  <a:pt x="1490" y="1077"/>
                </a:lnTo>
                <a:lnTo>
                  <a:pt x="1498" y="1062"/>
                </a:lnTo>
                <a:lnTo>
                  <a:pt x="1507" y="1047"/>
                </a:lnTo>
                <a:lnTo>
                  <a:pt x="1516" y="1031"/>
                </a:lnTo>
                <a:lnTo>
                  <a:pt x="1526" y="1014"/>
                </a:lnTo>
                <a:lnTo>
                  <a:pt x="1533" y="995"/>
                </a:lnTo>
                <a:lnTo>
                  <a:pt x="1542" y="977"/>
                </a:lnTo>
                <a:lnTo>
                  <a:pt x="1552" y="958"/>
                </a:lnTo>
                <a:lnTo>
                  <a:pt x="1561" y="938"/>
                </a:lnTo>
                <a:lnTo>
                  <a:pt x="1570" y="915"/>
                </a:lnTo>
                <a:lnTo>
                  <a:pt x="1578" y="893"/>
                </a:lnTo>
                <a:lnTo>
                  <a:pt x="1587" y="870"/>
                </a:lnTo>
                <a:lnTo>
                  <a:pt x="1596" y="848"/>
                </a:lnTo>
                <a:lnTo>
                  <a:pt x="1606" y="824"/>
                </a:lnTo>
                <a:lnTo>
                  <a:pt x="1615" y="800"/>
                </a:lnTo>
                <a:lnTo>
                  <a:pt x="1622" y="775"/>
                </a:lnTo>
                <a:lnTo>
                  <a:pt x="1632" y="753"/>
                </a:lnTo>
                <a:lnTo>
                  <a:pt x="1641" y="727"/>
                </a:lnTo>
                <a:lnTo>
                  <a:pt x="1650" y="705"/>
                </a:lnTo>
                <a:lnTo>
                  <a:pt x="1658" y="682"/>
                </a:lnTo>
                <a:lnTo>
                  <a:pt x="1667" y="660"/>
                </a:lnTo>
                <a:lnTo>
                  <a:pt x="1676" y="637"/>
                </a:lnTo>
                <a:lnTo>
                  <a:pt x="1686" y="617"/>
                </a:lnTo>
                <a:lnTo>
                  <a:pt x="1695" y="596"/>
                </a:lnTo>
                <a:lnTo>
                  <a:pt x="1703" y="578"/>
                </a:lnTo>
                <a:lnTo>
                  <a:pt x="1712" y="561"/>
                </a:lnTo>
                <a:lnTo>
                  <a:pt x="1721" y="546"/>
                </a:lnTo>
                <a:lnTo>
                  <a:pt x="1730" y="531"/>
                </a:lnTo>
                <a:lnTo>
                  <a:pt x="1740" y="518"/>
                </a:lnTo>
                <a:lnTo>
                  <a:pt x="1747" y="507"/>
                </a:lnTo>
                <a:lnTo>
                  <a:pt x="1757" y="498"/>
                </a:lnTo>
                <a:lnTo>
                  <a:pt x="1766" y="490"/>
                </a:lnTo>
                <a:lnTo>
                  <a:pt x="1775" y="485"/>
                </a:lnTo>
                <a:lnTo>
                  <a:pt x="1784" y="481"/>
                </a:lnTo>
                <a:lnTo>
                  <a:pt x="1792" y="477"/>
                </a:lnTo>
                <a:lnTo>
                  <a:pt x="1801" y="477"/>
                </a:lnTo>
                <a:lnTo>
                  <a:pt x="1811" y="479"/>
                </a:lnTo>
                <a:lnTo>
                  <a:pt x="1820" y="483"/>
                </a:lnTo>
                <a:lnTo>
                  <a:pt x="1827" y="487"/>
                </a:lnTo>
                <a:lnTo>
                  <a:pt x="1837" y="492"/>
                </a:lnTo>
                <a:lnTo>
                  <a:pt x="1846" y="500"/>
                </a:lnTo>
                <a:lnTo>
                  <a:pt x="1855" y="509"/>
                </a:lnTo>
                <a:lnTo>
                  <a:pt x="1865" y="520"/>
                </a:lnTo>
                <a:lnTo>
                  <a:pt x="1872" y="531"/>
                </a:lnTo>
                <a:lnTo>
                  <a:pt x="1881" y="544"/>
                </a:lnTo>
                <a:lnTo>
                  <a:pt x="1891" y="557"/>
                </a:lnTo>
                <a:lnTo>
                  <a:pt x="1900" y="572"/>
                </a:lnTo>
                <a:lnTo>
                  <a:pt x="1909" y="587"/>
                </a:lnTo>
                <a:lnTo>
                  <a:pt x="1917" y="606"/>
                </a:lnTo>
                <a:lnTo>
                  <a:pt x="1926" y="621"/>
                </a:lnTo>
                <a:lnTo>
                  <a:pt x="1935" y="639"/>
                </a:lnTo>
                <a:lnTo>
                  <a:pt x="1945" y="658"/>
                </a:lnTo>
                <a:lnTo>
                  <a:pt x="1952" y="675"/>
                </a:lnTo>
                <a:lnTo>
                  <a:pt x="1961" y="693"/>
                </a:lnTo>
                <a:lnTo>
                  <a:pt x="1971" y="710"/>
                </a:lnTo>
                <a:lnTo>
                  <a:pt x="1980" y="727"/>
                </a:lnTo>
                <a:lnTo>
                  <a:pt x="1989" y="744"/>
                </a:lnTo>
                <a:lnTo>
                  <a:pt x="1997" y="759"/>
                </a:lnTo>
                <a:lnTo>
                  <a:pt x="2006" y="774"/>
                </a:lnTo>
                <a:lnTo>
                  <a:pt x="2015" y="788"/>
                </a:lnTo>
                <a:lnTo>
                  <a:pt x="2025" y="801"/>
                </a:lnTo>
                <a:lnTo>
                  <a:pt x="2034" y="813"/>
                </a:lnTo>
                <a:lnTo>
                  <a:pt x="2042" y="822"/>
                </a:lnTo>
                <a:lnTo>
                  <a:pt x="2051" y="831"/>
                </a:lnTo>
                <a:lnTo>
                  <a:pt x="2060" y="839"/>
                </a:lnTo>
                <a:lnTo>
                  <a:pt x="2070" y="844"/>
                </a:lnTo>
                <a:lnTo>
                  <a:pt x="2077" y="848"/>
                </a:lnTo>
                <a:lnTo>
                  <a:pt x="2086" y="850"/>
                </a:lnTo>
                <a:lnTo>
                  <a:pt x="2096" y="852"/>
                </a:lnTo>
                <a:lnTo>
                  <a:pt x="2105" y="852"/>
                </a:lnTo>
                <a:lnTo>
                  <a:pt x="2114" y="850"/>
                </a:lnTo>
                <a:lnTo>
                  <a:pt x="2122" y="846"/>
                </a:lnTo>
                <a:lnTo>
                  <a:pt x="2131" y="841"/>
                </a:lnTo>
                <a:lnTo>
                  <a:pt x="2140" y="833"/>
                </a:lnTo>
                <a:lnTo>
                  <a:pt x="2150" y="822"/>
                </a:lnTo>
                <a:lnTo>
                  <a:pt x="2159" y="811"/>
                </a:lnTo>
                <a:lnTo>
                  <a:pt x="2166" y="796"/>
                </a:lnTo>
                <a:lnTo>
                  <a:pt x="2176" y="781"/>
                </a:lnTo>
                <a:lnTo>
                  <a:pt x="2185" y="764"/>
                </a:lnTo>
                <a:lnTo>
                  <a:pt x="2194" y="744"/>
                </a:lnTo>
                <a:lnTo>
                  <a:pt x="2202" y="723"/>
                </a:lnTo>
                <a:lnTo>
                  <a:pt x="2211" y="699"/>
                </a:lnTo>
                <a:lnTo>
                  <a:pt x="2220" y="673"/>
                </a:lnTo>
                <a:lnTo>
                  <a:pt x="2230" y="647"/>
                </a:lnTo>
                <a:lnTo>
                  <a:pt x="2239" y="619"/>
                </a:lnTo>
                <a:lnTo>
                  <a:pt x="2246" y="591"/>
                </a:lnTo>
                <a:lnTo>
                  <a:pt x="2256" y="561"/>
                </a:lnTo>
                <a:lnTo>
                  <a:pt x="2265" y="529"/>
                </a:lnTo>
                <a:lnTo>
                  <a:pt x="2274" y="498"/>
                </a:lnTo>
                <a:lnTo>
                  <a:pt x="2284" y="464"/>
                </a:lnTo>
                <a:lnTo>
                  <a:pt x="2291" y="429"/>
                </a:lnTo>
                <a:lnTo>
                  <a:pt x="2301" y="395"/>
                </a:lnTo>
                <a:lnTo>
                  <a:pt x="2310" y="362"/>
                </a:lnTo>
                <a:lnTo>
                  <a:pt x="2319" y="328"/>
                </a:lnTo>
                <a:lnTo>
                  <a:pt x="2327" y="295"/>
                </a:lnTo>
                <a:lnTo>
                  <a:pt x="2336" y="261"/>
                </a:lnTo>
                <a:lnTo>
                  <a:pt x="2345" y="229"/>
                </a:lnTo>
                <a:lnTo>
                  <a:pt x="2355" y="200"/>
                </a:lnTo>
                <a:lnTo>
                  <a:pt x="2364" y="168"/>
                </a:lnTo>
                <a:lnTo>
                  <a:pt x="2371" y="140"/>
                </a:lnTo>
                <a:lnTo>
                  <a:pt x="2381" y="114"/>
                </a:lnTo>
                <a:lnTo>
                  <a:pt x="2390" y="90"/>
                </a:lnTo>
                <a:lnTo>
                  <a:pt x="2399" y="67"/>
                </a:lnTo>
                <a:lnTo>
                  <a:pt x="2409" y="49"/>
                </a:lnTo>
                <a:lnTo>
                  <a:pt x="2416" y="32"/>
                </a:lnTo>
                <a:lnTo>
                  <a:pt x="2425" y="19"/>
                </a:lnTo>
                <a:lnTo>
                  <a:pt x="2435" y="8"/>
                </a:lnTo>
                <a:lnTo>
                  <a:pt x="2444" y="2"/>
                </a:lnTo>
                <a:lnTo>
                  <a:pt x="2451" y="0"/>
                </a:lnTo>
                <a:lnTo>
                  <a:pt x="2461" y="0"/>
                </a:lnTo>
                <a:lnTo>
                  <a:pt x="2470" y="2"/>
                </a:lnTo>
                <a:lnTo>
                  <a:pt x="2479" y="9"/>
                </a:lnTo>
                <a:lnTo>
                  <a:pt x="2489" y="21"/>
                </a:lnTo>
                <a:lnTo>
                  <a:pt x="2496" y="36"/>
                </a:lnTo>
                <a:lnTo>
                  <a:pt x="2505" y="54"/>
                </a:lnTo>
                <a:lnTo>
                  <a:pt x="2515" y="75"/>
                </a:lnTo>
                <a:lnTo>
                  <a:pt x="2524" y="101"/>
                </a:lnTo>
                <a:lnTo>
                  <a:pt x="2533" y="127"/>
                </a:lnTo>
                <a:lnTo>
                  <a:pt x="2541" y="155"/>
                </a:lnTo>
                <a:lnTo>
                  <a:pt x="2550" y="186"/>
                </a:lnTo>
                <a:lnTo>
                  <a:pt x="2559" y="220"/>
                </a:lnTo>
                <a:lnTo>
                  <a:pt x="2569" y="257"/>
                </a:lnTo>
                <a:lnTo>
                  <a:pt x="2576" y="296"/>
                </a:lnTo>
                <a:lnTo>
                  <a:pt x="2586" y="337"/>
                </a:lnTo>
                <a:lnTo>
                  <a:pt x="2595" y="380"/>
                </a:lnTo>
                <a:lnTo>
                  <a:pt x="2604" y="421"/>
                </a:lnTo>
                <a:lnTo>
                  <a:pt x="2613" y="464"/>
                </a:lnTo>
                <a:lnTo>
                  <a:pt x="2621" y="509"/>
                </a:lnTo>
                <a:lnTo>
                  <a:pt x="2630" y="554"/>
                </a:lnTo>
                <a:lnTo>
                  <a:pt x="2640" y="600"/>
                </a:lnTo>
                <a:lnTo>
                  <a:pt x="2649" y="645"/>
                </a:lnTo>
                <a:lnTo>
                  <a:pt x="2658" y="692"/>
                </a:lnTo>
                <a:lnTo>
                  <a:pt x="2666" y="738"/>
                </a:lnTo>
                <a:lnTo>
                  <a:pt x="2675" y="783"/>
                </a:lnTo>
                <a:lnTo>
                  <a:pt x="2684" y="826"/>
                </a:lnTo>
                <a:lnTo>
                  <a:pt x="2694" y="870"/>
                </a:lnTo>
                <a:lnTo>
                  <a:pt x="2701" y="913"/>
                </a:lnTo>
                <a:lnTo>
                  <a:pt x="2710" y="956"/>
                </a:lnTo>
                <a:lnTo>
                  <a:pt x="2720" y="997"/>
                </a:lnTo>
                <a:lnTo>
                  <a:pt x="2729" y="1040"/>
                </a:lnTo>
                <a:lnTo>
                  <a:pt x="2738" y="1079"/>
                </a:lnTo>
                <a:lnTo>
                  <a:pt x="2746" y="1116"/>
                </a:lnTo>
                <a:lnTo>
                  <a:pt x="2755" y="1154"/>
                </a:lnTo>
                <a:lnTo>
                  <a:pt x="2764" y="1189"/>
                </a:lnTo>
                <a:lnTo>
                  <a:pt x="2774" y="1223"/>
                </a:lnTo>
                <a:lnTo>
                  <a:pt x="2783" y="1256"/>
                </a:lnTo>
                <a:lnTo>
                  <a:pt x="2790" y="1288"/>
                </a:lnTo>
                <a:lnTo>
                  <a:pt x="2800" y="1318"/>
                </a:lnTo>
                <a:lnTo>
                  <a:pt x="2809" y="1346"/>
                </a:lnTo>
                <a:lnTo>
                  <a:pt x="2818" y="1374"/>
                </a:lnTo>
                <a:lnTo>
                  <a:pt x="2826" y="1400"/>
                </a:lnTo>
                <a:lnTo>
                  <a:pt x="2835" y="1426"/>
                </a:lnTo>
                <a:lnTo>
                  <a:pt x="2845" y="1450"/>
                </a:lnTo>
                <a:lnTo>
                  <a:pt x="2854" y="1472"/>
                </a:lnTo>
                <a:lnTo>
                  <a:pt x="2863" y="1495"/>
                </a:lnTo>
                <a:lnTo>
                  <a:pt x="2871" y="1515"/>
                </a:lnTo>
                <a:lnTo>
                  <a:pt x="2880" y="1536"/>
                </a:lnTo>
                <a:lnTo>
                  <a:pt x="2889" y="1556"/>
                </a:lnTo>
                <a:lnTo>
                  <a:pt x="2899" y="1573"/>
                </a:lnTo>
                <a:lnTo>
                  <a:pt x="2908" y="1590"/>
                </a:lnTo>
                <a:lnTo>
                  <a:pt x="2915" y="1607"/>
                </a:lnTo>
                <a:lnTo>
                  <a:pt x="2925" y="1623"/>
                </a:lnTo>
                <a:lnTo>
                  <a:pt x="2934" y="1638"/>
                </a:lnTo>
                <a:lnTo>
                  <a:pt x="2943" y="1651"/>
                </a:lnTo>
                <a:lnTo>
                  <a:pt x="2951" y="1664"/>
                </a:lnTo>
                <a:lnTo>
                  <a:pt x="2960" y="1677"/>
                </a:lnTo>
                <a:lnTo>
                  <a:pt x="2969" y="1690"/>
                </a:lnTo>
                <a:lnTo>
                  <a:pt x="2979" y="1702"/>
                </a:lnTo>
                <a:lnTo>
                  <a:pt x="2988" y="1713"/>
                </a:lnTo>
                <a:lnTo>
                  <a:pt x="2995" y="1722"/>
                </a:lnTo>
                <a:lnTo>
                  <a:pt x="3005" y="1731"/>
                </a:lnTo>
                <a:lnTo>
                  <a:pt x="3014" y="1741"/>
                </a:lnTo>
                <a:lnTo>
                  <a:pt x="3023" y="1750"/>
                </a:lnTo>
                <a:lnTo>
                  <a:pt x="3033" y="1758"/>
                </a:lnTo>
                <a:lnTo>
                  <a:pt x="3040" y="1767"/>
                </a:lnTo>
                <a:lnTo>
                  <a:pt x="3049" y="1772"/>
                </a:lnTo>
                <a:lnTo>
                  <a:pt x="3059" y="1780"/>
                </a:lnTo>
                <a:lnTo>
                  <a:pt x="3068" y="1787"/>
                </a:lnTo>
                <a:lnTo>
                  <a:pt x="3076" y="1793"/>
                </a:lnTo>
                <a:lnTo>
                  <a:pt x="3085" y="1799"/>
                </a:lnTo>
                <a:lnTo>
                  <a:pt x="3094" y="1804"/>
                </a:lnTo>
                <a:lnTo>
                  <a:pt x="3103" y="1810"/>
                </a:lnTo>
                <a:lnTo>
                  <a:pt x="3113" y="1813"/>
                </a:lnTo>
                <a:lnTo>
                  <a:pt x="3120" y="1819"/>
                </a:lnTo>
                <a:lnTo>
                  <a:pt x="3130" y="1823"/>
                </a:lnTo>
                <a:lnTo>
                  <a:pt x="3139" y="1828"/>
                </a:lnTo>
                <a:lnTo>
                  <a:pt x="3148" y="1832"/>
                </a:lnTo>
                <a:lnTo>
                  <a:pt x="3157" y="1836"/>
                </a:lnTo>
                <a:lnTo>
                  <a:pt x="3165" y="1840"/>
                </a:lnTo>
                <a:lnTo>
                  <a:pt x="3174" y="1843"/>
                </a:lnTo>
                <a:lnTo>
                  <a:pt x="3184" y="1845"/>
                </a:lnTo>
                <a:lnTo>
                  <a:pt x="3193" y="1849"/>
                </a:lnTo>
                <a:lnTo>
                  <a:pt x="3200" y="1853"/>
                </a:lnTo>
                <a:lnTo>
                  <a:pt x="3210" y="1854"/>
                </a:lnTo>
                <a:lnTo>
                  <a:pt x="3219" y="1858"/>
                </a:lnTo>
                <a:lnTo>
                  <a:pt x="3228" y="1860"/>
                </a:lnTo>
                <a:lnTo>
                  <a:pt x="3238" y="1864"/>
                </a:lnTo>
                <a:lnTo>
                  <a:pt x="3245" y="1866"/>
                </a:lnTo>
                <a:lnTo>
                  <a:pt x="3254" y="1868"/>
                </a:lnTo>
                <a:lnTo>
                  <a:pt x="3264" y="1871"/>
                </a:lnTo>
                <a:lnTo>
                  <a:pt x="3273" y="1873"/>
                </a:lnTo>
                <a:lnTo>
                  <a:pt x="3282" y="1875"/>
                </a:lnTo>
                <a:lnTo>
                  <a:pt x="3290" y="1877"/>
                </a:lnTo>
                <a:lnTo>
                  <a:pt x="3299" y="1881"/>
                </a:lnTo>
                <a:lnTo>
                  <a:pt x="3308" y="1882"/>
                </a:lnTo>
                <a:lnTo>
                  <a:pt x="3318" y="1884"/>
                </a:lnTo>
                <a:lnTo>
                  <a:pt x="3325" y="1886"/>
                </a:lnTo>
                <a:lnTo>
                  <a:pt x="3334" y="1888"/>
                </a:lnTo>
                <a:lnTo>
                  <a:pt x="3344" y="1890"/>
                </a:lnTo>
                <a:lnTo>
                  <a:pt x="3353" y="1892"/>
                </a:lnTo>
                <a:lnTo>
                  <a:pt x="3362" y="1894"/>
                </a:lnTo>
                <a:lnTo>
                  <a:pt x="3370" y="1895"/>
                </a:lnTo>
                <a:lnTo>
                  <a:pt x="3379" y="1897"/>
                </a:lnTo>
                <a:lnTo>
                  <a:pt x="3388" y="1899"/>
                </a:lnTo>
                <a:lnTo>
                  <a:pt x="3398" y="1901"/>
                </a:lnTo>
                <a:lnTo>
                  <a:pt x="3407" y="1903"/>
                </a:lnTo>
                <a:lnTo>
                  <a:pt x="3415" y="1905"/>
                </a:lnTo>
                <a:lnTo>
                  <a:pt x="3424" y="1907"/>
                </a:lnTo>
                <a:lnTo>
                  <a:pt x="3433" y="1909"/>
                </a:lnTo>
                <a:lnTo>
                  <a:pt x="3443" y="1909"/>
                </a:lnTo>
                <a:lnTo>
                  <a:pt x="3450" y="1910"/>
                </a:lnTo>
                <a:lnTo>
                  <a:pt x="3459" y="1912"/>
                </a:lnTo>
                <a:lnTo>
                  <a:pt x="3469" y="1914"/>
                </a:lnTo>
                <a:lnTo>
                  <a:pt x="3478" y="1914"/>
                </a:lnTo>
                <a:lnTo>
                  <a:pt x="3487" y="1916"/>
                </a:lnTo>
                <a:lnTo>
                  <a:pt x="3495" y="1918"/>
                </a:lnTo>
                <a:lnTo>
                  <a:pt x="3504" y="1920"/>
                </a:lnTo>
                <a:lnTo>
                  <a:pt x="3513" y="1920"/>
                </a:lnTo>
                <a:lnTo>
                  <a:pt x="3523" y="1922"/>
                </a:lnTo>
                <a:lnTo>
                  <a:pt x="3532" y="1923"/>
                </a:lnTo>
                <a:lnTo>
                  <a:pt x="3539" y="1923"/>
                </a:lnTo>
                <a:lnTo>
                  <a:pt x="3549" y="1925"/>
                </a:lnTo>
                <a:lnTo>
                  <a:pt x="3558" y="1925"/>
                </a:lnTo>
                <a:lnTo>
                  <a:pt x="3567" y="1927"/>
                </a:lnTo>
              </a:path>
            </a:pathLst>
          </a:custGeom>
          <a:noFill/>
          <a:ln w="0">
            <a:solidFill>
              <a:srgbClr val="000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任意多边形 270"/>
          <p:cNvSpPr/>
          <p:nvPr/>
        </p:nvSpPr>
        <p:spPr>
          <a:xfrm>
            <a:off x="2228760" y="3319560"/>
            <a:ext cx="5662800" cy="190656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3567" h="1201">
                <a:moveTo>
                  <a:pt x="0" y="813"/>
                </a:moveTo>
                <a:lnTo>
                  <a:pt x="9" y="815"/>
                </a:lnTo>
                <a:lnTo>
                  <a:pt x="18" y="817"/>
                </a:lnTo>
                <a:lnTo>
                  <a:pt x="28" y="818"/>
                </a:lnTo>
                <a:lnTo>
                  <a:pt x="35" y="820"/>
                </a:lnTo>
                <a:lnTo>
                  <a:pt x="44" y="822"/>
                </a:lnTo>
                <a:lnTo>
                  <a:pt x="54" y="824"/>
                </a:lnTo>
                <a:lnTo>
                  <a:pt x="63" y="828"/>
                </a:lnTo>
                <a:lnTo>
                  <a:pt x="72" y="832"/>
                </a:lnTo>
                <a:lnTo>
                  <a:pt x="80" y="833"/>
                </a:lnTo>
                <a:lnTo>
                  <a:pt x="89" y="837"/>
                </a:lnTo>
                <a:lnTo>
                  <a:pt x="99" y="841"/>
                </a:lnTo>
                <a:lnTo>
                  <a:pt x="108" y="843"/>
                </a:lnTo>
                <a:lnTo>
                  <a:pt x="117" y="846"/>
                </a:lnTo>
                <a:lnTo>
                  <a:pt x="125" y="850"/>
                </a:lnTo>
                <a:lnTo>
                  <a:pt x="134" y="852"/>
                </a:lnTo>
                <a:lnTo>
                  <a:pt x="143" y="854"/>
                </a:lnTo>
                <a:lnTo>
                  <a:pt x="153" y="858"/>
                </a:lnTo>
                <a:lnTo>
                  <a:pt x="160" y="859"/>
                </a:lnTo>
                <a:lnTo>
                  <a:pt x="169" y="861"/>
                </a:lnTo>
                <a:lnTo>
                  <a:pt x="179" y="865"/>
                </a:lnTo>
                <a:lnTo>
                  <a:pt x="188" y="867"/>
                </a:lnTo>
                <a:lnTo>
                  <a:pt x="197" y="869"/>
                </a:lnTo>
                <a:lnTo>
                  <a:pt x="205" y="871"/>
                </a:lnTo>
                <a:lnTo>
                  <a:pt x="214" y="873"/>
                </a:lnTo>
                <a:lnTo>
                  <a:pt x="223" y="874"/>
                </a:lnTo>
                <a:lnTo>
                  <a:pt x="233" y="876"/>
                </a:lnTo>
                <a:lnTo>
                  <a:pt x="242" y="878"/>
                </a:lnTo>
                <a:lnTo>
                  <a:pt x="249" y="880"/>
                </a:lnTo>
                <a:lnTo>
                  <a:pt x="259" y="880"/>
                </a:lnTo>
                <a:lnTo>
                  <a:pt x="268" y="882"/>
                </a:lnTo>
                <a:lnTo>
                  <a:pt x="277" y="882"/>
                </a:lnTo>
                <a:lnTo>
                  <a:pt x="285" y="882"/>
                </a:lnTo>
                <a:lnTo>
                  <a:pt x="294" y="884"/>
                </a:lnTo>
                <a:lnTo>
                  <a:pt x="303" y="884"/>
                </a:lnTo>
                <a:lnTo>
                  <a:pt x="313" y="884"/>
                </a:lnTo>
                <a:lnTo>
                  <a:pt x="322" y="886"/>
                </a:lnTo>
                <a:lnTo>
                  <a:pt x="330" y="886"/>
                </a:lnTo>
                <a:lnTo>
                  <a:pt x="339" y="886"/>
                </a:lnTo>
                <a:lnTo>
                  <a:pt x="348" y="887"/>
                </a:lnTo>
                <a:lnTo>
                  <a:pt x="357" y="887"/>
                </a:lnTo>
                <a:lnTo>
                  <a:pt x="367" y="887"/>
                </a:lnTo>
                <a:lnTo>
                  <a:pt x="374" y="887"/>
                </a:lnTo>
                <a:lnTo>
                  <a:pt x="384" y="887"/>
                </a:lnTo>
                <a:lnTo>
                  <a:pt x="393" y="887"/>
                </a:lnTo>
                <a:lnTo>
                  <a:pt x="402" y="887"/>
                </a:lnTo>
                <a:lnTo>
                  <a:pt x="410" y="886"/>
                </a:lnTo>
                <a:lnTo>
                  <a:pt x="419" y="886"/>
                </a:lnTo>
                <a:lnTo>
                  <a:pt x="428" y="886"/>
                </a:lnTo>
                <a:lnTo>
                  <a:pt x="438" y="886"/>
                </a:lnTo>
                <a:lnTo>
                  <a:pt x="447" y="884"/>
                </a:lnTo>
                <a:lnTo>
                  <a:pt x="454" y="884"/>
                </a:lnTo>
                <a:lnTo>
                  <a:pt x="464" y="884"/>
                </a:lnTo>
                <a:lnTo>
                  <a:pt x="473" y="882"/>
                </a:lnTo>
                <a:lnTo>
                  <a:pt x="482" y="882"/>
                </a:lnTo>
                <a:lnTo>
                  <a:pt x="492" y="882"/>
                </a:lnTo>
                <a:lnTo>
                  <a:pt x="499" y="880"/>
                </a:lnTo>
                <a:lnTo>
                  <a:pt x="508" y="880"/>
                </a:lnTo>
                <a:lnTo>
                  <a:pt x="518" y="878"/>
                </a:lnTo>
                <a:lnTo>
                  <a:pt x="527" y="876"/>
                </a:lnTo>
                <a:lnTo>
                  <a:pt x="534" y="876"/>
                </a:lnTo>
                <a:lnTo>
                  <a:pt x="544" y="876"/>
                </a:lnTo>
                <a:lnTo>
                  <a:pt x="553" y="874"/>
                </a:lnTo>
                <a:lnTo>
                  <a:pt x="562" y="873"/>
                </a:lnTo>
                <a:lnTo>
                  <a:pt x="572" y="873"/>
                </a:lnTo>
                <a:lnTo>
                  <a:pt x="579" y="873"/>
                </a:lnTo>
                <a:lnTo>
                  <a:pt x="588" y="873"/>
                </a:lnTo>
                <a:lnTo>
                  <a:pt x="598" y="871"/>
                </a:lnTo>
                <a:lnTo>
                  <a:pt x="607" y="871"/>
                </a:lnTo>
                <a:lnTo>
                  <a:pt x="616" y="869"/>
                </a:lnTo>
                <a:lnTo>
                  <a:pt x="624" y="869"/>
                </a:lnTo>
                <a:lnTo>
                  <a:pt x="633" y="869"/>
                </a:lnTo>
                <a:lnTo>
                  <a:pt x="642" y="869"/>
                </a:lnTo>
                <a:lnTo>
                  <a:pt x="652" y="869"/>
                </a:lnTo>
                <a:lnTo>
                  <a:pt x="659" y="867"/>
                </a:lnTo>
                <a:lnTo>
                  <a:pt x="669" y="867"/>
                </a:lnTo>
                <a:lnTo>
                  <a:pt x="678" y="867"/>
                </a:lnTo>
                <a:lnTo>
                  <a:pt x="687" y="865"/>
                </a:lnTo>
                <a:lnTo>
                  <a:pt x="697" y="865"/>
                </a:lnTo>
                <a:lnTo>
                  <a:pt x="704" y="865"/>
                </a:lnTo>
                <a:lnTo>
                  <a:pt x="713" y="865"/>
                </a:lnTo>
                <a:lnTo>
                  <a:pt x="723" y="863"/>
                </a:lnTo>
                <a:lnTo>
                  <a:pt x="732" y="863"/>
                </a:lnTo>
                <a:lnTo>
                  <a:pt x="741" y="863"/>
                </a:lnTo>
                <a:lnTo>
                  <a:pt x="749" y="861"/>
                </a:lnTo>
                <a:lnTo>
                  <a:pt x="758" y="861"/>
                </a:lnTo>
                <a:lnTo>
                  <a:pt x="767" y="859"/>
                </a:lnTo>
                <a:lnTo>
                  <a:pt x="777" y="859"/>
                </a:lnTo>
                <a:lnTo>
                  <a:pt x="784" y="858"/>
                </a:lnTo>
                <a:lnTo>
                  <a:pt x="793" y="858"/>
                </a:lnTo>
                <a:lnTo>
                  <a:pt x="803" y="856"/>
                </a:lnTo>
                <a:lnTo>
                  <a:pt x="812" y="854"/>
                </a:lnTo>
                <a:lnTo>
                  <a:pt x="821" y="852"/>
                </a:lnTo>
                <a:lnTo>
                  <a:pt x="829" y="850"/>
                </a:lnTo>
                <a:lnTo>
                  <a:pt x="838" y="848"/>
                </a:lnTo>
                <a:lnTo>
                  <a:pt x="847" y="846"/>
                </a:lnTo>
                <a:lnTo>
                  <a:pt x="857" y="845"/>
                </a:lnTo>
                <a:lnTo>
                  <a:pt x="866" y="843"/>
                </a:lnTo>
                <a:lnTo>
                  <a:pt x="873" y="839"/>
                </a:lnTo>
                <a:lnTo>
                  <a:pt x="883" y="835"/>
                </a:lnTo>
                <a:lnTo>
                  <a:pt x="892" y="833"/>
                </a:lnTo>
                <a:lnTo>
                  <a:pt x="901" y="830"/>
                </a:lnTo>
                <a:lnTo>
                  <a:pt x="909" y="826"/>
                </a:lnTo>
                <a:lnTo>
                  <a:pt x="918" y="824"/>
                </a:lnTo>
                <a:lnTo>
                  <a:pt x="928" y="820"/>
                </a:lnTo>
                <a:lnTo>
                  <a:pt x="937" y="815"/>
                </a:lnTo>
                <a:lnTo>
                  <a:pt x="946" y="811"/>
                </a:lnTo>
                <a:lnTo>
                  <a:pt x="954" y="807"/>
                </a:lnTo>
                <a:lnTo>
                  <a:pt x="963" y="802"/>
                </a:lnTo>
                <a:lnTo>
                  <a:pt x="972" y="798"/>
                </a:lnTo>
                <a:lnTo>
                  <a:pt x="982" y="794"/>
                </a:lnTo>
                <a:lnTo>
                  <a:pt x="991" y="789"/>
                </a:lnTo>
                <a:lnTo>
                  <a:pt x="998" y="783"/>
                </a:lnTo>
                <a:lnTo>
                  <a:pt x="1008" y="779"/>
                </a:lnTo>
                <a:lnTo>
                  <a:pt x="1017" y="776"/>
                </a:lnTo>
                <a:lnTo>
                  <a:pt x="1026" y="770"/>
                </a:lnTo>
                <a:lnTo>
                  <a:pt x="1034" y="764"/>
                </a:lnTo>
                <a:lnTo>
                  <a:pt x="1043" y="759"/>
                </a:lnTo>
                <a:lnTo>
                  <a:pt x="1052" y="755"/>
                </a:lnTo>
                <a:lnTo>
                  <a:pt x="1062" y="750"/>
                </a:lnTo>
                <a:lnTo>
                  <a:pt x="1071" y="746"/>
                </a:lnTo>
                <a:lnTo>
                  <a:pt x="1078" y="740"/>
                </a:lnTo>
                <a:lnTo>
                  <a:pt x="1088" y="736"/>
                </a:lnTo>
                <a:lnTo>
                  <a:pt x="1097" y="731"/>
                </a:lnTo>
                <a:lnTo>
                  <a:pt x="1106" y="727"/>
                </a:lnTo>
                <a:lnTo>
                  <a:pt x="1116" y="723"/>
                </a:lnTo>
                <a:lnTo>
                  <a:pt x="1123" y="720"/>
                </a:lnTo>
                <a:lnTo>
                  <a:pt x="1132" y="716"/>
                </a:lnTo>
                <a:lnTo>
                  <a:pt x="1142" y="712"/>
                </a:lnTo>
                <a:lnTo>
                  <a:pt x="1151" y="710"/>
                </a:lnTo>
                <a:lnTo>
                  <a:pt x="1159" y="707"/>
                </a:lnTo>
                <a:lnTo>
                  <a:pt x="1168" y="705"/>
                </a:lnTo>
                <a:lnTo>
                  <a:pt x="1177" y="703"/>
                </a:lnTo>
                <a:lnTo>
                  <a:pt x="1186" y="701"/>
                </a:lnTo>
                <a:lnTo>
                  <a:pt x="1196" y="699"/>
                </a:lnTo>
                <a:lnTo>
                  <a:pt x="1203" y="697"/>
                </a:lnTo>
                <a:lnTo>
                  <a:pt x="1213" y="697"/>
                </a:lnTo>
                <a:lnTo>
                  <a:pt x="1222" y="695"/>
                </a:lnTo>
                <a:lnTo>
                  <a:pt x="1231" y="695"/>
                </a:lnTo>
                <a:lnTo>
                  <a:pt x="1240" y="695"/>
                </a:lnTo>
                <a:lnTo>
                  <a:pt x="1248" y="694"/>
                </a:lnTo>
                <a:lnTo>
                  <a:pt x="1257" y="694"/>
                </a:lnTo>
                <a:lnTo>
                  <a:pt x="1267" y="694"/>
                </a:lnTo>
                <a:lnTo>
                  <a:pt x="1276" y="694"/>
                </a:lnTo>
                <a:lnTo>
                  <a:pt x="1283" y="694"/>
                </a:lnTo>
                <a:lnTo>
                  <a:pt x="1293" y="694"/>
                </a:lnTo>
                <a:lnTo>
                  <a:pt x="1302" y="694"/>
                </a:lnTo>
                <a:lnTo>
                  <a:pt x="1311" y="694"/>
                </a:lnTo>
                <a:lnTo>
                  <a:pt x="1321" y="694"/>
                </a:lnTo>
                <a:lnTo>
                  <a:pt x="1328" y="695"/>
                </a:lnTo>
                <a:lnTo>
                  <a:pt x="1337" y="694"/>
                </a:lnTo>
                <a:lnTo>
                  <a:pt x="1347" y="694"/>
                </a:lnTo>
                <a:lnTo>
                  <a:pt x="1356" y="694"/>
                </a:lnTo>
                <a:lnTo>
                  <a:pt x="1365" y="694"/>
                </a:lnTo>
                <a:lnTo>
                  <a:pt x="1373" y="692"/>
                </a:lnTo>
                <a:lnTo>
                  <a:pt x="1382" y="692"/>
                </a:lnTo>
                <a:lnTo>
                  <a:pt x="1391" y="690"/>
                </a:lnTo>
                <a:lnTo>
                  <a:pt x="1401" y="688"/>
                </a:lnTo>
                <a:lnTo>
                  <a:pt x="1408" y="686"/>
                </a:lnTo>
                <a:lnTo>
                  <a:pt x="1417" y="682"/>
                </a:lnTo>
                <a:lnTo>
                  <a:pt x="1427" y="681"/>
                </a:lnTo>
                <a:lnTo>
                  <a:pt x="1436" y="677"/>
                </a:lnTo>
                <a:lnTo>
                  <a:pt x="1445" y="671"/>
                </a:lnTo>
                <a:lnTo>
                  <a:pt x="1453" y="667"/>
                </a:lnTo>
                <a:lnTo>
                  <a:pt x="1462" y="662"/>
                </a:lnTo>
                <a:lnTo>
                  <a:pt x="1472" y="654"/>
                </a:lnTo>
                <a:lnTo>
                  <a:pt x="1481" y="649"/>
                </a:lnTo>
                <a:lnTo>
                  <a:pt x="1490" y="641"/>
                </a:lnTo>
                <a:lnTo>
                  <a:pt x="1498" y="634"/>
                </a:lnTo>
                <a:lnTo>
                  <a:pt x="1507" y="626"/>
                </a:lnTo>
                <a:lnTo>
                  <a:pt x="1516" y="617"/>
                </a:lnTo>
                <a:lnTo>
                  <a:pt x="1526" y="608"/>
                </a:lnTo>
                <a:lnTo>
                  <a:pt x="1533" y="599"/>
                </a:lnTo>
                <a:lnTo>
                  <a:pt x="1542" y="589"/>
                </a:lnTo>
                <a:lnTo>
                  <a:pt x="1552" y="578"/>
                </a:lnTo>
                <a:lnTo>
                  <a:pt x="1561" y="567"/>
                </a:lnTo>
                <a:lnTo>
                  <a:pt x="1570" y="556"/>
                </a:lnTo>
                <a:lnTo>
                  <a:pt x="1578" y="543"/>
                </a:lnTo>
                <a:lnTo>
                  <a:pt x="1587" y="530"/>
                </a:lnTo>
                <a:lnTo>
                  <a:pt x="1596" y="517"/>
                </a:lnTo>
                <a:lnTo>
                  <a:pt x="1606" y="503"/>
                </a:lnTo>
                <a:lnTo>
                  <a:pt x="1615" y="490"/>
                </a:lnTo>
                <a:lnTo>
                  <a:pt x="1622" y="476"/>
                </a:lnTo>
                <a:lnTo>
                  <a:pt x="1632" y="462"/>
                </a:lnTo>
                <a:lnTo>
                  <a:pt x="1641" y="448"/>
                </a:lnTo>
                <a:lnTo>
                  <a:pt x="1650" y="435"/>
                </a:lnTo>
                <a:lnTo>
                  <a:pt x="1658" y="421"/>
                </a:lnTo>
                <a:lnTo>
                  <a:pt x="1667" y="408"/>
                </a:lnTo>
                <a:lnTo>
                  <a:pt x="1676" y="395"/>
                </a:lnTo>
                <a:lnTo>
                  <a:pt x="1686" y="382"/>
                </a:lnTo>
                <a:lnTo>
                  <a:pt x="1695" y="371"/>
                </a:lnTo>
                <a:lnTo>
                  <a:pt x="1703" y="358"/>
                </a:lnTo>
                <a:lnTo>
                  <a:pt x="1712" y="349"/>
                </a:lnTo>
                <a:lnTo>
                  <a:pt x="1721" y="338"/>
                </a:lnTo>
                <a:lnTo>
                  <a:pt x="1730" y="328"/>
                </a:lnTo>
                <a:lnTo>
                  <a:pt x="1740" y="321"/>
                </a:lnTo>
                <a:lnTo>
                  <a:pt x="1747" y="312"/>
                </a:lnTo>
                <a:lnTo>
                  <a:pt x="1757" y="306"/>
                </a:lnTo>
                <a:lnTo>
                  <a:pt x="1766" y="300"/>
                </a:lnTo>
                <a:lnTo>
                  <a:pt x="1775" y="295"/>
                </a:lnTo>
                <a:lnTo>
                  <a:pt x="1784" y="291"/>
                </a:lnTo>
                <a:lnTo>
                  <a:pt x="1792" y="287"/>
                </a:lnTo>
                <a:lnTo>
                  <a:pt x="1801" y="285"/>
                </a:lnTo>
                <a:lnTo>
                  <a:pt x="1811" y="285"/>
                </a:lnTo>
                <a:lnTo>
                  <a:pt x="1820" y="285"/>
                </a:lnTo>
                <a:lnTo>
                  <a:pt x="1827" y="285"/>
                </a:lnTo>
                <a:lnTo>
                  <a:pt x="1837" y="287"/>
                </a:lnTo>
                <a:lnTo>
                  <a:pt x="1846" y="291"/>
                </a:lnTo>
                <a:lnTo>
                  <a:pt x="1855" y="295"/>
                </a:lnTo>
                <a:lnTo>
                  <a:pt x="1865" y="298"/>
                </a:lnTo>
                <a:lnTo>
                  <a:pt x="1872" y="304"/>
                </a:lnTo>
                <a:lnTo>
                  <a:pt x="1881" y="310"/>
                </a:lnTo>
                <a:lnTo>
                  <a:pt x="1891" y="317"/>
                </a:lnTo>
                <a:lnTo>
                  <a:pt x="1900" y="325"/>
                </a:lnTo>
                <a:lnTo>
                  <a:pt x="1909" y="332"/>
                </a:lnTo>
                <a:lnTo>
                  <a:pt x="1917" y="339"/>
                </a:lnTo>
                <a:lnTo>
                  <a:pt x="1926" y="349"/>
                </a:lnTo>
                <a:lnTo>
                  <a:pt x="1935" y="358"/>
                </a:lnTo>
                <a:lnTo>
                  <a:pt x="1945" y="367"/>
                </a:lnTo>
                <a:lnTo>
                  <a:pt x="1952" y="377"/>
                </a:lnTo>
                <a:lnTo>
                  <a:pt x="1961" y="386"/>
                </a:lnTo>
                <a:lnTo>
                  <a:pt x="1971" y="395"/>
                </a:lnTo>
                <a:lnTo>
                  <a:pt x="1980" y="405"/>
                </a:lnTo>
                <a:lnTo>
                  <a:pt x="1989" y="414"/>
                </a:lnTo>
                <a:lnTo>
                  <a:pt x="1997" y="425"/>
                </a:lnTo>
                <a:lnTo>
                  <a:pt x="2006" y="433"/>
                </a:lnTo>
                <a:lnTo>
                  <a:pt x="2015" y="442"/>
                </a:lnTo>
                <a:lnTo>
                  <a:pt x="2025" y="448"/>
                </a:lnTo>
                <a:lnTo>
                  <a:pt x="2034" y="455"/>
                </a:lnTo>
                <a:lnTo>
                  <a:pt x="2042" y="462"/>
                </a:lnTo>
                <a:lnTo>
                  <a:pt x="2051" y="468"/>
                </a:lnTo>
                <a:lnTo>
                  <a:pt x="2060" y="474"/>
                </a:lnTo>
                <a:lnTo>
                  <a:pt x="2070" y="477"/>
                </a:lnTo>
                <a:lnTo>
                  <a:pt x="2077" y="481"/>
                </a:lnTo>
                <a:lnTo>
                  <a:pt x="2086" y="483"/>
                </a:lnTo>
                <a:lnTo>
                  <a:pt x="2096" y="485"/>
                </a:lnTo>
                <a:lnTo>
                  <a:pt x="2105" y="487"/>
                </a:lnTo>
                <a:lnTo>
                  <a:pt x="2114" y="487"/>
                </a:lnTo>
                <a:lnTo>
                  <a:pt x="2122" y="485"/>
                </a:lnTo>
                <a:lnTo>
                  <a:pt x="2131" y="483"/>
                </a:lnTo>
                <a:lnTo>
                  <a:pt x="2140" y="479"/>
                </a:lnTo>
                <a:lnTo>
                  <a:pt x="2150" y="476"/>
                </a:lnTo>
                <a:lnTo>
                  <a:pt x="2159" y="470"/>
                </a:lnTo>
                <a:lnTo>
                  <a:pt x="2166" y="462"/>
                </a:lnTo>
                <a:lnTo>
                  <a:pt x="2176" y="455"/>
                </a:lnTo>
                <a:lnTo>
                  <a:pt x="2185" y="446"/>
                </a:lnTo>
                <a:lnTo>
                  <a:pt x="2194" y="436"/>
                </a:lnTo>
                <a:lnTo>
                  <a:pt x="2202" y="425"/>
                </a:lnTo>
                <a:lnTo>
                  <a:pt x="2211" y="414"/>
                </a:lnTo>
                <a:lnTo>
                  <a:pt x="2220" y="401"/>
                </a:lnTo>
                <a:lnTo>
                  <a:pt x="2230" y="386"/>
                </a:lnTo>
                <a:lnTo>
                  <a:pt x="2239" y="371"/>
                </a:lnTo>
                <a:lnTo>
                  <a:pt x="2246" y="356"/>
                </a:lnTo>
                <a:lnTo>
                  <a:pt x="2256" y="339"/>
                </a:lnTo>
                <a:lnTo>
                  <a:pt x="2265" y="323"/>
                </a:lnTo>
                <a:lnTo>
                  <a:pt x="2274" y="304"/>
                </a:lnTo>
                <a:lnTo>
                  <a:pt x="2284" y="285"/>
                </a:lnTo>
                <a:lnTo>
                  <a:pt x="2291" y="267"/>
                </a:lnTo>
                <a:lnTo>
                  <a:pt x="2301" y="246"/>
                </a:lnTo>
                <a:lnTo>
                  <a:pt x="2310" y="228"/>
                </a:lnTo>
                <a:lnTo>
                  <a:pt x="2319" y="209"/>
                </a:lnTo>
                <a:lnTo>
                  <a:pt x="2327" y="189"/>
                </a:lnTo>
                <a:lnTo>
                  <a:pt x="2336" y="170"/>
                </a:lnTo>
                <a:lnTo>
                  <a:pt x="2345" y="153"/>
                </a:lnTo>
                <a:lnTo>
                  <a:pt x="2355" y="133"/>
                </a:lnTo>
                <a:lnTo>
                  <a:pt x="2364" y="116"/>
                </a:lnTo>
                <a:lnTo>
                  <a:pt x="2371" y="97"/>
                </a:lnTo>
                <a:lnTo>
                  <a:pt x="2381" y="82"/>
                </a:lnTo>
                <a:lnTo>
                  <a:pt x="2390" y="67"/>
                </a:lnTo>
                <a:lnTo>
                  <a:pt x="2399" y="54"/>
                </a:lnTo>
                <a:lnTo>
                  <a:pt x="2409" y="41"/>
                </a:lnTo>
                <a:lnTo>
                  <a:pt x="2416" y="30"/>
                </a:lnTo>
                <a:lnTo>
                  <a:pt x="2425" y="21"/>
                </a:lnTo>
                <a:lnTo>
                  <a:pt x="2435" y="13"/>
                </a:lnTo>
                <a:lnTo>
                  <a:pt x="2444" y="6"/>
                </a:lnTo>
                <a:lnTo>
                  <a:pt x="2451" y="2"/>
                </a:lnTo>
                <a:lnTo>
                  <a:pt x="2461" y="0"/>
                </a:lnTo>
                <a:lnTo>
                  <a:pt x="2470" y="0"/>
                </a:lnTo>
                <a:lnTo>
                  <a:pt x="2479" y="2"/>
                </a:lnTo>
                <a:lnTo>
                  <a:pt x="2489" y="6"/>
                </a:lnTo>
                <a:lnTo>
                  <a:pt x="2496" y="11"/>
                </a:lnTo>
                <a:lnTo>
                  <a:pt x="2505" y="19"/>
                </a:lnTo>
                <a:lnTo>
                  <a:pt x="2515" y="26"/>
                </a:lnTo>
                <a:lnTo>
                  <a:pt x="2524" y="38"/>
                </a:lnTo>
                <a:lnTo>
                  <a:pt x="2533" y="49"/>
                </a:lnTo>
                <a:lnTo>
                  <a:pt x="2541" y="64"/>
                </a:lnTo>
                <a:lnTo>
                  <a:pt x="2550" y="79"/>
                </a:lnTo>
                <a:lnTo>
                  <a:pt x="2559" y="97"/>
                </a:lnTo>
                <a:lnTo>
                  <a:pt x="2569" y="116"/>
                </a:lnTo>
                <a:lnTo>
                  <a:pt x="2576" y="134"/>
                </a:lnTo>
                <a:lnTo>
                  <a:pt x="2586" y="157"/>
                </a:lnTo>
                <a:lnTo>
                  <a:pt x="2595" y="177"/>
                </a:lnTo>
                <a:lnTo>
                  <a:pt x="2604" y="200"/>
                </a:lnTo>
                <a:lnTo>
                  <a:pt x="2613" y="224"/>
                </a:lnTo>
                <a:lnTo>
                  <a:pt x="2621" y="248"/>
                </a:lnTo>
                <a:lnTo>
                  <a:pt x="2630" y="272"/>
                </a:lnTo>
                <a:lnTo>
                  <a:pt x="2640" y="298"/>
                </a:lnTo>
                <a:lnTo>
                  <a:pt x="2649" y="325"/>
                </a:lnTo>
                <a:lnTo>
                  <a:pt x="2658" y="351"/>
                </a:lnTo>
                <a:lnTo>
                  <a:pt x="2666" y="377"/>
                </a:lnTo>
                <a:lnTo>
                  <a:pt x="2675" y="403"/>
                </a:lnTo>
                <a:lnTo>
                  <a:pt x="2684" y="429"/>
                </a:lnTo>
                <a:lnTo>
                  <a:pt x="2694" y="453"/>
                </a:lnTo>
                <a:lnTo>
                  <a:pt x="2701" y="479"/>
                </a:lnTo>
                <a:lnTo>
                  <a:pt x="2710" y="505"/>
                </a:lnTo>
                <a:lnTo>
                  <a:pt x="2720" y="531"/>
                </a:lnTo>
                <a:lnTo>
                  <a:pt x="2729" y="556"/>
                </a:lnTo>
                <a:lnTo>
                  <a:pt x="2738" y="580"/>
                </a:lnTo>
                <a:lnTo>
                  <a:pt x="2746" y="604"/>
                </a:lnTo>
                <a:lnTo>
                  <a:pt x="2755" y="626"/>
                </a:lnTo>
                <a:lnTo>
                  <a:pt x="2764" y="649"/>
                </a:lnTo>
                <a:lnTo>
                  <a:pt x="2774" y="671"/>
                </a:lnTo>
                <a:lnTo>
                  <a:pt x="2783" y="692"/>
                </a:lnTo>
                <a:lnTo>
                  <a:pt x="2790" y="712"/>
                </a:lnTo>
                <a:lnTo>
                  <a:pt x="2800" y="731"/>
                </a:lnTo>
                <a:lnTo>
                  <a:pt x="2809" y="750"/>
                </a:lnTo>
                <a:lnTo>
                  <a:pt x="2818" y="768"/>
                </a:lnTo>
                <a:lnTo>
                  <a:pt x="2826" y="785"/>
                </a:lnTo>
                <a:lnTo>
                  <a:pt x="2835" y="802"/>
                </a:lnTo>
                <a:lnTo>
                  <a:pt x="2845" y="818"/>
                </a:lnTo>
                <a:lnTo>
                  <a:pt x="2854" y="835"/>
                </a:lnTo>
                <a:lnTo>
                  <a:pt x="2863" y="850"/>
                </a:lnTo>
                <a:lnTo>
                  <a:pt x="2871" y="863"/>
                </a:lnTo>
                <a:lnTo>
                  <a:pt x="2880" y="876"/>
                </a:lnTo>
                <a:lnTo>
                  <a:pt x="2889" y="891"/>
                </a:lnTo>
                <a:lnTo>
                  <a:pt x="2899" y="902"/>
                </a:lnTo>
                <a:lnTo>
                  <a:pt x="2908" y="915"/>
                </a:lnTo>
                <a:lnTo>
                  <a:pt x="2915" y="927"/>
                </a:lnTo>
                <a:lnTo>
                  <a:pt x="2925" y="938"/>
                </a:lnTo>
                <a:lnTo>
                  <a:pt x="2934" y="949"/>
                </a:lnTo>
                <a:lnTo>
                  <a:pt x="2943" y="958"/>
                </a:lnTo>
                <a:lnTo>
                  <a:pt x="2951" y="968"/>
                </a:lnTo>
                <a:lnTo>
                  <a:pt x="2960" y="977"/>
                </a:lnTo>
                <a:lnTo>
                  <a:pt x="2969" y="986"/>
                </a:lnTo>
                <a:lnTo>
                  <a:pt x="2979" y="994"/>
                </a:lnTo>
                <a:lnTo>
                  <a:pt x="2988" y="1001"/>
                </a:lnTo>
                <a:lnTo>
                  <a:pt x="2995" y="1010"/>
                </a:lnTo>
                <a:lnTo>
                  <a:pt x="3005" y="1018"/>
                </a:lnTo>
                <a:lnTo>
                  <a:pt x="3014" y="1023"/>
                </a:lnTo>
                <a:lnTo>
                  <a:pt x="3023" y="1031"/>
                </a:lnTo>
                <a:lnTo>
                  <a:pt x="3033" y="1037"/>
                </a:lnTo>
                <a:lnTo>
                  <a:pt x="3040" y="1042"/>
                </a:lnTo>
                <a:lnTo>
                  <a:pt x="3049" y="1048"/>
                </a:lnTo>
                <a:lnTo>
                  <a:pt x="3059" y="1053"/>
                </a:lnTo>
                <a:lnTo>
                  <a:pt x="3068" y="1059"/>
                </a:lnTo>
                <a:lnTo>
                  <a:pt x="3076" y="1064"/>
                </a:lnTo>
                <a:lnTo>
                  <a:pt x="3085" y="1068"/>
                </a:lnTo>
                <a:lnTo>
                  <a:pt x="3094" y="1074"/>
                </a:lnTo>
                <a:lnTo>
                  <a:pt x="3103" y="1078"/>
                </a:lnTo>
                <a:lnTo>
                  <a:pt x="3113" y="1081"/>
                </a:lnTo>
                <a:lnTo>
                  <a:pt x="3120" y="1085"/>
                </a:lnTo>
                <a:lnTo>
                  <a:pt x="3130" y="1091"/>
                </a:lnTo>
                <a:lnTo>
                  <a:pt x="3139" y="1094"/>
                </a:lnTo>
                <a:lnTo>
                  <a:pt x="3148" y="1096"/>
                </a:lnTo>
                <a:lnTo>
                  <a:pt x="3157" y="1100"/>
                </a:lnTo>
                <a:lnTo>
                  <a:pt x="3165" y="1104"/>
                </a:lnTo>
                <a:lnTo>
                  <a:pt x="3174" y="1107"/>
                </a:lnTo>
                <a:lnTo>
                  <a:pt x="3184" y="1109"/>
                </a:lnTo>
                <a:lnTo>
                  <a:pt x="3193" y="1113"/>
                </a:lnTo>
                <a:lnTo>
                  <a:pt x="3200" y="1115"/>
                </a:lnTo>
                <a:lnTo>
                  <a:pt x="3210" y="1119"/>
                </a:lnTo>
                <a:lnTo>
                  <a:pt x="3219" y="1122"/>
                </a:lnTo>
                <a:lnTo>
                  <a:pt x="3228" y="1124"/>
                </a:lnTo>
                <a:lnTo>
                  <a:pt x="3238" y="1126"/>
                </a:lnTo>
                <a:lnTo>
                  <a:pt x="3245" y="1130"/>
                </a:lnTo>
                <a:lnTo>
                  <a:pt x="3254" y="1132"/>
                </a:lnTo>
                <a:lnTo>
                  <a:pt x="3264" y="1133"/>
                </a:lnTo>
                <a:lnTo>
                  <a:pt x="3273" y="1137"/>
                </a:lnTo>
                <a:lnTo>
                  <a:pt x="3282" y="1139"/>
                </a:lnTo>
                <a:lnTo>
                  <a:pt x="3290" y="1141"/>
                </a:lnTo>
                <a:lnTo>
                  <a:pt x="3299" y="1143"/>
                </a:lnTo>
                <a:lnTo>
                  <a:pt x="3308" y="1146"/>
                </a:lnTo>
                <a:lnTo>
                  <a:pt x="3318" y="1148"/>
                </a:lnTo>
                <a:lnTo>
                  <a:pt x="3325" y="1150"/>
                </a:lnTo>
                <a:lnTo>
                  <a:pt x="3334" y="1152"/>
                </a:lnTo>
                <a:lnTo>
                  <a:pt x="3344" y="1154"/>
                </a:lnTo>
                <a:lnTo>
                  <a:pt x="3353" y="1156"/>
                </a:lnTo>
                <a:lnTo>
                  <a:pt x="3362" y="1158"/>
                </a:lnTo>
                <a:lnTo>
                  <a:pt x="3370" y="1161"/>
                </a:lnTo>
                <a:lnTo>
                  <a:pt x="3379" y="1163"/>
                </a:lnTo>
                <a:lnTo>
                  <a:pt x="3388" y="1165"/>
                </a:lnTo>
                <a:lnTo>
                  <a:pt x="3398" y="1167"/>
                </a:lnTo>
                <a:lnTo>
                  <a:pt x="3407" y="1169"/>
                </a:lnTo>
                <a:lnTo>
                  <a:pt x="3415" y="1171"/>
                </a:lnTo>
                <a:lnTo>
                  <a:pt x="3424" y="1173"/>
                </a:lnTo>
                <a:lnTo>
                  <a:pt x="3433" y="1174"/>
                </a:lnTo>
                <a:lnTo>
                  <a:pt x="3443" y="1176"/>
                </a:lnTo>
                <a:lnTo>
                  <a:pt x="3450" y="1178"/>
                </a:lnTo>
                <a:lnTo>
                  <a:pt x="3459" y="1180"/>
                </a:lnTo>
                <a:lnTo>
                  <a:pt x="3469" y="1182"/>
                </a:lnTo>
                <a:lnTo>
                  <a:pt x="3478" y="1184"/>
                </a:lnTo>
                <a:lnTo>
                  <a:pt x="3487" y="1186"/>
                </a:lnTo>
                <a:lnTo>
                  <a:pt x="3495" y="1187"/>
                </a:lnTo>
                <a:lnTo>
                  <a:pt x="3504" y="1189"/>
                </a:lnTo>
                <a:lnTo>
                  <a:pt x="3513" y="1191"/>
                </a:lnTo>
                <a:lnTo>
                  <a:pt x="3523" y="1193"/>
                </a:lnTo>
                <a:lnTo>
                  <a:pt x="3532" y="1193"/>
                </a:lnTo>
                <a:lnTo>
                  <a:pt x="3539" y="1195"/>
                </a:lnTo>
                <a:lnTo>
                  <a:pt x="3549" y="1197"/>
                </a:lnTo>
                <a:lnTo>
                  <a:pt x="3558" y="1199"/>
                </a:lnTo>
                <a:lnTo>
                  <a:pt x="3567" y="1201"/>
                </a:lnTo>
              </a:path>
            </a:pathLst>
          </a:custGeom>
          <a:noFill/>
          <a:ln w="0">
            <a:solidFill>
              <a:srgbClr val="ff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任意多边形 271"/>
          <p:cNvSpPr/>
          <p:nvPr/>
        </p:nvSpPr>
        <p:spPr>
          <a:xfrm>
            <a:off x="2228760" y="3654360"/>
            <a:ext cx="5662800" cy="84924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3567" h="535">
                <a:moveTo>
                  <a:pt x="0" y="531"/>
                </a:moveTo>
                <a:lnTo>
                  <a:pt x="9" y="529"/>
                </a:lnTo>
                <a:lnTo>
                  <a:pt x="18" y="529"/>
                </a:lnTo>
                <a:lnTo>
                  <a:pt x="28" y="531"/>
                </a:lnTo>
                <a:lnTo>
                  <a:pt x="35" y="531"/>
                </a:lnTo>
                <a:lnTo>
                  <a:pt x="44" y="531"/>
                </a:lnTo>
                <a:lnTo>
                  <a:pt x="54" y="531"/>
                </a:lnTo>
                <a:lnTo>
                  <a:pt x="63" y="531"/>
                </a:lnTo>
                <a:lnTo>
                  <a:pt x="72" y="533"/>
                </a:lnTo>
                <a:lnTo>
                  <a:pt x="80" y="533"/>
                </a:lnTo>
                <a:lnTo>
                  <a:pt x="89" y="533"/>
                </a:lnTo>
                <a:lnTo>
                  <a:pt x="99" y="533"/>
                </a:lnTo>
                <a:lnTo>
                  <a:pt x="108" y="535"/>
                </a:lnTo>
                <a:lnTo>
                  <a:pt x="117" y="535"/>
                </a:lnTo>
                <a:lnTo>
                  <a:pt x="125" y="535"/>
                </a:lnTo>
                <a:lnTo>
                  <a:pt x="134" y="535"/>
                </a:lnTo>
                <a:lnTo>
                  <a:pt x="143" y="535"/>
                </a:lnTo>
                <a:lnTo>
                  <a:pt x="153" y="535"/>
                </a:lnTo>
                <a:lnTo>
                  <a:pt x="160" y="535"/>
                </a:lnTo>
                <a:lnTo>
                  <a:pt x="169" y="535"/>
                </a:lnTo>
                <a:lnTo>
                  <a:pt x="179" y="535"/>
                </a:lnTo>
                <a:lnTo>
                  <a:pt x="188" y="535"/>
                </a:lnTo>
                <a:lnTo>
                  <a:pt x="197" y="535"/>
                </a:lnTo>
                <a:lnTo>
                  <a:pt x="205" y="535"/>
                </a:lnTo>
                <a:lnTo>
                  <a:pt x="214" y="535"/>
                </a:lnTo>
                <a:lnTo>
                  <a:pt x="223" y="535"/>
                </a:lnTo>
                <a:lnTo>
                  <a:pt x="233" y="535"/>
                </a:lnTo>
                <a:lnTo>
                  <a:pt x="242" y="533"/>
                </a:lnTo>
                <a:lnTo>
                  <a:pt x="249" y="533"/>
                </a:lnTo>
                <a:lnTo>
                  <a:pt x="259" y="533"/>
                </a:lnTo>
                <a:lnTo>
                  <a:pt x="268" y="531"/>
                </a:lnTo>
                <a:lnTo>
                  <a:pt x="277" y="531"/>
                </a:lnTo>
                <a:lnTo>
                  <a:pt x="285" y="529"/>
                </a:lnTo>
                <a:lnTo>
                  <a:pt x="294" y="529"/>
                </a:lnTo>
                <a:lnTo>
                  <a:pt x="303" y="529"/>
                </a:lnTo>
                <a:lnTo>
                  <a:pt x="313" y="527"/>
                </a:lnTo>
                <a:lnTo>
                  <a:pt x="322" y="527"/>
                </a:lnTo>
                <a:lnTo>
                  <a:pt x="330" y="527"/>
                </a:lnTo>
                <a:lnTo>
                  <a:pt x="339" y="527"/>
                </a:lnTo>
                <a:lnTo>
                  <a:pt x="348" y="525"/>
                </a:lnTo>
                <a:lnTo>
                  <a:pt x="357" y="525"/>
                </a:lnTo>
                <a:lnTo>
                  <a:pt x="367" y="524"/>
                </a:lnTo>
                <a:lnTo>
                  <a:pt x="374" y="524"/>
                </a:lnTo>
                <a:lnTo>
                  <a:pt x="384" y="522"/>
                </a:lnTo>
                <a:lnTo>
                  <a:pt x="393" y="522"/>
                </a:lnTo>
                <a:lnTo>
                  <a:pt x="402" y="520"/>
                </a:lnTo>
                <a:lnTo>
                  <a:pt x="410" y="520"/>
                </a:lnTo>
                <a:lnTo>
                  <a:pt x="419" y="518"/>
                </a:lnTo>
                <a:lnTo>
                  <a:pt x="428" y="518"/>
                </a:lnTo>
                <a:lnTo>
                  <a:pt x="438" y="516"/>
                </a:lnTo>
                <a:lnTo>
                  <a:pt x="447" y="514"/>
                </a:lnTo>
                <a:lnTo>
                  <a:pt x="454" y="514"/>
                </a:lnTo>
                <a:lnTo>
                  <a:pt x="464" y="512"/>
                </a:lnTo>
                <a:lnTo>
                  <a:pt x="473" y="511"/>
                </a:lnTo>
                <a:lnTo>
                  <a:pt x="482" y="511"/>
                </a:lnTo>
                <a:lnTo>
                  <a:pt x="492" y="509"/>
                </a:lnTo>
                <a:lnTo>
                  <a:pt x="499" y="509"/>
                </a:lnTo>
                <a:lnTo>
                  <a:pt x="508" y="509"/>
                </a:lnTo>
                <a:lnTo>
                  <a:pt x="518" y="507"/>
                </a:lnTo>
                <a:lnTo>
                  <a:pt x="527" y="507"/>
                </a:lnTo>
                <a:lnTo>
                  <a:pt x="534" y="505"/>
                </a:lnTo>
                <a:lnTo>
                  <a:pt x="544" y="505"/>
                </a:lnTo>
                <a:lnTo>
                  <a:pt x="553" y="503"/>
                </a:lnTo>
                <a:lnTo>
                  <a:pt x="562" y="503"/>
                </a:lnTo>
                <a:lnTo>
                  <a:pt x="572" y="501"/>
                </a:lnTo>
                <a:lnTo>
                  <a:pt x="579" y="501"/>
                </a:lnTo>
                <a:lnTo>
                  <a:pt x="588" y="499"/>
                </a:lnTo>
                <a:lnTo>
                  <a:pt x="598" y="499"/>
                </a:lnTo>
                <a:lnTo>
                  <a:pt x="607" y="499"/>
                </a:lnTo>
                <a:lnTo>
                  <a:pt x="616" y="498"/>
                </a:lnTo>
                <a:lnTo>
                  <a:pt x="624" y="498"/>
                </a:lnTo>
                <a:lnTo>
                  <a:pt x="633" y="498"/>
                </a:lnTo>
                <a:lnTo>
                  <a:pt x="642" y="496"/>
                </a:lnTo>
                <a:lnTo>
                  <a:pt x="652" y="496"/>
                </a:lnTo>
                <a:lnTo>
                  <a:pt x="659" y="496"/>
                </a:lnTo>
                <a:lnTo>
                  <a:pt x="669" y="494"/>
                </a:lnTo>
                <a:lnTo>
                  <a:pt x="678" y="494"/>
                </a:lnTo>
                <a:lnTo>
                  <a:pt x="687" y="492"/>
                </a:lnTo>
                <a:lnTo>
                  <a:pt x="697" y="492"/>
                </a:lnTo>
                <a:lnTo>
                  <a:pt x="704" y="490"/>
                </a:lnTo>
                <a:lnTo>
                  <a:pt x="713" y="490"/>
                </a:lnTo>
                <a:lnTo>
                  <a:pt x="723" y="490"/>
                </a:lnTo>
                <a:lnTo>
                  <a:pt x="732" y="488"/>
                </a:lnTo>
                <a:lnTo>
                  <a:pt x="741" y="488"/>
                </a:lnTo>
                <a:lnTo>
                  <a:pt x="749" y="488"/>
                </a:lnTo>
                <a:lnTo>
                  <a:pt x="758" y="486"/>
                </a:lnTo>
                <a:lnTo>
                  <a:pt x="767" y="486"/>
                </a:lnTo>
                <a:lnTo>
                  <a:pt x="777" y="484"/>
                </a:lnTo>
                <a:lnTo>
                  <a:pt x="784" y="484"/>
                </a:lnTo>
                <a:lnTo>
                  <a:pt x="793" y="483"/>
                </a:lnTo>
                <a:lnTo>
                  <a:pt x="803" y="483"/>
                </a:lnTo>
                <a:lnTo>
                  <a:pt x="812" y="481"/>
                </a:lnTo>
                <a:lnTo>
                  <a:pt x="821" y="481"/>
                </a:lnTo>
                <a:lnTo>
                  <a:pt x="829" y="481"/>
                </a:lnTo>
                <a:lnTo>
                  <a:pt x="838" y="479"/>
                </a:lnTo>
                <a:lnTo>
                  <a:pt x="847" y="479"/>
                </a:lnTo>
                <a:lnTo>
                  <a:pt x="857" y="477"/>
                </a:lnTo>
                <a:lnTo>
                  <a:pt x="866" y="477"/>
                </a:lnTo>
                <a:lnTo>
                  <a:pt x="873" y="475"/>
                </a:lnTo>
                <a:lnTo>
                  <a:pt x="883" y="475"/>
                </a:lnTo>
                <a:lnTo>
                  <a:pt x="892" y="473"/>
                </a:lnTo>
                <a:lnTo>
                  <a:pt x="901" y="471"/>
                </a:lnTo>
                <a:lnTo>
                  <a:pt x="909" y="471"/>
                </a:lnTo>
                <a:lnTo>
                  <a:pt x="918" y="470"/>
                </a:lnTo>
                <a:lnTo>
                  <a:pt x="928" y="470"/>
                </a:lnTo>
                <a:lnTo>
                  <a:pt x="937" y="468"/>
                </a:lnTo>
                <a:lnTo>
                  <a:pt x="946" y="466"/>
                </a:lnTo>
                <a:lnTo>
                  <a:pt x="954" y="466"/>
                </a:lnTo>
                <a:lnTo>
                  <a:pt x="963" y="464"/>
                </a:lnTo>
                <a:lnTo>
                  <a:pt x="972" y="464"/>
                </a:lnTo>
                <a:lnTo>
                  <a:pt x="982" y="462"/>
                </a:lnTo>
                <a:lnTo>
                  <a:pt x="991" y="460"/>
                </a:lnTo>
                <a:lnTo>
                  <a:pt x="998" y="460"/>
                </a:lnTo>
                <a:lnTo>
                  <a:pt x="1008" y="458"/>
                </a:lnTo>
                <a:lnTo>
                  <a:pt x="1017" y="456"/>
                </a:lnTo>
                <a:lnTo>
                  <a:pt x="1026" y="455"/>
                </a:lnTo>
                <a:lnTo>
                  <a:pt x="1034" y="455"/>
                </a:lnTo>
                <a:lnTo>
                  <a:pt x="1043" y="453"/>
                </a:lnTo>
                <a:lnTo>
                  <a:pt x="1052" y="451"/>
                </a:lnTo>
                <a:lnTo>
                  <a:pt x="1062" y="449"/>
                </a:lnTo>
                <a:lnTo>
                  <a:pt x="1071" y="447"/>
                </a:lnTo>
                <a:lnTo>
                  <a:pt x="1078" y="447"/>
                </a:lnTo>
                <a:lnTo>
                  <a:pt x="1088" y="445"/>
                </a:lnTo>
                <a:lnTo>
                  <a:pt x="1097" y="443"/>
                </a:lnTo>
                <a:lnTo>
                  <a:pt x="1106" y="442"/>
                </a:lnTo>
                <a:lnTo>
                  <a:pt x="1116" y="440"/>
                </a:lnTo>
                <a:lnTo>
                  <a:pt x="1123" y="438"/>
                </a:lnTo>
                <a:lnTo>
                  <a:pt x="1132" y="436"/>
                </a:lnTo>
                <a:lnTo>
                  <a:pt x="1142" y="434"/>
                </a:lnTo>
                <a:lnTo>
                  <a:pt x="1151" y="432"/>
                </a:lnTo>
                <a:lnTo>
                  <a:pt x="1159" y="432"/>
                </a:lnTo>
                <a:lnTo>
                  <a:pt x="1168" y="430"/>
                </a:lnTo>
                <a:lnTo>
                  <a:pt x="1177" y="429"/>
                </a:lnTo>
                <a:lnTo>
                  <a:pt x="1186" y="427"/>
                </a:lnTo>
                <a:lnTo>
                  <a:pt x="1196" y="425"/>
                </a:lnTo>
                <a:lnTo>
                  <a:pt x="1203" y="425"/>
                </a:lnTo>
                <a:lnTo>
                  <a:pt x="1213" y="423"/>
                </a:lnTo>
                <a:lnTo>
                  <a:pt x="1222" y="421"/>
                </a:lnTo>
                <a:lnTo>
                  <a:pt x="1231" y="419"/>
                </a:lnTo>
                <a:lnTo>
                  <a:pt x="1240" y="417"/>
                </a:lnTo>
                <a:lnTo>
                  <a:pt x="1248" y="417"/>
                </a:lnTo>
                <a:lnTo>
                  <a:pt x="1257" y="415"/>
                </a:lnTo>
                <a:lnTo>
                  <a:pt x="1267" y="415"/>
                </a:lnTo>
                <a:lnTo>
                  <a:pt x="1276" y="414"/>
                </a:lnTo>
                <a:lnTo>
                  <a:pt x="1283" y="414"/>
                </a:lnTo>
                <a:lnTo>
                  <a:pt x="1293" y="412"/>
                </a:lnTo>
                <a:lnTo>
                  <a:pt x="1302" y="412"/>
                </a:lnTo>
                <a:lnTo>
                  <a:pt x="1311" y="410"/>
                </a:lnTo>
                <a:lnTo>
                  <a:pt x="1321" y="410"/>
                </a:lnTo>
                <a:lnTo>
                  <a:pt x="1328" y="408"/>
                </a:lnTo>
                <a:lnTo>
                  <a:pt x="1337" y="408"/>
                </a:lnTo>
                <a:lnTo>
                  <a:pt x="1347" y="406"/>
                </a:lnTo>
                <a:lnTo>
                  <a:pt x="1356" y="406"/>
                </a:lnTo>
                <a:lnTo>
                  <a:pt x="1365" y="406"/>
                </a:lnTo>
                <a:lnTo>
                  <a:pt x="1373" y="404"/>
                </a:lnTo>
                <a:lnTo>
                  <a:pt x="1382" y="404"/>
                </a:lnTo>
                <a:lnTo>
                  <a:pt x="1391" y="402"/>
                </a:lnTo>
                <a:lnTo>
                  <a:pt x="1401" y="401"/>
                </a:lnTo>
                <a:lnTo>
                  <a:pt x="1408" y="401"/>
                </a:lnTo>
                <a:lnTo>
                  <a:pt x="1417" y="399"/>
                </a:lnTo>
                <a:lnTo>
                  <a:pt x="1427" y="399"/>
                </a:lnTo>
                <a:lnTo>
                  <a:pt x="1436" y="397"/>
                </a:lnTo>
                <a:lnTo>
                  <a:pt x="1445" y="397"/>
                </a:lnTo>
                <a:lnTo>
                  <a:pt x="1453" y="395"/>
                </a:lnTo>
                <a:lnTo>
                  <a:pt x="1462" y="393"/>
                </a:lnTo>
                <a:lnTo>
                  <a:pt x="1472" y="391"/>
                </a:lnTo>
                <a:lnTo>
                  <a:pt x="1481" y="389"/>
                </a:lnTo>
                <a:lnTo>
                  <a:pt x="1490" y="388"/>
                </a:lnTo>
                <a:lnTo>
                  <a:pt x="1498" y="386"/>
                </a:lnTo>
                <a:lnTo>
                  <a:pt x="1507" y="384"/>
                </a:lnTo>
                <a:lnTo>
                  <a:pt x="1516" y="382"/>
                </a:lnTo>
                <a:lnTo>
                  <a:pt x="1526" y="380"/>
                </a:lnTo>
                <a:lnTo>
                  <a:pt x="1533" y="376"/>
                </a:lnTo>
                <a:lnTo>
                  <a:pt x="1542" y="374"/>
                </a:lnTo>
                <a:lnTo>
                  <a:pt x="1552" y="371"/>
                </a:lnTo>
                <a:lnTo>
                  <a:pt x="1561" y="369"/>
                </a:lnTo>
                <a:lnTo>
                  <a:pt x="1570" y="365"/>
                </a:lnTo>
                <a:lnTo>
                  <a:pt x="1578" y="361"/>
                </a:lnTo>
                <a:lnTo>
                  <a:pt x="1587" y="358"/>
                </a:lnTo>
                <a:lnTo>
                  <a:pt x="1596" y="356"/>
                </a:lnTo>
                <a:lnTo>
                  <a:pt x="1606" y="352"/>
                </a:lnTo>
                <a:lnTo>
                  <a:pt x="1615" y="348"/>
                </a:lnTo>
                <a:lnTo>
                  <a:pt x="1622" y="343"/>
                </a:lnTo>
                <a:lnTo>
                  <a:pt x="1632" y="339"/>
                </a:lnTo>
                <a:lnTo>
                  <a:pt x="1641" y="335"/>
                </a:lnTo>
                <a:lnTo>
                  <a:pt x="1650" y="330"/>
                </a:lnTo>
                <a:lnTo>
                  <a:pt x="1658" y="326"/>
                </a:lnTo>
                <a:lnTo>
                  <a:pt x="1667" y="320"/>
                </a:lnTo>
                <a:lnTo>
                  <a:pt x="1676" y="315"/>
                </a:lnTo>
                <a:lnTo>
                  <a:pt x="1686" y="311"/>
                </a:lnTo>
                <a:lnTo>
                  <a:pt x="1695" y="306"/>
                </a:lnTo>
                <a:lnTo>
                  <a:pt x="1703" y="302"/>
                </a:lnTo>
                <a:lnTo>
                  <a:pt x="1712" y="296"/>
                </a:lnTo>
                <a:lnTo>
                  <a:pt x="1721" y="291"/>
                </a:lnTo>
                <a:lnTo>
                  <a:pt x="1730" y="285"/>
                </a:lnTo>
                <a:lnTo>
                  <a:pt x="1740" y="279"/>
                </a:lnTo>
                <a:lnTo>
                  <a:pt x="1747" y="274"/>
                </a:lnTo>
                <a:lnTo>
                  <a:pt x="1757" y="270"/>
                </a:lnTo>
                <a:lnTo>
                  <a:pt x="1766" y="265"/>
                </a:lnTo>
                <a:lnTo>
                  <a:pt x="1775" y="259"/>
                </a:lnTo>
                <a:lnTo>
                  <a:pt x="1784" y="255"/>
                </a:lnTo>
                <a:lnTo>
                  <a:pt x="1792" y="250"/>
                </a:lnTo>
                <a:lnTo>
                  <a:pt x="1801" y="244"/>
                </a:lnTo>
                <a:lnTo>
                  <a:pt x="1811" y="240"/>
                </a:lnTo>
                <a:lnTo>
                  <a:pt x="1820" y="235"/>
                </a:lnTo>
                <a:lnTo>
                  <a:pt x="1827" y="231"/>
                </a:lnTo>
                <a:lnTo>
                  <a:pt x="1837" y="225"/>
                </a:lnTo>
                <a:lnTo>
                  <a:pt x="1846" y="222"/>
                </a:lnTo>
                <a:lnTo>
                  <a:pt x="1855" y="218"/>
                </a:lnTo>
                <a:lnTo>
                  <a:pt x="1865" y="216"/>
                </a:lnTo>
                <a:lnTo>
                  <a:pt x="1872" y="212"/>
                </a:lnTo>
                <a:lnTo>
                  <a:pt x="1881" y="209"/>
                </a:lnTo>
                <a:lnTo>
                  <a:pt x="1891" y="207"/>
                </a:lnTo>
                <a:lnTo>
                  <a:pt x="1900" y="203"/>
                </a:lnTo>
                <a:lnTo>
                  <a:pt x="1909" y="201"/>
                </a:lnTo>
                <a:lnTo>
                  <a:pt x="1917" y="199"/>
                </a:lnTo>
                <a:lnTo>
                  <a:pt x="1926" y="197"/>
                </a:lnTo>
                <a:lnTo>
                  <a:pt x="1935" y="197"/>
                </a:lnTo>
                <a:lnTo>
                  <a:pt x="1945" y="196"/>
                </a:lnTo>
                <a:lnTo>
                  <a:pt x="1952" y="194"/>
                </a:lnTo>
                <a:lnTo>
                  <a:pt x="1961" y="194"/>
                </a:lnTo>
                <a:lnTo>
                  <a:pt x="1971" y="194"/>
                </a:lnTo>
                <a:lnTo>
                  <a:pt x="1980" y="194"/>
                </a:lnTo>
                <a:lnTo>
                  <a:pt x="1989" y="192"/>
                </a:lnTo>
                <a:lnTo>
                  <a:pt x="1997" y="194"/>
                </a:lnTo>
                <a:lnTo>
                  <a:pt x="2006" y="194"/>
                </a:lnTo>
                <a:lnTo>
                  <a:pt x="2015" y="194"/>
                </a:lnTo>
                <a:lnTo>
                  <a:pt x="2025" y="196"/>
                </a:lnTo>
                <a:lnTo>
                  <a:pt x="2034" y="196"/>
                </a:lnTo>
                <a:lnTo>
                  <a:pt x="2042" y="196"/>
                </a:lnTo>
                <a:lnTo>
                  <a:pt x="2051" y="196"/>
                </a:lnTo>
                <a:lnTo>
                  <a:pt x="2060" y="197"/>
                </a:lnTo>
                <a:lnTo>
                  <a:pt x="2070" y="197"/>
                </a:lnTo>
                <a:lnTo>
                  <a:pt x="2077" y="197"/>
                </a:lnTo>
                <a:lnTo>
                  <a:pt x="2086" y="197"/>
                </a:lnTo>
                <a:lnTo>
                  <a:pt x="2096" y="197"/>
                </a:lnTo>
                <a:lnTo>
                  <a:pt x="2105" y="197"/>
                </a:lnTo>
                <a:lnTo>
                  <a:pt x="2114" y="199"/>
                </a:lnTo>
                <a:lnTo>
                  <a:pt x="2122" y="199"/>
                </a:lnTo>
                <a:lnTo>
                  <a:pt x="2131" y="199"/>
                </a:lnTo>
                <a:lnTo>
                  <a:pt x="2140" y="199"/>
                </a:lnTo>
                <a:lnTo>
                  <a:pt x="2150" y="199"/>
                </a:lnTo>
                <a:lnTo>
                  <a:pt x="2159" y="197"/>
                </a:lnTo>
                <a:lnTo>
                  <a:pt x="2166" y="197"/>
                </a:lnTo>
                <a:lnTo>
                  <a:pt x="2176" y="196"/>
                </a:lnTo>
                <a:lnTo>
                  <a:pt x="2185" y="194"/>
                </a:lnTo>
                <a:lnTo>
                  <a:pt x="2194" y="192"/>
                </a:lnTo>
                <a:lnTo>
                  <a:pt x="2202" y="190"/>
                </a:lnTo>
                <a:lnTo>
                  <a:pt x="2211" y="188"/>
                </a:lnTo>
                <a:lnTo>
                  <a:pt x="2220" y="186"/>
                </a:lnTo>
                <a:lnTo>
                  <a:pt x="2230" y="183"/>
                </a:lnTo>
                <a:lnTo>
                  <a:pt x="2239" y="181"/>
                </a:lnTo>
                <a:lnTo>
                  <a:pt x="2246" y="177"/>
                </a:lnTo>
                <a:lnTo>
                  <a:pt x="2256" y="173"/>
                </a:lnTo>
                <a:lnTo>
                  <a:pt x="2265" y="169"/>
                </a:lnTo>
                <a:lnTo>
                  <a:pt x="2274" y="166"/>
                </a:lnTo>
                <a:lnTo>
                  <a:pt x="2284" y="160"/>
                </a:lnTo>
                <a:lnTo>
                  <a:pt x="2291" y="156"/>
                </a:lnTo>
                <a:lnTo>
                  <a:pt x="2301" y="151"/>
                </a:lnTo>
                <a:lnTo>
                  <a:pt x="2310" y="145"/>
                </a:lnTo>
                <a:lnTo>
                  <a:pt x="2319" y="142"/>
                </a:lnTo>
                <a:lnTo>
                  <a:pt x="2327" y="136"/>
                </a:lnTo>
                <a:lnTo>
                  <a:pt x="2336" y="132"/>
                </a:lnTo>
                <a:lnTo>
                  <a:pt x="2345" y="125"/>
                </a:lnTo>
                <a:lnTo>
                  <a:pt x="2355" y="119"/>
                </a:lnTo>
                <a:lnTo>
                  <a:pt x="2364" y="114"/>
                </a:lnTo>
                <a:lnTo>
                  <a:pt x="2371" y="108"/>
                </a:lnTo>
                <a:lnTo>
                  <a:pt x="2381" y="102"/>
                </a:lnTo>
                <a:lnTo>
                  <a:pt x="2390" y="97"/>
                </a:lnTo>
                <a:lnTo>
                  <a:pt x="2399" y="89"/>
                </a:lnTo>
                <a:lnTo>
                  <a:pt x="2409" y="84"/>
                </a:lnTo>
                <a:lnTo>
                  <a:pt x="2416" y="78"/>
                </a:lnTo>
                <a:lnTo>
                  <a:pt x="2425" y="71"/>
                </a:lnTo>
                <a:lnTo>
                  <a:pt x="2435" y="65"/>
                </a:lnTo>
                <a:lnTo>
                  <a:pt x="2444" y="60"/>
                </a:lnTo>
                <a:lnTo>
                  <a:pt x="2451" y="54"/>
                </a:lnTo>
                <a:lnTo>
                  <a:pt x="2461" y="48"/>
                </a:lnTo>
                <a:lnTo>
                  <a:pt x="2470" y="43"/>
                </a:lnTo>
                <a:lnTo>
                  <a:pt x="2479" y="37"/>
                </a:lnTo>
                <a:lnTo>
                  <a:pt x="2489" y="32"/>
                </a:lnTo>
                <a:lnTo>
                  <a:pt x="2496" y="26"/>
                </a:lnTo>
                <a:lnTo>
                  <a:pt x="2505" y="22"/>
                </a:lnTo>
                <a:lnTo>
                  <a:pt x="2515" y="19"/>
                </a:lnTo>
                <a:lnTo>
                  <a:pt x="2524" y="15"/>
                </a:lnTo>
                <a:lnTo>
                  <a:pt x="2533" y="11"/>
                </a:lnTo>
                <a:lnTo>
                  <a:pt x="2541" y="7"/>
                </a:lnTo>
                <a:lnTo>
                  <a:pt x="2550" y="5"/>
                </a:lnTo>
                <a:lnTo>
                  <a:pt x="2559" y="4"/>
                </a:lnTo>
                <a:lnTo>
                  <a:pt x="2569" y="2"/>
                </a:lnTo>
                <a:lnTo>
                  <a:pt x="2576" y="0"/>
                </a:lnTo>
                <a:lnTo>
                  <a:pt x="2586" y="0"/>
                </a:lnTo>
                <a:lnTo>
                  <a:pt x="2595" y="0"/>
                </a:lnTo>
                <a:lnTo>
                  <a:pt x="2604" y="0"/>
                </a:lnTo>
                <a:lnTo>
                  <a:pt x="2613" y="2"/>
                </a:lnTo>
                <a:lnTo>
                  <a:pt x="2621" y="2"/>
                </a:lnTo>
                <a:lnTo>
                  <a:pt x="2630" y="5"/>
                </a:lnTo>
                <a:lnTo>
                  <a:pt x="2640" y="7"/>
                </a:lnTo>
                <a:lnTo>
                  <a:pt x="2649" y="11"/>
                </a:lnTo>
                <a:lnTo>
                  <a:pt x="2658" y="15"/>
                </a:lnTo>
                <a:lnTo>
                  <a:pt x="2666" y="20"/>
                </a:lnTo>
                <a:lnTo>
                  <a:pt x="2675" y="26"/>
                </a:lnTo>
                <a:lnTo>
                  <a:pt x="2684" y="32"/>
                </a:lnTo>
                <a:lnTo>
                  <a:pt x="2694" y="37"/>
                </a:lnTo>
                <a:lnTo>
                  <a:pt x="2701" y="45"/>
                </a:lnTo>
                <a:lnTo>
                  <a:pt x="2710" y="50"/>
                </a:lnTo>
                <a:lnTo>
                  <a:pt x="2720" y="60"/>
                </a:lnTo>
                <a:lnTo>
                  <a:pt x="2729" y="67"/>
                </a:lnTo>
                <a:lnTo>
                  <a:pt x="2738" y="74"/>
                </a:lnTo>
                <a:lnTo>
                  <a:pt x="2746" y="84"/>
                </a:lnTo>
                <a:lnTo>
                  <a:pt x="2755" y="91"/>
                </a:lnTo>
                <a:lnTo>
                  <a:pt x="2764" y="101"/>
                </a:lnTo>
                <a:lnTo>
                  <a:pt x="2774" y="110"/>
                </a:lnTo>
                <a:lnTo>
                  <a:pt x="2783" y="117"/>
                </a:lnTo>
                <a:lnTo>
                  <a:pt x="2790" y="127"/>
                </a:lnTo>
                <a:lnTo>
                  <a:pt x="2800" y="134"/>
                </a:lnTo>
                <a:lnTo>
                  <a:pt x="2809" y="143"/>
                </a:lnTo>
                <a:lnTo>
                  <a:pt x="2818" y="153"/>
                </a:lnTo>
                <a:lnTo>
                  <a:pt x="2826" y="160"/>
                </a:lnTo>
                <a:lnTo>
                  <a:pt x="2835" y="169"/>
                </a:lnTo>
                <a:lnTo>
                  <a:pt x="2845" y="177"/>
                </a:lnTo>
                <a:lnTo>
                  <a:pt x="2854" y="186"/>
                </a:lnTo>
                <a:lnTo>
                  <a:pt x="2863" y="194"/>
                </a:lnTo>
                <a:lnTo>
                  <a:pt x="2871" y="201"/>
                </a:lnTo>
                <a:lnTo>
                  <a:pt x="2880" y="209"/>
                </a:lnTo>
                <a:lnTo>
                  <a:pt x="2889" y="216"/>
                </a:lnTo>
                <a:lnTo>
                  <a:pt x="2899" y="224"/>
                </a:lnTo>
                <a:lnTo>
                  <a:pt x="2908" y="229"/>
                </a:lnTo>
                <a:lnTo>
                  <a:pt x="2915" y="237"/>
                </a:lnTo>
                <a:lnTo>
                  <a:pt x="2925" y="244"/>
                </a:lnTo>
                <a:lnTo>
                  <a:pt x="2934" y="250"/>
                </a:lnTo>
                <a:lnTo>
                  <a:pt x="2943" y="255"/>
                </a:lnTo>
                <a:lnTo>
                  <a:pt x="2951" y="263"/>
                </a:lnTo>
                <a:lnTo>
                  <a:pt x="2960" y="268"/>
                </a:lnTo>
                <a:lnTo>
                  <a:pt x="2969" y="274"/>
                </a:lnTo>
                <a:lnTo>
                  <a:pt x="2979" y="278"/>
                </a:lnTo>
                <a:lnTo>
                  <a:pt x="2988" y="283"/>
                </a:lnTo>
                <a:lnTo>
                  <a:pt x="2995" y="289"/>
                </a:lnTo>
                <a:lnTo>
                  <a:pt x="3005" y="294"/>
                </a:lnTo>
                <a:lnTo>
                  <a:pt x="3014" y="300"/>
                </a:lnTo>
                <a:lnTo>
                  <a:pt x="3023" y="304"/>
                </a:lnTo>
                <a:lnTo>
                  <a:pt x="3033" y="309"/>
                </a:lnTo>
                <a:lnTo>
                  <a:pt x="3040" y="313"/>
                </a:lnTo>
                <a:lnTo>
                  <a:pt x="3049" y="319"/>
                </a:lnTo>
                <a:lnTo>
                  <a:pt x="3059" y="322"/>
                </a:lnTo>
                <a:lnTo>
                  <a:pt x="3068" y="326"/>
                </a:lnTo>
                <a:lnTo>
                  <a:pt x="3076" y="330"/>
                </a:lnTo>
                <a:lnTo>
                  <a:pt x="3085" y="335"/>
                </a:lnTo>
                <a:lnTo>
                  <a:pt x="3094" y="339"/>
                </a:lnTo>
                <a:lnTo>
                  <a:pt x="3103" y="343"/>
                </a:lnTo>
                <a:lnTo>
                  <a:pt x="3113" y="347"/>
                </a:lnTo>
                <a:lnTo>
                  <a:pt x="3120" y="350"/>
                </a:lnTo>
                <a:lnTo>
                  <a:pt x="3130" y="354"/>
                </a:lnTo>
                <a:lnTo>
                  <a:pt x="3139" y="358"/>
                </a:lnTo>
                <a:lnTo>
                  <a:pt x="3148" y="361"/>
                </a:lnTo>
                <a:lnTo>
                  <a:pt x="3157" y="363"/>
                </a:lnTo>
                <a:lnTo>
                  <a:pt x="3165" y="367"/>
                </a:lnTo>
                <a:lnTo>
                  <a:pt x="3174" y="371"/>
                </a:lnTo>
                <a:lnTo>
                  <a:pt x="3184" y="374"/>
                </a:lnTo>
                <a:lnTo>
                  <a:pt x="3193" y="378"/>
                </a:lnTo>
                <a:lnTo>
                  <a:pt x="3200" y="380"/>
                </a:lnTo>
                <a:lnTo>
                  <a:pt x="3210" y="384"/>
                </a:lnTo>
                <a:lnTo>
                  <a:pt x="3219" y="388"/>
                </a:lnTo>
                <a:lnTo>
                  <a:pt x="3228" y="391"/>
                </a:lnTo>
                <a:lnTo>
                  <a:pt x="3238" y="393"/>
                </a:lnTo>
                <a:lnTo>
                  <a:pt x="3245" y="397"/>
                </a:lnTo>
                <a:lnTo>
                  <a:pt x="3254" y="401"/>
                </a:lnTo>
                <a:lnTo>
                  <a:pt x="3264" y="404"/>
                </a:lnTo>
                <a:lnTo>
                  <a:pt x="3273" y="406"/>
                </a:lnTo>
                <a:lnTo>
                  <a:pt x="3282" y="410"/>
                </a:lnTo>
                <a:lnTo>
                  <a:pt x="3290" y="414"/>
                </a:lnTo>
                <a:lnTo>
                  <a:pt x="3299" y="415"/>
                </a:lnTo>
                <a:lnTo>
                  <a:pt x="3308" y="419"/>
                </a:lnTo>
                <a:lnTo>
                  <a:pt x="3318" y="421"/>
                </a:lnTo>
                <a:lnTo>
                  <a:pt x="3325" y="425"/>
                </a:lnTo>
                <a:lnTo>
                  <a:pt x="3334" y="429"/>
                </a:lnTo>
                <a:lnTo>
                  <a:pt x="3344" y="432"/>
                </a:lnTo>
                <a:lnTo>
                  <a:pt x="3353" y="434"/>
                </a:lnTo>
                <a:lnTo>
                  <a:pt x="3362" y="438"/>
                </a:lnTo>
                <a:lnTo>
                  <a:pt x="3370" y="440"/>
                </a:lnTo>
                <a:lnTo>
                  <a:pt x="3379" y="443"/>
                </a:lnTo>
                <a:lnTo>
                  <a:pt x="3388" y="447"/>
                </a:lnTo>
                <a:lnTo>
                  <a:pt x="3398" y="449"/>
                </a:lnTo>
                <a:lnTo>
                  <a:pt x="3407" y="453"/>
                </a:lnTo>
                <a:lnTo>
                  <a:pt x="3415" y="456"/>
                </a:lnTo>
                <a:lnTo>
                  <a:pt x="3424" y="458"/>
                </a:lnTo>
                <a:lnTo>
                  <a:pt x="3433" y="462"/>
                </a:lnTo>
                <a:lnTo>
                  <a:pt x="3443" y="466"/>
                </a:lnTo>
                <a:lnTo>
                  <a:pt x="3450" y="470"/>
                </a:lnTo>
                <a:lnTo>
                  <a:pt x="3459" y="471"/>
                </a:lnTo>
                <a:lnTo>
                  <a:pt x="3469" y="475"/>
                </a:lnTo>
                <a:lnTo>
                  <a:pt x="3478" y="479"/>
                </a:lnTo>
                <a:lnTo>
                  <a:pt x="3487" y="483"/>
                </a:lnTo>
                <a:lnTo>
                  <a:pt x="3495" y="486"/>
                </a:lnTo>
                <a:lnTo>
                  <a:pt x="3504" y="488"/>
                </a:lnTo>
                <a:lnTo>
                  <a:pt x="3513" y="492"/>
                </a:lnTo>
                <a:lnTo>
                  <a:pt x="3523" y="496"/>
                </a:lnTo>
                <a:lnTo>
                  <a:pt x="3532" y="499"/>
                </a:lnTo>
                <a:lnTo>
                  <a:pt x="3539" y="503"/>
                </a:lnTo>
                <a:lnTo>
                  <a:pt x="3549" y="507"/>
                </a:lnTo>
                <a:lnTo>
                  <a:pt x="3558" y="511"/>
                </a:lnTo>
                <a:lnTo>
                  <a:pt x="3567" y="512"/>
                </a:lnTo>
              </a:path>
            </a:pathLst>
          </a:custGeom>
          <a:noFill/>
          <a:ln w="0">
            <a:solidFill>
              <a:srgbClr val="8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任意多边形 272"/>
          <p:cNvSpPr/>
          <p:nvPr/>
        </p:nvSpPr>
        <p:spPr>
          <a:xfrm>
            <a:off x="2228760" y="3662280"/>
            <a:ext cx="5662800" cy="100980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1009800"/>
              <a:gd name="textAreaBottom" fmla="*/ 1009800 h 1009800"/>
            </a:gdLst>
            <a:ahLst/>
            <a:rect l="textAreaLeft" t="textAreaTop" r="textAreaRight" b="textAreaBottom"/>
            <a:pathLst>
              <a:path w="3567" h="636">
                <a:moveTo>
                  <a:pt x="0" y="625"/>
                </a:moveTo>
                <a:lnTo>
                  <a:pt x="9" y="625"/>
                </a:lnTo>
                <a:lnTo>
                  <a:pt x="18" y="625"/>
                </a:lnTo>
                <a:lnTo>
                  <a:pt x="28" y="627"/>
                </a:lnTo>
                <a:lnTo>
                  <a:pt x="35" y="625"/>
                </a:lnTo>
                <a:lnTo>
                  <a:pt x="44" y="627"/>
                </a:lnTo>
                <a:lnTo>
                  <a:pt x="54" y="627"/>
                </a:lnTo>
                <a:lnTo>
                  <a:pt x="63" y="627"/>
                </a:lnTo>
                <a:lnTo>
                  <a:pt x="72" y="629"/>
                </a:lnTo>
                <a:lnTo>
                  <a:pt x="80" y="630"/>
                </a:lnTo>
                <a:lnTo>
                  <a:pt x="89" y="630"/>
                </a:lnTo>
                <a:lnTo>
                  <a:pt x="99" y="632"/>
                </a:lnTo>
                <a:lnTo>
                  <a:pt x="108" y="632"/>
                </a:lnTo>
                <a:lnTo>
                  <a:pt x="117" y="634"/>
                </a:lnTo>
                <a:lnTo>
                  <a:pt x="125" y="634"/>
                </a:lnTo>
                <a:lnTo>
                  <a:pt x="134" y="634"/>
                </a:lnTo>
                <a:lnTo>
                  <a:pt x="143" y="636"/>
                </a:lnTo>
                <a:lnTo>
                  <a:pt x="153" y="636"/>
                </a:lnTo>
                <a:lnTo>
                  <a:pt x="160" y="636"/>
                </a:lnTo>
                <a:lnTo>
                  <a:pt x="169" y="636"/>
                </a:lnTo>
                <a:lnTo>
                  <a:pt x="179" y="636"/>
                </a:lnTo>
                <a:lnTo>
                  <a:pt x="188" y="636"/>
                </a:lnTo>
                <a:lnTo>
                  <a:pt x="197" y="636"/>
                </a:lnTo>
                <a:lnTo>
                  <a:pt x="205" y="636"/>
                </a:lnTo>
                <a:lnTo>
                  <a:pt x="214" y="636"/>
                </a:lnTo>
                <a:lnTo>
                  <a:pt x="223" y="634"/>
                </a:lnTo>
                <a:lnTo>
                  <a:pt x="233" y="634"/>
                </a:lnTo>
                <a:lnTo>
                  <a:pt x="242" y="634"/>
                </a:lnTo>
                <a:lnTo>
                  <a:pt x="249" y="634"/>
                </a:lnTo>
                <a:lnTo>
                  <a:pt x="259" y="634"/>
                </a:lnTo>
                <a:lnTo>
                  <a:pt x="268" y="632"/>
                </a:lnTo>
                <a:lnTo>
                  <a:pt x="277" y="632"/>
                </a:lnTo>
                <a:lnTo>
                  <a:pt x="285" y="632"/>
                </a:lnTo>
                <a:lnTo>
                  <a:pt x="294" y="632"/>
                </a:lnTo>
                <a:lnTo>
                  <a:pt x="303" y="630"/>
                </a:lnTo>
                <a:lnTo>
                  <a:pt x="313" y="630"/>
                </a:lnTo>
                <a:lnTo>
                  <a:pt x="322" y="630"/>
                </a:lnTo>
                <a:lnTo>
                  <a:pt x="330" y="630"/>
                </a:lnTo>
                <a:lnTo>
                  <a:pt x="339" y="629"/>
                </a:lnTo>
                <a:lnTo>
                  <a:pt x="348" y="629"/>
                </a:lnTo>
                <a:lnTo>
                  <a:pt x="357" y="627"/>
                </a:lnTo>
                <a:lnTo>
                  <a:pt x="367" y="627"/>
                </a:lnTo>
                <a:lnTo>
                  <a:pt x="374" y="627"/>
                </a:lnTo>
                <a:lnTo>
                  <a:pt x="384" y="627"/>
                </a:lnTo>
                <a:lnTo>
                  <a:pt x="393" y="625"/>
                </a:lnTo>
                <a:lnTo>
                  <a:pt x="402" y="625"/>
                </a:lnTo>
                <a:lnTo>
                  <a:pt x="410" y="623"/>
                </a:lnTo>
                <a:lnTo>
                  <a:pt x="419" y="623"/>
                </a:lnTo>
                <a:lnTo>
                  <a:pt x="428" y="621"/>
                </a:lnTo>
                <a:lnTo>
                  <a:pt x="438" y="621"/>
                </a:lnTo>
                <a:lnTo>
                  <a:pt x="447" y="619"/>
                </a:lnTo>
                <a:lnTo>
                  <a:pt x="454" y="619"/>
                </a:lnTo>
                <a:lnTo>
                  <a:pt x="464" y="617"/>
                </a:lnTo>
                <a:lnTo>
                  <a:pt x="473" y="617"/>
                </a:lnTo>
                <a:lnTo>
                  <a:pt x="482" y="616"/>
                </a:lnTo>
                <a:lnTo>
                  <a:pt x="492" y="616"/>
                </a:lnTo>
                <a:lnTo>
                  <a:pt x="499" y="614"/>
                </a:lnTo>
                <a:lnTo>
                  <a:pt x="508" y="614"/>
                </a:lnTo>
                <a:lnTo>
                  <a:pt x="518" y="612"/>
                </a:lnTo>
                <a:lnTo>
                  <a:pt x="527" y="612"/>
                </a:lnTo>
                <a:lnTo>
                  <a:pt x="534" y="610"/>
                </a:lnTo>
                <a:lnTo>
                  <a:pt x="544" y="610"/>
                </a:lnTo>
                <a:lnTo>
                  <a:pt x="553" y="608"/>
                </a:lnTo>
                <a:lnTo>
                  <a:pt x="562" y="608"/>
                </a:lnTo>
                <a:lnTo>
                  <a:pt x="572" y="606"/>
                </a:lnTo>
                <a:lnTo>
                  <a:pt x="579" y="606"/>
                </a:lnTo>
                <a:lnTo>
                  <a:pt x="588" y="604"/>
                </a:lnTo>
                <a:lnTo>
                  <a:pt x="598" y="604"/>
                </a:lnTo>
                <a:lnTo>
                  <a:pt x="607" y="602"/>
                </a:lnTo>
                <a:lnTo>
                  <a:pt x="616" y="602"/>
                </a:lnTo>
                <a:lnTo>
                  <a:pt x="624" y="601"/>
                </a:lnTo>
                <a:lnTo>
                  <a:pt x="633" y="601"/>
                </a:lnTo>
                <a:lnTo>
                  <a:pt x="642" y="599"/>
                </a:lnTo>
                <a:lnTo>
                  <a:pt x="652" y="597"/>
                </a:lnTo>
                <a:lnTo>
                  <a:pt x="659" y="597"/>
                </a:lnTo>
                <a:lnTo>
                  <a:pt x="669" y="595"/>
                </a:lnTo>
                <a:lnTo>
                  <a:pt x="678" y="595"/>
                </a:lnTo>
                <a:lnTo>
                  <a:pt x="687" y="593"/>
                </a:lnTo>
                <a:lnTo>
                  <a:pt x="697" y="593"/>
                </a:lnTo>
                <a:lnTo>
                  <a:pt x="704" y="593"/>
                </a:lnTo>
                <a:lnTo>
                  <a:pt x="713" y="591"/>
                </a:lnTo>
                <a:lnTo>
                  <a:pt x="723" y="591"/>
                </a:lnTo>
                <a:lnTo>
                  <a:pt x="732" y="591"/>
                </a:lnTo>
                <a:lnTo>
                  <a:pt x="741" y="589"/>
                </a:lnTo>
                <a:lnTo>
                  <a:pt x="749" y="589"/>
                </a:lnTo>
                <a:lnTo>
                  <a:pt x="758" y="588"/>
                </a:lnTo>
                <a:lnTo>
                  <a:pt x="767" y="586"/>
                </a:lnTo>
                <a:lnTo>
                  <a:pt x="777" y="586"/>
                </a:lnTo>
                <a:lnTo>
                  <a:pt x="784" y="584"/>
                </a:lnTo>
                <a:lnTo>
                  <a:pt x="793" y="584"/>
                </a:lnTo>
                <a:lnTo>
                  <a:pt x="803" y="582"/>
                </a:lnTo>
                <a:lnTo>
                  <a:pt x="812" y="582"/>
                </a:lnTo>
                <a:lnTo>
                  <a:pt x="821" y="582"/>
                </a:lnTo>
                <a:lnTo>
                  <a:pt x="829" y="580"/>
                </a:lnTo>
                <a:lnTo>
                  <a:pt x="838" y="580"/>
                </a:lnTo>
                <a:lnTo>
                  <a:pt x="847" y="578"/>
                </a:lnTo>
                <a:lnTo>
                  <a:pt x="857" y="578"/>
                </a:lnTo>
                <a:lnTo>
                  <a:pt x="866" y="576"/>
                </a:lnTo>
                <a:lnTo>
                  <a:pt x="873" y="576"/>
                </a:lnTo>
                <a:lnTo>
                  <a:pt x="883" y="575"/>
                </a:lnTo>
                <a:lnTo>
                  <a:pt x="892" y="575"/>
                </a:lnTo>
                <a:lnTo>
                  <a:pt x="901" y="573"/>
                </a:lnTo>
                <a:lnTo>
                  <a:pt x="909" y="571"/>
                </a:lnTo>
                <a:lnTo>
                  <a:pt x="918" y="571"/>
                </a:lnTo>
                <a:lnTo>
                  <a:pt x="928" y="569"/>
                </a:lnTo>
                <a:lnTo>
                  <a:pt x="937" y="569"/>
                </a:lnTo>
                <a:lnTo>
                  <a:pt x="946" y="567"/>
                </a:lnTo>
                <a:lnTo>
                  <a:pt x="954" y="565"/>
                </a:lnTo>
                <a:lnTo>
                  <a:pt x="963" y="563"/>
                </a:lnTo>
                <a:lnTo>
                  <a:pt x="972" y="563"/>
                </a:lnTo>
                <a:lnTo>
                  <a:pt x="982" y="561"/>
                </a:lnTo>
                <a:lnTo>
                  <a:pt x="991" y="560"/>
                </a:lnTo>
                <a:lnTo>
                  <a:pt x="998" y="558"/>
                </a:lnTo>
                <a:lnTo>
                  <a:pt x="1008" y="556"/>
                </a:lnTo>
                <a:lnTo>
                  <a:pt x="1017" y="554"/>
                </a:lnTo>
                <a:lnTo>
                  <a:pt x="1026" y="552"/>
                </a:lnTo>
                <a:lnTo>
                  <a:pt x="1034" y="550"/>
                </a:lnTo>
                <a:lnTo>
                  <a:pt x="1043" y="548"/>
                </a:lnTo>
                <a:lnTo>
                  <a:pt x="1052" y="547"/>
                </a:lnTo>
                <a:lnTo>
                  <a:pt x="1062" y="545"/>
                </a:lnTo>
                <a:lnTo>
                  <a:pt x="1071" y="543"/>
                </a:lnTo>
                <a:lnTo>
                  <a:pt x="1078" y="539"/>
                </a:lnTo>
                <a:lnTo>
                  <a:pt x="1088" y="537"/>
                </a:lnTo>
                <a:lnTo>
                  <a:pt x="1097" y="535"/>
                </a:lnTo>
                <a:lnTo>
                  <a:pt x="1106" y="534"/>
                </a:lnTo>
                <a:lnTo>
                  <a:pt x="1116" y="532"/>
                </a:lnTo>
                <a:lnTo>
                  <a:pt x="1123" y="530"/>
                </a:lnTo>
                <a:lnTo>
                  <a:pt x="1132" y="526"/>
                </a:lnTo>
                <a:lnTo>
                  <a:pt x="1142" y="524"/>
                </a:lnTo>
                <a:lnTo>
                  <a:pt x="1151" y="522"/>
                </a:lnTo>
                <a:lnTo>
                  <a:pt x="1159" y="520"/>
                </a:lnTo>
                <a:lnTo>
                  <a:pt x="1168" y="519"/>
                </a:lnTo>
                <a:lnTo>
                  <a:pt x="1177" y="517"/>
                </a:lnTo>
                <a:lnTo>
                  <a:pt x="1186" y="515"/>
                </a:lnTo>
                <a:lnTo>
                  <a:pt x="1196" y="513"/>
                </a:lnTo>
                <a:lnTo>
                  <a:pt x="1203" y="511"/>
                </a:lnTo>
                <a:lnTo>
                  <a:pt x="1213" y="509"/>
                </a:lnTo>
                <a:lnTo>
                  <a:pt x="1222" y="507"/>
                </a:lnTo>
                <a:lnTo>
                  <a:pt x="1231" y="506"/>
                </a:lnTo>
                <a:lnTo>
                  <a:pt x="1240" y="504"/>
                </a:lnTo>
                <a:lnTo>
                  <a:pt x="1248" y="502"/>
                </a:lnTo>
                <a:lnTo>
                  <a:pt x="1257" y="500"/>
                </a:lnTo>
                <a:lnTo>
                  <a:pt x="1267" y="500"/>
                </a:lnTo>
                <a:lnTo>
                  <a:pt x="1276" y="498"/>
                </a:lnTo>
                <a:lnTo>
                  <a:pt x="1283" y="496"/>
                </a:lnTo>
                <a:lnTo>
                  <a:pt x="1293" y="494"/>
                </a:lnTo>
                <a:lnTo>
                  <a:pt x="1302" y="494"/>
                </a:lnTo>
                <a:lnTo>
                  <a:pt x="1311" y="493"/>
                </a:lnTo>
                <a:lnTo>
                  <a:pt x="1321" y="493"/>
                </a:lnTo>
                <a:lnTo>
                  <a:pt x="1328" y="491"/>
                </a:lnTo>
                <a:lnTo>
                  <a:pt x="1337" y="491"/>
                </a:lnTo>
                <a:lnTo>
                  <a:pt x="1347" y="489"/>
                </a:lnTo>
                <a:lnTo>
                  <a:pt x="1356" y="487"/>
                </a:lnTo>
                <a:lnTo>
                  <a:pt x="1365" y="487"/>
                </a:lnTo>
                <a:lnTo>
                  <a:pt x="1373" y="485"/>
                </a:lnTo>
                <a:lnTo>
                  <a:pt x="1382" y="485"/>
                </a:lnTo>
                <a:lnTo>
                  <a:pt x="1391" y="485"/>
                </a:lnTo>
                <a:lnTo>
                  <a:pt x="1401" y="483"/>
                </a:lnTo>
                <a:lnTo>
                  <a:pt x="1408" y="483"/>
                </a:lnTo>
                <a:lnTo>
                  <a:pt x="1417" y="481"/>
                </a:lnTo>
                <a:lnTo>
                  <a:pt x="1427" y="481"/>
                </a:lnTo>
                <a:lnTo>
                  <a:pt x="1436" y="479"/>
                </a:lnTo>
                <a:lnTo>
                  <a:pt x="1445" y="478"/>
                </a:lnTo>
                <a:lnTo>
                  <a:pt x="1453" y="476"/>
                </a:lnTo>
                <a:lnTo>
                  <a:pt x="1462" y="474"/>
                </a:lnTo>
                <a:lnTo>
                  <a:pt x="1472" y="472"/>
                </a:lnTo>
                <a:lnTo>
                  <a:pt x="1481" y="470"/>
                </a:lnTo>
                <a:lnTo>
                  <a:pt x="1490" y="468"/>
                </a:lnTo>
                <a:lnTo>
                  <a:pt x="1498" y="466"/>
                </a:lnTo>
                <a:lnTo>
                  <a:pt x="1507" y="465"/>
                </a:lnTo>
                <a:lnTo>
                  <a:pt x="1516" y="461"/>
                </a:lnTo>
                <a:lnTo>
                  <a:pt x="1526" y="459"/>
                </a:lnTo>
                <a:lnTo>
                  <a:pt x="1533" y="455"/>
                </a:lnTo>
                <a:lnTo>
                  <a:pt x="1542" y="453"/>
                </a:lnTo>
                <a:lnTo>
                  <a:pt x="1552" y="450"/>
                </a:lnTo>
                <a:lnTo>
                  <a:pt x="1561" y="446"/>
                </a:lnTo>
                <a:lnTo>
                  <a:pt x="1570" y="442"/>
                </a:lnTo>
                <a:lnTo>
                  <a:pt x="1578" y="438"/>
                </a:lnTo>
                <a:lnTo>
                  <a:pt x="1587" y="435"/>
                </a:lnTo>
                <a:lnTo>
                  <a:pt x="1596" y="429"/>
                </a:lnTo>
                <a:lnTo>
                  <a:pt x="1606" y="424"/>
                </a:lnTo>
                <a:lnTo>
                  <a:pt x="1615" y="420"/>
                </a:lnTo>
                <a:lnTo>
                  <a:pt x="1622" y="414"/>
                </a:lnTo>
                <a:lnTo>
                  <a:pt x="1632" y="409"/>
                </a:lnTo>
                <a:lnTo>
                  <a:pt x="1641" y="405"/>
                </a:lnTo>
                <a:lnTo>
                  <a:pt x="1650" y="397"/>
                </a:lnTo>
                <a:lnTo>
                  <a:pt x="1658" y="392"/>
                </a:lnTo>
                <a:lnTo>
                  <a:pt x="1667" y="386"/>
                </a:lnTo>
                <a:lnTo>
                  <a:pt x="1676" y="381"/>
                </a:lnTo>
                <a:lnTo>
                  <a:pt x="1686" y="375"/>
                </a:lnTo>
                <a:lnTo>
                  <a:pt x="1695" y="369"/>
                </a:lnTo>
                <a:lnTo>
                  <a:pt x="1703" y="362"/>
                </a:lnTo>
                <a:lnTo>
                  <a:pt x="1712" y="356"/>
                </a:lnTo>
                <a:lnTo>
                  <a:pt x="1721" y="349"/>
                </a:lnTo>
                <a:lnTo>
                  <a:pt x="1730" y="343"/>
                </a:lnTo>
                <a:lnTo>
                  <a:pt x="1740" y="338"/>
                </a:lnTo>
                <a:lnTo>
                  <a:pt x="1747" y="330"/>
                </a:lnTo>
                <a:lnTo>
                  <a:pt x="1757" y="325"/>
                </a:lnTo>
                <a:lnTo>
                  <a:pt x="1766" y="317"/>
                </a:lnTo>
                <a:lnTo>
                  <a:pt x="1775" y="312"/>
                </a:lnTo>
                <a:lnTo>
                  <a:pt x="1784" y="306"/>
                </a:lnTo>
                <a:lnTo>
                  <a:pt x="1792" y="301"/>
                </a:lnTo>
                <a:lnTo>
                  <a:pt x="1801" y="295"/>
                </a:lnTo>
                <a:lnTo>
                  <a:pt x="1811" y="289"/>
                </a:lnTo>
                <a:lnTo>
                  <a:pt x="1820" y="284"/>
                </a:lnTo>
                <a:lnTo>
                  <a:pt x="1827" y="278"/>
                </a:lnTo>
                <a:lnTo>
                  <a:pt x="1837" y="273"/>
                </a:lnTo>
                <a:lnTo>
                  <a:pt x="1846" y="269"/>
                </a:lnTo>
                <a:lnTo>
                  <a:pt x="1855" y="265"/>
                </a:lnTo>
                <a:lnTo>
                  <a:pt x="1865" y="261"/>
                </a:lnTo>
                <a:lnTo>
                  <a:pt x="1872" y="258"/>
                </a:lnTo>
                <a:lnTo>
                  <a:pt x="1881" y="254"/>
                </a:lnTo>
                <a:lnTo>
                  <a:pt x="1891" y="250"/>
                </a:lnTo>
                <a:lnTo>
                  <a:pt x="1900" y="246"/>
                </a:lnTo>
                <a:lnTo>
                  <a:pt x="1909" y="245"/>
                </a:lnTo>
                <a:lnTo>
                  <a:pt x="1917" y="243"/>
                </a:lnTo>
                <a:lnTo>
                  <a:pt x="1926" y="241"/>
                </a:lnTo>
                <a:lnTo>
                  <a:pt x="1935" y="239"/>
                </a:lnTo>
                <a:lnTo>
                  <a:pt x="1945" y="239"/>
                </a:lnTo>
                <a:lnTo>
                  <a:pt x="1952" y="239"/>
                </a:lnTo>
                <a:lnTo>
                  <a:pt x="1961" y="237"/>
                </a:lnTo>
                <a:lnTo>
                  <a:pt x="1971" y="237"/>
                </a:lnTo>
                <a:lnTo>
                  <a:pt x="1980" y="239"/>
                </a:lnTo>
                <a:lnTo>
                  <a:pt x="1989" y="239"/>
                </a:lnTo>
                <a:lnTo>
                  <a:pt x="1997" y="239"/>
                </a:lnTo>
                <a:lnTo>
                  <a:pt x="2006" y="241"/>
                </a:lnTo>
                <a:lnTo>
                  <a:pt x="2015" y="241"/>
                </a:lnTo>
                <a:lnTo>
                  <a:pt x="2025" y="243"/>
                </a:lnTo>
                <a:lnTo>
                  <a:pt x="2034" y="245"/>
                </a:lnTo>
                <a:lnTo>
                  <a:pt x="2042" y="246"/>
                </a:lnTo>
                <a:lnTo>
                  <a:pt x="2051" y="246"/>
                </a:lnTo>
                <a:lnTo>
                  <a:pt x="2060" y="248"/>
                </a:lnTo>
                <a:lnTo>
                  <a:pt x="2070" y="250"/>
                </a:lnTo>
                <a:lnTo>
                  <a:pt x="2077" y="252"/>
                </a:lnTo>
                <a:lnTo>
                  <a:pt x="2086" y="252"/>
                </a:lnTo>
                <a:lnTo>
                  <a:pt x="2096" y="254"/>
                </a:lnTo>
                <a:lnTo>
                  <a:pt x="2105" y="254"/>
                </a:lnTo>
                <a:lnTo>
                  <a:pt x="2114" y="256"/>
                </a:lnTo>
                <a:lnTo>
                  <a:pt x="2122" y="256"/>
                </a:lnTo>
                <a:lnTo>
                  <a:pt x="2131" y="256"/>
                </a:lnTo>
                <a:lnTo>
                  <a:pt x="2140" y="256"/>
                </a:lnTo>
                <a:lnTo>
                  <a:pt x="2150" y="258"/>
                </a:lnTo>
                <a:lnTo>
                  <a:pt x="2159" y="258"/>
                </a:lnTo>
                <a:lnTo>
                  <a:pt x="2166" y="256"/>
                </a:lnTo>
                <a:lnTo>
                  <a:pt x="2176" y="256"/>
                </a:lnTo>
                <a:lnTo>
                  <a:pt x="2185" y="254"/>
                </a:lnTo>
                <a:lnTo>
                  <a:pt x="2194" y="254"/>
                </a:lnTo>
                <a:lnTo>
                  <a:pt x="2202" y="250"/>
                </a:lnTo>
                <a:lnTo>
                  <a:pt x="2211" y="248"/>
                </a:lnTo>
                <a:lnTo>
                  <a:pt x="2220" y="246"/>
                </a:lnTo>
                <a:lnTo>
                  <a:pt x="2230" y="243"/>
                </a:lnTo>
                <a:lnTo>
                  <a:pt x="2239" y="239"/>
                </a:lnTo>
                <a:lnTo>
                  <a:pt x="2246" y="235"/>
                </a:lnTo>
                <a:lnTo>
                  <a:pt x="2256" y="232"/>
                </a:lnTo>
                <a:lnTo>
                  <a:pt x="2265" y="228"/>
                </a:lnTo>
                <a:lnTo>
                  <a:pt x="2274" y="222"/>
                </a:lnTo>
                <a:lnTo>
                  <a:pt x="2284" y="217"/>
                </a:lnTo>
                <a:lnTo>
                  <a:pt x="2291" y="211"/>
                </a:lnTo>
                <a:lnTo>
                  <a:pt x="2301" y="205"/>
                </a:lnTo>
                <a:lnTo>
                  <a:pt x="2310" y="198"/>
                </a:lnTo>
                <a:lnTo>
                  <a:pt x="2319" y="192"/>
                </a:lnTo>
                <a:lnTo>
                  <a:pt x="2327" y="185"/>
                </a:lnTo>
                <a:lnTo>
                  <a:pt x="2336" y="179"/>
                </a:lnTo>
                <a:lnTo>
                  <a:pt x="2345" y="172"/>
                </a:lnTo>
                <a:lnTo>
                  <a:pt x="2355" y="163"/>
                </a:lnTo>
                <a:lnTo>
                  <a:pt x="2364" y="155"/>
                </a:lnTo>
                <a:lnTo>
                  <a:pt x="2371" y="148"/>
                </a:lnTo>
                <a:lnTo>
                  <a:pt x="2381" y="140"/>
                </a:lnTo>
                <a:lnTo>
                  <a:pt x="2390" y="131"/>
                </a:lnTo>
                <a:lnTo>
                  <a:pt x="2399" y="123"/>
                </a:lnTo>
                <a:lnTo>
                  <a:pt x="2409" y="114"/>
                </a:lnTo>
                <a:lnTo>
                  <a:pt x="2416" y="107"/>
                </a:lnTo>
                <a:lnTo>
                  <a:pt x="2425" y="97"/>
                </a:lnTo>
                <a:lnTo>
                  <a:pt x="2435" y="90"/>
                </a:lnTo>
                <a:lnTo>
                  <a:pt x="2444" y="81"/>
                </a:lnTo>
                <a:lnTo>
                  <a:pt x="2451" y="73"/>
                </a:lnTo>
                <a:lnTo>
                  <a:pt x="2461" y="66"/>
                </a:lnTo>
                <a:lnTo>
                  <a:pt x="2470" y="58"/>
                </a:lnTo>
                <a:lnTo>
                  <a:pt x="2479" y="51"/>
                </a:lnTo>
                <a:lnTo>
                  <a:pt x="2489" y="43"/>
                </a:lnTo>
                <a:lnTo>
                  <a:pt x="2496" y="38"/>
                </a:lnTo>
                <a:lnTo>
                  <a:pt x="2505" y="30"/>
                </a:lnTo>
                <a:lnTo>
                  <a:pt x="2515" y="25"/>
                </a:lnTo>
                <a:lnTo>
                  <a:pt x="2524" y="21"/>
                </a:lnTo>
                <a:lnTo>
                  <a:pt x="2533" y="15"/>
                </a:lnTo>
                <a:lnTo>
                  <a:pt x="2541" y="12"/>
                </a:lnTo>
                <a:lnTo>
                  <a:pt x="2550" y="8"/>
                </a:lnTo>
                <a:lnTo>
                  <a:pt x="2559" y="6"/>
                </a:lnTo>
                <a:lnTo>
                  <a:pt x="2569" y="4"/>
                </a:lnTo>
                <a:lnTo>
                  <a:pt x="2576" y="2"/>
                </a:lnTo>
                <a:lnTo>
                  <a:pt x="2586" y="0"/>
                </a:lnTo>
                <a:lnTo>
                  <a:pt x="2595" y="0"/>
                </a:lnTo>
                <a:lnTo>
                  <a:pt x="2604" y="2"/>
                </a:lnTo>
                <a:lnTo>
                  <a:pt x="2613" y="2"/>
                </a:lnTo>
                <a:lnTo>
                  <a:pt x="2621" y="6"/>
                </a:lnTo>
                <a:lnTo>
                  <a:pt x="2630" y="8"/>
                </a:lnTo>
                <a:lnTo>
                  <a:pt x="2640" y="12"/>
                </a:lnTo>
                <a:lnTo>
                  <a:pt x="2649" y="17"/>
                </a:lnTo>
                <a:lnTo>
                  <a:pt x="2658" y="21"/>
                </a:lnTo>
                <a:lnTo>
                  <a:pt x="2666" y="28"/>
                </a:lnTo>
                <a:lnTo>
                  <a:pt x="2675" y="34"/>
                </a:lnTo>
                <a:lnTo>
                  <a:pt x="2684" y="41"/>
                </a:lnTo>
                <a:lnTo>
                  <a:pt x="2694" y="49"/>
                </a:lnTo>
                <a:lnTo>
                  <a:pt x="2701" y="58"/>
                </a:lnTo>
                <a:lnTo>
                  <a:pt x="2710" y="68"/>
                </a:lnTo>
                <a:lnTo>
                  <a:pt x="2720" y="77"/>
                </a:lnTo>
                <a:lnTo>
                  <a:pt x="2729" y="88"/>
                </a:lnTo>
                <a:lnTo>
                  <a:pt x="2738" y="99"/>
                </a:lnTo>
                <a:lnTo>
                  <a:pt x="2746" y="109"/>
                </a:lnTo>
                <a:lnTo>
                  <a:pt x="2755" y="120"/>
                </a:lnTo>
                <a:lnTo>
                  <a:pt x="2764" y="129"/>
                </a:lnTo>
                <a:lnTo>
                  <a:pt x="2774" y="140"/>
                </a:lnTo>
                <a:lnTo>
                  <a:pt x="2783" y="151"/>
                </a:lnTo>
                <a:lnTo>
                  <a:pt x="2790" y="163"/>
                </a:lnTo>
                <a:lnTo>
                  <a:pt x="2800" y="174"/>
                </a:lnTo>
                <a:lnTo>
                  <a:pt x="2809" y="187"/>
                </a:lnTo>
                <a:lnTo>
                  <a:pt x="2818" y="196"/>
                </a:lnTo>
                <a:lnTo>
                  <a:pt x="2826" y="207"/>
                </a:lnTo>
                <a:lnTo>
                  <a:pt x="2835" y="219"/>
                </a:lnTo>
                <a:lnTo>
                  <a:pt x="2845" y="228"/>
                </a:lnTo>
                <a:lnTo>
                  <a:pt x="2854" y="239"/>
                </a:lnTo>
                <a:lnTo>
                  <a:pt x="2863" y="248"/>
                </a:lnTo>
                <a:lnTo>
                  <a:pt x="2871" y="258"/>
                </a:lnTo>
                <a:lnTo>
                  <a:pt x="2880" y="267"/>
                </a:lnTo>
                <a:lnTo>
                  <a:pt x="2889" y="276"/>
                </a:lnTo>
                <a:lnTo>
                  <a:pt x="2899" y="286"/>
                </a:lnTo>
                <a:lnTo>
                  <a:pt x="2908" y="293"/>
                </a:lnTo>
                <a:lnTo>
                  <a:pt x="2915" y="301"/>
                </a:lnTo>
                <a:lnTo>
                  <a:pt x="2925" y="310"/>
                </a:lnTo>
                <a:lnTo>
                  <a:pt x="2934" y="317"/>
                </a:lnTo>
                <a:lnTo>
                  <a:pt x="2943" y="325"/>
                </a:lnTo>
                <a:lnTo>
                  <a:pt x="2951" y="330"/>
                </a:lnTo>
                <a:lnTo>
                  <a:pt x="2960" y="338"/>
                </a:lnTo>
                <a:lnTo>
                  <a:pt x="2969" y="345"/>
                </a:lnTo>
                <a:lnTo>
                  <a:pt x="2979" y="351"/>
                </a:lnTo>
                <a:lnTo>
                  <a:pt x="2988" y="356"/>
                </a:lnTo>
                <a:lnTo>
                  <a:pt x="2995" y="362"/>
                </a:lnTo>
                <a:lnTo>
                  <a:pt x="3005" y="368"/>
                </a:lnTo>
                <a:lnTo>
                  <a:pt x="3014" y="373"/>
                </a:lnTo>
                <a:lnTo>
                  <a:pt x="3023" y="379"/>
                </a:lnTo>
                <a:lnTo>
                  <a:pt x="3033" y="383"/>
                </a:lnTo>
                <a:lnTo>
                  <a:pt x="3040" y="388"/>
                </a:lnTo>
                <a:lnTo>
                  <a:pt x="3049" y="394"/>
                </a:lnTo>
                <a:lnTo>
                  <a:pt x="3059" y="397"/>
                </a:lnTo>
                <a:lnTo>
                  <a:pt x="3068" y="403"/>
                </a:lnTo>
                <a:lnTo>
                  <a:pt x="3076" y="407"/>
                </a:lnTo>
                <a:lnTo>
                  <a:pt x="3085" y="410"/>
                </a:lnTo>
                <a:lnTo>
                  <a:pt x="3094" y="414"/>
                </a:lnTo>
                <a:lnTo>
                  <a:pt x="3103" y="418"/>
                </a:lnTo>
                <a:lnTo>
                  <a:pt x="3113" y="422"/>
                </a:lnTo>
                <a:lnTo>
                  <a:pt x="3120" y="425"/>
                </a:lnTo>
                <a:lnTo>
                  <a:pt x="3130" y="429"/>
                </a:lnTo>
                <a:lnTo>
                  <a:pt x="3139" y="433"/>
                </a:lnTo>
                <a:lnTo>
                  <a:pt x="3148" y="437"/>
                </a:lnTo>
                <a:lnTo>
                  <a:pt x="3157" y="438"/>
                </a:lnTo>
                <a:lnTo>
                  <a:pt x="3165" y="442"/>
                </a:lnTo>
                <a:lnTo>
                  <a:pt x="3174" y="446"/>
                </a:lnTo>
                <a:lnTo>
                  <a:pt x="3184" y="448"/>
                </a:lnTo>
                <a:lnTo>
                  <a:pt x="3193" y="451"/>
                </a:lnTo>
                <a:lnTo>
                  <a:pt x="3200" y="453"/>
                </a:lnTo>
                <a:lnTo>
                  <a:pt x="3210" y="457"/>
                </a:lnTo>
                <a:lnTo>
                  <a:pt x="3219" y="461"/>
                </a:lnTo>
                <a:lnTo>
                  <a:pt x="3228" y="463"/>
                </a:lnTo>
                <a:lnTo>
                  <a:pt x="3238" y="466"/>
                </a:lnTo>
                <a:lnTo>
                  <a:pt x="3245" y="468"/>
                </a:lnTo>
                <a:lnTo>
                  <a:pt x="3254" y="472"/>
                </a:lnTo>
                <a:lnTo>
                  <a:pt x="3264" y="474"/>
                </a:lnTo>
                <a:lnTo>
                  <a:pt x="3273" y="478"/>
                </a:lnTo>
                <a:lnTo>
                  <a:pt x="3282" y="479"/>
                </a:lnTo>
                <a:lnTo>
                  <a:pt x="3290" y="481"/>
                </a:lnTo>
                <a:lnTo>
                  <a:pt x="3299" y="483"/>
                </a:lnTo>
                <a:lnTo>
                  <a:pt x="3308" y="487"/>
                </a:lnTo>
                <a:lnTo>
                  <a:pt x="3318" y="489"/>
                </a:lnTo>
                <a:lnTo>
                  <a:pt x="3325" y="493"/>
                </a:lnTo>
                <a:lnTo>
                  <a:pt x="3334" y="494"/>
                </a:lnTo>
                <a:lnTo>
                  <a:pt x="3344" y="498"/>
                </a:lnTo>
                <a:lnTo>
                  <a:pt x="3353" y="500"/>
                </a:lnTo>
                <a:lnTo>
                  <a:pt x="3362" y="504"/>
                </a:lnTo>
                <a:lnTo>
                  <a:pt x="3370" y="507"/>
                </a:lnTo>
                <a:lnTo>
                  <a:pt x="3379" y="509"/>
                </a:lnTo>
                <a:lnTo>
                  <a:pt x="3388" y="513"/>
                </a:lnTo>
                <a:lnTo>
                  <a:pt x="3398" y="515"/>
                </a:lnTo>
                <a:lnTo>
                  <a:pt x="3407" y="519"/>
                </a:lnTo>
                <a:lnTo>
                  <a:pt x="3415" y="520"/>
                </a:lnTo>
                <a:lnTo>
                  <a:pt x="3424" y="524"/>
                </a:lnTo>
                <a:lnTo>
                  <a:pt x="3433" y="526"/>
                </a:lnTo>
                <a:lnTo>
                  <a:pt x="3443" y="530"/>
                </a:lnTo>
                <a:lnTo>
                  <a:pt x="3450" y="534"/>
                </a:lnTo>
                <a:lnTo>
                  <a:pt x="3459" y="535"/>
                </a:lnTo>
                <a:lnTo>
                  <a:pt x="3469" y="537"/>
                </a:lnTo>
                <a:lnTo>
                  <a:pt x="3478" y="541"/>
                </a:lnTo>
                <a:lnTo>
                  <a:pt x="3487" y="545"/>
                </a:lnTo>
                <a:lnTo>
                  <a:pt x="3495" y="547"/>
                </a:lnTo>
                <a:lnTo>
                  <a:pt x="3504" y="550"/>
                </a:lnTo>
                <a:lnTo>
                  <a:pt x="3513" y="552"/>
                </a:lnTo>
                <a:lnTo>
                  <a:pt x="3523" y="556"/>
                </a:lnTo>
                <a:lnTo>
                  <a:pt x="3532" y="560"/>
                </a:lnTo>
                <a:lnTo>
                  <a:pt x="3539" y="561"/>
                </a:lnTo>
                <a:lnTo>
                  <a:pt x="3549" y="565"/>
                </a:lnTo>
                <a:lnTo>
                  <a:pt x="3558" y="567"/>
                </a:lnTo>
                <a:lnTo>
                  <a:pt x="3567" y="571"/>
                </a:lnTo>
              </a:path>
            </a:pathLst>
          </a:custGeom>
          <a:noFill/>
          <a:ln w="0">
            <a:solidFill>
              <a:srgbClr val="ff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任意多边形 273"/>
          <p:cNvSpPr/>
          <p:nvPr/>
        </p:nvSpPr>
        <p:spPr>
          <a:xfrm>
            <a:off x="2228760" y="4248000"/>
            <a:ext cx="5662800" cy="71136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3567" h="448">
                <a:moveTo>
                  <a:pt x="0" y="448"/>
                </a:moveTo>
                <a:lnTo>
                  <a:pt x="9" y="448"/>
                </a:lnTo>
                <a:lnTo>
                  <a:pt x="18" y="448"/>
                </a:lnTo>
                <a:lnTo>
                  <a:pt x="28" y="448"/>
                </a:lnTo>
                <a:lnTo>
                  <a:pt x="35" y="448"/>
                </a:lnTo>
                <a:lnTo>
                  <a:pt x="44" y="448"/>
                </a:lnTo>
                <a:lnTo>
                  <a:pt x="54" y="448"/>
                </a:lnTo>
                <a:lnTo>
                  <a:pt x="63" y="448"/>
                </a:lnTo>
                <a:lnTo>
                  <a:pt x="72" y="446"/>
                </a:lnTo>
                <a:lnTo>
                  <a:pt x="80" y="446"/>
                </a:lnTo>
                <a:lnTo>
                  <a:pt x="89" y="446"/>
                </a:lnTo>
                <a:lnTo>
                  <a:pt x="99" y="446"/>
                </a:lnTo>
                <a:lnTo>
                  <a:pt x="108" y="446"/>
                </a:lnTo>
                <a:lnTo>
                  <a:pt x="117" y="446"/>
                </a:lnTo>
                <a:lnTo>
                  <a:pt x="125" y="446"/>
                </a:lnTo>
                <a:lnTo>
                  <a:pt x="134" y="446"/>
                </a:lnTo>
                <a:lnTo>
                  <a:pt x="143" y="444"/>
                </a:lnTo>
                <a:lnTo>
                  <a:pt x="153" y="444"/>
                </a:lnTo>
                <a:lnTo>
                  <a:pt x="160" y="444"/>
                </a:lnTo>
                <a:lnTo>
                  <a:pt x="169" y="444"/>
                </a:lnTo>
                <a:lnTo>
                  <a:pt x="179" y="442"/>
                </a:lnTo>
                <a:lnTo>
                  <a:pt x="188" y="442"/>
                </a:lnTo>
                <a:lnTo>
                  <a:pt x="197" y="442"/>
                </a:lnTo>
                <a:lnTo>
                  <a:pt x="205" y="442"/>
                </a:lnTo>
                <a:lnTo>
                  <a:pt x="214" y="440"/>
                </a:lnTo>
                <a:lnTo>
                  <a:pt x="223" y="440"/>
                </a:lnTo>
                <a:lnTo>
                  <a:pt x="233" y="440"/>
                </a:lnTo>
                <a:lnTo>
                  <a:pt x="242" y="438"/>
                </a:lnTo>
                <a:lnTo>
                  <a:pt x="249" y="437"/>
                </a:lnTo>
                <a:lnTo>
                  <a:pt x="259" y="437"/>
                </a:lnTo>
                <a:lnTo>
                  <a:pt x="268" y="437"/>
                </a:lnTo>
                <a:lnTo>
                  <a:pt x="277" y="435"/>
                </a:lnTo>
                <a:lnTo>
                  <a:pt x="285" y="435"/>
                </a:lnTo>
                <a:lnTo>
                  <a:pt x="294" y="435"/>
                </a:lnTo>
                <a:lnTo>
                  <a:pt x="303" y="433"/>
                </a:lnTo>
                <a:lnTo>
                  <a:pt x="313" y="433"/>
                </a:lnTo>
                <a:lnTo>
                  <a:pt x="322" y="431"/>
                </a:lnTo>
                <a:lnTo>
                  <a:pt x="330" y="431"/>
                </a:lnTo>
                <a:lnTo>
                  <a:pt x="339" y="431"/>
                </a:lnTo>
                <a:lnTo>
                  <a:pt x="348" y="429"/>
                </a:lnTo>
                <a:lnTo>
                  <a:pt x="357" y="429"/>
                </a:lnTo>
                <a:lnTo>
                  <a:pt x="367" y="429"/>
                </a:lnTo>
                <a:lnTo>
                  <a:pt x="374" y="427"/>
                </a:lnTo>
                <a:lnTo>
                  <a:pt x="384" y="427"/>
                </a:lnTo>
                <a:lnTo>
                  <a:pt x="393" y="425"/>
                </a:lnTo>
                <a:lnTo>
                  <a:pt x="402" y="425"/>
                </a:lnTo>
                <a:lnTo>
                  <a:pt x="410" y="424"/>
                </a:lnTo>
                <a:lnTo>
                  <a:pt x="419" y="424"/>
                </a:lnTo>
                <a:lnTo>
                  <a:pt x="428" y="422"/>
                </a:lnTo>
                <a:lnTo>
                  <a:pt x="438" y="422"/>
                </a:lnTo>
                <a:lnTo>
                  <a:pt x="447" y="420"/>
                </a:lnTo>
                <a:lnTo>
                  <a:pt x="454" y="420"/>
                </a:lnTo>
                <a:lnTo>
                  <a:pt x="464" y="418"/>
                </a:lnTo>
                <a:lnTo>
                  <a:pt x="473" y="418"/>
                </a:lnTo>
                <a:lnTo>
                  <a:pt x="482" y="416"/>
                </a:lnTo>
                <a:lnTo>
                  <a:pt x="492" y="416"/>
                </a:lnTo>
                <a:lnTo>
                  <a:pt x="499" y="416"/>
                </a:lnTo>
                <a:lnTo>
                  <a:pt x="508" y="414"/>
                </a:lnTo>
                <a:lnTo>
                  <a:pt x="518" y="414"/>
                </a:lnTo>
                <a:lnTo>
                  <a:pt x="527" y="412"/>
                </a:lnTo>
                <a:lnTo>
                  <a:pt x="534" y="412"/>
                </a:lnTo>
                <a:lnTo>
                  <a:pt x="544" y="411"/>
                </a:lnTo>
                <a:lnTo>
                  <a:pt x="553" y="411"/>
                </a:lnTo>
                <a:lnTo>
                  <a:pt x="562" y="409"/>
                </a:lnTo>
                <a:lnTo>
                  <a:pt x="572" y="409"/>
                </a:lnTo>
                <a:lnTo>
                  <a:pt x="579" y="407"/>
                </a:lnTo>
                <a:lnTo>
                  <a:pt x="588" y="405"/>
                </a:lnTo>
                <a:lnTo>
                  <a:pt x="598" y="405"/>
                </a:lnTo>
                <a:lnTo>
                  <a:pt x="607" y="405"/>
                </a:lnTo>
                <a:lnTo>
                  <a:pt x="616" y="403"/>
                </a:lnTo>
                <a:lnTo>
                  <a:pt x="624" y="403"/>
                </a:lnTo>
                <a:lnTo>
                  <a:pt x="633" y="401"/>
                </a:lnTo>
                <a:lnTo>
                  <a:pt x="642" y="401"/>
                </a:lnTo>
                <a:lnTo>
                  <a:pt x="652" y="401"/>
                </a:lnTo>
                <a:lnTo>
                  <a:pt x="659" y="399"/>
                </a:lnTo>
                <a:lnTo>
                  <a:pt x="669" y="399"/>
                </a:lnTo>
                <a:lnTo>
                  <a:pt x="678" y="397"/>
                </a:lnTo>
                <a:lnTo>
                  <a:pt x="687" y="397"/>
                </a:lnTo>
                <a:lnTo>
                  <a:pt x="697" y="397"/>
                </a:lnTo>
                <a:lnTo>
                  <a:pt x="704" y="397"/>
                </a:lnTo>
                <a:lnTo>
                  <a:pt x="713" y="396"/>
                </a:lnTo>
                <a:lnTo>
                  <a:pt x="723" y="394"/>
                </a:lnTo>
                <a:lnTo>
                  <a:pt x="732" y="394"/>
                </a:lnTo>
                <a:lnTo>
                  <a:pt x="741" y="394"/>
                </a:lnTo>
                <a:lnTo>
                  <a:pt x="749" y="392"/>
                </a:lnTo>
                <a:lnTo>
                  <a:pt x="758" y="392"/>
                </a:lnTo>
                <a:lnTo>
                  <a:pt x="767" y="390"/>
                </a:lnTo>
                <a:lnTo>
                  <a:pt x="777" y="390"/>
                </a:lnTo>
                <a:lnTo>
                  <a:pt x="784" y="390"/>
                </a:lnTo>
                <a:lnTo>
                  <a:pt x="793" y="388"/>
                </a:lnTo>
                <a:lnTo>
                  <a:pt x="803" y="388"/>
                </a:lnTo>
                <a:lnTo>
                  <a:pt x="812" y="386"/>
                </a:lnTo>
                <a:lnTo>
                  <a:pt x="821" y="386"/>
                </a:lnTo>
                <a:lnTo>
                  <a:pt x="829" y="386"/>
                </a:lnTo>
                <a:lnTo>
                  <a:pt x="838" y="384"/>
                </a:lnTo>
                <a:lnTo>
                  <a:pt x="847" y="383"/>
                </a:lnTo>
                <a:lnTo>
                  <a:pt x="857" y="383"/>
                </a:lnTo>
                <a:lnTo>
                  <a:pt x="866" y="383"/>
                </a:lnTo>
                <a:lnTo>
                  <a:pt x="873" y="381"/>
                </a:lnTo>
                <a:lnTo>
                  <a:pt x="883" y="381"/>
                </a:lnTo>
                <a:lnTo>
                  <a:pt x="892" y="379"/>
                </a:lnTo>
                <a:lnTo>
                  <a:pt x="901" y="379"/>
                </a:lnTo>
                <a:lnTo>
                  <a:pt x="909" y="377"/>
                </a:lnTo>
                <a:lnTo>
                  <a:pt x="918" y="377"/>
                </a:lnTo>
                <a:lnTo>
                  <a:pt x="928" y="375"/>
                </a:lnTo>
                <a:lnTo>
                  <a:pt x="937" y="375"/>
                </a:lnTo>
                <a:lnTo>
                  <a:pt x="946" y="373"/>
                </a:lnTo>
                <a:lnTo>
                  <a:pt x="954" y="371"/>
                </a:lnTo>
                <a:lnTo>
                  <a:pt x="963" y="371"/>
                </a:lnTo>
                <a:lnTo>
                  <a:pt x="972" y="370"/>
                </a:lnTo>
                <a:lnTo>
                  <a:pt x="982" y="368"/>
                </a:lnTo>
                <a:lnTo>
                  <a:pt x="991" y="368"/>
                </a:lnTo>
                <a:lnTo>
                  <a:pt x="998" y="368"/>
                </a:lnTo>
                <a:lnTo>
                  <a:pt x="1008" y="366"/>
                </a:lnTo>
                <a:lnTo>
                  <a:pt x="1017" y="364"/>
                </a:lnTo>
                <a:lnTo>
                  <a:pt x="1026" y="364"/>
                </a:lnTo>
                <a:lnTo>
                  <a:pt x="1034" y="362"/>
                </a:lnTo>
                <a:lnTo>
                  <a:pt x="1043" y="362"/>
                </a:lnTo>
                <a:lnTo>
                  <a:pt x="1052" y="360"/>
                </a:lnTo>
                <a:lnTo>
                  <a:pt x="1062" y="358"/>
                </a:lnTo>
                <a:lnTo>
                  <a:pt x="1071" y="358"/>
                </a:lnTo>
                <a:lnTo>
                  <a:pt x="1078" y="356"/>
                </a:lnTo>
                <a:lnTo>
                  <a:pt x="1088" y="355"/>
                </a:lnTo>
                <a:lnTo>
                  <a:pt x="1097" y="355"/>
                </a:lnTo>
                <a:lnTo>
                  <a:pt x="1106" y="353"/>
                </a:lnTo>
                <a:lnTo>
                  <a:pt x="1116" y="351"/>
                </a:lnTo>
                <a:lnTo>
                  <a:pt x="1123" y="351"/>
                </a:lnTo>
                <a:lnTo>
                  <a:pt x="1132" y="349"/>
                </a:lnTo>
                <a:lnTo>
                  <a:pt x="1142" y="349"/>
                </a:lnTo>
                <a:lnTo>
                  <a:pt x="1151" y="347"/>
                </a:lnTo>
                <a:lnTo>
                  <a:pt x="1159" y="345"/>
                </a:lnTo>
                <a:lnTo>
                  <a:pt x="1168" y="345"/>
                </a:lnTo>
                <a:lnTo>
                  <a:pt x="1177" y="343"/>
                </a:lnTo>
                <a:lnTo>
                  <a:pt x="1186" y="343"/>
                </a:lnTo>
                <a:lnTo>
                  <a:pt x="1196" y="342"/>
                </a:lnTo>
                <a:lnTo>
                  <a:pt x="1203" y="340"/>
                </a:lnTo>
                <a:lnTo>
                  <a:pt x="1213" y="338"/>
                </a:lnTo>
                <a:lnTo>
                  <a:pt x="1222" y="338"/>
                </a:lnTo>
                <a:lnTo>
                  <a:pt x="1231" y="336"/>
                </a:lnTo>
                <a:lnTo>
                  <a:pt x="1240" y="334"/>
                </a:lnTo>
                <a:lnTo>
                  <a:pt x="1248" y="334"/>
                </a:lnTo>
                <a:lnTo>
                  <a:pt x="1257" y="332"/>
                </a:lnTo>
                <a:lnTo>
                  <a:pt x="1267" y="330"/>
                </a:lnTo>
                <a:lnTo>
                  <a:pt x="1276" y="330"/>
                </a:lnTo>
                <a:lnTo>
                  <a:pt x="1283" y="329"/>
                </a:lnTo>
                <a:lnTo>
                  <a:pt x="1293" y="329"/>
                </a:lnTo>
                <a:lnTo>
                  <a:pt x="1302" y="327"/>
                </a:lnTo>
                <a:lnTo>
                  <a:pt x="1311" y="327"/>
                </a:lnTo>
                <a:lnTo>
                  <a:pt x="1321" y="325"/>
                </a:lnTo>
                <a:lnTo>
                  <a:pt x="1328" y="325"/>
                </a:lnTo>
                <a:lnTo>
                  <a:pt x="1337" y="323"/>
                </a:lnTo>
                <a:lnTo>
                  <a:pt x="1347" y="323"/>
                </a:lnTo>
                <a:lnTo>
                  <a:pt x="1356" y="321"/>
                </a:lnTo>
                <a:lnTo>
                  <a:pt x="1365" y="319"/>
                </a:lnTo>
                <a:lnTo>
                  <a:pt x="1373" y="319"/>
                </a:lnTo>
                <a:lnTo>
                  <a:pt x="1382" y="317"/>
                </a:lnTo>
                <a:lnTo>
                  <a:pt x="1391" y="315"/>
                </a:lnTo>
                <a:lnTo>
                  <a:pt x="1401" y="315"/>
                </a:lnTo>
                <a:lnTo>
                  <a:pt x="1408" y="314"/>
                </a:lnTo>
                <a:lnTo>
                  <a:pt x="1417" y="314"/>
                </a:lnTo>
                <a:lnTo>
                  <a:pt x="1427" y="312"/>
                </a:lnTo>
                <a:lnTo>
                  <a:pt x="1436" y="312"/>
                </a:lnTo>
                <a:lnTo>
                  <a:pt x="1445" y="310"/>
                </a:lnTo>
                <a:lnTo>
                  <a:pt x="1453" y="308"/>
                </a:lnTo>
                <a:lnTo>
                  <a:pt x="1462" y="308"/>
                </a:lnTo>
                <a:lnTo>
                  <a:pt x="1472" y="306"/>
                </a:lnTo>
                <a:lnTo>
                  <a:pt x="1481" y="304"/>
                </a:lnTo>
                <a:lnTo>
                  <a:pt x="1490" y="302"/>
                </a:lnTo>
                <a:lnTo>
                  <a:pt x="1498" y="301"/>
                </a:lnTo>
                <a:lnTo>
                  <a:pt x="1507" y="299"/>
                </a:lnTo>
                <a:lnTo>
                  <a:pt x="1516" y="297"/>
                </a:lnTo>
                <a:lnTo>
                  <a:pt x="1526" y="297"/>
                </a:lnTo>
                <a:lnTo>
                  <a:pt x="1533" y="295"/>
                </a:lnTo>
                <a:lnTo>
                  <a:pt x="1542" y="293"/>
                </a:lnTo>
                <a:lnTo>
                  <a:pt x="1552" y="289"/>
                </a:lnTo>
                <a:lnTo>
                  <a:pt x="1561" y="288"/>
                </a:lnTo>
                <a:lnTo>
                  <a:pt x="1570" y="288"/>
                </a:lnTo>
                <a:lnTo>
                  <a:pt x="1578" y="284"/>
                </a:lnTo>
                <a:lnTo>
                  <a:pt x="1587" y="282"/>
                </a:lnTo>
                <a:lnTo>
                  <a:pt x="1596" y="280"/>
                </a:lnTo>
                <a:lnTo>
                  <a:pt x="1606" y="276"/>
                </a:lnTo>
                <a:lnTo>
                  <a:pt x="1615" y="274"/>
                </a:lnTo>
                <a:lnTo>
                  <a:pt x="1622" y="271"/>
                </a:lnTo>
                <a:lnTo>
                  <a:pt x="1632" y="269"/>
                </a:lnTo>
                <a:lnTo>
                  <a:pt x="1641" y="265"/>
                </a:lnTo>
                <a:lnTo>
                  <a:pt x="1650" y="261"/>
                </a:lnTo>
                <a:lnTo>
                  <a:pt x="1658" y="260"/>
                </a:lnTo>
                <a:lnTo>
                  <a:pt x="1667" y="256"/>
                </a:lnTo>
                <a:lnTo>
                  <a:pt x="1676" y="252"/>
                </a:lnTo>
                <a:lnTo>
                  <a:pt x="1686" y="250"/>
                </a:lnTo>
                <a:lnTo>
                  <a:pt x="1695" y="247"/>
                </a:lnTo>
                <a:lnTo>
                  <a:pt x="1703" y="243"/>
                </a:lnTo>
                <a:lnTo>
                  <a:pt x="1712" y="239"/>
                </a:lnTo>
                <a:lnTo>
                  <a:pt x="1721" y="235"/>
                </a:lnTo>
                <a:lnTo>
                  <a:pt x="1730" y="232"/>
                </a:lnTo>
                <a:lnTo>
                  <a:pt x="1740" y="228"/>
                </a:lnTo>
                <a:lnTo>
                  <a:pt x="1747" y="224"/>
                </a:lnTo>
                <a:lnTo>
                  <a:pt x="1757" y="220"/>
                </a:lnTo>
                <a:lnTo>
                  <a:pt x="1766" y="217"/>
                </a:lnTo>
                <a:lnTo>
                  <a:pt x="1775" y="215"/>
                </a:lnTo>
                <a:lnTo>
                  <a:pt x="1784" y="211"/>
                </a:lnTo>
                <a:lnTo>
                  <a:pt x="1792" y="207"/>
                </a:lnTo>
                <a:lnTo>
                  <a:pt x="1801" y="204"/>
                </a:lnTo>
                <a:lnTo>
                  <a:pt x="1811" y="200"/>
                </a:lnTo>
                <a:lnTo>
                  <a:pt x="1820" y="196"/>
                </a:lnTo>
                <a:lnTo>
                  <a:pt x="1827" y="194"/>
                </a:lnTo>
                <a:lnTo>
                  <a:pt x="1837" y="191"/>
                </a:lnTo>
                <a:lnTo>
                  <a:pt x="1846" y="187"/>
                </a:lnTo>
                <a:lnTo>
                  <a:pt x="1855" y="183"/>
                </a:lnTo>
                <a:lnTo>
                  <a:pt x="1865" y="181"/>
                </a:lnTo>
                <a:lnTo>
                  <a:pt x="1872" y="179"/>
                </a:lnTo>
                <a:lnTo>
                  <a:pt x="1881" y="176"/>
                </a:lnTo>
                <a:lnTo>
                  <a:pt x="1891" y="174"/>
                </a:lnTo>
                <a:lnTo>
                  <a:pt x="1900" y="172"/>
                </a:lnTo>
                <a:lnTo>
                  <a:pt x="1909" y="168"/>
                </a:lnTo>
                <a:lnTo>
                  <a:pt x="1917" y="166"/>
                </a:lnTo>
                <a:lnTo>
                  <a:pt x="1926" y="165"/>
                </a:lnTo>
                <a:lnTo>
                  <a:pt x="1935" y="163"/>
                </a:lnTo>
                <a:lnTo>
                  <a:pt x="1945" y="161"/>
                </a:lnTo>
                <a:lnTo>
                  <a:pt x="1952" y="161"/>
                </a:lnTo>
                <a:lnTo>
                  <a:pt x="1961" y="159"/>
                </a:lnTo>
                <a:lnTo>
                  <a:pt x="1971" y="157"/>
                </a:lnTo>
                <a:lnTo>
                  <a:pt x="1980" y="155"/>
                </a:lnTo>
                <a:lnTo>
                  <a:pt x="1989" y="155"/>
                </a:lnTo>
                <a:lnTo>
                  <a:pt x="1997" y="153"/>
                </a:lnTo>
                <a:lnTo>
                  <a:pt x="2006" y="153"/>
                </a:lnTo>
                <a:lnTo>
                  <a:pt x="2015" y="151"/>
                </a:lnTo>
                <a:lnTo>
                  <a:pt x="2025" y="151"/>
                </a:lnTo>
                <a:lnTo>
                  <a:pt x="2034" y="151"/>
                </a:lnTo>
                <a:lnTo>
                  <a:pt x="2042" y="150"/>
                </a:lnTo>
                <a:lnTo>
                  <a:pt x="2051" y="150"/>
                </a:lnTo>
                <a:lnTo>
                  <a:pt x="2060" y="150"/>
                </a:lnTo>
                <a:lnTo>
                  <a:pt x="2070" y="148"/>
                </a:lnTo>
                <a:lnTo>
                  <a:pt x="2077" y="148"/>
                </a:lnTo>
                <a:lnTo>
                  <a:pt x="2086" y="148"/>
                </a:lnTo>
                <a:lnTo>
                  <a:pt x="2096" y="146"/>
                </a:lnTo>
                <a:lnTo>
                  <a:pt x="2105" y="146"/>
                </a:lnTo>
                <a:lnTo>
                  <a:pt x="2114" y="146"/>
                </a:lnTo>
                <a:lnTo>
                  <a:pt x="2122" y="144"/>
                </a:lnTo>
                <a:lnTo>
                  <a:pt x="2131" y="144"/>
                </a:lnTo>
                <a:lnTo>
                  <a:pt x="2140" y="142"/>
                </a:lnTo>
                <a:lnTo>
                  <a:pt x="2150" y="140"/>
                </a:lnTo>
                <a:lnTo>
                  <a:pt x="2159" y="138"/>
                </a:lnTo>
                <a:lnTo>
                  <a:pt x="2166" y="138"/>
                </a:lnTo>
                <a:lnTo>
                  <a:pt x="2176" y="137"/>
                </a:lnTo>
                <a:lnTo>
                  <a:pt x="2185" y="137"/>
                </a:lnTo>
                <a:lnTo>
                  <a:pt x="2194" y="135"/>
                </a:lnTo>
                <a:lnTo>
                  <a:pt x="2202" y="133"/>
                </a:lnTo>
                <a:lnTo>
                  <a:pt x="2211" y="131"/>
                </a:lnTo>
                <a:lnTo>
                  <a:pt x="2220" y="129"/>
                </a:lnTo>
                <a:lnTo>
                  <a:pt x="2230" y="127"/>
                </a:lnTo>
                <a:lnTo>
                  <a:pt x="2239" y="125"/>
                </a:lnTo>
                <a:lnTo>
                  <a:pt x="2246" y="124"/>
                </a:lnTo>
                <a:lnTo>
                  <a:pt x="2256" y="120"/>
                </a:lnTo>
                <a:lnTo>
                  <a:pt x="2265" y="118"/>
                </a:lnTo>
                <a:lnTo>
                  <a:pt x="2274" y="114"/>
                </a:lnTo>
                <a:lnTo>
                  <a:pt x="2284" y="112"/>
                </a:lnTo>
                <a:lnTo>
                  <a:pt x="2291" y="109"/>
                </a:lnTo>
                <a:lnTo>
                  <a:pt x="2301" y="107"/>
                </a:lnTo>
                <a:lnTo>
                  <a:pt x="2310" y="103"/>
                </a:lnTo>
                <a:lnTo>
                  <a:pt x="2319" y="99"/>
                </a:lnTo>
                <a:lnTo>
                  <a:pt x="2327" y="97"/>
                </a:lnTo>
                <a:lnTo>
                  <a:pt x="2336" y="94"/>
                </a:lnTo>
                <a:lnTo>
                  <a:pt x="2345" y="90"/>
                </a:lnTo>
                <a:lnTo>
                  <a:pt x="2355" y="86"/>
                </a:lnTo>
                <a:lnTo>
                  <a:pt x="2364" y="84"/>
                </a:lnTo>
                <a:lnTo>
                  <a:pt x="2371" y="79"/>
                </a:lnTo>
                <a:lnTo>
                  <a:pt x="2381" y="75"/>
                </a:lnTo>
                <a:lnTo>
                  <a:pt x="2390" y="71"/>
                </a:lnTo>
                <a:lnTo>
                  <a:pt x="2399" y="68"/>
                </a:lnTo>
                <a:lnTo>
                  <a:pt x="2409" y="62"/>
                </a:lnTo>
                <a:lnTo>
                  <a:pt x="2416" y="58"/>
                </a:lnTo>
                <a:lnTo>
                  <a:pt x="2425" y="55"/>
                </a:lnTo>
                <a:lnTo>
                  <a:pt x="2435" y="51"/>
                </a:lnTo>
                <a:lnTo>
                  <a:pt x="2444" y="47"/>
                </a:lnTo>
                <a:lnTo>
                  <a:pt x="2451" y="43"/>
                </a:lnTo>
                <a:lnTo>
                  <a:pt x="2461" y="40"/>
                </a:lnTo>
                <a:lnTo>
                  <a:pt x="2470" y="36"/>
                </a:lnTo>
                <a:lnTo>
                  <a:pt x="2479" y="32"/>
                </a:lnTo>
                <a:lnTo>
                  <a:pt x="2489" y="28"/>
                </a:lnTo>
                <a:lnTo>
                  <a:pt x="2496" y="25"/>
                </a:lnTo>
                <a:lnTo>
                  <a:pt x="2505" y="21"/>
                </a:lnTo>
                <a:lnTo>
                  <a:pt x="2515" y="19"/>
                </a:lnTo>
                <a:lnTo>
                  <a:pt x="2524" y="15"/>
                </a:lnTo>
                <a:lnTo>
                  <a:pt x="2533" y="14"/>
                </a:lnTo>
                <a:lnTo>
                  <a:pt x="2541" y="10"/>
                </a:lnTo>
                <a:lnTo>
                  <a:pt x="2550" y="8"/>
                </a:lnTo>
                <a:lnTo>
                  <a:pt x="2559" y="6"/>
                </a:lnTo>
                <a:lnTo>
                  <a:pt x="2569" y="4"/>
                </a:lnTo>
                <a:lnTo>
                  <a:pt x="2576" y="4"/>
                </a:lnTo>
                <a:lnTo>
                  <a:pt x="2586" y="2"/>
                </a:lnTo>
                <a:lnTo>
                  <a:pt x="2595" y="2"/>
                </a:lnTo>
                <a:lnTo>
                  <a:pt x="2604" y="0"/>
                </a:lnTo>
                <a:lnTo>
                  <a:pt x="2613" y="0"/>
                </a:lnTo>
                <a:lnTo>
                  <a:pt x="2621" y="0"/>
                </a:lnTo>
                <a:lnTo>
                  <a:pt x="2630" y="0"/>
                </a:lnTo>
                <a:lnTo>
                  <a:pt x="2640" y="0"/>
                </a:lnTo>
                <a:lnTo>
                  <a:pt x="2649" y="2"/>
                </a:lnTo>
                <a:lnTo>
                  <a:pt x="2658" y="4"/>
                </a:lnTo>
                <a:lnTo>
                  <a:pt x="2666" y="6"/>
                </a:lnTo>
                <a:lnTo>
                  <a:pt x="2675" y="8"/>
                </a:lnTo>
                <a:lnTo>
                  <a:pt x="2684" y="10"/>
                </a:lnTo>
                <a:lnTo>
                  <a:pt x="2694" y="12"/>
                </a:lnTo>
                <a:lnTo>
                  <a:pt x="2701" y="15"/>
                </a:lnTo>
                <a:lnTo>
                  <a:pt x="2710" y="17"/>
                </a:lnTo>
                <a:lnTo>
                  <a:pt x="2720" y="21"/>
                </a:lnTo>
                <a:lnTo>
                  <a:pt x="2729" y="25"/>
                </a:lnTo>
                <a:lnTo>
                  <a:pt x="2738" y="28"/>
                </a:lnTo>
                <a:lnTo>
                  <a:pt x="2746" y="32"/>
                </a:lnTo>
                <a:lnTo>
                  <a:pt x="2755" y="36"/>
                </a:lnTo>
                <a:lnTo>
                  <a:pt x="2764" y="40"/>
                </a:lnTo>
                <a:lnTo>
                  <a:pt x="2774" y="43"/>
                </a:lnTo>
                <a:lnTo>
                  <a:pt x="2783" y="49"/>
                </a:lnTo>
                <a:lnTo>
                  <a:pt x="2790" y="53"/>
                </a:lnTo>
                <a:lnTo>
                  <a:pt x="2800" y="56"/>
                </a:lnTo>
                <a:lnTo>
                  <a:pt x="2809" y="60"/>
                </a:lnTo>
                <a:lnTo>
                  <a:pt x="2818" y="64"/>
                </a:lnTo>
                <a:lnTo>
                  <a:pt x="2826" y="69"/>
                </a:lnTo>
                <a:lnTo>
                  <a:pt x="2835" y="73"/>
                </a:lnTo>
                <a:lnTo>
                  <a:pt x="2845" y="77"/>
                </a:lnTo>
                <a:lnTo>
                  <a:pt x="2854" y="81"/>
                </a:lnTo>
                <a:lnTo>
                  <a:pt x="2863" y="84"/>
                </a:lnTo>
                <a:lnTo>
                  <a:pt x="2871" y="88"/>
                </a:lnTo>
                <a:lnTo>
                  <a:pt x="2880" y="92"/>
                </a:lnTo>
                <a:lnTo>
                  <a:pt x="2889" y="96"/>
                </a:lnTo>
                <a:lnTo>
                  <a:pt x="2899" y="99"/>
                </a:lnTo>
                <a:lnTo>
                  <a:pt x="2908" y="103"/>
                </a:lnTo>
                <a:lnTo>
                  <a:pt x="2915" y="107"/>
                </a:lnTo>
                <a:lnTo>
                  <a:pt x="2925" y="110"/>
                </a:lnTo>
                <a:lnTo>
                  <a:pt x="2934" y="112"/>
                </a:lnTo>
                <a:lnTo>
                  <a:pt x="2943" y="116"/>
                </a:lnTo>
                <a:lnTo>
                  <a:pt x="2951" y="120"/>
                </a:lnTo>
                <a:lnTo>
                  <a:pt x="2960" y="122"/>
                </a:lnTo>
                <a:lnTo>
                  <a:pt x="2969" y="125"/>
                </a:lnTo>
                <a:lnTo>
                  <a:pt x="2979" y="127"/>
                </a:lnTo>
                <a:lnTo>
                  <a:pt x="2988" y="131"/>
                </a:lnTo>
                <a:lnTo>
                  <a:pt x="2995" y="133"/>
                </a:lnTo>
                <a:lnTo>
                  <a:pt x="3005" y="135"/>
                </a:lnTo>
                <a:lnTo>
                  <a:pt x="3014" y="138"/>
                </a:lnTo>
                <a:lnTo>
                  <a:pt x="3023" y="140"/>
                </a:lnTo>
                <a:lnTo>
                  <a:pt x="3033" y="144"/>
                </a:lnTo>
                <a:lnTo>
                  <a:pt x="3040" y="146"/>
                </a:lnTo>
                <a:lnTo>
                  <a:pt x="3049" y="148"/>
                </a:lnTo>
                <a:lnTo>
                  <a:pt x="3059" y="150"/>
                </a:lnTo>
                <a:lnTo>
                  <a:pt x="3068" y="151"/>
                </a:lnTo>
                <a:lnTo>
                  <a:pt x="3076" y="153"/>
                </a:lnTo>
                <a:lnTo>
                  <a:pt x="3085" y="157"/>
                </a:lnTo>
                <a:lnTo>
                  <a:pt x="3094" y="159"/>
                </a:lnTo>
                <a:lnTo>
                  <a:pt x="3103" y="161"/>
                </a:lnTo>
                <a:lnTo>
                  <a:pt x="3113" y="163"/>
                </a:lnTo>
                <a:lnTo>
                  <a:pt x="3120" y="165"/>
                </a:lnTo>
                <a:lnTo>
                  <a:pt x="3130" y="166"/>
                </a:lnTo>
                <a:lnTo>
                  <a:pt x="3139" y="168"/>
                </a:lnTo>
                <a:lnTo>
                  <a:pt x="3148" y="170"/>
                </a:lnTo>
                <a:lnTo>
                  <a:pt x="3157" y="172"/>
                </a:lnTo>
                <a:lnTo>
                  <a:pt x="3165" y="174"/>
                </a:lnTo>
                <a:lnTo>
                  <a:pt x="3174" y="176"/>
                </a:lnTo>
                <a:lnTo>
                  <a:pt x="3184" y="178"/>
                </a:lnTo>
                <a:lnTo>
                  <a:pt x="3193" y="179"/>
                </a:lnTo>
                <a:lnTo>
                  <a:pt x="3200" y="181"/>
                </a:lnTo>
                <a:lnTo>
                  <a:pt x="3210" y="183"/>
                </a:lnTo>
                <a:lnTo>
                  <a:pt x="3219" y="185"/>
                </a:lnTo>
                <a:lnTo>
                  <a:pt x="3228" y="187"/>
                </a:lnTo>
                <a:lnTo>
                  <a:pt x="3238" y="189"/>
                </a:lnTo>
                <a:lnTo>
                  <a:pt x="3245" y="191"/>
                </a:lnTo>
                <a:lnTo>
                  <a:pt x="3254" y="192"/>
                </a:lnTo>
                <a:lnTo>
                  <a:pt x="3264" y="194"/>
                </a:lnTo>
                <a:lnTo>
                  <a:pt x="3273" y="196"/>
                </a:lnTo>
                <a:lnTo>
                  <a:pt x="3282" y="198"/>
                </a:lnTo>
                <a:lnTo>
                  <a:pt x="3290" y="200"/>
                </a:lnTo>
                <a:lnTo>
                  <a:pt x="3299" y="202"/>
                </a:lnTo>
                <a:lnTo>
                  <a:pt x="3308" y="202"/>
                </a:lnTo>
                <a:lnTo>
                  <a:pt x="3318" y="206"/>
                </a:lnTo>
                <a:lnTo>
                  <a:pt x="3325" y="206"/>
                </a:lnTo>
                <a:lnTo>
                  <a:pt x="3334" y="207"/>
                </a:lnTo>
                <a:lnTo>
                  <a:pt x="3344" y="209"/>
                </a:lnTo>
                <a:lnTo>
                  <a:pt x="3353" y="211"/>
                </a:lnTo>
                <a:lnTo>
                  <a:pt x="3362" y="215"/>
                </a:lnTo>
                <a:lnTo>
                  <a:pt x="3370" y="217"/>
                </a:lnTo>
                <a:lnTo>
                  <a:pt x="3379" y="219"/>
                </a:lnTo>
                <a:lnTo>
                  <a:pt x="3388" y="220"/>
                </a:lnTo>
                <a:lnTo>
                  <a:pt x="3398" y="222"/>
                </a:lnTo>
                <a:lnTo>
                  <a:pt x="3407" y="224"/>
                </a:lnTo>
                <a:lnTo>
                  <a:pt x="3415" y="226"/>
                </a:lnTo>
                <a:lnTo>
                  <a:pt x="3424" y="228"/>
                </a:lnTo>
                <a:lnTo>
                  <a:pt x="3433" y="230"/>
                </a:lnTo>
                <a:lnTo>
                  <a:pt x="3443" y="232"/>
                </a:lnTo>
                <a:lnTo>
                  <a:pt x="3450" y="233"/>
                </a:lnTo>
                <a:lnTo>
                  <a:pt x="3459" y="235"/>
                </a:lnTo>
                <a:lnTo>
                  <a:pt x="3469" y="239"/>
                </a:lnTo>
                <a:lnTo>
                  <a:pt x="3478" y="241"/>
                </a:lnTo>
                <a:lnTo>
                  <a:pt x="3487" y="243"/>
                </a:lnTo>
                <a:lnTo>
                  <a:pt x="3495" y="245"/>
                </a:lnTo>
                <a:lnTo>
                  <a:pt x="3504" y="247"/>
                </a:lnTo>
                <a:lnTo>
                  <a:pt x="3513" y="250"/>
                </a:lnTo>
                <a:lnTo>
                  <a:pt x="3523" y="252"/>
                </a:lnTo>
                <a:lnTo>
                  <a:pt x="3532" y="254"/>
                </a:lnTo>
                <a:lnTo>
                  <a:pt x="3539" y="256"/>
                </a:lnTo>
                <a:lnTo>
                  <a:pt x="3549" y="258"/>
                </a:lnTo>
                <a:lnTo>
                  <a:pt x="3558" y="261"/>
                </a:lnTo>
                <a:lnTo>
                  <a:pt x="3567" y="263"/>
                </a:lnTo>
              </a:path>
            </a:pathLst>
          </a:cu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任意多边形 274"/>
          <p:cNvSpPr/>
          <p:nvPr/>
        </p:nvSpPr>
        <p:spPr>
          <a:xfrm>
            <a:off x="2228760" y="4716360"/>
            <a:ext cx="5662800" cy="53028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3567" h="334">
                <a:moveTo>
                  <a:pt x="0" y="332"/>
                </a:moveTo>
                <a:lnTo>
                  <a:pt x="9" y="332"/>
                </a:lnTo>
                <a:lnTo>
                  <a:pt x="18" y="332"/>
                </a:lnTo>
                <a:lnTo>
                  <a:pt x="28" y="332"/>
                </a:lnTo>
                <a:lnTo>
                  <a:pt x="35" y="332"/>
                </a:lnTo>
                <a:lnTo>
                  <a:pt x="44" y="334"/>
                </a:lnTo>
                <a:lnTo>
                  <a:pt x="54" y="334"/>
                </a:lnTo>
                <a:lnTo>
                  <a:pt x="63" y="334"/>
                </a:lnTo>
                <a:lnTo>
                  <a:pt x="72" y="334"/>
                </a:lnTo>
                <a:lnTo>
                  <a:pt x="80" y="334"/>
                </a:lnTo>
                <a:lnTo>
                  <a:pt x="89" y="334"/>
                </a:lnTo>
                <a:lnTo>
                  <a:pt x="99" y="334"/>
                </a:lnTo>
                <a:lnTo>
                  <a:pt x="108" y="334"/>
                </a:lnTo>
                <a:lnTo>
                  <a:pt x="117" y="334"/>
                </a:lnTo>
                <a:lnTo>
                  <a:pt x="125" y="334"/>
                </a:lnTo>
                <a:lnTo>
                  <a:pt x="134" y="334"/>
                </a:lnTo>
                <a:lnTo>
                  <a:pt x="143" y="334"/>
                </a:lnTo>
                <a:lnTo>
                  <a:pt x="153" y="334"/>
                </a:lnTo>
                <a:lnTo>
                  <a:pt x="160" y="334"/>
                </a:lnTo>
                <a:lnTo>
                  <a:pt x="169" y="332"/>
                </a:lnTo>
                <a:lnTo>
                  <a:pt x="179" y="332"/>
                </a:lnTo>
                <a:lnTo>
                  <a:pt x="188" y="332"/>
                </a:lnTo>
                <a:lnTo>
                  <a:pt x="197" y="332"/>
                </a:lnTo>
                <a:lnTo>
                  <a:pt x="205" y="332"/>
                </a:lnTo>
                <a:lnTo>
                  <a:pt x="214" y="332"/>
                </a:lnTo>
                <a:lnTo>
                  <a:pt x="223" y="330"/>
                </a:lnTo>
                <a:lnTo>
                  <a:pt x="233" y="330"/>
                </a:lnTo>
                <a:lnTo>
                  <a:pt x="242" y="330"/>
                </a:lnTo>
                <a:lnTo>
                  <a:pt x="249" y="330"/>
                </a:lnTo>
                <a:lnTo>
                  <a:pt x="259" y="330"/>
                </a:lnTo>
                <a:lnTo>
                  <a:pt x="268" y="328"/>
                </a:lnTo>
                <a:lnTo>
                  <a:pt x="277" y="328"/>
                </a:lnTo>
                <a:lnTo>
                  <a:pt x="285" y="328"/>
                </a:lnTo>
                <a:lnTo>
                  <a:pt x="294" y="328"/>
                </a:lnTo>
                <a:lnTo>
                  <a:pt x="303" y="328"/>
                </a:lnTo>
                <a:lnTo>
                  <a:pt x="313" y="326"/>
                </a:lnTo>
                <a:lnTo>
                  <a:pt x="322" y="326"/>
                </a:lnTo>
                <a:lnTo>
                  <a:pt x="330" y="326"/>
                </a:lnTo>
                <a:lnTo>
                  <a:pt x="339" y="326"/>
                </a:lnTo>
                <a:lnTo>
                  <a:pt x="348" y="324"/>
                </a:lnTo>
                <a:lnTo>
                  <a:pt x="357" y="324"/>
                </a:lnTo>
                <a:lnTo>
                  <a:pt x="367" y="324"/>
                </a:lnTo>
                <a:lnTo>
                  <a:pt x="374" y="324"/>
                </a:lnTo>
                <a:lnTo>
                  <a:pt x="384" y="324"/>
                </a:lnTo>
                <a:lnTo>
                  <a:pt x="393" y="322"/>
                </a:lnTo>
                <a:lnTo>
                  <a:pt x="402" y="322"/>
                </a:lnTo>
                <a:lnTo>
                  <a:pt x="410" y="322"/>
                </a:lnTo>
                <a:lnTo>
                  <a:pt x="419" y="321"/>
                </a:lnTo>
                <a:lnTo>
                  <a:pt x="428" y="321"/>
                </a:lnTo>
                <a:lnTo>
                  <a:pt x="438" y="319"/>
                </a:lnTo>
                <a:lnTo>
                  <a:pt x="447" y="319"/>
                </a:lnTo>
                <a:lnTo>
                  <a:pt x="454" y="319"/>
                </a:lnTo>
                <a:lnTo>
                  <a:pt x="464" y="319"/>
                </a:lnTo>
                <a:lnTo>
                  <a:pt x="473" y="317"/>
                </a:lnTo>
                <a:lnTo>
                  <a:pt x="482" y="317"/>
                </a:lnTo>
                <a:lnTo>
                  <a:pt x="492" y="317"/>
                </a:lnTo>
                <a:lnTo>
                  <a:pt x="499" y="315"/>
                </a:lnTo>
                <a:lnTo>
                  <a:pt x="508" y="315"/>
                </a:lnTo>
                <a:lnTo>
                  <a:pt x="518" y="315"/>
                </a:lnTo>
                <a:lnTo>
                  <a:pt x="527" y="315"/>
                </a:lnTo>
                <a:lnTo>
                  <a:pt x="534" y="313"/>
                </a:lnTo>
                <a:lnTo>
                  <a:pt x="544" y="313"/>
                </a:lnTo>
                <a:lnTo>
                  <a:pt x="553" y="313"/>
                </a:lnTo>
                <a:lnTo>
                  <a:pt x="562" y="311"/>
                </a:lnTo>
                <a:lnTo>
                  <a:pt x="572" y="311"/>
                </a:lnTo>
                <a:lnTo>
                  <a:pt x="579" y="311"/>
                </a:lnTo>
                <a:lnTo>
                  <a:pt x="588" y="311"/>
                </a:lnTo>
                <a:lnTo>
                  <a:pt x="598" y="309"/>
                </a:lnTo>
                <a:lnTo>
                  <a:pt x="607" y="309"/>
                </a:lnTo>
                <a:lnTo>
                  <a:pt x="616" y="309"/>
                </a:lnTo>
                <a:lnTo>
                  <a:pt x="624" y="307"/>
                </a:lnTo>
                <a:lnTo>
                  <a:pt x="633" y="307"/>
                </a:lnTo>
                <a:lnTo>
                  <a:pt x="642" y="307"/>
                </a:lnTo>
                <a:lnTo>
                  <a:pt x="652" y="307"/>
                </a:lnTo>
                <a:lnTo>
                  <a:pt x="659" y="306"/>
                </a:lnTo>
                <a:lnTo>
                  <a:pt x="669" y="306"/>
                </a:lnTo>
                <a:lnTo>
                  <a:pt x="678" y="306"/>
                </a:lnTo>
                <a:lnTo>
                  <a:pt x="687" y="304"/>
                </a:lnTo>
                <a:lnTo>
                  <a:pt x="697" y="304"/>
                </a:lnTo>
                <a:lnTo>
                  <a:pt x="704" y="304"/>
                </a:lnTo>
                <a:lnTo>
                  <a:pt x="713" y="302"/>
                </a:lnTo>
                <a:lnTo>
                  <a:pt x="723" y="302"/>
                </a:lnTo>
                <a:lnTo>
                  <a:pt x="732" y="302"/>
                </a:lnTo>
                <a:lnTo>
                  <a:pt x="741" y="300"/>
                </a:lnTo>
                <a:lnTo>
                  <a:pt x="749" y="300"/>
                </a:lnTo>
                <a:lnTo>
                  <a:pt x="758" y="300"/>
                </a:lnTo>
                <a:lnTo>
                  <a:pt x="767" y="300"/>
                </a:lnTo>
                <a:lnTo>
                  <a:pt x="777" y="298"/>
                </a:lnTo>
                <a:lnTo>
                  <a:pt x="784" y="298"/>
                </a:lnTo>
                <a:lnTo>
                  <a:pt x="793" y="298"/>
                </a:lnTo>
                <a:lnTo>
                  <a:pt x="803" y="296"/>
                </a:lnTo>
                <a:lnTo>
                  <a:pt x="812" y="296"/>
                </a:lnTo>
                <a:lnTo>
                  <a:pt x="821" y="296"/>
                </a:lnTo>
                <a:lnTo>
                  <a:pt x="829" y="296"/>
                </a:lnTo>
                <a:lnTo>
                  <a:pt x="838" y="294"/>
                </a:lnTo>
                <a:lnTo>
                  <a:pt x="847" y="294"/>
                </a:lnTo>
                <a:lnTo>
                  <a:pt x="857" y="294"/>
                </a:lnTo>
                <a:lnTo>
                  <a:pt x="866" y="293"/>
                </a:lnTo>
                <a:lnTo>
                  <a:pt x="873" y="293"/>
                </a:lnTo>
                <a:lnTo>
                  <a:pt x="883" y="293"/>
                </a:lnTo>
                <a:lnTo>
                  <a:pt x="892" y="291"/>
                </a:lnTo>
                <a:lnTo>
                  <a:pt x="901" y="291"/>
                </a:lnTo>
                <a:lnTo>
                  <a:pt x="909" y="291"/>
                </a:lnTo>
                <a:lnTo>
                  <a:pt x="918" y="291"/>
                </a:lnTo>
                <a:lnTo>
                  <a:pt x="928" y="289"/>
                </a:lnTo>
                <a:lnTo>
                  <a:pt x="937" y="289"/>
                </a:lnTo>
                <a:lnTo>
                  <a:pt x="946" y="289"/>
                </a:lnTo>
                <a:lnTo>
                  <a:pt x="954" y="287"/>
                </a:lnTo>
                <a:lnTo>
                  <a:pt x="963" y="287"/>
                </a:lnTo>
                <a:lnTo>
                  <a:pt x="972" y="287"/>
                </a:lnTo>
                <a:lnTo>
                  <a:pt x="982" y="285"/>
                </a:lnTo>
                <a:lnTo>
                  <a:pt x="991" y="285"/>
                </a:lnTo>
                <a:lnTo>
                  <a:pt x="998" y="283"/>
                </a:lnTo>
                <a:lnTo>
                  <a:pt x="1008" y="283"/>
                </a:lnTo>
                <a:lnTo>
                  <a:pt x="1017" y="283"/>
                </a:lnTo>
                <a:lnTo>
                  <a:pt x="1026" y="281"/>
                </a:lnTo>
                <a:lnTo>
                  <a:pt x="1034" y="281"/>
                </a:lnTo>
                <a:lnTo>
                  <a:pt x="1043" y="280"/>
                </a:lnTo>
                <a:lnTo>
                  <a:pt x="1052" y="280"/>
                </a:lnTo>
                <a:lnTo>
                  <a:pt x="1062" y="278"/>
                </a:lnTo>
                <a:lnTo>
                  <a:pt x="1071" y="278"/>
                </a:lnTo>
                <a:lnTo>
                  <a:pt x="1078" y="276"/>
                </a:lnTo>
                <a:lnTo>
                  <a:pt x="1088" y="276"/>
                </a:lnTo>
                <a:lnTo>
                  <a:pt x="1097" y="276"/>
                </a:lnTo>
                <a:lnTo>
                  <a:pt x="1106" y="274"/>
                </a:lnTo>
                <a:lnTo>
                  <a:pt x="1116" y="272"/>
                </a:lnTo>
                <a:lnTo>
                  <a:pt x="1123" y="272"/>
                </a:lnTo>
                <a:lnTo>
                  <a:pt x="1132" y="270"/>
                </a:lnTo>
                <a:lnTo>
                  <a:pt x="1142" y="270"/>
                </a:lnTo>
                <a:lnTo>
                  <a:pt x="1151" y="268"/>
                </a:lnTo>
                <a:lnTo>
                  <a:pt x="1159" y="268"/>
                </a:lnTo>
                <a:lnTo>
                  <a:pt x="1168" y="266"/>
                </a:lnTo>
                <a:lnTo>
                  <a:pt x="1177" y="266"/>
                </a:lnTo>
                <a:lnTo>
                  <a:pt x="1186" y="265"/>
                </a:lnTo>
                <a:lnTo>
                  <a:pt x="1196" y="265"/>
                </a:lnTo>
                <a:lnTo>
                  <a:pt x="1203" y="263"/>
                </a:lnTo>
                <a:lnTo>
                  <a:pt x="1213" y="263"/>
                </a:lnTo>
                <a:lnTo>
                  <a:pt x="1222" y="261"/>
                </a:lnTo>
                <a:lnTo>
                  <a:pt x="1231" y="261"/>
                </a:lnTo>
                <a:lnTo>
                  <a:pt x="1240" y="259"/>
                </a:lnTo>
                <a:lnTo>
                  <a:pt x="1248" y="259"/>
                </a:lnTo>
                <a:lnTo>
                  <a:pt x="1257" y="257"/>
                </a:lnTo>
                <a:lnTo>
                  <a:pt x="1267" y="257"/>
                </a:lnTo>
                <a:lnTo>
                  <a:pt x="1276" y="255"/>
                </a:lnTo>
                <a:lnTo>
                  <a:pt x="1283" y="255"/>
                </a:lnTo>
                <a:lnTo>
                  <a:pt x="1293" y="255"/>
                </a:lnTo>
                <a:lnTo>
                  <a:pt x="1302" y="253"/>
                </a:lnTo>
                <a:lnTo>
                  <a:pt x="1311" y="253"/>
                </a:lnTo>
                <a:lnTo>
                  <a:pt x="1321" y="252"/>
                </a:lnTo>
                <a:lnTo>
                  <a:pt x="1328" y="252"/>
                </a:lnTo>
                <a:lnTo>
                  <a:pt x="1337" y="250"/>
                </a:lnTo>
                <a:lnTo>
                  <a:pt x="1347" y="250"/>
                </a:lnTo>
                <a:lnTo>
                  <a:pt x="1356" y="250"/>
                </a:lnTo>
                <a:lnTo>
                  <a:pt x="1365" y="248"/>
                </a:lnTo>
                <a:lnTo>
                  <a:pt x="1373" y="246"/>
                </a:lnTo>
                <a:lnTo>
                  <a:pt x="1382" y="246"/>
                </a:lnTo>
                <a:lnTo>
                  <a:pt x="1391" y="246"/>
                </a:lnTo>
                <a:lnTo>
                  <a:pt x="1401" y="244"/>
                </a:lnTo>
                <a:lnTo>
                  <a:pt x="1408" y="244"/>
                </a:lnTo>
                <a:lnTo>
                  <a:pt x="1417" y="242"/>
                </a:lnTo>
                <a:lnTo>
                  <a:pt x="1427" y="242"/>
                </a:lnTo>
                <a:lnTo>
                  <a:pt x="1436" y="240"/>
                </a:lnTo>
                <a:lnTo>
                  <a:pt x="1445" y="240"/>
                </a:lnTo>
                <a:lnTo>
                  <a:pt x="1453" y="239"/>
                </a:lnTo>
                <a:lnTo>
                  <a:pt x="1462" y="239"/>
                </a:lnTo>
                <a:lnTo>
                  <a:pt x="1472" y="237"/>
                </a:lnTo>
                <a:lnTo>
                  <a:pt x="1481" y="237"/>
                </a:lnTo>
                <a:lnTo>
                  <a:pt x="1490" y="235"/>
                </a:lnTo>
                <a:lnTo>
                  <a:pt x="1498" y="235"/>
                </a:lnTo>
                <a:lnTo>
                  <a:pt x="1507" y="233"/>
                </a:lnTo>
                <a:lnTo>
                  <a:pt x="1516" y="233"/>
                </a:lnTo>
                <a:lnTo>
                  <a:pt x="1526" y="231"/>
                </a:lnTo>
                <a:lnTo>
                  <a:pt x="1533" y="231"/>
                </a:lnTo>
                <a:lnTo>
                  <a:pt x="1542" y="229"/>
                </a:lnTo>
                <a:lnTo>
                  <a:pt x="1552" y="227"/>
                </a:lnTo>
                <a:lnTo>
                  <a:pt x="1561" y="225"/>
                </a:lnTo>
                <a:lnTo>
                  <a:pt x="1570" y="225"/>
                </a:lnTo>
                <a:lnTo>
                  <a:pt x="1578" y="224"/>
                </a:lnTo>
                <a:lnTo>
                  <a:pt x="1587" y="222"/>
                </a:lnTo>
                <a:lnTo>
                  <a:pt x="1596" y="220"/>
                </a:lnTo>
                <a:lnTo>
                  <a:pt x="1606" y="218"/>
                </a:lnTo>
                <a:lnTo>
                  <a:pt x="1615" y="216"/>
                </a:lnTo>
                <a:lnTo>
                  <a:pt x="1622" y="214"/>
                </a:lnTo>
                <a:lnTo>
                  <a:pt x="1632" y="212"/>
                </a:lnTo>
                <a:lnTo>
                  <a:pt x="1641" y="211"/>
                </a:lnTo>
                <a:lnTo>
                  <a:pt x="1650" y="209"/>
                </a:lnTo>
                <a:lnTo>
                  <a:pt x="1658" y="207"/>
                </a:lnTo>
                <a:lnTo>
                  <a:pt x="1667" y="205"/>
                </a:lnTo>
                <a:lnTo>
                  <a:pt x="1676" y="201"/>
                </a:lnTo>
                <a:lnTo>
                  <a:pt x="1686" y="199"/>
                </a:lnTo>
                <a:lnTo>
                  <a:pt x="1695" y="198"/>
                </a:lnTo>
                <a:lnTo>
                  <a:pt x="1703" y="196"/>
                </a:lnTo>
                <a:lnTo>
                  <a:pt x="1712" y="192"/>
                </a:lnTo>
                <a:lnTo>
                  <a:pt x="1721" y="190"/>
                </a:lnTo>
                <a:lnTo>
                  <a:pt x="1730" y="188"/>
                </a:lnTo>
                <a:lnTo>
                  <a:pt x="1740" y="186"/>
                </a:lnTo>
                <a:lnTo>
                  <a:pt x="1747" y="183"/>
                </a:lnTo>
                <a:lnTo>
                  <a:pt x="1757" y="181"/>
                </a:lnTo>
                <a:lnTo>
                  <a:pt x="1766" y="177"/>
                </a:lnTo>
                <a:lnTo>
                  <a:pt x="1775" y="175"/>
                </a:lnTo>
                <a:lnTo>
                  <a:pt x="1784" y="173"/>
                </a:lnTo>
                <a:lnTo>
                  <a:pt x="1792" y="170"/>
                </a:lnTo>
                <a:lnTo>
                  <a:pt x="1801" y="168"/>
                </a:lnTo>
                <a:lnTo>
                  <a:pt x="1811" y="166"/>
                </a:lnTo>
                <a:lnTo>
                  <a:pt x="1820" y="162"/>
                </a:lnTo>
                <a:lnTo>
                  <a:pt x="1827" y="160"/>
                </a:lnTo>
                <a:lnTo>
                  <a:pt x="1837" y="158"/>
                </a:lnTo>
                <a:lnTo>
                  <a:pt x="1846" y="155"/>
                </a:lnTo>
                <a:lnTo>
                  <a:pt x="1855" y="153"/>
                </a:lnTo>
                <a:lnTo>
                  <a:pt x="1865" y="151"/>
                </a:lnTo>
                <a:lnTo>
                  <a:pt x="1872" y="149"/>
                </a:lnTo>
                <a:lnTo>
                  <a:pt x="1881" y="145"/>
                </a:lnTo>
                <a:lnTo>
                  <a:pt x="1891" y="143"/>
                </a:lnTo>
                <a:lnTo>
                  <a:pt x="1900" y="142"/>
                </a:lnTo>
                <a:lnTo>
                  <a:pt x="1909" y="140"/>
                </a:lnTo>
                <a:lnTo>
                  <a:pt x="1917" y="138"/>
                </a:lnTo>
                <a:lnTo>
                  <a:pt x="1926" y="136"/>
                </a:lnTo>
                <a:lnTo>
                  <a:pt x="1935" y="134"/>
                </a:lnTo>
                <a:lnTo>
                  <a:pt x="1945" y="132"/>
                </a:lnTo>
                <a:lnTo>
                  <a:pt x="1952" y="132"/>
                </a:lnTo>
                <a:lnTo>
                  <a:pt x="1961" y="130"/>
                </a:lnTo>
                <a:lnTo>
                  <a:pt x="1971" y="129"/>
                </a:lnTo>
                <a:lnTo>
                  <a:pt x="1980" y="129"/>
                </a:lnTo>
                <a:lnTo>
                  <a:pt x="1989" y="127"/>
                </a:lnTo>
                <a:lnTo>
                  <a:pt x="1997" y="125"/>
                </a:lnTo>
                <a:lnTo>
                  <a:pt x="2006" y="125"/>
                </a:lnTo>
                <a:lnTo>
                  <a:pt x="2015" y="125"/>
                </a:lnTo>
                <a:lnTo>
                  <a:pt x="2025" y="125"/>
                </a:lnTo>
                <a:lnTo>
                  <a:pt x="2034" y="123"/>
                </a:lnTo>
                <a:lnTo>
                  <a:pt x="2042" y="121"/>
                </a:lnTo>
                <a:lnTo>
                  <a:pt x="2051" y="121"/>
                </a:lnTo>
                <a:lnTo>
                  <a:pt x="2060" y="121"/>
                </a:lnTo>
                <a:lnTo>
                  <a:pt x="2070" y="121"/>
                </a:lnTo>
                <a:lnTo>
                  <a:pt x="2077" y="121"/>
                </a:lnTo>
                <a:lnTo>
                  <a:pt x="2086" y="119"/>
                </a:lnTo>
                <a:lnTo>
                  <a:pt x="2096" y="119"/>
                </a:lnTo>
                <a:lnTo>
                  <a:pt x="2105" y="119"/>
                </a:lnTo>
                <a:lnTo>
                  <a:pt x="2114" y="117"/>
                </a:lnTo>
                <a:lnTo>
                  <a:pt x="2122" y="117"/>
                </a:lnTo>
                <a:lnTo>
                  <a:pt x="2131" y="117"/>
                </a:lnTo>
                <a:lnTo>
                  <a:pt x="2140" y="117"/>
                </a:lnTo>
                <a:lnTo>
                  <a:pt x="2150" y="117"/>
                </a:lnTo>
                <a:lnTo>
                  <a:pt x="2159" y="116"/>
                </a:lnTo>
                <a:lnTo>
                  <a:pt x="2166" y="116"/>
                </a:lnTo>
                <a:lnTo>
                  <a:pt x="2176" y="116"/>
                </a:lnTo>
                <a:lnTo>
                  <a:pt x="2185" y="114"/>
                </a:lnTo>
                <a:lnTo>
                  <a:pt x="2194" y="114"/>
                </a:lnTo>
                <a:lnTo>
                  <a:pt x="2202" y="112"/>
                </a:lnTo>
                <a:lnTo>
                  <a:pt x="2211" y="112"/>
                </a:lnTo>
                <a:lnTo>
                  <a:pt x="2220" y="110"/>
                </a:lnTo>
                <a:lnTo>
                  <a:pt x="2230" y="108"/>
                </a:lnTo>
                <a:lnTo>
                  <a:pt x="2239" y="108"/>
                </a:lnTo>
                <a:lnTo>
                  <a:pt x="2246" y="106"/>
                </a:lnTo>
                <a:lnTo>
                  <a:pt x="2256" y="104"/>
                </a:lnTo>
                <a:lnTo>
                  <a:pt x="2265" y="102"/>
                </a:lnTo>
                <a:lnTo>
                  <a:pt x="2274" y="102"/>
                </a:lnTo>
                <a:lnTo>
                  <a:pt x="2284" y="99"/>
                </a:lnTo>
                <a:lnTo>
                  <a:pt x="2291" y="99"/>
                </a:lnTo>
                <a:lnTo>
                  <a:pt x="2301" y="95"/>
                </a:lnTo>
                <a:lnTo>
                  <a:pt x="2310" y="93"/>
                </a:lnTo>
                <a:lnTo>
                  <a:pt x="2319" y="91"/>
                </a:lnTo>
                <a:lnTo>
                  <a:pt x="2327" y="89"/>
                </a:lnTo>
                <a:lnTo>
                  <a:pt x="2336" y="88"/>
                </a:lnTo>
                <a:lnTo>
                  <a:pt x="2345" y="84"/>
                </a:lnTo>
                <a:lnTo>
                  <a:pt x="2355" y="82"/>
                </a:lnTo>
                <a:lnTo>
                  <a:pt x="2364" y="80"/>
                </a:lnTo>
                <a:lnTo>
                  <a:pt x="2371" y="76"/>
                </a:lnTo>
                <a:lnTo>
                  <a:pt x="2381" y="75"/>
                </a:lnTo>
                <a:lnTo>
                  <a:pt x="2390" y="73"/>
                </a:lnTo>
                <a:lnTo>
                  <a:pt x="2399" y="69"/>
                </a:lnTo>
                <a:lnTo>
                  <a:pt x="2409" y="67"/>
                </a:lnTo>
                <a:lnTo>
                  <a:pt x="2416" y="63"/>
                </a:lnTo>
                <a:lnTo>
                  <a:pt x="2425" y="61"/>
                </a:lnTo>
                <a:lnTo>
                  <a:pt x="2435" y="58"/>
                </a:lnTo>
                <a:lnTo>
                  <a:pt x="2444" y="54"/>
                </a:lnTo>
                <a:lnTo>
                  <a:pt x="2451" y="50"/>
                </a:lnTo>
                <a:lnTo>
                  <a:pt x="2461" y="48"/>
                </a:lnTo>
                <a:lnTo>
                  <a:pt x="2470" y="45"/>
                </a:lnTo>
                <a:lnTo>
                  <a:pt x="2479" y="41"/>
                </a:lnTo>
                <a:lnTo>
                  <a:pt x="2489" y="39"/>
                </a:lnTo>
                <a:lnTo>
                  <a:pt x="2496" y="35"/>
                </a:lnTo>
                <a:lnTo>
                  <a:pt x="2505" y="32"/>
                </a:lnTo>
                <a:lnTo>
                  <a:pt x="2515" y="28"/>
                </a:lnTo>
                <a:lnTo>
                  <a:pt x="2524" y="26"/>
                </a:lnTo>
                <a:lnTo>
                  <a:pt x="2533" y="22"/>
                </a:lnTo>
                <a:lnTo>
                  <a:pt x="2541" y="19"/>
                </a:lnTo>
                <a:lnTo>
                  <a:pt x="2550" y="17"/>
                </a:lnTo>
                <a:lnTo>
                  <a:pt x="2559" y="13"/>
                </a:lnTo>
                <a:lnTo>
                  <a:pt x="2569" y="11"/>
                </a:lnTo>
                <a:lnTo>
                  <a:pt x="2576" y="9"/>
                </a:lnTo>
                <a:lnTo>
                  <a:pt x="2586" y="6"/>
                </a:lnTo>
                <a:lnTo>
                  <a:pt x="2595" y="6"/>
                </a:lnTo>
                <a:lnTo>
                  <a:pt x="2604" y="4"/>
                </a:lnTo>
                <a:lnTo>
                  <a:pt x="2613" y="2"/>
                </a:lnTo>
                <a:lnTo>
                  <a:pt x="2621" y="2"/>
                </a:lnTo>
                <a:lnTo>
                  <a:pt x="2630" y="0"/>
                </a:lnTo>
                <a:lnTo>
                  <a:pt x="2640" y="0"/>
                </a:lnTo>
                <a:lnTo>
                  <a:pt x="2649" y="0"/>
                </a:lnTo>
                <a:lnTo>
                  <a:pt x="2658" y="0"/>
                </a:lnTo>
                <a:lnTo>
                  <a:pt x="2666" y="0"/>
                </a:lnTo>
                <a:lnTo>
                  <a:pt x="2675" y="0"/>
                </a:lnTo>
                <a:lnTo>
                  <a:pt x="2684" y="2"/>
                </a:lnTo>
                <a:lnTo>
                  <a:pt x="2694" y="2"/>
                </a:lnTo>
                <a:lnTo>
                  <a:pt x="2701" y="4"/>
                </a:lnTo>
                <a:lnTo>
                  <a:pt x="2710" y="6"/>
                </a:lnTo>
                <a:lnTo>
                  <a:pt x="2720" y="7"/>
                </a:lnTo>
                <a:lnTo>
                  <a:pt x="2729" y="9"/>
                </a:lnTo>
                <a:lnTo>
                  <a:pt x="2738" y="11"/>
                </a:lnTo>
                <a:lnTo>
                  <a:pt x="2746" y="15"/>
                </a:lnTo>
                <a:lnTo>
                  <a:pt x="2755" y="17"/>
                </a:lnTo>
                <a:lnTo>
                  <a:pt x="2764" y="20"/>
                </a:lnTo>
                <a:lnTo>
                  <a:pt x="2774" y="22"/>
                </a:lnTo>
                <a:lnTo>
                  <a:pt x="2783" y="24"/>
                </a:lnTo>
                <a:lnTo>
                  <a:pt x="2790" y="28"/>
                </a:lnTo>
                <a:lnTo>
                  <a:pt x="2800" y="32"/>
                </a:lnTo>
                <a:lnTo>
                  <a:pt x="2809" y="35"/>
                </a:lnTo>
                <a:lnTo>
                  <a:pt x="2818" y="37"/>
                </a:lnTo>
                <a:lnTo>
                  <a:pt x="2826" y="41"/>
                </a:lnTo>
                <a:lnTo>
                  <a:pt x="2835" y="43"/>
                </a:lnTo>
                <a:lnTo>
                  <a:pt x="2845" y="47"/>
                </a:lnTo>
                <a:lnTo>
                  <a:pt x="2854" y="48"/>
                </a:lnTo>
                <a:lnTo>
                  <a:pt x="2863" y="52"/>
                </a:lnTo>
                <a:lnTo>
                  <a:pt x="2871" y="54"/>
                </a:lnTo>
                <a:lnTo>
                  <a:pt x="2880" y="56"/>
                </a:lnTo>
                <a:lnTo>
                  <a:pt x="2889" y="60"/>
                </a:lnTo>
                <a:lnTo>
                  <a:pt x="2899" y="61"/>
                </a:lnTo>
                <a:lnTo>
                  <a:pt x="2908" y="63"/>
                </a:lnTo>
                <a:lnTo>
                  <a:pt x="2915" y="67"/>
                </a:lnTo>
                <a:lnTo>
                  <a:pt x="2925" y="69"/>
                </a:lnTo>
                <a:lnTo>
                  <a:pt x="2934" y="71"/>
                </a:lnTo>
                <a:lnTo>
                  <a:pt x="2943" y="73"/>
                </a:lnTo>
                <a:lnTo>
                  <a:pt x="2951" y="76"/>
                </a:lnTo>
                <a:lnTo>
                  <a:pt x="2960" y="78"/>
                </a:lnTo>
                <a:lnTo>
                  <a:pt x="2969" y="80"/>
                </a:lnTo>
                <a:lnTo>
                  <a:pt x="2979" y="82"/>
                </a:lnTo>
                <a:lnTo>
                  <a:pt x="2988" y="84"/>
                </a:lnTo>
                <a:lnTo>
                  <a:pt x="2995" y="84"/>
                </a:lnTo>
                <a:lnTo>
                  <a:pt x="3005" y="86"/>
                </a:lnTo>
                <a:lnTo>
                  <a:pt x="3014" y="88"/>
                </a:lnTo>
                <a:lnTo>
                  <a:pt x="3023" y="89"/>
                </a:lnTo>
                <a:lnTo>
                  <a:pt x="3033" y="91"/>
                </a:lnTo>
                <a:lnTo>
                  <a:pt x="3040" y="93"/>
                </a:lnTo>
                <a:lnTo>
                  <a:pt x="3049" y="93"/>
                </a:lnTo>
                <a:lnTo>
                  <a:pt x="3059" y="95"/>
                </a:lnTo>
                <a:lnTo>
                  <a:pt x="3068" y="97"/>
                </a:lnTo>
                <a:lnTo>
                  <a:pt x="3076" y="99"/>
                </a:lnTo>
                <a:lnTo>
                  <a:pt x="3085" y="99"/>
                </a:lnTo>
                <a:lnTo>
                  <a:pt x="3094" y="101"/>
                </a:lnTo>
                <a:lnTo>
                  <a:pt x="3103" y="101"/>
                </a:lnTo>
                <a:lnTo>
                  <a:pt x="3113" y="102"/>
                </a:lnTo>
                <a:lnTo>
                  <a:pt x="3120" y="102"/>
                </a:lnTo>
                <a:lnTo>
                  <a:pt x="3130" y="104"/>
                </a:lnTo>
                <a:lnTo>
                  <a:pt x="3139" y="104"/>
                </a:lnTo>
                <a:lnTo>
                  <a:pt x="3148" y="106"/>
                </a:lnTo>
                <a:lnTo>
                  <a:pt x="3157" y="106"/>
                </a:lnTo>
                <a:lnTo>
                  <a:pt x="3165" y="108"/>
                </a:lnTo>
                <a:lnTo>
                  <a:pt x="3174" y="110"/>
                </a:lnTo>
                <a:lnTo>
                  <a:pt x="3184" y="110"/>
                </a:lnTo>
                <a:lnTo>
                  <a:pt x="3193" y="110"/>
                </a:lnTo>
                <a:lnTo>
                  <a:pt x="3200" y="112"/>
                </a:lnTo>
                <a:lnTo>
                  <a:pt x="3210" y="112"/>
                </a:lnTo>
                <a:lnTo>
                  <a:pt x="3219" y="114"/>
                </a:lnTo>
                <a:lnTo>
                  <a:pt x="3228" y="114"/>
                </a:lnTo>
                <a:lnTo>
                  <a:pt x="3238" y="116"/>
                </a:lnTo>
                <a:lnTo>
                  <a:pt x="3245" y="116"/>
                </a:lnTo>
                <a:lnTo>
                  <a:pt x="3254" y="117"/>
                </a:lnTo>
                <a:lnTo>
                  <a:pt x="3264" y="117"/>
                </a:lnTo>
                <a:lnTo>
                  <a:pt x="3273" y="119"/>
                </a:lnTo>
                <a:lnTo>
                  <a:pt x="3282" y="119"/>
                </a:lnTo>
                <a:lnTo>
                  <a:pt x="3290" y="121"/>
                </a:lnTo>
                <a:lnTo>
                  <a:pt x="3299" y="121"/>
                </a:lnTo>
                <a:lnTo>
                  <a:pt x="3308" y="123"/>
                </a:lnTo>
                <a:lnTo>
                  <a:pt x="3318" y="123"/>
                </a:lnTo>
                <a:lnTo>
                  <a:pt x="3325" y="125"/>
                </a:lnTo>
                <a:lnTo>
                  <a:pt x="3334" y="125"/>
                </a:lnTo>
                <a:lnTo>
                  <a:pt x="3344" y="127"/>
                </a:lnTo>
                <a:lnTo>
                  <a:pt x="3353" y="129"/>
                </a:lnTo>
                <a:lnTo>
                  <a:pt x="3362" y="129"/>
                </a:lnTo>
                <a:lnTo>
                  <a:pt x="3370" y="129"/>
                </a:lnTo>
                <a:lnTo>
                  <a:pt x="3379" y="130"/>
                </a:lnTo>
                <a:lnTo>
                  <a:pt x="3388" y="132"/>
                </a:lnTo>
                <a:lnTo>
                  <a:pt x="3398" y="132"/>
                </a:lnTo>
                <a:lnTo>
                  <a:pt x="3407" y="134"/>
                </a:lnTo>
                <a:lnTo>
                  <a:pt x="3415" y="134"/>
                </a:lnTo>
                <a:lnTo>
                  <a:pt x="3424" y="136"/>
                </a:lnTo>
                <a:lnTo>
                  <a:pt x="3433" y="136"/>
                </a:lnTo>
                <a:lnTo>
                  <a:pt x="3443" y="138"/>
                </a:lnTo>
                <a:lnTo>
                  <a:pt x="3450" y="140"/>
                </a:lnTo>
                <a:lnTo>
                  <a:pt x="3459" y="140"/>
                </a:lnTo>
                <a:lnTo>
                  <a:pt x="3469" y="142"/>
                </a:lnTo>
                <a:lnTo>
                  <a:pt x="3478" y="142"/>
                </a:lnTo>
                <a:lnTo>
                  <a:pt x="3487" y="143"/>
                </a:lnTo>
                <a:lnTo>
                  <a:pt x="3495" y="145"/>
                </a:lnTo>
                <a:lnTo>
                  <a:pt x="3504" y="145"/>
                </a:lnTo>
                <a:lnTo>
                  <a:pt x="3513" y="147"/>
                </a:lnTo>
                <a:lnTo>
                  <a:pt x="3523" y="149"/>
                </a:lnTo>
                <a:lnTo>
                  <a:pt x="3532" y="149"/>
                </a:lnTo>
                <a:lnTo>
                  <a:pt x="3539" y="151"/>
                </a:lnTo>
                <a:lnTo>
                  <a:pt x="3549" y="151"/>
                </a:lnTo>
                <a:lnTo>
                  <a:pt x="3558" y="153"/>
                </a:lnTo>
                <a:lnTo>
                  <a:pt x="3567" y="155"/>
                </a:lnTo>
              </a:path>
            </a:pathLst>
          </a:custGeom>
          <a:noFill/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任意多边形 275"/>
          <p:cNvSpPr/>
          <p:nvPr/>
        </p:nvSpPr>
        <p:spPr>
          <a:xfrm>
            <a:off x="2228760" y="4890960"/>
            <a:ext cx="5662800" cy="459000"/>
          </a:xfrm>
          <a:custGeom>
            <a:avLst/>
            <a:gdLst>
              <a:gd name="textAreaLeft" fmla="*/ 0 w 5662800"/>
              <a:gd name="textAreaRight" fmla="*/ 5663160 w 566280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567" h="289">
                <a:moveTo>
                  <a:pt x="0" y="289"/>
                </a:moveTo>
                <a:lnTo>
                  <a:pt x="9" y="289"/>
                </a:lnTo>
                <a:lnTo>
                  <a:pt x="18" y="289"/>
                </a:lnTo>
                <a:lnTo>
                  <a:pt x="28" y="289"/>
                </a:lnTo>
                <a:lnTo>
                  <a:pt x="35" y="289"/>
                </a:lnTo>
                <a:lnTo>
                  <a:pt x="44" y="289"/>
                </a:lnTo>
                <a:lnTo>
                  <a:pt x="54" y="289"/>
                </a:lnTo>
                <a:lnTo>
                  <a:pt x="63" y="289"/>
                </a:lnTo>
                <a:lnTo>
                  <a:pt x="72" y="289"/>
                </a:lnTo>
                <a:lnTo>
                  <a:pt x="80" y="289"/>
                </a:lnTo>
                <a:lnTo>
                  <a:pt x="89" y="289"/>
                </a:lnTo>
                <a:lnTo>
                  <a:pt x="99" y="287"/>
                </a:lnTo>
                <a:lnTo>
                  <a:pt x="108" y="287"/>
                </a:lnTo>
                <a:lnTo>
                  <a:pt x="117" y="287"/>
                </a:lnTo>
                <a:lnTo>
                  <a:pt x="125" y="287"/>
                </a:lnTo>
                <a:lnTo>
                  <a:pt x="134" y="287"/>
                </a:lnTo>
                <a:lnTo>
                  <a:pt x="143" y="287"/>
                </a:lnTo>
                <a:lnTo>
                  <a:pt x="153" y="287"/>
                </a:lnTo>
                <a:lnTo>
                  <a:pt x="160" y="287"/>
                </a:lnTo>
                <a:lnTo>
                  <a:pt x="169" y="287"/>
                </a:lnTo>
                <a:lnTo>
                  <a:pt x="179" y="285"/>
                </a:lnTo>
                <a:lnTo>
                  <a:pt x="188" y="285"/>
                </a:lnTo>
                <a:lnTo>
                  <a:pt x="197" y="285"/>
                </a:lnTo>
                <a:lnTo>
                  <a:pt x="205" y="285"/>
                </a:lnTo>
                <a:lnTo>
                  <a:pt x="214" y="285"/>
                </a:lnTo>
                <a:lnTo>
                  <a:pt x="223" y="285"/>
                </a:lnTo>
                <a:lnTo>
                  <a:pt x="233" y="283"/>
                </a:lnTo>
                <a:lnTo>
                  <a:pt x="242" y="283"/>
                </a:lnTo>
                <a:lnTo>
                  <a:pt x="249" y="283"/>
                </a:lnTo>
                <a:lnTo>
                  <a:pt x="259" y="283"/>
                </a:lnTo>
                <a:lnTo>
                  <a:pt x="268" y="281"/>
                </a:lnTo>
                <a:lnTo>
                  <a:pt x="277" y="281"/>
                </a:lnTo>
                <a:lnTo>
                  <a:pt x="285" y="281"/>
                </a:lnTo>
                <a:lnTo>
                  <a:pt x="294" y="281"/>
                </a:lnTo>
                <a:lnTo>
                  <a:pt x="303" y="279"/>
                </a:lnTo>
                <a:lnTo>
                  <a:pt x="313" y="279"/>
                </a:lnTo>
                <a:lnTo>
                  <a:pt x="322" y="279"/>
                </a:lnTo>
                <a:lnTo>
                  <a:pt x="330" y="279"/>
                </a:lnTo>
                <a:lnTo>
                  <a:pt x="339" y="279"/>
                </a:lnTo>
                <a:lnTo>
                  <a:pt x="348" y="278"/>
                </a:lnTo>
                <a:lnTo>
                  <a:pt x="357" y="278"/>
                </a:lnTo>
                <a:lnTo>
                  <a:pt x="367" y="278"/>
                </a:lnTo>
                <a:lnTo>
                  <a:pt x="374" y="278"/>
                </a:lnTo>
                <a:lnTo>
                  <a:pt x="384" y="276"/>
                </a:lnTo>
                <a:lnTo>
                  <a:pt x="393" y="276"/>
                </a:lnTo>
                <a:lnTo>
                  <a:pt x="402" y="276"/>
                </a:lnTo>
                <a:lnTo>
                  <a:pt x="410" y="274"/>
                </a:lnTo>
                <a:lnTo>
                  <a:pt x="419" y="274"/>
                </a:lnTo>
                <a:lnTo>
                  <a:pt x="428" y="274"/>
                </a:lnTo>
                <a:lnTo>
                  <a:pt x="438" y="272"/>
                </a:lnTo>
                <a:lnTo>
                  <a:pt x="447" y="272"/>
                </a:lnTo>
                <a:lnTo>
                  <a:pt x="454" y="272"/>
                </a:lnTo>
                <a:lnTo>
                  <a:pt x="464" y="272"/>
                </a:lnTo>
                <a:lnTo>
                  <a:pt x="473" y="270"/>
                </a:lnTo>
                <a:lnTo>
                  <a:pt x="482" y="270"/>
                </a:lnTo>
                <a:lnTo>
                  <a:pt x="492" y="270"/>
                </a:lnTo>
                <a:lnTo>
                  <a:pt x="499" y="270"/>
                </a:lnTo>
                <a:lnTo>
                  <a:pt x="508" y="268"/>
                </a:lnTo>
                <a:lnTo>
                  <a:pt x="518" y="268"/>
                </a:lnTo>
                <a:lnTo>
                  <a:pt x="527" y="268"/>
                </a:lnTo>
                <a:lnTo>
                  <a:pt x="534" y="268"/>
                </a:lnTo>
                <a:lnTo>
                  <a:pt x="544" y="268"/>
                </a:lnTo>
                <a:lnTo>
                  <a:pt x="553" y="266"/>
                </a:lnTo>
                <a:lnTo>
                  <a:pt x="562" y="266"/>
                </a:lnTo>
                <a:lnTo>
                  <a:pt x="572" y="266"/>
                </a:lnTo>
                <a:lnTo>
                  <a:pt x="579" y="266"/>
                </a:lnTo>
                <a:lnTo>
                  <a:pt x="588" y="265"/>
                </a:lnTo>
                <a:lnTo>
                  <a:pt x="598" y="265"/>
                </a:lnTo>
                <a:lnTo>
                  <a:pt x="607" y="265"/>
                </a:lnTo>
                <a:lnTo>
                  <a:pt x="616" y="265"/>
                </a:lnTo>
                <a:lnTo>
                  <a:pt x="624" y="263"/>
                </a:lnTo>
                <a:lnTo>
                  <a:pt x="633" y="263"/>
                </a:lnTo>
                <a:lnTo>
                  <a:pt x="642" y="263"/>
                </a:lnTo>
                <a:lnTo>
                  <a:pt x="652" y="263"/>
                </a:lnTo>
                <a:lnTo>
                  <a:pt x="659" y="263"/>
                </a:lnTo>
                <a:lnTo>
                  <a:pt x="669" y="263"/>
                </a:lnTo>
                <a:lnTo>
                  <a:pt x="678" y="261"/>
                </a:lnTo>
                <a:lnTo>
                  <a:pt x="687" y="261"/>
                </a:lnTo>
                <a:lnTo>
                  <a:pt x="697" y="261"/>
                </a:lnTo>
                <a:lnTo>
                  <a:pt x="704" y="259"/>
                </a:lnTo>
                <a:lnTo>
                  <a:pt x="713" y="259"/>
                </a:lnTo>
                <a:lnTo>
                  <a:pt x="723" y="259"/>
                </a:lnTo>
                <a:lnTo>
                  <a:pt x="732" y="259"/>
                </a:lnTo>
                <a:lnTo>
                  <a:pt x="741" y="257"/>
                </a:lnTo>
                <a:lnTo>
                  <a:pt x="749" y="257"/>
                </a:lnTo>
                <a:lnTo>
                  <a:pt x="758" y="257"/>
                </a:lnTo>
                <a:lnTo>
                  <a:pt x="767" y="257"/>
                </a:lnTo>
                <a:lnTo>
                  <a:pt x="777" y="255"/>
                </a:lnTo>
                <a:lnTo>
                  <a:pt x="784" y="255"/>
                </a:lnTo>
                <a:lnTo>
                  <a:pt x="793" y="255"/>
                </a:lnTo>
                <a:lnTo>
                  <a:pt x="803" y="255"/>
                </a:lnTo>
                <a:lnTo>
                  <a:pt x="812" y="253"/>
                </a:lnTo>
                <a:lnTo>
                  <a:pt x="821" y="253"/>
                </a:lnTo>
                <a:lnTo>
                  <a:pt x="829" y="253"/>
                </a:lnTo>
                <a:lnTo>
                  <a:pt x="838" y="253"/>
                </a:lnTo>
                <a:lnTo>
                  <a:pt x="847" y="252"/>
                </a:lnTo>
                <a:lnTo>
                  <a:pt x="857" y="252"/>
                </a:lnTo>
                <a:lnTo>
                  <a:pt x="866" y="252"/>
                </a:lnTo>
                <a:lnTo>
                  <a:pt x="873" y="250"/>
                </a:lnTo>
                <a:lnTo>
                  <a:pt x="883" y="250"/>
                </a:lnTo>
                <a:lnTo>
                  <a:pt x="892" y="250"/>
                </a:lnTo>
                <a:lnTo>
                  <a:pt x="901" y="248"/>
                </a:lnTo>
                <a:lnTo>
                  <a:pt x="909" y="248"/>
                </a:lnTo>
                <a:lnTo>
                  <a:pt x="918" y="248"/>
                </a:lnTo>
                <a:lnTo>
                  <a:pt x="928" y="246"/>
                </a:lnTo>
                <a:lnTo>
                  <a:pt x="937" y="246"/>
                </a:lnTo>
                <a:lnTo>
                  <a:pt x="946" y="246"/>
                </a:lnTo>
                <a:lnTo>
                  <a:pt x="954" y="246"/>
                </a:lnTo>
                <a:lnTo>
                  <a:pt x="963" y="244"/>
                </a:lnTo>
                <a:lnTo>
                  <a:pt x="972" y="244"/>
                </a:lnTo>
                <a:lnTo>
                  <a:pt x="982" y="244"/>
                </a:lnTo>
                <a:lnTo>
                  <a:pt x="991" y="242"/>
                </a:lnTo>
                <a:lnTo>
                  <a:pt x="998" y="242"/>
                </a:lnTo>
                <a:lnTo>
                  <a:pt x="1008" y="240"/>
                </a:lnTo>
                <a:lnTo>
                  <a:pt x="1017" y="240"/>
                </a:lnTo>
                <a:lnTo>
                  <a:pt x="1026" y="240"/>
                </a:lnTo>
                <a:lnTo>
                  <a:pt x="1034" y="238"/>
                </a:lnTo>
                <a:lnTo>
                  <a:pt x="1043" y="238"/>
                </a:lnTo>
                <a:lnTo>
                  <a:pt x="1052" y="237"/>
                </a:lnTo>
                <a:lnTo>
                  <a:pt x="1062" y="237"/>
                </a:lnTo>
                <a:lnTo>
                  <a:pt x="1071" y="237"/>
                </a:lnTo>
                <a:lnTo>
                  <a:pt x="1078" y="235"/>
                </a:lnTo>
                <a:lnTo>
                  <a:pt x="1088" y="235"/>
                </a:lnTo>
                <a:lnTo>
                  <a:pt x="1097" y="233"/>
                </a:lnTo>
                <a:lnTo>
                  <a:pt x="1106" y="233"/>
                </a:lnTo>
                <a:lnTo>
                  <a:pt x="1116" y="233"/>
                </a:lnTo>
                <a:lnTo>
                  <a:pt x="1123" y="231"/>
                </a:lnTo>
                <a:lnTo>
                  <a:pt x="1132" y="231"/>
                </a:lnTo>
                <a:lnTo>
                  <a:pt x="1142" y="229"/>
                </a:lnTo>
                <a:lnTo>
                  <a:pt x="1151" y="229"/>
                </a:lnTo>
                <a:lnTo>
                  <a:pt x="1159" y="227"/>
                </a:lnTo>
                <a:lnTo>
                  <a:pt x="1168" y="227"/>
                </a:lnTo>
                <a:lnTo>
                  <a:pt x="1177" y="227"/>
                </a:lnTo>
                <a:lnTo>
                  <a:pt x="1186" y="225"/>
                </a:lnTo>
                <a:lnTo>
                  <a:pt x="1196" y="225"/>
                </a:lnTo>
                <a:lnTo>
                  <a:pt x="1203" y="225"/>
                </a:lnTo>
                <a:lnTo>
                  <a:pt x="1213" y="224"/>
                </a:lnTo>
                <a:lnTo>
                  <a:pt x="1222" y="224"/>
                </a:lnTo>
                <a:lnTo>
                  <a:pt x="1231" y="222"/>
                </a:lnTo>
                <a:lnTo>
                  <a:pt x="1240" y="222"/>
                </a:lnTo>
                <a:lnTo>
                  <a:pt x="1248" y="222"/>
                </a:lnTo>
                <a:lnTo>
                  <a:pt x="1257" y="220"/>
                </a:lnTo>
                <a:lnTo>
                  <a:pt x="1267" y="220"/>
                </a:lnTo>
                <a:lnTo>
                  <a:pt x="1276" y="218"/>
                </a:lnTo>
                <a:lnTo>
                  <a:pt x="1283" y="218"/>
                </a:lnTo>
                <a:lnTo>
                  <a:pt x="1293" y="218"/>
                </a:lnTo>
                <a:lnTo>
                  <a:pt x="1302" y="216"/>
                </a:lnTo>
                <a:lnTo>
                  <a:pt x="1311" y="216"/>
                </a:lnTo>
                <a:lnTo>
                  <a:pt x="1321" y="216"/>
                </a:lnTo>
                <a:lnTo>
                  <a:pt x="1328" y="214"/>
                </a:lnTo>
                <a:lnTo>
                  <a:pt x="1337" y="214"/>
                </a:lnTo>
                <a:lnTo>
                  <a:pt x="1347" y="212"/>
                </a:lnTo>
                <a:lnTo>
                  <a:pt x="1356" y="212"/>
                </a:lnTo>
                <a:lnTo>
                  <a:pt x="1365" y="212"/>
                </a:lnTo>
                <a:lnTo>
                  <a:pt x="1373" y="211"/>
                </a:lnTo>
                <a:lnTo>
                  <a:pt x="1382" y="211"/>
                </a:lnTo>
                <a:lnTo>
                  <a:pt x="1391" y="209"/>
                </a:lnTo>
                <a:lnTo>
                  <a:pt x="1401" y="209"/>
                </a:lnTo>
                <a:lnTo>
                  <a:pt x="1408" y="207"/>
                </a:lnTo>
                <a:lnTo>
                  <a:pt x="1417" y="207"/>
                </a:lnTo>
                <a:lnTo>
                  <a:pt x="1427" y="207"/>
                </a:lnTo>
                <a:lnTo>
                  <a:pt x="1436" y="205"/>
                </a:lnTo>
                <a:lnTo>
                  <a:pt x="1445" y="205"/>
                </a:lnTo>
                <a:lnTo>
                  <a:pt x="1453" y="203"/>
                </a:lnTo>
                <a:lnTo>
                  <a:pt x="1462" y="203"/>
                </a:lnTo>
                <a:lnTo>
                  <a:pt x="1472" y="201"/>
                </a:lnTo>
                <a:lnTo>
                  <a:pt x="1481" y="201"/>
                </a:lnTo>
                <a:lnTo>
                  <a:pt x="1490" y="199"/>
                </a:lnTo>
                <a:lnTo>
                  <a:pt x="1498" y="199"/>
                </a:lnTo>
                <a:lnTo>
                  <a:pt x="1507" y="197"/>
                </a:lnTo>
                <a:lnTo>
                  <a:pt x="1516" y="196"/>
                </a:lnTo>
                <a:lnTo>
                  <a:pt x="1526" y="196"/>
                </a:lnTo>
                <a:lnTo>
                  <a:pt x="1533" y="194"/>
                </a:lnTo>
                <a:lnTo>
                  <a:pt x="1542" y="194"/>
                </a:lnTo>
                <a:lnTo>
                  <a:pt x="1552" y="192"/>
                </a:lnTo>
                <a:lnTo>
                  <a:pt x="1561" y="190"/>
                </a:lnTo>
                <a:lnTo>
                  <a:pt x="1570" y="188"/>
                </a:lnTo>
                <a:lnTo>
                  <a:pt x="1578" y="188"/>
                </a:lnTo>
                <a:lnTo>
                  <a:pt x="1587" y="186"/>
                </a:lnTo>
                <a:lnTo>
                  <a:pt x="1596" y="184"/>
                </a:lnTo>
                <a:lnTo>
                  <a:pt x="1606" y="183"/>
                </a:lnTo>
                <a:lnTo>
                  <a:pt x="1615" y="181"/>
                </a:lnTo>
                <a:lnTo>
                  <a:pt x="1622" y="179"/>
                </a:lnTo>
                <a:lnTo>
                  <a:pt x="1632" y="179"/>
                </a:lnTo>
                <a:lnTo>
                  <a:pt x="1641" y="177"/>
                </a:lnTo>
                <a:lnTo>
                  <a:pt x="1650" y="175"/>
                </a:lnTo>
                <a:lnTo>
                  <a:pt x="1658" y="173"/>
                </a:lnTo>
                <a:lnTo>
                  <a:pt x="1667" y="171"/>
                </a:lnTo>
                <a:lnTo>
                  <a:pt x="1676" y="170"/>
                </a:lnTo>
                <a:lnTo>
                  <a:pt x="1686" y="168"/>
                </a:lnTo>
                <a:lnTo>
                  <a:pt x="1695" y="166"/>
                </a:lnTo>
                <a:lnTo>
                  <a:pt x="1703" y="164"/>
                </a:lnTo>
                <a:lnTo>
                  <a:pt x="1712" y="162"/>
                </a:lnTo>
                <a:lnTo>
                  <a:pt x="1721" y="160"/>
                </a:lnTo>
                <a:lnTo>
                  <a:pt x="1730" y="158"/>
                </a:lnTo>
                <a:lnTo>
                  <a:pt x="1740" y="156"/>
                </a:lnTo>
                <a:lnTo>
                  <a:pt x="1747" y="155"/>
                </a:lnTo>
                <a:lnTo>
                  <a:pt x="1757" y="153"/>
                </a:lnTo>
                <a:lnTo>
                  <a:pt x="1766" y="149"/>
                </a:lnTo>
                <a:lnTo>
                  <a:pt x="1775" y="147"/>
                </a:lnTo>
                <a:lnTo>
                  <a:pt x="1784" y="145"/>
                </a:lnTo>
                <a:lnTo>
                  <a:pt x="1792" y="143"/>
                </a:lnTo>
                <a:lnTo>
                  <a:pt x="1801" y="142"/>
                </a:lnTo>
                <a:lnTo>
                  <a:pt x="1811" y="140"/>
                </a:lnTo>
                <a:lnTo>
                  <a:pt x="1820" y="138"/>
                </a:lnTo>
                <a:lnTo>
                  <a:pt x="1827" y="136"/>
                </a:lnTo>
                <a:lnTo>
                  <a:pt x="1837" y="134"/>
                </a:lnTo>
                <a:lnTo>
                  <a:pt x="1846" y="132"/>
                </a:lnTo>
                <a:lnTo>
                  <a:pt x="1855" y="130"/>
                </a:lnTo>
                <a:lnTo>
                  <a:pt x="1865" y="129"/>
                </a:lnTo>
                <a:lnTo>
                  <a:pt x="1872" y="127"/>
                </a:lnTo>
                <a:lnTo>
                  <a:pt x="1881" y="125"/>
                </a:lnTo>
                <a:lnTo>
                  <a:pt x="1891" y="123"/>
                </a:lnTo>
                <a:lnTo>
                  <a:pt x="1900" y="123"/>
                </a:lnTo>
                <a:lnTo>
                  <a:pt x="1909" y="121"/>
                </a:lnTo>
                <a:lnTo>
                  <a:pt x="1917" y="119"/>
                </a:lnTo>
                <a:lnTo>
                  <a:pt x="1926" y="117"/>
                </a:lnTo>
                <a:lnTo>
                  <a:pt x="1935" y="117"/>
                </a:lnTo>
                <a:lnTo>
                  <a:pt x="1945" y="115"/>
                </a:lnTo>
                <a:lnTo>
                  <a:pt x="1952" y="114"/>
                </a:lnTo>
                <a:lnTo>
                  <a:pt x="1961" y="114"/>
                </a:lnTo>
                <a:lnTo>
                  <a:pt x="1971" y="112"/>
                </a:lnTo>
                <a:lnTo>
                  <a:pt x="1980" y="112"/>
                </a:lnTo>
                <a:lnTo>
                  <a:pt x="1989" y="110"/>
                </a:lnTo>
                <a:lnTo>
                  <a:pt x="1997" y="110"/>
                </a:lnTo>
                <a:lnTo>
                  <a:pt x="2006" y="108"/>
                </a:lnTo>
                <a:lnTo>
                  <a:pt x="2015" y="108"/>
                </a:lnTo>
                <a:lnTo>
                  <a:pt x="2025" y="108"/>
                </a:lnTo>
                <a:lnTo>
                  <a:pt x="2034" y="106"/>
                </a:lnTo>
                <a:lnTo>
                  <a:pt x="2042" y="106"/>
                </a:lnTo>
                <a:lnTo>
                  <a:pt x="2051" y="104"/>
                </a:lnTo>
                <a:lnTo>
                  <a:pt x="2060" y="104"/>
                </a:lnTo>
                <a:lnTo>
                  <a:pt x="2070" y="102"/>
                </a:lnTo>
                <a:lnTo>
                  <a:pt x="2077" y="102"/>
                </a:lnTo>
                <a:lnTo>
                  <a:pt x="2086" y="102"/>
                </a:lnTo>
                <a:lnTo>
                  <a:pt x="2096" y="101"/>
                </a:lnTo>
                <a:lnTo>
                  <a:pt x="2105" y="101"/>
                </a:lnTo>
                <a:lnTo>
                  <a:pt x="2114" y="101"/>
                </a:lnTo>
                <a:lnTo>
                  <a:pt x="2122" y="99"/>
                </a:lnTo>
                <a:lnTo>
                  <a:pt x="2131" y="99"/>
                </a:lnTo>
                <a:lnTo>
                  <a:pt x="2140" y="97"/>
                </a:lnTo>
                <a:lnTo>
                  <a:pt x="2150" y="97"/>
                </a:lnTo>
                <a:lnTo>
                  <a:pt x="2159" y="95"/>
                </a:lnTo>
                <a:lnTo>
                  <a:pt x="2166" y="95"/>
                </a:lnTo>
                <a:lnTo>
                  <a:pt x="2176" y="93"/>
                </a:lnTo>
                <a:lnTo>
                  <a:pt x="2185" y="93"/>
                </a:lnTo>
                <a:lnTo>
                  <a:pt x="2194" y="91"/>
                </a:lnTo>
                <a:lnTo>
                  <a:pt x="2202" y="91"/>
                </a:lnTo>
                <a:lnTo>
                  <a:pt x="2211" y="89"/>
                </a:lnTo>
                <a:lnTo>
                  <a:pt x="2220" y="88"/>
                </a:lnTo>
                <a:lnTo>
                  <a:pt x="2230" y="86"/>
                </a:lnTo>
                <a:lnTo>
                  <a:pt x="2239" y="84"/>
                </a:lnTo>
                <a:lnTo>
                  <a:pt x="2246" y="84"/>
                </a:lnTo>
                <a:lnTo>
                  <a:pt x="2256" y="82"/>
                </a:lnTo>
                <a:lnTo>
                  <a:pt x="2265" y="80"/>
                </a:lnTo>
                <a:lnTo>
                  <a:pt x="2274" y="78"/>
                </a:lnTo>
                <a:lnTo>
                  <a:pt x="2284" y="76"/>
                </a:lnTo>
                <a:lnTo>
                  <a:pt x="2291" y="74"/>
                </a:lnTo>
                <a:lnTo>
                  <a:pt x="2301" y="73"/>
                </a:lnTo>
                <a:lnTo>
                  <a:pt x="2310" y="71"/>
                </a:lnTo>
                <a:lnTo>
                  <a:pt x="2319" y="69"/>
                </a:lnTo>
                <a:lnTo>
                  <a:pt x="2327" y="67"/>
                </a:lnTo>
                <a:lnTo>
                  <a:pt x="2336" y="65"/>
                </a:lnTo>
                <a:lnTo>
                  <a:pt x="2345" y="63"/>
                </a:lnTo>
                <a:lnTo>
                  <a:pt x="2355" y="61"/>
                </a:lnTo>
                <a:lnTo>
                  <a:pt x="2364" y="60"/>
                </a:lnTo>
                <a:lnTo>
                  <a:pt x="2371" y="56"/>
                </a:lnTo>
                <a:lnTo>
                  <a:pt x="2381" y="54"/>
                </a:lnTo>
                <a:lnTo>
                  <a:pt x="2390" y="52"/>
                </a:lnTo>
                <a:lnTo>
                  <a:pt x="2399" y="48"/>
                </a:lnTo>
                <a:lnTo>
                  <a:pt x="2409" y="47"/>
                </a:lnTo>
                <a:lnTo>
                  <a:pt x="2416" y="45"/>
                </a:lnTo>
                <a:lnTo>
                  <a:pt x="2425" y="41"/>
                </a:lnTo>
                <a:lnTo>
                  <a:pt x="2435" y="39"/>
                </a:lnTo>
                <a:lnTo>
                  <a:pt x="2444" y="35"/>
                </a:lnTo>
                <a:lnTo>
                  <a:pt x="2451" y="33"/>
                </a:lnTo>
                <a:lnTo>
                  <a:pt x="2461" y="32"/>
                </a:lnTo>
                <a:lnTo>
                  <a:pt x="2470" y="30"/>
                </a:lnTo>
                <a:lnTo>
                  <a:pt x="2479" y="26"/>
                </a:lnTo>
                <a:lnTo>
                  <a:pt x="2489" y="24"/>
                </a:lnTo>
                <a:lnTo>
                  <a:pt x="2496" y="22"/>
                </a:lnTo>
                <a:lnTo>
                  <a:pt x="2505" y="19"/>
                </a:lnTo>
                <a:lnTo>
                  <a:pt x="2515" y="17"/>
                </a:lnTo>
                <a:lnTo>
                  <a:pt x="2524" y="15"/>
                </a:lnTo>
                <a:lnTo>
                  <a:pt x="2533" y="13"/>
                </a:lnTo>
                <a:lnTo>
                  <a:pt x="2541" y="11"/>
                </a:lnTo>
                <a:lnTo>
                  <a:pt x="2550" y="11"/>
                </a:lnTo>
                <a:lnTo>
                  <a:pt x="2559" y="9"/>
                </a:lnTo>
                <a:lnTo>
                  <a:pt x="2569" y="7"/>
                </a:lnTo>
                <a:lnTo>
                  <a:pt x="2576" y="6"/>
                </a:lnTo>
                <a:lnTo>
                  <a:pt x="2586" y="4"/>
                </a:lnTo>
                <a:lnTo>
                  <a:pt x="2595" y="4"/>
                </a:lnTo>
                <a:lnTo>
                  <a:pt x="2604" y="4"/>
                </a:lnTo>
                <a:lnTo>
                  <a:pt x="2613" y="2"/>
                </a:lnTo>
                <a:lnTo>
                  <a:pt x="2621" y="2"/>
                </a:lnTo>
                <a:lnTo>
                  <a:pt x="2630" y="2"/>
                </a:lnTo>
                <a:lnTo>
                  <a:pt x="2640" y="0"/>
                </a:lnTo>
                <a:lnTo>
                  <a:pt x="2649" y="0"/>
                </a:lnTo>
                <a:lnTo>
                  <a:pt x="2658" y="0"/>
                </a:lnTo>
                <a:lnTo>
                  <a:pt x="2666" y="2"/>
                </a:lnTo>
                <a:lnTo>
                  <a:pt x="2675" y="2"/>
                </a:lnTo>
                <a:lnTo>
                  <a:pt x="2684" y="2"/>
                </a:lnTo>
                <a:lnTo>
                  <a:pt x="2694" y="4"/>
                </a:lnTo>
                <a:lnTo>
                  <a:pt x="2701" y="4"/>
                </a:lnTo>
                <a:lnTo>
                  <a:pt x="2710" y="6"/>
                </a:lnTo>
                <a:lnTo>
                  <a:pt x="2720" y="7"/>
                </a:lnTo>
                <a:lnTo>
                  <a:pt x="2729" y="7"/>
                </a:lnTo>
                <a:lnTo>
                  <a:pt x="2738" y="9"/>
                </a:lnTo>
                <a:lnTo>
                  <a:pt x="2746" y="11"/>
                </a:lnTo>
                <a:lnTo>
                  <a:pt x="2755" y="13"/>
                </a:lnTo>
                <a:lnTo>
                  <a:pt x="2764" y="15"/>
                </a:lnTo>
                <a:lnTo>
                  <a:pt x="2774" y="15"/>
                </a:lnTo>
                <a:lnTo>
                  <a:pt x="2783" y="17"/>
                </a:lnTo>
                <a:lnTo>
                  <a:pt x="2790" y="19"/>
                </a:lnTo>
                <a:lnTo>
                  <a:pt x="2800" y="20"/>
                </a:lnTo>
                <a:lnTo>
                  <a:pt x="2809" y="22"/>
                </a:lnTo>
                <a:lnTo>
                  <a:pt x="2818" y="24"/>
                </a:lnTo>
                <a:lnTo>
                  <a:pt x="2826" y="24"/>
                </a:lnTo>
                <a:lnTo>
                  <a:pt x="2835" y="26"/>
                </a:lnTo>
                <a:lnTo>
                  <a:pt x="2845" y="28"/>
                </a:lnTo>
                <a:lnTo>
                  <a:pt x="2854" y="30"/>
                </a:lnTo>
                <a:lnTo>
                  <a:pt x="2863" y="32"/>
                </a:lnTo>
                <a:lnTo>
                  <a:pt x="2871" y="33"/>
                </a:lnTo>
                <a:lnTo>
                  <a:pt x="2880" y="35"/>
                </a:lnTo>
                <a:lnTo>
                  <a:pt x="2889" y="37"/>
                </a:lnTo>
                <a:lnTo>
                  <a:pt x="2899" y="39"/>
                </a:lnTo>
                <a:lnTo>
                  <a:pt x="2908" y="39"/>
                </a:lnTo>
                <a:lnTo>
                  <a:pt x="2915" y="41"/>
                </a:lnTo>
                <a:lnTo>
                  <a:pt x="2925" y="43"/>
                </a:lnTo>
                <a:lnTo>
                  <a:pt x="2934" y="43"/>
                </a:lnTo>
                <a:lnTo>
                  <a:pt x="2943" y="45"/>
                </a:lnTo>
                <a:lnTo>
                  <a:pt x="2951" y="47"/>
                </a:lnTo>
                <a:lnTo>
                  <a:pt x="2960" y="47"/>
                </a:lnTo>
                <a:lnTo>
                  <a:pt x="2969" y="48"/>
                </a:lnTo>
                <a:lnTo>
                  <a:pt x="2979" y="48"/>
                </a:lnTo>
                <a:lnTo>
                  <a:pt x="2988" y="50"/>
                </a:lnTo>
                <a:lnTo>
                  <a:pt x="2995" y="50"/>
                </a:lnTo>
                <a:lnTo>
                  <a:pt x="3005" y="52"/>
                </a:lnTo>
                <a:lnTo>
                  <a:pt x="3014" y="52"/>
                </a:lnTo>
                <a:lnTo>
                  <a:pt x="3023" y="54"/>
                </a:lnTo>
                <a:lnTo>
                  <a:pt x="3033" y="54"/>
                </a:lnTo>
                <a:lnTo>
                  <a:pt x="3040" y="56"/>
                </a:lnTo>
                <a:lnTo>
                  <a:pt x="3049" y="56"/>
                </a:lnTo>
                <a:lnTo>
                  <a:pt x="3059" y="56"/>
                </a:lnTo>
                <a:lnTo>
                  <a:pt x="3068" y="58"/>
                </a:lnTo>
                <a:lnTo>
                  <a:pt x="3076" y="58"/>
                </a:lnTo>
                <a:lnTo>
                  <a:pt x="3085" y="60"/>
                </a:lnTo>
                <a:lnTo>
                  <a:pt x="3094" y="60"/>
                </a:lnTo>
                <a:lnTo>
                  <a:pt x="3103" y="60"/>
                </a:lnTo>
                <a:lnTo>
                  <a:pt x="3113" y="61"/>
                </a:lnTo>
                <a:lnTo>
                  <a:pt x="3120" y="61"/>
                </a:lnTo>
                <a:lnTo>
                  <a:pt x="3130" y="61"/>
                </a:lnTo>
                <a:lnTo>
                  <a:pt x="3139" y="63"/>
                </a:lnTo>
                <a:lnTo>
                  <a:pt x="3148" y="63"/>
                </a:lnTo>
                <a:lnTo>
                  <a:pt x="3157" y="65"/>
                </a:lnTo>
                <a:lnTo>
                  <a:pt x="3165" y="65"/>
                </a:lnTo>
                <a:lnTo>
                  <a:pt x="3174" y="65"/>
                </a:lnTo>
                <a:lnTo>
                  <a:pt x="3184" y="65"/>
                </a:lnTo>
                <a:lnTo>
                  <a:pt x="3193" y="67"/>
                </a:lnTo>
                <a:lnTo>
                  <a:pt x="3200" y="67"/>
                </a:lnTo>
                <a:lnTo>
                  <a:pt x="3210" y="67"/>
                </a:lnTo>
                <a:lnTo>
                  <a:pt x="3219" y="67"/>
                </a:lnTo>
                <a:lnTo>
                  <a:pt x="3228" y="69"/>
                </a:lnTo>
                <a:lnTo>
                  <a:pt x="3238" y="69"/>
                </a:lnTo>
                <a:lnTo>
                  <a:pt x="3245" y="69"/>
                </a:lnTo>
                <a:lnTo>
                  <a:pt x="3254" y="69"/>
                </a:lnTo>
                <a:lnTo>
                  <a:pt x="3264" y="71"/>
                </a:lnTo>
                <a:lnTo>
                  <a:pt x="3273" y="71"/>
                </a:lnTo>
                <a:lnTo>
                  <a:pt x="3282" y="71"/>
                </a:lnTo>
                <a:lnTo>
                  <a:pt x="3290" y="71"/>
                </a:lnTo>
                <a:lnTo>
                  <a:pt x="3299" y="73"/>
                </a:lnTo>
                <a:lnTo>
                  <a:pt x="3308" y="73"/>
                </a:lnTo>
                <a:lnTo>
                  <a:pt x="3318" y="73"/>
                </a:lnTo>
                <a:lnTo>
                  <a:pt x="3325" y="74"/>
                </a:lnTo>
                <a:lnTo>
                  <a:pt x="3334" y="74"/>
                </a:lnTo>
                <a:lnTo>
                  <a:pt x="3344" y="74"/>
                </a:lnTo>
                <a:lnTo>
                  <a:pt x="3353" y="74"/>
                </a:lnTo>
                <a:lnTo>
                  <a:pt x="3362" y="76"/>
                </a:lnTo>
                <a:lnTo>
                  <a:pt x="3370" y="76"/>
                </a:lnTo>
                <a:lnTo>
                  <a:pt x="3379" y="76"/>
                </a:lnTo>
                <a:lnTo>
                  <a:pt x="3388" y="78"/>
                </a:lnTo>
                <a:lnTo>
                  <a:pt x="3398" y="78"/>
                </a:lnTo>
                <a:lnTo>
                  <a:pt x="3407" y="78"/>
                </a:lnTo>
                <a:lnTo>
                  <a:pt x="3415" y="80"/>
                </a:lnTo>
                <a:lnTo>
                  <a:pt x="3424" y="80"/>
                </a:lnTo>
                <a:lnTo>
                  <a:pt x="3433" y="80"/>
                </a:lnTo>
                <a:lnTo>
                  <a:pt x="3443" y="82"/>
                </a:lnTo>
                <a:lnTo>
                  <a:pt x="3450" y="82"/>
                </a:lnTo>
                <a:lnTo>
                  <a:pt x="3459" y="84"/>
                </a:lnTo>
                <a:lnTo>
                  <a:pt x="3469" y="84"/>
                </a:lnTo>
                <a:lnTo>
                  <a:pt x="3478" y="86"/>
                </a:lnTo>
                <a:lnTo>
                  <a:pt x="3487" y="86"/>
                </a:lnTo>
                <a:lnTo>
                  <a:pt x="3495" y="88"/>
                </a:lnTo>
                <a:lnTo>
                  <a:pt x="3504" y="88"/>
                </a:lnTo>
                <a:lnTo>
                  <a:pt x="3513" y="88"/>
                </a:lnTo>
                <a:lnTo>
                  <a:pt x="3523" y="89"/>
                </a:lnTo>
                <a:lnTo>
                  <a:pt x="3532" y="89"/>
                </a:lnTo>
                <a:lnTo>
                  <a:pt x="3539" y="91"/>
                </a:lnTo>
                <a:lnTo>
                  <a:pt x="3549" y="93"/>
                </a:lnTo>
                <a:lnTo>
                  <a:pt x="3558" y="93"/>
                </a:lnTo>
                <a:lnTo>
                  <a:pt x="3567" y="93"/>
                </a:lnTo>
              </a:path>
            </a:pathLst>
          </a:custGeom>
          <a:noFill/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矩形 214"/>
          <p:cNvSpPr/>
          <p:nvPr/>
        </p:nvSpPr>
        <p:spPr>
          <a:xfrm>
            <a:off x="205596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2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矩形 215"/>
          <p:cNvSpPr/>
          <p:nvPr/>
        </p:nvSpPr>
        <p:spPr>
          <a:xfrm>
            <a:off x="347184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矩形 216"/>
          <p:cNvSpPr/>
          <p:nvPr/>
        </p:nvSpPr>
        <p:spPr>
          <a:xfrm>
            <a:off x="488808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3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矩形 217"/>
          <p:cNvSpPr/>
          <p:nvPr/>
        </p:nvSpPr>
        <p:spPr>
          <a:xfrm>
            <a:off x="630252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3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矩形 218"/>
          <p:cNvSpPr/>
          <p:nvPr/>
        </p:nvSpPr>
        <p:spPr>
          <a:xfrm>
            <a:off x="771840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3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矩形 219"/>
          <p:cNvSpPr/>
          <p:nvPr/>
        </p:nvSpPr>
        <p:spPr>
          <a:xfrm>
            <a:off x="1298880" y="54468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220"/>
          <p:cNvSpPr/>
          <p:nvPr/>
        </p:nvSpPr>
        <p:spPr>
          <a:xfrm>
            <a:off x="956160" y="47862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221"/>
          <p:cNvSpPr/>
          <p:nvPr/>
        </p:nvSpPr>
        <p:spPr>
          <a:xfrm>
            <a:off x="956160" y="41292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222"/>
          <p:cNvSpPr/>
          <p:nvPr/>
        </p:nvSpPr>
        <p:spPr>
          <a:xfrm>
            <a:off x="956160" y="34704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矩形 223"/>
          <p:cNvSpPr/>
          <p:nvPr/>
        </p:nvSpPr>
        <p:spPr>
          <a:xfrm>
            <a:off x="956160" y="281304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矩形 224"/>
          <p:cNvSpPr/>
          <p:nvPr/>
        </p:nvSpPr>
        <p:spPr>
          <a:xfrm>
            <a:off x="956160" y="215424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5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矩形 225"/>
          <p:cNvSpPr/>
          <p:nvPr/>
        </p:nvSpPr>
        <p:spPr>
          <a:xfrm>
            <a:off x="956160" y="14968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6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矩形 226"/>
          <p:cNvSpPr/>
          <p:nvPr/>
        </p:nvSpPr>
        <p:spPr>
          <a:xfrm>
            <a:off x="956160" y="83664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7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9" name="Group 35"/>
          <p:cNvGrpSpPr/>
          <p:nvPr/>
        </p:nvGrpSpPr>
        <p:grpSpPr>
          <a:xfrm>
            <a:off x="1522440" y="636120"/>
            <a:ext cx="7076880" cy="5266080"/>
            <a:chOff x="1522440" y="636120"/>
            <a:chExt cx="7076880" cy="5266080"/>
          </a:xfrm>
        </p:grpSpPr>
        <p:sp>
          <p:nvSpPr>
            <p:cNvPr id="910" name="矩形 213"/>
            <p:cNvSpPr/>
            <p:nvPr/>
          </p:nvSpPr>
          <p:spPr>
            <a:xfrm>
              <a:off x="1522440" y="636480"/>
              <a:ext cx="7076880" cy="526572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直线 227"/>
            <p:cNvSpPr/>
            <p:nvPr/>
          </p:nvSpPr>
          <p:spPr>
            <a:xfrm flipV="1">
              <a:off x="1522440" y="5853240"/>
              <a:ext cx="0" cy="48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直线 228"/>
            <p:cNvSpPr/>
            <p:nvPr/>
          </p:nvSpPr>
          <p:spPr>
            <a:xfrm flipV="1">
              <a:off x="2228760" y="5802120"/>
              <a:ext cx="0" cy="997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线 229"/>
            <p:cNvSpPr/>
            <p:nvPr/>
          </p:nvSpPr>
          <p:spPr>
            <a:xfrm flipV="1">
              <a:off x="2938320" y="5853240"/>
              <a:ext cx="0" cy="48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线 230"/>
            <p:cNvSpPr/>
            <p:nvPr/>
          </p:nvSpPr>
          <p:spPr>
            <a:xfrm flipV="1">
              <a:off x="3644640" y="5802120"/>
              <a:ext cx="0" cy="997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线 231"/>
            <p:cNvSpPr/>
            <p:nvPr/>
          </p:nvSpPr>
          <p:spPr>
            <a:xfrm flipV="1">
              <a:off x="4351320" y="5853240"/>
              <a:ext cx="0" cy="48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直线 232"/>
            <p:cNvSpPr/>
            <p:nvPr/>
          </p:nvSpPr>
          <p:spPr>
            <a:xfrm flipV="1">
              <a:off x="5060880" y="5802120"/>
              <a:ext cx="0" cy="997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直线 233"/>
            <p:cNvSpPr/>
            <p:nvPr/>
          </p:nvSpPr>
          <p:spPr>
            <a:xfrm flipV="1">
              <a:off x="5769000" y="5853240"/>
              <a:ext cx="0" cy="48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直线 234"/>
            <p:cNvSpPr/>
            <p:nvPr/>
          </p:nvSpPr>
          <p:spPr>
            <a:xfrm flipV="1">
              <a:off x="6475320" y="5802120"/>
              <a:ext cx="0" cy="997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线 235"/>
            <p:cNvSpPr/>
            <p:nvPr/>
          </p:nvSpPr>
          <p:spPr>
            <a:xfrm flipV="1">
              <a:off x="7182000" y="5853240"/>
              <a:ext cx="0" cy="48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线 236"/>
            <p:cNvSpPr/>
            <p:nvPr/>
          </p:nvSpPr>
          <p:spPr>
            <a:xfrm flipV="1">
              <a:off x="7891560" y="5802120"/>
              <a:ext cx="0" cy="997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线 237"/>
            <p:cNvSpPr/>
            <p:nvPr/>
          </p:nvSpPr>
          <p:spPr>
            <a:xfrm flipV="1">
              <a:off x="8599320" y="5853240"/>
              <a:ext cx="0" cy="48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直线 238"/>
            <p:cNvSpPr/>
            <p:nvPr/>
          </p:nvSpPr>
          <p:spPr>
            <a:xfrm>
              <a:off x="1522440" y="5902200"/>
              <a:ext cx="707688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直线 239"/>
            <p:cNvSpPr/>
            <p:nvPr/>
          </p:nvSpPr>
          <p:spPr>
            <a:xfrm>
              <a:off x="1522440" y="5902200"/>
              <a:ext cx="48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线 240"/>
            <p:cNvSpPr/>
            <p:nvPr/>
          </p:nvSpPr>
          <p:spPr>
            <a:xfrm>
              <a:off x="1522440" y="5573880"/>
              <a:ext cx="99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线 241"/>
            <p:cNvSpPr/>
            <p:nvPr/>
          </p:nvSpPr>
          <p:spPr>
            <a:xfrm>
              <a:off x="1522440" y="5246640"/>
              <a:ext cx="48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直线 242"/>
            <p:cNvSpPr/>
            <p:nvPr/>
          </p:nvSpPr>
          <p:spPr>
            <a:xfrm>
              <a:off x="1522440" y="4914720"/>
              <a:ext cx="99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线 243"/>
            <p:cNvSpPr/>
            <p:nvPr/>
          </p:nvSpPr>
          <p:spPr>
            <a:xfrm>
              <a:off x="1522440" y="4586400"/>
              <a:ext cx="48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直线 244"/>
            <p:cNvSpPr/>
            <p:nvPr/>
          </p:nvSpPr>
          <p:spPr>
            <a:xfrm>
              <a:off x="1522440" y="4257720"/>
              <a:ext cx="99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直线 245"/>
            <p:cNvSpPr/>
            <p:nvPr/>
          </p:nvSpPr>
          <p:spPr>
            <a:xfrm>
              <a:off x="1522440" y="3929040"/>
              <a:ext cx="48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直线 246"/>
            <p:cNvSpPr/>
            <p:nvPr/>
          </p:nvSpPr>
          <p:spPr>
            <a:xfrm>
              <a:off x="1522440" y="3597120"/>
              <a:ext cx="99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直线 247"/>
            <p:cNvSpPr/>
            <p:nvPr/>
          </p:nvSpPr>
          <p:spPr>
            <a:xfrm>
              <a:off x="1522440" y="3270240"/>
              <a:ext cx="48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直线 248"/>
            <p:cNvSpPr/>
            <p:nvPr/>
          </p:nvSpPr>
          <p:spPr>
            <a:xfrm>
              <a:off x="1522440" y="2941560"/>
              <a:ext cx="99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直线 249"/>
            <p:cNvSpPr/>
            <p:nvPr/>
          </p:nvSpPr>
          <p:spPr>
            <a:xfrm>
              <a:off x="1522440" y="2612880"/>
              <a:ext cx="48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直线 250"/>
            <p:cNvSpPr/>
            <p:nvPr/>
          </p:nvSpPr>
          <p:spPr>
            <a:xfrm>
              <a:off x="1522440" y="2280960"/>
              <a:ext cx="99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直线 251"/>
            <p:cNvSpPr/>
            <p:nvPr/>
          </p:nvSpPr>
          <p:spPr>
            <a:xfrm>
              <a:off x="1522440" y="1952280"/>
              <a:ext cx="48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直线 252"/>
            <p:cNvSpPr/>
            <p:nvPr/>
          </p:nvSpPr>
          <p:spPr>
            <a:xfrm>
              <a:off x="1522440" y="1623960"/>
              <a:ext cx="99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直线 253"/>
            <p:cNvSpPr/>
            <p:nvPr/>
          </p:nvSpPr>
          <p:spPr>
            <a:xfrm>
              <a:off x="1522440" y="1296720"/>
              <a:ext cx="48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直线 254"/>
            <p:cNvSpPr/>
            <p:nvPr/>
          </p:nvSpPr>
          <p:spPr>
            <a:xfrm>
              <a:off x="1522440" y="964800"/>
              <a:ext cx="997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直线 255"/>
            <p:cNvSpPr/>
            <p:nvPr/>
          </p:nvSpPr>
          <p:spPr>
            <a:xfrm>
              <a:off x="1522440" y="636480"/>
              <a:ext cx="48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直线 256"/>
            <p:cNvSpPr/>
            <p:nvPr/>
          </p:nvSpPr>
          <p:spPr>
            <a:xfrm flipV="1">
              <a:off x="1522440" y="636120"/>
              <a:ext cx="0" cy="52657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矩形 304"/>
          <p:cNvSpPr/>
          <p:nvPr/>
        </p:nvSpPr>
        <p:spPr>
          <a:xfrm rot="16200000">
            <a:off x="-871200" y="3047760"/>
            <a:ext cx="3076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</a:rPr>
              <a:t>Excitation Intensity (a.u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矩形 305"/>
          <p:cNvSpPr/>
          <p:nvPr/>
        </p:nvSpPr>
        <p:spPr>
          <a:xfrm>
            <a:off x="4051800" y="6343560"/>
            <a:ext cx="21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</a:rPr>
              <a:t>Wavelength (n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3" name="Group 69"/>
          <p:cNvGrpSpPr/>
          <p:nvPr/>
        </p:nvGrpSpPr>
        <p:grpSpPr>
          <a:xfrm>
            <a:off x="2033640" y="857160"/>
            <a:ext cx="55440" cy="3159360"/>
            <a:chOff x="2033640" y="857160"/>
            <a:chExt cx="55440" cy="3159360"/>
          </a:xfrm>
        </p:grpSpPr>
        <p:sp>
          <p:nvSpPr>
            <p:cNvPr id="944" name="直线 98"/>
            <p:cNvSpPr/>
            <p:nvPr/>
          </p:nvSpPr>
          <p:spPr>
            <a:xfrm>
              <a:off x="2061360" y="857160"/>
              <a:ext cx="0" cy="315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任意多边形 99"/>
            <p:cNvSpPr/>
            <p:nvPr/>
          </p:nvSpPr>
          <p:spPr>
            <a:xfrm>
              <a:off x="2033640" y="3894120"/>
              <a:ext cx="55440" cy="1224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0" h="66">
                  <a:moveTo>
                    <a:pt x="15" y="66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1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6" name="Group 72"/>
          <p:cNvGrpSpPr/>
          <p:nvPr/>
        </p:nvGrpSpPr>
        <p:grpSpPr>
          <a:xfrm>
            <a:off x="2225520" y="787320"/>
            <a:ext cx="603720" cy="3229920"/>
            <a:chOff x="2225520" y="787320"/>
            <a:chExt cx="603720" cy="3229920"/>
          </a:xfrm>
        </p:grpSpPr>
        <p:sp>
          <p:nvSpPr>
            <p:cNvPr id="947" name="矩形 69"/>
            <p:cNvSpPr/>
            <p:nvPr/>
          </p:nvSpPr>
          <p:spPr>
            <a:xfrm>
              <a:off x="2228400" y="3276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矩形 70"/>
            <p:cNvSpPr/>
            <p:nvPr/>
          </p:nvSpPr>
          <p:spPr>
            <a:xfrm>
              <a:off x="2243160" y="3446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71"/>
            <p:cNvSpPr/>
            <p:nvPr/>
          </p:nvSpPr>
          <p:spPr>
            <a:xfrm>
              <a:off x="2243160" y="3604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72"/>
            <p:cNvSpPr/>
            <p:nvPr/>
          </p:nvSpPr>
          <p:spPr>
            <a:xfrm>
              <a:off x="2225520" y="37735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矩形 73"/>
            <p:cNvSpPr/>
            <p:nvPr/>
          </p:nvSpPr>
          <p:spPr>
            <a:xfrm>
              <a:off x="2238480" y="31057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矩形 74"/>
            <p:cNvSpPr/>
            <p:nvPr/>
          </p:nvSpPr>
          <p:spPr>
            <a:xfrm>
              <a:off x="2255040" y="275616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矩形 75"/>
            <p:cNvSpPr/>
            <p:nvPr/>
          </p:nvSpPr>
          <p:spPr>
            <a:xfrm>
              <a:off x="2701080" y="2687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矩形 76"/>
            <p:cNvSpPr/>
            <p:nvPr/>
          </p:nvSpPr>
          <p:spPr>
            <a:xfrm>
              <a:off x="2269800" y="292536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矩形 77"/>
            <p:cNvSpPr/>
            <p:nvPr/>
          </p:nvSpPr>
          <p:spPr>
            <a:xfrm>
              <a:off x="2715840" y="28566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矩形 78"/>
            <p:cNvSpPr/>
            <p:nvPr/>
          </p:nvSpPr>
          <p:spPr>
            <a:xfrm>
              <a:off x="2269800" y="257580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79"/>
            <p:cNvSpPr/>
            <p:nvPr/>
          </p:nvSpPr>
          <p:spPr>
            <a:xfrm>
              <a:off x="2715840" y="25070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矩形 80"/>
            <p:cNvSpPr/>
            <p:nvPr/>
          </p:nvSpPr>
          <p:spPr>
            <a:xfrm>
              <a:off x="2266200" y="23806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矩形 81"/>
            <p:cNvSpPr/>
            <p:nvPr/>
          </p:nvSpPr>
          <p:spPr>
            <a:xfrm>
              <a:off x="2712240" y="23119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矩形 82"/>
            <p:cNvSpPr/>
            <p:nvPr/>
          </p:nvSpPr>
          <p:spPr>
            <a:xfrm>
              <a:off x="2269800" y="217440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矩形 83"/>
            <p:cNvSpPr/>
            <p:nvPr/>
          </p:nvSpPr>
          <p:spPr>
            <a:xfrm>
              <a:off x="2715840" y="21056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矩形 84"/>
            <p:cNvSpPr/>
            <p:nvPr/>
          </p:nvSpPr>
          <p:spPr>
            <a:xfrm>
              <a:off x="2255040" y="1994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矩形 85"/>
            <p:cNvSpPr/>
            <p:nvPr/>
          </p:nvSpPr>
          <p:spPr>
            <a:xfrm>
              <a:off x="2701080" y="19252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矩形 86"/>
            <p:cNvSpPr/>
            <p:nvPr/>
          </p:nvSpPr>
          <p:spPr>
            <a:xfrm>
              <a:off x="2266200" y="18136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矩形 87"/>
            <p:cNvSpPr/>
            <p:nvPr/>
          </p:nvSpPr>
          <p:spPr>
            <a:xfrm>
              <a:off x="2712240" y="17445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矩形 88"/>
            <p:cNvSpPr/>
            <p:nvPr/>
          </p:nvSpPr>
          <p:spPr>
            <a:xfrm>
              <a:off x="2255040" y="16333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矩形 89"/>
            <p:cNvSpPr/>
            <p:nvPr/>
          </p:nvSpPr>
          <p:spPr>
            <a:xfrm>
              <a:off x="2701080" y="15642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矩形 90"/>
            <p:cNvSpPr/>
            <p:nvPr/>
          </p:nvSpPr>
          <p:spPr>
            <a:xfrm>
              <a:off x="2255040" y="146196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矩形 91"/>
            <p:cNvSpPr/>
            <p:nvPr/>
          </p:nvSpPr>
          <p:spPr>
            <a:xfrm>
              <a:off x="2701080" y="13950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矩形 92"/>
            <p:cNvSpPr/>
            <p:nvPr/>
          </p:nvSpPr>
          <p:spPr>
            <a:xfrm>
              <a:off x="2232720" y="12686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矩形 93"/>
            <p:cNvSpPr/>
            <p:nvPr/>
          </p:nvSpPr>
          <p:spPr>
            <a:xfrm>
              <a:off x="2678760" y="11998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矩形 94"/>
            <p:cNvSpPr/>
            <p:nvPr/>
          </p:nvSpPr>
          <p:spPr>
            <a:xfrm>
              <a:off x="2243880" y="106236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矩形 95"/>
            <p:cNvSpPr/>
            <p:nvPr/>
          </p:nvSpPr>
          <p:spPr>
            <a:xfrm>
              <a:off x="2689920" y="9936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矩形 100"/>
            <p:cNvSpPr/>
            <p:nvPr/>
          </p:nvSpPr>
          <p:spPr>
            <a:xfrm>
              <a:off x="2229120" y="8560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矩形 101"/>
            <p:cNvSpPr/>
            <p:nvPr/>
          </p:nvSpPr>
          <p:spPr>
            <a:xfrm>
              <a:off x="2675160" y="7873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6" name="矩形 276"/>
          <p:cNvSpPr/>
          <p:nvPr/>
        </p:nvSpPr>
        <p:spPr>
          <a:xfrm>
            <a:off x="6511320" y="817560"/>
            <a:ext cx="675720" cy="2286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abic Transparent"/>
              </a:rPr>
              <a:t>339 n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直线 310"/>
          <p:cNvSpPr/>
          <p:nvPr/>
        </p:nvSpPr>
        <p:spPr>
          <a:xfrm>
            <a:off x="6122880" y="787320"/>
            <a:ext cx="0" cy="510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直线 311"/>
          <p:cNvSpPr/>
          <p:nvPr/>
        </p:nvSpPr>
        <p:spPr>
          <a:xfrm flipV="1">
            <a:off x="6416640" y="773280"/>
            <a:ext cx="0" cy="513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矩形 312"/>
          <p:cNvSpPr/>
          <p:nvPr/>
        </p:nvSpPr>
        <p:spPr>
          <a:xfrm>
            <a:off x="5469840" y="790560"/>
            <a:ext cx="675720" cy="2286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abic Transparent"/>
              </a:rPr>
              <a:t>335 n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5"/>
          <p:cNvSpPr/>
          <p:nvPr/>
        </p:nvSpPr>
        <p:spPr>
          <a:xfrm rot="18943800">
            <a:off x="-818280" y="371880"/>
            <a:ext cx="28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CM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1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4" dur="1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8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9" dur="1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4" dur="1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8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9" dur="1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1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8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1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8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4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8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9" dur="1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4" dur="1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9" dur="1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8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4" dur="1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1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4" dur="1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9" dur="1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4" dur="1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8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1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8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4" dur="1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1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E7BC-1449-4917-8623-0CDA88749AA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2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3" name="矩形 46"/>
          <p:cNvSpPr/>
          <p:nvPr/>
        </p:nvSpPr>
        <p:spPr>
          <a:xfrm>
            <a:off x="1576440" y="562932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矩形 47"/>
          <p:cNvSpPr/>
          <p:nvPr/>
        </p:nvSpPr>
        <p:spPr>
          <a:xfrm>
            <a:off x="2606760" y="562932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矩形 48"/>
          <p:cNvSpPr/>
          <p:nvPr/>
        </p:nvSpPr>
        <p:spPr>
          <a:xfrm>
            <a:off x="3637080" y="561672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矩形 49"/>
          <p:cNvSpPr/>
          <p:nvPr/>
        </p:nvSpPr>
        <p:spPr>
          <a:xfrm>
            <a:off x="4668840" y="554832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矩形 50"/>
          <p:cNvSpPr/>
          <p:nvPr/>
        </p:nvSpPr>
        <p:spPr>
          <a:xfrm>
            <a:off x="5388120" y="5251320"/>
            <a:ext cx="90360" cy="907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矩形 51"/>
          <p:cNvSpPr/>
          <p:nvPr/>
        </p:nvSpPr>
        <p:spPr>
          <a:xfrm>
            <a:off x="6108840" y="426888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矩形 52"/>
          <p:cNvSpPr/>
          <p:nvPr/>
        </p:nvSpPr>
        <p:spPr>
          <a:xfrm>
            <a:off x="6419880" y="335916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矩形 53"/>
          <p:cNvSpPr/>
          <p:nvPr/>
        </p:nvSpPr>
        <p:spPr>
          <a:xfrm>
            <a:off x="7221600" y="1771560"/>
            <a:ext cx="90360" cy="921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矩形 54"/>
          <p:cNvSpPr/>
          <p:nvPr/>
        </p:nvSpPr>
        <p:spPr>
          <a:xfrm>
            <a:off x="7348680" y="160668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矩形 55"/>
          <p:cNvSpPr/>
          <p:nvPr/>
        </p:nvSpPr>
        <p:spPr>
          <a:xfrm>
            <a:off x="7599240" y="1101600"/>
            <a:ext cx="90720" cy="921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矩形 56"/>
          <p:cNvSpPr/>
          <p:nvPr/>
        </p:nvSpPr>
        <p:spPr>
          <a:xfrm>
            <a:off x="7758000" y="1359000"/>
            <a:ext cx="9072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任意多边形 57"/>
          <p:cNvSpPr/>
          <p:nvPr/>
        </p:nvSpPr>
        <p:spPr>
          <a:xfrm>
            <a:off x="1625760" y="1322280"/>
            <a:ext cx="6181560" cy="4361040"/>
          </a:xfrm>
          <a:custGeom>
            <a:avLst/>
            <a:gdLst>
              <a:gd name="textAreaLeft" fmla="*/ 0 w 6181560"/>
              <a:gd name="textAreaRight" fmla="*/ 6181920 w 6181560"/>
              <a:gd name="textAreaTop" fmla="*/ 0 h 4361040"/>
              <a:gd name="textAreaBottom" fmla="*/ 4361400 h 4361040"/>
            </a:gdLst>
            <a:ahLst/>
            <a:rect l="textAreaLeft" t="textAreaTop" r="textAreaRight" b="textAreaBottom"/>
            <a:pathLst>
              <a:path w="3894" h="2747">
                <a:moveTo>
                  <a:pt x="0" y="2747"/>
                </a:moveTo>
                <a:lnTo>
                  <a:pt x="38" y="2747"/>
                </a:lnTo>
                <a:lnTo>
                  <a:pt x="78" y="2747"/>
                </a:lnTo>
                <a:lnTo>
                  <a:pt x="118" y="2747"/>
                </a:lnTo>
                <a:lnTo>
                  <a:pt x="158" y="2747"/>
                </a:lnTo>
                <a:lnTo>
                  <a:pt x="196" y="2747"/>
                </a:lnTo>
                <a:lnTo>
                  <a:pt x="236" y="2747"/>
                </a:lnTo>
                <a:lnTo>
                  <a:pt x="275" y="2747"/>
                </a:lnTo>
                <a:lnTo>
                  <a:pt x="313" y="2747"/>
                </a:lnTo>
                <a:lnTo>
                  <a:pt x="353" y="2747"/>
                </a:lnTo>
                <a:lnTo>
                  <a:pt x="393" y="2747"/>
                </a:lnTo>
                <a:lnTo>
                  <a:pt x="431" y="2747"/>
                </a:lnTo>
                <a:lnTo>
                  <a:pt x="471" y="2747"/>
                </a:lnTo>
                <a:lnTo>
                  <a:pt x="511" y="2747"/>
                </a:lnTo>
                <a:lnTo>
                  <a:pt x="551" y="2747"/>
                </a:lnTo>
                <a:lnTo>
                  <a:pt x="589" y="2747"/>
                </a:lnTo>
                <a:lnTo>
                  <a:pt x="629" y="2747"/>
                </a:lnTo>
                <a:lnTo>
                  <a:pt x="669" y="2747"/>
                </a:lnTo>
                <a:lnTo>
                  <a:pt x="707" y="2747"/>
                </a:lnTo>
                <a:lnTo>
                  <a:pt x="747" y="2747"/>
                </a:lnTo>
                <a:lnTo>
                  <a:pt x="787" y="2747"/>
                </a:lnTo>
                <a:lnTo>
                  <a:pt x="827" y="2747"/>
                </a:lnTo>
                <a:lnTo>
                  <a:pt x="865" y="2747"/>
                </a:lnTo>
                <a:lnTo>
                  <a:pt x="904" y="2747"/>
                </a:lnTo>
                <a:lnTo>
                  <a:pt x="944" y="2747"/>
                </a:lnTo>
                <a:lnTo>
                  <a:pt x="982" y="2747"/>
                </a:lnTo>
                <a:lnTo>
                  <a:pt x="1022" y="2747"/>
                </a:lnTo>
                <a:lnTo>
                  <a:pt x="1062" y="2747"/>
                </a:lnTo>
                <a:lnTo>
                  <a:pt x="1100" y="2747"/>
                </a:lnTo>
                <a:lnTo>
                  <a:pt x="1140" y="2747"/>
                </a:lnTo>
                <a:lnTo>
                  <a:pt x="1180" y="2747"/>
                </a:lnTo>
                <a:lnTo>
                  <a:pt x="1220" y="2745"/>
                </a:lnTo>
                <a:lnTo>
                  <a:pt x="1258" y="2745"/>
                </a:lnTo>
                <a:lnTo>
                  <a:pt x="1298" y="2745"/>
                </a:lnTo>
                <a:lnTo>
                  <a:pt x="1338" y="2745"/>
                </a:lnTo>
                <a:lnTo>
                  <a:pt x="1376" y="2743"/>
                </a:lnTo>
                <a:lnTo>
                  <a:pt x="1416" y="2743"/>
                </a:lnTo>
                <a:lnTo>
                  <a:pt x="1456" y="2741"/>
                </a:lnTo>
                <a:lnTo>
                  <a:pt x="1494" y="2741"/>
                </a:lnTo>
                <a:lnTo>
                  <a:pt x="1533" y="2739"/>
                </a:lnTo>
                <a:lnTo>
                  <a:pt x="1573" y="2738"/>
                </a:lnTo>
                <a:lnTo>
                  <a:pt x="1613" y="2736"/>
                </a:lnTo>
                <a:lnTo>
                  <a:pt x="1651" y="2734"/>
                </a:lnTo>
                <a:lnTo>
                  <a:pt x="1691" y="2730"/>
                </a:lnTo>
                <a:lnTo>
                  <a:pt x="1731" y="2728"/>
                </a:lnTo>
                <a:lnTo>
                  <a:pt x="1769" y="2722"/>
                </a:lnTo>
                <a:lnTo>
                  <a:pt x="1809" y="2719"/>
                </a:lnTo>
                <a:lnTo>
                  <a:pt x="1849" y="2713"/>
                </a:lnTo>
                <a:lnTo>
                  <a:pt x="1887" y="2707"/>
                </a:lnTo>
                <a:lnTo>
                  <a:pt x="1927" y="2700"/>
                </a:lnTo>
                <a:lnTo>
                  <a:pt x="1967" y="2692"/>
                </a:lnTo>
                <a:lnTo>
                  <a:pt x="2007" y="2681"/>
                </a:lnTo>
                <a:lnTo>
                  <a:pt x="2045" y="2671"/>
                </a:lnTo>
                <a:lnTo>
                  <a:pt x="2085" y="2658"/>
                </a:lnTo>
                <a:lnTo>
                  <a:pt x="2125" y="2643"/>
                </a:lnTo>
                <a:lnTo>
                  <a:pt x="2163" y="2627"/>
                </a:lnTo>
                <a:lnTo>
                  <a:pt x="2202" y="2608"/>
                </a:lnTo>
                <a:lnTo>
                  <a:pt x="2242" y="2587"/>
                </a:lnTo>
                <a:lnTo>
                  <a:pt x="2280" y="2565"/>
                </a:lnTo>
                <a:lnTo>
                  <a:pt x="2320" y="2538"/>
                </a:lnTo>
                <a:lnTo>
                  <a:pt x="2360" y="2509"/>
                </a:lnTo>
                <a:lnTo>
                  <a:pt x="2400" y="2477"/>
                </a:lnTo>
                <a:lnTo>
                  <a:pt x="2438" y="2441"/>
                </a:lnTo>
                <a:lnTo>
                  <a:pt x="2478" y="2403"/>
                </a:lnTo>
                <a:lnTo>
                  <a:pt x="2518" y="2359"/>
                </a:lnTo>
                <a:lnTo>
                  <a:pt x="2556" y="2314"/>
                </a:lnTo>
                <a:lnTo>
                  <a:pt x="2596" y="2264"/>
                </a:lnTo>
                <a:lnTo>
                  <a:pt x="2636" y="2209"/>
                </a:lnTo>
                <a:lnTo>
                  <a:pt x="2674" y="2152"/>
                </a:lnTo>
                <a:lnTo>
                  <a:pt x="2714" y="2089"/>
                </a:lnTo>
                <a:lnTo>
                  <a:pt x="2754" y="2023"/>
                </a:lnTo>
                <a:lnTo>
                  <a:pt x="2793" y="1952"/>
                </a:lnTo>
                <a:lnTo>
                  <a:pt x="2831" y="1878"/>
                </a:lnTo>
                <a:lnTo>
                  <a:pt x="2871" y="1800"/>
                </a:lnTo>
                <a:lnTo>
                  <a:pt x="2911" y="1719"/>
                </a:lnTo>
                <a:lnTo>
                  <a:pt x="2949" y="1633"/>
                </a:lnTo>
                <a:lnTo>
                  <a:pt x="2989" y="1546"/>
                </a:lnTo>
                <a:lnTo>
                  <a:pt x="3029" y="1454"/>
                </a:lnTo>
                <a:lnTo>
                  <a:pt x="3067" y="1361"/>
                </a:lnTo>
                <a:lnTo>
                  <a:pt x="3107" y="1266"/>
                </a:lnTo>
                <a:lnTo>
                  <a:pt x="3147" y="1171"/>
                </a:lnTo>
                <a:lnTo>
                  <a:pt x="3187" y="1074"/>
                </a:lnTo>
                <a:lnTo>
                  <a:pt x="3225" y="979"/>
                </a:lnTo>
                <a:lnTo>
                  <a:pt x="3265" y="884"/>
                </a:lnTo>
                <a:lnTo>
                  <a:pt x="3305" y="789"/>
                </a:lnTo>
                <a:lnTo>
                  <a:pt x="3343" y="698"/>
                </a:lnTo>
                <a:lnTo>
                  <a:pt x="3383" y="609"/>
                </a:lnTo>
                <a:lnTo>
                  <a:pt x="3422" y="523"/>
                </a:lnTo>
                <a:lnTo>
                  <a:pt x="3460" y="441"/>
                </a:lnTo>
                <a:lnTo>
                  <a:pt x="3500" y="365"/>
                </a:lnTo>
                <a:lnTo>
                  <a:pt x="3540" y="295"/>
                </a:lnTo>
                <a:lnTo>
                  <a:pt x="3580" y="230"/>
                </a:lnTo>
                <a:lnTo>
                  <a:pt x="3618" y="173"/>
                </a:lnTo>
                <a:lnTo>
                  <a:pt x="3658" y="122"/>
                </a:lnTo>
                <a:lnTo>
                  <a:pt x="3698" y="80"/>
                </a:lnTo>
                <a:lnTo>
                  <a:pt x="3736" y="48"/>
                </a:lnTo>
                <a:lnTo>
                  <a:pt x="3776" y="23"/>
                </a:lnTo>
                <a:lnTo>
                  <a:pt x="3816" y="8"/>
                </a:lnTo>
                <a:lnTo>
                  <a:pt x="3856" y="0"/>
                </a:lnTo>
                <a:lnTo>
                  <a:pt x="3894" y="2"/>
                </a:lnTo>
              </a:path>
            </a:pathLst>
          </a:custGeom>
          <a:noFill/>
          <a:ln w="284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5" name="Group 15"/>
          <p:cNvGrpSpPr/>
          <p:nvPr/>
        </p:nvGrpSpPr>
        <p:grpSpPr>
          <a:xfrm>
            <a:off x="128520" y="2876760"/>
            <a:ext cx="534240" cy="987120"/>
            <a:chOff x="128520" y="2876760"/>
            <a:chExt cx="534240" cy="987120"/>
          </a:xfrm>
        </p:grpSpPr>
        <p:sp>
          <p:nvSpPr>
            <p:cNvPr id="996" name="矩形 58"/>
            <p:cNvSpPr/>
            <p:nvPr/>
          </p:nvSpPr>
          <p:spPr>
            <a:xfrm rot="16200000">
              <a:off x="302760" y="355032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bacc6"/>
                  </a:solidFill>
                  <a:latin typeface="Arabic Transparent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矩形 59"/>
            <p:cNvSpPr/>
            <p:nvPr/>
          </p:nvSpPr>
          <p:spPr>
            <a:xfrm rot="16200000">
              <a:off x="328320" y="348408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acc6"/>
                  </a:solidFill>
                  <a:latin typeface="Arabic Transparent"/>
                </a:rPr>
                <a:t>33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矩形 60"/>
            <p:cNvSpPr/>
            <p:nvPr/>
          </p:nvSpPr>
          <p:spPr>
            <a:xfrm rot="16200000">
              <a:off x="174600" y="3147120"/>
              <a:ext cx="395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bacc6"/>
                  </a:solidFill>
                  <a:latin typeface="Arabic Transparent"/>
                </a:rPr>
                <a:t> </a:t>
              </a:r>
              <a:r>
                <a:rPr b="0" lang="zh-CN" sz="3200" spc="-1" strike="noStrike">
                  <a:solidFill>
                    <a:srgbClr val="4bacc6"/>
                  </a:solidFill>
                  <a:latin typeface="Arabic Transparent"/>
                </a:rPr>
                <a:t>/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矩形 61"/>
            <p:cNvSpPr/>
            <p:nvPr/>
          </p:nvSpPr>
          <p:spPr>
            <a:xfrm rot="16200000">
              <a:off x="312480" y="29361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acc6"/>
                  </a:solidFill>
                  <a:latin typeface="Arabic Transparent"/>
                </a:rPr>
                <a:t>33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0" name="矩形 62"/>
          <p:cNvSpPr/>
          <p:nvPr/>
        </p:nvSpPr>
        <p:spPr>
          <a:xfrm>
            <a:off x="3895920" y="6365880"/>
            <a:ext cx="169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bacc6"/>
                </a:solidFill>
                <a:latin typeface="Arabic Transparent"/>
              </a:rPr>
              <a:t>log C(mg/m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线 64"/>
          <p:cNvSpPr/>
          <p:nvPr/>
        </p:nvSpPr>
        <p:spPr>
          <a:xfrm>
            <a:off x="2660760" y="5683320"/>
            <a:ext cx="319068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直线 65"/>
          <p:cNvSpPr/>
          <p:nvPr/>
        </p:nvSpPr>
        <p:spPr>
          <a:xfrm flipH="1">
            <a:off x="5452920" y="789120"/>
            <a:ext cx="2170080" cy="515448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直线 66"/>
          <p:cNvSpPr/>
          <p:nvPr/>
        </p:nvSpPr>
        <p:spPr>
          <a:xfrm>
            <a:off x="5568840" y="5683320"/>
            <a:ext cx="0" cy="361800"/>
          </a:xfrm>
          <a:prstGeom prst="line">
            <a:avLst/>
          </a:prstGeom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矩形 6"/>
          <p:cNvSpPr/>
          <p:nvPr/>
        </p:nvSpPr>
        <p:spPr>
          <a:xfrm>
            <a:off x="1531800" y="61196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-</a:t>
            </a: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矩形 7"/>
          <p:cNvSpPr/>
          <p:nvPr/>
        </p:nvSpPr>
        <p:spPr>
          <a:xfrm>
            <a:off x="2560680" y="61196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-</a:t>
            </a: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矩形 8"/>
          <p:cNvSpPr/>
          <p:nvPr/>
        </p:nvSpPr>
        <p:spPr>
          <a:xfrm>
            <a:off x="3592440" y="61196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-</a:t>
            </a: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矩形 9"/>
          <p:cNvSpPr/>
          <p:nvPr/>
        </p:nvSpPr>
        <p:spPr>
          <a:xfrm>
            <a:off x="4623120" y="6119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矩形 10"/>
          <p:cNvSpPr/>
          <p:nvPr/>
        </p:nvSpPr>
        <p:spPr>
          <a:xfrm>
            <a:off x="5688000" y="6119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矩形 11"/>
          <p:cNvSpPr/>
          <p:nvPr/>
        </p:nvSpPr>
        <p:spPr>
          <a:xfrm>
            <a:off x="6720120" y="6119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矩形 12"/>
          <p:cNvSpPr/>
          <p:nvPr/>
        </p:nvSpPr>
        <p:spPr>
          <a:xfrm>
            <a:off x="7748640" y="6119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13"/>
          <p:cNvSpPr/>
          <p:nvPr/>
        </p:nvSpPr>
        <p:spPr>
          <a:xfrm>
            <a:off x="709920" y="536400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14"/>
          <p:cNvSpPr/>
          <p:nvPr/>
        </p:nvSpPr>
        <p:spPr>
          <a:xfrm>
            <a:off x="709920" y="429084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15"/>
          <p:cNvSpPr/>
          <p:nvPr/>
        </p:nvSpPr>
        <p:spPr>
          <a:xfrm>
            <a:off x="709920" y="321624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矩形 16"/>
          <p:cNvSpPr/>
          <p:nvPr/>
        </p:nvSpPr>
        <p:spPr>
          <a:xfrm>
            <a:off x="709920" y="214164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矩形 17"/>
          <p:cNvSpPr/>
          <p:nvPr/>
        </p:nvSpPr>
        <p:spPr>
          <a:xfrm>
            <a:off x="709920" y="106848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6" name="Group 36"/>
          <p:cNvGrpSpPr/>
          <p:nvPr/>
        </p:nvGrpSpPr>
        <p:grpSpPr>
          <a:xfrm>
            <a:off x="1109520" y="658440"/>
            <a:ext cx="7213680" cy="5372640"/>
            <a:chOff x="1109520" y="658440"/>
            <a:chExt cx="7213680" cy="5372640"/>
          </a:xfrm>
        </p:grpSpPr>
        <p:sp>
          <p:nvSpPr>
            <p:cNvPr id="1017" name="矩形 5"/>
            <p:cNvSpPr/>
            <p:nvPr/>
          </p:nvSpPr>
          <p:spPr>
            <a:xfrm>
              <a:off x="1109520" y="658800"/>
              <a:ext cx="7213680" cy="537228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直线 18"/>
            <p:cNvSpPr/>
            <p:nvPr/>
          </p:nvSpPr>
          <p:spPr>
            <a:xfrm flipV="1">
              <a:off x="1109520" y="5978520"/>
              <a:ext cx="0" cy="522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直线 19"/>
            <p:cNvSpPr/>
            <p:nvPr/>
          </p:nvSpPr>
          <p:spPr>
            <a:xfrm flipV="1">
              <a:off x="1625400" y="5928120"/>
              <a:ext cx="0" cy="102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直线 20"/>
            <p:cNvSpPr/>
            <p:nvPr/>
          </p:nvSpPr>
          <p:spPr>
            <a:xfrm flipV="1">
              <a:off x="2141280" y="5978520"/>
              <a:ext cx="0" cy="522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直线 21"/>
            <p:cNvSpPr/>
            <p:nvPr/>
          </p:nvSpPr>
          <p:spPr>
            <a:xfrm flipV="1">
              <a:off x="2653920" y="5928120"/>
              <a:ext cx="0" cy="102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直线 22"/>
            <p:cNvSpPr/>
            <p:nvPr/>
          </p:nvSpPr>
          <p:spPr>
            <a:xfrm flipV="1">
              <a:off x="3170160" y="5978520"/>
              <a:ext cx="0" cy="522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直线 23"/>
            <p:cNvSpPr/>
            <p:nvPr/>
          </p:nvSpPr>
          <p:spPr>
            <a:xfrm flipV="1">
              <a:off x="3686040" y="5928120"/>
              <a:ext cx="0" cy="102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直线 24"/>
            <p:cNvSpPr/>
            <p:nvPr/>
          </p:nvSpPr>
          <p:spPr>
            <a:xfrm flipV="1">
              <a:off x="4201920" y="5978520"/>
              <a:ext cx="0" cy="522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直线 25"/>
            <p:cNvSpPr/>
            <p:nvPr/>
          </p:nvSpPr>
          <p:spPr>
            <a:xfrm flipV="1">
              <a:off x="4717800" y="5928120"/>
              <a:ext cx="0" cy="102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直线 26"/>
            <p:cNvSpPr/>
            <p:nvPr/>
          </p:nvSpPr>
          <p:spPr>
            <a:xfrm flipV="1">
              <a:off x="5230800" y="5978520"/>
              <a:ext cx="0" cy="522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直线 27"/>
            <p:cNvSpPr/>
            <p:nvPr/>
          </p:nvSpPr>
          <p:spPr>
            <a:xfrm flipV="1">
              <a:off x="5746680" y="5928120"/>
              <a:ext cx="0" cy="102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直线 28"/>
            <p:cNvSpPr/>
            <p:nvPr/>
          </p:nvSpPr>
          <p:spPr>
            <a:xfrm flipV="1">
              <a:off x="6262560" y="5978520"/>
              <a:ext cx="0" cy="522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直线 29"/>
            <p:cNvSpPr/>
            <p:nvPr/>
          </p:nvSpPr>
          <p:spPr>
            <a:xfrm flipV="1">
              <a:off x="6778800" y="5928120"/>
              <a:ext cx="0" cy="102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直线 30"/>
            <p:cNvSpPr/>
            <p:nvPr/>
          </p:nvSpPr>
          <p:spPr>
            <a:xfrm flipV="1">
              <a:off x="7291440" y="5978520"/>
              <a:ext cx="0" cy="522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直线 31"/>
            <p:cNvSpPr/>
            <p:nvPr/>
          </p:nvSpPr>
          <p:spPr>
            <a:xfrm flipV="1">
              <a:off x="7807320" y="5928120"/>
              <a:ext cx="0" cy="1029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直线 32"/>
            <p:cNvSpPr/>
            <p:nvPr/>
          </p:nvSpPr>
          <p:spPr>
            <a:xfrm flipV="1">
              <a:off x="8323200" y="5978520"/>
              <a:ext cx="0" cy="522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直线 33"/>
            <p:cNvSpPr/>
            <p:nvPr/>
          </p:nvSpPr>
          <p:spPr>
            <a:xfrm>
              <a:off x="1109520" y="6031080"/>
              <a:ext cx="721368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直线 34"/>
            <p:cNvSpPr/>
            <p:nvPr/>
          </p:nvSpPr>
          <p:spPr>
            <a:xfrm>
              <a:off x="1109520" y="603108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直线 35"/>
            <p:cNvSpPr/>
            <p:nvPr/>
          </p:nvSpPr>
          <p:spPr>
            <a:xfrm>
              <a:off x="1109520" y="5492880"/>
              <a:ext cx="102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直线 36"/>
            <p:cNvSpPr/>
            <p:nvPr/>
          </p:nvSpPr>
          <p:spPr>
            <a:xfrm>
              <a:off x="1109520" y="495648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直线 37"/>
            <p:cNvSpPr/>
            <p:nvPr/>
          </p:nvSpPr>
          <p:spPr>
            <a:xfrm>
              <a:off x="1109520" y="4419720"/>
              <a:ext cx="102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直线 38"/>
            <p:cNvSpPr/>
            <p:nvPr/>
          </p:nvSpPr>
          <p:spPr>
            <a:xfrm>
              <a:off x="1109520" y="388152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直线 39"/>
            <p:cNvSpPr/>
            <p:nvPr/>
          </p:nvSpPr>
          <p:spPr>
            <a:xfrm>
              <a:off x="1109520" y="3344760"/>
              <a:ext cx="102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直线 40"/>
            <p:cNvSpPr/>
            <p:nvPr/>
          </p:nvSpPr>
          <p:spPr>
            <a:xfrm>
              <a:off x="1109520" y="280836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直线 41"/>
            <p:cNvSpPr/>
            <p:nvPr/>
          </p:nvSpPr>
          <p:spPr>
            <a:xfrm>
              <a:off x="1109520" y="2270160"/>
              <a:ext cx="102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直线 42"/>
            <p:cNvSpPr/>
            <p:nvPr/>
          </p:nvSpPr>
          <p:spPr>
            <a:xfrm>
              <a:off x="1109520" y="173340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直线 43"/>
            <p:cNvSpPr/>
            <p:nvPr/>
          </p:nvSpPr>
          <p:spPr>
            <a:xfrm>
              <a:off x="1109520" y="1195200"/>
              <a:ext cx="102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直线 44"/>
            <p:cNvSpPr/>
            <p:nvPr/>
          </p:nvSpPr>
          <p:spPr>
            <a:xfrm>
              <a:off x="1109520" y="65880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直线 45"/>
            <p:cNvSpPr/>
            <p:nvPr/>
          </p:nvSpPr>
          <p:spPr>
            <a:xfrm flipV="1">
              <a:off x="1109520" y="658440"/>
              <a:ext cx="0" cy="537228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6" name="矩形 68"/>
          <p:cNvSpPr/>
          <p:nvPr/>
        </p:nvSpPr>
        <p:spPr>
          <a:xfrm>
            <a:off x="6294240" y="5375160"/>
            <a:ext cx="1297440" cy="274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abic Transparent"/>
              </a:rPr>
              <a:t>=0.</a:t>
            </a: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71</a:t>
            </a:r>
            <a:r>
              <a:rPr b="0" lang="zh-CN" sz="1800" spc="-1" strike="noStrike">
                <a:solidFill>
                  <a:srgbClr val="000000"/>
                </a:solidFill>
                <a:latin typeface="Arabic Transparent"/>
              </a:rPr>
              <a:t>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矩形 68"/>
          <p:cNvSpPr/>
          <p:nvPr/>
        </p:nvSpPr>
        <p:spPr>
          <a:xfrm>
            <a:off x="5824080" y="5384880"/>
            <a:ext cx="497520" cy="274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C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矩形 68"/>
          <p:cNvSpPr/>
          <p:nvPr/>
        </p:nvSpPr>
        <p:spPr>
          <a:xfrm>
            <a:off x="5832000" y="538164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C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68"/>
          <p:cNvSpPr/>
          <p:nvPr/>
        </p:nvSpPr>
        <p:spPr>
          <a:xfrm>
            <a:off x="3670560" y="3448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0.5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矩形 68"/>
          <p:cNvSpPr/>
          <p:nvPr/>
        </p:nvSpPr>
        <p:spPr>
          <a:xfrm>
            <a:off x="3670560" y="38559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0.4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矩形 68"/>
          <p:cNvSpPr/>
          <p:nvPr/>
        </p:nvSpPr>
        <p:spPr>
          <a:xfrm>
            <a:off x="3670560" y="42642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0.3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矩形 68"/>
          <p:cNvSpPr/>
          <p:nvPr/>
        </p:nvSpPr>
        <p:spPr>
          <a:xfrm>
            <a:off x="3670560" y="467352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0.2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矩形 68"/>
          <p:cNvSpPr/>
          <p:nvPr/>
        </p:nvSpPr>
        <p:spPr>
          <a:xfrm>
            <a:off x="3670560" y="50817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0.1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矩形 68"/>
          <p:cNvSpPr/>
          <p:nvPr/>
        </p:nvSpPr>
        <p:spPr>
          <a:xfrm>
            <a:off x="3670560" y="105552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5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矩形 68"/>
          <p:cNvSpPr/>
          <p:nvPr/>
        </p:nvSpPr>
        <p:spPr>
          <a:xfrm>
            <a:off x="3670560" y="146376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4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矩形 68"/>
          <p:cNvSpPr/>
          <p:nvPr/>
        </p:nvSpPr>
        <p:spPr>
          <a:xfrm>
            <a:off x="3670560" y="187164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3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矩形 68"/>
          <p:cNvSpPr/>
          <p:nvPr/>
        </p:nvSpPr>
        <p:spPr>
          <a:xfrm>
            <a:off x="3670560" y="227952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2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矩形 68"/>
          <p:cNvSpPr/>
          <p:nvPr/>
        </p:nvSpPr>
        <p:spPr>
          <a:xfrm>
            <a:off x="3670560" y="268920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</a:rPr>
              <a:t>1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5"/>
          <p:cNvSpPr/>
          <p:nvPr/>
        </p:nvSpPr>
        <p:spPr>
          <a:xfrm rot="18943800">
            <a:off x="-818280" y="371880"/>
            <a:ext cx="28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CM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Text Box 8"/>
          <p:cNvSpPr/>
          <p:nvPr/>
        </p:nvSpPr>
        <p:spPr>
          <a:xfrm>
            <a:off x="428760" y="6361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1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1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1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1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9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1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1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1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9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1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1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1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L -0.22725 -0.34421 E">
                                      <p:cBhvr>
                                        <p:cTn id="1088" dur="700" fill="hold"/>
                                        <p:tgtEl>
                                          <p:spTgt spid="10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0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637F-ACAE-4D63-B931-CCD496015BD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2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3" name="自选图形 123"/>
          <p:cNvSpPr/>
          <p:nvPr/>
        </p:nvSpPr>
        <p:spPr>
          <a:xfrm>
            <a:off x="419040" y="520560"/>
            <a:ext cx="830592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矩形 126"/>
          <p:cNvSpPr/>
          <p:nvPr/>
        </p:nvSpPr>
        <p:spPr>
          <a:xfrm>
            <a:off x="1157400" y="616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4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矩形 127"/>
          <p:cNvSpPr/>
          <p:nvPr/>
        </p:nvSpPr>
        <p:spPr>
          <a:xfrm>
            <a:off x="3201120" y="616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矩形 128"/>
          <p:cNvSpPr/>
          <p:nvPr/>
        </p:nvSpPr>
        <p:spPr>
          <a:xfrm>
            <a:off x="5242680" y="616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矩形 129"/>
          <p:cNvSpPr/>
          <p:nvPr/>
        </p:nvSpPr>
        <p:spPr>
          <a:xfrm>
            <a:off x="7284960" y="616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4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矩形 130"/>
          <p:cNvSpPr/>
          <p:nvPr/>
        </p:nvSpPr>
        <p:spPr>
          <a:xfrm>
            <a:off x="760680" y="59500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8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矩形 131"/>
          <p:cNvSpPr/>
          <p:nvPr/>
        </p:nvSpPr>
        <p:spPr>
          <a:xfrm>
            <a:off x="760680" y="50608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8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矩形 132"/>
          <p:cNvSpPr/>
          <p:nvPr/>
        </p:nvSpPr>
        <p:spPr>
          <a:xfrm>
            <a:off x="760680" y="41734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88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矩形 133"/>
          <p:cNvSpPr/>
          <p:nvPr/>
        </p:nvSpPr>
        <p:spPr>
          <a:xfrm>
            <a:off x="760680" y="328932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9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矩形 134"/>
          <p:cNvSpPr/>
          <p:nvPr/>
        </p:nvSpPr>
        <p:spPr>
          <a:xfrm>
            <a:off x="760680" y="240192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9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135"/>
          <p:cNvSpPr/>
          <p:nvPr/>
        </p:nvSpPr>
        <p:spPr>
          <a:xfrm>
            <a:off x="760680" y="151452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9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矩形 136"/>
          <p:cNvSpPr/>
          <p:nvPr/>
        </p:nvSpPr>
        <p:spPr>
          <a:xfrm>
            <a:off x="760680" y="62712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</a:rPr>
              <a:t>9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5" name="Group 15"/>
          <p:cNvGrpSpPr/>
          <p:nvPr/>
        </p:nvGrpSpPr>
        <p:grpSpPr>
          <a:xfrm>
            <a:off x="1332000" y="753840"/>
            <a:ext cx="7149960" cy="5322960"/>
            <a:chOff x="1332000" y="753840"/>
            <a:chExt cx="7149960" cy="5322960"/>
          </a:xfrm>
        </p:grpSpPr>
        <p:sp>
          <p:nvSpPr>
            <p:cNvPr id="1076" name="矩形 125"/>
            <p:cNvSpPr/>
            <p:nvPr/>
          </p:nvSpPr>
          <p:spPr>
            <a:xfrm>
              <a:off x="1332000" y="754200"/>
              <a:ext cx="7149960" cy="532260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直线 137"/>
            <p:cNvSpPr/>
            <p:nvPr/>
          </p:nvSpPr>
          <p:spPr>
            <a:xfrm flipV="1">
              <a:off x="1332000" y="5975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直线 138"/>
            <p:cNvSpPr/>
            <p:nvPr/>
          </p:nvSpPr>
          <p:spPr>
            <a:xfrm flipV="1">
              <a:off x="2354040" y="6025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直线 139"/>
            <p:cNvSpPr/>
            <p:nvPr/>
          </p:nvSpPr>
          <p:spPr>
            <a:xfrm flipV="1">
              <a:off x="3376440" y="5975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直线 140"/>
            <p:cNvSpPr/>
            <p:nvPr/>
          </p:nvSpPr>
          <p:spPr>
            <a:xfrm flipV="1">
              <a:off x="4397400" y="6025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直线 141"/>
            <p:cNvSpPr/>
            <p:nvPr/>
          </p:nvSpPr>
          <p:spPr>
            <a:xfrm flipV="1">
              <a:off x="5416560" y="5975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直线 142"/>
            <p:cNvSpPr/>
            <p:nvPr/>
          </p:nvSpPr>
          <p:spPr>
            <a:xfrm flipV="1">
              <a:off x="6438960" y="6025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直线 143"/>
            <p:cNvSpPr/>
            <p:nvPr/>
          </p:nvSpPr>
          <p:spPr>
            <a:xfrm flipV="1">
              <a:off x="7461360" y="5975280"/>
              <a:ext cx="0" cy="10152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直线 144"/>
            <p:cNvSpPr/>
            <p:nvPr/>
          </p:nvSpPr>
          <p:spPr>
            <a:xfrm flipV="1">
              <a:off x="8481960" y="6025680"/>
              <a:ext cx="0" cy="5076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直线 145"/>
            <p:cNvSpPr/>
            <p:nvPr/>
          </p:nvSpPr>
          <p:spPr>
            <a:xfrm>
              <a:off x="1332000" y="6076800"/>
              <a:ext cx="71499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直线 146"/>
            <p:cNvSpPr/>
            <p:nvPr/>
          </p:nvSpPr>
          <p:spPr>
            <a:xfrm>
              <a:off x="1332000" y="607680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直线 147"/>
            <p:cNvSpPr/>
            <p:nvPr/>
          </p:nvSpPr>
          <p:spPr>
            <a:xfrm>
              <a:off x="1332000" y="563400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直线 148"/>
            <p:cNvSpPr/>
            <p:nvPr/>
          </p:nvSpPr>
          <p:spPr>
            <a:xfrm>
              <a:off x="1332000" y="518940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直线 149"/>
            <p:cNvSpPr/>
            <p:nvPr/>
          </p:nvSpPr>
          <p:spPr>
            <a:xfrm>
              <a:off x="1332000" y="474660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直线 150"/>
            <p:cNvSpPr/>
            <p:nvPr/>
          </p:nvSpPr>
          <p:spPr>
            <a:xfrm>
              <a:off x="1332000" y="430200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直线 151"/>
            <p:cNvSpPr/>
            <p:nvPr/>
          </p:nvSpPr>
          <p:spPr>
            <a:xfrm>
              <a:off x="1332000" y="385920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直线 152"/>
            <p:cNvSpPr/>
            <p:nvPr/>
          </p:nvSpPr>
          <p:spPr>
            <a:xfrm>
              <a:off x="1332000" y="341640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直线 153"/>
            <p:cNvSpPr/>
            <p:nvPr/>
          </p:nvSpPr>
          <p:spPr>
            <a:xfrm>
              <a:off x="1332000" y="297180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直线 154"/>
            <p:cNvSpPr/>
            <p:nvPr/>
          </p:nvSpPr>
          <p:spPr>
            <a:xfrm>
              <a:off x="1332000" y="252900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直线 155"/>
            <p:cNvSpPr/>
            <p:nvPr/>
          </p:nvSpPr>
          <p:spPr>
            <a:xfrm>
              <a:off x="1332000" y="208440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直线 156"/>
            <p:cNvSpPr/>
            <p:nvPr/>
          </p:nvSpPr>
          <p:spPr>
            <a:xfrm>
              <a:off x="1332000" y="164160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直线 157"/>
            <p:cNvSpPr/>
            <p:nvPr/>
          </p:nvSpPr>
          <p:spPr>
            <a:xfrm>
              <a:off x="1332000" y="1197000"/>
              <a:ext cx="5076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直线 158"/>
            <p:cNvSpPr/>
            <p:nvPr/>
          </p:nvSpPr>
          <p:spPr>
            <a:xfrm>
              <a:off x="1332000" y="754200"/>
              <a:ext cx="101520" cy="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直线 159"/>
            <p:cNvSpPr/>
            <p:nvPr/>
          </p:nvSpPr>
          <p:spPr>
            <a:xfrm flipV="1">
              <a:off x="1332000" y="753840"/>
              <a:ext cx="0" cy="5322600"/>
            </a:xfrm>
            <a:prstGeom prst="line">
              <a:avLst/>
            </a:prstGeom>
            <a:ln w="2844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0" name="任意多边形 160"/>
          <p:cNvSpPr/>
          <p:nvPr/>
        </p:nvSpPr>
        <p:spPr>
          <a:xfrm>
            <a:off x="2066760" y="1486080"/>
            <a:ext cx="6212160" cy="4655880"/>
          </a:xfrm>
          <a:custGeom>
            <a:avLst/>
            <a:gdLst>
              <a:gd name="textAreaLeft" fmla="*/ 0 w 6212160"/>
              <a:gd name="textAreaRight" fmla="*/ 6212520 w 6212160"/>
              <a:gd name="textAreaTop" fmla="*/ 0 h 4655880"/>
              <a:gd name="textAreaBottom" fmla="*/ 4656240 h 4655880"/>
            </a:gdLst>
            <a:ahLst/>
            <a:rect l="textAreaLeft" t="textAreaTop" r="textAreaRight" b="textAreaBottom"/>
            <a:pathLst>
              <a:path w="3913" h="2933">
                <a:moveTo>
                  <a:pt x="0" y="2869"/>
                </a:moveTo>
                <a:lnTo>
                  <a:pt x="27" y="2798"/>
                </a:lnTo>
                <a:lnTo>
                  <a:pt x="51" y="2713"/>
                </a:lnTo>
                <a:lnTo>
                  <a:pt x="77" y="2634"/>
                </a:lnTo>
                <a:lnTo>
                  <a:pt x="104" y="2551"/>
                </a:lnTo>
                <a:lnTo>
                  <a:pt x="130" y="2476"/>
                </a:lnTo>
                <a:lnTo>
                  <a:pt x="155" y="2402"/>
                </a:lnTo>
                <a:lnTo>
                  <a:pt x="181" y="2321"/>
                </a:lnTo>
                <a:lnTo>
                  <a:pt x="207" y="2250"/>
                </a:lnTo>
                <a:lnTo>
                  <a:pt x="232" y="2180"/>
                </a:lnTo>
                <a:lnTo>
                  <a:pt x="258" y="2112"/>
                </a:lnTo>
                <a:lnTo>
                  <a:pt x="284" y="2043"/>
                </a:lnTo>
                <a:lnTo>
                  <a:pt x="309" y="1967"/>
                </a:lnTo>
                <a:lnTo>
                  <a:pt x="335" y="1905"/>
                </a:lnTo>
                <a:lnTo>
                  <a:pt x="362" y="1838"/>
                </a:lnTo>
                <a:lnTo>
                  <a:pt x="386" y="1772"/>
                </a:lnTo>
                <a:lnTo>
                  <a:pt x="412" y="1702"/>
                </a:lnTo>
                <a:lnTo>
                  <a:pt x="439" y="1640"/>
                </a:lnTo>
                <a:lnTo>
                  <a:pt x="463" y="1587"/>
                </a:lnTo>
                <a:lnTo>
                  <a:pt x="490" y="1529"/>
                </a:lnTo>
                <a:lnTo>
                  <a:pt x="516" y="1472"/>
                </a:lnTo>
                <a:lnTo>
                  <a:pt x="540" y="1416"/>
                </a:lnTo>
                <a:lnTo>
                  <a:pt x="567" y="1358"/>
                </a:lnTo>
                <a:lnTo>
                  <a:pt x="593" y="1303"/>
                </a:lnTo>
                <a:lnTo>
                  <a:pt x="618" y="1252"/>
                </a:lnTo>
                <a:lnTo>
                  <a:pt x="644" y="1188"/>
                </a:lnTo>
                <a:lnTo>
                  <a:pt x="670" y="1137"/>
                </a:lnTo>
                <a:lnTo>
                  <a:pt x="695" y="1075"/>
                </a:lnTo>
                <a:lnTo>
                  <a:pt x="721" y="1026"/>
                </a:lnTo>
                <a:lnTo>
                  <a:pt x="747" y="975"/>
                </a:lnTo>
                <a:lnTo>
                  <a:pt x="772" y="925"/>
                </a:lnTo>
                <a:lnTo>
                  <a:pt x="798" y="885"/>
                </a:lnTo>
                <a:lnTo>
                  <a:pt x="825" y="836"/>
                </a:lnTo>
                <a:lnTo>
                  <a:pt x="849" y="793"/>
                </a:lnTo>
                <a:lnTo>
                  <a:pt x="875" y="746"/>
                </a:lnTo>
                <a:lnTo>
                  <a:pt x="902" y="712"/>
                </a:lnTo>
                <a:lnTo>
                  <a:pt x="926" y="676"/>
                </a:lnTo>
                <a:lnTo>
                  <a:pt x="953" y="631"/>
                </a:lnTo>
                <a:lnTo>
                  <a:pt x="979" y="595"/>
                </a:lnTo>
                <a:lnTo>
                  <a:pt x="1003" y="556"/>
                </a:lnTo>
                <a:lnTo>
                  <a:pt x="1030" y="520"/>
                </a:lnTo>
                <a:lnTo>
                  <a:pt x="1056" y="486"/>
                </a:lnTo>
                <a:lnTo>
                  <a:pt x="1081" y="446"/>
                </a:lnTo>
                <a:lnTo>
                  <a:pt x="1107" y="414"/>
                </a:lnTo>
                <a:lnTo>
                  <a:pt x="1133" y="386"/>
                </a:lnTo>
                <a:lnTo>
                  <a:pt x="1158" y="347"/>
                </a:lnTo>
                <a:lnTo>
                  <a:pt x="1184" y="318"/>
                </a:lnTo>
                <a:lnTo>
                  <a:pt x="1210" y="296"/>
                </a:lnTo>
                <a:lnTo>
                  <a:pt x="1237" y="277"/>
                </a:lnTo>
                <a:lnTo>
                  <a:pt x="1261" y="249"/>
                </a:lnTo>
                <a:lnTo>
                  <a:pt x="1288" y="230"/>
                </a:lnTo>
                <a:lnTo>
                  <a:pt x="1314" y="207"/>
                </a:lnTo>
                <a:lnTo>
                  <a:pt x="1338" y="181"/>
                </a:lnTo>
                <a:lnTo>
                  <a:pt x="1365" y="156"/>
                </a:lnTo>
                <a:lnTo>
                  <a:pt x="1391" y="134"/>
                </a:lnTo>
                <a:lnTo>
                  <a:pt x="1416" y="117"/>
                </a:lnTo>
                <a:lnTo>
                  <a:pt x="1442" y="104"/>
                </a:lnTo>
                <a:lnTo>
                  <a:pt x="1468" y="94"/>
                </a:lnTo>
                <a:lnTo>
                  <a:pt x="1493" y="77"/>
                </a:lnTo>
                <a:lnTo>
                  <a:pt x="1519" y="64"/>
                </a:lnTo>
                <a:lnTo>
                  <a:pt x="1546" y="51"/>
                </a:lnTo>
                <a:lnTo>
                  <a:pt x="1570" y="42"/>
                </a:lnTo>
                <a:lnTo>
                  <a:pt x="1596" y="34"/>
                </a:lnTo>
                <a:lnTo>
                  <a:pt x="1623" y="28"/>
                </a:lnTo>
                <a:lnTo>
                  <a:pt x="1647" y="19"/>
                </a:lnTo>
                <a:lnTo>
                  <a:pt x="1674" y="23"/>
                </a:lnTo>
                <a:lnTo>
                  <a:pt x="1700" y="19"/>
                </a:lnTo>
                <a:lnTo>
                  <a:pt x="1724" y="13"/>
                </a:lnTo>
                <a:lnTo>
                  <a:pt x="1751" y="6"/>
                </a:lnTo>
                <a:lnTo>
                  <a:pt x="1777" y="0"/>
                </a:lnTo>
                <a:lnTo>
                  <a:pt x="1802" y="8"/>
                </a:lnTo>
                <a:lnTo>
                  <a:pt x="1828" y="2"/>
                </a:lnTo>
                <a:lnTo>
                  <a:pt x="1854" y="8"/>
                </a:lnTo>
                <a:lnTo>
                  <a:pt x="1879" y="11"/>
                </a:lnTo>
                <a:lnTo>
                  <a:pt x="1905" y="23"/>
                </a:lnTo>
                <a:lnTo>
                  <a:pt x="1931" y="23"/>
                </a:lnTo>
                <a:lnTo>
                  <a:pt x="1956" y="25"/>
                </a:lnTo>
                <a:lnTo>
                  <a:pt x="1982" y="36"/>
                </a:lnTo>
                <a:lnTo>
                  <a:pt x="2009" y="45"/>
                </a:lnTo>
                <a:lnTo>
                  <a:pt x="2033" y="47"/>
                </a:lnTo>
                <a:lnTo>
                  <a:pt x="2059" y="62"/>
                </a:lnTo>
                <a:lnTo>
                  <a:pt x="2086" y="68"/>
                </a:lnTo>
                <a:lnTo>
                  <a:pt x="2110" y="77"/>
                </a:lnTo>
                <a:lnTo>
                  <a:pt x="2137" y="89"/>
                </a:lnTo>
                <a:lnTo>
                  <a:pt x="2163" y="100"/>
                </a:lnTo>
                <a:lnTo>
                  <a:pt x="2187" y="117"/>
                </a:lnTo>
                <a:lnTo>
                  <a:pt x="2214" y="128"/>
                </a:lnTo>
                <a:lnTo>
                  <a:pt x="2240" y="145"/>
                </a:lnTo>
                <a:lnTo>
                  <a:pt x="2265" y="151"/>
                </a:lnTo>
                <a:lnTo>
                  <a:pt x="2291" y="168"/>
                </a:lnTo>
                <a:lnTo>
                  <a:pt x="2317" y="187"/>
                </a:lnTo>
                <a:lnTo>
                  <a:pt x="2342" y="213"/>
                </a:lnTo>
                <a:lnTo>
                  <a:pt x="2368" y="232"/>
                </a:lnTo>
                <a:lnTo>
                  <a:pt x="2394" y="256"/>
                </a:lnTo>
                <a:lnTo>
                  <a:pt x="2421" y="273"/>
                </a:lnTo>
                <a:lnTo>
                  <a:pt x="2445" y="290"/>
                </a:lnTo>
                <a:lnTo>
                  <a:pt x="2472" y="324"/>
                </a:lnTo>
                <a:lnTo>
                  <a:pt x="2498" y="347"/>
                </a:lnTo>
                <a:lnTo>
                  <a:pt x="2522" y="375"/>
                </a:lnTo>
                <a:lnTo>
                  <a:pt x="2549" y="414"/>
                </a:lnTo>
                <a:lnTo>
                  <a:pt x="2575" y="439"/>
                </a:lnTo>
                <a:lnTo>
                  <a:pt x="2600" y="469"/>
                </a:lnTo>
                <a:lnTo>
                  <a:pt x="2626" y="501"/>
                </a:lnTo>
                <a:lnTo>
                  <a:pt x="2652" y="531"/>
                </a:lnTo>
                <a:lnTo>
                  <a:pt x="2677" y="556"/>
                </a:lnTo>
                <a:lnTo>
                  <a:pt x="2703" y="584"/>
                </a:lnTo>
                <a:lnTo>
                  <a:pt x="2729" y="612"/>
                </a:lnTo>
                <a:lnTo>
                  <a:pt x="2754" y="640"/>
                </a:lnTo>
                <a:lnTo>
                  <a:pt x="2780" y="670"/>
                </a:lnTo>
                <a:lnTo>
                  <a:pt x="2807" y="704"/>
                </a:lnTo>
                <a:lnTo>
                  <a:pt x="2831" y="740"/>
                </a:lnTo>
                <a:lnTo>
                  <a:pt x="2857" y="768"/>
                </a:lnTo>
                <a:lnTo>
                  <a:pt x="2884" y="802"/>
                </a:lnTo>
                <a:lnTo>
                  <a:pt x="2908" y="830"/>
                </a:lnTo>
                <a:lnTo>
                  <a:pt x="2935" y="877"/>
                </a:lnTo>
                <a:lnTo>
                  <a:pt x="2961" y="917"/>
                </a:lnTo>
                <a:lnTo>
                  <a:pt x="2985" y="951"/>
                </a:lnTo>
                <a:lnTo>
                  <a:pt x="3012" y="987"/>
                </a:lnTo>
                <a:lnTo>
                  <a:pt x="3038" y="1041"/>
                </a:lnTo>
                <a:lnTo>
                  <a:pt x="3063" y="1090"/>
                </a:lnTo>
                <a:lnTo>
                  <a:pt x="3089" y="1132"/>
                </a:lnTo>
                <a:lnTo>
                  <a:pt x="3115" y="1182"/>
                </a:lnTo>
                <a:lnTo>
                  <a:pt x="3140" y="1229"/>
                </a:lnTo>
                <a:lnTo>
                  <a:pt x="3166" y="1282"/>
                </a:lnTo>
                <a:lnTo>
                  <a:pt x="3193" y="1341"/>
                </a:lnTo>
                <a:lnTo>
                  <a:pt x="3217" y="1390"/>
                </a:lnTo>
                <a:lnTo>
                  <a:pt x="3243" y="1438"/>
                </a:lnTo>
                <a:lnTo>
                  <a:pt x="3270" y="1491"/>
                </a:lnTo>
                <a:lnTo>
                  <a:pt x="3294" y="1546"/>
                </a:lnTo>
                <a:lnTo>
                  <a:pt x="3321" y="1598"/>
                </a:lnTo>
                <a:lnTo>
                  <a:pt x="3347" y="1651"/>
                </a:lnTo>
                <a:lnTo>
                  <a:pt x="3371" y="1708"/>
                </a:lnTo>
                <a:lnTo>
                  <a:pt x="3398" y="1762"/>
                </a:lnTo>
                <a:lnTo>
                  <a:pt x="3424" y="1811"/>
                </a:lnTo>
                <a:lnTo>
                  <a:pt x="3449" y="1864"/>
                </a:lnTo>
                <a:lnTo>
                  <a:pt x="3475" y="1922"/>
                </a:lnTo>
                <a:lnTo>
                  <a:pt x="3501" y="1979"/>
                </a:lnTo>
                <a:lnTo>
                  <a:pt x="3528" y="2032"/>
                </a:lnTo>
                <a:lnTo>
                  <a:pt x="3552" y="2084"/>
                </a:lnTo>
                <a:lnTo>
                  <a:pt x="3578" y="2146"/>
                </a:lnTo>
                <a:lnTo>
                  <a:pt x="3605" y="2205"/>
                </a:lnTo>
                <a:lnTo>
                  <a:pt x="3629" y="2267"/>
                </a:lnTo>
                <a:lnTo>
                  <a:pt x="3656" y="2336"/>
                </a:lnTo>
                <a:lnTo>
                  <a:pt x="3682" y="2397"/>
                </a:lnTo>
                <a:lnTo>
                  <a:pt x="3706" y="2453"/>
                </a:lnTo>
                <a:lnTo>
                  <a:pt x="3733" y="2506"/>
                </a:lnTo>
                <a:lnTo>
                  <a:pt x="3759" y="2570"/>
                </a:lnTo>
                <a:lnTo>
                  <a:pt x="3784" y="2628"/>
                </a:lnTo>
                <a:lnTo>
                  <a:pt x="3810" y="2689"/>
                </a:lnTo>
                <a:lnTo>
                  <a:pt x="3836" y="2749"/>
                </a:lnTo>
                <a:lnTo>
                  <a:pt x="3861" y="2811"/>
                </a:lnTo>
                <a:lnTo>
                  <a:pt x="3887" y="2873"/>
                </a:lnTo>
                <a:lnTo>
                  <a:pt x="3913" y="29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任意多边形 162"/>
          <p:cNvSpPr/>
          <p:nvPr/>
        </p:nvSpPr>
        <p:spPr>
          <a:xfrm>
            <a:off x="2395440" y="2549520"/>
            <a:ext cx="5432400" cy="3436920"/>
          </a:xfrm>
          <a:custGeom>
            <a:avLst/>
            <a:gdLst>
              <a:gd name="textAreaLeft" fmla="*/ 0 w 5432400"/>
              <a:gd name="textAreaRight" fmla="*/ 5432760 w 5432400"/>
              <a:gd name="textAreaTop" fmla="*/ 0 h 3436920"/>
              <a:gd name="textAreaBottom" fmla="*/ 3437280 h 3436920"/>
            </a:gdLst>
            <a:ahLst/>
            <a:rect l="textAreaLeft" t="textAreaTop" r="textAreaRight" b="textAreaBottom"/>
            <a:pathLst>
              <a:path w="3422" h="2165">
                <a:moveTo>
                  <a:pt x="0" y="2154"/>
                </a:moveTo>
                <a:lnTo>
                  <a:pt x="25" y="2083"/>
                </a:lnTo>
                <a:lnTo>
                  <a:pt x="51" y="2013"/>
                </a:lnTo>
                <a:lnTo>
                  <a:pt x="77" y="1949"/>
                </a:lnTo>
                <a:lnTo>
                  <a:pt x="102" y="1875"/>
                </a:lnTo>
                <a:lnTo>
                  <a:pt x="128" y="1808"/>
                </a:lnTo>
                <a:lnTo>
                  <a:pt x="155" y="1744"/>
                </a:lnTo>
                <a:lnTo>
                  <a:pt x="179" y="1680"/>
                </a:lnTo>
                <a:lnTo>
                  <a:pt x="205" y="1618"/>
                </a:lnTo>
                <a:lnTo>
                  <a:pt x="232" y="1559"/>
                </a:lnTo>
                <a:lnTo>
                  <a:pt x="256" y="1499"/>
                </a:lnTo>
                <a:lnTo>
                  <a:pt x="283" y="1450"/>
                </a:lnTo>
                <a:lnTo>
                  <a:pt x="309" y="1392"/>
                </a:lnTo>
                <a:lnTo>
                  <a:pt x="333" y="1331"/>
                </a:lnTo>
                <a:lnTo>
                  <a:pt x="360" y="1275"/>
                </a:lnTo>
                <a:lnTo>
                  <a:pt x="386" y="1218"/>
                </a:lnTo>
                <a:lnTo>
                  <a:pt x="411" y="1171"/>
                </a:lnTo>
                <a:lnTo>
                  <a:pt x="437" y="1121"/>
                </a:lnTo>
                <a:lnTo>
                  <a:pt x="463" y="1079"/>
                </a:lnTo>
                <a:lnTo>
                  <a:pt x="488" y="1023"/>
                </a:lnTo>
                <a:lnTo>
                  <a:pt x="514" y="970"/>
                </a:lnTo>
                <a:lnTo>
                  <a:pt x="540" y="913"/>
                </a:lnTo>
                <a:lnTo>
                  <a:pt x="565" y="872"/>
                </a:lnTo>
                <a:lnTo>
                  <a:pt x="591" y="831"/>
                </a:lnTo>
                <a:lnTo>
                  <a:pt x="618" y="784"/>
                </a:lnTo>
                <a:lnTo>
                  <a:pt x="642" y="729"/>
                </a:lnTo>
                <a:lnTo>
                  <a:pt x="668" y="693"/>
                </a:lnTo>
                <a:lnTo>
                  <a:pt x="695" y="654"/>
                </a:lnTo>
                <a:lnTo>
                  <a:pt x="719" y="624"/>
                </a:lnTo>
                <a:lnTo>
                  <a:pt x="746" y="588"/>
                </a:lnTo>
                <a:lnTo>
                  <a:pt x="772" y="559"/>
                </a:lnTo>
                <a:lnTo>
                  <a:pt x="796" y="526"/>
                </a:lnTo>
                <a:lnTo>
                  <a:pt x="823" y="495"/>
                </a:lnTo>
                <a:lnTo>
                  <a:pt x="849" y="450"/>
                </a:lnTo>
                <a:lnTo>
                  <a:pt x="874" y="428"/>
                </a:lnTo>
                <a:lnTo>
                  <a:pt x="900" y="399"/>
                </a:lnTo>
                <a:lnTo>
                  <a:pt x="926" y="375"/>
                </a:lnTo>
                <a:lnTo>
                  <a:pt x="951" y="345"/>
                </a:lnTo>
                <a:lnTo>
                  <a:pt x="977" y="317"/>
                </a:lnTo>
                <a:lnTo>
                  <a:pt x="1003" y="294"/>
                </a:lnTo>
                <a:lnTo>
                  <a:pt x="1030" y="270"/>
                </a:lnTo>
                <a:lnTo>
                  <a:pt x="1054" y="247"/>
                </a:lnTo>
                <a:lnTo>
                  <a:pt x="1081" y="221"/>
                </a:lnTo>
                <a:lnTo>
                  <a:pt x="1107" y="204"/>
                </a:lnTo>
                <a:lnTo>
                  <a:pt x="1131" y="183"/>
                </a:lnTo>
                <a:lnTo>
                  <a:pt x="1158" y="166"/>
                </a:lnTo>
                <a:lnTo>
                  <a:pt x="1184" y="151"/>
                </a:lnTo>
                <a:lnTo>
                  <a:pt x="1209" y="134"/>
                </a:lnTo>
                <a:lnTo>
                  <a:pt x="1235" y="111"/>
                </a:lnTo>
                <a:lnTo>
                  <a:pt x="1261" y="102"/>
                </a:lnTo>
                <a:lnTo>
                  <a:pt x="1286" y="87"/>
                </a:lnTo>
                <a:lnTo>
                  <a:pt x="1312" y="76"/>
                </a:lnTo>
                <a:lnTo>
                  <a:pt x="1339" y="64"/>
                </a:lnTo>
                <a:lnTo>
                  <a:pt x="1363" y="59"/>
                </a:lnTo>
                <a:lnTo>
                  <a:pt x="1389" y="57"/>
                </a:lnTo>
                <a:lnTo>
                  <a:pt x="1416" y="42"/>
                </a:lnTo>
                <a:lnTo>
                  <a:pt x="1440" y="34"/>
                </a:lnTo>
                <a:lnTo>
                  <a:pt x="1467" y="29"/>
                </a:lnTo>
                <a:lnTo>
                  <a:pt x="1493" y="19"/>
                </a:lnTo>
                <a:lnTo>
                  <a:pt x="1517" y="12"/>
                </a:lnTo>
                <a:lnTo>
                  <a:pt x="1544" y="15"/>
                </a:lnTo>
                <a:lnTo>
                  <a:pt x="1570" y="6"/>
                </a:lnTo>
                <a:lnTo>
                  <a:pt x="1595" y="4"/>
                </a:lnTo>
                <a:lnTo>
                  <a:pt x="1621" y="4"/>
                </a:lnTo>
                <a:lnTo>
                  <a:pt x="1647" y="4"/>
                </a:lnTo>
                <a:lnTo>
                  <a:pt x="1672" y="0"/>
                </a:lnTo>
                <a:lnTo>
                  <a:pt x="1698" y="0"/>
                </a:lnTo>
                <a:lnTo>
                  <a:pt x="1724" y="4"/>
                </a:lnTo>
                <a:lnTo>
                  <a:pt x="1749" y="10"/>
                </a:lnTo>
                <a:lnTo>
                  <a:pt x="1775" y="19"/>
                </a:lnTo>
                <a:lnTo>
                  <a:pt x="1802" y="25"/>
                </a:lnTo>
                <a:lnTo>
                  <a:pt x="1826" y="25"/>
                </a:lnTo>
                <a:lnTo>
                  <a:pt x="1852" y="29"/>
                </a:lnTo>
                <a:lnTo>
                  <a:pt x="1879" y="42"/>
                </a:lnTo>
                <a:lnTo>
                  <a:pt x="1903" y="51"/>
                </a:lnTo>
                <a:lnTo>
                  <a:pt x="1930" y="68"/>
                </a:lnTo>
                <a:lnTo>
                  <a:pt x="1956" y="74"/>
                </a:lnTo>
                <a:lnTo>
                  <a:pt x="1980" y="91"/>
                </a:lnTo>
                <a:lnTo>
                  <a:pt x="2007" y="102"/>
                </a:lnTo>
                <a:lnTo>
                  <a:pt x="2033" y="126"/>
                </a:lnTo>
                <a:lnTo>
                  <a:pt x="2058" y="140"/>
                </a:lnTo>
                <a:lnTo>
                  <a:pt x="2084" y="151"/>
                </a:lnTo>
                <a:lnTo>
                  <a:pt x="2110" y="162"/>
                </a:lnTo>
                <a:lnTo>
                  <a:pt x="2135" y="185"/>
                </a:lnTo>
                <a:lnTo>
                  <a:pt x="2161" y="204"/>
                </a:lnTo>
                <a:lnTo>
                  <a:pt x="2187" y="219"/>
                </a:lnTo>
                <a:lnTo>
                  <a:pt x="2214" y="241"/>
                </a:lnTo>
                <a:lnTo>
                  <a:pt x="2238" y="266"/>
                </a:lnTo>
                <a:lnTo>
                  <a:pt x="2265" y="294"/>
                </a:lnTo>
                <a:lnTo>
                  <a:pt x="2291" y="313"/>
                </a:lnTo>
                <a:lnTo>
                  <a:pt x="2315" y="341"/>
                </a:lnTo>
                <a:lnTo>
                  <a:pt x="2342" y="369"/>
                </a:lnTo>
                <a:lnTo>
                  <a:pt x="2368" y="403"/>
                </a:lnTo>
                <a:lnTo>
                  <a:pt x="2393" y="433"/>
                </a:lnTo>
                <a:lnTo>
                  <a:pt x="2419" y="463"/>
                </a:lnTo>
                <a:lnTo>
                  <a:pt x="2445" y="492"/>
                </a:lnTo>
                <a:lnTo>
                  <a:pt x="2470" y="520"/>
                </a:lnTo>
                <a:lnTo>
                  <a:pt x="2496" y="548"/>
                </a:lnTo>
                <a:lnTo>
                  <a:pt x="2522" y="571"/>
                </a:lnTo>
                <a:lnTo>
                  <a:pt x="2547" y="607"/>
                </a:lnTo>
                <a:lnTo>
                  <a:pt x="2573" y="640"/>
                </a:lnTo>
                <a:lnTo>
                  <a:pt x="2600" y="674"/>
                </a:lnTo>
                <a:lnTo>
                  <a:pt x="2624" y="704"/>
                </a:lnTo>
                <a:lnTo>
                  <a:pt x="2650" y="738"/>
                </a:lnTo>
                <a:lnTo>
                  <a:pt x="2677" y="778"/>
                </a:lnTo>
                <a:lnTo>
                  <a:pt x="2701" y="819"/>
                </a:lnTo>
                <a:lnTo>
                  <a:pt x="2728" y="853"/>
                </a:lnTo>
                <a:lnTo>
                  <a:pt x="2754" y="893"/>
                </a:lnTo>
                <a:lnTo>
                  <a:pt x="2778" y="930"/>
                </a:lnTo>
                <a:lnTo>
                  <a:pt x="2805" y="974"/>
                </a:lnTo>
                <a:lnTo>
                  <a:pt x="2831" y="1017"/>
                </a:lnTo>
                <a:lnTo>
                  <a:pt x="2856" y="1068"/>
                </a:lnTo>
                <a:lnTo>
                  <a:pt x="2882" y="1109"/>
                </a:lnTo>
                <a:lnTo>
                  <a:pt x="2908" y="1154"/>
                </a:lnTo>
                <a:lnTo>
                  <a:pt x="2933" y="1201"/>
                </a:lnTo>
                <a:lnTo>
                  <a:pt x="2959" y="1245"/>
                </a:lnTo>
                <a:lnTo>
                  <a:pt x="2986" y="1288"/>
                </a:lnTo>
                <a:lnTo>
                  <a:pt x="3010" y="1341"/>
                </a:lnTo>
                <a:lnTo>
                  <a:pt x="3036" y="1392"/>
                </a:lnTo>
                <a:lnTo>
                  <a:pt x="3063" y="1444"/>
                </a:lnTo>
                <a:lnTo>
                  <a:pt x="3087" y="1495"/>
                </a:lnTo>
                <a:lnTo>
                  <a:pt x="3114" y="1542"/>
                </a:lnTo>
                <a:lnTo>
                  <a:pt x="3140" y="1591"/>
                </a:lnTo>
                <a:lnTo>
                  <a:pt x="3164" y="1644"/>
                </a:lnTo>
                <a:lnTo>
                  <a:pt x="3191" y="1697"/>
                </a:lnTo>
                <a:lnTo>
                  <a:pt x="3217" y="1744"/>
                </a:lnTo>
                <a:lnTo>
                  <a:pt x="3242" y="1796"/>
                </a:lnTo>
                <a:lnTo>
                  <a:pt x="3268" y="1845"/>
                </a:lnTo>
                <a:lnTo>
                  <a:pt x="3294" y="1894"/>
                </a:lnTo>
                <a:lnTo>
                  <a:pt x="3321" y="1949"/>
                </a:lnTo>
                <a:lnTo>
                  <a:pt x="3345" y="2003"/>
                </a:lnTo>
                <a:lnTo>
                  <a:pt x="3371" y="2054"/>
                </a:lnTo>
                <a:lnTo>
                  <a:pt x="3398" y="2111"/>
                </a:lnTo>
                <a:lnTo>
                  <a:pt x="3422" y="2165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任意多边形 163"/>
          <p:cNvSpPr/>
          <p:nvPr/>
        </p:nvSpPr>
        <p:spPr>
          <a:xfrm>
            <a:off x="2598840" y="3252960"/>
            <a:ext cx="4943520" cy="2820960"/>
          </a:xfrm>
          <a:custGeom>
            <a:avLst/>
            <a:gdLst>
              <a:gd name="textAreaLeft" fmla="*/ 0 w 4943520"/>
              <a:gd name="textAreaRight" fmla="*/ 4943880 w 4943520"/>
              <a:gd name="textAreaTop" fmla="*/ 0 h 2820960"/>
              <a:gd name="textAreaBottom" fmla="*/ 2820960 h 2820960"/>
            </a:gdLst>
            <a:ahLst/>
            <a:rect l="textAreaLeft" t="textAreaTop" r="textAreaRight" b="textAreaBottom"/>
            <a:pathLst>
              <a:path w="3114" h="1777">
                <a:moveTo>
                  <a:pt x="0" y="1749"/>
                </a:moveTo>
                <a:lnTo>
                  <a:pt x="27" y="1690"/>
                </a:lnTo>
                <a:lnTo>
                  <a:pt x="51" y="1623"/>
                </a:lnTo>
                <a:lnTo>
                  <a:pt x="77" y="1564"/>
                </a:lnTo>
                <a:lnTo>
                  <a:pt x="104" y="1512"/>
                </a:lnTo>
                <a:lnTo>
                  <a:pt x="128" y="1455"/>
                </a:lnTo>
                <a:lnTo>
                  <a:pt x="155" y="1408"/>
                </a:lnTo>
                <a:lnTo>
                  <a:pt x="181" y="1352"/>
                </a:lnTo>
                <a:lnTo>
                  <a:pt x="205" y="1293"/>
                </a:lnTo>
                <a:lnTo>
                  <a:pt x="232" y="1246"/>
                </a:lnTo>
                <a:lnTo>
                  <a:pt x="258" y="1191"/>
                </a:lnTo>
                <a:lnTo>
                  <a:pt x="283" y="1150"/>
                </a:lnTo>
                <a:lnTo>
                  <a:pt x="309" y="1103"/>
                </a:lnTo>
                <a:lnTo>
                  <a:pt x="335" y="1062"/>
                </a:lnTo>
                <a:lnTo>
                  <a:pt x="360" y="1022"/>
                </a:lnTo>
                <a:lnTo>
                  <a:pt x="386" y="981"/>
                </a:lnTo>
                <a:lnTo>
                  <a:pt x="412" y="941"/>
                </a:lnTo>
                <a:lnTo>
                  <a:pt x="437" y="894"/>
                </a:lnTo>
                <a:lnTo>
                  <a:pt x="463" y="845"/>
                </a:lnTo>
                <a:lnTo>
                  <a:pt x="490" y="798"/>
                </a:lnTo>
                <a:lnTo>
                  <a:pt x="514" y="758"/>
                </a:lnTo>
                <a:lnTo>
                  <a:pt x="540" y="723"/>
                </a:lnTo>
                <a:lnTo>
                  <a:pt x="567" y="687"/>
                </a:lnTo>
                <a:lnTo>
                  <a:pt x="591" y="642"/>
                </a:lnTo>
                <a:lnTo>
                  <a:pt x="618" y="602"/>
                </a:lnTo>
                <a:lnTo>
                  <a:pt x="644" y="566"/>
                </a:lnTo>
                <a:lnTo>
                  <a:pt x="668" y="533"/>
                </a:lnTo>
                <a:lnTo>
                  <a:pt x="695" y="502"/>
                </a:lnTo>
                <a:lnTo>
                  <a:pt x="721" y="469"/>
                </a:lnTo>
                <a:lnTo>
                  <a:pt x="746" y="444"/>
                </a:lnTo>
                <a:lnTo>
                  <a:pt x="772" y="416"/>
                </a:lnTo>
                <a:lnTo>
                  <a:pt x="798" y="395"/>
                </a:lnTo>
                <a:lnTo>
                  <a:pt x="823" y="365"/>
                </a:lnTo>
                <a:lnTo>
                  <a:pt x="849" y="337"/>
                </a:lnTo>
                <a:lnTo>
                  <a:pt x="875" y="303"/>
                </a:lnTo>
                <a:lnTo>
                  <a:pt x="902" y="278"/>
                </a:lnTo>
                <a:lnTo>
                  <a:pt x="926" y="254"/>
                </a:lnTo>
                <a:lnTo>
                  <a:pt x="953" y="233"/>
                </a:lnTo>
                <a:lnTo>
                  <a:pt x="979" y="216"/>
                </a:lnTo>
                <a:lnTo>
                  <a:pt x="1003" y="197"/>
                </a:lnTo>
                <a:lnTo>
                  <a:pt x="1030" y="184"/>
                </a:lnTo>
                <a:lnTo>
                  <a:pt x="1056" y="162"/>
                </a:lnTo>
                <a:lnTo>
                  <a:pt x="1081" y="145"/>
                </a:lnTo>
                <a:lnTo>
                  <a:pt x="1107" y="130"/>
                </a:lnTo>
                <a:lnTo>
                  <a:pt x="1133" y="118"/>
                </a:lnTo>
                <a:lnTo>
                  <a:pt x="1158" y="103"/>
                </a:lnTo>
                <a:lnTo>
                  <a:pt x="1184" y="94"/>
                </a:lnTo>
                <a:lnTo>
                  <a:pt x="1211" y="75"/>
                </a:lnTo>
                <a:lnTo>
                  <a:pt x="1235" y="64"/>
                </a:lnTo>
                <a:lnTo>
                  <a:pt x="1261" y="49"/>
                </a:lnTo>
                <a:lnTo>
                  <a:pt x="1288" y="41"/>
                </a:lnTo>
                <a:lnTo>
                  <a:pt x="1312" y="24"/>
                </a:lnTo>
                <a:lnTo>
                  <a:pt x="1339" y="19"/>
                </a:lnTo>
                <a:lnTo>
                  <a:pt x="1365" y="13"/>
                </a:lnTo>
                <a:lnTo>
                  <a:pt x="1389" y="13"/>
                </a:lnTo>
                <a:lnTo>
                  <a:pt x="1416" y="11"/>
                </a:lnTo>
                <a:lnTo>
                  <a:pt x="1442" y="0"/>
                </a:lnTo>
                <a:lnTo>
                  <a:pt x="1467" y="0"/>
                </a:lnTo>
                <a:lnTo>
                  <a:pt x="1493" y="0"/>
                </a:lnTo>
                <a:lnTo>
                  <a:pt x="1519" y="2"/>
                </a:lnTo>
                <a:lnTo>
                  <a:pt x="1544" y="7"/>
                </a:lnTo>
                <a:lnTo>
                  <a:pt x="1570" y="11"/>
                </a:lnTo>
                <a:lnTo>
                  <a:pt x="1596" y="13"/>
                </a:lnTo>
                <a:lnTo>
                  <a:pt x="1621" y="20"/>
                </a:lnTo>
                <a:lnTo>
                  <a:pt x="1647" y="26"/>
                </a:lnTo>
                <a:lnTo>
                  <a:pt x="1674" y="36"/>
                </a:lnTo>
                <a:lnTo>
                  <a:pt x="1698" y="47"/>
                </a:lnTo>
                <a:lnTo>
                  <a:pt x="1724" y="49"/>
                </a:lnTo>
                <a:lnTo>
                  <a:pt x="1751" y="52"/>
                </a:lnTo>
                <a:lnTo>
                  <a:pt x="1775" y="60"/>
                </a:lnTo>
                <a:lnTo>
                  <a:pt x="1802" y="69"/>
                </a:lnTo>
                <a:lnTo>
                  <a:pt x="1828" y="83"/>
                </a:lnTo>
                <a:lnTo>
                  <a:pt x="1852" y="92"/>
                </a:lnTo>
                <a:lnTo>
                  <a:pt x="1879" y="103"/>
                </a:lnTo>
                <a:lnTo>
                  <a:pt x="1905" y="118"/>
                </a:lnTo>
                <a:lnTo>
                  <a:pt x="1930" y="135"/>
                </a:lnTo>
                <a:lnTo>
                  <a:pt x="1956" y="150"/>
                </a:lnTo>
                <a:lnTo>
                  <a:pt x="1982" y="162"/>
                </a:lnTo>
                <a:lnTo>
                  <a:pt x="2007" y="181"/>
                </a:lnTo>
                <a:lnTo>
                  <a:pt x="2033" y="197"/>
                </a:lnTo>
                <a:lnTo>
                  <a:pt x="2059" y="216"/>
                </a:lnTo>
                <a:lnTo>
                  <a:pt x="2086" y="243"/>
                </a:lnTo>
                <a:lnTo>
                  <a:pt x="2110" y="273"/>
                </a:lnTo>
                <a:lnTo>
                  <a:pt x="2137" y="292"/>
                </a:lnTo>
                <a:lnTo>
                  <a:pt x="2163" y="320"/>
                </a:lnTo>
                <a:lnTo>
                  <a:pt x="2187" y="342"/>
                </a:lnTo>
                <a:lnTo>
                  <a:pt x="2214" y="376"/>
                </a:lnTo>
                <a:lnTo>
                  <a:pt x="2240" y="405"/>
                </a:lnTo>
                <a:lnTo>
                  <a:pt x="2265" y="435"/>
                </a:lnTo>
                <a:lnTo>
                  <a:pt x="2291" y="470"/>
                </a:lnTo>
                <a:lnTo>
                  <a:pt x="2317" y="502"/>
                </a:lnTo>
                <a:lnTo>
                  <a:pt x="2342" y="527"/>
                </a:lnTo>
                <a:lnTo>
                  <a:pt x="2368" y="557"/>
                </a:lnTo>
                <a:lnTo>
                  <a:pt x="2394" y="583"/>
                </a:lnTo>
                <a:lnTo>
                  <a:pt x="2419" y="614"/>
                </a:lnTo>
                <a:lnTo>
                  <a:pt x="2445" y="649"/>
                </a:lnTo>
                <a:lnTo>
                  <a:pt x="2472" y="678"/>
                </a:lnTo>
                <a:lnTo>
                  <a:pt x="2496" y="715"/>
                </a:lnTo>
                <a:lnTo>
                  <a:pt x="2522" y="747"/>
                </a:lnTo>
                <a:lnTo>
                  <a:pt x="2549" y="790"/>
                </a:lnTo>
                <a:lnTo>
                  <a:pt x="2573" y="834"/>
                </a:lnTo>
                <a:lnTo>
                  <a:pt x="2600" y="879"/>
                </a:lnTo>
                <a:lnTo>
                  <a:pt x="2626" y="915"/>
                </a:lnTo>
                <a:lnTo>
                  <a:pt x="2650" y="958"/>
                </a:lnTo>
                <a:lnTo>
                  <a:pt x="2677" y="994"/>
                </a:lnTo>
                <a:lnTo>
                  <a:pt x="2703" y="1030"/>
                </a:lnTo>
                <a:lnTo>
                  <a:pt x="2728" y="1073"/>
                </a:lnTo>
                <a:lnTo>
                  <a:pt x="2754" y="1111"/>
                </a:lnTo>
                <a:lnTo>
                  <a:pt x="2780" y="1159"/>
                </a:lnTo>
                <a:lnTo>
                  <a:pt x="2805" y="1201"/>
                </a:lnTo>
                <a:lnTo>
                  <a:pt x="2831" y="1254"/>
                </a:lnTo>
                <a:lnTo>
                  <a:pt x="2858" y="1299"/>
                </a:lnTo>
                <a:lnTo>
                  <a:pt x="2882" y="1346"/>
                </a:lnTo>
                <a:lnTo>
                  <a:pt x="2908" y="1382"/>
                </a:lnTo>
                <a:lnTo>
                  <a:pt x="2935" y="1432"/>
                </a:lnTo>
                <a:lnTo>
                  <a:pt x="2959" y="1478"/>
                </a:lnTo>
                <a:lnTo>
                  <a:pt x="2986" y="1527"/>
                </a:lnTo>
                <a:lnTo>
                  <a:pt x="3012" y="1581"/>
                </a:lnTo>
                <a:lnTo>
                  <a:pt x="3036" y="1628"/>
                </a:lnTo>
                <a:lnTo>
                  <a:pt x="3063" y="1679"/>
                </a:lnTo>
                <a:lnTo>
                  <a:pt x="3089" y="1728"/>
                </a:lnTo>
                <a:lnTo>
                  <a:pt x="3114" y="1777"/>
                </a:lnTo>
              </a:path>
            </a:pathLst>
          </a:custGeom>
          <a:noFill/>
          <a:ln w="0">
            <a:solidFill>
              <a:srgbClr val="0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任意多边形 164"/>
          <p:cNvSpPr/>
          <p:nvPr/>
        </p:nvSpPr>
        <p:spPr>
          <a:xfrm>
            <a:off x="2886120" y="3916440"/>
            <a:ext cx="4371840" cy="2151000"/>
          </a:xfrm>
          <a:custGeom>
            <a:avLst/>
            <a:gdLst>
              <a:gd name="textAreaLeft" fmla="*/ 0 w 4371840"/>
              <a:gd name="textAreaRight" fmla="*/ 4372200 w 4371840"/>
              <a:gd name="textAreaTop" fmla="*/ 0 h 2151000"/>
              <a:gd name="textAreaBottom" fmla="*/ 2151360 h 2151000"/>
            </a:gdLst>
            <a:ahLst/>
            <a:rect l="textAreaLeft" t="textAreaTop" r="textAreaRight" b="textAreaBottom"/>
            <a:pathLst>
              <a:path w="2754" h="1355">
                <a:moveTo>
                  <a:pt x="0" y="1336"/>
                </a:moveTo>
                <a:lnTo>
                  <a:pt x="24" y="1282"/>
                </a:lnTo>
                <a:lnTo>
                  <a:pt x="51" y="1233"/>
                </a:lnTo>
                <a:lnTo>
                  <a:pt x="77" y="1174"/>
                </a:lnTo>
                <a:lnTo>
                  <a:pt x="102" y="1124"/>
                </a:lnTo>
                <a:lnTo>
                  <a:pt x="128" y="1077"/>
                </a:lnTo>
                <a:lnTo>
                  <a:pt x="154" y="1031"/>
                </a:lnTo>
                <a:lnTo>
                  <a:pt x="179" y="984"/>
                </a:lnTo>
                <a:lnTo>
                  <a:pt x="205" y="934"/>
                </a:lnTo>
                <a:lnTo>
                  <a:pt x="231" y="888"/>
                </a:lnTo>
                <a:lnTo>
                  <a:pt x="256" y="849"/>
                </a:lnTo>
                <a:lnTo>
                  <a:pt x="282" y="805"/>
                </a:lnTo>
                <a:lnTo>
                  <a:pt x="309" y="768"/>
                </a:lnTo>
                <a:lnTo>
                  <a:pt x="333" y="726"/>
                </a:lnTo>
                <a:lnTo>
                  <a:pt x="359" y="693"/>
                </a:lnTo>
                <a:lnTo>
                  <a:pt x="386" y="645"/>
                </a:lnTo>
                <a:lnTo>
                  <a:pt x="410" y="612"/>
                </a:lnTo>
                <a:lnTo>
                  <a:pt x="437" y="572"/>
                </a:lnTo>
                <a:lnTo>
                  <a:pt x="463" y="536"/>
                </a:lnTo>
                <a:lnTo>
                  <a:pt x="487" y="495"/>
                </a:lnTo>
                <a:lnTo>
                  <a:pt x="514" y="461"/>
                </a:lnTo>
                <a:lnTo>
                  <a:pt x="540" y="438"/>
                </a:lnTo>
                <a:lnTo>
                  <a:pt x="565" y="414"/>
                </a:lnTo>
                <a:lnTo>
                  <a:pt x="591" y="391"/>
                </a:lnTo>
                <a:lnTo>
                  <a:pt x="617" y="357"/>
                </a:lnTo>
                <a:lnTo>
                  <a:pt x="642" y="329"/>
                </a:lnTo>
                <a:lnTo>
                  <a:pt x="668" y="303"/>
                </a:lnTo>
                <a:lnTo>
                  <a:pt x="694" y="276"/>
                </a:lnTo>
                <a:lnTo>
                  <a:pt x="721" y="248"/>
                </a:lnTo>
                <a:lnTo>
                  <a:pt x="745" y="231"/>
                </a:lnTo>
                <a:lnTo>
                  <a:pt x="772" y="211"/>
                </a:lnTo>
                <a:lnTo>
                  <a:pt x="798" y="194"/>
                </a:lnTo>
                <a:lnTo>
                  <a:pt x="822" y="173"/>
                </a:lnTo>
                <a:lnTo>
                  <a:pt x="849" y="156"/>
                </a:lnTo>
                <a:lnTo>
                  <a:pt x="875" y="145"/>
                </a:lnTo>
                <a:lnTo>
                  <a:pt x="900" y="133"/>
                </a:lnTo>
                <a:lnTo>
                  <a:pt x="926" y="118"/>
                </a:lnTo>
                <a:lnTo>
                  <a:pt x="952" y="107"/>
                </a:lnTo>
                <a:lnTo>
                  <a:pt x="977" y="92"/>
                </a:lnTo>
                <a:lnTo>
                  <a:pt x="1003" y="86"/>
                </a:lnTo>
                <a:lnTo>
                  <a:pt x="1030" y="79"/>
                </a:lnTo>
                <a:lnTo>
                  <a:pt x="1054" y="69"/>
                </a:lnTo>
                <a:lnTo>
                  <a:pt x="1080" y="52"/>
                </a:lnTo>
                <a:lnTo>
                  <a:pt x="1107" y="41"/>
                </a:lnTo>
                <a:lnTo>
                  <a:pt x="1131" y="37"/>
                </a:lnTo>
                <a:lnTo>
                  <a:pt x="1158" y="20"/>
                </a:lnTo>
                <a:lnTo>
                  <a:pt x="1184" y="15"/>
                </a:lnTo>
                <a:lnTo>
                  <a:pt x="1208" y="3"/>
                </a:lnTo>
                <a:lnTo>
                  <a:pt x="1235" y="5"/>
                </a:lnTo>
                <a:lnTo>
                  <a:pt x="1261" y="5"/>
                </a:lnTo>
                <a:lnTo>
                  <a:pt x="1286" y="5"/>
                </a:lnTo>
                <a:lnTo>
                  <a:pt x="1312" y="0"/>
                </a:lnTo>
                <a:lnTo>
                  <a:pt x="1338" y="5"/>
                </a:lnTo>
                <a:lnTo>
                  <a:pt x="1363" y="5"/>
                </a:lnTo>
                <a:lnTo>
                  <a:pt x="1389" y="9"/>
                </a:lnTo>
                <a:lnTo>
                  <a:pt x="1415" y="9"/>
                </a:lnTo>
                <a:lnTo>
                  <a:pt x="1440" y="9"/>
                </a:lnTo>
                <a:lnTo>
                  <a:pt x="1466" y="15"/>
                </a:lnTo>
                <a:lnTo>
                  <a:pt x="1493" y="26"/>
                </a:lnTo>
                <a:lnTo>
                  <a:pt x="1517" y="28"/>
                </a:lnTo>
                <a:lnTo>
                  <a:pt x="1543" y="39"/>
                </a:lnTo>
                <a:lnTo>
                  <a:pt x="1570" y="51"/>
                </a:lnTo>
                <a:lnTo>
                  <a:pt x="1594" y="62"/>
                </a:lnTo>
                <a:lnTo>
                  <a:pt x="1621" y="79"/>
                </a:lnTo>
                <a:lnTo>
                  <a:pt x="1647" y="81"/>
                </a:lnTo>
                <a:lnTo>
                  <a:pt x="1671" y="96"/>
                </a:lnTo>
                <a:lnTo>
                  <a:pt x="1698" y="103"/>
                </a:lnTo>
                <a:lnTo>
                  <a:pt x="1724" y="113"/>
                </a:lnTo>
                <a:lnTo>
                  <a:pt x="1749" y="132"/>
                </a:lnTo>
                <a:lnTo>
                  <a:pt x="1775" y="148"/>
                </a:lnTo>
                <a:lnTo>
                  <a:pt x="1801" y="160"/>
                </a:lnTo>
                <a:lnTo>
                  <a:pt x="1826" y="177"/>
                </a:lnTo>
                <a:lnTo>
                  <a:pt x="1852" y="199"/>
                </a:lnTo>
                <a:lnTo>
                  <a:pt x="1878" y="214"/>
                </a:lnTo>
                <a:lnTo>
                  <a:pt x="1905" y="237"/>
                </a:lnTo>
                <a:lnTo>
                  <a:pt x="1929" y="265"/>
                </a:lnTo>
                <a:lnTo>
                  <a:pt x="1956" y="288"/>
                </a:lnTo>
                <a:lnTo>
                  <a:pt x="1982" y="316"/>
                </a:lnTo>
                <a:lnTo>
                  <a:pt x="2006" y="350"/>
                </a:lnTo>
                <a:lnTo>
                  <a:pt x="2033" y="384"/>
                </a:lnTo>
                <a:lnTo>
                  <a:pt x="2059" y="414"/>
                </a:lnTo>
                <a:lnTo>
                  <a:pt x="2084" y="442"/>
                </a:lnTo>
                <a:lnTo>
                  <a:pt x="2110" y="472"/>
                </a:lnTo>
                <a:lnTo>
                  <a:pt x="2136" y="501"/>
                </a:lnTo>
                <a:lnTo>
                  <a:pt x="2161" y="525"/>
                </a:lnTo>
                <a:lnTo>
                  <a:pt x="2187" y="553"/>
                </a:lnTo>
                <a:lnTo>
                  <a:pt x="2213" y="583"/>
                </a:lnTo>
                <a:lnTo>
                  <a:pt x="2238" y="617"/>
                </a:lnTo>
                <a:lnTo>
                  <a:pt x="2264" y="640"/>
                </a:lnTo>
                <a:lnTo>
                  <a:pt x="2291" y="668"/>
                </a:lnTo>
                <a:lnTo>
                  <a:pt x="2315" y="696"/>
                </a:lnTo>
                <a:lnTo>
                  <a:pt x="2341" y="725"/>
                </a:lnTo>
                <a:lnTo>
                  <a:pt x="2368" y="757"/>
                </a:lnTo>
                <a:lnTo>
                  <a:pt x="2392" y="800"/>
                </a:lnTo>
                <a:lnTo>
                  <a:pt x="2419" y="832"/>
                </a:lnTo>
                <a:lnTo>
                  <a:pt x="2445" y="869"/>
                </a:lnTo>
                <a:lnTo>
                  <a:pt x="2469" y="903"/>
                </a:lnTo>
                <a:lnTo>
                  <a:pt x="2496" y="945"/>
                </a:lnTo>
                <a:lnTo>
                  <a:pt x="2522" y="981"/>
                </a:lnTo>
                <a:lnTo>
                  <a:pt x="2547" y="1016"/>
                </a:lnTo>
                <a:lnTo>
                  <a:pt x="2573" y="1062"/>
                </a:lnTo>
                <a:lnTo>
                  <a:pt x="2599" y="1097"/>
                </a:lnTo>
                <a:lnTo>
                  <a:pt x="2624" y="1137"/>
                </a:lnTo>
                <a:lnTo>
                  <a:pt x="2650" y="1182"/>
                </a:lnTo>
                <a:lnTo>
                  <a:pt x="2677" y="1227"/>
                </a:lnTo>
                <a:lnTo>
                  <a:pt x="2701" y="1269"/>
                </a:lnTo>
                <a:lnTo>
                  <a:pt x="2727" y="1314"/>
                </a:lnTo>
                <a:lnTo>
                  <a:pt x="2754" y="1355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任意多边形 165"/>
          <p:cNvSpPr/>
          <p:nvPr/>
        </p:nvSpPr>
        <p:spPr>
          <a:xfrm>
            <a:off x="3376440" y="4773600"/>
            <a:ext cx="3349800" cy="1303200"/>
          </a:xfrm>
          <a:custGeom>
            <a:avLst/>
            <a:gdLst>
              <a:gd name="textAreaLeft" fmla="*/ 0 w 3349800"/>
              <a:gd name="textAreaRight" fmla="*/ 3350160 w 3349800"/>
              <a:gd name="textAreaTop" fmla="*/ 0 h 1303200"/>
              <a:gd name="textAreaBottom" fmla="*/ 1303560 h 1303200"/>
            </a:gdLst>
            <a:ahLst/>
            <a:rect l="textAreaLeft" t="textAreaTop" r="textAreaRight" b="textAreaBottom"/>
            <a:pathLst>
              <a:path w="2110" h="821">
                <a:moveTo>
                  <a:pt x="0" y="791"/>
                </a:moveTo>
                <a:lnTo>
                  <a:pt x="24" y="747"/>
                </a:lnTo>
                <a:lnTo>
                  <a:pt x="50" y="712"/>
                </a:lnTo>
                <a:lnTo>
                  <a:pt x="77" y="670"/>
                </a:lnTo>
                <a:lnTo>
                  <a:pt x="101" y="636"/>
                </a:lnTo>
                <a:lnTo>
                  <a:pt x="128" y="602"/>
                </a:lnTo>
                <a:lnTo>
                  <a:pt x="154" y="567"/>
                </a:lnTo>
                <a:lnTo>
                  <a:pt x="178" y="538"/>
                </a:lnTo>
                <a:lnTo>
                  <a:pt x="205" y="505"/>
                </a:lnTo>
                <a:lnTo>
                  <a:pt x="231" y="471"/>
                </a:lnTo>
                <a:lnTo>
                  <a:pt x="256" y="456"/>
                </a:lnTo>
                <a:lnTo>
                  <a:pt x="282" y="422"/>
                </a:lnTo>
                <a:lnTo>
                  <a:pt x="308" y="384"/>
                </a:lnTo>
                <a:lnTo>
                  <a:pt x="333" y="354"/>
                </a:lnTo>
                <a:lnTo>
                  <a:pt x="359" y="329"/>
                </a:lnTo>
                <a:lnTo>
                  <a:pt x="385" y="307"/>
                </a:lnTo>
                <a:lnTo>
                  <a:pt x="412" y="282"/>
                </a:lnTo>
                <a:lnTo>
                  <a:pt x="436" y="265"/>
                </a:lnTo>
                <a:lnTo>
                  <a:pt x="463" y="245"/>
                </a:lnTo>
                <a:lnTo>
                  <a:pt x="489" y="217"/>
                </a:lnTo>
                <a:lnTo>
                  <a:pt x="513" y="196"/>
                </a:lnTo>
                <a:lnTo>
                  <a:pt x="540" y="173"/>
                </a:lnTo>
                <a:lnTo>
                  <a:pt x="566" y="158"/>
                </a:lnTo>
                <a:lnTo>
                  <a:pt x="591" y="139"/>
                </a:lnTo>
                <a:lnTo>
                  <a:pt x="617" y="119"/>
                </a:lnTo>
                <a:lnTo>
                  <a:pt x="643" y="105"/>
                </a:lnTo>
                <a:lnTo>
                  <a:pt x="668" y="92"/>
                </a:lnTo>
                <a:lnTo>
                  <a:pt x="694" y="75"/>
                </a:lnTo>
                <a:lnTo>
                  <a:pt x="721" y="58"/>
                </a:lnTo>
                <a:lnTo>
                  <a:pt x="745" y="55"/>
                </a:lnTo>
                <a:lnTo>
                  <a:pt x="771" y="47"/>
                </a:lnTo>
                <a:lnTo>
                  <a:pt x="798" y="38"/>
                </a:lnTo>
                <a:lnTo>
                  <a:pt x="822" y="38"/>
                </a:lnTo>
                <a:lnTo>
                  <a:pt x="849" y="30"/>
                </a:lnTo>
                <a:lnTo>
                  <a:pt x="875" y="30"/>
                </a:lnTo>
                <a:lnTo>
                  <a:pt x="899" y="25"/>
                </a:lnTo>
                <a:lnTo>
                  <a:pt x="926" y="23"/>
                </a:lnTo>
                <a:lnTo>
                  <a:pt x="952" y="19"/>
                </a:lnTo>
                <a:lnTo>
                  <a:pt x="977" y="19"/>
                </a:lnTo>
                <a:lnTo>
                  <a:pt x="1003" y="11"/>
                </a:lnTo>
                <a:lnTo>
                  <a:pt x="1029" y="8"/>
                </a:lnTo>
                <a:lnTo>
                  <a:pt x="1054" y="8"/>
                </a:lnTo>
                <a:lnTo>
                  <a:pt x="1080" y="0"/>
                </a:lnTo>
                <a:lnTo>
                  <a:pt x="1106" y="6"/>
                </a:lnTo>
                <a:lnTo>
                  <a:pt x="1131" y="2"/>
                </a:lnTo>
                <a:lnTo>
                  <a:pt x="1157" y="6"/>
                </a:lnTo>
                <a:lnTo>
                  <a:pt x="1184" y="19"/>
                </a:lnTo>
                <a:lnTo>
                  <a:pt x="1208" y="25"/>
                </a:lnTo>
                <a:lnTo>
                  <a:pt x="1234" y="30"/>
                </a:lnTo>
                <a:lnTo>
                  <a:pt x="1261" y="41"/>
                </a:lnTo>
                <a:lnTo>
                  <a:pt x="1285" y="47"/>
                </a:lnTo>
                <a:lnTo>
                  <a:pt x="1312" y="49"/>
                </a:lnTo>
                <a:lnTo>
                  <a:pt x="1338" y="58"/>
                </a:lnTo>
                <a:lnTo>
                  <a:pt x="1362" y="70"/>
                </a:lnTo>
                <a:lnTo>
                  <a:pt x="1389" y="87"/>
                </a:lnTo>
                <a:lnTo>
                  <a:pt x="1415" y="98"/>
                </a:lnTo>
                <a:lnTo>
                  <a:pt x="1440" y="105"/>
                </a:lnTo>
                <a:lnTo>
                  <a:pt x="1466" y="122"/>
                </a:lnTo>
                <a:lnTo>
                  <a:pt x="1492" y="145"/>
                </a:lnTo>
                <a:lnTo>
                  <a:pt x="1517" y="164"/>
                </a:lnTo>
                <a:lnTo>
                  <a:pt x="1543" y="186"/>
                </a:lnTo>
                <a:lnTo>
                  <a:pt x="1569" y="211"/>
                </a:lnTo>
                <a:lnTo>
                  <a:pt x="1596" y="232"/>
                </a:lnTo>
                <a:lnTo>
                  <a:pt x="1620" y="250"/>
                </a:lnTo>
                <a:lnTo>
                  <a:pt x="1647" y="277"/>
                </a:lnTo>
                <a:lnTo>
                  <a:pt x="1673" y="307"/>
                </a:lnTo>
                <a:lnTo>
                  <a:pt x="1697" y="335"/>
                </a:lnTo>
                <a:lnTo>
                  <a:pt x="1724" y="358"/>
                </a:lnTo>
                <a:lnTo>
                  <a:pt x="1750" y="382"/>
                </a:lnTo>
                <a:lnTo>
                  <a:pt x="1775" y="407"/>
                </a:lnTo>
                <a:lnTo>
                  <a:pt x="1801" y="439"/>
                </a:lnTo>
                <a:lnTo>
                  <a:pt x="1827" y="458"/>
                </a:lnTo>
                <a:lnTo>
                  <a:pt x="1852" y="488"/>
                </a:lnTo>
                <a:lnTo>
                  <a:pt x="1878" y="516"/>
                </a:lnTo>
                <a:lnTo>
                  <a:pt x="1904" y="542"/>
                </a:lnTo>
                <a:lnTo>
                  <a:pt x="1929" y="572"/>
                </a:lnTo>
                <a:lnTo>
                  <a:pt x="1955" y="602"/>
                </a:lnTo>
                <a:lnTo>
                  <a:pt x="1982" y="629"/>
                </a:lnTo>
                <a:lnTo>
                  <a:pt x="2006" y="666"/>
                </a:lnTo>
                <a:lnTo>
                  <a:pt x="2032" y="704"/>
                </a:lnTo>
                <a:lnTo>
                  <a:pt x="2059" y="751"/>
                </a:lnTo>
                <a:lnTo>
                  <a:pt x="2083" y="785"/>
                </a:lnTo>
                <a:lnTo>
                  <a:pt x="2110" y="821"/>
                </a:lnTo>
              </a:path>
            </a:pathLst>
          </a:custGeom>
          <a:noFill/>
          <a:ln w="0">
            <a:solidFill>
              <a:srgbClr val="8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矩形 167"/>
          <p:cNvSpPr/>
          <p:nvPr/>
        </p:nvSpPr>
        <p:spPr>
          <a:xfrm>
            <a:off x="3894840" y="6345360"/>
            <a:ext cx="21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</a:rPr>
              <a:t>Wavelength (n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168"/>
          <p:cNvSpPr/>
          <p:nvPr/>
        </p:nvSpPr>
        <p:spPr>
          <a:xfrm rot="16200000">
            <a:off x="-919080" y="3083040"/>
            <a:ext cx="295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</a:rPr>
              <a:t>emission intensity (a.u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170"/>
          <p:cNvSpPr/>
          <p:nvPr/>
        </p:nvSpPr>
        <p:spPr>
          <a:xfrm>
            <a:off x="1647000" y="822240"/>
            <a:ext cx="518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</a:rPr>
              <a:t>LL(</a:t>
            </a:r>
            <a:r>
              <a:rPr b="0" lang="en-US" sz="2100" spc="-1" strike="noStrike">
                <a:solidFill>
                  <a:srgbClr val="4bacc6"/>
                </a:solidFill>
                <a:latin typeface="Arabic Transparent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矩形 171"/>
          <p:cNvSpPr/>
          <p:nvPr/>
        </p:nvSpPr>
        <p:spPr>
          <a:xfrm>
            <a:off x="2186280" y="82548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Times New Roman"/>
              </a:rPr>
              <a:t>×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矩形 172"/>
          <p:cNvSpPr/>
          <p:nvPr/>
        </p:nvSpPr>
        <p:spPr>
          <a:xfrm>
            <a:off x="2260080" y="8222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矩形 173"/>
          <p:cNvSpPr/>
          <p:nvPr/>
        </p:nvSpPr>
        <p:spPr>
          <a:xfrm>
            <a:off x="2544840" y="779400"/>
            <a:ext cx="14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bacc6"/>
                </a:solidFill>
                <a:latin typeface="Arabic Transparent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矩形 174"/>
          <p:cNvSpPr/>
          <p:nvPr/>
        </p:nvSpPr>
        <p:spPr>
          <a:xfrm>
            <a:off x="2646000" y="82224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</a:rPr>
              <a:t>mol/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矩形 175"/>
          <p:cNvSpPr/>
          <p:nvPr/>
        </p:nvSpPr>
        <p:spPr>
          <a:xfrm>
            <a:off x="1636920" y="1136520"/>
            <a:ext cx="1523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</a:rPr>
              <a:t>         </a:t>
            </a:r>
            <a:r>
              <a:rPr b="0" lang="zh-CN" sz="2100" spc="-1" strike="noStrike">
                <a:solidFill>
                  <a:srgbClr val="4bacc6"/>
                </a:solidFill>
                <a:latin typeface="Arabic Transparent"/>
              </a:rPr>
              <a:t>pH=7.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矩形 176"/>
          <p:cNvSpPr/>
          <p:nvPr/>
        </p:nvSpPr>
        <p:spPr>
          <a:xfrm>
            <a:off x="4465800" y="4441680"/>
            <a:ext cx="105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abic Transparent"/>
              </a:rPr>
              <a:t>5 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</a:rPr>
              <a:t>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矩形 177"/>
          <p:cNvSpPr/>
          <p:nvPr/>
        </p:nvSpPr>
        <p:spPr>
          <a:xfrm>
            <a:off x="4465800" y="3544920"/>
            <a:ext cx="105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abic Transparent"/>
              </a:rPr>
              <a:t>4 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</a:rPr>
              <a:t>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矩形 178"/>
          <p:cNvSpPr/>
          <p:nvPr/>
        </p:nvSpPr>
        <p:spPr>
          <a:xfrm>
            <a:off x="4442040" y="2903400"/>
            <a:ext cx="105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abic Transparent"/>
              </a:rPr>
              <a:t>3 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</a:rPr>
              <a:t>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矩形 179"/>
          <p:cNvSpPr/>
          <p:nvPr/>
        </p:nvSpPr>
        <p:spPr>
          <a:xfrm>
            <a:off x="4415040" y="2212920"/>
            <a:ext cx="105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abic Transparent"/>
              </a:rPr>
              <a:t>2 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</a:rPr>
              <a:t>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矩形 180"/>
          <p:cNvSpPr/>
          <p:nvPr/>
        </p:nvSpPr>
        <p:spPr>
          <a:xfrm>
            <a:off x="4635720" y="1108080"/>
            <a:ext cx="985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abic Transparent"/>
              </a:rPr>
              <a:t>0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直接连接符​​ 194"/>
          <p:cNvSpPr/>
          <p:nvPr/>
        </p:nvSpPr>
        <p:spPr>
          <a:xfrm>
            <a:off x="4965840" y="1150920"/>
            <a:ext cx="1440" cy="495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Box 5"/>
          <p:cNvSpPr/>
          <p:nvPr/>
        </p:nvSpPr>
        <p:spPr>
          <a:xfrm rot="18943800">
            <a:off x="-786960" y="36828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包合</a:t>
            </a: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荧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0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200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2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201"/>
                            </p:stCondLst>
                            <p:childTnLst>
                              <p:par>
                                <p:cTn id="1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200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5" dur="2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401"/>
                            </p:stCondLst>
                            <p:childTnLst>
                              <p:par>
                                <p:cTn id="1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402"/>
                            </p:stCondLst>
                            <p:childTnLst>
                              <p:par>
                                <p:cTn id="1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200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3" dur="2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602"/>
                            </p:stCondLst>
                            <p:childTnLst>
                              <p:par>
                                <p:cTn id="1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603"/>
                            </p:stCondLst>
                            <p:childTnLst>
                              <p:par>
                                <p:cTn id="1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200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1" dur="2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803"/>
                            </p:stCondLst>
                            <p:childTnLst>
                              <p:par>
                                <p:cTn id="1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804"/>
                            </p:stCondLst>
                            <p:childTnLst>
                              <p:par>
                                <p:cTn id="1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200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9" dur="2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04"/>
                            </p:stCondLst>
                            <p:childTnLst>
                              <p:par>
                                <p:cTn id="1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6:22:00Z</dcterms:created>
  <dc:creator>Paralife</dc:creator>
  <dc:description/>
  <cp:keywords/>
  <dc:language>en-US</dc:language>
  <cp:lastModifiedBy>yu wang</cp:lastModifiedBy>
  <dcterms:modified xsi:type="dcterms:W3CDTF">2015-08-14T12:50:13Z</dcterms:modified>
  <cp:revision>2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