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3CBA-7441-41ED-A5A6-DF62572F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8CF-449F-4EB4-B487-EB0F84F5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E89-04D4-4CD1-B180-97C11373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46D-6BFB-4B01-83D4-F3A911A8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8273-C402-4A99-9324-50294D1E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EBE2-5E8A-48CE-A47E-E6B8A5E8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B283-0C96-4653-8F17-1250EF5D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CCA9-B774-4FA7-8914-4601E60E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46E0-0C99-43C9-B7EF-D58FB914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EA6D-A47C-4986-B012-069B9693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755A-B6A5-43D1-A78C-BBFE8226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997-BB49-449D-9BF9-C52CF696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E022-A8BA-4C8D-8B42-25AB4821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AE67-3D3D-4A13-B858-6EE2DDD6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D85A-18FD-4DB0-9B34-367650A1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EF32-79A2-4466-8841-070AF5C2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5FF5-6FFA-4087-8266-2A1AD8E3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7C13-F943-4BC0-8B7A-58CCEDCD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40AD1-8BA7-41E0-A99A-C83E8EC1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41951-067D-484E-87A8-7DF57B2A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B19B6-FFC6-45F0-B55D-5681F896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834E-8CDB-4FE8-8DB8-AFE3BBD7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DF0-6007-4AE2-BC36-ED2894F7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F2F5-AB71-48D5-ACF1-A276C22A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CEFA-C843-4333-93DD-00A72CDA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ECCEB-87A1-4B2B-9E4A-D49F0EF9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FF01-1F45-41FB-83CB-2C80599E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EDCD-583A-40BF-AB4E-AEED3C87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5BF71-71E9-4091-91C9-167AD1E0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E999-61AA-42DD-B82F-A6D67F5F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EC0DE-62E1-4FC3-AAEE-BA094A21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79145-B46C-48B3-AD00-E9792B51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1D22E-45B0-42B7-9FE1-22B02ACB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1AC-F37C-4FB9-847C-B85854F4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68196-2EEE-4CD6-A136-46DA3E4E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15819-5F22-4F87-8907-A1D0952D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1A3E-7053-4F59-B0E6-DF25ACD4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F2D35-71C7-46AC-92FD-9215B62A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46C36-DFCD-493B-BB0A-0CCE3AF0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A6127-F184-4ED8-9FDA-93929620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3F6BE-1F46-41CC-BC0C-C16A0407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15A62-9B27-4FDE-808E-8CD89658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9779-3BDF-4DB2-B38B-CDA07A8E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40C-9471-4E8F-AD1C-F640A487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671-8490-4D80-B8F5-AA635F15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AFE-065A-4A4A-B6B3-06D25ED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C1D-E6B3-4E3F-AD48-745E3795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D4E-C380-45F4-8429-F0E3E87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B8ED-4898-4BA3-ADFA-F3AF132A7C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组合 8"/>
          <p:cNvGrpSpPr/>
          <p:nvPr/>
        </p:nvGrpSpPr>
        <p:grpSpPr>
          <a:xfrm>
            <a:off x="5703840" y="236520"/>
            <a:ext cx="3097440" cy="995400"/>
            <a:chOff x="5703840" y="236520"/>
            <a:chExt cx="3097440" cy="995400"/>
          </a:xfrm>
        </p:grpSpPr>
        <p:pic>
          <p:nvPicPr>
            <p:cNvPr id="4" name="图片 6" descr=""/>
            <p:cNvPicPr/>
            <p:nvPr/>
          </p:nvPicPr>
          <p:blipFill>
            <a:blip r:embed="rId2"/>
            <a:stretch/>
          </p:blipFill>
          <p:spPr>
            <a:xfrm>
              <a:off x="5703840" y="236520"/>
              <a:ext cx="85644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图片 7" descr=""/>
            <p:cNvPicPr/>
            <p:nvPr/>
          </p:nvPicPr>
          <p:blipFill>
            <a:blip r:embed="rId3"/>
            <a:stretch/>
          </p:blipFill>
          <p:spPr>
            <a:xfrm>
              <a:off x="6459840" y="344520"/>
              <a:ext cx="2341440" cy="88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图片 9" descr=""/>
          <p:cNvPicPr/>
          <p:nvPr/>
        </p:nvPicPr>
        <p:blipFill>
          <a:blip r:embed="rId4"/>
          <a:stretch/>
        </p:blipFill>
        <p:spPr>
          <a:xfrm>
            <a:off x="5587920" y="6332400"/>
            <a:ext cx="332892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8"/>
          <p:cNvGrpSpPr/>
          <p:nvPr/>
        </p:nvGrpSpPr>
        <p:grpSpPr>
          <a:xfrm>
            <a:off x="5703840" y="236520"/>
            <a:ext cx="3097440" cy="995400"/>
            <a:chOff x="5703840" y="236520"/>
            <a:chExt cx="3097440" cy="995400"/>
          </a:xfrm>
        </p:grpSpPr>
        <p:pic>
          <p:nvPicPr>
            <p:cNvPr id="44" name="图片 6" descr=""/>
            <p:cNvPicPr/>
            <p:nvPr/>
          </p:nvPicPr>
          <p:blipFill>
            <a:blip r:embed="rId2"/>
            <a:stretch/>
          </p:blipFill>
          <p:spPr>
            <a:xfrm>
              <a:off x="5703840" y="236520"/>
              <a:ext cx="85644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7" descr=""/>
            <p:cNvPicPr/>
            <p:nvPr/>
          </p:nvPicPr>
          <p:blipFill>
            <a:blip r:embed="rId3"/>
            <a:stretch/>
          </p:blipFill>
          <p:spPr>
            <a:xfrm>
              <a:off x="6459840" y="344520"/>
              <a:ext cx="2341440" cy="88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图片 9" descr=""/>
          <p:cNvPicPr/>
          <p:nvPr/>
        </p:nvPicPr>
        <p:blipFill>
          <a:blip r:embed="rId4"/>
          <a:stretch/>
        </p:blipFill>
        <p:spPr>
          <a:xfrm>
            <a:off x="5587920" y="6332400"/>
            <a:ext cx="3328920" cy="500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"/>
          <p:cNvPicPr/>
          <p:nvPr/>
        </p:nvPicPr>
        <p:blipFill>
          <a:blip r:embed="rId5"/>
          <a:srcRect l="0" t="7098" r="0" b="13923"/>
          <a:stretch/>
        </p:blipFill>
        <p:spPr>
          <a:xfrm>
            <a:off x="0" y="1430280"/>
            <a:ext cx="9144000" cy="456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84F1-0BA2-4F3F-AFBF-2804D71674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8"/>
          <p:cNvGrpSpPr/>
          <p:nvPr/>
        </p:nvGrpSpPr>
        <p:grpSpPr>
          <a:xfrm>
            <a:off x="5703840" y="236520"/>
            <a:ext cx="3097440" cy="995400"/>
            <a:chOff x="5703840" y="236520"/>
            <a:chExt cx="3097440" cy="995400"/>
          </a:xfrm>
        </p:grpSpPr>
        <p:pic>
          <p:nvPicPr>
            <p:cNvPr id="88" name="图片 6" descr=""/>
            <p:cNvPicPr/>
            <p:nvPr/>
          </p:nvPicPr>
          <p:blipFill>
            <a:blip r:embed="rId2"/>
            <a:stretch/>
          </p:blipFill>
          <p:spPr>
            <a:xfrm>
              <a:off x="5703840" y="236520"/>
              <a:ext cx="85644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图片 7" descr=""/>
            <p:cNvPicPr/>
            <p:nvPr/>
          </p:nvPicPr>
          <p:blipFill>
            <a:blip r:embed="rId3"/>
            <a:stretch/>
          </p:blipFill>
          <p:spPr>
            <a:xfrm>
              <a:off x="6459840" y="344520"/>
              <a:ext cx="2341440" cy="88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图片 9" descr=""/>
          <p:cNvPicPr/>
          <p:nvPr/>
        </p:nvPicPr>
        <p:blipFill>
          <a:blip r:embed="rId4"/>
          <a:stretch/>
        </p:blipFill>
        <p:spPr>
          <a:xfrm>
            <a:off x="5587920" y="6332400"/>
            <a:ext cx="3328920" cy="5000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0" descr=""/>
          <p:cNvPicPr/>
          <p:nvPr/>
        </p:nvPicPr>
        <p:blipFill>
          <a:blip r:embed="rId5"/>
          <a:stretch/>
        </p:blipFill>
        <p:spPr>
          <a:xfrm>
            <a:off x="0" y="333360"/>
            <a:ext cx="9144000" cy="87804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11"/>
          <p:cNvGrpSpPr/>
          <p:nvPr/>
        </p:nvGrpSpPr>
        <p:grpSpPr>
          <a:xfrm>
            <a:off x="5651640" y="274680"/>
            <a:ext cx="3097080" cy="993600"/>
            <a:chOff x="5651640" y="274680"/>
            <a:chExt cx="3097080" cy="993600"/>
          </a:xfrm>
        </p:grpSpPr>
        <p:pic>
          <p:nvPicPr>
            <p:cNvPr id="93" name="图片 12" descr=""/>
            <p:cNvPicPr/>
            <p:nvPr/>
          </p:nvPicPr>
          <p:blipFill>
            <a:blip r:embed="rId6"/>
            <a:stretch/>
          </p:blipFill>
          <p:spPr>
            <a:xfrm>
              <a:off x="5651640" y="274680"/>
              <a:ext cx="856440" cy="9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13" descr=""/>
            <p:cNvPicPr/>
            <p:nvPr/>
          </p:nvPicPr>
          <p:blipFill>
            <a:blip r:embed="rId7"/>
            <a:stretch/>
          </p:blipFill>
          <p:spPr>
            <a:xfrm>
              <a:off x="6407640" y="382320"/>
              <a:ext cx="2341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98AA-D1A4-49EB-AFD7-B207768444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8"/>
          <p:cNvGrpSpPr/>
          <p:nvPr/>
        </p:nvGrpSpPr>
        <p:grpSpPr>
          <a:xfrm>
            <a:off x="5703840" y="236520"/>
            <a:ext cx="3097440" cy="995400"/>
            <a:chOff x="5703840" y="236520"/>
            <a:chExt cx="3097440" cy="995400"/>
          </a:xfrm>
        </p:grpSpPr>
        <p:pic>
          <p:nvPicPr>
            <p:cNvPr id="135" name="图片 6" descr=""/>
            <p:cNvPicPr/>
            <p:nvPr/>
          </p:nvPicPr>
          <p:blipFill>
            <a:blip r:embed="rId2"/>
            <a:stretch/>
          </p:blipFill>
          <p:spPr>
            <a:xfrm>
              <a:off x="5703840" y="236520"/>
              <a:ext cx="85644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图片 7" descr=""/>
            <p:cNvPicPr/>
            <p:nvPr/>
          </p:nvPicPr>
          <p:blipFill>
            <a:blip r:embed="rId3"/>
            <a:stretch/>
          </p:blipFill>
          <p:spPr>
            <a:xfrm>
              <a:off x="6459840" y="344520"/>
              <a:ext cx="2341440" cy="88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图片 9" descr=""/>
          <p:cNvPicPr/>
          <p:nvPr/>
        </p:nvPicPr>
        <p:blipFill>
          <a:blip r:embed="rId4"/>
          <a:stretch/>
        </p:blipFill>
        <p:spPr>
          <a:xfrm>
            <a:off x="5587920" y="6332400"/>
            <a:ext cx="3328920" cy="5000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0" descr=""/>
          <p:cNvPicPr/>
          <p:nvPr/>
        </p:nvPicPr>
        <p:blipFill>
          <a:blip r:embed="rId5"/>
          <a:srcRect l="0" t="0" r="0" b="1428"/>
          <a:stretch/>
        </p:blipFill>
        <p:spPr>
          <a:xfrm>
            <a:off x="-7920" y="6480"/>
            <a:ext cx="207972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BDA2-3F50-474E-B222-030F30E514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4"/>
          <p:cNvSpPr/>
          <p:nvPr/>
        </p:nvSpPr>
        <p:spPr>
          <a:xfrm>
            <a:off x="-684360" y="3429000"/>
            <a:ext cx="10512720" cy="268452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"/>
          <p:cNvSpPr/>
          <p:nvPr/>
        </p:nvSpPr>
        <p:spPr>
          <a:xfrm>
            <a:off x="2615040" y="1700280"/>
            <a:ext cx="41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华中师范大学答辩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8"/>
          <p:cNvSpPr/>
          <p:nvPr/>
        </p:nvSpPr>
        <p:spPr>
          <a:xfrm>
            <a:off x="468360" y="630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3:42:37Z</dcterms:created>
  <dc:creator>王长春</dc:creator>
  <dc:description/>
  <dc:language>en-US</dc:language>
  <cp:lastModifiedBy>yu wang</cp:lastModifiedBy>
  <dcterms:modified xsi:type="dcterms:W3CDTF">2015-08-12T14:51:26Z</dcterms:modified>
  <cp:revision>5</cp:revision>
  <dc:subject/>
  <dc:title>PowerPoint 演示文稿</dc:title>
</cp:coreProperties>
</file>