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365fa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70ad4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a5a5a5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3"/>
                <c:pt idx="0">
                  <c:v>2</c:v>
                </c:pt>
                <c:pt idx="1">
                  <c:v>2</c:v>
                </c:pt>
                <c:pt idx="2">
                  <c:v>3</c:v>
                </c:pt>
              </c:numCache>
            </c:numRef>
          </c:val>
        </c:ser>
        <c:gapWidth val="147"/>
        <c:overlap val="-27"/>
        <c:axId val="12246748"/>
        <c:axId val="51573090"/>
      </c:barChart>
      <c:catAx>
        <c:axId val="12246748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one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51573090"/>
        <c:auto val="1"/>
        <c:lblAlgn val="ctr"/>
        <c:lblOffset val="100"/>
        <c:noMultiLvlLbl val="0"/>
      </c:catAx>
      <c:valAx>
        <c:axId val="51573090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12246748"/>
        <c:crosses val="autoZero"/>
        <c:crossBetween val="between"/>
        <c:majorUnit val="1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Marker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Y 值</c:v>
                </c:pt>
              </c:strCache>
            </c:strRef>
          </c:tx>
          <c:spPr>
            <a:solidFill>
              <a:srgbClr val="365faa"/>
            </a:solidFill>
            <a:ln cap="rnd" w="34920">
              <a:solidFill>
                <a:srgbClr val="365faa"/>
              </a:solidFill>
              <a:round/>
            </a:ln>
          </c:spPr>
          <c:marker>
            <c:symbol val="circle"/>
            <c:size val="5"/>
            <c:spPr>
              <a:solidFill>
                <a:srgbClr val="365faa"/>
              </a:solidFill>
            </c:spPr>
          </c:marker>
          <c:dPt>
            <c:idx val="2"/>
            <c:marker>
              <c:symbol val="circle"/>
              <c:size val="5"/>
              <c:spPr>
                <a:solidFill>
                  <a:srgbClr val="365faa"/>
                </a:solidFill>
              </c:spPr>
            </c:marker>
          </c:dPt>
          <c:dLbls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6"/>
                <c:pt idx="0">
                  <c:v>0.5</c:v>
                </c:pt>
                <c:pt idx="1">
                  <c:v>1</c:v>
                </c:pt>
                <c:pt idx="2">
                  <c:v>1.5</c:v>
                </c:pt>
                <c:pt idx="3">
                  <c:v>2</c:v>
                </c:pt>
                <c:pt idx="4">
                  <c:v>2.5</c:v>
                </c:pt>
                <c:pt idx="5">
                  <c:v>3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6"/>
                <c:pt idx="0">
                  <c:v>0.5</c:v>
                </c:pt>
                <c:pt idx="1">
                  <c:v>2.7</c:v>
                </c:pt>
                <c:pt idx="2">
                  <c:v>0.2</c:v>
                </c:pt>
                <c:pt idx="3">
                  <c:v>1.8</c:v>
                </c:pt>
                <c:pt idx="4">
                  <c:v>0.7</c:v>
                </c:pt>
                <c:pt idx="5">
                  <c:v>2.1</c:v>
                </c:pt>
              </c:numCache>
            </c:numRef>
          </c:yVal>
          <c:smooth val="1"/>
        </c:ser>
        <c:axId val="80891493"/>
        <c:axId val="17789826"/>
      </c:scatterChart>
      <c:valAx>
        <c:axId val="80891493"/>
        <c:scaling>
          <c:orientation val="minMax"/>
        </c:scaling>
        <c:delete val="0"/>
        <c:axPos val="b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bfbfbf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17789826"/>
        <c:crosses val="autoZero"/>
        <c:crossBetween val="midCat"/>
      </c:valAx>
      <c:valAx>
        <c:axId val="17789826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bfbfbf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8089149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70ad47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情况一</c:v>
                </c:pt>
                <c:pt idx="1">
                  <c:v>情况二</c:v>
                </c:pt>
                <c:pt idx="2">
                  <c:v>情况三</c:v>
                </c:pt>
                <c:pt idx="3">
                  <c:v>情况四</c:v>
                </c:pt>
                <c:pt idx="4">
                  <c:v>情况五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2</c:v>
                </c:pt>
                <c:pt idx="1">
                  <c:v>44</c:v>
                </c:pt>
                <c:pt idx="2">
                  <c:v>40</c:v>
                </c:pt>
                <c:pt idx="3">
                  <c:v>20</c:v>
                </c:pt>
                <c:pt idx="4">
                  <c:v>2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365faa">
                <a:alpha val="85000"/>
              </a:srgbClr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情况一</c:v>
                </c:pt>
                <c:pt idx="1">
                  <c:v>情况二</c:v>
                </c:pt>
                <c:pt idx="2">
                  <c:v>情况三</c:v>
                </c:pt>
                <c:pt idx="3">
                  <c:v>情况四</c:v>
                </c:pt>
                <c:pt idx="4">
                  <c:v>情况五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32</c:v>
                </c:pt>
                <c:pt idx="1">
                  <c:v>32</c:v>
                </c:pt>
                <c:pt idx="2">
                  <c:v>28</c:v>
                </c:pt>
                <c:pt idx="3">
                  <c:v>30</c:v>
                </c:pt>
                <c:pt idx="4">
                  <c:v>39</c:v>
                </c:pt>
              </c:numCache>
            </c:numRef>
          </c:val>
        </c:ser>
        <c:axId val="44339670"/>
        <c:axId val="37681503"/>
      </c:areaChart>
      <c:catAx>
        <c:axId val="4433967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37681503"/>
        <c:crosses val="autoZero"/>
        <c:auto val="1"/>
        <c:lblAlgn val="ctr"/>
        <c:lblOffset val="100"/>
        <c:noMultiLvlLbl val="0"/>
      </c:catAx>
      <c:valAx>
        <c:axId val="37681503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44339670"/>
        <c:crosses val="autoZero"/>
        <c:crossBetween val="midCat"/>
      </c:valAx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Marker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Y 值</c:v>
                </c:pt>
              </c:strCache>
            </c:strRef>
          </c:tx>
          <c:spPr>
            <a:solidFill>
              <a:srgbClr val="365faa"/>
            </a:solidFill>
            <a:ln w="19080">
              <a:noFill/>
            </a:ln>
          </c:spPr>
          <c:marker>
            <c:symbol val="circle"/>
            <c:size val="5"/>
            <c:spPr>
              <a:solidFill>
                <a:srgbClr val="365faa"/>
              </a:solidFill>
            </c:spPr>
          </c:marker>
          <c:dPt>
            <c:idx val="2"/>
            <c:marker>
              <c:symbol val="circle"/>
              <c:size val="5"/>
              <c:spPr>
                <a:solidFill>
                  <a:srgbClr val="365faa"/>
                </a:solidFill>
              </c:spPr>
            </c:marker>
          </c:dPt>
          <c:dLbls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微软雅黑"/>
                    </a:defRPr>
                  </a:pPr>
                </a:p>
              </c:txPr>
              <c:dLblPos val="r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4"/>
                <c:pt idx="0">
                  <c:v>0.3</c:v>
                </c:pt>
                <c:pt idx="1">
                  <c:v>0.7</c:v>
                </c:pt>
                <c:pt idx="2">
                  <c:v>1.8</c:v>
                </c:pt>
                <c:pt idx="3">
                  <c:v>2.6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4"/>
                <c:pt idx="0">
                  <c:v>1</c:v>
                </c:pt>
                <c:pt idx="1">
                  <c:v>2</c:v>
                </c:pt>
                <c:pt idx="2">
                  <c:v>0.6</c:v>
                </c:pt>
                <c:pt idx="3">
                  <c:v>1.3</c:v>
                </c:pt>
              </c:numCache>
            </c:numRef>
          </c:yVal>
          <c:smooth val="0"/>
        </c:ser>
        <c:axId val="61833278"/>
        <c:axId val="28402134"/>
      </c:scatterChart>
      <c:valAx>
        <c:axId val="61833278"/>
        <c:scaling>
          <c:orientation val="minMax"/>
        </c:scaling>
        <c:delete val="0"/>
        <c:axPos val="b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bfbfbf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28402134"/>
        <c:crosses val="autoZero"/>
        <c:crossBetween val="midCat"/>
      </c:valAx>
      <c:valAx>
        <c:axId val="28402134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bfbfbf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61833278"/>
        <c:crosses val="autoZero"/>
        <c:crossBetween val="midCat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365faa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方案 1</c:v>
                </c:pt>
                <c:pt idx="1">
                  <c:v>方案 2</c:v>
                </c:pt>
                <c:pt idx="2">
                  <c:v>方案 3</c:v>
                </c:pt>
                <c:pt idx="3">
                  <c:v>方案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70ad47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方案 1</c:v>
                </c:pt>
                <c:pt idx="1">
                  <c:v>方案 2</c:v>
                </c:pt>
                <c:pt idx="2">
                  <c:v>方案 3</c:v>
                </c:pt>
                <c:pt idx="3">
                  <c:v>方案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a5a5a5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ct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方案 1</c:v>
                </c:pt>
                <c:pt idx="1">
                  <c:v>方案 2</c:v>
                </c:pt>
                <c:pt idx="2">
                  <c:v>方案 3</c:v>
                </c:pt>
                <c:pt idx="3">
                  <c:v>方案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05"/>
        <c:overlap val="100"/>
        <c:axId val="17045429"/>
        <c:axId val="43983143"/>
      </c:barChart>
      <c:catAx>
        <c:axId val="17045429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43983143"/>
        <c:crosses val="autoZero"/>
        <c:auto val="1"/>
        <c:lblAlgn val="ctr"/>
        <c:lblOffset val="100"/>
        <c:noMultiLvlLbl val="0"/>
      </c:catAx>
      <c:valAx>
        <c:axId val="43983143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微软雅黑"/>
                <a:ea typeface="微软雅黑"/>
              </a:defRPr>
            </a:pPr>
          </a:p>
        </c:txPr>
        <c:crossAx val="17045429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5B8927-3709-46DF-AA13-377BA3582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A0256A-CA6B-4422-BA68-663932225F9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A54-4ACB-4EB0-9F98-E0634955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121-BA29-4CC3-BEBE-D29A9BF9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514-9457-4354-99A6-A6B65476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570-5E72-44C2-A868-FBCBDCA9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080-B724-457B-B778-35BDBEAD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57A-CB28-4F62-BE77-7B92A5F7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8FD-9D1C-4683-855C-46B8DC8D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3A4E-86C7-407E-BE2D-9B32476D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CB7-26F0-4130-9D8F-CA619CD7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74F-0A56-4CD1-BD15-63FF71A0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39E-DF17-4EA5-8A59-5DF5C640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4B0-8CC9-4355-96CD-1952F2C8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15DC-A17F-4CC3-BDDB-26EC4D36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AC6D-6F5E-42DE-96AD-908E6E24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B732-9AB4-441A-91D3-F89C0FD5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0D17-7238-4DD1-893F-7FAC0466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FD0E-174E-43D9-85AB-188BEDD0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0D63-B702-4B3F-A78E-B15232D8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A7F3-7CF0-4499-AAE9-643E2598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5B60-D8C7-4A11-87FB-5C02F413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5554-8806-46DB-85CB-0332A7F1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1576-B018-4DDA-BA6F-E80DBD4E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F20F-A296-4352-9061-1200866B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1031-7BFD-4762-917A-985F8BE8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0" b="6763"/>
          <a:stretch/>
        </p:blipFill>
        <p:spPr>
          <a:xfrm>
            <a:off x="183600" y="6162480"/>
            <a:ext cx="575640" cy="443160"/>
          </a:xfrm>
          <a:prstGeom prst="rect">
            <a:avLst/>
          </a:prstGeom>
          <a:ln w="0">
            <a:noFill/>
          </a:ln>
        </p:spPr>
      </p:pic>
      <p:sp>
        <p:nvSpPr>
          <p:cNvPr id="1" name="平行四边形 7"/>
          <p:cNvSpPr/>
          <p:nvPr/>
        </p:nvSpPr>
        <p:spPr>
          <a:xfrm flipH="1" rot="16200000">
            <a:off x="2554560" y="-1142640"/>
            <a:ext cx="4033800" cy="9143640"/>
          </a:xfrm>
          <a:prstGeom prst="parallelogram">
            <a:avLst>
              <a:gd name="adj" fmla="val 15984"/>
            </a:avLst>
          </a:prstGeom>
          <a:solidFill>
            <a:srgbClr val="365fa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任意多边形 6"/>
          <p:cNvSpPr/>
          <p:nvPr/>
        </p:nvSpPr>
        <p:spPr>
          <a:xfrm>
            <a:off x="0" y="0"/>
            <a:ext cx="9143640" cy="11372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137240"/>
              <a:gd name="textAreaBottom" fmla="*/ 1137600 h 1137240"/>
            </a:gdLst>
            <a:ahLst/>
            <a:rect l="textAreaLeft" t="textAreaTop" r="textAreaRight" b="textAreaBottom"/>
            <a:pathLst>
              <a:path w="9144000" h="1137600">
                <a:moveTo>
                  <a:pt x="0" y="0"/>
                </a:moveTo>
                <a:lnTo>
                  <a:pt x="9144000" y="0"/>
                </a:lnTo>
                <a:lnTo>
                  <a:pt x="9144000" y="1137600"/>
                </a:lnTo>
                <a:lnTo>
                  <a:pt x="0" y="1137600"/>
                </a:lnTo>
                <a:lnTo>
                  <a:pt x="0" y="1137599"/>
                </a:lnTo>
                <a:lnTo>
                  <a:pt x="9143999" y="1137599"/>
                </a:lnTo>
                <a:lnTo>
                  <a:pt x="9143999" y="927846"/>
                </a:lnTo>
                <a:lnTo>
                  <a:pt x="0" y="1137599"/>
                </a:lnTo>
                <a:close/>
              </a:path>
            </a:pathLst>
          </a:custGeom>
          <a:solidFill>
            <a:srgbClr val="365fa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97502A-8F92-4502-B011-051D4580AA43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985415-74BF-4900-9AEA-18F413D8AE07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6"/>
          <p:cNvSpPr/>
          <p:nvPr/>
        </p:nvSpPr>
        <p:spPr>
          <a:xfrm>
            <a:off x="111600" y="2671200"/>
            <a:ext cx="89204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72" strike="noStrike">
                <a:solidFill>
                  <a:srgbClr val="ffffff"/>
                </a:solidFill>
                <a:latin typeface="微软雅黑"/>
                <a:ea typeface="微软雅黑"/>
              </a:rPr>
              <a:t>简洁大气的商务汇报通用</a:t>
            </a:r>
            <a:r>
              <a:rPr b="0" lang="en-US" sz="4400" spc="-72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400" spc="-72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7"/>
          <p:cNvSpPr/>
          <p:nvPr/>
        </p:nvSpPr>
        <p:spPr>
          <a:xfrm>
            <a:off x="1569960" y="4185360"/>
            <a:ext cx="600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影屏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标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6165720" y="6382800"/>
            <a:ext cx="2873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015-07-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6165720" y="6096600"/>
            <a:ext cx="2873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报告人：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宝藏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1" name="矩形 7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个词语总结为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7"/>
          <p:cNvSpPr/>
          <p:nvPr/>
        </p:nvSpPr>
        <p:spPr>
          <a:xfrm>
            <a:off x="1005480" y="2433240"/>
            <a:ext cx="713268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总 结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w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4" name="矩形 7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片来引出怎么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4" descr=""/>
          <p:cNvPicPr/>
          <p:nvPr/>
        </p:nvPicPr>
        <p:blipFill>
          <a:blip r:embed="rId1"/>
          <a:stretch/>
        </p:blipFill>
        <p:spPr>
          <a:xfrm>
            <a:off x="1399680" y="1753200"/>
            <a:ext cx="6344640" cy="4229640"/>
          </a:xfrm>
          <a:prstGeom prst="rect">
            <a:avLst/>
          </a:prstGeom>
          <a:ln w="0">
            <a:noFill/>
          </a:ln>
        </p:spPr>
      </p:pic>
      <p:sp>
        <p:nvSpPr>
          <p:cNvPr id="226" name="矩形 5"/>
          <p:cNvSpPr/>
          <p:nvPr/>
        </p:nvSpPr>
        <p:spPr>
          <a:xfrm>
            <a:off x="1399680" y="1753200"/>
            <a:ext cx="6344640" cy="4229640"/>
          </a:xfrm>
          <a:prstGeom prst="rect">
            <a:avLst/>
          </a:prstGeom>
          <a:solidFill>
            <a:schemeClr val="tx1">
              <a:alpha val="6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227" name="图片 6" descr=""/>
          <p:cNvPicPr/>
          <p:nvPr/>
        </p:nvPicPr>
        <p:blipFill>
          <a:blip r:embed="rId2"/>
          <a:stretch/>
        </p:blipFill>
        <p:spPr>
          <a:xfrm>
            <a:off x="1399680" y="1753200"/>
            <a:ext cx="6344640" cy="4229640"/>
          </a:xfrm>
          <a:prstGeom prst="rect">
            <a:avLst/>
          </a:prstGeom>
          <a:ln w="0">
            <a:noFill/>
          </a:ln>
        </p:spPr>
      </p:pic>
      <p:sp>
        <p:nvSpPr>
          <p:cNvPr id="228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w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0" name="矩形 7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文字说明整个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8"/>
          <p:cNvSpPr/>
          <p:nvPr/>
        </p:nvSpPr>
        <p:spPr>
          <a:xfrm>
            <a:off x="1134000" y="2138760"/>
            <a:ext cx="7132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365faa"/>
                </a:solidFill>
                <a:latin typeface="微软雅黑"/>
                <a:ea typeface="微软雅黑"/>
              </a:rPr>
              <a:t>目标：</a:t>
            </a: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找到最优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9"/>
          <p:cNvSpPr/>
          <p:nvPr/>
        </p:nvSpPr>
        <p:spPr>
          <a:xfrm>
            <a:off x="1134000" y="3063600"/>
            <a:ext cx="7132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365faa"/>
                </a:solidFill>
                <a:latin typeface="微软雅黑"/>
                <a:ea typeface="微软雅黑"/>
              </a:rPr>
              <a:t>难点：</a:t>
            </a: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时间复杂度，局部最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0"/>
          <p:cNvSpPr/>
          <p:nvPr/>
        </p:nvSpPr>
        <p:spPr>
          <a:xfrm>
            <a:off x="1134000" y="4912920"/>
            <a:ext cx="7132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365faa"/>
                </a:solidFill>
                <a:latin typeface="微软雅黑"/>
                <a:ea typeface="微软雅黑"/>
              </a:rPr>
              <a:t>验证：</a:t>
            </a: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与其他方法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1"/>
          <p:cNvSpPr/>
          <p:nvPr/>
        </p:nvSpPr>
        <p:spPr>
          <a:xfrm>
            <a:off x="1134000" y="3988080"/>
            <a:ext cx="7132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365faa"/>
                </a:solidFill>
                <a:latin typeface="微软雅黑 Light"/>
                <a:ea typeface="微软雅黑 Light"/>
              </a:rPr>
              <a:t>方法：</a:t>
            </a: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优化数据结构，找次优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Objective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6" name="矩形 16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来说明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2" descr=""/>
          <p:cNvPicPr/>
          <p:nvPr/>
        </p:nvPicPr>
        <p:blipFill>
          <a:blip r:embed="rId1"/>
          <a:stretch/>
        </p:blipFill>
        <p:spPr>
          <a:xfrm>
            <a:off x="1486440" y="1753200"/>
            <a:ext cx="6171120" cy="42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Objective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239" name="图表 15"/>
          <p:cNvGraphicFramePr/>
          <p:nvPr/>
        </p:nvGraphicFramePr>
        <p:xfrm>
          <a:off x="1396800" y="1753200"/>
          <a:ext cx="6350040" cy="422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40" name="矩形 16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表来说明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fficulty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点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矩形 16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几个关键字来说明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5"/>
          <p:cNvGrpSpPr/>
          <p:nvPr/>
        </p:nvGrpSpPr>
        <p:grpSpPr>
          <a:xfrm>
            <a:off x="1382760" y="2561760"/>
            <a:ext cx="2576520" cy="2576520"/>
            <a:chOff x="1382760" y="2561760"/>
            <a:chExt cx="2576520" cy="2576520"/>
          </a:xfrm>
        </p:grpSpPr>
        <p:sp>
          <p:nvSpPr>
            <p:cNvPr id="244" name="椭圆 3"/>
            <p:cNvSpPr/>
            <p:nvPr/>
          </p:nvSpPr>
          <p:spPr>
            <a:xfrm>
              <a:off x="1382760" y="2561760"/>
              <a:ext cx="2576520" cy="2576520"/>
            </a:xfrm>
            <a:prstGeom prst="ellipse">
              <a:avLst/>
            </a:prstGeom>
            <a:solidFill>
              <a:srgbClr val="365fa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5" name="文本框 4"/>
            <p:cNvSpPr/>
            <p:nvPr/>
          </p:nvSpPr>
          <p:spPr>
            <a:xfrm>
              <a:off x="1654920" y="3496320"/>
              <a:ext cx="2032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复杂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组合 8"/>
          <p:cNvGrpSpPr/>
          <p:nvPr/>
        </p:nvGrpSpPr>
        <p:grpSpPr>
          <a:xfrm>
            <a:off x="5184000" y="2561760"/>
            <a:ext cx="2576520" cy="2576520"/>
            <a:chOff x="5184000" y="2561760"/>
            <a:chExt cx="2576520" cy="2576520"/>
          </a:xfrm>
        </p:grpSpPr>
        <p:sp>
          <p:nvSpPr>
            <p:cNvPr id="247" name="椭圆 6"/>
            <p:cNvSpPr/>
            <p:nvPr/>
          </p:nvSpPr>
          <p:spPr>
            <a:xfrm>
              <a:off x="5184000" y="2561760"/>
              <a:ext cx="2576520" cy="2576520"/>
            </a:xfrm>
            <a:prstGeom prst="ellipse">
              <a:avLst/>
            </a:prstGeom>
            <a:solidFill>
              <a:srgbClr val="365fa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48" name="文本框 7"/>
            <p:cNvSpPr/>
            <p:nvPr/>
          </p:nvSpPr>
          <p:spPr>
            <a:xfrm>
              <a:off x="5456160" y="3496320"/>
              <a:ext cx="2032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精确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fficulty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难点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段话来说明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3"/>
          <p:cNvSpPr/>
          <p:nvPr/>
        </p:nvSpPr>
        <p:spPr>
          <a:xfrm>
            <a:off x="1005480" y="3038040"/>
            <a:ext cx="71326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复杂度和精确度一般不可能同时达到最优，所以需要在复杂度和精确度之间找到一个平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3" name="矩形 16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来引出解决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2" descr=""/>
          <p:cNvPicPr/>
          <p:nvPr/>
        </p:nvPicPr>
        <p:blipFill>
          <a:blip r:embed="rId1"/>
          <a:stretch/>
        </p:blipFill>
        <p:spPr>
          <a:xfrm>
            <a:off x="1579680" y="1753200"/>
            <a:ext cx="5984640" cy="4229640"/>
          </a:xfrm>
          <a:prstGeom prst="rect">
            <a:avLst/>
          </a:prstGeom>
          <a:ln w="0">
            <a:noFill/>
          </a:ln>
        </p:spPr>
      </p:pic>
      <p:sp>
        <p:nvSpPr>
          <p:cNvPr id="255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矩形 16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阐述别人的解决方案优缺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表格 3"/>
          <p:cNvGraphicFramePr/>
          <p:nvPr/>
        </p:nvGraphicFramePr>
        <p:xfrm>
          <a:off x="1386000" y="1753200"/>
          <a:ext cx="6371640" cy="414000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  <a:gridCol w="2124000"/>
              </a:tblGrid>
              <a:tr h="82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400" spc="-1" strike="noStrike">
                          <a:solidFill>
                            <a:schemeClr val="accent1"/>
                          </a:solidFill>
                          <a:latin typeface="微软雅黑"/>
                          <a:ea typeface="微软雅黑"/>
                        </a:rPr>
                        <a:t>方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365fa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400" spc="-1" strike="noStrike">
                          <a:solidFill>
                            <a:schemeClr val="accent1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365faa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400" spc="-1" strike="noStrike">
                          <a:solidFill>
                            <a:schemeClr val="accent1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365faa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方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优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/>
                    </a:solidFill>
                  </a:tcPr>
                </a:tc>
              </a:tr>
              <a:tr h="82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方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优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缺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方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缺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chemeClr val="accent1"/>
                    </a:solidFill>
                  </a:tcPr>
                </a:tc>
              </a:tr>
              <a:tr h="82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方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365fa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优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365faa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缺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软雅黑 Light"/>
                          <a:ea typeface="微软雅黑 Light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365fa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0" name="矩形 16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个流程图说明解决方案步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1"/>
          <p:cNvGrpSpPr/>
          <p:nvPr/>
        </p:nvGrpSpPr>
        <p:grpSpPr>
          <a:xfrm>
            <a:off x="687600" y="2002680"/>
            <a:ext cx="5598000" cy="1314720"/>
            <a:chOff x="687600" y="2002680"/>
            <a:chExt cx="5598000" cy="1314720"/>
          </a:xfrm>
        </p:grpSpPr>
        <p:sp>
          <p:nvSpPr>
            <p:cNvPr id="262" name="椭圆 2"/>
            <p:cNvSpPr/>
            <p:nvPr/>
          </p:nvSpPr>
          <p:spPr>
            <a:xfrm>
              <a:off x="687600" y="2002680"/>
              <a:ext cx="1314720" cy="1314720"/>
            </a:xfrm>
            <a:prstGeom prst="ellipse">
              <a:avLst/>
            </a:prstGeom>
            <a:solidFill>
              <a:srgbClr val="365fa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步骤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5"/>
            <p:cNvSpPr/>
            <p:nvPr/>
          </p:nvSpPr>
          <p:spPr>
            <a:xfrm>
              <a:off x="2829240" y="2002680"/>
              <a:ext cx="1314720" cy="1314720"/>
            </a:xfrm>
            <a:prstGeom prst="ellipse">
              <a:avLst/>
            </a:prstGeom>
            <a:solidFill>
              <a:srgbClr val="365fa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步骤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6"/>
            <p:cNvSpPr/>
            <p:nvPr/>
          </p:nvSpPr>
          <p:spPr>
            <a:xfrm>
              <a:off x="4970880" y="2002680"/>
              <a:ext cx="1314720" cy="1314720"/>
            </a:xfrm>
            <a:prstGeom prst="ellipse">
              <a:avLst/>
            </a:prstGeom>
            <a:solidFill>
              <a:srgbClr val="365fa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步骤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椭圆 7"/>
          <p:cNvSpPr/>
          <p:nvPr/>
        </p:nvSpPr>
        <p:spPr>
          <a:xfrm>
            <a:off x="7020360" y="3174120"/>
            <a:ext cx="1314720" cy="1314720"/>
          </a:xfrm>
          <a:prstGeom prst="ellipse">
            <a:avLst/>
          </a:prstGeom>
          <a:solidFill>
            <a:srgbClr val="365fa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步骤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17"/>
          <p:cNvGrpSpPr/>
          <p:nvPr/>
        </p:nvGrpSpPr>
        <p:grpSpPr>
          <a:xfrm>
            <a:off x="1758600" y="4345200"/>
            <a:ext cx="5598000" cy="1314720"/>
            <a:chOff x="1758600" y="4345200"/>
            <a:chExt cx="5598000" cy="1314720"/>
          </a:xfrm>
        </p:grpSpPr>
        <p:sp>
          <p:nvSpPr>
            <p:cNvPr id="267" name="椭圆 13"/>
            <p:cNvSpPr/>
            <p:nvPr/>
          </p:nvSpPr>
          <p:spPr>
            <a:xfrm>
              <a:off x="1758600" y="4345200"/>
              <a:ext cx="1314720" cy="1314720"/>
            </a:xfrm>
            <a:prstGeom prst="ellipse">
              <a:avLst/>
            </a:prstGeom>
            <a:solidFill>
              <a:srgbClr val="365fa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步骤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14"/>
            <p:cNvSpPr/>
            <p:nvPr/>
          </p:nvSpPr>
          <p:spPr>
            <a:xfrm>
              <a:off x="3900240" y="4345200"/>
              <a:ext cx="1314720" cy="1314720"/>
            </a:xfrm>
            <a:prstGeom prst="ellipse">
              <a:avLst/>
            </a:prstGeom>
            <a:solidFill>
              <a:srgbClr val="365fa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步骤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15"/>
            <p:cNvSpPr/>
            <p:nvPr/>
          </p:nvSpPr>
          <p:spPr>
            <a:xfrm>
              <a:off x="6041880" y="4345200"/>
              <a:ext cx="1314720" cy="1314720"/>
            </a:xfrm>
            <a:prstGeom prst="ellipse">
              <a:avLst/>
            </a:prstGeom>
            <a:solidFill>
              <a:srgbClr val="365fa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步骤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0" name="直接箭头连接符 19"/>
          <p:cNvCxnSpPr/>
          <p:nvPr/>
        </p:nvCxnSpPr>
        <p:spPr>
          <a:xfrm>
            <a:off x="2106000" y="2667600"/>
            <a:ext cx="599760" cy="360"/>
          </a:xfrm>
          <a:prstGeom prst="straightConnector1">
            <a:avLst/>
          </a:prstGeom>
          <a:ln w="19050">
            <a:solidFill>
              <a:srgbClr val="000000">
                <a:lumMod val="65000"/>
                <a:lumOff val="35000"/>
              </a:srgbClr>
            </a:solidFill>
            <a:tailEnd len="med" type="arrow" w="med"/>
          </a:ln>
        </p:spPr>
      </p:cxnSp>
      <p:cxnSp>
        <p:nvCxnSpPr>
          <p:cNvPr id="271" name="直接箭头连接符 20"/>
          <p:cNvCxnSpPr/>
          <p:nvPr/>
        </p:nvCxnSpPr>
        <p:spPr>
          <a:xfrm>
            <a:off x="4259880" y="2652480"/>
            <a:ext cx="599400" cy="360"/>
          </a:xfrm>
          <a:prstGeom prst="straightConnector1">
            <a:avLst/>
          </a:prstGeom>
          <a:ln w="19050">
            <a:solidFill>
              <a:srgbClr val="000000">
                <a:lumMod val="65000"/>
                <a:lumOff val="35000"/>
              </a:srgbClr>
            </a:solidFill>
            <a:tailEnd len="med" type="arrow" w="med"/>
          </a:ln>
        </p:spPr>
      </p:cxnSp>
      <p:cxnSp>
        <p:nvCxnSpPr>
          <p:cNvPr id="272" name="直接箭头连接符 21"/>
          <p:cNvCxnSpPr/>
          <p:nvPr/>
        </p:nvCxnSpPr>
        <p:spPr>
          <a:xfrm flipH="1">
            <a:off x="3201840" y="5002560"/>
            <a:ext cx="599400" cy="360"/>
          </a:xfrm>
          <a:prstGeom prst="straightConnector1">
            <a:avLst/>
          </a:prstGeom>
          <a:ln w="19050">
            <a:solidFill>
              <a:srgbClr val="000000">
                <a:lumMod val="65000"/>
                <a:lumOff val="35000"/>
              </a:srgbClr>
            </a:solidFill>
            <a:tailEnd len="med" type="arrow" w="med"/>
          </a:ln>
        </p:spPr>
      </p:cxnSp>
      <p:cxnSp>
        <p:nvCxnSpPr>
          <p:cNvPr id="273" name="直接箭头连接符 22"/>
          <p:cNvCxnSpPr/>
          <p:nvPr/>
        </p:nvCxnSpPr>
        <p:spPr>
          <a:xfrm flipH="1">
            <a:off x="5355360" y="4987440"/>
            <a:ext cx="599760" cy="360"/>
          </a:xfrm>
          <a:prstGeom prst="straightConnector1">
            <a:avLst/>
          </a:prstGeom>
          <a:ln w="19050">
            <a:solidFill>
              <a:srgbClr val="000000">
                <a:lumMod val="65000"/>
                <a:lumOff val="35000"/>
              </a:srgbClr>
            </a:solidFill>
            <a:tailEnd len="med" type="arrow" w="med"/>
          </a:ln>
        </p:spPr>
      </p:cxnSp>
      <p:cxnSp>
        <p:nvCxnSpPr>
          <p:cNvPr id="274" name="直接箭头连接符 23"/>
          <p:cNvCxnSpPr/>
          <p:nvPr/>
        </p:nvCxnSpPr>
        <p:spPr>
          <a:xfrm>
            <a:off x="6368040" y="2667600"/>
            <a:ext cx="728280" cy="589680"/>
          </a:xfrm>
          <a:prstGeom prst="straightConnector1">
            <a:avLst/>
          </a:prstGeom>
          <a:ln w="19050">
            <a:solidFill>
              <a:srgbClr val="000000">
                <a:lumMod val="65000"/>
                <a:lumOff val="35000"/>
              </a:srgbClr>
            </a:solidFill>
            <a:tailEnd len="med" type="arrow" w="med"/>
          </a:ln>
        </p:spPr>
      </p:cxnSp>
      <p:cxnSp>
        <p:nvCxnSpPr>
          <p:cNvPr id="275" name="直接箭头连接符 25"/>
          <p:cNvCxnSpPr/>
          <p:nvPr/>
        </p:nvCxnSpPr>
        <p:spPr>
          <a:xfrm flipH="1">
            <a:off x="7428240" y="4594320"/>
            <a:ext cx="267120" cy="393480"/>
          </a:xfrm>
          <a:prstGeom prst="straightConnector1">
            <a:avLst/>
          </a:prstGeom>
          <a:ln w="19050">
            <a:solidFill>
              <a:srgbClr val="000000">
                <a:lumMod val="65000"/>
                <a:lumOff val="35000"/>
              </a:srgbClr>
            </a:solidFill>
            <a:tailEnd len="med" type="arrow" w="med"/>
          </a:ln>
        </p:spPr>
      </p:cxnSp>
      <p:cxnSp>
        <p:nvCxnSpPr>
          <p:cNvPr id="276" name="直接箭头连接符 27"/>
          <p:cNvCxnSpPr/>
          <p:nvPr/>
        </p:nvCxnSpPr>
        <p:spPr>
          <a:xfrm>
            <a:off x="3544920" y="3400560"/>
            <a:ext cx="2576520" cy="103572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dash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3" name="文本框 2"/>
          <p:cNvSpPr/>
          <p:nvPr/>
        </p:nvSpPr>
        <p:spPr>
          <a:xfrm>
            <a:off x="574200" y="2794680"/>
            <a:ext cx="3853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365faa"/>
                </a:solidFill>
                <a:latin typeface="微软雅黑"/>
                <a:ea typeface="微软雅黑"/>
              </a:rPr>
              <a:t>1. </a:t>
            </a:r>
            <a:r>
              <a:rPr b="0" lang="en-US" sz="4000" spc="-1" strike="noStrike">
                <a:solidFill>
                  <a:srgbClr val="365faa"/>
                </a:solidFill>
                <a:latin typeface="微软雅黑 Light"/>
                <a:ea typeface="微软雅黑 Light"/>
              </a:rPr>
              <a:t>What’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5"/>
          <p:cNvSpPr/>
          <p:nvPr/>
        </p:nvSpPr>
        <p:spPr>
          <a:xfrm>
            <a:off x="4715640" y="2794680"/>
            <a:ext cx="3853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365faa"/>
                </a:solidFill>
                <a:latin typeface="微软雅黑"/>
                <a:ea typeface="微软雅黑"/>
              </a:rPr>
              <a:t>2. </a:t>
            </a:r>
            <a:r>
              <a:rPr b="0" lang="en-US" sz="4000" spc="-1" strike="noStrike">
                <a:solidFill>
                  <a:srgbClr val="365faa"/>
                </a:solidFill>
                <a:latin typeface="微软雅黑 Light"/>
                <a:ea typeface="微软雅黑 Light"/>
              </a:rPr>
              <a:t>Why do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6"/>
          <p:cNvSpPr/>
          <p:nvPr/>
        </p:nvSpPr>
        <p:spPr>
          <a:xfrm>
            <a:off x="574200" y="4319280"/>
            <a:ext cx="3853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365faa"/>
                </a:solidFill>
                <a:latin typeface="微软雅黑"/>
                <a:ea typeface="微软雅黑"/>
              </a:rPr>
              <a:t>3. </a:t>
            </a:r>
            <a:r>
              <a:rPr b="0" lang="en-US" sz="4000" spc="-1" strike="noStrike">
                <a:solidFill>
                  <a:srgbClr val="365faa"/>
                </a:solidFill>
                <a:latin typeface="微软雅黑 Light"/>
                <a:ea typeface="微软雅黑 Light"/>
              </a:rPr>
              <a:t>How do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7"/>
          <p:cNvSpPr/>
          <p:nvPr/>
        </p:nvSpPr>
        <p:spPr>
          <a:xfrm>
            <a:off x="4715640" y="4319280"/>
            <a:ext cx="3853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365faa"/>
                </a:solidFill>
                <a:latin typeface="微软雅黑"/>
                <a:ea typeface="微软雅黑"/>
              </a:rPr>
              <a:t>4. </a:t>
            </a:r>
            <a:r>
              <a:rPr b="0" lang="en-US" sz="4000" spc="-1" strike="noStrike">
                <a:solidFill>
                  <a:srgbClr val="365faa"/>
                </a:solidFill>
                <a:latin typeface="微软雅黑 Light"/>
                <a:ea typeface="微软雅黑 Light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0"/>
          <p:cNvSpPr/>
          <p:nvPr/>
        </p:nvSpPr>
        <p:spPr>
          <a:xfrm>
            <a:off x="1156320" y="3424320"/>
            <a:ext cx="235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1"/>
          <p:cNvSpPr/>
          <p:nvPr/>
        </p:nvSpPr>
        <p:spPr>
          <a:xfrm>
            <a:off x="5323680" y="3424320"/>
            <a:ext cx="235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3"/>
          <p:cNvSpPr/>
          <p:nvPr/>
        </p:nvSpPr>
        <p:spPr>
          <a:xfrm>
            <a:off x="1155960" y="4949640"/>
            <a:ext cx="235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怎么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4"/>
          <p:cNvSpPr/>
          <p:nvPr/>
        </p:nvSpPr>
        <p:spPr>
          <a:xfrm>
            <a:off x="5322600" y="4949640"/>
            <a:ext cx="2350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Verify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验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矩形 16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阐明用于验证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4"/>
          <p:cNvGrpSpPr/>
          <p:nvPr/>
        </p:nvGrpSpPr>
        <p:grpSpPr>
          <a:xfrm>
            <a:off x="1382760" y="2561760"/>
            <a:ext cx="2576520" cy="2576520"/>
            <a:chOff x="1382760" y="2561760"/>
            <a:chExt cx="2576520" cy="2576520"/>
          </a:xfrm>
        </p:grpSpPr>
        <p:sp>
          <p:nvSpPr>
            <p:cNvPr id="280" name="椭圆 5"/>
            <p:cNvSpPr/>
            <p:nvPr/>
          </p:nvSpPr>
          <p:spPr>
            <a:xfrm>
              <a:off x="1382760" y="2561760"/>
              <a:ext cx="2576520" cy="2576520"/>
            </a:xfrm>
            <a:prstGeom prst="ellipse">
              <a:avLst/>
            </a:prstGeom>
            <a:solidFill>
              <a:srgbClr val="365fa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1" name="文本框 6"/>
            <p:cNvSpPr/>
            <p:nvPr/>
          </p:nvSpPr>
          <p:spPr>
            <a:xfrm>
              <a:off x="1654920" y="3496320"/>
              <a:ext cx="2032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方法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7"/>
          <p:cNvGrpSpPr/>
          <p:nvPr/>
        </p:nvGrpSpPr>
        <p:grpSpPr>
          <a:xfrm>
            <a:off x="5184000" y="2561760"/>
            <a:ext cx="2576520" cy="2576520"/>
            <a:chOff x="5184000" y="2561760"/>
            <a:chExt cx="2576520" cy="2576520"/>
          </a:xfrm>
        </p:grpSpPr>
        <p:sp>
          <p:nvSpPr>
            <p:cNvPr id="283" name="椭圆 8"/>
            <p:cNvSpPr/>
            <p:nvPr/>
          </p:nvSpPr>
          <p:spPr>
            <a:xfrm>
              <a:off x="5184000" y="2561760"/>
              <a:ext cx="2576520" cy="257652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4" name="文本框 10"/>
            <p:cNvSpPr/>
            <p:nvPr/>
          </p:nvSpPr>
          <p:spPr>
            <a:xfrm>
              <a:off x="5456160" y="3496320"/>
              <a:ext cx="2032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365faa"/>
                  </a:solidFill>
                  <a:latin typeface="微软雅黑 Light"/>
                  <a:ea typeface="微软雅黑 Light"/>
                </a:rPr>
                <a:t>方法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Verify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验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矩形 16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表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图表 9"/>
          <p:cNvGraphicFramePr/>
          <p:nvPr/>
        </p:nvGraphicFramePr>
        <p:xfrm>
          <a:off x="1396800" y="1753200"/>
          <a:ext cx="6350040" cy="422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clusion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论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9" name="矩形 3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段话来展示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"/>
          <p:cNvSpPr/>
          <p:nvPr/>
        </p:nvSpPr>
        <p:spPr>
          <a:xfrm>
            <a:off x="1005480" y="3038040"/>
            <a:ext cx="7132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我们在复杂度和精确度之间找到了一个平衡，并且使用方案</a:t>
            </a:r>
            <a:r>
              <a:rPr b="0" lang="en-US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，在保证精确度的情况下，进一步降低复杂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clusion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论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2" name="矩形 3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表来展示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图表 31"/>
          <p:cNvGraphicFramePr/>
          <p:nvPr/>
        </p:nvGraphicFramePr>
        <p:xfrm>
          <a:off x="1396800" y="1753200"/>
          <a:ext cx="6350040" cy="422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clusion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论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矩形 3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表来展示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图表 6"/>
          <p:cNvGraphicFramePr/>
          <p:nvPr/>
        </p:nvGraphicFramePr>
        <p:xfrm>
          <a:off x="1396800" y="1753200"/>
          <a:ext cx="6350040" cy="422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文本框 493"/>
          <p:cNvSpPr/>
          <p:nvPr/>
        </p:nvSpPr>
        <p:spPr>
          <a:xfrm>
            <a:off x="3552480" y="3522960"/>
            <a:ext cx="2131920" cy="106920"/>
          </a:xfrm>
          <a:custGeom>
            <a:avLst/>
            <a:gdLst>
              <a:gd name="textAreaLeft" fmla="*/ 0 w 2131920"/>
              <a:gd name="textAreaRight" fmla="*/ 2132280 w 2131920"/>
              <a:gd name="textAreaTop" fmla="*/ 0 h 106920"/>
              <a:gd name="textAreaBottom" fmla="*/ 107280 h 106920"/>
            </a:gdLst>
            <a:ahLst/>
            <a:rect l="textAreaLeft" t="textAreaTop" r="textAreaRight" b="textAreaBottom"/>
            <a:pathLst>
              <a:path w="2132398" h="107406">
                <a:moveTo>
                  <a:pt x="2075638" y="0"/>
                </a:moveTo>
                <a:lnTo>
                  <a:pt x="2132398" y="0"/>
                </a:lnTo>
                <a:lnTo>
                  <a:pt x="2123968" y="41069"/>
                </a:lnTo>
                <a:cubicBezTo>
                  <a:pt x="2117199" y="55384"/>
                  <a:pt x="2107046" y="67526"/>
                  <a:pt x="2093509" y="77496"/>
                </a:cubicBezTo>
                <a:cubicBezTo>
                  <a:pt x="2066435" y="97436"/>
                  <a:pt x="2028842" y="107406"/>
                  <a:pt x="1980730" y="107406"/>
                </a:cubicBezTo>
                <a:cubicBezTo>
                  <a:pt x="1963900" y="107406"/>
                  <a:pt x="1944280" y="105073"/>
                  <a:pt x="1921871" y="100408"/>
                </a:cubicBezTo>
                <a:cubicBezTo>
                  <a:pt x="1899461" y="95744"/>
                  <a:pt x="1883134" y="89935"/>
                  <a:pt x="1872890" y="82984"/>
                </a:cubicBezTo>
                <a:lnTo>
                  <a:pt x="1872890" y="20420"/>
                </a:lnTo>
                <a:cubicBezTo>
                  <a:pt x="1885878" y="31762"/>
                  <a:pt x="1903257" y="41092"/>
                  <a:pt x="1925026" y="48409"/>
                </a:cubicBezTo>
                <a:cubicBezTo>
                  <a:pt x="1946796" y="55727"/>
                  <a:pt x="1967467" y="59385"/>
                  <a:pt x="1987041" y="59385"/>
                </a:cubicBezTo>
                <a:cubicBezTo>
                  <a:pt x="2031769" y="59385"/>
                  <a:pt x="2059724" y="47449"/>
                  <a:pt x="2070905" y="23576"/>
                </a:cubicBezTo>
                <a:close/>
                <a:moveTo>
                  <a:pt x="1684532" y="0"/>
                </a:moveTo>
                <a:lnTo>
                  <a:pt x="1755902" y="0"/>
                </a:lnTo>
                <a:lnTo>
                  <a:pt x="1842613" y="100271"/>
                </a:lnTo>
                <a:lnTo>
                  <a:pt x="1767427" y="100271"/>
                </a:lnTo>
                <a:close/>
                <a:moveTo>
                  <a:pt x="1540222" y="0"/>
                </a:moveTo>
                <a:lnTo>
                  <a:pt x="1595102" y="0"/>
                </a:lnTo>
                <a:lnTo>
                  <a:pt x="1595102" y="100271"/>
                </a:lnTo>
                <a:lnTo>
                  <a:pt x="1540222" y="100271"/>
                </a:lnTo>
                <a:close/>
                <a:moveTo>
                  <a:pt x="1300285" y="0"/>
                </a:moveTo>
                <a:lnTo>
                  <a:pt x="1359820" y="0"/>
                </a:lnTo>
                <a:lnTo>
                  <a:pt x="1359893" y="114"/>
                </a:lnTo>
                <a:cubicBezTo>
                  <a:pt x="1369772" y="15481"/>
                  <a:pt x="1375626" y="25268"/>
                  <a:pt x="1377455" y="29475"/>
                </a:cubicBezTo>
                <a:lnTo>
                  <a:pt x="1378553" y="29475"/>
                </a:lnTo>
                <a:cubicBezTo>
                  <a:pt x="1377638" y="23438"/>
                  <a:pt x="1376952" y="15252"/>
                  <a:pt x="1376495" y="4916"/>
                </a:cubicBezTo>
                <a:lnTo>
                  <a:pt x="1376405" y="0"/>
                </a:lnTo>
                <a:lnTo>
                  <a:pt x="1430140" y="0"/>
                </a:lnTo>
                <a:lnTo>
                  <a:pt x="1430140" y="100271"/>
                </a:lnTo>
                <a:lnTo>
                  <a:pt x="1365107" y="100271"/>
                </a:lnTo>
                <a:close/>
                <a:moveTo>
                  <a:pt x="1083022" y="0"/>
                </a:moveTo>
                <a:lnTo>
                  <a:pt x="1137354" y="0"/>
                </a:lnTo>
                <a:lnTo>
                  <a:pt x="1137354" y="100271"/>
                </a:lnTo>
                <a:lnTo>
                  <a:pt x="1083022" y="100271"/>
                </a:lnTo>
                <a:close/>
                <a:moveTo>
                  <a:pt x="918912" y="0"/>
                </a:moveTo>
                <a:lnTo>
                  <a:pt x="978727" y="0"/>
                </a:lnTo>
                <a:lnTo>
                  <a:pt x="1016919" y="100271"/>
                </a:lnTo>
                <a:lnTo>
                  <a:pt x="956276" y="100271"/>
                </a:lnTo>
                <a:close/>
                <a:moveTo>
                  <a:pt x="672596" y="0"/>
                </a:moveTo>
                <a:lnTo>
                  <a:pt x="730283" y="0"/>
                </a:lnTo>
                <a:lnTo>
                  <a:pt x="695046" y="100271"/>
                </a:lnTo>
                <a:lnTo>
                  <a:pt x="634403" y="100271"/>
                </a:lnTo>
                <a:close/>
                <a:moveTo>
                  <a:pt x="514834" y="0"/>
                </a:moveTo>
                <a:lnTo>
                  <a:pt x="569714" y="0"/>
                </a:lnTo>
                <a:lnTo>
                  <a:pt x="569714" y="100271"/>
                </a:lnTo>
                <a:lnTo>
                  <a:pt x="514834" y="100271"/>
                </a:lnTo>
                <a:close/>
                <a:moveTo>
                  <a:pt x="244822" y="0"/>
                </a:moveTo>
                <a:lnTo>
                  <a:pt x="299702" y="0"/>
                </a:lnTo>
                <a:lnTo>
                  <a:pt x="299702" y="100271"/>
                </a:lnTo>
                <a:lnTo>
                  <a:pt x="244822" y="100271"/>
                </a:lnTo>
                <a:close/>
                <a:moveTo>
                  <a:pt x="0" y="0"/>
                </a:moveTo>
                <a:lnTo>
                  <a:pt x="55155" y="0"/>
                </a:lnTo>
                <a:lnTo>
                  <a:pt x="55155" y="100271"/>
                </a:lnTo>
                <a:lnTo>
                  <a:pt x="0" y="100271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t">
            <a:noAutofit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98" name="文本框 494"/>
          <p:cNvSpPr/>
          <p:nvPr/>
        </p:nvSpPr>
        <p:spPr>
          <a:xfrm>
            <a:off x="3430440" y="3191040"/>
            <a:ext cx="2237760" cy="143280"/>
          </a:xfrm>
          <a:custGeom>
            <a:avLst/>
            <a:gdLst>
              <a:gd name="textAreaLeft" fmla="*/ 0 w 2237760"/>
              <a:gd name="textAreaRight" fmla="*/ 2238120 w 2237760"/>
              <a:gd name="textAreaTop" fmla="*/ 0 h 143280"/>
              <a:gd name="textAreaBottom" fmla="*/ 143640 h 143280"/>
            </a:gdLst>
            <a:ahLst/>
            <a:rect l="textAreaLeft" t="textAreaTop" r="textAreaRight" b="textAreaBottom"/>
            <a:pathLst>
              <a:path w="2238119" h="143653">
                <a:moveTo>
                  <a:pt x="1884048" y="7135"/>
                </a:moveTo>
                <a:lnTo>
                  <a:pt x="1951825" y="7135"/>
                </a:lnTo>
                <a:lnTo>
                  <a:pt x="1832394" y="143653"/>
                </a:lnTo>
                <a:lnTo>
                  <a:pt x="1769876" y="143653"/>
                </a:lnTo>
                <a:close/>
                <a:moveTo>
                  <a:pt x="1662331" y="7135"/>
                </a:moveTo>
                <a:lnTo>
                  <a:pt x="1717211" y="7135"/>
                </a:lnTo>
                <a:lnTo>
                  <a:pt x="1717211" y="143653"/>
                </a:lnTo>
                <a:lnTo>
                  <a:pt x="1662331" y="143653"/>
                </a:lnTo>
                <a:close/>
                <a:moveTo>
                  <a:pt x="1497918" y="7135"/>
                </a:moveTo>
                <a:lnTo>
                  <a:pt x="1552249" y="7135"/>
                </a:lnTo>
                <a:lnTo>
                  <a:pt x="1552249" y="143653"/>
                </a:lnTo>
                <a:lnTo>
                  <a:pt x="1497918" y="143653"/>
                </a:lnTo>
                <a:close/>
                <a:moveTo>
                  <a:pt x="1205131" y="7135"/>
                </a:moveTo>
                <a:lnTo>
                  <a:pt x="1274006" y="7135"/>
                </a:lnTo>
                <a:lnTo>
                  <a:pt x="1361406" y="143653"/>
                </a:lnTo>
                <a:lnTo>
                  <a:pt x="1300689" y="143653"/>
                </a:lnTo>
                <a:lnTo>
                  <a:pt x="1273457" y="101529"/>
                </a:lnTo>
                <a:cubicBezTo>
                  <a:pt x="1267420" y="92199"/>
                  <a:pt x="1262572" y="82961"/>
                  <a:pt x="1258914" y="73814"/>
                </a:cubicBezTo>
                <a:lnTo>
                  <a:pt x="1257267" y="73814"/>
                </a:lnTo>
                <a:cubicBezTo>
                  <a:pt x="1258731" y="83327"/>
                  <a:pt x="1259463" y="103175"/>
                  <a:pt x="1259463" y="133360"/>
                </a:cubicBezTo>
                <a:lnTo>
                  <a:pt x="1259463" y="143653"/>
                </a:lnTo>
                <a:lnTo>
                  <a:pt x="1205131" y="143653"/>
                </a:lnTo>
                <a:close/>
                <a:moveTo>
                  <a:pt x="918409" y="7135"/>
                </a:moveTo>
                <a:lnTo>
                  <a:pt x="977131" y="7135"/>
                </a:lnTo>
                <a:lnTo>
                  <a:pt x="1029130" y="143653"/>
                </a:lnTo>
                <a:lnTo>
                  <a:pt x="972902" y="143653"/>
                </a:lnTo>
                <a:lnTo>
                  <a:pt x="953807" y="91102"/>
                </a:lnTo>
                <a:cubicBezTo>
                  <a:pt x="951795" y="85431"/>
                  <a:pt x="949599" y="75552"/>
                  <a:pt x="947221" y="61466"/>
                </a:cubicBezTo>
                <a:lnTo>
                  <a:pt x="945849" y="61466"/>
                </a:lnTo>
                <a:cubicBezTo>
                  <a:pt x="943837" y="74272"/>
                  <a:pt x="941550" y="84150"/>
                  <a:pt x="938989" y="91102"/>
                </a:cubicBezTo>
                <a:lnTo>
                  <a:pt x="920058" y="143653"/>
                </a:lnTo>
                <a:lnTo>
                  <a:pt x="866411" y="143653"/>
                </a:lnTo>
                <a:close/>
                <a:moveTo>
                  <a:pt x="636943" y="7135"/>
                </a:moveTo>
                <a:lnTo>
                  <a:pt x="691823" y="7135"/>
                </a:lnTo>
                <a:lnTo>
                  <a:pt x="691823" y="143653"/>
                </a:lnTo>
                <a:lnTo>
                  <a:pt x="636943" y="143653"/>
                </a:lnTo>
                <a:close/>
                <a:moveTo>
                  <a:pt x="366931" y="7135"/>
                </a:moveTo>
                <a:lnTo>
                  <a:pt x="421811" y="7135"/>
                </a:lnTo>
                <a:lnTo>
                  <a:pt x="421811" y="143653"/>
                </a:lnTo>
                <a:lnTo>
                  <a:pt x="366931" y="143653"/>
                </a:lnTo>
                <a:close/>
                <a:moveTo>
                  <a:pt x="0" y="7135"/>
                </a:moveTo>
                <a:lnTo>
                  <a:pt x="299921" y="7135"/>
                </a:lnTo>
                <a:lnTo>
                  <a:pt x="299921" y="55978"/>
                </a:lnTo>
                <a:lnTo>
                  <a:pt x="177264" y="55978"/>
                </a:lnTo>
                <a:lnTo>
                  <a:pt x="177264" y="143653"/>
                </a:lnTo>
                <a:lnTo>
                  <a:pt x="122109" y="143653"/>
                </a:lnTo>
                <a:lnTo>
                  <a:pt x="122109" y="55978"/>
                </a:lnTo>
                <a:lnTo>
                  <a:pt x="0" y="55978"/>
                </a:lnTo>
                <a:close/>
                <a:moveTo>
                  <a:pt x="2145097" y="0"/>
                </a:moveTo>
                <a:cubicBezTo>
                  <a:pt x="2187355" y="0"/>
                  <a:pt x="2218362" y="5122"/>
                  <a:pt x="2238119" y="15367"/>
                </a:cubicBezTo>
                <a:lnTo>
                  <a:pt x="2238119" y="75186"/>
                </a:lnTo>
                <a:cubicBezTo>
                  <a:pt x="2212508" y="57442"/>
                  <a:pt x="2180129" y="48569"/>
                  <a:pt x="2140981" y="48569"/>
                </a:cubicBezTo>
                <a:cubicBezTo>
                  <a:pt x="2115004" y="48569"/>
                  <a:pt x="2093829" y="54012"/>
                  <a:pt x="2077457" y="64896"/>
                </a:cubicBezTo>
                <a:cubicBezTo>
                  <a:pt x="2061084" y="75781"/>
                  <a:pt x="2052898" y="90919"/>
                  <a:pt x="2052898" y="110310"/>
                </a:cubicBezTo>
                <a:lnTo>
                  <a:pt x="2066410" y="143653"/>
                </a:lnTo>
                <a:lnTo>
                  <a:pt x="2004602" y="143653"/>
                </a:lnTo>
                <a:lnTo>
                  <a:pt x="1995273" y="114975"/>
                </a:lnTo>
                <a:cubicBezTo>
                  <a:pt x="1995273" y="79668"/>
                  <a:pt x="2009451" y="51679"/>
                  <a:pt x="2037806" y="31008"/>
                </a:cubicBezTo>
                <a:cubicBezTo>
                  <a:pt x="2066161" y="10336"/>
                  <a:pt x="2101924" y="0"/>
                  <a:pt x="2145097" y="0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t">
            <a:noAutofit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99" name="文本框 495"/>
          <p:cNvSpPr/>
          <p:nvPr/>
        </p:nvSpPr>
        <p:spPr>
          <a:xfrm>
            <a:off x="3552480" y="3335040"/>
            <a:ext cx="2133720" cy="18792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7920"/>
              <a:gd name="textAreaBottom" fmla="*/ 188280 h 187920"/>
            </a:gdLst>
            <a:ahLst/>
            <a:rect l="textAreaLeft" t="textAreaTop" r="textAreaRight" b="textAreaBottom"/>
            <a:pathLst>
              <a:path w="2134121" h="188259">
                <a:moveTo>
                  <a:pt x="1882493" y="0"/>
                </a:moveTo>
                <a:lnTo>
                  <a:pt x="1944301" y="0"/>
                </a:lnTo>
                <a:lnTo>
                  <a:pt x="1947802" y="8640"/>
                </a:lnTo>
                <a:cubicBezTo>
                  <a:pt x="1959144" y="19433"/>
                  <a:pt x="1983748" y="34160"/>
                  <a:pt x="2021616" y="52819"/>
                </a:cubicBezTo>
                <a:cubicBezTo>
                  <a:pt x="2063325" y="72759"/>
                  <a:pt x="2092503" y="92699"/>
                  <a:pt x="2109150" y="112639"/>
                </a:cubicBezTo>
                <a:cubicBezTo>
                  <a:pt x="2125797" y="132578"/>
                  <a:pt x="2134121" y="154988"/>
                  <a:pt x="2134121" y="179867"/>
                </a:cubicBezTo>
                <a:lnTo>
                  <a:pt x="2132398" y="188259"/>
                </a:lnTo>
                <a:lnTo>
                  <a:pt x="2075638" y="188259"/>
                </a:lnTo>
                <a:lnTo>
                  <a:pt x="2076496" y="183983"/>
                </a:lnTo>
                <a:cubicBezTo>
                  <a:pt x="2076496" y="172092"/>
                  <a:pt x="2073295" y="161391"/>
                  <a:pt x="2066892" y="151878"/>
                </a:cubicBezTo>
                <a:cubicBezTo>
                  <a:pt x="2060489" y="142365"/>
                  <a:pt x="2051708" y="133950"/>
                  <a:pt x="2040550" y="126633"/>
                </a:cubicBezTo>
                <a:cubicBezTo>
                  <a:pt x="2029391" y="119316"/>
                  <a:pt x="2008445" y="108065"/>
                  <a:pt x="1977712" y="92882"/>
                </a:cubicBezTo>
                <a:cubicBezTo>
                  <a:pt x="1935088" y="71661"/>
                  <a:pt x="1907007" y="51950"/>
                  <a:pt x="1893470" y="33748"/>
                </a:cubicBezTo>
                <a:close/>
                <a:moveTo>
                  <a:pt x="1540222" y="0"/>
                </a:moveTo>
                <a:lnTo>
                  <a:pt x="1595102" y="0"/>
                </a:lnTo>
                <a:lnTo>
                  <a:pt x="1595102" y="63521"/>
                </a:lnTo>
                <a:lnTo>
                  <a:pt x="1596474" y="63521"/>
                </a:lnTo>
                <a:cubicBezTo>
                  <a:pt x="1599584" y="58581"/>
                  <a:pt x="1603334" y="53368"/>
                  <a:pt x="1607725" y="47880"/>
                </a:cubicBezTo>
                <a:lnTo>
                  <a:pt x="1647767" y="0"/>
                </a:lnTo>
                <a:lnTo>
                  <a:pt x="1710285" y="0"/>
                </a:lnTo>
                <a:lnTo>
                  <a:pt x="1651355" y="67362"/>
                </a:lnTo>
                <a:lnTo>
                  <a:pt x="1755902" y="188259"/>
                </a:lnTo>
                <a:lnTo>
                  <a:pt x="1684532" y="188259"/>
                </a:lnTo>
                <a:lnTo>
                  <a:pt x="1607725" y="95351"/>
                </a:lnTo>
                <a:cubicBezTo>
                  <a:pt x="1602237" y="88583"/>
                  <a:pt x="1598487" y="83278"/>
                  <a:pt x="1596474" y="79436"/>
                </a:cubicBezTo>
                <a:lnTo>
                  <a:pt x="1595102" y="79436"/>
                </a:lnTo>
                <a:lnTo>
                  <a:pt x="1595102" y="188259"/>
                </a:lnTo>
                <a:lnTo>
                  <a:pt x="1540222" y="188259"/>
                </a:lnTo>
                <a:close/>
                <a:moveTo>
                  <a:pt x="1375809" y="0"/>
                </a:moveTo>
                <a:lnTo>
                  <a:pt x="1430140" y="0"/>
                </a:lnTo>
                <a:lnTo>
                  <a:pt x="1430140" y="188259"/>
                </a:lnTo>
                <a:lnTo>
                  <a:pt x="1376405" y="188259"/>
                </a:lnTo>
                <a:lnTo>
                  <a:pt x="1375809" y="155720"/>
                </a:lnTo>
                <a:close/>
                <a:moveTo>
                  <a:pt x="1178580" y="0"/>
                </a:moveTo>
                <a:lnTo>
                  <a:pt x="1239297" y="0"/>
                </a:lnTo>
                <a:lnTo>
                  <a:pt x="1359820" y="188259"/>
                </a:lnTo>
                <a:lnTo>
                  <a:pt x="1300285" y="188259"/>
                </a:lnTo>
                <a:close/>
                <a:moveTo>
                  <a:pt x="1083022" y="0"/>
                </a:moveTo>
                <a:lnTo>
                  <a:pt x="1137354" y="0"/>
                </a:lnTo>
                <a:lnTo>
                  <a:pt x="1137354" y="188259"/>
                </a:lnTo>
                <a:lnTo>
                  <a:pt x="1083022" y="188259"/>
                </a:lnTo>
                <a:close/>
                <a:moveTo>
                  <a:pt x="744302" y="0"/>
                </a:moveTo>
                <a:lnTo>
                  <a:pt x="797949" y="0"/>
                </a:lnTo>
                <a:lnTo>
                  <a:pt x="753219" y="124163"/>
                </a:lnTo>
                <a:lnTo>
                  <a:pt x="895908" y="124163"/>
                </a:lnTo>
                <a:lnTo>
                  <a:pt x="850793" y="0"/>
                </a:lnTo>
                <a:lnTo>
                  <a:pt x="907021" y="0"/>
                </a:lnTo>
                <a:lnTo>
                  <a:pt x="978727" y="188259"/>
                </a:lnTo>
                <a:lnTo>
                  <a:pt x="918912" y="188259"/>
                </a:lnTo>
                <a:lnTo>
                  <a:pt x="912921" y="172184"/>
                </a:lnTo>
                <a:lnTo>
                  <a:pt x="735932" y="172184"/>
                </a:lnTo>
                <a:lnTo>
                  <a:pt x="730283" y="188259"/>
                </a:lnTo>
                <a:lnTo>
                  <a:pt x="672596" y="188259"/>
                </a:lnTo>
                <a:close/>
                <a:moveTo>
                  <a:pt x="244822" y="0"/>
                </a:moveTo>
                <a:lnTo>
                  <a:pt x="299702" y="0"/>
                </a:lnTo>
                <a:lnTo>
                  <a:pt x="299702" y="48154"/>
                </a:lnTo>
                <a:lnTo>
                  <a:pt x="514834" y="48154"/>
                </a:lnTo>
                <a:lnTo>
                  <a:pt x="514834" y="0"/>
                </a:lnTo>
                <a:lnTo>
                  <a:pt x="569714" y="0"/>
                </a:lnTo>
                <a:lnTo>
                  <a:pt x="569714" y="188259"/>
                </a:lnTo>
                <a:lnTo>
                  <a:pt x="514834" y="188259"/>
                </a:lnTo>
                <a:lnTo>
                  <a:pt x="514834" y="96998"/>
                </a:lnTo>
                <a:lnTo>
                  <a:pt x="299702" y="96998"/>
                </a:lnTo>
                <a:lnTo>
                  <a:pt x="299702" y="188259"/>
                </a:lnTo>
                <a:lnTo>
                  <a:pt x="244822" y="188259"/>
                </a:lnTo>
                <a:close/>
                <a:moveTo>
                  <a:pt x="0" y="0"/>
                </a:moveTo>
                <a:lnTo>
                  <a:pt x="55155" y="0"/>
                </a:lnTo>
                <a:lnTo>
                  <a:pt x="55155" y="188259"/>
                </a:lnTo>
                <a:lnTo>
                  <a:pt x="0" y="188259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t">
            <a:noAutofit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微软雅黑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微软雅黑"/>
                <a:ea typeface="微软雅黑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微软雅黑"/>
                <a:ea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at</a:t>
            </a:r>
            <a:r>
              <a:rPr b="0" lang="en-US" sz="4200" spc="-2501" strike="noStrike">
                <a:solidFill>
                  <a:srgbClr val="ffffff"/>
                </a:solidFill>
                <a:latin typeface="微软雅黑"/>
                <a:ea typeface="微软雅黑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2" name="矩形 17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片来引出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18" descr=""/>
          <p:cNvPicPr/>
          <p:nvPr/>
        </p:nvPicPr>
        <p:blipFill>
          <a:blip r:embed="rId1"/>
          <a:stretch/>
        </p:blipFill>
        <p:spPr>
          <a:xfrm>
            <a:off x="1399680" y="1753200"/>
            <a:ext cx="6344640" cy="4229640"/>
          </a:xfrm>
          <a:prstGeom prst="rect">
            <a:avLst/>
          </a:prstGeom>
          <a:ln w="0">
            <a:noFill/>
          </a:ln>
        </p:spPr>
      </p:pic>
      <p:sp>
        <p:nvSpPr>
          <p:cNvPr id="184" name="矩形 19"/>
          <p:cNvSpPr/>
          <p:nvPr/>
        </p:nvSpPr>
        <p:spPr>
          <a:xfrm>
            <a:off x="1399680" y="1753200"/>
            <a:ext cx="6344640" cy="4229640"/>
          </a:xfrm>
          <a:prstGeom prst="rect">
            <a:avLst/>
          </a:prstGeom>
          <a:solidFill>
            <a:schemeClr val="tx1">
              <a:alpha val="6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185" name="图片 20" descr=""/>
          <p:cNvPicPr/>
          <p:nvPr/>
        </p:nvPicPr>
        <p:blipFill>
          <a:blip r:embed="rId2"/>
          <a:stretch/>
        </p:blipFill>
        <p:spPr>
          <a:xfrm>
            <a:off x="1399680" y="1753200"/>
            <a:ext cx="6344640" cy="42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at</a:t>
            </a:r>
            <a:r>
              <a:rPr b="0" lang="en-US" sz="4200" spc="-2501" strike="noStrike">
                <a:solidFill>
                  <a:srgbClr val="ffffff"/>
                </a:solidFill>
                <a:latin typeface="微软雅黑"/>
                <a:ea typeface="微软雅黑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7" name="矩形 4"/>
          <p:cNvSpPr/>
          <p:nvPr/>
        </p:nvSpPr>
        <p:spPr>
          <a:xfrm>
            <a:off x="975960" y="2584440"/>
            <a:ext cx="75546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A </a:t>
            </a:r>
            <a:r>
              <a:rPr b="0" lang="en-US" sz="3200" spc="-1" strike="noStrike">
                <a:solidFill>
                  <a:srgbClr val="365faa"/>
                </a:solidFill>
                <a:latin typeface="微软雅黑"/>
                <a:ea typeface="微软雅黑"/>
              </a:rPr>
              <a:t>thesis</a:t>
            </a:r>
            <a:r>
              <a:rPr b="0" lang="en-US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 is a document submitted in support of candidature for an academic degree or professional qualification presenting the author's research and fin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877680" y="5539680"/>
            <a:ext cx="7554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——</a:t>
            </a:r>
            <a:r>
              <a:rPr b="0" lang="en-US" sz="24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Wikip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6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段话来说明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3" descr=""/>
          <p:cNvPicPr/>
          <p:nvPr/>
        </p:nvPicPr>
        <p:blipFill>
          <a:blip r:embed="rId1"/>
          <a:stretch/>
        </p:blipFill>
        <p:spPr>
          <a:xfrm>
            <a:off x="140040" y="2069640"/>
            <a:ext cx="1164240" cy="14565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5" descr=""/>
          <p:cNvPicPr/>
          <p:nvPr/>
        </p:nvPicPr>
        <p:blipFill>
          <a:blip r:embed="rId2"/>
          <a:stretch/>
        </p:blipFill>
        <p:spPr>
          <a:xfrm>
            <a:off x="7927560" y="4367880"/>
            <a:ext cx="1164240" cy="14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at</a:t>
            </a:r>
            <a:r>
              <a:rPr b="0" lang="en-US" sz="4200" spc="-2501" strike="noStrike">
                <a:solidFill>
                  <a:srgbClr val="ffffff"/>
                </a:solidFill>
                <a:latin typeface="微软雅黑"/>
                <a:ea typeface="微软雅黑"/>
              </a:rPr>
              <a:t>’</a:t>
            </a: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s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93" name="图片 2" descr=""/>
          <p:cNvPicPr/>
          <p:nvPr/>
        </p:nvPicPr>
        <p:blipFill>
          <a:blip r:embed="rId1"/>
          <a:stretch/>
        </p:blipFill>
        <p:spPr>
          <a:xfrm>
            <a:off x="1397160" y="1751760"/>
            <a:ext cx="6349320" cy="4231080"/>
          </a:xfrm>
          <a:prstGeom prst="rect">
            <a:avLst/>
          </a:prstGeom>
          <a:ln w="0">
            <a:noFill/>
          </a:ln>
        </p:spPr>
      </p:pic>
      <p:sp>
        <p:nvSpPr>
          <p:cNvPr id="194" name="矩形 7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来说明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矩形 7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片来引出为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2" descr=""/>
          <p:cNvPicPr/>
          <p:nvPr/>
        </p:nvPicPr>
        <p:blipFill>
          <a:blip r:embed="rId1"/>
          <a:stretch/>
        </p:blipFill>
        <p:spPr>
          <a:xfrm>
            <a:off x="1399680" y="1753200"/>
            <a:ext cx="6344640" cy="4229640"/>
          </a:xfrm>
          <a:prstGeom prst="rect">
            <a:avLst/>
          </a:prstGeom>
          <a:ln w="0">
            <a:noFill/>
          </a:ln>
        </p:spPr>
      </p:pic>
      <p:sp>
        <p:nvSpPr>
          <p:cNvPr id="198" name="矩形 3"/>
          <p:cNvSpPr/>
          <p:nvPr/>
        </p:nvSpPr>
        <p:spPr>
          <a:xfrm>
            <a:off x="1399680" y="1753200"/>
            <a:ext cx="6344640" cy="4229640"/>
          </a:xfrm>
          <a:prstGeom prst="rect">
            <a:avLst/>
          </a:prstGeom>
          <a:solidFill>
            <a:schemeClr val="tx1">
              <a:alpha val="6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199" name="图片 4" descr=""/>
          <p:cNvPicPr/>
          <p:nvPr/>
        </p:nvPicPr>
        <p:blipFill>
          <a:blip r:embed="rId2"/>
          <a:stretch/>
        </p:blipFill>
        <p:spPr>
          <a:xfrm>
            <a:off x="1399680" y="1753200"/>
            <a:ext cx="6344640" cy="4229640"/>
          </a:xfrm>
          <a:prstGeom prst="rect">
            <a:avLst/>
          </a:prstGeom>
          <a:ln w="0">
            <a:noFill/>
          </a:ln>
        </p:spPr>
      </p:pic>
      <p:sp>
        <p:nvSpPr>
          <p:cNvPr id="200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矩形 7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张图表来说明为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图表 12"/>
          <p:cNvGraphicFramePr/>
          <p:nvPr/>
        </p:nvGraphicFramePr>
        <p:xfrm>
          <a:off x="1398600" y="1753200"/>
          <a:ext cx="6346440" cy="4229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些词语说明为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3001320" y="3109680"/>
            <a:ext cx="28854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几个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"/>
          <p:cNvSpPr/>
          <p:nvPr/>
        </p:nvSpPr>
        <p:spPr>
          <a:xfrm>
            <a:off x="2498040" y="4109760"/>
            <a:ext cx="213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为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2498040" y="2179800"/>
            <a:ext cx="213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a6a6a6"/>
                </a:solidFill>
                <a:latin typeface="微软雅黑 Light"/>
                <a:ea typeface="微软雅黑 Light"/>
              </a:rPr>
              <a:t>有利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8"/>
          <p:cNvSpPr/>
          <p:nvPr/>
        </p:nvSpPr>
        <p:spPr>
          <a:xfrm>
            <a:off x="5283000" y="2896920"/>
            <a:ext cx="213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对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9"/>
          <p:cNvSpPr/>
          <p:nvPr/>
        </p:nvSpPr>
        <p:spPr>
          <a:xfrm>
            <a:off x="4662720" y="4032720"/>
            <a:ext cx="213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百分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0"/>
          <p:cNvSpPr/>
          <p:nvPr/>
        </p:nvSpPr>
        <p:spPr>
          <a:xfrm>
            <a:off x="1244880" y="2963160"/>
            <a:ext cx="2130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1"/>
          <p:cNvSpPr/>
          <p:nvPr/>
        </p:nvSpPr>
        <p:spPr>
          <a:xfrm>
            <a:off x="4347360" y="2232720"/>
            <a:ext cx="2130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404040"/>
                </a:solidFill>
                <a:latin typeface="微软雅黑 Light"/>
                <a:ea typeface="微软雅黑 Light"/>
              </a:rPr>
              <a:t>网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3"/>
          <p:cNvSpPr/>
          <p:nvPr/>
        </p:nvSpPr>
        <p:spPr>
          <a:xfrm>
            <a:off x="5793120" y="3512160"/>
            <a:ext cx="2256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微软雅黑 Light"/>
                <a:ea typeface="微软雅黑 Light"/>
              </a:rPr>
              <a:t>精确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4"/>
          <p:cNvSpPr/>
          <p:nvPr/>
        </p:nvSpPr>
        <p:spPr>
          <a:xfrm>
            <a:off x="4154040" y="4775760"/>
            <a:ext cx="2256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时间复杂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5"/>
          <p:cNvSpPr/>
          <p:nvPr/>
        </p:nvSpPr>
        <p:spPr>
          <a:xfrm>
            <a:off x="951840" y="3608280"/>
            <a:ext cx="2130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国际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6"/>
          <p:cNvSpPr/>
          <p:nvPr/>
        </p:nvSpPr>
        <p:spPr>
          <a:xfrm>
            <a:off x="1828440" y="4541760"/>
            <a:ext cx="213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d9d9d9"/>
                </a:solidFill>
                <a:latin typeface="微软雅黑 Light"/>
                <a:ea typeface="微软雅黑 Light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8400" y="245160"/>
            <a:ext cx="8315640" cy="6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do this?</a:t>
            </a:r>
            <a:endParaRPr b="0" lang="en-US" sz="4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8" name="矩形 7"/>
          <p:cNvSpPr/>
          <p:nvPr/>
        </p:nvSpPr>
        <p:spPr>
          <a:xfrm>
            <a:off x="794520" y="6151320"/>
            <a:ext cx="755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句话总结为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7"/>
          <p:cNvSpPr/>
          <p:nvPr/>
        </p:nvSpPr>
        <p:spPr>
          <a:xfrm>
            <a:off x="1005480" y="3038040"/>
            <a:ext cx="7132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用一段话来总结为什么，但一般都用一句话来总结，如果有可能，用一个词语来总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论文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65faa"/>
      </a:accent1>
      <a:accent2>
        <a:srgbClr val="4472c4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主题">
  <a:themeElements>
    <a:clrScheme name="论文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65faa"/>
      </a:accent1>
      <a:accent2>
        <a:srgbClr val="4472c4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ffice 主题">
  <a:themeElements>
    <a:clrScheme name="论文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65faa"/>
      </a:accent1>
      <a:accent2>
        <a:srgbClr val="4472c4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Office 主题">
  <a:themeElements>
    <a:clrScheme name="论文蓝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365faa"/>
      </a:accent1>
      <a:accent2>
        <a:srgbClr val="4472c4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365faa"/>
      </a:accent1>
      <a:accent2>
        <a:srgbClr val="4472c4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6</TotalTime>
  <Application>LibreOffice/7.4.7.2$Linux_X86_64 LibreOffice_project/40$Build-2</Application>
  <AppVersion>15.0000</AppVersion>
  <Words>654</Words>
  <Paragraphs>1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08:24Z</dcterms:created>
  <dc:creator>www.pptbz.com</dc:creator>
  <dc:description/>
  <dc:language>en-US</dc:language>
  <cp:lastModifiedBy>yu wang</cp:lastModifiedBy>
  <dcterms:modified xsi:type="dcterms:W3CDTF">2015-08-12T14:54:03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26</vt:r8>
  </property>
</Properties>
</file>