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3.jpeg" ContentType="image/jpeg"/>
  <Override PartName="/ppt/media/image15.png" ContentType="image/png"/>
  <Override PartName="/ppt/media/image10.png" ContentType="image/png"/>
  <Override PartName="/ppt/media/image6.jpeg" ContentType="image/jpeg"/>
  <Override PartName="/ppt/embeddings/oleObject1.xls" ContentType="application/vnd.ms-exce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spPr>
            <a:solidFill>
              <a:srgbClr val="01b0f1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1b0f1"/>
              </a:solidFill>
              <a:ln w="2232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01b0f1"/>
              </a:solidFill>
              <a:ln w="2232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01b0f1"/>
              </a:solidFill>
              <a:ln w="2232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solidFill>
                <a:srgbClr val="01b0f1"/>
              </a:solidFill>
              <a:ln w="2232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4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.2</c:v>
                </c:pt>
                <c:pt idx="1">
                  <c:v>3.2</c:v>
                </c:pt>
                <c:pt idx="2">
                  <c:v>1.4</c:v>
                </c:pt>
                <c:pt idx="3">
                  <c:v>1.2</c:v>
                </c:pt>
              </c:numCache>
            </c:numRef>
          </c:val>
        </c:ser>
        <c:firstSliceAng val="0"/>
        <c:holeSize val="50"/>
      </c:doughnutChart>
      <c:spPr>
        <a:noFill/>
        <a:ln w="2988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756AE4-124E-4C90-AA96-A0A04DF2E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14DF91-A05D-4581-8A1D-E7D3EC4BE51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F24E-7A93-40F2-957C-62F2F0FC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92BE-F99C-4992-B03D-6016F419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867E-AF1D-4A45-9EFA-89C79CC4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C730-27C2-4749-B6C1-57637074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C371-36E9-4B47-9597-C348038E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944C-C127-4783-9BBA-DDD201E0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2C4F-36B9-4A9A-9AC0-A4151289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3F8E-A33C-4D30-865C-016CFB85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07CA-6196-4A6F-A385-53E05A0A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7A37-DEBE-4821-8D8B-D8712B10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3619-D86D-4A0F-ADB0-F5422A83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13682-5F4C-4180-AFAE-8BB47F23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A812-E97B-42A0-8D1B-3659B78F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66E2-E5CA-44B7-84A4-096F2200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E08D-DA8A-418F-8555-84A91B99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783D-FE93-4A4F-8CC0-6893825E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4CE5-C20D-4B3E-9C4E-44279F581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F9305-48A0-49E9-97AF-7627A7E7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6383-B5B7-44AB-B525-4B4F7CEA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BAC10-0471-45C6-B083-7CA6E322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CC07-426D-4207-875D-19E2C493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586FF-9B37-4689-9465-FBF1A56C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4F966-65AC-4984-A65F-6B8CCC34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FA1E-EB5B-42F4-A96C-B0CAE2A7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9037800" y="63817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b0f1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F636CA-1997-4A08-92ED-49ED24E16E7F}" type="slidenum">
              <a:rPr b="0" lang="en-US" sz="2400" spc="-1" strike="noStrike">
                <a:solidFill>
                  <a:srgbClr val="01b0f1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2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9037800" y="64054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2400" spc="-1" strike="noStrike">
                <a:solidFill>
                  <a:srgbClr val="01b0f1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E73B46-DABD-4BEB-9456-913D6B2B3861}" type="slidenum">
              <a:rPr b="0" lang="en-US" sz="2400" spc="-1" strike="noStrike">
                <a:solidFill>
                  <a:srgbClr val="01b0f1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oleObject" Target="../embeddings/oleObject1.xls"/><Relationship Id="rId3" Type="http://schemas.openxmlformats.org/officeDocument/2006/relationships/image" Target="../media/image19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"/>
          <p:cNvSpPr/>
          <p:nvPr/>
        </p:nvSpPr>
        <p:spPr>
          <a:xfrm>
            <a:off x="0" y="0"/>
            <a:ext cx="12191760" cy="4536720"/>
          </a:xfrm>
          <a:prstGeom prst="rect">
            <a:avLst/>
          </a:prstGeom>
          <a:solidFill>
            <a:srgbClr val="01b0f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9" name="文本框 3"/>
          <p:cNvSpPr/>
          <p:nvPr/>
        </p:nvSpPr>
        <p:spPr>
          <a:xfrm>
            <a:off x="3638520" y="5605560"/>
            <a:ext cx="4914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Presenter</a:t>
            </a:r>
            <a:r>
              <a:rPr b="0" lang="en-US" sz="2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:  Jig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4183200" y="1560600"/>
            <a:ext cx="48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简洁精美企业年终总结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图表 4"/>
          <p:cNvGraphicFramePr/>
          <p:nvPr/>
        </p:nvGraphicFramePr>
        <p:xfrm>
          <a:off x="-466560" y="1904760"/>
          <a:ext cx="5693760" cy="3972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58" name="文本框 5"/>
          <p:cNvSpPr/>
          <p:nvPr/>
        </p:nvSpPr>
        <p:spPr>
          <a:xfrm>
            <a:off x="2861280" y="4482000"/>
            <a:ext cx="1123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1st  Q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6"/>
          <p:cNvSpPr/>
          <p:nvPr/>
        </p:nvSpPr>
        <p:spPr>
          <a:xfrm>
            <a:off x="737280" y="3785760"/>
            <a:ext cx="841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2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Q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7"/>
          <p:cNvSpPr/>
          <p:nvPr/>
        </p:nvSpPr>
        <p:spPr>
          <a:xfrm>
            <a:off x="1106280" y="2652120"/>
            <a:ext cx="1123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3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Q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8"/>
          <p:cNvSpPr/>
          <p:nvPr/>
        </p:nvSpPr>
        <p:spPr>
          <a:xfrm>
            <a:off x="1668240" y="2150640"/>
            <a:ext cx="723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4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Q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28"/>
          <p:cNvGrpSpPr/>
          <p:nvPr/>
        </p:nvGrpSpPr>
        <p:grpSpPr>
          <a:xfrm>
            <a:off x="4249800" y="2063880"/>
            <a:ext cx="8229240" cy="2474640"/>
            <a:chOff x="4249800" y="2063880"/>
            <a:chExt cx="8229240" cy="2474640"/>
          </a:xfrm>
        </p:grpSpPr>
        <p:graphicFrame>
          <p:nvGraphicFramePr>
            <p:cNvPr id="263" name="图表 14"/>
            <p:cNvGraphicFramePr/>
            <p:nvPr/>
          </p:nvGraphicFramePr>
          <p:xfrm>
            <a:off x="4249800" y="2063880"/>
            <a:ext cx="8229240" cy="2474640"/>
          </p:xfrm>
          <a:graphic>
            <a:graphicData uri="http://schemas.openxmlformats.org/presentationml/2006/ole">
              <p:oleObj progId="Excel.Chart.8" r:id="rId2" spid="">
                <p:embed/>
                <p:pic>
                  <p:nvPicPr>
                    <p:cNvPr id="264" name="图表 1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249800" y="2063880"/>
                      <a:ext cx="8229240" cy="24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5" name="文本框 15"/>
            <p:cNvSpPr/>
            <p:nvPr/>
          </p:nvSpPr>
          <p:spPr>
            <a:xfrm>
              <a:off x="5308560" y="262512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16"/>
            <p:cNvSpPr/>
            <p:nvPr/>
          </p:nvSpPr>
          <p:spPr>
            <a:xfrm>
              <a:off x="6229800" y="314532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17"/>
            <p:cNvSpPr/>
            <p:nvPr/>
          </p:nvSpPr>
          <p:spPr>
            <a:xfrm>
              <a:off x="7152840" y="324936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文本框 18"/>
            <p:cNvSpPr/>
            <p:nvPr/>
          </p:nvSpPr>
          <p:spPr>
            <a:xfrm>
              <a:off x="8070480" y="218160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文本框 19"/>
            <p:cNvSpPr/>
            <p:nvPr/>
          </p:nvSpPr>
          <p:spPr>
            <a:xfrm>
              <a:off x="8985960" y="296316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20"/>
            <p:cNvSpPr/>
            <p:nvPr/>
          </p:nvSpPr>
          <p:spPr>
            <a:xfrm>
              <a:off x="9938880" y="324720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21"/>
            <p:cNvSpPr/>
            <p:nvPr/>
          </p:nvSpPr>
          <p:spPr>
            <a:xfrm>
              <a:off x="10843560" y="269640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文本框 7"/>
          <p:cNvSpPr/>
          <p:nvPr/>
        </p:nvSpPr>
        <p:spPr>
          <a:xfrm>
            <a:off x="5126040" y="4851360"/>
            <a:ext cx="6463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 want to play a game. I want to play a game. I want to play a game. I want to play a game. I want to play a ga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2"/>
          <p:cNvSpPr/>
          <p:nvPr/>
        </p:nvSpPr>
        <p:spPr>
          <a:xfrm>
            <a:off x="372672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"/>
          <p:cNvSpPr/>
          <p:nvPr/>
        </p:nvSpPr>
        <p:spPr>
          <a:xfrm>
            <a:off x="538812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0"/>
          <p:cNvSpPr/>
          <p:nvPr/>
        </p:nvSpPr>
        <p:spPr>
          <a:xfrm>
            <a:off x="629712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1"/>
          <p:cNvSpPr/>
          <p:nvPr/>
        </p:nvSpPr>
        <p:spPr>
          <a:xfrm>
            <a:off x="720576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22"/>
          <p:cNvSpPr/>
          <p:nvPr/>
        </p:nvSpPr>
        <p:spPr>
          <a:xfrm>
            <a:off x="811476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23"/>
          <p:cNvSpPr/>
          <p:nvPr/>
        </p:nvSpPr>
        <p:spPr>
          <a:xfrm>
            <a:off x="905904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24"/>
          <p:cNvSpPr/>
          <p:nvPr/>
        </p:nvSpPr>
        <p:spPr>
          <a:xfrm>
            <a:off x="997992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25"/>
          <p:cNvSpPr/>
          <p:nvPr/>
        </p:nvSpPr>
        <p:spPr>
          <a:xfrm>
            <a:off x="10888560" y="447192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1669320" y="652320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b0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文本框 3"/>
          <p:cNvSpPr/>
          <p:nvPr/>
        </p:nvSpPr>
        <p:spPr>
          <a:xfrm>
            <a:off x="3792600" y="4168800"/>
            <a:ext cx="4606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icture 5"/>
          <p:cNvSpPr/>
          <p:nvPr/>
        </p:nvSpPr>
        <p:spPr>
          <a:xfrm>
            <a:off x="5040360" y="1700640"/>
            <a:ext cx="2111040" cy="21110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1"/>
          <p:cNvGrpSpPr/>
          <p:nvPr/>
        </p:nvGrpSpPr>
        <p:grpSpPr>
          <a:xfrm>
            <a:off x="1169640" y="2363760"/>
            <a:ext cx="2927160" cy="3297240"/>
            <a:chOff x="1169640" y="2363760"/>
            <a:chExt cx="2927160" cy="3297240"/>
          </a:xfrm>
        </p:grpSpPr>
        <p:sp>
          <p:nvSpPr>
            <p:cNvPr id="94" name="椭圆 3"/>
            <p:cNvSpPr/>
            <p:nvPr/>
          </p:nvSpPr>
          <p:spPr>
            <a:xfrm>
              <a:off x="1805400" y="2363760"/>
              <a:ext cx="1655640" cy="1655640"/>
            </a:xfrm>
            <a:prstGeom prst="ellipse">
              <a:avLst/>
            </a:prstGeom>
            <a:noFill/>
            <a:ln w="19050">
              <a:solidFill>
                <a:srgbClr val="01b0f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95" name="椭圆 4"/>
            <p:cNvSpPr/>
            <p:nvPr/>
          </p:nvSpPr>
          <p:spPr>
            <a:xfrm>
              <a:off x="1912680" y="2471040"/>
              <a:ext cx="1441080" cy="14410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96" name="文本框 6"/>
            <p:cNvSpPr/>
            <p:nvPr/>
          </p:nvSpPr>
          <p:spPr>
            <a:xfrm>
              <a:off x="1659600" y="4278600"/>
              <a:ext cx="19472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文本框 7"/>
            <p:cNvSpPr/>
            <p:nvPr/>
          </p:nvSpPr>
          <p:spPr>
            <a:xfrm>
              <a:off x="1169640" y="4748400"/>
              <a:ext cx="29271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27"/>
          <p:cNvGrpSpPr/>
          <p:nvPr/>
        </p:nvGrpSpPr>
        <p:grpSpPr>
          <a:xfrm>
            <a:off x="4634640" y="2363760"/>
            <a:ext cx="2927160" cy="3297240"/>
            <a:chOff x="4634640" y="2363760"/>
            <a:chExt cx="2927160" cy="3297240"/>
          </a:xfrm>
        </p:grpSpPr>
        <p:sp>
          <p:nvSpPr>
            <p:cNvPr id="99" name="椭圆 30"/>
            <p:cNvSpPr/>
            <p:nvPr/>
          </p:nvSpPr>
          <p:spPr>
            <a:xfrm>
              <a:off x="5270040" y="2363760"/>
              <a:ext cx="1655640" cy="1655640"/>
            </a:xfrm>
            <a:prstGeom prst="ellipse">
              <a:avLst/>
            </a:prstGeom>
            <a:noFill/>
            <a:ln w="19050">
              <a:solidFill>
                <a:srgbClr val="01b0f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100" name="椭圆 31"/>
            <p:cNvSpPr/>
            <p:nvPr/>
          </p:nvSpPr>
          <p:spPr>
            <a:xfrm>
              <a:off x="5377320" y="2471040"/>
              <a:ext cx="1441080" cy="14410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101" name="文本框 6"/>
            <p:cNvSpPr/>
            <p:nvPr/>
          </p:nvSpPr>
          <p:spPr>
            <a:xfrm>
              <a:off x="5124240" y="4278600"/>
              <a:ext cx="19472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7"/>
            <p:cNvSpPr/>
            <p:nvPr/>
          </p:nvSpPr>
          <p:spPr>
            <a:xfrm>
              <a:off x="4634640" y="4748400"/>
              <a:ext cx="29271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36"/>
          <p:cNvGrpSpPr/>
          <p:nvPr/>
        </p:nvGrpSpPr>
        <p:grpSpPr>
          <a:xfrm>
            <a:off x="8099280" y="2363760"/>
            <a:ext cx="2927160" cy="3297240"/>
            <a:chOff x="8099280" y="2363760"/>
            <a:chExt cx="2927160" cy="3297240"/>
          </a:xfrm>
        </p:grpSpPr>
        <p:sp>
          <p:nvSpPr>
            <p:cNvPr id="104" name="椭圆 37"/>
            <p:cNvSpPr/>
            <p:nvPr/>
          </p:nvSpPr>
          <p:spPr>
            <a:xfrm>
              <a:off x="8735040" y="2363760"/>
              <a:ext cx="1655640" cy="1655640"/>
            </a:xfrm>
            <a:prstGeom prst="ellipse">
              <a:avLst/>
            </a:prstGeom>
            <a:noFill/>
            <a:ln w="19050">
              <a:solidFill>
                <a:srgbClr val="01b0f1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105" name="椭圆 38"/>
            <p:cNvSpPr/>
            <p:nvPr/>
          </p:nvSpPr>
          <p:spPr>
            <a:xfrm>
              <a:off x="8842320" y="2471040"/>
              <a:ext cx="1441080" cy="14410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106" name="文本框 6"/>
            <p:cNvSpPr/>
            <p:nvPr/>
          </p:nvSpPr>
          <p:spPr>
            <a:xfrm>
              <a:off x="8589240" y="4278600"/>
              <a:ext cx="19472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文本框 7"/>
            <p:cNvSpPr/>
            <p:nvPr/>
          </p:nvSpPr>
          <p:spPr>
            <a:xfrm>
              <a:off x="8099280" y="4748400"/>
              <a:ext cx="29271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6"/>
          <p:cNvGrpSpPr/>
          <p:nvPr/>
        </p:nvGrpSpPr>
        <p:grpSpPr>
          <a:xfrm>
            <a:off x="1814760" y="1938240"/>
            <a:ext cx="3511080" cy="1701360"/>
            <a:chOff x="1814760" y="1938240"/>
            <a:chExt cx="3511080" cy="1701360"/>
          </a:xfrm>
        </p:grpSpPr>
        <p:sp>
          <p:nvSpPr>
            <p:cNvPr id="109" name="文本框 7"/>
            <p:cNvSpPr/>
            <p:nvPr/>
          </p:nvSpPr>
          <p:spPr>
            <a:xfrm>
              <a:off x="1814760" y="2315520"/>
              <a:ext cx="351108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5"/>
            <p:cNvSpPr/>
            <p:nvPr/>
          </p:nvSpPr>
          <p:spPr>
            <a:xfrm>
              <a:off x="1814760" y="1938240"/>
              <a:ext cx="26143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7" descr="韩国商人在晚上"/>
          <p:cNvPicPr/>
          <p:nvPr/>
        </p:nvPicPr>
        <p:blipFill>
          <a:blip r:embed="rId1"/>
          <a:stretch/>
        </p:blipFill>
        <p:spPr>
          <a:xfrm>
            <a:off x="6098040" y="2065320"/>
            <a:ext cx="5378760" cy="3585960"/>
          </a:xfrm>
          <a:prstGeom prst="rect">
            <a:avLst/>
          </a:prstGeom>
          <a:ln w="0">
            <a:noFill/>
          </a:ln>
        </p:spPr>
      </p:pic>
      <p:grpSp>
        <p:nvGrpSpPr>
          <p:cNvPr id="113" name="组合 5"/>
          <p:cNvGrpSpPr/>
          <p:nvPr/>
        </p:nvGrpSpPr>
        <p:grpSpPr>
          <a:xfrm>
            <a:off x="669240" y="2068920"/>
            <a:ext cx="791640" cy="646560"/>
            <a:chOff x="669240" y="2068920"/>
            <a:chExt cx="791640" cy="646560"/>
          </a:xfrm>
        </p:grpSpPr>
        <p:sp>
          <p:nvSpPr>
            <p:cNvPr id="114" name="矩形 1"/>
            <p:cNvSpPr/>
            <p:nvPr/>
          </p:nvSpPr>
          <p:spPr>
            <a:xfrm>
              <a:off x="669240" y="2068920"/>
              <a:ext cx="791640" cy="39744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  <a:ea typeface="宋体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3"/>
            <p:cNvSpPr/>
            <p:nvPr/>
          </p:nvSpPr>
          <p:spPr>
            <a:xfrm>
              <a:off x="669240" y="2503440"/>
              <a:ext cx="791640" cy="212040"/>
            </a:xfrm>
            <a:prstGeom prst="rect">
              <a:avLst/>
            </a:prstGeom>
            <a:solidFill>
              <a:srgbClr val="2626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chemeClr val="lt1"/>
                  </a:solidFill>
                  <a:latin typeface="Calibri"/>
                  <a:ea typeface="宋体"/>
                </a:rPr>
                <a:t>DE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组合 6"/>
          <p:cNvGrpSpPr/>
          <p:nvPr/>
        </p:nvGrpSpPr>
        <p:grpSpPr>
          <a:xfrm>
            <a:off x="1814760" y="3996720"/>
            <a:ext cx="3511080" cy="1701360"/>
            <a:chOff x="1814760" y="3996720"/>
            <a:chExt cx="3511080" cy="1701360"/>
          </a:xfrm>
        </p:grpSpPr>
        <p:sp>
          <p:nvSpPr>
            <p:cNvPr id="117" name="文本框 7"/>
            <p:cNvSpPr/>
            <p:nvPr/>
          </p:nvSpPr>
          <p:spPr>
            <a:xfrm>
              <a:off x="1814760" y="4374000"/>
              <a:ext cx="351108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文本框 5"/>
            <p:cNvSpPr/>
            <p:nvPr/>
          </p:nvSpPr>
          <p:spPr>
            <a:xfrm>
              <a:off x="1814760" y="3996720"/>
              <a:ext cx="26143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tw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22"/>
          <p:cNvGrpSpPr/>
          <p:nvPr/>
        </p:nvGrpSpPr>
        <p:grpSpPr>
          <a:xfrm>
            <a:off x="669240" y="4127400"/>
            <a:ext cx="791640" cy="646560"/>
            <a:chOff x="669240" y="4127400"/>
            <a:chExt cx="791640" cy="646560"/>
          </a:xfrm>
        </p:grpSpPr>
        <p:sp>
          <p:nvSpPr>
            <p:cNvPr id="120" name="矩形 23"/>
            <p:cNvSpPr/>
            <p:nvPr/>
          </p:nvSpPr>
          <p:spPr>
            <a:xfrm>
              <a:off x="669240" y="4127400"/>
              <a:ext cx="791640" cy="39744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  <a:ea typeface="宋体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24"/>
            <p:cNvSpPr/>
            <p:nvPr/>
          </p:nvSpPr>
          <p:spPr>
            <a:xfrm>
              <a:off x="669240" y="4561920"/>
              <a:ext cx="791640" cy="212040"/>
            </a:xfrm>
            <a:prstGeom prst="rect">
              <a:avLst/>
            </a:prstGeom>
            <a:solidFill>
              <a:srgbClr val="2626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chemeClr val="lt1"/>
                  </a:solidFill>
                  <a:latin typeface="Calibri"/>
                  <a:ea typeface="宋体"/>
                </a:rPr>
                <a:t>JA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3"/>
          <p:cNvSpPr/>
          <p:nvPr/>
        </p:nvSpPr>
        <p:spPr>
          <a:xfrm>
            <a:off x="1195920" y="1974960"/>
            <a:ext cx="1898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$80,0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7"/>
          <p:cNvSpPr/>
          <p:nvPr/>
        </p:nvSpPr>
        <p:spPr>
          <a:xfrm>
            <a:off x="546120" y="2355840"/>
            <a:ext cx="5022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 want to play a game. I want to play a game. I want to play a game. I want to play a g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直接连接符 8"/>
          <p:cNvCxnSpPr/>
          <p:nvPr/>
        </p:nvCxnSpPr>
        <p:spPr>
          <a:xfrm>
            <a:off x="6086160" y="2415960"/>
            <a:ext cx="360" cy="177372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sp>
        <p:nvSpPr>
          <p:cNvPr id="125" name="矩形 9"/>
          <p:cNvSpPr/>
          <p:nvPr/>
        </p:nvSpPr>
        <p:spPr>
          <a:xfrm>
            <a:off x="5400720" y="4633920"/>
            <a:ext cx="1447560" cy="4647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组合 10"/>
          <p:cNvGrpSpPr/>
          <p:nvPr/>
        </p:nvGrpSpPr>
        <p:grpSpPr>
          <a:xfrm>
            <a:off x="6905520" y="1974960"/>
            <a:ext cx="5022360" cy="1293480"/>
            <a:chOff x="6905520" y="1974960"/>
            <a:chExt cx="5022360" cy="1293480"/>
          </a:xfrm>
        </p:grpSpPr>
        <p:sp>
          <p:nvSpPr>
            <p:cNvPr id="127" name="文本框 12"/>
            <p:cNvSpPr/>
            <p:nvPr/>
          </p:nvSpPr>
          <p:spPr>
            <a:xfrm>
              <a:off x="7686000" y="1974960"/>
              <a:ext cx="1898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$60,000.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文本框 7"/>
            <p:cNvSpPr/>
            <p:nvPr/>
          </p:nvSpPr>
          <p:spPr>
            <a:xfrm>
              <a:off x="6905520" y="2355840"/>
              <a:ext cx="50223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55"/>
          <p:cNvGrpSpPr/>
          <p:nvPr/>
        </p:nvGrpSpPr>
        <p:grpSpPr>
          <a:xfrm>
            <a:off x="485640" y="4146480"/>
            <a:ext cx="1898280" cy="1990080"/>
            <a:chOff x="485640" y="4146480"/>
            <a:chExt cx="1898280" cy="1990080"/>
          </a:xfrm>
        </p:grpSpPr>
        <p:grpSp>
          <p:nvGrpSpPr>
            <p:cNvPr id="130" name="组合 46"/>
            <p:cNvGrpSpPr/>
            <p:nvPr/>
          </p:nvGrpSpPr>
          <p:grpSpPr>
            <a:xfrm>
              <a:off x="714240" y="4146480"/>
              <a:ext cx="1441080" cy="1439640"/>
              <a:chOff x="714240" y="4146480"/>
              <a:chExt cx="1441080" cy="1439640"/>
            </a:xfrm>
          </p:grpSpPr>
          <p:sp>
            <p:nvSpPr>
              <p:cNvPr id="131" name="任意多边形 19"/>
              <p:cNvSpPr/>
              <p:nvPr/>
            </p:nvSpPr>
            <p:spPr>
              <a:xfrm>
                <a:off x="714240" y="4146480"/>
                <a:ext cx="1441080" cy="143964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720000" y="180000"/>
                    </a:moveTo>
                    <a:cubicBezTo>
                      <a:pt x="421766" y="180000"/>
                      <a:pt x="180000" y="421766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1018234" y="1260000"/>
                      <a:pt x="1260000" y="1018234"/>
                      <a:pt x="1260000" y="720000"/>
                    </a:cubicBezTo>
                    <a:cubicBezTo>
                      <a:pt x="1260000" y="421766"/>
                      <a:pt x="1018234" y="180000"/>
                      <a:pt x="720000" y="180000"/>
                    </a:cubicBezTo>
                    <a:close/>
                    <a:moveTo>
                      <a:pt x="720000" y="0"/>
                    </a:moveTo>
                    <a:cubicBezTo>
                      <a:pt x="1117645" y="0"/>
                      <a:pt x="1440000" y="322355"/>
                      <a:pt x="1440000" y="720000"/>
                    </a:cubicBezTo>
                    <a:cubicBezTo>
                      <a:pt x="1440000" y="1117645"/>
                      <a:pt x="1117645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322355"/>
                      <a:pt x="322355" y="0"/>
                      <a:pt x="720000" y="0"/>
                    </a:cubicBezTo>
                    <a:close/>
                  </a:path>
                </a:pathLst>
              </a:custGeom>
              <a:solidFill>
                <a:srgbClr val="40404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32" name="任意多边形 42"/>
              <p:cNvSpPr/>
              <p:nvPr/>
            </p:nvSpPr>
            <p:spPr>
              <a:xfrm>
                <a:off x="714240" y="4146480"/>
                <a:ext cx="1441080" cy="143964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133765" y="304351"/>
                    </a:moveTo>
                    <a:lnTo>
                      <a:pt x="119464" y="323891"/>
                    </a:lnTo>
                    <a:lnTo>
                      <a:pt x="122965" y="317441"/>
                    </a:lnTo>
                    <a:close/>
                    <a:moveTo>
                      <a:pt x="218055" y="204966"/>
                    </a:moveTo>
                    <a:lnTo>
                      <a:pt x="200261" y="223758"/>
                    </a:lnTo>
                    <a:lnTo>
                      <a:pt x="210883" y="210883"/>
                    </a:lnTo>
                    <a:close/>
                    <a:moveTo>
                      <a:pt x="332546" y="114766"/>
                    </a:moveTo>
                    <a:lnTo>
                      <a:pt x="310528" y="128669"/>
                    </a:lnTo>
                    <a:lnTo>
                      <a:pt x="317441" y="122965"/>
                    </a:lnTo>
                    <a:close/>
                    <a:moveTo>
                      <a:pt x="446740" y="54410"/>
                    </a:moveTo>
                    <a:lnTo>
                      <a:pt x="424470" y="64871"/>
                    </a:lnTo>
                    <a:lnTo>
                      <a:pt x="439744" y="56581"/>
                    </a:lnTo>
                    <a:close/>
                    <a:moveTo>
                      <a:pt x="613292" y="8768"/>
                    </a:moveTo>
                    <a:lnTo>
                      <a:pt x="562112" y="18596"/>
                    </a:lnTo>
                    <a:lnTo>
                      <a:pt x="574895" y="14628"/>
                    </a:lnTo>
                    <a:close/>
                    <a:moveTo>
                      <a:pt x="720000" y="0"/>
                    </a:moveTo>
                    <a:lnTo>
                      <a:pt x="635657" y="5354"/>
                    </a:lnTo>
                    <a:lnTo>
                      <a:pt x="646384" y="3717"/>
                    </a:lnTo>
                    <a:cubicBezTo>
                      <a:pt x="670588" y="1259"/>
                      <a:pt x="695147" y="0"/>
                      <a:pt x="720000" y="0"/>
                    </a:cubicBezTo>
                    <a:close/>
                    <a:moveTo>
                      <a:pt x="720000" y="0"/>
                    </a:moveTo>
                    <a:cubicBezTo>
                      <a:pt x="1117645" y="0"/>
                      <a:pt x="1440000" y="322355"/>
                      <a:pt x="1440000" y="720000"/>
                    </a:cubicBezTo>
                    <a:cubicBezTo>
                      <a:pt x="1440000" y="1117645"/>
                      <a:pt x="1117645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620589"/>
                      <a:pt x="20147" y="525883"/>
                      <a:pt x="56581" y="439744"/>
                    </a:cubicBezTo>
                    <a:lnTo>
                      <a:pt x="114416" y="333192"/>
                    </a:lnTo>
                    <a:lnTo>
                      <a:pt x="265812" y="429894"/>
                    </a:lnTo>
                    <a:lnTo>
                      <a:pt x="222436" y="509808"/>
                    </a:lnTo>
                    <a:cubicBezTo>
                      <a:pt x="195110" y="574412"/>
                      <a:pt x="180000" y="645442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1018234" y="1260000"/>
                      <a:pt x="1260000" y="1018234"/>
                      <a:pt x="1260000" y="720000"/>
                    </a:cubicBezTo>
                    <a:cubicBezTo>
                      <a:pt x="1260000" y="421766"/>
                      <a:pt x="1018234" y="180000"/>
                      <a:pt x="720000" y="180000"/>
                    </a:cubicBezTo>
                    <a:close/>
                  </a:path>
                </a:pathLst>
              </a:custGeom>
              <a:solidFill>
                <a:srgbClr val="01b0f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133" name="文本框 50"/>
            <p:cNvSpPr/>
            <p:nvPr/>
          </p:nvSpPr>
          <p:spPr>
            <a:xfrm>
              <a:off x="485640" y="5772600"/>
              <a:ext cx="18982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56"/>
          <p:cNvGrpSpPr/>
          <p:nvPr/>
        </p:nvGrpSpPr>
        <p:grpSpPr>
          <a:xfrm>
            <a:off x="2979720" y="4146480"/>
            <a:ext cx="1898280" cy="1990080"/>
            <a:chOff x="2979720" y="4146480"/>
            <a:chExt cx="1898280" cy="1990080"/>
          </a:xfrm>
        </p:grpSpPr>
        <p:grpSp>
          <p:nvGrpSpPr>
            <p:cNvPr id="135" name="组合 48"/>
            <p:cNvGrpSpPr/>
            <p:nvPr/>
          </p:nvGrpSpPr>
          <p:grpSpPr>
            <a:xfrm>
              <a:off x="3208320" y="4146480"/>
              <a:ext cx="1441080" cy="1439640"/>
              <a:chOff x="3208320" y="4146480"/>
              <a:chExt cx="1441080" cy="1439640"/>
            </a:xfrm>
          </p:grpSpPr>
          <p:sp>
            <p:nvSpPr>
              <p:cNvPr id="136" name="任意多边形 34"/>
              <p:cNvSpPr/>
              <p:nvPr/>
            </p:nvSpPr>
            <p:spPr>
              <a:xfrm>
                <a:off x="3208320" y="4146480"/>
                <a:ext cx="1441080" cy="143964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720000" y="180000"/>
                    </a:moveTo>
                    <a:cubicBezTo>
                      <a:pt x="421766" y="180000"/>
                      <a:pt x="180000" y="421766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1018234" y="1260000"/>
                      <a:pt x="1260000" y="1018234"/>
                      <a:pt x="1260000" y="720000"/>
                    </a:cubicBezTo>
                    <a:cubicBezTo>
                      <a:pt x="1260000" y="421766"/>
                      <a:pt x="1018234" y="180000"/>
                      <a:pt x="720000" y="180000"/>
                    </a:cubicBezTo>
                    <a:close/>
                    <a:moveTo>
                      <a:pt x="720000" y="0"/>
                    </a:moveTo>
                    <a:cubicBezTo>
                      <a:pt x="1117645" y="0"/>
                      <a:pt x="1440000" y="322355"/>
                      <a:pt x="1440000" y="720000"/>
                    </a:cubicBezTo>
                    <a:cubicBezTo>
                      <a:pt x="1440000" y="1117645"/>
                      <a:pt x="1117645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322355"/>
                      <a:pt x="322355" y="0"/>
                      <a:pt x="720000" y="0"/>
                    </a:cubicBezTo>
                    <a:close/>
                  </a:path>
                </a:pathLst>
              </a:custGeom>
              <a:solidFill>
                <a:srgbClr val="40404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37" name="任意多边形 45"/>
              <p:cNvSpPr/>
              <p:nvPr/>
            </p:nvSpPr>
            <p:spPr>
              <a:xfrm>
                <a:off x="3208320" y="4146480"/>
                <a:ext cx="1441080" cy="143964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567170" y="1422974"/>
                    </a:moveTo>
                    <a:lnTo>
                      <a:pt x="694165" y="1438696"/>
                    </a:lnTo>
                    <a:lnTo>
                      <a:pt x="646384" y="1436283"/>
                    </a:lnTo>
                    <a:cubicBezTo>
                      <a:pt x="622180" y="1433825"/>
                      <a:pt x="598330" y="1430168"/>
                      <a:pt x="574895" y="1425372"/>
                    </a:cubicBezTo>
                    <a:close/>
                    <a:moveTo>
                      <a:pt x="433213" y="1379874"/>
                    </a:moveTo>
                    <a:lnTo>
                      <a:pt x="498269" y="1401586"/>
                    </a:lnTo>
                    <a:lnTo>
                      <a:pt x="439744" y="1383419"/>
                    </a:lnTo>
                    <a:close/>
                    <a:moveTo>
                      <a:pt x="312177" y="1312692"/>
                    </a:moveTo>
                    <a:lnTo>
                      <a:pt x="369950" y="1345536"/>
                    </a:lnTo>
                    <a:lnTo>
                      <a:pt x="317441" y="1317035"/>
                    </a:lnTo>
                    <a:close/>
                    <a:moveTo>
                      <a:pt x="206852" y="1224231"/>
                    </a:moveTo>
                    <a:lnTo>
                      <a:pt x="256870" y="1267060"/>
                    </a:lnTo>
                    <a:lnTo>
                      <a:pt x="210883" y="1229117"/>
                    </a:lnTo>
                    <a:close/>
                    <a:moveTo>
                      <a:pt x="120161" y="1117393"/>
                    </a:moveTo>
                    <a:lnTo>
                      <a:pt x="161572" y="1169352"/>
                    </a:lnTo>
                    <a:lnTo>
                      <a:pt x="122965" y="1122559"/>
                    </a:lnTo>
                    <a:close/>
                    <a:moveTo>
                      <a:pt x="54996" y="995149"/>
                    </a:moveTo>
                    <a:lnTo>
                      <a:pt x="86075" y="1054595"/>
                    </a:lnTo>
                    <a:lnTo>
                      <a:pt x="56581" y="1000257"/>
                    </a:lnTo>
                    <a:close/>
                    <a:moveTo>
                      <a:pt x="13648" y="858685"/>
                    </a:moveTo>
                    <a:lnTo>
                      <a:pt x="33108" y="924637"/>
                    </a:lnTo>
                    <a:lnTo>
                      <a:pt x="14628" y="865105"/>
                    </a:lnTo>
                    <a:close/>
                    <a:moveTo>
                      <a:pt x="290" y="714267"/>
                    </a:moveTo>
                    <a:lnTo>
                      <a:pt x="12174" y="849027"/>
                    </a:lnTo>
                    <a:lnTo>
                      <a:pt x="3717" y="793616"/>
                    </a:lnTo>
                    <a:cubicBezTo>
                      <a:pt x="1259" y="769412"/>
                      <a:pt x="0" y="744853"/>
                      <a:pt x="0" y="720000"/>
                    </a:cubicBezTo>
                    <a:close/>
                    <a:moveTo>
                      <a:pt x="15743" y="571301"/>
                    </a:moveTo>
                    <a:lnTo>
                      <a:pt x="736" y="705417"/>
                    </a:lnTo>
                    <a:lnTo>
                      <a:pt x="3717" y="646384"/>
                    </a:lnTo>
                    <a:cubicBezTo>
                      <a:pt x="6175" y="622180"/>
                      <a:pt x="9832" y="598330"/>
                      <a:pt x="14628" y="574895"/>
                    </a:cubicBezTo>
                    <a:close/>
                    <a:moveTo>
                      <a:pt x="58099" y="436948"/>
                    </a:moveTo>
                    <a:lnTo>
                      <a:pt x="37937" y="499805"/>
                    </a:lnTo>
                    <a:lnTo>
                      <a:pt x="56581" y="439744"/>
                    </a:lnTo>
                    <a:close/>
                    <a:moveTo>
                      <a:pt x="124633" y="315420"/>
                    </a:moveTo>
                    <a:lnTo>
                      <a:pt x="93986" y="370830"/>
                    </a:lnTo>
                    <a:lnTo>
                      <a:pt x="122965" y="317441"/>
                    </a:lnTo>
                    <a:close/>
                    <a:moveTo>
                      <a:pt x="212515" y="209537"/>
                    </a:moveTo>
                    <a:lnTo>
                      <a:pt x="173106" y="256670"/>
                    </a:lnTo>
                    <a:lnTo>
                      <a:pt x="210883" y="210883"/>
                    </a:lnTo>
                    <a:close/>
                    <a:moveTo>
                      <a:pt x="318883" y="122182"/>
                    </a:moveTo>
                    <a:lnTo>
                      <a:pt x="272086" y="160386"/>
                    </a:lnTo>
                    <a:lnTo>
                      <a:pt x="317441" y="122965"/>
                    </a:lnTo>
                    <a:close/>
                    <a:moveTo>
                      <a:pt x="440840" y="56241"/>
                    </a:moveTo>
                    <a:lnTo>
                      <a:pt x="389127" y="84055"/>
                    </a:lnTo>
                    <a:lnTo>
                      <a:pt x="439744" y="56581"/>
                    </a:lnTo>
                    <a:close/>
                    <a:moveTo>
                      <a:pt x="575693" y="14506"/>
                    </a:moveTo>
                    <a:lnTo>
                      <a:pt x="526480" y="29657"/>
                    </a:lnTo>
                    <a:lnTo>
                      <a:pt x="574895" y="14628"/>
                    </a:lnTo>
                    <a:close/>
                    <a:moveTo>
                      <a:pt x="720001" y="0"/>
                    </a:moveTo>
                    <a:lnTo>
                      <a:pt x="793616" y="3717"/>
                    </a:lnTo>
                    <a:cubicBezTo>
                      <a:pt x="1156680" y="40589"/>
                      <a:pt x="1440000" y="347208"/>
                      <a:pt x="1440000" y="720000"/>
                    </a:cubicBezTo>
                    <a:cubicBezTo>
                      <a:pt x="1440000" y="1117645"/>
                      <a:pt x="1117645" y="1440000"/>
                      <a:pt x="720000" y="1440000"/>
                    </a:cubicBezTo>
                    <a:lnTo>
                      <a:pt x="703119" y="1439148"/>
                    </a:lnTo>
                    <a:lnTo>
                      <a:pt x="707354" y="1258725"/>
                    </a:lnTo>
                    <a:lnTo>
                      <a:pt x="720000" y="1260000"/>
                    </a:lnTo>
                    <a:cubicBezTo>
                      <a:pt x="1018234" y="1260000"/>
                      <a:pt x="1260000" y="1018234"/>
                      <a:pt x="1260000" y="720000"/>
                    </a:cubicBezTo>
                    <a:cubicBezTo>
                      <a:pt x="1260000" y="459045"/>
                      <a:pt x="1074898" y="241324"/>
                      <a:pt x="828829" y="190971"/>
                    </a:cubicBezTo>
                    <a:lnTo>
                      <a:pt x="720001" y="180000"/>
                    </a:lnTo>
                    <a:close/>
                    <a:moveTo>
                      <a:pt x="720000" y="0"/>
                    </a:moveTo>
                    <a:lnTo>
                      <a:pt x="720001" y="0"/>
                    </a:lnTo>
                    <a:lnTo>
                      <a:pt x="577040" y="14300"/>
                    </a:lnTo>
                    <a:lnTo>
                      <a:pt x="646384" y="3717"/>
                    </a:lnTo>
                    <a:cubicBezTo>
                      <a:pt x="670588" y="1259"/>
                      <a:pt x="695147" y="0"/>
                      <a:pt x="720000" y="0"/>
                    </a:cubicBezTo>
                    <a:close/>
                  </a:path>
                </a:pathLst>
              </a:custGeom>
              <a:solidFill>
                <a:srgbClr val="01b0f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138" name="文本框 52"/>
            <p:cNvSpPr/>
            <p:nvPr/>
          </p:nvSpPr>
          <p:spPr>
            <a:xfrm>
              <a:off x="2979720" y="5772600"/>
              <a:ext cx="18982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57"/>
          <p:cNvGrpSpPr/>
          <p:nvPr/>
        </p:nvGrpSpPr>
        <p:grpSpPr>
          <a:xfrm>
            <a:off x="7288200" y="4146480"/>
            <a:ext cx="1898280" cy="1990080"/>
            <a:chOff x="7288200" y="4146480"/>
            <a:chExt cx="1898280" cy="1990080"/>
          </a:xfrm>
        </p:grpSpPr>
        <p:grpSp>
          <p:nvGrpSpPr>
            <p:cNvPr id="140" name="组合 47"/>
            <p:cNvGrpSpPr/>
            <p:nvPr/>
          </p:nvGrpSpPr>
          <p:grpSpPr>
            <a:xfrm>
              <a:off x="7516440" y="4146480"/>
              <a:ext cx="1441440" cy="1439640"/>
              <a:chOff x="7516440" y="4146480"/>
              <a:chExt cx="1441440" cy="1439640"/>
            </a:xfrm>
          </p:grpSpPr>
          <p:sp>
            <p:nvSpPr>
              <p:cNvPr id="141" name="任意多边形 28"/>
              <p:cNvSpPr/>
              <p:nvPr/>
            </p:nvSpPr>
            <p:spPr>
              <a:xfrm>
                <a:off x="7516800" y="4146480"/>
                <a:ext cx="1441080" cy="143964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720000" y="180000"/>
                    </a:moveTo>
                    <a:cubicBezTo>
                      <a:pt x="421766" y="180000"/>
                      <a:pt x="180000" y="421766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1018234" y="1260000"/>
                      <a:pt x="1260000" y="1018234"/>
                      <a:pt x="1260000" y="720000"/>
                    </a:cubicBezTo>
                    <a:cubicBezTo>
                      <a:pt x="1260000" y="421766"/>
                      <a:pt x="1018234" y="180000"/>
                      <a:pt x="720000" y="180000"/>
                    </a:cubicBezTo>
                    <a:close/>
                    <a:moveTo>
                      <a:pt x="720000" y="0"/>
                    </a:moveTo>
                    <a:cubicBezTo>
                      <a:pt x="1117645" y="0"/>
                      <a:pt x="1440000" y="322355"/>
                      <a:pt x="1440000" y="720000"/>
                    </a:cubicBezTo>
                    <a:cubicBezTo>
                      <a:pt x="1440000" y="1117645"/>
                      <a:pt x="1117645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322355"/>
                      <a:pt x="322355" y="0"/>
                      <a:pt x="720000" y="0"/>
                    </a:cubicBezTo>
                    <a:close/>
                  </a:path>
                </a:pathLst>
              </a:custGeom>
              <a:solidFill>
                <a:srgbClr val="40404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42" name="任意多边形 30"/>
              <p:cNvSpPr/>
              <p:nvPr/>
            </p:nvSpPr>
            <p:spPr>
              <a:xfrm flipH="1">
                <a:off x="7516080" y="4146480"/>
                <a:ext cx="1441080" cy="1439640"/>
              </a:xfrm>
              <a:custGeom>
                <a:avLst/>
                <a:gdLst>
                  <a:gd name="textAreaLeft" fmla="*/ -360 w 1441080"/>
                  <a:gd name="textAreaRight" fmla="*/ 144108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720000" y="0"/>
                    </a:moveTo>
                    <a:lnTo>
                      <a:pt x="720000" y="180000"/>
                    </a:lnTo>
                    <a:cubicBezTo>
                      <a:pt x="421766" y="180000"/>
                      <a:pt x="180000" y="421766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1018234" y="1260000"/>
                      <a:pt x="1260000" y="1018234"/>
                      <a:pt x="1260000" y="720000"/>
                    </a:cubicBezTo>
                    <a:lnTo>
                      <a:pt x="1440000" y="720000"/>
                    </a:lnTo>
                    <a:cubicBezTo>
                      <a:pt x="1440000" y="1117645"/>
                      <a:pt x="1117645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322355"/>
                      <a:pt x="322355" y="0"/>
                      <a:pt x="720000" y="0"/>
                    </a:cubicBezTo>
                    <a:close/>
                  </a:path>
                </a:pathLst>
              </a:custGeom>
              <a:solidFill>
                <a:srgbClr val="01b0f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143" name="文本框 53"/>
            <p:cNvSpPr/>
            <p:nvPr/>
          </p:nvSpPr>
          <p:spPr>
            <a:xfrm>
              <a:off x="7288200" y="5772600"/>
              <a:ext cx="18982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58"/>
          <p:cNvGrpSpPr/>
          <p:nvPr/>
        </p:nvGrpSpPr>
        <p:grpSpPr>
          <a:xfrm>
            <a:off x="9850320" y="4146480"/>
            <a:ext cx="1898280" cy="1990080"/>
            <a:chOff x="9850320" y="4146480"/>
            <a:chExt cx="1898280" cy="1990080"/>
          </a:xfrm>
        </p:grpSpPr>
        <p:grpSp>
          <p:nvGrpSpPr>
            <p:cNvPr id="145" name="组合 49"/>
            <p:cNvGrpSpPr/>
            <p:nvPr/>
          </p:nvGrpSpPr>
          <p:grpSpPr>
            <a:xfrm>
              <a:off x="10078560" y="4146480"/>
              <a:ext cx="1441440" cy="1439640"/>
              <a:chOff x="10078560" y="4146480"/>
              <a:chExt cx="1441440" cy="1439640"/>
            </a:xfrm>
          </p:grpSpPr>
          <p:sp>
            <p:nvSpPr>
              <p:cNvPr id="146" name="任意多边形 36"/>
              <p:cNvSpPr/>
              <p:nvPr/>
            </p:nvSpPr>
            <p:spPr>
              <a:xfrm>
                <a:off x="10078920" y="4146480"/>
                <a:ext cx="1441080" cy="1439640"/>
              </a:xfrm>
              <a:custGeom>
                <a:avLst/>
                <a:gdLst>
                  <a:gd name="textAreaLeft" fmla="*/ 0 w 1441080"/>
                  <a:gd name="textAreaRight" fmla="*/ 144144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720000" y="180000"/>
                    </a:moveTo>
                    <a:cubicBezTo>
                      <a:pt x="421766" y="180000"/>
                      <a:pt x="180000" y="421766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1018234" y="1260000"/>
                      <a:pt x="1260000" y="1018234"/>
                      <a:pt x="1260000" y="720000"/>
                    </a:cubicBezTo>
                    <a:cubicBezTo>
                      <a:pt x="1260000" y="421766"/>
                      <a:pt x="1018234" y="180000"/>
                      <a:pt x="720000" y="180000"/>
                    </a:cubicBezTo>
                    <a:close/>
                    <a:moveTo>
                      <a:pt x="720000" y="0"/>
                    </a:moveTo>
                    <a:cubicBezTo>
                      <a:pt x="1117645" y="0"/>
                      <a:pt x="1440000" y="322355"/>
                      <a:pt x="1440000" y="720000"/>
                    </a:cubicBezTo>
                    <a:cubicBezTo>
                      <a:pt x="1440000" y="1117645"/>
                      <a:pt x="1117645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322355"/>
                      <a:pt x="322355" y="0"/>
                      <a:pt x="720000" y="0"/>
                    </a:cubicBezTo>
                    <a:close/>
                  </a:path>
                </a:pathLst>
              </a:custGeom>
              <a:solidFill>
                <a:srgbClr val="40404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47" name="任意多边形 38"/>
              <p:cNvSpPr/>
              <p:nvPr/>
            </p:nvSpPr>
            <p:spPr>
              <a:xfrm flipH="1">
                <a:off x="10078200" y="4146480"/>
                <a:ext cx="1441080" cy="1439640"/>
              </a:xfrm>
              <a:custGeom>
                <a:avLst/>
                <a:gdLst>
                  <a:gd name="textAreaLeft" fmla="*/ -360 w 1441080"/>
                  <a:gd name="textAreaRight" fmla="*/ 1441080 w 1441080"/>
                  <a:gd name="textAreaTop" fmla="*/ 0 h 1439640"/>
                  <a:gd name="textAreaBottom" fmla="*/ 1440000 h 1439640"/>
                </a:gdLst>
                <a:ahLst/>
                <a:rect l="textAreaLeft" t="textAreaTop" r="textAreaRight" b="textAreaBottom"/>
                <a:pathLst>
                  <a:path w="1440000" h="1440000">
                    <a:moveTo>
                      <a:pt x="1130888" y="1310164"/>
                    </a:moveTo>
                    <a:lnTo>
                      <a:pt x="1122559" y="1317036"/>
                    </a:lnTo>
                    <a:lnTo>
                      <a:pt x="1087754" y="1335927"/>
                    </a:lnTo>
                    <a:close/>
                    <a:moveTo>
                      <a:pt x="1230561" y="1227367"/>
                    </a:moveTo>
                    <a:lnTo>
                      <a:pt x="1229117" y="1229117"/>
                    </a:lnTo>
                    <a:lnTo>
                      <a:pt x="1213503" y="1242000"/>
                    </a:lnTo>
                    <a:close/>
                    <a:moveTo>
                      <a:pt x="1332387" y="1094276"/>
                    </a:moveTo>
                    <a:lnTo>
                      <a:pt x="1317035" y="1122559"/>
                    </a:lnTo>
                    <a:lnTo>
                      <a:pt x="1313098" y="1127331"/>
                    </a:lnTo>
                    <a:close/>
                    <a:moveTo>
                      <a:pt x="1393667" y="967242"/>
                    </a:moveTo>
                    <a:lnTo>
                      <a:pt x="1383419" y="1000257"/>
                    </a:lnTo>
                    <a:lnTo>
                      <a:pt x="1375718" y="1014445"/>
                    </a:lnTo>
                    <a:close/>
                    <a:moveTo>
                      <a:pt x="1433756" y="810172"/>
                    </a:moveTo>
                    <a:lnTo>
                      <a:pt x="1425372" y="865105"/>
                    </a:lnTo>
                    <a:lnTo>
                      <a:pt x="1417984" y="888905"/>
                    </a:lnTo>
                    <a:close/>
                    <a:moveTo>
                      <a:pt x="1438638" y="693019"/>
                    </a:moveTo>
                    <a:lnTo>
                      <a:pt x="1440000" y="720000"/>
                    </a:lnTo>
                    <a:cubicBezTo>
                      <a:pt x="1440000" y="744853"/>
                      <a:pt x="1438741" y="769412"/>
                      <a:pt x="1436283" y="793616"/>
                    </a:cubicBezTo>
                    <a:lnTo>
                      <a:pt x="1435478" y="798886"/>
                    </a:lnTo>
                    <a:close/>
                    <a:moveTo>
                      <a:pt x="1422786" y="566565"/>
                    </a:moveTo>
                    <a:lnTo>
                      <a:pt x="1425372" y="574895"/>
                    </a:lnTo>
                    <a:cubicBezTo>
                      <a:pt x="1430168" y="598330"/>
                      <a:pt x="1433825" y="622180"/>
                      <a:pt x="1436283" y="646384"/>
                    </a:cubicBezTo>
                    <a:lnTo>
                      <a:pt x="1437493" y="670344"/>
                    </a:lnTo>
                    <a:close/>
                    <a:moveTo>
                      <a:pt x="1376951" y="427827"/>
                    </a:moveTo>
                    <a:lnTo>
                      <a:pt x="1383419" y="439744"/>
                    </a:lnTo>
                    <a:lnTo>
                      <a:pt x="1384969" y="444738"/>
                    </a:lnTo>
                    <a:lnTo>
                      <a:pt x="1383620" y="440557"/>
                    </a:lnTo>
                    <a:close/>
                    <a:moveTo>
                      <a:pt x="1295525" y="291370"/>
                    </a:moveTo>
                    <a:lnTo>
                      <a:pt x="1317035" y="317441"/>
                    </a:lnTo>
                    <a:lnTo>
                      <a:pt x="1321191" y="325099"/>
                    </a:lnTo>
                    <a:close/>
                    <a:moveTo>
                      <a:pt x="1204049" y="190200"/>
                    </a:moveTo>
                    <a:lnTo>
                      <a:pt x="1229117" y="210883"/>
                    </a:lnTo>
                    <a:lnTo>
                      <a:pt x="1239744" y="223763"/>
                    </a:lnTo>
                    <a:close/>
                    <a:moveTo>
                      <a:pt x="1098642" y="109983"/>
                    </a:moveTo>
                    <a:lnTo>
                      <a:pt x="1122559" y="122965"/>
                    </a:lnTo>
                    <a:lnTo>
                      <a:pt x="1141964" y="138975"/>
                    </a:lnTo>
                    <a:close/>
                    <a:moveTo>
                      <a:pt x="981520" y="50765"/>
                    </a:moveTo>
                    <a:lnTo>
                      <a:pt x="1000256" y="56581"/>
                    </a:lnTo>
                    <a:lnTo>
                      <a:pt x="1029214" y="72299"/>
                    </a:lnTo>
                    <a:close/>
                    <a:moveTo>
                      <a:pt x="849922" y="12311"/>
                    </a:moveTo>
                    <a:lnTo>
                      <a:pt x="865105" y="14628"/>
                    </a:lnTo>
                    <a:lnTo>
                      <a:pt x="899392" y="25271"/>
                    </a:lnTo>
                    <a:close/>
                    <a:moveTo>
                      <a:pt x="720000" y="0"/>
                    </a:moveTo>
                    <a:cubicBezTo>
                      <a:pt x="744853" y="0"/>
                      <a:pt x="769412" y="1259"/>
                      <a:pt x="793616" y="3717"/>
                    </a:cubicBezTo>
                    <a:lnTo>
                      <a:pt x="832590" y="9666"/>
                    </a:lnTo>
                    <a:lnTo>
                      <a:pt x="720000" y="1"/>
                    </a:lnTo>
                    <a:lnTo>
                      <a:pt x="720000" y="180000"/>
                    </a:lnTo>
                    <a:cubicBezTo>
                      <a:pt x="421766" y="180000"/>
                      <a:pt x="180000" y="421766"/>
                      <a:pt x="180000" y="720000"/>
                    </a:cubicBezTo>
                    <a:cubicBezTo>
                      <a:pt x="180000" y="1018234"/>
                      <a:pt x="421766" y="1260000"/>
                      <a:pt x="720000" y="1260000"/>
                    </a:cubicBezTo>
                    <a:cubicBezTo>
                      <a:pt x="794559" y="1260000"/>
                      <a:pt x="865588" y="1244890"/>
                      <a:pt x="930192" y="1217564"/>
                    </a:cubicBezTo>
                    <a:lnTo>
                      <a:pt x="955410" y="1203877"/>
                    </a:lnTo>
                    <a:lnTo>
                      <a:pt x="1033880" y="1365169"/>
                    </a:lnTo>
                    <a:lnTo>
                      <a:pt x="1000256" y="1383419"/>
                    </a:lnTo>
                    <a:cubicBezTo>
                      <a:pt x="914117" y="1419853"/>
                      <a:pt x="819411" y="1440000"/>
                      <a:pt x="720000" y="1440000"/>
                    </a:cubicBezTo>
                    <a:cubicBezTo>
                      <a:pt x="322355" y="1440000"/>
                      <a:pt x="0" y="1117645"/>
                      <a:pt x="0" y="720000"/>
                    </a:cubicBezTo>
                    <a:cubicBezTo>
                      <a:pt x="0" y="322355"/>
                      <a:pt x="322355" y="0"/>
                      <a:pt x="720000" y="0"/>
                    </a:cubicBezTo>
                    <a:close/>
                  </a:path>
                </a:pathLst>
              </a:custGeom>
              <a:solidFill>
                <a:srgbClr val="01b0f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148" name="文本框 54"/>
            <p:cNvSpPr/>
            <p:nvPr/>
          </p:nvSpPr>
          <p:spPr>
            <a:xfrm>
              <a:off x="9850320" y="5772600"/>
              <a:ext cx="18982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文本框 59"/>
          <p:cNvSpPr/>
          <p:nvPr/>
        </p:nvSpPr>
        <p:spPr>
          <a:xfrm>
            <a:off x="781200" y="4649760"/>
            <a:ext cx="1334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60"/>
          <p:cNvSpPr/>
          <p:nvPr/>
        </p:nvSpPr>
        <p:spPr>
          <a:xfrm>
            <a:off x="3267000" y="4649760"/>
            <a:ext cx="1334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61"/>
          <p:cNvSpPr/>
          <p:nvPr/>
        </p:nvSpPr>
        <p:spPr>
          <a:xfrm>
            <a:off x="7570800" y="4649760"/>
            <a:ext cx="1334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62"/>
          <p:cNvSpPr/>
          <p:nvPr/>
        </p:nvSpPr>
        <p:spPr>
          <a:xfrm>
            <a:off x="10132920" y="4633920"/>
            <a:ext cx="1334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23"/>
          <p:cNvGrpSpPr/>
          <p:nvPr/>
        </p:nvGrpSpPr>
        <p:grpSpPr>
          <a:xfrm>
            <a:off x="724320" y="1849320"/>
            <a:ext cx="359640" cy="515880"/>
            <a:chOff x="724320" y="1849320"/>
            <a:chExt cx="359640" cy="515880"/>
          </a:xfrm>
        </p:grpSpPr>
        <p:sp>
          <p:nvSpPr>
            <p:cNvPr id="155" name="圆角矩形 6"/>
            <p:cNvSpPr/>
            <p:nvPr/>
          </p:nvSpPr>
          <p:spPr>
            <a:xfrm>
              <a:off x="724320" y="1849320"/>
              <a:ext cx="359640" cy="509040"/>
            </a:xfrm>
            <a:prstGeom prst="roundRect">
              <a:avLst>
                <a:gd name="adj" fmla="val 16667"/>
              </a:avLst>
            </a:prstGeom>
            <a:noFill/>
            <a:ln w="5715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6" name="圆角矩形 10"/>
            <p:cNvSpPr/>
            <p:nvPr/>
          </p:nvSpPr>
          <p:spPr>
            <a:xfrm>
              <a:off x="724320" y="2238120"/>
              <a:ext cx="359640" cy="127080"/>
            </a:xfrm>
            <a:prstGeom prst="roundRect">
              <a:avLst>
                <a:gd name="adj" fmla="val 16667"/>
              </a:avLst>
            </a:prstGeom>
            <a:solidFill>
              <a:schemeClr val="tx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7" name="椭圆 12"/>
            <p:cNvSpPr/>
            <p:nvPr/>
          </p:nvSpPr>
          <p:spPr>
            <a:xfrm>
              <a:off x="862920" y="2273760"/>
              <a:ext cx="71640" cy="716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58" name="组合 22"/>
          <p:cNvGrpSpPr/>
          <p:nvPr/>
        </p:nvGrpSpPr>
        <p:grpSpPr>
          <a:xfrm>
            <a:off x="7005240" y="1946880"/>
            <a:ext cx="570960" cy="437040"/>
            <a:chOff x="7005240" y="1946880"/>
            <a:chExt cx="570960" cy="437040"/>
          </a:xfrm>
        </p:grpSpPr>
        <p:sp>
          <p:nvSpPr>
            <p:cNvPr id="159" name="矩形 14"/>
            <p:cNvSpPr/>
            <p:nvPr/>
          </p:nvSpPr>
          <p:spPr>
            <a:xfrm>
              <a:off x="7005240" y="1946880"/>
              <a:ext cx="570960" cy="333720"/>
            </a:xfrm>
            <a:prstGeom prst="rect">
              <a:avLst/>
            </a:prstGeom>
            <a:noFill/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cxnSp>
          <p:nvCxnSpPr>
            <p:cNvPr id="160" name="直接连接符 18"/>
            <p:cNvCxnSpPr>
              <a:stCxn id="159" idx="2"/>
            </p:cNvCxnSpPr>
            <p:nvPr/>
          </p:nvCxnSpPr>
          <p:spPr>
            <a:xfrm flipH="1">
              <a:off x="7290000" y="2280600"/>
              <a:ext cx="1080" cy="103680"/>
            </a:xfrm>
            <a:prstGeom prst="straightConnector1">
              <a:avLst/>
            </a:prstGeom>
            <a:ln w="38100">
              <a:solidFill>
                <a:srgbClr val="000000"/>
              </a:solidFill>
            </a:ln>
          </p:spPr>
        </p:cxnSp>
        <p:cxnSp>
          <p:nvCxnSpPr>
            <p:cNvPr id="161" name="直接连接符 21"/>
            <p:cNvCxnSpPr/>
            <p:nvPr/>
          </p:nvCxnSpPr>
          <p:spPr>
            <a:xfrm>
              <a:off x="7075440" y="2383920"/>
              <a:ext cx="429840" cy="360"/>
            </a:xfrm>
            <a:prstGeom prst="straightConnector1">
              <a:avLst/>
            </a:prstGeom>
            <a:ln w="38100">
              <a:solidFill>
                <a:srgbClr val="000000"/>
              </a:solidFill>
            </a:ln>
          </p:spPr>
        </p:cxnSp>
      </p:grpSp>
    </p:spTree>
  </p:cSld>
  <mc:AlternateContent>
    <mc:Choice Requires="p14">
      <p:transition spd="med" p14:dur="900"/>
    </mc:Choice>
    <mc:Fallback>
      <p:transition spd="med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椭圆 4"/>
          <p:cNvSpPr/>
          <p:nvPr/>
        </p:nvSpPr>
        <p:spPr>
          <a:xfrm>
            <a:off x="1706400" y="2141640"/>
            <a:ext cx="3239640" cy="3239640"/>
          </a:xfrm>
          <a:prstGeom prst="ellipse">
            <a:avLst/>
          </a:prstGeom>
          <a:noFill/>
          <a:ln>
            <a:solidFill>
              <a:srgbClr val="01b0f1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造字工房悦黑体验版纤细体"/>
              <a:ea typeface="造字工房悦黑体验版纤细体"/>
            </a:endParaRPr>
          </a:p>
        </p:txBody>
      </p:sp>
      <p:grpSp>
        <p:nvGrpSpPr>
          <p:cNvPr id="163" name="组合 8"/>
          <p:cNvGrpSpPr/>
          <p:nvPr/>
        </p:nvGrpSpPr>
        <p:grpSpPr>
          <a:xfrm>
            <a:off x="6564240" y="2457360"/>
            <a:ext cx="3511080" cy="2590200"/>
            <a:chOff x="6564240" y="2457360"/>
            <a:chExt cx="3511080" cy="2590200"/>
          </a:xfrm>
        </p:grpSpPr>
        <p:sp>
          <p:nvSpPr>
            <p:cNvPr id="164" name="文本框 7"/>
            <p:cNvSpPr/>
            <p:nvPr/>
          </p:nvSpPr>
          <p:spPr>
            <a:xfrm>
              <a:off x="6564240" y="3312000"/>
              <a:ext cx="3511080" cy="17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Hello,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文本框 10"/>
            <p:cNvSpPr/>
            <p:nvPr/>
          </p:nvSpPr>
          <p:spPr>
            <a:xfrm>
              <a:off x="6564240" y="2457360"/>
              <a:ext cx="18986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icture 12"/>
          <p:cNvSpPr/>
          <p:nvPr/>
        </p:nvSpPr>
        <p:spPr>
          <a:xfrm>
            <a:off x="1868760" y="2303640"/>
            <a:ext cx="2915640" cy="291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027800" y="64184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0" descr="手机"/>
          <p:cNvPicPr/>
          <p:nvPr/>
        </p:nvPicPr>
        <p:blipFill>
          <a:blip r:embed="rId1"/>
          <a:stretch/>
        </p:blipFill>
        <p:spPr>
          <a:xfrm>
            <a:off x="695160" y="474120"/>
            <a:ext cx="3939840" cy="5510520"/>
          </a:xfrm>
          <a:prstGeom prst="rect">
            <a:avLst/>
          </a:prstGeom>
          <a:ln w="0">
            <a:noFill/>
          </a:ln>
        </p:spPr>
      </p:pic>
      <p:grpSp>
        <p:nvGrpSpPr>
          <p:cNvPr id="170" name="组合 5"/>
          <p:cNvGrpSpPr/>
          <p:nvPr/>
        </p:nvGrpSpPr>
        <p:grpSpPr>
          <a:xfrm>
            <a:off x="6528240" y="1989000"/>
            <a:ext cx="5047560" cy="1290600"/>
            <a:chOff x="6528240" y="1989000"/>
            <a:chExt cx="5047560" cy="1290600"/>
          </a:xfrm>
        </p:grpSpPr>
        <p:sp>
          <p:nvSpPr>
            <p:cNvPr id="171" name="文本框 7"/>
            <p:cNvSpPr/>
            <p:nvPr/>
          </p:nvSpPr>
          <p:spPr>
            <a:xfrm>
              <a:off x="6528240" y="2367000"/>
              <a:ext cx="5047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7"/>
            <p:cNvSpPr/>
            <p:nvPr/>
          </p:nvSpPr>
          <p:spPr>
            <a:xfrm>
              <a:off x="6528240" y="1989000"/>
              <a:ext cx="2729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10"/>
          <p:cNvGrpSpPr/>
          <p:nvPr/>
        </p:nvGrpSpPr>
        <p:grpSpPr>
          <a:xfrm>
            <a:off x="6528240" y="3400560"/>
            <a:ext cx="5047560" cy="1266120"/>
            <a:chOff x="6528240" y="3400560"/>
            <a:chExt cx="5047560" cy="1266120"/>
          </a:xfrm>
        </p:grpSpPr>
        <p:sp>
          <p:nvSpPr>
            <p:cNvPr id="174" name="文本框 7"/>
            <p:cNvSpPr/>
            <p:nvPr/>
          </p:nvSpPr>
          <p:spPr>
            <a:xfrm>
              <a:off x="6528240" y="3754080"/>
              <a:ext cx="5047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12"/>
            <p:cNvSpPr/>
            <p:nvPr/>
          </p:nvSpPr>
          <p:spPr>
            <a:xfrm>
              <a:off x="6528240" y="3400560"/>
              <a:ext cx="2729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tw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15"/>
          <p:cNvGrpSpPr/>
          <p:nvPr/>
        </p:nvGrpSpPr>
        <p:grpSpPr>
          <a:xfrm>
            <a:off x="6528240" y="4821840"/>
            <a:ext cx="5047560" cy="1230840"/>
            <a:chOff x="6528240" y="4821840"/>
            <a:chExt cx="5047560" cy="1230840"/>
          </a:xfrm>
        </p:grpSpPr>
        <p:sp>
          <p:nvSpPr>
            <p:cNvPr id="177" name="文本框 7"/>
            <p:cNvSpPr/>
            <p:nvPr/>
          </p:nvSpPr>
          <p:spPr>
            <a:xfrm>
              <a:off x="6528240" y="5140080"/>
              <a:ext cx="50475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I want to play a ga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17"/>
            <p:cNvSpPr/>
            <p:nvPr/>
          </p:nvSpPr>
          <p:spPr>
            <a:xfrm>
              <a:off x="6528240" y="4821840"/>
              <a:ext cx="27295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thre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2"/>
          <p:cNvSpPr/>
          <p:nvPr/>
        </p:nvSpPr>
        <p:spPr>
          <a:xfrm>
            <a:off x="60562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图片 2"/>
          <p:cNvSpPr/>
          <p:nvPr/>
        </p:nvSpPr>
        <p:spPr>
          <a:xfrm>
            <a:off x="5880960" y="1989000"/>
            <a:ext cx="539640" cy="53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图片 3"/>
          <p:cNvSpPr/>
          <p:nvPr/>
        </p:nvSpPr>
        <p:spPr>
          <a:xfrm>
            <a:off x="5880960" y="3400560"/>
            <a:ext cx="539640" cy="539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图片 5"/>
          <p:cNvSpPr/>
          <p:nvPr/>
        </p:nvSpPr>
        <p:spPr>
          <a:xfrm>
            <a:off x="5880960" y="4746600"/>
            <a:ext cx="539640" cy="539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组合 14"/>
          <p:cNvGrpSpPr/>
          <p:nvPr/>
        </p:nvGrpSpPr>
        <p:grpSpPr>
          <a:xfrm>
            <a:off x="4095720" y="2190600"/>
            <a:ext cx="8229240" cy="4128840"/>
            <a:chOff x="4095720" y="2190600"/>
            <a:chExt cx="8229240" cy="4128840"/>
          </a:xfrm>
        </p:grpSpPr>
        <p:grpSp>
          <p:nvGrpSpPr>
            <p:cNvPr id="184" name="组合 3"/>
            <p:cNvGrpSpPr/>
            <p:nvPr/>
          </p:nvGrpSpPr>
          <p:grpSpPr>
            <a:xfrm>
              <a:off x="5143680" y="2190600"/>
              <a:ext cx="1331640" cy="1331640"/>
              <a:chOff x="5143680" y="2190600"/>
              <a:chExt cx="1331640" cy="1331640"/>
            </a:xfrm>
          </p:grpSpPr>
          <p:sp>
            <p:nvSpPr>
              <p:cNvPr id="185" name="椭圆 1"/>
              <p:cNvSpPr/>
              <p:nvPr/>
            </p:nvSpPr>
            <p:spPr>
              <a:xfrm>
                <a:off x="5143680" y="2190600"/>
                <a:ext cx="1331640" cy="1331640"/>
              </a:xfrm>
              <a:prstGeom prst="ellipse">
                <a:avLst/>
              </a:prstGeom>
              <a:noFill/>
              <a:ln w="76200">
                <a:solidFill>
                  <a:srgbClr val="01b0f1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186" name="文本框 2"/>
              <p:cNvSpPr/>
              <p:nvPr/>
            </p:nvSpPr>
            <p:spPr>
              <a:xfrm>
                <a:off x="5226840" y="2502720"/>
                <a:ext cx="116352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1b0f1"/>
                    </a:solidFill>
                    <a:latin typeface="造字工房悦黑体验版纤细体"/>
                    <a:ea typeface="造字工房悦黑体验版纤细体"/>
                  </a:rPr>
                  <a:t>Text He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组合 5"/>
            <p:cNvGrpSpPr/>
            <p:nvPr/>
          </p:nvGrpSpPr>
          <p:grpSpPr>
            <a:xfrm>
              <a:off x="7529400" y="2190600"/>
              <a:ext cx="1331640" cy="1331640"/>
              <a:chOff x="7529400" y="2190600"/>
              <a:chExt cx="1331640" cy="1331640"/>
            </a:xfrm>
          </p:grpSpPr>
          <p:sp>
            <p:nvSpPr>
              <p:cNvPr id="188" name="椭圆 6"/>
              <p:cNvSpPr/>
              <p:nvPr/>
            </p:nvSpPr>
            <p:spPr>
              <a:xfrm>
                <a:off x="7529400" y="2190600"/>
                <a:ext cx="1331640" cy="1331640"/>
              </a:xfrm>
              <a:prstGeom prst="ellipse">
                <a:avLst/>
              </a:prstGeom>
              <a:noFill/>
              <a:ln w="76200">
                <a:solidFill>
                  <a:srgbClr val="01b0f1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189" name="文本框 7"/>
              <p:cNvSpPr/>
              <p:nvPr/>
            </p:nvSpPr>
            <p:spPr>
              <a:xfrm>
                <a:off x="7613640" y="2502720"/>
                <a:ext cx="116352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1b0f1"/>
                    </a:solidFill>
                    <a:latin typeface="造字工房悦黑体验版纤细体"/>
                    <a:ea typeface="造字工房悦黑体验版纤细体"/>
                  </a:rPr>
                  <a:t>Text He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组合 8"/>
            <p:cNvGrpSpPr/>
            <p:nvPr/>
          </p:nvGrpSpPr>
          <p:grpSpPr>
            <a:xfrm>
              <a:off x="9917280" y="2190600"/>
              <a:ext cx="1331640" cy="1331640"/>
              <a:chOff x="9917280" y="2190600"/>
              <a:chExt cx="1331640" cy="1331640"/>
            </a:xfrm>
          </p:grpSpPr>
          <p:sp>
            <p:nvSpPr>
              <p:cNvPr id="191" name="椭圆 9"/>
              <p:cNvSpPr/>
              <p:nvPr/>
            </p:nvSpPr>
            <p:spPr>
              <a:xfrm>
                <a:off x="9917280" y="2190600"/>
                <a:ext cx="1331640" cy="1331640"/>
              </a:xfrm>
              <a:prstGeom prst="ellipse">
                <a:avLst/>
              </a:prstGeom>
              <a:noFill/>
              <a:ln w="76200">
                <a:solidFill>
                  <a:srgbClr val="01b0f1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192" name="文本框 10"/>
              <p:cNvSpPr/>
              <p:nvPr/>
            </p:nvSpPr>
            <p:spPr>
              <a:xfrm>
                <a:off x="10000800" y="2502720"/>
                <a:ext cx="116352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1b0f1"/>
                    </a:solidFill>
                    <a:latin typeface="造字工房悦黑体验版纤细体"/>
                    <a:ea typeface="造字工房悦黑体验版纤细体"/>
                  </a:rPr>
                  <a:t>Text Her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93" name="图表 12"/>
            <p:cNvGraphicFramePr/>
            <p:nvPr/>
          </p:nvGraphicFramePr>
          <p:xfrm>
            <a:off x="4095720" y="3844080"/>
            <a:ext cx="8229240" cy="2475360"/>
          </p:xfrm>
          <a:graphic>
            <a:graphicData uri="http://schemas.openxmlformats.org/presentationml/2006/ole">
              <p:oleObj progId="Excel.Chart.8" r:id="rId1" spid="">
                <p:embed/>
                <p:pic>
                  <p:nvPicPr>
                    <p:cNvPr id="194" name="图表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95720" y="3844080"/>
                      <a:ext cx="8229240" cy="247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文本框 13"/>
            <p:cNvSpPr/>
            <p:nvPr/>
          </p:nvSpPr>
          <p:spPr>
            <a:xfrm>
              <a:off x="5154480" y="447696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15"/>
            <p:cNvSpPr/>
            <p:nvPr/>
          </p:nvSpPr>
          <p:spPr>
            <a:xfrm>
              <a:off x="6076080" y="504504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16"/>
            <p:cNvSpPr/>
            <p:nvPr/>
          </p:nvSpPr>
          <p:spPr>
            <a:xfrm>
              <a:off x="6998760" y="516096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17"/>
            <p:cNvSpPr/>
            <p:nvPr/>
          </p:nvSpPr>
          <p:spPr>
            <a:xfrm>
              <a:off x="7916760" y="396216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18"/>
            <p:cNvSpPr/>
            <p:nvPr/>
          </p:nvSpPr>
          <p:spPr>
            <a:xfrm>
              <a:off x="8831880" y="485064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19"/>
            <p:cNvSpPr/>
            <p:nvPr/>
          </p:nvSpPr>
          <p:spPr>
            <a:xfrm>
              <a:off x="9737640" y="514692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20"/>
            <p:cNvSpPr/>
            <p:nvPr/>
          </p:nvSpPr>
          <p:spPr>
            <a:xfrm>
              <a:off x="10665720" y="4548240"/>
              <a:ext cx="581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10"/>
          <p:cNvGrpSpPr/>
          <p:nvPr/>
        </p:nvGrpSpPr>
        <p:grpSpPr>
          <a:xfrm>
            <a:off x="584280" y="2675520"/>
            <a:ext cx="4114440" cy="1317600"/>
            <a:chOff x="584280" y="2675520"/>
            <a:chExt cx="4114440" cy="1317600"/>
          </a:xfrm>
        </p:grpSpPr>
        <p:sp>
          <p:nvSpPr>
            <p:cNvPr id="203" name="文本框 12"/>
            <p:cNvSpPr/>
            <p:nvPr/>
          </p:nvSpPr>
          <p:spPr>
            <a:xfrm>
              <a:off x="584280" y="2675520"/>
              <a:ext cx="28000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7"/>
            <p:cNvSpPr/>
            <p:nvPr/>
          </p:nvSpPr>
          <p:spPr>
            <a:xfrm>
              <a:off x="646920" y="3080520"/>
              <a:ext cx="40518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10"/>
          <p:cNvGrpSpPr/>
          <p:nvPr/>
        </p:nvGrpSpPr>
        <p:grpSpPr>
          <a:xfrm>
            <a:off x="631800" y="4680000"/>
            <a:ext cx="4114440" cy="1317600"/>
            <a:chOff x="631800" y="4680000"/>
            <a:chExt cx="4114440" cy="1317600"/>
          </a:xfrm>
        </p:grpSpPr>
        <p:sp>
          <p:nvSpPr>
            <p:cNvPr id="206" name="文本框 12"/>
            <p:cNvSpPr/>
            <p:nvPr/>
          </p:nvSpPr>
          <p:spPr>
            <a:xfrm>
              <a:off x="631800" y="4680000"/>
              <a:ext cx="2871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1b0f1"/>
                  </a:solidFill>
                  <a:latin typeface="造字工房悦黑体验版纤细体"/>
                  <a:ea typeface="造字工房悦黑体验版纤细体"/>
                </a:rPr>
                <a:t>Topic header tw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文本框 7"/>
            <p:cNvSpPr/>
            <p:nvPr/>
          </p:nvSpPr>
          <p:spPr>
            <a:xfrm>
              <a:off x="694440" y="5085000"/>
              <a:ext cx="40518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 want to play a game. I want to play a game. I want to play a game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25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09" name="直接连接符 14"/>
          <p:cNvCxnSpPr/>
          <p:nvPr/>
        </p:nvCxnSpPr>
        <p:spPr>
          <a:xfrm flipV="1">
            <a:off x="1763640" y="3427200"/>
            <a:ext cx="8649000" cy="10080"/>
          </a:xfrm>
          <a:prstGeom prst="straightConnector1">
            <a:avLst/>
          </a:prstGeom>
          <a:ln w="38100">
            <a:solidFill>
              <a:srgbClr val="01b0f1"/>
            </a:solidFill>
          </a:ln>
        </p:spPr>
      </p:cxnSp>
      <p:sp>
        <p:nvSpPr>
          <p:cNvPr id="210" name="椭圆 2"/>
          <p:cNvSpPr/>
          <p:nvPr/>
        </p:nvSpPr>
        <p:spPr>
          <a:xfrm>
            <a:off x="5375160" y="2708280"/>
            <a:ext cx="1441080" cy="1439640"/>
          </a:xfrm>
          <a:prstGeom prst="ellipse">
            <a:avLst/>
          </a:prstGeom>
          <a:solidFill>
            <a:schemeClr val="bg1"/>
          </a:solidFill>
          <a:ln w="57150">
            <a:solidFill>
              <a:srgbClr val="01b0f1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直接连接符 11"/>
          <p:cNvCxnSpPr/>
          <p:nvPr/>
        </p:nvCxnSpPr>
        <p:spPr>
          <a:xfrm>
            <a:off x="1780920" y="3100320"/>
            <a:ext cx="360" cy="654120"/>
          </a:xfrm>
          <a:prstGeom prst="straightConnector1">
            <a:avLst/>
          </a:prstGeom>
          <a:ln w="38100">
            <a:solidFill>
              <a:srgbClr val="01b0f1"/>
            </a:solidFill>
          </a:ln>
        </p:spPr>
      </p:cxnSp>
      <p:cxnSp>
        <p:nvCxnSpPr>
          <p:cNvPr id="212" name="直接连接符 12"/>
          <p:cNvCxnSpPr/>
          <p:nvPr/>
        </p:nvCxnSpPr>
        <p:spPr>
          <a:xfrm>
            <a:off x="10412280" y="3100320"/>
            <a:ext cx="360" cy="654120"/>
          </a:xfrm>
          <a:prstGeom prst="straightConnector1">
            <a:avLst/>
          </a:prstGeom>
          <a:ln w="38100">
            <a:solidFill>
              <a:srgbClr val="01b0f1"/>
            </a:solidFill>
          </a:ln>
        </p:spPr>
      </p:cxnSp>
      <p:sp>
        <p:nvSpPr>
          <p:cNvPr id="213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21"/>
          <p:cNvGrpSpPr/>
          <p:nvPr/>
        </p:nvGrpSpPr>
        <p:grpSpPr>
          <a:xfrm>
            <a:off x="1423800" y="1593720"/>
            <a:ext cx="731520" cy="1117440"/>
            <a:chOff x="1423800" y="1593720"/>
            <a:chExt cx="731520" cy="1117440"/>
          </a:xfrm>
        </p:grpSpPr>
        <p:sp>
          <p:nvSpPr>
            <p:cNvPr id="215" name="椭圆 15"/>
            <p:cNvSpPr/>
            <p:nvPr/>
          </p:nvSpPr>
          <p:spPr>
            <a:xfrm>
              <a:off x="1425600" y="1992240"/>
              <a:ext cx="718920" cy="71892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216" name="文本框 19"/>
            <p:cNvSpPr/>
            <p:nvPr/>
          </p:nvSpPr>
          <p:spPr>
            <a:xfrm>
              <a:off x="1434960" y="1593720"/>
              <a:ext cx="720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图片 1"/>
            <p:cNvSpPr/>
            <p:nvPr/>
          </p:nvSpPr>
          <p:spPr>
            <a:xfrm>
              <a:off x="1423800" y="1982520"/>
              <a:ext cx="719640" cy="7196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22"/>
          <p:cNvGrpSpPr/>
          <p:nvPr/>
        </p:nvGrpSpPr>
        <p:grpSpPr>
          <a:xfrm>
            <a:off x="10063080" y="1582560"/>
            <a:ext cx="720360" cy="1116000"/>
            <a:chOff x="10063080" y="1582560"/>
            <a:chExt cx="720360" cy="1116000"/>
          </a:xfrm>
        </p:grpSpPr>
        <p:sp>
          <p:nvSpPr>
            <p:cNvPr id="219" name="椭圆 18"/>
            <p:cNvSpPr/>
            <p:nvPr/>
          </p:nvSpPr>
          <p:spPr>
            <a:xfrm>
              <a:off x="10063080" y="1978200"/>
              <a:ext cx="720360" cy="7203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220" name="文本框 20"/>
            <p:cNvSpPr/>
            <p:nvPr/>
          </p:nvSpPr>
          <p:spPr>
            <a:xfrm>
              <a:off x="10063080" y="1582560"/>
              <a:ext cx="720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图片 3"/>
            <p:cNvSpPr/>
            <p:nvPr/>
          </p:nvSpPr>
          <p:spPr>
            <a:xfrm>
              <a:off x="10063800" y="1969200"/>
              <a:ext cx="719640" cy="719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组合 20"/>
          <p:cNvGrpSpPr/>
          <p:nvPr/>
        </p:nvGrpSpPr>
        <p:grpSpPr>
          <a:xfrm>
            <a:off x="1409760" y="4152960"/>
            <a:ext cx="729000" cy="1127520"/>
            <a:chOff x="1409760" y="4152960"/>
            <a:chExt cx="729000" cy="1127520"/>
          </a:xfrm>
        </p:grpSpPr>
        <p:sp>
          <p:nvSpPr>
            <p:cNvPr id="223" name="椭圆 16"/>
            <p:cNvSpPr/>
            <p:nvPr/>
          </p:nvSpPr>
          <p:spPr>
            <a:xfrm>
              <a:off x="1419120" y="4152960"/>
              <a:ext cx="718920" cy="72036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224" name="文本框 22"/>
            <p:cNvSpPr/>
            <p:nvPr/>
          </p:nvSpPr>
          <p:spPr>
            <a:xfrm>
              <a:off x="1409760" y="4916520"/>
              <a:ext cx="720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图片 5"/>
            <p:cNvSpPr/>
            <p:nvPr/>
          </p:nvSpPr>
          <p:spPr>
            <a:xfrm>
              <a:off x="1419120" y="4155840"/>
              <a:ext cx="719640" cy="719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23"/>
          <p:cNvGrpSpPr/>
          <p:nvPr/>
        </p:nvGrpSpPr>
        <p:grpSpPr>
          <a:xfrm>
            <a:off x="10051920" y="4157640"/>
            <a:ext cx="731520" cy="1132200"/>
            <a:chOff x="10051920" y="4157640"/>
            <a:chExt cx="731520" cy="1132200"/>
          </a:xfrm>
        </p:grpSpPr>
        <p:sp>
          <p:nvSpPr>
            <p:cNvPr id="227" name="椭圆 17"/>
            <p:cNvSpPr/>
            <p:nvPr/>
          </p:nvSpPr>
          <p:spPr>
            <a:xfrm>
              <a:off x="10051920" y="4157640"/>
              <a:ext cx="720360" cy="71892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228" name="文本框 21"/>
            <p:cNvSpPr/>
            <p:nvPr/>
          </p:nvSpPr>
          <p:spPr>
            <a:xfrm>
              <a:off x="10063080" y="4925880"/>
              <a:ext cx="720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图片 7"/>
            <p:cNvSpPr/>
            <p:nvPr/>
          </p:nvSpPr>
          <p:spPr>
            <a:xfrm>
              <a:off x="10063080" y="4173480"/>
              <a:ext cx="719640" cy="7196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4"/>
          <p:cNvGrpSpPr/>
          <p:nvPr/>
        </p:nvGrpSpPr>
        <p:grpSpPr>
          <a:xfrm>
            <a:off x="3393720" y="2881080"/>
            <a:ext cx="1082520" cy="1085760"/>
            <a:chOff x="3393720" y="2881080"/>
            <a:chExt cx="1082520" cy="1085760"/>
          </a:xfrm>
        </p:grpSpPr>
        <p:sp>
          <p:nvSpPr>
            <p:cNvPr id="231" name="椭圆 8"/>
            <p:cNvSpPr/>
            <p:nvPr/>
          </p:nvSpPr>
          <p:spPr>
            <a:xfrm>
              <a:off x="3395520" y="2887560"/>
              <a:ext cx="1080720" cy="107928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232" name="图片 10"/>
            <p:cNvSpPr/>
            <p:nvPr/>
          </p:nvSpPr>
          <p:spPr>
            <a:xfrm>
              <a:off x="3393720" y="2881080"/>
              <a:ext cx="1079640" cy="10796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6"/>
          <p:cNvGrpSpPr/>
          <p:nvPr/>
        </p:nvGrpSpPr>
        <p:grpSpPr>
          <a:xfrm>
            <a:off x="7718400" y="2881080"/>
            <a:ext cx="1083600" cy="1085760"/>
            <a:chOff x="7718400" y="2881080"/>
            <a:chExt cx="1083600" cy="1085760"/>
          </a:xfrm>
        </p:grpSpPr>
        <p:sp>
          <p:nvSpPr>
            <p:cNvPr id="234" name="椭圆 9"/>
            <p:cNvSpPr/>
            <p:nvPr/>
          </p:nvSpPr>
          <p:spPr>
            <a:xfrm>
              <a:off x="7718400" y="2887560"/>
              <a:ext cx="1080720" cy="1079280"/>
            </a:xfrm>
            <a:prstGeom prst="ellipse">
              <a:avLst/>
            </a:prstGeom>
            <a:solidFill>
              <a:schemeClr val="bg1"/>
            </a:solidFill>
            <a:ln w="3810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造字工房悦黑体验版纤细体"/>
                <a:ea typeface="造字工房悦黑体验版纤细体"/>
              </a:endParaRPr>
            </a:p>
          </p:txBody>
        </p:sp>
        <p:sp>
          <p:nvSpPr>
            <p:cNvPr id="235" name="图片 13"/>
            <p:cNvSpPr/>
            <p:nvPr/>
          </p:nvSpPr>
          <p:spPr>
            <a:xfrm>
              <a:off x="7722360" y="2881080"/>
              <a:ext cx="1079640" cy="107964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p14:dur="900"/>
    </mc:Choice>
    <mc:Fallback>
      <p:transition spd="med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组合 21"/>
          <p:cNvGrpSpPr/>
          <p:nvPr/>
        </p:nvGrpSpPr>
        <p:grpSpPr>
          <a:xfrm>
            <a:off x="2028960" y="2887560"/>
            <a:ext cx="8133840" cy="1166400"/>
            <a:chOff x="2028960" y="2887560"/>
            <a:chExt cx="8133840" cy="1166400"/>
          </a:xfrm>
        </p:grpSpPr>
        <p:grpSp>
          <p:nvGrpSpPr>
            <p:cNvPr id="237" name="组合 10"/>
            <p:cNvGrpSpPr/>
            <p:nvPr/>
          </p:nvGrpSpPr>
          <p:grpSpPr>
            <a:xfrm>
              <a:off x="2523240" y="3357360"/>
              <a:ext cx="7402320" cy="143640"/>
              <a:chOff x="2523240" y="3357360"/>
              <a:chExt cx="7402320" cy="143640"/>
            </a:xfrm>
          </p:grpSpPr>
          <p:sp>
            <p:nvSpPr>
              <p:cNvPr id="238" name="椭圆 2"/>
              <p:cNvSpPr/>
              <p:nvPr/>
            </p:nvSpPr>
            <p:spPr>
              <a:xfrm>
                <a:off x="2523240" y="3357360"/>
                <a:ext cx="143640" cy="143640"/>
              </a:xfrm>
              <a:prstGeom prst="ellipse">
                <a:avLst/>
              </a:prstGeom>
              <a:solidFill>
                <a:schemeClr val="bg1">
                  <a:lumMod val="50000"/>
                </a:schemeClr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cxnSp>
            <p:nvCxnSpPr>
              <p:cNvPr id="239" name="直接连接符 4"/>
              <p:cNvCxnSpPr/>
              <p:nvPr/>
            </p:nvCxnSpPr>
            <p:spPr>
              <a:xfrm>
                <a:off x="2595240" y="3423600"/>
                <a:ext cx="7237080" cy="11160"/>
              </a:xfrm>
              <a:prstGeom prst="straightConnector1">
                <a:avLst/>
              </a:prstGeom>
              <a:ln>
                <a:solidFill>
                  <a:srgbClr val="ffffff">
                    <a:lumMod val="50000"/>
                  </a:srgbClr>
                </a:solidFill>
              </a:ln>
            </p:spPr>
          </p:cxnSp>
          <p:sp>
            <p:nvSpPr>
              <p:cNvPr id="240" name="椭圆 5"/>
              <p:cNvSpPr/>
              <p:nvPr/>
            </p:nvSpPr>
            <p:spPr>
              <a:xfrm>
                <a:off x="3979800" y="3357360"/>
                <a:ext cx="143640" cy="143640"/>
              </a:xfrm>
              <a:prstGeom prst="ellipse">
                <a:avLst/>
              </a:prstGeom>
              <a:solidFill>
                <a:schemeClr val="bg1">
                  <a:lumMod val="50000"/>
                </a:schemeClr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241" name="椭圆 6"/>
              <p:cNvSpPr/>
              <p:nvPr/>
            </p:nvSpPr>
            <p:spPr>
              <a:xfrm>
                <a:off x="5436360" y="3357360"/>
                <a:ext cx="143640" cy="143640"/>
              </a:xfrm>
              <a:prstGeom prst="ellipse">
                <a:avLst/>
              </a:prstGeom>
              <a:solidFill>
                <a:schemeClr val="bg1">
                  <a:lumMod val="50000"/>
                </a:schemeClr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242" name="椭圆 7"/>
              <p:cNvSpPr/>
              <p:nvPr/>
            </p:nvSpPr>
            <p:spPr>
              <a:xfrm>
                <a:off x="6868800" y="3357360"/>
                <a:ext cx="143640" cy="143640"/>
              </a:xfrm>
              <a:prstGeom prst="ellipse">
                <a:avLst/>
              </a:prstGeom>
              <a:solidFill>
                <a:schemeClr val="bg1">
                  <a:lumMod val="50000"/>
                </a:schemeClr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243" name="椭圆 8"/>
              <p:cNvSpPr/>
              <p:nvPr/>
            </p:nvSpPr>
            <p:spPr>
              <a:xfrm>
                <a:off x="8325360" y="3357360"/>
                <a:ext cx="143640" cy="143640"/>
              </a:xfrm>
              <a:prstGeom prst="ellipse">
                <a:avLst/>
              </a:prstGeom>
              <a:solidFill>
                <a:schemeClr val="bg1">
                  <a:lumMod val="50000"/>
                </a:schemeClr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  <p:sp>
            <p:nvSpPr>
              <p:cNvPr id="244" name="椭圆 9"/>
              <p:cNvSpPr/>
              <p:nvPr/>
            </p:nvSpPr>
            <p:spPr>
              <a:xfrm>
                <a:off x="9781920" y="3357360"/>
                <a:ext cx="143640" cy="143640"/>
              </a:xfrm>
              <a:prstGeom prst="ellipse">
                <a:avLst/>
              </a:prstGeom>
              <a:solidFill>
                <a:schemeClr val="bg1">
                  <a:lumMod val="50000"/>
                </a:schemeClr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endParaRPr>
              </a:p>
            </p:txBody>
          </p:sp>
        </p:grpSp>
        <p:sp>
          <p:nvSpPr>
            <p:cNvPr id="245" name="矩形 11"/>
            <p:cNvSpPr/>
            <p:nvPr/>
          </p:nvSpPr>
          <p:spPr>
            <a:xfrm>
              <a:off x="2251080" y="2890800"/>
              <a:ext cx="761760" cy="27252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12"/>
            <p:cNvSpPr/>
            <p:nvPr/>
          </p:nvSpPr>
          <p:spPr>
            <a:xfrm>
              <a:off x="3683160" y="2890800"/>
              <a:ext cx="761760" cy="27252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13"/>
            <p:cNvSpPr/>
            <p:nvPr/>
          </p:nvSpPr>
          <p:spPr>
            <a:xfrm>
              <a:off x="6559560" y="2890800"/>
              <a:ext cx="761760" cy="272520"/>
            </a:xfrm>
            <a:prstGeom prst="rect">
              <a:avLst/>
            </a:prstGeom>
            <a:solidFill>
              <a:srgbClr val="37619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造字工房悦黑体验版纤细体"/>
                  <a:ea typeface="造字工房悦黑体验版纤细体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14"/>
            <p:cNvSpPr/>
            <p:nvPr/>
          </p:nvSpPr>
          <p:spPr>
            <a:xfrm>
              <a:off x="8016840" y="2890800"/>
              <a:ext cx="761760" cy="27252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rPr>
                <a:t>20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15"/>
            <p:cNvSpPr/>
            <p:nvPr/>
          </p:nvSpPr>
          <p:spPr>
            <a:xfrm>
              <a:off x="9401040" y="2890800"/>
              <a:ext cx="761760" cy="27252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rPr>
                <a:t>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16"/>
            <p:cNvSpPr/>
            <p:nvPr/>
          </p:nvSpPr>
          <p:spPr>
            <a:xfrm>
              <a:off x="5126040" y="3763800"/>
              <a:ext cx="763200" cy="272520"/>
            </a:xfrm>
            <a:prstGeom prst="rect">
              <a:avLst/>
            </a:prstGeom>
            <a:solidFill>
              <a:srgbClr val="01b0f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造字工房悦黑体验版纤细体"/>
                  <a:ea typeface="造字工房悦黑体验版纤细体"/>
                </a:rPr>
                <a:t>20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7"/>
            <p:cNvSpPr/>
            <p:nvPr/>
          </p:nvSpPr>
          <p:spPr>
            <a:xfrm>
              <a:off x="2028960" y="3695040"/>
              <a:ext cx="1202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7"/>
            <p:cNvSpPr/>
            <p:nvPr/>
          </p:nvSpPr>
          <p:spPr>
            <a:xfrm>
              <a:off x="4916520" y="2887560"/>
              <a:ext cx="1202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7"/>
            <p:cNvSpPr/>
            <p:nvPr/>
          </p:nvSpPr>
          <p:spPr>
            <a:xfrm>
              <a:off x="7795440" y="3720960"/>
              <a:ext cx="12024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文本框 2"/>
          <p:cNvSpPr/>
          <p:nvPr/>
        </p:nvSpPr>
        <p:spPr>
          <a:xfrm>
            <a:off x="3610080" y="555480"/>
            <a:ext cx="4738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1b0f1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图片 3"/>
          <p:cNvSpPr/>
          <p:nvPr/>
        </p:nvSpPr>
        <p:spPr>
          <a:xfrm>
            <a:off x="6580440" y="3673440"/>
            <a:ext cx="719640" cy="719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图片 17"/>
          <p:cNvSpPr/>
          <p:nvPr/>
        </p:nvSpPr>
        <p:spPr>
          <a:xfrm>
            <a:off x="9565920" y="3673440"/>
            <a:ext cx="719640" cy="71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900"/>
    </mc:Choice>
    <mc:Fallback>
      <p:transition spd="med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  <Words>692</Words>
  <Paragraphs>13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6:23:10Z</dcterms:created>
  <dc:creator>liu peng</dc:creator>
  <dc:description/>
  <dc:language>en-US</dc:language>
  <cp:lastModifiedBy>yu wang</cp:lastModifiedBy>
  <dcterms:modified xsi:type="dcterms:W3CDTF">2015-08-14T12:53:04Z</dcterms:modified>
  <cp:revision>4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12</vt:r8>
  </property>
</Properties>
</file>