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752C-7A16-4370-822D-ADE097D3AD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1AA-A9C0-4598-A58A-2C90BE0B6DEE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65D8-F56C-4DE4-8A9E-882308CD17FC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A3E-25F1-4DCB-A4D5-A92B854BA3B7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6CB-328D-4BF0-9D29-26D8A9871C67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A75-5CAA-4696-8349-D7E1D23860A7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1A1-C7E5-4904-B6B3-C5D55657EE87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470-9CD9-4C8A-A1E0-791753421CA7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A93-4360-476E-AC38-45973593414B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B6D3-2385-478A-B104-DFF10260C27B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D9F-CCE7-4012-900E-CF5AA2FF3990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6F4-F45E-4611-BCBA-B2237C021263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95DA-F455-4F9D-A1EB-4B3EDA158C4B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F1F-A81C-43AB-8C9B-017B9C40204F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046-B4C6-4AE5-A7F7-46491D596EF4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C52-AB7C-484D-AD43-39366E9A3612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91B-C20E-44A5-97A3-13937D5A8CF1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353-1CB8-43B9-BA74-110A4A523430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EA0-C3A4-40AA-9AA7-16DC46BF134C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86CA-6B10-457D-A4C4-8EB20317767B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C71-F828-43B6-8696-366F659EC352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C72E-FEE0-4290-B585-0DEEEC83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E864-0A5C-4FA8-AA87-7161D43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1C96-92D5-4763-97A7-54649E89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63BB-B1B4-47A5-97F5-0259E844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0AC6-330F-4FDD-9074-5B1DBF1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D6C6-2CD3-449C-9BB6-F7848A6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1F16-8E2F-4351-9639-6F9BD820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18ED-3D31-42F3-A575-6ADBA89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D84A-5D61-438D-BB67-DDC00B1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DD3C-D70D-413A-AE61-4743287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B3E0-A048-4166-BE55-D20BB1A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8884-AA6F-4FBD-9530-D315B37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3419640" y="3125880"/>
          <a:ext cx="5724360" cy="373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3125880"/>
                    <a:ext cx="572436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60480" y="0"/>
            <a:ext cx="9083520" cy="1112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1125360"/>
            <a:ext cx="28843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6" name="Line 7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9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9" name="Picture 10" descr="m_10_page"/>
          <p:cNvPicPr/>
          <p:nvPr/>
        </p:nvPicPr>
        <p:blipFill>
          <a:blip r:embed="rId4"/>
          <a:stretch/>
        </p:blipFill>
        <p:spPr>
          <a:xfrm>
            <a:off x="-11160" y="-11160"/>
            <a:ext cx="2841840" cy="1090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8822-03DF-4580-9F4B-74A0CA0C46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76320" y="114264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ppt.glzy8.com</a:t>
            </a: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海量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5867280" y="648288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86120" y="2732040"/>
            <a:ext cx="62578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660760"/>
            <a:ext cx="91440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2666880"/>
            <a:ext cx="585468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Verdana"/>
                <a:ea typeface="宋体"/>
              </a:rPr>
              <a:t>简洁明了的医学类毕业答辩</a:t>
            </a:r>
            <a:r>
              <a:rPr b="1" lang="en-US" sz="4000" spc="-1" strike="noStrike">
                <a:solidFill>
                  <a:srgbClr val="0099cc"/>
                </a:solidFill>
                <a:latin typeface="Verdana"/>
                <a:ea typeface="宋体"/>
              </a:rPr>
              <a:t>PPT</a:t>
            </a:r>
            <a:endParaRPr b="0" lang="en-US" sz="40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8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4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14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2156"/>
                  </a:srgbClr>
                </a:gs>
                <a:gs pos="100000">
                  <a:srgbClr val="3552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e6024"/>
                </a:gs>
                <a:gs pos="50000">
                  <a:srgbClr val="72b143"/>
                </a:gs>
                <a:gs pos="100000">
                  <a:srgbClr val="3e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702b"/>
                </a:gs>
                <a:gs pos="100000">
                  <a:srgbClr val="72b14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3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4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9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3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1371600" y="1371600"/>
            <a:ext cx="5715000" cy="5330880"/>
            <a:chOff x="1371600" y="1371600"/>
            <a:chExt cx="5715000" cy="5330880"/>
          </a:xfrm>
        </p:grpSpPr>
        <p:sp>
          <p:nvSpPr>
            <p:cNvPr id="298" name="Rectangle 3"/>
            <p:cNvSpPr/>
            <p:nvPr/>
          </p:nvSpPr>
          <p:spPr>
            <a:xfrm rot="13770000">
              <a:off x="4707000" y="39589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 rot="20856000">
              <a:off x="2679480" y="34761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 rot="18394200">
              <a:off x="4842000" y="23205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1" name="Group 6"/>
            <p:cNvGrpSpPr/>
            <p:nvPr/>
          </p:nvGrpSpPr>
          <p:grpSpPr>
            <a:xfrm>
              <a:off x="3643200" y="2354400"/>
              <a:ext cx="1652760" cy="1684080"/>
              <a:chOff x="3643200" y="2354400"/>
              <a:chExt cx="1652760" cy="1684080"/>
            </a:xfrm>
          </p:grpSpPr>
          <p:grpSp>
            <p:nvGrpSpPr>
              <p:cNvPr id="302" name="Group 7"/>
              <p:cNvGrpSpPr/>
              <p:nvPr/>
            </p:nvGrpSpPr>
            <p:grpSpPr>
              <a:xfrm>
                <a:off x="3643200" y="2354400"/>
                <a:ext cx="1652760" cy="1684080"/>
                <a:chOff x="3643200" y="2354400"/>
                <a:chExt cx="1652760" cy="1684080"/>
              </a:xfrm>
            </p:grpSpPr>
            <p:sp>
              <p:nvSpPr>
                <p:cNvPr id="303" name="Oval 8"/>
                <p:cNvSpPr/>
                <p:nvPr/>
              </p:nvSpPr>
              <p:spPr>
                <a:xfrm>
                  <a:off x="3643200" y="23544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3831840" y="23821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Text Box 10"/>
              <p:cNvSpPr/>
              <p:nvPr/>
            </p:nvSpPr>
            <p:spPr>
              <a:xfrm>
                <a:off x="3750120" y="3086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1"/>
            <p:cNvGrpSpPr/>
            <p:nvPr/>
          </p:nvGrpSpPr>
          <p:grpSpPr>
            <a:xfrm>
              <a:off x="5089680" y="1371600"/>
              <a:ext cx="925200" cy="912960"/>
              <a:chOff x="5089680" y="1371600"/>
              <a:chExt cx="925200" cy="912960"/>
            </a:xfrm>
          </p:grpSpPr>
          <p:grpSp>
            <p:nvGrpSpPr>
              <p:cNvPr id="307" name="Group 12"/>
              <p:cNvGrpSpPr/>
              <p:nvPr/>
            </p:nvGrpSpPr>
            <p:grpSpPr>
              <a:xfrm>
                <a:off x="5089680" y="1371600"/>
                <a:ext cx="894600" cy="912960"/>
                <a:chOff x="5089680" y="1371600"/>
                <a:chExt cx="894600" cy="912960"/>
              </a:xfrm>
            </p:grpSpPr>
            <p:sp>
              <p:nvSpPr>
                <p:cNvPr id="308" name="Oval 13"/>
                <p:cNvSpPr/>
                <p:nvPr/>
              </p:nvSpPr>
              <p:spPr>
                <a:xfrm>
                  <a:off x="5089680" y="13716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c2b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5192280" y="138672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15"/>
              <p:cNvSpPr/>
              <p:nvPr/>
            </p:nvSpPr>
            <p:spPr>
              <a:xfrm>
                <a:off x="5105520" y="1722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6"/>
            <p:cNvGrpSpPr/>
            <p:nvPr/>
          </p:nvGrpSpPr>
          <p:grpSpPr>
            <a:xfrm>
              <a:off x="1371600" y="2705040"/>
              <a:ext cx="1790640" cy="1895400"/>
              <a:chOff x="1371600" y="2705040"/>
              <a:chExt cx="1790640" cy="1895400"/>
            </a:xfrm>
          </p:grpSpPr>
          <p:grpSp>
            <p:nvGrpSpPr>
              <p:cNvPr id="312" name="Group 17"/>
              <p:cNvGrpSpPr/>
              <p:nvPr/>
            </p:nvGrpSpPr>
            <p:grpSpPr>
              <a:xfrm>
                <a:off x="1371600" y="2705040"/>
                <a:ext cx="1790640" cy="1895400"/>
                <a:chOff x="1371600" y="2705040"/>
                <a:chExt cx="1790640" cy="1895400"/>
              </a:xfrm>
            </p:grpSpPr>
            <p:sp>
              <p:nvSpPr>
                <p:cNvPr id="313" name="Oval 18"/>
                <p:cNvSpPr/>
                <p:nvPr/>
              </p:nvSpPr>
              <p:spPr>
                <a:xfrm>
                  <a:off x="1371600" y="27050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1576080" y="27363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20"/>
              <p:cNvSpPr/>
              <p:nvPr/>
            </p:nvSpPr>
            <p:spPr>
              <a:xfrm>
                <a:off x="1488240" y="354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1"/>
            <p:cNvGrpSpPr/>
            <p:nvPr/>
          </p:nvGrpSpPr>
          <p:grpSpPr>
            <a:xfrm>
              <a:off x="5021280" y="4108320"/>
              <a:ext cx="2065320" cy="2105280"/>
              <a:chOff x="5021280" y="4108320"/>
              <a:chExt cx="2065320" cy="2105280"/>
            </a:xfrm>
          </p:grpSpPr>
          <p:grpSp>
            <p:nvGrpSpPr>
              <p:cNvPr id="317" name="Group 22"/>
              <p:cNvGrpSpPr/>
              <p:nvPr/>
            </p:nvGrpSpPr>
            <p:grpSpPr>
              <a:xfrm>
                <a:off x="5021280" y="4108320"/>
                <a:ext cx="2065320" cy="2105280"/>
                <a:chOff x="5021280" y="4108320"/>
                <a:chExt cx="2065320" cy="2105280"/>
              </a:xfrm>
            </p:grpSpPr>
            <p:sp>
              <p:nvSpPr>
                <p:cNvPr id="318" name="Oval 23"/>
                <p:cNvSpPr/>
                <p:nvPr/>
              </p:nvSpPr>
              <p:spPr>
                <a:xfrm>
                  <a:off x="5021280" y="41083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5257080" y="4143240"/>
                  <a:ext cx="1591920" cy="79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Text Box 25"/>
              <p:cNvSpPr/>
              <p:nvPr/>
            </p:nvSpPr>
            <p:spPr>
              <a:xfrm>
                <a:off x="5336280" y="5020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Oval 26"/>
            <p:cNvSpPr/>
            <p:nvPr/>
          </p:nvSpPr>
          <p:spPr>
            <a:xfrm>
              <a:off x="1577880" y="46702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3781440" y="4041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365800" y="621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227560" y="23544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9" name="AutoShape 4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5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AutoShape 6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AutoShape 7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3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4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8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62" name="AutoShape 4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AutoShape 5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7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Group 8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7" name="Oval 9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Oval 10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Oval 11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Oval 12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Oval 13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2" name="Text Box 14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4" name="Group 16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5" name="AutoShape 17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AutoShape 18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AutoShape 19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AutoShape 20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Oval 21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Oval 22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Oval 23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Oval 24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Oval 25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87" name="AutoShape 29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30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31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AutoShape 32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1" name="Group 33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92" name="Oval 34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Oval 35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Oval 36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Oval 37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Oval 38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7" name="Text Box 39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0" y="1828800"/>
            <a:ext cx="9144000" cy="4188600"/>
            <a:chOff x="0" y="1828800"/>
            <a:chExt cx="9144000" cy="4188600"/>
          </a:xfrm>
        </p:grpSpPr>
        <p:grpSp>
          <p:nvGrpSpPr>
            <p:cNvPr id="402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3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7"/>
            <p:cNvGrpSpPr/>
            <p:nvPr/>
          </p:nvGrpSpPr>
          <p:grpSpPr>
            <a:xfrm>
              <a:off x="762120" y="2685960"/>
              <a:ext cx="1931760" cy="3264840"/>
              <a:chOff x="762120" y="2685960"/>
              <a:chExt cx="1931760" cy="3264840"/>
            </a:xfrm>
          </p:grpSpPr>
          <p:grpSp>
            <p:nvGrpSpPr>
              <p:cNvPr id="406" name="Group 8"/>
              <p:cNvGrpSpPr/>
              <p:nvPr/>
            </p:nvGrpSpPr>
            <p:grpSpPr>
              <a:xfrm>
                <a:off x="1169280" y="3527640"/>
                <a:ext cx="1524600" cy="2423160"/>
                <a:chOff x="1169280" y="3527640"/>
                <a:chExt cx="1524600" cy="2423160"/>
              </a:xfrm>
            </p:grpSpPr>
            <p:grpSp>
              <p:nvGrpSpPr>
                <p:cNvPr id="407" name="Group 9"/>
                <p:cNvGrpSpPr/>
                <p:nvPr/>
              </p:nvGrpSpPr>
              <p:grpSpPr>
                <a:xfrm>
                  <a:off x="1169280" y="3685320"/>
                  <a:ext cx="1419480" cy="2265480"/>
                  <a:chOff x="1169280" y="3685320"/>
                  <a:chExt cx="1419480" cy="2265480"/>
                </a:xfrm>
              </p:grpSpPr>
              <p:sp>
                <p:nvSpPr>
                  <p:cNvPr id="408" name="未知"/>
                  <p:cNvSpPr/>
                  <p:nvPr/>
                </p:nvSpPr>
                <p:spPr>
                  <a:xfrm rot="3876600">
                    <a:off x="74160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未知"/>
                  <p:cNvSpPr/>
                  <p:nvPr/>
                </p:nvSpPr>
                <p:spPr>
                  <a:xfrm rot="3876600">
                    <a:off x="210816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12"/>
                <p:cNvGrpSpPr/>
                <p:nvPr/>
              </p:nvGrpSpPr>
              <p:grpSpPr>
                <a:xfrm>
                  <a:off x="1604520" y="3527640"/>
                  <a:ext cx="1089360" cy="1738440"/>
                  <a:chOff x="1604520" y="3527640"/>
                  <a:chExt cx="1089360" cy="173844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flipV="1" rot="3876600">
                    <a:off x="127620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Group 15"/>
              <p:cNvGrpSpPr/>
              <p:nvPr/>
            </p:nvGrpSpPr>
            <p:grpSpPr>
              <a:xfrm>
                <a:off x="762120" y="2685960"/>
                <a:ext cx="1269000" cy="1308960"/>
                <a:chOff x="762120" y="2685960"/>
                <a:chExt cx="1269000" cy="1308960"/>
              </a:xfrm>
            </p:grpSpPr>
            <p:sp>
              <p:nvSpPr>
                <p:cNvPr id="414" name="Oval 16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7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8"/>
                <p:cNvSpPr/>
                <p:nvPr/>
              </p:nvSpPr>
              <p:spPr>
                <a:xfrm>
                  <a:off x="8460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9"/>
                <p:cNvSpPr/>
                <p:nvPr/>
              </p:nvSpPr>
              <p:spPr>
                <a:xfrm>
                  <a:off x="8460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Oval 20"/>
                <p:cNvSpPr/>
                <p:nvPr/>
              </p:nvSpPr>
              <p:spPr>
                <a:xfrm>
                  <a:off x="9007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Group 21"/>
                <p:cNvGrpSpPr/>
                <p:nvPr/>
              </p:nvGrpSpPr>
              <p:grpSpPr>
                <a:xfrm>
                  <a:off x="915840" y="2844360"/>
                  <a:ext cx="961200" cy="992520"/>
                  <a:chOff x="915840" y="2844360"/>
                  <a:chExt cx="961200" cy="992520"/>
                </a:xfrm>
              </p:grpSpPr>
              <p:sp>
                <p:nvSpPr>
                  <p:cNvPr id="420" name="Oval 22"/>
                  <p:cNvSpPr/>
                  <p:nvPr/>
                </p:nvSpPr>
                <p:spPr>
                  <a:xfrm>
                    <a:off x="9158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3"/>
                  <p:cNvSpPr/>
                  <p:nvPr/>
                </p:nvSpPr>
                <p:spPr>
                  <a:xfrm>
                    <a:off x="9280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4"/>
                  <p:cNvSpPr/>
                  <p:nvPr/>
                </p:nvSpPr>
                <p:spPr>
                  <a:xfrm>
                    <a:off x="9378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5"/>
                  <p:cNvSpPr/>
                  <p:nvPr/>
                </p:nvSpPr>
                <p:spPr>
                  <a:xfrm>
                    <a:off x="9903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Text Box 26"/>
              <p:cNvSpPr/>
              <p:nvPr/>
            </p:nvSpPr>
            <p:spPr>
              <a:xfrm rot="3925800">
                <a:off x="112716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Text Box 27"/>
              <p:cNvSpPr/>
              <p:nvPr/>
            </p:nvSpPr>
            <p:spPr>
              <a:xfrm rot="3925800">
                <a:off x="159048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8"/>
            <p:cNvGrpSpPr/>
            <p:nvPr/>
          </p:nvGrpSpPr>
          <p:grpSpPr>
            <a:xfrm>
              <a:off x="2509920" y="2685960"/>
              <a:ext cx="1929960" cy="3264840"/>
              <a:chOff x="2509920" y="2685960"/>
              <a:chExt cx="1929960" cy="3264840"/>
            </a:xfrm>
          </p:grpSpPr>
          <p:grpSp>
            <p:nvGrpSpPr>
              <p:cNvPr id="427" name="Group 29"/>
              <p:cNvGrpSpPr/>
              <p:nvPr/>
            </p:nvGrpSpPr>
            <p:grpSpPr>
              <a:xfrm>
                <a:off x="2915280" y="3527640"/>
                <a:ext cx="1524600" cy="2423160"/>
                <a:chOff x="2915280" y="3527640"/>
                <a:chExt cx="1524600" cy="2423160"/>
              </a:xfrm>
            </p:grpSpPr>
            <p:grpSp>
              <p:nvGrpSpPr>
                <p:cNvPr id="428" name="Group 30"/>
                <p:cNvGrpSpPr/>
                <p:nvPr/>
              </p:nvGrpSpPr>
              <p:grpSpPr>
                <a:xfrm>
                  <a:off x="2915280" y="3685320"/>
                  <a:ext cx="1419120" cy="2265480"/>
                  <a:chOff x="2915280" y="3685320"/>
                  <a:chExt cx="1419120" cy="2265480"/>
                </a:xfrm>
              </p:grpSpPr>
              <p:sp>
                <p:nvSpPr>
                  <p:cNvPr id="429" name="未知"/>
                  <p:cNvSpPr/>
                  <p:nvPr/>
                </p:nvSpPr>
                <p:spPr>
                  <a:xfrm rot="3876600">
                    <a:off x="2487240" y="4572360"/>
                    <a:ext cx="227448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未知"/>
                  <p:cNvSpPr/>
                  <p:nvPr/>
                </p:nvSpPr>
                <p:spPr>
                  <a:xfrm rot="3876600">
                    <a:off x="3854160" y="54511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33"/>
                <p:cNvGrpSpPr/>
                <p:nvPr/>
              </p:nvGrpSpPr>
              <p:grpSpPr>
                <a:xfrm>
                  <a:off x="3350880" y="3527640"/>
                  <a:ext cx="1089000" cy="1738440"/>
                  <a:chOff x="3350880" y="3527640"/>
                  <a:chExt cx="1089000" cy="173844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flipV="1" rot="3876600">
                    <a:off x="3022560" y="4208040"/>
                    <a:ext cx="174528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flipV="1" rot="3876600">
                    <a:off x="4055760" y="48898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Group 36"/>
              <p:cNvGrpSpPr/>
              <p:nvPr/>
            </p:nvGrpSpPr>
            <p:grpSpPr>
              <a:xfrm>
                <a:off x="2509920" y="2685960"/>
                <a:ext cx="1269000" cy="1308960"/>
                <a:chOff x="2509920" y="2685960"/>
                <a:chExt cx="1269000" cy="1308960"/>
              </a:xfrm>
            </p:grpSpPr>
            <p:sp>
              <p:nvSpPr>
                <p:cNvPr id="435" name="Oval 37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Oval 38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7" name="Oval 39"/>
                <p:cNvSpPr/>
                <p:nvPr/>
              </p:nvSpPr>
              <p:spPr>
                <a:xfrm>
                  <a:off x="25938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Oval 40"/>
                <p:cNvSpPr/>
                <p:nvPr/>
              </p:nvSpPr>
              <p:spPr>
                <a:xfrm>
                  <a:off x="25938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1"/>
                <p:cNvSpPr/>
                <p:nvPr/>
              </p:nvSpPr>
              <p:spPr>
                <a:xfrm>
                  <a:off x="26485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Group 42"/>
                <p:cNvGrpSpPr/>
                <p:nvPr/>
              </p:nvGrpSpPr>
              <p:grpSpPr>
                <a:xfrm>
                  <a:off x="2663640" y="2844360"/>
                  <a:ext cx="961200" cy="992520"/>
                  <a:chOff x="2663640" y="2844360"/>
                  <a:chExt cx="961200" cy="992520"/>
                </a:xfrm>
              </p:grpSpPr>
              <p:sp>
                <p:nvSpPr>
                  <p:cNvPr id="441" name="Oval 43"/>
                  <p:cNvSpPr/>
                  <p:nvPr/>
                </p:nvSpPr>
                <p:spPr>
                  <a:xfrm>
                    <a:off x="26636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44"/>
                  <p:cNvSpPr/>
                  <p:nvPr/>
                </p:nvSpPr>
                <p:spPr>
                  <a:xfrm>
                    <a:off x="26758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45"/>
                  <p:cNvSpPr/>
                  <p:nvPr/>
                </p:nvSpPr>
                <p:spPr>
                  <a:xfrm>
                    <a:off x="26856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46"/>
                  <p:cNvSpPr/>
                  <p:nvPr/>
                </p:nvSpPr>
                <p:spPr>
                  <a:xfrm>
                    <a:off x="27381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5" name="Text Box 47"/>
              <p:cNvSpPr/>
              <p:nvPr/>
            </p:nvSpPr>
            <p:spPr>
              <a:xfrm rot="3925800">
                <a:off x="286848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6" name="Text Box 48"/>
              <p:cNvSpPr/>
              <p:nvPr/>
            </p:nvSpPr>
            <p:spPr>
              <a:xfrm rot="3925800">
                <a:off x="333180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9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448" name="Group 50"/>
              <p:cNvGrpSpPr/>
              <p:nvPr/>
            </p:nvGrpSpPr>
            <p:grpSpPr>
              <a:xfrm>
                <a:off x="4720320" y="3527640"/>
                <a:ext cx="1524600" cy="2423160"/>
                <a:chOff x="4720320" y="3527640"/>
                <a:chExt cx="1524600" cy="2423160"/>
              </a:xfrm>
            </p:grpSpPr>
            <p:grpSp>
              <p:nvGrpSpPr>
                <p:cNvPr id="449" name="Group 51"/>
                <p:cNvGrpSpPr/>
                <p:nvPr/>
              </p:nvGrpSpPr>
              <p:grpSpPr>
                <a:xfrm>
                  <a:off x="4720320" y="3685320"/>
                  <a:ext cx="1419480" cy="2265480"/>
                  <a:chOff x="4720320" y="3685320"/>
                  <a:chExt cx="1419480" cy="2265480"/>
                </a:xfrm>
              </p:grpSpPr>
              <p:sp>
                <p:nvSpPr>
                  <p:cNvPr id="450" name="未知"/>
                  <p:cNvSpPr/>
                  <p:nvPr/>
                </p:nvSpPr>
                <p:spPr>
                  <a:xfrm rot="3876600">
                    <a:off x="429264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未知"/>
                  <p:cNvSpPr/>
                  <p:nvPr/>
                </p:nvSpPr>
                <p:spPr>
                  <a:xfrm rot="3876600">
                    <a:off x="565920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Group 54"/>
                <p:cNvGrpSpPr/>
                <p:nvPr/>
              </p:nvGrpSpPr>
              <p:grpSpPr>
                <a:xfrm>
                  <a:off x="5155560" y="3527640"/>
                  <a:ext cx="1089360" cy="1738440"/>
                  <a:chOff x="5155560" y="3527640"/>
                  <a:chExt cx="1089360" cy="173844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flipV="1" rot="3876600">
                    <a:off x="482724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Group 57"/>
              <p:cNvGrpSpPr/>
              <p:nvPr/>
            </p:nvGrpSpPr>
            <p:grpSpPr>
              <a:xfrm>
                <a:off x="4313160" y="2685960"/>
                <a:ext cx="1270800" cy="1308960"/>
                <a:chOff x="4313160" y="2685960"/>
                <a:chExt cx="1270800" cy="1308960"/>
              </a:xfrm>
            </p:grpSpPr>
            <p:sp>
              <p:nvSpPr>
                <p:cNvPr id="456" name="Oval 58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Oval 59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8" name="Oval 60"/>
                <p:cNvSpPr/>
                <p:nvPr/>
              </p:nvSpPr>
              <p:spPr>
                <a:xfrm>
                  <a:off x="4397040" y="277092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9" name="Oval 61"/>
                <p:cNvSpPr/>
                <p:nvPr/>
              </p:nvSpPr>
              <p:spPr>
                <a:xfrm>
                  <a:off x="4397040" y="277380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Oval 62"/>
                <p:cNvSpPr/>
                <p:nvPr/>
              </p:nvSpPr>
              <p:spPr>
                <a:xfrm>
                  <a:off x="4451760" y="282888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Group 63"/>
                <p:cNvGrpSpPr/>
                <p:nvPr/>
              </p:nvGrpSpPr>
              <p:grpSpPr>
                <a:xfrm>
                  <a:off x="4467240" y="2844360"/>
                  <a:ext cx="962640" cy="992520"/>
                  <a:chOff x="4467240" y="2844360"/>
                  <a:chExt cx="962640" cy="992520"/>
                </a:xfrm>
              </p:grpSpPr>
              <p:sp>
                <p:nvSpPr>
                  <p:cNvPr id="462" name="Oval 64"/>
                  <p:cNvSpPr/>
                  <p:nvPr/>
                </p:nvSpPr>
                <p:spPr>
                  <a:xfrm>
                    <a:off x="4467240" y="2844360"/>
                    <a:ext cx="96264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65"/>
                  <p:cNvSpPr/>
                  <p:nvPr/>
                </p:nvSpPr>
                <p:spPr>
                  <a:xfrm>
                    <a:off x="4479480" y="2849760"/>
                    <a:ext cx="93960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66"/>
                  <p:cNvSpPr/>
                  <p:nvPr/>
                </p:nvSpPr>
                <p:spPr>
                  <a:xfrm>
                    <a:off x="4489560" y="2859120"/>
                    <a:ext cx="89352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67"/>
                  <p:cNvSpPr/>
                  <p:nvPr/>
                </p:nvSpPr>
                <p:spPr>
                  <a:xfrm>
                    <a:off x="4541760" y="2884680"/>
                    <a:ext cx="7941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Text Box 68"/>
              <p:cNvSpPr/>
              <p:nvPr/>
            </p:nvSpPr>
            <p:spPr>
              <a:xfrm rot="3925800">
                <a:off x="468144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9"/>
              <p:cNvSpPr/>
              <p:nvPr/>
            </p:nvSpPr>
            <p:spPr>
              <a:xfrm rot="3925800">
                <a:off x="514476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70"/>
            <p:cNvGrpSpPr/>
            <p:nvPr/>
          </p:nvGrpSpPr>
          <p:grpSpPr>
            <a:xfrm>
              <a:off x="6089760" y="2541600"/>
              <a:ext cx="2122200" cy="3475800"/>
              <a:chOff x="6089760" y="2541600"/>
              <a:chExt cx="2122200" cy="3475800"/>
            </a:xfrm>
          </p:grpSpPr>
          <p:grpSp>
            <p:nvGrpSpPr>
              <p:cNvPr id="469" name="Group 71"/>
              <p:cNvGrpSpPr/>
              <p:nvPr/>
            </p:nvGrpSpPr>
            <p:grpSpPr>
              <a:xfrm>
                <a:off x="6687360" y="3594600"/>
                <a:ext cx="1524600" cy="2422800"/>
                <a:chOff x="6687360" y="3594600"/>
                <a:chExt cx="1524600" cy="2422800"/>
              </a:xfrm>
            </p:grpSpPr>
            <p:grpSp>
              <p:nvGrpSpPr>
                <p:cNvPr id="470" name="Group 72"/>
                <p:cNvGrpSpPr/>
                <p:nvPr/>
              </p:nvGrpSpPr>
              <p:grpSpPr>
                <a:xfrm>
                  <a:off x="6687360" y="3752280"/>
                  <a:ext cx="1419120" cy="2265120"/>
                  <a:chOff x="6687360" y="3752280"/>
                  <a:chExt cx="1419120" cy="2265120"/>
                </a:xfrm>
              </p:grpSpPr>
              <p:sp>
                <p:nvSpPr>
                  <p:cNvPr id="471" name="未知"/>
                  <p:cNvSpPr/>
                  <p:nvPr/>
                </p:nvSpPr>
                <p:spPr>
                  <a:xfrm rot="3876600">
                    <a:off x="6259680" y="4638960"/>
                    <a:ext cx="227412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未知"/>
                  <p:cNvSpPr/>
                  <p:nvPr/>
                </p:nvSpPr>
                <p:spPr>
                  <a:xfrm rot="3876600">
                    <a:off x="7626240" y="55177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75"/>
                <p:cNvGrpSpPr/>
                <p:nvPr/>
              </p:nvGrpSpPr>
              <p:grpSpPr>
                <a:xfrm>
                  <a:off x="7123320" y="3594600"/>
                  <a:ext cx="1088640" cy="1738080"/>
                  <a:chOff x="7123320" y="3594600"/>
                  <a:chExt cx="1088640" cy="1738080"/>
                </a:xfrm>
              </p:grpSpPr>
              <p:sp>
                <p:nvSpPr>
                  <p:cNvPr id="474" name="未知"/>
                  <p:cNvSpPr/>
                  <p:nvPr/>
                </p:nvSpPr>
                <p:spPr>
                  <a:xfrm flipV="1" rot="3876600">
                    <a:off x="6795000" y="4275000"/>
                    <a:ext cx="174492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未知"/>
                  <p:cNvSpPr/>
                  <p:nvPr/>
                </p:nvSpPr>
                <p:spPr>
                  <a:xfrm flipV="1" rot="3876600">
                    <a:off x="7827840" y="49564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Oval 78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Oval 79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Oval 80"/>
              <p:cNvSpPr/>
              <p:nvPr/>
            </p:nvSpPr>
            <p:spPr>
              <a:xfrm>
                <a:off x="6191280" y="2644920"/>
                <a:ext cx="1324800" cy="136224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Oval 81"/>
              <p:cNvSpPr/>
              <p:nvPr/>
            </p:nvSpPr>
            <p:spPr>
              <a:xfrm>
                <a:off x="6193080" y="2647800"/>
                <a:ext cx="1324440" cy="13626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Oval 82"/>
              <p:cNvSpPr/>
              <p:nvPr/>
            </p:nvSpPr>
            <p:spPr>
              <a:xfrm>
                <a:off x="6256440" y="2712960"/>
                <a:ext cx="1193040" cy="12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1" name="Group 83"/>
              <p:cNvGrpSpPr/>
              <p:nvPr/>
            </p:nvGrpSpPr>
            <p:grpSpPr>
              <a:xfrm>
                <a:off x="6275520" y="2732040"/>
                <a:ext cx="1156320" cy="1189440"/>
                <a:chOff x="6275520" y="2732040"/>
                <a:chExt cx="1156320" cy="1189440"/>
              </a:xfrm>
            </p:grpSpPr>
            <p:sp>
              <p:nvSpPr>
                <p:cNvPr id="482" name="Oval 84"/>
                <p:cNvSpPr/>
                <p:nvPr/>
              </p:nvSpPr>
              <p:spPr>
                <a:xfrm>
                  <a:off x="6275520" y="2732040"/>
                  <a:ext cx="1156320" cy="118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5"/>
                <p:cNvSpPr/>
                <p:nvPr/>
              </p:nvSpPr>
              <p:spPr>
                <a:xfrm>
                  <a:off x="6290280" y="2738520"/>
                  <a:ext cx="1128600" cy="115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Oval 86"/>
                <p:cNvSpPr/>
                <p:nvPr/>
              </p:nvSpPr>
              <p:spPr>
                <a:xfrm>
                  <a:off x="6302160" y="2750040"/>
                  <a:ext cx="1073160" cy="10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5" name="Oval 87"/>
                <p:cNvSpPr/>
                <p:nvPr/>
              </p:nvSpPr>
              <p:spPr>
                <a:xfrm>
                  <a:off x="6365160" y="2780280"/>
                  <a:ext cx="954000" cy="87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 Box 88"/>
              <p:cNvSpPr/>
              <p:nvPr/>
            </p:nvSpPr>
            <p:spPr>
              <a:xfrm rot="3925800">
                <a:off x="6634440" y="464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89"/>
              <p:cNvSpPr/>
              <p:nvPr/>
            </p:nvSpPr>
            <p:spPr>
              <a:xfrm rot="3925800">
                <a:off x="7095960" y="4367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9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3" name="AutoShape 95"/>
              <p:cNvCxnSpPr>
                <a:stCxn id="489" idx="3"/>
                <a:endCxn id="490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AutoShape 96"/>
              <p:cNvCxnSpPr>
                <a:stCxn id="490" idx="3"/>
                <a:endCxn id="491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6" name="Text Box 6"/>
          <p:cNvSpPr/>
          <p:nvPr/>
        </p:nvSpPr>
        <p:spPr>
          <a:xfrm>
            <a:off x="262080" y="6445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0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1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2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507c2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6680" y="171072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499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2d4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1930680" y="1931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5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6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7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8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9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0a3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6680" y="324108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8c9"/>
                  </a:gs>
                  <a:gs pos="100000">
                    <a:srgbClr val="ff7c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15"/>
              <p:cNvSpPr/>
              <p:nvPr/>
            </p:nvSpPr>
            <p:spPr>
              <a:xfrm>
                <a:off x="1930680" y="3463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3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4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6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1876680" y="478116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2"/>
              <p:cNvSpPr/>
              <p:nvPr/>
            </p:nvSpPr>
            <p:spPr>
              <a:xfrm>
                <a:off x="1930680" y="5004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9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4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9" name="Rectangle 20"/>
            <p:cNvSpPr/>
            <p:nvPr/>
          </p:nvSpPr>
          <p:spPr>
            <a:xfrm rot="3418800">
              <a:off x="459432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0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1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91440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560" name="Oval 4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5"/>
            <p:cNvGrpSpPr/>
            <p:nvPr/>
          </p:nvGrpSpPr>
          <p:grpSpPr>
            <a:xfrm>
              <a:off x="1128600" y="1428840"/>
              <a:ext cx="6329520" cy="4518000"/>
              <a:chOff x="1128600" y="1428840"/>
              <a:chExt cx="6329520" cy="4518000"/>
            </a:xfrm>
          </p:grpSpPr>
          <p:sp>
            <p:nvSpPr>
              <p:cNvPr id="562" name="Oval 6"/>
              <p:cNvSpPr/>
              <p:nvPr/>
            </p:nvSpPr>
            <p:spPr>
              <a:xfrm rot="20601600">
                <a:off x="1452240" y="2179440"/>
                <a:ext cx="5686560" cy="301608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dddddd"/>
                  </a:gs>
                  <a:gs pos="100000">
                    <a:srgbClr val="5757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Arc 7"/>
              <p:cNvSpPr/>
              <p:nvPr/>
            </p:nvSpPr>
            <p:spPr>
              <a:xfrm rot="20601600">
                <a:off x="4128840" y="1905120"/>
                <a:ext cx="2849400" cy="1967040"/>
              </a:xfrm>
              <a:custGeom>
                <a:avLst/>
                <a:gdLst/>
                <a:ahLst/>
                <a:rect l="l" t="t" r="r" b="b"/>
                <a:pathLst>
                  <a:path fill="none" w="21600" h="29046">
                    <a:moveTo>
                      <a:pt x="13190" y="-1"/>
                    </a:moveTo>
                    <a:cubicBezTo>
                      <a:pt x="18493" y="4089"/>
                      <a:pt x="21600" y="10407"/>
                      <a:pt x="21600" y="17105"/>
                    </a:cubicBezTo>
                    <a:cubicBezTo>
                      <a:pt x="21600" y="21352"/>
                      <a:pt x="20347" y="25506"/>
                      <a:pt x="17999" y="29046"/>
                    </a:cubicBezTo>
                  </a:path>
                  <a:path stroke="0" w="21600" h="29046">
                    <a:moveTo>
                      <a:pt x="13190" y="-1"/>
                    </a:moveTo>
                    <a:cubicBezTo>
                      <a:pt x="18493" y="4089"/>
                      <a:pt x="21600" y="10407"/>
                      <a:pt x="21600" y="17105"/>
                    </a:cubicBezTo>
                    <a:cubicBezTo>
                      <a:pt x="21600" y="21352"/>
                      <a:pt x="20347" y="25506"/>
                      <a:pt x="17999" y="29046"/>
                    </a:cubicBezTo>
                    <a:lnTo>
                      <a:pt x="0" y="17105"/>
                    </a:lnTo>
                    <a:lnTo>
                      <a:pt x="13190" y="-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/>
                  </a:gs>
                  <a:gs pos="100000">
                    <a:srgbClr val="ffa8a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Arc 8"/>
              <p:cNvSpPr/>
              <p:nvPr/>
            </p:nvSpPr>
            <p:spPr>
              <a:xfrm flipH="1" rot="20602200">
                <a:off x="1716480" y="3780000"/>
                <a:ext cx="3281400" cy="1476360"/>
              </a:xfrm>
              <a:custGeom>
                <a:avLst/>
                <a:gdLst/>
                <a:ahLst/>
                <a:rect l="l" t="t" r="r" b="b"/>
                <a:pathLst>
                  <a:path fill="none" w="25114" h="21600">
                    <a:moveTo>
                      <a:pt x="25114" y="2497"/>
                    </a:moveTo>
                    <a:cubicBezTo>
                      <a:pt x="23846" y="13386"/>
                      <a:pt x="14622" y="21600"/>
                      <a:pt x="3659" y="21600"/>
                    </a:cubicBezTo>
                    <a:cubicBezTo>
                      <a:pt x="2432" y="21600"/>
                      <a:pt x="1208" y="21495"/>
                      <a:pt x="0" y="21287"/>
                    </a:cubicBezTo>
                  </a:path>
                  <a:path stroke="0" w="25114" h="21600">
                    <a:moveTo>
                      <a:pt x="25114" y="2497"/>
                    </a:moveTo>
                    <a:cubicBezTo>
                      <a:pt x="23846" y="13386"/>
                      <a:pt x="14622" y="21600"/>
                      <a:pt x="3659" y="21600"/>
                    </a:cubicBezTo>
                    <a:cubicBezTo>
                      <a:pt x="2432" y="21600"/>
                      <a:pt x="1208" y="21495"/>
                      <a:pt x="0" y="21287"/>
                    </a:cubicBezTo>
                    <a:lnTo>
                      <a:pt x="3659" y="0"/>
                    </a:lnTo>
                    <a:lnTo>
                      <a:pt x="25114" y="24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b143"/>
                  </a:gs>
                  <a:gs pos="100000">
                    <a:srgbClr val="456c29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rc 9"/>
              <p:cNvSpPr/>
              <p:nvPr/>
            </p:nvSpPr>
            <p:spPr>
              <a:xfrm rot="20601600">
                <a:off x="2653920" y="1987560"/>
                <a:ext cx="3133800" cy="1417680"/>
              </a:xfrm>
              <a:custGeom>
                <a:avLst/>
                <a:gdLst/>
                <a:ahLst/>
                <a:rect l="l" t="t" r="r" b="b"/>
                <a:pathLst>
                  <a:path fill="none" w="23826" h="21600">
                    <a:moveTo>
                      <a:pt x="0" y="2683"/>
                    </a:moveTo>
                    <a:cubicBezTo>
                      <a:pt x="3193" y="923"/>
                      <a:pt x="6780" y="0"/>
                      <a:pt x="10427" y="0"/>
                    </a:cubicBezTo>
                    <a:cubicBezTo>
                      <a:pt x="15290" y="0"/>
                      <a:pt x="20011" y="1641"/>
                      <a:pt x="23825" y="4658"/>
                    </a:cubicBezTo>
                  </a:path>
                  <a:path stroke="0" w="23826" h="21600">
                    <a:moveTo>
                      <a:pt x="0" y="2683"/>
                    </a:moveTo>
                    <a:cubicBezTo>
                      <a:pt x="3193" y="923"/>
                      <a:pt x="6780" y="0"/>
                      <a:pt x="10427" y="0"/>
                    </a:cubicBezTo>
                    <a:cubicBezTo>
                      <a:pt x="15290" y="0"/>
                      <a:pt x="20011" y="1641"/>
                      <a:pt x="23825" y="4658"/>
                    </a:cubicBezTo>
                    <a:lnTo>
                      <a:pt x="10427" y="21600"/>
                    </a:lnTo>
                    <a:lnTo>
                      <a:pt x="0" y="26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b8ca"/>
                  </a:gs>
                  <a:gs pos="100000">
                    <a:srgbClr val="30616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Arc 10"/>
              <p:cNvSpPr/>
              <p:nvPr/>
            </p:nvSpPr>
            <p:spPr>
              <a:xfrm flipH="1" rot="20602200">
                <a:off x="1370880" y="2514240"/>
                <a:ext cx="2849400" cy="2111400"/>
              </a:xfrm>
              <a:custGeom>
                <a:avLst/>
                <a:gdLst/>
                <a:ahLst/>
                <a:rect l="l" t="t" r="r" b="b"/>
                <a:pathLst>
                  <a:path fill="none" w="21600" h="30685">
                    <a:moveTo>
                      <a:pt x="7749" y="-1"/>
                    </a:moveTo>
                    <a:cubicBezTo>
                      <a:pt x="16093" y="3206"/>
                      <a:pt x="21600" y="11222"/>
                      <a:pt x="21600" y="20162"/>
                    </a:cubicBezTo>
                    <a:cubicBezTo>
                      <a:pt x="21600" y="23845"/>
                      <a:pt x="20657" y="27468"/>
                      <a:pt x="18863" y="30685"/>
                    </a:cubicBezTo>
                  </a:path>
                  <a:path stroke="0" w="21600" h="30685">
                    <a:moveTo>
                      <a:pt x="7749" y="-1"/>
                    </a:moveTo>
                    <a:cubicBezTo>
                      <a:pt x="16093" y="3206"/>
                      <a:pt x="21600" y="11222"/>
                      <a:pt x="21600" y="20162"/>
                    </a:cubicBezTo>
                    <a:cubicBezTo>
                      <a:pt x="21600" y="23845"/>
                      <a:pt x="20657" y="27468"/>
                      <a:pt x="18863" y="30685"/>
                    </a:cubicBezTo>
                    <a:lnTo>
                      <a:pt x="0" y="20162"/>
                    </a:lnTo>
                    <a:lnTo>
                      <a:pt x="7749" y="-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536f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Oval 11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8" name="Text Box 12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Text Box 13"/>
              <p:cNvSpPr/>
              <p:nvPr/>
            </p:nvSpPr>
            <p:spPr>
              <a:xfrm>
                <a:off x="382968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14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Group 15"/>
              <p:cNvGrpSpPr/>
              <p:nvPr/>
            </p:nvGrpSpPr>
            <p:grpSpPr>
              <a:xfrm>
                <a:off x="4293720" y="2466720"/>
                <a:ext cx="3164400" cy="2769120"/>
                <a:chOff x="4293720" y="2466720"/>
                <a:chExt cx="3164400" cy="2769120"/>
              </a:xfrm>
            </p:grpSpPr>
            <p:sp>
              <p:nvSpPr>
                <p:cNvPr id="572" name="未知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b5b5b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Arc 17"/>
                <p:cNvSpPr/>
                <p:nvPr/>
              </p:nvSpPr>
              <p:spPr>
                <a:xfrm rot="20539200">
                  <a:off x="4511520" y="2837160"/>
                  <a:ext cx="2728800" cy="1859040"/>
                </a:xfrm>
                <a:custGeom>
                  <a:avLst/>
                  <a:gdLst/>
                  <a:ahLst/>
                  <a:rect l="l" t="t" r="r" b="b"/>
                  <a:pathLst>
                    <a:path fill="none" w="18016" h="21282">
                      <a:moveTo>
                        <a:pt x="18016" y="11915"/>
                      </a:moveTo>
                      <a:cubicBezTo>
                        <a:pt x="14735" y="16875"/>
                        <a:pt x="9554" y="20264"/>
                        <a:pt x="3694" y="21281"/>
                      </a:cubicBezTo>
                    </a:path>
                    <a:path stroke="0" w="18016" h="21282">
                      <a:moveTo>
                        <a:pt x="18016" y="11915"/>
                      </a:moveTo>
                      <a:cubicBezTo>
                        <a:pt x="14735" y="16875"/>
                        <a:pt x="9554" y="20264"/>
                        <a:pt x="3694" y="21281"/>
                      </a:cubicBezTo>
                      <a:lnTo>
                        <a:pt x="0" y="0"/>
                      </a:lnTo>
                      <a:lnTo>
                        <a:pt x="18016" y="119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10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4" name="未知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5" name="Text Box 19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20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4427640" y="3990960"/>
                <a:ext cx="83808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d528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 rot="20601600">
                <a:off x="303696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914400" y="1711440"/>
            <a:ext cx="7391520" cy="4155480"/>
            <a:chOff x="914400" y="1711440"/>
            <a:chExt cx="7391520" cy="4155480"/>
          </a:xfrm>
        </p:grpSpPr>
        <p:sp>
          <p:nvSpPr>
            <p:cNvPr id="582" name="AutoShape 4"/>
            <p:cNvSpPr/>
            <p:nvPr/>
          </p:nvSpPr>
          <p:spPr>
            <a:xfrm>
              <a:off x="1905120" y="247320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5"/>
            <p:cNvSpPr/>
            <p:nvPr/>
          </p:nvSpPr>
          <p:spPr>
            <a:xfrm>
              <a:off x="2438280" y="171144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1e33"/>
                </a:gs>
                <a:gs pos="50000">
                  <a:srgbClr val="1d528d"/>
                </a:gs>
                <a:gs pos="100000">
                  <a:srgbClr val="0b1e3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3733920" y="3082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5" name="Group 7"/>
            <p:cNvGrpSpPr/>
            <p:nvPr/>
          </p:nvGrpSpPr>
          <p:grpSpPr>
            <a:xfrm>
              <a:off x="914400" y="4346280"/>
              <a:ext cx="1486080" cy="1514160"/>
              <a:chOff x="914400" y="4346280"/>
              <a:chExt cx="1486080" cy="1514160"/>
            </a:xfrm>
          </p:grpSpPr>
          <p:grpSp>
            <p:nvGrpSpPr>
              <p:cNvPr id="586" name="Group 8"/>
              <p:cNvGrpSpPr/>
              <p:nvPr/>
            </p:nvGrpSpPr>
            <p:grpSpPr>
              <a:xfrm>
                <a:off x="914400" y="4346280"/>
                <a:ext cx="1486080" cy="1514160"/>
                <a:chOff x="914400" y="4346280"/>
                <a:chExt cx="1486080" cy="1514160"/>
              </a:xfrm>
            </p:grpSpPr>
            <p:sp>
              <p:nvSpPr>
                <p:cNvPr id="587" name="Oval 9"/>
                <p:cNvSpPr/>
                <p:nvPr/>
              </p:nvSpPr>
              <p:spPr>
                <a:xfrm>
                  <a:off x="914400" y="43462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8" name="未知"/>
                <p:cNvSpPr/>
                <p:nvPr/>
              </p:nvSpPr>
              <p:spPr>
                <a:xfrm>
                  <a:off x="1084320" y="43711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Text Box 11"/>
              <p:cNvSpPr/>
              <p:nvPr/>
            </p:nvSpPr>
            <p:spPr>
              <a:xfrm>
                <a:off x="1072800" y="5117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2"/>
            <p:cNvGrpSpPr/>
            <p:nvPr/>
          </p:nvGrpSpPr>
          <p:grpSpPr>
            <a:xfrm>
              <a:off x="6781680" y="4302000"/>
              <a:ext cx="1524240" cy="1531440"/>
              <a:chOff x="6781680" y="4302000"/>
              <a:chExt cx="1524240" cy="1531440"/>
            </a:xfrm>
          </p:grpSpPr>
          <p:grpSp>
            <p:nvGrpSpPr>
              <p:cNvPr id="591" name="Group 13"/>
              <p:cNvGrpSpPr/>
              <p:nvPr/>
            </p:nvGrpSpPr>
            <p:grpSpPr>
              <a:xfrm>
                <a:off x="6781680" y="4302000"/>
                <a:ext cx="1524240" cy="1531440"/>
                <a:chOff x="6781680" y="4302000"/>
                <a:chExt cx="1524240" cy="1531440"/>
              </a:xfrm>
            </p:grpSpPr>
            <p:sp>
              <p:nvSpPr>
                <p:cNvPr id="592" name="Oval 14"/>
                <p:cNvSpPr/>
                <p:nvPr/>
              </p:nvSpPr>
              <p:spPr>
                <a:xfrm>
                  <a:off x="6781680" y="43020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3" name="未知"/>
                <p:cNvSpPr/>
                <p:nvPr/>
              </p:nvSpPr>
              <p:spPr>
                <a:xfrm>
                  <a:off x="6955920" y="43272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Text Box 16"/>
              <p:cNvSpPr/>
              <p:nvPr/>
            </p:nvSpPr>
            <p:spPr>
              <a:xfrm>
                <a:off x="6924600" y="50158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7"/>
            <p:cNvGrpSpPr/>
            <p:nvPr/>
          </p:nvGrpSpPr>
          <p:grpSpPr>
            <a:xfrm>
              <a:off x="2819520" y="4346280"/>
              <a:ext cx="1523880" cy="1520640"/>
              <a:chOff x="2819520" y="4346280"/>
              <a:chExt cx="1523880" cy="1520640"/>
            </a:xfrm>
          </p:grpSpPr>
          <p:grpSp>
            <p:nvGrpSpPr>
              <p:cNvPr id="596" name="Group 18"/>
              <p:cNvGrpSpPr/>
              <p:nvPr/>
            </p:nvGrpSpPr>
            <p:grpSpPr>
              <a:xfrm>
                <a:off x="2819520" y="4346280"/>
                <a:ext cx="1523880" cy="1520640"/>
                <a:chOff x="2819520" y="4346280"/>
                <a:chExt cx="1523880" cy="1520640"/>
              </a:xfrm>
            </p:grpSpPr>
            <p:sp>
              <p:nvSpPr>
                <p:cNvPr id="597" name="Oval 19"/>
                <p:cNvSpPr/>
                <p:nvPr/>
              </p:nvSpPr>
              <p:spPr>
                <a:xfrm>
                  <a:off x="2819520" y="434628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未知"/>
                <p:cNvSpPr/>
                <p:nvPr/>
              </p:nvSpPr>
              <p:spPr>
                <a:xfrm>
                  <a:off x="2994480" y="437148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Text Box 21"/>
              <p:cNvSpPr/>
              <p:nvPr/>
            </p:nvSpPr>
            <p:spPr>
              <a:xfrm>
                <a:off x="2895840" y="5076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22"/>
            <p:cNvGrpSpPr/>
            <p:nvPr/>
          </p:nvGrpSpPr>
          <p:grpSpPr>
            <a:xfrm>
              <a:off x="4876920" y="4302000"/>
              <a:ext cx="1523880" cy="1520280"/>
              <a:chOff x="4876920" y="4302000"/>
              <a:chExt cx="1523880" cy="1520280"/>
            </a:xfrm>
          </p:grpSpPr>
          <p:grpSp>
            <p:nvGrpSpPr>
              <p:cNvPr id="601" name="Group 23"/>
              <p:cNvGrpSpPr/>
              <p:nvPr/>
            </p:nvGrpSpPr>
            <p:grpSpPr>
              <a:xfrm>
                <a:off x="4876920" y="4302000"/>
                <a:ext cx="1523880" cy="1520280"/>
                <a:chOff x="4876920" y="4302000"/>
                <a:chExt cx="1523880" cy="1520280"/>
              </a:xfrm>
            </p:grpSpPr>
            <p:sp>
              <p:nvSpPr>
                <p:cNvPr id="602" name="Oval 24"/>
                <p:cNvSpPr/>
                <p:nvPr/>
              </p:nvSpPr>
              <p:spPr>
                <a:xfrm>
                  <a:off x="4876920" y="430200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b5b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3" name="未知"/>
                <p:cNvSpPr/>
                <p:nvPr/>
              </p:nvSpPr>
              <p:spPr>
                <a:xfrm>
                  <a:off x="5051880" y="432720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Text Box 26"/>
              <p:cNvSpPr/>
              <p:nvPr/>
            </p:nvSpPr>
            <p:spPr>
              <a:xfrm>
                <a:off x="4953240" y="5031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Text Box 6"/>
          <p:cNvSpPr/>
          <p:nvPr/>
        </p:nvSpPr>
        <p:spPr>
          <a:xfrm>
            <a:off x="398520" y="62596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4"/>
          <p:cNvSpPr/>
          <p:nvPr/>
        </p:nvSpPr>
        <p:spPr>
          <a:xfrm>
            <a:off x="76320" y="1143000"/>
            <a:ext cx="2666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3124080" y="2743200"/>
            <a:ext cx="4127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72b14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72b143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200400" y="350496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99cc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ff7c80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7c80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33040"/>
            <a:ext cx="7925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6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8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1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2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3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7c3c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5c7"/>
                    </a:gs>
                    <a:gs pos="100000">
                      <a:srgbClr val="ff7c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21f"/>
                  </a:gs>
                  <a:gs pos="100000">
                    <a:srgbClr val="72b14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0"/>
                    </a:srgbClr>
                  </a:gs>
                  <a:gs pos="100000">
                    <a:srgbClr val="cee4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8c35"/>
                  </a:gs>
                  <a:gs pos="100000">
                    <a:srgbClr val="72b14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14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29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1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d5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82b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438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0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1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6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77" name="AutoShape 5"/>
              <p:cNvSpPr/>
              <p:nvPr/>
            </p:nvSpPr>
            <p:spPr>
              <a:xfrm flipH="1" rot="16200000">
                <a:off x="2927160" y="325800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AutoShape 6"/>
              <p:cNvSpPr/>
              <p:nvPr/>
            </p:nvSpPr>
            <p:spPr>
              <a:xfrm flipH="1" rot="5400000">
                <a:off x="5531400" y="32072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AutoShape 7"/>
              <p:cNvSpPr/>
              <p:nvPr/>
            </p:nvSpPr>
            <p:spPr>
              <a:xfrm flipH="1" rot="10800000">
                <a:off x="423540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330444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Oval 9"/>
              <p:cNvSpPr/>
              <p:nvPr/>
            </p:nvSpPr>
            <p:spPr>
              <a:xfrm>
                <a:off x="343728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Oval 10"/>
              <p:cNvSpPr/>
              <p:nvPr/>
            </p:nvSpPr>
            <p:spPr>
              <a:xfrm>
                <a:off x="3559680" y="2471040"/>
                <a:ext cx="181692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7c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355824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Oval 12"/>
              <p:cNvSpPr/>
              <p:nvPr/>
            </p:nvSpPr>
            <p:spPr>
              <a:xfrm>
                <a:off x="3677760" y="2595960"/>
                <a:ext cx="157896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4345"/>
                  </a:gs>
                  <a:gs pos="50000">
                    <a:srgbClr val="ff7c80"/>
                  </a:gs>
                  <a:gs pos="100000">
                    <a:srgbClr val="8a43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Oval 13"/>
              <p:cNvSpPr/>
              <p:nvPr/>
            </p:nvSpPr>
            <p:spPr>
              <a:xfrm>
                <a:off x="367776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3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6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7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393b"/>
                  </a:gs>
                  <a:gs pos="50000">
                    <a:srgbClr val="ff7c80"/>
                  </a:gs>
                  <a:gs pos="100000">
                    <a:srgbClr val="7639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21f"/>
                  </a:gs>
                  <a:gs pos="50000">
                    <a:srgbClr val="72b143"/>
                  </a:gs>
                  <a:gs pos="100000">
                    <a:srgbClr val="3552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5a5d"/>
                  </a:gs>
                  <a:gs pos="50000">
                    <a:srgbClr val="ff7c80"/>
                  </a:gs>
                  <a:gs pos="100000">
                    <a:srgbClr val="b95a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8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38031"/>
                  </a:gs>
                  <a:gs pos="50000">
                    <a:srgbClr val="72b143"/>
                  </a:gs>
                  <a:gs pos="100000">
                    <a:srgbClr val="5380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6"/>
          <p:cNvSpPr/>
          <p:nvPr/>
        </p:nvSpPr>
        <p:spPr>
          <a:xfrm>
            <a:off x="50472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888b">
                    <a:alpha val="32156"/>
                  </a:srgbClr>
                </a:gs>
                <a:gs pos="100000">
                  <a:srgbClr val="ff7c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6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3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yu wang</cp:lastModifiedBy>
  <cp:lastPrinted>1899-12-30T00:00:00Z</cp:lastPrinted>
  <dcterms:modified xsi:type="dcterms:W3CDTF">2015-08-12T14:54:08Z</dcterms:modified>
  <cp:revision>7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