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8BBFE-7692-41A4-918F-F5E6B4ED48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C0AA1-EE2C-4C50-9997-5E247C10A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2D8FC-3557-4EE1-8B5D-8557FCA5AA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43DD-50E0-4B85-BADF-5A0CFFBAAB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2012C-2F4F-416F-9B63-48E81E2D16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D707-C3A8-4698-911E-995C14A78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C7D01-BEC3-46E6-85E0-1F2ED6778A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001FB-35D7-4714-B242-B14CC4592D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052FC-9E0F-468C-BAFE-85F8BB5C9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11C5A-9468-4B09-8C4D-448F0FD47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7E15-92C9-42BB-A283-190655FC2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3176-154E-484C-82CE-856E502E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3EC26C-020B-41CE-9453-1A4A884C3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0BB2C2-11E5-4526-B230-521E1CFA1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DE425-B16A-4C55-B2F0-8A5836855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22634-58FC-4048-BA2E-C6C149C7A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1516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49440" y="83808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8088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1516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49440" y="3704040"/>
            <a:ext cx="26989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93E67-2C1D-4E38-BBBB-6BB5B9473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6C427-87BB-4502-8F08-EF6544339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8547D-5858-4BE0-A850-2E8020398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1DA54-A8CA-4C0C-99ED-F8B77B8C0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80880" y="380880"/>
            <a:ext cx="8382240" cy="212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9912F-25B5-4F81-93CA-67AAA097A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2775-E191-4FDA-9F0B-C093206D7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6040" y="370404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24DE2-888B-4B57-BFBF-8E01F8076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288360"/>
            <a:ext cx="8382240" cy="64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6040" y="838080"/>
            <a:ext cx="409032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80880" y="3704040"/>
            <a:ext cx="83822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A80B-5D83-4204-837F-60306AB34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-360" y="6660720"/>
            <a:ext cx="213372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09920" y="6689520"/>
            <a:ext cx="2133720" cy="13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ahoma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706DD-6620-4DBD-8B99-D020506964C8}" type="slidenum">
              <a:rPr b="1" lang="en-US" sz="800" spc="-1" strike="noStrike">
                <a:solidFill>
                  <a:srgbClr val="ffffff"/>
                </a:solidFill>
                <a:latin typeface="Tahoma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Impact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80880" y="838080"/>
            <a:ext cx="838224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SzPct val="200000"/>
              <a:buFont typeface="Tahoma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-36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689520"/>
            <a:ext cx="289584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009920" y="6689520"/>
            <a:ext cx="2133720" cy="16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ffffff"/>
                </a:solidFill>
                <a:latin typeface="Arial Black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F471E3-7EEB-453B-B9B3-15F87C529AA5}" type="slidenum">
              <a:rPr b="0" lang="en-US" sz="800" spc="-1" strike="noStrike">
                <a:solidFill>
                  <a:srgbClr val="ffffff"/>
                </a:solidFill>
                <a:latin typeface="Arial Black"/>
                <a:ea typeface="宋体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43000" y="4419360"/>
            <a:ext cx="739152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简介业务关系企业</a:t>
            </a:r>
            <a:r>
              <a:rPr b="0" lang="en-US" sz="4000" spc="-1" strike="noStrike">
                <a:solidFill>
                  <a:srgbClr val="ffffff"/>
                </a:solidFill>
                <a:latin typeface="Impact"/>
                <a:ea typeface="宋体"/>
              </a:rPr>
              <a:t>PPT</a:t>
            </a:r>
            <a:r>
              <a:rPr b="0" lang="zh-CN" sz="4000" spc="-1" strike="noStrike">
                <a:solidFill>
                  <a:srgbClr val="ffffff"/>
                </a:solidFill>
                <a:latin typeface="Impact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0" y="762120"/>
            <a:ext cx="9144000" cy="38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2400" spc="-1" strike="noStrike">
              <a:solidFill>
                <a:srgbClr val="000000"/>
              </a:solidFill>
              <a:latin typeface="Tahoma"/>
              <a:ea typeface="宋体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-360" y="228240"/>
            <a:ext cx="30481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4560" y="1066680"/>
            <a:ext cx="84582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Impact"/>
                <a:ea typeface="宋体"/>
              </a:rPr>
              <a:t>Your business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80880" y="380880"/>
            <a:ext cx="838224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Impact"/>
                <a:ea typeface="宋体"/>
              </a:rPr>
              <a:t>Transitional Page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76320" y="2282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Impact"/>
                <a:ea typeface="宋体"/>
              </a:rPr>
              <a:t>Your Topic Goes Here</a:t>
            </a:r>
            <a:endParaRPr b="0" lang="en-US" sz="24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880" y="106632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Impact"/>
                <a:ea typeface="宋体"/>
              </a:rPr>
              <a:t>Your business subtopic goes here</a:t>
            </a:r>
            <a:endParaRPr b="1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Text Box 6"/>
          <p:cNvSpPr/>
          <p:nvPr/>
        </p:nvSpPr>
        <p:spPr>
          <a:xfrm>
            <a:off x="411120" y="6324480"/>
            <a:ext cx="58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模板打包下载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Impact"/>
              </a:rPr>
              <a:t>使用规范说明</a:t>
            </a:r>
            <a:endParaRPr b="0" lang="en-US" sz="36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站点介绍：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Tahoma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 </a:t>
            </a:r>
            <a:r>
              <a:rPr b="1" lang="zh-CN" sz="1000" spc="-1" strike="noStrike" u="sng">
                <a:solidFill>
                  <a:srgbClr val="009999"/>
                </a:solidFill>
                <a:uFillTx/>
                <a:latin typeface="Tahoma"/>
                <a:hlinkClick r:id="rId1"/>
              </a:rPr>
              <a:t>http://</a:t>
            </a:r>
            <a:r>
              <a:rPr b="1" lang="en-US" sz="1000" spc="-1" strike="noStrike" u="sng">
                <a:solidFill>
                  <a:srgbClr val="009999"/>
                </a:solidFill>
                <a:uFillTx/>
                <a:latin typeface="Tahoma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 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特别说明：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6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Tahoma"/>
              </a:rPr>
              <a:t>栏目推荐：</a:t>
            </a:r>
            <a:endParaRPr b="1" lang="en-US" sz="10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3"/>
              </a:rPr>
              <a:t>好看的ppt背景图片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beijing/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	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4"/>
              </a:rPr>
              <a:t>动态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dongtai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5"/>
              </a:rPr>
              <a:t>ppt模板下载 免费完整版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6"/>
              </a:rPr>
              <a:t> 毕业设计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chuangyi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7"/>
              </a:rPr>
              <a:t>答辩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dabia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8"/>
              </a:rPr>
              <a:t>月总结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gongzuo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9"/>
              </a:rPr>
              <a:t>精美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jingpin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0"/>
              </a:rPr>
              <a:t>说课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kejian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1"/>
              </a:rPr>
              <a:t>企业介绍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qiye/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2"/>
              </a:rPr>
              <a:t>商务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shangwu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3"/>
              </a:rPr>
              <a:t>市场营销策划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yingxiao/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4"/>
              </a:rPr>
              <a:t>ppt素材图片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sucai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5"/>
              </a:rPr>
              <a:t>ppt图表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tubiao/                        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6"/>
              </a:rPr>
              <a:t>自然风景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fengjing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7"/>
              </a:rPr>
              <a:t>国外ppt模板下载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guowai/            </a:t>
            </a: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8"/>
              </a:rPr>
              <a:t>简洁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jianjie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 u="sng">
                <a:solidFill>
                  <a:srgbClr val="009999"/>
                </a:solidFill>
                <a:uFillTx/>
                <a:latin typeface="Tahoma"/>
                <a:hlinkClick r:id="rId19"/>
              </a:rPr>
              <a:t>公司会议ppt模板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huiyi/    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教育教学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jiaoyu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网络科技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keji/      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论文答辩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免费下载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lunwen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通用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tongyong/               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医疗卫生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ppt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模板  </a:t>
            </a:r>
            <a:r>
              <a:rPr b="1" lang="zh-CN" sz="900" spc="-1" strike="noStrike">
                <a:solidFill>
                  <a:srgbClr val="ededed"/>
                </a:solidFill>
                <a:latin typeface="Tahoma"/>
              </a:rPr>
              <a:t>http://www.eeppt.com/moban/yiliao/</a:t>
            </a: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9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3T16:51:36Z</dcterms:created>
  <dc:creator>eclipse</dc:creator>
  <dc:description/>
  <dc:language>en-US</dc:language>
  <cp:lastModifiedBy>yu wang</cp:lastModifiedBy>
  <dcterms:modified xsi:type="dcterms:W3CDTF">2015-08-14T12:52:56Z</dcterms:modified>
  <cp:revision>3</cp:revision>
  <dc:subject/>
  <dc:title>BUSINESS RELATIONS</dc:title>
</cp:coreProperties>
</file>