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1961-4B01-4F85-A94F-93408C81F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B97-D3DB-4962-978B-E641B90F954E}" type="slidenum">
              <a:rPr b="0" lang="en-US" sz="1200" spc="-1" strike="noStrike">
                <a:solidFill>
                  <a:srgbClr val="e5e5e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3F9F-93A1-43EB-BD02-3E096CEEB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8CBC-0B49-493E-81EF-A3BD97A16A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0E14A-7A13-4230-A2CD-896D7F851E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53B3-8F89-4862-810C-FC7256E9E2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099B-559F-426D-99A0-7F5DB66A46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DB7A4-CBA2-43D6-AF16-70BA5493A6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5B84-6FC8-4B02-B920-B08438F0DBA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0797-9A6F-4DEA-A2C4-13387599E0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4FE5-B2B6-4CBB-A6A3-0F2165C67CE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3C9E-13E7-4A69-AF49-2AC989581A8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2D71-383D-4E8F-AB06-65F93F1A53D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DB260-8D16-4871-A5BC-A301023C9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E749-D354-44D1-9E78-843DACAEEB8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4B7BD-EF26-45A8-A53D-3567BC2B26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195DF-B7E0-458B-89DB-F591DD6B21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C5CCE-03B6-4534-BC5E-7142524E30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0D395-409B-4B2E-8C97-BC6B46DB62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0E7C7-AE70-4F32-A1F2-81A17FF29F5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E8010-C208-40C8-A3A8-C9F9397A841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E19BB-B86F-4A89-9B31-BD5416EA92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A89EF-9471-490A-8A15-4AA779B3E46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D56EE-E665-45A6-8E5C-E36C313761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AE849-500F-4AC3-B826-053E39A99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05B1-8877-4A78-A0A6-B764FC668C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37D55-CC80-4D09-A4A9-16694DBD5B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13E78-0C03-475B-BC72-665DCA3335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E7ECC8-73D7-4A68-B438-F85D6FA2C9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9CB59-500E-4A73-956F-4F53EF7AD3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A324FD-8358-46ED-B03A-D0DE94A21C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F8C0D-8F85-484D-AB5F-CDFC510074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E9928-DE1A-481E-8818-8B7B3998FB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24B94-12BF-447A-AFB0-63D6C8B8F3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F01E6-F350-4967-A6D0-2983C788D39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CD61C-3807-4954-92D7-CB7FDD8CE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421-ABF3-4639-AA19-44262D6C769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24EED-7922-40A8-9391-8ACB5B04CC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4EE37F-0D64-4C4A-A44C-2093EF82B9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671BA-E822-4405-BC2A-B4DEA00CA4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1A22D-475A-458D-90F4-322F9806F6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4727-1ED1-42A0-AA89-CF44383914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FD659-6DD1-4399-BCAF-2741102DB6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0B2D-8611-46B9-A70B-FCDF9E5569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3A24-74ED-48CB-B257-FB5FE6EBB7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F0E5-6551-4727-9C77-DF693425C5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AF04-D871-4B46-A01C-DBBA254C42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F4C-059D-4AD5-B454-B857C10CD07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B0C3-0EDB-4EB9-B4BD-A196B2429D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1F78-CA17-4707-AE27-C2E7D6EC5DA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9628-87C1-4914-A923-34FF5EC695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ABADF-CE70-44C7-88CF-DCFFCC0A0F3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702D2-F385-4BD0-9F37-E76DB7A7E3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DECD4-A1AE-43C8-AE6E-B6C63958FD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27094-2381-44D6-8C60-42A7EEDD340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F6FB34-712E-44E2-9D89-09620C75A8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5FC3A-26DC-445B-8C34-75E0BEF1DD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CB56E-4D70-40E7-A372-4B6D7EE12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165-EEB4-455F-94D1-F313BF6167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82BF0A-4754-4140-9B72-36A1EB51FBF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4F964-A9D9-43E6-8DD3-77A8DFC7A5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D1F30-0640-461D-BB48-BC9C1D3949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8162A-E81D-4B4A-A2E2-8402B5D1EA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C44A8-6C81-4725-A657-4ED8FA78061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DE2056-B8E1-4B18-8526-C1B802F0EC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A59A2-7291-40E5-B5C2-97CF4A652D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6F4-7785-44D2-BFA5-BD89F168A7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883-FE00-4F9F-8B63-085102D01A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F19-E1B0-4C7F-A7C8-2015ACCF78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F01-B815-4548-9325-8C7E53154E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148B-8D94-4980-A3EC-BCFFB0D0B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46F-81EA-4D11-927D-F971A38A3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CD3-AFAE-447D-8329-8094254AA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B56-AD80-4620-BF7B-B8C0914228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E37-7E3B-490A-8E48-E21E95391F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1F0-18F3-49C6-A0BA-F9E7644F49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750-7D2F-4D7F-B745-E9310AE495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C29-4BA8-4E76-AAD2-25DB6D04C7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C9B4-B599-4474-87CC-8E2A61E5C3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7450-F5DC-4BB9-8C64-314C9081B9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D213-D4DE-4CF4-8184-FB79D142A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4E3B-5A3C-427B-911E-8498C44B4B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98A-C893-4A85-A773-26EC955E11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3A1-16F6-4D89-B44C-1870188B0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D762-238F-44CC-ADB7-C46A02569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1E85-22F9-4E9E-AB6A-96F4D93539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8C2D-D736-4C33-80E8-21A41D1B11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00CA-6BC6-45F0-BCFF-0B3557B21E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6D25-59D9-415B-8B05-4972398B1B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DD5E0-EA02-47CE-95EA-D76A8D8803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0DF7E-65B7-4F71-AD51-01058A2CEF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DB162-A7EB-4A44-B51A-2C8C3365B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4788-779A-481F-9E91-17E657CD44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8923E-2DA5-4C84-BB7A-C4A72E1B8F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86C13-CC4A-48AF-B735-FFD15780A9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B679E-BB38-4E9C-B200-8DE1735DB9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92AB9-25C7-46A5-BB85-641B9EEA00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AF00C-85BA-4C29-AC37-2D11BD88EE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169CB-D94C-4E9E-B34B-8FE84001AE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69116-74A1-4E49-8097-80578E687C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44326-7F00-46C9-BCC0-1E64B5609B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CC0E9-E547-42ED-AB2F-426E1308260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18701-D88F-4EBC-A064-D8BB3E66B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5C06-D3A4-4E89-86E6-1DBE7E21DD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07BC8-8992-483E-AE84-994853EF56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615B0-B156-492B-B83E-2ECD36591F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589E3-996C-46FD-8949-4B2925EE25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18E5E-2B25-47AF-A86A-6D40A17490F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8A779-DB4B-4C75-9304-679D5B0911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A52017-9D96-40D1-A762-D819B143E3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8611D-FC0F-4D65-A235-4159C6EB21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1F91D-740D-447C-9E95-3192FEA31F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C092E-4926-49E7-BB2F-E78037F5AD9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FA2DC-7E43-4A8B-B446-99C511E45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4DCD-057A-477D-8336-D3079B0F18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F5969-14C6-47A3-B5D2-0C3AE13052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D414-4CDD-49C5-A25F-1FE882229C3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7B59-8654-4657-8530-AE791BE132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99DA-AE13-41CA-83AD-AAA28B6BD2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D3F1-5581-445B-8C44-423A569997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7591-BDC1-41E6-A141-E217CD173E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72B1-5E0A-417B-890F-CD5EAAF261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3B7C-C26A-4BE4-BFBD-079F9A0DD1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17B3-6FEC-4821-B25E-FEE3F72752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3536-614F-4703-AF55-3BDB071DB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4761-F829-4F32-BAC0-A0901D2AD1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F120-BFC0-4D13-BD49-276E8A44C6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A108-153C-4234-B5F4-3271FF2C5B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1EAF-89F3-43C2-9A66-BBCE57BD9E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54D51-FE48-41B4-9AFB-2007662A7C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ADD95-D6A1-450C-B4B0-6BDEA41552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BD05C-DB68-47D7-9E98-12ABD23C2D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A6109-1FF9-4FEE-B0AD-CD8D62B3A5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6C0E8-5AC8-4B3C-9001-8533E29490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EEA0A-AFEA-4B74-A572-B7B859DC61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5E739-026E-4657-8BFF-7E309EE2D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B49E-40A8-427E-A470-3103550B4E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C657E-EF93-437C-A08E-5BFD32F706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AEDC6-507A-48FF-A9A3-382D49834F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8C44D-8B1C-4F69-A217-ECC5B737AC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6F5E4-10E6-45EC-9A12-5D362B1BA56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BB354-E9B8-4406-9DF6-49A31C5848A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F28D09-153F-4278-9513-4B58F03030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EB29C7-6ED4-4406-81B2-E2C50024D4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C0126-A9DB-42F1-B8EE-1FBC72DB4D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8C9B6-8499-4273-A691-FF708973E7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37F313-97E0-40C8-9958-4FA4D69D7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D355-F065-41B4-B657-6B996C87D1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821F4-B312-4124-9871-DBD4D85F12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64C38-01E0-4739-BC13-BE03ADBF5A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A2BA8-E9C4-4868-8244-3364C8513E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53104-9926-4843-8415-0D0A6D4304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71373-27F4-46E2-8982-B9FBD1E1A3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B2CDA9-3428-4057-9D2B-BD2C3352A51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B23189-B0A8-4C63-A409-E177F0681E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359D7-5402-4229-8AA5-3474CC0AEF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9BC2-DBF0-42C4-A95F-E136E47CBC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DBD4F-56F2-4B80-A84E-E51F9D9B2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1DB-6E56-4A21-B0CA-8DFE460525AF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DF95-8FE4-4420-98B7-897538977D1E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4A03-CBF7-43C0-A43C-2A0F8844572F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6451-66CA-469D-B87A-0BB20CFA6F84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5e5e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0C6-2391-4800-AAEE-AFF6E292EDF8}" type="slidenum">
              <a:rPr b="1" lang="en-US" sz="900" spc="-1" strike="noStrike">
                <a:solidFill>
                  <a:srgbClr val="e5e5e5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ppt_title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0" y="6590880"/>
            <a:ext cx="457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FF86-14EF-4B07-9B7B-3DB8F52C0EEA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533160" y="6629040"/>
            <a:ext cx="38862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1BD-3FEE-4996-8E5B-790A90F205A2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F080-99B1-41A3-9FC1-A9F9EB5AEC93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DA53-5A60-4DB0-80B4-B25A4208FA83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46E9-BCC4-4082-8DBC-0C8FC29BFE5C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42F4-08FF-4B38-88F5-34BF0CB986E4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538-4711-4413-8E0F-95A1045CB036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4" descr="ppt_slide3"/>
          <p:cNvPicPr/>
          <p:nvPr/>
        </p:nvPicPr>
        <p:blipFill>
          <a:blip r:embed="rId2"/>
          <a:stretch/>
        </p:blipFill>
        <p:spPr>
          <a:xfrm>
            <a:off x="0" y="5902200"/>
            <a:ext cx="9144000" cy="955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3d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3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3d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3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5e5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533520" y="6629040"/>
            <a:ext cx="5486400" cy="2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e5e5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52B-D2FB-4C3F-BD74-79B1F05BB034}" type="slidenum"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08120" y="41144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美创意企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景在线下载</a:t>
            </a:r>
            <a:endParaRPr b="1" lang="en-US" sz="4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2" name="矩形 12"/>
          <p:cNvSpPr/>
          <p:nvPr/>
        </p:nvSpPr>
        <p:spPr>
          <a:xfrm>
            <a:off x="78768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baseline="-25000">
                <a:solidFill>
                  <a:srgbClr val="e5e5e5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 baseline="-25000">
                <a:solidFill>
                  <a:srgbClr val="e5e5e5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 baseline="-25000">
                <a:solidFill>
                  <a:srgbClr val="e5e5e5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5e5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3d3"/>
                </a:solidFill>
                <a:latin typeface="Arial"/>
              </a:rPr>
              <a:t>使用规范说明</a:t>
            </a:r>
            <a:endParaRPr b="1" lang="en-US" sz="3000" spc="-1" strike="noStrike">
              <a:solidFill>
                <a:srgbClr val="0093d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e2a71b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e2a71b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2a71b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e5e5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4T12:53:07Z</dcterms:modified>
  <cp:revision>8</cp:revision>
  <dc:subject/>
  <dc:title>A Year Later  Looking Back and Moving Forward </dc:title>
</cp:coreProperties>
</file>