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A0F-3673-4325-812F-B3F79689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21F-4015-47B7-8122-A2589CF6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156-0BD5-42A6-926E-B60C497A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32B-F61B-4A3C-A797-A8DD876E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F4D-BEA9-46EF-8B7C-9ED402D0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B33-3189-418D-832C-F2830326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987-C1A4-49B1-A942-648C77D7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09D-6E62-4F51-9AFE-02FA313A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3CE-CEBA-4EDD-9F3F-67B5F87C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E3D-29A2-40B5-8670-6B659F3F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290-CC0E-4679-BC83-9EE42B85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00D-7DCA-426C-9DCD-39A69B5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F06A-28DB-4985-B789-165C85F43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875600" y="115920"/>
            <a:ext cx="54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胖娃"/>
                <a:ea typeface="迷你简胖娃"/>
              </a:rPr>
              <a:t>精美风景旅游管理毕业论文答辩</a:t>
            </a:r>
            <a:r>
              <a:rPr b="0" lang="en-US" sz="4000" spc="-1" strike="noStrike">
                <a:solidFill>
                  <a:srgbClr val="000000"/>
                </a:solidFill>
                <a:latin typeface="迷你简胖娃"/>
                <a:ea typeface="迷你简胖娃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9528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cp:keywords/>
  <dc:language>en-US</dc:language>
  <cp:lastModifiedBy>yu wang</cp:lastModifiedBy>
  <cp:lastPrinted>1899-12-30T00:00:00Z</cp:lastPrinted>
  <dcterms:modified xsi:type="dcterms:W3CDTF">2015-08-12T14:54:28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