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1522075"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0000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595959"/>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0070c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50"/>
        <c:overlap val="0"/>
        <c:axId val="61693499"/>
        <c:axId val="15672524"/>
      </c:barChart>
      <c:catAx>
        <c:axId val="61693499"/>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15672524"/>
        <c:crosses val="autoZero"/>
        <c:auto val="1"/>
        <c:lblAlgn val="ctr"/>
        <c:lblOffset val="100"/>
        <c:noMultiLvlLbl val="0"/>
      </c:catAx>
      <c:valAx>
        <c:axId val="15672524"/>
        <c:scaling>
          <c:orientation val="minMax"/>
        </c:scaling>
        <c:delete val="0"/>
        <c:axPos val="l"/>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61693499"/>
        <c:crosses val="autoZero"/>
        <c:crossBetween val="between"/>
      </c:valAx>
      <c:spPr>
        <a:noFill/>
        <a:ln w="25560">
          <a:noFill/>
        </a:ln>
      </c:spPr>
    </c:plotArea>
    <c:legend>
      <c:legendPos val="r"/>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160" spc="-1" strike="noStrike">
                <a:solidFill>
                  <a:srgbClr val="404040"/>
                </a:solidFill>
                <a:latin typeface="Candara"/>
                <a:ea typeface="微软雅黑"/>
              </a:defRPr>
            </a:pPr>
            <a:r>
              <a:rPr b="1" sz="2160" spc="-1" strike="noStrike">
                <a:solidFill>
                  <a:srgbClr val="404040"/>
                </a:solidFill>
                <a:latin typeface="Candara"/>
                <a:ea typeface="微软雅黑"/>
              </a:rPr>
              <a:t>销售额</a:t>
            </a:r>
          </a:p>
        </c:rich>
      </c:tx>
      <c:overlay val="0"/>
      <c:spPr>
        <a:noFill/>
        <a:ln w="0">
          <a:noFill/>
        </a:ln>
      </c:spPr>
    </c:title>
    <c:autoTitleDeleted val="0"/>
    <c:plotArea>
      <c:layout>
        <c:manualLayout>
          <c:layoutTarget val="inner"/>
          <c:xMode val="edge"/>
          <c:yMode val="edge"/>
          <c:x val="0.151477278408239"/>
          <c:y val="0.154923076923077"/>
          <c:w val="0.529820526920962"/>
          <c:h val="0.815153846153846"/>
        </c:manualLayout>
      </c:layout>
      <c:pieChart>
        <c:varyColors val="1"/>
        <c:ser>
          <c:idx val="0"/>
          <c:order val="0"/>
          <c:tx>
            <c:strRef>
              <c:f>label 0</c:f>
              <c:strCache>
                <c:ptCount val="1"/>
                <c:pt idx="0">
                  <c:v>销售额</c:v>
                </c:pt>
              </c:strCache>
            </c:strRef>
          </c:tx>
          <c:spPr>
            <a:solidFill>
              <a:srgbClr val="d00000"/>
            </a:solidFill>
            <a:ln w="0">
              <a:solidFill>
                <a:srgbClr val="ffffff"/>
              </a:solidFill>
            </a:ln>
          </c:spPr>
          <c:explosion val="0"/>
          <c:dPt>
            <c:idx val="0"/>
            <c:spPr>
              <a:solidFill>
                <a:srgbClr val="c00000"/>
              </a:solidFill>
              <a:ln w="0">
                <a:solidFill>
                  <a:srgbClr val="ffffff"/>
                </a:solidFill>
              </a:ln>
            </c:spPr>
          </c:dPt>
          <c:dPt>
            <c:idx val="1"/>
            <c:spPr>
              <a:solidFill>
                <a:srgbClr val="595959"/>
              </a:solidFill>
              <a:ln w="0">
                <a:solidFill>
                  <a:srgbClr val="ffffff"/>
                </a:solidFill>
              </a:ln>
            </c:spPr>
          </c:dPt>
          <c:dPt>
            <c:idx val="2"/>
            <c:spPr>
              <a:solidFill>
                <a:srgbClr val="0070c0"/>
              </a:solidFill>
              <a:ln w="0">
                <a:solidFill>
                  <a:srgbClr val="ffffff"/>
                </a:solidFill>
              </a:ln>
            </c:spPr>
          </c:dPt>
          <c:dPt>
            <c:idx val="3"/>
            <c:spPr>
              <a:solidFill>
                <a:srgbClr val="00b0f0"/>
              </a:solidFill>
              <a:ln w="0">
                <a:solidFill>
                  <a:srgbClr val="ffffff"/>
                </a:solidFill>
              </a:ln>
            </c:spPr>
          </c:dPt>
          <c:dLbls>
            <c:dLbl>
              <c:idx val="0"/>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1"/>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2"/>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3"/>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txPr>
              <a:bodyPr wrap="square"/>
              <a:lstStyle/>
              <a:p>
                <a:pPr>
                  <a:defRPr b="0" sz="1800" spc="-1" strike="noStrike">
                    <a:solidFill>
                      <a:srgbClr val="404040"/>
                    </a:solidFill>
                    <a:latin typeface="Candara"/>
                    <a:ea typeface="微软雅黑"/>
                  </a:defRPr>
                </a:pPr>
              </a:p>
            </c:txPr>
            <c:dLblPos val="bestFit"/>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legend>
      <c:legendPos val="r"/>
      <c:layout>
        <c:manualLayout>
          <c:xMode val="edge"/>
          <c:yMode val="edge"/>
          <c:x val="0.799334249885431"/>
          <c:y val="0.261281210269341"/>
          <c:w val="0.172447055229207"/>
          <c:h val="0.458672421713907"/>
        </c:manualLayout>
      </c:layout>
      <c:overlay val="0"/>
      <c:spPr>
        <a:noFill/>
        <a:ln w="0">
          <a:noFill/>
        </a:ln>
      </c:spPr>
      <c:txPr>
        <a:bodyPr/>
        <a:lstStyle/>
        <a:p>
          <a:pPr>
            <a:defRPr b="0" sz="1800" spc="-1" strike="noStrike">
              <a:solidFill>
                <a:srgbClr val="404040"/>
              </a:solidFill>
              <a:latin typeface="Candara"/>
              <a:ea typeface="微软雅黑"/>
            </a:defRPr>
          </a:pPr>
        </a:p>
      </c:txPr>
    </c:legend>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7C0FE-C158-4327-9C45-5FC2EC3E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5"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6"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2600-5B79-450A-BE68-48D73C54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9"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1"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4B8DF-A1D0-4A20-9A99-76B0278A8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73"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4"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5"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6"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7"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8"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A4C4F-688B-48A7-A0B0-000693A65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125C4-4412-4792-BF32-DDC48FA13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69"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58960-5535-4F7D-A028-408C2025C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1"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06BF0-798C-4EFC-920A-08823B798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3"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13862-8C17-4F98-9CEC-85D44EB7C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F8692-5115-4127-86EF-2FA4543DB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F62CA-D184-421E-BFF3-1EAF10A97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D4342-7AE7-455D-83AA-1C388295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4"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D6216-585C-439C-A561-1545D0EA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2"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3"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4"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5D51B-06B8-4D0A-A4F7-509B23D63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6"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7"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8"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CDD2C-16A6-42BA-8705-8287E0B9E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0"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1"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C8D4A-C4F2-4B10-B7D8-7AB7DBEFB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4"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6"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B9E18-B89C-40D6-A3EA-208367AA1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8"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9"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0"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1"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2"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3"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F7872-9D0F-41B4-8093-007C1F0B2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4"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6"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8"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4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6"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E3B4-20E7-4920-A1BE-CF85BAAF8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7"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8"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9"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1"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2"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3"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5"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6"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9"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1"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73"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4"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5"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6"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7"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8"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8"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4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C08B-6E52-4C3D-87A2-53B04CFD6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7F03-22EB-4C57-BEC1-4C15A2A8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C528-213D-4286-9878-6439DAAE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591E-D537-4B28-813E-5AFF3E9D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7"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8"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9"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9D79-2C75-42C5-8741-7DDE4BAF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1"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2"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3"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8FB5-4595-4AE3-A035-92E308715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288"/>
          <p:cNvGrpSpPr/>
          <p:nvPr/>
        </p:nvGrpSpPr>
        <p:grpSpPr>
          <a:xfrm>
            <a:off x="360000" y="1439640"/>
            <a:ext cx="10801440" cy="4680000"/>
            <a:chOff x="360000" y="1439640"/>
            <a:chExt cx="10801440" cy="4680000"/>
          </a:xfrm>
        </p:grpSpPr>
        <p:cxnSp>
          <p:nvCxnSpPr>
            <p:cNvPr id="1"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2"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4"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5"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6"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8"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9"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10"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11"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12"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13"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14"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15"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16"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17"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18"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19"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20"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21"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22"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23"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24"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25"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26"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27"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28"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29"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30"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31"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32"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33"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34"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35"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36"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37"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38"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39"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0"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1"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3"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4"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5"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6"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7"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8"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9"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50"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51"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52"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53"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54"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55"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56"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57"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58"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59"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60"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61"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62"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63"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64"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65"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66"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67"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68"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69"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0"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1"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2"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3"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4"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5"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6"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7"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9"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80"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81"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82"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83"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84"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85"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86"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87"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88"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89"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90"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91"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92"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93"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94"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95"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96"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97"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98"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99"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100"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101"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102"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103"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104"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105"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106"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107"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108"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109"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110"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111"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112"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113"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114"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115"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116"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117"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118"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119"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120"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121"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122"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123"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124"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125"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126"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127"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128"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129"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130"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131"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132"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133"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134"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135"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136"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137"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138"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139"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140"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141"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142"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143"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144"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145"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146"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147"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148"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149"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150"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151"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152"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153"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154"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155"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156"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157"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158"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159"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160"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161"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162"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163"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164"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165"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166"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167"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168"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169"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170"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171"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172"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173"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174"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175"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176"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177"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178"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179"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180"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181"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182"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183"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184"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185"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186"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187"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188"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189"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190"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191"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192"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193"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194"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195"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196"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197"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198"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199"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200"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201"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202"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203"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204"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205"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206"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207"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208"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209"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210"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211"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212"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213"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214"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215"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216"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217"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218"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219"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220"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221"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222"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223"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224"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225"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226"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227"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228"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229"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230"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231"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232"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233"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234"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235"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236"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237"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238"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239"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240"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241"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242"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243"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244"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245"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246"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247"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248"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249"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250"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251"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252"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253"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254"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255"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256"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257"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258"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259"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260"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261"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262"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263"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264"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265"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266"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267"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268"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269"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270"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271"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272"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273"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274"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275"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276"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277"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278"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279"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280"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281"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282"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283" name="直接连接符 571"/>
          <p:cNvCxnSpPr/>
          <p:nvPr/>
        </p:nvCxnSpPr>
        <p:spPr>
          <a:xfrm>
            <a:off x="360360" y="1079280"/>
            <a:ext cx="10801440" cy="360"/>
          </a:xfrm>
          <a:prstGeom prst="straightConnector1">
            <a:avLst/>
          </a:prstGeom>
          <a:ln w="19050">
            <a:solidFill>
              <a:srgbClr val="c00000"/>
            </a:solidFill>
            <a:round/>
          </a:ln>
        </p:spPr>
      </p:cxnSp>
      <p:sp>
        <p:nvSpPr>
          <p:cNvPr id="284" name="矩形 80"/>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85" name="PlaceHolder 1"/>
          <p:cNvSpPr>
            <a:spLocks noGrp="1"/>
          </p:cNvSpPr>
          <p:nvPr>
            <p:ph type="title"/>
          </p:nvPr>
        </p:nvSpPr>
        <p:spPr>
          <a:xfrm>
            <a:off x="864000" y="2013120"/>
            <a:ext cx="9793440" cy="1388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286" name="PlaceHolder 2"/>
          <p:cNvSpPr>
            <a:spLocks noGrp="1"/>
          </p:cNvSpPr>
          <p:nvPr>
            <p:ph type="dt" idx="1"/>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287" name="PlaceHolder 3"/>
          <p:cNvSpPr>
            <a:spLocks noGrp="1"/>
          </p:cNvSpPr>
          <p:nvPr>
            <p:ph type="ftr" idx="2"/>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3"/>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0A5765AA-0CAD-4FC7-90C2-270D0C58C117}"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
        <p:nvSpPr>
          <p:cNvPr id="289" name="平行四边形 6"/>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0" name="平行四边形 7"/>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1" name="平行四边形 8"/>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2" name="平行四边形 9"/>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3" name="平行四边形 10"/>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4" name="平行四边形 11"/>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5" name="平行四边形 12"/>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6" name="平行四边形 13"/>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7" name="平行四边形 14"/>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8" name="平行四边形 15"/>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9" name="平行四边形 16"/>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0" name="平行四边形 17"/>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1" name="平行四边形 18"/>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2" name="平行四边形 19"/>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3" name="平行四边形 20"/>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4" name="平行四边形 23"/>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5" name="平行四边形 24"/>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6" name="平行四边形 25"/>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7" name="平行四边形 26"/>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8" name="平行四边形 27"/>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9" name="平行四边形 28"/>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0" name="平行四边形 29"/>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1" name="平行四边形 30"/>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2" name="平行四边形 31"/>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3" name="平行四边形 32"/>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4" name="平行四边形 33"/>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5" name="平行四边形 34"/>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6" name="平行四边形 35"/>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7" name="平行四边形 36"/>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8" name="平行四边形 37"/>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9" name="平行四边形 39"/>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0" name="平行四边形 40"/>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1" name="平行四边形 41"/>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2" name="平行四边形 42"/>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3" name="平行四边形 43"/>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4" name="平行四边形 44"/>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5" name="平行四边形 45"/>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6" name="平行四边形 46"/>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7" name="平行四边形 50"/>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8" name="平行四边形 51"/>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9" name="平行四边形 52"/>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0" name="平行四边形 53"/>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1" name="平行四边形 54"/>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2" name="平行四边形 55"/>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3" name="平行四边形 56"/>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4" name="平行四边形 59"/>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5" name="平行四边形 62"/>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6" name="平行四边形 65"/>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7" name="平行四边形 66"/>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8" name="平行四边形 67"/>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9" name="矩形 3"/>
          <p:cNvSpPr/>
          <p:nvPr/>
        </p:nvSpPr>
        <p:spPr>
          <a:xfrm>
            <a:off x="9361440" y="7192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2880000" h="2880000">
                <a:moveTo>
                  <a:pt x="144725" y="144137"/>
                </a:moveTo>
                <a:lnTo>
                  <a:pt x="144725" y="2736137"/>
                </a:lnTo>
                <a:lnTo>
                  <a:pt x="2736725" y="2736137"/>
                </a:lnTo>
                <a:lnTo>
                  <a:pt x="2736725" y="144137"/>
                </a:lnTo>
                <a:close/>
                <a:moveTo>
                  <a:pt x="55819" y="0"/>
                </a:moveTo>
                <a:lnTo>
                  <a:pt x="104186" y="0"/>
                </a:lnTo>
                <a:lnTo>
                  <a:pt x="104186" y="0"/>
                </a:lnTo>
                <a:cubicBezTo>
                  <a:pt x="104186" y="30828"/>
                  <a:pt x="129177" y="55818"/>
                  <a:pt x="160005" y="55818"/>
                </a:cubicBezTo>
                <a:cubicBezTo>
                  <a:pt x="190833" y="55818"/>
                  <a:pt x="215824" y="30828"/>
                  <a:pt x="215824" y="0"/>
                </a:cubicBezTo>
                <a:lnTo>
                  <a:pt x="264190" y="0"/>
                </a:lnTo>
                <a:lnTo>
                  <a:pt x="264190" y="0"/>
                </a:lnTo>
                <a:cubicBezTo>
                  <a:pt x="264190" y="30828"/>
                  <a:pt x="289181" y="55818"/>
                  <a:pt x="320009" y="55818"/>
                </a:cubicBezTo>
                <a:cubicBezTo>
                  <a:pt x="350837" y="55818"/>
                  <a:pt x="375828" y="30828"/>
                  <a:pt x="375828" y="0"/>
                </a:cubicBezTo>
                <a:lnTo>
                  <a:pt x="424194" y="0"/>
                </a:lnTo>
                <a:lnTo>
                  <a:pt x="424194" y="0"/>
                </a:lnTo>
                <a:cubicBezTo>
                  <a:pt x="424194" y="30828"/>
                  <a:pt x="449186" y="55818"/>
                  <a:pt x="480014" y="55818"/>
                </a:cubicBezTo>
                <a:cubicBezTo>
                  <a:pt x="510842" y="55818"/>
                  <a:pt x="535833" y="30828"/>
                  <a:pt x="535833" y="0"/>
                </a:cubicBezTo>
                <a:lnTo>
                  <a:pt x="584199" y="0"/>
                </a:lnTo>
                <a:lnTo>
                  <a:pt x="584199" y="0"/>
                </a:lnTo>
                <a:cubicBezTo>
                  <a:pt x="584199" y="30828"/>
                  <a:pt x="609190" y="55818"/>
                  <a:pt x="640018" y="55818"/>
                </a:cubicBezTo>
                <a:cubicBezTo>
                  <a:pt x="670846" y="55818"/>
                  <a:pt x="695837" y="30828"/>
                  <a:pt x="695837" y="0"/>
                </a:cubicBezTo>
                <a:lnTo>
                  <a:pt x="744203" y="0"/>
                </a:lnTo>
                <a:lnTo>
                  <a:pt x="744203" y="0"/>
                </a:lnTo>
                <a:cubicBezTo>
                  <a:pt x="744203" y="30828"/>
                  <a:pt x="769194" y="55818"/>
                  <a:pt x="800022" y="55818"/>
                </a:cubicBezTo>
                <a:cubicBezTo>
                  <a:pt x="830850" y="55818"/>
                  <a:pt x="855842" y="30828"/>
                  <a:pt x="855842" y="0"/>
                </a:cubicBezTo>
                <a:lnTo>
                  <a:pt x="904208" y="0"/>
                </a:lnTo>
                <a:lnTo>
                  <a:pt x="904208" y="0"/>
                </a:lnTo>
                <a:cubicBezTo>
                  <a:pt x="904208" y="30828"/>
                  <a:pt x="929199" y="55818"/>
                  <a:pt x="960027" y="55818"/>
                </a:cubicBezTo>
                <a:cubicBezTo>
                  <a:pt x="990855" y="55818"/>
                  <a:pt x="1015846" y="30828"/>
                  <a:pt x="1015846" y="0"/>
                </a:cubicBezTo>
                <a:lnTo>
                  <a:pt x="1064212" y="0"/>
                </a:lnTo>
                <a:lnTo>
                  <a:pt x="1064212" y="0"/>
                </a:lnTo>
                <a:cubicBezTo>
                  <a:pt x="1064212" y="30828"/>
                  <a:pt x="1089203" y="55818"/>
                  <a:pt x="1120031" y="55818"/>
                </a:cubicBezTo>
                <a:cubicBezTo>
                  <a:pt x="1150859" y="55818"/>
                  <a:pt x="1175850" y="30828"/>
                  <a:pt x="1175850" y="0"/>
                </a:cubicBezTo>
                <a:lnTo>
                  <a:pt x="1224217" y="0"/>
                </a:lnTo>
                <a:lnTo>
                  <a:pt x="1224217" y="0"/>
                </a:lnTo>
                <a:cubicBezTo>
                  <a:pt x="1224217" y="30828"/>
                  <a:pt x="1249208" y="55818"/>
                  <a:pt x="1280036" y="55818"/>
                </a:cubicBezTo>
                <a:cubicBezTo>
                  <a:pt x="1310864" y="55818"/>
                  <a:pt x="1335855" y="30828"/>
                  <a:pt x="1335855" y="0"/>
                </a:cubicBezTo>
                <a:lnTo>
                  <a:pt x="1384221" y="0"/>
                </a:lnTo>
                <a:lnTo>
                  <a:pt x="1384221" y="0"/>
                </a:lnTo>
                <a:cubicBezTo>
                  <a:pt x="1384221" y="30828"/>
                  <a:pt x="1409212" y="55818"/>
                  <a:pt x="1440040" y="55818"/>
                </a:cubicBezTo>
                <a:cubicBezTo>
                  <a:pt x="1470868" y="55818"/>
                  <a:pt x="1495859" y="30828"/>
                  <a:pt x="1495859" y="0"/>
                </a:cubicBezTo>
                <a:lnTo>
                  <a:pt x="1544226" y="0"/>
                </a:lnTo>
                <a:lnTo>
                  <a:pt x="1544226" y="0"/>
                </a:lnTo>
                <a:cubicBezTo>
                  <a:pt x="1544226" y="30828"/>
                  <a:pt x="1569217" y="55818"/>
                  <a:pt x="1600045" y="55818"/>
                </a:cubicBezTo>
                <a:cubicBezTo>
                  <a:pt x="1630873" y="55818"/>
                  <a:pt x="1655864" y="30828"/>
                  <a:pt x="1655864" y="0"/>
                </a:cubicBezTo>
                <a:lnTo>
                  <a:pt x="1704230" y="0"/>
                </a:lnTo>
                <a:lnTo>
                  <a:pt x="1704230" y="0"/>
                </a:lnTo>
                <a:cubicBezTo>
                  <a:pt x="1704230" y="30828"/>
                  <a:pt x="1729221" y="55818"/>
                  <a:pt x="1760049" y="55818"/>
                </a:cubicBezTo>
                <a:cubicBezTo>
                  <a:pt x="1790877" y="55818"/>
                  <a:pt x="1815868" y="30828"/>
                  <a:pt x="1815868" y="0"/>
                </a:cubicBezTo>
                <a:lnTo>
                  <a:pt x="1864234" y="0"/>
                </a:lnTo>
                <a:lnTo>
                  <a:pt x="1864234" y="0"/>
                </a:lnTo>
                <a:cubicBezTo>
                  <a:pt x="1864234" y="30828"/>
                  <a:pt x="1889226" y="55818"/>
                  <a:pt x="1920054" y="55818"/>
                </a:cubicBezTo>
                <a:cubicBezTo>
                  <a:pt x="1950882" y="55818"/>
                  <a:pt x="1975873" y="30828"/>
                  <a:pt x="1975873" y="0"/>
                </a:cubicBezTo>
                <a:lnTo>
                  <a:pt x="2024239" y="0"/>
                </a:lnTo>
                <a:lnTo>
                  <a:pt x="2024239" y="0"/>
                </a:lnTo>
                <a:cubicBezTo>
                  <a:pt x="2024239" y="30828"/>
                  <a:pt x="2049230" y="55818"/>
                  <a:pt x="2080058" y="55818"/>
                </a:cubicBezTo>
                <a:cubicBezTo>
                  <a:pt x="2110886" y="55818"/>
                  <a:pt x="2135877" y="30828"/>
                  <a:pt x="2135877" y="0"/>
                </a:cubicBezTo>
                <a:lnTo>
                  <a:pt x="2184243" y="0"/>
                </a:lnTo>
                <a:lnTo>
                  <a:pt x="2184243" y="0"/>
                </a:lnTo>
                <a:cubicBezTo>
                  <a:pt x="2184243" y="30828"/>
                  <a:pt x="2209234" y="55818"/>
                  <a:pt x="2240062" y="55818"/>
                </a:cubicBezTo>
                <a:cubicBezTo>
                  <a:pt x="2270890" y="55818"/>
                  <a:pt x="2295881" y="30828"/>
                  <a:pt x="2295881" y="0"/>
                </a:cubicBezTo>
                <a:lnTo>
                  <a:pt x="2344248" y="0"/>
                </a:lnTo>
                <a:lnTo>
                  <a:pt x="2344248" y="0"/>
                </a:lnTo>
                <a:cubicBezTo>
                  <a:pt x="2344248" y="30828"/>
                  <a:pt x="2369239" y="55818"/>
                  <a:pt x="2400067" y="55818"/>
                </a:cubicBezTo>
                <a:cubicBezTo>
                  <a:pt x="2430895" y="55818"/>
                  <a:pt x="2455886" y="30828"/>
                  <a:pt x="2455886" y="0"/>
                </a:cubicBezTo>
                <a:lnTo>
                  <a:pt x="2504252" y="0"/>
                </a:lnTo>
                <a:lnTo>
                  <a:pt x="2504252" y="0"/>
                </a:lnTo>
                <a:cubicBezTo>
                  <a:pt x="2504252" y="30828"/>
                  <a:pt x="2529243" y="55818"/>
                  <a:pt x="2560071" y="55818"/>
                </a:cubicBezTo>
                <a:cubicBezTo>
                  <a:pt x="2590899" y="55818"/>
                  <a:pt x="2615890" y="30828"/>
                  <a:pt x="2615890" y="0"/>
                </a:cubicBezTo>
                <a:lnTo>
                  <a:pt x="2664257" y="0"/>
                </a:lnTo>
                <a:lnTo>
                  <a:pt x="2664257" y="0"/>
                </a:lnTo>
                <a:cubicBezTo>
                  <a:pt x="2664257" y="30828"/>
                  <a:pt x="2689248" y="55818"/>
                  <a:pt x="2720076" y="55818"/>
                </a:cubicBezTo>
                <a:cubicBezTo>
                  <a:pt x="2750904" y="55818"/>
                  <a:pt x="2775895" y="30828"/>
                  <a:pt x="2775895" y="0"/>
                </a:cubicBezTo>
                <a:lnTo>
                  <a:pt x="2824261" y="0"/>
                </a:lnTo>
                <a:lnTo>
                  <a:pt x="2824261" y="0"/>
                </a:lnTo>
                <a:cubicBezTo>
                  <a:pt x="2824261" y="30801"/>
                  <a:pt x="2849209" y="55775"/>
                  <a:pt x="2880000" y="55802"/>
                </a:cubicBezTo>
                <a:lnTo>
                  <a:pt x="2880000" y="103963"/>
                </a:lnTo>
                <a:cubicBezTo>
                  <a:pt x="2849208" y="103989"/>
                  <a:pt x="2824258" y="128964"/>
                  <a:pt x="2824258" y="159765"/>
                </a:cubicBezTo>
                <a:cubicBezTo>
                  <a:pt x="2824258" y="190566"/>
                  <a:pt x="2849208" y="215541"/>
                  <a:pt x="2880000" y="215567"/>
                </a:cubicBezTo>
                <a:lnTo>
                  <a:pt x="2880000" y="263963"/>
                </a:lnTo>
                <a:cubicBezTo>
                  <a:pt x="2849208" y="263989"/>
                  <a:pt x="2824258" y="288964"/>
                  <a:pt x="2824258" y="319765"/>
                </a:cubicBezTo>
                <a:cubicBezTo>
                  <a:pt x="2824258" y="350567"/>
                  <a:pt x="2849208" y="375541"/>
                  <a:pt x="2880000" y="375567"/>
                </a:cubicBezTo>
                <a:lnTo>
                  <a:pt x="2880000" y="423963"/>
                </a:lnTo>
                <a:cubicBezTo>
                  <a:pt x="2849208" y="423990"/>
                  <a:pt x="2824258" y="448964"/>
                  <a:pt x="2824258" y="479765"/>
                </a:cubicBezTo>
                <a:cubicBezTo>
                  <a:pt x="2824258" y="510567"/>
                  <a:pt x="2849208" y="535541"/>
                  <a:pt x="2880000" y="535567"/>
                </a:cubicBezTo>
                <a:lnTo>
                  <a:pt x="2880000" y="583963"/>
                </a:lnTo>
                <a:cubicBezTo>
                  <a:pt x="2849208" y="583990"/>
                  <a:pt x="2824258" y="608964"/>
                  <a:pt x="2824258" y="639765"/>
                </a:cubicBezTo>
                <a:cubicBezTo>
                  <a:pt x="2824258" y="670567"/>
                  <a:pt x="2849208" y="695541"/>
                  <a:pt x="2880000" y="695568"/>
                </a:cubicBezTo>
                <a:lnTo>
                  <a:pt x="2880000" y="743964"/>
                </a:lnTo>
                <a:cubicBezTo>
                  <a:pt x="2849208" y="743990"/>
                  <a:pt x="2824258" y="768964"/>
                  <a:pt x="2824258" y="799766"/>
                </a:cubicBezTo>
                <a:cubicBezTo>
                  <a:pt x="2824258" y="830567"/>
                  <a:pt x="2849208" y="855541"/>
                  <a:pt x="2880000" y="855568"/>
                </a:cubicBezTo>
                <a:lnTo>
                  <a:pt x="2880000" y="903964"/>
                </a:lnTo>
                <a:cubicBezTo>
                  <a:pt x="2849208" y="903990"/>
                  <a:pt x="2824258" y="928964"/>
                  <a:pt x="2824258" y="959766"/>
                </a:cubicBezTo>
                <a:cubicBezTo>
                  <a:pt x="2824258" y="990567"/>
                  <a:pt x="2849208" y="1015542"/>
                  <a:pt x="2880000" y="1015568"/>
                </a:cubicBezTo>
                <a:lnTo>
                  <a:pt x="2880000" y="1063964"/>
                </a:lnTo>
                <a:cubicBezTo>
                  <a:pt x="2849208" y="1063990"/>
                  <a:pt x="2824258" y="1088964"/>
                  <a:pt x="2824258" y="1119766"/>
                </a:cubicBezTo>
                <a:cubicBezTo>
                  <a:pt x="2824258" y="1150567"/>
                  <a:pt x="2849208" y="1175542"/>
                  <a:pt x="2880000" y="1175568"/>
                </a:cubicBezTo>
                <a:lnTo>
                  <a:pt x="2880000" y="1223964"/>
                </a:lnTo>
                <a:cubicBezTo>
                  <a:pt x="2849208" y="1223990"/>
                  <a:pt x="2824258" y="1248965"/>
                  <a:pt x="2824258" y="1279766"/>
                </a:cubicBezTo>
                <a:cubicBezTo>
                  <a:pt x="2824258" y="1310567"/>
                  <a:pt x="2849208" y="1335542"/>
                  <a:pt x="2880000" y="1335568"/>
                </a:cubicBezTo>
                <a:lnTo>
                  <a:pt x="2880000" y="1383964"/>
                </a:lnTo>
                <a:cubicBezTo>
                  <a:pt x="2849208" y="1383990"/>
                  <a:pt x="2824258" y="1408965"/>
                  <a:pt x="2824258" y="1439766"/>
                </a:cubicBezTo>
                <a:cubicBezTo>
                  <a:pt x="2824258" y="1470568"/>
                  <a:pt x="2849208" y="1495542"/>
                  <a:pt x="2880000" y="1495568"/>
                </a:cubicBezTo>
                <a:lnTo>
                  <a:pt x="2880000" y="1543964"/>
                </a:lnTo>
                <a:cubicBezTo>
                  <a:pt x="2849208" y="1543990"/>
                  <a:pt x="2824258" y="1568965"/>
                  <a:pt x="2824258" y="1599766"/>
                </a:cubicBezTo>
                <a:cubicBezTo>
                  <a:pt x="2824258" y="1630568"/>
                  <a:pt x="2849208" y="1655542"/>
                  <a:pt x="2880000" y="1655568"/>
                </a:cubicBezTo>
                <a:lnTo>
                  <a:pt x="2880000" y="1703964"/>
                </a:lnTo>
                <a:cubicBezTo>
                  <a:pt x="2849208" y="1703991"/>
                  <a:pt x="2824258" y="1728965"/>
                  <a:pt x="2824258" y="1759766"/>
                </a:cubicBezTo>
                <a:cubicBezTo>
                  <a:pt x="2824258" y="1790568"/>
                  <a:pt x="2849208" y="1815542"/>
                  <a:pt x="2880000" y="1815568"/>
                </a:cubicBezTo>
                <a:lnTo>
                  <a:pt x="2880000" y="1863964"/>
                </a:lnTo>
                <a:cubicBezTo>
                  <a:pt x="2849208" y="1863991"/>
                  <a:pt x="2824258" y="1888965"/>
                  <a:pt x="2824258" y="1919767"/>
                </a:cubicBezTo>
                <a:cubicBezTo>
                  <a:pt x="2824258" y="1950568"/>
                  <a:pt x="2849208" y="1975542"/>
                  <a:pt x="2880000" y="1975569"/>
                </a:cubicBezTo>
                <a:lnTo>
                  <a:pt x="2880000" y="2023965"/>
                </a:lnTo>
                <a:cubicBezTo>
                  <a:pt x="2849208" y="2023991"/>
                  <a:pt x="2824258" y="2048965"/>
                  <a:pt x="2824258" y="2079767"/>
                </a:cubicBezTo>
                <a:cubicBezTo>
                  <a:pt x="2824258" y="2110568"/>
                  <a:pt x="2849208" y="2135542"/>
                  <a:pt x="2880000" y="2135569"/>
                </a:cubicBezTo>
                <a:lnTo>
                  <a:pt x="2880000" y="2183965"/>
                </a:lnTo>
                <a:cubicBezTo>
                  <a:pt x="2849208" y="2183991"/>
                  <a:pt x="2824258" y="2208965"/>
                  <a:pt x="2824258" y="2239767"/>
                </a:cubicBezTo>
                <a:cubicBezTo>
                  <a:pt x="2824258" y="2270568"/>
                  <a:pt x="2849208" y="2295543"/>
                  <a:pt x="2880000" y="2295569"/>
                </a:cubicBezTo>
                <a:lnTo>
                  <a:pt x="2880000" y="2343965"/>
                </a:lnTo>
                <a:cubicBezTo>
                  <a:pt x="2849208" y="2343991"/>
                  <a:pt x="2824258" y="2368965"/>
                  <a:pt x="2824258" y="2399767"/>
                </a:cubicBezTo>
                <a:cubicBezTo>
                  <a:pt x="2824258" y="2430568"/>
                  <a:pt x="2849208" y="2455543"/>
                  <a:pt x="2880000" y="2455569"/>
                </a:cubicBezTo>
                <a:lnTo>
                  <a:pt x="2880000" y="2503965"/>
                </a:lnTo>
                <a:cubicBezTo>
                  <a:pt x="2849208" y="2503991"/>
                  <a:pt x="2824258" y="2528966"/>
                  <a:pt x="2824258" y="2559767"/>
                </a:cubicBezTo>
                <a:cubicBezTo>
                  <a:pt x="2824258" y="2590568"/>
                  <a:pt x="2849208" y="2615543"/>
                  <a:pt x="2880000" y="2615569"/>
                </a:cubicBezTo>
                <a:lnTo>
                  <a:pt x="2880000" y="2663965"/>
                </a:lnTo>
                <a:cubicBezTo>
                  <a:pt x="2849208" y="2663991"/>
                  <a:pt x="2824258" y="2688966"/>
                  <a:pt x="2824258" y="2719767"/>
                </a:cubicBezTo>
                <a:cubicBezTo>
                  <a:pt x="2824258" y="2750568"/>
                  <a:pt x="2849208" y="2775543"/>
                  <a:pt x="2880000" y="2775569"/>
                </a:cubicBezTo>
                <a:lnTo>
                  <a:pt x="2880000" y="2824199"/>
                </a:lnTo>
                <a:cubicBezTo>
                  <a:pt x="2849209" y="2824226"/>
                  <a:pt x="2824261" y="2849200"/>
                  <a:pt x="2824261" y="2880000"/>
                </a:cubicBezTo>
                <a:lnTo>
                  <a:pt x="2775895" y="2880000"/>
                </a:lnTo>
                <a:cubicBezTo>
                  <a:pt x="2775895" y="2849173"/>
                  <a:pt x="2750904" y="2824183"/>
                  <a:pt x="2720076" y="2824183"/>
                </a:cubicBezTo>
                <a:cubicBezTo>
                  <a:pt x="2689248" y="2824183"/>
                  <a:pt x="2664257" y="2849173"/>
                  <a:pt x="2664257" y="2880000"/>
                </a:cubicBezTo>
                <a:lnTo>
                  <a:pt x="2615890" y="2880000"/>
                </a:lnTo>
                <a:cubicBezTo>
                  <a:pt x="2615890" y="2849173"/>
                  <a:pt x="2590899" y="2824183"/>
                  <a:pt x="2560071" y="2824183"/>
                </a:cubicBezTo>
                <a:cubicBezTo>
                  <a:pt x="2529244" y="2824183"/>
                  <a:pt x="2504253" y="2849173"/>
                  <a:pt x="2504252" y="2880000"/>
                </a:cubicBezTo>
                <a:lnTo>
                  <a:pt x="2455886" y="2880000"/>
                </a:lnTo>
                <a:cubicBezTo>
                  <a:pt x="2455886" y="2849173"/>
                  <a:pt x="2430895" y="2824183"/>
                  <a:pt x="2400067" y="2824183"/>
                </a:cubicBezTo>
                <a:cubicBezTo>
                  <a:pt x="2369239" y="2824183"/>
                  <a:pt x="2344248" y="2849173"/>
                  <a:pt x="2344248" y="2880000"/>
                </a:cubicBezTo>
                <a:lnTo>
                  <a:pt x="2295881" y="2880000"/>
                </a:lnTo>
                <a:cubicBezTo>
                  <a:pt x="2295881" y="2849173"/>
                  <a:pt x="2270890" y="2824183"/>
                  <a:pt x="2240062" y="2824183"/>
                </a:cubicBezTo>
                <a:cubicBezTo>
                  <a:pt x="2209235" y="2824183"/>
                  <a:pt x="2184244" y="2849173"/>
                  <a:pt x="2184243" y="2880000"/>
                </a:cubicBezTo>
                <a:lnTo>
                  <a:pt x="2135877" y="2880000"/>
                </a:lnTo>
                <a:cubicBezTo>
                  <a:pt x="2135877" y="2849173"/>
                  <a:pt x="2110886" y="2824183"/>
                  <a:pt x="2080058" y="2824183"/>
                </a:cubicBezTo>
                <a:cubicBezTo>
                  <a:pt x="2049230" y="2824183"/>
                  <a:pt x="2024239" y="2849173"/>
                  <a:pt x="2024239" y="2880000"/>
                </a:cubicBezTo>
                <a:lnTo>
                  <a:pt x="1975873" y="2880000"/>
                </a:lnTo>
                <a:cubicBezTo>
                  <a:pt x="1975873" y="2849173"/>
                  <a:pt x="1950882" y="2824183"/>
                  <a:pt x="1920054" y="2824183"/>
                </a:cubicBezTo>
                <a:cubicBezTo>
                  <a:pt x="1889226" y="2824183"/>
                  <a:pt x="1864235" y="2849173"/>
                  <a:pt x="1864234" y="2880000"/>
                </a:cubicBezTo>
                <a:lnTo>
                  <a:pt x="1815868" y="2880000"/>
                </a:lnTo>
                <a:cubicBezTo>
                  <a:pt x="1815868" y="2849173"/>
                  <a:pt x="1790877" y="2824183"/>
                  <a:pt x="1760049" y="2824183"/>
                </a:cubicBezTo>
                <a:cubicBezTo>
                  <a:pt x="1729222" y="2824183"/>
                  <a:pt x="1704230" y="2849173"/>
                  <a:pt x="1704230" y="2880000"/>
                </a:cubicBezTo>
                <a:lnTo>
                  <a:pt x="1655864" y="2880000"/>
                </a:lnTo>
                <a:cubicBezTo>
                  <a:pt x="1655864" y="2849173"/>
                  <a:pt x="1630873" y="2824183"/>
                  <a:pt x="1600045" y="2824183"/>
                </a:cubicBezTo>
                <a:cubicBezTo>
                  <a:pt x="1569217" y="2824183"/>
                  <a:pt x="1544226" y="2849173"/>
                  <a:pt x="1544226" y="2880000"/>
                </a:cubicBezTo>
                <a:lnTo>
                  <a:pt x="1495859" y="2880000"/>
                </a:lnTo>
                <a:cubicBezTo>
                  <a:pt x="1495859" y="2849173"/>
                  <a:pt x="1470868" y="2824183"/>
                  <a:pt x="1440040" y="2824183"/>
                </a:cubicBezTo>
                <a:cubicBezTo>
                  <a:pt x="1409212" y="2824183"/>
                  <a:pt x="1384222" y="2849173"/>
                  <a:pt x="1384221" y="2880000"/>
                </a:cubicBezTo>
                <a:lnTo>
                  <a:pt x="1335855" y="2880000"/>
                </a:lnTo>
                <a:cubicBezTo>
                  <a:pt x="1335855" y="2849173"/>
                  <a:pt x="1310864" y="2824183"/>
                  <a:pt x="1280036" y="2824183"/>
                </a:cubicBezTo>
                <a:cubicBezTo>
                  <a:pt x="1249208" y="2824183"/>
                  <a:pt x="1224217" y="2849173"/>
                  <a:pt x="1224217" y="2880000"/>
                </a:cubicBezTo>
                <a:lnTo>
                  <a:pt x="1175850" y="2880000"/>
                </a:lnTo>
                <a:cubicBezTo>
                  <a:pt x="1175850" y="2849173"/>
                  <a:pt x="1150859" y="2824183"/>
                  <a:pt x="1120031" y="2824183"/>
                </a:cubicBezTo>
                <a:cubicBezTo>
                  <a:pt x="1089203" y="2824183"/>
                  <a:pt x="1064213" y="2849173"/>
                  <a:pt x="1064212" y="2880000"/>
                </a:cubicBezTo>
                <a:lnTo>
                  <a:pt x="1015846" y="2880000"/>
                </a:lnTo>
                <a:cubicBezTo>
                  <a:pt x="1015846" y="2849173"/>
                  <a:pt x="990855" y="2824183"/>
                  <a:pt x="960027" y="2824183"/>
                </a:cubicBezTo>
                <a:cubicBezTo>
                  <a:pt x="929199" y="2824183"/>
                  <a:pt x="904208" y="2849173"/>
                  <a:pt x="904208" y="2880000"/>
                </a:cubicBezTo>
                <a:lnTo>
                  <a:pt x="855842" y="2880000"/>
                </a:lnTo>
                <a:cubicBezTo>
                  <a:pt x="855842" y="2849173"/>
                  <a:pt x="830850" y="2824183"/>
                  <a:pt x="800022" y="2824183"/>
                </a:cubicBezTo>
                <a:cubicBezTo>
                  <a:pt x="769194" y="2824183"/>
                  <a:pt x="744204" y="2849173"/>
                  <a:pt x="744203" y="2880000"/>
                </a:cubicBezTo>
                <a:lnTo>
                  <a:pt x="695837" y="2880000"/>
                </a:lnTo>
                <a:cubicBezTo>
                  <a:pt x="695837" y="2849173"/>
                  <a:pt x="670846" y="2824183"/>
                  <a:pt x="640018" y="2824183"/>
                </a:cubicBezTo>
                <a:cubicBezTo>
                  <a:pt x="609190" y="2824183"/>
                  <a:pt x="584199" y="2849173"/>
                  <a:pt x="584199" y="2880000"/>
                </a:cubicBezTo>
                <a:lnTo>
                  <a:pt x="535833" y="2880000"/>
                </a:lnTo>
                <a:cubicBezTo>
                  <a:pt x="535833" y="2849173"/>
                  <a:pt x="510842" y="2824183"/>
                  <a:pt x="480014" y="2824183"/>
                </a:cubicBezTo>
                <a:cubicBezTo>
                  <a:pt x="449186" y="2824183"/>
                  <a:pt x="424195" y="2849173"/>
                  <a:pt x="424194" y="2880000"/>
                </a:cubicBezTo>
                <a:lnTo>
                  <a:pt x="375828" y="2880000"/>
                </a:lnTo>
                <a:cubicBezTo>
                  <a:pt x="375828" y="2849173"/>
                  <a:pt x="350837" y="2824183"/>
                  <a:pt x="320009" y="2824183"/>
                </a:cubicBezTo>
                <a:cubicBezTo>
                  <a:pt x="289181" y="2824183"/>
                  <a:pt x="264190" y="2849173"/>
                  <a:pt x="264190" y="2880000"/>
                </a:cubicBezTo>
                <a:lnTo>
                  <a:pt x="215824" y="2880000"/>
                </a:lnTo>
                <a:cubicBezTo>
                  <a:pt x="215824" y="2849173"/>
                  <a:pt x="190833" y="2824183"/>
                  <a:pt x="160005" y="2824183"/>
                </a:cubicBezTo>
                <a:cubicBezTo>
                  <a:pt x="129177" y="2824183"/>
                  <a:pt x="104186" y="2849173"/>
                  <a:pt x="104186" y="2880000"/>
                </a:cubicBezTo>
                <a:lnTo>
                  <a:pt x="55819" y="2880000"/>
                </a:lnTo>
                <a:cubicBezTo>
                  <a:pt x="55819" y="2849173"/>
                  <a:pt x="30828" y="2824183"/>
                  <a:pt x="0" y="2824183"/>
                </a:cubicBezTo>
                <a:lnTo>
                  <a:pt x="0" y="2775585"/>
                </a:lnTo>
                <a:cubicBezTo>
                  <a:pt x="30828" y="2775585"/>
                  <a:pt x="55819" y="2750594"/>
                  <a:pt x="55819" y="2719767"/>
                </a:cubicBezTo>
                <a:cubicBezTo>
                  <a:pt x="55819" y="2688940"/>
                  <a:pt x="30828" y="2663950"/>
                  <a:pt x="0" y="2663949"/>
                </a:cubicBezTo>
                <a:lnTo>
                  <a:pt x="0" y="2615585"/>
                </a:lnTo>
                <a:cubicBezTo>
                  <a:pt x="30828" y="2615585"/>
                  <a:pt x="55819" y="2590594"/>
                  <a:pt x="55819" y="2559767"/>
                </a:cubicBezTo>
                <a:cubicBezTo>
                  <a:pt x="55819" y="2528940"/>
                  <a:pt x="30828" y="2503950"/>
                  <a:pt x="0" y="2503949"/>
                </a:cubicBezTo>
                <a:lnTo>
                  <a:pt x="0" y="2455584"/>
                </a:lnTo>
                <a:cubicBezTo>
                  <a:pt x="30828" y="2455584"/>
                  <a:pt x="55819" y="2430594"/>
                  <a:pt x="55819" y="2399767"/>
                </a:cubicBezTo>
                <a:cubicBezTo>
                  <a:pt x="55819" y="2368940"/>
                  <a:pt x="30828" y="2343950"/>
                  <a:pt x="0" y="2343949"/>
                </a:cubicBezTo>
                <a:lnTo>
                  <a:pt x="0" y="2295584"/>
                </a:lnTo>
                <a:cubicBezTo>
                  <a:pt x="30828" y="2295584"/>
                  <a:pt x="55819" y="2270594"/>
                  <a:pt x="55819" y="2239767"/>
                </a:cubicBezTo>
                <a:cubicBezTo>
                  <a:pt x="55819" y="2208940"/>
                  <a:pt x="30828" y="2183950"/>
                  <a:pt x="0" y="2183949"/>
                </a:cubicBezTo>
                <a:lnTo>
                  <a:pt x="0" y="2135584"/>
                </a:lnTo>
                <a:cubicBezTo>
                  <a:pt x="30828" y="2135584"/>
                  <a:pt x="55819" y="2110594"/>
                  <a:pt x="55819" y="2079767"/>
                </a:cubicBezTo>
                <a:cubicBezTo>
                  <a:pt x="55819" y="2048940"/>
                  <a:pt x="30828" y="2023950"/>
                  <a:pt x="0" y="2023949"/>
                </a:cubicBezTo>
                <a:lnTo>
                  <a:pt x="0" y="1975584"/>
                </a:lnTo>
                <a:cubicBezTo>
                  <a:pt x="30828" y="1975584"/>
                  <a:pt x="55819" y="1950594"/>
                  <a:pt x="55819" y="1919767"/>
                </a:cubicBezTo>
                <a:cubicBezTo>
                  <a:pt x="55819" y="1888940"/>
                  <a:pt x="30828" y="1863949"/>
                  <a:pt x="0" y="1863949"/>
                </a:cubicBezTo>
                <a:lnTo>
                  <a:pt x="0" y="1815584"/>
                </a:lnTo>
                <a:cubicBezTo>
                  <a:pt x="30828" y="1815584"/>
                  <a:pt x="55819" y="1790594"/>
                  <a:pt x="55819" y="1759766"/>
                </a:cubicBezTo>
                <a:cubicBezTo>
                  <a:pt x="55819" y="1728940"/>
                  <a:pt x="30828" y="1703949"/>
                  <a:pt x="0" y="1703949"/>
                </a:cubicBezTo>
                <a:lnTo>
                  <a:pt x="0" y="1655584"/>
                </a:lnTo>
                <a:cubicBezTo>
                  <a:pt x="30828" y="1655584"/>
                  <a:pt x="55819" y="1630593"/>
                  <a:pt x="55819" y="1599766"/>
                </a:cubicBezTo>
                <a:cubicBezTo>
                  <a:pt x="55819" y="1568940"/>
                  <a:pt x="30828" y="1543949"/>
                  <a:pt x="0" y="1543949"/>
                </a:cubicBezTo>
                <a:lnTo>
                  <a:pt x="0" y="1495584"/>
                </a:lnTo>
                <a:cubicBezTo>
                  <a:pt x="30828" y="1495584"/>
                  <a:pt x="55819" y="1470593"/>
                  <a:pt x="55819" y="1439766"/>
                </a:cubicBezTo>
                <a:cubicBezTo>
                  <a:pt x="55819" y="1408939"/>
                  <a:pt x="30828" y="1383949"/>
                  <a:pt x="0" y="1383949"/>
                </a:cubicBezTo>
                <a:lnTo>
                  <a:pt x="0" y="1335584"/>
                </a:lnTo>
                <a:cubicBezTo>
                  <a:pt x="30828" y="1335584"/>
                  <a:pt x="55819" y="1310593"/>
                  <a:pt x="55819" y="1279766"/>
                </a:cubicBezTo>
                <a:cubicBezTo>
                  <a:pt x="55819" y="1248939"/>
                  <a:pt x="30828" y="1223949"/>
                  <a:pt x="0" y="1223948"/>
                </a:cubicBezTo>
                <a:lnTo>
                  <a:pt x="0" y="1175583"/>
                </a:lnTo>
                <a:cubicBezTo>
                  <a:pt x="30828" y="1175583"/>
                  <a:pt x="55819" y="1150593"/>
                  <a:pt x="55819" y="1119766"/>
                </a:cubicBezTo>
                <a:cubicBezTo>
                  <a:pt x="55819" y="1088939"/>
                  <a:pt x="30828" y="1063949"/>
                  <a:pt x="0" y="1063948"/>
                </a:cubicBezTo>
                <a:lnTo>
                  <a:pt x="0" y="1015583"/>
                </a:lnTo>
                <a:cubicBezTo>
                  <a:pt x="30828" y="1015583"/>
                  <a:pt x="55819" y="990593"/>
                  <a:pt x="55819" y="959766"/>
                </a:cubicBezTo>
                <a:cubicBezTo>
                  <a:pt x="55819" y="928939"/>
                  <a:pt x="30828" y="903949"/>
                  <a:pt x="0" y="903948"/>
                </a:cubicBezTo>
                <a:lnTo>
                  <a:pt x="0" y="855583"/>
                </a:lnTo>
                <a:cubicBezTo>
                  <a:pt x="30828" y="855583"/>
                  <a:pt x="55819" y="830593"/>
                  <a:pt x="55819" y="799766"/>
                </a:cubicBezTo>
                <a:cubicBezTo>
                  <a:pt x="55819" y="768938"/>
                  <a:pt x="30828" y="743948"/>
                  <a:pt x="0" y="743948"/>
                </a:cubicBezTo>
                <a:lnTo>
                  <a:pt x="0" y="695583"/>
                </a:lnTo>
                <a:cubicBezTo>
                  <a:pt x="30828" y="695583"/>
                  <a:pt x="55819" y="670593"/>
                  <a:pt x="55819" y="639765"/>
                </a:cubicBezTo>
                <a:cubicBezTo>
                  <a:pt x="55819" y="608938"/>
                  <a:pt x="30828" y="583948"/>
                  <a:pt x="0" y="583948"/>
                </a:cubicBezTo>
                <a:lnTo>
                  <a:pt x="0" y="535583"/>
                </a:lnTo>
                <a:cubicBezTo>
                  <a:pt x="30828" y="535583"/>
                  <a:pt x="55819" y="510593"/>
                  <a:pt x="55819" y="479765"/>
                </a:cubicBezTo>
                <a:cubicBezTo>
                  <a:pt x="55819" y="448938"/>
                  <a:pt x="30828" y="423948"/>
                  <a:pt x="0" y="423948"/>
                </a:cubicBezTo>
                <a:lnTo>
                  <a:pt x="0" y="375583"/>
                </a:lnTo>
                <a:cubicBezTo>
                  <a:pt x="30828" y="375583"/>
                  <a:pt x="55819" y="350592"/>
                  <a:pt x="55819" y="319765"/>
                </a:cubicBezTo>
                <a:cubicBezTo>
                  <a:pt x="55819" y="288938"/>
                  <a:pt x="30828" y="263948"/>
                  <a:pt x="0" y="263948"/>
                </a:cubicBezTo>
                <a:lnTo>
                  <a:pt x="0" y="215583"/>
                </a:lnTo>
                <a:cubicBezTo>
                  <a:pt x="30828" y="215583"/>
                  <a:pt x="55819" y="190592"/>
                  <a:pt x="55819" y="159765"/>
                </a:cubicBezTo>
                <a:cubicBezTo>
                  <a:pt x="55819" y="128938"/>
                  <a:pt x="30828" y="103948"/>
                  <a:pt x="0" y="103947"/>
                </a:cubicBezTo>
                <a:lnTo>
                  <a:pt x="0" y="55818"/>
                </a:lnTo>
                <a:cubicBezTo>
                  <a:pt x="30828" y="55818"/>
                  <a:pt x="55819" y="30828"/>
                  <a:pt x="55819" y="0"/>
                </a:cubicBezTo>
                <a:close/>
              </a:path>
            </a:pathLst>
          </a:custGeom>
          <a:solidFill>
            <a:schemeClr val="bg1"/>
          </a:solidFill>
          <a:ln>
            <a:noFill/>
          </a:ln>
          <a:effectLst>
            <a:outerShdw algn="ctr" blurRad="38160" rotWithShape="0" sx="102000" sy="102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340" name="直接连接符 76"/>
          <p:cNvCxnSpPr/>
          <p:nvPr/>
        </p:nvCxnSpPr>
        <p:spPr>
          <a:xfrm>
            <a:off x="1439640" y="2879640"/>
            <a:ext cx="5400360" cy="360"/>
          </a:xfrm>
          <a:prstGeom prst="straightConnector1">
            <a:avLst/>
          </a:prstGeom>
          <a:ln>
            <a:solidFill>
              <a:srgbClr val="000000">
                <a:lumMod val="75000"/>
                <a:lumOff val="25000"/>
              </a:srgbClr>
            </a:solidFill>
            <a:round/>
          </a:ln>
        </p:spPr>
      </p:cxnSp>
      <p:cxnSp>
        <p:nvCxnSpPr>
          <p:cNvPr id="341" name="直接连接符 79"/>
          <p:cNvCxnSpPr/>
          <p:nvPr/>
        </p:nvCxnSpPr>
        <p:spPr>
          <a:xfrm>
            <a:off x="2520720" y="3960720"/>
            <a:ext cx="5400360" cy="360"/>
          </a:xfrm>
          <a:prstGeom prst="straightConnector1">
            <a:avLst/>
          </a:prstGeom>
          <a:ln>
            <a:solidFill>
              <a:srgbClr val="000000">
                <a:lumMod val="75000"/>
                <a:lumOff val="25000"/>
              </a:srgbClr>
            </a:solidFill>
            <a:round/>
          </a:ln>
        </p:spPr>
      </p:cxnSp>
      <p:sp>
        <p:nvSpPr>
          <p:cNvPr id="342" name="PlaceHolder 5"/>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组合 288"/>
          <p:cNvGrpSpPr/>
          <p:nvPr/>
        </p:nvGrpSpPr>
        <p:grpSpPr>
          <a:xfrm>
            <a:off x="360000" y="1439640"/>
            <a:ext cx="10801440" cy="4680000"/>
            <a:chOff x="360000" y="1439640"/>
            <a:chExt cx="10801440" cy="4680000"/>
          </a:xfrm>
        </p:grpSpPr>
        <p:cxnSp>
          <p:nvCxnSpPr>
            <p:cNvPr id="380"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381"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82"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383"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384"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385"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386"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387"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388"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389"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390"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391"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392"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393"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394"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395"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396"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397"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398"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399"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400"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401"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402"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403"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404"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405"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406"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407"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408"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409"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410"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411"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412"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413"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414"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415"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416"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417"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418"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19"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20"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1"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22"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23"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24"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25"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26"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27"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28"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429"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430"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431"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432"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433"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434"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435"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436"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437"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438"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439"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440"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441"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442"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443"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444"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445"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446"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447"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448"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449"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450"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451"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452"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453"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454"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455"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456"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457"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458"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459"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460"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461"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462"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463"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464"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465"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466"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467"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468"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469"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470"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471"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472"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473"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474"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475"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476"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477"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478"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479"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480"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481"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482"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483"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484"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485"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486"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487"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488"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489"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490"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491"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492"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493"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494"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495"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496"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497"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498"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499"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500"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501"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502"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503"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504"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505"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506"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507"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508"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509"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510"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511"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512"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513"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514"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515"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516"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517"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518"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519"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520"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521"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522"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523"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524"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525"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526"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527"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528"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529"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530"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531"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532"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533"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534"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535"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536"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537"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538"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539"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540"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541"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542"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543"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544"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545"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546"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547"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548"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549"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550"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551"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552"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553"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554"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555"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556"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557"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558"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559"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560"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561"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562"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563"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564"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565"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566"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567"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568"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569"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570"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571"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572"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573"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574"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575"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576"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577"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578"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579"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580"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581"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582"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583"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584"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585"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586"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587"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588"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589"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590"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591"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592"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593"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594"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595"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596"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597"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598"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599"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600"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601"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602"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603"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604"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605"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606"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607"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608"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609"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610"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611"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612"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613"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614"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615"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616"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617"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618"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619"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620"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621"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622"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623"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624"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625"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626"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627"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628"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629"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630"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631"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632"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633"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634"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635"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636"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637"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638"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639"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640"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641"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642"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643"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644"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645"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646"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647"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648"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649"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650"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651"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652"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653"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654"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655"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656"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657"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658"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659"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660"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661"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662" name="直接连接符 571"/>
          <p:cNvCxnSpPr/>
          <p:nvPr/>
        </p:nvCxnSpPr>
        <p:spPr>
          <a:xfrm>
            <a:off x="360360" y="1079280"/>
            <a:ext cx="10801440" cy="360"/>
          </a:xfrm>
          <a:prstGeom prst="straightConnector1">
            <a:avLst/>
          </a:prstGeom>
          <a:ln w="19050">
            <a:solidFill>
              <a:srgbClr val="c00000"/>
            </a:solidFill>
            <a:round/>
          </a:ln>
        </p:spPr>
      </p:cxnSp>
      <p:sp>
        <p:nvSpPr>
          <p:cNvPr id="663" name="PlaceHolder 1"/>
          <p:cNvSpPr>
            <a:spLocks noGrp="1"/>
          </p:cNvSpPr>
          <p:nvPr>
            <p:ph type="title"/>
          </p:nvPr>
        </p:nvSpPr>
        <p:spPr>
          <a:xfrm>
            <a:off x="360360" y="360360"/>
            <a:ext cx="10801080" cy="7189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664" name="PlaceHolder 2"/>
          <p:cNvSpPr>
            <a:spLocks noGrp="1"/>
          </p:cNvSpPr>
          <p:nvPr>
            <p:ph type="body"/>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601"/>
              </a:spcAft>
              <a:buClr>
                <a:srgbClr val="d00000"/>
              </a:buClr>
              <a:buFont typeface="Wingdings 2" charset="2"/>
              <a:buChar char=""/>
            </a:pPr>
            <a:r>
              <a:rPr b="1" lang="zh-CN" sz="2000" spc="-1" strike="noStrike">
                <a:solidFill>
                  <a:srgbClr val="404040"/>
                </a:solidFill>
                <a:latin typeface="Candara"/>
                <a:ea typeface="微软雅黑"/>
              </a:rPr>
              <a:t>单击此处编辑母版文本样式</a:t>
            </a:r>
            <a:endParaRPr b="0" lang="en-US" sz="2000" spc="-1" strike="noStrike">
              <a:solidFill>
                <a:srgbClr val="404040"/>
              </a:solidFill>
              <a:latin typeface="Candara"/>
            </a:endParaRPr>
          </a:p>
          <a:p>
            <a:pPr lvl="1" marL="801720" indent="-344520">
              <a:lnSpc>
                <a:spcPct val="100000"/>
              </a:lnSpc>
              <a:spcBef>
                <a:spcPts val="400"/>
              </a:spcBef>
              <a:spcAft>
                <a:spcPts val="601"/>
              </a:spcAft>
              <a:buClr>
                <a:srgbClr val="404040"/>
              </a:buClr>
              <a:buFont typeface="Wingdings 2" charset="2"/>
              <a:buChar char=""/>
            </a:pPr>
            <a:r>
              <a:rPr b="0" lang="zh-CN" sz="2000" spc="-1" strike="noStrike">
                <a:solidFill>
                  <a:srgbClr val="404040"/>
                </a:solidFill>
                <a:latin typeface="Candara"/>
                <a:ea typeface="微软雅黑"/>
              </a:rPr>
              <a:t>第二级</a:t>
            </a:r>
            <a:endParaRPr b="0" lang="en-US" sz="2000" spc="-1" strike="noStrike">
              <a:solidFill>
                <a:srgbClr val="000000"/>
              </a:solidFill>
              <a:latin typeface="Candara"/>
            </a:endParaRPr>
          </a:p>
        </p:txBody>
      </p:sp>
      <p:sp>
        <p:nvSpPr>
          <p:cNvPr id="665" name="PlaceHolder 3"/>
          <p:cNvSpPr>
            <a:spLocks noGrp="1"/>
          </p:cNvSpPr>
          <p:nvPr>
            <p:ph type="dt" idx="4"/>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666" name="PlaceHolder 4"/>
          <p:cNvSpPr>
            <a:spLocks noGrp="1"/>
          </p:cNvSpPr>
          <p:nvPr>
            <p:ph type="ftr" idx="5"/>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7" name="PlaceHolder 5"/>
          <p:cNvSpPr>
            <a:spLocks noGrp="1"/>
          </p:cNvSpPr>
          <p:nvPr>
            <p:ph type="sldNum" idx="6"/>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9C72DEC2-73AD-4F93-8E6D-94DA91A05AB2}"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组合 288"/>
          <p:cNvGrpSpPr/>
          <p:nvPr/>
        </p:nvGrpSpPr>
        <p:grpSpPr>
          <a:xfrm>
            <a:off x="360000" y="1439640"/>
            <a:ext cx="10801440" cy="4680000"/>
            <a:chOff x="360000" y="1439640"/>
            <a:chExt cx="10801440" cy="4680000"/>
          </a:xfrm>
        </p:grpSpPr>
        <p:cxnSp>
          <p:nvCxnSpPr>
            <p:cNvPr id="705"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706"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707"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708"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709"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710"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11"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712"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713"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714"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715"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716"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717"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718"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719"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720"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721"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722"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723"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724"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725"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726"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727"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728"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729"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730"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731"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732"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733"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734"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735"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736"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737"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738"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739"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740"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741"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742"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743"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744"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745"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746"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747"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748"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749"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750"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751"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752"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753"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754"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755"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756"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757"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758"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759"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760"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761"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762"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763"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764"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765"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766"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767"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768"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769"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770"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771"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772"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773"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74"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75"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76"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77"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78"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79"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80"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81"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2"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83"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784"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785"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786"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787"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788"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789"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790"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791"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792"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793"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794"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795"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796"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797"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798"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799"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800"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801"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802"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803"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804"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805"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806"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807"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808"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809"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810"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811"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812"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813"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814"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815"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816"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817"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818"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819"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820"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821"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822"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823"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824"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825"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826"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827"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828"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829"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830"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831"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832"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833"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834"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835"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836"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837"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838"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839"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840"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841"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842"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843"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844"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845"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846"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847"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848"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849"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850"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851"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852"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853"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854"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855"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856"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857"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858"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859"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860"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861"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862"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863"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864"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865"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866"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867"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868"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869"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870"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871"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872"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873"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874"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875"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876"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877"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878"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879"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880"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881"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882"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883"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884"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885"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886"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887"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888"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889"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890"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891"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892"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893"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894"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895"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896"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897"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898"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899"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900"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901"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902"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903"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904"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905"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906"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907"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908"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909"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910"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911"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912"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913"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914"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915"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916"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917"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918"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919"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920"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921"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922"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923"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924"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925"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926"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927"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928"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929"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930"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931"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932"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933"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934"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935"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936"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937"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938"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939"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940"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941"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942"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943"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944"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945"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946"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947"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948"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949"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950"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951"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952"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953"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954"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955"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956"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957"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958"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959"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960"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961"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962"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963"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964"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965"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966"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967"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968"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969"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970"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971"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972"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973"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974"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975"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976"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977"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978"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979"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980"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981"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982"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983"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984"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985"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986"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987" name="直接连接符 571"/>
          <p:cNvCxnSpPr/>
          <p:nvPr/>
        </p:nvCxnSpPr>
        <p:spPr>
          <a:xfrm>
            <a:off x="360360" y="1079280"/>
            <a:ext cx="10801440" cy="360"/>
          </a:xfrm>
          <a:prstGeom prst="straightConnector1">
            <a:avLst/>
          </a:prstGeom>
          <a:ln w="19050">
            <a:solidFill>
              <a:srgbClr val="c00000"/>
            </a:solidFill>
            <a:round/>
          </a:ln>
        </p:spPr>
      </p:cxnSp>
      <p:sp>
        <p:nvSpPr>
          <p:cNvPr id="988" name="矩形 64"/>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89" name="平行四边形 36"/>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0" name="平行四边形 7"/>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1" name="平行四边形 8"/>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2" name="平行四边形 9"/>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3" name="平行四边形 10"/>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4" name="平行四边形 11"/>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5" name="平行四边形 12"/>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6" name="平行四边形 13"/>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7" name="平行四边形 14"/>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8" name="平行四边形 15"/>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9" name="平行四边形 16"/>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0" name="平行四边形 17"/>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1" name="平行四边形 18"/>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2" name="平行四边形 19"/>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3" name="平行四边形 20"/>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4" name="平行四边形 21"/>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5" name="平行四边形 22"/>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6" name="平行四边形 23"/>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7" name="平行四边形 24"/>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8" name="平行四边形 25"/>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9" name="平行四边形 26"/>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0" name="平行四边形 27"/>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1" name="平行四边形 28"/>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2" name="平行四边形 29"/>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3" name="平行四边形 30"/>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4" name="平行四边形 31"/>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5" name="平行四边形 32"/>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6" name="平行四边形 33"/>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7" name="平行四边形 34"/>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8" name="平行四边形 35"/>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9" name="平行四边形 37"/>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0" name="平行四边形 38"/>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1" name="平行四边形 39"/>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2" name="平行四边形 40"/>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3" name="平行四边形 41"/>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4" name="平行四边形 42"/>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5" name="平行四边形 43"/>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6" name="平行四边形 44"/>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7" name="平行四边形 45"/>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8" name="平行四边形 46"/>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9" name="平行四边形 47"/>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0" name="平行四边形 48"/>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1" name="平行四边形 49"/>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2" name="平行四边形 50"/>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3" name="平行四边形 51"/>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4" name="平行四边形 52"/>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5" name="平行四边形 53"/>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6" name="平行四边形 54"/>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7" name="平行四边形 55"/>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8" name="平行四边形 56"/>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9" name="五边形 65"/>
          <p:cNvSpPr/>
          <p:nvPr/>
        </p:nvSpPr>
        <p:spPr>
          <a:xfrm rot="5400000">
            <a:off x="4206600" y="-3483360"/>
            <a:ext cx="3108960" cy="10801080"/>
          </a:xfrm>
          <a:custGeom>
            <a:avLst/>
            <a:gdLst>
              <a:gd name="textAreaLeft" fmla="*/ 0 w 3108960"/>
              <a:gd name="textAreaRight" fmla="*/ 3109320 w 3108960"/>
              <a:gd name="textAreaTop" fmla="*/ 0 h 10801080"/>
              <a:gd name="textAreaBottom" fmla="*/ 10801440 h 10801080"/>
            </a:gdLst>
            <a:ahLst/>
            <a:rect l="textAreaLeft" t="textAreaTop" r="textAreaRight" b="textAreaBottom"/>
            <a:pathLst>
              <a:path w="3109197" h="10801351">
                <a:moveTo>
                  <a:pt x="0" y="10801351"/>
                </a:moveTo>
                <a:lnTo>
                  <a:pt x="0" y="0"/>
                </a:lnTo>
                <a:lnTo>
                  <a:pt x="345050" y="0"/>
                </a:lnTo>
                <a:lnTo>
                  <a:pt x="3034494" y="5020624"/>
                </a:lnTo>
                <a:cubicBezTo>
                  <a:pt x="3082842" y="5137758"/>
                  <a:pt x="3109197" y="5266141"/>
                  <a:pt x="3109197" y="5400678"/>
                </a:cubicBezTo>
                <a:cubicBezTo>
                  <a:pt x="3109197" y="5535213"/>
                  <a:pt x="3082843" y="5663592"/>
                  <a:pt x="3034497" y="5780723"/>
                </a:cubicBezTo>
                <a:lnTo>
                  <a:pt x="345050" y="10801351"/>
                </a:lnTo>
                <a:close/>
              </a:path>
            </a:pathLst>
          </a:cu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40" name="TextBox 70"/>
          <p:cNvSpPr/>
          <p:nvPr/>
        </p:nvSpPr>
        <p:spPr>
          <a:xfrm>
            <a:off x="4984200" y="381168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6000" spc="-1" strike="noStrike">
                <a:solidFill>
                  <a:srgbClr val="262626"/>
                </a:solidFill>
                <a:latin typeface="Candara"/>
                <a:ea typeface="微软雅黑"/>
              </a:rPr>
              <a:t>谢谢！</a:t>
            </a:r>
            <a:endParaRPr b="0" lang="en-US" sz="6000" spc="-1" strike="noStrike">
              <a:solidFill>
                <a:srgbClr val="000000"/>
              </a:solidFill>
              <a:latin typeface="Arial"/>
            </a:endParaRPr>
          </a:p>
        </p:txBody>
      </p:sp>
      <p:sp>
        <p:nvSpPr>
          <p:cNvPr id="104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ndara"/>
              </a:rPr>
              <a:t>Click to edit the title text format</a:t>
            </a:r>
            <a:endParaRPr b="0" lang="en-US" sz="1800" spc="-1" strike="noStrike">
              <a:solidFill>
                <a:srgbClr val="000000"/>
              </a:solidFill>
              <a:latin typeface="Candara"/>
            </a:endParaRPr>
          </a:p>
        </p:txBody>
      </p:sp>
      <p:sp>
        <p:nvSpPr>
          <p:cNvPr id="1042" name="PlaceHolder 2"/>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anj.cn/" TargetMode="External"/><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96720" y="2117160"/>
            <a:ext cx="6336360" cy="866160"/>
          </a:xfrm>
          <a:prstGeom prst="rect">
            <a:avLst/>
          </a:prstGeom>
          <a:noFill/>
          <a:ln w="0">
            <a:noFill/>
          </a:ln>
        </p:spPr>
        <p:txBody>
          <a:bodyPr anchor="ctr">
            <a:noAutofit/>
          </a:bodyPr>
          <a:p>
            <a:pPr indent="0">
              <a:lnSpc>
                <a:spcPct val="100000"/>
              </a:lnSpc>
              <a:buNone/>
            </a:pPr>
            <a:r>
              <a:rPr b="0" lang="zh-CN" sz="4000" spc="-1" strike="noStrike">
                <a:solidFill>
                  <a:srgbClr val="262626"/>
                </a:solidFill>
                <a:latin typeface="微软雅黑"/>
                <a:ea typeface="微软雅黑"/>
              </a:rPr>
              <a:t>精美航空信件创意</a:t>
            </a:r>
            <a:r>
              <a:rPr b="0" lang="en-US" sz="4000" spc="-1" strike="noStrike">
                <a:solidFill>
                  <a:srgbClr val="262626"/>
                </a:solidFill>
                <a:latin typeface="微软雅黑"/>
                <a:ea typeface="微软雅黑"/>
              </a:rPr>
              <a:t>PPT</a:t>
            </a:r>
            <a:r>
              <a:rPr b="0" lang="zh-CN" sz="4000" spc="-1" strike="noStrike">
                <a:solidFill>
                  <a:srgbClr val="262626"/>
                </a:solidFill>
                <a:latin typeface="微软雅黑"/>
                <a:ea typeface="微软雅黑"/>
              </a:rPr>
              <a:t>模板</a:t>
            </a:r>
            <a:endParaRPr b="0" lang="en-US" sz="4000" spc="-1" strike="noStrike">
              <a:solidFill>
                <a:srgbClr val="000000"/>
              </a:solidFill>
              <a:latin typeface="Candara"/>
            </a:endParaRPr>
          </a:p>
        </p:txBody>
      </p:sp>
      <p:pic>
        <p:nvPicPr>
          <p:cNvPr id="1080" name="Picture 2" descr="C:\Documents and Settings\Administrator\桌面\Blue hills.jpg"/>
          <p:cNvPicPr/>
          <p:nvPr/>
        </p:nvPicPr>
        <p:blipFill>
          <a:blip r:embed="rId1"/>
          <a:stretch/>
        </p:blipFill>
        <p:spPr>
          <a:xfrm>
            <a:off x="9433440" y="791640"/>
            <a:ext cx="1295640" cy="1295640"/>
          </a:xfrm>
          <a:prstGeom prst="rect">
            <a:avLst/>
          </a:prstGeom>
          <a:ln w="0">
            <a:noFill/>
          </a:ln>
        </p:spPr>
      </p:pic>
      <p:grpSp>
        <p:nvGrpSpPr>
          <p:cNvPr id="1081" name="组合 8"/>
          <p:cNvGrpSpPr/>
          <p:nvPr/>
        </p:nvGrpSpPr>
        <p:grpSpPr>
          <a:xfrm>
            <a:off x="9429480" y="61200"/>
            <a:ext cx="2036160" cy="2035800"/>
            <a:chOff x="9429480" y="61200"/>
            <a:chExt cx="2036160" cy="2035800"/>
          </a:xfrm>
        </p:grpSpPr>
        <p:pic>
          <p:nvPicPr>
            <p:cNvPr id="1082" name="Picture 2" descr="F:\PPT\BLOG\LOGO\Slide[Small][White].png"/>
            <p:cNvPicPr/>
            <p:nvPr/>
          </p:nvPicPr>
          <p:blipFill>
            <a:blip r:embed="rId2"/>
            <a:stretch/>
          </p:blipFill>
          <p:spPr>
            <a:xfrm rot="2700000">
              <a:off x="10056600" y="923400"/>
              <a:ext cx="795600" cy="302040"/>
            </a:xfrm>
            <a:prstGeom prst="rect">
              <a:avLst/>
            </a:prstGeom>
            <a:ln w="0">
              <a:noFill/>
            </a:ln>
          </p:spPr>
        </p:pic>
        <p:sp>
          <p:nvSpPr>
            <p:cNvPr id="1083" name="椭圆 4"/>
            <p:cNvSpPr/>
            <p:nvPr/>
          </p:nvSpPr>
          <p:spPr>
            <a:xfrm rot="2700000">
              <a:off x="9727560" y="359280"/>
              <a:ext cx="1439640" cy="1439640"/>
            </a:xfrm>
            <a:prstGeom prst="ellipse">
              <a:avLst/>
            </a:prstGeom>
            <a:noFill/>
            <a:ln w="19050">
              <a:solidFill>
                <a:srgbClr val="000000">
                  <a:lumMod val="75000"/>
                  <a:lumOff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200" spc="-1" strike="noStrike">
                  <a:solidFill>
                    <a:srgbClr val="404040"/>
                  </a:solidFill>
                  <a:latin typeface="Candara"/>
                  <a:ea typeface="微软雅黑"/>
                </a:rPr>
                <a:t>2012.06.26</a:t>
              </a:r>
              <a:endParaRPr b="0" lang="en-US" sz="1200" spc="-1" strike="noStrike">
                <a:solidFill>
                  <a:srgbClr val="000000"/>
                </a:solidFill>
                <a:latin typeface="Arial"/>
              </a:endParaRPr>
            </a:p>
          </p:txBody>
        </p:sp>
        <p:sp>
          <p:nvSpPr>
            <p:cNvPr id="1084" name="矩形 6"/>
            <p:cNvSpPr txBox="1"/>
            <p:nvPr/>
          </p:nvSpPr>
          <p:spPr>
            <a:xfrm rot="2700000">
              <a:off x="9847800" y="479520"/>
              <a:ext cx="1199520" cy="1199520"/>
            </a:xfrm>
            <a:prstGeom prst="rect">
              <a:avLst/>
            </a:prstGeom>
          </p:spPr>
          <p:txBody>
            <a:bodyPr wrap="none" anchor="b" anchorCtr="1">
              <a:prstTxWarp prst="textArchUp">
                <a:avLst>
                  <a:gd name="adj" fmla="val 10857986"/>
                </a:avLst>
              </a:prstTxWarp>
              <a:noAutofit/>
            </a:bodyPr>
            <a:p>
              <a:pPr algn="ctr">
                <a:lnSpc>
                  <a:spcPct val="100000"/>
                </a:lnSpc>
              </a:pPr>
              <a:r>
                <a:rPr b="1" lang="zh-CN" sz="1200" spc="-1" strike="noStrike">
                  <a:ln w="0">
                    <a:noFill/>
                  </a:ln>
                  <a:solidFill>
                    <a:srgbClr val="404040"/>
                  </a:solidFill>
                  <a:latin typeface="微软雅黑"/>
                  <a:ea typeface="微软雅黑"/>
                </a:rPr>
                <a:t>请在此输入您的公司或其他组织机构名称</a:t>
              </a:r>
              <a:endParaRPr b="0" lang="en-US" sz="1200" spc="-1" strike="noStrike">
                <a:ln w="0">
                  <a:noFill/>
                </a:ln>
                <a:solidFill>
                  <a:srgbClr val="404040"/>
                </a:solidFill>
                <a:latin typeface="Arial"/>
              </a:endParaRPr>
            </a:p>
          </p:txBody>
        </p:sp>
      </p:grpSp>
      <p:sp>
        <p:nvSpPr>
          <p:cNvPr id="1085" name="TextBox 7"/>
          <p:cNvSpPr/>
          <p:nvPr/>
        </p:nvSpPr>
        <p:spPr>
          <a:xfrm>
            <a:off x="8640720" y="3963240"/>
            <a:ext cx="2160360" cy="1797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zh-CN" sz="1600" spc="-1" strike="noStrike">
                <a:solidFill>
                  <a:srgbClr val="000000"/>
                </a:solidFill>
                <a:latin typeface="微软雅黑"/>
                <a:ea typeface="微软雅黑"/>
              </a:rPr>
              <a:t>姓名：</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职务：</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话：</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邮：</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地址：</a:t>
            </a:r>
            <a:r>
              <a:rPr b="0" lang="en-US" sz="1600" spc="-1" strike="noStrike">
                <a:solidFill>
                  <a:srgbClr val="000000"/>
                </a:solidFill>
                <a:latin typeface="微软雅黑"/>
                <a:ea typeface="微软雅黑"/>
              </a:rPr>
              <a:t>XXX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邮编：</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086" name="矩形 12"/>
          <p:cNvSpPr/>
          <p:nvPr/>
        </p:nvSpPr>
        <p:spPr>
          <a:xfrm>
            <a:off x="425520" y="5727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矩形 16"/>
          <p:cNvSpPr/>
          <p:nvPr/>
        </p:nvSpPr>
        <p:spPr>
          <a:xfrm>
            <a:off x="468072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8" name="矩形 17"/>
          <p:cNvSpPr/>
          <p:nvPr/>
        </p:nvSpPr>
        <p:spPr>
          <a:xfrm>
            <a:off x="684036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9" name="矩形 18"/>
          <p:cNvSpPr/>
          <p:nvPr/>
        </p:nvSpPr>
        <p:spPr>
          <a:xfrm>
            <a:off x="9001080" y="432468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0" name="矩形 15"/>
          <p:cNvSpPr/>
          <p:nvPr/>
        </p:nvSpPr>
        <p:spPr>
          <a:xfrm>
            <a:off x="6480000" y="1799640"/>
            <a:ext cx="216036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endParaRPr b="0" lang="en-US" sz="4400" spc="-1" strike="noStrike">
              <a:solidFill>
                <a:srgbClr val="000000"/>
              </a:solidFill>
              <a:latin typeface="Candara"/>
            </a:endParaRPr>
          </a:p>
        </p:txBody>
      </p:sp>
      <p:sp>
        <p:nvSpPr>
          <p:cNvPr id="1122" name="矩形 3"/>
          <p:cNvSpPr/>
          <p:nvPr/>
        </p:nvSpPr>
        <p:spPr>
          <a:xfrm>
            <a:off x="6481800" y="1800360"/>
            <a:ext cx="2159280" cy="1439640"/>
          </a:xfrm>
          <a:custGeom>
            <a:avLst/>
            <a:gdLst>
              <a:gd name="textAreaLeft" fmla="*/ 0 w 2159280"/>
              <a:gd name="textAreaRight" fmla="*/ 2159640 w 2159280"/>
              <a:gd name="textAreaTop" fmla="*/ 0 h 1439640"/>
              <a:gd name="textAreaBottom" fmla="*/ 1440000 h 1439640"/>
            </a:gdLst>
            <a:ahLst/>
            <a:rect l="textAreaLeft" t="textAreaTop" r="textAreaRight" b="textAreaBottom"/>
            <a:pathLst>
              <a:path w="9720263" h="6480175">
                <a:moveTo>
                  <a:pt x="125592" y="0"/>
                </a:moveTo>
                <a:lnTo>
                  <a:pt x="234416" y="0"/>
                </a:lnTo>
                <a:lnTo>
                  <a:pt x="234416" y="1"/>
                </a:lnTo>
                <a:cubicBezTo>
                  <a:pt x="234416" y="69364"/>
                  <a:pt x="290646" y="125594"/>
                  <a:pt x="360009" y="125594"/>
                </a:cubicBezTo>
                <a:cubicBezTo>
                  <a:pt x="429372" y="125594"/>
                  <a:pt x="485602" y="69364"/>
                  <a:pt x="485602" y="1"/>
                </a:cubicBezTo>
                <a:cubicBezTo>
                  <a:pt x="485602" y="1"/>
                  <a:pt x="485602" y="0"/>
                  <a:pt x="485602" y="0"/>
                </a:cubicBezTo>
                <a:lnTo>
                  <a:pt x="594426" y="0"/>
                </a:lnTo>
                <a:lnTo>
                  <a:pt x="594426" y="1"/>
                </a:lnTo>
                <a:cubicBezTo>
                  <a:pt x="594426" y="69364"/>
                  <a:pt x="650656" y="125594"/>
                  <a:pt x="720019" y="125594"/>
                </a:cubicBezTo>
                <a:cubicBezTo>
                  <a:pt x="789382" y="125594"/>
                  <a:pt x="845612" y="69364"/>
                  <a:pt x="845612" y="1"/>
                </a:cubicBezTo>
                <a:cubicBezTo>
                  <a:pt x="845612" y="1"/>
                  <a:pt x="845612" y="0"/>
                  <a:pt x="845612" y="0"/>
                </a:cubicBezTo>
                <a:lnTo>
                  <a:pt x="954436" y="0"/>
                </a:lnTo>
                <a:lnTo>
                  <a:pt x="954436" y="1"/>
                </a:lnTo>
                <a:cubicBezTo>
                  <a:pt x="954436" y="69364"/>
                  <a:pt x="1010666" y="125594"/>
                  <a:pt x="1080029" y="125594"/>
                </a:cubicBezTo>
                <a:cubicBezTo>
                  <a:pt x="1149392" y="125594"/>
                  <a:pt x="1205622" y="69364"/>
                  <a:pt x="1205622" y="1"/>
                </a:cubicBezTo>
                <a:cubicBezTo>
                  <a:pt x="1205622" y="1"/>
                  <a:pt x="1205622" y="0"/>
                  <a:pt x="1205622" y="0"/>
                </a:cubicBezTo>
                <a:lnTo>
                  <a:pt x="1314446" y="0"/>
                </a:lnTo>
                <a:lnTo>
                  <a:pt x="1314446" y="1"/>
                </a:lnTo>
                <a:cubicBezTo>
                  <a:pt x="1314446" y="69364"/>
                  <a:pt x="1370676" y="125594"/>
                  <a:pt x="1440039" y="125594"/>
                </a:cubicBezTo>
                <a:cubicBezTo>
                  <a:pt x="1509402" y="125594"/>
                  <a:pt x="1565632" y="69364"/>
                  <a:pt x="1565632" y="1"/>
                </a:cubicBezTo>
                <a:cubicBezTo>
                  <a:pt x="1565632" y="1"/>
                  <a:pt x="1565632" y="0"/>
                  <a:pt x="1565632" y="0"/>
                </a:cubicBezTo>
                <a:lnTo>
                  <a:pt x="1674456" y="0"/>
                </a:lnTo>
                <a:lnTo>
                  <a:pt x="1674456" y="1"/>
                </a:lnTo>
                <a:cubicBezTo>
                  <a:pt x="1674456" y="69364"/>
                  <a:pt x="1730686" y="125594"/>
                  <a:pt x="1800049" y="125594"/>
                </a:cubicBezTo>
                <a:cubicBezTo>
                  <a:pt x="1869412" y="125594"/>
                  <a:pt x="1925642" y="69364"/>
                  <a:pt x="1925642" y="1"/>
                </a:cubicBezTo>
                <a:cubicBezTo>
                  <a:pt x="1925642" y="1"/>
                  <a:pt x="1925642" y="0"/>
                  <a:pt x="1925642" y="0"/>
                </a:cubicBezTo>
                <a:lnTo>
                  <a:pt x="2034466" y="0"/>
                </a:lnTo>
                <a:lnTo>
                  <a:pt x="2034466" y="1"/>
                </a:lnTo>
                <a:cubicBezTo>
                  <a:pt x="2034466" y="69364"/>
                  <a:pt x="2090696" y="125594"/>
                  <a:pt x="2160059" y="125594"/>
                </a:cubicBezTo>
                <a:cubicBezTo>
                  <a:pt x="2229422" y="125594"/>
                  <a:pt x="2285652" y="69364"/>
                  <a:pt x="2285652" y="1"/>
                </a:cubicBezTo>
                <a:cubicBezTo>
                  <a:pt x="2285652" y="1"/>
                  <a:pt x="2285652" y="0"/>
                  <a:pt x="2285652" y="0"/>
                </a:cubicBezTo>
                <a:lnTo>
                  <a:pt x="2394476" y="0"/>
                </a:lnTo>
                <a:lnTo>
                  <a:pt x="2394476" y="1"/>
                </a:lnTo>
                <a:cubicBezTo>
                  <a:pt x="2394476" y="69364"/>
                  <a:pt x="2450706" y="125594"/>
                  <a:pt x="2520069" y="125594"/>
                </a:cubicBezTo>
                <a:cubicBezTo>
                  <a:pt x="2589432" y="125594"/>
                  <a:pt x="2645662" y="69364"/>
                  <a:pt x="2645662" y="1"/>
                </a:cubicBezTo>
                <a:cubicBezTo>
                  <a:pt x="2645662" y="1"/>
                  <a:pt x="2645662" y="0"/>
                  <a:pt x="2645662" y="0"/>
                </a:cubicBezTo>
                <a:lnTo>
                  <a:pt x="2754486" y="0"/>
                </a:lnTo>
                <a:lnTo>
                  <a:pt x="2754486" y="1"/>
                </a:lnTo>
                <a:cubicBezTo>
                  <a:pt x="2754486" y="69364"/>
                  <a:pt x="2810716" y="125594"/>
                  <a:pt x="2880079" y="125594"/>
                </a:cubicBezTo>
                <a:cubicBezTo>
                  <a:pt x="2949442" y="125594"/>
                  <a:pt x="3005672" y="69364"/>
                  <a:pt x="3005672" y="1"/>
                </a:cubicBezTo>
                <a:cubicBezTo>
                  <a:pt x="3005672" y="1"/>
                  <a:pt x="3005672" y="0"/>
                  <a:pt x="3005672" y="0"/>
                </a:cubicBezTo>
                <a:lnTo>
                  <a:pt x="3114496" y="0"/>
                </a:lnTo>
                <a:lnTo>
                  <a:pt x="3114496" y="1"/>
                </a:lnTo>
                <a:cubicBezTo>
                  <a:pt x="3114496" y="69364"/>
                  <a:pt x="3170726" y="125594"/>
                  <a:pt x="3240089" y="125594"/>
                </a:cubicBezTo>
                <a:cubicBezTo>
                  <a:pt x="3309452" y="125594"/>
                  <a:pt x="3365682" y="69364"/>
                  <a:pt x="3365682" y="1"/>
                </a:cubicBezTo>
                <a:cubicBezTo>
                  <a:pt x="3365682" y="1"/>
                  <a:pt x="3365682" y="0"/>
                  <a:pt x="3365682" y="0"/>
                </a:cubicBezTo>
                <a:lnTo>
                  <a:pt x="3474506" y="0"/>
                </a:lnTo>
                <a:lnTo>
                  <a:pt x="3474506" y="1"/>
                </a:lnTo>
                <a:cubicBezTo>
                  <a:pt x="3474506" y="69364"/>
                  <a:pt x="3530736" y="125594"/>
                  <a:pt x="3600099" y="125594"/>
                </a:cubicBezTo>
                <a:cubicBezTo>
                  <a:pt x="3669462" y="125594"/>
                  <a:pt x="3725692" y="69364"/>
                  <a:pt x="3725692" y="1"/>
                </a:cubicBezTo>
                <a:cubicBezTo>
                  <a:pt x="3725692" y="1"/>
                  <a:pt x="3725692" y="0"/>
                  <a:pt x="3725692" y="0"/>
                </a:cubicBezTo>
                <a:lnTo>
                  <a:pt x="3834516" y="0"/>
                </a:lnTo>
                <a:lnTo>
                  <a:pt x="3834516" y="1"/>
                </a:lnTo>
                <a:cubicBezTo>
                  <a:pt x="3834516" y="69364"/>
                  <a:pt x="3890746" y="125594"/>
                  <a:pt x="3960109" y="125594"/>
                </a:cubicBezTo>
                <a:cubicBezTo>
                  <a:pt x="4029472" y="125594"/>
                  <a:pt x="4085702" y="69364"/>
                  <a:pt x="4085702" y="1"/>
                </a:cubicBezTo>
                <a:cubicBezTo>
                  <a:pt x="4085702" y="1"/>
                  <a:pt x="4085702" y="0"/>
                  <a:pt x="4085702" y="0"/>
                </a:cubicBezTo>
                <a:lnTo>
                  <a:pt x="4194526" y="0"/>
                </a:lnTo>
                <a:lnTo>
                  <a:pt x="4194526" y="1"/>
                </a:lnTo>
                <a:cubicBezTo>
                  <a:pt x="4194526" y="69364"/>
                  <a:pt x="4250756" y="125594"/>
                  <a:pt x="4320119" y="125594"/>
                </a:cubicBezTo>
                <a:cubicBezTo>
                  <a:pt x="4389482" y="125594"/>
                  <a:pt x="4445712" y="69364"/>
                  <a:pt x="4445712" y="1"/>
                </a:cubicBezTo>
                <a:cubicBezTo>
                  <a:pt x="4445712" y="1"/>
                  <a:pt x="4445712" y="0"/>
                  <a:pt x="4445712" y="0"/>
                </a:cubicBezTo>
                <a:lnTo>
                  <a:pt x="4554536" y="0"/>
                </a:lnTo>
                <a:lnTo>
                  <a:pt x="4554536" y="1"/>
                </a:lnTo>
                <a:cubicBezTo>
                  <a:pt x="4554536" y="69364"/>
                  <a:pt x="4610766" y="125594"/>
                  <a:pt x="4680129" y="125594"/>
                </a:cubicBezTo>
                <a:cubicBezTo>
                  <a:pt x="4749492" y="125594"/>
                  <a:pt x="4805722" y="69364"/>
                  <a:pt x="4805722" y="1"/>
                </a:cubicBezTo>
                <a:cubicBezTo>
                  <a:pt x="4805722" y="1"/>
                  <a:pt x="4805722" y="0"/>
                  <a:pt x="4805722" y="0"/>
                </a:cubicBezTo>
                <a:lnTo>
                  <a:pt x="4914546" y="0"/>
                </a:lnTo>
                <a:lnTo>
                  <a:pt x="4914546" y="1"/>
                </a:lnTo>
                <a:cubicBezTo>
                  <a:pt x="4914546" y="69364"/>
                  <a:pt x="4970776" y="125594"/>
                  <a:pt x="5040139" y="125594"/>
                </a:cubicBezTo>
                <a:cubicBezTo>
                  <a:pt x="5109502" y="125594"/>
                  <a:pt x="5165732" y="69364"/>
                  <a:pt x="5165732" y="1"/>
                </a:cubicBezTo>
                <a:cubicBezTo>
                  <a:pt x="5165732" y="1"/>
                  <a:pt x="5165732" y="0"/>
                  <a:pt x="5165732" y="0"/>
                </a:cubicBezTo>
                <a:lnTo>
                  <a:pt x="5274556" y="0"/>
                </a:lnTo>
                <a:lnTo>
                  <a:pt x="5274556" y="1"/>
                </a:lnTo>
                <a:cubicBezTo>
                  <a:pt x="5274556" y="69364"/>
                  <a:pt x="5330786" y="125594"/>
                  <a:pt x="5400149" y="125594"/>
                </a:cubicBezTo>
                <a:cubicBezTo>
                  <a:pt x="5469512" y="125594"/>
                  <a:pt x="5525742" y="69364"/>
                  <a:pt x="5525742" y="1"/>
                </a:cubicBezTo>
                <a:cubicBezTo>
                  <a:pt x="5525742" y="1"/>
                  <a:pt x="5525742" y="0"/>
                  <a:pt x="5525742" y="0"/>
                </a:cubicBezTo>
                <a:lnTo>
                  <a:pt x="5634566" y="0"/>
                </a:lnTo>
                <a:lnTo>
                  <a:pt x="5634566" y="1"/>
                </a:lnTo>
                <a:cubicBezTo>
                  <a:pt x="5634566" y="69364"/>
                  <a:pt x="5690796" y="125594"/>
                  <a:pt x="5760159" y="125594"/>
                </a:cubicBezTo>
                <a:cubicBezTo>
                  <a:pt x="5829522" y="125594"/>
                  <a:pt x="5885752" y="69364"/>
                  <a:pt x="5885752" y="1"/>
                </a:cubicBezTo>
                <a:cubicBezTo>
                  <a:pt x="5885752" y="1"/>
                  <a:pt x="5885752" y="0"/>
                  <a:pt x="5885752" y="0"/>
                </a:cubicBezTo>
                <a:lnTo>
                  <a:pt x="5994576" y="0"/>
                </a:lnTo>
                <a:lnTo>
                  <a:pt x="5994576" y="1"/>
                </a:lnTo>
                <a:cubicBezTo>
                  <a:pt x="5994576" y="69364"/>
                  <a:pt x="6050806" y="125594"/>
                  <a:pt x="6120169" y="125594"/>
                </a:cubicBezTo>
                <a:cubicBezTo>
                  <a:pt x="6189532" y="125594"/>
                  <a:pt x="6245762" y="69364"/>
                  <a:pt x="6245762" y="1"/>
                </a:cubicBezTo>
                <a:cubicBezTo>
                  <a:pt x="6245762" y="1"/>
                  <a:pt x="6245762" y="0"/>
                  <a:pt x="6245762" y="0"/>
                </a:cubicBezTo>
                <a:lnTo>
                  <a:pt x="6354586" y="0"/>
                </a:lnTo>
                <a:lnTo>
                  <a:pt x="6354586" y="1"/>
                </a:lnTo>
                <a:cubicBezTo>
                  <a:pt x="6354586" y="69364"/>
                  <a:pt x="6410816" y="125594"/>
                  <a:pt x="6480179" y="125594"/>
                </a:cubicBezTo>
                <a:cubicBezTo>
                  <a:pt x="6549542" y="125594"/>
                  <a:pt x="6605772" y="69364"/>
                  <a:pt x="6605772" y="1"/>
                </a:cubicBezTo>
                <a:cubicBezTo>
                  <a:pt x="6605772" y="1"/>
                  <a:pt x="6605772" y="0"/>
                  <a:pt x="6605772" y="0"/>
                </a:cubicBezTo>
                <a:lnTo>
                  <a:pt x="6714596" y="0"/>
                </a:lnTo>
                <a:lnTo>
                  <a:pt x="6714596" y="1"/>
                </a:lnTo>
                <a:cubicBezTo>
                  <a:pt x="6714596" y="69364"/>
                  <a:pt x="6770826" y="125594"/>
                  <a:pt x="6840189" y="125594"/>
                </a:cubicBezTo>
                <a:cubicBezTo>
                  <a:pt x="6909552" y="125594"/>
                  <a:pt x="6965782" y="69364"/>
                  <a:pt x="6965782" y="1"/>
                </a:cubicBezTo>
                <a:cubicBezTo>
                  <a:pt x="6965782" y="1"/>
                  <a:pt x="6965782" y="0"/>
                  <a:pt x="6965782" y="0"/>
                </a:cubicBezTo>
                <a:lnTo>
                  <a:pt x="7074606" y="0"/>
                </a:lnTo>
                <a:lnTo>
                  <a:pt x="7074606" y="1"/>
                </a:lnTo>
                <a:cubicBezTo>
                  <a:pt x="7074606" y="69364"/>
                  <a:pt x="7130836" y="125594"/>
                  <a:pt x="7200199" y="125594"/>
                </a:cubicBezTo>
                <a:cubicBezTo>
                  <a:pt x="7269562" y="125594"/>
                  <a:pt x="7325792" y="69364"/>
                  <a:pt x="7325792" y="1"/>
                </a:cubicBezTo>
                <a:cubicBezTo>
                  <a:pt x="7325792" y="1"/>
                  <a:pt x="7325792" y="0"/>
                  <a:pt x="7325792" y="0"/>
                </a:cubicBezTo>
                <a:lnTo>
                  <a:pt x="7434616" y="0"/>
                </a:lnTo>
                <a:lnTo>
                  <a:pt x="7434616" y="1"/>
                </a:lnTo>
                <a:cubicBezTo>
                  <a:pt x="7434616" y="69364"/>
                  <a:pt x="7490846" y="125594"/>
                  <a:pt x="7560209" y="125594"/>
                </a:cubicBezTo>
                <a:cubicBezTo>
                  <a:pt x="7629572" y="125594"/>
                  <a:pt x="7685802" y="69364"/>
                  <a:pt x="7685802" y="1"/>
                </a:cubicBezTo>
                <a:cubicBezTo>
                  <a:pt x="7685802" y="1"/>
                  <a:pt x="7685802" y="0"/>
                  <a:pt x="7685802" y="0"/>
                </a:cubicBezTo>
                <a:lnTo>
                  <a:pt x="7794626" y="0"/>
                </a:lnTo>
                <a:lnTo>
                  <a:pt x="7794626" y="1"/>
                </a:lnTo>
                <a:cubicBezTo>
                  <a:pt x="7794626" y="69364"/>
                  <a:pt x="7850856" y="125594"/>
                  <a:pt x="7920219" y="125594"/>
                </a:cubicBezTo>
                <a:cubicBezTo>
                  <a:pt x="7989582" y="125594"/>
                  <a:pt x="8045812" y="69364"/>
                  <a:pt x="8045812" y="1"/>
                </a:cubicBezTo>
                <a:cubicBezTo>
                  <a:pt x="8045812" y="1"/>
                  <a:pt x="8045812" y="0"/>
                  <a:pt x="8045812" y="0"/>
                </a:cubicBezTo>
                <a:lnTo>
                  <a:pt x="8154636" y="0"/>
                </a:lnTo>
                <a:lnTo>
                  <a:pt x="8154636" y="1"/>
                </a:lnTo>
                <a:cubicBezTo>
                  <a:pt x="8154636" y="69364"/>
                  <a:pt x="8210866" y="125594"/>
                  <a:pt x="8280229" y="125594"/>
                </a:cubicBezTo>
                <a:cubicBezTo>
                  <a:pt x="8349592" y="125594"/>
                  <a:pt x="8405822" y="69364"/>
                  <a:pt x="8405822" y="1"/>
                </a:cubicBezTo>
                <a:cubicBezTo>
                  <a:pt x="8405822" y="1"/>
                  <a:pt x="8405822" y="0"/>
                  <a:pt x="8405822" y="0"/>
                </a:cubicBezTo>
                <a:lnTo>
                  <a:pt x="8514646" y="0"/>
                </a:lnTo>
                <a:lnTo>
                  <a:pt x="8514646" y="1"/>
                </a:lnTo>
                <a:cubicBezTo>
                  <a:pt x="8514646" y="69364"/>
                  <a:pt x="8570876" y="125594"/>
                  <a:pt x="8640239" y="125594"/>
                </a:cubicBezTo>
                <a:cubicBezTo>
                  <a:pt x="8709602" y="125594"/>
                  <a:pt x="8765832" y="69364"/>
                  <a:pt x="8765832" y="1"/>
                </a:cubicBezTo>
                <a:cubicBezTo>
                  <a:pt x="8765832" y="1"/>
                  <a:pt x="8765832" y="0"/>
                  <a:pt x="8765832" y="0"/>
                </a:cubicBezTo>
                <a:lnTo>
                  <a:pt x="8874656" y="0"/>
                </a:lnTo>
                <a:lnTo>
                  <a:pt x="8874656" y="1"/>
                </a:lnTo>
                <a:cubicBezTo>
                  <a:pt x="8874656" y="69364"/>
                  <a:pt x="8930886" y="125594"/>
                  <a:pt x="9000249" y="125594"/>
                </a:cubicBezTo>
                <a:cubicBezTo>
                  <a:pt x="9069612" y="125594"/>
                  <a:pt x="9125842" y="69364"/>
                  <a:pt x="9125842" y="1"/>
                </a:cubicBezTo>
                <a:cubicBezTo>
                  <a:pt x="9125842" y="1"/>
                  <a:pt x="9125842" y="0"/>
                  <a:pt x="9125842" y="0"/>
                </a:cubicBezTo>
                <a:lnTo>
                  <a:pt x="9234666" y="0"/>
                </a:lnTo>
                <a:lnTo>
                  <a:pt x="9234666" y="1"/>
                </a:lnTo>
                <a:cubicBezTo>
                  <a:pt x="9234666" y="69364"/>
                  <a:pt x="9290896" y="125594"/>
                  <a:pt x="9360259" y="125594"/>
                </a:cubicBezTo>
                <a:cubicBezTo>
                  <a:pt x="9429622" y="125594"/>
                  <a:pt x="9485852" y="69364"/>
                  <a:pt x="9485852" y="1"/>
                </a:cubicBezTo>
                <a:cubicBezTo>
                  <a:pt x="9485852" y="1"/>
                  <a:pt x="9485852" y="0"/>
                  <a:pt x="9485852" y="0"/>
                </a:cubicBezTo>
                <a:lnTo>
                  <a:pt x="9594669" y="0"/>
                </a:lnTo>
                <a:lnTo>
                  <a:pt x="9594669" y="1"/>
                </a:lnTo>
                <a:cubicBezTo>
                  <a:pt x="9594669" y="69364"/>
                  <a:pt x="9650899" y="125594"/>
                  <a:pt x="9720262" y="125594"/>
                </a:cubicBezTo>
                <a:cubicBezTo>
                  <a:pt x="9720262" y="125594"/>
                  <a:pt x="9720263" y="125594"/>
                  <a:pt x="9720263" y="125594"/>
                </a:cubicBezTo>
                <a:lnTo>
                  <a:pt x="9720263" y="233888"/>
                </a:lnTo>
                <a:lnTo>
                  <a:pt x="9720261" y="233888"/>
                </a:lnTo>
                <a:cubicBezTo>
                  <a:pt x="9650898" y="233888"/>
                  <a:pt x="9594668" y="290118"/>
                  <a:pt x="9594668" y="359481"/>
                </a:cubicBezTo>
                <a:cubicBezTo>
                  <a:pt x="9594668" y="428844"/>
                  <a:pt x="9650898" y="485074"/>
                  <a:pt x="9720261" y="485074"/>
                </a:cubicBezTo>
                <a:cubicBezTo>
                  <a:pt x="9720262" y="485074"/>
                  <a:pt x="9720262" y="485074"/>
                  <a:pt x="9720263" y="485074"/>
                </a:cubicBezTo>
                <a:lnTo>
                  <a:pt x="9720263" y="593898"/>
                </a:lnTo>
                <a:lnTo>
                  <a:pt x="9720261" y="593898"/>
                </a:lnTo>
                <a:cubicBezTo>
                  <a:pt x="9650898" y="593898"/>
                  <a:pt x="9594668" y="650128"/>
                  <a:pt x="9594668" y="719491"/>
                </a:cubicBezTo>
                <a:cubicBezTo>
                  <a:pt x="9594668" y="788854"/>
                  <a:pt x="9650898" y="845084"/>
                  <a:pt x="9720261" y="845084"/>
                </a:cubicBezTo>
                <a:cubicBezTo>
                  <a:pt x="9720262" y="845084"/>
                  <a:pt x="9720262" y="845084"/>
                  <a:pt x="9720263" y="845084"/>
                </a:cubicBezTo>
                <a:lnTo>
                  <a:pt x="9720263" y="953908"/>
                </a:lnTo>
                <a:lnTo>
                  <a:pt x="9720261" y="953908"/>
                </a:lnTo>
                <a:cubicBezTo>
                  <a:pt x="9650898" y="953908"/>
                  <a:pt x="9594668" y="1010138"/>
                  <a:pt x="9594668" y="1079501"/>
                </a:cubicBezTo>
                <a:cubicBezTo>
                  <a:pt x="9594668" y="1148864"/>
                  <a:pt x="9650898" y="1205094"/>
                  <a:pt x="9720261" y="1205094"/>
                </a:cubicBezTo>
                <a:cubicBezTo>
                  <a:pt x="9720262" y="1205094"/>
                  <a:pt x="9720262" y="1205094"/>
                  <a:pt x="9720263" y="1205094"/>
                </a:cubicBezTo>
                <a:lnTo>
                  <a:pt x="9720263" y="1313918"/>
                </a:lnTo>
                <a:lnTo>
                  <a:pt x="9720261" y="1313918"/>
                </a:lnTo>
                <a:cubicBezTo>
                  <a:pt x="9650898" y="1313918"/>
                  <a:pt x="9594668" y="1370148"/>
                  <a:pt x="9594668" y="1439511"/>
                </a:cubicBezTo>
                <a:cubicBezTo>
                  <a:pt x="9594668" y="1508874"/>
                  <a:pt x="9650898" y="1565104"/>
                  <a:pt x="9720261" y="1565104"/>
                </a:cubicBezTo>
                <a:cubicBezTo>
                  <a:pt x="9720262" y="1565104"/>
                  <a:pt x="9720262" y="1565104"/>
                  <a:pt x="9720263" y="1565104"/>
                </a:cubicBezTo>
                <a:lnTo>
                  <a:pt x="9720263" y="1673929"/>
                </a:lnTo>
                <a:lnTo>
                  <a:pt x="9720261" y="1673928"/>
                </a:lnTo>
                <a:cubicBezTo>
                  <a:pt x="9650898" y="1673928"/>
                  <a:pt x="9594668" y="1730158"/>
                  <a:pt x="9594668" y="1799521"/>
                </a:cubicBezTo>
                <a:cubicBezTo>
                  <a:pt x="9594668" y="1868884"/>
                  <a:pt x="9650898" y="1925114"/>
                  <a:pt x="9720261" y="1925114"/>
                </a:cubicBezTo>
                <a:cubicBezTo>
                  <a:pt x="9720262" y="1925114"/>
                  <a:pt x="9720262" y="1925114"/>
                  <a:pt x="9720263" y="1925114"/>
                </a:cubicBezTo>
                <a:lnTo>
                  <a:pt x="9720263" y="2033939"/>
                </a:lnTo>
                <a:lnTo>
                  <a:pt x="9720261" y="2033938"/>
                </a:lnTo>
                <a:cubicBezTo>
                  <a:pt x="9650898" y="2033938"/>
                  <a:pt x="9594668" y="2090168"/>
                  <a:pt x="9594668" y="2159531"/>
                </a:cubicBezTo>
                <a:cubicBezTo>
                  <a:pt x="9594668" y="2228894"/>
                  <a:pt x="9650898" y="2285124"/>
                  <a:pt x="9720261" y="2285124"/>
                </a:cubicBezTo>
                <a:cubicBezTo>
                  <a:pt x="9720262" y="2285124"/>
                  <a:pt x="9720262" y="2285124"/>
                  <a:pt x="9720263" y="2285124"/>
                </a:cubicBezTo>
                <a:lnTo>
                  <a:pt x="9720263" y="2393948"/>
                </a:lnTo>
                <a:lnTo>
                  <a:pt x="9720261" y="2393948"/>
                </a:lnTo>
                <a:cubicBezTo>
                  <a:pt x="9650898" y="2393948"/>
                  <a:pt x="9594668" y="2450178"/>
                  <a:pt x="9594668" y="2519541"/>
                </a:cubicBezTo>
                <a:cubicBezTo>
                  <a:pt x="9594668" y="2588904"/>
                  <a:pt x="9650898" y="2645134"/>
                  <a:pt x="9720261" y="2645134"/>
                </a:cubicBezTo>
                <a:cubicBezTo>
                  <a:pt x="9720262" y="2645134"/>
                  <a:pt x="9720262" y="2645134"/>
                  <a:pt x="9720263" y="2645134"/>
                </a:cubicBezTo>
                <a:lnTo>
                  <a:pt x="9720263" y="2753959"/>
                </a:lnTo>
                <a:lnTo>
                  <a:pt x="9720261" y="2753958"/>
                </a:lnTo>
                <a:cubicBezTo>
                  <a:pt x="9650898" y="2753958"/>
                  <a:pt x="9594668" y="2810188"/>
                  <a:pt x="9594668" y="2879551"/>
                </a:cubicBezTo>
                <a:cubicBezTo>
                  <a:pt x="9594668" y="2948914"/>
                  <a:pt x="9650898" y="3005144"/>
                  <a:pt x="9720261" y="3005144"/>
                </a:cubicBezTo>
                <a:cubicBezTo>
                  <a:pt x="9720262" y="3005144"/>
                  <a:pt x="9720262" y="3005144"/>
                  <a:pt x="9720263" y="3005144"/>
                </a:cubicBezTo>
                <a:lnTo>
                  <a:pt x="9720263" y="3113968"/>
                </a:lnTo>
                <a:lnTo>
                  <a:pt x="9720261" y="3113968"/>
                </a:lnTo>
                <a:cubicBezTo>
                  <a:pt x="9650898" y="3113968"/>
                  <a:pt x="9594668" y="3170198"/>
                  <a:pt x="9594668" y="3239561"/>
                </a:cubicBezTo>
                <a:cubicBezTo>
                  <a:pt x="9594668" y="3308924"/>
                  <a:pt x="9650898" y="3365154"/>
                  <a:pt x="9720261" y="3365154"/>
                </a:cubicBezTo>
                <a:cubicBezTo>
                  <a:pt x="9720262" y="3365154"/>
                  <a:pt x="9720262" y="3365154"/>
                  <a:pt x="9720263" y="3365154"/>
                </a:cubicBezTo>
                <a:lnTo>
                  <a:pt x="9720263" y="3473979"/>
                </a:lnTo>
                <a:lnTo>
                  <a:pt x="9720261" y="3473978"/>
                </a:lnTo>
                <a:cubicBezTo>
                  <a:pt x="9650898" y="3473978"/>
                  <a:pt x="9594668" y="3530208"/>
                  <a:pt x="9594668" y="3599571"/>
                </a:cubicBezTo>
                <a:cubicBezTo>
                  <a:pt x="9594668" y="3668934"/>
                  <a:pt x="9650898" y="3725164"/>
                  <a:pt x="9720261" y="3725164"/>
                </a:cubicBezTo>
                <a:cubicBezTo>
                  <a:pt x="9720262" y="3725164"/>
                  <a:pt x="9720262" y="3725164"/>
                  <a:pt x="9720263" y="3725164"/>
                </a:cubicBezTo>
                <a:lnTo>
                  <a:pt x="9720263" y="3833989"/>
                </a:lnTo>
                <a:lnTo>
                  <a:pt x="9720261" y="3833988"/>
                </a:lnTo>
                <a:cubicBezTo>
                  <a:pt x="9650898" y="3833988"/>
                  <a:pt x="9594668" y="3890218"/>
                  <a:pt x="9594668" y="3959581"/>
                </a:cubicBezTo>
                <a:cubicBezTo>
                  <a:pt x="9594668" y="4028944"/>
                  <a:pt x="9650898" y="4085174"/>
                  <a:pt x="9720261" y="4085174"/>
                </a:cubicBezTo>
                <a:cubicBezTo>
                  <a:pt x="9720262" y="4085174"/>
                  <a:pt x="9720262" y="4085174"/>
                  <a:pt x="9720263" y="4085174"/>
                </a:cubicBezTo>
                <a:lnTo>
                  <a:pt x="9720263" y="4193999"/>
                </a:lnTo>
                <a:lnTo>
                  <a:pt x="9720261" y="4193998"/>
                </a:lnTo>
                <a:cubicBezTo>
                  <a:pt x="9650898" y="4193998"/>
                  <a:pt x="9594668" y="4250228"/>
                  <a:pt x="9594668" y="4319591"/>
                </a:cubicBezTo>
                <a:cubicBezTo>
                  <a:pt x="9594668" y="4388954"/>
                  <a:pt x="9650898" y="4445184"/>
                  <a:pt x="9720261" y="4445184"/>
                </a:cubicBezTo>
                <a:cubicBezTo>
                  <a:pt x="9720262" y="4445184"/>
                  <a:pt x="9720262" y="4445184"/>
                  <a:pt x="9720263" y="4445184"/>
                </a:cubicBezTo>
                <a:lnTo>
                  <a:pt x="9720263" y="4554009"/>
                </a:lnTo>
                <a:lnTo>
                  <a:pt x="9720261" y="4554008"/>
                </a:lnTo>
                <a:cubicBezTo>
                  <a:pt x="9650898" y="4554008"/>
                  <a:pt x="9594668" y="4610238"/>
                  <a:pt x="9594668" y="4679601"/>
                </a:cubicBezTo>
                <a:cubicBezTo>
                  <a:pt x="9594668" y="4748964"/>
                  <a:pt x="9650898" y="4805194"/>
                  <a:pt x="9720261" y="4805194"/>
                </a:cubicBezTo>
                <a:cubicBezTo>
                  <a:pt x="9720262" y="4805194"/>
                  <a:pt x="9720262" y="4805194"/>
                  <a:pt x="9720263" y="4805194"/>
                </a:cubicBezTo>
                <a:lnTo>
                  <a:pt x="9720263" y="4914019"/>
                </a:lnTo>
                <a:lnTo>
                  <a:pt x="9720261" y="4914018"/>
                </a:lnTo>
                <a:cubicBezTo>
                  <a:pt x="9650898" y="4914018"/>
                  <a:pt x="9594668" y="4970248"/>
                  <a:pt x="9594668" y="5039611"/>
                </a:cubicBezTo>
                <a:cubicBezTo>
                  <a:pt x="9594668" y="5108974"/>
                  <a:pt x="9650898" y="5165204"/>
                  <a:pt x="9720261" y="5165204"/>
                </a:cubicBezTo>
                <a:cubicBezTo>
                  <a:pt x="9720262" y="5165204"/>
                  <a:pt x="9720262" y="5165204"/>
                  <a:pt x="9720263" y="5165204"/>
                </a:cubicBezTo>
                <a:lnTo>
                  <a:pt x="9720263" y="5274029"/>
                </a:lnTo>
                <a:lnTo>
                  <a:pt x="9720261" y="5274028"/>
                </a:lnTo>
                <a:cubicBezTo>
                  <a:pt x="9650898" y="5274028"/>
                  <a:pt x="9594668" y="5330258"/>
                  <a:pt x="9594668" y="5399621"/>
                </a:cubicBezTo>
                <a:cubicBezTo>
                  <a:pt x="9594668" y="5468984"/>
                  <a:pt x="9650898" y="5525214"/>
                  <a:pt x="9720261" y="5525214"/>
                </a:cubicBezTo>
                <a:cubicBezTo>
                  <a:pt x="9720262" y="5525214"/>
                  <a:pt x="9720262" y="5525214"/>
                  <a:pt x="9720263" y="5525214"/>
                </a:cubicBezTo>
                <a:lnTo>
                  <a:pt x="9720263" y="5634039"/>
                </a:lnTo>
                <a:lnTo>
                  <a:pt x="9720261" y="5634038"/>
                </a:lnTo>
                <a:cubicBezTo>
                  <a:pt x="9650898" y="5634038"/>
                  <a:pt x="9594668" y="5690268"/>
                  <a:pt x="9594668" y="5759631"/>
                </a:cubicBezTo>
                <a:cubicBezTo>
                  <a:pt x="9594668" y="5828994"/>
                  <a:pt x="9650898" y="5885224"/>
                  <a:pt x="9720261" y="5885224"/>
                </a:cubicBezTo>
                <a:cubicBezTo>
                  <a:pt x="9720262" y="5885224"/>
                  <a:pt x="9720262" y="5885224"/>
                  <a:pt x="9720263" y="5885224"/>
                </a:cubicBezTo>
                <a:lnTo>
                  <a:pt x="9720263" y="5994049"/>
                </a:lnTo>
                <a:lnTo>
                  <a:pt x="9720261" y="5994048"/>
                </a:lnTo>
                <a:cubicBezTo>
                  <a:pt x="9650898" y="5994048"/>
                  <a:pt x="9594668" y="6050278"/>
                  <a:pt x="9594668" y="6119641"/>
                </a:cubicBezTo>
                <a:cubicBezTo>
                  <a:pt x="9594668" y="6189004"/>
                  <a:pt x="9650898" y="6245234"/>
                  <a:pt x="9720261" y="6245234"/>
                </a:cubicBezTo>
                <a:cubicBezTo>
                  <a:pt x="9720262" y="6245234"/>
                  <a:pt x="9720262" y="6245234"/>
                  <a:pt x="9720263" y="6245234"/>
                </a:cubicBezTo>
                <a:lnTo>
                  <a:pt x="9720263" y="6354583"/>
                </a:lnTo>
                <a:lnTo>
                  <a:pt x="9720262" y="6354583"/>
                </a:lnTo>
                <a:cubicBezTo>
                  <a:pt x="9650899" y="6354583"/>
                  <a:pt x="9594670" y="6410813"/>
                  <a:pt x="9594669" y="6480175"/>
                </a:cubicBezTo>
                <a:lnTo>
                  <a:pt x="9485852" y="6480175"/>
                </a:lnTo>
                <a:cubicBezTo>
                  <a:pt x="9485851" y="6410813"/>
                  <a:pt x="9429622" y="6354583"/>
                  <a:pt x="9360259" y="6354583"/>
                </a:cubicBezTo>
                <a:cubicBezTo>
                  <a:pt x="9290896" y="6354583"/>
                  <a:pt x="9234667" y="6410813"/>
                  <a:pt x="9234666" y="6480175"/>
                </a:cubicBezTo>
                <a:lnTo>
                  <a:pt x="9125842" y="6480175"/>
                </a:lnTo>
                <a:cubicBezTo>
                  <a:pt x="9125841" y="6410813"/>
                  <a:pt x="9069612" y="6354583"/>
                  <a:pt x="9000249" y="6354583"/>
                </a:cubicBezTo>
                <a:cubicBezTo>
                  <a:pt x="8930886" y="6354583"/>
                  <a:pt x="8874657" y="6410813"/>
                  <a:pt x="8874656" y="6480175"/>
                </a:cubicBezTo>
                <a:lnTo>
                  <a:pt x="8765832" y="6480175"/>
                </a:lnTo>
                <a:cubicBezTo>
                  <a:pt x="8765831" y="6410813"/>
                  <a:pt x="8709602" y="6354583"/>
                  <a:pt x="8640239" y="6354583"/>
                </a:cubicBezTo>
                <a:cubicBezTo>
                  <a:pt x="8570876" y="6354583"/>
                  <a:pt x="8514647" y="6410813"/>
                  <a:pt x="8514646" y="6480175"/>
                </a:cubicBezTo>
                <a:lnTo>
                  <a:pt x="8405822" y="6480175"/>
                </a:lnTo>
                <a:cubicBezTo>
                  <a:pt x="8405821" y="6410813"/>
                  <a:pt x="8349592" y="6354583"/>
                  <a:pt x="8280229" y="6354583"/>
                </a:cubicBezTo>
                <a:cubicBezTo>
                  <a:pt x="8210866" y="6354583"/>
                  <a:pt x="8154637" y="6410813"/>
                  <a:pt x="8154636" y="6480175"/>
                </a:cubicBezTo>
                <a:lnTo>
                  <a:pt x="8045812" y="6480175"/>
                </a:lnTo>
                <a:cubicBezTo>
                  <a:pt x="8045811" y="6410813"/>
                  <a:pt x="7989582" y="6354583"/>
                  <a:pt x="7920219" y="6354583"/>
                </a:cubicBezTo>
                <a:cubicBezTo>
                  <a:pt x="7850856" y="6354583"/>
                  <a:pt x="7794627" y="6410813"/>
                  <a:pt x="7794626" y="6480175"/>
                </a:cubicBezTo>
                <a:lnTo>
                  <a:pt x="7685802" y="6480175"/>
                </a:lnTo>
                <a:cubicBezTo>
                  <a:pt x="7685801" y="6410813"/>
                  <a:pt x="7629572" y="6354583"/>
                  <a:pt x="7560209" y="6354583"/>
                </a:cubicBezTo>
                <a:cubicBezTo>
                  <a:pt x="7490847" y="6354583"/>
                  <a:pt x="7434617" y="6410813"/>
                  <a:pt x="7434616" y="6480175"/>
                </a:cubicBezTo>
                <a:lnTo>
                  <a:pt x="7325792" y="6480175"/>
                </a:lnTo>
                <a:cubicBezTo>
                  <a:pt x="7325792" y="6410813"/>
                  <a:pt x="7269562" y="6354583"/>
                  <a:pt x="7200199" y="6354583"/>
                </a:cubicBezTo>
                <a:cubicBezTo>
                  <a:pt x="7130837" y="6354583"/>
                  <a:pt x="7074607" y="6410813"/>
                  <a:pt x="7074606" y="6480175"/>
                </a:cubicBezTo>
                <a:lnTo>
                  <a:pt x="6965782" y="6480175"/>
                </a:lnTo>
                <a:cubicBezTo>
                  <a:pt x="6965782" y="6410813"/>
                  <a:pt x="6909552" y="6354583"/>
                  <a:pt x="6840189" y="6354583"/>
                </a:cubicBezTo>
                <a:cubicBezTo>
                  <a:pt x="6770827" y="6354583"/>
                  <a:pt x="6714597" y="6410813"/>
                  <a:pt x="6714596" y="6480175"/>
                </a:cubicBezTo>
                <a:lnTo>
                  <a:pt x="6605772" y="6480175"/>
                </a:lnTo>
                <a:cubicBezTo>
                  <a:pt x="6605772" y="6410813"/>
                  <a:pt x="6549542" y="6354583"/>
                  <a:pt x="6480179" y="6354583"/>
                </a:cubicBezTo>
                <a:cubicBezTo>
                  <a:pt x="6410817" y="6354583"/>
                  <a:pt x="6354587" y="6410813"/>
                  <a:pt x="6354587" y="6480175"/>
                </a:cubicBezTo>
                <a:lnTo>
                  <a:pt x="6245762" y="6480175"/>
                </a:lnTo>
                <a:cubicBezTo>
                  <a:pt x="6245762" y="6410813"/>
                  <a:pt x="6189532" y="6354583"/>
                  <a:pt x="6120169" y="6354583"/>
                </a:cubicBezTo>
                <a:cubicBezTo>
                  <a:pt x="6050807" y="6354583"/>
                  <a:pt x="5994577" y="6410813"/>
                  <a:pt x="5994576" y="6480175"/>
                </a:cubicBezTo>
                <a:lnTo>
                  <a:pt x="5885752" y="6480175"/>
                </a:lnTo>
                <a:cubicBezTo>
                  <a:pt x="5885752" y="6410813"/>
                  <a:pt x="5829522" y="6354583"/>
                  <a:pt x="5760159" y="6354583"/>
                </a:cubicBezTo>
                <a:cubicBezTo>
                  <a:pt x="5690797" y="6354583"/>
                  <a:pt x="5634567" y="6410813"/>
                  <a:pt x="5634566" y="6480175"/>
                </a:cubicBezTo>
                <a:lnTo>
                  <a:pt x="5525742" y="6480175"/>
                </a:lnTo>
                <a:cubicBezTo>
                  <a:pt x="5525742" y="6410813"/>
                  <a:pt x="5469512" y="6354583"/>
                  <a:pt x="5400149" y="6354583"/>
                </a:cubicBezTo>
                <a:cubicBezTo>
                  <a:pt x="5330787" y="6354583"/>
                  <a:pt x="5274557" y="6410813"/>
                  <a:pt x="5274556" y="6480175"/>
                </a:cubicBezTo>
                <a:lnTo>
                  <a:pt x="5165732" y="6480175"/>
                </a:lnTo>
                <a:cubicBezTo>
                  <a:pt x="5165732" y="6410813"/>
                  <a:pt x="5109502" y="6354583"/>
                  <a:pt x="5040139" y="6354583"/>
                </a:cubicBezTo>
                <a:cubicBezTo>
                  <a:pt x="4970777" y="6354583"/>
                  <a:pt x="4914547" y="6410813"/>
                  <a:pt x="4914546" y="6480175"/>
                </a:cubicBezTo>
                <a:lnTo>
                  <a:pt x="4805722" y="6480175"/>
                </a:lnTo>
                <a:cubicBezTo>
                  <a:pt x="4805722" y="6410813"/>
                  <a:pt x="4749492" y="6354583"/>
                  <a:pt x="4680129" y="6354583"/>
                </a:cubicBezTo>
                <a:cubicBezTo>
                  <a:pt x="4610767" y="6354583"/>
                  <a:pt x="4554537" y="6410813"/>
                  <a:pt x="4554537" y="6480175"/>
                </a:cubicBezTo>
                <a:lnTo>
                  <a:pt x="4445712" y="6480175"/>
                </a:lnTo>
                <a:cubicBezTo>
                  <a:pt x="4445712" y="6410813"/>
                  <a:pt x="4389482" y="6354583"/>
                  <a:pt x="4320119" y="6354583"/>
                </a:cubicBezTo>
                <a:cubicBezTo>
                  <a:pt x="4250757" y="6354583"/>
                  <a:pt x="4194527" y="6410813"/>
                  <a:pt x="4194526" y="6480175"/>
                </a:cubicBezTo>
                <a:lnTo>
                  <a:pt x="4085702" y="6480175"/>
                </a:lnTo>
                <a:cubicBezTo>
                  <a:pt x="4085702" y="6410813"/>
                  <a:pt x="4029472" y="6354583"/>
                  <a:pt x="3960109" y="6354583"/>
                </a:cubicBezTo>
                <a:cubicBezTo>
                  <a:pt x="3890747" y="6354583"/>
                  <a:pt x="3834517" y="6410813"/>
                  <a:pt x="3834516" y="6480175"/>
                </a:cubicBezTo>
                <a:lnTo>
                  <a:pt x="3725692" y="6480175"/>
                </a:lnTo>
                <a:cubicBezTo>
                  <a:pt x="3725692" y="6410813"/>
                  <a:pt x="3669462" y="6354583"/>
                  <a:pt x="3600099" y="6354583"/>
                </a:cubicBezTo>
                <a:cubicBezTo>
                  <a:pt x="3530737" y="6354583"/>
                  <a:pt x="3474507" y="6410813"/>
                  <a:pt x="3474506" y="6480175"/>
                </a:cubicBezTo>
                <a:lnTo>
                  <a:pt x="3365682" y="6480175"/>
                </a:lnTo>
                <a:cubicBezTo>
                  <a:pt x="3365682" y="6410813"/>
                  <a:pt x="3309452" y="6354583"/>
                  <a:pt x="3240089" y="6354583"/>
                </a:cubicBezTo>
                <a:cubicBezTo>
                  <a:pt x="3170726" y="6354583"/>
                  <a:pt x="3114497" y="6410813"/>
                  <a:pt x="3114496" y="6480175"/>
                </a:cubicBezTo>
                <a:lnTo>
                  <a:pt x="3005672" y="6480175"/>
                </a:lnTo>
                <a:cubicBezTo>
                  <a:pt x="3005672" y="6410813"/>
                  <a:pt x="2949442" y="6354583"/>
                  <a:pt x="2880079" y="6354583"/>
                </a:cubicBezTo>
                <a:cubicBezTo>
                  <a:pt x="2810716" y="6354583"/>
                  <a:pt x="2754487" y="6410813"/>
                  <a:pt x="2754486" y="6480175"/>
                </a:cubicBezTo>
                <a:lnTo>
                  <a:pt x="2645662" y="6480175"/>
                </a:lnTo>
                <a:cubicBezTo>
                  <a:pt x="2645662" y="6410813"/>
                  <a:pt x="2589432" y="6354583"/>
                  <a:pt x="2520069" y="6354583"/>
                </a:cubicBezTo>
                <a:cubicBezTo>
                  <a:pt x="2450706" y="6354583"/>
                  <a:pt x="2394477" y="6410813"/>
                  <a:pt x="2394476" y="6480175"/>
                </a:cubicBezTo>
                <a:lnTo>
                  <a:pt x="2285652" y="6480175"/>
                </a:lnTo>
                <a:cubicBezTo>
                  <a:pt x="2285652" y="6410813"/>
                  <a:pt x="2229422" y="6354583"/>
                  <a:pt x="2160059" y="6354583"/>
                </a:cubicBezTo>
                <a:cubicBezTo>
                  <a:pt x="2090696" y="6354583"/>
                  <a:pt x="2034467" y="6410813"/>
                  <a:pt x="2034466" y="6480175"/>
                </a:cubicBezTo>
                <a:lnTo>
                  <a:pt x="1925642" y="6480175"/>
                </a:lnTo>
                <a:cubicBezTo>
                  <a:pt x="1925642" y="6410813"/>
                  <a:pt x="1869412" y="6354583"/>
                  <a:pt x="1800049" y="6354583"/>
                </a:cubicBezTo>
                <a:cubicBezTo>
                  <a:pt x="1730686" y="6354583"/>
                  <a:pt x="1674457" y="6410813"/>
                  <a:pt x="1674456" y="6480175"/>
                </a:cubicBezTo>
                <a:lnTo>
                  <a:pt x="1565632" y="6480175"/>
                </a:lnTo>
                <a:cubicBezTo>
                  <a:pt x="1565632" y="6410813"/>
                  <a:pt x="1509402" y="6354583"/>
                  <a:pt x="1440039" y="6354583"/>
                </a:cubicBezTo>
                <a:cubicBezTo>
                  <a:pt x="1370676" y="6354583"/>
                  <a:pt x="1314447" y="6410813"/>
                  <a:pt x="1314446" y="6480175"/>
                </a:cubicBezTo>
                <a:lnTo>
                  <a:pt x="1205622" y="6480175"/>
                </a:lnTo>
                <a:cubicBezTo>
                  <a:pt x="1205622" y="6410813"/>
                  <a:pt x="1149392" y="6354583"/>
                  <a:pt x="1080029" y="6354583"/>
                </a:cubicBezTo>
                <a:cubicBezTo>
                  <a:pt x="1010666" y="6354583"/>
                  <a:pt x="954437" y="6410813"/>
                  <a:pt x="954436" y="6480175"/>
                </a:cubicBezTo>
                <a:lnTo>
                  <a:pt x="845612" y="6480175"/>
                </a:lnTo>
                <a:cubicBezTo>
                  <a:pt x="845612" y="6410813"/>
                  <a:pt x="789382" y="6354583"/>
                  <a:pt x="720019" y="6354583"/>
                </a:cubicBezTo>
                <a:cubicBezTo>
                  <a:pt x="650656" y="6354583"/>
                  <a:pt x="594427" y="6410813"/>
                  <a:pt x="594426" y="6480175"/>
                </a:cubicBezTo>
                <a:lnTo>
                  <a:pt x="485602" y="6480175"/>
                </a:lnTo>
                <a:cubicBezTo>
                  <a:pt x="485602" y="6410813"/>
                  <a:pt x="429372" y="6354583"/>
                  <a:pt x="360009" y="6354583"/>
                </a:cubicBezTo>
                <a:cubicBezTo>
                  <a:pt x="290646" y="6354583"/>
                  <a:pt x="234417" y="6410813"/>
                  <a:pt x="234416" y="6480175"/>
                </a:cubicBezTo>
                <a:lnTo>
                  <a:pt x="125592" y="6480175"/>
                </a:lnTo>
                <a:cubicBezTo>
                  <a:pt x="125592" y="6410813"/>
                  <a:pt x="69362" y="6354584"/>
                  <a:pt x="0" y="6354583"/>
                </a:cubicBezTo>
                <a:lnTo>
                  <a:pt x="0" y="6245234"/>
                </a:lnTo>
                <a:cubicBezTo>
                  <a:pt x="69362" y="6245233"/>
                  <a:pt x="125591" y="6189004"/>
                  <a:pt x="125591" y="6119641"/>
                </a:cubicBezTo>
                <a:cubicBezTo>
                  <a:pt x="125591" y="6050279"/>
                  <a:pt x="69362" y="5994049"/>
                  <a:pt x="0" y="5994049"/>
                </a:cubicBezTo>
                <a:lnTo>
                  <a:pt x="0" y="5885224"/>
                </a:lnTo>
                <a:cubicBezTo>
                  <a:pt x="69362" y="5885223"/>
                  <a:pt x="125591" y="5828994"/>
                  <a:pt x="125591" y="5759631"/>
                </a:cubicBezTo>
                <a:cubicBezTo>
                  <a:pt x="125591" y="5690269"/>
                  <a:pt x="69362" y="5634039"/>
                  <a:pt x="0" y="5634039"/>
                </a:cubicBezTo>
                <a:lnTo>
                  <a:pt x="0" y="5525214"/>
                </a:lnTo>
                <a:cubicBezTo>
                  <a:pt x="69362" y="5525213"/>
                  <a:pt x="125591" y="5468984"/>
                  <a:pt x="125591" y="5399621"/>
                </a:cubicBezTo>
                <a:cubicBezTo>
                  <a:pt x="125591" y="5330259"/>
                  <a:pt x="69362" y="5274029"/>
                  <a:pt x="0" y="5274029"/>
                </a:cubicBezTo>
                <a:lnTo>
                  <a:pt x="0" y="5165204"/>
                </a:lnTo>
                <a:cubicBezTo>
                  <a:pt x="69362" y="5165203"/>
                  <a:pt x="125591" y="5108974"/>
                  <a:pt x="125591" y="5039611"/>
                </a:cubicBezTo>
                <a:cubicBezTo>
                  <a:pt x="125591" y="4970249"/>
                  <a:pt x="69362" y="4914019"/>
                  <a:pt x="0" y="4914019"/>
                </a:cubicBezTo>
                <a:lnTo>
                  <a:pt x="0" y="4805194"/>
                </a:lnTo>
                <a:cubicBezTo>
                  <a:pt x="69362" y="4805193"/>
                  <a:pt x="125591" y="4748964"/>
                  <a:pt x="125591" y="4679601"/>
                </a:cubicBezTo>
                <a:cubicBezTo>
                  <a:pt x="125591" y="4610239"/>
                  <a:pt x="69362" y="4554009"/>
                  <a:pt x="0" y="4554009"/>
                </a:cubicBezTo>
                <a:lnTo>
                  <a:pt x="0" y="4445184"/>
                </a:lnTo>
                <a:cubicBezTo>
                  <a:pt x="69362" y="4445183"/>
                  <a:pt x="125591" y="4388954"/>
                  <a:pt x="125591" y="4319591"/>
                </a:cubicBezTo>
                <a:cubicBezTo>
                  <a:pt x="125591" y="4250229"/>
                  <a:pt x="69362" y="4193999"/>
                  <a:pt x="0" y="4193999"/>
                </a:cubicBezTo>
                <a:lnTo>
                  <a:pt x="0" y="4085174"/>
                </a:lnTo>
                <a:cubicBezTo>
                  <a:pt x="69362" y="4085173"/>
                  <a:pt x="125591" y="4028944"/>
                  <a:pt x="125591" y="3959581"/>
                </a:cubicBezTo>
                <a:cubicBezTo>
                  <a:pt x="125591" y="3890219"/>
                  <a:pt x="69362" y="3833989"/>
                  <a:pt x="0" y="3833989"/>
                </a:cubicBezTo>
                <a:lnTo>
                  <a:pt x="0" y="3725164"/>
                </a:lnTo>
                <a:cubicBezTo>
                  <a:pt x="69362" y="3725163"/>
                  <a:pt x="125591" y="3668934"/>
                  <a:pt x="125591" y="3599571"/>
                </a:cubicBezTo>
                <a:cubicBezTo>
                  <a:pt x="125591" y="3530209"/>
                  <a:pt x="69362" y="3473979"/>
                  <a:pt x="0" y="3473979"/>
                </a:cubicBezTo>
                <a:lnTo>
                  <a:pt x="0" y="3365154"/>
                </a:lnTo>
                <a:cubicBezTo>
                  <a:pt x="69362" y="3365153"/>
                  <a:pt x="125591" y="3308923"/>
                  <a:pt x="125591" y="3239561"/>
                </a:cubicBezTo>
                <a:cubicBezTo>
                  <a:pt x="125591" y="3170199"/>
                  <a:pt x="69362" y="3113969"/>
                  <a:pt x="0" y="3113968"/>
                </a:cubicBezTo>
                <a:lnTo>
                  <a:pt x="0" y="3005144"/>
                </a:lnTo>
                <a:cubicBezTo>
                  <a:pt x="69362" y="3005143"/>
                  <a:pt x="125591" y="2948913"/>
                  <a:pt x="125591" y="2879551"/>
                </a:cubicBezTo>
                <a:cubicBezTo>
                  <a:pt x="125591" y="2810189"/>
                  <a:pt x="69362" y="2753959"/>
                  <a:pt x="0" y="2753959"/>
                </a:cubicBezTo>
                <a:lnTo>
                  <a:pt x="0" y="2645134"/>
                </a:lnTo>
                <a:cubicBezTo>
                  <a:pt x="69362" y="2645133"/>
                  <a:pt x="125591" y="2588903"/>
                  <a:pt x="125591" y="2519541"/>
                </a:cubicBezTo>
                <a:cubicBezTo>
                  <a:pt x="125591" y="2450179"/>
                  <a:pt x="69362" y="2393949"/>
                  <a:pt x="0" y="2393948"/>
                </a:cubicBezTo>
                <a:lnTo>
                  <a:pt x="0" y="2285124"/>
                </a:lnTo>
                <a:cubicBezTo>
                  <a:pt x="69362" y="2285123"/>
                  <a:pt x="125591" y="2228893"/>
                  <a:pt x="125591" y="2159531"/>
                </a:cubicBezTo>
                <a:cubicBezTo>
                  <a:pt x="125591" y="2090169"/>
                  <a:pt x="69362" y="2033939"/>
                  <a:pt x="0" y="2033939"/>
                </a:cubicBezTo>
                <a:lnTo>
                  <a:pt x="0" y="1925114"/>
                </a:lnTo>
                <a:cubicBezTo>
                  <a:pt x="69362" y="1925113"/>
                  <a:pt x="125591" y="1868883"/>
                  <a:pt x="125591" y="1799521"/>
                </a:cubicBezTo>
                <a:cubicBezTo>
                  <a:pt x="125591" y="1730159"/>
                  <a:pt x="69362" y="1673929"/>
                  <a:pt x="0" y="1673929"/>
                </a:cubicBezTo>
                <a:lnTo>
                  <a:pt x="0" y="1565104"/>
                </a:lnTo>
                <a:cubicBezTo>
                  <a:pt x="69362" y="1565103"/>
                  <a:pt x="125591" y="1508873"/>
                  <a:pt x="125591" y="1439511"/>
                </a:cubicBezTo>
                <a:cubicBezTo>
                  <a:pt x="125591" y="1370149"/>
                  <a:pt x="69362" y="1313919"/>
                  <a:pt x="0" y="1313918"/>
                </a:cubicBezTo>
                <a:lnTo>
                  <a:pt x="0" y="1205094"/>
                </a:lnTo>
                <a:cubicBezTo>
                  <a:pt x="69362" y="1205093"/>
                  <a:pt x="125591" y="1148863"/>
                  <a:pt x="125591" y="1079501"/>
                </a:cubicBezTo>
                <a:cubicBezTo>
                  <a:pt x="125591" y="1010139"/>
                  <a:pt x="69362" y="953909"/>
                  <a:pt x="0" y="953908"/>
                </a:cubicBezTo>
                <a:lnTo>
                  <a:pt x="0" y="845084"/>
                </a:lnTo>
                <a:cubicBezTo>
                  <a:pt x="69362" y="845083"/>
                  <a:pt x="125591" y="788853"/>
                  <a:pt x="125591" y="719491"/>
                </a:cubicBezTo>
                <a:cubicBezTo>
                  <a:pt x="125591" y="650129"/>
                  <a:pt x="69362" y="593899"/>
                  <a:pt x="0" y="593898"/>
                </a:cubicBezTo>
                <a:lnTo>
                  <a:pt x="0" y="485074"/>
                </a:lnTo>
                <a:cubicBezTo>
                  <a:pt x="69362" y="485073"/>
                  <a:pt x="125591" y="428843"/>
                  <a:pt x="125591" y="359481"/>
                </a:cubicBezTo>
                <a:cubicBezTo>
                  <a:pt x="125591" y="290119"/>
                  <a:pt x="69362" y="233889"/>
                  <a:pt x="0" y="233888"/>
                </a:cubicBezTo>
                <a:lnTo>
                  <a:pt x="0" y="125594"/>
                </a:lnTo>
                <a:cubicBezTo>
                  <a:pt x="69363" y="125593"/>
                  <a:pt x="125592" y="69364"/>
                  <a:pt x="125592" y="1"/>
                </a:cubicBezTo>
                <a:cubicBezTo>
                  <a:pt x="125592" y="1"/>
                  <a:pt x="125592" y="0"/>
                  <a:pt x="125592" y="0"/>
                </a:cubicBez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ndara"/>
                <a:ea typeface="微软雅黑"/>
              </a:rPr>
              <a:t>文字</a:t>
            </a:r>
            <a:endParaRPr b="0" lang="en-US" sz="2400" spc="-1" strike="noStrike">
              <a:solidFill>
                <a:srgbClr val="000000"/>
              </a:solidFill>
              <a:latin typeface="Arial"/>
            </a:endParaRPr>
          </a:p>
        </p:txBody>
      </p:sp>
      <p:sp>
        <p:nvSpPr>
          <p:cNvPr id="112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24" name="矩形 3"/>
          <p:cNvSpPr/>
          <p:nvPr/>
        </p:nvSpPr>
        <p:spPr>
          <a:xfrm>
            <a:off x="68245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5" name="矩形 3"/>
          <p:cNvSpPr/>
          <p:nvPr/>
        </p:nvSpPr>
        <p:spPr>
          <a:xfrm>
            <a:off x="89899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6" name="矩形 3"/>
          <p:cNvSpPr/>
          <p:nvPr/>
        </p:nvSpPr>
        <p:spPr>
          <a:xfrm>
            <a:off x="4681440" y="43138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cxnSp>
        <p:nvCxnSpPr>
          <p:cNvPr id="1127" name="肘形连接符 20"/>
          <p:cNvCxnSpPr>
            <a:stCxn id="1120" idx="2"/>
            <a:endCxn id="1117" idx="0"/>
          </p:cNvCxnSpPr>
          <p:nvPr/>
        </p:nvCxnSpPr>
        <p:spPr>
          <a:xfrm flipV="1" rot="10800000">
            <a:off x="5400360" y="3240000"/>
            <a:ext cx="2160360" cy="1079640"/>
          </a:xfrm>
          <a:prstGeom prst="bentConnector2">
            <a:avLst/>
          </a:prstGeom>
          <a:ln w="12700">
            <a:solidFill>
              <a:srgbClr val="000000">
                <a:lumMod val="75000"/>
                <a:lumOff val="25000"/>
              </a:srgbClr>
            </a:solidFill>
            <a:prstDash val="dash"/>
            <a:round/>
            <a:tailEnd len="lg" type="triangle" w="lg"/>
          </a:ln>
        </p:spPr>
      </p:cxnSp>
      <p:cxnSp>
        <p:nvCxnSpPr>
          <p:cNvPr id="1128" name="肘形连接符 23"/>
          <p:cNvCxnSpPr>
            <a:stCxn id="1120" idx="2"/>
            <a:endCxn id="1118" idx="0"/>
          </p:cNvCxnSpPr>
          <p:nvPr/>
        </p:nvCxnSpPr>
        <p:spPr>
          <a:xfrm rot="16200000">
            <a:off x="7020720" y="3779640"/>
            <a:ext cx="1079640" cy="360"/>
          </a:xfrm>
          <a:prstGeom prst="bentConnector2">
            <a:avLst/>
          </a:prstGeom>
          <a:ln w="12700">
            <a:solidFill>
              <a:srgbClr val="000000">
                <a:lumMod val="75000"/>
                <a:lumOff val="25000"/>
              </a:srgbClr>
            </a:solidFill>
            <a:prstDash val="dash"/>
            <a:round/>
            <a:tailEnd len="lg" type="triangle" w="lg"/>
          </a:ln>
        </p:spPr>
      </p:cxnSp>
      <p:cxnSp>
        <p:nvCxnSpPr>
          <p:cNvPr id="1129" name="肘形连接符 28"/>
          <p:cNvCxnSpPr>
            <a:stCxn id="1120" idx="2"/>
            <a:endCxn id="1119" idx="0"/>
          </p:cNvCxnSpPr>
          <p:nvPr/>
        </p:nvCxnSpPr>
        <p:spPr>
          <a:xfrm>
            <a:off x="7560360" y="3240000"/>
            <a:ext cx="2160720" cy="1085040"/>
          </a:xfrm>
          <a:prstGeom prst="bentConnector2">
            <a:avLst/>
          </a:prstGeom>
          <a:ln w="12700">
            <a:solidFill>
              <a:srgbClr val="000000">
                <a:lumMod val="75000"/>
                <a:lumOff val="25000"/>
              </a:srgbClr>
            </a:solidFill>
            <a:prstDash val="dash"/>
            <a:round/>
            <a:tailEnd len="lg" type="triangle" w="lg"/>
          </a:ln>
        </p:spPr>
      </p:cxnSp>
    </p:spTree>
  </p:cSld>
  <mc:AlternateContent>
    <mc:Choice Requires="p14">
      <p:transition spd="slow" advTm="2000" p14:dur="2000"/>
    </mc:Choice>
    <mc:Fallback>
      <p:transition spd="slow" advTm="200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advTm="2000" p14:dur="2000"/>
    </mc:Choice>
    <mc:Fallback>
      <p:transition spd="slow" advTm="2000"/>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883520" y="178560"/>
            <a:ext cx="7754760" cy="542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使用规范说明</a:t>
            </a:r>
            <a:endParaRPr b="0" lang="en-US" sz="4400" spc="-1" strike="noStrike">
              <a:solidFill>
                <a:srgbClr val="000000"/>
              </a:solidFill>
              <a:latin typeface="Candara"/>
            </a:endParaRPr>
          </a:p>
        </p:txBody>
      </p:sp>
      <p:sp>
        <p:nvSpPr>
          <p:cNvPr id="1131" name="PlaceHolder 2"/>
          <p:cNvSpPr>
            <a:spLocks noGrp="1"/>
          </p:cNvSpPr>
          <p:nvPr>
            <p:ph/>
          </p:nvPr>
        </p:nvSpPr>
        <p:spPr>
          <a:xfrm>
            <a:off x="1542960" y="1199880"/>
            <a:ext cx="8435880" cy="4931640"/>
          </a:xfrm>
          <a:prstGeom prst="rect">
            <a:avLst/>
          </a:prstGeom>
          <a:noFill/>
          <a:ln w="0">
            <a:noFill/>
          </a:ln>
        </p:spPr>
        <p:txBody>
          <a:bodyPr anchor="t">
            <a:noAutofit/>
          </a:bodyPr>
          <a:p>
            <a:pPr indent="0">
              <a:lnSpc>
                <a:spcPct val="90000"/>
              </a:lnSpc>
              <a:spcAft>
                <a:spcPts val="601"/>
              </a:spcAft>
              <a:buNone/>
              <a:tabLst>
                <a:tab algn="l" pos="0"/>
              </a:tabLst>
            </a:pPr>
            <a:r>
              <a:rPr b="1" lang="zh-CN" sz="1320" spc="-1" strike="noStrike">
                <a:solidFill>
                  <a:srgbClr val="ededed"/>
                </a:solidFill>
                <a:latin typeface="Candara"/>
                <a:ea typeface="微软雅黑"/>
              </a:rPr>
              <a:t>站点介绍：</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320" spc="-1" strike="noStrike">
              <a:solidFill>
                <a:srgbClr val="404040"/>
              </a:solidFill>
              <a:latin typeface="Candara"/>
            </a:endParaRPr>
          </a:p>
          <a:p>
            <a:pPr indent="0">
              <a:lnSpc>
                <a:spcPct val="90000"/>
              </a:lnSpc>
              <a:spcAft>
                <a:spcPts val="601"/>
              </a:spcAft>
              <a:buNone/>
              <a:tabLst>
                <a:tab algn="l" pos="0"/>
              </a:tabLst>
            </a:pP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下载网站</a:t>
            </a:r>
            <a:r>
              <a:rPr b="1" lang="en-US" sz="1320" spc="-1" strike="noStrike">
                <a:solidFill>
                  <a:srgbClr val="e8eff7"/>
                </a:solidFill>
                <a:latin typeface="Candara"/>
                <a:ea typeface="微软雅黑"/>
              </a:rPr>
              <a:t>www.eeppt.com</a:t>
            </a:r>
            <a:r>
              <a:rPr b="1" lang="zh-CN" sz="1320" spc="-1" strike="noStrike">
                <a:solidFill>
                  <a:srgbClr val="ededed"/>
                </a:solidFill>
                <a:latin typeface="Candara"/>
                <a:ea typeface="微软雅黑"/>
              </a:rPr>
              <a:t>为您提供免费</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下载，有好看的</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背景图片，</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素材，</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图表，动态</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大全，幻灯片模板，</a:t>
            </a:r>
            <a:r>
              <a:rPr b="1" lang="en-US" sz="1320" spc="-1" strike="noStrike">
                <a:solidFill>
                  <a:srgbClr val="ededed"/>
                </a:solidFill>
                <a:latin typeface="Candara"/>
                <a:ea typeface="微软雅黑"/>
              </a:rPr>
              <a:t>Powe</a:t>
            </a:r>
            <a:r>
              <a:rPr b="1" lang="en-US" sz="1320" spc="-1" strike="noStrike">
                <a:solidFill>
                  <a:srgbClr val="e8eff7"/>
                </a:solidFill>
                <a:latin typeface="Candara"/>
                <a:ea typeface="微软雅黑"/>
              </a:rPr>
              <a:t>rPoint</a:t>
            </a:r>
            <a:r>
              <a:rPr b="1" lang="zh-CN" sz="1320" spc="-1" strike="noStrike">
                <a:solidFill>
                  <a:srgbClr val="e8eff7"/>
                </a:solidFill>
                <a:latin typeface="Candara"/>
                <a:ea typeface="微软雅黑"/>
              </a:rPr>
              <a:t>模板等各类</a:t>
            </a:r>
            <a:r>
              <a:rPr b="1" lang="en-US" sz="1320" spc="-1" strike="noStrike">
                <a:solidFill>
                  <a:srgbClr val="e8eff7"/>
                </a:solidFill>
                <a:latin typeface="Candara"/>
                <a:ea typeface="微软雅黑"/>
              </a:rPr>
              <a:t>ppt</a:t>
            </a:r>
            <a:r>
              <a:rPr b="1" lang="zh-CN" sz="1320" spc="-1" strike="noStrike">
                <a:solidFill>
                  <a:srgbClr val="e8eff7"/>
                </a:solidFill>
                <a:latin typeface="Candara"/>
                <a:ea typeface="微软雅黑"/>
              </a:rPr>
              <a:t>模板免费下载。助您轻松制作出精美</a:t>
            </a:r>
            <a:r>
              <a:rPr b="1" lang="en-US" sz="1320" spc="-1" strike="noStrike">
                <a:solidFill>
                  <a:srgbClr val="e8eff7"/>
                </a:solidFill>
                <a:latin typeface="Candara"/>
                <a:ea typeface="微软雅黑"/>
              </a:rPr>
              <a:t>PPT</a:t>
            </a:r>
            <a:r>
              <a:rPr b="1" lang="zh-CN" sz="1320" spc="-1" strike="noStrike">
                <a:solidFill>
                  <a:srgbClr val="e8eff7"/>
                </a:solidFill>
                <a:latin typeface="Candara"/>
                <a:ea typeface="微软雅黑"/>
              </a:rPr>
              <a:t>模板！</a:t>
            </a:r>
            <a:r>
              <a:rPr b="1" lang="zh-CN" sz="1320" spc="-1" strike="noStrike">
                <a:solidFill>
                  <a:srgbClr val="ededed"/>
                </a:solidFill>
                <a:latin typeface="Candara"/>
                <a:ea typeface="微软雅黑"/>
              </a:rPr>
              <a:t>最新更新</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 </a:t>
            </a:r>
            <a:r>
              <a:rPr b="1" lang="en-US" sz="1320" spc="-1" strike="noStrike" u="sng">
                <a:solidFill>
                  <a:srgbClr val="d0007b"/>
                </a:solidFill>
                <a:uFillTx/>
                <a:latin typeface="Candara"/>
                <a:ea typeface="微软雅黑"/>
                <a:hlinkClick r:id="rId1"/>
              </a:rPr>
              <a:t>http://</a:t>
            </a:r>
            <a:r>
              <a:rPr b="1" lang="en-US" sz="1320" spc="-1" strike="noStrike" u="sng">
                <a:solidFill>
                  <a:srgbClr val="d0007b"/>
                </a:solidFill>
                <a:uFillTx/>
                <a:latin typeface="Candara"/>
                <a:ea typeface="微软雅黑"/>
                <a:hlinkClick r:id="rId2"/>
              </a:rPr>
              <a:t>www.eeppt.com/new.html</a:t>
            </a:r>
            <a:r>
              <a:rPr b="1" lang="en-US" sz="1320" spc="-1" strike="noStrike">
                <a:solidFill>
                  <a:srgbClr val="ededed"/>
                </a:solidFill>
                <a:latin typeface="Candara"/>
                <a:ea typeface="微软雅黑"/>
              </a:rPr>
              <a:t> </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r>
              <a:rPr b="1" lang="zh-CN" sz="1320" spc="-1" strike="noStrike">
                <a:solidFill>
                  <a:srgbClr val="ededed"/>
                </a:solidFill>
                <a:latin typeface="Candara"/>
                <a:ea typeface="微软雅黑"/>
              </a:rPr>
              <a:t>特别说明：</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130" spc="-1" strike="noStrike">
              <a:solidFill>
                <a:srgbClr val="404040"/>
              </a:solidFill>
              <a:latin typeface="Candara"/>
            </a:endParaRPr>
          </a:p>
          <a:p>
            <a:pPr indent="0">
              <a:lnSpc>
                <a:spcPct val="90000"/>
              </a:lnSpc>
              <a:spcAft>
                <a:spcPts val="601"/>
              </a:spcAft>
              <a:buNone/>
              <a:tabLst>
                <a:tab algn="l" pos="0"/>
              </a:tabLst>
            </a:pPr>
            <a:r>
              <a:rPr b="1" lang="zh-CN" sz="1320" spc="-1" strike="noStrike">
                <a:solidFill>
                  <a:srgbClr val="ededed"/>
                </a:solidFill>
                <a:latin typeface="Candara"/>
                <a:ea typeface="微软雅黑"/>
              </a:rPr>
              <a:t>该</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收集于网络，仅供学习与参考，请勿用于商业用途。否则产生的一切后果将由您自己承担！如有侵犯您的版权，请及时与我们联系。</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Bef>
                <a:spcPts val="264"/>
              </a:spcBef>
              <a:spcAft>
                <a:spcPts val="601"/>
              </a:spcAft>
              <a:buNone/>
              <a:tabLst>
                <a:tab algn="l" pos="0"/>
              </a:tabLst>
            </a:pPr>
            <a:r>
              <a:rPr b="1" lang="zh-CN" sz="1320" spc="-1" strike="noStrike">
                <a:solidFill>
                  <a:srgbClr val="ededed"/>
                </a:solidFill>
                <a:latin typeface="Candara"/>
                <a:ea typeface="微软雅黑"/>
              </a:rPr>
              <a:t>栏目推荐：</a:t>
            </a:r>
            <a:endParaRPr b="0" lang="en-US" sz="132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3"/>
              </a:rPr>
              <a:t>好看的ppt背景图片</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beijing/         </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             </a:t>
            </a:r>
            <a:r>
              <a:rPr b="1" lang="zh-CN" sz="1130" spc="-1" strike="noStrike" u="sng">
                <a:solidFill>
                  <a:srgbClr val="d0007b"/>
                </a:solidFill>
                <a:uFillTx/>
                <a:latin typeface="Candara"/>
                <a:ea typeface="微软雅黑"/>
                <a:hlinkClick r:id="rId4"/>
              </a:rPr>
              <a:t>动态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dongta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en-US" sz="1130" spc="-1" strike="noStrike" u="sng">
                <a:solidFill>
                  <a:srgbClr val="d0007b"/>
                </a:solidFill>
                <a:uFillTx/>
                <a:latin typeface="Candara"/>
                <a:ea typeface="微软雅黑"/>
                <a:hlinkClick r:id="rId5"/>
              </a:rPr>
              <a:t>ppt模板下载 免费完整版</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           </a:t>
            </a:r>
            <a:r>
              <a:rPr b="1" lang="en-US" sz="1130" spc="-1" strike="noStrike" u="sng">
                <a:solidFill>
                  <a:srgbClr val="d0007b"/>
                </a:solidFill>
                <a:uFillTx/>
                <a:latin typeface="Candara"/>
                <a:ea typeface="微软雅黑"/>
                <a:hlinkClick r:id="rId6"/>
              </a:rPr>
              <a:t> 毕业设计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chuangy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7"/>
              </a:rPr>
              <a:t>答辩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dabian/            </a:t>
            </a:r>
            <a:r>
              <a:rPr b="1" lang="zh-CN" sz="1130" spc="-1" strike="noStrike" u="sng">
                <a:solidFill>
                  <a:srgbClr val="d0007b"/>
                </a:solidFill>
                <a:uFillTx/>
                <a:latin typeface="Candara"/>
                <a:ea typeface="微软雅黑"/>
                <a:hlinkClick r:id="rId8"/>
              </a:rPr>
              <a:t>月总结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gongzuo/</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9"/>
              </a:rPr>
              <a:t>精美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ngpin/            </a:t>
            </a:r>
            <a:r>
              <a:rPr b="1" lang="zh-CN" sz="1130" spc="-1" strike="noStrike" u="sng">
                <a:solidFill>
                  <a:srgbClr val="d0007b"/>
                </a:solidFill>
                <a:uFillTx/>
                <a:latin typeface="Candara"/>
                <a:ea typeface="微软雅黑"/>
                <a:hlinkClick r:id="rId10"/>
              </a:rPr>
              <a:t>说课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kejian/</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1"/>
              </a:rPr>
              <a:t>企业介绍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qiye/                 </a:t>
            </a:r>
            <a:r>
              <a:rPr b="1" lang="zh-CN" sz="1130" spc="-1" strike="noStrike" u="sng">
                <a:solidFill>
                  <a:srgbClr val="d0007b"/>
                </a:solidFill>
                <a:uFillTx/>
                <a:latin typeface="Candara"/>
                <a:ea typeface="微软雅黑"/>
                <a:hlinkClick r:id="rId12"/>
              </a:rPr>
              <a:t>商务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shangwu/</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3"/>
              </a:rPr>
              <a:t>市场营销策划ppt</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yingxiao/           </a:t>
            </a:r>
            <a:r>
              <a:rPr b="1" lang="en-US" sz="1130" spc="-1" strike="noStrike" u="sng">
                <a:solidFill>
                  <a:srgbClr val="d0007b"/>
                </a:solidFill>
                <a:uFillTx/>
                <a:latin typeface="Candara"/>
                <a:ea typeface="微软雅黑"/>
                <a:hlinkClick r:id="rId14"/>
              </a:rPr>
              <a:t>ppt素材图片</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suca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en-US" sz="1130" spc="-1" strike="noStrike" u="sng">
                <a:solidFill>
                  <a:srgbClr val="d0007b"/>
                </a:solidFill>
                <a:uFillTx/>
                <a:latin typeface="Candara"/>
                <a:ea typeface="微软雅黑"/>
                <a:hlinkClick r:id="rId15"/>
              </a:rPr>
              <a:t>ppt图表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tubiao/                                    </a:t>
            </a:r>
            <a:r>
              <a:rPr b="1" lang="zh-CN" sz="1130" spc="-1" strike="noStrike" u="sng">
                <a:solidFill>
                  <a:srgbClr val="d0007b"/>
                </a:solidFill>
                <a:uFillTx/>
                <a:latin typeface="Candara"/>
                <a:ea typeface="微软雅黑"/>
                <a:hlinkClick r:id="rId16"/>
              </a:rPr>
              <a:t>自然风景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fengjing/</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7"/>
              </a:rPr>
              <a:t>国外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guowai/            </a:t>
            </a:r>
            <a:r>
              <a:rPr b="1" lang="zh-CN" sz="1130" spc="-1" strike="noStrike" u="sng">
                <a:solidFill>
                  <a:srgbClr val="d0007b"/>
                </a:solidFill>
                <a:uFillTx/>
                <a:latin typeface="Candara"/>
                <a:ea typeface="微软雅黑"/>
                <a:hlinkClick r:id="rId18"/>
              </a:rPr>
              <a:t>简洁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anjie/</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9"/>
              </a:rPr>
              <a:t>公司会议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huiyi/                </a:t>
            </a:r>
            <a:r>
              <a:rPr b="1" lang="zh-CN" sz="1130" spc="-1" strike="noStrike" u="sng">
                <a:solidFill>
                  <a:srgbClr val="d0007b"/>
                </a:solidFill>
                <a:uFillTx/>
                <a:latin typeface="Candara"/>
                <a:ea typeface="微软雅黑"/>
                <a:hlinkClick r:id="rId20"/>
              </a:rPr>
              <a:t>教育教学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aoyu/</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21"/>
              </a:rPr>
              <a:t>网络科技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keji/                  </a:t>
            </a:r>
            <a:r>
              <a:rPr b="1" lang="zh-CN" sz="1130" spc="-1" strike="noStrike" u="sng">
                <a:solidFill>
                  <a:srgbClr val="d0007b"/>
                </a:solidFill>
                <a:uFillTx/>
                <a:latin typeface="Candara"/>
                <a:ea typeface="微软雅黑"/>
                <a:hlinkClick r:id="rId22"/>
              </a:rPr>
              <a:t>论文答辩ppt模板免费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lunwen/</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23"/>
              </a:rPr>
              <a:t>通用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tongyong/                 </a:t>
            </a:r>
            <a:r>
              <a:rPr b="1" lang="zh-CN" sz="1130" spc="-1" strike="noStrike" u="sng">
                <a:solidFill>
                  <a:srgbClr val="d0007b"/>
                </a:solidFill>
                <a:uFillTx/>
                <a:latin typeface="Candara"/>
                <a:ea typeface="微软雅黑"/>
                <a:hlinkClick r:id="rId24"/>
              </a:rPr>
              <a:t>医疗卫生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yiliao/</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p:txBody>
      </p:sp>
      <p:sp>
        <p:nvSpPr>
          <p:cNvPr id="1132" name="Rectangle 7"/>
          <p:cNvSpPr/>
          <p:nvPr/>
        </p:nvSpPr>
        <p:spPr>
          <a:xfrm>
            <a:off x="8326080" y="315000"/>
            <a:ext cx="1312200" cy="32976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320" spc="-1" strike="noStrike">
                <a:solidFill>
                  <a:srgbClr val="000000"/>
                </a:solidFill>
                <a:latin typeface="Arial"/>
                <a:ea typeface="宋体"/>
              </a:rPr>
              <a:t>www.eeppt.com</a:t>
            </a:r>
            <a:endParaRPr b="0" lang="en-US" sz="132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目录</a:t>
            </a:r>
            <a:endParaRPr b="0" lang="en-US" sz="4400" spc="-1" strike="noStrike">
              <a:solidFill>
                <a:srgbClr val="000000"/>
              </a:solidFill>
              <a:latin typeface="Candara"/>
            </a:endParaRPr>
          </a:p>
        </p:txBody>
      </p:sp>
      <p:sp>
        <p:nvSpPr>
          <p:cNvPr id="1088" name="TextBox 3"/>
          <p:cNvSpPr/>
          <p:nvPr/>
        </p:nvSpPr>
        <p:spPr>
          <a:xfrm>
            <a:off x="4938840" y="1800360"/>
            <a:ext cx="1644120" cy="3747240"/>
          </a:xfrm>
          <a:prstGeom prst="rect">
            <a:avLst/>
          </a:prstGeom>
          <a:noFill/>
          <a:ln w="0">
            <a:noFill/>
          </a:ln>
        </p:spPr>
        <p:style>
          <a:lnRef idx="0"/>
          <a:fillRef idx="0"/>
          <a:effectRef idx="0"/>
          <a:fontRef idx="minor"/>
        </p:style>
        <p:txBody>
          <a:bodyPr wrap="none" lIns="90000" rIns="90000" tIns="45000" bIns="45000" anchor="t">
            <a:spAutoFit/>
          </a:bodyPr>
          <a:p>
            <a:pPr>
              <a:lnSpc>
                <a:spcPct val="200000"/>
              </a:lnSpc>
            </a:pPr>
            <a:r>
              <a:rPr b="1" lang="zh-CN" sz="2400" spc="-1" strike="noStrike">
                <a:solidFill>
                  <a:srgbClr val="262626"/>
                </a:solidFill>
                <a:latin typeface="Candara"/>
                <a:ea typeface="微软雅黑"/>
              </a:rPr>
              <a:t>一、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二、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三、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四、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五、文字文字文字</a:t>
            </a:r>
            <a:endParaRPr b="0" lang="en-US" sz="24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0" name="PlaceHolder 2"/>
          <p:cNvSpPr>
            <a:spLocks noGrp="1"/>
          </p:cNvSpPr>
          <p:nvPr>
            <p:ph/>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a:t>
            </a:r>
            <a:endParaRPr b="0" lang="en-US" sz="2000" spc="-1" strike="noStrike">
              <a:solidFill>
                <a:srgbClr val="404040"/>
              </a:solidFill>
              <a:latin typeface="Candara"/>
            </a:endParaRPr>
          </a:p>
        </p:txBody>
      </p:sp>
    </p:spTree>
  </p:cSld>
  <mc:AlternateContent>
    <mc:Choice Requires="p14">
      <p:transition spd="slow" advTm="2000" p14:dur="2000"/>
    </mc:Choice>
    <mc:Fallback>
      <p:transition spd="slow" advTm="200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2" name="PlaceHolder 2"/>
          <p:cNvSpPr>
            <a:spLocks noGrp="1"/>
          </p:cNvSpPr>
          <p:nvPr>
            <p:ph/>
          </p:nvPr>
        </p:nvSpPr>
        <p:spPr>
          <a:xfrm>
            <a:off x="360360" y="1440000"/>
            <a:ext cx="323964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p:txBody>
      </p:sp>
      <p:sp>
        <p:nvSpPr>
          <p:cNvPr id="1093" name="内容占位符 2"/>
          <p:cNvSpPr/>
          <p:nvPr/>
        </p:nvSpPr>
        <p:spPr>
          <a:xfrm>
            <a:off x="414108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094" name="内容占位符 2"/>
          <p:cNvSpPr/>
          <p:nvPr/>
        </p:nvSpPr>
        <p:spPr>
          <a:xfrm>
            <a:off x="792180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柱形图</a:t>
            </a:r>
            <a:endParaRPr b="0" lang="en-US" sz="4400" spc="-1" strike="noStrike">
              <a:solidFill>
                <a:srgbClr val="000000"/>
              </a:solidFill>
              <a:latin typeface="Candara"/>
            </a:endParaRPr>
          </a:p>
        </p:txBody>
      </p:sp>
      <p:graphicFrame>
        <p:nvGraphicFramePr>
          <p:cNvPr id="1096" name="内容占位符 3"/>
          <p:cNvGraphicFramePr/>
          <p:nvPr/>
        </p:nvGraphicFramePr>
        <p:xfrm>
          <a:off x="3960720" y="1440000"/>
          <a:ext cx="7200360" cy="4679640"/>
        </p:xfrm>
        <a:graphic>
          <a:graphicData uri="http://schemas.openxmlformats.org/drawingml/2006/chart">
            <c:chart xmlns:c="http://schemas.openxmlformats.org/drawingml/2006/chart" xmlns:r="http://schemas.openxmlformats.org/officeDocument/2006/relationships" r:id="rId1"/>
          </a:graphicData>
        </a:graphic>
      </p:graphicFrame>
      <p:sp>
        <p:nvSpPr>
          <p:cNvPr id="1097"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饼图</a:t>
            </a:r>
            <a:endParaRPr b="0" lang="en-US" sz="4400" spc="-1" strike="noStrike">
              <a:solidFill>
                <a:srgbClr val="000000"/>
              </a:solidFill>
              <a:latin typeface="Candara"/>
            </a:endParaRPr>
          </a:p>
        </p:txBody>
      </p:sp>
      <p:sp>
        <p:nvSpPr>
          <p:cNvPr id="109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graphicFrame>
        <p:nvGraphicFramePr>
          <p:cNvPr id="1100" name="内容占位符 5"/>
          <p:cNvGraphicFramePr/>
          <p:nvPr/>
        </p:nvGraphicFramePr>
        <p:xfrm>
          <a:off x="3960720" y="1440000"/>
          <a:ext cx="7200720" cy="46796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advTm="2000" p14:dur="2000"/>
    </mc:Choice>
    <mc:Fallback>
      <p:transition spd="slow" advTm="2000"/>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2"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04" name="TextBox 3"/>
          <p:cNvSpPr/>
          <p:nvPr/>
        </p:nvSpPr>
        <p:spPr>
          <a:xfrm>
            <a:off x="9162000" y="3591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05" name="矩形 5">
            <a:hlinkClick r:id="rId1"/>
          </p:cNvPr>
          <p:cNvSpPr/>
          <p:nvPr/>
        </p:nvSpPr>
        <p:spPr>
          <a:xfrm>
            <a:off x="0" y="0"/>
            <a:ext cx="11521800" cy="6479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06" name="Text Box 4"/>
          <p:cNvSpPr/>
          <p:nvPr/>
        </p:nvSpPr>
        <p:spPr>
          <a:xfrm>
            <a:off x="353880" y="578484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d0007b"/>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8"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形状可更改填充内容，可改为其他图片填充，或颜色、纹理等等。</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全张</a:t>
            </a:r>
            <a:endParaRPr b="0" lang="en-US" sz="4400" spc="-1" strike="noStrike">
              <a:solidFill>
                <a:srgbClr val="000000"/>
              </a:solidFill>
              <a:latin typeface="Candara"/>
            </a:endParaRPr>
          </a:p>
        </p:txBody>
      </p:sp>
      <p:sp>
        <p:nvSpPr>
          <p:cNvPr id="1111" name="矩形 206"/>
          <p:cNvSpPr/>
          <p:nvPr/>
        </p:nvSpPr>
        <p:spPr>
          <a:xfrm>
            <a:off x="3960720" y="1444320"/>
            <a:ext cx="7199640" cy="4679640"/>
          </a:xfrm>
          <a:custGeom>
            <a:avLst/>
            <a:gdLst>
              <a:gd name="textAreaLeft" fmla="*/ 0 w 7199640"/>
              <a:gd name="textAreaRight" fmla="*/ 7200000 w 7199640"/>
              <a:gd name="textAreaTop" fmla="*/ 0 h 4679640"/>
              <a:gd name="textAreaBottom" fmla="*/ 4680000 h 4679640"/>
            </a:gdLst>
            <a:ahLst/>
            <a:rect l="textAreaLeft" t="textAreaTop" r="textAreaRight" b="textAreaBottom"/>
            <a:pathLst>
              <a:path w="7200000" h="4680000">
                <a:moveTo>
                  <a:pt x="5699016" y="3868474"/>
                </a:moveTo>
                <a:cubicBezTo>
                  <a:pt x="5673742" y="3868474"/>
                  <a:pt x="5653253" y="3888963"/>
                  <a:pt x="5653253" y="3914237"/>
                </a:cubicBezTo>
                <a:cubicBezTo>
                  <a:pt x="5653253" y="3939511"/>
                  <a:pt x="5673742" y="3960000"/>
                  <a:pt x="5699016" y="3960000"/>
                </a:cubicBezTo>
                <a:cubicBezTo>
                  <a:pt x="5724290" y="3960000"/>
                  <a:pt x="5744779" y="3939511"/>
                  <a:pt x="5744779" y="3914237"/>
                </a:cubicBezTo>
                <a:cubicBezTo>
                  <a:pt x="5744779" y="3888963"/>
                  <a:pt x="5724290" y="3868474"/>
                  <a:pt x="5699016" y="3868474"/>
                </a:cubicBezTo>
                <a:close/>
                <a:moveTo>
                  <a:pt x="5567838" y="3868474"/>
                </a:moveTo>
                <a:cubicBezTo>
                  <a:pt x="5542564" y="3868474"/>
                  <a:pt x="5522075" y="3888963"/>
                  <a:pt x="5522075" y="3914237"/>
                </a:cubicBezTo>
                <a:cubicBezTo>
                  <a:pt x="5522075" y="3939511"/>
                  <a:pt x="5542564" y="3960000"/>
                  <a:pt x="5567838" y="3960000"/>
                </a:cubicBezTo>
                <a:cubicBezTo>
                  <a:pt x="5593112" y="3960000"/>
                  <a:pt x="5613601" y="3939511"/>
                  <a:pt x="5613601" y="3914237"/>
                </a:cubicBezTo>
                <a:cubicBezTo>
                  <a:pt x="5613601" y="3888963"/>
                  <a:pt x="5593112" y="3868474"/>
                  <a:pt x="5567838" y="3868474"/>
                </a:cubicBezTo>
                <a:close/>
                <a:moveTo>
                  <a:pt x="5436659" y="3868474"/>
                </a:moveTo>
                <a:cubicBezTo>
                  <a:pt x="5411385" y="3868474"/>
                  <a:pt x="5390896" y="3888963"/>
                  <a:pt x="5390896" y="3914237"/>
                </a:cubicBezTo>
                <a:cubicBezTo>
                  <a:pt x="5390896" y="3939511"/>
                  <a:pt x="5411385" y="3960000"/>
                  <a:pt x="5436659" y="3960000"/>
                </a:cubicBezTo>
                <a:cubicBezTo>
                  <a:pt x="5461933" y="3960000"/>
                  <a:pt x="5482422" y="3939511"/>
                  <a:pt x="5482422" y="3914237"/>
                </a:cubicBezTo>
                <a:cubicBezTo>
                  <a:pt x="5482422" y="3888963"/>
                  <a:pt x="5461933" y="3868474"/>
                  <a:pt x="5436659" y="3868474"/>
                </a:cubicBezTo>
                <a:close/>
                <a:moveTo>
                  <a:pt x="5305481" y="3868474"/>
                </a:moveTo>
                <a:cubicBezTo>
                  <a:pt x="5280207" y="3868474"/>
                  <a:pt x="5259718" y="3888963"/>
                  <a:pt x="5259718" y="3914237"/>
                </a:cubicBezTo>
                <a:cubicBezTo>
                  <a:pt x="5259718" y="3939511"/>
                  <a:pt x="5280207" y="3960000"/>
                  <a:pt x="5305481" y="3960000"/>
                </a:cubicBezTo>
                <a:cubicBezTo>
                  <a:pt x="5330755" y="3960000"/>
                  <a:pt x="5351244" y="3939511"/>
                  <a:pt x="5351244" y="3914237"/>
                </a:cubicBezTo>
                <a:cubicBezTo>
                  <a:pt x="5351244" y="3888963"/>
                  <a:pt x="5330755" y="3868474"/>
                  <a:pt x="5305481" y="3868474"/>
                </a:cubicBezTo>
                <a:close/>
                <a:moveTo>
                  <a:pt x="5174302" y="3868474"/>
                </a:moveTo>
                <a:cubicBezTo>
                  <a:pt x="5149028" y="3868474"/>
                  <a:pt x="5128539" y="3888963"/>
                  <a:pt x="5128539" y="3914237"/>
                </a:cubicBezTo>
                <a:cubicBezTo>
                  <a:pt x="5128539" y="3939511"/>
                  <a:pt x="5149028" y="3960000"/>
                  <a:pt x="5174302" y="3960000"/>
                </a:cubicBezTo>
                <a:cubicBezTo>
                  <a:pt x="5199576" y="3960000"/>
                  <a:pt x="5220065" y="3939511"/>
                  <a:pt x="5220065" y="3914237"/>
                </a:cubicBezTo>
                <a:cubicBezTo>
                  <a:pt x="5220065" y="3888963"/>
                  <a:pt x="5199576" y="3868474"/>
                  <a:pt x="5174302" y="3868474"/>
                </a:cubicBezTo>
                <a:close/>
                <a:moveTo>
                  <a:pt x="5043124" y="3868474"/>
                </a:moveTo>
                <a:cubicBezTo>
                  <a:pt x="5017850" y="3868474"/>
                  <a:pt x="4997361" y="3888963"/>
                  <a:pt x="4997361" y="3914237"/>
                </a:cubicBezTo>
                <a:cubicBezTo>
                  <a:pt x="4997361" y="3939511"/>
                  <a:pt x="5017850" y="3960000"/>
                  <a:pt x="5043124" y="3960000"/>
                </a:cubicBezTo>
                <a:cubicBezTo>
                  <a:pt x="5068398" y="3960000"/>
                  <a:pt x="5088887" y="3939511"/>
                  <a:pt x="5088887" y="3914237"/>
                </a:cubicBezTo>
                <a:cubicBezTo>
                  <a:pt x="5088887" y="3888963"/>
                  <a:pt x="5068398" y="3868474"/>
                  <a:pt x="5043124" y="3868474"/>
                </a:cubicBezTo>
                <a:close/>
                <a:moveTo>
                  <a:pt x="4911560" y="3868474"/>
                </a:moveTo>
                <a:cubicBezTo>
                  <a:pt x="4886286" y="3868474"/>
                  <a:pt x="4865797" y="3888963"/>
                  <a:pt x="4865797" y="3914237"/>
                </a:cubicBezTo>
                <a:cubicBezTo>
                  <a:pt x="4865797" y="3939511"/>
                  <a:pt x="4886286" y="3960000"/>
                  <a:pt x="4911560" y="3960000"/>
                </a:cubicBezTo>
                <a:cubicBezTo>
                  <a:pt x="4936834" y="3960000"/>
                  <a:pt x="4957323" y="3939511"/>
                  <a:pt x="4957323" y="3914237"/>
                </a:cubicBezTo>
                <a:cubicBezTo>
                  <a:pt x="4957323" y="3888963"/>
                  <a:pt x="4936834" y="3868474"/>
                  <a:pt x="4911560" y="3868474"/>
                </a:cubicBezTo>
                <a:close/>
                <a:moveTo>
                  <a:pt x="4780382" y="3868474"/>
                </a:moveTo>
                <a:cubicBezTo>
                  <a:pt x="4755107" y="3868474"/>
                  <a:pt x="4734619" y="3888963"/>
                  <a:pt x="4734619" y="3914237"/>
                </a:cubicBezTo>
                <a:cubicBezTo>
                  <a:pt x="4734619" y="3939511"/>
                  <a:pt x="4755107" y="3960000"/>
                  <a:pt x="4780382" y="3960000"/>
                </a:cubicBezTo>
                <a:cubicBezTo>
                  <a:pt x="4805656" y="3960000"/>
                  <a:pt x="4826144" y="3939511"/>
                  <a:pt x="4826144" y="3914237"/>
                </a:cubicBezTo>
                <a:cubicBezTo>
                  <a:pt x="4826144" y="3888963"/>
                  <a:pt x="4805656" y="3868474"/>
                  <a:pt x="4780382" y="3868474"/>
                </a:cubicBezTo>
                <a:close/>
                <a:moveTo>
                  <a:pt x="4649203" y="3868474"/>
                </a:moveTo>
                <a:cubicBezTo>
                  <a:pt x="4623929" y="3868474"/>
                  <a:pt x="4603440" y="3888963"/>
                  <a:pt x="4603440" y="3914237"/>
                </a:cubicBezTo>
                <a:cubicBezTo>
                  <a:pt x="4603440" y="3939511"/>
                  <a:pt x="4623929" y="3960000"/>
                  <a:pt x="4649203" y="3960000"/>
                </a:cubicBezTo>
                <a:cubicBezTo>
                  <a:pt x="4674477" y="3960000"/>
                  <a:pt x="4694966" y="3939511"/>
                  <a:pt x="4694966" y="3914237"/>
                </a:cubicBezTo>
                <a:cubicBezTo>
                  <a:pt x="4694966" y="3888963"/>
                  <a:pt x="4674477" y="3868474"/>
                  <a:pt x="4649203" y="3868474"/>
                </a:cubicBezTo>
                <a:close/>
                <a:moveTo>
                  <a:pt x="4518025" y="3868474"/>
                </a:moveTo>
                <a:cubicBezTo>
                  <a:pt x="4492750" y="3868474"/>
                  <a:pt x="4472262" y="3888963"/>
                  <a:pt x="4472262" y="3914237"/>
                </a:cubicBezTo>
                <a:cubicBezTo>
                  <a:pt x="4472262" y="3939511"/>
                  <a:pt x="4492750" y="3960000"/>
                  <a:pt x="4518025" y="3960000"/>
                </a:cubicBezTo>
                <a:cubicBezTo>
                  <a:pt x="4543299" y="3960000"/>
                  <a:pt x="4563787" y="3939511"/>
                  <a:pt x="4563787" y="3914237"/>
                </a:cubicBezTo>
                <a:cubicBezTo>
                  <a:pt x="4563787" y="3888963"/>
                  <a:pt x="4543299" y="3868474"/>
                  <a:pt x="4518025" y="3868474"/>
                </a:cubicBezTo>
                <a:close/>
                <a:moveTo>
                  <a:pt x="4386846" y="3868474"/>
                </a:moveTo>
                <a:cubicBezTo>
                  <a:pt x="4361572" y="3868474"/>
                  <a:pt x="4341083" y="3888963"/>
                  <a:pt x="4341083" y="3914237"/>
                </a:cubicBezTo>
                <a:cubicBezTo>
                  <a:pt x="4341083" y="3939511"/>
                  <a:pt x="4361572" y="3960000"/>
                  <a:pt x="4386846" y="3960000"/>
                </a:cubicBezTo>
                <a:cubicBezTo>
                  <a:pt x="4412120" y="3960000"/>
                  <a:pt x="4432609" y="3939511"/>
                  <a:pt x="4432609" y="3914237"/>
                </a:cubicBezTo>
                <a:cubicBezTo>
                  <a:pt x="4432609" y="3888963"/>
                  <a:pt x="4412120" y="3868474"/>
                  <a:pt x="4386846" y="3868474"/>
                </a:cubicBezTo>
                <a:close/>
                <a:moveTo>
                  <a:pt x="4255668" y="3868474"/>
                </a:moveTo>
                <a:cubicBezTo>
                  <a:pt x="4230393" y="3868474"/>
                  <a:pt x="4209905" y="3888963"/>
                  <a:pt x="4209905" y="3914237"/>
                </a:cubicBezTo>
                <a:cubicBezTo>
                  <a:pt x="4209905" y="3939511"/>
                  <a:pt x="4230393" y="3960000"/>
                  <a:pt x="4255668" y="3960000"/>
                </a:cubicBezTo>
                <a:cubicBezTo>
                  <a:pt x="4280942" y="3960000"/>
                  <a:pt x="4301430" y="3939511"/>
                  <a:pt x="4301430" y="3914237"/>
                </a:cubicBezTo>
                <a:cubicBezTo>
                  <a:pt x="4301430" y="3888963"/>
                  <a:pt x="4280942" y="3868474"/>
                  <a:pt x="4255668" y="3868474"/>
                </a:cubicBezTo>
                <a:close/>
                <a:moveTo>
                  <a:pt x="4124489" y="3868474"/>
                </a:moveTo>
                <a:cubicBezTo>
                  <a:pt x="4099215" y="3868474"/>
                  <a:pt x="4078726" y="3888963"/>
                  <a:pt x="4078726" y="3914237"/>
                </a:cubicBezTo>
                <a:cubicBezTo>
                  <a:pt x="4078726" y="3939511"/>
                  <a:pt x="4099215" y="3960000"/>
                  <a:pt x="4124489" y="3960000"/>
                </a:cubicBezTo>
                <a:cubicBezTo>
                  <a:pt x="4149763" y="3960000"/>
                  <a:pt x="4170252" y="3939511"/>
                  <a:pt x="4170252" y="3914237"/>
                </a:cubicBezTo>
                <a:cubicBezTo>
                  <a:pt x="4170252" y="3888963"/>
                  <a:pt x="4149763" y="3868474"/>
                  <a:pt x="4124489" y="3868474"/>
                </a:cubicBezTo>
                <a:close/>
                <a:moveTo>
                  <a:pt x="3993311" y="3868474"/>
                </a:moveTo>
                <a:cubicBezTo>
                  <a:pt x="3968036" y="3868474"/>
                  <a:pt x="3947548" y="3888963"/>
                  <a:pt x="3947548" y="3914237"/>
                </a:cubicBezTo>
                <a:cubicBezTo>
                  <a:pt x="3947548" y="3939511"/>
                  <a:pt x="3968036" y="3960000"/>
                  <a:pt x="3993311" y="3960000"/>
                </a:cubicBezTo>
                <a:cubicBezTo>
                  <a:pt x="4018585" y="3960000"/>
                  <a:pt x="4039073" y="3939511"/>
                  <a:pt x="4039073" y="3914237"/>
                </a:cubicBezTo>
                <a:cubicBezTo>
                  <a:pt x="4039073" y="3888963"/>
                  <a:pt x="4018585" y="3868474"/>
                  <a:pt x="3993311" y="3868474"/>
                </a:cubicBezTo>
                <a:close/>
                <a:moveTo>
                  <a:pt x="3861941" y="3868474"/>
                </a:moveTo>
                <a:cubicBezTo>
                  <a:pt x="3836667" y="3868474"/>
                  <a:pt x="3816179" y="3888963"/>
                  <a:pt x="3816179" y="3914237"/>
                </a:cubicBezTo>
                <a:cubicBezTo>
                  <a:pt x="3816179" y="3939511"/>
                  <a:pt x="3836667" y="3960000"/>
                  <a:pt x="3861941" y="3960000"/>
                </a:cubicBezTo>
                <a:cubicBezTo>
                  <a:pt x="3887216" y="3960000"/>
                  <a:pt x="3907704" y="3939511"/>
                  <a:pt x="3907704" y="3914237"/>
                </a:cubicBezTo>
                <a:cubicBezTo>
                  <a:pt x="3907704" y="3888963"/>
                  <a:pt x="3887216" y="3868474"/>
                  <a:pt x="3861941" y="3868474"/>
                </a:cubicBezTo>
                <a:close/>
                <a:moveTo>
                  <a:pt x="3730763" y="3868474"/>
                </a:moveTo>
                <a:cubicBezTo>
                  <a:pt x="3705489" y="3868474"/>
                  <a:pt x="3685000" y="3888963"/>
                  <a:pt x="3685000" y="3914237"/>
                </a:cubicBezTo>
                <a:cubicBezTo>
                  <a:pt x="3685000" y="3939511"/>
                  <a:pt x="3705489" y="3960000"/>
                  <a:pt x="3730763" y="3960000"/>
                </a:cubicBezTo>
                <a:cubicBezTo>
                  <a:pt x="3756037" y="3960000"/>
                  <a:pt x="3776526" y="3939511"/>
                  <a:pt x="3776526" y="3914237"/>
                </a:cubicBezTo>
                <a:cubicBezTo>
                  <a:pt x="3776526" y="3888963"/>
                  <a:pt x="3756037" y="3868474"/>
                  <a:pt x="3730763" y="3868474"/>
                </a:cubicBezTo>
                <a:close/>
                <a:moveTo>
                  <a:pt x="3599584" y="3868474"/>
                </a:moveTo>
                <a:cubicBezTo>
                  <a:pt x="3574310" y="3868474"/>
                  <a:pt x="3553822" y="3888963"/>
                  <a:pt x="3553822" y="3914237"/>
                </a:cubicBezTo>
                <a:cubicBezTo>
                  <a:pt x="3553822" y="3939511"/>
                  <a:pt x="3574310" y="3960000"/>
                  <a:pt x="3599584" y="3960000"/>
                </a:cubicBezTo>
                <a:cubicBezTo>
                  <a:pt x="3624859" y="3960000"/>
                  <a:pt x="3645347" y="3939511"/>
                  <a:pt x="3645347" y="3914237"/>
                </a:cubicBezTo>
                <a:cubicBezTo>
                  <a:pt x="3645347" y="3888963"/>
                  <a:pt x="3624859" y="3868474"/>
                  <a:pt x="3599584" y="3868474"/>
                </a:cubicBezTo>
                <a:close/>
                <a:moveTo>
                  <a:pt x="3468406" y="3868474"/>
                </a:moveTo>
                <a:cubicBezTo>
                  <a:pt x="3443132" y="3868474"/>
                  <a:pt x="3422643" y="3888963"/>
                  <a:pt x="3422643" y="3914237"/>
                </a:cubicBezTo>
                <a:cubicBezTo>
                  <a:pt x="3422643" y="3939511"/>
                  <a:pt x="3443132" y="3960000"/>
                  <a:pt x="3468406" y="3960000"/>
                </a:cubicBezTo>
                <a:cubicBezTo>
                  <a:pt x="3493680" y="3960000"/>
                  <a:pt x="3514169" y="3939511"/>
                  <a:pt x="3514169" y="3914237"/>
                </a:cubicBezTo>
                <a:cubicBezTo>
                  <a:pt x="3514169" y="3888963"/>
                  <a:pt x="3493680" y="3868474"/>
                  <a:pt x="3468406" y="3868474"/>
                </a:cubicBezTo>
                <a:close/>
                <a:moveTo>
                  <a:pt x="3337227" y="3868474"/>
                </a:moveTo>
                <a:cubicBezTo>
                  <a:pt x="3311953" y="3868474"/>
                  <a:pt x="3291465" y="3888963"/>
                  <a:pt x="3291465" y="3914237"/>
                </a:cubicBezTo>
                <a:cubicBezTo>
                  <a:pt x="3291465" y="3939511"/>
                  <a:pt x="3311953" y="3960000"/>
                  <a:pt x="3337227" y="3960000"/>
                </a:cubicBezTo>
                <a:cubicBezTo>
                  <a:pt x="3362502" y="3960000"/>
                  <a:pt x="3382990" y="3939511"/>
                  <a:pt x="3382990" y="3914237"/>
                </a:cubicBezTo>
                <a:cubicBezTo>
                  <a:pt x="3382990" y="3888963"/>
                  <a:pt x="3362502" y="3868474"/>
                  <a:pt x="3337227" y="3868474"/>
                </a:cubicBezTo>
                <a:close/>
                <a:moveTo>
                  <a:pt x="3206049" y="3868474"/>
                </a:moveTo>
                <a:cubicBezTo>
                  <a:pt x="3180775" y="3868474"/>
                  <a:pt x="3160286" y="3888963"/>
                  <a:pt x="3160286" y="3914237"/>
                </a:cubicBezTo>
                <a:cubicBezTo>
                  <a:pt x="3160286" y="3939511"/>
                  <a:pt x="3180775" y="3960000"/>
                  <a:pt x="3206049" y="3960000"/>
                </a:cubicBezTo>
                <a:cubicBezTo>
                  <a:pt x="3231323" y="3960000"/>
                  <a:pt x="3251812" y="3939511"/>
                  <a:pt x="3251812" y="3914237"/>
                </a:cubicBezTo>
                <a:cubicBezTo>
                  <a:pt x="3251812" y="3888963"/>
                  <a:pt x="3231323" y="3868474"/>
                  <a:pt x="3206049" y="3868474"/>
                </a:cubicBezTo>
                <a:close/>
                <a:moveTo>
                  <a:pt x="3074870" y="3868474"/>
                </a:moveTo>
                <a:cubicBezTo>
                  <a:pt x="3049596" y="3868474"/>
                  <a:pt x="3029108" y="3888963"/>
                  <a:pt x="3029108" y="3914237"/>
                </a:cubicBezTo>
                <a:cubicBezTo>
                  <a:pt x="3029108" y="3939511"/>
                  <a:pt x="3049596" y="3960000"/>
                  <a:pt x="3074870" y="3960000"/>
                </a:cubicBezTo>
                <a:cubicBezTo>
                  <a:pt x="3100145" y="3960000"/>
                  <a:pt x="3120633" y="3939511"/>
                  <a:pt x="3120633" y="3914237"/>
                </a:cubicBezTo>
                <a:cubicBezTo>
                  <a:pt x="3120633" y="3888963"/>
                  <a:pt x="3100145" y="3868474"/>
                  <a:pt x="3074870" y="3868474"/>
                </a:cubicBezTo>
                <a:close/>
                <a:moveTo>
                  <a:pt x="2943692" y="3868474"/>
                </a:moveTo>
                <a:cubicBezTo>
                  <a:pt x="2918418" y="3868474"/>
                  <a:pt x="2897929" y="3888963"/>
                  <a:pt x="2897929" y="3914237"/>
                </a:cubicBezTo>
                <a:cubicBezTo>
                  <a:pt x="2897929" y="3939511"/>
                  <a:pt x="2918418" y="3960000"/>
                  <a:pt x="2943692" y="3960000"/>
                </a:cubicBezTo>
                <a:cubicBezTo>
                  <a:pt x="2968966" y="3960000"/>
                  <a:pt x="2989455" y="3939511"/>
                  <a:pt x="2989455" y="3914237"/>
                </a:cubicBezTo>
                <a:cubicBezTo>
                  <a:pt x="2989455" y="3888963"/>
                  <a:pt x="2968966" y="3868474"/>
                  <a:pt x="2943692" y="3868474"/>
                </a:cubicBezTo>
                <a:close/>
                <a:moveTo>
                  <a:pt x="2812513" y="3868474"/>
                </a:moveTo>
                <a:cubicBezTo>
                  <a:pt x="2787239" y="3868474"/>
                  <a:pt x="2766751" y="3888963"/>
                  <a:pt x="2766751" y="3914237"/>
                </a:cubicBezTo>
                <a:cubicBezTo>
                  <a:pt x="2766751" y="3939511"/>
                  <a:pt x="2787239" y="3960000"/>
                  <a:pt x="2812513" y="3960000"/>
                </a:cubicBezTo>
                <a:cubicBezTo>
                  <a:pt x="2837788" y="3960000"/>
                  <a:pt x="2858276" y="3939511"/>
                  <a:pt x="2858276" y="3914237"/>
                </a:cubicBezTo>
                <a:cubicBezTo>
                  <a:pt x="2858276" y="3888963"/>
                  <a:pt x="2837788" y="3868474"/>
                  <a:pt x="2812513" y="3868474"/>
                </a:cubicBezTo>
                <a:close/>
                <a:moveTo>
                  <a:pt x="2681335" y="3868474"/>
                </a:moveTo>
                <a:cubicBezTo>
                  <a:pt x="2656061" y="3868474"/>
                  <a:pt x="2635572" y="3888963"/>
                  <a:pt x="2635572" y="3914237"/>
                </a:cubicBezTo>
                <a:cubicBezTo>
                  <a:pt x="2635572" y="3939511"/>
                  <a:pt x="2656061" y="3960000"/>
                  <a:pt x="2681335" y="3960000"/>
                </a:cubicBezTo>
                <a:cubicBezTo>
                  <a:pt x="2706609" y="3960000"/>
                  <a:pt x="2727098" y="3939511"/>
                  <a:pt x="2727098" y="3914237"/>
                </a:cubicBezTo>
                <a:cubicBezTo>
                  <a:pt x="2727098" y="3888963"/>
                  <a:pt x="2706609" y="3868474"/>
                  <a:pt x="2681335" y="3868474"/>
                </a:cubicBezTo>
                <a:close/>
                <a:moveTo>
                  <a:pt x="2550156" y="3868474"/>
                </a:moveTo>
                <a:cubicBezTo>
                  <a:pt x="2524882" y="3868474"/>
                  <a:pt x="2504394" y="3888963"/>
                  <a:pt x="2504394" y="3914237"/>
                </a:cubicBezTo>
                <a:cubicBezTo>
                  <a:pt x="2504394" y="3939511"/>
                  <a:pt x="2524882" y="3960000"/>
                  <a:pt x="2550156" y="3960000"/>
                </a:cubicBezTo>
                <a:cubicBezTo>
                  <a:pt x="2575431" y="3960000"/>
                  <a:pt x="2595919" y="3939511"/>
                  <a:pt x="2595919" y="3914237"/>
                </a:cubicBezTo>
                <a:cubicBezTo>
                  <a:pt x="2595919" y="3888963"/>
                  <a:pt x="2575431" y="3868474"/>
                  <a:pt x="2550156" y="3868474"/>
                </a:cubicBezTo>
                <a:close/>
                <a:moveTo>
                  <a:pt x="2418978" y="3868474"/>
                </a:moveTo>
                <a:cubicBezTo>
                  <a:pt x="2393704" y="3868474"/>
                  <a:pt x="2373215" y="3888963"/>
                  <a:pt x="2373215" y="3914237"/>
                </a:cubicBezTo>
                <a:cubicBezTo>
                  <a:pt x="2373215" y="3939511"/>
                  <a:pt x="2393704" y="3960000"/>
                  <a:pt x="2418978" y="3960000"/>
                </a:cubicBezTo>
                <a:cubicBezTo>
                  <a:pt x="2444252" y="3960000"/>
                  <a:pt x="2464741" y="3939511"/>
                  <a:pt x="2464741" y="3914237"/>
                </a:cubicBezTo>
                <a:cubicBezTo>
                  <a:pt x="2464741" y="3888963"/>
                  <a:pt x="2444252" y="3868474"/>
                  <a:pt x="2418978" y="3868474"/>
                </a:cubicBezTo>
                <a:close/>
                <a:moveTo>
                  <a:pt x="2287799" y="3868474"/>
                </a:moveTo>
                <a:cubicBezTo>
                  <a:pt x="2262525" y="3868474"/>
                  <a:pt x="2242037" y="3888963"/>
                  <a:pt x="2242037" y="3914237"/>
                </a:cubicBezTo>
                <a:cubicBezTo>
                  <a:pt x="2242037" y="3939511"/>
                  <a:pt x="2262525" y="3960000"/>
                  <a:pt x="2287799" y="3960000"/>
                </a:cubicBezTo>
                <a:cubicBezTo>
                  <a:pt x="2313074" y="3960000"/>
                  <a:pt x="2333562" y="3939511"/>
                  <a:pt x="2333562" y="3914237"/>
                </a:cubicBezTo>
                <a:cubicBezTo>
                  <a:pt x="2333562" y="3888963"/>
                  <a:pt x="2313074" y="3868474"/>
                  <a:pt x="2287799" y="3868474"/>
                </a:cubicBezTo>
                <a:close/>
                <a:moveTo>
                  <a:pt x="2156621" y="3868474"/>
                </a:moveTo>
                <a:cubicBezTo>
                  <a:pt x="2131347" y="3868474"/>
                  <a:pt x="2110858" y="3888963"/>
                  <a:pt x="2110858" y="3914237"/>
                </a:cubicBezTo>
                <a:cubicBezTo>
                  <a:pt x="2110858" y="3939511"/>
                  <a:pt x="2131347" y="3960000"/>
                  <a:pt x="2156621" y="3960000"/>
                </a:cubicBezTo>
                <a:cubicBezTo>
                  <a:pt x="2181895" y="3960000"/>
                  <a:pt x="2202384" y="3939511"/>
                  <a:pt x="2202384" y="3914237"/>
                </a:cubicBezTo>
                <a:cubicBezTo>
                  <a:pt x="2202384" y="3888963"/>
                  <a:pt x="2181895" y="3868474"/>
                  <a:pt x="2156621" y="3868474"/>
                </a:cubicBezTo>
                <a:close/>
                <a:moveTo>
                  <a:pt x="2025442" y="3868474"/>
                </a:moveTo>
                <a:cubicBezTo>
                  <a:pt x="2000168" y="3868474"/>
                  <a:pt x="1979680" y="3888963"/>
                  <a:pt x="1979680" y="3914237"/>
                </a:cubicBezTo>
                <a:cubicBezTo>
                  <a:pt x="1979680" y="3939511"/>
                  <a:pt x="2000168" y="3960000"/>
                  <a:pt x="2025442" y="3960000"/>
                </a:cubicBezTo>
                <a:cubicBezTo>
                  <a:pt x="2050717" y="3960000"/>
                  <a:pt x="2071205" y="3939511"/>
                  <a:pt x="2071205" y="3914237"/>
                </a:cubicBezTo>
                <a:cubicBezTo>
                  <a:pt x="2071205" y="3888963"/>
                  <a:pt x="2050717" y="3868474"/>
                  <a:pt x="2025442" y="3868474"/>
                </a:cubicBezTo>
                <a:close/>
                <a:moveTo>
                  <a:pt x="1894264" y="3868474"/>
                </a:moveTo>
                <a:cubicBezTo>
                  <a:pt x="1868990" y="3868474"/>
                  <a:pt x="1848501" y="3888963"/>
                  <a:pt x="1848501" y="3914237"/>
                </a:cubicBezTo>
                <a:cubicBezTo>
                  <a:pt x="1848501" y="3939511"/>
                  <a:pt x="1868990" y="3960000"/>
                  <a:pt x="1894264" y="3960000"/>
                </a:cubicBezTo>
                <a:cubicBezTo>
                  <a:pt x="1919538" y="3960000"/>
                  <a:pt x="1940027" y="3939511"/>
                  <a:pt x="1940027" y="3914237"/>
                </a:cubicBezTo>
                <a:cubicBezTo>
                  <a:pt x="1940027" y="3888963"/>
                  <a:pt x="1919538" y="3868474"/>
                  <a:pt x="1894264" y="3868474"/>
                </a:cubicBezTo>
                <a:close/>
                <a:moveTo>
                  <a:pt x="1763085" y="3868474"/>
                </a:moveTo>
                <a:cubicBezTo>
                  <a:pt x="1737811" y="3868474"/>
                  <a:pt x="1717323" y="3888963"/>
                  <a:pt x="1717323" y="3914237"/>
                </a:cubicBezTo>
                <a:cubicBezTo>
                  <a:pt x="1717323" y="3939511"/>
                  <a:pt x="1737811" y="3960000"/>
                  <a:pt x="1763085" y="3960000"/>
                </a:cubicBezTo>
                <a:cubicBezTo>
                  <a:pt x="1788360" y="3960000"/>
                  <a:pt x="1808848" y="3939511"/>
                  <a:pt x="1808848" y="3914237"/>
                </a:cubicBezTo>
                <a:cubicBezTo>
                  <a:pt x="1808848" y="3888963"/>
                  <a:pt x="1788360" y="3868474"/>
                  <a:pt x="1763085" y="3868474"/>
                </a:cubicBezTo>
                <a:close/>
                <a:moveTo>
                  <a:pt x="1631907" y="3868474"/>
                </a:moveTo>
                <a:cubicBezTo>
                  <a:pt x="1606633" y="3868474"/>
                  <a:pt x="1586144" y="3888963"/>
                  <a:pt x="1586144" y="3914237"/>
                </a:cubicBezTo>
                <a:cubicBezTo>
                  <a:pt x="1586144" y="3939511"/>
                  <a:pt x="1606633" y="3960000"/>
                  <a:pt x="1631907" y="3960000"/>
                </a:cubicBezTo>
                <a:cubicBezTo>
                  <a:pt x="1657181" y="3960000"/>
                  <a:pt x="1677670" y="3939511"/>
                  <a:pt x="1677670" y="3914237"/>
                </a:cubicBezTo>
                <a:cubicBezTo>
                  <a:pt x="1677670" y="3888963"/>
                  <a:pt x="1657181" y="3868474"/>
                  <a:pt x="1631907" y="3868474"/>
                </a:cubicBezTo>
                <a:close/>
                <a:moveTo>
                  <a:pt x="1500728" y="3868474"/>
                </a:moveTo>
                <a:cubicBezTo>
                  <a:pt x="1475454" y="3868474"/>
                  <a:pt x="1454965" y="3888963"/>
                  <a:pt x="1454965" y="3914237"/>
                </a:cubicBezTo>
                <a:cubicBezTo>
                  <a:pt x="1454965" y="3939511"/>
                  <a:pt x="1475454" y="3960000"/>
                  <a:pt x="1500728" y="3960000"/>
                </a:cubicBezTo>
                <a:cubicBezTo>
                  <a:pt x="1526003" y="3960000"/>
                  <a:pt x="1546491" y="3939511"/>
                  <a:pt x="1546491" y="3914237"/>
                </a:cubicBezTo>
                <a:cubicBezTo>
                  <a:pt x="1546491" y="3888963"/>
                  <a:pt x="1526003" y="3868474"/>
                  <a:pt x="1500728" y="3868474"/>
                </a:cubicBezTo>
                <a:close/>
                <a:moveTo>
                  <a:pt x="5699080" y="3737167"/>
                </a:moveTo>
                <a:cubicBezTo>
                  <a:pt x="5673806" y="3737167"/>
                  <a:pt x="5653317" y="3757656"/>
                  <a:pt x="5653317" y="3782930"/>
                </a:cubicBezTo>
                <a:cubicBezTo>
                  <a:pt x="5653317" y="3808204"/>
                  <a:pt x="5673806" y="3828693"/>
                  <a:pt x="5699080" y="3828693"/>
                </a:cubicBezTo>
                <a:cubicBezTo>
                  <a:pt x="5724354" y="3828693"/>
                  <a:pt x="5744843" y="3808204"/>
                  <a:pt x="5744843" y="3782930"/>
                </a:cubicBezTo>
                <a:cubicBezTo>
                  <a:pt x="5744843" y="3757656"/>
                  <a:pt x="5724354" y="3737167"/>
                  <a:pt x="5699080" y="3737167"/>
                </a:cubicBezTo>
                <a:close/>
                <a:moveTo>
                  <a:pt x="1500728" y="3737104"/>
                </a:moveTo>
                <a:cubicBezTo>
                  <a:pt x="1475454" y="3737104"/>
                  <a:pt x="1454965" y="3757593"/>
                  <a:pt x="1454965" y="3782867"/>
                </a:cubicBezTo>
                <a:cubicBezTo>
                  <a:pt x="1454965" y="3808141"/>
                  <a:pt x="1475454" y="3828630"/>
                  <a:pt x="1500728" y="3828630"/>
                </a:cubicBezTo>
                <a:cubicBezTo>
                  <a:pt x="1526002" y="3828630"/>
                  <a:pt x="1546491" y="3808141"/>
                  <a:pt x="1546491" y="3782867"/>
                </a:cubicBezTo>
                <a:cubicBezTo>
                  <a:pt x="1546491" y="3757593"/>
                  <a:pt x="1526002" y="3737104"/>
                  <a:pt x="1500728" y="3737104"/>
                </a:cubicBezTo>
                <a:close/>
                <a:moveTo>
                  <a:pt x="3599904" y="3736975"/>
                </a:moveTo>
                <a:cubicBezTo>
                  <a:pt x="3574630" y="3736975"/>
                  <a:pt x="3554141" y="3757464"/>
                  <a:pt x="3554141" y="3782738"/>
                </a:cubicBezTo>
                <a:cubicBezTo>
                  <a:pt x="3554141" y="3808012"/>
                  <a:pt x="3574630" y="3828501"/>
                  <a:pt x="3599904" y="3828501"/>
                </a:cubicBezTo>
                <a:cubicBezTo>
                  <a:pt x="3625178" y="3828501"/>
                  <a:pt x="3645667" y="3808012"/>
                  <a:pt x="3645667" y="3782738"/>
                </a:cubicBezTo>
                <a:cubicBezTo>
                  <a:pt x="3645667" y="3757464"/>
                  <a:pt x="3625178" y="3736975"/>
                  <a:pt x="3599904" y="3736975"/>
                </a:cubicBezTo>
                <a:close/>
                <a:moveTo>
                  <a:pt x="1500728" y="3605926"/>
                </a:moveTo>
                <a:cubicBezTo>
                  <a:pt x="1475454" y="3605926"/>
                  <a:pt x="1454965" y="3626415"/>
                  <a:pt x="1454965" y="3651689"/>
                </a:cubicBezTo>
                <a:cubicBezTo>
                  <a:pt x="1454965" y="3676963"/>
                  <a:pt x="1475454" y="3697452"/>
                  <a:pt x="1500728" y="3697452"/>
                </a:cubicBezTo>
                <a:cubicBezTo>
                  <a:pt x="1526002" y="3697452"/>
                  <a:pt x="1546491" y="3676963"/>
                  <a:pt x="1546491" y="3651689"/>
                </a:cubicBezTo>
                <a:cubicBezTo>
                  <a:pt x="1546491" y="3626415"/>
                  <a:pt x="1526002" y="3605926"/>
                  <a:pt x="1500728" y="3605926"/>
                </a:cubicBezTo>
                <a:close/>
                <a:moveTo>
                  <a:pt x="5698887" y="3605797"/>
                </a:moveTo>
                <a:cubicBezTo>
                  <a:pt x="5673612" y="3605797"/>
                  <a:pt x="5653124" y="3626286"/>
                  <a:pt x="5653124" y="3651560"/>
                </a:cubicBezTo>
                <a:cubicBezTo>
                  <a:pt x="5653124" y="3676834"/>
                  <a:pt x="5673612" y="3697323"/>
                  <a:pt x="5698887" y="3697323"/>
                </a:cubicBezTo>
                <a:cubicBezTo>
                  <a:pt x="5724161" y="3697323"/>
                  <a:pt x="5744649" y="3676834"/>
                  <a:pt x="5744649" y="3651560"/>
                </a:cubicBezTo>
                <a:cubicBezTo>
                  <a:pt x="5744649" y="3626286"/>
                  <a:pt x="5724161" y="3605797"/>
                  <a:pt x="5698887" y="3605797"/>
                </a:cubicBezTo>
                <a:close/>
                <a:moveTo>
                  <a:pt x="3599904" y="3605797"/>
                </a:moveTo>
                <a:cubicBezTo>
                  <a:pt x="3574630" y="3605797"/>
                  <a:pt x="3554141" y="3626285"/>
                  <a:pt x="3554141" y="3651560"/>
                </a:cubicBezTo>
                <a:cubicBezTo>
                  <a:pt x="3554141" y="3676834"/>
                  <a:pt x="3574630" y="3697322"/>
                  <a:pt x="3599904" y="3697322"/>
                </a:cubicBezTo>
                <a:cubicBezTo>
                  <a:pt x="3625178" y="3697322"/>
                  <a:pt x="3645667" y="3676834"/>
                  <a:pt x="3645667" y="3651560"/>
                </a:cubicBezTo>
                <a:cubicBezTo>
                  <a:pt x="3645667" y="3626285"/>
                  <a:pt x="3625178" y="3605797"/>
                  <a:pt x="3599904" y="3605797"/>
                </a:cubicBezTo>
                <a:close/>
                <a:moveTo>
                  <a:pt x="1500728" y="3474747"/>
                </a:moveTo>
                <a:cubicBezTo>
                  <a:pt x="1475454" y="3474747"/>
                  <a:pt x="1454965" y="3495236"/>
                  <a:pt x="1454965" y="3520510"/>
                </a:cubicBezTo>
                <a:cubicBezTo>
                  <a:pt x="1454965" y="3545785"/>
                  <a:pt x="1475454" y="3566273"/>
                  <a:pt x="1500728" y="3566273"/>
                </a:cubicBezTo>
                <a:cubicBezTo>
                  <a:pt x="1526002" y="3566273"/>
                  <a:pt x="1546491" y="3545785"/>
                  <a:pt x="1546491" y="3520510"/>
                </a:cubicBezTo>
                <a:cubicBezTo>
                  <a:pt x="1546491" y="3495236"/>
                  <a:pt x="1526002" y="3474747"/>
                  <a:pt x="1500728" y="3474747"/>
                </a:cubicBezTo>
                <a:close/>
                <a:moveTo>
                  <a:pt x="5698887" y="3474619"/>
                </a:moveTo>
                <a:cubicBezTo>
                  <a:pt x="5673612" y="3474619"/>
                  <a:pt x="5653124" y="3495108"/>
                  <a:pt x="5653124" y="3520382"/>
                </a:cubicBezTo>
                <a:cubicBezTo>
                  <a:pt x="5653124" y="3545656"/>
                  <a:pt x="5673612" y="3566145"/>
                  <a:pt x="5698887" y="3566145"/>
                </a:cubicBezTo>
                <a:cubicBezTo>
                  <a:pt x="5724161" y="3566145"/>
                  <a:pt x="5744649" y="3545656"/>
                  <a:pt x="5744649" y="3520382"/>
                </a:cubicBezTo>
                <a:cubicBezTo>
                  <a:pt x="5744649" y="3495108"/>
                  <a:pt x="5724161" y="3474619"/>
                  <a:pt x="5698887" y="3474619"/>
                </a:cubicBezTo>
                <a:close/>
                <a:moveTo>
                  <a:pt x="3599904" y="3474618"/>
                </a:moveTo>
                <a:cubicBezTo>
                  <a:pt x="3574630" y="3474618"/>
                  <a:pt x="3554141" y="3495107"/>
                  <a:pt x="3554141" y="3520381"/>
                </a:cubicBezTo>
                <a:cubicBezTo>
                  <a:pt x="3554141" y="3545655"/>
                  <a:pt x="3574630" y="3566144"/>
                  <a:pt x="3599904" y="3566144"/>
                </a:cubicBezTo>
                <a:cubicBezTo>
                  <a:pt x="3625178" y="3566144"/>
                  <a:pt x="3645667" y="3545655"/>
                  <a:pt x="3645667" y="3520381"/>
                </a:cubicBezTo>
                <a:cubicBezTo>
                  <a:pt x="3645667" y="3495107"/>
                  <a:pt x="3625178" y="3474618"/>
                  <a:pt x="3599904" y="3474618"/>
                </a:cubicBezTo>
                <a:close/>
                <a:moveTo>
                  <a:pt x="1500728" y="3343569"/>
                </a:moveTo>
                <a:cubicBezTo>
                  <a:pt x="1475454" y="3343569"/>
                  <a:pt x="1454965" y="3364058"/>
                  <a:pt x="1454965" y="3389332"/>
                </a:cubicBezTo>
                <a:cubicBezTo>
                  <a:pt x="1454965" y="3414606"/>
                  <a:pt x="1475454" y="3435095"/>
                  <a:pt x="1500728" y="3435095"/>
                </a:cubicBezTo>
                <a:cubicBezTo>
                  <a:pt x="1526002" y="3435095"/>
                  <a:pt x="1546491" y="3414606"/>
                  <a:pt x="1546491" y="3389332"/>
                </a:cubicBezTo>
                <a:cubicBezTo>
                  <a:pt x="1546491" y="3364058"/>
                  <a:pt x="1526002" y="3343569"/>
                  <a:pt x="1500728" y="3343569"/>
                </a:cubicBezTo>
                <a:close/>
                <a:moveTo>
                  <a:pt x="5698887" y="3343440"/>
                </a:moveTo>
                <a:cubicBezTo>
                  <a:pt x="5673612" y="3343440"/>
                  <a:pt x="5653124" y="3363929"/>
                  <a:pt x="5653124" y="3389203"/>
                </a:cubicBezTo>
                <a:cubicBezTo>
                  <a:pt x="5653124" y="3414477"/>
                  <a:pt x="5673612" y="3434966"/>
                  <a:pt x="5698887" y="3434966"/>
                </a:cubicBezTo>
                <a:cubicBezTo>
                  <a:pt x="5724161" y="3434966"/>
                  <a:pt x="5744649" y="3414477"/>
                  <a:pt x="5744649" y="3389203"/>
                </a:cubicBezTo>
                <a:cubicBezTo>
                  <a:pt x="5744649" y="3363929"/>
                  <a:pt x="5724161" y="3343440"/>
                  <a:pt x="5698887" y="3343440"/>
                </a:cubicBezTo>
                <a:close/>
                <a:moveTo>
                  <a:pt x="3599904" y="3343440"/>
                </a:moveTo>
                <a:cubicBezTo>
                  <a:pt x="3574630" y="3343440"/>
                  <a:pt x="3554141" y="3363928"/>
                  <a:pt x="3554141" y="3389203"/>
                </a:cubicBezTo>
                <a:cubicBezTo>
                  <a:pt x="3554141" y="3414477"/>
                  <a:pt x="3574630" y="3434965"/>
                  <a:pt x="3599904" y="3434965"/>
                </a:cubicBezTo>
                <a:cubicBezTo>
                  <a:pt x="3625178" y="3434965"/>
                  <a:pt x="3645667" y="3414477"/>
                  <a:pt x="3645667" y="3389203"/>
                </a:cubicBezTo>
                <a:cubicBezTo>
                  <a:pt x="3645667" y="3363928"/>
                  <a:pt x="3625178" y="3343440"/>
                  <a:pt x="3599904" y="3343440"/>
                </a:cubicBezTo>
                <a:close/>
                <a:moveTo>
                  <a:pt x="1500728" y="3212391"/>
                </a:moveTo>
                <a:cubicBezTo>
                  <a:pt x="1475454" y="3212391"/>
                  <a:pt x="1454965" y="3232879"/>
                  <a:pt x="1454965" y="3258153"/>
                </a:cubicBezTo>
                <a:cubicBezTo>
                  <a:pt x="1454965" y="3283428"/>
                  <a:pt x="1475454" y="3303916"/>
                  <a:pt x="1500728" y="3303916"/>
                </a:cubicBezTo>
                <a:cubicBezTo>
                  <a:pt x="1526002" y="3303916"/>
                  <a:pt x="1546491" y="3283428"/>
                  <a:pt x="1546491" y="3258153"/>
                </a:cubicBezTo>
                <a:cubicBezTo>
                  <a:pt x="1546491" y="3232879"/>
                  <a:pt x="1526002" y="3212391"/>
                  <a:pt x="1500728" y="3212391"/>
                </a:cubicBezTo>
                <a:close/>
                <a:moveTo>
                  <a:pt x="5698887" y="3212262"/>
                </a:moveTo>
                <a:cubicBezTo>
                  <a:pt x="5673612" y="3212262"/>
                  <a:pt x="5653124" y="3232751"/>
                  <a:pt x="5653124" y="3258025"/>
                </a:cubicBezTo>
                <a:cubicBezTo>
                  <a:pt x="5653124" y="3283299"/>
                  <a:pt x="5673612" y="3303788"/>
                  <a:pt x="5698887" y="3303788"/>
                </a:cubicBezTo>
                <a:cubicBezTo>
                  <a:pt x="5724161" y="3303788"/>
                  <a:pt x="5744649" y="3283299"/>
                  <a:pt x="5744649" y="3258025"/>
                </a:cubicBezTo>
                <a:cubicBezTo>
                  <a:pt x="5744649" y="3232751"/>
                  <a:pt x="5724161" y="3212262"/>
                  <a:pt x="5698887" y="3212262"/>
                </a:cubicBezTo>
                <a:close/>
                <a:moveTo>
                  <a:pt x="3599904" y="3212261"/>
                </a:moveTo>
                <a:cubicBezTo>
                  <a:pt x="3574630" y="3212261"/>
                  <a:pt x="3554141" y="3232750"/>
                  <a:pt x="3554141" y="3258024"/>
                </a:cubicBezTo>
                <a:cubicBezTo>
                  <a:pt x="3554141" y="3283298"/>
                  <a:pt x="3574630" y="3303787"/>
                  <a:pt x="3599904" y="3303787"/>
                </a:cubicBezTo>
                <a:cubicBezTo>
                  <a:pt x="3625178" y="3303787"/>
                  <a:pt x="3645667" y="3283298"/>
                  <a:pt x="3645667" y="3258024"/>
                </a:cubicBezTo>
                <a:cubicBezTo>
                  <a:pt x="3645667" y="3232750"/>
                  <a:pt x="3625178" y="3212261"/>
                  <a:pt x="3599904" y="3212261"/>
                </a:cubicBezTo>
                <a:close/>
                <a:moveTo>
                  <a:pt x="5699273" y="3081211"/>
                </a:moveTo>
                <a:cubicBezTo>
                  <a:pt x="5673999" y="3081211"/>
                  <a:pt x="5653510" y="3101700"/>
                  <a:pt x="5653510" y="3126974"/>
                </a:cubicBezTo>
                <a:cubicBezTo>
                  <a:pt x="5653510" y="3152248"/>
                  <a:pt x="5673999" y="3172737"/>
                  <a:pt x="5699273" y="3172737"/>
                </a:cubicBezTo>
                <a:cubicBezTo>
                  <a:pt x="5724547" y="3172737"/>
                  <a:pt x="5745036" y="3152248"/>
                  <a:pt x="5745036" y="3126974"/>
                </a:cubicBezTo>
                <a:cubicBezTo>
                  <a:pt x="5745036" y="3101700"/>
                  <a:pt x="5724547" y="3081211"/>
                  <a:pt x="5699273" y="3081211"/>
                </a:cubicBezTo>
                <a:close/>
                <a:moveTo>
                  <a:pt x="1500728" y="3081211"/>
                </a:moveTo>
                <a:cubicBezTo>
                  <a:pt x="1475454" y="3081211"/>
                  <a:pt x="1454965" y="3101700"/>
                  <a:pt x="1454965" y="3126974"/>
                </a:cubicBezTo>
                <a:cubicBezTo>
                  <a:pt x="1454965" y="3152248"/>
                  <a:pt x="1475454" y="3172737"/>
                  <a:pt x="1500728" y="3172737"/>
                </a:cubicBezTo>
                <a:cubicBezTo>
                  <a:pt x="1526003" y="3172737"/>
                  <a:pt x="1546491" y="3152248"/>
                  <a:pt x="1546491" y="3126974"/>
                </a:cubicBezTo>
                <a:cubicBezTo>
                  <a:pt x="1546491" y="3101700"/>
                  <a:pt x="1526003" y="3081211"/>
                  <a:pt x="1500728" y="3081211"/>
                </a:cubicBezTo>
                <a:close/>
                <a:moveTo>
                  <a:pt x="3599904" y="3081082"/>
                </a:moveTo>
                <a:cubicBezTo>
                  <a:pt x="3574630" y="3081082"/>
                  <a:pt x="3554141" y="3101570"/>
                  <a:pt x="3554141" y="3126845"/>
                </a:cubicBezTo>
                <a:cubicBezTo>
                  <a:pt x="3554141" y="3152119"/>
                  <a:pt x="3574630" y="3172607"/>
                  <a:pt x="3599904" y="3172607"/>
                </a:cubicBezTo>
                <a:cubicBezTo>
                  <a:pt x="3625178" y="3172607"/>
                  <a:pt x="3645667" y="3152119"/>
                  <a:pt x="3645667" y="3126845"/>
                </a:cubicBezTo>
                <a:cubicBezTo>
                  <a:pt x="3645667" y="3101570"/>
                  <a:pt x="3625178" y="3081082"/>
                  <a:pt x="3599904" y="3081082"/>
                </a:cubicBezTo>
                <a:close/>
                <a:moveTo>
                  <a:pt x="5699080" y="2949841"/>
                </a:moveTo>
                <a:cubicBezTo>
                  <a:pt x="5673806" y="2949841"/>
                  <a:pt x="5653317" y="2970330"/>
                  <a:pt x="5653317" y="2995604"/>
                </a:cubicBezTo>
                <a:cubicBezTo>
                  <a:pt x="5653317" y="3020878"/>
                  <a:pt x="5673806" y="3041367"/>
                  <a:pt x="5699080" y="3041367"/>
                </a:cubicBezTo>
                <a:cubicBezTo>
                  <a:pt x="5724354" y="3041367"/>
                  <a:pt x="5744843" y="3020878"/>
                  <a:pt x="5744843" y="2995604"/>
                </a:cubicBezTo>
                <a:cubicBezTo>
                  <a:pt x="5744843" y="2970330"/>
                  <a:pt x="5724354" y="2949841"/>
                  <a:pt x="5699080" y="2949841"/>
                </a:cubicBezTo>
                <a:close/>
                <a:moveTo>
                  <a:pt x="1500728" y="2949841"/>
                </a:moveTo>
                <a:cubicBezTo>
                  <a:pt x="1475454" y="2949841"/>
                  <a:pt x="1454965" y="2970330"/>
                  <a:pt x="1454965" y="2995604"/>
                </a:cubicBezTo>
                <a:cubicBezTo>
                  <a:pt x="1454965" y="3020878"/>
                  <a:pt x="1475454" y="3041367"/>
                  <a:pt x="1500728" y="3041367"/>
                </a:cubicBezTo>
                <a:cubicBezTo>
                  <a:pt x="1526002" y="3041367"/>
                  <a:pt x="1546491" y="3020878"/>
                  <a:pt x="1546491" y="2995604"/>
                </a:cubicBezTo>
                <a:cubicBezTo>
                  <a:pt x="1546491" y="2970330"/>
                  <a:pt x="1526002" y="2949841"/>
                  <a:pt x="1500728" y="2949841"/>
                </a:cubicBezTo>
                <a:close/>
                <a:moveTo>
                  <a:pt x="3599904" y="2949712"/>
                </a:moveTo>
                <a:cubicBezTo>
                  <a:pt x="3574630" y="2949712"/>
                  <a:pt x="3554141" y="2970201"/>
                  <a:pt x="3554141" y="2995475"/>
                </a:cubicBezTo>
                <a:cubicBezTo>
                  <a:pt x="3554141" y="3020749"/>
                  <a:pt x="3574630" y="3041238"/>
                  <a:pt x="3599904" y="3041238"/>
                </a:cubicBezTo>
                <a:cubicBezTo>
                  <a:pt x="3625178" y="3041238"/>
                  <a:pt x="3645667" y="3020749"/>
                  <a:pt x="3645667" y="2995475"/>
                </a:cubicBezTo>
                <a:cubicBezTo>
                  <a:pt x="3645667" y="2970201"/>
                  <a:pt x="3625178" y="2949712"/>
                  <a:pt x="3599904" y="2949712"/>
                </a:cubicBezTo>
                <a:close/>
                <a:moveTo>
                  <a:pt x="5699080" y="2818663"/>
                </a:moveTo>
                <a:cubicBezTo>
                  <a:pt x="5673806" y="2818663"/>
                  <a:pt x="5653317" y="2839151"/>
                  <a:pt x="5653317" y="2864426"/>
                </a:cubicBezTo>
                <a:cubicBezTo>
                  <a:pt x="5653317" y="2889700"/>
                  <a:pt x="5673806" y="2910188"/>
                  <a:pt x="5699080" y="2910188"/>
                </a:cubicBezTo>
                <a:cubicBezTo>
                  <a:pt x="5724354" y="2910188"/>
                  <a:pt x="5744843" y="2889700"/>
                  <a:pt x="5744843" y="2864426"/>
                </a:cubicBezTo>
                <a:cubicBezTo>
                  <a:pt x="5744843" y="2839151"/>
                  <a:pt x="5724354" y="2818663"/>
                  <a:pt x="5699080" y="2818663"/>
                </a:cubicBezTo>
                <a:close/>
                <a:moveTo>
                  <a:pt x="1500728" y="2818663"/>
                </a:moveTo>
                <a:cubicBezTo>
                  <a:pt x="1475454" y="2818663"/>
                  <a:pt x="1454965" y="2839151"/>
                  <a:pt x="1454965" y="2864426"/>
                </a:cubicBezTo>
                <a:cubicBezTo>
                  <a:pt x="1454965" y="2889700"/>
                  <a:pt x="1475454" y="2910188"/>
                  <a:pt x="1500728" y="2910188"/>
                </a:cubicBezTo>
                <a:cubicBezTo>
                  <a:pt x="1526002" y="2910188"/>
                  <a:pt x="1546491" y="2889700"/>
                  <a:pt x="1546491" y="2864426"/>
                </a:cubicBezTo>
                <a:cubicBezTo>
                  <a:pt x="1546491" y="2839151"/>
                  <a:pt x="1526002" y="2818663"/>
                  <a:pt x="1500728" y="2818663"/>
                </a:cubicBezTo>
                <a:close/>
                <a:moveTo>
                  <a:pt x="3599904" y="2818533"/>
                </a:moveTo>
                <a:cubicBezTo>
                  <a:pt x="3574630" y="2818533"/>
                  <a:pt x="3554141" y="2839022"/>
                  <a:pt x="3554141" y="2864296"/>
                </a:cubicBezTo>
                <a:cubicBezTo>
                  <a:pt x="3554141" y="2889570"/>
                  <a:pt x="3574630" y="2910059"/>
                  <a:pt x="3599904" y="2910059"/>
                </a:cubicBezTo>
                <a:cubicBezTo>
                  <a:pt x="3625178" y="2910059"/>
                  <a:pt x="3645667" y="2889570"/>
                  <a:pt x="3645667" y="2864296"/>
                </a:cubicBezTo>
                <a:cubicBezTo>
                  <a:pt x="3645667" y="2839022"/>
                  <a:pt x="3625178" y="2818533"/>
                  <a:pt x="3599904" y="2818533"/>
                </a:cubicBezTo>
                <a:close/>
                <a:moveTo>
                  <a:pt x="5699080" y="2687484"/>
                </a:moveTo>
                <a:cubicBezTo>
                  <a:pt x="5673806" y="2687484"/>
                  <a:pt x="5653317" y="2707973"/>
                  <a:pt x="5653317" y="2733247"/>
                </a:cubicBezTo>
                <a:cubicBezTo>
                  <a:pt x="5653317" y="2758521"/>
                  <a:pt x="5673806" y="2779010"/>
                  <a:pt x="5699080" y="2779010"/>
                </a:cubicBezTo>
                <a:cubicBezTo>
                  <a:pt x="5724354" y="2779010"/>
                  <a:pt x="5744843" y="2758521"/>
                  <a:pt x="5744843" y="2733247"/>
                </a:cubicBezTo>
                <a:cubicBezTo>
                  <a:pt x="5744843" y="2707973"/>
                  <a:pt x="5724354" y="2687484"/>
                  <a:pt x="5699080" y="2687484"/>
                </a:cubicBezTo>
                <a:close/>
                <a:moveTo>
                  <a:pt x="1500728" y="2687484"/>
                </a:moveTo>
                <a:cubicBezTo>
                  <a:pt x="1475454" y="2687484"/>
                  <a:pt x="1454965" y="2707973"/>
                  <a:pt x="1454965" y="2733247"/>
                </a:cubicBezTo>
                <a:cubicBezTo>
                  <a:pt x="1454965" y="2758521"/>
                  <a:pt x="1475454" y="2779010"/>
                  <a:pt x="1500728" y="2779010"/>
                </a:cubicBezTo>
                <a:cubicBezTo>
                  <a:pt x="1526002" y="2779010"/>
                  <a:pt x="1546491" y="2758521"/>
                  <a:pt x="1546491" y="2733247"/>
                </a:cubicBezTo>
                <a:cubicBezTo>
                  <a:pt x="1546491" y="2707973"/>
                  <a:pt x="1526002" y="2687484"/>
                  <a:pt x="1500728" y="2687484"/>
                </a:cubicBezTo>
                <a:close/>
                <a:moveTo>
                  <a:pt x="3599904" y="2687355"/>
                </a:moveTo>
                <a:cubicBezTo>
                  <a:pt x="3574630" y="2687355"/>
                  <a:pt x="3554141" y="2707844"/>
                  <a:pt x="3554141" y="2733118"/>
                </a:cubicBezTo>
                <a:cubicBezTo>
                  <a:pt x="3554141" y="2758392"/>
                  <a:pt x="3574630" y="2778881"/>
                  <a:pt x="3599904" y="2778881"/>
                </a:cubicBezTo>
                <a:cubicBezTo>
                  <a:pt x="3625178" y="2778881"/>
                  <a:pt x="3645667" y="2758392"/>
                  <a:pt x="3645667" y="2733118"/>
                </a:cubicBezTo>
                <a:cubicBezTo>
                  <a:pt x="3645667" y="2707844"/>
                  <a:pt x="3625178" y="2687355"/>
                  <a:pt x="3599904" y="2687355"/>
                </a:cubicBezTo>
                <a:close/>
                <a:moveTo>
                  <a:pt x="5699080" y="2556306"/>
                </a:moveTo>
                <a:cubicBezTo>
                  <a:pt x="5673806" y="2556306"/>
                  <a:pt x="5653317" y="2576795"/>
                  <a:pt x="5653317" y="2602069"/>
                </a:cubicBezTo>
                <a:cubicBezTo>
                  <a:pt x="5653317" y="2627343"/>
                  <a:pt x="5673806" y="2647832"/>
                  <a:pt x="5699080" y="2647832"/>
                </a:cubicBezTo>
                <a:cubicBezTo>
                  <a:pt x="5724354" y="2647832"/>
                  <a:pt x="5744843" y="2627343"/>
                  <a:pt x="5744843" y="2602069"/>
                </a:cubicBezTo>
                <a:cubicBezTo>
                  <a:pt x="5744843" y="2576795"/>
                  <a:pt x="5724354" y="2556306"/>
                  <a:pt x="5699080" y="2556306"/>
                </a:cubicBezTo>
                <a:close/>
                <a:moveTo>
                  <a:pt x="1500728" y="2556306"/>
                </a:moveTo>
                <a:cubicBezTo>
                  <a:pt x="1475454" y="2556306"/>
                  <a:pt x="1454965" y="2576795"/>
                  <a:pt x="1454965" y="2602069"/>
                </a:cubicBezTo>
                <a:cubicBezTo>
                  <a:pt x="1454965" y="2627343"/>
                  <a:pt x="1475454" y="2647832"/>
                  <a:pt x="1500728" y="2647832"/>
                </a:cubicBezTo>
                <a:cubicBezTo>
                  <a:pt x="1526002" y="2647832"/>
                  <a:pt x="1546491" y="2627343"/>
                  <a:pt x="1546491" y="2602069"/>
                </a:cubicBezTo>
                <a:cubicBezTo>
                  <a:pt x="1546491" y="2576795"/>
                  <a:pt x="1526002" y="2556306"/>
                  <a:pt x="1500728" y="2556306"/>
                </a:cubicBezTo>
                <a:close/>
                <a:moveTo>
                  <a:pt x="3599904" y="2556176"/>
                </a:moveTo>
                <a:cubicBezTo>
                  <a:pt x="3574630" y="2556176"/>
                  <a:pt x="3554141" y="2576665"/>
                  <a:pt x="3554141" y="2601939"/>
                </a:cubicBezTo>
                <a:cubicBezTo>
                  <a:pt x="3554141" y="2627213"/>
                  <a:pt x="3574630" y="2647702"/>
                  <a:pt x="3599904" y="2647702"/>
                </a:cubicBezTo>
                <a:cubicBezTo>
                  <a:pt x="3625178" y="2647702"/>
                  <a:pt x="3645667" y="2627213"/>
                  <a:pt x="3645667" y="2601939"/>
                </a:cubicBezTo>
                <a:cubicBezTo>
                  <a:pt x="3645667" y="2576665"/>
                  <a:pt x="3625178" y="2556176"/>
                  <a:pt x="3599904" y="2556176"/>
                </a:cubicBezTo>
                <a:close/>
                <a:moveTo>
                  <a:pt x="5699080" y="2425127"/>
                </a:moveTo>
                <a:cubicBezTo>
                  <a:pt x="5673806" y="2425127"/>
                  <a:pt x="5653317" y="2445616"/>
                  <a:pt x="5653317" y="2470890"/>
                </a:cubicBezTo>
                <a:cubicBezTo>
                  <a:pt x="5653317" y="2496164"/>
                  <a:pt x="5673806" y="2516653"/>
                  <a:pt x="5699080" y="2516653"/>
                </a:cubicBezTo>
                <a:cubicBezTo>
                  <a:pt x="5724354" y="2516653"/>
                  <a:pt x="5744843" y="2496164"/>
                  <a:pt x="5744843" y="2470890"/>
                </a:cubicBezTo>
                <a:cubicBezTo>
                  <a:pt x="5744843" y="2445616"/>
                  <a:pt x="5724354" y="2425127"/>
                  <a:pt x="5699080" y="2425127"/>
                </a:cubicBezTo>
                <a:close/>
                <a:moveTo>
                  <a:pt x="1500728" y="2425127"/>
                </a:moveTo>
                <a:cubicBezTo>
                  <a:pt x="1475454" y="2425127"/>
                  <a:pt x="1454965" y="2445616"/>
                  <a:pt x="1454965" y="2470890"/>
                </a:cubicBezTo>
                <a:cubicBezTo>
                  <a:pt x="1454965" y="2496164"/>
                  <a:pt x="1475454" y="2516653"/>
                  <a:pt x="1500728" y="2516653"/>
                </a:cubicBezTo>
                <a:cubicBezTo>
                  <a:pt x="1526002" y="2516653"/>
                  <a:pt x="1546491" y="2496164"/>
                  <a:pt x="1546491" y="2470890"/>
                </a:cubicBezTo>
                <a:cubicBezTo>
                  <a:pt x="1546491" y="2445616"/>
                  <a:pt x="1526002" y="2425127"/>
                  <a:pt x="1500728" y="2425127"/>
                </a:cubicBezTo>
                <a:close/>
                <a:moveTo>
                  <a:pt x="3599904" y="2424998"/>
                </a:moveTo>
                <a:cubicBezTo>
                  <a:pt x="3574630" y="2424998"/>
                  <a:pt x="3554141" y="2445487"/>
                  <a:pt x="3554141" y="2470761"/>
                </a:cubicBezTo>
                <a:cubicBezTo>
                  <a:pt x="3554141" y="2496035"/>
                  <a:pt x="3574630" y="2516524"/>
                  <a:pt x="3599904" y="2516524"/>
                </a:cubicBezTo>
                <a:cubicBezTo>
                  <a:pt x="3625178" y="2516524"/>
                  <a:pt x="3645667" y="2496035"/>
                  <a:pt x="3645667" y="2470761"/>
                </a:cubicBezTo>
                <a:cubicBezTo>
                  <a:pt x="3645667" y="2445487"/>
                  <a:pt x="3625178" y="2424998"/>
                  <a:pt x="3599904" y="2424998"/>
                </a:cubicBezTo>
                <a:close/>
                <a:moveTo>
                  <a:pt x="5699080" y="2293949"/>
                </a:moveTo>
                <a:cubicBezTo>
                  <a:pt x="5673806" y="2293949"/>
                  <a:pt x="5653317" y="2314438"/>
                  <a:pt x="5653317" y="2339712"/>
                </a:cubicBezTo>
                <a:cubicBezTo>
                  <a:pt x="5653317" y="2364986"/>
                  <a:pt x="5673806" y="2385475"/>
                  <a:pt x="5699080" y="2385475"/>
                </a:cubicBezTo>
                <a:cubicBezTo>
                  <a:pt x="5724354" y="2385475"/>
                  <a:pt x="5744843" y="2364986"/>
                  <a:pt x="5744843" y="2339712"/>
                </a:cubicBezTo>
                <a:cubicBezTo>
                  <a:pt x="5744843" y="2314438"/>
                  <a:pt x="5724354" y="2293949"/>
                  <a:pt x="5699080" y="2293949"/>
                </a:cubicBezTo>
                <a:close/>
                <a:moveTo>
                  <a:pt x="1500728" y="2293949"/>
                </a:moveTo>
                <a:cubicBezTo>
                  <a:pt x="1475454" y="2293949"/>
                  <a:pt x="1454965" y="2314438"/>
                  <a:pt x="1454965" y="2339712"/>
                </a:cubicBezTo>
                <a:cubicBezTo>
                  <a:pt x="1454965" y="2364986"/>
                  <a:pt x="1475454" y="2385475"/>
                  <a:pt x="1500728" y="2385475"/>
                </a:cubicBezTo>
                <a:cubicBezTo>
                  <a:pt x="1526002" y="2385475"/>
                  <a:pt x="1546491" y="2364986"/>
                  <a:pt x="1546491" y="2339712"/>
                </a:cubicBezTo>
                <a:cubicBezTo>
                  <a:pt x="1546491" y="2314438"/>
                  <a:pt x="1526002" y="2293949"/>
                  <a:pt x="1500728" y="2293949"/>
                </a:cubicBezTo>
                <a:close/>
                <a:moveTo>
                  <a:pt x="5567966" y="2293948"/>
                </a:moveTo>
                <a:cubicBezTo>
                  <a:pt x="5542692" y="2293948"/>
                  <a:pt x="5522203" y="2314437"/>
                  <a:pt x="5522203" y="2339711"/>
                </a:cubicBezTo>
                <a:cubicBezTo>
                  <a:pt x="5522203" y="2364985"/>
                  <a:pt x="5542692" y="2385474"/>
                  <a:pt x="5567966" y="2385474"/>
                </a:cubicBezTo>
                <a:cubicBezTo>
                  <a:pt x="5593240" y="2385474"/>
                  <a:pt x="5613729" y="2364985"/>
                  <a:pt x="5613729" y="2339711"/>
                </a:cubicBezTo>
                <a:cubicBezTo>
                  <a:pt x="5613729" y="2314437"/>
                  <a:pt x="5593240" y="2293948"/>
                  <a:pt x="5567966" y="2293948"/>
                </a:cubicBezTo>
                <a:close/>
                <a:moveTo>
                  <a:pt x="5436788" y="2293948"/>
                </a:moveTo>
                <a:cubicBezTo>
                  <a:pt x="5411514" y="2293948"/>
                  <a:pt x="5391025" y="2314437"/>
                  <a:pt x="5391025" y="2339711"/>
                </a:cubicBezTo>
                <a:cubicBezTo>
                  <a:pt x="5391025" y="2364985"/>
                  <a:pt x="5411514" y="2385474"/>
                  <a:pt x="5436788" y="2385474"/>
                </a:cubicBezTo>
                <a:cubicBezTo>
                  <a:pt x="5462062" y="2385474"/>
                  <a:pt x="5482551" y="2364985"/>
                  <a:pt x="5482551" y="2339711"/>
                </a:cubicBezTo>
                <a:cubicBezTo>
                  <a:pt x="5482551" y="2314437"/>
                  <a:pt x="5462062" y="2293948"/>
                  <a:pt x="5436788" y="2293948"/>
                </a:cubicBezTo>
                <a:close/>
                <a:moveTo>
                  <a:pt x="5305609" y="2293948"/>
                </a:moveTo>
                <a:cubicBezTo>
                  <a:pt x="5280335" y="2293948"/>
                  <a:pt x="5259846" y="2314437"/>
                  <a:pt x="5259846" y="2339711"/>
                </a:cubicBezTo>
                <a:cubicBezTo>
                  <a:pt x="5259846" y="2364985"/>
                  <a:pt x="5280335" y="2385474"/>
                  <a:pt x="5305609" y="2385474"/>
                </a:cubicBezTo>
                <a:cubicBezTo>
                  <a:pt x="5330883" y="2385474"/>
                  <a:pt x="5351372" y="2364985"/>
                  <a:pt x="5351372" y="2339711"/>
                </a:cubicBezTo>
                <a:cubicBezTo>
                  <a:pt x="5351372" y="2314437"/>
                  <a:pt x="5330883" y="2293948"/>
                  <a:pt x="5305609" y="2293948"/>
                </a:cubicBezTo>
                <a:close/>
                <a:moveTo>
                  <a:pt x="5174431" y="2293948"/>
                </a:moveTo>
                <a:cubicBezTo>
                  <a:pt x="5149157" y="2293948"/>
                  <a:pt x="5128668" y="2314437"/>
                  <a:pt x="5128668" y="2339711"/>
                </a:cubicBezTo>
                <a:cubicBezTo>
                  <a:pt x="5128668" y="2364985"/>
                  <a:pt x="5149157" y="2385474"/>
                  <a:pt x="5174431" y="2385474"/>
                </a:cubicBezTo>
                <a:cubicBezTo>
                  <a:pt x="5199705" y="2385474"/>
                  <a:pt x="5220194" y="2364985"/>
                  <a:pt x="5220194" y="2339711"/>
                </a:cubicBezTo>
                <a:cubicBezTo>
                  <a:pt x="5220194" y="2314437"/>
                  <a:pt x="5199705" y="2293948"/>
                  <a:pt x="5174431" y="2293948"/>
                </a:cubicBezTo>
                <a:close/>
                <a:moveTo>
                  <a:pt x="5043252" y="2293948"/>
                </a:moveTo>
                <a:cubicBezTo>
                  <a:pt x="5017978" y="2293948"/>
                  <a:pt x="4997489" y="2314437"/>
                  <a:pt x="4997489" y="2339711"/>
                </a:cubicBezTo>
                <a:cubicBezTo>
                  <a:pt x="4997489" y="2364985"/>
                  <a:pt x="5017978" y="2385474"/>
                  <a:pt x="5043252" y="2385474"/>
                </a:cubicBezTo>
                <a:cubicBezTo>
                  <a:pt x="5068526" y="2385474"/>
                  <a:pt x="5089015" y="2364985"/>
                  <a:pt x="5089015" y="2339711"/>
                </a:cubicBezTo>
                <a:cubicBezTo>
                  <a:pt x="5089015" y="2314437"/>
                  <a:pt x="5068526" y="2293948"/>
                  <a:pt x="5043252" y="2293948"/>
                </a:cubicBezTo>
                <a:close/>
                <a:moveTo>
                  <a:pt x="4911689" y="2293948"/>
                </a:moveTo>
                <a:cubicBezTo>
                  <a:pt x="4886415" y="2293948"/>
                  <a:pt x="4865926" y="2314437"/>
                  <a:pt x="4865926" y="2339711"/>
                </a:cubicBezTo>
                <a:cubicBezTo>
                  <a:pt x="4865926" y="2364985"/>
                  <a:pt x="4886415" y="2385474"/>
                  <a:pt x="4911689" y="2385474"/>
                </a:cubicBezTo>
                <a:cubicBezTo>
                  <a:pt x="4936963" y="2385474"/>
                  <a:pt x="4957452" y="2364985"/>
                  <a:pt x="4957452" y="2339711"/>
                </a:cubicBezTo>
                <a:cubicBezTo>
                  <a:pt x="4957452" y="2314437"/>
                  <a:pt x="4936963" y="2293948"/>
                  <a:pt x="4911689" y="2293948"/>
                </a:cubicBezTo>
                <a:close/>
                <a:moveTo>
                  <a:pt x="4780510" y="2293948"/>
                </a:moveTo>
                <a:cubicBezTo>
                  <a:pt x="4755236" y="2293948"/>
                  <a:pt x="4734747" y="2314437"/>
                  <a:pt x="4734747" y="2339711"/>
                </a:cubicBezTo>
                <a:cubicBezTo>
                  <a:pt x="4734747" y="2364985"/>
                  <a:pt x="4755236" y="2385474"/>
                  <a:pt x="4780510" y="2385474"/>
                </a:cubicBezTo>
                <a:cubicBezTo>
                  <a:pt x="4805784" y="2385474"/>
                  <a:pt x="4826273" y="2364985"/>
                  <a:pt x="4826273" y="2339711"/>
                </a:cubicBezTo>
                <a:cubicBezTo>
                  <a:pt x="4826273" y="2314437"/>
                  <a:pt x="4805784" y="2293948"/>
                  <a:pt x="4780510" y="2293948"/>
                </a:cubicBezTo>
                <a:close/>
                <a:moveTo>
                  <a:pt x="4649332" y="2293948"/>
                </a:moveTo>
                <a:cubicBezTo>
                  <a:pt x="4624058" y="2293948"/>
                  <a:pt x="4603569" y="2314437"/>
                  <a:pt x="4603569" y="2339711"/>
                </a:cubicBezTo>
                <a:cubicBezTo>
                  <a:pt x="4603569" y="2364985"/>
                  <a:pt x="4624058" y="2385474"/>
                  <a:pt x="4649332" y="2385474"/>
                </a:cubicBezTo>
                <a:cubicBezTo>
                  <a:pt x="4674606" y="2385474"/>
                  <a:pt x="4695095" y="2364985"/>
                  <a:pt x="4695095" y="2339711"/>
                </a:cubicBezTo>
                <a:cubicBezTo>
                  <a:pt x="4695095" y="2314437"/>
                  <a:pt x="4674606" y="2293948"/>
                  <a:pt x="4649332" y="2293948"/>
                </a:cubicBezTo>
                <a:close/>
                <a:moveTo>
                  <a:pt x="4518153" y="2293948"/>
                </a:moveTo>
                <a:cubicBezTo>
                  <a:pt x="4492879" y="2293948"/>
                  <a:pt x="4472390" y="2314437"/>
                  <a:pt x="4472390" y="2339711"/>
                </a:cubicBezTo>
                <a:cubicBezTo>
                  <a:pt x="4472390" y="2364985"/>
                  <a:pt x="4492879" y="2385474"/>
                  <a:pt x="4518153" y="2385474"/>
                </a:cubicBezTo>
                <a:cubicBezTo>
                  <a:pt x="4543427" y="2385474"/>
                  <a:pt x="4563916" y="2364985"/>
                  <a:pt x="4563916" y="2339711"/>
                </a:cubicBezTo>
                <a:cubicBezTo>
                  <a:pt x="4563916" y="2314437"/>
                  <a:pt x="4543427" y="2293948"/>
                  <a:pt x="4518153" y="2293948"/>
                </a:cubicBezTo>
                <a:close/>
                <a:moveTo>
                  <a:pt x="4386975" y="2293948"/>
                </a:moveTo>
                <a:cubicBezTo>
                  <a:pt x="4361701" y="2293948"/>
                  <a:pt x="4341212" y="2314437"/>
                  <a:pt x="4341212" y="2339711"/>
                </a:cubicBezTo>
                <a:cubicBezTo>
                  <a:pt x="4341212" y="2364985"/>
                  <a:pt x="4361701" y="2385474"/>
                  <a:pt x="4386975" y="2385474"/>
                </a:cubicBezTo>
                <a:cubicBezTo>
                  <a:pt x="4412249" y="2385474"/>
                  <a:pt x="4432738" y="2364985"/>
                  <a:pt x="4432738" y="2339711"/>
                </a:cubicBezTo>
                <a:cubicBezTo>
                  <a:pt x="4432738" y="2314437"/>
                  <a:pt x="4412249" y="2293948"/>
                  <a:pt x="4386975" y="2293948"/>
                </a:cubicBezTo>
                <a:close/>
                <a:moveTo>
                  <a:pt x="4255796" y="2293948"/>
                </a:moveTo>
                <a:cubicBezTo>
                  <a:pt x="4230522" y="2293948"/>
                  <a:pt x="4210033" y="2314437"/>
                  <a:pt x="4210033" y="2339711"/>
                </a:cubicBezTo>
                <a:cubicBezTo>
                  <a:pt x="4210033" y="2364985"/>
                  <a:pt x="4230522" y="2385474"/>
                  <a:pt x="4255796" y="2385474"/>
                </a:cubicBezTo>
                <a:cubicBezTo>
                  <a:pt x="4281070" y="2385474"/>
                  <a:pt x="4301559" y="2364985"/>
                  <a:pt x="4301559" y="2339711"/>
                </a:cubicBezTo>
                <a:cubicBezTo>
                  <a:pt x="4301559" y="2314437"/>
                  <a:pt x="4281070" y="2293948"/>
                  <a:pt x="4255796" y="2293948"/>
                </a:cubicBezTo>
                <a:close/>
                <a:moveTo>
                  <a:pt x="4124618" y="2293948"/>
                </a:moveTo>
                <a:cubicBezTo>
                  <a:pt x="4099344" y="2293948"/>
                  <a:pt x="4078855" y="2314437"/>
                  <a:pt x="4078855" y="2339711"/>
                </a:cubicBezTo>
                <a:cubicBezTo>
                  <a:pt x="4078855" y="2364985"/>
                  <a:pt x="4099344" y="2385474"/>
                  <a:pt x="4124618" y="2385474"/>
                </a:cubicBezTo>
                <a:cubicBezTo>
                  <a:pt x="4149892" y="2385474"/>
                  <a:pt x="4170381" y="2364985"/>
                  <a:pt x="4170381" y="2339711"/>
                </a:cubicBezTo>
                <a:cubicBezTo>
                  <a:pt x="4170381" y="2314437"/>
                  <a:pt x="4149892" y="2293948"/>
                  <a:pt x="4124618" y="2293948"/>
                </a:cubicBezTo>
                <a:close/>
                <a:moveTo>
                  <a:pt x="3993439" y="2293948"/>
                </a:moveTo>
                <a:cubicBezTo>
                  <a:pt x="3968165" y="2293948"/>
                  <a:pt x="3947676" y="2314437"/>
                  <a:pt x="3947676" y="2339711"/>
                </a:cubicBezTo>
                <a:cubicBezTo>
                  <a:pt x="3947676" y="2364985"/>
                  <a:pt x="3968165" y="2385474"/>
                  <a:pt x="3993439" y="2385474"/>
                </a:cubicBezTo>
                <a:cubicBezTo>
                  <a:pt x="4018713" y="2385474"/>
                  <a:pt x="4039202" y="2364985"/>
                  <a:pt x="4039202" y="2339711"/>
                </a:cubicBezTo>
                <a:cubicBezTo>
                  <a:pt x="4039202" y="2314437"/>
                  <a:pt x="4018713" y="2293948"/>
                  <a:pt x="3993439" y="2293948"/>
                </a:cubicBezTo>
                <a:close/>
                <a:moveTo>
                  <a:pt x="3862070" y="2293948"/>
                </a:moveTo>
                <a:cubicBezTo>
                  <a:pt x="3836796" y="2293948"/>
                  <a:pt x="3816307" y="2314437"/>
                  <a:pt x="3816307" y="2339711"/>
                </a:cubicBezTo>
                <a:cubicBezTo>
                  <a:pt x="3816307" y="2364985"/>
                  <a:pt x="3836796" y="2385474"/>
                  <a:pt x="3862070" y="2385474"/>
                </a:cubicBezTo>
                <a:cubicBezTo>
                  <a:pt x="3887344" y="2385474"/>
                  <a:pt x="3907833" y="2364985"/>
                  <a:pt x="3907833" y="2339711"/>
                </a:cubicBezTo>
                <a:cubicBezTo>
                  <a:pt x="3907833" y="2314437"/>
                  <a:pt x="3887344" y="2293948"/>
                  <a:pt x="3862070" y="2293948"/>
                </a:cubicBezTo>
                <a:close/>
                <a:moveTo>
                  <a:pt x="3730892" y="2293948"/>
                </a:moveTo>
                <a:cubicBezTo>
                  <a:pt x="3705617" y="2293948"/>
                  <a:pt x="3685129" y="2314437"/>
                  <a:pt x="3685129" y="2339711"/>
                </a:cubicBezTo>
                <a:cubicBezTo>
                  <a:pt x="3685129" y="2364985"/>
                  <a:pt x="3705617" y="2385474"/>
                  <a:pt x="3730892" y="2385474"/>
                </a:cubicBezTo>
                <a:cubicBezTo>
                  <a:pt x="3756166" y="2385474"/>
                  <a:pt x="3776654" y="2364985"/>
                  <a:pt x="3776654" y="2339711"/>
                </a:cubicBezTo>
                <a:cubicBezTo>
                  <a:pt x="3776654" y="2314437"/>
                  <a:pt x="3756166" y="2293948"/>
                  <a:pt x="3730892" y="2293948"/>
                </a:cubicBezTo>
                <a:close/>
                <a:moveTo>
                  <a:pt x="3599713" y="2293948"/>
                </a:moveTo>
                <a:cubicBezTo>
                  <a:pt x="3574439" y="2293948"/>
                  <a:pt x="3553950" y="2314437"/>
                  <a:pt x="3553950" y="2339711"/>
                </a:cubicBezTo>
                <a:cubicBezTo>
                  <a:pt x="3553950" y="2364985"/>
                  <a:pt x="3574439" y="2385474"/>
                  <a:pt x="3599713" y="2385474"/>
                </a:cubicBezTo>
                <a:cubicBezTo>
                  <a:pt x="3624987" y="2385474"/>
                  <a:pt x="3645476" y="2364985"/>
                  <a:pt x="3645476" y="2339711"/>
                </a:cubicBezTo>
                <a:cubicBezTo>
                  <a:pt x="3645476" y="2314437"/>
                  <a:pt x="3624987" y="2293948"/>
                  <a:pt x="3599713" y="2293948"/>
                </a:cubicBezTo>
                <a:close/>
                <a:moveTo>
                  <a:pt x="3468535" y="2293948"/>
                </a:moveTo>
                <a:cubicBezTo>
                  <a:pt x="3443260" y="2293948"/>
                  <a:pt x="3422772" y="2314437"/>
                  <a:pt x="3422772" y="2339711"/>
                </a:cubicBezTo>
                <a:cubicBezTo>
                  <a:pt x="3422772" y="2364985"/>
                  <a:pt x="3443260" y="2385474"/>
                  <a:pt x="3468535" y="2385474"/>
                </a:cubicBezTo>
                <a:cubicBezTo>
                  <a:pt x="3493809" y="2385474"/>
                  <a:pt x="3514298" y="2364985"/>
                  <a:pt x="3514298" y="2339711"/>
                </a:cubicBezTo>
                <a:cubicBezTo>
                  <a:pt x="3514298" y="2314437"/>
                  <a:pt x="3493809" y="2293948"/>
                  <a:pt x="3468535" y="2293948"/>
                </a:cubicBezTo>
                <a:close/>
                <a:moveTo>
                  <a:pt x="3337356" y="2293948"/>
                </a:moveTo>
                <a:cubicBezTo>
                  <a:pt x="3312082" y="2293948"/>
                  <a:pt x="3291593" y="2314437"/>
                  <a:pt x="3291593" y="2339711"/>
                </a:cubicBezTo>
                <a:cubicBezTo>
                  <a:pt x="3291593" y="2364985"/>
                  <a:pt x="3312082" y="2385474"/>
                  <a:pt x="3337356" y="2385474"/>
                </a:cubicBezTo>
                <a:cubicBezTo>
                  <a:pt x="3362630" y="2385474"/>
                  <a:pt x="3383119" y="2364985"/>
                  <a:pt x="3383119" y="2339711"/>
                </a:cubicBezTo>
                <a:cubicBezTo>
                  <a:pt x="3383119" y="2314437"/>
                  <a:pt x="3362630" y="2293948"/>
                  <a:pt x="3337356" y="2293948"/>
                </a:cubicBezTo>
                <a:close/>
                <a:moveTo>
                  <a:pt x="3206178" y="2293948"/>
                </a:moveTo>
                <a:cubicBezTo>
                  <a:pt x="3180903" y="2293948"/>
                  <a:pt x="3160415" y="2314437"/>
                  <a:pt x="3160415" y="2339711"/>
                </a:cubicBezTo>
                <a:cubicBezTo>
                  <a:pt x="3160415" y="2364985"/>
                  <a:pt x="3180903" y="2385474"/>
                  <a:pt x="3206178" y="2385474"/>
                </a:cubicBezTo>
                <a:cubicBezTo>
                  <a:pt x="3231452" y="2385474"/>
                  <a:pt x="3251941" y="2364985"/>
                  <a:pt x="3251941" y="2339711"/>
                </a:cubicBezTo>
                <a:cubicBezTo>
                  <a:pt x="3251941" y="2314437"/>
                  <a:pt x="3231452" y="2293948"/>
                  <a:pt x="3206178" y="2293948"/>
                </a:cubicBezTo>
                <a:close/>
                <a:moveTo>
                  <a:pt x="3074999" y="2293948"/>
                </a:moveTo>
                <a:cubicBezTo>
                  <a:pt x="3049725" y="2293948"/>
                  <a:pt x="3029236" y="2314437"/>
                  <a:pt x="3029236" y="2339711"/>
                </a:cubicBezTo>
                <a:cubicBezTo>
                  <a:pt x="3029236" y="2364985"/>
                  <a:pt x="3049725" y="2385474"/>
                  <a:pt x="3074999" y="2385474"/>
                </a:cubicBezTo>
                <a:cubicBezTo>
                  <a:pt x="3100273" y="2385474"/>
                  <a:pt x="3120762" y="2364985"/>
                  <a:pt x="3120762" y="2339711"/>
                </a:cubicBezTo>
                <a:cubicBezTo>
                  <a:pt x="3120762" y="2314437"/>
                  <a:pt x="3100273" y="2293948"/>
                  <a:pt x="3074999" y="2293948"/>
                </a:cubicBezTo>
                <a:close/>
                <a:moveTo>
                  <a:pt x="2943821" y="2293948"/>
                </a:moveTo>
                <a:cubicBezTo>
                  <a:pt x="2918546" y="2293948"/>
                  <a:pt x="2898058" y="2314437"/>
                  <a:pt x="2898058" y="2339711"/>
                </a:cubicBezTo>
                <a:cubicBezTo>
                  <a:pt x="2898058" y="2364985"/>
                  <a:pt x="2918546" y="2385474"/>
                  <a:pt x="2943821" y="2385474"/>
                </a:cubicBezTo>
                <a:cubicBezTo>
                  <a:pt x="2969095" y="2385474"/>
                  <a:pt x="2989584" y="2364985"/>
                  <a:pt x="2989584" y="2339711"/>
                </a:cubicBezTo>
                <a:cubicBezTo>
                  <a:pt x="2989584" y="2314437"/>
                  <a:pt x="2969095" y="2293948"/>
                  <a:pt x="2943821" y="2293948"/>
                </a:cubicBezTo>
                <a:close/>
                <a:moveTo>
                  <a:pt x="2812642" y="2293948"/>
                </a:moveTo>
                <a:cubicBezTo>
                  <a:pt x="2787368" y="2293948"/>
                  <a:pt x="2766879" y="2314437"/>
                  <a:pt x="2766879" y="2339711"/>
                </a:cubicBezTo>
                <a:cubicBezTo>
                  <a:pt x="2766879" y="2364985"/>
                  <a:pt x="2787368" y="2385474"/>
                  <a:pt x="2812642" y="2385474"/>
                </a:cubicBezTo>
                <a:cubicBezTo>
                  <a:pt x="2837916" y="2385474"/>
                  <a:pt x="2858405" y="2364985"/>
                  <a:pt x="2858405" y="2339711"/>
                </a:cubicBezTo>
                <a:cubicBezTo>
                  <a:pt x="2858405" y="2314437"/>
                  <a:pt x="2837916" y="2293948"/>
                  <a:pt x="2812642" y="2293948"/>
                </a:cubicBezTo>
                <a:close/>
                <a:moveTo>
                  <a:pt x="2681464" y="2293948"/>
                </a:moveTo>
                <a:cubicBezTo>
                  <a:pt x="2656189" y="2293948"/>
                  <a:pt x="2635701" y="2314437"/>
                  <a:pt x="2635701" y="2339711"/>
                </a:cubicBezTo>
                <a:cubicBezTo>
                  <a:pt x="2635701" y="2364985"/>
                  <a:pt x="2656189" y="2385474"/>
                  <a:pt x="2681464" y="2385474"/>
                </a:cubicBezTo>
                <a:cubicBezTo>
                  <a:pt x="2706738" y="2385474"/>
                  <a:pt x="2727226" y="2364985"/>
                  <a:pt x="2727226" y="2339711"/>
                </a:cubicBezTo>
                <a:cubicBezTo>
                  <a:pt x="2727226" y="2314437"/>
                  <a:pt x="2706738" y="2293948"/>
                  <a:pt x="2681464" y="2293948"/>
                </a:cubicBezTo>
                <a:close/>
                <a:moveTo>
                  <a:pt x="2550285" y="2293948"/>
                </a:moveTo>
                <a:cubicBezTo>
                  <a:pt x="2525011" y="2293948"/>
                  <a:pt x="2504522" y="2314437"/>
                  <a:pt x="2504522" y="2339711"/>
                </a:cubicBezTo>
                <a:cubicBezTo>
                  <a:pt x="2504522" y="2364985"/>
                  <a:pt x="2525011" y="2385474"/>
                  <a:pt x="2550285" y="2385474"/>
                </a:cubicBezTo>
                <a:cubicBezTo>
                  <a:pt x="2575559" y="2385474"/>
                  <a:pt x="2596048" y="2364985"/>
                  <a:pt x="2596048" y="2339711"/>
                </a:cubicBezTo>
                <a:cubicBezTo>
                  <a:pt x="2596048" y="2314437"/>
                  <a:pt x="2575559" y="2293948"/>
                  <a:pt x="2550285" y="2293948"/>
                </a:cubicBezTo>
                <a:close/>
                <a:moveTo>
                  <a:pt x="2419107" y="2293948"/>
                </a:moveTo>
                <a:cubicBezTo>
                  <a:pt x="2393832" y="2293948"/>
                  <a:pt x="2373344" y="2314437"/>
                  <a:pt x="2373344" y="2339711"/>
                </a:cubicBezTo>
                <a:cubicBezTo>
                  <a:pt x="2373344" y="2364985"/>
                  <a:pt x="2393832" y="2385474"/>
                  <a:pt x="2419107" y="2385474"/>
                </a:cubicBezTo>
                <a:cubicBezTo>
                  <a:pt x="2444381" y="2385474"/>
                  <a:pt x="2464869" y="2364985"/>
                  <a:pt x="2464869" y="2339711"/>
                </a:cubicBezTo>
                <a:cubicBezTo>
                  <a:pt x="2464869" y="2314437"/>
                  <a:pt x="2444381" y="2293948"/>
                  <a:pt x="2419107" y="2293948"/>
                </a:cubicBezTo>
                <a:close/>
                <a:moveTo>
                  <a:pt x="2287928" y="2293948"/>
                </a:moveTo>
                <a:cubicBezTo>
                  <a:pt x="2262654" y="2293948"/>
                  <a:pt x="2242165" y="2314437"/>
                  <a:pt x="2242165" y="2339711"/>
                </a:cubicBezTo>
                <a:cubicBezTo>
                  <a:pt x="2242165" y="2364985"/>
                  <a:pt x="2262654" y="2385474"/>
                  <a:pt x="2287928" y="2385474"/>
                </a:cubicBezTo>
                <a:cubicBezTo>
                  <a:pt x="2313202" y="2385474"/>
                  <a:pt x="2333691" y="2364985"/>
                  <a:pt x="2333691" y="2339711"/>
                </a:cubicBezTo>
                <a:cubicBezTo>
                  <a:pt x="2333691" y="2314437"/>
                  <a:pt x="2313202" y="2293948"/>
                  <a:pt x="2287928" y="2293948"/>
                </a:cubicBezTo>
                <a:close/>
                <a:moveTo>
                  <a:pt x="2156750" y="2293948"/>
                </a:moveTo>
                <a:cubicBezTo>
                  <a:pt x="2131475" y="2293948"/>
                  <a:pt x="2110987" y="2314437"/>
                  <a:pt x="2110987" y="2339711"/>
                </a:cubicBezTo>
                <a:cubicBezTo>
                  <a:pt x="2110987" y="2364985"/>
                  <a:pt x="2131475" y="2385474"/>
                  <a:pt x="2156750" y="2385474"/>
                </a:cubicBezTo>
                <a:cubicBezTo>
                  <a:pt x="2182024" y="2385474"/>
                  <a:pt x="2202512" y="2364985"/>
                  <a:pt x="2202512" y="2339711"/>
                </a:cubicBezTo>
                <a:cubicBezTo>
                  <a:pt x="2202512" y="2314437"/>
                  <a:pt x="2182024" y="2293948"/>
                  <a:pt x="2156750" y="2293948"/>
                </a:cubicBezTo>
                <a:close/>
                <a:moveTo>
                  <a:pt x="2025571" y="2293948"/>
                </a:moveTo>
                <a:cubicBezTo>
                  <a:pt x="2000297" y="2293948"/>
                  <a:pt x="1979808" y="2314437"/>
                  <a:pt x="1979808" y="2339711"/>
                </a:cubicBezTo>
                <a:cubicBezTo>
                  <a:pt x="1979808" y="2364985"/>
                  <a:pt x="2000297" y="2385474"/>
                  <a:pt x="2025571" y="2385474"/>
                </a:cubicBezTo>
                <a:cubicBezTo>
                  <a:pt x="2050845" y="2385474"/>
                  <a:pt x="2071334" y="2364985"/>
                  <a:pt x="2071334" y="2339711"/>
                </a:cubicBezTo>
                <a:cubicBezTo>
                  <a:pt x="2071334" y="2314437"/>
                  <a:pt x="2050845" y="2293948"/>
                  <a:pt x="2025571" y="2293948"/>
                </a:cubicBezTo>
                <a:close/>
                <a:moveTo>
                  <a:pt x="1894393" y="2293948"/>
                </a:moveTo>
                <a:cubicBezTo>
                  <a:pt x="1869118" y="2293948"/>
                  <a:pt x="1848630" y="2314437"/>
                  <a:pt x="1848630" y="2339711"/>
                </a:cubicBezTo>
                <a:cubicBezTo>
                  <a:pt x="1848630" y="2364985"/>
                  <a:pt x="1869118" y="2385474"/>
                  <a:pt x="1894393" y="2385474"/>
                </a:cubicBezTo>
                <a:cubicBezTo>
                  <a:pt x="1919667" y="2385474"/>
                  <a:pt x="1940155" y="2364985"/>
                  <a:pt x="1940155" y="2339711"/>
                </a:cubicBezTo>
                <a:cubicBezTo>
                  <a:pt x="1940155" y="2314437"/>
                  <a:pt x="1919667" y="2293948"/>
                  <a:pt x="1894393" y="2293948"/>
                </a:cubicBezTo>
                <a:close/>
                <a:moveTo>
                  <a:pt x="1763214" y="2293948"/>
                </a:moveTo>
                <a:cubicBezTo>
                  <a:pt x="1737940" y="2293948"/>
                  <a:pt x="1717451" y="2314437"/>
                  <a:pt x="1717451" y="2339711"/>
                </a:cubicBezTo>
                <a:cubicBezTo>
                  <a:pt x="1717451" y="2364985"/>
                  <a:pt x="1737940" y="2385474"/>
                  <a:pt x="1763214" y="2385474"/>
                </a:cubicBezTo>
                <a:cubicBezTo>
                  <a:pt x="1788488" y="2385474"/>
                  <a:pt x="1808977" y="2364985"/>
                  <a:pt x="1808977" y="2339711"/>
                </a:cubicBezTo>
                <a:cubicBezTo>
                  <a:pt x="1808977" y="2314437"/>
                  <a:pt x="1788488" y="2293948"/>
                  <a:pt x="1763214" y="2293948"/>
                </a:cubicBezTo>
                <a:close/>
                <a:moveTo>
                  <a:pt x="1632036" y="2293948"/>
                </a:moveTo>
                <a:cubicBezTo>
                  <a:pt x="1606761" y="2293948"/>
                  <a:pt x="1586273" y="2314437"/>
                  <a:pt x="1586273" y="2339711"/>
                </a:cubicBezTo>
                <a:cubicBezTo>
                  <a:pt x="1586273" y="2364985"/>
                  <a:pt x="1606761" y="2385474"/>
                  <a:pt x="1632036" y="2385474"/>
                </a:cubicBezTo>
                <a:cubicBezTo>
                  <a:pt x="1657310" y="2385474"/>
                  <a:pt x="1677798" y="2364985"/>
                  <a:pt x="1677798" y="2339711"/>
                </a:cubicBezTo>
                <a:cubicBezTo>
                  <a:pt x="1677798" y="2314437"/>
                  <a:pt x="1657310" y="2293948"/>
                  <a:pt x="1632036" y="2293948"/>
                </a:cubicBezTo>
                <a:close/>
                <a:moveTo>
                  <a:pt x="5699080" y="2162770"/>
                </a:moveTo>
                <a:cubicBezTo>
                  <a:pt x="5673806" y="2162770"/>
                  <a:pt x="5653317" y="2183259"/>
                  <a:pt x="5653317" y="2208533"/>
                </a:cubicBezTo>
                <a:cubicBezTo>
                  <a:pt x="5653317" y="2233807"/>
                  <a:pt x="5673806" y="2254296"/>
                  <a:pt x="5699080" y="2254296"/>
                </a:cubicBezTo>
                <a:cubicBezTo>
                  <a:pt x="5724354" y="2254296"/>
                  <a:pt x="5744843" y="2233807"/>
                  <a:pt x="5744843" y="2208533"/>
                </a:cubicBezTo>
                <a:cubicBezTo>
                  <a:pt x="5744843" y="2183259"/>
                  <a:pt x="5724354" y="2162770"/>
                  <a:pt x="5699080" y="2162770"/>
                </a:cubicBezTo>
                <a:close/>
                <a:moveTo>
                  <a:pt x="1500728" y="2162770"/>
                </a:moveTo>
                <a:cubicBezTo>
                  <a:pt x="1475454" y="2162770"/>
                  <a:pt x="1454965" y="2183259"/>
                  <a:pt x="1454965" y="2208533"/>
                </a:cubicBezTo>
                <a:cubicBezTo>
                  <a:pt x="1454965" y="2233807"/>
                  <a:pt x="1475454" y="2254296"/>
                  <a:pt x="1500728" y="2254296"/>
                </a:cubicBezTo>
                <a:cubicBezTo>
                  <a:pt x="1526002" y="2254296"/>
                  <a:pt x="1546491" y="2233807"/>
                  <a:pt x="1546491" y="2208533"/>
                </a:cubicBezTo>
                <a:cubicBezTo>
                  <a:pt x="1546491" y="2183259"/>
                  <a:pt x="1526002" y="2162770"/>
                  <a:pt x="1500728" y="2162770"/>
                </a:cubicBezTo>
                <a:close/>
                <a:moveTo>
                  <a:pt x="3599904" y="2162641"/>
                </a:moveTo>
                <a:cubicBezTo>
                  <a:pt x="3574630" y="2162641"/>
                  <a:pt x="3554141" y="2183130"/>
                  <a:pt x="3554141" y="2208404"/>
                </a:cubicBezTo>
                <a:cubicBezTo>
                  <a:pt x="3554141" y="2233678"/>
                  <a:pt x="3574630" y="2254167"/>
                  <a:pt x="3599904" y="2254167"/>
                </a:cubicBezTo>
                <a:cubicBezTo>
                  <a:pt x="3625178" y="2254167"/>
                  <a:pt x="3645667" y="2233678"/>
                  <a:pt x="3645667" y="2208404"/>
                </a:cubicBezTo>
                <a:cubicBezTo>
                  <a:pt x="3645667" y="2183130"/>
                  <a:pt x="3625178" y="2162641"/>
                  <a:pt x="3599904" y="2162641"/>
                </a:cubicBezTo>
                <a:close/>
                <a:moveTo>
                  <a:pt x="5699080" y="2031592"/>
                </a:moveTo>
                <a:cubicBezTo>
                  <a:pt x="5673806" y="2031592"/>
                  <a:pt x="5653317" y="2052081"/>
                  <a:pt x="5653317" y="2077355"/>
                </a:cubicBezTo>
                <a:cubicBezTo>
                  <a:pt x="5653317" y="2102629"/>
                  <a:pt x="5673806" y="2123118"/>
                  <a:pt x="5699080" y="2123118"/>
                </a:cubicBezTo>
                <a:cubicBezTo>
                  <a:pt x="5724354" y="2123118"/>
                  <a:pt x="5744843" y="2102629"/>
                  <a:pt x="5744843" y="2077355"/>
                </a:cubicBezTo>
                <a:cubicBezTo>
                  <a:pt x="5744843" y="2052081"/>
                  <a:pt x="5724354" y="2031592"/>
                  <a:pt x="5699080" y="2031592"/>
                </a:cubicBezTo>
                <a:close/>
                <a:moveTo>
                  <a:pt x="1500728" y="2031592"/>
                </a:moveTo>
                <a:cubicBezTo>
                  <a:pt x="1475454" y="2031592"/>
                  <a:pt x="1454965" y="2052081"/>
                  <a:pt x="1454965" y="2077355"/>
                </a:cubicBezTo>
                <a:cubicBezTo>
                  <a:pt x="1454965" y="2102629"/>
                  <a:pt x="1475454" y="2123118"/>
                  <a:pt x="1500728" y="2123118"/>
                </a:cubicBezTo>
                <a:cubicBezTo>
                  <a:pt x="1526002" y="2123118"/>
                  <a:pt x="1546491" y="2102629"/>
                  <a:pt x="1546491" y="2077355"/>
                </a:cubicBezTo>
                <a:cubicBezTo>
                  <a:pt x="1546491" y="2052081"/>
                  <a:pt x="1526002" y="2031592"/>
                  <a:pt x="1500728" y="2031592"/>
                </a:cubicBezTo>
                <a:close/>
                <a:moveTo>
                  <a:pt x="3599904" y="2031463"/>
                </a:moveTo>
                <a:cubicBezTo>
                  <a:pt x="3574630" y="2031463"/>
                  <a:pt x="3554141" y="2051951"/>
                  <a:pt x="3554141" y="2077225"/>
                </a:cubicBezTo>
                <a:cubicBezTo>
                  <a:pt x="3554141" y="2102500"/>
                  <a:pt x="3574630" y="2122988"/>
                  <a:pt x="3599904" y="2122988"/>
                </a:cubicBezTo>
                <a:cubicBezTo>
                  <a:pt x="3625178" y="2122988"/>
                  <a:pt x="3645667" y="2102500"/>
                  <a:pt x="3645667" y="2077225"/>
                </a:cubicBezTo>
                <a:cubicBezTo>
                  <a:pt x="3645667" y="2051951"/>
                  <a:pt x="3625178" y="2031463"/>
                  <a:pt x="3599904" y="2031463"/>
                </a:cubicBezTo>
                <a:close/>
                <a:moveTo>
                  <a:pt x="5699080" y="1900413"/>
                </a:moveTo>
                <a:cubicBezTo>
                  <a:pt x="5673806" y="1900413"/>
                  <a:pt x="5653317" y="1920902"/>
                  <a:pt x="5653317" y="1946176"/>
                </a:cubicBezTo>
                <a:cubicBezTo>
                  <a:pt x="5653317" y="1971450"/>
                  <a:pt x="5673806" y="1991939"/>
                  <a:pt x="5699080" y="1991939"/>
                </a:cubicBezTo>
                <a:cubicBezTo>
                  <a:pt x="5724354" y="1991939"/>
                  <a:pt x="5744843" y="1971450"/>
                  <a:pt x="5744843" y="1946176"/>
                </a:cubicBezTo>
                <a:cubicBezTo>
                  <a:pt x="5744843" y="1920902"/>
                  <a:pt x="5724354" y="1900413"/>
                  <a:pt x="5699080" y="1900413"/>
                </a:cubicBezTo>
                <a:close/>
                <a:moveTo>
                  <a:pt x="1500728" y="1900413"/>
                </a:moveTo>
                <a:cubicBezTo>
                  <a:pt x="1475454" y="1900413"/>
                  <a:pt x="1454965" y="1920902"/>
                  <a:pt x="1454965" y="1946176"/>
                </a:cubicBezTo>
                <a:cubicBezTo>
                  <a:pt x="1454965" y="1971450"/>
                  <a:pt x="1475454" y="1991939"/>
                  <a:pt x="1500728" y="1991939"/>
                </a:cubicBezTo>
                <a:cubicBezTo>
                  <a:pt x="1526002" y="1991939"/>
                  <a:pt x="1546491" y="1971450"/>
                  <a:pt x="1546491" y="1946176"/>
                </a:cubicBezTo>
                <a:cubicBezTo>
                  <a:pt x="1546491" y="1920902"/>
                  <a:pt x="1526002" y="1900413"/>
                  <a:pt x="1500728" y="1900413"/>
                </a:cubicBezTo>
                <a:close/>
                <a:moveTo>
                  <a:pt x="3599904" y="1900284"/>
                </a:moveTo>
                <a:cubicBezTo>
                  <a:pt x="3574630" y="1900284"/>
                  <a:pt x="3554141" y="1920773"/>
                  <a:pt x="3554141" y="1946047"/>
                </a:cubicBezTo>
                <a:cubicBezTo>
                  <a:pt x="3554141" y="1971321"/>
                  <a:pt x="3574630" y="1991810"/>
                  <a:pt x="3599904" y="1991810"/>
                </a:cubicBezTo>
                <a:cubicBezTo>
                  <a:pt x="3625178" y="1991810"/>
                  <a:pt x="3645667" y="1971321"/>
                  <a:pt x="3645667" y="1946047"/>
                </a:cubicBezTo>
                <a:cubicBezTo>
                  <a:pt x="3645667" y="1920773"/>
                  <a:pt x="3625178" y="1900284"/>
                  <a:pt x="3599904" y="1900284"/>
                </a:cubicBezTo>
                <a:close/>
                <a:moveTo>
                  <a:pt x="5699080" y="1769235"/>
                </a:moveTo>
                <a:cubicBezTo>
                  <a:pt x="5673806" y="1769235"/>
                  <a:pt x="5653317" y="1789724"/>
                  <a:pt x="5653317" y="1814998"/>
                </a:cubicBezTo>
                <a:cubicBezTo>
                  <a:pt x="5653317" y="1840272"/>
                  <a:pt x="5673806" y="1860761"/>
                  <a:pt x="5699080" y="1860761"/>
                </a:cubicBezTo>
                <a:cubicBezTo>
                  <a:pt x="5724354" y="1860761"/>
                  <a:pt x="5744843" y="1840272"/>
                  <a:pt x="5744843" y="1814998"/>
                </a:cubicBezTo>
                <a:cubicBezTo>
                  <a:pt x="5744843" y="1789724"/>
                  <a:pt x="5724354" y="1769235"/>
                  <a:pt x="5699080" y="1769235"/>
                </a:cubicBezTo>
                <a:close/>
                <a:moveTo>
                  <a:pt x="1500728" y="1769235"/>
                </a:moveTo>
                <a:cubicBezTo>
                  <a:pt x="1475454" y="1769235"/>
                  <a:pt x="1454965" y="1789724"/>
                  <a:pt x="1454965" y="1814998"/>
                </a:cubicBezTo>
                <a:cubicBezTo>
                  <a:pt x="1454965" y="1840272"/>
                  <a:pt x="1475454" y="1860761"/>
                  <a:pt x="1500728" y="1860761"/>
                </a:cubicBezTo>
                <a:cubicBezTo>
                  <a:pt x="1526002" y="1860761"/>
                  <a:pt x="1546491" y="1840272"/>
                  <a:pt x="1546491" y="1814998"/>
                </a:cubicBezTo>
                <a:cubicBezTo>
                  <a:pt x="1546491" y="1789724"/>
                  <a:pt x="1526002" y="1769235"/>
                  <a:pt x="1500728" y="1769235"/>
                </a:cubicBezTo>
                <a:close/>
                <a:moveTo>
                  <a:pt x="3599904" y="1769106"/>
                </a:moveTo>
                <a:cubicBezTo>
                  <a:pt x="3574630" y="1769106"/>
                  <a:pt x="3554141" y="1789594"/>
                  <a:pt x="3554141" y="1814868"/>
                </a:cubicBezTo>
                <a:cubicBezTo>
                  <a:pt x="3554141" y="1840143"/>
                  <a:pt x="3574630" y="1860631"/>
                  <a:pt x="3599904" y="1860631"/>
                </a:cubicBezTo>
                <a:cubicBezTo>
                  <a:pt x="3625178" y="1860631"/>
                  <a:pt x="3645667" y="1840143"/>
                  <a:pt x="3645667" y="1814868"/>
                </a:cubicBezTo>
                <a:cubicBezTo>
                  <a:pt x="3645667" y="1789594"/>
                  <a:pt x="3625178" y="1769106"/>
                  <a:pt x="3599904" y="1769106"/>
                </a:cubicBezTo>
                <a:close/>
                <a:moveTo>
                  <a:pt x="5699080" y="1638056"/>
                </a:moveTo>
                <a:cubicBezTo>
                  <a:pt x="5673806" y="1638056"/>
                  <a:pt x="5653317" y="1658545"/>
                  <a:pt x="5653317" y="1683819"/>
                </a:cubicBezTo>
                <a:cubicBezTo>
                  <a:pt x="5653317" y="1709093"/>
                  <a:pt x="5673806" y="1729582"/>
                  <a:pt x="5699080" y="1729582"/>
                </a:cubicBezTo>
                <a:cubicBezTo>
                  <a:pt x="5724354" y="1729582"/>
                  <a:pt x="5744843" y="1709093"/>
                  <a:pt x="5744843" y="1683819"/>
                </a:cubicBezTo>
                <a:cubicBezTo>
                  <a:pt x="5744843" y="1658545"/>
                  <a:pt x="5724354" y="1638056"/>
                  <a:pt x="5699080" y="1638056"/>
                </a:cubicBezTo>
                <a:close/>
                <a:moveTo>
                  <a:pt x="1500728" y="1638056"/>
                </a:moveTo>
                <a:cubicBezTo>
                  <a:pt x="1475454" y="1638056"/>
                  <a:pt x="1454965" y="1658545"/>
                  <a:pt x="1454965" y="1683819"/>
                </a:cubicBezTo>
                <a:cubicBezTo>
                  <a:pt x="1454965" y="1709093"/>
                  <a:pt x="1475454" y="1729582"/>
                  <a:pt x="1500728" y="1729582"/>
                </a:cubicBezTo>
                <a:cubicBezTo>
                  <a:pt x="1526002" y="1729582"/>
                  <a:pt x="1546491" y="1709093"/>
                  <a:pt x="1546491" y="1683819"/>
                </a:cubicBezTo>
                <a:cubicBezTo>
                  <a:pt x="1546491" y="1658545"/>
                  <a:pt x="1526002" y="1638056"/>
                  <a:pt x="1500728" y="1638056"/>
                </a:cubicBezTo>
                <a:close/>
                <a:moveTo>
                  <a:pt x="3599904" y="1637927"/>
                </a:moveTo>
                <a:cubicBezTo>
                  <a:pt x="3574630" y="1637927"/>
                  <a:pt x="3554141" y="1658416"/>
                  <a:pt x="3554141" y="1683690"/>
                </a:cubicBezTo>
                <a:cubicBezTo>
                  <a:pt x="3554141" y="1708964"/>
                  <a:pt x="3574630" y="1729453"/>
                  <a:pt x="3599904" y="1729453"/>
                </a:cubicBezTo>
                <a:cubicBezTo>
                  <a:pt x="3625178" y="1729453"/>
                  <a:pt x="3645667" y="1708964"/>
                  <a:pt x="3645667" y="1683690"/>
                </a:cubicBezTo>
                <a:cubicBezTo>
                  <a:pt x="3645667" y="1658416"/>
                  <a:pt x="3625178" y="1637927"/>
                  <a:pt x="3599904" y="1637927"/>
                </a:cubicBezTo>
                <a:close/>
                <a:moveTo>
                  <a:pt x="5699080" y="1506878"/>
                </a:moveTo>
                <a:cubicBezTo>
                  <a:pt x="5673806" y="1506878"/>
                  <a:pt x="5653317" y="1527367"/>
                  <a:pt x="5653317" y="1552641"/>
                </a:cubicBezTo>
                <a:cubicBezTo>
                  <a:pt x="5653317" y="1577915"/>
                  <a:pt x="5673806" y="1598404"/>
                  <a:pt x="5699080" y="1598404"/>
                </a:cubicBezTo>
                <a:cubicBezTo>
                  <a:pt x="5724354" y="1598404"/>
                  <a:pt x="5744843" y="1577915"/>
                  <a:pt x="5744843" y="1552641"/>
                </a:cubicBezTo>
                <a:cubicBezTo>
                  <a:pt x="5744843" y="1527367"/>
                  <a:pt x="5724354" y="1506878"/>
                  <a:pt x="5699080" y="1506878"/>
                </a:cubicBezTo>
                <a:close/>
                <a:moveTo>
                  <a:pt x="1500728" y="1506878"/>
                </a:moveTo>
                <a:cubicBezTo>
                  <a:pt x="1475454" y="1506878"/>
                  <a:pt x="1454965" y="1527367"/>
                  <a:pt x="1454965" y="1552641"/>
                </a:cubicBezTo>
                <a:cubicBezTo>
                  <a:pt x="1454965" y="1577915"/>
                  <a:pt x="1475454" y="1598404"/>
                  <a:pt x="1500728" y="1598404"/>
                </a:cubicBezTo>
                <a:cubicBezTo>
                  <a:pt x="1526002" y="1598404"/>
                  <a:pt x="1546491" y="1577915"/>
                  <a:pt x="1546491" y="1552641"/>
                </a:cubicBezTo>
                <a:cubicBezTo>
                  <a:pt x="1546491" y="1527367"/>
                  <a:pt x="1526002" y="1506878"/>
                  <a:pt x="1500728" y="1506878"/>
                </a:cubicBezTo>
                <a:close/>
                <a:moveTo>
                  <a:pt x="3599904" y="1506749"/>
                </a:moveTo>
                <a:cubicBezTo>
                  <a:pt x="3574630" y="1506749"/>
                  <a:pt x="3554141" y="1527237"/>
                  <a:pt x="3554141" y="1552511"/>
                </a:cubicBezTo>
                <a:cubicBezTo>
                  <a:pt x="3554141" y="1577786"/>
                  <a:pt x="3574630" y="1598274"/>
                  <a:pt x="3599904" y="1598274"/>
                </a:cubicBezTo>
                <a:cubicBezTo>
                  <a:pt x="3625178" y="1598274"/>
                  <a:pt x="3645667" y="1577786"/>
                  <a:pt x="3645667" y="1552511"/>
                </a:cubicBezTo>
                <a:cubicBezTo>
                  <a:pt x="3645667" y="1527237"/>
                  <a:pt x="3625178" y="1506749"/>
                  <a:pt x="3599904" y="1506749"/>
                </a:cubicBezTo>
                <a:close/>
                <a:moveTo>
                  <a:pt x="5699080" y="1375699"/>
                </a:moveTo>
                <a:cubicBezTo>
                  <a:pt x="5673806" y="1375699"/>
                  <a:pt x="5653317" y="1396188"/>
                  <a:pt x="5653317" y="1421462"/>
                </a:cubicBezTo>
                <a:cubicBezTo>
                  <a:pt x="5653317" y="1446736"/>
                  <a:pt x="5673806" y="1467225"/>
                  <a:pt x="5699080" y="1467225"/>
                </a:cubicBezTo>
                <a:cubicBezTo>
                  <a:pt x="5724354" y="1467225"/>
                  <a:pt x="5744843" y="1446736"/>
                  <a:pt x="5744843" y="1421462"/>
                </a:cubicBezTo>
                <a:cubicBezTo>
                  <a:pt x="5744843" y="1396188"/>
                  <a:pt x="5724354" y="1375699"/>
                  <a:pt x="5699080" y="1375699"/>
                </a:cubicBezTo>
                <a:close/>
                <a:moveTo>
                  <a:pt x="1500728" y="1375699"/>
                </a:moveTo>
                <a:cubicBezTo>
                  <a:pt x="1475454" y="1375699"/>
                  <a:pt x="1454965" y="1396188"/>
                  <a:pt x="1454965" y="1421462"/>
                </a:cubicBezTo>
                <a:cubicBezTo>
                  <a:pt x="1454965" y="1446736"/>
                  <a:pt x="1475454" y="1467225"/>
                  <a:pt x="1500728" y="1467225"/>
                </a:cubicBezTo>
                <a:cubicBezTo>
                  <a:pt x="1526002" y="1467225"/>
                  <a:pt x="1546491" y="1446736"/>
                  <a:pt x="1546491" y="1421462"/>
                </a:cubicBezTo>
                <a:cubicBezTo>
                  <a:pt x="1546491" y="1396188"/>
                  <a:pt x="1526002" y="1375699"/>
                  <a:pt x="1500728" y="1375699"/>
                </a:cubicBezTo>
                <a:close/>
                <a:moveTo>
                  <a:pt x="3599904" y="1375570"/>
                </a:moveTo>
                <a:cubicBezTo>
                  <a:pt x="3574630" y="1375570"/>
                  <a:pt x="3554141" y="1396059"/>
                  <a:pt x="3554141" y="1421333"/>
                </a:cubicBezTo>
                <a:cubicBezTo>
                  <a:pt x="3554141" y="1446607"/>
                  <a:pt x="3574630" y="1467096"/>
                  <a:pt x="3599904" y="1467096"/>
                </a:cubicBezTo>
                <a:cubicBezTo>
                  <a:pt x="3625178" y="1467096"/>
                  <a:pt x="3645667" y="1446607"/>
                  <a:pt x="3645667" y="1421333"/>
                </a:cubicBezTo>
                <a:cubicBezTo>
                  <a:pt x="3645667" y="1396059"/>
                  <a:pt x="3625178" y="1375570"/>
                  <a:pt x="3599904" y="1375570"/>
                </a:cubicBezTo>
                <a:close/>
                <a:moveTo>
                  <a:pt x="5699080" y="1244521"/>
                </a:moveTo>
                <a:cubicBezTo>
                  <a:pt x="5673806" y="1244521"/>
                  <a:pt x="5653317" y="1265010"/>
                  <a:pt x="5653317" y="1290284"/>
                </a:cubicBezTo>
                <a:cubicBezTo>
                  <a:pt x="5653317" y="1315558"/>
                  <a:pt x="5673806" y="1336047"/>
                  <a:pt x="5699080" y="1336047"/>
                </a:cubicBezTo>
                <a:cubicBezTo>
                  <a:pt x="5724354" y="1336047"/>
                  <a:pt x="5744843" y="1315558"/>
                  <a:pt x="5744843" y="1290284"/>
                </a:cubicBezTo>
                <a:cubicBezTo>
                  <a:pt x="5744843" y="1265010"/>
                  <a:pt x="5724354" y="1244521"/>
                  <a:pt x="5699080" y="1244521"/>
                </a:cubicBezTo>
                <a:close/>
                <a:moveTo>
                  <a:pt x="1500728" y="1244521"/>
                </a:moveTo>
                <a:cubicBezTo>
                  <a:pt x="1475454" y="1244521"/>
                  <a:pt x="1454965" y="1265010"/>
                  <a:pt x="1454965" y="1290284"/>
                </a:cubicBezTo>
                <a:cubicBezTo>
                  <a:pt x="1454965" y="1315558"/>
                  <a:pt x="1475454" y="1336047"/>
                  <a:pt x="1500728" y="1336047"/>
                </a:cubicBezTo>
                <a:cubicBezTo>
                  <a:pt x="1526002" y="1336047"/>
                  <a:pt x="1546491" y="1315558"/>
                  <a:pt x="1546491" y="1290284"/>
                </a:cubicBezTo>
                <a:cubicBezTo>
                  <a:pt x="1546491" y="1265010"/>
                  <a:pt x="1526002" y="1244521"/>
                  <a:pt x="1500728" y="1244521"/>
                </a:cubicBezTo>
                <a:close/>
                <a:moveTo>
                  <a:pt x="3599904" y="1244392"/>
                </a:moveTo>
                <a:cubicBezTo>
                  <a:pt x="3574630" y="1244392"/>
                  <a:pt x="3554141" y="1264880"/>
                  <a:pt x="3554141" y="1290155"/>
                </a:cubicBezTo>
                <a:cubicBezTo>
                  <a:pt x="3554141" y="1315429"/>
                  <a:pt x="3574630" y="1335917"/>
                  <a:pt x="3599904" y="1335917"/>
                </a:cubicBezTo>
                <a:cubicBezTo>
                  <a:pt x="3625178" y="1335917"/>
                  <a:pt x="3645667" y="1315429"/>
                  <a:pt x="3645667" y="1290155"/>
                </a:cubicBezTo>
                <a:cubicBezTo>
                  <a:pt x="3645667" y="1264880"/>
                  <a:pt x="3625178" y="1244392"/>
                  <a:pt x="3599904" y="1244392"/>
                </a:cubicBezTo>
                <a:close/>
                <a:moveTo>
                  <a:pt x="5699080" y="1113342"/>
                </a:moveTo>
                <a:cubicBezTo>
                  <a:pt x="5673806" y="1113342"/>
                  <a:pt x="5653317" y="1133831"/>
                  <a:pt x="5653317" y="1159105"/>
                </a:cubicBezTo>
                <a:cubicBezTo>
                  <a:pt x="5653317" y="1184379"/>
                  <a:pt x="5673806" y="1204868"/>
                  <a:pt x="5699080" y="1204868"/>
                </a:cubicBezTo>
                <a:cubicBezTo>
                  <a:pt x="5724354" y="1204868"/>
                  <a:pt x="5744843" y="1184379"/>
                  <a:pt x="5744843" y="1159105"/>
                </a:cubicBezTo>
                <a:cubicBezTo>
                  <a:pt x="5744843" y="1133831"/>
                  <a:pt x="5724354" y="1113342"/>
                  <a:pt x="5699080" y="1113342"/>
                </a:cubicBezTo>
                <a:close/>
                <a:moveTo>
                  <a:pt x="1500728" y="1113342"/>
                </a:moveTo>
                <a:cubicBezTo>
                  <a:pt x="1475454" y="1113342"/>
                  <a:pt x="1454965" y="1133831"/>
                  <a:pt x="1454965" y="1159105"/>
                </a:cubicBezTo>
                <a:cubicBezTo>
                  <a:pt x="1454965" y="1184379"/>
                  <a:pt x="1475454" y="1204868"/>
                  <a:pt x="1500728" y="1204868"/>
                </a:cubicBezTo>
                <a:cubicBezTo>
                  <a:pt x="1526002" y="1204868"/>
                  <a:pt x="1546491" y="1184379"/>
                  <a:pt x="1546491" y="1159105"/>
                </a:cubicBezTo>
                <a:cubicBezTo>
                  <a:pt x="1546491" y="1133831"/>
                  <a:pt x="1526002" y="1113342"/>
                  <a:pt x="1500728" y="1113342"/>
                </a:cubicBezTo>
                <a:close/>
                <a:moveTo>
                  <a:pt x="3599904" y="1113213"/>
                </a:moveTo>
                <a:cubicBezTo>
                  <a:pt x="3574630" y="1113213"/>
                  <a:pt x="3554141" y="1133702"/>
                  <a:pt x="3554141" y="1158976"/>
                </a:cubicBezTo>
                <a:cubicBezTo>
                  <a:pt x="3554141" y="1184250"/>
                  <a:pt x="3574630" y="1204739"/>
                  <a:pt x="3599904" y="1204739"/>
                </a:cubicBezTo>
                <a:cubicBezTo>
                  <a:pt x="3625178" y="1204739"/>
                  <a:pt x="3645667" y="1184250"/>
                  <a:pt x="3645667" y="1158976"/>
                </a:cubicBezTo>
                <a:cubicBezTo>
                  <a:pt x="3645667" y="1133702"/>
                  <a:pt x="3625178" y="1113213"/>
                  <a:pt x="3599904" y="1113213"/>
                </a:cubicBezTo>
                <a:close/>
                <a:moveTo>
                  <a:pt x="5699080" y="982164"/>
                </a:moveTo>
                <a:cubicBezTo>
                  <a:pt x="5673806" y="982164"/>
                  <a:pt x="5653317" y="1002653"/>
                  <a:pt x="5653317" y="1027927"/>
                </a:cubicBezTo>
                <a:cubicBezTo>
                  <a:pt x="5653317" y="1053201"/>
                  <a:pt x="5673806" y="1073690"/>
                  <a:pt x="5699080" y="1073690"/>
                </a:cubicBezTo>
                <a:cubicBezTo>
                  <a:pt x="5724354" y="1073690"/>
                  <a:pt x="5744843" y="1053201"/>
                  <a:pt x="5744843" y="1027927"/>
                </a:cubicBezTo>
                <a:cubicBezTo>
                  <a:pt x="5744843" y="1002653"/>
                  <a:pt x="5724354" y="982164"/>
                  <a:pt x="5699080" y="982164"/>
                </a:cubicBezTo>
                <a:close/>
                <a:moveTo>
                  <a:pt x="1500728" y="982164"/>
                </a:moveTo>
                <a:cubicBezTo>
                  <a:pt x="1475454" y="982164"/>
                  <a:pt x="1454965" y="1002653"/>
                  <a:pt x="1454965" y="1027927"/>
                </a:cubicBezTo>
                <a:cubicBezTo>
                  <a:pt x="1454965" y="1053201"/>
                  <a:pt x="1475454" y="1073690"/>
                  <a:pt x="1500728" y="1073690"/>
                </a:cubicBezTo>
                <a:cubicBezTo>
                  <a:pt x="1526002" y="1073690"/>
                  <a:pt x="1546491" y="1053201"/>
                  <a:pt x="1546491" y="1027927"/>
                </a:cubicBezTo>
                <a:cubicBezTo>
                  <a:pt x="1546491" y="1002653"/>
                  <a:pt x="1526002" y="982164"/>
                  <a:pt x="1500728" y="982164"/>
                </a:cubicBezTo>
                <a:close/>
                <a:moveTo>
                  <a:pt x="3599904" y="982035"/>
                </a:moveTo>
                <a:cubicBezTo>
                  <a:pt x="3574630" y="982035"/>
                  <a:pt x="3554141" y="1002523"/>
                  <a:pt x="3554141" y="1027798"/>
                </a:cubicBezTo>
                <a:cubicBezTo>
                  <a:pt x="3554141" y="1053072"/>
                  <a:pt x="3574630" y="1073560"/>
                  <a:pt x="3599904" y="1073560"/>
                </a:cubicBezTo>
                <a:cubicBezTo>
                  <a:pt x="3625178" y="1073560"/>
                  <a:pt x="3645667" y="1053072"/>
                  <a:pt x="3645667" y="1027798"/>
                </a:cubicBezTo>
                <a:cubicBezTo>
                  <a:pt x="3645667" y="1002523"/>
                  <a:pt x="3625178" y="982035"/>
                  <a:pt x="3599904" y="982035"/>
                </a:cubicBezTo>
                <a:close/>
                <a:moveTo>
                  <a:pt x="5699080" y="850985"/>
                </a:moveTo>
                <a:cubicBezTo>
                  <a:pt x="5673806" y="850985"/>
                  <a:pt x="5653317" y="871474"/>
                  <a:pt x="5653317" y="896748"/>
                </a:cubicBezTo>
                <a:cubicBezTo>
                  <a:pt x="5653317" y="922022"/>
                  <a:pt x="5673806" y="942511"/>
                  <a:pt x="5699080" y="942511"/>
                </a:cubicBezTo>
                <a:cubicBezTo>
                  <a:pt x="5724354" y="942511"/>
                  <a:pt x="5744843" y="922022"/>
                  <a:pt x="5744843" y="896748"/>
                </a:cubicBezTo>
                <a:cubicBezTo>
                  <a:pt x="5744843" y="871474"/>
                  <a:pt x="5724354" y="850985"/>
                  <a:pt x="5699080" y="850985"/>
                </a:cubicBezTo>
                <a:close/>
                <a:moveTo>
                  <a:pt x="1500728" y="850985"/>
                </a:moveTo>
                <a:cubicBezTo>
                  <a:pt x="1475454" y="850985"/>
                  <a:pt x="1454965" y="871474"/>
                  <a:pt x="1454965" y="896748"/>
                </a:cubicBezTo>
                <a:cubicBezTo>
                  <a:pt x="1454965" y="922022"/>
                  <a:pt x="1475454" y="942511"/>
                  <a:pt x="1500728" y="942511"/>
                </a:cubicBezTo>
                <a:cubicBezTo>
                  <a:pt x="1526002" y="942511"/>
                  <a:pt x="1546491" y="922022"/>
                  <a:pt x="1546491" y="896748"/>
                </a:cubicBezTo>
                <a:cubicBezTo>
                  <a:pt x="1546491" y="871474"/>
                  <a:pt x="1526002" y="850985"/>
                  <a:pt x="1500728" y="850985"/>
                </a:cubicBezTo>
                <a:close/>
                <a:moveTo>
                  <a:pt x="3599904" y="850856"/>
                </a:moveTo>
                <a:cubicBezTo>
                  <a:pt x="3574630" y="850856"/>
                  <a:pt x="3554141" y="871345"/>
                  <a:pt x="3554141" y="896619"/>
                </a:cubicBezTo>
                <a:cubicBezTo>
                  <a:pt x="3554141" y="921893"/>
                  <a:pt x="3574630" y="942382"/>
                  <a:pt x="3599904" y="942382"/>
                </a:cubicBezTo>
                <a:cubicBezTo>
                  <a:pt x="3625178" y="942382"/>
                  <a:pt x="3645667" y="921893"/>
                  <a:pt x="3645667" y="896619"/>
                </a:cubicBezTo>
                <a:cubicBezTo>
                  <a:pt x="3645667" y="871345"/>
                  <a:pt x="3625178" y="850856"/>
                  <a:pt x="3599904" y="850856"/>
                </a:cubicBezTo>
                <a:close/>
                <a:moveTo>
                  <a:pt x="5699273" y="720000"/>
                </a:moveTo>
                <a:cubicBezTo>
                  <a:pt x="5673999" y="720000"/>
                  <a:pt x="5653510" y="740489"/>
                  <a:pt x="5653510" y="765763"/>
                </a:cubicBezTo>
                <a:cubicBezTo>
                  <a:pt x="5653510" y="791037"/>
                  <a:pt x="5673999" y="811526"/>
                  <a:pt x="5699273" y="811526"/>
                </a:cubicBezTo>
                <a:cubicBezTo>
                  <a:pt x="5724547" y="811526"/>
                  <a:pt x="5745036" y="791037"/>
                  <a:pt x="5745036" y="765763"/>
                </a:cubicBezTo>
                <a:cubicBezTo>
                  <a:pt x="5745036" y="740489"/>
                  <a:pt x="5724547" y="720000"/>
                  <a:pt x="5699273" y="720000"/>
                </a:cubicBezTo>
                <a:close/>
                <a:moveTo>
                  <a:pt x="5567838" y="720000"/>
                </a:moveTo>
                <a:cubicBezTo>
                  <a:pt x="5542564" y="720000"/>
                  <a:pt x="5522075" y="740489"/>
                  <a:pt x="5522075" y="765763"/>
                </a:cubicBezTo>
                <a:cubicBezTo>
                  <a:pt x="5522075" y="791037"/>
                  <a:pt x="5542564" y="811526"/>
                  <a:pt x="5567838" y="811526"/>
                </a:cubicBezTo>
                <a:cubicBezTo>
                  <a:pt x="5593112" y="811526"/>
                  <a:pt x="5613601" y="791037"/>
                  <a:pt x="5613601" y="765763"/>
                </a:cubicBezTo>
                <a:cubicBezTo>
                  <a:pt x="5613601" y="740489"/>
                  <a:pt x="5593112" y="720000"/>
                  <a:pt x="5567838" y="720000"/>
                </a:cubicBezTo>
                <a:close/>
                <a:moveTo>
                  <a:pt x="5436659" y="720000"/>
                </a:moveTo>
                <a:cubicBezTo>
                  <a:pt x="5411385" y="720000"/>
                  <a:pt x="5390896" y="740489"/>
                  <a:pt x="5390896" y="765763"/>
                </a:cubicBezTo>
                <a:cubicBezTo>
                  <a:pt x="5390896" y="791037"/>
                  <a:pt x="5411385" y="811526"/>
                  <a:pt x="5436659" y="811526"/>
                </a:cubicBezTo>
                <a:cubicBezTo>
                  <a:pt x="5461933" y="811526"/>
                  <a:pt x="5482422" y="791037"/>
                  <a:pt x="5482422" y="765763"/>
                </a:cubicBezTo>
                <a:cubicBezTo>
                  <a:pt x="5482422" y="740489"/>
                  <a:pt x="5461933" y="720000"/>
                  <a:pt x="5436659" y="720000"/>
                </a:cubicBezTo>
                <a:close/>
                <a:moveTo>
                  <a:pt x="5305481" y="720000"/>
                </a:moveTo>
                <a:cubicBezTo>
                  <a:pt x="5280207" y="720000"/>
                  <a:pt x="5259718" y="740489"/>
                  <a:pt x="5259718" y="765763"/>
                </a:cubicBezTo>
                <a:cubicBezTo>
                  <a:pt x="5259718" y="791037"/>
                  <a:pt x="5280207" y="811526"/>
                  <a:pt x="5305481" y="811526"/>
                </a:cubicBezTo>
                <a:cubicBezTo>
                  <a:pt x="5330755" y="811526"/>
                  <a:pt x="5351244" y="791037"/>
                  <a:pt x="5351244" y="765763"/>
                </a:cubicBezTo>
                <a:cubicBezTo>
                  <a:pt x="5351244" y="740489"/>
                  <a:pt x="5330755" y="720000"/>
                  <a:pt x="5305481" y="720000"/>
                </a:cubicBezTo>
                <a:close/>
                <a:moveTo>
                  <a:pt x="5174302" y="720000"/>
                </a:moveTo>
                <a:cubicBezTo>
                  <a:pt x="5149028" y="720000"/>
                  <a:pt x="5128539" y="740489"/>
                  <a:pt x="5128539" y="765763"/>
                </a:cubicBezTo>
                <a:cubicBezTo>
                  <a:pt x="5128539" y="791037"/>
                  <a:pt x="5149028" y="811526"/>
                  <a:pt x="5174302" y="811526"/>
                </a:cubicBezTo>
                <a:cubicBezTo>
                  <a:pt x="5199576" y="811526"/>
                  <a:pt x="5220065" y="791037"/>
                  <a:pt x="5220065" y="765763"/>
                </a:cubicBezTo>
                <a:cubicBezTo>
                  <a:pt x="5220065" y="740489"/>
                  <a:pt x="5199576" y="720000"/>
                  <a:pt x="5174302" y="720000"/>
                </a:cubicBezTo>
                <a:close/>
                <a:moveTo>
                  <a:pt x="5043124" y="720000"/>
                </a:moveTo>
                <a:cubicBezTo>
                  <a:pt x="5017850" y="720000"/>
                  <a:pt x="4997361" y="740489"/>
                  <a:pt x="4997361" y="765763"/>
                </a:cubicBezTo>
                <a:cubicBezTo>
                  <a:pt x="4997361" y="791037"/>
                  <a:pt x="5017850" y="811526"/>
                  <a:pt x="5043124" y="811526"/>
                </a:cubicBezTo>
                <a:cubicBezTo>
                  <a:pt x="5068398" y="811526"/>
                  <a:pt x="5088887" y="791037"/>
                  <a:pt x="5088887" y="765763"/>
                </a:cubicBezTo>
                <a:cubicBezTo>
                  <a:pt x="5088887" y="740489"/>
                  <a:pt x="5068398" y="720000"/>
                  <a:pt x="5043124" y="720000"/>
                </a:cubicBezTo>
                <a:close/>
                <a:moveTo>
                  <a:pt x="4911560" y="720000"/>
                </a:moveTo>
                <a:cubicBezTo>
                  <a:pt x="4886286" y="720000"/>
                  <a:pt x="4865797" y="740489"/>
                  <a:pt x="4865797" y="765763"/>
                </a:cubicBezTo>
                <a:cubicBezTo>
                  <a:pt x="4865797" y="791037"/>
                  <a:pt x="4886286" y="811526"/>
                  <a:pt x="4911560" y="811526"/>
                </a:cubicBezTo>
                <a:cubicBezTo>
                  <a:pt x="4936834" y="811526"/>
                  <a:pt x="4957323" y="791037"/>
                  <a:pt x="4957323" y="765763"/>
                </a:cubicBezTo>
                <a:cubicBezTo>
                  <a:pt x="4957323" y="740489"/>
                  <a:pt x="4936834" y="720000"/>
                  <a:pt x="4911560" y="720000"/>
                </a:cubicBezTo>
                <a:close/>
                <a:moveTo>
                  <a:pt x="4780382" y="720000"/>
                </a:moveTo>
                <a:cubicBezTo>
                  <a:pt x="4755107" y="720000"/>
                  <a:pt x="4734619" y="740489"/>
                  <a:pt x="4734619" y="765763"/>
                </a:cubicBezTo>
                <a:cubicBezTo>
                  <a:pt x="4734619" y="791037"/>
                  <a:pt x="4755107" y="811526"/>
                  <a:pt x="4780382" y="811526"/>
                </a:cubicBezTo>
                <a:cubicBezTo>
                  <a:pt x="4805656" y="811526"/>
                  <a:pt x="4826144" y="791037"/>
                  <a:pt x="4826144" y="765763"/>
                </a:cubicBezTo>
                <a:cubicBezTo>
                  <a:pt x="4826144" y="740489"/>
                  <a:pt x="4805656" y="720000"/>
                  <a:pt x="4780382" y="720000"/>
                </a:cubicBezTo>
                <a:close/>
                <a:moveTo>
                  <a:pt x="4649203" y="720000"/>
                </a:moveTo>
                <a:cubicBezTo>
                  <a:pt x="4623929" y="720000"/>
                  <a:pt x="4603440" y="740489"/>
                  <a:pt x="4603440" y="765763"/>
                </a:cubicBezTo>
                <a:cubicBezTo>
                  <a:pt x="4603440" y="791037"/>
                  <a:pt x="4623929" y="811526"/>
                  <a:pt x="4649203" y="811526"/>
                </a:cubicBezTo>
                <a:cubicBezTo>
                  <a:pt x="4674477" y="811526"/>
                  <a:pt x="4694966" y="791037"/>
                  <a:pt x="4694966" y="765763"/>
                </a:cubicBezTo>
                <a:cubicBezTo>
                  <a:pt x="4694966" y="740489"/>
                  <a:pt x="4674477" y="720000"/>
                  <a:pt x="4649203" y="720000"/>
                </a:cubicBezTo>
                <a:close/>
                <a:moveTo>
                  <a:pt x="4518025" y="720000"/>
                </a:moveTo>
                <a:cubicBezTo>
                  <a:pt x="4492750" y="720000"/>
                  <a:pt x="4472262" y="740489"/>
                  <a:pt x="4472262" y="765763"/>
                </a:cubicBezTo>
                <a:cubicBezTo>
                  <a:pt x="4472262" y="791037"/>
                  <a:pt x="4492750" y="811526"/>
                  <a:pt x="4518025" y="811526"/>
                </a:cubicBezTo>
                <a:cubicBezTo>
                  <a:pt x="4543299" y="811526"/>
                  <a:pt x="4563787" y="791037"/>
                  <a:pt x="4563787" y="765763"/>
                </a:cubicBezTo>
                <a:cubicBezTo>
                  <a:pt x="4563787" y="740489"/>
                  <a:pt x="4543299" y="720000"/>
                  <a:pt x="4518025" y="720000"/>
                </a:cubicBezTo>
                <a:close/>
                <a:moveTo>
                  <a:pt x="4386846" y="720000"/>
                </a:moveTo>
                <a:cubicBezTo>
                  <a:pt x="4361572" y="720000"/>
                  <a:pt x="4341083" y="740489"/>
                  <a:pt x="4341083" y="765763"/>
                </a:cubicBezTo>
                <a:cubicBezTo>
                  <a:pt x="4341083" y="791037"/>
                  <a:pt x="4361572" y="811526"/>
                  <a:pt x="4386846" y="811526"/>
                </a:cubicBezTo>
                <a:cubicBezTo>
                  <a:pt x="4412120" y="811526"/>
                  <a:pt x="4432609" y="791037"/>
                  <a:pt x="4432609" y="765763"/>
                </a:cubicBezTo>
                <a:cubicBezTo>
                  <a:pt x="4432609" y="740489"/>
                  <a:pt x="4412120" y="720000"/>
                  <a:pt x="4386846" y="720000"/>
                </a:cubicBezTo>
                <a:close/>
                <a:moveTo>
                  <a:pt x="4255668" y="720000"/>
                </a:moveTo>
                <a:cubicBezTo>
                  <a:pt x="4230393" y="720000"/>
                  <a:pt x="4209905" y="740489"/>
                  <a:pt x="4209905" y="765763"/>
                </a:cubicBezTo>
                <a:cubicBezTo>
                  <a:pt x="4209905" y="791037"/>
                  <a:pt x="4230393" y="811526"/>
                  <a:pt x="4255668" y="811526"/>
                </a:cubicBezTo>
                <a:cubicBezTo>
                  <a:pt x="4280942" y="811526"/>
                  <a:pt x="4301430" y="791037"/>
                  <a:pt x="4301430" y="765763"/>
                </a:cubicBezTo>
                <a:cubicBezTo>
                  <a:pt x="4301430" y="740489"/>
                  <a:pt x="4280942" y="720000"/>
                  <a:pt x="4255668" y="720000"/>
                </a:cubicBezTo>
                <a:close/>
                <a:moveTo>
                  <a:pt x="4124489" y="720000"/>
                </a:moveTo>
                <a:cubicBezTo>
                  <a:pt x="4099215" y="720000"/>
                  <a:pt x="4078726" y="740489"/>
                  <a:pt x="4078726" y="765763"/>
                </a:cubicBezTo>
                <a:cubicBezTo>
                  <a:pt x="4078726" y="791037"/>
                  <a:pt x="4099215" y="811526"/>
                  <a:pt x="4124489" y="811526"/>
                </a:cubicBezTo>
                <a:cubicBezTo>
                  <a:pt x="4149763" y="811526"/>
                  <a:pt x="4170252" y="791037"/>
                  <a:pt x="4170252" y="765763"/>
                </a:cubicBezTo>
                <a:cubicBezTo>
                  <a:pt x="4170252" y="740489"/>
                  <a:pt x="4149763" y="720000"/>
                  <a:pt x="4124489" y="720000"/>
                </a:cubicBezTo>
                <a:close/>
                <a:moveTo>
                  <a:pt x="3993311" y="720000"/>
                </a:moveTo>
                <a:cubicBezTo>
                  <a:pt x="3968036" y="720000"/>
                  <a:pt x="3947548" y="740489"/>
                  <a:pt x="3947548" y="765763"/>
                </a:cubicBezTo>
                <a:cubicBezTo>
                  <a:pt x="3947548" y="791037"/>
                  <a:pt x="3968036" y="811526"/>
                  <a:pt x="3993311" y="811526"/>
                </a:cubicBezTo>
                <a:cubicBezTo>
                  <a:pt x="4018585" y="811526"/>
                  <a:pt x="4039073" y="791037"/>
                  <a:pt x="4039073" y="765763"/>
                </a:cubicBezTo>
                <a:cubicBezTo>
                  <a:pt x="4039073" y="740489"/>
                  <a:pt x="4018585" y="720000"/>
                  <a:pt x="3993311" y="720000"/>
                </a:cubicBezTo>
                <a:close/>
                <a:moveTo>
                  <a:pt x="3861941" y="720000"/>
                </a:moveTo>
                <a:cubicBezTo>
                  <a:pt x="3836667" y="720000"/>
                  <a:pt x="3816179" y="740489"/>
                  <a:pt x="3816179" y="765763"/>
                </a:cubicBezTo>
                <a:cubicBezTo>
                  <a:pt x="3816179" y="791037"/>
                  <a:pt x="3836667" y="811526"/>
                  <a:pt x="3861941" y="811526"/>
                </a:cubicBezTo>
                <a:cubicBezTo>
                  <a:pt x="3887216" y="811526"/>
                  <a:pt x="3907704" y="791037"/>
                  <a:pt x="3907704" y="765763"/>
                </a:cubicBezTo>
                <a:cubicBezTo>
                  <a:pt x="3907704" y="740489"/>
                  <a:pt x="3887216" y="720000"/>
                  <a:pt x="3861941" y="720000"/>
                </a:cubicBezTo>
                <a:close/>
                <a:moveTo>
                  <a:pt x="3730763" y="720000"/>
                </a:moveTo>
                <a:cubicBezTo>
                  <a:pt x="3705489" y="720000"/>
                  <a:pt x="3685000" y="740489"/>
                  <a:pt x="3685000" y="765763"/>
                </a:cubicBezTo>
                <a:cubicBezTo>
                  <a:pt x="3685000" y="791037"/>
                  <a:pt x="3705489" y="811526"/>
                  <a:pt x="3730763" y="811526"/>
                </a:cubicBezTo>
                <a:cubicBezTo>
                  <a:pt x="3756037" y="811526"/>
                  <a:pt x="3776526" y="791037"/>
                  <a:pt x="3776526" y="765763"/>
                </a:cubicBezTo>
                <a:cubicBezTo>
                  <a:pt x="3776526" y="740489"/>
                  <a:pt x="3756037" y="720000"/>
                  <a:pt x="3730763" y="720000"/>
                </a:cubicBezTo>
                <a:close/>
                <a:moveTo>
                  <a:pt x="3599584" y="720000"/>
                </a:moveTo>
                <a:cubicBezTo>
                  <a:pt x="3574310" y="720000"/>
                  <a:pt x="3553822" y="740489"/>
                  <a:pt x="3553822" y="765763"/>
                </a:cubicBezTo>
                <a:cubicBezTo>
                  <a:pt x="3553822" y="791037"/>
                  <a:pt x="3574310" y="811526"/>
                  <a:pt x="3599584" y="811526"/>
                </a:cubicBezTo>
                <a:cubicBezTo>
                  <a:pt x="3624859" y="811526"/>
                  <a:pt x="3645347" y="791037"/>
                  <a:pt x="3645347" y="765763"/>
                </a:cubicBezTo>
                <a:cubicBezTo>
                  <a:pt x="3645347" y="740489"/>
                  <a:pt x="3624859" y="720000"/>
                  <a:pt x="3599584" y="720000"/>
                </a:cubicBezTo>
                <a:close/>
                <a:moveTo>
                  <a:pt x="3468406" y="720000"/>
                </a:moveTo>
                <a:cubicBezTo>
                  <a:pt x="3443132" y="720000"/>
                  <a:pt x="3422643" y="740489"/>
                  <a:pt x="3422643" y="765763"/>
                </a:cubicBezTo>
                <a:cubicBezTo>
                  <a:pt x="3422643" y="791037"/>
                  <a:pt x="3443132" y="811526"/>
                  <a:pt x="3468406" y="811526"/>
                </a:cubicBezTo>
                <a:cubicBezTo>
                  <a:pt x="3493680" y="811526"/>
                  <a:pt x="3514169" y="791037"/>
                  <a:pt x="3514169" y="765763"/>
                </a:cubicBezTo>
                <a:cubicBezTo>
                  <a:pt x="3514169" y="740489"/>
                  <a:pt x="3493680" y="720000"/>
                  <a:pt x="3468406" y="720000"/>
                </a:cubicBezTo>
                <a:close/>
                <a:moveTo>
                  <a:pt x="3337227" y="720000"/>
                </a:moveTo>
                <a:cubicBezTo>
                  <a:pt x="3311953" y="720000"/>
                  <a:pt x="3291465" y="740489"/>
                  <a:pt x="3291465" y="765763"/>
                </a:cubicBezTo>
                <a:cubicBezTo>
                  <a:pt x="3291465" y="791037"/>
                  <a:pt x="3311953" y="811526"/>
                  <a:pt x="3337227" y="811526"/>
                </a:cubicBezTo>
                <a:cubicBezTo>
                  <a:pt x="3362502" y="811526"/>
                  <a:pt x="3382990" y="791037"/>
                  <a:pt x="3382990" y="765763"/>
                </a:cubicBezTo>
                <a:cubicBezTo>
                  <a:pt x="3382990" y="740489"/>
                  <a:pt x="3362502" y="720000"/>
                  <a:pt x="3337227" y="720000"/>
                </a:cubicBezTo>
                <a:close/>
                <a:moveTo>
                  <a:pt x="3206049" y="720000"/>
                </a:moveTo>
                <a:cubicBezTo>
                  <a:pt x="3180775" y="720000"/>
                  <a:pt x="3160286" y="740489"/>
                  <a:pt x="3160286" y="765763"/>
                </a:cubicBezTo>
                <a:cubicBezTo>
                  <a:pt x="3160286" y="791037"/>
                  <a:pt x="3180775" y="811526"/>
                  <a:pt x="3206049" y="811526"/>
                </a:cubicBezTo>
                <a:cubicBezTo>
                  <a:pt x="3231323" y="811526"/>
                  <a:pt x="3251812" y="791037"/>
                  <a:pt x="3251812" y="765763"/>
                </a:cubicBezTo>
                <a:cubicBezTo>
                  <a:pt x="3251812" y="740489"/>
                  <a:pt x="3231323" y="720000"/>
                  <a:pt x="3206049" y="720000"/>
                </a:cubicBezTo>
                <a:close/>
                <a:moveTo>
                  <a:pt x="3074870" y="720000"/>
                </a:moveTo>
                <a:cubicBezTo>
                  <a:pt x="3049596" y="720000"/>
                  <a:pt x="3029108" y="740489"/>
                  <a:pt x="3029108" y="765763"/>
                </a:cubicBezTo>
                <a:cubicBezTo>
                  <a:pt x="3029108" y="791037"/>
                  <a:pt x="3049596" y="811526"/>
                  <a:pt x="3074870" y="811526"/>
                </a:cubicBezTo>
                <a:cubicBezTo>
                  <a:pt x="3100145" y="811526"/>
                  <a:pt x="3120633" y="791037"/>
                  <a:pt x="3120633" y="765763"/>
                </a:cubicBezTo>
                <a:cubicBezTo>
                  <a:pt x="3120633" y="740489"/>
                  <a:pt x="3100145" y="720000"/>
                  <a:pt x="3074870" y="720000"/>
                </a:cubicBezTo>
                <a:close/>
                <a:moveTo>
                  <a:pt x="2943692" y="720000"/>
                </a:moveTo>
                <a:cubicBezTo>
                  <a:pt x="2918418" y="720000"/>
                  <a:pt x="2897929" y="740489"/>
                  <a:pt x="2897929" y="765763"/>
                </a:cubicBezTo>
                <a:cubicBezTo>
                  <a:pt x="2897929" y="791037"/>
                  <a:pt x="2918418" y="811526"/>
                  <a:pt x="2943692" y="811526"/>
                </a:cubicBezTo>
                <a:cubicBezTo>
                  <a:pt x="2968966" y="811526"/>
                  <a:pt x="2989455" y="791037"/>
                  <a:pt x="2989455" y="765763"/>
                </a:cubicBezTo>
                <a:cubicBezTo>
                  <a:pt x="2989455" y="740489"/>
                  <a:pt x="2968966" y="720000"/>
                  <a:pt x="2943692" y="720000"/>
                </a:cubicBezTo>
                <a:close/>
                <a:moveTo>
                  <a:pt x="2812513" y="720000"/>
                </a:moveTo>
                <a:cubicBezTo>
                  <a:pt x="2787239" y="720000"/>
                  <a:pt x="2766751" y="740489"/>
                  <a:pt x="2766751" y="765763"/>
                </a:cubicBezTo>
                <a:cubicBezTo>
                  <a:pt x="2766751" y="791037"/>
                  <a:pt x="2787239" y="811526"/>
                  <a:pt x="2812513" y="811526"/>
                </a:cubicBezTo>
                <a:cubicBezTo>
                  <a:pt x="2837788" y="811526"/>
                  <a:pt x="2858276" y="791037"/>
                  <a:pt x="2858276" y="765763"/>
                </a:cubicBezTo>
                <a:cubicBezTo>
                  <a:pt x="2858276" y="740489"/>
                  <a:pt x="2837788" y="720000"/>
                  <a:pt x="2812513" y="720000"/>
                </a:cubicBezTo>
                <a:close/>
                <a:moveTo>
                  <a:pt x="2681335" y="720000"/>
                </a:moveTo>
                <a:cubicBezTo>
                  <a:pt x="2656061" y="720000"/>
                  <a:pt x="2635572" y="740489"/>
                  <a:pt x="2635572" y="765763"/>
                </a:cubicBezTo>
                <a:cubicBezTo>
                  <a:pt x="2635572" y="791037"/>
                  <a:pt x="2656061" y="811526"/>
                  <a:pt x="2681335" y="811526"/>
                </a:cubicBezTo>
                <a:cubicBezTo>
                  <a:pt x="2706609" y="811526"/>
                  <a:pt x="2727098" y="791037"/>
                  <a:pt x="2727098" y="765763"/>
                </a:cubicBezTo>
                <a:cubicBezTo>
                  <a:pt x="2727098" y="740489"/>
                  <a:pt x="2706609" y="720000"/>
                  <a:pt x="2681335" y="720000"/>
                </a:cubicBezTo>
                <a:close/>
                <a:moveTo>
                  <a:pt x="2550156" y="720000"/>
                </a:moveTo>
                <a:cubicBezTo>
                  <a:pt x="2524882" y="720000"/>
                  <a:pt x="2504394" y="740489"/>
                  <a:pt x="2504394" y="765763"/>
                </a:cubicBezTo>
                <a:cubicBezTo>
                  <a:pt x="2504394" y="791037"/>
                  <a:pt x="2524882" y="811526"/>
                  <a:pt x="2550156" y="811526"/>
                </a:cubicBezTo>
                <a:cubicBezTo>
                  <a:pt x="2575431" y="811526"/>
                  <a:pt x="2595919" y="791037"/>
                  <a:pt x="2595919" y="765763"/>
                </a:cubicBezTo>
                <a:cubicBezTo>
                  <a:pt x="2595919" y="740489"/>
                  <a:pt x="2575431" y="720000"/>
                  <a:pt x="2550156" y="720000"/>
                </a:cubicBezTo>
                <a:close/>
                <a:moveTo>
                  <a:pt x="2418978" y="720000"/>
                </a:moveTo>
                <a:cubicBezTo>
                  <a:pt x="2393704" y="720000"/>
                  <a:pt x="2373215" y="740489"/>
                  <a:pt x="2373215" y="765763"/>
                </a:cubicBezTo>
                <a:cubicBezTo>
                  <a:pt x="2373215" y="791037"/>
                  <a:pt x="2393704" y="811526"/>
                  <a:pt x="2418978" y="811526"/>
                </a:cubicBezTo>
                <a:cubicBezTo>
                  <a:pt x="2444252" y="811526"/>
                  <a:pt x="2464741" y="791037"/>
                  <a:pt x="2464741" y="765763"/>
                </a:cubicBezTo>
                <a:cubicBezTo>
                  <a:pt x="2464741" y="740489"/>
                  <a:pt x="2444252" y="720000"/>
                  <a:pt x="2418978" y="720000"/>
                </a:cubicBezTo>
                <a:close/>
                <a:moveTo>
                  <a:pt x="2287799" y="720000"/>
                </a:moveTo>
                <a:cubicBezTo>
                  <a:pt x="2262525" y="720000"/>
                  <a:pt x="2242037" y="740489"/>
                  <a:pt x="2242037" y="765763"/>
                </a:cubicBezTo>
                <a:cubicBezTo>
                  <a:pt x="2242037" y="791037"/>
                  <a:pt x="2262525" y="811526"/>
                  <a:pt x="2287799" y="811526"/>
                </a:cubicBezTo>
                <a:cubicBezTo>
                  <a:pt x="2313074" y="811526"/>
                  <a:pt x="2333562" y="791037"/>
                  <a:pt x="2333562" y="765763"/>
                </a:cubicBezTo>
                <a:cubicBezTo>
                  <a:pt x="2333562" y="740489"/>
                  <a:pt x="2313074" y="720000"/>
                  <a:pt x="2287799" y="720000"/>
                </a:cubicBezTo>
                <a:close/>
                <a:moveTo>
                  <a:pt x="2156621" y="720000"/>
                </a:moveTo>
                <a:cubicBezTo>
                  <a:pt x="2131347" y="720000"/>
                  <a:pt x="2110858" y="740489"/>
                  <a:pt x="2110858" y="765763"/>
                </a:cubicBezTo>
                <a:cubicBezTo>
                  <a:pt x="2110858" y="791037"/>
                  <a:pt x="2131347" y="811526"/>
                  <a:pt x="2156621" y="811526"/>
                </a:cubicBezTo>
                <a:cubicBezTo>
                  <a:pt x="2181895" y="811526"/>
                  <a:pt x="2202384" y="791037"/>
                  <a:pt x="2202384" y="765763"/>
                </a:cubicBezTo>
                <a:cubicBezTo>
                  <a:pt x="2202384" y="740489"/>
                  <a:pt x="2181895" y="720000"/>
                  <a:pt x="2156621" y="720000"/>
                </a:cubicBezTo>
                <a:close/>
                <a:moveTo>
                  <a:pt x="2025442" y="720000"/>
                </a:moveTo>
                <a:cubicBezTo>
                  <a:pt x="2000168" y="720000"/>
                  <a:pt x="1979680" y="740489"/>
                  <a:pt x="1979680" y="765763"/>
                </a:cubicBezTo>
                <a:cubicBezTo>
                  <a:pt x="1979680" y="791037"/>
                  <a:pt x="2000168" y="811526"/>
                  <a:pt x="2025442" y="811526"/>
                </a:cubicBezTo>
                <a:cubicBezTo>
                  <a:pt x="2050717" y="811526"/>
                  <a:pt x="2071205" y="791037"/>
                  <a:pt x="2071205" y="765763"/>
                </a:cubicBezTo>
                <a:cubicBezTo>
                  <a:pt x="2071205" y="740489"/>
                  <a:pt x="2050717" y="720000"/>
                  <a:pt x="2025442" y="720000"/>
                </a:cubicBezTo>
                <a:close/>
                <a:moveTo>
                  <a:pt x="1894264" y="720000"/>
                </a:moveTo>
                <a:cubicBezTo>
                  <a:pt x="1868990" y="720000"/>
                  <a:pt x="1848501" y="740489"/>
                  <a:pt x="1848501" y="765763"/>
                </a:cubicBezTo>
                <a:cubicBezTo>
                  <a:pt x="1848501" y="791037"/>
                  <a:pt x="1868990" y="811526"/>
                  <a:pt x="1894264" y="811526"/>
                </a:cubicBezTo>
                <a:cubicBezTo>
                  <a:pt x="1919538" y="811526"/>
                  <a:pt x="1940027" y="791037"/>
                  <a:pt x="1940027" y="765763"/>
                </a:cubicBezTo>
                <a:cubicBezTo>
                  <a:pt x="1940027" y="740489"/>
                  <a:pt x="1919538" y="720000"/>
                  <a:pt x="1894264" y="720000"/>
                </a:cubicBezTo>
                <a:close/>
                <a:moveTo>
                  <a:pt x="1763085" y="720000"/>
                </a:moveTo>
                <a:cubicBezTo>
                  <a:pt x="1737811" y="720000"/>
                  <a:pt x="1717323" y="740489"/>
                  <a:pt x="1717323" y="765763"/>
                </a:cubicBezTo>
                <a:cubicBezTo>
                  <a:pt x="1717323" y="791037"/>
                  <a:pt x="1737811" y="811526"/>
                  <a:pt x="1763085" y="811526"/>
                </a:cubicBezTo>
                <a:cubicBezTo>
                  <a:pt x="1788360" y="811526"/>
                  <a:pt x="1808848" y="791037"/>
                  <a:pt x="1808848" y="765763"/>
                </a:cubicBezTo>
                <a:cubicBezTo>
                  <a:pt x="1808848" y="740489"/>
                  <a:pt x="1788360" y="720000"/>
                  <a:pt x="1763085" y="720000"/>
                </a:cubicBezTo>
                <a:close/>
                <a:moveTo>
                  <a:pt x="1631907" y="720000"/>
                </a:moveTo>
                <a:cubicBezTo>
                  <a:pt x="1606633" y="720000"/>
                  <a:pt x="1586144" y="740489"/>
                  <a:pt x="1586144" y="765763"/>
                </a:cubicBezTo>
                <a:cubicBezTo>
                  <a:pt x="1586144" y="791037"/>
                  <a:pt x="1606633" y="811526"/>
                  <a:pt x="1631907" y="811526"/>
                </a:cubicBezTo>
                <a:cubicBezTo>
                  <a:pt x="1657181" y="811526"/>
                  <a:pt x="1677670" y="791037"/>
                  <a:pt x="1677670" y="765763"/>
                </a:cubicBezTo>
                <a:cubicBezTo>
                  <a:pt x="1677670" y="740489"/>
                  <a:pt x="1657181" y="720000"/>
                  <a:pt x="1631907" y="720000"/>
                </a:cubicBezTo>
                <a:close/>
                <a:moveTo>
                  <a:pt x="1500728" y="720000"/>
                </a:moveTo>
                <a:cubicBezTo>
                  <a:pt x="1475454" y="720000"/>
                  <a:pt x="1454965" y="740489"/>
                  <a:pt x="1454965" y="765763"/>
                </a:cubicBezTo>
                <a:cubicBezTo>
                  <a:pt x="1454965" y="791037"/>
                  <a:pt x="1475454" y="811526"/>
                  <a:pt x="1500728" y="811526"/>
                </a:cubicBezTo>
                <a:cubicBezTo>
                  <a:pt x="1526003" y="811526"/>
                  <a:pt x="1546491" y="791037"/>
                  <a:pt x="1546491" y="765763"/>
                </a:cubicBezTo>
                <a:cubicBezTo>
                  <a:pt x="1546491" y="740489"/>
                  <a:pt x="1526003" y="720000"/>
                  <a:pt x="1500728" y="720000"/>
                </a:cubicBezTo>
                <a:close/>
                <a:moveTo>
                  <a:pt x="0" y="0"/>
                </a:moveTo>
                <a:lnTo>
                  <a:pt x="7200000" y="0"/>
                </a:lnTo>
                <a:lnTo>
                  <a:pt x="7200000" y="4680000"/>
                </a:lnTo>
                <a:lnTo>
                  <a:pt x="0" y="4680000"/>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endParaRPr b="1" lang="en-US" sz="1800" spc="-1" strike="noStrike">
              <a:solidFill>
                <a:srgbClr val="ffffff"/>
              </a:solidFill>
              <a:latin typeface="Candara"/>
              <a:ea typeface="微软雅黑"/>
            </a:endParaRPr>
          </a:p>
        </p:txBody>
      </p:sp>
      <p:sp>
        <p:nvSpPr>
          <p:cNvPr id="1112"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虚线框中科放置四张不同的图片</a:t>
            </a:r>
            <a:endParaRPr b="0" lang="en-US" sz="2000" spc="-1" strike="noStrike">
              <a:solidFill>
                <a:srgbClr val="000000"/>
              </a:solidFill>
              <a:latin typeface="Arial"/>
            </a:endParaRPr>
          </a:p>
        </p:txBody>
      </p:sp>
      <p:sp>
        <p:nvSpPr>
          <p:cNvPr id="1113" name="TextBox 5"/>
          <p:cNvSpPr/>
          <p:nvPr/>
        </p:nvSpPr>
        <p:spPr>
          <a:xfrm>
            <a:off x="625248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4" name="TextBox 6"/>
          <p:cNvSpPr/>
          <p:nvPr/>
        </p:nvSpPr>
        <p:spPr>
          <a:xfrm>
            <a:off x="841284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5" name="TextBox 7"/>
          <p:cNvSpPr/>
          <p:nvPr/>
        </p:nvSpPr>
        <p:spPr>
          <a:xfrm>
            <a:off x="841284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6" name="TextBox 8"/>
          <p:cNvSpPr/>
          <p:nvPr/>
        </p:nvSpPr>
        <p:spPr>
          <a:xfrm>
            <a:off x="625248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theme/theme1.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Words>492</Words>
  <Paragraphs>1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yu wang</cp:lastModifiedBy>
  <dcterms:modified xsi:type="dcterms:W3CDTF">2015-08-12T14:54:23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2</vt:r8>
  </property>
</Properties>
</file>