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D27-66CA-487E-B9F8-3C2BD7B3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D86A-3F16-4F62-A5FF-66395027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264-2018-4E27-A3CF-15024FBE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B3E-B623-406C-B2AA-3A88FDAC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0550-D421-427C-B6EE-8FC5B1B3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5105-0349-4420-8E85-3B1C9819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54D7-6D60-4213-B701-A0BF4C43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F43F-3A27-48A7-B367-373E1F93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7584-D05F-4451-9052-7E66FB6F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1095-74DF-4303-BD66-87F890CC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F5ED-7CF3-4BA4-AAD3-5BE5F5FD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11E-A6D2-4934-B12E-BE676DEA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099D-CD22-4664-9569-C3C767A7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8BAA-50F7-4E56-9798-D4161C32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7285-87CD-4E4F-98A9-96860070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3162-E071-4B8A-AB60-679CE60E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9F9E-5B58-427F-BEA9-C9A7149D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C94-18A4-48AF-926B-584D612F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F60-C866-4419-993B-31949809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A0A-8978-4528-8BBC-62D09338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19D-1563-4075-BE69-25F17DED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0A4-5DF1-4C1A-92BA-A4BA8CEB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C13-F96B-4AC1-BF5F-C48DBBFD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8E8-2A02-4524-A28A-3C7C2990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1BD095-9F7A-42B4-8E8C-8C99242D34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15EB4A-D9A8-48E3-A3EF-15B4AE04FA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your-first-step-to-the-software-industry-1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矩形 2"/>
          <p:cNvSpPr/>
          <p:nvPr/>
        </p:nvSpPr>
        <p:spPr>
          <a:xfrm>
            <a:off x="3816360" y="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精美欧式设计风格商务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your-first-step-to-the-software-industry-10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your-first-step-to-the-software-industry-11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your-first-step-to-the-software-industry-12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your-first-step-to-the-software-industry-13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your-first-step-to-the-software-industry-14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your-first-step-to-the-software-industry-15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your-first-step-to-the-software-industry-16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your-first-step-to-the-software-industry-17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your-first-step-to-the-software-industry-18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your-first-step-to-the-software-industry-19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your-first-step-to-the-software-industry-2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your-first-step-to-the-software-industry-20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your-first-step-to-the-software-industry-21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your-first-step-to-the-software-industry-22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your-first-step-to-the-software-industry-23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1212840" y="6246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your-first-step-to-the-software-industry-24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your-first-step-to-the-software-industry-25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your-first-step-to-the-software-industry-26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your-first-step-to-the-software-industry-27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your-first-step-to-the-software-industry-28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your-first-step-to-the-software-industry-3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your-first-step-to-the-software-industry-4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your-first-step-to-the-software-industry-5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your-first-step-to-the-software-industry-6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your-first-step-to-the-software-industry-7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your-first-step-to-the-software-industry-8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1155600" y="61549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your-first-step-to-the-software-industry-9-1024"/>
          <p:cNvPicPr/>
          <p:nvPr/>
        </p:nvPicPr>
        <p:blipFill>
          <a:blip r:embed="rId1"/>
          <a:stretch/>
        </p:blipFill>
        <p:spPr>
          <a:xfrm>
            <a:off x="609480" y="0"/>
            <a:ext cx="10972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183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09:11:08Z</dcterms:created>
  <dc:creator>www.pptbz.com</dc:creator>
  <dc:description/>
  <dc:language>en-US</dc:language>
  <cp:lastModifiedBy>yu wang</cp:lastModifiedBy>
  <dcterms:modified xsi:type="dcterms:W3CDTF">2015-08-14T12:53:09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30</vt:r8>
  </property>
</Properties>
</file>