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2FF-B82F-408E-9769-EF107A50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D53D-2F27-4D48-8C47-A11E908D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F8E0-DBA4-4568-AEB1-159516217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2A55-AD8A-47B3-B6C7-097904DCC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30E3-43E1-453F-8B6E-AA03A085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317-0BD8-4CF8-9881-F8B6F99B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7944-5518-40D7-A544-8A8B0C41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A69C-5EF9-46EB-9833-A0CE31FAE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78A8-0876-441E-976D-5FEA12D9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DE20-F171-4527-B6AA-EC7676A2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990F-EE5E-4C77-8414-A32058B00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E671-B09C-43A1-8F37-402377B5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7B5A4D-3B63-45D5-82B1-348354E37714}" type="slidenum">
              <a:rPr b="0" lang="en-US" sz="1200" spc="-1" strike="noStrike">
                <a:solidFill>
                  <a:srgbClr val="8b8b8b"/>
                </a:solidFill>
                <a:latin typeface="Times New Roman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36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42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3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44" name="文本框 6"/>
          <p:cNvSpPr/>
          <p:nvPr/>
        </p:nvSpPr>
        <p:spPr>
          <a:xfrm>
            <a:off x="6080040" y="2736720"/>
            <a:ext cx="541620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你被假日</a:t>
            </a:r>
            <a:r>
              <a:rPr b="0" lang="en-US" sz="54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“虐”</a:t>
            </a:r>
            <a:r>
              <a:rPr b="0" lang="zh-CN" sz="40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了么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挽救假日综合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17"/>
          <p:cNvGrpSpPr/>
          <p:nvPr/>
        </p:nvGrpSpPr>
        <p:grpSpPr>
          <a:xfrm>
            <a:off x="695160" y="1865160"/>
            <a:ext cx="2518920" cy="2520720"/>
            <a:chOff x="695160" y="1865160"/>
            <a:chExt cx="2518920" cy="2520720"/>
          </a:xfrm>
        </p:grpSpPr>
        <p:sp>
          <p:nvSpPr>
            <p:cNvPr id="46" name="椭圆 14"/>
            <p:cNvSpPr/>
            <p:nvPr/>
          </p:nvSpPr>
          <p:spPr>
            <a:xfrm>
              <a:off x="695160" y="1865160"/>
              <a:ext cx="25189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47" name="椭圆 13"/>
            <p:cNvSpPr/>
            <p:nvPr/>
          </p:nvSpPr>
          <p:spPr>
            <a:xfrm>
              <a:off x="785880" y="1955880"/>
              <a:ext cx="233820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48" name="图片 12" descr=""/>
            <p:cNvPicPr/>
            <p:nvPr/>
          </p:nvPicPr>
          <p:blipFill>
            <a:blip r:embed="rId2"/>
            <a:srcRect l="0" t="299" r="0" b="299"/>
            <a:stretch/>
          </p:blipFill>
          <p:spPr>
            <a:xfrm flipH="1">
              <a:off x="875880" y="2045520"/>
              <a:ext cx="2158920" cy="216036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49" name="组合 25"/>
          <p:cNvGrpSpPr/>
          <p:nvPr/>
        </p:nvGrpSpPr>
        <p:grpSpPr>
          <a:xfrm>
            <a:off x="3041640" y="1147680"/>
            <a:ext cx="1796760" cy="1794960"/>
            <a:chOff x="3041640" y="1147680"/>
            <a:chExt cx="1796760" cy="1794960"/>
          </a:xfrm>
        </p:grpSpPr>
        <p:sp>
          <p:nvSpPr>
            <p:cNvPr id="50" name="椭圆 19"/>
            <p:cNvSpPr/>
            <p:nvPr/>
          </p:nvSpPr>
          <p:spPr>
            <a:xfrm>
              <a:off x="3041640" y="1147680"/>
              <a:ext cx="17967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1" name="椭圆 20"/>
            <p:cNvSpPr/>
            <p:nvPr/>
          </p:nvSpPr>
          <p:spPr>
            <a:xfrm>
              <a:off x="3105000" y="1211400"/>
              <a:ext cx="166968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52" name="图片 24" descr=""/>
            <p:cNvPicPr/>
            <p:nvPr/>
          </p:nvPicPr>
          <p:blipFill>
            <a:blip r:embed="rId3"/>
            <a:srcRect l="16406" t="8862" r="16406" b="46335"/>
            <a:stretch/>
          </p:blipFill>
          <p:spPr>
            <a:xfrm>
              <a:off x="3170160" y="1275840"/>
              <a:ext cx="154008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53" name="组合 32"/>
          <p:cNvGrpSpPr/>
          <p:nvPr/>
        </p:nvGrpSpPr>
        <p:grpSpPr>
          <a:xfrm>
            <a:off x="3882960" y="2886120"/>
            <a:ext cx="1615680" cy="1615680"/>
            <a:chOff x="3882960" y="2886120"/>
            <a:chExt cx="1615680" cy="1615680"/>
          </a:xfrm>
        </p:grpSpPr>
        <p:sp>
          <p:nvSpPr>
            <p:cNvPr id="54" name="椭圆 27"/>
            <p:cNvSpPr/>
            <p:nvPr/>
          </p:nvSpPr>
          <p:spPr>
            <a:xfrm>
              <a:off x="3882960" y="2886120"/>
              <a:ext cx="16156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55" name="椭圆 28"/>
            <p:cNvSpPr/>
            <p:nvPr/>
          </p:nvSpPr>
          <p:spPr>
            <a:xfrm>
              <a:off x="3940200" y="2943360"/>
              <a:ext cx="150156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56" name="图片 31" descr=""/>
            <p:cNvPicPr/>
            <p:nvPr/>
          </p:nvPicPr>
          <p:blipFill>
            <a:blip r:embed="rId4"/>
            <a:srcRect l="21605" t="4484" r="21605" b="4484"/>
            <a:stretch/>
          </p:blipFill>
          <p:spPr>
            <a:xfrm>
              <a:off x="3998520" y="3001680"/>
              <a:ext cx="138492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  <p:grpSp>
        <p:nvGrpSpPr>
          <p:cNvPr id="57" name="组合 37"/>
          <p:cNvGrpSpPr/>
          <p:nvPr/>
        </p:nvGrpSpPr>
        <p:grpSpPr>
          <a:xfrm>
            <a:off x="10567080" y="149040"/>
            <a:ext cx="1510200" cy="852480"/>
            <a:chOff x="10567080" y="149040"/>
            <a:chExt cx="1510200" cy="852480"/>
          </a:xfrm>
        </p:grpSpPr>
        <p:sp>
          <p:nvSpPr>
            <p:cNvPr id="58" name="文本框 38"/>
            <p:cNvSpPr/>
            <p:nvPr/>
          </p:nvSpPr>
          <p:spPr>
            <a:xfrm rot="20644800">
              <a:off x="10622520" y="247680"/>
              <a:ext cx="7945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方正综艺简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文本框 39"/>
            <p:cNvSpPr/>
            <p:nvPr/>
          </p:nvSpPr>
          <p:spPr>
            <a:xfrm rot="235800">
              <a:off x="10920600" y="249480"/>
              <a:ext cx="7945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方正综艺简体"/>
                </a:rPr>
                <a:t>P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文本框 40"/>
            <p:cNvSpPr/>
            <p:nvPr/>
          </p:nvSpPr>
          <p:spPr>
            <a:xfrm rot="1190400">
              <a:off x="11218680" y="289800"/>
              <a:ext cx="794520" cy="516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en-US" sz="2800" spc="-1" strike="noStrike">
                  <a:solidFill>
                    <a:srgbClr val="ffffff"/>
                  </a:solidFill>
                  <a:latin typeface="Broadway"/>
                  <a:ea typeface="方正综艺简体"/>
                </a:rPr>
                <a:t>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文本框 41"/>
            <p:cNvSpPr/>
            <p:nvPr/>
          </p:nvSpPr>
          <p:spPr>
            <a:xfrm>
              <a:off x="10911960" y="668520"/>
              <a:ext cx="794520" cy="3330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玩乐会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矩形 1"/>
          <p:cNvSpPr/>
          <p:nvPr/>
        </p:nvSpPr>
        <p:spPr>
          <a:xfrm>
            <a:off x="3991320" y="403200"/>
            <a:ext cx="41536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假日综合症商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矩形 12"/>
          <p:cNvSpPr/>
          <p:nvPr/>
        </p:nvSpPr>
        <p:spPr>
          <a:xfrm>
            <a:off x="209160" y="65530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1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202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03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204" name="文本框 12"/>
          <p:cNvSpPr/>
          <p:nvPr/>
        </p:nvSpPr>
        <p:spPr>
          <a:xfrm>
            <a:off x="6095880" y="2612880"/>
            <a:ext cx="3633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七：孤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6095880" y="3335400"/>
            <a:ext cx="556524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少从家乡返回工作或学校的人，孤独感随着假日的结束而加剧，看到周围的人都欢聚一堂时，情形会变得更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承认并发泄自己的消极感受，不要刻意压抑，尽量调节自己的心态，向家人、朋友倾诉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邀请同事好友去做运动，放松并调适自己的心情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要时寻求心理医生的帮助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组合 29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207" name="椭圆 15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08" name="椭圆 16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09" name="图片 28" descr=""/>
            <p:cNvPicPr/>
            <p:nvPr/>
          </p:nvPicPr>
          <p:blipFill>
            <a:blip r:embed="rId2"/>
            <a:srcRect l="14545" t="0" r="14545" b="0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210" name="组合 32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211" name="椭圆 19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12" name="椭圆 20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13" name="图片 31" descr=""/>
            <p:cNvPicPr/>
            <p:nvPr/>
          </p:nvPicPr>
          <p:blipFill>
            <a:blip r:embed="rId3"/>
            <a:srcRect l="16827" t="279" r="16827" b="279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214" name="组合 35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215" name="椭圆 23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16" name="椭圆 24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17" name="图片 34" descr=""/>
            <p:cNvPicPr/>
            <p:nvPr/>
          </p:nvPicPr>
          <p:blipFill>
            <a:blip r:embed="rId4"/>
            <a:srcRect l="27513" t="1874" r="4921" b="1874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组合 1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219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20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221" name="文本框 26"/>
          <p:cNvSpPr/>
          <p:nvPr/>
        </p:nvSpPr>
        <p:spPr>
          <a:xfrm>
            <a:off x="625320" y="1265400"/>
            <a:ext cx="427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八：恐惧上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矩形 27"/>
          <p:cNvSpPr/>
          <p:nvPr/>
        </p:nvSpPr>
        <p:spPr>
          <a:xfrm>
            <a:off x="625320" y="1930320"/>
            <a:ext cx="5470200" cy="254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新回到工作岗位无法及时调整心态，特别容易产生焦虑、郁闷、烦躁等情绪，面对工作怀有茫然感和恐惧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三天不宜安排高强度工作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小时进行一次绵长而深厚的呼吸，想象好似随着每次的呼吸，紧张感也离开了身体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班前洗个热水澡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组合 31"/>
          <p:cNvGrpSpPr/>
          <p:nvPr/>
        </p:nvGrpSpPr>
        <p:grpSpPr>
          <a:xfrm>
            <a:off x="6692760" y="1976400"/>
            <a:ext cx="2518920" cy="2518920"/>
            <a:chOff x="6692760" y="1976400"/>
            <a:chExt cx="2518920" cy="2518920"/>
          </a:xfrm>
        </p:grpSpPr>
        <p:sp>
          <p:nvSpPr>
            <p:cNvPr id="224" name="椭圆 15"/>
            <p:cNvSpPr/>
            <p:nvPr/>
          </p:nvSpPr>
          <p:spPr>
            <a:xfrm>
              <a:off x="6692760" y="1976400"/>
              <a:ext cx="2518920" cy="25189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25" name="椭圆 16"/>
            <p:cNvSpPr/>
            <p:nvPr/>
          </p:nvSpPr>
          <p:spPr>
            <a:xfrm>
              <a:off x="6783480" y="2066760"/>
              <a:ext cx="2338200" cy="2338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26" name="图片 30" descr=""/>
            <p:cNvPicPr/>
            <p:nvPr/>
          </p:nvPicPr>
          <p:blipFill>
            <a:blip r:embed="rId2"/>
            <a:srcRect l="16701" t="0" r="16701" b="0"/>
            <a:stretch/>
          </p:blipFill>
          <p:spPr>
            <a:xfrm>
              <a:off x="6872760" y="2156400"/>
              <a:ext cx="2158920" cy="215892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227" name="组合 34"/>
          <p:cNvGrpSpPr/>
          <p:nvPr/>
        </p:nvGrpSpPr>
        <p:grpSpPr>
          <a:xfrm>
            <a:off x="9039240" y="1257480"/>
            <a:ext cx="1796760" cy="1796760"/>
            <a:chOff x="9039240" y="1257480"/>
            <a:chExt cx="1796760" cy="1796760"/>
          </a:xfrm>
        </p:grpSpPr>
        <p:sp>
          <p:nvSpPr>
            <p:cNvPr id="228" name="椭圆 23"/>
            <p:cNvSpPr/>
            <p:nvPr/>
          </p:nvSpPr>
          <p:spPr>
            <a:xfrm>
              <a:off x="9039240" y="1257480"/>
              <a:ext cx="1796760" cy="17967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29" name="椭圆 24"/>
            <p:cNvSpPr/>
            <p:nvPr/>
          </p:nvSpPr>
          <p:spPr>
            <a:xfrm>
              <a:off x="9102600" y="1320840"/>
              <a:ext cx="1669680" cy="1669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30" name="图片 33" descr=""/>
            <p:cNvPicPr/>
            <p:nvPr/>
          </p:nvPicPr>
          <p:blipFill>
            <a:blip r:embed="rId3"/>
            <a:srcRect l="31807" t="4051" r="7842" b="10437"/>
            <a:stretch/>
          </p:blipFill>
          <p:spPr>
            <a:xfrm>
              <a:off x="9167040" y="1385640"/>
              <a:ext cx="1541160" cy="154008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231" name="组合 38"/>
          <p:cNvGrpSpPr/>
          <p:nvPr/>
        </p:nvGrpSpPr>
        <p:grpSpPr>
          <a:xfrm>
            <a:off x="9879120" y="2995560"/>
            <a:ext cx="1617480" cy="1617480"/>
            <a:chOff x="9879120" y="2995560"/>
            <a:chExt cx="1617480" cy="1617480"/>
          </a:xfrm>
        </p:grpSpPr>
        <p:sp>
          <p:nvSpPr>
            <p:cNvPr id="232" name="椭圆 19"/>
            <p:cNvSpPr/>
            <p:nvPr/>
          </p:nvSpPr>
          <p:spPr>
            <a:xfrm>
              <a:off x="9879120" y="2995560"/>
              <a:ext cx="1617480" cy="16174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3" name="椭圆 20"/>
            <p:cNvSpPr/>
            <p:nvPr/>
          </p:nvSpPr>
          <p:spPr>
            <a:xfrm>
              <a:off x="9936000" y="3052800"/>
              <a:ext cx="1503000" cy="1503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34" name="图片 37" descr=""/>
            <p:cNvPicPr/>
            <p:nvPr/>
          </p:nvPicPr>
          <p:blipFill>
            <a:blip r:embed="rId4"/>
            <a:srcRect l="16602" t="1875" r="23245" b="1875"/>
            <a:stretch/>
          </p:blipFill>
          <p:spPr>
            <a:xfrm>
              <a:off x="9994680" y="3111120"/>
              <a:ext cx="1386360" cy="138636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1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236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37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238" name="文本框 12"/>
          <p:cNvSpPr/>
          <p:nvPr/>
        </p:nvSpPr>
        <p:spPr>
          <a:xfrm>
            <a:off x="6095880" y="1932120"/>
            <a:ext cx="3633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编者的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矩形 13"/>
          <p:cNvSpPr/>
          <p:nvPr/>
        </p:nvSpPr>
        <p:spPr>
          <a:xfrm>
            <a:off x="6095880" y="2654280"/>
            <a:ext cx="5565240" cy="1597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忙忙碌碌的现代生活中，假期是许多人的期盼，但是在假期结束后，总会听到 “假期比上班还累“的抱怨。其实我们完全没必要把自己弄得如此狼狈，试着不要将假期塞满，随心所遇的睡个懒觉、与家人聚个餐、找个宁静的午后看一本一直想看的书，或者约上三五好友去逛逛街，假期是用来休闲的，当然这谨代表我的个人意见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期结束了，你被“虐”了么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工作开始了，你的假期综合症“治”好了么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0" name="组合 26"/>
          <p:cNvGrpSpPr/>
          <p:nvPr/>
        </p:nvGrpSpPr>
        <p:grpSpPr>
          <a:xfrm>
            <a:off x="8019000" y="5684400"/>
            <a:ext cx="3566160" cy="882360"/>
            <a:chOff x="8019000" y="5684400"/>
            <a:chExt cx="3566160" cy="882360"/>
          </a:xfrm>
        </p:grpSpPr>
        <p:sp>
          <p:nvSpPr>
            <p:cNvPr id="241" name="文本框 27"/>
            <p:cNvSpPr/>
            <p:nvPr/>
          </p:nvSpPr>
          <p:spPr>
            <a:xfrm>
              <a:off x="9028800" y="6221520"/>
              <a:ext cx="2556360" cy="34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2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题材（图片）来源于网络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组合 28"/>
            <p:cNvGrpSpPr/>
            <p:nvPr/>
          </p:nvGrpSpPr>
          <p:grpSpPr>
            <a:xfrm>
              <a:off x="8019000" y="5684400"/>
              <a:ext cx="1510200" cy="853200"/>
              <a:chOff x="8019000" y="5684400"/>
              <a:chExt cx="1510200" cy="853200"/>
            </a:xfrm>
          </p:grpSpPr>
          <p:sp>
            <p:nvSpPr>
              <p:cNvPr id="243" name="文本框 30"/>
              <p:cNvSpPr/>
              <p:nvPr/>
            </p:nvSpPr>
            <p:spPr>
              <a:xfrm rot="20644800">
                <a:off x="8074440" y="5783040"/>
                <a:ext cx="79452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Broadway"/>
                    <a:ea typeface="方正综艺简体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文本框 31"/>
              <p:cNvSpPr/>
              <p:nvPr/>
            </p:nvSpPr>
            <p:spPr>
              <a:xfrm rot="235800">
                <a:off x="8372520" y="5785200"/>
                <a:ext cx="79452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Broadway"/>
                    <a:ea typeface="方正综艺简体"/>
                  </a:rPr>
                  <a:t>P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文本框 32"/>
              <p:cNvSpPr/>
              <p:nvPr/>
            </p:nvSpPr>
            <p:spPr>
              <a:xfrm rot="1190400">
                <a:off x="8670600" y="5825520"/>
                <a:ext cx="794520" cy="51624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Broadway"/>
                    <a:ea typeface="方正综艺简体"/>
                  </a:rPr>
                  <a:t>T</a:t>
                </a:r>
                <a:endParaRPr b="0" lang="en-US" sz="2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文本框 33"/>
              <p:cNvSpPr/>
              <p:nvPr/>
            </p:nvSpPr>
            <p:spPr>
              <a:xfrm>
                <a:off x="8363880" y="6204600"/>
                <a:ext cx="794520" cy="333000"/>
              </a:xfrm>
              <a:prstGeom prst="rect">
                <a:avLst/>
              </a:prstGeom>
              <a:noFill/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00000"/>
                  </a:lnSpc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玩乐会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7" name="文本框 29"/>
            <p:cNvSpPr/>
            <p:nvPr/>
          </p:nvSpPr>
          <p:spPr>
            <a:xfrm>
              <a:off x="9260640" y="5911920"/>
              <a:ext cx="2324520" cy="34524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2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@Mercury &amp; iC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组合 8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249" name="椭圆 19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50" name="椭圆 20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51" name="图片 36" descr=""/>
            <p:cNvPicPr/>
            <p:nvPr/>
          </p:nvPicPr>
          <p:blipFill>
            <a:blip r:embed="rId2"/>
            <a:srcRect l="16403" t="277" r="16403" b="277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252" name="组合 11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253" name="椭圆 15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55" name="图片 37" descr=""/>
            <p:cNvPicPr/>
            <p:nvPr/>
          </p:nvPicPr>
          <p:blipFill>
            <a:blip r:embed="rId3"/>
            <a:srcRect l="10315" t="0" r="10315" b="0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256" name="组合 40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257" name="椭圆 23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258" name="椭圆 24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59" name="图片 39" descr=""/>
            <p:cNvPicPr/>
            <p:nvPr/>
          </p:nvPicPr>
          <p:blipFill>
            <a:blip r:embed="rId4"/>
            <a:srcRect l="1877" t="18132" r="1877" b="18132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6920" cy="5742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31880" y="1270080"/>
            <a:ext cx="8927640" cy="5219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下载网站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模板免费下载。助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  <a:ea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最新更新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</a:t>
            </a:r>
            <a:r>
              <a:rPr b="0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"/>
              </a:rPr>
              <a:t>http://</a:t>
            </a:r>
            <a:r>
              <a:rPr b="1" lang="en-US" sz="14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"/>
              </a:rPr>
              <a:t>www.eeppt.com/new.html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该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3"/>
              </a:rPr>
              <a:t>好看的ppt背景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beijing/       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	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4"/>
              </a:rPr>
              <a:t>动态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5"/>
              </a:rPr>
              <a:t>ppt模板下载 免费完整版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6"/>
              </a:rPr>
              <a:t> 毕业设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7"/>
              </a:rPr>
              <a:t>答辩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8"/>
              </a:rPr>
              <a:t>月总结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9"/>
              </a:rPr>
              <a:t>精美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0"/>
              </a:rPr>
              <a:t>说课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1"/>
              </a:rPr>
              <a:t>企业介绍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2"/>
              </a:rPr>
              <a:t>商务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3"/>
              </a:rPr>
              <a:t>市场营销策划ppt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yingxiao/           </a:t>
            </a:r>
            <a:r>
              <a:rPr b="0" lang="en-US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4"/>
              </a:rPr>
              <a:t>ppt素材图片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5"/>
              </a:rPr>
              <a:t>ppt图表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6"/>
              </a:rPr>
              <a:t>自然风景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7"/>
              </a:rPr>
              <a:t>国外ppt模板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8"/>
              </a:rPr>
              <a:t>简洁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19"/>
              </a:rPr>
              <a:t>公司会议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0"/>
              </a:rPr>
              <a:t>教育教学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1"/>
              </a:rPr>
              <a:t>网络科技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2"/>
              </a:rPr>
              <a:t>论文答辩ppt模板免费下载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3"/>
              </a:rPr>
              <a:t>通用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Times New Roman"/>
                <a:ea typeface="微软雅黑"/>
                <a:hlinkClick r:id="rId24"/>
              </a:rPr>
              <a:t>医疗卫生ppt模板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  <a:ea typeface="微软雅黑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8810640" y="333360"/>
            <a:ext cx="1388880" cy="348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组合 19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65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66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67" name="文本框 4"/>
          <p:cNvSpPr/>
          <p:nvPr/>
        </p:nvSpPr>
        <p:spPr>
          <a:xfrm>
            <a:off x="8272440" y="2846520"/>
            <a:ext cx="3633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什么是假日综合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矩形 8"/>
          <p:cNvSpPr/>
          <p:nvPr/>
        </p:nvSpPr>
        <p:spPr>
          <a:xfrm>
            <a:off x="6095880" y="3594240"/>
            <a:ext cx="5646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是人们在大假之后（特别是春节黄金周和国庆黄金周）的各种生理或心理的表现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今国庆黄金周已经结束，你是否被“虐”了？你是否患上了假日综合症？请跟随我的脚步，自行检查及调适吧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组合 35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70" name="椭圆 23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71" name="椭圆 24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72" name="图片 34" descr=""/>
            <p:cNvPicPr/>
            <p:nvPr/>
          </p:nvPicPr>
          <p:blipFill>
            <a:blip r:embed="rId2"/>
            <a:srcRect l="27772" t="16862" r="25709" b="21115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12700">
              <a:solidFill>
                <a:srgbClr val="01acec"/>
              </a:solidFill>
              <a:miter/>
            </a:ln>
          </p:spPr>
        </p:pic>
      </p:grpSp>
      <p:grpSp>
        <p:nvGrpSpPr>
          <p:cNvPr id="73" name="组合 38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74" name="椭圆 27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75" name="椭圆 28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76" name="图片 37" descr=""/>
            <p:cNvPicPr/>
            <p:nvPr/>
          </p:nvPicPr>
          <p:blipFill>
            <a:blip r:embed="rId3"/>
            <a:srcRect l="15073" t="844" r="39126" b="22827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77" name="组合 41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78" name="椭圆 31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79" name="椭圆 32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80" name="图片 40" descr=""/>
            <p:cNvPicPr/>
            <p:nvPr/>
          </p:nvPicPr>
          <p:blipFill>
            <a:blip r:embed="rId4"/>
            <a:srcRect l="23373" t="2719" r="7016" b="38537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10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82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83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84" name="文本框 37"/>
          <p:cNvSpPr/>
          <p:nvPr/>
        </p:nvSpPr>
        <p:spPr>
          <a:xfrm>
            <a:off x="625320" y="1265400"/>
            <a:ext cx="427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为什么会得假日综合症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矩形 38"/>
          <p:cNvSpPr/>
          <p:nvPr/>
        </p:nvSpPr>
        <p:spPr>
          <a:xfrm>
            <a:off x="625320" y="1930320"/>
            <a:ext cx="547020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们从周一到周五，辛勤工作，把与工作和学习无关的事置之度外。一到双休日或法定假期，这些被置之度外的事又被提上议事日程。这几天，把原来建立起来的工作与学习的“动力定型”破坏了。待到假日过后的上班日，必须全身心重新投入于工作，即必须重新建立或恢复已被破坏了的“动力定型”，这就难免出现或多或少的不适应，即所谓“假日综合症”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假日综合症有哪些表现，又该如何调节呢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组合 41"/>
          <p:cNvGrpSpPr/>
          <p:nvPr/>
        </p:nvGrpSpPr>
        <p:grpSpPr>
          <a:xfrm>
            <a:off x="6692760" y="1976400"/>
            <a:ext cx="2518920" cy="2518920"/>
            <a:chOff x="6692760" y="1976400"/>
            <a:chExt cx="2518920" cy="2518920"/>
          </a:xfrm>
        </p:grpSpPr>
        <p:sp>
          <p:nvSpPr>
            <p:cNvPr id="87" name="椭圆 26"/>
            <p:cNvSpPr/>
            <p:nvPr/>
          </p:nvSpPr>
          <p:spPr>
            <a:xfrm>
              <a:off x="6692760" y="1976400"/>
              <a:ext cx="2518920" cy="25189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88" name="椭圆 27"/>
            <p:cNvSpPr/>
            <p:nvPr/>
          </p:nvSpPr>
          <p:spPr>
            <a:xfrm>
              <a:off x="6783480" y="2066760"/>
              <a:ext cx="2338200" cy="2338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89" name="图片 40" descr=""/>
            <p:cNvPicPr/>
            <p:nvPr/>
          </p:nvPicPr>
          <p:blipFill>
            <a:blip r:embed="rId2"/>
            <a:srcRect l="23502" t="1247" r="11338" b="1247"/>
            <a:stretch/>
          </p:blipFill>
          <p:spPr>
            <a:xfrm>
              <a:off x="6872760" y="2156400"/>
              <a:ext cx="2158920" cy="215892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90" name="组合 44"/>
          <p:cNvGrpSpPr/>
          <p:nvPr/>
        </p:nvGrpSpPr>
        <p:grpSpPr>
          <a:xfrm>
            <a:off x="9879120" y="2995560"/>
            <a:ext cx="1617480" cy="1617480"/>
            <a:chOff x="9879120" y="2995560"/>
            <a:chExt cx="1617480" cy="1617480"/>
          </a:xfrm>
        </p:grpSpPr>
        <p:sp>
          <p:nvSpPr>
            <p:cNvPr id="91" name="椭圆 34"/>
            <p:cNvSpPr/>
            <p:nvPr/>
          </p:nvSpPr>
          <p:spPr>
            <a:xfrm>
              <a:off x="9879120" y="2995560"/>
              <a:ext cx="1617480" cy="16174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92" name="椭圆 35"/>
            <p:cNvSpPr/>
            <p:nvPr/>
          </p:nvSpPr>
          <p:spPr>
            <a:xfrm>
              <a:off x="9936000" y="3052800"/>
              <a:ext cx="1503000" cy="1503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93" name="图片 43" descr=""/>
            <p:cNvPicPr/>
            <p:nvPr/>
          </p:nvPicPr>
          <p:blipFill>
            <a:blip r:embed="rId3"/>
            <a:srcRect l="1720" t="2965" r="36048" b="4510"/>
            <a:stretch/>
          </p:blipFill>
          <p:spPr>
            <a:xfrm>
              <a:off x="9994680" y="3111120"/>
              <a:ext cx="1386360" cy="138636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  <p:grpSp>
        <p:nvGrpSpPr>
          <p:cNvPr id="94" name="组合 47"/>
          <p:cNvGrpSpPr/>
          <p:nvPr/>
        </p:nvGrpSpPr>
        <p:grpSpPr>
          <a:xfrm>
            <a:off x="9039240" y="1257480"/>
            <a:ext cx="1796760" cy="1796760"/>
            <a:chOff x="9039240" y="1257480"/>
            <a:chExt cx="1796760" cy="1796760"/>
          </a:xfrm>
        </p:grpSpPr>
        <p:sp>
          <p:nvSpPr>
            <p:cNvPr id="95" name="椭圆 30"/>
            <p:cNvSpPr/>
            <p:nvPr/>
          </p:nvSpPr>
          <p:spPr>
            <a:xfrm>
              <a:off x="9039240" y="1257480"/>
              <a:ext cx="1796760" cy="17967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96" name="椭圆 31"/>
            <p:cNvSpPr/>
            <p:nvPr/>
          </p:nvSpPr>
          <p:spPr>
            <a:xfrm>
              <a:off x="9102600" y="1320840"/>
              <a:ext cx="1669680" cy="1669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97" name="图片 46" descr=""/>
            <p:cNvPicPr/>
            <p:nvPr/>
          </p:nvPicPr>
          <p:blipFill>
            <a:blip r:embed="rId4"/>
            <a:srcRect l="0" t="2480" r="39830" b="2480"/>
            <a:stretch/>
          </p:blipFill>
          <p:spPr>
            <a:xfrm>
              <a:off x="9169920" y="1385640"/>
              <a:ext cx="1535400" cy="154008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组合 1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99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00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01" name="文本框 7"/>
          <p:cNvSpPr/>
          <p:nvPr/>
        </p:nvSpPr>
        <p:spPr>
          <a:xfrm>
            <a:off x="6095880" y="2612880"/>
            <a:ext cx="3633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一：疲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矩形 8"/>
          <p:cNvSpPr/>
          <p:nvPr/>
        </p:nvSpPr>
        <p:spPr>
          <a:xfrm>
            <a:off x="6095880" y="3335400"/>
            <a:ext cx="55652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长假放纵完了，感到心理、生理十分疲惫，希望假期延续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抓紧时间收心，欢乐的假期已经过去，不能再一味的回味与留恋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吃富含蛋白质和维生素的豆类、牛奶、水果、蔬菜、动物肝脏等，能有效缓解身体疲劳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组合 33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104" name="椭圆 16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05" name="椭圆 17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06" name="图片 32" descr=""/>
            <p:cNvPicPr/>
            <p:nvPr/>
          </p:nvPicPr>
          <p:blipFill>
            <a:blip r:embed="rId2"/>
            <a:srcRect l="10115" t="0" r="22799" b="0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107" name="组合 36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108" name="椭圆 20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09" name="椭圆 21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10" name="图片 35" descr=""/>
            <p:cNvPicPr/>
            <p:nvPr/>
          </p:nvPicPr>
          <p:blipFill>
            <a:blip r:embed="rId3"/>
            <a:srcRect l="9520" t="279" r="27273" b="279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11" name="组合 39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112" name="椭圆 24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13" name="椭圆 25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14" name="图片 38" descr=""/>
            <p:cNvPicPr/>
            <p:nvPr/>
          </p:nvPicPr>
          <p:blipFill>
            <a:blip r:embed="rId4"/>
            <a:srcRect l="16313" t="1695" r="16313" b="2063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组合 1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116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17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18" name="文本框 4"/>
          <p:cNvSpPr/>
          <p:nvPr/>
        </p:nvSpPr>
        <p:spPr>
          <a:xfrm>
            <a:off x="625320" y="1265400"/>
            <a:ext cx="427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二：睡眠紊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矩形 5"/>
          <p:cNvSpPr/>
          <p:nvPr/>
        </p:nvSpPr>
        <p:spPr>
          <a:xfrm>
            <a:off x="625320" y="1930320"/>
            <a:ext cx="5470200" cy="254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熬夜过多，导致夜间失眠，白天头昏脑胀，提不起精神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恢复正常生活规律，保证睡眠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睡前不让大脑高度兴奋，可用音乐静心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天坚持热水泡脚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睡前适当饮用热牛奶、热豆浆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组合 21"/>
          <p:cNvGrpSpPr/>
          <p:nvPr/>
        </p:nvGrpSpPr>
        <p:grpSpPr>
          <a:xfrm>
            <a:off x="6692760" y="1976400"/>
            <a:ext cx="2518920" cy="2518920"/>
            <a:chOff x="6692760" y="1976400"/>
            <a:chExt cx="2518920" cy="2518920"/>
          </a:xfrm>
        </p:grpSpPr>
        <p:sp>
          <p:nvSpPr>
            <p:cNvPr id="121" name="椭圆 7"/>
            <p:cNvSpPr/>
            <p:nvPr/>
          </p:nvSpPr>
          <p:spPr>
            <a:xfrm>
              <a:off x="6692760" y="1976400"/>
              <a:ext cx="2518920" cy="25189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22" name="椭圆 8"/>
            <p:cNvSpPr/>
            <p:nvPr/>
          </p:nvSpPr>
          <p:spPr>
            <a:xfrm>
              <a:off x="6783480" y="2066760"/>
              <a:ext cx="2338200" cy="2338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23" name="图片 20" descr=""/>
            <p:cNvPicPr/>
            <p:nvPr/>
          </p:nvPicPr>
          <p:blipFill>
            <a:blip r:embed="rId2"/>
            <a:srcRect l="18036" t="0" r="15564" b="0"/>
            <a:stretch/>
          </p:blipFill>
          <p:spPr>
            <a:xfrm>
              <a:off x="6872760" y="2156400"/>
              <a:ext cx="2158920" cy="215892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124" name="组合 24"/>
          <p:cNvGrpSpPr/>
          <p:nvPr/>
        </p:nvGrpSpPr>
        <p:grpSpPr>
          <a:xfrm>
            <a:off x="9039240" y="1257480"/>
            <a:ext cx="1796760" cy="1796760"/>
            <a:chOff x="9039240" y="1257480"/>
            <a:chExt cx="1796760" cy="1796760"/>
          </a:xfrm>
        </p:grpSpPr>
        <p:sp>
          <p:nvSpPr>
            <p:cNvPr id="125" name="椭圆 15"/>
            <p:cNvSpPr/>
            <p:nvPr/>
          </p:nvSpPr>
          <p:spPr>
            <a:xfrm>
              <a:off x="9039240" y="1257480"/>
              <a:ext cx="1796760" cy="17967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26" name="椭圆 16"/>
            <p:cNvSpPr/>
            <p:nvPr/>
          </p:nvSpPr>
          <p:spPr>
            <a:xfrm>
              <a:off x="9102600" y="1320840"/>
              <a:ext cx="1669680" cy="1669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27" name="图片 23" descr=""/>
            <p:cNvPicPr/>
            <p:nvPr/>
          </p:nvPicPr>
          <p:blipFill>
            <a:blip r:embed="rId3"/>
            <a:srcRect l="24984" t="2667" r="3953" b="2667"/>
            <a:stretch/>
          </p:blipFill>
          <p:spPr>
            <a:xfrm>
              <a:off x="9169920" y="1388520"/>
              <a:ext cx="1535400" cy="153396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28" name="组合 27"/>
          <p:cNvGrpSpPr/>
          <p:nvPr/>
        </p:nvGrpSpPr>
        <p:grpSpPr>
          <a:xfrm>
            <a:off x="9879120" y="2995560"/>
            <a:ext cx="1617480" cy="1617480"/>
            <a:chOff x="9879120" y="2995560"/>
            <a:chExt cx="1617480" cy="1617480"/>
          </a:xfrm>
        </p:grpSpPr>
        <p:sp>
          <p:nvSpPr>
            <p:cNvPr id="129" name="椭圆 11"/>
            <p:cNvSpPr/>
            <p:nvPr/>
          </p:nvSpPr>
          <p:spPr>
            <a:xfrm>
              <a:off x="9879120" y="2995560"/>
              <a:ext cx="1617480" cy="16174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30" name="椭圆 12"/>
            <p:cNvSpPr/>
            <p:nvPr/>
          </p:nvSpPr>
          <p:spPr>
            <a:xfrm>
              <a:off x="9936000" y="3052800"/>
              <a:ext cx="1503000" cy="1503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31" name="图片 26" descr=""/>
            <p:cNvPicPr/>
            <p:nvPr/>
          </p:nvPicPr>
          <p:blipFill>
            <a:blip r:embed="rId4"/>
            <a:srcRect l="1871" t="1871" r="1871" b="1871"/>
            <a:stretch/>
          </p:blipFill>
          <p:spPr>
            <a:xfrm>
              <a:off x="9994680" y="3111120"/>
              <a:ext cx="1386360" cy="138636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组合 1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133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34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35" name="文本框 4"/>
          <p:cNvSpPr/>
          <p:nvPr/>
        </p:nvSpPr>
        <p:spPr>
          <a:xfrm>
            <a:off x="6095880" y="2612880"/>
            <a:ext cx="4466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三：沉溺网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矩形 5"/>
          <p:cNvSpPr/>
          <p:nvPr/>
        </p:nvSpPr>
        <p:spPr>
          <a:xfrm>
            <a:off x="6095880" y="3335400"/>
            <a:ext cx="5565240" cy="22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足不出户，一天到晚与电脑为伴，眼睛发酸，涩痛不适，看东西甚至出现重影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控制上网时间，用电脑超过一小时应休息十几分钟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吃些动物肝脏、瘦肉、胡萝卜和豆芽等富含维生素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A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和蛋白质的食物，或泡菊花茶、枸杞引用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要时可在医生指导下用一些眼药水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组合 21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138" name="椭圆 7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39" name="椭圆 8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40" name="图片 20" descr=""/>
            <p:cNvPicPr/>
            <p:nvPr/>
          </p:nvPicPr>
          <p:blipFill>
            <a:blip r:embed="rId2"/>
            <a:srcRect l="16746" t="0" r="16746" b="0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141" name="组合 25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142" name="椭圆 11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43" name="椭圆 12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44" name="图片 24" descr=""/>
            <p:cNvPicPr/>
            <p:nvPr/>
          </p:nvPicPr>
          <p:blipFill>
            <a:blip r:embed="rId3"/>
            <a:srcRect l="10222" t="9103" r="26867" b="9103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45" name="组合 28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146" name="椭圆 15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47" name="椭圆 16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48" name="图片 27" descr=""/>
            <p:cNvPicPr/>
            <p:nvPr/>
          </p:nvPicPr>
          <p:blipFill>
            <a:blip r:embed="rId4"/>
            <a:srcRect l="2981" t="13631" r="2981" b="13631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组合 1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150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51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52" name="文本框 18"/>
          <p:cNvSpPr/>
          <p:nvPr/>
        </p:nvSpPr>
        <p:spPr>
          <a:xfrm>
            <a:off x="625320" y="1265400"/>
            <a:ext cx="427464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四：消化不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矩形 19"/>
          <p:cNvSpPr/>
          <p:nvPr/>
        </p:nvSpPr>
        <p:spPr>
          <a:xfrm>
            <a:off x="625320" y="1930320"/>
            <a:ext cx="5470200" cy="22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毫无胃口，肚子胀满不适，胃部隐隐作痛，再好的饭菜也不想吃，甚至看见就恶心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假期后尽量吃清淡的饭菜，让塞满鱼肉的肠胃歇一歇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医生指导下服用保和丸、健胃消食片、香砂养胃丸等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积极参加有氧运动，胃口也会随之调整到正常状态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组合 23"/>
          <p:cNvGrpSpPr/>
          <p:nvPr/>
        </p:nvGrpSpPr>
        <p:grpSpPr>
          <a:xfrm>
            <a:off x="6692760" y="1976400"/>
            <a:ext cx="2518920" cy="2518920"/>
            <a:chOff x="6692760" y="1976400"/>
            <a:chExt cx="2518920" cy="2518920"/>
          </a:xfrm>
        </p:grpSpPr>
        <p:sp>
          <p:nvSpPr>
            <p:cNvPr id="155" name="椭圆 7"/>
            <p:cNvSpPr/>
            <p:nvPr/>
          </p:nvSpPr>
          <p:spPr>
            <a:xfrm>
              <a:off x="6692760" y="1976400"/>
              <a:ext cx="2518920" cy="25189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56" name="椭圆 8"/>
            <p:cNvSpPr/>
            <p:nvPr/>
          </p:nvSpPr>
          <p:spPr>
            <a:xfrm>
              <a:off x="6783480" y="2066760"/>
              <a:ext cx="2338200" cy="2338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57" name="图片 22" descr=""/>
            <p:cNvPicPr/>
            <p:nvPr/>
          </p:nvPicPr>
          <p:blipFill>
            <a:blip r:embed="rId2"/>
            <a:srcRect l="12418" t="0" r="12418" b="0"/>
            <a:stretch/>
          </p:blipFill>
          <p:spPr>
            <a:xfrm>
              <a:off x="6872760" y="2156400"/>
              <a:ext cx="2158920" cy="215892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158" name="组合 26"/>
          <p:cNvGrpSpPr/>
          <p:nvPr/>
        </p:nvGrpSpPr>
        <p:grpSpPr>
          <a:xfrm>
            <a:off x="9039240" y="1257480"/>
            <a:ext cx="1796760" cy="1796760"/>
            <a:chOff x="9039240" y="1257480"/>
            <a:chExt cx="1796760" cy="1796760"/>
          </a:xfrm>
        </p:grpSpPr>
        <p:sp>
          <p:nvSpPr>
            <p:cNvPr id="159" name="椭圆 15"/>
            <p:cNvSpPr/>
            <p:nvPr/>
          </p:nvSpPr>
          <p:spPr>
            <a:xfrm>
              <a:off x="9039240" y="1257480"/>
              <a:ext cx="1796760" cy="17967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60" name="椭圆 16"/>
            <p:cNvSpPr/>
            <p:nvPr/>
          </p:nvSpPr>
          <p:spPr>
            <a:xfrm>
              <a:off x="9102600" y="1320840"/>
              <a:ext cx="1669680" cy="1669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61" name="图片 25" descr=""/>
            <p:cNvPicPr/>
            <p:nvPr/>
          </p:nvPicPr>
          <p:blipFill>
            <a:blip r:embed="rId3"/>
            <a:srcRect l="16717" t="49" r="16717" b="49"/>
            <a:stretch/>
          </p:blipFill>
          <p:spPr>
            <a:xfrm>
              <a:off x="9167040" y="1385640"/>
              <a:ext cx="1541160" cy="154008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62" name="组合 31"/>
          <p:cNvGrpSpPr/>
          <p:nvPr/>
        </p:nvGrpSpPr>
        <p:grpSpPr>
          <a:xfrm>
            <a:off x="9879120" y="2995560"/>
            <a:ext cx="1617480" cy="1617480"/>
            <a:chOff x="9879120" y="2995560"/>
            <a:chExt cx="1617480" cy="1617480"/>
          </a:xfrm>
        </p:grpSpPr>
        <p:sp>
          <p:nvSpPr>
            <p:cNvPr id="163" name="椭圆 11"/>
            <p:cNvSpPr/>
            <p:nvPr/>
          </p:nvSpPr>
          <p:spPr>
            <a:xfrm>
              <a:off x="9879120" y="2995560"/>
              <a:ext cx="1617480" cy="16174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64" name="椭圆 12"/>
            <p:cNvSpPr/>
            <p:nvPr/>
          </p:nvSpPr>
          <p:spPr>
            <a:xfrm>
              <a:off x="9936000" y="3052800"/>
              <a:ext cx="1503000" cy="1503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65" name="图片 30" descr=""/>
            <p:cNvPicPr/>
            <p:nvPr/>
          </p:nvPicPr>
          <p:blipFill>
            <a:blip r:embed="rId4"/>
            <a:srcRect l="5677" t="1873" r="30221" b="1873"/>
            <a:stretch/>
          </p:blipFill>
          <p:spPr>
            <a:xfrm>
              <a:off x="9994680" y="3111120"/>
              <a:ext cx="1386360" cy="138636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1"/>
          <p:cNvGrpSpPr/>
          <p:nvPr/>
        </p:nvGrpSpPr>
        <p:grpSpPr>
          <a:xfrm>
            <a:off x="5708520" y="0"/>
            <a:ext cx="6482880" cy="6857640"/>
            <a:chOff x="5708520" y="0"/>
            <a:chExt cx="6482880" cy="6857640"/>
          </a:xfrm>
        </p:grpSpPr>
        <p:sp>
          <p:nvSpPr>
            <p:cNvPr id="167" name="矩形 34"/>
            <p:cNvSpPr/>
            <p:nvPr/>
          </p:nvSpPr>
          <p:spPr>
            <a:xfrm flipH="1">
              <a:off x="5930280" y="200160"/>
              <a:ext cx="6260760" cy="6457680"/>
            </a:xfrm>
            <a:custGeom>
              <a:avLst/>
              <a:gdLst>
                <a:gd name="textAreaLeft" fmla="*/ -360 w 6260760"/>
                <a:gd name="textAreaRight" fmla="*/ 626076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68" name="矩形 34"/>
            <p:cNvSpPr/>
            <p:nvPr/>
          </p:nvSpPr>
          <p:spPr>
            <a:xfrm flipH="1">
              <a:off x="5708520" y="0"/>
              <a:ext cx="6482880" cy="6857640"/>
            </a:xfrm>
            <a:custGeom>
              <a:avLst/>
              <a:gdLst>
                <a:gd name="textAreaLeft" fmla="*/ 360 w 6482880"/>
                <a:gd name="textAreaRight" fmla="*/ 648360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69" name="文本框 4"/>
          <p:cNvSpPr/>
          <p:nvPr/>
        </p:nvSpPr>
        <p:spPr>
          <a:xfrm>
            <a:off x="6095880" y="2612880"/>
            <a:ext cx="44668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五：情感失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6095880" y="3335400"/>
            <a:ext cx="5565240" cy="19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忙不能闲，习惯了快节奏的工作和生活，突然停下来无所事事，导致心理失衡，无精打采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键在于进行积极的自我调适，工作时尽量调整状态，投入认真，休息时也要学会给心灵放个假；此外可以多吃富含维生素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C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水果，帮助缓解症状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组合 22"/>
          <p:cNvGrpSpPr/>
          <p:nvPr/>
        </p:nvGrpSpPr>
        <p:grpSpPr>
          <a:xfrm>
            <a:off x="719280" y="3511440"/>
            <a:ext cx="2520720" cy="2520720"/>
            <a:chOff x="719280" y="3511440"/>
            <a:chExt cx="2520720" cy="2520720"/>
          </a:xfrm>
        </p:grpSpPr>
        <p:sp>
          <p:nvSpPr>
            <p:cNvPr id="172" name="椭圆 7"/>
            <p:cNvSpPr/>
            <p:nvPr/>
          </p:nvSpPr>
          <p:spPr>
            <a:xfrm>
              <a:off x="719280" y="3511440"/>
              <a:ext cx="2520720" cy="25207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73" name="椭圆 8"/>
            <p:cNvSpPr/>
            <p:nvPr/>
          </p:nvSpPr>
          <p:spPr>
            <a:xfrm>
              <a:off x="809640" y="3602160"/>
              <a:ext cx="2339640" cy="23396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74" name="图片 21" descr=""/>
            <p:cNvPicPr/>
            <p:nvPr/>
          </p:nvPicPr>
          <p:blipFill>
            <a:blip r:embed="rId2"/>
            <a:srcRect l="16172" t="0" r="16172" b="0"/>
            <a:stretch/>
          </p:blipFill>
          <p:spPr>
            <a:xfrm>
              <a:off x="899280" y="3691440"/>
              <a:ext cx="2160360" cy="216036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175" name="组合 26"/>
          <p:cNvGrpSpPr/>
          <p:nvPr/>
        </p:nvGrpSpPr>
        <p:grpSpPr>
          <a:xfrm>
            <a:off x="3067200" y="2793960"/>
            <a:ext cx="1794960" cy="1794960"/>
            <a:chOff x="3067200" y="2793960"/>
            <a:chExt cx="1794960" cy="1794960"/>
          </a:xfrm>
        </p:grpSpPr>
        <p:sp>
          <p:nvSpPr>
            <p:cNvPr id="176" name="椭圆 11"/>
            <p:cNvSpPr/>
            <p:nvPr/>
          </p:nvSpPr>
          <p:spPr>
            <a:xfrm>
              <a:off x="3067200" y="2793960"/>
              <a:ext cx="1794960" cy="17949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77" name="椭圆 12"/>
            <p:cNvSpPr/>
            <p:nvPr/>
          </p:nvSpPr>
          <p:spPr>
            <a:xfrm>
              <a:off x="3130560" y="2857680"/>
              <a:ext cx="1668240" cy="166824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78" name="图片 25" descr=""/>
            <p:cNvPicPr/>
            <p:nvPr/>
          </p:nvPicPr>
          <p:blipFill>
            <a:blip r:embed="rId3"/>
            <a:srcRect l="16336" t="2486" r="16336" b="2486"/>
            <a:stretch/>
          </p:blipFill>
          <p:spPr>
            <a:xfrm>
              <a:off x="3195360" y="2922120"/>
              <a:ext cx="1538640" cy="153864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79" name="组合 29"/>
          <p:cNvGrpSpPr/>
          <p:nvPr/>
        </p:nvGrpSpPr>
        <p:grpSpPr>
          <a:xfrm>
            <a:off x="3906720" y="4532400"/>
            <a:ext cx="1617480" cy="1615680"/>
            <a:chOff x="3906720" y="4532400"/>
            <a:chExt cx="1617480" cy="1615680"/>
          </a:xfrm>
        </p:grpSpPr>
        <p:sp>
          <p:nvSpPr>
            <p:cNvPr id="180" name="椭圆 15"/>
            <p:cNvSpPr/>
            <p:nvPr/>
          </p:nvSpPr>
          <p:spPr>
            <a:xfrm>
              <a:off x="3906720" y="4532400"/>
              <a:ext cx="1617480" cy="16156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81" name="椭圆 16"/>
            <p:cNvSpPr/>
            <p:nvPr/>
          </p:nvSpPr>
          <p:spPr>
            <a:xfrm>
              <a:off x="3963960" y="4589640"/>
              <a:ext cx="1503000" cy="150156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82" name="图片 28" descr=""/>
            <p:cNvPicPr/>
            <p:nvPr/>
          </p:nvPicPr>
          <p:blipFill>
            <a:blip r:embed="rId4"/>
            <a:srcRect l="1874" t="14414" r="1874" b="14414"/>
            <a:stretch/>
          </p:blipFill>
          <p:spPr>
            <a:xfrm>
              <a:off x="4022280" y="4647600"/>
              <a:ext cx="1386360" cy="138492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  <p:sp>
        <p:nvSpPr>
          <p:cNvPr id="183" name="Text Box 8"/>
          <p:cNvSpPr/>
          <p:nvPr/>
        </p:nvSpPr>
        <p:spPr>
          <a:xfrm>
            <a:off x="178560" y="634860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6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组合 1"/>
          <p:cNvGrpSpPr/>
          <p:nvPr/>
        </p:nvGrpSpPr>
        <p:grpSpPr>
          <a:xfrm>
            <a:off x="0" y="0"/>
            <a:ext cx="6482880" cy="6857640"/>
            <a:chOff x="0" y="0"/>
            <a:chExt cx="6482880" cy="6857640"/>
          </a:xfrm>
        </p:grpSpPr>
        <p:sp>
          <p:nvSpPr>
            <p:cNvPr id="185" name="矩形 34"/>
            <p:cNvSpPr/>
            <p:nvPr/>
          </p:nvSpPr>
          <p:spPr>
            <a:xfrm>
              <a:off x="0" y="200160"/>
              <a:ext cx="6260760" cy="6457680"/>
            </a:xfrm>
            <a:custGeom>
              <a:avLst/>
              <a:gdLst>
                <a:gd name="textAreaLeft" fmla="*/ 0 w 6260760"/>
                <a:gd name="textAreaRight" fmla="*/ 6261120 w 6260760"/>
                <a:gd name="textAreaTop" fmla="*/ 0 h 6457680"/>
                <a:gd name="textAreaBottom" fmla="*/ 6458040 h 645768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86" name="矩形 34"/>
            <p:cNvSpPr/>
            <p:nvPr/>
          </p:nvSpPr>
          <p:spPr>
            <a:xfrm>
              <a:off x="0" y="0"/>
              <a:ext cx="6482880" cy="6857640"/>
            </a:xfrm>
            <a:custGeom>
              <a:avLst/>
              <a:gdLst>
                <a:gd name="textAreaLeft" fmla="*/ 0 w 6482880"/>
                <a:gd name="textAreaRight" fmla="*/ 6483240 w 6482880"/>
                <a:gd name="textAreaTop" fmla="*/ 0 h 6857640"/>
                <a:gd name="textAreaBottom" fmla="*/ 6858000 h 6857640"/>
              </a:gdLst>
              <a:ahLst/>
              <a:rect l="textAreaLeft" t="textAreaTop" r="textAreaRight" b="textAreaBottom"/>
              <a:pathLst>
                <a:path w="6646984" h="6858000">
                  <a:moveTo>
                    <a:pt x="0" y="0"/>
                  </a:moveTo>
                  <a:lnTo>
                    <a:pt x="4994031" y="1019908"/>
                  </a:lnTo>
                  <a:lnTo>
                    <a:pt x="6646984" y="5251938"/>
                  </a:lnTo>
                  <a:lnTo>
                    <a:pt x="0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</p:grpSp>
      <p:sp>
        <p:nvSpPr>
          <p:cNvPr id="187" name="文本框 18"/>
          <p:cNvSpPr/>
          <p:nvPr/>
        </p:nvSpPr>
        <p:spPr>
          <a:xfrm>
            <a:off x="625320" y="1265400"/>
            <a:ext cx="4776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方正水柱简体"/>
                <a:ea typeface="方正水柱简体"/>
              </a:rPr>
              <a:t>假日综合症六：旅游后遗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19"/>
          <p:cNvSpPr/>
          <p:nvPr/>
        </p:nvSpPr>
        <p:spPr>
          <a:xfrm>
            <a:off x="625320" y="1930320"/>
            <a:ext cx="5470200" cy="2229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症状表现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由于旅途劳顿消耗了大量的精力和体力，免疫力降低，出现感冒、发烧、牙痛、口腔溃疡等症状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调节方法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保证有规律的起居，注意劳逸结合，有充足的睡眠时间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喝水、多吃水果，补充维生素，提高免疫力；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 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吃“清火”食物，如新鲜的瓜果蔬菜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23"/>
          <p:cNvGrpSpPr/>
          <p:nvPr/>
        </p:nvGrpSpPr>
        <p:grpSpPr>
          <a:xfrm>
            <a:off x="6692760" y="1976400"/>
            <a:ext cx="2518920" cy="2518920"/>
            <a:chOff x="6692760" y="1976400"/>
            <a:chExt cx="2518920" cy="2518920"/>
          </a:xfrm>
        </p:grpSpPr>
        <p:sp>
          <p:nvSpPr>
            <p:cNvPr id="190" name="椭圆 7"/>
            <p:cNvSpPr/>
            <p:nvPr/>
          </p:nvSpPr>
          <p:spPr>
            <a:xfrm>
              <a:off x="6692760" y="1976400"/>
              <a:ext cx="2518920" cy="2518920"/>
            </a:xfrm>
            <a:prstGeom prst="ellipse">
              <a:avLst/>
            </a:prstGeom>
            <a:solidFill>
              <a:srgbClr val="01ace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91" name="椭圆 8"/>
            <p:cNvSpPr/>
            <p:nvPr/>
          </p:nvSpPr>
          <p:spPr>
            <a:xfrm>
              <a:off x="6783480" y="2066760"/>
              <a:ext cx="2338200" cy="23382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92" name="图片 22" descr=""/>
            <p:cNvPicPr/>
            <p:nvPr/>
          </p:nvPicPr>
          <p:blipFill>
            <a:blip r:embed="rId2"/>
            <a:srcRect l="15383" t="3850" r="15383" b="3850"/>
            <a:stretch/>
          </p:blipFill>
          <p:spPr>
            <a:xfrm>
              <a:off x="6872760" y="2156400"/>
              <a:ext cx="2158920" cy="2158920"/>
            </a:xfrm>
            <a:prstGeom prst="rect">
              <a:avLst/>
            </a:prstGeom>
            <a:ln w="9525">
              <a:solidFill>
                <a:srgbClr val="01acec"/>
              </a:solidFill>
              <a:miter/>
            </a:ln>
          </p:spPr>
        </p:pic>
      </p:grpSp>
      <p:grpSp>
        <p:nvGrpSpPr>
          <p:cNvPr id="193" name="组合 26"/>
          <p:cNvGrpSpPr/>
          <p:nvPr/>
        </p:nvGrpSpPr>
        <p:grpSpPr>
          <a:xfrm>
            <a:off x="9039240" y="1257480"/>
            <a:ext cx="1796760" cy="1796760"/>
            <a:chOff x="9039240" y="1257480"/>
            <a:chExt cx="1796760" cy="1796760"/>
          </a:xfrm>
        </p:grpSpPr>
        <p:sp>
          <p:nvSpPr>
            <p:cNvPr id="194" name="椭圆 15"/>
            <p:cNvSpPr/>
            <p:nvPr/>
          </p:nvSpPr>
          <p:spPr>
            <a:xfrm>
              <a:off x="9039240" y="1257480"/>
              <a:ext cx="1796760" cy="1796760"/>
            </a:xfrm>
            <a:prstGeom prst="ellipse">
              <a:avLst/>
            </a:prstGeom>
            <a:solidFill>
              <a:srgbClr val="a9bf2c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95" name="椭圆 16"/>
            <p:cNvSpPr/>
            <p:nvPr/>
          </p:nvSpPr>
          <p:spPr>
            <a:xfrm>
              <a:off x="9102600" y="1320840"/>
              <a:ext cx="1669680" cy="166968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196" name="图片 25" descr=""/>
            <p:cNvPicPr/>
            <p:nvPr/>
          </p:nvPicPr>
          <p:blipFill>
            <a:blip r:embed="rId3"/>
            <a:srcRect l="18024" t="275" r="18024" b="275"/>
            <a:stretch/>
          </p:blipFill>
          <p:spPr>
            <a:xfrm>
              <a:off x="9203760" y="1385640"/>
              <a:ext cx="1541160" cy="1540080"/>
            </a:xfrm>
            <a:prstGeom prst="rect">
              <a:avLst/>
            </a:prstGeom>
            <a:ln w="9525">
              <a:solidFill>
                <a:srgbClr val="a9bf2c"/>
              </a:solidFill>
              <a:miter/>
            </a:ln>
          </p:spPr>
        </p:pic>
      </p:grpSp>
      <p:grpSp>
        <p:nvGrpSpPr>
          <p:cNvPr id="197" name="组合 31"/>
          <p:cNvGrpSpPr/>
          <p:nvPr/>
        </p:nvGrpSpPr>
        <p:grpSpPr>
          <a:xfrm>
            <a:off x="9879120" y="2995560"/>
            <a:ext cx="1617480" cy="1617480"/>
            <a:chOff x="9879120" y="2995560"/>
            <a:chExt cx="1617480" cy="1617480"/>
          </a:xfrm>
        </p:grpSpPr>
        <p:sp>
          <p:nvSpPr>
            <p:cNvPr id="198" name="椭圆 11"/>
            <p:cNvSpPr/>
            <p:nvPr/>
          </p:nvSpPr>
          <p:spPr>
            <a:xfrm>
              <a:off x="9879120" y="2995560"/>
              <a:ext cx="1617480" cy="1617480"/>
            </a:xfrm>
            <a:prstGeom prst="ellipse">
              <a:avLst/>
            </a:prstGeom>
            <a:solidFill>
              <a:srgbClr val="c44096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sp>
          <p:nvSpPr>
            <p:cNvPr id="199" name="椭圆 12"/>
            <p:cNvSpPr/>
            <p:nvPr/>
          </p:nvSpPr>
          <p:spPr>
            <a:xfrm>
              <a:off x="9936000" y="3052800"/>
              <a:ext cx="1503000" cy="1503000"/>
            </a:xfrm>
            <a:prstGeom prst="ellipse">
              <a:avLst/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Times New Roman"/>
                <a:ea typeface="微软雅黑"/>
              </a:endParaRPr>
            </a:p>
          </p:txBody>
        </p:sp>
        <p:pic>
          <p:nvPicPr>
            <p:cNvPr id="200" name="图片 30" descr=""/>
            <p:cNvPicPr/>
            <p:nvPr/>
          </p:nvPicPr>
          <p:blipFill>
            <a:blip r:embed="rId4"/>
            <a:srcRect l="19110" t="1871" r="19110" b="1871"/>
            <a:stretch/>
          </p:blipFill>
          <p:spPr>
            <a:xfrm>
              <a:off x="9994680" y="3111120"/>
              <a:ext cx="1386360" cy="1386360"/>
            </a:xfrm>
            <a:prstGeom prst="rect">
              <a:avLst/>
            </a:prstGeom>
            <a:ln w="9525">
              <a:solidFill>
                <a:srgbClr val="c44096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  <Words>1168</Words>
  <Paragraphs>119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08T01:38:07Z</dcterms:created>
  <dc:creator>ppt宝藏</dc:creator>
  <dc:description/>
  <dc:language>en-US</dc:language>
  <cp:lastModifiedBy>yu wang</cp:lastModifiedBy>
  <dcterms:modified xsi:type="dcterms:W3CDTF">2015-08-12T14:50:55Z</dcterms:modified>
  <cp:revision>10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3</vt:r8>
  </property>
</Properties>
</file>