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52D-0453-46F8-9F48-6D34B2B2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4D5-6DB5-4905-AA2F-3E8756B7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00B-91F2-4959-A6D1-DEE96D53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118-DA74-4742-9A7E-5BC56AC0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0AC-CE48-4C2E-8811-C425FE8D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4D3-3AAB-4423-9F61-0E25208F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92C-4A50-40E7-BC95-517FEF7D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C3F-0155-4662-91E4-92E09789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8E7-472B-4A0C-BC08-0CDC2C3F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B82-0DB6-4536-A571-0AD0B673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64B-8FC3-43A7-97AD-76541BAA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81A-FF12-40EE-8404-EDA68332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e2e2e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Click to edit the outline text format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Second Outline Level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Third Outline Level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Fourth Outline Level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Fifth Outline Level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Sixth Outline Level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Seventh Outline Level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74A9-9184-45B3-8298-E06BE23F3442}" type="datetime">
              <a:rPr b="0" lang="zh-CN" sz="1200" spc="-1" strike="noStrike">
                <a:solidFill>
                  <a:srgbClr val="8d8d8d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FE3F-1C5D-4AE2-89D2-49E7AA9D9660}" type="slidenum">
              <a:rPr b="0" lang="zh-CN" sz="1200" spc="-1" strike="noStrike">
                <a:solidFill>
                  <a:srgbClr val="8d8d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6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4640" y="5743440"/>
            <a:ext cx="48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金三胖帅气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素材免费下载</a:t>
            </a:r>
            <a:endParaRPr b="0" lang="en-US" sz="3600" spc="-1" strike="noStrike">
              <a:solidFill>
                <a:srgbClr val="2e2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"/>
          <p:cNvPicPr/>
          <p:nvPr/>
        </p:nvPicPr>
        <p:blipFill>
          <a:blip r:embed="rId1"/>
          <a:stretch/>
        </p:blipFill>
        <p:spPr>
          <a:xfrm flipH="1" rot="16200000">
            <a:off x="4742640" y="2579760"/>
            <a:ext cx="3156120" cy="17413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2" descr=""/>
          <p:cNvPicPr/>
          <p:nvPr/>
        </p:nvPicPr>
        <p:blipFill>
          <a:blip r:embed="rId2"/>
          <a:stretch/>
        </p:blipFill>
        <p:spPr>
          <a:xfrm flipH="1" rot="18000000">
            <a:off x="4513320" y="3436200"/>
            <a:ext cx="3155760" cy="17431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3" descr=""/>
          <p:cNvPicPr/>
          <p:nvPr/>
        </p:nvPicPr>
        <p:blipFill>
          <a:blip r:embed="rId3"/>
          <a:stretch/>
        </p:blipFill>
        <p:spPr>
          <a:xfrm flipH="1" rot="19800000">
            <a:off x="3885840" y="4064760"/>
            <a:ext cx="3155760" cy="17416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" descr=""/>
          <p:cNvPicPr/>
          <p:nvPr/>
        </p:nvPicPr>
        <p:blipFill>
          <a:blip r:embed="rId4"/>
          <a:stretch/>
        </p:blipFill>
        <p:spPr>
          <a:xfrm flipH="1">
            <a:off x="3029040" y="4295160"/>
            <a:ext cx="3155760" cy="17413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" descr=""/>
          <p:cNvPicPr/>
          <p:nvPr/>
        </p:nvPicPr>
        <p:blipFill>
          <a:blip r:embed="rId5"/>
          <a:stretch/>
        </p:blipFill>
        <p:spPr>
          <a:xfrm flipH="1" rot="1800000">
            <a:off x="2171520" y="4064760"/>
            <a:ext cx="3155760" cy="17416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6" descr=""/>
          <p:cNvPicPr/>
          <p:nvPr/>
        </p:nvPicPr>
        <p:blipFill>
          <a:blip r:embed="rId6"/>
          <a:stretch/>
        </p:blipFill>
        <p:spPr>
          <a:xfrm flipH="1" rot="3600000">
            <a:off x="1543680" y="3436920"/>
            <a:ext cx="3155760" cy="17413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7" descr=""/>
          <p:cNvPicPr/>
          <p:nvPr/>
        </p:nvPicPr>
        <p:blipFill>
          <a:blip r:embed="rId7"/>
          <a:stretch/>
        </p:blipFill>
        <p:spPr>
          <a:xfrm flipH="1" rot="5400000">
            <a:off x="1312920" y="2580120"/>
            <a:ext cx="3156120" cy="17413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8" descr=""/>
          <p:cNvPicPr/>
          <p:nvPr/>
        </p:nvPicPr>
        <p:blipFill>
          <a:blip r:embed="rId8"/>
          <a:stretch/>
        </p:blipFill>
        <p:spPr>
          <a:xfrm flipH="1" rot="7200000">
            <a:off x="1543680" y="1722960"/>
            <a:ext cx="3156120" cy="17413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" descr=""/>
          <p:cNvPicPr/>
          <p:nvPr/>
        </p:nvPicPr>
        <p:blipFill>
          <a:blip r:embed="rId9"/>
          <a:stretch/>
        </p:blipFill>
        <p:spPr>
          <a:xfrm flipH="1" rot="9000000">
            <a:off x="2171880" y="1096560"/>
            <a:ext cx="3155760" cy="17416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" descr=""/>
          <p:cNvPicPr/>
          <p:nvPr/>
        </p:nvPicPr>
        <p:blipFill>
          <a:blip r:embed="rId10"/>
          <a:stretch/>
        </p:blipFill>
        <p:spPr>
          <a:xfrm flipH="1" rot="10800000">
            <a:off x="3029040" y="866160"/>
            <a:ext cx="3155760" cy="174132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1" descr=""/>
          <p:cNvPicPr/>
          <p:nvPr/>
        </p:nvPicPr>
        <p:blipFill>
          <a:blip r:embed="rId11"/>
          <a:stretch/>
        </p:blipFill>
        <p:spPr>
          <a:xfrm flipH="1" rot="12600000">
            <a:off x="3886200" y="1096920"/>
            <a:ext cx="3155760" cy="17413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2" descr=""/>
          <p:cNvPicPr/>
          <p:nvPr/>
        </p:nvPicPr>
        <p:blipFill>
          <a:blip r:embed="rId12"/>
          <a:stretch/>
        </p:blipFill>
        <p:spPr>
          <a:xfrm flipH="1" rot="14400000">
            <a:off x="4513320" y="1721520"/>
            <a:ext cx="3156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35" descr=""/>
          <p:cNvPicPr/>
          <p:nvPr/>
        </p:nvPicPr>
        <p:blipFill>
          <a:blip r:embed="rId1"/>
          <a:stretch/>
        </p:blipFill>
        <p:spPr>
          <a:xfrm rot="12600000">
            <a:off x="925560" y="1378800"/>
            <a:ext cx="4322880" cy="238428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58" descr=""/>
          <p:cNvPicPr/>
          <p:nvPr/>
        </p:nvPicPr>
        <p:blipFill>
          <a:blip r:embed="rId2"/>
          <a:stretch/>
        </p:blipFill>
        <p:spPr>
          <a:xfrm rot="14400000">
            <a:off x="1553760" y="752040"/>
            <a:ext cx="4321440" cy="238428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59" descr=""/>
          <p:cNvPicPr/>
          <p:nvPr/>
        </p:nvPicPr>
        <p:blipFill>
          <a:blip r:embed="rId3"/>
          <a:stretch/>
        </p:blipFill>
        <p:spPr>
          <a:xfrm rot="16200000">
            <a:off x="2410560" y="523080"/>
            <a:ext cx="4322880" cy="23846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60" descr=""/>
          <p:cNvPicPr/>
          <p:nvPr/>
        </p:nvPicPr>
        <p:blipFill>
          <a:blip r:embed="rId4"/>
          <a:stretch/>
        </p:blipFill>
        <p:spPr>
          <a:xfrm rot="18000000">
            <a:off x="3268440" y="752400"/>
            <a:ext cx="4321440" cy="23842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61" descr=""/>
          <p:cNvPicPr/>
          <p:nvPr/>
        </p:nvPicPr>
        <p:blipFill>
          <a:blip r:embed="rId5"/>
          <a:stretch/>
        </p:blipFill>
        <p:spPr>
          <a:xfrm rot="19800000">
            <a:off x="3895560" y="1379520"/>
            <a:ext cx="4322880" cy="238428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62" descr=""/>
          <p:cNvPicPr/>
          <p:nvPr/>
        </p:nvPicPr>
        <p:blipFill>
          <a:blip r:embed="rId6"/>
          <a:stretch/>
        </p:blipFill>
        <p:spPr>
          <a:xfrm>
            <a:off x="4125960" y="2236680"/>
            <a:ext cx="4322880" cy="23846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63" descr=""/>
          <p:cNvPicPr/>
          <p:nvPr/>
        </p:nvPicPr>
        <p:blipFill>
          <a:blip r:embed="rId7"/>
          <a:stretch/>
        </p:blipFill>
        <p:spPr>
          <a:xfrm rot="1800000">
            <a:off x="3895200" y="3094200"/>
            <a:ext cx="4322880" cy="23842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64" descr=""/>
          <p:cNvPicPr/>
          <p:nvPr/>
        </p:nvPicPr>
        <p:blipFill>
          <a:blip r:embed="rId8"/>
          <a:stretch/>
        </p:blipFill>
        <p:spPr>
          <a:xfrm rot="3600000">
            <a:off x="3268080" y="3721320"/>
            <a:ext cx="4321440" cy="23842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65" descr=""/>
          <p:cNvPicPr/>
          <p:nvPr/>
        </p:nvPicPr>
        <p:blipFill>
          <a:blip r:embed="rId9"/>
          <a:stretch/>
        </p:blipFill>
        <p:spPr>
          <a:xfrm rot="5400000">
            <a:off x="2410560" y="3950280"/>
            <a:ext cx="4322880" cy="23846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66" descr=""/>
          <p:cNvPicPr/>
          <p:nvPr/>
        </p:nvPicPr>
        <p:blipFill>
          <a:blip r:embed="rId10"/>
          <a:stretch/>
        </p:blipFill>
        <p:spPr>
          <a:xfrm rot="7200000">
            <a:off x="1553400" y="3720960"/>
            <a:ext cx="4321440" cy="23842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67" descr=""/>
          <p:cNvPicPr/>
          <p:nvPr/>
        </p:nvPicPr>
        <p:blipFill>
          <a:blip r:embed="rId11"/>
          <a:stretch/>
        </p:blipFill>
        <p:spPr>
          <a:xfrm rot="9000000">
            <a:off x="925200" y="3093480"/>
            <a:ext cx="4322880" cy="23842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68" descr=""/>
          <p:cNvPicPr/>
          <p:nvPr/>
        </p:nvPicPr>
        <p:blipFill>
          <a:blip r:embed="rId12"/>
          <a:stretch/>
        </p:blipFill>
        <p:spPr>
          <a:xfrm rot="10800000">
            <a:off x="696960" y="2236320"/>
            <a:ext cx="43228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e2e2e"/>
                </a:solidFill>
                <a:latin typeface="Segoe UI"/>
              </a:rPr>
              <a:t>使用规范说明</a:t>
            </a: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站点介绍：</a:t>
            </a: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Segoe UI Light 8"/>
              </a:rPr>
              <a:t> </a:t>
            </a:r>
            <a:r>
              <a:rPr b="0" lang="zh-CN" sz="1000" spc="-1" strike="noStrike" u="sng">
                <a:solidFill>
                  <a:srgbClr val="ffd03b"/>
                </a:solidFill>
                <a:uFillTx/>
                <a:latin typeface="Segoe UI Light 8"/>
              </a:rPr>
              <a:t>http://</a:t>
            </a:r>
            <a:r>
              <a:rPr b="0" lang="en-US" sz="1000" spc="-1" strike="noStrike" u="sng">
                <a:solidFill>
                  <a:srgbClr val="ffd03b"/>
                </a:solidFill>
                <a:uFillTx/>
                <a:latin typeface="Segoe UI Light 8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 </a:t>
            </a: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特别说明：</a:t>
            </a: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栏目推荐：</a:t>
            </a: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dongtai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chuangyi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gongzuo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kejian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shangwu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sucai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fengjing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jianjie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jiaoyu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网络科技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论文答辩ppt模板免费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lunwen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通用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医疗卫生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yiliao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607080" y="1108080"/>
            <a:ext cx="1042920" cy="262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2e2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652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"/>
          <p:cNvSpPr/>
          <p:nvPr/>
        </p:nvSpPr>
        <p:spPr>
          <a:xfrm>
            <a:off x="2970360" y="5546880"/>
            <a:ext cx="335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JhengHei"/>
              </a:rPr>
              <a:t>我是</a:t>
            </a:r>
            <a:r>
              <a:rPr b="1" lang="zh-CN" sz="4800" spc="-1" strike="noStrike">
                <a:solidFill>
                  <a:srgbClr val="ffd03b"/>
                </a:solidFill>
                <a:latin typeface="微软雅黑"/>
                <a:ea typeface="微软雅黑"/>
              </a:rPr>
              <a:t>宇宙最强的男人</a:t>
            </a:r>
            <a:endParaRPr b="0" lang="en-US" sz="4800" spc="-1" strike="noStrike">
              <a:solidFill>
                <a:srgbClr val="2e2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椭圆 1"/>
          <p:cNvSpPr/>
          <p:nvPr/>
        </p:nvSpPr>
        <p:spPr>
          <a:xfrm>
            <a:off x="6496200" y="4651200"/>
            <a:ext cx="1320480" cy="142920"/>
          </a:xfrm>
          <a:prstGeom prst="ellipse">
            <a:avLst/>
          </a:prstGeom>
          <a:solidFill>
            <a:srgbClr val="2e2e2e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6707160" y="3800520"/>
            <a:ext cx="951120" cy="915840"/>
          </a:xfrm>
          <a:prstGeom prst="pie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grpSp>
        <p:nvGrpSpPr>
          <p:cNvPr id="47" name="组合 3"/>
          <p:cNvGrpSpPr/>
          <p:nvPr/>
        </p:nvGrpSpPr>
        <p:grpSpPr>
          <a:xfrm>
            <a:off x="6221520" y="1731960"/>
            <a:ext cx="1815840" cy="2124000"/>
            <a:chOff x="6221520" y="1731960"/>
            <a:chExt cx="1815840" cy="2124000"/>
          </a:xfrm>
        </p:grpSpPr>
        <p:grpSp>
          <p:nvGrpSpPr>
            <p:cNvPr id="48" name="组合 4"/>
            <p:cNvGrpSpPr/>
            <p:nvPr/>
          </p:nvGrpSpPr>
          <p:grpSpPr>
            <a:xfrm>
              <a:off x="6221520" y="1974240"/>
              <a:ext cx="1815840" cy="1881720"/>
              <a:chOff x="6221520" y="1974240"/>
              <a:chExt cx="1815840" cy="1881720"/>
            </a:xfrm>
          </p:grpSpPr>
          <p:sp>
            <p:nvSpPr>
              <p:cNvPr id="49" name="椭圆 7"/>
              <p:cNvSpPr/>
              <p:nvPr/>
            </p:nvSpPr>
            <p:spPr>
              <a:xfrm>
                <a:off x="6465240" y="2417400"/>
                <a:ext cx="1391400" cy="1391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0" name="Freeform 5"/>
              <p:cNvSpPr/>
              <p:nvPr/>
            </p:nvSpPr>
            <p:spPr>
              <a:xfrm>
                <a:off x="6221520" y="2172600"/>
                <a:ext cx="1815840" cy="1042200"/>
              </a:xfrm>
              <a:prstGeom prst="pi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1" name="矩形 9"/>
              <p:cNvSpPr/>
              <p:nvPr/>
            </p:nvSpPr>
            <p:spPr>
              <a:xfrm>
                <a:off x="6643800" y="3201840"/>
                <a:ext cx="485280" cy="52560"/>
              </a:xfrm>
              <a:prstGeom prst="rect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2" name="矩形 10"/>
              <p:cNvSpPr/>
              <p:nvPr/>
            </p:nvSpPr>
            <p:spPr>
              <a:xfrm>
                <a:off x="7256880" y="3201840"/>
                <a:ext cx="485280" cy="52560"/>
              </a:xfrm>
              <a:prstGeom prst="rect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333480" y="1974240"/>
                <a:ext cx="1561320" cy="1173960"/>
              </a:xfrm>
              <a:prstGeom prst="pi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4" name="椭圆 12"/>
              <p:cNvSpPr/>
              <p:nvPr/>
            </p:nvSpPr>
            <p:spPr>
              <a:xfrm>
                <a:off x="6709320" y="3201840"/>
                <a:ext cx="135000" cy="9252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5" name="椭圆 13"/>
              <p:cNvSpPr/>
              <p:nvPr/>
            </p:nvSpPr>
            <p:spPr>
              <a:xfrm>
                <a:off x="7313400" y="3201840"/>
                <a:ext cx="135000" cy="9252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6" name="同心圆 14"/>
              <p:cNvSpPr/>
              <p:nvPr/>
            </p:nvSpPr>
            <p:spPr>
              <a:xfrm>
                <a:off x="6442920" y="2419920"/>
                <a:ext cx="1435680" cy="1436040"/>
              </a:xfrm>
              <a:prstGeom prst="donut">
                <a:avLst>
                  <a:gd name="adj" fmla="val 3805"/>
                </a:avLst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 flipH="1">
                <a:off x="6429240" y="1974240"/>
                <a:ext cx="1561320" cy="1173960"/>
              </a:xfrm>
              <a:prstGeom prst="pi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</p:grpSp>
        <p:sp>
          <p:nvSpPr>
            <p:cNvPr id="58" name="椭圆 5"/>
            <p:cNvSpPr/>
            <p:nvPr/>
          </p:nvSpPr>
          <p:spPr>
            <a:xfrm>
              <a:off x="6909120" y="1731960"/>
              <a:ext cx="547920" cy="44892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59" name="圆角矩形 6"/>
            <p:cNvSpPr/>
            <p:nvPr/>
          </p:nvSpPr>
          <p:spPr>
            <a:xfrm rot="16200000">
              <a:off x="7161480" y="1715040"/>
              <a:ext cx="45720" cy="498960"/>
            </a:xfrm>
            <a:custGeom>
              <a:avLst/>
              <a:gdLst>
                <a:gd name="textAreaLeft" fmla="*/ 2160 w 45720"/>
                <a:gd name="textAreaRight" fmla="*/ 43560 w 45720"/>
                <a:gd name="textAreaTop" fmla="*/ 2160 h 498960"/>
                <a:gd name="textAreaBottom" fmla="*/ 496800 h 498960"/>
              </a:gdLst>
              <a:ahLst/>
              <a:rect l="textAreaLeft" t="textAreaTop" r="textAreaRight" b="textAreaBottom"/>
              <a:pathLst>
                <a:path w="21600" h="234056">
                  <a:moveTo>
                    <a:pt x="3600" y="0"/>
                  </a:moveTo>
                  <a:arcTo wR="3600" hR="3600" stAng="16200000" swAng="-5400000"/>
                  <a:lnTo>
                    <a:pt x="0" y="230456"/>
                  </a:lnTo>
                  <a:arcTo wR="3600" hR="3600" stAng="10800000" swAng="-5400000"/>
                  <a:lnTo>
                    <a:pt x="18000" y="2340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pic>
        <p:nvPicPr>
          <p:cNvPr id="60" name="图片 17" descr=""/>
          <p:cNvPicPr/>
          <p:nvPr/>
        </p:nvPicPr>
        <p:blipFill>
          <a:blip r:embed="rId1"/>
          <a:stretch/>
        </p:blipFill>
        <p:spPr>
          <a:xfrm>
            <a:off x="-1806480" y="2160720"/>
            <a:ext cx="8281800" cy="46972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8"/>
          <p:cNvSpPr/>
          <p:nvPr/>
        </p:nvSpPr>
        <p:spPr>
          <a:xfrm>
            <a:off x="4402800" y="1353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微软雅黑"/>
                <a:ea typeface="微软雅黑"/>
              </a:rPr>
              <a:t>买你妹！</a:t>
            </a:r>
            <a:endParaRPr b="0" lang="en-US" sz="40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2" name="弧形 19"/>
          <p:cNvSpPr/>
          <p:nvPr/>
        </p:nvSpPr>
        <p:spPr>
          <a:xfrm>
            <a:off x="5751360" y="1755720"/>
            <a:ext cx="649440" cy="649440"/>
          </a:xfrm>
          <a:prstGeom prst="pie">
            <a:avLst/>
          </a:prstGeom>
          <a:noFill/>
          <a:ln w="28440">
            <a:solidFill>
              <a:srgbClr val="2e2e2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grpSp>
        <p:nvGrpSpPr>
          <p:cNvPr id="64" name="组合 21"/>
          <p:cNvGrpSpPr/>
          <p:nvPr/>
        </p:nvGrpSpPr>
        <p:grpSpPr>
          <a:xfrm>
            <a:off x="2521800" y="2990520"/>
            <a:ext cx="803520" cy="801360"/>
            <a:chOff x="2521800" y="2990520"/>
            <a:chExt cx="803520" cy="801360"/>
          </a:xfrm>
        </p:grpSpPr>
        <p:sp>
          <p:nvSpPr>
            <p:cNvPr id="65" name="空心弧 22"/>
            <p:cNvSpPr/>
            <p:nvPr/>
          </p:nvSpPr>
          <p:spPr>
            <a:xfrm rot="1340400">
              <a:off x="2637720" y="3414600"/>
              <a:ext cx="399960" cy="312840"/>
            </a:xfrm>
            <a:prstGeom prst="blockArc">
              <a:avLst>
                <a:gd name="adj1" fmla="val 11943462"/>
                <a:gd name="adj2" fmla="val 9656538"/>
                <a:gd name="adj3" fmla="val 175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66" name="空心弧 23"/>
            <p:cNvSpPr/>
            <p:nvPr/>
          </p:nvSpPr>
          <p:spPr>
            <a:xfrm rot="9372600">
              <a:off x="2567520" y="3057840"/>
              <a:ext cx="399960" cy="312840"/>
            </a:xfrm>
            <a:prstGeom prst="blockArc">
              <a:avLst>
                <a:gd name="adj1" fmla="val 10800000"/>
                <a:gd name="adj2" fmla="val 0"/>
                <a:gd name="adj3" fmla="val 2240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67" name="空心弧 24"/>
            <p:cNvSpPr/>
            <p:nvPr/>
          </p:nvSpPr>
          <p:spPr>
            <a:xfrm rot="16479000">
              <a:off x="2953080" y="3203640"/>
              <a:ext cx="399960" cy="312840"/>
            </a:xfrm>
            <a:prstGeom prst="blockArc">
              <a:avLst>
                <a:gd name="adj1" fmla="val 12207011"/>
                <a:gd name="adj2" fmla="val 9392989"/>
                <a:gd name="adj3" fmla="val 1790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1"/>
          <a:srcRect l="0" t="0" r="0" b="3991"/>
          <a:stretch/>
        </p:blipFill>
        <p:spPr>
          <a:xfrm>
            <a:off x="0" y="0"/>
            <a:ext cx="9147240" cy="629604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2"/>
          <p:cNvSpPr/>
          <p:nvPr/>
        </p:nvSpPr>
        <p:spPr>
          <a:xfrm>
            <a:off x="3106800" y="825480"/>
            <a:ext cx="211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M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说</a:t>
            </a:r>
            <a:endParaRPr b="0" lang="en-US" sz="4000" spc="-1" strike="noStrike">
              <a:solidFill>
                <a:srgbClr val="2e2e2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次试试！</a:t>
            </a:r>
            <a:endParaRPr b="0" lang="en-US" sz="4000" spc="-1" strike="noStrike">
              <a:solidFill>
                <a:srgbClr val="2e2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3743280" y="4619520"/>
            <a:ext cx="141480" cy="223848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71" name="Freeform 7"/>
          <p:cNvSpPr/>
          <p:nvPr/>
        </p:nvSpPr>
        <p:spPr>
          <a:xfrm>
            <a:off x="1143000" y="4497480"/>
            <a:ext cx="2509920" cy="2360520"/>
          </a:xfrm>
          <a:prstGeom prst="pie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grpSp>
        <p:nvGrpSpPr>
          <p:cNvPr id="72" name="组合 4"/>
          <p:cNvGrpSpPr/>
          <p:nvPr/>
        </p:nvGrpSpPr>
        <p:grpSpPr>
          <a:xfrm>
            <a:off x="1160640" y="4222800"/>
            <a:ext cx="760320" cy="946080"/>
            <a:chOff x="1160640" y="4222800"/>
            <a:chExt cx="760320" cy="946080"/>
          </a:xfrm>
        </p:grpSpPr>
        <p:sp>
          <p:nvSpPr>
            <p:cNvPr id="73" name="Rectangle 8"/>
            <p:cNvSpPr/>
            <p:nvPr/>
          </p:nvSpPr>
          <p:spPr>
            <a:xfrm>
              <a:off x="1257120" y="508140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74" name="Rectangle 9"/>
            <p:cNvSpPr/>
            <p:nvPr/>
          </p:nvSpPr>
          <p:spPr>
            <a:xfrm>
              <a:off x="1257120" y="4797360"/>
              <a:ext cx="663840" cy="802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1257120" y="450648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76" name="Rectangle 11"/>
            <p:cNvSpPr/>
            <p:nvPr/>
          </p:nvSpPr>
          <p:spPr>
            <a:xfrm>
              <a:off x="1257120" y="4222800"/>
              <a:ext cx="663840" cy="802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77" name="Rectangle 12"/>
            <p:cNvSpPr/>
            <p:nvPr/>
          </p:nvSpPr>
          <p:spPr>
            <a:xfrm>
              <a:off x="1160640" y="4939560"/>
              <a:ext cx="663840" cy="8892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1160640" y="464832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1160640" y="4364640"/>
              <a:ext cx="663840" cy="8892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grpSp>
        <p:nvGrpSpPr>
          <p:cNvPr id="80" name="组合 6"/>
          <p:cNvGrpSpPr/>
          <p:nvPr/>
        </p:nvGrpSpPr>
        <p:grpSpPr>
          <a:xfrm>
            <a:off x="2158920" y="2200320"/>
            <a:ext cx="2133720" cy="2241360"/>
            <a:chOff x="2158920" y="2200320"/>
            <a:chExt cx="2133720" cy="2241360"/>
          </a:xfrm>
        </p:grpSpPr>
        <p:sp>
          <p:nvSpPr>
            <p:cNvPr id="81" name="椭圆 31"/>
            <p:cNvSpPr/>
            <p:nvPr/>
          </p:nvSpPr>
          <p:spPr>
            <a:xfrm>
              <a:off x="2437920" y="2772720"/>
              <a:ext cx="1668240" cy="16689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>
              <a:off x="2158920" y="2494440"/>
              <a:ext cx="2133720" cy="1224720"/>
            </a:xfrm>
            <a:prstGeom prst="pi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83" name="矩形 33"/>
            <p:cNvSpPr/>
            <p:nvPr/>
          </p:nvSpPr>
          <p:spPr>
            <a:xfrm>
              <a:off x="2655360" y="3704400"/>
              <a:ext cx="570240" cy="6192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84" name="矩形 34"/>
            <p:cNvSpPr/>
            <p:nvPr/>
          </p:nvSpPr>
          <p:spPr>
            <a:xfrm>
              <a:off x="3375720" y="3704400"/>
              <a:ext cx="570240" cy="6192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2290320" y="2200320"/>
              <a:ext cx="1834560" cy="1440720"/>
            </a:xfrm>
            <a:prstGeom prst="pi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86" name="椭圆 36"/>
            <p:cNvSpPr/>
            <p:nvPr/>
          </p:nvSpPr>
          <p:spPr>
            <a:xfrm>
              <a:off x="2872800" y="3704400"/>
              <a:ext cx="158760" cy="10872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87" name="椭圆 37"/>
            <p:cNvSpPr/>
            <p:nvPr/>
          </p:nvSpPr>
          <p:spPr>
            <a:xfrm>
              <a:off x="3579840" y="3704400"/>
              <a:ext cx="158760" cy="10872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grpSp>
        <p:nvGrpSpPr>
          <p:cNvPr id="88" name="组合 7"/>
          <p:cNvGrpSpPr/>
          <p:nvPr/>
        </p:nvGrpSpPr>
        <p:grpSpPr>
          <a:xfrm>
            <a:off x="1014480" y="3213000"/>
            <a:ext cx="760320" cy="946080"/>
            <a:chOff x="1014480" y="3213000"/>
            <a:chExt cx="760320" cy="946080"/>
          </a:xfrm>
        </p:grpSpPr>
        <p:sp>
          <p:nvSpPr>
            <p:cNvPr id="89" name="Rectangle 8"/>
            <p:cNvSpPr/>
            <p:nvPr/>
          </p:nvSpPr>
          <p:spPr>
            <a:xfrm>
              <a:off x="1110960" y="407160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1110960" y="3787560"/>
              <a:ext cx="663840" cy="802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1110960" y="349668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1110960" y="3213000"/>
              <a:ext cx="663840" cy="802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1014480" y="3929760"/>
              <a:ext cx="663840" cy="8892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1014480" y="363852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1014480" y="3354840"/>
              <a:ext cx="663840" cy="8892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grpSp>
        <p:nvGrpSpPr>
          <p:cNvPr id="96" name="组合 8"/>
          <p:cNvGrpSpPr/>
          <p:nvPr/>
        </p:nvGrpSpPr>
        <p:grpSpPr>
          <a:xfrm>
            <a:off x="1143000" y="2200320"/>
            <a:ext cx="760320" cy="946080"/>
            <a:chOff x="1143000" y="2200320"/>
            <a:chExt cx="760320" cy="946080"/>
          </a:xfrm>
        </p:grpSpPr>
        <p:sp>
          <p:nvSpPr>
            <p:cNvPr id="97" name="Rectangle 8"/>
            <p:cNvSpPr/>
            <p:nvPr/>
          </p:nvSpPr>
          <p:spPr>
            <a:xfrm>
              <a:off x="1239480" y="305892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8" name="Rectangle 9"/>
            <p:cNvSpPr/>
            <p:nvPr/>
          </p:nvSpPr>
          <p:spPr>
            <a:xfrm>
              <a:off x="1239480" y="2774880"/>
              <a:ext cx="663840" cy="802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1239480" y="248400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1239480" y="2200320"/>
              <a:ext cx="663840" cy="802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1143000" y="2917080"/>
              <a:ext cx="663840" cy="8892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1143000" y="262584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1143000" y="2342160"/>
              <a:ext cx="663840" cy="8892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grpSp>
        <p:nvGrpSpPr>
          <p:cNvPr id="104" name="组合 9"/>
          <p:cNvGrpSpPr/>
          <p:nvPr/>
        </p:nvGrpSpPr>
        <p:grpSpPr>
          <a:xfrm>
            <a:off x="1066680" y="797040"/>
            <a:ext cx="1047960" cy="1304640"/>
            <a:chOff x="1066680" y="797040"/>
            <a:chExt cx="1047960" cy="1304640"/>
          </a:xfrm>
        </p:grpSpPr>
        <p:sp>
          <p:nvSpPr>
            <p:cNvPr id="105" name="Rectangle 8"/>
            <p:cNvSpPr/>
            <p:nvPr/>
          </p:nvSpPr>
          <p:spPr>
            <a:xfrm>
              <a:off x="1199520" y="1980720"/>
              <a:ext cx="915120" cy="1209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6" name="Rectangle 9"/>
            <p:cNvSpPr/>
            <p:nvPr/>
          </p:nvSpPr>
          <p:spPr>
            <a:xfrm>
              <a:off x="1199520" y="1589400"/>
              <a:ext cx="915120" cy="1108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7" name="Rectangle 10"/>
            <p:cNvSpPr/>
            <p:nvPr/>
          </p:nvSpPr>
          <p:spPr>
            <a:xfrm>
              <a:off x="1199520" y="1188000"/>
              <a:ext cx="915120" cy="1209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8" name="Rectangle 11"/>
            <p:cNvSpPr/>
            <p:nvPr/>
          </p:nvSpPr>
          <p:spPr>
            <a:xfrm>
              <a:off x="1199520" y="797040"/>
              <a:ext cx="915120" cy="1108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9" name="Rectangle 12"/>
            <p:cNvSpPr/>
            <p:nvPr/>
          </p:nvSpPr>
          <p:spPr>
            <a:xfrm>
              <a:off x="1066680" y="1785240"/>
              <a:ext cx="915120" cy="1227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1066680" y="1383840"/>
              <a:ext cx="915120" cy="1209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1066680" y="992520"/>
              <a:ext cx="915120" cy="1227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grpSp>
        <p:nvGrpSpPr>
          <p:cNvPr id="112" name="组合 55"/>
          <p:cNvGrpSpPr/>
          <p:nvPr/>
        </p:nvGrpSpPr>
        <p:grpSpPr>
          <a:xfrm>
            <a:off x="1066680" y="-650880"/>
            <a:ext cx="1047960" cy="1305000"/>
            <a:chOff x="1066680" y="-650880"/>
            <a:chExt cx="1047960" cy="1305000"/>
          </a:xfrm>
        </p:grpSpPr>
        <p:sp>
          <p:nvSpPr>
            <p:cNvPr id="113" name="Rectangle 8"/>
            <p:cNvSpPr/>
            <p:nvPr/>
          </p:nvSpPr>
          <p:spPr>
            <a:xfrm>
              <a:off x="1199520" y="533160"/>
              <a:ext cx="915120" cy="1209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1199520" y="141840"/>
              <a:ext cx="915120" cy="1108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1199520" y="-259200"/>
              <a:ext cx="915120" cy="1209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199520" y="-650880"/>
              <a:ext cx="915120" cy="1108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1066680" y="337680"/>
              <a:ext cx="915120" cy="1227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1066680" y="-63720"/>
              <a:ext cx="915120" cy="1209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9" name="Rectangle 14"/>
            <p:cNvSpPr/>
            <p:nvPr/>
          </p:nvSpPr>
          <p:spPr>
            <a:xfrm>
              <a:off x="1066680" y="-455040"/>
              <a:ext cx="915120" cy="1227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sp>
        <p:nvSpPr>
          <p:cNvPr id="120" name="矩形 65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21" name="文本框 66"/>
          <p:cNvSpPr/>
          <p:nvPr/>
        </p:nvSpPr>
        <p:spPr>
          <a:xfrm>
            <a:off x="5442480" y="2776680"/>
            <a:ext cx="2686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于是</a:t>
            </a: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…</a:t>
            </a:r>
            <a:endParaRPr b="0" lang="en-US" sz="4800" spc="-1" strike="noStrike">
              <a:solidFill>
                <a:srgbClr val="2e2e2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我也买了</a:t>
            </a: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……</a:t>
            </a:r>
            <a:endParaRPr b="0" lang="en-US" sz="4800" spc="-1" strike="noStrike">
              <a:solidFill>
                <a:srgbClr val="2e2e2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很多本</a:t>
            </a: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……</a:t>
            </a:r>
            <a:endParaRPr b="0" lang="en-US" sz="4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22" name="矩形 70"/>
          <p:cNvSpPr/>
          <p:nvPr/>
        </p:nvSpPr>
        <p:spPr>
          <a:xfrm rot="13619400">
            <a:off x="4433760" y="1601280"/>
            <a:ext cx="1133280" cy="196920"/>
          </a:xfrm>
          <a:prstGeom prst="rect">
            <a:avLst/>
          </a:prstGeom>
          <a:solidFill>
            <a:srgbClr val="ffd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grpSp>
        <p:nvGrpSpPr>
          <p:cNvPr id="123" name="组合 78"/>
          <p:cNvGrpSpPr/>
          <p:nvPr/>
        </p:nvGrpSpPr>
        <p:grpSpPr>
          <a:xfrm>
            <a:off x="2346480" y="506880"/>
            <a:ext cx="1385280" cy="2610360"/>
            <a:chOff x="2346480" y="506880"/>
            <a:chExt cx="1385280" cy="2610360"/>
          </a:xfrm>
        </p:grpSpPr>
        <p:sp>
          <p:nvSpPr>
            <p:cNvPr id="124" name="弧形 73"/>
            <p:cNvSpPr/>
            <p:nvPr/>
          </p:nvSpPr>
          <p:spPr>
            <a:xfrm rot="20895000">
              <a:off x="2570040" y="577800"/>
              <a:ext cx="937800" cy="2293920"/>
            </a:xfrm>
            <a:prstGeom prst="pie">
              <a:avLst/>
            </a:prstGeom>
            <a:noFill/>
            <a:ln w="648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25" name="弧形 74"/>
            <p:cNvSpPr/>
            <p:nvPr/>
          </p:nvSpPr>
          <p:spPr>
            <a:xfrm rot="21257400">
              <a:off x="2489400" y="782280"/>
              <a:ext cx="937800" cy="2293920"/>
            </a:xfrm>
            <a:prstGeom prst="pie">
              <a:avLst/>
            </a:prstGeom>
            <a:noFill/>
            <a:ln w="648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grpSp>
        <p:nvGrpSpPr>
          <p:cNvPr id="126" name="组合 77"/>
          <p:cNvGrpSpPr/>
          <p:nvPr/>
        </p:nvGrpSpPr>
        <p:grpSpPr>
          <a:xfrm>
            <a:off x="4057560" y="1652760"/>
            <a:ext cx="908640" cy="1152000"/>
            <a:chOff x="4057560" y="1652760"/>
            <a:chExt cx="908640" cy="1152000"/>
          </a:xfrm>
        </p:grpSpPr>
        <p:sp>
          <p:nvSpPr>
            <p:cNvPr id="127" name="弧形 75"/>
            <p:cNvSpPr/>
            <p:nvPr/>
          </p:nvSpPr>
          <p:spPr>
            <a:xfrm rot="16601400">
              <a:off x="4018320" y="1812600"/>
              <a:ext cx="928800" cy="681840"/>
            </a:xfrm>
            <a:prstGeom prst="pie">
              <a:avLst/>
            </a:prstGeom>
            <a:noFill/>
            <a:ln w="648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28" name="弧形 76"/>
            <p:cNvSpPr/>
            <p:nvPr/>
          </p:nvSpPr>
          <p:spPr>
            <a:xfrm rot="17146200">
              <a:off x="4047120" y="1924200"/>
              <a:ext cx="928800" cy="681840"/>
            </a:xfrm>
            <a:prstGeom prst="pie">
              <a:avLst/>
            </a:prstGeom>
            <a:noFill/>
            <a:ln w="648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sp>
        <p:nvSpPr>
          <p:cNvPr id="129" name="任意多边形 83"/>
          <p:cNvSpPr/>
          <p:nvPr/>
        </p:nvSpPr>
        <p:spPr>
          <a:xfrm rot="3774000">
            <a:off x="3512880" y="2106360"/>
            <a:ext cx="430200" cy="588960"/>
          </a:xfrm>
          <a:prstGeom prst="pi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30" name="矩形 84"/>
          <p:cNvSpPr/>
          <p:nvPr/>
        </p:nvSpPr>
        <p:spPr>
          <a:xfrm rot="2344200">
            <a:off x="4465800" y="1619280"/>
            <a:ext cx="1133280" cy="195120"/>
          </a:xfrm>
          <a:prstGeom prst="rect">
            <a:avLst/>
          </a:prstGeom>
          <a:solidFill>
            <a:srgbClr val="ffd03b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31" name="矩形 85"/>
          <p:cNvSpPr/>
          <p:nvPr/>
        </p:nvSpPr>
        <p:spPr>
          <a:xfrm rot="14281200">
            <a:off x="4431240" y="1592640"/>
            <a:ext cx="1133640" cy="195120"/>
          </a:xfrm>
          <a:prstGeom prst="rect">
            <a:avLst/>
          </a:prstGeom>
          <a:solidFill>
            <a:srgbClr val="ffd03b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442880" y="63500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d03b"/>
                </a:solidFill>
                <a:uFillTx/>
                <a:latin typeface="Arial"/>
                <a:ea typeface="宋体"/>
              </a:rPr>
              <a:t>免费ppt模板下载</a:t>
            </a:r>
            <a:r>
              <a:rPr b="0" lang="zh-CN" sz="1600" spc="-1" strike="noStrike">
                <a:solidFill>
                  <a:srgbClr val="2e2e2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e2e2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e2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1"/>
          <p:cNvSpPr/>
          <p:nvPr/>
        </p:nvSpPr>
        <p:spPr>
          <a:xfrm>
            <a:off x="1262160" y="866880"/>
            <a:ext cx="820800" cy="520560"/>
          </a:xfrm>
          <a:prstGeom prst="rect">
            <a:avLst/>
          </a:prstGeom>
          <a:solidFill>
            <a:srgbClr val="ffd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e2e2e"/>
                </a:solidFill>
                <a:latin typeface="Microsoft JhengHei"/>
              </a:rPr>
              <a:t>素材：</a:t>
            </a: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pic>
        <p:nvPicPr>
          <p:cNvPr id="134" name="图片 2" descr=""/>
          <p:cNvPicPr/>
          <p:nvPr/>
        </p:nvPicPr>
        <p:blipFill>
          <a:blip r:embed="rId1"/>
          <a:stretch/>
        </p:blipFill>
        <p:spPr>
          <a:xfrm>
            <a:off x="-930240" y="866880"/>
            <a:ext cx="10564920" cy="59911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" descr=""/>
          <p:cNvPicPr/>
          <p:nvPr/>
        </p:nvPicPr>
        <p:blipFill>
          <a:blip r:embed="rId2"/>
          <a:stretch/>
        </p:blipFill>
        <p:spPr>
          <a:xfrm>
            <a:off x="3825720" y="3327480"/>
            <a:ext cx="6228000" cy="35305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4" descr=""/>
          <p:cNvPicPr/>
          <p:nvPr/>
        </p:nvPicPr>
        <p:blipFill>
          <a:blip r:embed="rId3"/>
          <a:stretch/>
        </p:blipFill>
        <p:spPr>
          <a:xfrm flipH="1">
            <a:off x="-1065600" y="3327480"/>
            <a:ext cx="622764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1"/>
          <a:stretch/>
        </p:blipFill>
        <p:spPr>
          <a:xfrm flipH="1">
            <a:off x="-249120" y="1412280"/>
            <a:ext cx="9602640" cy="54450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"/>
          <p:cNvPicPr/>
          <p:nvPr/>
        </p:nvPicPr>
        <p:blipFill>
          <a:blip r:embed="rId2"/>
          <a:stretch/>
        </p:blipFill>
        <p:spPr>
          <a:xfrm flipH="1">
            <a:off x="-687240" y="4720680"/>
            <a:ext cx="3767040" cy="21366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3" descr=""/>
          <p:cNvPicPr/>
          <p:nvPr/>
        </p:nvPicPr>
        <p:blipFill>
          <a:blip r:embed="rId3"/>
          <a:stretch/>
        </p:blipFill>
        <p:spPr>
          <a:xfrm flipH="1">
            <a:off x="896400" y="4720680"/>
            <a:ext cx="3767400" cy="21366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" descr=""/>
          <p:cNvPicPr/>
          <p:nvPr/>
        </p:nvPicPr>
        <p:blipFill>
          <a:blip r:embed="rId4"/>
          <a:stretch/>
        </p:blipFill>
        <p:spPr>
          <a:xfrm flipH="1">
            <a:off x="2668680" y="4720680"/>
            <a:ext cx="3767040" cy="21366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5" descr=""/>
          <p:cNvPicPr/>
          <p:nvPr/>
        </p:nvPicPr>
        <p:blipFill>
          <a:blip r:embed="rId5"/>
          <a:stretch/>
        </p:blipFill>
        <p:spPr>
          <a:xfrm flipH="1">
            <a:off x="4392720" y="4720680"/>
            <a:ext cx="3767040" cy="21366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6" descr=""/>
          <p:cNvPicPr/>
          <p:nvPr/>
        </p:nvPicPr>
        <p:blipFill>
          <a:blip r:embed="rId6"/>
          <a:stretch/>
        </p:blipFill>
        <p:spPr>
          <a:xfrm flipH="1">
            <a:off x="6146280" y="4720680"/>
            <a:ext cx="3767400" cy="21366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"/>
          <p:cNvPicPr/>
          <p:nvPr/>
        </p:nvPicPr>
        <p:blipFill>
          <a:blip r:embed="rId7"/>
          <a:stretch/>
        </p:blipFill>
        <p:spPr>
          <a:xfrm flipH="1">
            <a:off x="7918560" y="4720680"/>
            <a:ext cx="3765600" cy="21366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" descr=""/>
          <p:cNvPicPr/>
          <p:nvPr/>
        </p:nvPicPr>
        <p:blipFill>
          <a:blip r:embed="rId8"/>
          <a:stretch/>
        </p:blipFill>
        <p:spPr>
          <a:xfrm flipH="1">
            <a:off x="-2470320" y="4720680"/>
            <a:ext cx="37656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 flipH="1">
            <a:off x="-687240" y="4720680"/>
            <a:ext cx="3767040" cy="21366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"/>
          <p:cNvPicPr/>
          <p:nvPr/>
        </p:nvPicPr>
        <p:blipFill>
          <a:blip r:embed="rId2"/>
          <a:stretch/>
        </p:blipFill>
        <p:spPr>
          <a:xfrm flipH="1">
            <a:off x="896400" y="4720680"/>
            <a:ext cx="3767400" cy="21366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4" descr=""/>
          <p:cNvPicPr/>
          <p:nvPr/>
        </p:nvPicPr>
        <p:blipFill>
          <a:blip r:embed="rId3"/>
          <a:stretch/>
        </p:blipFill>
        <p:spPr>
          <a:xfrm flipH="1">
            <a:off x="2668680" y="4720680"/>
            <a:ext cx="3767040" cy="21366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5" descr=""/>
          <p:cNvPicPr/>
          <p:nvPr/>
        </p:nvPicPr>
        <p:blipFill>
          <a:blip r:embed="rId4"/>
          <a:stretch/>
        </p:blipFill>
        <p:spPr>
          <a:xfrm flipH="1">
            <a:off x="4392720" y="4720680"/>
            <a:ext cx="3767040" cy="21366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6" descr=""/>
          <p:cNvPicPr/>
          <p:nvPr/>
        </p:nvPicPr>
        <p:blipFill>
          <a:blip r:embed="rId5"/>
          <a:stretch/>
        </p:blipFill>
        <p:spPr>
          <a:xfrm flipH="1">
            <a:off x="6146280" y="4720680"/>
            <a:ext cx="3767400" cy="21366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7" descr=""/>
          <p:cNvPicPr/>
          <p:nvPr/>
        </p:nvPicPr>
        <p:blipFill>
          <a:blip r:embed="rId6"/>
          <a:stretch/>
        </p:blipFill>
        <p:spPr>
          <a:xfrm flipH="1">
            <a:off x="7918560" y="4720680"/>
            <a:ext cx="3765600" cy="21366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8" descr=""/>
          <p:cNvPicPr/>
          <p:nvPr/>
        </p:nvPicPr>
        <p:blipFill>
          <a:blip r:embed="rId7"/>
          <a:stretch/>
        </p:blipFill>
        <p:spPr>
          <a:xfrm flipH="1">
            <a:off x="-2470320" y="4720680"/>
            <a:ext cx="3765600" cy="21366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" descr=""/>
          <p:cNvPicPr/>
          <p:nvPr/>
        </p:nvPicPr>
        <p:blipFill>
          <a:blip r:embed="rId8"/>
          <a:stretch/>
        </p:blipFill>
        <p:spPr>
          <a:xfrm flipH="1" rot="10800000">
            <a:off x="3976560" y="0"/>
            <a:ext cx="4950000" cy="28065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9" descr=""/>
          <p:cNvPicPr/>
          <p:nvPr/>
        </p:nvPicPr>
        <p:blipFill>
          <a:blip r:embed="rId9"/>
          <a:stretch/>
        </p:blipFill>
        <p:spPr>
          <a:xfrm flipH="1" rot="10800000">
            <a:off x="217440" y="0"/>
            <a:ext cx="4950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7" descr=""/>
          <p:cNvPicPr/>
          <p:nvPr/>
        </p:nvPicPr>
        <p:blipFill>
          <a:blip r:embed="rId1"/>
          <a:stretch/>
        </p:blipFill>
        <p:spPr>
          <a:xfrm flipH="1" rot="5400000">
            <a:off x="-1842120" y="1367280"/>
            <a:ext cx="7610400" cy="43164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8" descr=""/>
          <p:cNvPicPr/>
          <p:nvPr/>
        </p:nvPicPr>
        <p:blipFill>
          <a:blip r:embed="rId2"/>
          <a:stretch/>
        </p:blipFill>
        <p:spPr>
          <a:xfrm flipH="1" rot="16200000">
            <a:off x="3375720" y="1367640"/>
            <a:ext cx="7610400" cy="43164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9" descr=""/>
          <p:cNvPicPr/>
          <p:nvPr/>
        </p:nvPicPr>
        <p:blipFill>
          <a:blip r:embed="rId3"/>
          <a:stretch/>
        </p:blipFill>
        <p:spPr>
          <a:xfrm flipH="1" rot="10800000">
            <a:off x="1112760" y="-527040"/>
            <a:ext cx="6918480" cy="39225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0" descr=""/>
          <p:cNvPicPr/>
          <p:nvPr/>
        </p:nvPicPr>
        <p:blipFill>
          <a:blip r:embed="rId4"/>
          <a:stretch/>
        </p:blipFill>
        <p:spPr>
          <a:xfrm flipH="1">
            <a:off x="1112760" y="3882240"/>
            <a:ext cx="69184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12:41:00Z</dcterms:created>
  <dc:creator>LEE SIMON</dc:creator>
  <dc:description/>
  <dc:language>en-US</dc:language>
  <cp:lastModifiedBy>yu wang</cp:lastModifiedBy>
  <dcterms:modified xsi:type="dcterms:W3CDTF">2015-09-14T22:59:24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