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e8b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1C88-4D73-4237-B401-9F2B54CB88C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0988-04CA-4E85-92E6-453AD84F4EA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9800" y="379692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4956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19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40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98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19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40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01600" y="169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4956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9800" y="379692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4956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19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340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98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19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340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01600" y="169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4956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7516080" y="60627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1024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5120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3480" y="1663560"/>
            <a:ext cx="6821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3e00"/>
                </a:solidFill>
                <a:latin typeface="Verdana"/>
                <a:ea typeface="宋体"/>
              </a:rPr>
              <a:t>简约毕业答辩</a:t>
            </a:r>
            <a:r>
              <a:rPr b="1" lang="en-US" sz="4000" spc="-1" strike="noStrike">
                <a:solidFill>
                  <a:srgbClr val="293e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293e00"/>
                </a:solidFill>
                <a:latin typeface="Verdana"/>
                <a:ea typeface="宋体"/>
              </a:rPr>
              <a:t>模板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3"/>
          <p:cNvSpPr/>
          <p:nvPr/>
        </p:nvSpPr>
        <p:spPr>
          <a:xfrm>
            <a:off x="177840" y="6365880"/>
            <a:ext cx="194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2440" y="213840"/>
            <a:ext cx="70516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e8b2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360" y="1530360"/>
            <a:ext cx="65530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Competitors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Strength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Your strengths relative to competitor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Weaknesse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Your weaknesses relative to competito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be8b2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bad16f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bad16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9"/>
              </a:rPr>
              <a:t>公司会议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07Z</dcterms:created>
  <dc:creator>w</dc:creator>
  <dc:description/>
  <dc:language>en-US</dc:language>
  <cp:lastModifiedBy>yu wang</cp:lastModifiedBy>
  <dcterms:modified xsi:type="dcterms:W3CDTF">2015-08-12T14:54:15Z</dcterms:modified>
  <cp:revision>7</cp:revision>
  <dc:subject/>
  <dc:title>PowerPoint Template </dc:title>
</cp:coreProperties>
</file>