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ECC-EADC-4BAE-A73A-2A973046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32E-5CA3-4651-A606-5C973D74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9F0-D551-4C24-81B5-23435DD8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765-6705-4B04-BDC6-A17B553E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AF6-3540-49CD-BBEF-F5E066A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AC4-4AA2-468F-9AF3-669345BC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FAA-48E3-4454-BB7A-C34B3B1D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10F-88C3-40EC-88C8-6C51508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69E-903D-4D99-8B31-2B3B28A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509-E336-497B-8D3C-7AE7474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0A4-E3CC-4866-93D2-EAF28F3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0CD-CD30-496B-B0FF-356AF3D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3d69b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3d69b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76BF-A6C0-4E0D-A0DC-415B3A74AA2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0BE-A4A8-46A7-A184-8E346DBCB1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bbb5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928800" y="3571920"/>
            <a:ext cx="45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024200" y="42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84400" y="841320"/>
            <a:ext cx="76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经济管理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42800" y="6046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bbb59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85560" y="3500280"/>
            <a:ext cx="4500360" cy="5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7:00Z</dcterms:created>
  <dc:creator>三联素材  www.3lian.com</dc:creator>
  <dc:description/>
  <cp:keywords/>
  <dc:language>en-US</dc:language>
  <cp:lastModifiedBy>yu wang</cp:lastModifiedBy>
  <dcterms:modified xsi:type="dcterms:W3CDTF">2015-08-12T14:54:20Z</dcterms:modified>
  <cp:revision>8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