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1A2-50D1-43A4-AC7B-4267C7F7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A06-63A2-41A9-A571-4244871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75A-47A1-4443-9139-8D030E1C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6C7-396A-4C91-952E-4AFDDB3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D85-4E82-4C6A-A45E-C24D1669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17E3-6EA2-4331-8280-7AA0B34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4DC4-67E3-4D84-85D5-FBDEFFA9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769-3867-4B93-ACBD-476CB57E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067-F187-4064-BB83-A75C514E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290C-18F0-417C-BD8B-DDCF8F0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C61-5D7D-4718-B92F-680D95E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F65-BFFB-4A07-A6CC-6AC4BC1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142C-5943-4966-B08E-7EA3EC6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EB8-900E-4D39-91AA-61651F4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B54-20C2-47D7-A83C-C40E69B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B5B-03AB-412E-A4FC-96B032ED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7589-4B3A-4B6F-9757-02CB53D8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947-BD41-451C-B3B7-A92558A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BB1-2794-43B1-8555-54DE144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4A2-4E45-416A-A096-1F101486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F90-F52A-42D3-A23E-3A5B4815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31E-0BFD-4C8C-AB6A-2910A72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1A2-A1F3-491C-AB47-C5879E3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35D-4FBB-41DF-967A-473309B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055D0-39C5-4B0E-AE47-970E25878DD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94FD4-4B05-4528-8A1C-F06CBE3D04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12"/>
          <p:cNvSpPr/>
          <p:nvPr/>
        </p:nvSpPr>
        <p:spPr>
          <a:xfrm>
            <a:off x="0" y="3467160"/>
            <a:ext cx="12304080" cy="3455640"/>
          </a:xfrm>
          <a:custGeom>
            <a:avLst/>
            <a:gdLst>
              <a:gd name="textAreaLeft" fmla="*/ 0 w 12304080"/>
              <a:gd name="textAreaRight" fmla="*/ 12304440 w 12304080"/>
              <a:gd name="textAreaTop" fmla="*/ 0 h 3455640"/>
              <a:gd name="textAreaBottom" fmla="*/ 3456000 h 3455640"/>
            </a:gdLst>
            <a:ahLst/>
            <a:rect l="textAreaLeft" t="textAreaTop" r="textAreaRight" b="textAreaBottom"/>
            <a:pathLst>
              <a:path w="12304616" h="3455907">
                <a:moveTo>
                  <a:pt x="0" y="0"/>
                </a:moveTo>
                <a:lnTo>
                  <a:pt x="6152308" y="1631879"/>
                </a:lnTo>
                <a:lnTo>
                  <a:pt x="12304616" y="0"/>
                </a:lnTo>
                <a:lnTo>
                  <a:pt x="12304616" y="3455907"/>
                </a:lnTo>
                <a:lnTo>
                  <a:pt x="0" y="3455907"/>
                </a:lnTo>
                <a:lnTo>
                  <a:pt x="0" y="0"/>
                </a:lnTo>
                <a:close/>
              </a:path>
            </a:pathLst>
          </a:custGeom>
          <a:solidFill>
            <a:schemeClr val="accent5">
              <a:lumMod val="50000"/>
              <a:alpha val="1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任意多边形 25"/>
          <p:cNvSpPr/>
          <p:nvPr/>
        </p:nvSpPr>
        <p:spPr>
          <a:xfrm rot="16200000">
            <a:off x="3943800" y="905760"/>
            <a:ext cx="2828880" cy="101772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任意多边形 26"/>
          <p:cNvSpPr/>
          <p:nvPr/>
        </p:nvSpPr>
        <p:spPr>
          <a:xfrm rot="16200000">
            <a:off x="3260520" y="748440"/>
            <a:ext cx="2336400" cy="840240"/>
          </a:xfrm>
          <a:custGeom>
            <a:avLst/>
            <a:gdLst>
              <a:gd name="textAreaLeft" fmla="*/ 0 w 2336400"/>
              <a:gd name="textAreaRight" fmla="*/ 2336760 w 2336400"/>
              <a:gd name="textAreaTop" fmla="*/ 0 h 840240"/>
              <a:gd name="textAreaBottom" fmla="*/ 840600 h 84024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rgbClr val="fdf3b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任意多边形 27"/>
          <p:cNvSpPr/>
          <p:nvPr/>
        </p:nvSpPr>
        <p:spPr>
          <a:xfrm flipH="1" rot="5400000">
            <a:off x="4966200" y="655200"/>
            <a:ext cx="2828880" cy="1026720"/>
          </a:xfrm>
          <a:custGeom>
            <a:avLst/>
            <a:gdLst>
              <a:gd name="textAreaLeft" fmla="*/ 360 w 2828880"/>
              <a:gd name="textAreaRight" fmla="*/ 2829600 w 2828880"/>
              <a:gd name="textAreaTop" fmla="*/ 0 h 1026720"/>
              <a:gd name="textAreaBottom" fmla="*/ 1027080 h 102672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任意多边形 28"/>
          <p:cNvSpPr/>
          <p:nvPr/>
        </p:nvSpPr>
        <p:spPr>
          <a:xfrm flipH="1" rot="5400000">
            <a:off x="6149160" y="498240"/>
            <a:ext cx="2336400" cy="847800"/>
          </a:xfrm>
          <a:custGeom>
            <a:avLst/>
            <a:gdLst>
              <a:gd name="textAreaLeft" fmla="*/ 360 w 2336400"/>
              <a:gd name="textAreaRight" fmla="*/ 2337120 w 23364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498796" h="899049">
                <a:moveTo>
                  <a:pt x="2498796" y="0"/>
                </a:moveTo>
                <a:lnTo>
                  <a:pt x="2498796" y="896972"/>
                </a:lnTo>
                <a:lnTo>
                  <a:pt x="1182438" y="896972"/>
                </a:lnTo>
                <a:lnTo>
                  <a:pt x="1184275" y="899049"/>
                </a:lnTo>
                <a:lnTo>
                  <a:pt x="0" y="899049"/>
                </a:lnTo>
                <a:lnTo>
                  <a:pt x="389342" y="5"/>
                </a:lnTo>
                <a:lnTo>
                  <a:pt x="390596" y="1423"/>
                </a:lnTo>
                <a:lnTo>
                  <a:pt x="390596" y="0"/>
                </a:lnTo>
                <a:close/>
              </a:path>
            </a:pathLst>
          </a:custGeom>
          <a:solidFill>
            <a:srgbClr val="fdf3b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文本框 30"/>
          <p:cNvSpPr/>
          <p:nvPr/>
        </p:nvSpPr>
        <p:spPr>
          <a:xfrm>
            <a:off x="401220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1"/>
          <p:cNvSpPr/>
          <p:nvPr/>
        </p:nvSpPr>
        <p:spPr>
          <a:xfrm>
            <a:off x="493812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2"/>
          <p:cNvSpPr/>
          <p:nvPr/>
        </p:nvSpPr>
        <p:spPr>
          <a:xfrm>
            <a:off x="5956200" y="444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3"/>
          <p:cNvSpPr/>
          <p:nvPr/>
        </p:nvSpPr>
        <p:spPr>
          <a:xfrm>
            <a:off x="6913440" y="42696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5"/>
          <p:cNvSpPr/>
          <p:nvPr/>
        </p:nvSpPr>
        <p:spPr>
          <a:xfrm>
            <a:off x="2808720" y="4641120"/>
            <a:ext cx="589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约清新扁平化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690120" y="-707040"/>
            <a:ext cx="1362600" cy="2049480"/>
            <a:chOff x="690120" y="-707040"/>
            <a:chExt cx="1362600" cy="2049480"/>
          </a:xfrm>
        </p:grpSpPr>
        <p:sp>
          <p:nvSpPr>
            <p:cNvPr id="96" name="任意多边形 25"/>
            <p:cNvSpPr/>
            <p:nvPr/>
          </p:nvSpPr>
          <p:spPr>
            <a:xfrm rot="16200000">
              <a:off x="86400" y="60840"/>
              <a:ext cx="1885320" cy="677880"/>
            </a:xfrm>
            <a:custGeom>
              <a:avLst/>
              <a:gdLst>
                <a:gd name="textAreaLeft" fmla="*/ 0 w 1885320"/>
                <a:gd name="textAreaRight" fmla="*/ 1885680 w 18853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任意多边形 27"/>
            <p:cNvSpPr/>
            <p:nvPr/>
          </p:nvSpPr>
          <p:spPr>
            <a:xfrm flipH="1" rot="5400000">
              <a:off x="767880" y="-106200"/>
              <a:ext cx="1885320" cy="684000"/>
            </a:xfrm>
            <a:custGeom>
              <a:avLst/>
              <a:gdLst>
                <a:gd name="textAreaLeft" fmla="*/ -360 w 1885320"/>
                <a:gd name="textAreaRight" fmla="*/ 1885320 w 18853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8" name="文本框 5"/>
          <p:cNvSpPr/>
          <p:nvPr/>
        </p:nvSpPr>
        <p:spPr>
          <a:xfrm>
            <a:off x="787680" y="-5760"/>
            <a:ext cx="6152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24"/>
          <p:cNvGrpSpPr/>
          <p:nvPr/>
        </p:nvGrpSpPr>
        <p:grpSpPr>
          <a:xfrm>
            <a:off x="9388080" y="5657760"/>
            <a:ext cx="2529360" cy="3803400"/>
            <a:chOff x="9388080" y="5657760"/>
            <a:chExt cx="2529360" cy="3803400"/>
          </a:xfrm>
        </p:grpSpPr>
        <p:sp>
          <p:nvSpPr>
            <p:cNvPr id="100" name="任意多边形 29"/>
            <p:cNvSpPr/>
            <p:nvPr/>
          </p:nvSpPr>
          <p:spPr>
            <a:xfrm rot="5400000">
              <a:off x="9538560" y="6777720"/>
              <a:ext cx="3498840" cy="1258560"/>
            </a:xfrm>
            <a:custGeom>
              <a:avLst/>
              <a:gdLst>
                <a:gd name="textAreaLeft" fmla="*/ 0 w 3498840"/>
                <a:gd name="textAreaRight" fmla="*/ 3499200 w 3498840"/>
                <a:gd name="textAreaTop" fmla="*/ 0 h 1258560"/>
                <a:gd name="textAreaBottom" fmla="*/ 1258920 h 125856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任意多边形 34"/>
            <p:cNvSpPr/>
            <p:nvPr/>
          </p:nvSpPr>
          <p:spPr>
            <a:xfrm flipH="1" rot="16200000">
              <a:off x="8273160" y="7076880"/>
              <a:ext cx="3498840" cy="1269720"/>
            </a:xfrm>
            <a:custGeom>
              <a:avLst/>
              <a:gdLst>
                <a:gd name="textAreaLeft" fmla="*/ -360 w 3498840"/>
                <a:gd name="textAreaRight" fmla="*/ 3498840 w 34988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2498796" h="899049">
                  <a:moveTo>
                    <a:pt x="2498796" y="0"/>
                  </a:moveTo>
                  <a:lnTo>
                    <a:pt x="2498796" y="896972"/>
                  </a:lnTo>
                  <a:lnTo>
                    <a:pt x="1182438" y="896972"/>
                  </a:lnTo>
                  <a:lnTo>
                    <a:pt x="1184275" y="899049"/>
                  </a:lnTo>
                  <a:lnTo>
                    <a:pt x="0" y="899049"/>
                  </a:lnTo>
                  <a:lnTo>
                    <a:pt x="389342" y="5"/>
                  </a:lnTo>
                  <a:lnTo>
                    <a:pt x="390596" y="1423"/>
                  </a:lnTo>
                  <a:lnTo>
                    <a:pt x="390596" y="0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" name="矩形 7"/>
          <p:cNvSpPr/>
          <p:nvPr/>
        </p:nvSpPr>
        <p:spPr>
          <a:xfrm>
            <a:off x="1368720" y="1342440"/>
            <a:ext cx="9289440" cy="4314960"/>
          </a:xfrm>
          <a:prstGeom prst="rect">
            <a:avLst/>
          </a:prstGeom>
          <a:solidFill>
            <a:schemeClr val="bg1">
              <a:alpha val="3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剪去对角的矩形 8"/>
          <p:cNvSpPr/>
          <p:nvPr/>
        </p:nvSpPr>
        <p:spPr>
          <a:xfrm>
            <a:off x="1368720" y="1342440"/>
            <a:ext cx="9289440" cy="431496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" name="组合 11"/>
          <p:cNvGrpSpPr/>
          <p:nvPr/>
        </p:nvGrpSpPr>
        <p:grpSpPr>
          <a:xfrm>
            <a:off x="2248200" y="1771200"/>
            <a:ext cx="633240" cy="616680"/>
            <a:chOff x="2248200" y="1771200"/>
            <a:chExt cx="633240" cy="616680"/>
          </a:xfrm>
        </p:grpSpPr>
        <p:sp>
          <p:nvSpPr>
            <p:cNvPr id="105" name="任意多边形 40"/>
            <p:cNvSpPr/>
            <p:nvPr/>
          </p:nvSpPr>
          <p:spPr>
            <a:xfrm rot="1981200">
              <a:off x="2541960" y="194616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任意多边形 37"/>
            <p:cNvSpPr/>
            <p:nvPr/>
          </p:nvSpPr>
          <p:spPr>
            <a:xfrm rot="1981200">
              <a:off x="2345040" y="180108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7" name="剪去单角的矩形 13"/>
          <p:cNvSpPr/>
          <p:nvPr/>
        </p:nvSpPr>
        <p:spPr>
          <a:xfrm>
            <a:off x="2881440" y="184140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8" name="组合 56"/>
          <p:cNvGrpSpPr/>
          <p:nvPr/>
        </p:nvGrpSpPr>
        <p:grpSpPr>
          <a:xfrm>
            <a:off x="2248200" y="2659320"/>
            <a:ext cx="633240" cy="616680"/>
            <a:chOff x="2248200" y="2659320"/>
            <a:chExt cx="633240" cy="616680"/>
          </a:xfrm>
        </p:grpSpPr>
        <p:sp>
          <p:nvSpPr>
            <p:cNvPr id="109" name="任意多边形 57"/>
            <p:cNvSpPr/>
            <p:nvPr/>
          </p:nvSpPr>
          <p:spPr>
            <a:xfrm rot="1981200">
              <a:off x="2541960" y="283428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任意多边形 58"/>
            <p:cNvSpPr/>
            <p:nvPr/>
          </p:nvSpPr>
          <p:spPr>
            <a:xfrm rot="1981200">
              <a:off x="2345040" y="268920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剪去单角的矩形 59"/>
          <p:cNvSpPr/>
          <p:nvPr/>
        </p:nvSpPr>
        <p:spPr>
          <a:xfrm>
            <a:off x="2881440" y="272952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2" name="组合 60"/>
          <p:cNvGrpSpPr/>
          <p:nvPr/>
        </p:nvGrpSpPr>
        <p:grpSpPr>
          <a:xfrm>
            <a:off x="2248200" y="3547440"/>
            <a:ext cx="633240" cy="616680"/>
            <a:chOff x="2248200" y="3547440"/>
            <a:chExt cx="633240" cy="616680"/>
          </a:xfrm>
        </p:grpSpPr>
        <p:sp>
          <p:nvSpPr>
            <p:cNvPr id="113" name="任意多边形 61"/>
            <p:cNvSpPr/>
            <p:nvPr/>
          </p:nvSpPr>
          <p:spPr>
            <a:xfrm rot="1981200">
              <a:off x="2541960" y="372240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任意多边形 62"/>
            <p:cNvSpPr/>
            <p:nvPr/>
          </p:nvSpPr>
          <p:spPr>
            <a:xfrm rot="1981200">
              <a:off x="2345040" y="357732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剪去单角的矩形 63"/>
          <p:cNvSpPr/>
          <p:nvPr/>
        </p:nvSpPr>
        <p:spPr>
          <a:xfrm>
            <a:off x="2881440" y="361764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6" name="组合 64"/>
          <p:cNvGrpSpPr/>
          <p:nvPr/>
        </p:nvGrpSpPr>
        <p:grpSpPr>
          <a:xfrm>
            <a:off x="2248200" y="4435560"/>
            <a:ext cx="633240" cy="616680"/>
            <a:chOff x="2248200" y="4435560"/>
            <a:chExt cx="633240" cy="616680"/>
          </a:xfrm>
        </p:grpSpPr>
        <p:sp>
          <p:nvSpPr>
            <p:cNvPr id="117" name="任意多边形 65"/>
            <p:cNvSpPr/>
            <p:nvPr/>
          </p:nvSpPr>
          <p:spPr>
            <a:xfrm rot="1981200">
              <a:off x="2541960" y="461052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任意多边形 66"/>
            <p:cNvSpPr/>
            <p:nvPr/>
          </p:nvSpPr>
          <p:spPr>
            <a:xfrm rot="1981200">
              <a:off x="2345040" y="446544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9" name="剪去单角的矩形 67"/>
          <p:cNvSpPr/>
          <p:nvPr/>
        </p:nvSpPr>
        <p:spPr>
          <a:xfrm>
            <a:off x="2881440" y="4505760"/>
            <a:ext cx="6681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剪去对角的矩形 8"/>
          <p:cNvSpPr/>
          <p:nvPr/>
        </p:nvSpPr>
        <p:spPr>
          <a:xfrm>
            <a:off x="0" y="0"/>
            <a:ext cx="12191760" cy="661752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1" name="组合 11"/>
          <p:cNvGrpSpPr/>
          <p:nvPr/>
        </p:nvGrpSpPr>
        <p:grpSpPr>
          <a:xfrm>
            <a:off x="9568080" y="4928760"/>
            <a:ext cx="3061800" cy="2980440"/>
            <a:chOff x="9568080" y="4928760"/>
            <a:chExt cx="3061800" cy="2980440"/>
          </a:xfrm>
        </p:grpSpPr>
        <p:sp>
          <p:nvSpPr>
            <p:cNvPr id="122" name="任意多边形 40"/>
            <p:cNvSpPr/>
            <p:nvPr/>
          </p:nvSpPr>
          <p:spPr>
            <a:xfrm rot="1981200">
              <a:off x="10989000" y="5775120"/>
              <a:ext cx="1202760" cy="1964880"/>
            </a:xfrm>
            <a:custGeom>
              <a:avLst/>
              <a:gdLst>
                <a:gd name="textAreaLeft" fmla="*/ 0 w 1202760"/>
                <a:gd name="textAreaRight" fmla="*/ 1203120 w 1202760"/>
                <a:gd name="textAreaTop" fmla="*/ 0 h 1964880"/>
                <a:gd name="textAreaBottom" fmla="*/ 1965240 h 196488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任意多边形 37"/>
            <p:cNvSpPr/>
            <p:nvPr/>
          </p:nvSpPr>
          <p:spPr>
            <a:xfrm rot="1981200">
              <a:off x="10037880" y="5074560"/>
              <a:ext cx="1147320" cy="206460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2064600"/>
                <a:gd name="textAreaBottom" fmla="*/ 2064960 h 206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4" name="组合 28"/>
          <p:cNvGrpSpPr/>
          <p:nvPr/>
        </p:nvGrpSpPr>
        <p:grpSpPr>
          <a:xfrm>
            <a:off x="10287720" y="4311000"/>
            <a:ext cx="1606680" cy="1519560"/>
            <a:chOff x="10287720" y="4311000"/>
            <a:chExt cx="1606680" cy="1519560"/>
          </a:xfrm>
        </p:grpSpPr>
        <p:sp>
          <p:nvSpPr>
            <p:cNvPr id="125" name="任意多边形 30"/>
            <p:cNvSpPr/>
            <p:nvPr/>
          </p:nvSpPr>
          <p:spPr>
            <a:xfrm rot="19981200">
              <a:off x="11050920" y="4399200"/>
              <a:ext cx="640800" cy="10472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任意多边形 31"/>
            <p:cNvSpPr/>
            <p:nvPr/>
          </p:nvSpPr>
          <p:spPr>
            <a:xfrm rot="19981200">
              <a:off x="10503720" y="4651200"/>
              <a:ext cx="611640" cy="1100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1100520"/>
                <a:gd name="textAreaBottom" fmla="*/ 1100880 h 110052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7" name="组合 32"/>
          <p:cNvGrpSpPr/>
          <p:nvPr/>
        </p:nvGrpSpPr>
        <p:grpSpPr>
          <a:xfrm>
            <a:off x="9822960" y="5047200"/>
            <a:ext cx="723600" cy="829080"/>
            <a:chOff x="9822960" y="5047200"/>
            <a:chExt cx="723600" cy="829080"/>
          </a:xfrm>
        </p:grpSpPr>
        <p:sp>
          <p:nvSpPr>
            <p:cNvPr id="128" name="任意多边形 33"/>
            <p:cNvSpPr/>
            <p:nvPr/>
          </p:nvSpPr>
          <p:spPr>
            <a:xfrm rot="16278000">
              <a:off x="9989640" y="4923000"/>
              <a:ext cx="416160" cy="68004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 rot="16278000">
              <a:off x="9986040" y="5312160"/>
              <a:ext cx="397080" cy="714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0" name="组合 38"/>
          <p:cNvGrpSpPr/>
          <p:nvPr/>
        </p:nvGrpSpPr>
        <p:grpSpPr>
          <a:xfrm>
            <a:off x="709560" y="406800"/>
            <a:ext cx="633240" cy="616680"/>
            <a:chOff x="709560" y="406800"/>
            <a:chExt cx="633240" cy="616680"/>
          </a:xfrm>
        </p:grpSpPr>
        <p:sp>
          <p:nvSpPr>
            <p:cNvPr id="131" name="任意多边形 39"/>
            <p:cNvSpPr/>
            <p:nvPr/>
          </p:nvSpPr>
          <p:spPr>
            <a:xfrm rot="1981200">
              <a:off x="1003320" y="581760"/>
              <a:ext cx="248400" cy="4064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任意多边形 41"/>
            <p:cNvSpPr/>
            <p:nvPr/>
          </p:nvSpPr>
          <p:spPr>
            <a:xfrm rot="1981200">
              <a:off x="806400" y="436680"/>
              <a:ext cx="237240" cy="426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3" name="剪去单角的矩形 42"/>
          <p:cNvSpPr/>
          <p:nvPr/>
        </p:nvSpPr>
        <p:spPr>
          <a:xfrm>
            <a:off x="1343160" y="477360"/>
            <a:ext cx="9876240" cy="615600"/>
          </a:xfrm>
          <a:prstGeom prst="snip1Rect">
            <a:avLst>
              <a:gd name="adj" fmla="val 40242"/>
            </a:avLst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剪去对角的矩形 15"/>
          <p:cNvSpPr/>
          <p:nvPr/>
        </p:nvSpPr>
        <p:spPr>
          <a:xfrm>
            <a:off x="0" y="0"/>
            <a:ext cx="12191760" cy="6857640"/>
          </a:xfrm>
          <a:prstGeom prst="snip2DiagRect">
            <a:avLst>
              <a:gd name="adj1" fmla="val 0"/>
              <a:gd name="adj2" fmla="val 0"/>
            </a:avLst>
          </a:prstGeom>
          <a:solidFill>
            <a:schemeClr val="bg1">
              <a:alpha val="7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859280" y="2799000"/>
            <a:ext cx="2851200" cy="3014640"/>
            <a:chOff x="4859280" y="2799000"/>
            <a:chExt cx="2851200" cy="3014640"/>
          </a:xfrm>
        </p:grpSpPr>
        <p:sp>
          <p:nvSpPr>
            <p:cNvPr id="136" name="任意多边形 40"/>
            <p:cNvSpPr/>
            <p:nvPr/>
          </p:nvSpPr>
          <p:spPr>
            <a:xfrm rot="3781200">
              <a:off x="5960520" y="3849120"/>
              <a:ext cx="1202760" cy="1964880"/>
            </a:xfrm>
            <a:custGeom>
              <a:avLst/>
              <a:gdLst>
                <a:gd name="textAreaLeft" fmla="*/ 0 w 1202760"/>
                <a:gd name="textAreaRight" fmla="*/ 1203120 w 1202760"/>
                <a:gd name="textAreaTop" fmla="*/ 0 h 1964880"/>
                <a:gd name="textAreaBottom" fmla="*/ 1965240 h 196488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37"/>
            <p:cNvSpPr/>
            <p:nvPr/>
          </p:nvSpPr>
          <p:spPr>
            <a:xfrm rot="3781200">
              <a:off x="5465880" y="2746080"/>
              <a:ext cx="1147320" cy="206460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2064600"/>
                <a:gd name="textAreaBottom" fmla="*/ 2064960 h 206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8" name="组合 28"/>
          <p:cNvGrpSpPr/>
          <p:nvPr/>
        </p:nvGrpSpPr>
        <p:grpSpPr>
          <a:xfrm>
            <a:off x="5663520" y="1700640"/>
            <a:ext cx="1307520" cy="1144800"/>
            <a:chOff x="5663520" y="1700640"/>
            <a:chExt cx="1307520" cy="1144800"/>
          </a:xfrm>
        </p:grpSpPr>
        <p:sp>
          <p:nvSpPr>
            <p:cNvPr id="139" name="任意多边形 30"/>
            <p:cNvSpPr/>
            <p:nvPr/>
          </p:nvSpPr>
          <p:spPr>
            <a:xfrm rot="181200">
              <a:off x="6302880" y="1781640"/>
              <a:ext cx="640800" cy="10472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任意多边形 31"/>
            <p:cNvSpPr/>
            <p:nvPr/>
          </p:nvSpPr>
          <p:spPr>
            <a:xfrm rot="181200">
              <a:off x="5691960" y="1715760"/>
              <a:ext cx="611640" cy="1100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1100520"/>
                <a:gd name="textAreaBottom" fmla="*/ 1100880 h 110052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1" name="组合 32"/>
          <p:cNvGrpSpPr/>
          <p:nvPr/>
        </p:nvGrpSpPr>
        <p:grpSpPr>
          <a:xfrm>
            <a:off x="4809240" y="1657440"/>
            <a:ext cx="1031760" cy="1059840"/>
            <a:chOff x="4809240" y="1657440"/>
            <a:chExt cx="1031760" cy="1059840"/>
          </a:xfrm>
        </p:grpSpPr>
        <p:sp>
          <p:nvSpPr>
            <p:cNvPr id="142" name="任意多边形 33"/>
            <p:cNvSpPr/>
            <p:nvPr/>
          </p:nvSpPr>
          <p:spPr>
            <a:xfrm rot="18181200">
              <a:off x="5234040" y="1676880"/>
              <a:ext cx="416160" cy="68004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48930" h="406670">
                  <a:moveTo>
                    <a:pt x="0" y="0"/>
                  </a:moveTo>
                  <a:lnTo>
                    <a:pt x="248930" y="398511"/>
                  </a:lnTo>
                  <a:lnTo>
                    <a:pt x="0" y="406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任意多边形 35"/>
            <p:cNvSpPr/>
            <p:nvPr/>
          </p:nvSpPr>
          <p:spPr>
            <a:xfrm rot="18181200">
              <a:off x="5018400" y="1998360"/>
              <a:ext cx="397080" cy="714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37524" h="427327">
                  <a:moveTo>
                    <a:pt x="229483" y="0"/>
                  </a:moveTo>
                  <a:lnTo>
                    <a:pt x="237524" y="12873"/>
                  </a:lnTo>
                  <a:lnTo>
                    <a:pt x="237524" y="419543"/>
                  </a:lnTo>
                  <a:lnTo>
                    <a:pt x="0" y="427327"/>
                  </a:lnTo>
                  <a:lnTo>
                    <a:pt x="229483" y="0"/>
                  </a:lnTo>
                  <a:close/>
                </a:path>
              </a:pathLst>
            </a:custGeom>
            <a:solidFill>
              <a:schemeClr val="accent5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文本框 3"/>
          <p:cNvSpPr/>
          <p:nvPr/>
        </p:nvSpPr>
        <p:spPr>
          <a:xfrm>
            <a:off x="4502880" y="2806200"/>
            <a:ext cx="2831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5">
                    <a:lumMod val="50000"/>
                  </a:schemeClr>
                </a:solidFill>
                <a:latin typeface="Microsoft JhengHei Light"/>
                <a:ea typeface="Microsoft JhengHei Light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f59e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168c8c"/>
      </a:accent1>
      <a:accent2>
        <a:srgbClr val="f59e00"/>
      </a:accent2>
      <a:accent3>
        <a:srgbClr val="b5e6d9"/>
      </a:accent3>
      <a:accent4>
        <a:srgbClr val="b4d9c4"/>
      </a:accent4>
      <a:accent5>
        <a:srgbClr val="bcd97e"/>
      </a:accent5>
      <a:accent6>
        <a:srgbClr val="99c53b"/>
      </a:accent6>
      <a:hlink>
        <a:srgbClr val="f59e00"/>
      </a:hlink>
      <a:folHlink>
        <a:srgbClr val="42835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5e5e5e"/>
      </a:dk2>
      <a:lt2>
        <a:srgbClr val="dddddd"/>
      </a:lt2>
      <a:accent1>
        <a:srgbClr val="168c8c"/>
      </a:accent1>
      <a:accent2>
        <a:srgbClr val="f59e00"/>
      </a:accent2>
      <a:accent3>
        <a:srgbClr val="b5e6d9"/>
      </a:accent3>
      <a:accent4>
        <a:srgbClr val="b4d9c4"/>
      </a:accent4>
      <a:accent5>
        <a:srgbClr val="bcd97e"/>
      </a:accent5>
      <a:accent6>
        <a:srgbClr val="99c53b"/>
      </a:accent6>
      <a:hlink>
        <a:srgbClr val="f59e00"/>
      </a:hlink>
      <a:folHlink>
        <a:srgbClr val="42835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165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9:52:42Z</dcterms:created>
  <dc:creator>杨光</dc:creator>
  <dc:description/>
  <dc:language>en-US</dc:language>
  <cp:lastModifiedBy>yu wang</cp:lastModifiedBy>
  <dcterms:modified xsi:type="dcterms:W3CDTF">2015-08-12T14:54:18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