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D1CA-9844-41B2-9EB4-98A6A47AB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458B-4B5D-43D1-8BF5-AF02B220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BE0E-834D-499E-9C4D-FC54369D4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0F7A-7330-45D3-8B5F-0CB04197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AA05-0CB0-421A-8CBA-A24C3535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1013-3B61-4F6F-A1BB-0A6559F8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DCAB-5FB4-4EC1-B440-5240FAC9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A1ED-3FEF-49F8-9550-8A2D73D5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8063-A3C8-48A7-809D-B7B35404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0766-AD49-4C96-B897-A6F79121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79BE-36C7-40D8-A36F-DD690F82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5667-C2E6-4D6D-81A5-423F6730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2644-080E-41E8-B0BE-615F36393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zlcool.com/" TargetMode="External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2401560" y="18900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龙创意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1692360" y="1989000"/>
            <a:ext cx="5746680" cy="26560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250920" y="63086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4699080" y="409680"/>
            <a:ext cx="181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资料库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zlcoo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684360" y="6453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7T07:07:15Z</dcterms:created>
  <dc:creator>pc</dc:creator>
  <dc:description/>
  <dc:language>en-US</dc:language>
  <cp:lastModifiedBy>yu wang</cp:lastModifiedBy>
  <dcterms:modified xsi:type="dcterms:W3CDTF">2015-08-14T12:54:42Z</dcterms:modified>
  <cp:revision>12</cp:revision>
  <dc:subject/>
  <dc:title>幻灯片 1</dc:title>
</cp:coreProperties>
</file>