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C05D-DE18-4F27-9005-A45190A7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01BF-E39A-4445-A4FD-D22A6938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7F6D-9604-42DB-BF60-AB4AE920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4467-0CCA-492D-B569-315D108C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A33D-F320-4438-B9F1-AB260FAD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CA5D-FB7B-407C-88D9-6DC1C286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2CC2-4AE1-4522-9E32-938FA165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0D33-9E53-46E9-8346-695AE6F3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3761-C90E-4CFD-83F6-61A392CF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B833-ACEE-4E9E-BDAD-565DA5BD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3AC1-FB69-4A3B-9840-39FE7B89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5A1-2A72-4B0C-91D7-A9A4372D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EC69-B4B8-457C-A4A4-5F69A9CE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C117-B069-4307-862D-3DBA07FB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1429-00E7-410C-BAB4-F23F6EAB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99F4-7441-45D9-B8EF-4D7791E3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A0C7-CA53-4B24-BF77-F2C1BDCC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683-4619-445F-A403-02A048FB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139-88E8-45A6-A7FE-056242AD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1F22-12DF-40D6-AC33-3A2CDA19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1C05-6E5C-40AA-837D-09F19EF3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2A2C-DDDA-421E-A818-74472726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5A66-94E2-44FA-B6E4-B6FA0F18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E5A-FD87-4D7F-BD3F-5CB3AEED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nwebshow"/>
          <p:cNvPicPr/>
          <p:nvPr/>
        </p:nvPicPr>
        <p:blipFill>
          <a:blip r:embed="rId2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4503-8473-46B9-BE2D-947477241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nwebshow"/>
          <p:cNvPicPr/>
          <p:nvPr/>
        </p:nvPicPr>
        <p:blipFill>
          <a:blip r:embed="rId2"/>
          <a:srcRect l="0" t="2500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C9B1-66C4-4CB4-AB53-4E18A5D1F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0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蝴蝶简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 </a:t>
            </a:r>
            <a:r>
              <a:rPr b="1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12T14:55:1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