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61-B065-481D-A3A9-F4CC681B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8C7-370C-43B2-BF55-FFA45C55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461-4917-4F0A-AF60-9CC12212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5D0-7948-409F-AA9D-DD5BAFD6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2E2-4516-41A3-AAF4-0DA7DD3A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B36-40D1-4392-9504-71A1C86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429-C5F6-4E93-B2B1-15116F6D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AEC-3206-4EA0-B894-542A1489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84E-ABF7-4615-AC06-8CF2E8D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DBD-32F6-490C-8EA5-3CD29FD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268-29DD-4A11-A678-200BC86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7A7-198A-41EF-9DD6-F48C212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五边形 17" descr=""/>
          <p:cNvPicPr/>
          <p:nvPr/>
        </p:nvPicPr>
        <p:blipFill>
          <a:blip r:embed="rId2"/>
          <a:stretch/>
        </p:blipFill>
        <p:spPr>
          <a:xfrm>
            <a:off x="-23760" y="5394240"/>
            <a:ext cx="3174840" cy="439920"/>
          </a:xfrm>
          <a:prstGeom prst="rect">
            <a:avLst/>
          </a:prstGeom>
          <a:ln w="0">
            <a:noFill/>
          </a:ln>
        </p:spPr>
      </p:pic>
      <p:pic>
        <p:nvPicPr>
          <p:cNvPr id="1" name="矩形 13" descr=""/>
          <p:cNvPicPr/>
          <p:nvPr/>
        </p:nvPicPr>
        <p:blipFill>
          <a:blip r:embed="rId3"/>
          <a:stretch/>
        </p:blipFill>
        <p:spPr>
          <a:xfrm>
            <a:off x="-12600" y="109440"/>
            <a:ext cx="9169200" cy="1573200"/>
          </a:xfrm>
          <a:prstGeom prst="rect">
            <a:avLst/>
          </a:prstGeom>
          <a:ln w="0">
            <a:noFill/>
          </a:ln>
        </p:spPr>
      </p:pic>
      <p:sp>
        <p:nvSpPr>
          <p:cNvPr id="2" name="五边形 12"/>
          <p:cNvSpPr/>
          <p:nvPr/>
        </p:nvSpPr>
        <p:spPr>
          <a:xfrm rot="10800000">
            <a:off x="5999040" y="588600"/>
            <a:ext cx="3146400" cy="4190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61" y="0"/>
                </a:lnTo>
                <a:lnTo>
                  <a:pt x="21600" y="10800"/>
                </a:lnTo>
                <a:lnTo>
                  <a:pt x="201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3D71-5C5D-4842-A37A-3FFB0F7C90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-9360" y="5497560"/>
            <a:ext cx="9169200" cy="217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0" y="0"/>
            <a:ext cx="9144000" cy="217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接连接符 10"/>
          <p:cNvSpPr/>
          <p:nvPr/>
        </p:nvSpPr>
        <p:spPr>
          <a:xfrm>
            <a:off x="0" y="1206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直接连接符 14"/>
          <p:cNvSpPr/>
          <p:nvPr/>
        </p:nvSpPr>
        <p:spPr>
          <a:xfrm flipV="1">
            <a:off x="-23760" y="798120"/>
            <a:ext cx="9169200" cy="1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矩形 18"/>
          <p:cNvSpPr/>
          <p:nvPr/>
        </p:nvSpPr>
        <p:spPr>
          <a:xfrm>
            <a:off x="-9360" y="5607000"/>
            <a:ext cx="916920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五边形 6" descr=""/>
          <p:cNvPicPr/>
          <p:nvPr/>
        </p:nvPicPr>
        <p:blipFill>
          <a:blip r:embed="rId1"/>
          <a:stretch/>
        </p:blipFill>
        <p:spPr>
          <a:xfrm>
            <a:off x="-19080" y="3548160"/>
            <a:ext cx="3170160" cy="42696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0" y="0"/>
            <a:ext cx="9144000" cy="189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0" y="3637080"/>
            <a:ext cx="9144000" cy="2077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五边形 7"/>
          <p:cNvSpPr/>
          <p:nvPr/>
        </p:nvSpPr>
        <p:spPr>
          <a:xfrm rot="10800000">
            <a:off x="5997600" y="1596600"/>
            <a:ext cx="3146400" cy="4208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6" y="0"/>
                </a:lnTo>
                <a:lnTo>
                  <a:pt x="21600" y="10800"/>
                </a:lnTo>
                <a:lnTo>
                  <a:pt x="201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8"/>
          <p:cNvSpPr/>
          <p:nvPr/>
        </p:nvSpPr>
        <p:spPr>
          <a:xfrm>
            <a:off x="4680" y="37576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9"/>
          <p:cNvSpPr/>
          <p:nvPr/>
        </p:nvSpPr>
        <p:spPr>
          <a:xfrm flipV="1">
            <a:off x="-25560" y="1777680"/>
            <a:ext cx="9169560" cy="1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我的PPT库\PPT设计\2000个PNG水晶图标\png-0082.png"/>
          <p:cNvPicPr/>
          <p:nvPr/>
        </p:nvPicPr>
        <p:blipFill>
          <a:blip r:embed="rId2"/>
          <a:stretch/>
        </p:blipFill>
        <p:spPr>
          <a:xfrm>
            <a:off x="1258920" y="1986120"/>
            <a:ext cx="144936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916360" y="250992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方正粗宋简体"/>
                <a:ea typeface="方正粗宋简体"/>
              </a:rPr>
              <a:t>绿色超简洁</a:t>
            </a:r>
            <a:r>
              <a:rPr b="1" lang="en-US" sz="4000" spc="-1" strike="noStrike">
                <a:solidFill>
                  <a:srgbClr val="ff3300"/>
                </a:solidFill>
                <a:latin typeface="方正粗宋简体"/>
                <a:ea typeface="方正粗宋简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方正粗宋简体"/>
                <a:ea typeface="方正粗宋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3"/>
          <a:stretch/>
        </p:blipFill>
        <p:spPr>
          <a:xfrm>
            <a:off x="3151080" y="4511520"/>
            <a:ext cx="2932200" cy="371520"/>
          </a:xfrm>
          <a:prstGeom prst="rect">
            <a:avLst/>
          </a:prstGeom>
          <a:ln w="0">
            <a:noFill/>
          </a:ln>
        </p:spPr>
      </p:pic>
      <p:sp>
        <p:nvSpPr>
          <p:cNvPr id="57" name="矩形 12"/>
          <p:cNvSpPr/>
          <p:nvPr/>
        </p:nvSpPr>
        <p:spPr>
          <a:xfrm>
            <a:off x="206280" y="5145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358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2195640" y="1928880"/>
            <a:ext cx="4680000" cy="431640"/>
          </a:xfrm>
          <a:prstGeom prst="rect">
            <a:avLst/>
          </a:prstGeom>
          <a:solidFill>
            <a:srgbClr val="00c057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梯形 4"/>
          <p:cNvSpPr/>
          <p:nvPr/>
        </p:nvSpPr>
        <p:spPr>
          <a:xfrm rot="10800000">
            <a:off x="2268360" y="1848960"/>
            <a:ext cx="432000" cy="389160"/>
          </a:xfrm>
          <a:custGeom>
            <a:avLst/>
            <a:gdLst/>
            <a:ahLst/>
            <a:rect l="l" t="t" r="r" b="b"/>
            <a:pathLst>
              <a:path w="431800" h="388937">
                <a:moveTo>
                  <a:pt x="0" y="388937"/>
                </a:moveTo>
                <a:lnTo>
                  <a:pt x="97234" y="0"/>
                </a:lnTo>
                <a:lnTo>
                  <a:pt x="334566" y="0"/>
                </a:lnTo>
                <a:lnTo>
                  <a:pt x="431800" y="388937"/>
                </a:lnTo>
                <a:lnTo>
                  <a:pt x="0" y="38893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195640" y="2593800"/>
            <a:ext cx="4680000" cy="432000"/>
          </a:xfrm>
          <a:prstGeom prst="rect">
            <a:avLst/>
          </a:prstGeom>
          <a:solidFill>
            <a:srgbClr val="00c057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梯形 6"/>
          <p:cNvSpPr/>
          <p:nvPr/>
        </p:nvSpPr>
        <p:spPr>
          <a:xfrm rot="10800000">
            <a:off x="2268360" y="2514600"/>
            <a:ext cx="432000" cy="388800"/>
          </a:xfrm>
          <a:custGeom>
            <a:avLst/>
            <a:gdLst/>
            <a:ahLst/>
            <a:rect l="l" t="t" r="r" b="b"/>
            <a:pathLst>
              <a:path w="431800" h="388938">
                <a:moveTo>
                  <a:pt x="0" y="388938"/>
                </a:moveTo>
                <a:lnTo>
                  <a:pt x="97235" y="0"/>
                </a:lnTo>
                <a:lnTo>
                  <a:pt x="334566" y="0"/>
                </a:lnTo>
                <a:lnTo>
                  <a:pt x="431800" y="388938"/>
                </a:lnTo>
                <a:lnTo>
                  <a:pt x="0" y="38893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195640" y="3218040"/>
            <a:ext cx="4680000" cy="431640"/>
          </a:xfrm>
          <a:prstGeom prst="rect">
            <a:avLst/>
          </a:prstGeom>
          <a:solidFill>
            <a:srgbClr val="00c057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梯形 8"/>
          <p:cNvSpPr/>
          <p:nvPr/>
        </p:nvSpPr>
        <p:spPr>
          <a:xfrm rot="10800000">
            <a:off x="2268360" y="3138480"/>
            <a:ext cx="432000" cy="388800"/>
          </a:xfrm>
          <a:custGeom>
            <a:avLst/>
            <a:gdLst/>
            <a:ahLst/>
            <a:rect l="l" t="t" r="r" b="b"/>
            <a:pathLst>
              <a:path w="431800" h="388937">
                <a:moveTo>
                  <a:pt x="0" y="388937"/>
                </a:moveTo>
                <a:lnTo>
                  <a:pt x="97234" y="0"/>
                </a:lnTo>
                <a:lnTo>
                  <a:pt x="334566" y="0"/>
                </a:lnTo>
                <a:lnTo>
                  <a:pt x="431800" y="388937"/>
                </a:lnTo>
                <a:lnTo>
                  <a:pt x="0" y="38893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2195640" y="3936960"/>
            <a:ext cx="4680000" cy="433440"/>
          </a:xfrm>
          <a:prstGeom prst="rect">
            <a:avLst/>
          </a:prstGeom>
          <a:solidFill>
            <a:srgbClr val="00c057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梯形 10"/>
          <p:cNvSpPr/>
          <p:nvPr/>
        </p:nvSpPr>
        <p:spPr>
          <a:xfrm rot="10800000">
            <a:off x="2268360" y="3859200"/>
            <a:ext cx="432000" cy="387360"/>
          </a:xfrm>
          <a:custGeom>
            <a:avLst/>
            <a:gdLst/>
            <a:ahLst/>
            <a:rect l="l" t="t" r="r" b="b"/>
            <a:pathLst>
              <a:path w="431800" h="387350">
                <a:moveTo>
                  <a:pt x="0" y="387350"/>
                </a:moveTo>
                <a:lnTo>
                  <a:pt x="96838" y="0"/>
                </a:lnTo>
                <a:lnTo>
                  <a:pt x="334963" y="0"/>
                </a:lnTo>
                <a:lnTo>
                  <a:pt x="431800" y="387350"/>
                </a:lnTo>
                <a:lnTo>
                  <a:pt x="0" y="38735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Box 11" descr=""/>
          <p:cNvPicPr/>
          <p:nvPr/>
        </p:nvPicPr>
        <p:blipFill>
          <a:blip r:embed="rId1"/>
          <a:stretch/>
        </p:blipFill>
        <p:spPr>
          <a:xfrm>
            <a:off x="2266920" y="1816200"/>
            <a:ext cx="433440" cy="4935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2" descr=""/>
          <p:cNvPicPr/>
          <p:nvPr/>
        </p:nvPicPr>
        <p:blipFill>
          <a:blip r:embed="rId2"/>
          <a:stretch/>
        </p:blipFill>
        <p:spPr>
          <a:xfrm>
            <a:off x="2255760" y="2511360"/>
            <a:ext cx="432000" cy="5000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13" descr=""/>
          <p:cNvPicPr/>
          <p:nvPr/>
        </p:nvPicPr>
        <p:blipFill>
          <a:blip r:embed="rId3"/>
          <a:stretch/>
        </p:blipFill>
        <p:spPr>
          <a:xfrm>
            <a:off x="2255760" y="3114720"/>
            <a:ext cx="432000" cy="49356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14" descr=""/>
          <p:cNvPicPr/>
          <p:nvPr/>
        </p:nvPicPr>
        <p:blipFill>
          <a:blip r:embed="rId4"/>
          <a:stretch/>
        </p:blipFill>
        <p:spPr>
          <a:xfrm>
            <a:off x="2255760" y="3833640"/>
            <a:ext cx="432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68360" y="1562040"/>
            <a:ext cx="8207280" cy="3527640"/>
          </a:xfrm>
          <a:prstGeom prst="rect">
            <a:avLst/>
          </a:prstGeom>
          <a:noFill/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2:52:14Z</dcterms:created>
  <dc:creator>ppt宝藏</dc:creator>
  <dc:description/>
  <dc:language>en-US</dc:language>
  <cp:lastModifiedBy>yu wang</cp:lastModifiedBy>
  <dcterms:modified xsi:type="dcterms:W3CDTF">2015-08-12T14:55:07Z</dcterms:modified>
  <cp:revision>13</cp:revision>
  <dc:subject/>
  <dc:title>www.pptbz.com</dc:title>
</cp:coreProperties>
</file>