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14A-D8FA-437C-B93A-33FED0A3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F4A-5461-4AD5-99A8-8BADD01A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C5DE-CE23-49E4-8B1E-31BE8AB0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E21-1919-41D7-9529-A185CD55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3880-76CD-46E9-83F9-8823D517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18C-10AE-4759-A447-473BC395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9C8-3105-40D8-AD3A-7ED720F5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EAC-6A64-49EA-852F-67A399DD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A23-7029-4292-AF64-AFF9E32F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C55-95AD-43CA-BC39-8F5658E9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875C-B406-496B-A752-3C62A46C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0DD-C569-4A79-BDAA-9F7A0FE6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ACA4-9DC2-4F37-BFF9-B6487CF9ABBD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21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hyperlink" Target="http://www.eeppt.com/moban/" TargetMode="External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75.png"/><Relationship Id="rId12" Type="http://schemas.openxmlformats.org/officeDocument/2006/relationships/image" Target="../media/image75.png"/><Relationship Id="rId13" Type="http://schemas.openxmlformats.org/officeDocument/2006/relationships/image" Target="../media/image75.png"/><Relationship Id="rId14" Type="http://schemas.openxmlformats.org/officeDocument/2006/relationships/image" Target="../media/image75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hyperlink" Target="http://www.eeppt.com/moban/" TargetMode="External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.mp3" descr="Rihanna take a bow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2540520" y="57636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齿轮创意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301680" y="4989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30-01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31-01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32-01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33-01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34-01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35-01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0" dur="99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13-02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14-02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16-02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43-02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30-02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08" dur="998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3-03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24-03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20-03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21-03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22-03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7-03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4-03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26-03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28-03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29-03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31-02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6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32-02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33-02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34-02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35-02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36-02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37-02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30-03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30-04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49440" y="48974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38-02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39-02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40-02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41-02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41-02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42-02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13-02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14-02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16-02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33-03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44-02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45-02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45-03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45-04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45-05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46-03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46-04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46-05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46-06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41-02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41-02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41-02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41-02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48-02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7" descr="49-02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8" descr="47-02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5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58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6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81120" y="145800"/>
            <a:ext cx="6377040" cy="4474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01760" y="985320"/>
            <a:ext cx="6935760" cy="405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878520" y="258840"/>
            <a:ext cx="1079640" cy="27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-01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4-01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3-01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6-02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7-02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8-02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9-02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-02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-02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8-02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10-02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11-02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12-02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13-02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14-02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15-02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16-02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6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7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8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499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4" dur="99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2-03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2-03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6-03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7-03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4-03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5-03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999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999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8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9-03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9-03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9-03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88-03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10-03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20-02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21-02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22-02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22-02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2-02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22-02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23-02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23-02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23-02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23-02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24-02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25-02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26-02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27-02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450720" y="4960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免费ppt模板</a:t>
            </a:r>
            <a:r>
              <a:rPr b="0" lang="zh-CN" sz="16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8-01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20-01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23-01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25-01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23-01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27-01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29-01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23-01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23-01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19-01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24-01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26-01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28-01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cp:keywords/>
  <dc:language>en-US</dc:language>
  <cp:lastModifiedBy>yu wang</cp:lastModifiedBy>
  <dcterms:modified xsi:type="dcterms:W3CDTF">2015-08-12T14:56:16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