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BA46-FBB3-4581-9018-E311602D324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2785-ED77-4057-9F8D-051B37179981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060D-8920-4A4C-94A0-D56920867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99640" y="41155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3CF5-2C0C-44DC-ABD2-BF309D5D8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636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3EE5-8045-449A-B363-8D84BB9BA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844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760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9964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844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760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0AFE-E2F5-4AD4-B6FC-842EFE748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885EB-4A05-4B4E-8148-80C6117E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92B08-9EA7-403D-9643-F494A653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4BAA9-A461-4F46-970F-35D964F7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38258-4480-4B11-AF65-C5CF61F8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7CC74-4777-4318-A3EA-C888262C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76360" y="764640"/>
            <a:ext cx="5975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E8756-4569-4893-918B-0E8C887D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25247-B94E-4819-9C84-4352D92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975E-85BB-4FEA-929A-90D74449F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636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FFF5A-9F4A-4DC8-A7CF-518E713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AC6F6-466F-4EFB-8F90-BDD4233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99640" y="41155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4F419-27C0-4BC8-8CFF-745E6786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2636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8486C-BF8B-4C91-A46F-1A4C6EED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844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1760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9964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844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1760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DDEF3-D806-414D-A9C7-ABDFB443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F256-4FEA-47EA-ADF3-B89107B91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A9D7-EAE0-462F-A30B-198DEC76D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0197-3D3D-4AF9-B17A-597014BA2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360" y="764640"/>
            <a:ext cx="5975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591B-F68D-4E69-AA8E-8960D58EA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7F3D-1954-4D60-8155-360F746A3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636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C7A2-0117-48BA-BD46-26F5A889A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3C05-76C9-4CAC-805C-810E3B9E2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08000" y="136440"/>
            <a:ext cx="8926560" cy="65851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8BE-F48D-4DF8-9BFE-539590B11983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148320" y="101520"/>
            <a:ext cx="10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2"/>
          <p:cNvSpPr/>
          <p:nvPr/>
        </p:nvSpPr>
        <p:spPr>
          <a:xfrm>
            <a:off x="208080" y="4879800"/>
            <a:ext cx="838080" cy="785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6363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3"/>
          <p:cNvSpPr/>
          <p:nvPr/>
        </p:nvSpPr>
        <p:spPr>
          <a:xfrm>
            <a:off x="208080" y="4827600"/>
            <a:ext cx="838080" cy="785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Oval 4"/>
          <p:cNvSpPr/>
          <p:nvPr/>
        </p:nvSpPr>
        <p:spPr>
          <a:xfrm>
            <a:off x="208080" y="4827600"/>
            <a:ext cx="795240" cy="816120"/>
          </a:xfrm>
          <a:prstGeom prst="ellipse">
            <a:avLst/>
          </a:prstGeom>
          <a:gradFill rotWithShape="0">
            <a:gsLst>
              <a:gs pos="0">
                <a:srgbClr val="5794ed"/>
              </a:gs>
              <a:gs pos="100000">
                <a:srgbClr val="28446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Oval 5"/>
          <p:cNvSpPr/>
          <p:nvPr/>
        </p:nvSpPr>
        <p:spPr>
          <a:xfrm>
            <a:off x="1046160" y="5775480"/>
            <a:ext cx="533520" cy="500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6363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1046160" y="5742000"/>
            <a:ext cx="53352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1046160" y="5742000"/>
            <a:ext cx="506520" cy="51912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Oval 8"/>
          <p:cNvSpPr/>
          <p:nvPr/>
        </p:nvSpPr>
        <p:spPr>
          <a:xfrm>
            <a:off x="1884240" y="6218280"/>
            <a:ext cx="304920" cy="2858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d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Oval 9"/>
          <p:cNvSpPr/>
          <p:nvPr/>
        </p:nvSpPr>
        <p:spPr>
          <a:xfrm>
            <a:off x="1884240" y="6199200"/>
            <a:ext cx="304920" cy="2858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d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1884240" y="6199200"/>
            <a:ext cx="289080" cy="2970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d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671400" y="142920"/>
            <a:ext cx="8375760" cy="651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148320" y="333360"/>
            <a:ext cx="10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Gulim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1389-0DAC-4138-921E-2F96BBC69717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133360"/>
            <a:ext cx="7570800" cy="1584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  <a:ea typeface="Gulim"/>
              </a:rPr>
              <a:t>蓝色大方的毕业答辩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Gulim"/>
              </a:rPr>
              <a:t>PPT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  <a:ea typeface="Gulim"/>
              </a:rPr>
              <a:t>模板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3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Gulim"/>
              </a:rPr>
              <a:t>Click to add tit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mpetito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trength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9999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1:56:19Z</dcterms:created>
  <dc:creator/>
  <dc:description/>
  <cp:keywords/>
  <dc:language>en-US</dc:language>
  <cp:lastModifiedBy>yu wang</cp:lastModifiedBy>
  <cp:lastPrinted>1899-12-30T00:00:00Z</cp:lastPrinted>
  <dcterms:modified xsi:type="dcterms:W3CDTF">2015-08-12T14:55:52Z</dcterms:modified>
  <cp:revision>4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