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46AA-8B98-497E-B2AF-2D7D7624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C4A1-1875-43EE-B698-AA07612F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5EF-6B57-401F-B167-3868595B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FFE3-4BEA-4AF7-8CC5-6ABB3A3D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607D-9F5E-4DE6-9273-EA8A59C7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1A09-EE6B-4E5F-AB03-AF05E184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7F14-9BD0-4BDE-B180-7A0B1DEB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F71B-19BF-42B2-8B0E-6D28A0C3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927F-4611-4847-866B-ED76A6E6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AD7E-9B85-443F-85BA-13C15AE8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C003-C098-49CF-BCED-29D26F0D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64C4-4333-44F5-BE5F-8AB6F201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8608-B487-4574-91C1-6B6A06E4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11C1-3EDD-4F2A-85AD-91052B1E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9784-04FB-4F7F-9502-CBE0A6EA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C6E5-9340-4FCC-91AD-E40BB26C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A96D-D478-4D97-B60A-188A0927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7D06F-A133-44F4-9FEA-F290AED5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F3A13-369C-44FD-A6C4-5160F580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AE5F9-4E32-4523-8FEA-48D62CED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E9488-03C9-484F-9677-A5855D8E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751ED-5947-42CE-AE23-81F3468F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B825-C30F-4DBF-87E6-16EC3BBB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9DD4F-6DDE-4C09-975D-12224997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6F17D-52F1-4E81-97CD-D5F84F70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E49B8-A5BF-44A3-851E-D1B42F07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50634-4DCA-4C3F-A89A-E39C975F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A2A59-88DA-4E78-B7A6-6B54B165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67809-BB02-421E-BE3F-B0652655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0D252-FCE0-46BF-9477-38DE0E3B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A139-30C2-4A48-8D11-E611FEB6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1FC1-C08F-4BDE-8618-000FB24A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96F3-6CEE-4654-87DB-5FD618B8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EDB1-366C-4054-B6A3-47168889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79ED-0379-44E3-9528-A682FE78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C0E1-81DD-4CF4-8251-EFA4DBE0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440"/>
            <a:ext cx="9144000" cy="1417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2D31-E74B-43CC-A714-8F08FBC0B9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9"/>
          <p:cNvSpPr/>
          <p:nvPr/>
        </p:nvSpPr>
        <p:spPr>
          <a:xfrm>
            <a:off x="8102520" y="6346800"/>
            <a:ext cx="358920" cy="3589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10"/>
          <p:cNvSpPr/>
          <p:nvPr/>
        </p:nvSpPr>
        <p:spPr>
          <a:xfrm>
            <a:off x="7985160" y="658800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8339040" y="658800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7978680" y="623736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39040" y="623556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-23760"/>
            <a:ext cx="9144000" cy="430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BE15-6927-473B-AF33-2D2A354AB9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8102520" y="6346800"/>
            <a:ext cx="358920" cy="3589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7985160" y="658800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8339040" y="658800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7978680" y="623736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8339040" y="623556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864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2640" y="62449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488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29B0-366F-493A-A387-6D7EC1742A15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-33480" y="0"/>
            <a:ext cx="9177480" cy="3886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8102520" y="450720"/>
            <a:ext cx="646200" cy="60984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7985160" y="685800"/>
            <a:ext cx="511200" cy="51120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8354880" y="692280"/>
            <a:ext cx="511200" cy="51264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7961400" y="301680"/>
            <a:ext cx="511200" cy="51264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8339040" y="333360"/>
            <a:ext cx="513000" cy="51120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60240" y="174456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绿色简洁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801880" y="934920"/>
            <a:ext cx="284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Arial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2744640" y="2143080"/>
            <a:ext cx="576360" cy="576360"/>
          </a:xfrm>
          <a:prstGeom prst="pentagon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3579840" y="2711520"/>
            <a:ext cx="2303280" cy="0"/>
          </a:xfrm>
          <a:prstGeom prst="line">
            <a:avLst/>
          </a:prstGeom>
          <a:ln w="255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744640" y="2846520"/>
            <a:ext cx="576360" cy="576000"/>
          </a:xfrm>
          <a:prstGeom prst="pentagon">
            <a:avLst/>
          </a:pr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3579840" y="3414600"/>
            <a:ext cx="2303280" cy="1800"/>
          </a:xfrm>
          <a:prstGeom prst="line">
            <a:avLst/>
          </a:prstGeom>
          <a:ln w="255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2736720" y="3533760"/>
            <a:ext cx="576360" cy="577800"/>
          </a:xfrm>
          <a:prstGeom prst="pentagon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3595680" y="4094280"/>
            <a:ext cx="2303640" cy="1440"/>
          </a:xfrm>
          <a:prstGeom prst="line">
            <a:avLst/>
          </a:prstGeom>
          <a:ln w="255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2733840" y="4222800"/>
            <a:ext cx="576000" cy="577800"/>
          </a:xfrm>
          <a:prstGeom prst="pentagon">
            <a:avLst/>
          </a:pr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3568680" y="4791240"/>
            <a:ext cx="2303640" cy="1440"/>
          </a:xfrm>
          <a:prstGeom prst="line">
            <a:avLst/>
          </a:prstGeom>
          <a:ln w="255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01 /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正文内容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561960" y="838080"/>
            <a:ext cx="777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512640" y="882720"/>
            <a:ext cx="35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二级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719280" y="692280"/>
            <a:ext cx="160488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Arial"/>
                <a:ea typeface="微软雅黑"/>
              </a:rPr>
              <a:t>数据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3"/>
          <p:cNvGraphicFramePr/>
          <p:nvPr/>
        </p:nvGraphicFramePr>
        <p:xfrm>
          <a:off x="1403280" y="1701720"/>
          <a:ext cx="6203880" cy="343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1720"/>
                    <a:ext cx="6203880" cy="34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Text Box 9"/>
          <p:cNvSpPr/>
          <p:nvPr/>
        </p:nvSpPr>
        <p:spPr>
          <a:xfrm>
            <a:off x="395280" y="638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370240" y="2773440"/>
            <a:ext cx="387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cc00"/>
                </a:solidFill>
                <a:latin typeface="Arial"/>
                <a:ea typeface="微软雅黑"/>
              </a:rPr>
              <a:t>谢谢聆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 flipH="1">
            <a:off x="2154240" y="3870360"/>
            <a:ext cx="491328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5827680" y="1849320"/>
            <a:ext cx="1239840" cy="2054160"/>
            <a:chOff x="5827680" y="1849320"/>
            <a:chExt cx="1239840" cy="2054160"/>
          </a:xfrm>
        </p:grpSpPr>
        <p:grpSp>
          <p:nvGrpSpPr>
            <p:cNvPr id="204" name="Group 5"/>
            <p:cNvGrpSpPr/>
            <p:nvPr/>
          </p:nvGrpSpPr>
          <p:grpSpPr>
            <a:xfrm>
              <a:off x="5827680" y="1849320"/>
              <a:ext cx="1239840" cy="2054160"/>
              <a:chOff x="5827680" y="1849320"/>
              <a:chExt cx="1239840" cy="2054160"/>
            </a:xfrm>
          </p:grpSpPr>
          <p:sp>
            <p:nvSpPr>
              <p:cNvPr id="205" name="Oval 6"/>
              <p:cNvSpPr/>
              <p:nvPr/>
            </p:nvSpPr>
            <p:spPr>
              <a:xfrm>
                <a:off x="6126480" y="1849320"/>
                <a:ext cx="644760" cy="64548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7"/>
              <p:cNvSpPr/>
              <p:nvPr/>
            </p:nvSpPr>
            <p:spPr>
              <a:xfrm>
                <a:off x="6243120" y="2377800"/>
                <a:ext cx="410040" cy="111600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8"/>
              <p:cNvSpPr/>
              <p:nvPr/>
            </p:nvSpPr>
            <p:spPr>
              <a:xfrm>
                <a:off x="6891840" y="2533680"/>
                <a:ext cx="175680" cy="17604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曲线 235"/>
              <p:cNvSpPr/>
              <p:nvPr/>
            </p:nvSpPr>
            <p:spPr>
              <a:xfrm rot="20520000">
                <a:off x="6515280" y="2658240"/>
                <a:ext cx="464040" cy="381600"/>
              </a:xfrm>
              <a:custGeom>
                <a:avLst/>
                <a:gdLst>
                  <a:gd name="textAreaLeft" fmla="*/ 0 w 464040"/>
                  <a:gd name="textAreaRight" fmla="*/ 464400 w 464040"/>
                  <a:gd name="textAreaTop" fmla="*/ 0 h 381600"/>
                  <a:gd name="textAreaBottom" fmla="*/ 381960 h 38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cubicBezTo>
                      <a:pt x="1394" y="18084"/>
                      <a:pt x="3963" y="7704"/>
                      <a:pt x="8286" y="3852"/>
                    </a:cubicBezTo>
                    <a:cubicBezTo>
                      <a:pt x="12609" y="0"/>
                      <a:pt x="18975" y="1530"/>
                      <a:pt x="21600" y="2321"/>
                    </a:cubicBezTo>
                  </a:path>
                </a:pathLst>
              </a:custGeom>
              <a:noFill/>
              <a:ln w="763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曲线 238"/>
              <p:cNvSpPr/>
              <p:nvPr/>
            </p:nvSpPr>
            <p:spPr>
              <a:xfrm rot="660000">
                <a:off x="5915520" y="2459520"/>
                <a:ext cx="498240" cy="317160"/>
              </a:xfrm>
              <a:custGeom>
                <a:avLst/>
                <a:gdLst>
                  <a:gd name="textAreaLeft" fmla="*/ 0 w 498240"/>
                  <a:gd name="textAreaRight" fmla="*/ 498600 w 49824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4212" y="3699"/>
                      <a:pt x="16289" y="11134"/>
                      <a:pt x="21600" y="21600"/>
                    </a:cubicBezTo>
                  </a:path>
                </a:pathLst>
              </a:custGeom>
              <a:noFill/>
              <a:ln w="763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11"/>
              <p:cNvSpPr/>
              <p:nvPr/>
            </p:nvSpPr>
            <p:spPr>
              <a:xfrm>
                <a:off x="5827680" y="2305440"/>
                <a:ext cx="175680" cy="17604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2"/>
              <p:cNvSpPr/>
              <p:nvPr/>
            </p:nvSpPr>
            <p:spPr>
              <a:xfrm flipH="1">
                <a:off x="6302160" y="3480480"/>
                <a:ext cx="111600" cy="234360"/>
              </a:xfrm>
              <a:prstGeom prst="line">
                <a:avLst/>
              </a:prstGeom>
              <a:ln w="507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13"/>
              <p:cNvSpPr/>
              <p:nvPr/>
            </p:nvSpPr>
            <p:spPr>
              <a:xfrm>
                <a:off x="6501600" y="3467160"/>
                <a:ext cx="135360" cy="234360"/>
              </a:xfrm>
              <a:prstGeom prst="line">
                <a:avLst/>
              </a:prstGeom>
              <a:ln w="507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AutoShape 14"/>
              <p:cNvSpPr/>
              <p:nvPr/>
            </p:nvSpPr>
            <p:spPr>
              <a:xfrm rot="6540000">
                <a:off x="6193800" y="3664800"/>
                <a:ext cx="176400" cy="23400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AutoShape 15"/>
              <p:cNvSpPr/>
              <p:nvPr/>
            </p:nvSpPr>
            <p:spPr>
              <a:xfrm rot="4020000">
                <a:off x="6584400" y="3657960"/>
                <a:ext cx="176400" cy="23400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AutoShape 16"/>
            <p:cNvSpPr/>
            <p:nvPr/>
          </p:nvSpPr>
          <p:spPr>
            <a:xfrm rot="6300000">
              <a:off x="6369840" y="2295360"/>
              <a:ext cx="97200" cy="9504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7"/>
            <p:cNvSpPr/>
            <p:nvPr/>
          </p:nvSpPr>
          <p:spPr>
            <a:xfrm>
              <a:off x="6273360" y="2069640"/>
              <a:ext cx="7596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6546600" y="2118960"/>
              <a:ext cx="75960" cy="74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pt宝藏</dc:creator>
  <dc:description/>
  <dc:language>en-US</dc:language>
  <cp:lastModifiedBy>yu wang</cp:lastModifiedBy>
  <dcterms:modified xsi:type="dcterms:W3CDTF">2015-08-12T14:54:54Z</dcterms:modified>
  <cp:revision>7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3953</vt:lpwstr>
  </property>
</Properties>
</file>