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E81-978F-40E7-886C-33764503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187-4EAD-44CA-AC11-0B6C04E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209-85BD-4939-AC2E-3E5008EB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FB1-749A-4B4C-99C2-AE750EAF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4B01-B1BC-4698-8153-03CCAE76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C10-4D62-4F70-86B9-2CB6BBE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56A-8923-4749-9209-5B848A1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A377-E40A-4743-83C6-1DAA8CC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D72A-0254-4C42-AD68-6797268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787640" y="154080"/>
            <a:ext cx="3995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1A80-D0DF-41F7-AEF5-8B83CC07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F42-7827-4D1C-BACF-520A4CDE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76B-5034-4849-98D4-A964E0E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4DC-6361-47CF-9647-1346B5A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6F6-9A71-4C2C-8CAB-1A6C4C5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ADED-8918-442C-9BDF-D055BCE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794-9192-4161-A9F3-87E3A40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A33-ED8B-443B-AA25-64D6A4EA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095-6253-4BCD-9348-DF0A1112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375-59FD-40D8-A973-6F4B978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E2A-03F2-4751-A4AE-5DBD03C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87640" y="154080"/>
            <a:ext cx="3995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27D-9147-46E3-86E1-ED1E02C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319-C31F-44AC-BD0E-8EDE88F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8DD-B579-4D04-9F2F-F6088F6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1A9-60B0-4A2F-9AFE-A19193B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86116" r="0" b="169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414720" y="22392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公司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及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3E1F-1C84-4CA5-96B5-F60282A67D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181C-DAC3-41F8-9555-9B0776C14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052640"/>
            <a:ext cx="810108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蓝色简洁完整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2565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黑体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rdArt 2" descr=""/>
          <p:cNvPicPr/>
          <p:nvPr/>
        </p:nvPicPr>
        <p:blipFill>
          <a:blip r:embed="rId1"/>
          <a:stretch/>
        </p:blipFill>
        <p:spPr>
          <a:xfrm>
            <a:off x="2657520" y="3005280"/>
            <a:ext cx="385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56:06Z</dcterms:created>
  <dc:creator>ppt宝藏</dc:creator>
  <dc:description/>
  <cp:keywords/>
  <dc:language>en-US</dc:language>
  <cp:lastModifiedBy>yu wang</cp:lastModifiedBy>
  <cp:lastPrinted>1899-12-30T00:00:00Z</cp:lastPrinted>
  <dcterms:modified xsi:type="dcterms:W3CDTF">2015-08-12T14:56:09Z</dcterms:modified>
  <cp:revision>8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