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EE46-27FA-4E4A-AB78-9FABA3CA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A548-39E9-4341-9681-0D418CBF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1BDA5-72F0-42CA-A3DA-C234D357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598364-58E1-4D5E-A63A-FC3C1D53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11AEEB-9BC6-41E7-B467-0605DCBA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8C40D-910D-476E-96BC-FA2E900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5EB91B-A585-47F6-8413-8D93661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6E0FFA-0DA1-4B40-B369-F33A9EC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61937B-0476-499E-B644-B035DD25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15953-13C9-4654-B87E-AC41ADAB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481DE-6080-45E5-97E3-434F9FBA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90255-F38B-4D12-9047-3FBD0A7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0DB5-6517-45E2-AB29-F8298644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40E71-450E-4793-B95D-95ECF41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3D5DD-EAF7-4E53-80D2-642177DD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55AE1-E9BC-4AB2-834A-5D127783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627BA-14FD-4CA3-8A04-72695365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91ECFE-A02E-4B9C-88FF-7BDD6E14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F881A-D5AD-43A9-9894-898C4A2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FA67C-F488-4297-9494-E8F95DA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D5727-E7DC-4DB9-92CD-C056F8AB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63169-3FF5-4F41-A1B7-B3356F5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5DA17-7BEC-4CFC-88D9-E82D11BF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FD6-A355-40D0-8AC3-601A5F53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2251F-1897-45E3-B061-B87C924E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1188C-4E8F-4EA9-862C-4907577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C5FFC-1E39-40B2-BD8A-F13B99E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00671-6058-4F1C-9C0E-614968F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865B8-0152-496B-8882-7F144F06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A608D-03B3-421E-9452-F792905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6B223-7267-4BCB-B2F2-0A5030B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BD9B2-EA88-49C8-B90F-D2EFE62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3377E-3B7C-4CD3-A025-2B597D9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3DD5C-CCD2-467A-97A2-80D4BBD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7F1C5-E610-46FA-B3A1-D469B7D4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6D1F1-4858-4470-AB72-63D4A62D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B4D8F-7823-4608-B422-7E2128E5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F1BECF-5FBF-40C7-BD81-796D7B24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EB479-887B-41DC-B5CE-A13704C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4CEAF7-0871-4592-8569-B633FD4F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10630C-0F8B-4EE6-9E8B-827EDAA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9E5B74-85B4-44DD-B845-36FC3D13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9FFFA5-C31E-487C-A148-AA5056F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2B339D-81C6-4859-ABBA-E7652C0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C208BB-AB98-4022-A642-2AD27FDE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F4BEF4-A457-4AFC-8ECE-9D97E08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1A2303-3363-4676-B380-A4B7C241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51702B-ECB6-4F90-ABCF-26375C64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0130FD-499F-455B-86B5-CB3846E8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D9C0D-C492-45FE-B24B-5EC4B17A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CDDE6-922F-4549-9048-8093D45C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FD09D-C3E6-4AF4-83D4-033C6FA4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B5C9B-54AD-4E6B-996A-1C442721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F4A4F-B934-468B-BFDD-46B6A867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DC3E5-5E64-4C05-828C-8905988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19B4B-AB37-4AD3-B0BB-FDE0B6B1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64A31-C758-4DD7-96FF-D168ECCC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2FDF6-5C72-464D-AE8C-7F49696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6AB7A-88CA-4DCB-BD9F-DBADFE0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44733-66CE-41D5-8C51-0D356ED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B57AF-3992-456F-BD0E-5E53F8D7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1774-0D81-4326-8231-091A360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687FC-107C-4DD2-9034-4A266D79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3214A-43E1-4930-9116-00BE22D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8886-E318-4459-857E-E7EE2F06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444A-F7AF-4CC8-B598-062B967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B0D65-58E8-4F6C-8281-7C1980CA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032-0318-4B35-9E16-E8E9F1D2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C21F3-C9AD-43BB-A20F-8EDE6DE3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F5642-6F97-4073-A2FD-7E79999A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E2B9F-6A7D-4DC3-9A43-91B0E12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7FCD8-C468-453D-A199-8DD0702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B0089-EE6B-4C97-BE6C-128DF82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4697C-E865-4F2A-9DC7-0B299B82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7968E-97A3-484E-80E7-9D6ED7AA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85D22-E9D6-4DD7-AC17-3D0D5348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EC76E-259C-45B4-82EE-EB66165D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7469F-562C-42B7-AD05-86FBF5B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BA15-13A6-469E-9742-C7A1451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7D24F-2D7E-4B2E-9A99-D7712DD3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AA238-46A3-483B-8DA2-63E9D8E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ED0F7-818F-4FB9-8F01-BCDE242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660EE-CD14-4377-8835-5D23CCA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D528F-237D-4FE2-9F37-9046D995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E6431-B718-4DD7-9BAC-23C64E1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76C93-13BB-435F-9F08-A9E2AB9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D0A8B-720C-4ABC-A3E4-017AD330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FD629-3834-4C3C-BCAD-97C6FF5A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C997B-060F-4A89-9987-9DBFF3F9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127D-ECC6-4ABB-897A-140BDA4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62F00-B34D-4EC8-AA23-5ADBD5E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C7567-F54B-473D-98F6-F9A09B4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C3D67-A04D-4DD3-8636-2DDB4E6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8FCC5-A31A-4FCE-9417-6CF353D0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368BE-3DFF-4C03-9005-73618E63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50D95-2360-455F-A0F2-8FE85562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1B343-903A-4C83-B6D2-C9C7499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01B71-7659-45C0-99FA-2D5E3CC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2EC189-3CB5-48A6-8AA5-669DEA02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85A0F-E9BE-49E5-8D23-5BACDB29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B05B-A495-4238-AB33-3A23C22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D817B-A41C-4DF2-81E7-4FEE504F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3F640-9B87-414F-9571-BB485EC4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80F13-2C48-4C6B-94C5-2194280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7FA89A-790A-49E5-BE17-F74B98C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88C4F1-3A70-493B-8D41-FE007F25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E8AC84-EE6E-4602-9261-4101FB11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EB511-0612-4A06-9CE3-F19D0D79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40ACB-8BCC-45E7-9229-C7C3289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96BE3-79E7-47F3-9B0B-8DF5CF5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3883B8-E224-428F-A253-D6E1EB0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140E-D858-4504-8B3F-A8FDF00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354DE6-8A7D-4E69-9748-AA77007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CEBD1-CC79-4CDF-8FEA-8D06067E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32D4A-2EF4-480B-B976-2ED70924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C9A99-7B15-48B1-8007-1C96EC14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12A5D-E1DF-4F30-8A5F-F2F73935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91832-5C8D-4A74-B53F-58595ED6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25872-CA16-44AA-85AC-A9917DEE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32A76-62A4-48FA-B973-C6789FDF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89FFF7-D22E-43F8-A6D2-0CF8841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F69F2-754B-4CC1-8A83-2060923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1BF8-992D-4B2C-A7D9-B1B8727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23467-8F69-418E-90F8-67288E9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35162-24F6-44E6-8F0C-BBB584EA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63CF3D-00E3-44EB-B75F-ABE2938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1E0BF-946B-4596-A82D-5072B97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9D0E8B-268A-4A9A-B126-76BF1E08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A4E7A-D7AC-403D-87CE-3635C013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2E20A9-818F-44FC-958A-F3F10929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0AD7F-874E-4A72-8857-E45F450A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BB590-E4F1-48E5-837C-190F6B9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0476E-E435-4675-82A1-523F4DD9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F1CE-5634-4CA8-8525-02BA16A1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BE91D2-2389-4CE2-AC5F-ADE03BCB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C2535B-D9ED-4D19-8044-AC5AA5F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AC9AD-6F88-44F8-B2E8-7725E60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07727A-05A3-4A48-A8D5-D3E29C9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B5320-1998-42F1-9399-3BFA250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6A968-F0E6-4EE3-8533-23F9757E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2C476-7A57-459C-AF5D-B700E690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27F75-65DF-4E4A-9B28-FCBEA6E2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F05BB-1DBC-48D6-8C12-69E15A5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143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DCFA49-80B2-4D53-A1C7-48175FF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3F1-81FA-4271-B4EC-CD43ED900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6DDD-B74C-4CC6-8600-0C7729742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dt" idx="26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ftr" idx="27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8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BC73-C55A-4E0E-B844-905B930A5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dt" idx="29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30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E83-9A3A-497B-8BC6-8FDE8393C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32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34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1A0-0F56-47EB-B0C4-DA2AE42E7B93}" type="slidenum">
              <a:rPr b="0" lang="en-US" sz="1400" spc="-1" strike="noStrike">
                <a:solidFill>
                  <a:srgbClr val="1d528d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dt" idx="35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6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m_02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6611760"/>
            <a:ext cx="9144000" cy="260640"/>
          </a:xfrm>
          <a:prstGeom prst="rect">
            <a:avLst/>
          </a:prstGeom>
          <a:gradFill rotWithShape="0">
            <a:gsLst>
              <a:gs pos="0">
                <a:srgbClr val="471800"/>
              </a:gs>
              <a:gs pos="50000">
                <a:srgbClr val="993300"/>
              </a:gs>
              <a:gs pos="100000">
                <a:srgbClr val="471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07440" y="289080"/>
            <a:ext cx="1102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F06-7C20-4C2A-B0F4-5FAE4E1C3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7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28E9-B860-4BCF-B123-E5D26AA07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8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D0D-81F2-4295-A1BF-3DED66CE7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1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3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7C61-6FF3-4862-9EE6-52F258E10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dt" idx="14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5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6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720-8565-49D4-BE48-4AE8C3316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7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8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9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E89-46BD-415C-B96B-EC686C08D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dt" idx="20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1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m_02"/>
          <p:cNvPicPr/>
          <p:nvPr/>
        </p:nvPicPr>
        <p:blipFill>
          <a:blip r:embed="rId2"/>
          <a:srcRect l="0" t="35205" r="0" b="14934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9403-297E-4520-91E5-E4750E92B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3"/>
          </p:nvPr>
        </p:nvSpPr>
        <p:spPr>
          <a:xfrm>
            <a:off x="0" y="837720"/>
            <a:ext cx="9144000" cy="228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wps.cn/mob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4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4343040"/>
            <a:ext cx="8631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绿色科技风简洁</a:t>
            </a:r>
            <a:r>
              <a:rPr b="1" lang="en-US" sz="4000" spc="-1" strike="noStrike">
                <a:solidFill>
                  <a:srgbClr val="ffffcc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6" name="Picture 4" descr="original_metal_w(s)"/>
          <p:cNvPicPr/>
          <p:nvPr/>
        </p:nvPicPr>
        <p:blipFill>
          <a:blip r:embed="rId1"/>
          <a:stretch/>
        </p:blipFill>
        <p:spPr>
          <a:xfrm>
            <a:off x="6227640" y="5300640"/>
            <a:ext cx="1152720" cy="1117800"/>
          </a:xfrm>
          <a:prstGeom prst="rect">
            <a:avLst/>
          </a:prstGeom>
          <a:ln w="0">
            <a:noFill/>
          </a:ln>
        </p:spPr>
      </p:pic>
      <p:sp>
        <p:nvSpPr>
          <p:cNvPr id="5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9" name="Group 3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730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51"/>
                </a:gs>
                <a:gs pos="50000">
                  <a:srgbClr val="969696"/>
                </a:gs>
                <a:gs pos="100000">
                  <a:srgbClr val="51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4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45" name="Group 19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746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7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8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49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50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32156"/>
                  </a:srgbClr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55" name="Group 29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756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7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8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59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34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761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2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3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64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65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69" name="Group 2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770" name="Rectangle 3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1" name="Rectangle 4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2" name="Rectangle 5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3" name="Group 6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774" name="Group 7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775" name="Oval 8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76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Text Box 10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1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779" name="Group 12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780" name="Oval 13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25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81" name="未知"/>
                <p:cNvSpPr/>
                <p:nvPr/>
              </p:nvSpPr>
              <p:spPr>
                <a:xfrm>
                  <a:off x="5192280" y="115812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Text Box 15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16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784" name="Group 17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785" name="Oval 18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612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86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 Box 20"/>
              <p:cNvSpPr/>
              <p:nvPr/>
            </p:nvSpPr>
            <p:spPr>
              <a:xfrm>
                <a:off x="148824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21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789" name="Group 22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790" name="Oval 23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91" name="未知"/>
                <p:cNvSpPr/>
                <p:nvPr/>
              </p:nvSpPr>
              <p:spPr>
                <a:xfrm>
                  <a:off x="5257080" y="3914640"/>
                  <a:ext cx="1591920" cy="795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2" name="Text Box 25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93" name="Oval 26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4" name="Oval 27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5" name="Oval 28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6" name="Oval 29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801" name="AutoShape 4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AutoShape 5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3" name="AutoShape 6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4" name="AutoShape 7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5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6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d9c83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808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Oval 24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808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Oval 26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25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826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7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8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9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30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834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5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6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7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8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0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841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2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3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4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45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46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48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849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0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1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2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6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7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8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9" name="Text Box 29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0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1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62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863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6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67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868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0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1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2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3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4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5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9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880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881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82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7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884" name="Group 8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885" name="Group 9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886" name="未知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未知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Group 12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889" name="未知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未知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Group 15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892" name="Oval 16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3" name="Oval 17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4" name="Oval 18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5" name="Oval 19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96" name="Oval 20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21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898" name="Oval 22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Oval 23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Oval 24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Oval 25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2" name="Text Box 26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03" name="Text Box 27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04" name="Group 28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905" name="Group 29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906" name="Group 30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907" name="未知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未知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33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910" name="未知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未知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2" name="Group 36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913" name="Oval 37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4" name="Oval 38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5" name="Oval 39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6" name="Oval 40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17" name="Oval 41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918" name="Group 42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919" name="Oval 43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Oval 44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Oval 45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Oval 46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3" name="Text Box 47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24" name="Text Box 48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25" name="Group 49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926" name="Group 50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927" name="Group 51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928" name="未知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未知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" name="Group 54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931" name="未知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未知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3" name="Group 57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934" name="Oval 58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5" name="Oval 59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6" name="Oval 60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7" name="Oval 61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38" name="Oval 62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939" name="Group 63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940" name="Oval 64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Oval 65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Oval 66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Oval 67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4" name="Text Box 68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45" name="Text Box 69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46" name="Group 70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947" name="Group 71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948" name="Group 72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949" name="未知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未知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Group 75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952" name="未知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未知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4" name="Oval 78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5" name="Oval 79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6" name="Oval 80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81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8" name="Oval 82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959" name="Group 83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960" name="Oval 84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1" name="Oval 85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2" name="Oval 86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963" name="Oval 87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Text Box 88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5" name="Text Box 89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967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8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9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0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971" name="AutoShape 95"/>
              <p:cNvCxnSpPr>
                <a:stCxn id="967" idx="3"/>
                <a:endCxn id="968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2" name="AutoShape 96"/>
              <p:cNvCxnSpPr>
                <a:stCxn id="968" idx="3"/>
                <a:endCxn id="969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73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76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97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8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97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6b8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>
                <a:off x="1876680" y="170892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4c7e3"/>
                  </a:gs>
                  <a:gs pos="50000">
                    <a:srgbClr val="0099cc">
                      <a:alpha val="0"/>
                    </a:srgbClr>
                  </a:gs>
                  <a:gs pos="100000">
                    <a:srgbClr val="74c7e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Text Box 8"/>
              <p:cNvSpPr/>
              <p:nvPr/>
            </p:nvSpPr>
            <p:spPr>
              <a:xfrm>
                <a:off x="1930680" y="193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83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98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5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98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6a3a3"/>
                  </a:gs>
                  <a:gs pos="100000">
                    <a:srgbClr val="0080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7" name="未知"/>
              <p:cNvSpPr/>
              <p:nvPr/>
            </p:nvSpPr>
            <p:spPr>
              <a:xfrm>
                <a:off x="1876680" y="323928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9c9"/>
                  </a:gs>
                  <a:gs pos="100000">
                    <a:srgbClr val="00808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8" name="Text Box 15"/>
              <p:cNvSpPr/>
              <p:nvPr/>
            </p:nvSpPr>
            <p:spPr>
              <a:xfrm>
                <a:off x="1930680" y="346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90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99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92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99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cbcbc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未知"/>
              <p:cNvSpPr/>
              <p:nvPr/>
            </p:nvSpPr>
            <p:spPr>
              <a:xfrm>
                <a:off x="1876680" y="4779360"/>
                <a:ext cx="566640" cy="533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96969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5" name="Text Box 22"/>
              <p:cNvSpPr/>
              <p:nvPr/>
            </p:nvSpPr>
            <p:spPr>
              <a:xfrm>
                <a:off x="1930680" y="5002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0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1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2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03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1004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05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1006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7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8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9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0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1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1012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3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6" name="Rectangle 20"/>
            <p:cNvSpPr/>
            <p:nvPr/>
          </p:nvSpPr>
          <p:spPr>
            <a:xfrm rot="3418800">
              <a:off x="4595760" y="2010600"/>
              <a:ext cx="873000" cy="9680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7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1018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9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0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1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2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3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4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5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6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7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8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9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0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1" name="Text Box 3"/>
          <p:cNvSpPr/>
          <p:nvPr/>
        </p:nvSpPr>
        <p:spPr>
          <a:xfrm>
            <a:off x="330120" y="6373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8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34" name=""/>
          <p:cNvGraphicFramePr/>
          <p:nvPr/>
        </p:nvGraphicFramePr>
        <p:xfrm>
          <a:off x="1066680" y="2209680"/>
          <a:ext cx="746784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7" name="Group 3"/>
          <p:cNvGrpSpPr/>
          <p:nvPr/>
        </p:nvGrpSpPr>
        <p:grpSpPr>
          <a:xfrm>
            <a:off x="1128600" y="1280880"/>
            <a:ext cx="6575400" cy="4665960"/>
            <a:chOff x="1128600" y="1280880"/>
            <a:chExt cx="6575400" cy="4665960"/>
          </a:xfrm>
        </p:grpSpPr>
        <p:sp>
          <p:nvSpPr>
            <p:cNvPr id="1038" name="Oval 4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9" name="Oval 5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0" name="Oval 6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1" name="Arc 7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55aaa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2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5d7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3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4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531c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5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6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7" name="Text Box 13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8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Group 15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1050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5b5b"/>
                  </a:gs>
                  <a:gs pos="100000">
                    <a:srgbClr val="96969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Arc 17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3" name="Text Box 19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4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6" name="Oval 22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1060" name="AutoShape 4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1" name="AutoShape 5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e4e"/>
                </a:gs>
                <a:gs pos="50000">
                  <a:srgbClr val="008080"/>
                </a:gs>
                <a:gs pos="100000">
                  <a:srgbClr val="004e4e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2" name="Text Box 6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Group 7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1064" name="Group 8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1065" name="Group 9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1066" name="Oval 10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3300"/>
                      </a:gs>
                      <a:gs pos="100000">
                        <a:srgbClr val="612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33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8" name="Text Box 12"/>
                <p:cNvSpPr/>
                <p:nvPr/>
              </p:nvSpPr>
              <p:spPr>
                <a:xfrm>
                  <a:off x="107280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Oval 13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14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1071" name="Group 15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1072" name="Group 16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1073" name="Oval 17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5" name="Text Box 19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Oval 20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1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1078" name="Group 22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1079" name="Oval 23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42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080" name="未知"/>
                <p:cNvSpPr/>
                <p:nvPr/>
              </p:nvSpPr>
              <p:spPr>
                <a:xfrm>
                  <a:off x="2994480" y="4108320"/>
                  <a:ext cx="1174680" cy="573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1" name="Text Box 25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Oval 26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3" name="Group 27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1084" name="Group 28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1085" name="Group 29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1086" name="Oval 30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99cc"/>
                      </a:gs>
                      <a:gs pos="100000">
                        <a:srgbClr val="004f6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5051880" y="4064040"/>
                    <a:ext cx="117468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Text Box 32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Oval 33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551" name="Group 4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552" name="AutoShape 5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AutoShape 6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AutoShape 7"/>
              <p:cNvSpPr/>
              <p:nvPr/>
            </p:nvSpPr>
            <p:spPr>
              <a:xfrm>
                <a:off x="2025360" y="22161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003b3b"/>
                  </a:gs>
                  <a:gs pos="100000">
                    <a:srgbClr val="00808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5" name="Line 8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58" name="Group 11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559" name="Group 12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560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15"/>
              <p:cNvSpPr/>
              <p:nvPr/>
            </p:nvSpPr>
            <p:spPr>
              <a:xfrm>
                <a:off x="2025360" y="31305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3" name="Line 16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6" name="Group 19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567" name="Group 20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568" name="AutoShape 21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22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AutoShape 23"/>
              <p:cNvSpPr/>
              <p:nvPr/>
            </p:nvSpPr>
            <p:spPr>
              <a:xfrm>
                <a:off x="2025360" y="4022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003b3b"/>
                  </a:gs>
                  <a:gs pos="100000">
                    <a:srgbClr val="00808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1" name="Line 24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25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Text Box 26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74" name="Group 27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575" name="Group 28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576" name="AutoShape 29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AutoShape 30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AutoShape 31"/>
              <p:cNvSpPr/>
              <p:nvPr/>
            </p:nvSpPr>
            <p:spPr>
              <a:xfrm>
                <a:off x="2025360" y="49370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Line 32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33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34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WordArt 2"/>
          <p:cNvSpPr txBox="1"/>
          <p:nvPr/>
        </p:nvSpPr>
        <p:spPr>
          <a:xfrm>
            <a:off x="2286000" y="3200400"/>
            <a:ext cx="4952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0099cc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0099cc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808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808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7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588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0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be7d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593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594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595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003e3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6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c7c7"/>
                    </a:gs>
                    <a:gs pos="100000">
                      <a:srgbClr val="00808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475e"/>
                  </a:gs>
                  <a:gs pos="100000">
                    <a:srgbClr val="0099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0099cc">
                      <a:alpha val="0"/>
                    </a:srgbClr>
                  </a:gs>
                  <a:gs pos="100000">
                    <a:srgbClr val="a6dbe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9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79a2"/>
                  </a:gs>
                  <a:gs pos="100000">
                    <a:srgbClr val="0099cc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cc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1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603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Text Box 20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5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ae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30040" y="6370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8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页脚占位符 4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61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371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623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624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628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1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19"/>
            <p:cNvSpPr/>
            <p:nvPr/>
          </p:nvSpPr>
          <p:spPr>
            <a:xfrm>
              <a:off x="3125520" y="5288760"/>
              <a:ext cx="2816280" cy="575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649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650" name="AutoShape 5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2" name="AutoShape 7"/>
              <p:cNvSpPr/>
              <p:nvPr/>
            </p:nvSpPr>
            <p:spPr>
              <a:xfrm flipH="1" rot="10800000">
                <a:off x="42357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3" name="Oval 8"/>
              <p:cNvSpPr/>
              <p:nvPr/>
            </p:nvSpPr>
            <p:spPr>
              <a:xfrm>
                <a:off x="330300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4" name="Oval 9"/>
              <p:cNvSpPr/>
              <p:nvPr/>
            </p:nvSpPr>
            <p:spPr>
              <a:xfrm>
                <a:off x="343584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5" name="Oval 10"/>
              <p:cNvSpPr/>
              <p:nvPr/>
            </p:nvSpPr>
            <p:spPr>
              <a:xfrm>
                <a:off x="355824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808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Oval 11"/>
              <p:cNvSpPr/>
              <p:nvPr/>
            </p:nvSpPr>
            <p:spPr>
              <a:xfrm>
                <a:off x="355716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Oval 12"/>
              <p:cNvSpPr/>
              <p:nvPr/>
            </p:nvSpPr>
            <p:spPr>
              <a:xfrm>
                <a:off x="3676680" y="2595960"/>
                <a:ext cx="15800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4545"/>
                  </a:gs>
                  <a:gs pos="50000">
                    <a:srgbClr val="008080"/>
                  </a:gs>
                  <a:gs pos="100000">
                    <a:srgbClr val="00454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8" name="Oval 13"/>
              <p:cNvSpPr/>
              <p:nvPr/>
            </p:nvSpPr>
            <p:spPr>
              <a:xfrm>
                <a:off x="367668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59" name="AutoShape 14"/>
            <p:cNvSpPr/>
            <p:nvPr/>
          </p:nvSpPr>
          <p:spPr>
            <a:xfrm>
              <a:off x="1143000" y="3707640"/>
              <a:ext cx="165888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AutoShape 16"/>
            <p:cNvSpPr/>
            <p:nvPr/>
          </p:nvSpPr>
          <p:spPr>
            <a:xfrm>
              <a:off x="1143000" y="2709000"/>
              <a:ext cx="165888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17"/>
            <p:cNvSpPr/>
            <p:nvPr/>
          </p:nvSpPr>
          <p:spPr>
            <a:xfrm>
              <a:off x="6120360" y="3707640"/>
              <a:ext cx="1728360" cy="567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4" name="AutoShape 19"/>
            <p:cNvSpPr/>
            <p:nvPr/>
          </p:nvSpPr>
          <p:spPr>
            <a:xfrm>
              <a:off x="6120360" y="2709000"/>
              <a:ext cx="1728360" cy="567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5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676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9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69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b3b"/>
                  </a:gs>
                  <a:gs pos="50000">
                    <a:srgbClr val="008080"/>
                  </a:gs>
                  <a:gs pos="100000">
                    <a:srgbClr val="003b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75e"/>
                  </a:gs>
                  <a:gs pos="50000">
                    <a:srgbClr val="0099cc"/>
                  </a:gs>
                  <a:gs pos="100000">
                    <a:srgbClr val="00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8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f2500"/>
                  </a:gs>
                  <a:gs pos="50000">
                    <a:srgbClr val="993300"/>
                  </a:gs>
                  <a:gs pos="100000">
                    <a:srgbClr val="6f25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9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5d5d"/>
                  </a:gs>
                  <a:gs pos="50000">
                    <a:srgbClr val="008080"/>
                  </a:gs>
                  <a:gs pos="100000">
                    <a:srgbClr val="005d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d6d6d"/>
                  </a:gs>
                  <a:gs pos="50000">
                    <a:srgbClr val="969696"/>
                  </a:gs>
                  <a:gs pos="100000">
                    <a:srgbClr val="6d6d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2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006f94"/>
                  </a:gs>
                  <a:gs pos="50000">
                    <a:srgbClr val="0099cc"/>
                  </a:gs>
                  <a:gs pos="100000">
                    <a:srgbClr val="006f9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页脚占位符 5"/>
          <p:cNvSpPr/>
          <p:nvPr/>
        </p:nvSpPr>
        <p:spPr>
          <a:xfrm>
            <a:off x="6095880" y="6559560"/>
            <a:ext cx="2895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  <a:ea typeface="宋体"/>
              </a:rPr>
              <a:t>Company</a:t>
            </a:r>
            <a:r>
              <a:rPr b="1" lang="en-US" sz="1000" spc="-1" strike="noStrike">
                <a:solidFill>
                  <a:srgbClr val="1d528d"/>
                </a:solidFill>
                <a:latin typeface="Arial"/>
                <a:ea typeface="宋体"/>
              </a:rPr>
              <a:t>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706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178b8b">
                    <a:alpha val="32156"/>
                  </a:srgbClr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1800"/>
                </a:gs>
                <a:gs pos="5000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c2c2c2">
                    <a:alpha val="3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8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719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2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3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4" name="Text Box 22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25" name="Text Box 23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yu wang</cp:lastModifiedBy>
  <cp:lastPrinted>1899-12-30T00:00:00Z</cp:lastPrinted>
  <dcterms:modified xsi:type="dcterms:W3CDTF">2015-08-12T14:54:50Z</dcterms:modified>
  <cp:revision>6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