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1341-5D6C-4E00-BF88-4E0A03A7F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2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5760" y="3964320"/>
            <a:ext cx="822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462E-150B-4287-993B-FD1C7875C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5760" y="396432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0FAE-C586-48FD-BDEF-B84EC7C78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48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5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48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ABB5-D258-4B2A-8DA4-5AF7939B6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47FB-FDB6-4A84-A8B3-6738DFD93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760" y="1600200"/>
            <a:ext cx="82260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18502-ACA7-46A0-B703-0A58902D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260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2808-A77B-4F24-B35B-16FAC29CF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40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0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D047-755E-420B-AAFE-65900CD9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5E28E-3FAD-4518-B8EA-8AE49B67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4680"/>
            <a:ext cx="822600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5CB2-BDB6-4E0F-BA52-7AEDBF38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0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760" y="396432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D61B5-057F-4342-A1C2-CADDB307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5760" y="1600200"/>
            <a:ext cx="82260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C254-A70C-4B55-9925-63127C49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40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11F5B-131C-4F7F-A481-6792657EA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964320"/>
            <a:ext cx="822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6CEF-724B-4C46-ABF4-18F24B0B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2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760" y="3964320"/>
            <a:ext cx="822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7990-D0E1-4537-A5A4-68580ABC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760" y="396432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3363-BFC3-4BAC-826F-17278C543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1848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7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1848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A454-7E9B-4674-B789-E5408E010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4EEC3-2C35-43F3-AC1C-1597BD7C3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5760" y="1600200"/>
            <a:ext cx="82260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43EF0-B773-4BFB-9FD4-AD2901CF3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260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3CDD7B-313D-4E7F-9AC9-453BADA0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40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0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8C8A1-5C26-4C7C-AE26-E56C8FD5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B4EF9-691C-4C56-A564-7417B1983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260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0184-BD99-4A0C-A077-3C2B04DE4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5760" y="274680"/>
            <a:ext cx="822600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2D264-39F1-45EF-8F53-2C5690B1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0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5760" y="396432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1F7D1-2A11-4A43-8519-279D3A9A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40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79151-C36D-4A65-996F-2EF956C85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5760" y="3964320"/>
            <a:ext cx="822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414A6-A6C4-4406-8655-AA0C2BD15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2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5760" y="3964320"/>
            <a:ext cx="822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A5956-D47C-4C41-9D46-7DAADEA7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5760" y="396432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B25C1-A3FC-47A6-BEF8-9C063916C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1848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5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7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1848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BE682-5F4C-4FCA-938F-36BF5855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1B5F1F-162C-4D2E-8357-177EC1CA8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5760" y="1600200"/>
            <a:ext cx="82260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252F65-1BF5-4EFC-8E3B-5C6C191B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260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925EF-A86E-4E7F-BA0A-C46CB863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40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0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2BB8-C185-4475-9CB4-FA20DB19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40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0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044D99-A45B-47D7-BB9D-A7784CF7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95AD0-6CBC-4B5E-BF3A-3899CA77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5760" y="274680"/>
            <a:ext cx="822600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02836-F461-4701-A9E2-EFC1B0DAD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0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5760" y="396432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BDC1F-BB5B-4C6C-AED5-9315B8C0B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40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ADF4C-9D38-4743-8894-F6122199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5760" y="3964320"/>
            <a:ext cx="822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F6B949-EE4C-4099-8B48-979C3EB1E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2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5760" y="3964320"/>
            <a:ext cx="822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267C5-00AF-4243-88E7-C6A5A60F5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5760" y="396432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1000" y="396432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DD7B7-72E4-4B98-A1A3-FDDF52C6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712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18480" y="160020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576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712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18480" y="3964320"/>
            <a:ext cx="26485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502F2-59BE-4590-8218-C8E849365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203D-BA29-4BF7-BDF6-EC6592699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5760" y="274680"/>
            <a:ext cx="822600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CD6F-26D6-4D90-8E1A-633F61A20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0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5760" y="396432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E290-CE01-4764-9A2A-35DE9C67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40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000" y="396432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908C-EA66-4FFE-AC97-332FEB5A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000" y="1600200"/>
            <a:ext cx="4014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5760" y="3964320"/>
            <a:ext cx="82260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D721-FE3E-4B85-A315-2BB93397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01800" y="2130480"/>
            <a:ext cx="48002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F9656FC-9FAD-4565-9F6B-7BACBCE3C0B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703600" y="274680"/>
            <a:ext cx="631620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693880" y="1600200"/>
            <a:ext cx="63259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EC610F0-DE4A-49EC-A163-565F592D0C4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 hidden="1"/>
          <p:cNvSpPr/>
          <p:nvPr/>
        </p:nvSpPr>
        <p:spPr>
          <a:xfrm>
            <a:off x="136440" y="136440"/>
            <a:ext cx="8865720" cy="6581520"/>
          </a:xfrm>
          <a:prstGeom prst="rect">
            <a:avLst/>
          </a:prstGeom>
          <a:solidFill>
            <a:schemeClr val="bg1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2"/>
          <p:cNvSpPr/>
          <p:nvPr/>
        </p:nvSpPr>
        <p:spPr>
          <a:xfrm>
            <a:off x="136440" y="136440"/>
            <a:ext cx="8865720" cy="6581520"/>
          </a:xfrm>
          <a:prstGeom prst="rect">
            <a:avLst/>
          </a:prstGeom>
          <a:solidFill>
            <a:schemeClr val="bg1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760" y="2130480"/>
            <a:ext cx="731340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Master title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0078DF4-32C4-441C-A43C-F5735096160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136440" y="136440"/>
            <a:ext cx="8865720" cy="6581520"/>
          </a:xfrm>
          <a:prstGeom prst="rect">
            <a:avLst/>
          </a:prstGeom>
          <a:solidFill>
            <a:schemeClr val="bg1">
              <a:alpha val="5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5760" y="1600200"/>
            <a:ext cx="822600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ymbol" charset="2"/>
              <a:buChar char="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720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5280"/>
            <a:ext cx="289512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52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9B53AE6-D50A-448F-BF49-70559960CF8F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31520" y="1650240"/>
            <a:ext cx="841212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蓝色空间感设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701800" y="3886200"/>
            <a:ext cx="4114440" cy="1752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703600" y="274680"/>
            <a:ext cx="631620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693880" y="1600200"/>
            <a:ext cx="63259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760" y="2130480"/>
            <a:ext cx="731340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5760" y="3886200"/>
            <a:ext cx="7313400" cy="17521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5760" y="274680"/>
            <a:ext cx="822600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2600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1" lang="en-US" sz="1050" spc="-1" strike="noStrike" u="sng">
                <a:solidFill>
                  <a:srgbClr val="224b73"/>
                </a:solidFill>
                <a:uFillTx/>
                <a:latin typeface="Arial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224b73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224b73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224b73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224b73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en-US" sz="900" spc="-1" strike="noStrike" u="sng">
                <a:solidFill>
                  <a:srgbClr val="224b73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224b73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224b73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224b73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224b73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224b73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224b73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224b73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224b73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224b73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224b73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224b73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224b73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224b73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224b73"/>
                </a:solidFill>
                <a:uFillTx/>
                <a:latin typeface="Arial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224b73"/>
                </a:solidFill>
                <a:uFillTx/>
                <a:latin typeface="Arial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224b73"/>
                </a:solidFill>
                <a:uFillTx/>
                <a:latin typeface="Arial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224b73"/>
                </a:solidFill>
                <a:uFillTx/>
                <a:latin typeface="Arial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224b73"/>
                </a:solidFill>
                <a:uFillTx/>
                <a:latin typeface="Arial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ind_0015_slide">
  <a:themeElements>
    <a:clrScheme name="Office 主题​​ 2">
      <a:dk1>
        <a:srgbClr val="000000"/>
      </a:dk1>
      <a:lt1>
        <a:srgbClr val="99ccff"/>
      </a:lt1>
      <a:dk2>
        <a:srgbClr val="000000"/>
      </a:dk2>
      <a:lt2>
        <a:srgbClr val="cccccc"/>
      </a:lt2>
      <a:accent1>
        <a:srgbClr val="48468c"/>
      </a:accent1>
      <a:accent2>
        <a:srgbClr val="1f6660"/>
      </a:accent2>
      <a:accent3>
        <a:srgbClr val="cae2ff"/>
      </a:accent3>
      <a:accent4>
        <a:srgbClr val="000000"/>
      </a:accent4>
      <a:accent5>
        <a:srgbClr val="b1b0c5"/>
      </a:accent5>
      <a:accent6>
        <a:srgbClr val="1b5c56"/>
      </a:accent6>
      <a:hlink>
        <a:srgbClr val="224b73"/>
      </a:hlink>
      <a:folHlink>
        <a:srgbClr val="58397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ind_0015_slide">
  <a:themeElements>
    <a:clrScheme name="Office 主题​​ 2">
      <a:dk1>
        <a:srgbClr val="000000"/>
      </a:dk1>
      <a:lt1>
        <a:srgbClr val="99ccff"/>
      </a:lt1>
      <a:dk2>
        <a:srgbClr val="000000"/>
      </a:dk2>
      <a:lt2>
        <a:srgbClr val="cccccc"/>
      </a:lt2>
      <a:accent1>
        <a:srgbClr val="48468c"/>
      </a:accent1>
      <a:accent2>
        <a:srgbClr val="1f6660"/>
      </a:accent2>
      <a:accent3>
        <a:srgbClr val="cae2ff"/>
      </a:accent3>
      <a:accent4>
        <a:srgbClr val="000000"/>
      </a:accent4>
      <a:accent5>
        <a:srgbClr val="b1b0c5"/>
      </a:accent5>
      <a:accent6>
        <a:srgbClr val="1b5c56"/>
      </a:accent6>
      <a:hlink>
        <a:srgbClr val="224b73"/>
      </a:hlink>
      <a:folHlink>
        <a:srgbClr val="58397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_Default Design">
  <a:themeElements>
    <a:clrScheme name="1_Default Design 2">
      <a:dk1>
        <a:srgbClr val="000000"/>
      </a:dk1>
      <a:lt1>
        <a:srgbClr val="99ccff"/>
      </a:lt1>
      <a:dk2>
        <a:srgbClr val="000000"/>
      </a:dk2>
      <a:lt2>
        <a:srgbClr val="cccccc"/>
      </a:lt2>
      <a:accent1>
        <a:srgbClr val="48468c"/>
      </a:accent1>
      <a:accent2>
        <a:srgbClr val="1f6660"/>
      </a:accent2>
      <a:accent3>
        <a:srgbClr val="cae2ff"/>
      </a:accent3>
      <a:accent4>
        <a:srgbClr val="000000"/>
      </a:accent4>
      <a:accent5>
        <a:srgbClr val="b1b0c5"/>
      </a:accent5>
      <a:accent6>
        <a:srgbClr val="1b5c56"/>
      </a:accent6>
      <a:hlink>
        <a:srgbClr val="224b73"/>
      </a:hlink>
      <a:folHlink>
        <a:srgbClr val="58397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1_Default Design">
  <a:themeElements>
    <a:clrScheme name="1_Default Design 2">
      <a:dk1>
        <a:srgbClr val="000000"/>
      </a:dk1>
      <a:lt1>
        <a:srgbClr val="99ccff"/>
      </a:lt1>
      <a:dk2>
        <a:srgbClr val="000000"/>
      </a:dk2>
      <a:lt2>
        <a:srgbClr val="cccccc"/>
      </a:lt2>
      <a:accent1>
        <a:srgbClr val="48468c"/>
      </a:accent1>
      <a:accent2>
        <a:srgbClr val="1f6660"/>
      </a:accent2>
      <a:accent3>
        <a:srgbClr val="cae2ff"/>
      </a:accent3>
      <a:accent4>
        <a:srgbClr val="000000"/>
      </a:accent4>
      <a:accent5>
        <a:srgbClr val="b1b0c5"/>
      </a:accent5>
      <a:accent6>
        <a:srgbClr val="1b5c56"/>
      </a:accent6>
      <a:hlink>
        <a:srgbClr val="224b73"/>
      </a:hlink>
      <a:folHlink>
        <a:srgbClr val="58397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ind_0015_slide</Template>
  <TotalTime>3</TotalTime>
  <Application>LibreOffice/7.4.7.2$Linux_X86_64 LibreOffice_project/40$Build-2</Application>
  <AppVersion>15.0000</AppVersion>
  <Words>156</Words>
  <Paragraphs>3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4T13:43:56Z</dcterms:created>
  <dc:creator>for_yang@qq.com</dc:creator>
  <dc:description/>
  <dc:language>en-US</dc:language>
  <cp:lastModifiedBy>yu wang</cp:lastModifiedBy>
  <dcterms:modified xsi:type="dcterms:W3CDTF">2015-08-12T14:56:03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5</vt:r8>
  </property>
</Properties>
</file>