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343-322B-4763-A626-DFC515FE9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8CC-7B0C-4982-81D4-B5E4F569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697-5F82-42F6-BE4F-1D43ADB47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914-F37E-4A79-BA94-CD1516D6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F0D1-790A-4E86-9CBF-275B1246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0FBE-5A19-4015-B2C3-88218C0F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0746-09AA-4423-A7DE-AE7EB0FC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E282-EE48-459B-8768-CC71F94F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316D-6F0E-4D88-8666-C9F98AE9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E9E9-6851-441A-9732-61DBBB29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0BCE-18BA-4669-A590-86E62D2A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F1E-EE52-4494-A374-63703103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78DF-577B-425D-80CD-9B9ED15D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EEA1-FEC2-493F-8D5D-E7D4F97E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29F8-E0E6-452C-99F1-703415EF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5D6C-62AC-4D32-BAE6-72D68C65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274C-C323-4009-B4D9-47A53E69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07F7-0295-4A49-8A76-BECA6666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EEA-8951-4486-AA84-8A8A8F58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CB2-20BF-43A4-B45B-BDF02EA0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1F0-8522-40E3-8F60-6897E648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13CB-B2F1-49B9-93F5-C05D6CD7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710-AA2A-418F-8375-6E2C3079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756A-5545-45A5-9576-4EF9C826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FDEDBB-839E-45A2-9E90-47EE4C0E266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FAA71C-898D-4BD1-9BC4-4680B505307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3500280" y="5078520"/>
            <a:ext cx="52858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OWE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714840" y="5653080"/>
            <a:ext cx="41428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直接连接符 5"/>
          <p:cNvCxnSpPr/>
          <p:nvPr/>
        </p:nvCxnSpPr>
        <p:spPr>
          <a:xfrm flipV="1">
            <a:off x="3643200" y="5643360"/>
            <a:ext cx="2500560" cy="180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sp>
        <p:nvSpPr>
          <p:cNvPr id="85" name="矩形 1"/>
          <p:cNvSpPr/>
          <p:nvPr/>
        </p:nvSpPr>
        <p:spPr>
          <a:xfrm>
            <a:off x="2206800" y="11664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蓝色卡通简洁完整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714240" y="357120"/>
            <a:ext cx="1142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/>
          <p:cNvSpPr/>
          <p:nvPr/>
        </p:nvSpPr>
        <p:spPr>
          <a:xfrm>
            <a:off x="4354560" y="26431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354560" y="1916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4425840" y="34164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4425840" y="4143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"/>
          <p:cNvSpPr/>
          <p:nvPr/>
        </p:nvSpPr>
        <p:spPr>
          <a:xfrm>
            <a:off x="876600" y="42876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3282840" y="2428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70693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149688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578340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8"/>
          <p:cNvSpPr/>
          <p:nvPr/>
        </p:nvSpPr>
        <p:spPr>
          <a:xfrm>
            <a:off x="87660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621180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435456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242568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8"/>
          <p:cNvSpPr/>
          <p:nvPr/>
        </p:nvSpPr>
        <p:spPr>
          <a:xfrm>
            <a:off x="1162440" y="50004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4140360" y="4071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5"/>
          <p:cNvSpPr/>
          <p:nvPr/>
        </p:nvSpPr>
        <p:spPr>
          <a:xfrm>
            <a:off x="1925640" y="2143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6497640" y="2214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8"/>
          <p:cNvSpPr/>
          <p:nvPr/>
        </p:nvSpPr>
        <p:spPr>
          <a:xfrm>
            <a:off x="80532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6"/>
          <p:cNvSpPr/>
          <p:nvPr/>
        </p:nvSpPr>
        <p:spPr>
          <a:xfrm>
            <a:off x="614052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4425840" y="1428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2068560" y="285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6"/>
          <p:cNvSpPr/>
          <p:nvPr/>
        </p:nvSpPr>
        <p:spPr>
          <a:xfrm>
            <a:off x="4140360" y="50007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8"/>
          <p:cNvSpPr/>
          <p:nvPr/>
        </p:nvSpPr>
        <p:spPr>
          <a:xfrm>
            <a:off x="733680" y="357120"/>
            <a:ext cx="1278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242568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3997440" y="5143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592632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4425840" y="1643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1640" y="636660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  <Words>260</Words>
  <Paragraphs>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2T14:55:42Z</dcterms:modified>
  <cp:revision>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8</vt:r8>
  </property>
</Properties>
</file>